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EAC-29B6-405A-9408-EB68C474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5666-3E9A-4F0E-9B24-BE6D4FEC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0F7-2042-4B6F-8C84-9F5601D3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E75-B2EB-4EC9-AD13-600EAC3A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6255-5505-40E9-8504-DB731D2D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760D-5DDF-45D8-9DD3-1FA89FC3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4DCF-5BEA-44BE-AC4B-0C906919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2B36-3145-4C8E-851F-5899BEF6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52D9-1D51-431E-8011-ADE3A42B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AF88-6447-41AA-BC26-4D87053B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79AA-FDD8-4B1C-B047-69306384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EE7-7E2A-407E-A2D6-92837182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0F38-C475-424F-B4C0-B40E0DDE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2DFD-9E9F-4AF6-A85D-C3F5907E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44C3-50FF-49EC-938A-B9CB634D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E5FF-DC86-471E-9B90-D3E06D23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22A2-9ECD-4918-A784-FE037794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D975-90AC-4037-8BEB-37F2EAFB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624-22B8-453C-8F52-AF298676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86F-33CA-49FC-A25E-AA82A464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FE0-E36B-453F-82E8-7EBA2E6F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A56-2D76-4F4C-901D-0934D8FB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F6F-BC8F-482D-9FF3-3F9CDE59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96E-B33B-4679-8BB6-CB139ADC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46CE-95C5-4D7A-AEB5-C1B6500BFA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9B2D-5DFD-4C0E-BEF0-9DEBB7CA5C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9ff99"/>
                </a:solidFill>
                <a:latin typeface="Arial"/>
              </a:rPr>
              <a:t>Библейские сюжеты в картинах русских художник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гнатьева Ю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 звенигородск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4537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роиц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6231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Жены мироносицы у гроба Господн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7861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488916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         </a:t>
            </a:r>
            <a:r>
              <a:rPr b="1" i="1" lang="en-US" sz="8000" spc="-1" strike="noStrike">
                <a:solidFill>
                  <a:srgbClr val="99ff99"/>
                </a:solidFill>
                <a:latin typeface="Arial"/>
              </a:rPr>
              <a:t>Спасибо за      внимание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ретьяковская галере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90884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лександр Иван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08000" y="1098720"/>
            <a:ext cx="4824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лександр Иван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086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Явление Христа Народу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70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ван Крамско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2354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ван Крамско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124000" y="1225440"/>
            <a:ext cx="4808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ристос в пусты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583236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Иисус Христос- Богочеловек или реальная человеческая Лич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049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3:24:56Z</dcterms:created>
  <dc:creator>Деффка</dc:creator>
  <dc:description/>
  <dc:language>en-US</dc:language>
  <cp:lastModifiedBy>анатолий</cp:lastModifiedBy>
  <dcterms:modified xsi:type="dcterms:W3CDTF">2010-01-26T16:47:34Z</dcterms:modified>
  <cp:revision>5</cp:revision>
  <dc:subject/>
  <dc:title>Слайд 1</dc:title>
</cp:coreProperties>
</file>