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0CF-42D3-498C-AF40-12874BD4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81E-93D7-4CEA-871C-89B4775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301-3432-42CF-9870-6A1B2EA3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55C-9FED-4153-A30B-32B7F35B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36CF-D8DD-4F3C-8460-15E471AF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2CE-10F8-4425-9B1B-AE31E773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C9FC-772F-4DAB-9DA0-91F7318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8558-E139-4D77-8D64-5B4ADC8E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52D-E720-4FE4-B701-CBEB31BC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9EB-16A6-47C6-8FEE-E48D1BD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8064-C32E-4DC2-805C-1F0FADE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8DE-9F47-4973-9954-DA45FC31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57DF-5E25-441F-93FF-A855AA8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61A3-DC4A-490A-AF55-FAAE9B3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C78F-3DAD-40A4-AEF7-B489F4B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6EE-B4CD-4764-8BB7-9A2B5153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743F-07FB-4BC0-B8F4-80E9CA70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BB6-D1AD-4D37-8864-3B391804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2DB-73F8-4AD0-B7A9-FFDA7369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D14-3219-466D-8FD0-B8D9FD5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083-A782-4C2A-8B7C-E4D6FDB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306-7542-4EFC-9AF1-32B8D848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DD7-7553-4D3C-8243-C4109BC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59D-6594-4DCE-9EF3-C80EEB07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B07-1771-4D06-B3AC-F6A670E453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987A-0BDD-4C0E-ADAF-D12440CD2A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Библейские сюжеты в картинах русских художн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натьева Ю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 звенигород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623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ены мироносицы у гроба Господ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786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4889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i="1" lang="en-US" sz="8000" spc="-1" strike="noStrike">
                <a:solidFill>
                  <a:srgbClr val="99ff99"/>
                </a:solidFill>
                <a:latin typeface="Arial"/>
              </a:rPr>
              <a:t>Спасибо за     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тьяковская галер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9088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1098720"/>
            <a:ext cx="48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08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Явление Христа Народ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35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24000" y="1225440"/>
            <a:ext cx="4808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пусты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исус Христос- Богочеловек или реальная человеческая Лич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04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24:56Z</dcterms:created>
  <dc:creator>Деффка</dc:creator>
  <dc:description/>
  <dc:language>en-US</dc:language>
  <cp:lastModifiedBy>анатолий</cp:lastModifiedBy>
  <dcterms:modified xsi:type="dcterms:W3CDTF">2010-01-26T16:47:34Z</dcterms:modified>
  <cp:revision>5</cp:revision>
  <dc:subject/>
  <dc:title>Слайд 1</dc:title>
</cp:coreProperties>
</file>