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479-9663-4404-8857-2FFD2797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9A1-7251-4C0A-807D-BFF03797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1AD-9F45-4956-97EF-DCE6B861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F23-5B17-41C8-9591-BA438212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C33D-BBD7-43EB-A787-16AA56C7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EB9F-9309-443D-BDAE-3C2B482F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DBD-1B7F-425F-B566-EDA7EFC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F19-F31F-417D-959A-3FE63866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705C-E2E8-4011-9303-1A987B77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515-E5D1-4CCC-987E-A391832B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9F69-5F45-4756-AE21-8B3C7E30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DC5-EC6A-4D72-BF65-2AF1CDE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9EF7-C1C1-41C4-BE71-A94A69C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1E95-3A88-4B91-A540-2D647E7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4828-005B-4008-917A-BD2025B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B4DC-8D86-4F1F-81F9-CCEB8939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87D6-6046-4529-BC8C-34106826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EC0-6EF3-4708-A23F-7EC2D229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A87-EDDC-4504-9408-8E9C721C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2FD-F3BF-4AB2-9F8E-42A9717A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E15-C496-4638-A7DF-1A10CEB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CD6-8E54-4BCC-AB6D-734AB03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355-A0D4-4833-823A-EB319FC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8DD-B74E-4BF1-A8C4-48895F8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2D43-DA0B-4278-8AC7-AB1E8B630E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E170-9774-438A-B84B-A297B1DD10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ff99"/>
                </a:solidFill>
                <a:latin typeface="Arial"/>
              </a:rPr>
              <a:t>Библейские сюжеты в картинах русских художн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натьева Ю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 звенигород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53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оиц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623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Жены мироносицы у гроба Господ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786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488916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i="1" lang="en-US" sz="8000" spc="-1" strike="noStrike">
                <a:solidFill>
                  <a:srgbClr val="99ff99"/>
                </a:solidFill>
                <a:latin typeface="Arial"/>
              </a:rPr>
              <a:t>Спасибо за     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ретьяковская галер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9088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ександр Ива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1098720"/>
            <a:ext cx="48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лександр Иван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086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Явление Христа Народу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ван Крамск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235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ван Крамско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124000" y="1225440"/>
            <a:ext cx="4808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пусты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58323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исус Христос- Богочеловек или реальная человеческая Лично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049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3:24:56Z</dcterms:created>
  <dc:creator>Деффка</dc:creator>
  <dc:description/>
  <dc:language>en-US</dc:language>
  <cp:lastModifiedBy>анатолий</cp:lastModifiedBy>
  <dcterms:modified xsi:type="dcterms:W3CDTF">2010-01-26T16:47:34Z</dcterms:modified>
  <cp:revision>5</cp:revision>
  <dc:subject/>
  <dc:title>Слайд 1</dc:title>
</cp:coreProperties>
</file>