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9.png" ContentType="image/pn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18.png" ContentType="image/png"/>
  <Override PartName="/ppt/media/image8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7.png" ContentType="image/png"/>
  <Override PartName="/ppt/media/image14.png" ContentType="image/png"/>
  <Override PartName="/ppt/media/image1.jpeg" ContentType="image/jpeg"/>
  <Override PartName="/ppt/media/image3.jpeg" ContentType="image/jpeg"/>
  <Override PartName="/ppt/media/image4.jpeg" ContentType="image/jpeg"/>
  <Override PartName="/ppt/media/image2.png" ContentType="image/png"/>
  <Override PartName="/ppt/media/image5.jpeg" ContentType="image/jpeg"/>
  <Override PartName="/ppt/media/image10.png" ContentType="image/png"/>
  <Override PartName="/ppt/media/image6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111BA6-C193-4D26-8A98-BE46FAE03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0FF56D-9CB2-4A1E-9413-841F76896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E42BC2-76EB-438A-8F2B-9A6B9A0DC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B790BA-64AD-415D-9CE5-C8CA0F136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25BF1-6FD4-4A9F-8449-B0D22D4DC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BA6D2-F586-4E76-A663-12F6F54B4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AE580-42CA-4886-A22D-803AEEE78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C20A5-9E9C-42AA-AACD-A6EB5AD8E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E4E2D-9F55-4F66-B791-E33875123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DCDFE-1B0B-45DD-AA4D-0DFAF6506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50F00-E069-4F72-A20B-C375CFC67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920AEC-1005-4616-8CE4-F94D7AACD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2148B-7356-486E-8C8D-DEC36E90C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7541C-3215-46B4-A92C-5489D14C7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503F2-80FA-4DEB-B487-D704702B3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4D10C-D2C3-4A9B-A071-BC628226D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02659-5720-4D2D-A541-8A17ED5A3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AF201F-3FA7-48C9-A3FF-2325D4CE5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08A1E7-1DD0-4FB3-8363-F2CC2A8F7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3282C1-5A89-4665-8C16-2DD582305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F07617-72A8-4B11-AE8E-C9155E80A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646A5D-810A-4D37-BB04-CF0485428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510049-EDC1-4B5C-B7A2-E64E10FAF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049918-B147-4FB8-9D94-E85755A6D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79CDB-34C8-47D8-8BF9-754D08F33888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3D8A6-4D71-4AC8-A0EC-A04F57FF0D64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62120" y="1522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Тайнопись музыки И.С.Баха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27" name="i-main-pic" descr="Картинка 28 из 3815"/>
          <p:cNvPicPr/>
          <p:nvPr/>
        </p:nvPicPr>
        <p:blipFill>
          <a:blip r:embed="rId1"/>
          <a:stretch/>
        </p:blipFill>
        <p:spPr>
          <a:xfrm>
            <a:off x="3124080" y="1828800"/>
            <a:ext cx="3348000" cy="480060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152280" y="3809880"/>
            <a:ext cx="297180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Работу выполнили учащиеся 8 класса Б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Филиппова Екатерина и Монахова Виктор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МБОУ «СОШ №15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629400" y="617220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г.Ачинск, 2011 го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8077320" y="3049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Сакральная графика мотивов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2743200" y="1752480"/>
            <a:ext cx="3733920" cy="160020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 flipH="1">
            <a:off x="3733560" y="2666880"/>
            <a:ext cx="205740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4419360" y="2514600"/>
            <a:ext cx="685800" cy="762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1600200" y="3657600"/>
            <a:ext cx="5867280" cy="24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cc"/>
                </a:solidFill>
                <a:latin typeface="Tahoma"/>
              </a:rPr>
              <a:t>Сакральная графика мотивов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457200" y="762120"/>
            <a:ext cx="8229600" cy="2119320"/>
          </a:xfrm>
          <a:prstGeom prst="rect">
            <a:avLst/>
          </a:prstGeom>
          <a:ln w="0">
            <a:noFill/>
          </a:ln>
        </p:spPr>
      </p:pic>
      <p:pic>
        <p:nvPicPr>
          <p:cNvPr id="170" name="i-main-pic" descr="Картинка 13 из 181"/>
          <p:cNvPicPr/>
          <p:nvPr/>
        </p:nvPicPr>
        <p:blipFill>
          <a:blip r:embed="rId2"/>
          <a:stretch/>
        </p:blipFill>
        <p:spPr>
          <a:xfrm>
            <a:off x="304920" y="3073320"/>
            <a:ext cx="5715000" cy="3784680"/>
          </a:xfrm>
          <a:prstGeom prst="rect">
            <a:avLst/>
          </a:prstGeom>
          <a:ln w="0">
            <a:noFill/>
          </a:ln>
        </p:spPr>
      </p:pic>
      <p:pic>
        <p:nvPicPr>
          <p:cNvPr id="171" name="i-main-pic" descr="Картинка 6 из 181"/>
          <p:cNvPicPr/>
          <p:nvPr/>
        </p:nvPicPr>
        <p:blipFill>
          <a:blip r:embed="rId3"/>
          <a:stretch/>
        </p:blipFill>
        <p:spPr>
          <a:xfrm>
            <a:off x="6248520" y="3048120"/>
            <a:ext cx="27334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cc"/>
                </a:solidFill>
                <a:latin typeface="Tahoma"/>
              </a:rPr>
              <a:t>Сакральная графика мотивов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1523880" y="685800"/>
            <a:ext cx="6324840" cy="1371600"/>
          </a:xfrm>
          <a:prstGeom prst="rect">
            <a:avLst/>
          </a:prstGeom>
          <a:ln w="0">
            <a:noFill/>
          </a:ln>
        </p:spPr>
      </p:pic>
      <p:pic>
        <p:nvPicPr>
          <p:cNvPr id="174" name="i-main-pic" descr="Картинка 1 из 181"/>
          <p:cNvPicPr/>
          <p:nvPr/>
        </p:nvPicPr>
        <p:blipFill>
          <a:blip r:embed="rId2"/>
          <a:stretch/>
        </p:blipFill>
        <p:spPr>
          <a:xfrm>
            <a:off x="1371600" y="2133720"/>
            <a:ext cx="3252960" cy="4724280"/>
          </a:xfrm>
          <a:prstGeom prst="rect">
            <a:avLst/>
          </a:prstGeom>
          <a:ln w="0">
            <a:noFill/>
          </a:ln>
        </p:spPr>
      </p:pic>
      <p:pic>
        <p:nvPicPr>
          <p:cNvPr id="175" name="i-main-pic" descr="Картинка 3 из 181"/>
          <p:cNvPicPr/>
          <p:nvPr/>
        </p:nvPicPr>
        <p:blipFill>
          <a:blip r:embed="rId3"/>
          <a:stretch/>
        </p:blipFill>
        <p:spPr>
          <a:xfrm>
            <a:off x="5410080" y="2209680"/>
            <a:ext cx="235908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Сакральная графика мотивов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457200" y="1371600"/>
            <a:ext cx="8229600" cy="203832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609480" y="3809880"/>
            <a:ext cx="7953480" cy="222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Заключение 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69343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Многие композиторы брали пример с ег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оизведений или использовали темы из них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ариации на тему Диабелли Л.Бетховена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24 прелюдии и фуги Д.Шостаковича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(написаны под впечатлением от «Хорошо темперированного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лавира»)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оната для виолончели ре мажор И.Брамс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(в финал которой вставлены музыкальные цитаты из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«Искусства фуги»)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и др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7162920" y="2209680"/>
            <a:ext cx="990360" cy="125748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7162920" y="4876920"/>
            <a:ext cx="971280" cy="1257120"/>
          </a:xfrm>
          <a:prstGeom prst="rect">
            <a:avLst/>
          </a:prstGeom>
          <a:ln w="0">
            <a:noFill/>
          </a:ln>
        </p:spPr>
      </p:pic>
      <p:pic>
        <p:nvPicPr>
          <p:cNvPr id="183" name="i-main-pic" descr="Картинка 12 из 114"/>
          <p:cNvPicPr/>
          <p:nvPr/>
        </p:nvPicPr>
        <p:blipFill>
          <a:blip r:embed="rId3"/>
          <a:stretch/>
        </p:blipFill>
        <p:spPr>
          <a:xfrm>
            <a:off x="7162920" y="3581280"/>
            <a:ext cx="86652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-30528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ffffcc"/>
                </a:solidFill>
                <a:latin typeface="Tahoma"/>
              </a:rPr>
              <a:t>«В его музыке есть космическое величие и космическая гармония, есть познание этого величия и слияние с этой гармонией».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85" name="i-main-pic" descr="Картинка 28 из 3815"/>
          <p:cNvPicPr/>
          <p:nvPr/>
        </p:nvPicPr>
        <p:blipFill>
          <a:blip r:embed="rId1"/>
          <a:stretch/>
        </p:blipFill>
        <p:spPr>
          <a:xfrm>
            <a:off x="2759040" y="1523880"/>
            <a:ext cx="3618000" cy="518184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609480" y="9907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1" dur="283135" fill="hold"/>
                                        <p:tgtEl>
                                          <p:spTgt spid="1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Гипотеза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: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великий немецкий композитор - Иоганн Себастьян Бах пользовался методами тайнописи 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Проблема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: доказать, что в произведениях И.С.Баха встречаются методы тайнописи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Цель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: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сбор, изучение, систематизация и анализ музыкального языка произведений И.С.Баха путем исследования и выявления в нем символических, а также «изобразительных», «живописных» мотивов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Задачи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Изучить и проанализировать имеющуюся информацию по данной проблеме (критические и научные статьи и работы известных музыковедов и исследователей творчества данного композитора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Найти и изучить теоретический материал из средств Интернета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Собрать и систематизировать информацию о методах тайнописи, которыми пользовался И.С.Бах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Исследовать произведения И.С.Баха, в которых предположительно данные методы применяются («Хорошо темперированный клавир (ХТК)» 1 и 2 части, «Инвенции»).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cc"/>
                </a:solidFill>
                <a:latin typeface="Tahoma"/>
              </a:rPr>
              <a:t>Методы сокрытия письменных сообщений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метод маскировк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методы  тайнописи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или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криптографии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(от греческих слов 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kryptos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-  тайный  и 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grapho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- пишу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му</a:t>
            </a:r>
            <a:r>
              <a:rPr b="1" lang="ru-RU" sz="3600" spc="-1" strike="noStrike">
                <a:solidFill>
                  <a:srgbClr val="ffff00"/>
                </a:solidFill>
                <a:latin typeface="Tahoma"/>
              </a:rPr>
              <a:t>ж</a:t>
            </a: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 по</a:t>
            </a:r>
            <a:r>
              <a:rPr b="1" lang="ru-RU" sz="3600" spc="-1" strike="noStrike">
                <a:solidFill>
                  <a:srgbClr val="ffff00"/>
                </a:solidFill>
                <a:latin typeface="Tahoma"/>
              </a:rPr>
              <a:t>д</a:t>
            </a: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пн</a:t>
            </a:r>
            <a:r>
              <a:rPr b="1" lang="ru-RU" sz="3600" spc="-1" strike="noStrike">
                <a:solidFill>
                  <a:srgbClr val="ffff00"/>
                </a:solidFill>
                <a:latin typeface="Tahoma"/>
              </a:rPr>
              <a:t>и</a:t>
            </a: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 ко</a:t>
            </a:r>
            <a:r>
              <a:rPr b="1" lang="ru-RU" sz="3600" spc="-1" strike="noStrike">
                <a:solidFill>
                  <a:srgbClr val="ffff00"/>
                </a:solidFill>
                <a:latin typeface="Tahoma"/>
              </a:rPr>
              <a:t>м</a:t>
            </a: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пр</a:t>
            </a:r>
            <a:r>
              <a:rPr b="1" lang="ru-RU" sz="3600" spc="-1" strike="noStrike">
                <a:solidFill>
                  <a:srgbClr val="ffff00"/>
                </a:solidFill>
                <a:latin typeface="Tahoma"/>
              </a:rPr>
              <a:t>е</a:t>
            </a: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ме</a:t>
            </a:r>
            <a:r>
              <a:rPr b="1" lang="ru-RU" sz="3600" spc="-1" strike="noStrike">
                <a:solidFill>
                  <a:srgbClr val="ffff00"/>
                </a:solidFill>
                <a:latin typeface="Tahoma"/>
              </a:rPr>
              <a:t>н</a:t>
            </a: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ни</a:t>
            </a:r>
            <a:r>
              <a:rPr b="1" lang="ru-RU" sz="3600" spc="-1" strike="noStrike">
                <a:solidFill>
                  <a:srgbClr val="ffff00"/>
                </a:solidFill>
                <a:latin typeface="Tahoma"/>
              </a:rPr>
              <a:t>я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инвертирования речи.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 роза упала на лапу Азор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. а розА упал ан алапу азор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6248520" y="1523880"/>
            <a:ext cx="19047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оган Себастьян Бах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cc"/>
                </a:solidFill>
                <a:latin typeface="Tahoma"/>
              </a:rPr>
              <a:t>Это было недавно, это было давно.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6" name=""/>
          <p:cNvSpPr/>
          <p:nvPr/>
        </p:nvSpPr>
        <p:spPr>
          <a:xfrm>
            <a:off x="304920" y="1275480"/>
            <a:ext cx="79135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1802 год - И.Н.Форкель - первый биограф И.С. Бах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И.Ф.Уолле (США) – организотор фестивалей музыки И.С.Бах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Ф.Шпитта – сыграл важную роль в научном осмыслении музык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И.С.Бах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1905 г. -  книга А.Швейцера (предложил новый метод анализа музыкальных произведений И.С.Бах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.С.Терри (Англия) – добавил много биографических материало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А.Шеринг (Германия)  - осветил музыкальную жизнь И.С.Баха в г.Лейпциг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" descr="Johann nikolaus forkel-1.jpg"/>
          <p:cNvPicPr/>
          <p:nvPr/>
        </p:nvPicPr>
        <p:blipFill>
          <a:blip r:embed="rId1"/>
          <a:stretch/>
        </p:blipFill>
        <p:spPr>
          <a:xfrm>
            <a:off x="7315200" y="838080"/>
            <a:ext cx="961920" cy="1257480"/>
          </a:xfrm>
          <a:prstGeom prst="rect">
            <a:avLst/>
          </a:prstGeom>
          <a:ln w="0">
            <a:noFill/>
          </a:ln>
        </p:spPr>
      </p:pic>
      <p:pic>
        <p:nvPicPr>
          <p:cNvPr id="138" name="i-tmb-0x" descr=""/>
          <p:cNvPicPr/>
          <p:nvPr/>
        </p:nvPicPr>
        <p:blipFill>
          <a:blip r:embed="rId2"/>
          <a:stretch/>
        </p:blipFill>
        <p:spPr>
          <a:xfrm>
            <a:off x="7467480" y="3581280"/>
            <a:ext cx="1047960" cy="1247760"/>
          </a:xfrm>
          <a:prstGeom prst="rect">
            <a:avLst/>
          </a:prstGeom>
          <a:ln w="0">
            <a:noFill/>
          </a:ln>
        </p:spPr>
      </p:pic>
      <p:pic>
        <p:nvPicPr>
          <p:cNvPr id="139" name="i-tmb-0x" descr=""/>
          <p:cNvPicPr/>
          <p:nvPr/>
        </p:nvPicPr>
        <p:blipFill>
          <a:blip r:embed="rId3"/>
          <a:stretch/>
        </p:blipFill>
        <p:spPr>
          <a:xfrm>
            <a:off x="7543800" y="5429160"/>
            <a:ext cx="100008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2000"/>
                            </p:stCondLst>
                            <p:childTnLst>
                              <p:par>
                                <p:cTn id="7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Вензель и коды Баха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2133720" y="1371600"/>
            <a:ext cx="4572000" cy="219564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2057400" y="3809880"/>
            <a:ext cx="11430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J[ohann] S[ebastian] B[ach]         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    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657600" y="3809880"/>
            <a:ext cx="15238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Окончательный  вариант   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          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638680" y="3809880"/>
            <a:ext cx="1371600" cy="12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J[ohann] S[ebastian] B[ach]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(зеркальное отражение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Немного арифметики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акральные числ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«3»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- символ Св.Троицы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«6»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- шести «рабочих» дней, в которые Бог сотворил мир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«7»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- символ Троицы и Творения в целом, а также Св.Духа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«10»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- десяти заповедей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«12»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- Церкви, апостолов и конгрегации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Немного арифметики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ff"/>
                </a:solidFill>
                <a:uFillTx/>
                <a:latin typeface="Tahoma"/>
              </a:rPr>
              <a:t>Примеры использования этих чисел у Бах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00"/>
                </a:solidFill>
                <a:uFillTx/>
                <a:latin typeface="Tahoma"/>
              </a:rPr>
              <a:t>«10».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В хоральной прелюдии «Десяти заповедей» из «Органной книжечки» мелодия, образованная из cantus firmus,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, проходит ровно десять раз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00"/>
                </a:solidFill>
                <a:uFillTx/>
                <a:latin typeface="Tahoma"/>
              </a:rPr>
              <a:t>«6».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Во времена Баха устойчивой традицией было группировать произведения одного жанра в циклы по шесть. И творческое наследие И.С.Баха является самым ярким примером такой трактовки числа «6»: шесть Французских и шесть Английских сюит, такое количество виолончельных сонат, Бранденбургских концертов, скрипичных сонат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00"/>
                </a:solidFill>
                <a:uFillTx/>
                <a:latin typeface="Tahoma"/>
              </a:rPr>
              <a:t>«3».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Это число со всей очевидностью играло важную роль при выборе тональности и разработке формы произведения, которому суждено было олицетворять отношение Баха к Св.Троице. Самое яркое воплощение троичности мы нашли в опубликованных самим Бахом «Клавирных упражнениях»: в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третьей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части этого собрания он помещает 21 хорал (21=3х7, то есть «Свят, свят, свят!») на вероисповедальные песни, заимствованные из «Катехизиса» Лютера и расположенные в том же порядке, причем три хорала посвящены непосредственно Св.Троице («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Kyrie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Gott Vater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»,  «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Kyrie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Gott Sohn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Kyrie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», «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Gott heiliger Geist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»); далее фуга, завершающая это собрание, - тоже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тройная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, то есть написанная на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три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темы, и к тому же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трехчастная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; и, наконец, тональность для нее выбрана не случайная, а ми-бемоль мажор – с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тремя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бемолями!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ffcc"/>
                </a:solidFill>
                <a:latin typeface="Tahoma"/>
              </a:rPr>
              <a:t>Мотив</a:t>
            </a:r>
            <a:r>
              <a:rPr b="1" lang="en-US" sz="3800" spc="-1" strike="noStrike">
                <a:solidFill>
                  <a:srgbClr val="ffffcc"/>
                </a:solidFill>
                <a:latin typeface="Tahoma"/>
              </a:rPr>
              <a:t> B-A-C-H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2438280" y="1676520"/>
            <a:ext cx="4267440" cy="141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429000" y="1295280"/>
            <a:ext cx="30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191120" y="1295280"/>
            <a:ext cx="3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952880" y="129528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791320" y="129528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Н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57200" y="3124080"/>
            <a:ext cx="3352680" cy="205596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>
            <a:off x="5257800" y="3124080"/>
            <a:ext cx="3657600" cy="201312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228600" y="5218200"/>
            <a:ext cx="4038480" cy="163980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5"/>
          <a:stretch/>
        </p:blipFill>
        <p:spPr>
          <a:xfrm>
            <a:off x="5029200" y="5257800"/>
            <a:ext cx="3733920" cy="160020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 flipH="1">
            <a:off x="6705720" y="6019920"/>
            <a:ext cx="76176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6019920" y="6095880"/>
            <a:ext cx="213336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Буквы, числа, звуки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0" y="837720"/>
            <a:ext cx="8763120" cy="67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                                           </a:t>
            </a: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А-1      G-7            N-13        Т-19 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                                           В-2       Н-8           О-14         U(V)-20 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                                           С-3       I (J)-9       P-15         W -21 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                                           D-4       K-10         Q-16         X-22 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                                           Е-5       L-11          R-17         Y-23 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                                           F-6       M-12         S-18         Z-24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Ключевые христианские слова - Credo ("Верую"), Deus ("Бог"), Iesus (Иисус), Jesu Christe (Иисус Христос), а также твердо установленные христианские аббревиатуры, например SDG (Soli Deo Gloria - "Единому Богу слава"), J. CHR (Jesus Christus - "Иисус Христос") имели числовой "эквивалент".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                                          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Credo = 3 + 17+5 + 4 + 14 = 43;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                                          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Deus = 4 + 5 + 20 + 18 = 47;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                                          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Iesus = 70; J. CHR = 37;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                                          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Jesu Christe = 131; SDG = 29</a:t>
            </a:r>
            <a:br>
              <a:rPr sz="1400"/>
            </a:b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. 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"70"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- сверяйтесь с пронумерованным немецким алфавитом! - это и 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Iesus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и 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Joh. Seb. Bach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"29"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- 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SDG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, но также и 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JSB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.</a:t>
            </a:r>
            <a:br>
              <a:rPr sz="1400"/>
            </a:b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     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Фамилия "Бах" (ВАСН) по этой системе символизируется числом 14. а вместе с инициалами имени - J. S. ВАСН -получается инверсия этого числа, то есть 41.</a:t>
            </a:r>
            <a:br>
              <a:rPr sz="1400"/>
            </a:b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Как "баховские числа" сопрягаются с сакральными?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1400" spc="-1" strike="noStrike" u="sng">
                <a:solidFill>
                  <a:srgbClr val="ffffff"/>
                </a:solidFill>
                <a:uFillTx/>
                <a:latin typeface="Tahoma"/>
              </a:rPr>
              <a:t>Пример 1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: 29 (SDG) + 14 (ВАСН) = 43 (Credo).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1400" spc="-1" strike="noStrike" u="sng">
                <a:solidFill>
                  <a:srgbClr val="ffffff"/>
                </a:solidFill>
                <a:uFillTx/>
                <a:latin typeface="Tahoma"/>
              </a:rPr>
              <a:t>Пример 2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: 29 (SDG) + 41 (J. S. ВАСН) = 70 (Iesus или Joh. Seb. ВАСН).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А вот и вовсе захватывающий итог: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58 (Johann) : 2 = 29 (SDG);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86 (Sebastian): 2 = 43 (Credo)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158 (полностью Johann Sebastian BACH) : 2 = 79(Christe).</a:t>
            </a:r>
            <a:br>
              <a:rPr sz="1200"/>
            </a:br>
            <a:br>
              <a:rPr sz="1200"/>
            </a:b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Учитель</cp:lastModifiedBy>
  <dcterms:modified xsi:type="dcterms:W3CDTF">2011-03-05T01:22:22Z</dcterms:modified>
  <cp:revision>3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