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DF52-3C52-4210-A057-3BBB74ED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86029-9E94-456D-A75C-7A2685C9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C7518-2E32-447C-8288-5EEF5CBA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8DDE-C61A-4E8F-8267-27AA5333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9751-7A35-4C1A-B160-4678A31E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B542-2E80-4100-9A51-1DE6BE19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7B65-0BBC-4140-AA3A-68280575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1C24-BE36-4838-B932-8AFD486D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4072-069F-44EC-8EA3-1ED75F52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2129-9F80-4D61-8B9B-240708FF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07EF-7E93-4612-8F36-AAE9329D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E6B97-BCA7-4A8C-97D1-EFB8A498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DCFB-1978-49C8-8991-398ACD2F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7D36-BC62-466F-A7DA-5DD64F44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D401-043C-40BE-878F-605F678E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D30F-8514-4AC7-A1EC-80272A42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937C-18B1-4408-B460-0E0EBA90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02866-D03F-4A99-8A18-7B54703F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7B37F-262E-4280-8D20-3D58A8A7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BEFB-2D13-42C3-AB69-8D0B945D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E5111-D0A5-47AA-8ED0-67E6348A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BF44-D249-4BB9-8971-416848C3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D1860-EC06-4802-BCF5-868AD508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92CB0-0F30-4DBF-A00E-7FB61E60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B469-8BB4-4B4A-9017-20B724AFBA4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873B-4269-4E2D-80E5-496E5473615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Тайнопись музыки И.С.Бах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i-main-pic" descr="Картинка 28 из 3815"/>
          <p:cNvPicPr/>
          <p:nvPr/>
        </p:nvPicPr>
        <p:blipFill>
          <a:blip r:embed="rId1"/>
          <a:stretch/>
        </p:blipFill>
        <p:spPr>
          <a:xfrm>
            <a:off x="3124080" y="1828800"/>
            <a:ext cx="3348000" cy="4800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2280" y="3809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Работу выполнили учащиеся 8 класса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Филиппова Екатерина и Монахова Викт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МБОУ «СОШ №15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6172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г.Ачинск, 2011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0773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акральная графика мотиво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733920" cy="1600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3733560" y="2666880"/>
            <a:ext cx="20574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419360" y="2514600"/>
            <a:ext cx="6858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600200" y="3657600"/>
            <a:ext cx="58672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Сакральная графика мотивов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2119320"/>
          </a:xfrm>
          <a:prstGeom prst="rect">
            <a:avLst/>
          </a:prstGeom>
          <a:ln w="0">
            <a:noFill/>
          </a:ln>
        </p:spPr>
      </p:pic>
      <p:pic>
        <p:nvPicPr>
          <p:cNvPr id="170" name="i-main-pic" descr="Картинка 13 из 181"/>
          <p:cNvPicPr/>
          <p:nvPr/>
        </p:nvPicPr>
        <p:blipFill>
          <a:blip r:embed="rId2"/>
          <a:stretch/>
        </p:blipFill>
        <p:spPr>
          <a:xfrm>
            <a:off x="304920" y="3073320"/>
            <a:ext cx="5715000" cy="3784680"/>
          </a:xfrm>
          <a:prstGeom prst="rect">
            <a:avLst/>
          </a:prstGeom>
          <a:ln w="0">
            <a:noFill/>
          </a:ln>
        </p:spPr>
      </p:pic>
      <p:pic>
        <p:nvPicPr>
          <p:cNvPr id="171" name="i-main-pic" descr="Картинка 6 из 181"/>
          <p:cNvPicPr/>
          <p:nvPr/>
        </p:nvPicPr>
        <p:blipFill>
          <a:blip r:embed="rId3"/>
          <a:stretch/>
        </p:blipFill>
        <p:spPr>
          <a:xfrm>
            <a:off x="6248520" y="3048120"/>
            <a:ext cx="2733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Сакральная графика мотивов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632484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i-main-pic" descr="Картинка 1 из 181"/>
          <p:cNvPicPr/>
          <p:nvPr/>
        </p:nvPicPr>
        <p:blipFill>
          <a:blip r:embed="rId2"/>
          <a:stretch/>
        </p:blipFill>
        <p:spPr>
          <a:xfrm>
            <a:off x="1371600" y="2133720"/>
            <a:ext cx="3252960" cy="4724280"/>
          </a:xfrm>
          <a:prstGeom prst="rect">
            <a:avLst/>
          </a:prstGeom>
          <a:ln w="0">
            <a:noFill/>
          </a:ln>
        </p:spPr>
      </p:pic>
      <p:pic>
        <p:nvPicPr>
          <p:cNvPr id="175" name="i-main-pic" descr="Картинка 3 из 181"/>
          <p:cNvPicPr/>
          <p:nvPr/>
        </p:nvPicPr>
        <p:blipFill>
          <a:blip r:embed="rId3"/>
          <a:stretch/>
        </p:blipFill>
        <p:spPr>
          <a:xfrm>
            <a:off x="5410080" y="2209680"/>
            <a:ext cx="2359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акральная графика мотиво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2038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79534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Заключени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934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ие композиторы брали пример с 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едений или использовали темы из ни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риации на тему Диабелли Л.Бетховен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4 прелюдии и фуги Д.Шостакович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написаны под впечатлением от «Хорошо темперирован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авира»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ната для виолончели ре мажор И.Брам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в финал которой вставлены музыкальные цитаты и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Искусства фуги»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д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990360" cy="1257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162920" y="4876920"/>
            <a:ext cx="971280" cy="1257120"/>
          </a:xfrm>
          <a:prstGeom prst="rect">
            <a:avLst/>
          </a:prstGeom>
          <a:ln w="0">
            <a:noFill/>
          </a:ln>
        </p:spPr>
      </p:pic>
      <p:pic>
        <p:nvPicPr>
          <p:cNvPr id="183" name="i-main-pic" descr="Картинка 12 из 114"/>
          <p:cNvPicPr/>
          <p:nvPr/>
        </p:nvPicPr>
        <p:blipFill>
          <a:blip r:embed="rId3"/>
          <a:stretch/>
        </p:blipFill>
        <p:spPr>
          <a:xfrm>
            <a:off x="7162920" y="3581280"/>
            <a:ext cx="866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«В его музыке есть космическое величие и космическая гармония, есть познание этого величия и слияние с этой гармонией»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5" name="i-main-pic" descr="Картинка 28 из 3815"/>
          <p:cNvPicPr/>
          <p:nvPr/>
        </p:nvPicPr>
        <p:blipFill>
          <a:blip r:embed="rId1"/>
          <a:stretch/>
        </p:blipFill>
        <p:spPr>
          <a:xfrm>
            <a:off x="2759040" y="1523880"/>
            <a:ext cx="3618000" cy="5181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283135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Гипотеза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великий немецкий композитор - Иоганн Себастьян Бах пользовался методами тайнописи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Проблем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доказать, что в произведениях И.С.Баха встречаются методы тайнопис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Цель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сбор, изучение, систематизация и анализ музыкального языка произведений И.С.Баха путем исследования и выявления в нем символических, а также «изобразительных», «живописных» мотив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Задач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учить и проанализировать имеющуюся информацию по данной проблеме (критические и научные статьи и работы известных музыковедов и исследователей творчества данного композитор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йти и изучить теоретический материал из средств Интерне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брать и систематизировать информацию о методах тайнописи, которыми пользовался И.С.Ба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следовать произведения И.С.Баха, в которых предположительно данные методы применяются («Хорошо темперированный клавир (ХТК)» 1 и 2 части, «Инвенции»)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Методы сокрытия письменных сообщений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тод маскиров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тоды  тайнопис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ли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риптограф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от греческих слов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krypto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-  тайный  и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graph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- пишу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му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ж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по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д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н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и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ко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м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е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ме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н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и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вертирования реч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роза упала на лапу Азо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а розА упал ан алапу аз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248520" y="1523880"/>
            <a:ext cx="1904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оган Себастьян Ба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Это было недавно, это было давно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275480"/>
            <a:ext cx="7913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02 год - И.Н.Форкель - первый биограф И.С. Бах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.Ф.Уолле (США) – организотор фестивалей музыки И.С.Бах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.Шпитта – сыграл важную роль в научном осмыслении музы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.С.Бах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905 г. -  книга А.Швейцера (предложил новый метод анализа музыкальных произведений И.С.Бах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.С.Терри (Англия) – добавил много биографических матери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.Шеринг (Германия)  - осветил музыкальную жизнь И.С.Баха в г.Лейпциг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Johann nikolaus forkel-1.jpg"/>
          <p:cNvPicPr/>
          <p:nvPr/>
        </p:nvPicPr>
        <p:blipFill>
          <a:blip r:embed="rId1"/>
          <a:stretch/>
        </p:blipFill>
        <p:spPr>
          <a:xfrm>
            <a:off x="7315200" y="838080"/>
            <a:ext cx="961920" cy="1257480"/>
          </a:xfrm>
          <a:prstGeom prst="rect">
            <a:avLst/>
          </a:prstGeom>
          <a:ln w="0">
            <a:noFill/>
          </a:ln>
        </p:spPr>
      </p:pic>
      <p:pic>
        <p:nvPicPr>
          <p:cNvPr id="138" name="i-tmb-0x" descr=""/>
          <p:cNvPicPr/>
          <p:nvPr/>
        </p:nvPicPr>
        <p:blipFill>
          <a:blip r:embed="rId2"/>
          <a:stretch/>
        </p:blipFill>
        <p:spPr>
          <a:xfrm>
            <a:off x="7467480" y="3581280"/>
            <a:ext cx="1047960" cy="1247760"/>
          </a:xfrm>
          <a:prstGeom prst="rect">
            <a:avLst/>
          </a:prstGeom>
          <a:ln w="0">
            <a:noFill/>
          </a:ln>
        </p:spPr>
      </p:pic>
      <p:pic>
        <p:nvPicPr>
          <p:cNvPr id="139" name="i-tmb-0x" descr=""/>
          <p:cNvPicPr/>
          <p:nvPr/>
        </p:nvPicPr>
        <p:blipFill>
          <a:blip r:embed="rId3"/>
          <a:stretch/>
        </p:blipFill>
        <p:spPr>
          <a:xfrm>
            <a:off x="7543800" y="5429160"/>
            <a:ext cx="1000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Вензель и коды Бах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572000" cy="2195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057400" y="3809880"/>
            <a:ext cx="114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J[ohann] S[ebastian] B[ach]        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809880"/>
            <a:ext cx="1523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кончательный  вариант  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3809880"/>
            <a:ext cx="13716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J[ohann] S[ebastian] B[ach]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(зеркальное отражени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Немного арифмети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кральные чис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«3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символ Св.Троиц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«6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шести «рабочих» дней, в которые Бог сотворил мир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«7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символ Троицы и Творения в целом, а также Св.Дух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«10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десяти заповеде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«12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Церкви, апостолов и конгрег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Немного арифмети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Примеры использования этих чисел у Бах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Tahoma"/>
              </a:rPr>
              <a:t>«10»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 хоральной прелюдии «Десяти заповедей» из «Органной книжечки» мелодия, образованная из cantus firmus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проходит ровно десять ра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Tahoma"/>
              </a:rPr>
              <a:t>«6»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о времена Баха устойчивой традицией было группировать произведения одного жанра в циклы по шесть. И творческое наследие И.С.Баха является самым ярким примером такой трактовки числа «6»: шесть Французских и шесть Английских сюит, такое количество виолончельных сонат, Бранденбургских концертов, скрипичных сона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Tahoma"/>
              </a:rPr>
              <a:t>«3»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Это число со всей очевидностью играло важную роль при выборе тональности и разработке формы произведения, которому суждено было олицетворять отношение Баха к Св.Троице. Самое яркое воплощение троичности мы нашли в опубликованных самим Бахом «Клавирных упражнениях»: в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ретье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части этого собрания он помещает 21 хорал (21=3х7, то есть «Свят, свят, свят!») на вероисповедальные песни, заимствованные из «Катехизиса» Лютера и расположенные в том же порядке, причем три хорала посвящены непосредственно Св.Троице (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yri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tt Vate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yri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tt Soh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yri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tt heiliger Geist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); далее фуга, завершающая это собрание, - тож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ройн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то есть написанная на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ри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мы, и к тому ж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рехчастн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; и, наконец, тональность для нее выбрана не случайная, а ми-бемоль мажор – с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рем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бемолями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Мотив</a:t>
            </a: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 B-A-C-H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267440" cy="141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429000" y="1295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12952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12952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1295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3352680" cy="2055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257800" y="3124080"/>
            <a:ext cx="3657600" cy="2013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28600" y="5218200"/>
            <a:ext cx="4038480" cy="1639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029200" y="5257800"/>
            <a:ext cx="3733920" cy="1600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H="1">
            <a:off x="6705720" y="6019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019920" y="6095880"/>
            <a:ext cx="2133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Буквы, числа, зву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76312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А-1      G-7            N-13        Т-19 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В-2       Н-8           О-14         U(V)-20 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С-3       I (J)-9       P-15         W -21 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D-4       K-10         Q-16         X-22 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Е-5       L-11          R-17         Y-23 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F-6       M-12         S-18         Z-24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лючевые христианские слова - Credo ("Верую"), Deus ("Бог"), Iesus (Иисус), Jesu Christe (Иисус Христос), а также твердо установленные христианские аббревиатуры, например SDG (Soli Deo Gloria - "Единому Богу слава"), J. CHR (Jesus Christus - "Иисус Христос") имели числовой "эквивалент"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Credo = 3 + 17+5 + 4 + 14 = 43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Deus = 4 + 5 + 20 + 18 = 47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Iesus = 70; J. CHR = 37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Jesu Christe = 131; SDG = 29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"70"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- сверяйтесь с пронумерованным немецким алфавитом! - это 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Iesus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Joh. Seb. Bach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"29"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SDG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но также 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JSB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 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Фамилия "Бах" (ВАСН) по этой системе символизируется числом 14. а вместе с инициалами имени - J. S. ВАСН -получается инверсия этого числа, то есть 41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к "баховские числа" сопрягаются с сакральными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Пример 1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: 29 (SDG) + 14 (ВАСН) = 43 (Credo)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Пример 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: 29 (SDG) + 41 (J. S. ВАСН) = 70 (Iesus или Joh. Seb. ВАСН)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 вот и вовсе захватывающий итог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8 (Johann) : 2 = 29 (SDG)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86 (Sebastian): 2 = 43 (Credo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58 (полностью Johann Sebastian BACH) : 2 = 79(Christe).</a:t>
            </a:r>
            <a:br>
              <a:rPr sz="1200"/>
            </a:br>
            <a:br>
              <a:rPr sz="12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1-03-05T01:22:22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