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79BC-79B0-4BAE-9E17-0AC179AB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8C8-3461-43E7-A1AD-E0607C21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884-DDBA-4766-8066-45488DD6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12E-B1DB-4508-B6C6-E80AFB37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BAB2-BC3D-4899-A818-3FACE737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EF8C-008E-4EE1-B8C5-8CDCB36B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0350-70CC-49B1-A74E-FF14BD60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B0AB-D2A5-496E-8D27-24895213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EC28-266D-4043-96B0-CFF00031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222A-2C3C-4770-9E8C-5A72D492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9742-9B87-4AFB-9C00-05521F27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0F9-95A0-48B8-A175-46791BE1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A557-81D1-4D29-AE8C-5C7C2BB8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FAD9-376C-4D18-AA13-4FBD46EC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ED98-DA8B-4C13-962F-A727648E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DEB7-1244-4DF1-960B-6F84F697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0475-2D66-4948-9CC6-B4DC6BD6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359-2C01-46C5-9EE8-1D271193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AA9-F354-43B5-B57F-3D5ECD46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FD12-14B0-410F-AF0C-70C44C65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508-F79B-4FE4-9B29-E865DB7A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9830-4DED-4A88-947A-A24445DF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B5C-6F48-4D36-99BB-66A07762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67E-4D0C-44ED-A060-13576B64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AD7C-8BD5-49A1-B092-5D1042B131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BC63-1F76-411C-8224-2150FECF33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ussianmontreal.ca/uploads/posts/2008-02/1203704376_teache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du54.ru/sites/default/files/userfiles/image/uchit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038960" y="3184560"/>
            <a:ext cx="77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Нравственное  воспитание 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934160" y="566100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Arial"/>
              </a:rPr>
              <a:t>Борисова  Галина 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24000" y="264600"/>
            <a:ext cx="4608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естое направление  — «Ист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ышение компетентности родителей в нравственном воспитании школьников, организация сотрудничества школы и семьи по вопросам формирования высоко­нравственных качеств и культуры поведения учащихся; объединение усилий педагогов и родителей в совместной деятельности по нравственному воспитанию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сихолого­педагогическое просвещение родителей, родительские собрания, тренинги, дни открытых дверей, участие родителей в общешкольных мероприятиях и классных делах, совместные праздники, соревнования, конкурсы, походы, фестив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Картинка 1 из 64000"/>
          <p:cNvPicPr/>
          <p:nvPr/>
        </p:nvPicPr>
        <p:blipFill>
          <a:blip r:embed="rId1"/>
          <a:stretch/>
        </p:blipFill>
        <p:spPr>
          <a:xfrm>
            <a:off x="5003640" y="549360"/>
            <a:ext cx="3889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324000" y="485280"/>
            <a:ext cx="338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дьмое направление  — «Красота спасет ми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ирование у учащихся культуры поведения и эстетического вк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ческие беседы, тренинги, рыцарские турниры, посещение кружков эстетической направленности, музеев, театров; встречи с интересными людьми — художниками, поэтами, писателями; выставки детских художественных работ, семейные выставки дост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артинка 2 из 34216"/>
          <p:cNvPicPr/>
          <p:nvPr/>
        </p:nvPicPr>
        <p:blipFill>
          <a:blip r:embed="rId1"/>
          <a:stretch/>
        </p:blipFill>
        <p:spPr>
          <a:xfrm>
            <a:off x="4067280" y="836640"/>
            <a:ext cx="47512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539640" y="763200"/>
            <a:ext cx="3527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сьмое направление — «Трудовое, экономическое воспит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спитание положительного отношения к труду как важнейшей ценности, развитие потребности в творческом тру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изация самообслуживания, трудовые десанты, экономические игры, уборка школьного д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Картинка 29 из 435"/>
          <p:cNvPicPr/>
          <p:nvPr/>
        </p:nvPicPr>
        <p:blipFill>
          <a:blip r:embed="rId1"/>
          <a:stretch/>
        </p:blipFill>
        <p:spPr>
          <a:xfrm>
            <a:off x="4140360" y="333360"/>
            <a:ext cx="4752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33"/>
                </a:solidFill>
                <a:latin typeface="Times New Roman"/>
              </a:rPr>
              <a:t>Ожидаемые  результаты:</a:t>
            </a:r>
            <a:br>
              <a:rPr sz="3000"/>
            </a:b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навыков и привычек нравственного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гащение эмоционального мира детей и формирование у них нравственных чув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обогащение опыта нравственного поведения средних школьников путем организации их практ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 детей ответственности за свое здоров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оружение учащихся знаниями о морали, формирование моральных нор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агрессивности в поведении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0033"/>
                </a:solidFill>
                <a:latin typeface="Comic Sans MS"/>
              </a:rPr>
              <a:t>Средний школьный возраст — это начало осознанного восприятия мира, когда закладываются критерии добра и зла, порядочности и лживости, смелости и трусости. Поэтому этот возраст является одним из основных этапов воспитания, в котором закладываются основные принципы гуманной жизни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0033"/>
                </a:solidFill>
                <a:latin typeface="Comic Sans MS"/>
              </a:rPr>
              <a:t>В системе нравственного воспитания можно выделить следующие направления деятельности педагогов: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439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ирование потребности в здоровом образе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триотическое воспит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ирование духовности средних школьников через отношение к литературе и средствам массов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эстетическое развитие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детского общественного дви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вместная работа школы и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Картинка 3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45200" y="1600200"/>
            <a:ext cx="3068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0" y="1628640"/>
            <a:ext cx="410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нравственного воспитания состоит в том, чтобы социально необходимые требования, предъявляемые обществом, педагоги превратили во внутренние стимулы развития личности каждого ребенка; воспитывали такие социально значимые качества личности, как долг, честь, совесть, достоинство, толерантность, милосерд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Картинка 8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692280"/>
            <a:ext cx="37242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0033"/>
                </a:solidFill>
                <a:latin typeface="Comic Sans MS"/>
              </a:rPr>
              <a:t>Нравственное   воспитание   включает  в  себя   восемь  основных  направлений: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081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ое направление — диагностичес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дение диагностических исследований поведения педагогов, учащихся и их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нкетирование, опрос, тестирование, педагогические наблюдения, бес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Картинка 22 из 550"/>
          <p:cNvPicPr/>
          <p:nvPr/>
        </p:nvPicPr>
        <p:blipFill>
          <a:blip r:embed="rId1"/>
          <a:stretch/>
        </p:blipFill>
        <p:spPr>
          <a:xfrm>
            <a:off x="4016520" y="1647720"/>
            <a:ext cx="487656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611280" y="189000"/>
            <a:ext cx="3240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gency FB"/>
              </a:rPr>
              <a:t>Второе направление — «Воспитание духовности»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gency FB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gency FB"/>
              </a:rPr>
              <a:t> формирование милосердия и толерантности; вооружение учащихся знаниями о морали и нравственных нормах; формирование культуры общения, привычки заботиться о своем внешнем виде и навыков организации повседневного б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еседы, классные часы, конкурс «Все привыкли мы к порядку…», показ коллекции «Школьная мод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Картинка 124 из 830"/>
          <p:cNvPicPr/>
          <p:nvPr/>
        </p:nvPicPr>
        <p:blipFill>
          <a:blip r:embed="rId1"/>
          <a:stretch/>
        </p:blipFill>
        <p:spPr>
          <a:xfrm>
            <a:off x="3708360" y="1341360"/>
            <a:ext cx="525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250920" y="574200"/>
            <a:ext cx="403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етье направление — «Здоровье плюс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ирование знаний о здоровом образе жизни и привитие навыков ответственного отношения к нему, профилактика вредных привы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еклассные формы занятий (кружки, секции), спортивно­массовые и физкультурно­оздоровительные мероприятия (соревнования «Мама, папа, я — спортивная семья», Дни здоровья, конкурсные программы «Здоровая семейка» и т.п.), турниры, соревнования, пох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Картинка 13 из 64000"/>
          <p:cNvPicPr/>
          <p:nvPr/>
        </p:nvPicPr>
        <p:blipFill>
          <a:blip r:embed="rId1"/>
          <a:stretch/>
        </p:blipFill>
        <p:spPr>
          <a:xfrm>
            <a:off x="4211640" y="1268280"/>
            <a:ext cx="4753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5076720" y="180360"/>
            <a:ext cx="3672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твертое направление — «Новое покол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владение средними школьниками знаниями в области права, формирование и развитие личности гражданина как защитника Отечества, а также ответственного отношения к семье, к другим людям, к своему народу; развитие детского школь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ческие беседы, «уроки мужества», встречи с ветеранами Великой Отечественной войны, классные часы, посвященные знакомству с государственной символ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Картинка 43 из 7576"/>
          <p:cNvPicPr/>
          <p:nvPr/>
        </p:nvPicPr>
        <p:blipFill>
          <a:blip r:embed="rId1"/>
          <a:stretch/>
        </p:blipFill>
        <p:spPr>
          <a:xfrm>
            <a:off x="324000" y="333360"/>
            <a:ext cx="4248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539640" y="269640"/>
            <a:ext cx="338472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ятое направление — «Эколог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мирование экологического сознания и экологическ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кологические праздники, марафоны, игры, выпуск листовок, газет, детское экологическое движение «Зеленая планета», проекты летней оздоровительной кампании («Спасем окружающую среду», «Зеленая планета»), конкурсы «Знатоки природы — лучшие читатели», экологические деса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Картинка 45 из 24589"/>
          <p:cNvPicPr/>
          <p:nvPr/>
        </p:nvPicPr>
        <p:blipFill>
          <a:blip r:embed="rId1"/>
          <a:stretch/>
        </p:blipFill>
        <p:spPr>
          <a:xfrm>
            <a:off x="4356000" y="333360"/>
            <a:ext cx="446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5:23:48Z</dcterms:created>
  <dc:creator>Admin</dc:creator>
  <dc:description/>
  <dc:language>en-US</dc:language>
  <cp:lastModifiedBy>Коля</cp:lastModifiedBy>
  <dcterms:modified xsi:type="dcterms:W3CDTF">2013-04-07T11:28:03Z</dcterms:modified>
  <cp:revision>7</cp:revision>
  <dc:subject/>
  <dc:title>Нравственное  воспитание  школьников</dc:title>
</cp:coreProperties>
</file>