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823-22A0-4762-8CC0-3AE4CD8F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04F-4B09-4BBE-9438-FB300742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461-7FE4-48C2-942C-EDD90B5E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D25-E4D4-4CDB-9200-7F63A52A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0493-ED04-47C6-932E-6B3A68F8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19BE-1CA8-4D3A-96C0-E3BA512D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5777-0497-4AA2-BFE4-AC5E4275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A454-F4FE-47EC-947E-EDC37B93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A5E6-A859-4DF0-864D-81E6B00A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2D75-59B8-4711-A777-9C475F09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AB35-F9F5-4642-B9AA-6B548ED3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719-DFF7-4413-9B69-B160C78C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DE20-8315-4F58-B210-4D9CB935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5010-516E-4425-AA84-367B09BE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8DD7-E853-44FB-ACF6-8DCCC98B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DCE5-2906-4034-B9A2-541B800D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3B33-D228-4D39-B597-D056329E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492-2E41-431B-8495-B70F1B92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34D-7524-46E7-92DD-B29D367F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E4C-A07D-42A4-85A8-3A7DBE9B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FAE-498A-4654-8D85-DCBBFBDC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F5A3-94FA-4499-A091-86E1BA6E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88D-7E18-4BC4-BBC3-4246CE79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EBA9-1E98-48BA-9CB6-AA174130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7ECD-0F52-458A-A4C6-A87731FE70C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1DA0-29F1-4E42-B129-3F8F22552F8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ussianmontreal.ca/uploads/posts/2008-02/1203704376_teache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du54.ru/sites/default/files/userfiles/image/uchit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924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038960" y="3184560"/>
            <a:ext cx="77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Нравственное  воспитание 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934160" y="566100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орисова  Галина 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24000" y="264600"/>
            <a:ext cx="46083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естое направление  — «Ист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вышение компетентности родителей в нравственном воспитании школьников, организация сотрудничества школы и семьи по вопросам формирования высоко­нравственных качеств и культуры поведения учащихся; объединение усилий педагогов и родителей в совместной деятельности по нравственному воспитанию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сихолого­педагогическое просвещение родителей, родительские собрания, тренинги, дни открытых дверей, участие родителей в общешкольных мероприятиях и классных делах, совместные праздники, соревнования, конкурсы, походы, фестив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Картинка 1 из 64000"/>
          <p:cNvPicPr/>
          <p:nvPr/>
        </p:nvPicPr>
        <p:blipFill>
          <a:blip r:embed="rId1"/>
          <a:stretch/>
        </p:blipFill>
        <p:spPr>
          <a:xfrm>
            <a:off x="5003640" y="549360"/>
            <a:ext cx="3889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324000" y="485280"/>
            <a:ext cx="338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дьмое направление  — «Красота спасет ми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ормирование у учащихся культуры поведения и эстетического вк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ческие беседы, тренинги, рыцарские турниры, посещение кружков эстетической направленности, музеев, театров; встречи с интересными людьми — художниками, поэтами, писателями; выставки детских художественных работ, семейные выставки дост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Картинка 2 из 34216"/>
          <p:cNvPicPr/>
          <p:nvPr/>
        </p:nvPicPr>
        <p:blipFill>
          <a:blip r:embed="rId1"/>
          <a:stretch/>
        </p:blipFill>
        <p:spPr>
          <a:xfrm>
            <a:off x="4067280" y="836640"/>
            <a:ext cx="47512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539640" y="763200"/>
            <a:ext cx="3527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сьмое направление — «Трудовое, экономическое воспит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спитание положительного отношения к труду как важнейшей ценности, развитие потребности в творческом тру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ганизация самообслуживания, трудовые десанты, экономические игры, уборка школьного д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Картинка 29 из 435"/>
          <p:cNvPicPr/>
          <p:nvPr/>
        </p:nvPicPr>
        <p:blipFill>
          <a:blip r:embed="rId1"/>
          <a:stretch/>
        </p:blipFill>
        <p:spPr>
          <a:xfrm>
            <a:off x="4140360" y="333360"/>
            <a:ext cx="4752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Ожидаемые  результаты:</a:t>
            </a:r>
            <a:br>
              <a:rPr sz="3000"/>
            </a:b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навыков и привычек нравственного п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гащение эмоционального мира детей и формирование у них нравственных чув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обогащение опыта нравственного поведения средних школьников путем организации их практ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 детей ответственности за свое здоров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оружение учащихся знаниями о морали, формирование моральных нор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агрессивности в поведении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0033"/>
                </a:solidFill>
                <a:latin typeface="Comic Sans MS"/>
              </a:rPr>
              <a:t>Средний школьный возраст — это начало осознанного восприятия мира, когда закладываются критерии добра и зла, порядочности и лживости, смелости и трусости. Поэтому этот возраст является одним из основных этапов воспитания, в котором закладываются основные принципы гуманной жизни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0033"/>
                </a:solidFill>
                <a:latin typeface="Comic Sans MS"/>
              </a:rPr>
              <a:t>В системе нравственного воспитания можно выделить следующие направления деятельности педагогов: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439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ирование потребности в здоровом образе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триотическое воспит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ирование духовности средних школьников через отношение к литературе и средствам массовой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эстетическое развитие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тие детского общественного дви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вместная работа школы и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Картинка 3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45200" y="1600200"/>
            <a:ext cx="3068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0" y="1628640"/>
            <a:ext cx="410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 нравственного воспитания состоит в том, чтобы социально необходимые требования, предъявляемые обществом, педагоги превратили во внутренние стимулы развития личности каждого ребенка; воспитывали такие социально значимые качества личности, как долг, честь, совесть, достоинство, толерантность, милосерд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Картинка 8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692280"/>
            <a:ext cx="37242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0033"/>
                </a:solidFill>
                <a:latin typeface="Comic Sans MS"/>
              </a:rPr>
              <a:t>Нравственное   воспитание   включает  в  себя   восемь  основных  направлений: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08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вое направление — диагностичес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едение диагностических исследований поведения педагогов, учащихся и их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нкетирование, опрос, тестирование, педагогические наблюдения, бес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Картинка 22 из 550"/>
          <p:cNvPicPr/>
          <p:nvPr/>
        </p:nvPicPr>
        <p:blipFill>
          <a:blip r:embed="rId1"/>
          <a:stretch/>
        </p:blipFill>
        <p:spPr>
          <a:xfrm>
            <a:off x="4016520" y="1647720"/>
            <a:ext cx="487656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611280" y="189000"/>
            <a:ext cx="3240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gency FB"/>
              </a:rPr>
              <a:t>Второе направление — «Воспитание духовности»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gency FB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gency FB"/>
              </a:rPr>
              <a:t> формирование милосердия и толерантности; вооружение учащихся знаниями о морали и нравственных нормах; формирование культуры общения, привычки заботиться о своем внешнем виде и навыков организации повседневного б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еседы, классные часы, конкурс «Все привыкли мы к порядку…», показ коллекции «Школьная мод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Картинка 124 из 830"/>
          <p:cNvPicPr/>
          <p:nvPr/>
        </p:nvPicPr>
        <p:blipFill>
          <a:blip r:embed="rId1"/>
          <a:stretch/>
        </p:blipFill>
        <p:spPr>
          <a:xfrm>
            <a:off x="3708360" y="1341360"/>
            <a:ext cx="5256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250920" y="574200"/>
            <a:ext cx="403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етье направление — «Здоровье плюс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ормирование знаний о здоровом образе жизни и привитие навыков ответственного отношения к нему, профилактика вредных привы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еклассные формы занятий (кружки, секции), спортивно­массовые и физкультурно­оздоровительные мероприятия (соревнования «Мама, папа, я — спортивная семья», Дни здоровья, конкурсные программы «Здоровая семейка» и т.п.), турниры, соревнования, пох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Картинка 13 из 64000"/>
          <p:cNvPicPr/>
          <p:nvPr/>
        </p:nvPicPr>
        <p:blipFill>
          <a:blip r:embed="rId1"/>
          <a:stretch/>
        </p:blipFill>
        <p:spPr>
          <a:xfrm>
            <a:off x="4211640" y="1268280"/>
            <a:ext cx="4753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5076720" y="180360"/>
            <a:ext cx="3672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твертое направление — «Новое покол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владение средними школьниками знаниями в области права, формирование и развитие личности гражданина как защитника Отечества, а также ответственного отношения к семье, к другим людям, к своему народу; развитие детского школьного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ческие беседы, «уроки мужества», встречи с ветеранами Великой Отечественной войны, классные часы, посвященные знакомству с государственной символ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Картинка 43 из 7576"/>
          <p:cNvPicPr/>
          <p:nvPr/>
        </p:nvPicPr>
        <p:blipFill>
          <a:blip r:embed="rId1"/>
          <a:stretch/>
        </p:blipFill>
        <p:spPr>
          <a:xfrm>
            <a:off x="324000" y="333360"/>
            <a:ext cx="4248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539640" y="269640"/>
            <a:ext cx="338472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ятое направление — «Эколог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ормирование экологического сознания и экологическ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кологические праздники, марафоны, игры, выпуск листовок, газет, детское экологическое движение «Зеленая планета», проекты летней оздоровительной кампании («Спасем окружающую среду», «Зеленая планета»), конкурсы «Знатоки природы — лучшие читатели», экологические деса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Картинка 45 из 24589"/>
          <p:cNvPicPr/>
          <p:nvPr/>
        </p:nvPicPr>
        <p:blipFill>
          <a:blip r:embed="rId1"/>
          <a:stretch/>
        </p:blipFill>
        <p:spPr>
          <a:xfrm>
            <a:off x="4356000" y="333360"/>
            <a:ext cx="446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5:23:48Z</dcterms:created>
  <dc:creator>Admin</dc:creator>
  <dc:description/>
  <dc:language>en-US</dc:language>
  <cp:lastModifiedBy>Коля</cp:lastModifiedBy>
  <dcterms:modified xsi:type="dcterms:W3CDTF">2013-04-07T11:28:03Z</dcterms:modified>
  <cp:revision>7</cp:revision>
  <dc:subject/>
  <dc:title>Нравственное  воспитание  школьников</dc:title>
</cp:coreProperties>
</file>