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4BF-257D-4DA2-BA62-28520CBC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551-81FE-4E82-968C-306B2DEB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E8B-A2B8-4AA3-B127-30C7BD9F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88E-ECAB-46B3-8499-E4D1BFB4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DEFE-67D9-4E66-9980-223E77C3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8C2A-0E19-4975-9D38-399D82F8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A489-7C74-4B6B-8E60-06B2AF0D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8459-5E73-4B80-848E-3F5056D5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9E2B-3C0C-4226-848E-0F003B6E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BAF2-5522-4C38-8798-772C4C68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D57B-A6D0-4179-8AD9-7431EAD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784-1957-44DD-946D-44FD6D4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F5B7-A773-46BF-963D-54C7D000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E296-D136-4C70-A07B-D9CCD67F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F37B-7A42-481C-8DF2-5A98FB97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DDA7-45BC-4FA8-83B5-268F6B6B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FD08-7D55-4368-B2C6-8B35CE08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94A-706B-4BF2-8133-FEA413A7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182-DD08-456E-B864-B29277A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904-EBA0-4B9A-9C4F-E5D5A3F7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7EB-BDF1-451A-89AC-C38527FD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941-5A2D-462C-9031-2825D1C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11E-1205-4725-9083-D23475AC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2D4-CD86-4429-94A2-B907493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99BF-F6B1-4876-9982-24F8CA3DE87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1C01-3066-4D22-B989-3391BF197C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ssianmontreal.ca/uploads/posts/2008-02/1203704376_teach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54.ru/sites/default/files/userfiles/image/uchi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38960" y="318456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Нравственное  воспитание 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934160" y="566100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орисова  Галина 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24000" y="264600"/>
            <a:ext cx="4608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ое направление  — «И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ышение компетентности родителей в нравственном воспитании школьников, организация сотрудничества школы и семьи по вопросам формирования высоко­нравственных качеств и культуры поведения учащихся; объединение усилий педагогов и родителей в совместной деятельности по нравственному воспитанию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сихолого­педагогическое просвещение родителей, родительские собрания, тренинги, дни открытых дверей, участие родителей в общешкольных мероприятиях и классных делах, совместные праздники, соревнования, конкурсы, походы, фести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Картинка 1 из 64000"/>
          <p:cNvPicPr/>
          <p:nvPr/>
        </p:nvPicPr>
        <p:blipFill>
          <a:blip r:embed="rId1"/>
          <a:stretch/>
        </p:blipFill>
        <p:spPr>
          <a:xfrm>
            <a:off x="5003640" y="549360"/>
            <a:ext cx="3889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24000" y="485280"/>
            <a:ext cx="338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дьмое направление  — «Красота спасет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у учащихся культуры поведения и эстетического вк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ческие беседы, тренинги, рыцарские турниры, посещение кружков эстетической направленности, музеев, театров; встречи с интересными людьми — художниками, поэтами, писателями; выставки детских художественных работ, семейные выставки дост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2 из 34216"/>
          <p:cNvPicPr/>
          <p:nvPr/>
        </p:nvPicPr>
        <p:blipFill>
          <a:blip r:embed="rId1"/>
          <a:stretch/>
        </p:blipFill>
        <p:spPr>
          <a:xfrm>
            <a:off x="4067280" y="836640"/>
            <a:ext cx="4751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9640" y="763200"/>
            <a:ext cx="3527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ьмое направление — «Трудовое, экономическое воспит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спитание положительного отношения к труду как важнейшей ценности, развитие потребности в творческом тру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самообслуживания, трудовые десанты, экономические игры, уборка школьного д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Картинка 29 из 435"/>
          <p:cNvPicPr/>
          <p:nvPr/>
        </p:nvPicPr>
        <p:blipFill>
          <a:blip r:embed="rId1"/>
          <a:stretch/>
        </p:blipFill>
        <p:spPr>
          <a:xfrm>
            <a:off x="4140360" y="333360"/>
            <a:ext cx="475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Ожидаемые  результаты: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ов и привычек нравственн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гащение эмоционального мира детей и формирование у них нравственных чув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обогащение опыта нравственного поведения средних школьников путем организации их прак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детей ответственности за свое 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оружение учащихся знаниями о морали, формирование моральны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агрессивности в поведении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Comic Sans MS"/>
              </a:rPr>
              <a:t>Средний школьный возраст — это начало осознанного восприятия мира, когда закладываются критерии добра и зла, порядочности и лживости, смелости и трусости. Поэтому этот возраст является одним из основных этапов воспитания, в котором закладываются основные принципы гуманной жизни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0033"/>
                </a:solidFill>
                <a:latin typeface="Comic Sans MS"/>
              </a:rPr>
              <a:t>В системе нравственного воспитания можно выделить следующие направления деятельности педагогов: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439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ирование потребности в здоровом образе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триотическое воспит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ирование духовности средних школьников через отношение к литературе и средствам массов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стетическое развитие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детского общественного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вместная работа школы 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Картинка 3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5200" y="1600200"/>
            <a:ext cx="3068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0" y="1628640"/>
            <a:ext cx="410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нравственного воспитания состоит в том, чтобы социально необходимые требования, предъявляемые обществом, педагоги превратили во внутренние стимулы развития личности каждого ребенка; воспитывали такие социально значимые качества личности, как долг, честь, совесть, достоинство, толерантность, милосерд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Картинка 8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92280"/>
            <a:ext cx="37242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Comic Sans MS"/>
              </a:rPr>
              <a:t>Нравственное   воспитание   включает  в  себя   восемь  основных  направлений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8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ое направление — диагностиче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ие диагностических исследований поведения педагогов, учащихся и и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нкетирование, опрос, тестирование, педагогические наблюдения,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Картинка 22 из 550"/>
          <p:cNvPicPr/>
          <p:nvPr/>
        </p:nvPicPr>
        <p:blipFill>
          <a:blip r:embed="rId1"/>
          <a:stretch/>
        </p:blipFill>
        <p:spPr>
          <a:xfrm>
            <a:off x="4016520" y="1647720"/>
            <a:ext cx="487656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611280" y="189000"/>
            <a:ext cx="324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gency FB"/>
              </a:rPr>
              <a:t>Второе направление — «Воспитание духовности»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gency FB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gency FB"/>
              </a:rPr>
              <a:t> формирование милосердия и толерантности; вооружение учащихся знаниями о морали и нравственных нормах; формирование культуры общения, привычки заботиться о своем внешнем виде и навыков организации повседневного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седы, классные часы, конкурс «Все привыкли мы к порядку…», показ коллекции «Школьная мо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Картинка 124 из 830"/>
          <p:cNvPicPr/>
          <p:nvPr/>
        </p:nvPicPr>
        <p:blipFill>
          <a:blip r:embed="rId1"/>
          <a:stretch/>
        </p:blipFill>
        <p:spPr>
          <a:xfrm>
            <a:off x="3708360" y="1341360"/>
            <a:ext cx="525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50920" y="574200"/>
            <a:ext cx="403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тье направление — «Здоровье плюс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знаний о здоровом образе жизни и привитие навыков ответственного отношения к нему, профилактика вредных привы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еклассные формы занятий (кружки, секции), спортивно­массовые и физкультурно­оздоровительные мероприятия (соревнования «Мама, папа, я — спортивная семья», Дни здоровья, конкурсные программы «Здоровая семейка» и т.п.), турниры, соревнования, по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артинка 13 из 64000"/>
          <p:cNvPicPr/>
          <p:nvPr/>
        </p:nvPicPr>
        <p:blipFill>
          <a:blip r:embed="rId1"/>
          <a:stretch/>
        </p:blipFill>
        <p:spPr>
          <a:xfrm>
            <a:off x="4211640" y="1268280"/>
            <a:ext cx="4753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5076720" y="180360"/>
            <a:ext cx="3672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вертое направление — «Новое покол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владение средними школьниками знаниями в области права, формирование и развитие личности гражданина как защитника Отечества, а также ответственного отношения к семье, к другим людям, к своему народу; развитие детского школь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ческие беседы, «уроки мужества», встречи с ветеранами Великой Отечественной войны, классные часы, посвященные знакомству с государственной символ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артинка 43 из 7576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39640" y="269640"/>
            <a:ext cx="338472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ятое направление — «Эколог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экологического сознания и экологиче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кологические праздники, марафоны, игры, выпуск листовок, газет, детское экологическое движение «Зеленая планета», проекты летней оздоровительной кампании («Спасем окружающую среду», «Зеленая планета»), конкурсы «Знатоки природы — лучшие читатели», экологические дес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45 из 24589"/>
          <p:cNvPicPr/>
          <p:nvPr/>
        </p:nvPicPr>
        <p:blipFill>
          <a:blip r:embed="rId1"/>
          <a:stretch/>
        </p:blipFill>
        <p:spPr>
          <a:xfrm>
            <a:off x="4356000" y="333360"/>
            <a:ext cx="446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5:23:48Z</dcterms:created>
  <dc:creator>Admin</dc:creator>
  <dc:description/>
  <dc:language>en-US</dc:language>
  <cp:lastModifiedBy>Коля</cp:lastModifiedBy>
  <dcterms:modified xsi:type="dcterms:W3CDTF">2013-04-07T11:28:03Z</dcterms:modified>
  <cp:revision>7</cp:revision>
  <dc:subject/>
  <dc:title>Нравственное  воспитание  школьников</dc:title>
</cp:coreProperties>
</file>