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017-D1F1-43CB-9B2E-224FB9732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CED-9BC4-401D-9D51-B8C0F0A69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AB9-07CE-4BB2-8C8B-34C0E4E91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9C01-8888-440C-9F33-88A53BB65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6003-9B3F-4A3F-AF2D-AD37FFD7F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5FC-460D-4C2F-AA93-D70C01B77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42D1-5AEB-4650-80E7-081733993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DF88-D01E-4ACE-BA48-3B561718F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F11-71C3-4579-9E52-4074459D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138-D91D-4EE0-9E87-DED5DF01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0AF-5C8D-4889-B1F9-061D807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2EC-79FA-4A78-A571-71CC792C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49A-3D1C-4FF8-AE58-3EE085D0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501-040A-4430-9734-B4306DD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4C0-D2B4-4370-9C3D-7463759E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F63-2311-4401-B059-66694A0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B9F-D088-41A4-888B-4C38A41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4AE-D2CA-41BE-B2C1-E8458EF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4FE-7841-48FC-BFE6-F6663D1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108-5379-4721-961C-7449847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43E-3090-46DE-AC16-3D3439C3E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485640" y="2101680"/>
            <a:ext cx="82296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фессии – «Милиционер,</a:t>
            </a:r>
            <a:endParaRPr b="1" lang="en-US" sz="5400" spc="1" strike="noStrike">
              <a:ln w="12600">
                <a:solidFill>
                  <a:srgbClr val="ffff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7" descr=""/>
          <p:cNvPicPr/>
          <p:nvPr/>
        </p:nvPicPr>
        <p:blipFill>
          <a:blip r:embed="rId1"/>
          <a:stretch/>
        </p:blipFill>
        <p:spPr>
          <a:xfrm>
            <a:off x="762120" y="3693960"/>
            <a:ext cx="801684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12" descr="otmini_126.gif"/>
          <p:cNvPicPr/>
          <p:nvPr/>
        </p:nvPicPr>
        <p:blipFill>
          <a:blip r:embed="rId2"/>
          <a:stretch/>
        </p:blipFill>
        <p:spPr>
          <a:xfrm>
            <a:off x="6786720" y="214200"/>
            <a:ext cx="214308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85840" y="521496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 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640" y="357120"/>
            <a:ext cx="854388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годня вы соприкоснетесь с еще одними очень интересными професс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лицинер, военный, следователь. 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, которые расследуют пре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лужат Род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preview_0204.jpg"/>
          <p:cNvPicPr/>
          <p:nvPr/>
        </p:nvPicPr>
        <p:blipFill>
          <a:blip r:embed="rId1"/>
          <a:stretch/>
        </p:blipFill>
        <p:spPr>
          <a:xfrm>
            <a:off x="214200" y="2428920"/>
            <a:ext cx="4572000" cy="42148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3" descr="preview_0211.jpg"/>
          <p:cNvPicPr/>
          <p:nvPr/>
        </p:nvPicPr>
        <p:blipFill>
          <a:blip r:embed="rId2"/>
          <a:stretch/>
        </p:blipFill>
        <p:spPr>
          <a:xfrm>
            <a:off x="4143240" y="214200"/>
            <a:ext cx="4714920" cy="4214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296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е учебные предметы надо 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ми способностями должны обла- дать люди имеющие эти професси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чень важно иметь высокий уровень развития внимания, хорошую зритель- ную память, логическое мышление, умение слушать и запомин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Расследуем преступ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221472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 произошла кража. Необходимо составить опись украден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, где была совершена кража, задержан человек, который утверждал, что он просто ошибся дверью и никакого отношения к краже не имеет. Следователь, обыскав этого человека, ничего у него не наш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 со стрелкой вниз 8"/>
          <p:cNvSpPr/>
          <p:nvPr/>
        </p:nvSpPr>
        <p:spPr>
          <a:xfrm>
            <a:off x="857160" y="357120"/>
            <a:ext cx="7429680" cy="2428920"/>
          </a:xfrm>
          <a:prstGeom prst="downArrowCallout">
            <a:avLst>
              <a:gd name="adj1" fmla="val 25011"/>
              <a:gd name="adj2" fmla="val 24995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2499840"/>
            <a:ext cx="840096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любого дела связано с решением ло- гических задач. Сегодня вам нужно расследовать дел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 классе произошла кража. Украдены часы, кошелек и шапка. Подозреваются 3 мальчика: Питер, Джон и Боб. Они поклялись, что будут говорить правду, но друг друга не выдаду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ер :“Я не брал часы, а Боб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: “Я не брал шапку, а Питер не брал часы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: “Я не брал кошелек, и Джон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итер (кошелек), Джон (часы), Боб (шапк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Расследуем общее дел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42:30Z</dcterms:created>
  <dc:creator>addvisor</dc:creator>
  <dc:description/>
  <dc:language>en-US</dc:language>
  <cp:lastModifiedBy>Пользователь</cp:lastModifiedBy>
  <dcterms:modified xsi:type="dcterms:W3CDTF">2013-07-12T16:39:03Z</dcterms:modified>
  <cp:revision>6</cp:revision>
  <dc:subject/>
  <dc:title>Слайд 1</dc:title>
</cp:coreProperties>
</file>