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408-A0C4-42CE-B6A2-CEAF7FDBA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2C7-6ADA-4DDB-AD78-11DC8EE99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82BA-A206-4E5D-BD07-8200C27E0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6AE-F96C-487D-BD8E-B3510D59F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7FAA-0584-463B-B423-762B71052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159-E419-4AA9-AF58-FD9C8A321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BCE-C329-4A7D-8E96-8DBD31078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982-CAA0-48FD-A616-1DA5B13FE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152-B6DC-4BBF-88AB-797F6531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C67-2C49-4988-BC6A-ED3E4C6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215-AFA5-43A2-BF58-E821FA3A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4AD-6CDC-4647-82D2-6518184A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B7C-B539-4205-AF11-931915D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0E9-03E8-40C8-9F5D-E11DC7E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029-D090-4B68-AECD-419963A9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12E-AC45-479E-AF6E-D61F1BC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13E-57F9-4C6C-ADA9-41C5513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D14-E441-4781-B90F-FC48CCD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146-B353-4949-9823-A08C716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84A-7C9E-42BB-B3F4-A5170D6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2C1F-F8F5-44AC-B75C-2D8E9548B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485640" y="2101680"/>
            <a:ext cx="82296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фессии – «Милиционер,</a:t>
            </a:r>
            <a:endParaRPr b="1" lang="en-US" sz="5400" spc="1" strike="noStrike">
              <a:ln w="12600">
                <a:solidFill>
                  <a:srgbClr val="ffff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7" descr=""/>
          <p:cNvPicPr/>
          <p:nvPr/>
        </p:nvPicPr>
        <p:blipFill>
          <a:blip r:embed="rId1"/>
          <a:stretch/>
        </p:blipFill>
        <p:spPr>
          <a:xfrm>
            <a:off x="762120" y="3693960"/>
            <a:ext cx="801684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12" descr="otmini_126.gif"/>
          <p:cNvPicPr/>
          <p:nvPr/>
        </p:nvPicPr>
        <p:blipFill>
          <a:blip r:embed="rId2"/>
          <a:stretch/>
        </p:blipFill>
        <p:spPr>
          <a:xfrm>
            <a:off x="6786720" y="214200"/>
            <a:ext cx="214308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85840" y="521496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 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640" y="357120"/>
            <a:ext cx="854388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годня вы соприкоснетесь с еще одними очень интересными професс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лицинер, военный, следователь. 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, которые расследуют пре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лужат Род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preview_0204.jpg"/>
          <p:cNvPicPr/>
          <p:nvPr/>
        </p:nvPicPr>
        <p:blipFill>
          <a:blip r:embed="rId1"/>
          <a:stretch/>
        </p:blipFill>
        <p:spPr>
          <a:xfrm>
            <a:off x="214200" y="2428920"/>
            <a:ext cx="4572000" cy="42148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3" descr="preview_0211.jpg"/>
          <p:cNvPicPr/>
          <p:nvPr/>
        </p:nvPicPr>
        <p:blipFill>
          <a:blip r:embed="rId2"/>
          <a:stretch/>
        </p:blipFill>
        <p:spPr>
          <a:xfrm>
            <a:off x="4143240" y="214200"/>
            <a:ext cx="4714920" cy="4214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296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е учебные предметы надо 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ми способностями должны обла- дать люди имеющие эти професси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чень важно иметь высокий уровень развития внимания, хорошую зритель- ную память, логическое мышление, умение слушать и запомин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Расследуем преступ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221472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 произошла кража. Необходимо составить опись украден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, где была совершена кража, задержан человек, который утверждал, что он просто ошибся дверью и никакого отношения к краже не имеет. Следователь, обыскав этого человека, ничего у него не наш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 со стрелкой вниз 8"/>
          <p:cNvSpPr/>
          <p:nvPr/>
        </p:nvSpPr>
        <p:spPr>
          <a:xfrm>
            <a:off x="857160" y="357120"/>
            <a:ext cx="7429680" cy="2428920"/>
          </a:xfrm>
          <a:prstGeom prst="downArrowCallout">
            <a:avLst>
              <a:gd name="adj1" fmla="val 25011"/>
              <a:gd name="adj2" fmla="val 24995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2499840"/>
            <a:ext cx="840096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любого дела связано с решением ло- гических задач. Сегодня вам нужно расследовать дел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 классе произошла кража. Украдены часы, кошелек и шапка. Подозреваются 3 мальчика: Питер, Джон и Боб. Они поклялись, что будут говорить правду, но друг друга не выдаду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ер :“Я не брал часы, а Боб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: “Я не брал шапку, а Питер не брал часы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: “Я не брал кошелек, и Джон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итер (кошелек), Джон (часы), Боб (шапк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Расследуем общее дел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42:30Z</dcterms:created>
  <dc:creator>addvisor</dc:creator>
  <dc:description/>
  <dc:language>en-US</dc:language>
  <cp:lastModifiedBy>Пользователь</cp:lastModifiedBy>
  <dcterms:modified xsi:type="dcterms:W3CDTF">2013-07-12T16:39:03Z</dcterms:modified>
  <cp:revision>6</cp:revision>
  <dc:subject/>
  <dc:title>Слайд 1</dc:title>
</cp:coreProperties>
</file>