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8548-C698-4A87-873F-9249DBB29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B46B-54E3-43BA-82BE-A817B064D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4A5B-D79C-47FE-93B4-CC1EC0D93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1ED-035E-4E49-B833-3615982EF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DF28-5534-4449-9375-BD0F8618D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FA8-B76D-48DC-938C-3B52347FC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92D-19D4-4007-AC4D-25DDA6E05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2585-246B-4DB6-AAF6-2E7771959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BD1-4BBF-44F9-8616-DECFA3A4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DEF-C6C5-4F9E-A8E9-EF16021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E2A-FE9E-4B72-AF15-E86C281E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BB2-41BA-4DED-82D7-197D33D5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B8C-4587-442D-B9DD-8931345E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CDF7-5142-46E9-88D0-413443A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2C9-DDFA-4F98-9C5F-1272EC6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5C3-2D2D-4548-BFDD-47671D4F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7B5-CCBD-483C-AFC5-A2F689F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09A9-018E-4F4C-A4D4-55C9972B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EE0-6DAE-4A9D-B4C1-10A2741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20C-5522-4F9D-BF66-2E2F1B3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0F9E-CD30-4A28-A4EA-738DA8F87F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485640" y="2101680"/>
            <a:ext cx="822960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фессии – «Милиционер,</a:t>
            </a:r>
            <a:endParaRPr b="1" lang="en-US" sz="5400" spc="1" strike="noStrike">
              <a:ln w="12600">
                <a:solidFill>
                  <a:srgbClr val="ffff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WordArt 7" descr=""/>
          <p:cNvPicPr/>
          <p:nvPr/>
        </p:nvPicPr>
        <p:blipFill>
          <a:blip r:embed="rId1"/>
          <a:stretch/>
        </p:blipFill>
        <p:spPr>
          <a:xfrm>
            <a:off x="762120" y="3693960"/>
            <a:ext cx="801684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12" descr="otmini_126.gif"/>
          <p:cNvPicPr/>
          <p:nvPr/>
        </p:nvPicPr>
        <p:blipFill>
          <a:blip r:embed="rId2"/>
          <a:stretch/>
        </p:blipFill>
        <p:spPr>
          <a:xfrm>
            <a:off x="6786720" y="214200"/>
            <a:ext cx="2143080" cy="200052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285840" y="5214960"/>
            <a:ext cx="86439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Авторы:  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Бельды Наталья,  ученица 9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Галочкин Алексей, ученик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Воронина Светлана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Кузминская Виктория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; Швец Анастасия , ученица 6 кл. (</a:t>
            </a:r>
            <a:r>
              <a:rPr b="1" lang="en-US" sz="1400" spc="-1" strike="noStrike">
                <a:solidFill>
                  <a:srgbClr val="ffccff"/>
                </a:solidFill>
                <a:latin typeface="Calibri"/>
              </a:rPr>
              <a:t>VIII</a:t>
            </a:r>
            <a:r>
              <a:rPr b="1" lang="ru-RU" sz="1400" spc="-1" strike="noStrike">
                <a:solidFill>
                  <a:srgbClr val="ffccff"/>
                </a:solidFill>
                <a:latin typeface="Calibri"/>
              </a:rPr>
              <a:t> вид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     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ff00"/>
                </a:solidFill>
                <a:uFillTx/>
                <a:latin typeface="Calibri"/>
              </a:rPr>
              <a:t>Руководитель: </a:t>
            </a: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педагог-психолог Паскал   Виктория Викто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2640" y="357120"/>
            <a:ext cx="854388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годня вы соприкоснетесь с еще одними очень интересными профессия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лицинер, военный, следователь. 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и, которые расследуют преступ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служат Родин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1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preview_0204.jpg"/>
          <p:cNvPicPr/>
          <p:nvPr/>
        </p:nvPicPr>
        <p:blipFill>
          <a:blip r:embed="rId1"/>
          <a:stretch/>
        </p:blipFill>
        <p:spPr>
          <a:xfrm>
            <a:off x="214200" y="2428920"/>
            <a:ext cx="4572000" cy="421488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3" descr="preview_0211.jpg"/>
          <p:cNvPicPr/>
          <p:nvPr/>
        </p:nvPicPr>
        <p:blipFill>
          <a:blip r:embed="rId2"/>
          <a:stretch/>
        </p:blipFill>
        <p:spPr>
          <a:xfrm>
            <a:off x="4143240" y="214200"/>
            <a:ext cx="4714920" cy="4214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296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акие учебные предметы надо зн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акими способностями должны обла- дать люди имеющие эти професси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чень важно иметь высокий уровень развития внимания, хорошую зритель- ную память, логическое мышление, умение слушать и запомин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" dur="250" autoRev="1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 Black"/>
              </a:rPr>
              <a:t>Расследуем преступл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4200" y="221472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доме произошла кража. Необходимо составить опись украденно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доме, где была совершена кража, задержан человек, который утверждал, что он просто ошибся дверью и никакого отношения к краже не имеет. Следователь, обыскав этого человека, ничего у него не наше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носка со стрелкой вниз 8"/>
          <p:cNvSpPr/>
          <p:nvPr/>
        </p:nvSpPr>
        <p:spPr>
          <a:xfrm>
            <a:off x="857160" y="357120"/>
            <a:ext cx="7429680" cy="2428920"/>
          </a:xfrm>
          <a:prstGeom prst="downArrowCallout">
            <a:avLst>
              <a:gd name="adj1" fmla="val 25011"/>
              <a:gd name="adj2" fmla="val 24995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42920" y="71280"/>
            <a:ext cx="8786880" cy="6572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7120" y="2499840"/>
            <a:ext cx="840096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любого дела связано с решением ло- гических задач. Сегодня вам нужно расследовать дело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 классе произошла кража. Украдены часы, кошелек и шапка. Подозреваются 3 мальчика: Питер, Джон и Боб. Они поклялись, что будут говорить правду, но друг друга не выдаду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ер :“Я не брал часы, а Боб не брал кошелек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: “Я не брал шапку, а Питер не брал часы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: “Я не брал кошелек, и Джон не брал кошелек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итер (кошелек), Джон (часы), Боб (шапку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Расследуем общее дело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42:30Z</dcterms:created>
  <dc:creator>addvisor</dc:creator>
  <dc:description/>
  <dc:language>en-US</dc:language>
  <cp:lastModifiedBy>Пользователь</cp:lastModifiedBy>
  <dcterms:modified xsi:type="dcterms:W3CDTF">2013-07-12T16:39:03Z</dcterms:modified>
  <cp:revision>6</cp:revision>
  <dc:subject/>
  <dc:title>Слайд 1</dc:title>
</cp:coreProperties>
</file>