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6A8-07D6-4104-9A66-2DF09DA0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E08-C447-46F6-B101-21D5A013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89C-4F39-455E-9045-1FFA1E64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8E3-D04A-4E64-987C-E7C590E4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0C8-4451-4500-9658-B9C67527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219-E4B7-4EA6-BE29-12EE7616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0DB-356E-442A-ADF7-0EF8BA09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E75-2BD9-4897-B049-A6A4CFEF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F64-3363-4A38-B968-8C57177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D6C-8A74-4549-8872-5D41BCC6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AC9-AC35-4216-BB26-B3269125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B0C-FAE3-41ED-8F22-FA392C4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85BA-854E-4EF2-A523-18BF6DA8B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У «Новоаганская общеобразовательная основ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Кедр – легенда Сибири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ферат по природовед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олнил: Бизин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еник 5 Б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Заготовка древес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633564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0" y="0"/>
          <a:ext cx="182520" cy="2830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800" y="28303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Отряхивание шишек коло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16360" y="1484280"/>
            <a:ext cx="3097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846440"/>
            <a:ext cx="8281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едровая сосна – дерево-долгожитель, неприхотлива к условиям суще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Широко используется в хозяй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ется почитаемым деревом у коренных на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уждается в охране и восстано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774440"/>
            <a:ext cx="8002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лностью запретить рубки лесов, в которых преобладают кедровые дере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место древесины кедра в строительстве использовать древесину других п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рого контролировать сбор ор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еречь лес от пож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пускать плакаты и календарики с призывом об охране ке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40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248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8137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еще боготворю деревья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х доверьем детским дорожу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лес вхожу, как будто к другу в дверь я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по царству, по лесу брожу.</a:t>
            </a:r>
            <a:br>
              <a:rPr sz="32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Р. Гамз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918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Определить место сибирского кедра в системе растительного мира, описать его особенности, выяснить, где используется кедр и что ему угрож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Место кедра в системе растительного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136600"/>
            <a:ext cx="756144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царство Высшие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дел Голос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ласс Хво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мейство Сосн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д 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д Сосна сиби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Жемчужина сибирской тайги – кедр в хороводе 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39258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едры растут 400 – 6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редельный возраст сибирских кедров 800 – 85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ысота до 30 – 40 ме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олщина ствола до 2 ме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Кедровая ш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381636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Кедровка – природный лесо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-1286" t="49571" r="0" b="0"/>
          <a:stretch/>
        </p:blipFill>
        <p:spPr>
          <a:xfrm>
            <a:off x="1332000" y="1628640"/>
            <a:ext cx="64087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Изделия из ке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троительные материа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узыкальные инстр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ос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асло, молоко, сливки, хал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04:52Z</dcterms:created>
  <dc:creator>Семья</dc:creator>
  <dc:description/>
  <dc:language>en-US</dc:language>
  <cp:lastModifiedBy>Семья</cp:lastModifiedBy>
  <dcterms:modified xsi:type="dcterms:W3CDTF">2007-12-08T18:53:22Z</dcterms:modified>
  <cp:revision>10</cp:revision>
  <dc:subject/>
  <dc:title>МОУ «Новоаганская общеобразовательная основная школа»</dc:title>
</cp:coreProperties>
</file>