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C91-6CE8-49A3-ACB2-C125DDD1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DC1-7590-4E67-859F-A445C99C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81C-F989-48D7-9E12-27E3205C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697-EBD4-4C7F-9E63-B8A19628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742-0BA1-4B49-B7E8-40708196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CC4-5E0B-494F-AB98-1FD82FF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B1B-18C2-4D09-B78C-98471440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AC0-103E-4112-B23C-EE164D2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63D-007E-4C24-A9F2-541A57F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F01-6FB4-4D16-B618-DFF8F86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3A5-2E01-494D-AB69-C03BF354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ACB-2351-4783-8521-6F425C0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C466-5937-4434-B35B-1C4ACC0A2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У «Новоаганская общеобразовательная основ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едр – легенда Сибири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ферат по природове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ил: Бизин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ник 5 Б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Заготовка древе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633564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0" y="0"/>
          <a:ext cx="182520" cy="2830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800" y="28303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Отряхивание шишек коло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16360" y="1484280"/>
            <a:ext cx="3097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846440"/>
            <a:ext cx="8281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едровая сосна – дерево-долгожитель, неприхотлива к условиям сущ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Широко используется в хозяй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ется почитаемым деревом у коренных на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уждается в охране и восстано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774440"/>
            <a:ext cx="8002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ностью запретить рубки лесов, в которых преобладают кедровые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место древесины кедра в строительстве использовать древесину других п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рого контролировать сбор ор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речь лес от пож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пускать плакаты и календарики с призывом об охране ке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40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248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8137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еще боготворю деревья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х доверьем детским дорожу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лес вхожу, как будто к другу в дверь я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по царству, по лесу брожу.</a:t>
            </a:r>
            <a:br>
              <a:rPr sz="32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Р. Гамз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918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пределить место сибирского кедра в системе растительного мира, описать его особенности, выяснить, где используется кедр и что ему угрож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Место кедра в системе растительн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136600"/>
            <a:ext cx="75614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царство Высшие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дел Голос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ласс Хво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ейство Сос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д 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д Сосна сиби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Жемчужина сибирской тайги – кедр в хороводе 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3925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едры растут 400 – 6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редельный возраст сибирских кедров 800 – 85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ысота до 30 – 40 м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олщина ствола до 2 м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едровая ш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38163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едровка – природный лес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-1286" t="49571" r="0" b="0"/>
          <a:stretch/>
        </p:blipFill>
        <p:spPr>
          <a:xfrm>
            <a:off x="1332000" y="1628640"/>
            <a:ext cx="64087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Изделия из ке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троительные материа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узыкальные инстр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асло, молоко, сливки, хал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04:52Z</dcterms:created>
  <dc:creator>Семья</dc:creator>
  <dc:description/>
  <dc:language>en-US</dc:language>
  <cp:lastModifiedBy>Семья</cp:lastModifiedBy>
  <dcterms:modified xsi:type="dcterms:W3CDTF">2007-12-08T18:53:22Z</dcterms:modified>
  <cp:revision>10</cp:revision>
  <dc:subject/>
  <dc:title>МОУ «Новоаганская общеобразовательная основная школа»</dc:title>
</cp:coreProperties>
</file>