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2073-0E18-42E4-9A93-F9F1FCD97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E42A-91CC-4586-B979-7CF90C5D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5C35-A160-4F9D-A2D8-0831E909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2AF3-CA23-491E-85AB-ECE6F205E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006C-C4F4-4234-A60C-B7387B7C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8FEC-032F-4232-A4B7-B52D3F0C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6510-EC7D-4CE1-86A4-ED8BB67D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89A3-BA0A-4E08-8974-3F869EA5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4603-A25D-4591-B7B6-5618CDE8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A045-23A5-46E8-942D-683240A9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E4A2-C473-48EF-9E81-8075B905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3CAD-4E8B-433D-B9E4-0F958329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3795-9AFF-4755-A092-F397D145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93E2-2DEB-4AEB-9D4E-83927296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3D3A-E63C-49AD-AC63-FB3C46EC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D07B-FF14-407B-B03D-4D968534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35A5-835B-45A1-B785-9AA5BB2C1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ACFD-A02A-432B-974F-D890EDA9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E1B6-48FE-4A18-8603-4A2DCC24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8BFD-577B-41E2-8530-1690BD0E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1328-A801-4218-8E6F-8CA1B926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D8BF-EFC4-4BCB-B9CE-969BEB71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501B-DF67-4365-868E-43E9D756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362C-3030-48BF-8141-6F9C8619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F6B3-E529-4BE8-98E8-17FC1613F22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E49A-C57F-49D0-8D7A-CFC244FEB4B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Сейсмограф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Физика 9 класс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Сейсмограф-, фиксирующий горизонтальные колебания земли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" descr="Сейсмограф"/>
          <p:cNvPicPr/>
          <p:nvPr/>
        </p:nvPicPr>
        <p:blipFill>
          <a:blip r:embed="rId1"/>
          <a:stretch/>
        </p:blipFill>
        <p:spPr>
          <a:xfrm>
            <a:off x="971640" y="946080"/>
            <a:ext cx="6769080" cy="59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Данный сейсмограф фиксирует вертикальные колебания земли.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" descr="Сейсмограф"/>
          <p:cNvPicPr/>
          <p:nvPr/>
        </p:nvPicPr>
        <p:blipFill>
          <a:blip r:embed="rId1"/>
          <a:stretch/>
        </p:blipFill>
        <p:spPr>
          <a:xfrm>
            <a:off x="826920" y="1220760"/>
            <a:ext cx="741708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11280" y="0"/>
            <a:ext cx="4753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cc"/>
                </a:solidFill>
                <a:latin typeface="Arial"/>
              </a:rPr>
              <a:t>Первый прибор, способный улавливать колебания земной поверхности, был изобретен в 132 г. китайским астрономом Чжан Хэном. Прибор состоял из большого бронзового сосуда диаметром 2 м, на стенках которого располагались восемь голов дракона. Челюсти у драконов раскрывались, и у каждого в пасти был шар. Внутри сосуда находился маятник с тягами, прикрепленными к головам. В результате подземного толчка маятник приходил в движение, действовал на головы, и шар выпадал из пасти дракона в открытый рот одной из восьми жаб, восседавших у основания сосуда. Прибор улавливал подземные толчки на расстоянии 600 км от него. В Европе первый сейсмограф был установлен на Везувии в 1856 г.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09428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793116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Древний      Сейсмограф       Чжан Хэна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549360"/>
            <a:ext cx="47322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овременный сейсмограф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" descr="Современный сейсмограф в действии"/>
          <p:cNvPicPr/>
          <p:nvPr/>
        </p:nvPicPr>
        <p:blipFill>
          <a:blip r:embed="rId1"/>
          <a:stretch/>
        </p:blipFill>
        <p:spPr>
          <a:xfrm>
            <a:off x="324000" y="1217520"/>
            <a:ext cx="8459640" cy="5640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Современный сейсмограф"/>
          <p:cNvPicPr/>
          <p:nvPr/>
        </p:nvPicPr>
        <p:blipFill>
          <a:blip r:embed="rId2"/>
          <a:stretch/>
        </p:blipFill>
        <p:spPr>
          <a:xfrm>
            <a:off x="1187280" y="1557360"/>
            <a:ext cx="6624720" cy="4416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Показания современного сейсмографа"/>
          <p:cNvPicPr/>
          <p:nvPr/>
        </p:nvPicPr>
        <p:blipFill>
          <a:blip r:embed="rId3"/>
          <a:stretch/>
        </p:blipFill>
        <p:spPr>
          <a:xfrm>
            <a:off x="2124000" y="184464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ейсмограф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Сейсмограф — это очень чувствительный прибор, который улавливает и регистрирует подземные толчки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Принцип его действия следующий: тяжелая масса в подвешенном состоянии остается неподвижной, даже если ее крепление подвергается толчкам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5:43:24Z</dcterms:created>
  <dc:creator>Пользователь</dc:creator>
  <dc:description/>
  <dc:language>en-US</dc:language>
  <cp:lastModifiedBy>Пользователь</cp:lastModifiedBy>
  <dcterms:modified xsi:type="dcterms:W3CDTF">2009-01-25T15:21:23Z</dcterms:modified>
  <cp:revision>4</cp:revision>
  <dc:subject/>
  <dc:title>Сейсмограф</dc:title>
</cp:coreProperties>
</file>