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B37-5FC6-4AB0-B912-EFE8EC13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7AF-FB32-4BEB-A77C-0E58C419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774-6127-439B-8510-7369866F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5E8-AC49-4AD3-9C2D-0FA3FE13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656D-CC1D-499F-A233-E7DBE3A7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4829-3F5E-4BC8-A2F2-944187A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91CB-CA0F-43D5-A4AB-4658FDA4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418D-5FEE-43F0-8361-F88046F0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C7F9-9940-46C8-ACAD-F257B0FB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3A36-505D-4D96-AABF-7B13D022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E9B2-03BD-47BC-8898-66295C09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FAE-2CD9-4E01-8771-64490D5E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AAAE-EB3C-4751-9BBE-0BB5AF9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6999-431A-4213-8A51-5B5A71D5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7FC5-E8FF-40ED-A100-5C8F7C6C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D612-B12F-4864-A881-CDB777E4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A9E2-0F2C-4FBD-9702-61874509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7AB-E40B-4F0B-8B76-34F9DE0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D62-60C6-4DD7-9CE9-CE4FC783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1A8-C3AB-48E2-8E53-2AB3C09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C23-87D3-4291-B944-29C50B4C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A89-E735-4D92-991D-35C0DF02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B10-07B0-4732-92B6-C4CCF7DD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701-37C0-4C9F-8637-887385C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3F0C-521D-4D07-AE82-D6EADCFA2B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DA33-9ED9-4392-8983-0701B3B929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Сейсмограф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Физика 9 клас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ейсмограф-, фиксирующий горизонтальные колебания земли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Сейсмограф"/>
          <p:cNvPicPr/>
          <p:nvPr/>
        </p:nvPicPr>
        <p:blipFill>
          <a:blip r:embed="rId1"/>
          <a:stretch/>
        </p:blipFill>
        <p:spPr>
          <a:xfrm>
            <a:off x="971640" y="946080"/>
            <a:ext cx="67690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Данный сейсмограф фиксирует вертикальные колебания земл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Сейсмограф"/>
          <p:cNvPicPr/>
          <p:nvPr/>
        </p:nvPicPr>
        <p:blipFill>
          <a:blip r:embed="rId1"/>
          <a:stretch/>
        </p:blipFill>
        <p:spPr>
          <a:xfrm>
            <a:off x="826920" y="1220760"/>
            <a:ext cx="74170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11280" y="0"/>
            <a:ext cx="475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cc"/>
                </a:solidFill>
                <a:latin typeface="Arial"/>
              </a:rPr>
              <a:t>Первый прибор, способный улавливать колебания земной поверхности, был изобретен в 132 г. китайским астрономом Чжан Хэном. Прибор состоял из большого бронзового сосуда диаметром 2 м, на стенках которого располагались восемь голов дракона. Челюсти у драконов раскрывались, и у каждого в пасти был шар. Внутри сосуда находился маятник с тягами, прикрепленными к головам. В результате подземного толчка маятник приходил в движение, действовал на головы, и шар выпадал из пасти дракона в открытый рот одной из восьми жаб, восседавших у основания сосуда. Прибор улавливал подземные толчки на расстоянии 600 км от него. В Европе первый сейсмограф был установлен на Везувии в 1856 г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942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Древний      Сейсмограф       Чжан Хэн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732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овременный сейсмограф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Современный сейсмограф в действии"/>
          <p:cNvPicPr/>
          <p:nvPr/>
        </p:nvPicPr>
        <p:blipFill>
          <a:blip r:embed="rId1"/>
          <a:stretch/>
        </p:blipFill>
        <p:spPr>
          <a:xfrm>
            <a:off x="324000" y="1217520"/>
            <a:ext cx="8459640" cy="5640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Современный сейсмограф"/>
          <p:cNvPicPr/>
          <p:nvPr/>
        </p:nvPicPr>
        <p:blipFill>
          <a:blip r:embed="rId2"/>
          <a:stretch/>
        </p:blipFill>
        <p:spPr>
          <a:xfrm>
            <a:off x="1187280" y="1557360"/>
            <a:ext cx="6624720" cy="441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Показания современного сейсмографа"/>
          <p:cNvPicPr/>
          <p:nvPr/>
        </p:nvPicPr>
        <p:blipFill>
          <a:blip r:embed="rId3"/>
          <a:stretch/>
        </p:blipFill>
        <p:spPr>
          <a:xfrm>
            <a:off x="2124000" y="184464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ейсмогра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ейсмограф — это очень чувствительный прибор, который улавливает и регистрирует подземные толчк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ринцип его действия следующий: тяжелая масса в подвешенном состоянии остается неподвижной, даже если ее крепление подвергается толчка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43:24Z</dcterms:created>
  <dc:creator>Пользователь</dc:creator>
  <dc:description/>
  <dc:language>en-US</dc:language>
  <cp:lastModifiedBy>Пользователь</cp:lastModifiedBy>
  <dcterms:modified xsi:type="dcterms:W3CDTF">2009-01-25T15:21:23Z</dcterms:modified>
  <cp:revision>4</cp:revision>
  <dc:subject/>
  <dc:title>Сейсмограф</dc:title>
</cp:coreProperties>
</file>