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C4B-9ACF-408D-B290-844E9A84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8C3-6A82-45C0-992E-46361F2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8B7-9922-4019-A31D-70C18CF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57D-D7AC-4322-8781-4048D54F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64DC-346E-4F70-9757-FE0E37DD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96CA-51CA-415F-9D8C-5F44B60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E11-6475-4DF7-9E32-ECCB35F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FE36-7F6B-4733-AFB2-236ADBB7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0A6A-3E5F-4DA9-BD47-C36DF983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1269-C1C2-4A1C-AB18-C558F2B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FE94-9A6D-479F-AB65-55B27A0C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360-3B22-4645-8494-F4029CF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E0F6-CCD2-4F42-9F6F-2C84270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1995-A3E0-4E0B-86ED-9D2A3E67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7745-F406-4963-943E-8BEB2A41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CB9C-664A-44C2-AC6C-D47937FB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252-72D3-4F14-85FE-17F6E627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E99-0E65-4EA1-BDE5-2122A4C9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2EF-7CFA-48C5-AC64-3DE846D8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61E-8029-4618-A7A8-85EC9350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2D7-63DD-4D69-AB0F-0F709A1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411-7028-4CA6-82A5-D7F9259D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E72-1C9B-4706-B956-97442A4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A2D-D410-46E9-86E5-69402CF7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A2B2-FC3D-4A66-B87C-0592B57C93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48CD-3FDE-4291-AB3B-862FD5C864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Физика 9 клас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ейсмограф-, фиксирующий горизонтальные колебания земли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Сейсмограф"/>
          <p:cNvPicPr/>
          <p:nvPr/>
        </p:nvPicPr>
        <p:blipFill>
          <a:blip r:embed="rId1"/>
          <a:stretch/>
        </p:blipFill>
        <p:spPr>
          <a:xfrm>
            <a:off x="971640" y="946080"/>
            <a:ext cx="6769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Данный сейсмограф фиксирует вертикальные колебания земл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Сейсмограф"/>
          <p:cNvPicPr/>
          <p:nvPr/>
        </p:nvPicPr>
        <p:blipFill>
          <a:blip r:embed="rId1"/>
          <a:stretch/>
        </p:blipFill>
        <p:spPr>
          <a:xfrm>
            <a:off x="826920" y="1220760"/>
            <a:ext cx="74170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11280" y="0"/>
            <a:ext cx="475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cc"/>
                </a:solidFill>
                <a:latin typeface="Arial"/>
              </a:rPr>
              <a:t>Первый прибор, способный улавливать колебания земной поверхности, был изобретен в 132 г. китайским астрономом Чжан Хэном. Прибор состоял из большого бронзового сосуда диаметром 2 м, на стенках которого располагались восемь голов дракона. Челюсти у драконов раскрывались, и у каждого в пасти был шар. Внутри сосуда находился маятник с тягами, прикрепленными к головам. В результате подземного толчка маятник приходил в движение, действовал на головы, и шар выпадал из пасти дракона в открытый рот одной из восьми жаб, восседавших у основания сосуда. Прибор улавливал подземные толчки на расстоянии 600 км от него. В Европе первый сейсмограф был установлен на Везувии в 1856 г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942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ревний      Сейсмограф       Чжан Хэн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овременный сейсмограф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Современный сейсмограф в действии"/>
          <p:cNvPicPr/>
          <p:nvPr/>
        </p:nvPicPr>
        <p:blipFill>
          <a:blip r:embed="rId1"/>
          <a:stretch/>
        </p:blipFill>
        <p:spPr>
          <a:xfrm>
            <a:off x="324000" y="1217520"/>
            <a:ext cx="8459640" cy="564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Современный сейсмограф"/>
          <p:cNvPicPr/>
          <p:nvPr/>
        </p:nvPicPr>
        <p:blipFill>
          <a:blip r:embed="rId2"/>
          <a:stretch/>
        </p:blipFill>
        <p:spPr>
          <a:xfrm>
            <a:off x="1187280" y="155736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Показания современного сейсмографа"/>
          <p:cNvPicPr/>
          <p:nvPr/>
        </p:nvPicPr>
        <p:blipFill>
          <a:blip r:embed="rId3"/>
          <a:stretch/>
        </p:blipFill>
        <p:spPr>
          <a:xfrm>
            <a:off x="2124000" y="1844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ейсмограф — это очень чувствительный прибор, который улавливает и регистрирует подземные толчк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ринцип его действия следующий: тяжелая масса в подвешенном состоянии остается неподвижной, даже если ее крепление подвергается толчка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43:24Z</dcterms:created>
  <dc:creator>Пользователь</dc:creator>
  <dc:description/>
  <dc:language>en-US</dc:language>
  <cp:lastModifiedBy>Пользователь</cp:lastModifiedBy>
  <dcterms:modified xsi:type="dcterms:W3CDTF">2009-01-25T15:21:23Z</dcterms:modified>
  <cp:revision>4</cp:revision>
  <dc:subject/>
  <dc:title>Сейсмограф</dc:title>
</cp:coreProperties>
</file>