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E16-CA08-43E1-8566-47F51ACD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39A-F859-4CEA-9D05-8982B5B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BB5-368F-40AA-B008-358635B2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6EC-D74D-4563-8ACC-E702CD74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A61-9457-4C1C-8446-AEE2157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D3A-B9B3-4A86-BD9C-DDD32D9D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5A2-8D92-49A5-BA29-E6E3A93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D79-A3C3-431E-A58E-EFFA2968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6D2-0187-4410-9419-333CC7D8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D87-20D6-4138-897D-A9227E6A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562-D17B-448D-9BA0-A2DFA1F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3AC-A73C-4A8A-9D58-ECD0B72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ABA-2CC1-4594-98FC-19F1D0579A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вящается мама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58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1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Без сна ночей твоих прошло немал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абот, тревог за нас не перече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емной поклон тебе, родная ма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а то, что ты на белом свете есть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mam2[1]"/>
          <p:cNvPicPr/>
          <p:nvPr/>
        </p:nvPicPr>
        <p:blipFill>
          <a:blip r:embed="rId1"/>
          <a:stretch/>
        </p:blipFill>
        <p:spPr>
          <a:xfrm>
            <a:off x="990720" y="2209680"/>
            <a:ext cx="3581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228960" y="152280"/>
            <a:ext cx="5181480" cy="82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нь Матери - это еще и семейный праздник. Именно дети должны познать, кем является для них мама, что сделала она для них и какого почтения заслуживает. Своим рождением, жизнью, успехами мы обязаны нашим дорогим и любимым мамам. Нет ничего прекраснее и бескорыстнее материнской любви. Как солнце посылает свои лучи, согревая все живое на земле, так и любовь матери всегда согревает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ши милые женщины - матери не только оберегают семейный очаг, но не жалея сил и времени, трудятся во всех сферах экономики, культуры, искусства, спорт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mo1[1]"/>
          <p:cNvPicPr/>
          <p:nvPr/>
        </p:nvPicPr>
        <p:blipFill>
          <a:blip r:embed="rId1"/>
          <a:stretch/>
        </p:blipFill>
        <p:spPr>
          <a:xfrm>
            <a:off x="4876920" y="380880"/>
            <a:ext cx="4146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0600" y="533160"/>
            <a:ext cx="4191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В этот день хочется сказать слова благодарности всем Матерям, которые дарят детям любовь, добро, нежность и ласку. 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Спасибо вам!.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 пусть каждой из вас почаще говорят теплые слова ваши любимые дети! Пусть на их лицах светится улыбка и радостные искорки сверкают в глазах, когда вы вмест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teri[1]"/>
          <p:cNvPicPr/>
          <p:nvPr/>
        </p:nvPicPr>
        <p:blipFill>
          <a:blip r:embed="rId1"/>
          <a:stretch/>
        </p:blipFill>
        <p:spPr>
          <a:xfrm>
            <a:off x="533520" y="609480"/>
            <a:ext cx="4065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Monotype Corsiva"/>
              </a:rPr>
              <a:t>Каждый человек несёт в своей душе то тепло, которое на протяжение многих лет дарила ему мама. Каждый по-своему благодарит её за глубокое чувство любви, по искренности своей ни с чем не сравнимое.</a:t>
            </a:r>
            <a:br>
              <a:rPr sz="3200"/>
            </a:br>
            <a:r>
              <a:rPr b="0" lang="ru-RU" sz="3200" spc="-1" strike="noStrike">
                <a:solidFill>
                  <a:srgbClr val="dfd293"/>
                </a:solidFill>
                <a:latin typeface="Monotype Corsiva"/>
              </a:rPr>
              <a:t>Каждый из вас в минуты радости или печали обязательно обращается к ней, самому дорогому и преданному человеку! А сколько раз в жизни, порой даже не замечая этого, как слово-талисман, мы произносим слово мама! Слово, которое так часто звучит в многочисленных песнях и стихах!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3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99"/>
                </a:solidFill>
                <a:latin typeface="Monotype Corsiva"/>
              </a:rPr>
              <a:t>День </a:t>
            </a: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Monotype Corsiva"/>
              </a:rPr>
              <a:t>матери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3" descr="ms[1]"/>
          <p:cNvPicPr/>
          <p:nvPr/>
        </p:nvPicPr>
        <p:blipFill>
          <a:blip r:embed="rId1"/>
          <a:stretch/>
        </p:blipFill>
        <p:spPr>
          <a:xfrm>
            <a:off x="5029200" y="990720"/>
            <a:ext cx="3219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 - международный праздник в честь матерей. В этот день принято поздравлять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матерей 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и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беременных женщин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, в отличие от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Международного женского дня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, когда поздравления принимают все представительницы прекрасного пола. В разных странах этот день приходится на разные даты, в основном в мире "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 отмечается каждое второе воскресенье м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4648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чать "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 матер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 стали сравнительно недавно. Хотя невозможно поспорить с тем, что этот праздник - праздник вечности: из поколения в поколение для каждого человека мама - самый главный человек в жизни. Становясь матерью, женщина открывает в себе лучшие качества: доброту, любовь и з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4-5[1]"/>
          <p:cNvPicPr/>
          <p:nvPr/>
        </p:nvPicPr>
        <p:blipFill>
          <a:blip r:embed="rId1"/>
          <a:stretch/>
        </p:blipFill>
        <p:spPr>
          <a:xfrm>
            <a:off x="4876920" y="762120"/>
            <a:ext cx="352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Monotype Corsiva"/>
              </a:rPr>
              <a:t>История праздни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здновани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ня матери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ходит своими корнями в глубину ве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XVII по XIX век в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ликобритани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мечалось так называемое "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теринское воскресень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 - четвертое воскресенье Великого поста, посвященное чествованию матерей по всей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276720"/>
            <a:ext cx="95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 США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впервые публично был поддержан известной американской пацифисткой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ей Уорд Хоув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в 1872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 по версии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и Уорд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- день единства матерей в борьбе за мир во всем мире. Концепция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и Уорд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не нашла широкой поддержки ни в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ША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, ни в других стран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s_001[1]"/>
          <p:cNvPicPr/>
          <p:nvPr/>
        </p:nvPicPr>
        <p:blipFill>
          <a:blip r:embed="rId1"/>
          <a:stretch/>
        </p:blipFill>
        <p:spPr>
          <a:xfrm>
            <a:off x="3124080" y="2286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 1907 году американка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Анна Джарвис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из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Филадельфии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1910 году штат Вирджиния первый признал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официальным праздником. В 1914 году президент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ША Вудро Вильсон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Вслед за </a:t>
            </a: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США 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второе воскресенье мая объявили праздником 23 страны, а еще более 30 отмечают праздник в другие дн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05320" y="228600"/>
            <a:ext cx="579096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Новый праздник - "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 - постепенно приживается в нашей стране. Основанный Президентом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оссийской Федераци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30 января 1998 года, он празднуется в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 последнее воскресенье ноября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, воздавая должное материнскому труду и их бескорыстной жертве ради блага своих детей. И это правильно: сколько бы хороших, добрых слов ни было сказано мамам, сколько бы поводов для этого ни придумали, лишними они не бу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mother_day[1]"/>
          <p:cNvPicPr/>
          <p:nvPr/>
        </p:nvPicPr>
        <p:blipFill>
          <a:blip r:embed="rId1"/>
          <a:stretch/>
        </p:blipFill>
        <p:spPr>
          <a:xfrm>
            <a:off x="228600" y="1523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0-06-23T07:25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