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E7A-FCFF-48CC-8214-BF300CE0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EED-2321-4D9C-B966-0D7C23CB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A3F-CFBC-49B8-AAEA-36FA9648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0F6-C643-4359-84B4-60C91950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607FD-FBF3-4850-8869-3C295FC6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BACDC-A4AB-4311-A2F8-FC7FFD22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AE01A-B515-4F92-9DE9-26C29E24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B9CC4-617F-4D0D-900C-F58EA3BF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46EDF-1973-43D3-9F0C-F87E0DE5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6CDE9-0FF9-4E86-9528-396FA6FC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E5DFD-E121-4C41-91AB-9BCC8343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9B0-F76E-4589-B87D-672D1466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00BFA-1BA5-4A4C-BFB5-879BA0C8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3BBA1-9B81-4977-A44C-BA194166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91603-0C2A-4292-9161-45C0422B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5FCB8-FB6C-4C6B-BF56-0639B6BA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29FE0-2303-4B51-8CD3-0CACA899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B1E54-2801-48A3-AD0F-8ED0754C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E1056-F7DA-4162-823B-3473C6D0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147D-F504-4A94-A15D-F02159EB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A0CB8-5B18-4861-A4CA-7DEA3859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3973D-7620-44D3-8070-36A11470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91E-19B6-4FCB-956F-D861F1F9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9A68-1D04-4FEB-8842-A46F3A12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9AFF2-46E3-4DC8-8EE4-250EF156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B29A7-43F2-4CE6-89D0-CD617957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DEA94-6605-4B04-A0D5-81B86629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DEE2-D9A4-424A-BE24-E024CD4A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095D6-2278-4422-BB40-0535F81F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1E308-0DDC-4568-87EB-33429CA9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164-CDCD-44CB-AD33-CFE21BF5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77C-A560-4641-9E9C-28E5D204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D7F-3060-4B90-ADC0-47C8D457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C8F-CD62-4BD3-A14C-C33AEAAA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4F15-EDBD-4DB3-B783-5140BDBD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9DB-7B4E-4340-B925-8259FE3F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4EE1-F9CC-4A3B-B374-DB0B606DF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11F1-F2F3-4162-AF23-C37D8FF6513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0634-2BD1-4728-A5FE-96499506552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800000"/>
                </a:solidFill>
                <a:latin typeface="Arial"/>
              </a:rPr>
              <a:t>Wale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9280" y="2836800"/>
            <a:ext cx="4573800" cy="3299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703760" y="0"/>
            <a:ext cx="4440240" cy="6642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258920" y="260280"/>
            <a:ext cx="230328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-973080" y="3263760"/>
            <a:ext cx="756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81080" y="788040"/>
            <a:ext cx="9144000" cy="60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land of my fathers, the land of my choice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land in which poets and minstrels rejoice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land whose stern warriors were true to the core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le bleeding for freedom of yor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les! Wales! fav'rite land of Wales!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ile sea her wall, may naught befall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mar the old language of W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ld mountainous Cambria, the Eden of bards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ach hill and each valley, excite my regards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the ears of her patriots how charming still seems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music that flows in her strea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y country tho' crushed by a hostile array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language of Cambria lives out to this day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muse has eluded the traitors' foul knives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harp of my country surviv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5800" y="173880"/>
            <a:ext cx="375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Land of my Father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6480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трана моих пред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757800"/>
            <a:ext cx="91440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трана моих предков, страна моих снов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аздолье поэтам, простор для певцов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трана, чьи герои добыли в бою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 честь, и свободу твою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эльс! Уэльс! Древний, славный Уэльс!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ьё море в веках хранит стеной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ою чистоту и покой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ля бардов долины и горы здесь - рай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елодий и звуков исполнен наш край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 эха раскаты, плеск волн и ручьи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вучат в каждой песне они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ускай твою землю топтали враги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ой чудный и древний язык не погиб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 не удавалось ещё никому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мирить твоей арфы струн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Wales</a:t>
            </a:r>
            <a:r>
              <a:rPr b="0" lang="tr-T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is famous for its mountains and valleys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лины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. It's an ideal place for spending your holid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Wales has often been called the Land of Song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One of the Welsh traditions is festivals. The Welsh sing their songs, wear their traditional clothes in their capital Cardiff as well as in the other parts of the count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rdi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Arial"/>
              </a:rPr>
              <a:t>Cardiff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(Welsh: </a:t>
            </a:r>
            <a:r>
              <a:rPr b="0" i="1" lang="cy-GB" sz="3200" spc="-1" strike="noStrike">
                <a:solidFill>
                  <a:srgbClr val="ffffff"/>
                </a:solidFill>
                <a:latin typeface="Arial"/>
              </a:rPr>
              <a:t>Caerdydd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) is the capital, largest city and most populou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людная)</a:t>
            </a: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 country of W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diff is home to a lot of castles and historic sites. Cardiff’s history dates back to Roman times, and Cardiff Castle, right at the heart of the city, is worth a visi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mouse attractions are: the Millennium Stadium, National Museum and many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08000" y="3513240"/>
            <a:ext cx="5004000" cy="3344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032000" cy="3189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489560" cy="3367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211640" y="386064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lenn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a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2000" y="33336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ational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30160" y="549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Cardiff Cas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 Draig G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8120"/>
            </a:gs>
            <a:gs pos="50000">
              <a:srgbClr val="33cc33"/>
            </a:gs>
            <a:gs pos="100000">
              <a:srgbClr val="208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tional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1197000"/>
            <a:ext cx="7991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National flag of Wales is a Red Dragon (Y Draig Goch) on a field of white over dark gree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has been officially known since 1959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re are many legends and myths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мифы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about the Welsh flag. It is believed the red dragon represents ancient warrio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reen and white stripes were added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добавлены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by the House of Tudor, the Welsh dynasty (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инастия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hat held (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анимала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he English throne from 1485 to 1603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Eisteddfod (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"to be sitting together“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a Welsh festival of literature, music and performance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представление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It is </a:t>
            </a:r>
            <a:r>
              <a:rPr b="0" lang="tr-TR" sz="3100" spc="-1" strike="noStrike">
                <a:solidFill>
                  <a:srgbClr val="ffffff"/>
                </a:solidFill>
                <a:latin typeface="Arial"/>
              </a:rPr>
              <a:t>one of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the most ancient</a:t>
            </a:r>
            <a:r>
              <a:rPr b="0" lang="tr-TR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ревних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 and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 the most popular festival</a:t>
            </a:r>
            <a:r>
              <a:rPr b="0" lang="tr-TR" sz="31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It is a competition where the winner is awarded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награждается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 a chair </a:t>
            </a:r>
            <a:r>
              <a:rPr b="0" lang="tr-TR" sz="31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 he is crowned. Winners of local Eisteddfod compete</a:t>
            </a:r>
            <a:r>
              <a:rPr b="0" lang="tr-TR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соревнуются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 a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Royal National Eisteddfod of Wale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宋体"/>
              </a:rPr>
              <a:t>In Ancient times 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  <a:ea typeface="宋体"/>
              </a:rPr>
              <a:t>t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he prizes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(призы)</a:t>
            </a:r>
            <a:r>
              <a:rPr b="0" lang="en" sz="3100" spc="-1" strike="noStrike">
                <a:solidFill>
                  <a:srgbClr val="ffffff"/>
                </a:solidFill>
                <a:latin typeface="Arial"/>
              </a:rPr>
              <a:t> awarded were a miniature silver chair to the poet, a silver tongue  to the best singer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87280" y="25956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isteddfod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5dea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3337200" cy="4464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003640" y="2781360"/>
            <a:ext cx="3219480" cy="373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c8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989760" y="0"/>
            <a:ext cx="2154240" cy="2160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orts in W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The national game of Wales is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Rugby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. It is similar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похож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 to football but played with an oval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овальный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 ball. Players can carry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нести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 the ball and tackle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(сбивать/блокировать)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 each other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Cnapan</a:t>
            </a:r>
            <a:r>
              <a:rPr b="0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 is a form of Medieval footbal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. It</a:t>
            </a:r>
            <a:r>
              <a:rPr b="0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 may be a forerunner (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дшественник)</a:t>
            </a:r>
            <a:r>
              <a:rPr b="0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 to modern rugby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The game is no longer play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宋体"/>
              </a:rPr>
              <a:t>Other popular sports in Wales are:  </a:t>
            </a:r>
            <a:r>
              <a:rPr b="0" lang="en" sz="3100" spc="-1" strike="noStrike">
                <a:solidFill>
                  <a:srgbClr val="000000"/>
                </a:solidFill>
                <a:latin typeface="Arial"/>
                <a:ea typeface="宋体"/>
              </a:rPr>
              <a:t>cricket and football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6:02:20Z</dcterms:created>
  <dc:creator>123</dc:creator>
  <dc:description/>
  <dc:language>en-US</dc:language>
  <cp:lastModifiedBy>123</cp:lastModifiedBy>
  <dcterms:modified xsi:type="dcterms:W3CDTF">2010-06-14T11:22:18Z</dcterms:modified>
  <cp:revision>17</cp:revision>
  <dc:subject/>
  <dc:title>Wales</dc:title>
</cp:coreProperties>
</file>