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9CD-354B-41EC-A3FD-9B91892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047-71D6-4167-A3F5-7CD10DE5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B99-3031-4500-92AA-EB2B103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F07-1328-4125-A541-1040EF7D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AE442-87C9-4D36-A615-21C42088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34EB9-6529-4158-81F6-A32CC50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F1BC3-1111-4D61-9BE4-A998C858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1580-E21A-494B-B6BE-35D80DA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69336-C5C7-4F9C-93F8-6BE59AC7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14C0-2854-4266-AEF7-E44B572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51D3C-7A50-4BA1-BA5F-6DBE22E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9B0-CBD5-47C8-8605-6DF93384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11B98-C411-4008-AD1A-ADF89A5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4479D-B09A-48D1-A0B8-0AC86B8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A15BD-C4A6-43CD-8190-BD2E37DA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F6321-C16F-4B8A-8473-6A913456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ECE79-4963-44A5-BFBE-983F66D7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BFA5-0CA2-462D-8694-45322B8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E176-90B3-4552-8E4C-2DBC815E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31B7-5588-4D62-A270-A268461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BA47-45D5-43F9-9FF5-44372FE1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BB4E-EF7F-46AA-A32C-0A23129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CAE-469C-402F-B353-347A00C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48CD-CC54-451C-A8DA-2A01A89E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2B28-69D0-43F5-AD65-657FCEFF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100D-1B87-453C-A9BC-04E7479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4F79-6659-47C6-AB30-5B12444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671B-CA03-4947-89C9-DA7A1D9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D836-5D47-432E-96EC-F9787414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3ECF-D9F3-4024-9C5E-631B30C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190-DA04-48DA-88EE-D5DCB52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055-CE0D-4DF6-8A6C-92994DD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B19-AEEE-4E1D-840D-6E0CCC0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B21-03E6-48E7-AA6B-8DD0D59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55D-BFA9-43C0-9EBB-4376999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FE8-730E-4EC5-BD12-9D4B41B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1F29-9920-4E9D-8B9C-C5481EF9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750-52A4-435C-81AA-DD5C626458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10AA-422C-44F9-B410-C8EA85B187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00000"/>
                </a:solidFill>
                <a:latin typeface="Arial"/>
              </a:rPr>
              <a:t>Wal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2836800"/>
            <a:ext cx="4573800" cy="3299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03760" y="0"/>
            <a:ext cx="4440240" cy="664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58920" y="2602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973080" y="326376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788040"/>
            <a:ext cx="91440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of my fathers, the land of my choic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in which poets and minstrels rejoice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whose stern warriors were true to the cor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bleeding for freedom of yo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les! Wales! fav'rite land of Wales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sea her wall, may naught befal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r the old language of W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mountainous Cambria, the Eden of bard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hill and each valley, excite my regard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the ears of her patriots how charming still seem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ic that flows in her stre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country tho' crushed by a hostile array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guage of Cambria lives out to this day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e has eluded the traitors' foul knive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harp of my country surv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5800" y="173880"/>
            <a:ext cx="37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Land of my Fath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трана моих пред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5780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 моих предков, страна моих снов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здолье поэтам, простор для певцов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, чьи герои добыли в бо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честь, и свободу твою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эльс! Уэльс! Древний, славный Уэльс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ьё море в веках хранит стеной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ю чистоту и покой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ля бардов долины и горы здесь - рай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лодий и звуков исполнен наш край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эха раскаты, плеск волн и ручьи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вучат в каждой песне он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ускай твою землю топтали враги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й чудный и древний язык не погиб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не удавалось ещё нико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мирить твоей арфы стру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is famous for its mountains and valleys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ины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. It's an ideal place for spending your holi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 has often been called the Land of Song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One of the Welsh traditions is festivals. The Welsh sing their songs, wear their traditional clothes in their capital Cardiff as well as in the other parts of the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rd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Cardiff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(Welsh: </a:t>
            </a:r>
            <a:r>
              <a:rPr b="0" i="1" lang="cy-GB" sz="3200" spc="-1" strike="noStrike">
                <a:solidFill>
                  <a:srgbClr val="ffffff"/>
                </a:solidFill>
                <a:latin typeface="Arial"/>
              </a:rPr>
              <a:t>Caerdydd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) is the capital, largest city and most populo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юдная)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country of W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ff is home to a lot of castles and historic sites. Cardiff’s history dates back to Roman times, and Cardiff Castle, right at the heart of the city, is worth a visi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mouse attractions are: the Millennium Stadium, National Museum and man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8000" y="3513240"/>
            <a:ext cx="5004000" cy="3344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20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489560" cy="336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211640" y="386064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enn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000" y="33336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tion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016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ardiff Ca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Draig G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8120"/>
            </a:gs>
            <a:gs pos="50000">
              <a:srgbClr val="33cc33"/>
            </a:gs>
            <a:gs pos="100000">
              <a:srgbClr val="208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1197000"/>
            <a:ext cx="799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ational flag of Wales is a Red Dragon (Y Draig Goch) on a field of white over dark gre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has been officially known since 1959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many legends and myth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миф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Welsh flag. It is believed the red dragon represents ancient warr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and white stripes were adde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добавлен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y the House of Tudor, the Welsh dynasty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настия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at held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нимала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e English throne from 1485 to 1603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Eisteddfod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"to be sitting together“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a Welsh festival of literature, music and performance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one of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the most ancient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ревних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n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the most popular festival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a competition where the winner is awarde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награждае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chair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he is crowned. Winners of local Eisteddfod compete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ревную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Royal National Eisteddfod of Wal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n Ancient time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he prizes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призы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 awarded were a miniature silver chair to the poet, a silver tongue  to the best sing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2595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isteddfod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5dea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337200" cy="4464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21948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c8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989760" y="0"/>
            <a:ext cx="2154240" cy="216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orts in W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The national game of Wales i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ugb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 is simila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похож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o football but played with an oval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овальный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ball. Players can carry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нести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he ball and tackle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сбивать/блокировать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each other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napan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is a form of Medieval footbal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may be a forerunner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дшественник)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to modern rugby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The game is no longer play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Other popular sports in Wales are: 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ricket and football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02:20Z</dcterms:created>
  <dc:creator>123</dc:creator>
  <dc:description/>
  <dc:language>en-US</dc:language>
  <cp:lastModifiedBy>123</cp:lastModifiedBy>
  <dcterms:modified xsi:type="dcterms:W3CDTF">2010-06-14T11:22:18Z</dcterms:modified>
  <cp:revision>17</cp:revision>
  <dc:subject/>
  <dc:title>Wales</dc:title>
</cp:coreProperties>
</file>