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1CA-766F-4024-B98E-025B9DC9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ADC4-681A-4563-AB35-167E3A1A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D50-889E-41BA-B384-94F93B7E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B642-AE57-4C1C-85E5-8EE8834F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2CE20-2D63-4B4D-B7A0-91166382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7107C-0473-4A93-B8CC-73C89AE7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92819-388C-40BD-BD20-8C8A4D38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F6130-55C0-4EA9-B04F-C9F3DAEC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C9DD5-7B80-449D-83F8-24E101DE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5FE9F-0F08-4EA2-8B9F-1133239F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8B359-162C-49D4-B7C2-C42E700E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05A-11E2-49A4-88F1-AA76F2E7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15052-4C81-4D21-874B-26204C70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3A419-2B62-498E-9E14-4CBB930D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423C7-26AD-4442-9621-DEBD69DB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C2D40-747E-424C-80C9-A2B3E8B6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7C6BB-FAC6-46CC-ADFD-01F8A8D6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F8591-78DD-4CBC-8366-1645338A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F91C3-6292-4BB5-879D-EC337BFE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32D43-CA4E-4848-8C65-5190CE57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20391-D92C-4578-98D0-CC9BD258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95C19-6440-4AEC-853F-9CB8A2AE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78A-BEEE-49F9-8021-CAB3C8F3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36020-93B6-4161-954E-DDB0A399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5263A-7F5A-4565-BA3F-58AEB6C9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E9D5E-39ED-4CAA-9AC1-1C292123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35B16-5EBF-49CC-B730-11C3A96B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73622-C76D-430B-A5CA-59FF6844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88A40-C9D6-4343-80D1-3903D850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32631-BF91-4A0E-AB33-7877EAE2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9C0C-F464-4B2B-B7C6-D92FE177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59FE-9D0B-4C73-B41F-0E4188A4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0C6-5E73-4EAF-A220-E7770D86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E5C-2712-4292-B0D3-B9A85112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720-951A-4374-B75D-D57EC728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54A-5AAD-433A-9729-22CC84C8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E432-119E-432B-B1AE-1B1883FC2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F45A-FEAF-4D46-9163-E5F16F5F433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B1DC-B164-4726-BBC4-1F9F92436D8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353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800000"/>
                </a:solidFill>
                <a:latin typeface="Arial"/>
              </a:rPr>
              <a:t>Wal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9280" y="2836800"/>
            <a:ext cx="4573800" cy="3299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703760" y="0"/>
            <a:ext cx="4440240" cy="6642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258920" y="260280"/>
            <a:ext cx="230328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-973080" y="3263760"/>
            <a:ext cx="756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181080" y="788040"/>
            <a:ext cx="9144000" cy="60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land of my fathers, the land of my choice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land in which poets and minstrels rejoice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land whose stern warriors were true to the core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le bleeding for freedom of yor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les! Wales! fav'rite land of Wales!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le sea her wall, may naught befall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mar the old language of W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ld mountainous Cambria, the Eden of bards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ch hill and each valley, excite my regards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the ears of her patriots how charming still seems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music that flows in her strea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y country tho' crushed by a hostile array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language of Cambria lives out to this day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muse has eluded the traitors' foul knives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harp of my country surviv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5800" y="173880"/>
            <a:ext cx="37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Land of my Father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6480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трана моих пред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75780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трана моих предков, страна моих снов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аздолье поэтам, простор для певцов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трана, чьи герои добыли в бою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 честь, и свободу твою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эльс! Уэльс! Древний, славный Уэльс!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ьё море в веках хранит стеной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ою чистоту и покой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ля бардов долины и горы здесь - рай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елодий и звуков исполнен наш край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 эха раскаты, плеск волн и ручьи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Звучат в каждой песне они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ускай твою землю топтали враги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ой чудный и древний язык не погиб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 не удавалось ещё никому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мирить твоей арфы струн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Wales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is famous for its mountains and valleys 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лины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. It's an ideal place for spending your holid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Wales has often been called the Land of Song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One of the Welsh traditions is festivals. The Welsh sing their songs, wear their traditional clothes in their capital Cardiff as well as in the other parts of the count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rdi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Arial"/>
              </a:rPr>
              <a:t>Cardiff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(Welsh: </a:t>
            </a:r>
            <a:r>
              <a:rPr b="0" i="1" lang="cy-GB" sz="3200" spc="-1" strike="noStrike">
                <a:solidFill>
                  <a:srgbClr val="ffffff"/>
                </a:solidFill>
                <a:latin typeface="Arial"/>
              </a:rPr>
              <a:t>Caerdydd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) is the capital, largest city and most populou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людная)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country of W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diff is home to a lot of castles and historic sites. Cardiff’s history dates back to Roman times, and Cardiff Castle, right at the heart of the city, is worth a visi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mouse attractions are: the Millennium Stadium, National Museum and many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08000" y="3513240"/>
            <a:ext cx="5004000" cy="3344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032000" cy="3189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489560" cy="3367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211640" y="386064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llenn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a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2000" y="33336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ational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30160" y="5493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Cardiff Cas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 Draig G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8120"/>
            </a:gs>
            <a:gs pos="50000">
              <a:srgbClr val="33cc33"/>
            </a:gs>
            <a:gs pos="100000">
              <a:srgbClr val="208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tional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640" y="1197000"/>
            <a:ext cx="79916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National flag of Wales is a Red Dragon (Y Draig Goch) on a field of white over dark gree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 has been officially known since 1959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re are many legends and myths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мифы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bout the Welsh flag. It is believed the red dragon represents ancient warrior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reen and white stripes were added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добавлены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by the House of Tudor, the Welsh dynasty (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инастия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hat held (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занимала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he English throne from 1485 to 1603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Eisteddfod (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</a:rPr>
              <a:t>"to be sitting together“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</a:rPr>
              <a:t>a Welsh festival of literature, music and performance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It is </a:t>
            </a:r>
            <a:r>
              <a:rPr b="0" lang="tr-TR" sz="3100" spc="-1" strike="noStrike">
                <a:solidFill>
                  <a:srgbClr val="ffffff"/>
                </a:solidFill>
                <a:latin typeface="Arial"/>
              </a:rPr>
              <a:t>one of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the most ancient</a:t>
            </a:r>
            <a:r>
              <a:rPr b="0" lang="tr-TR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древних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 and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 the most popular festival</a:t>
            </a:r>
            <a:r>
              <a:rPr b="0" lang="tr-TR" sz="31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It is a competition where the winner is awarded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(награждается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 a chair </a:t>
            </a:r>
            <a:r>
              <a:rPr b="0" lang="tr-TR" sz="31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 he is crowned. Winners of local Eisteddfod compete</a:t>
            </a:r>
            <a:r>
              <a:rPr b="0" lang="tr-TR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соревнуются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 a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Royal National Eisteddfod of Wal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In Ancient times 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  <a:ea typeface="宋体"/>
              </a:rPr>
              <a:t>t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</a:rPr>
              <a:t>he prizes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(призы)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</a:rPr>
              <a:t> awarded were a miniature silver chair to the poet, a silver tongue  to the best singe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87280" y="25956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isteddfod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5dea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3337200" cy="4464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003640" y="2781360"/>
            <a:ext cx="3219480" cy="3735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c8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989760" y="0"/>
            <a:ext cx="2154240" cy="21607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orts in W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The national game of Wales is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Rugb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. It is similar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похож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 to football but played with an oval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овальный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 ball. Players can carry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нести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 the ball and tackle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сбивать/блокировать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 each other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100" spc="-1" strike="noStrike">
                <a:solidFill>
                  <a:srgbClr val="000000"/>
                </a:solidFill>
                <a:latin typeface="Arial"/>
                <a:ea typeface="宋体"/>
              </a:rPr>
              <a:t>Cnapan</a:t>
            </a:r>
            <a:r>
              <a:rPr b="0" lang="en" sz="3100" spc="-1" strike="noStrike">
                <a:solidFill>
                  <a:srgbClr val="000000"/>
                </a:solidFill>
                <a:latin typeface="Arial"/>
                <a:ea typeface="宋体"/>
              </a:rPr>
              <a:t> is a form of Medieval footbal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. It</a:t>
            </a:r>
            <a:r>
              <a:rPr b="0" lang="en" sz="3100" spc="-1" strike="noStrike">
                <a:solidFill>
                  <a:srgbClr val="000000"/>
                </a:solidFill>
                <a:latin typeface="Arial"/>
                <a:ea typeface="宋体"/>
              </a:rPr>
              <a:t> may be a forerunner (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дшественник)</a:t>
            </a:r>
            <a:r>
              <a:rPr b="0" lang="en" sz="3100" spc="-1" strike="noStrike">
                <a:solidFill>
                  <a:srgbClr val="000000"/>
                </a:solidFill>
                <a:latin typeface="Arial"/>
                <a:ea typeface="宋体"/>
              </a:rPr>
              <a:t> to modern rugby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3100" spc="-1" strike="noStrike">
                <a:solidFill>
                  <a:srgbClr val="000000"/>
                </a:solidFill>
                <a:latin typeface="Arial"/>
                <a:ea typeface="宋体"/>
              </a:rPr>
              <a:t>The game is no longer playe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Other popular sports in Wales are:  </a:t>
            </a:r>
            <a:r>
              <a:rPr b="0" lang="en" sz="3100" spc="-1" strike="noStrike">
                <a:solidFill>
                  <a:srgbClr val="000000"/>
                </a:solidFill>
                <a:latin typeface="Arial"/>
                <a:ea typeface="宋体"/>
              </a:rPr>
              <a:t>cricket and football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6:02:20Z</dcterms:created>
  <dc:creator>123</dc:creator>
  <dc:description/>
  <dc:language>en-US</dc:language>
  <cp:lastModifiedBy>123</cp:lastModifiedBy>
  <dcterms:modified xsi:type="dcterms:W3CDTF">2010-06-14T11:22:18Z</dcterms:modified>
  <cp:revision>17</cp:revision>
  <dc:subject/>
  <dc:title>Wales</dc:title>
</cp:coreProperties>
</file>