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BD6-40FA-4639-8719-2C83D8B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BE9-478D-4F39-9FAA-006FA17C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3C1-0397-44E1-BCE1-CBC4DA82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A5C-D848-4FC8-8C12-4A9F0593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7BFB-2A5D-4A30-8731-D8DBF30D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4A74-9CB8-4187-98E7-2CA41888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7C82-CFFD-4A22-8AD0-586D97AD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E9E8-D3A6-4EA7-8E31-E15DB944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F6F1-83F0-482A-87CC-68FCD444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DA90-6E4E-4851-A314-1721688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5020-0942-4FDF-90E1-04AFDA78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607-2362-4479-820A-FA8AA764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AD0F-B9D3-4077-830E-7A8089B4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DDC1-7BE7-4569-9184-31489F2E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B8AB-5817-4065-9DB5-7B508579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A902-F6DF-4A5E-837D-E0BDA31A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C71B-3E8E-46C7-B1F3-73FF0094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870-8665-40DB-B87B-025BFC4F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62C-235E-49CF-BE28-D3F34612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950-8A12-4BAA-8B07-0B6A2226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4E5-ACEF-473C-8DC7-2A88250F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3F1-A650-4DCC-AAED-762CC07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58B-452A-4661-AB0A-602A0D73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9C1-7A49-45AB-B83B-BEAABA59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7596-A38C-4A0D-A5BD-B2B0819022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5E08-2150-4EB2-A102-9EDCA1B9FD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енно-профессиональные я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ов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79280" y="1557360"/>
          <a:ext cx="8713800" cy="488628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1. Целой (неметаболизированной) молекулой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Неэлектролитное (наркотическое) дейст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. Токсичными продуктами биотрансформации ксенобио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                            </a:t>
                      </a:r>
                      <a:r>
                        <a:rPr b="1" i="1" lang="ru-RU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1. Окисление спирта до альдегидов (кетон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Алкогольдегидроген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икросомальная Э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Ксантиноксидазн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Каталозно-пероксидазн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                          </a:t>
                      </a:r>
                      <a:r>
                        <a:rPr b="1" i="1" lang="ru-RU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2. Окисление альдегидов (кетонов) до кисл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Альдегиддегидроген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Альдегидоксидаза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Прямоугольник 3"/>
          <p:cNvSpPr/>
          <p:nvPr/>
        </p:nvSpPr>
        <p:spPr>
          <a:xfrm>
            <a:off x="785880" y="500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Механизм токсического действия спир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718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Токсикология  галогенированных  углеводородов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4437000"/>
          <a:ext cx="8642520" cy="2168640"/>
        </p:xfrm>
        <a:graphic>
          <a:graphicData uri="http://schemas.openxmlformats.org/drawingml/2006/table">
            <a:tbl>
              <a:tblPr/>
              <a:tblGrid>
                <a:gridCol w="1906560"/>
                <a:gridCol w="2136960"/>
                <a:gridCol w="2135160"/>
                <a:gridCol w="2463840"/>
              </a:tblGrid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етилхлори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етиленхлори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Хлорофор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Четыреххлористый углер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l-C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ихлорэт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-CH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Тетрахлорэт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Cl=C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Трихлорэти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Хлорбенз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20"/>
          <p:cNvSpPr/>
          <p:nvPr/>
        </p:nvSpPr>
        <p:spPr>
          <a:xfrm>
            <a:off x="1311120" y="1409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324000" y="1268280"/>
            <a:ext cx="8280360" cy="35866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уществуют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-, F-, Br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l-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роизводные углеводор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Используются как растворители, очистители, клеи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компоненты ракетных топлив, дегазирующих рецептур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ля обезжиривания и экстра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 общей структуре отравлений 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5-7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Летальность до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50-90%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(тяжелые отравл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Механизм токсического действия галогенированных углеводородов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557360"/>
          <a:ext cx="8713800" cy="4846680"/>
        </p:xfrm>
        <a:graphic>
          <a:graphicData uri="http://schemas.openxmlformats.org/drawingml/2006/table">
            <a:tbl>
              <a:tblPr/>
              <a:tblGrid>
                <a:gridCol w="6489720"/>
                <a:gridCol w="22240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1. Целой (неметаболизированной) молекулой ве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  <a:ea typeface="Times New Roman"/>
                        </a:rPr>
                        <a:t>Неэлектролитное (наркотическое) дей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. Токсичными продуктами биотрансформации ксенобио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Инициация процессов ПОЛ в биомембран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повышение порозности биологических мембран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запуск кальциевого механизма гибели клеток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множественные повреждения внутриклеточных      мембранных комплекс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истрофия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некроз кле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Алкилирование нуклеиновых кислот и нуклеопротеи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угнетение процессов клеточного деле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угнетение процессов синтеза бел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епре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иелопоэ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Форм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иммунодефици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Алкилирование </a:t>
                      </a:r>
                      <a:r>
                        <a:rPr b="1" i="1" lang="en-US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SH</a:t>
                      </a:r>
                      <a:r>
                        <a:rPr b="1" i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-содержащих ферм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нарушение процессов биологического окисле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нарушения всех видов обмена веществ в организм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истрофия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ножеств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гибель кле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684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Токсикология моторных топли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3357720"/>
            <a:ext cx="369540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Продукты горения</a:t>
            </a:r>
            <a:r>
              <a:rPr b="1" lang="en-US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(выхлопные газы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глеводороды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(&gt;20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раздражающие (предельные, непредельные), смо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канцерогенные (3,4-бензпирен; 1,2-бензантрацен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оединения свинц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гарный газ С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ксиды аз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ернистый газ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SO</a:t>
            </a:r>
            <a:r>
              <a:rPr b="1" lang="en-US" sz="16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льдеги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аж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8" descr="Аварийный ДГ"/>
          <p:cNvPicPr/>
          <p:nvPr/>
        </p:nvPicPr>
        <p:blipFill>
          <a:blip r:embed="rId1"/>
          <a:stretch/>
        </p:blipFill>
        <p:spPr>
          <a:xfrm>
            <a:off x="4716360" y="3429000"/>
            <a:ext cx="148608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324000" y="907920"/>
            <a:ext cx="8569080" cy="22320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Бензины –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смесь метановых, нафтеновых, ароматических и непредельных углеводородов с числом углеродных атомов в молекуле от 4 до 12. Присадки к бензинам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&gt;50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ТЭС, ТОКФ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Керосины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смесь ациклических насыщенных углеводородов с 10-15 атомами углерода, ароматических углеводородов и соединений кислорода (кислоты, фенолы) и серы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светительный, тракторый, реактивное топливо (ТС-1, Т-1, Т-2, ТП-2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4" descr="катерпилер"/>
          <p:cNvPicPr/>
          <p:nvPr/>
        </p:nvPicPr>
        <p:blipFill>
          <a:blip r:embed="rId2"/>
          <a:stretch/>
        </p:blipFill>
        <p:spPr>
          <a:xfrm>
            <a:off x="6300720" y="422100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88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Присадки к бензинам и топливам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8000" y="765000"/>
          <a:ext cx="8820000" cy="6445440"/>
        </p:xfrm>
        <a:graphic>
          <a:graphicData uri="http://schemas.openxmlformats.org/drawingml/2006/table">
            <a:tbl>
              <a:tblPr/>
              <a:tblGrid>
                <a:gridCol w="406440"/>
                <a:gridCol w="2508120"/>
                <a:gridCol w="59054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Тип присад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Назна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Антидетонато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овышение октанового числа автобензи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Промоторы воспламе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овышение цетанового числа дизельных топл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Антиоксида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овышение окислительной стабильности бензинов при хра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Стабилизато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овышение  стабильности дизельных топлив при хра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Биоци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ридание топливам стойкости к биопораж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Депрессоры и диспергатор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лучшение низкотемпературных свойств дизельных топл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Антиобледенитель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редотвращение обледенения заслонки карбюрат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Антидым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нижение дымности отработавших газов дизельных двиг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Катализаторы го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лучшение сгорания автобензинов и дизельных топл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Моющ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меньшения образования нагара и отлож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Противоизнос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величение ресурса работы топливной аппаратур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Приработоч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скорение приработки двигателей при изготовлении и  обкат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Крас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аркирование топлив с разными цел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865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Токсикология ракетных топли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Топлива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- вещества, которые в процессе химических превращений 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   (горение) выделяют значительное количество теп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Различают жидкие и твердые топли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Носителем энергии или «рабочим телом» в ракетном топливе является газ, образующиеся в процессе сгорания топли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бразование "рабочего тела" может происходить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вследствие внутримолекулярных перестроек одного вещества -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днокомпонентные топлива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или в результате химической реакции двух веществ, одно из которых является окислителем, а второе – горючим –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вухкомпонентные топлива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 составе двухкомпонентных топлив: 75-85% - окислитель, 25-15% - горюч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"/>
              </a:rPr>
              <a:t>По виду окислителя выделяют топли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азотной кислоты и оксидов азот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фтора и его соединени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концентрированной перекиси водород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жидкого кислород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нитропарафин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В качестве горючего рассматривается огромное количе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соединений (более 600)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аминосоединен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аммиак, алифатические, ароматические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мины, гидразины);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гидриды углерода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продукты переработки нефти –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керосины, бензины, спирты, смазочные масла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гидриды бора или бороводороды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диборан, пентаборан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каборан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металлы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литий, бериллий, магний, алюминий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водород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Современные твердые ракетные топлива имеют слож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состав, включающий в себ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металлы или их гидриды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алюминий, бериллий, литий и др.) и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перхлораты аммон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O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 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азотной кислоты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лит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Cl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л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КС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гидразина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CI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Принципы лечение острых отравлений интоксикаций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екращение дальнейшего поступления (всасывания) ядовитого вещества, удаление не всосавшегося ве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оведение реанимационных мероприят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воевременное применение антидо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странение патологических синдромов, вызванных воздействием яд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офилактика и лечение ослож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Направления медицинской профилактики отравлений военно-профессиональными ядам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оведение медицинского контроля за состоянием здоровья лиц, контактирующих с химическими веществами (в частности, топливами, смазочными материалами и ор­ганическими растворителям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. Осуществление постоянного санитарного надзора за условиями труда персон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. Проведение санитарно-просветительской работы с людьми, занятыми в данной сфере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324000" y="5373720"/>
            <a:ext cx="533160" cy="457200"/>
          </a:xfrm>
          <a:custGeom>
            <a:avLst/>
            <a:gdLst>
              <a:gd name="textAreaLeft" fmla="*/ 219600 w 533160"/>
              <a:gd name="textAreaRight" fmla="*/ 313560 w 5331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01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Отравляющие и высокотоксичные вещества (ОВТВ)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071720" y="2357280"/>
            <a:ext cx="7643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равляющие вещества (ОВ) и токс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тотоксиканты боевого примен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иверсионные я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льнодействующие вещества    (СДЯВ, ТХВ, АОХ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енно-профессиональные я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уководящие документы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857160" y="1500120"/>
            <a:ext cx="728676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аз заместителя МО – НТ ВС № 63 от 1989 г. "О введении в действие Инструкции по обращению с ядовитыми техническими жидкостями в Советской Армии и Военно-Морском Флоте"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аз заместителя МО – НТ ВС № 37 от 1991 г. "О введении в действие Правил безопасного проведения работ с компонентами ракетного топлива в Советской Армии и Военно-Морском Флоте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аз МО № 278 от 1978 г., определяющий правила безопасного проведения работ с горюче-смазочными материал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аз МЗ МП РФ № 90 от 1996 г. "О порядке проведения предварительных и периодических медицинских осмотров работников и медицинских регламентов допуска к профессии". В медицинской службе ВС РФ введен в действие Директивой начальника Главного военно-медицинского управления МО РФ – начальника медицинской службы ВС РФ № 161/2/4/6565 от 06 декабря 1996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3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Профессиональные вредност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 факторы трудового процесса и производственной среды, которые могут прямо или косвенно явиться причиной нарушения здоровья работающих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14360"/>
            <a:ext cx="7543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00"/>
                </a:solidFill>
                <a:uFillTx/>
                <a:latin typeface="Arial"/>
              </a:rPr>
              <a:t>Химической прир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омпоненты ракетных топлив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Выхлопные га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Технические жидкости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Горюче-смазочные материа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Выделения из синтетических материалов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500040" y="42876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лассификация ВПЯ по особенностям биологического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85840" y="1500120"/>
            <a:ext cx="842940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электролиты: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 предельные углеводороды (бензин, керосин и др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спирты (этиловый, метиловый, этиленгликоль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галогенированные углеводороды (дихлорэтан, четыреххлористый углерод, фреоны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некоторые ароматические соединения (бензол, толуол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а прижигающего действ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кислоты (азотная, уксусная и др.)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щелочи (гидроксиды натрия, калия, нашатырный спирт, гидразин и др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окислители (перекись водорода, фтор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а с преобладающим специфическим действием на организ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тетраэтилсвинец, три-о-крезилфосфат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200016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Неэлектроли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14200" y="733320"/>
            <a:ext cx="6786720" cy="58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ермины 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«неэлектролиты» и «неэлектролитно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ействие были предложены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Н.В.Лазаревым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в 40-х год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ошлого века для обозначения большой группы вещест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зличного строения, объединяемых рядом общих физик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химических и токсических свой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Классификация неэлектролитов по химической структу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.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        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Углеводород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алифатические (бензины, керосины и др.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ароматические (бензол, толуол, ксилол и др.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галогензамещенные (хлороформ, дихлорэтан, четыреххлористый углерод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серосодержащие (сероуглерод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buClr>
                <a:srgbClr val="00ff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Спирты и гликоли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(метиловый, этиловый, этиленгликоль и др.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buClr>
                <a:srgbClr val="00ff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Кетоны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(ацетон, метилэтилкетон и др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buClr>
                <a:srgbClr val="00ff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Эфиры простые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(этиловый, бутиловый, метил-, этилцеллозольв и др.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V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.          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Эфиры сложные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(метилацетат, этилацетат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Лазарев"/>
          <p:cNvPicPr/>
          <p:nvPr/>
        </p:nvPicPr>
        <p:blipFill>
          <a:blip r:embed="rId1"/>
          <a:stretch/>
        </p:blipFill>
        <p:spPr>
          <a:xfrm>
            <a:off x="6929280" y="0"/>
            <a:ext cx="22147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42876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неэлектролитов характерно наличие двух типов механизмов токсического действия: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14200" y="1444680"/>
            <a:ext cx="8572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Действие целой молекулой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неметаболизированного веществ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которое определяет их неспецифическое наркотическое действие на центральную нервную систему за счёт физико-химических реак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ецифическое действие продуктов метаболизма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токсикант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 счёт химических реакций с различными биомишен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3"/>
          <p:cNvSpPr/>
          <p:nvPr/>
        </p:nvSpPr>
        <p:spPr>
          <a:xfrm>
            <a:off x="0" y="1785960"/>
            <a:ext cx="8748720" cy="338436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73440" y="203040"/>
            <a:ext cx="9217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хема работы ферментов гладкой эндоплазматической се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1928880" y="1857240"/>
            <a:ext cx="2428920" cy="2428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eS-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елок (адренодокс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3929040" y="2143080"/>
            <a:ext cx="2428920" cy="22147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Ф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571680" y="2000160"/>
            <a:ext cx="1603080" cy="1489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t-P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5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Oval 51"/>
          <p:cNvSpPr/>
          <p:nvPr/>
        </p:nvSpPr>
        <p:spPr>
          <a:xfrm>
            <a:off x="500040" y="1143000"/>
            <a:ext cx="792360" cy="793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½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</a:t>
            </a:r>
            <a:r>
              <a:rPr b="1" lang="en-US" sz="2400" spc="-1" strike="noStrike" baseline="-18000">
                <a:solidFill>
                  <a:srgbClr val="0000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Group 64"/>
          <p:cNvGrpSpPr/>
          <p:nvPr/>
        </p:nvGrpSpPr>
        <p:grpSpPr>
          <a:xfrm>
            <a:off x="1116000" y="668880"/>
            <a:ext cx="877680" cy="786960"/>
            <a:chOff x="1116000" y="668880"/>
            <a:chExt cx="877680" cy="786960"/>
          </a:xfrm>
        </p:grpSpPr>
        <p:sp>
          <p:nvSpPr>
            <p:cNvPr id="132" name="Oval 55"/>
            <p:cNvSpPr/>
            <p:nvPr/>
          </p:nvSpPr>
          <p:spPr>
            <a:xfrm>
              <a:off x="1116000" y="836640"/>
              <a:ext cx="409320" cy="4762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57"/>
            <p:cNvSpPr/>
            <p:nvPr/>
          </p:nvSpPr>
          <p:spPr>
            <a:xfrm>
              <a:off x="1584360" y="979560"/>
              <a:ext cx="409320" cy="4762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Oval 59"/>
            <p:cNvSpPr/>
            <p:nvPr/>
          </p:nvSpPr>
          <p:spPr>
            <a:xfrm rot="376800">
              <a:off x="1295280" y="692280"/>
              <a:ext cx="468360" cy="7225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ahoma"/>
                </a:rPr>
                <a:t>Н</a:t>
              </a:r>
              <a:r>
                <a:rPr b="1" lang="ru-RU" sz="2400" spc="-1" strike="noStrike" baseline="-20000">
                  <a:solidFill>
                    <a:srgbClr val="0000ff"/>
                  </a:solidFill>
                  <a:latin typeface="Tahoma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Oval 66"/>
          <p:cNvSpPr/>
          <p:nvPr/>
        </p:nvSpPr>
        <p:spPr>
          <a:xfrm>
            <a:off x="7429680" y="1571760"/>
            <a:ext cx="409320" cy="476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</a:t>
            </a:r>
            <a:r>
              <a:rPr b="0" lang="ru-RU" sz="1800" spc="-1" strike="noStrike" baseline="22000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Oval 67"/>
          <p:cNvSpPr/>
          <p:nvPr/>
        </p:nvSpPr>
        <p:spPr>
          <a:xfrm>
            <a:off x="8001000" y="1500120"/>
            <a:ext cx="500040" cy="5716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</a:t>
            </a:r>
            <a:r>
              <a:rPr b="0" lang="ru-RU" sz="1800" spc="-1" strike="noStrike" baseline="22000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6442560" y="27748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7071120" y="428616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5"/>
          <p:cNvSpPr/>
          <p:nvPr/>
        </p:nvSpPr>
        <p:spPr>
          <a:xfrm>
            <a:off x="285840" y="1785960"/>
            <a:ext cx="395280" cy="37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Oval 61"/>
          <p:cNvSpPr/>
          <p:nvPr/>
        </p:nvSpPr>
        <p:spPr>
          <a:xfrm>
            <a:off x="0" y="928800"/>
            <a:ext cx="928800" cy="476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-O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60"/>
          <p:cNvSpPr/>
          <p:nvPr/>
        </p:nvSpPr>
        <p:spPr>
          <a:xfrm>
            <a:off x="0" y="1357200"/>
            <a:ext cx="928800" cy="476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-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Gear"/>
          <p:cNvSpPr/>
          <p:nvPr/>
        </p:nvSpPr>
        <p:spPr>
          <a:xfrm>
            <a:off x="6000840" y="1928880"/>
            <a:ext cx="2281320" cy="225432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НАД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38889E-006 -7.40741E-007 C -0.02865 -0.025 -0.0573 -0.05 -0.0882 -0.04907 C -0.1191 -0.04815 -0.14462 0.00695 -0.18542 0.00602 C -0.22587 0.00509 -0.28473 -0.05 -0.33247 -0.05486 C -0.37987 -0.05972 -0.43889 -0.02523 -0.47049 -0.02338 C -0.50226 -0.02153 -0.51094 -0.0368 -0.52205 -0.04305 C -0.53317 -0.0493 -0.53195 -0.05278 -0.53681 -0.06065 C -0.54167 -0.06852 -0.54653 -0.08032 -0.55139 -0.09005 C -0.55626 -0.09977 -0.55764 -0.11389 -0.56615 -0.11967 C -0.57466 -0.12546 -0.58751 -0.12523 -0.60296 -0.12546 C -0.61841 -0.12569 -0.64497 -0.11829 -0.65886 -0.12153 C -0.67275 -0.12477 -0.68039 -0.13866 -0.68681 -0.14514 C -0.69323 -0.15162 -0.69341 -0.14653 -0.69705 -0.16065 C -0.7007 -0.17477 -0.70695 -0.21018 -0.70886 -0.2294 C -0.71077 -0.24861 -0.71077 -0.25833 -0.70886 -0.27639 C -0.70695 -0.29444 -0.70296 -0.32384 -0.69705 -0.33727 C -0.69115 -0.35069 -0.67761 -0.35347 -0.67344 -0.35671 E">
                                      <p:cBhvr>
                                        <p:cTn id="1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" nodeType="withEffect" fill="hold" presetClass="entr" presetID="2" presetSubtype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94444E-006 -5.55556E-006 C -0.04497 -0.00186 -0.08993 -0.00348 -0.1191 0.00578 C -0.14826 0.01504 -0.15191 0.04999 -0.175 0.05485 C -0.19809 0.05971 -0.22813 0.0361 -0.25729 0.03518 C -0.28646 0.03425 -0.32951 0.04513 -0.35 0.04907 C -0.37049 0.053 -0.36875 0.06133 -0.38073 0.05879 C -0.39271 0.05624 -0.41076 0.04073 -0.42205 0.03333 C -0.43333 0.02592 -0.43646 0.01758 -0.44844 0.01365 C -0.46042 0.00971 -0.47379 0.0074 -0.4941 0.00971 C -0.51441 0.01203 -0.55156 0.0199 -0.57049 0.02731 C -0.58941 0.03471 -0.59826 0.04698 -0.60729 0.05485 C -0.61632 0.06272 -0.61545 0.07708 -0.625 0.07453 C -0.63455 0.07198 -0.65104 0.05184 -0.66458 0.03911 C -0.67813 0.02638 -0.6967 0.00555 -0.70573 -0.00209 C -0.71476 -0.00973 -0.71441 -0.00464 -0.7191 -0.00603 C -0.72379 -0.00742 -0.72847 -0.00765 -0.73368 -0.00996 C -0.73889 -0.01228 -0.74722 -0.01899 -0.75 -0.01968 E">
                                      <p:cBhvr>
                                        <p:cTn id="3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5 -0.00903 C -0.03438 -0.00949 -0.04254 -0.00995 -0.04966 -0.00903 C -0.05677 -0.0081 -0.05938 -0.00718 -0.06875 -0.00301 C -0.07813 0.00116 -0.09757 0.01134 -0.10556 0.01643 C -0.11355 0.02153 -0.11164 0.02639 -0.11719 0.02824 C -0.12275 0.03009 -0.13039 0.02893 -0.13924 0.02824 C -0.14809 0.02755 -0.16077 0.02755 -0.17014 0.0243 C -0.17952 0.02106 -0.18386 0.01042 -0.19514 0.00856 C -0.20643 0.00671 -0.22587 0.01065 -0.23785 0.0125 C -0.24983 0.01435 -0.25921 0.01782 -0.26719 0.02037 C -0.27518 0.02292 -0.2816 0.02685 -0.28629 0.02824 C -0.29098 0.02963 -0.29028 0.02824 -0.29514 0.02824 C -0.3 0.02824 -0.30799 0.03055 -0.3158 0.02824 C -0.32362 0.02592 -0.33334 0.01852 -0.34219 0.01458 C -0.35105 0.01065 -0.36112 0.00694 -0.36875 0.00463 C -0.37639 0.00231 -0.37952 0.00185 -0.38785 0.00092 C -0.39618 1.11111000000003E-006 -0.4099 -0.00093 -0.41875 -0.00116 C -0.42761 -0.00139 -0.42987 -0.00116 -0.4408 -0.00116 C -0.45174 -0.00116 -0.4724 -0.0037 -0.4849 -0.00116 C -0.4974 0.00139 -0.5073 0.00995 -0.5158 0.01458 C -0.52431 0.01921 -0.53091 0.02407 -0.53629 0.02639 C -0.54167 0.0287 -0.54254 0.02731 -0.54809 0.02824 C -0.55365 0.02917 -0.56094 0.03518 -0.57014 0.03217 C -0.57934 0.02917 -0.59011 0.01921 -0.604 0.01065 C -0.61789 0.00208 -0.64497 -0.01088 -0.654 -0.01875 C -0.66302 -0.02662 -0.66077 -0.03148 -0.65851 -0.03634 E">
                                      <p:cBhvr>
                                        <p:cTn id="3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2214720" y="285840"/>
            <a:ext cx="52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Характеристика спир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85840" y="928800"/>
            <a:ext cx="850104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Спирты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– это органические соединения, содержащие гидроксильную группу (ОН), соединенную с каким-либо углеводородным радика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зависимости от структуры углеродной цепи спир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лифатически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(до С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– жидкости, далее – твердые в-ва)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циклически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(ароматические и гетероциклические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числу гидроксильных групп в молекуле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одноатом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многоатом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Двухатомными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являются спирты, содержащие в молекуле две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гидроксильные группы и носят общее название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диолы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гликоли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Трехатом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спирты называют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триолами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глицеринами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, а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пирты с большим числом гидроксильных групп носят общее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название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олиолы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зависимости от положения гидроксильной группы в молеку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ич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-CH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OH - моноалкилкарбино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ич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-CHOH -  диалкилкарбинол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третич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(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-COH - триалкилкарбинол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9:54:47Z</dcterms:created>
  <dc:creator>Master</dc:creator>
  <dc:description/>
  <dc:language>en-US</dc:language>
  <cp:lastModifiedBy>user</cp:lastModifiedBy>
  <dcterms:modified xsi:type="dcterms:W3CDTF">2008-06-07T07:06:43Z</dcterms:modified>
  <cp:revision>16</cp:revision>
  <dc:subject/>
  <dc:title>Военно-профессиональные яды</dc:title>
</cp:coreProperties>
</file>