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DFE8-30C5-4F6F-B74C-3EF1ED0C1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7848-B980-44B6-A8BC-8F6083B07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4155-3A3B-4728-9669-F1F04FA2C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42B1-E2DE-485E-A9AF-670D58BD7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A882-6B68-43DC-9C92-4DAA2A0CE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E3A2-19FC-43BC-BD9A-DB206311E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BA27-F621-4226-BC33-E99AA9A71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D8EA-BCA3-4DAB-A1E3-6849BCA6C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2DBD-C62E-4001-8E94-A599EB898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5817-5305-46EC-B11E-8AC7428B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C937-AF8E-4A4C-A6E0-F539C6189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768A-EAFB-4CFB-AF8F-78D6B6C3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7EA11-DF9D-4344-9992-1754C06920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2627280" y="333360"/>
            <a:ext cx="612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дставители различных культур выражают сво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дивидуаль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4720" y="2590920"/>
            <a:ext cx="647856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ст молодежных группиров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058920" y="4149720"/>
            <a:ext cx="572436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убкульту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6"/>
          <p:cNvSpPr/>
          <p:nvPr/>
        </p:nvSpPr>
        <p:spPr>
          <a:xfrm>
            <a:off x="4500720" y="587700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Сергеева. Т.Г. Школа 14.Балах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1680" y="274320"/>
            <a:ext cx="806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заставляет молодых людей выбирать субкультур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45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лодёжные группировки- это реально для Росси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ебные предметы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циология, психология, обществознание, английский язы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астники проек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еники 10 класс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11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формировать компетентность в сфе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остоятельной познавательной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итического мыш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обретение навыков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оманд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большими объёмами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мение увидеть проблем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метить пути её реш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1116000" y="90792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5050"/>
                </a:solidFill>
                <a:latin typeface="Arial"/>
              </a:rPr>
              <a:t>Дидактические цели проект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воить представление 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одёжных группиров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ть определение каждой группиров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ражать свою точку зр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учить пользоваться различной литератур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лагать своё м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ь умение аудировать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учить устно и письменно оформлять свою реч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1116000" y="90792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5050"/>
                </a:solidFill>
                <a:latin typeface="Arial"/>
              </a:rPr>
              <a:t>Методические цели проект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11280" y="1773000"/>
            <a:ext cx="853272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подростки выражают свою индивидуальнос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чему подростки выражают свою индивидуальнос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АРАКТЕРИСТИКА МОЛОДЁЖНЫХ ГРУППИРОВ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116000" y="40464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5050"/>
                </a:solidFill>
                <a:latin typeface="Arial"/>
              </a:rPr>
              <a:t>Темы самостоятельных исследовани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684360" y="429264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395280" y="386064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Tahoma"/>
              </a:rPr>
              <a:t>Результаты представления исследован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539640" y="4581360"/>
            <a:ext cx="82296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зентация - фотоальб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б-сайт – обзор мнений и новых концепций п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БКУЛЬТУРАМ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УК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формационные 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глийский язык В.П.Кузовлев.10-1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а для чтения В.П.Кузовле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а упражнений В.П.Кузовле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тапы и сроки проведения проекта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9360" y="209520"/>
            <a:ext cx="4562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улирование тем исследований 1 ур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ирование групп 2 ур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бор творческого названия проекта 3 ур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суждение 4 ур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щита 5 ур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3T21:40:22Z</dcterms:created>
  <dc:creator>Фомина И.А</dc:creator>
  <dc:description/>
  <dc:language>en-US</dc:language>
  <cp:lastModifiedBy>ZooM</cp:lastModifiedBy>
  <dcterms:modified xsi:type="dcterms:W3CDTF">2013-11-07T18:06:16Z</dcterms:modified>
  <cp:revision>14</cp:revision>
  <dc:subject/>
  <dc:title>Слайд 1</dc:title>
</cp:coreProperties>
</file>