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D22C-59D4-4841-BB2D-83E0E6FB4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6230-474C-42BB-82BA-F627D637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D4AD-D7A9-4F92-A755-8147280DA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5000-5FAB-4DC2-AA7E-272B315A4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7C69-3D0E-424E-AABA-5C741682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4797-69BD-4C3F-BE5E-5D217C73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67CA-7156-43A8-B43B-9C3E6257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FC11-321C-411F-88AF-CC154D71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8A85-B112-483E-91D3-25A9EF9E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DE11-97E9-437D-B81D-A0A48D8D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D240-3D34-45B2-B2DC-F9CB2F43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22D8-67D0-40D7-87F2-054FAC70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3BB2-4BA8-4DBE-85C5-F78DA5AC5A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2627280" y="333360"/>
            <a:ext cx="612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ставители различных культур выражают сво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уа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4720" y="2590920"/>
            <a:ext cx="647856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т молодежных группиров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58920" y="4149720"/>
            <a:ext cx="57243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бкульту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6"/>
          <p:cNvSpPr/>
          <p:nvPr/>
        </p:nvSpPr>
        <p:spPr>
          <a:xfrm>
            <a:off x="4500720" y="587700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Сергеева. Т.Г. Школа 14.Балах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680" y="274320"/>
            <a:ext cx="806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заставляет молодых людей выбирать субкультур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лодёжные группировки- это реально для Росс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бные предмет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ология, психология, обществознание, английский язы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астники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ники 10 клас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11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формировать компетентность в сфе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стоятельной познавательн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итического 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обретение навыков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оманд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большими объёмами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мение увидеть пробле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метить пути её ре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1116000" y="90792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5050"/>
                </a:solidFill>
                <a:latin typeface="Arial"/>
              </a:rPr>
              <a:t>Дидактические цели проек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воить представление 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дёжных группиров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ть определение каждой группиров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ражать свою точку з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учить пользоваться различной литерату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лагать своё м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ь умение аудировать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учить устно и письменно оформлять свою реч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1116000" y="90792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5050"/>
                </a:solidFill>
                <a:latin typeface="Arial"/>
              </a:rPr>
              <a:t>Методические цели проек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11280" y="1773000"/>
            <a:ext cx="85327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одростки выражают свою индивидуально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чему подростки выражают свою индивидуально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АРАКТЕРИСТИКА МОЛОДЁЖНЫХ ГРУППИРОВ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116000" y="40464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5050"/>
                </a:solidFill>
                <a:latin typeface="Arial"/>
              </a:rPr>
              <a:t>Темы самостоятельных исследован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684360" y="429264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395280" y="386064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Tahoma"/>
              </a:rPr>
              <a:t>Результаты представления исследова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539640" y="458136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зентация - фотоальб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б-сайт – обзор мнений и новых концепций п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БКУЛЬТУРАМ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К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онн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глийский язык В.П.Кузовлев.10-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а для чтения В.П.Кузовле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а упражнений В.П.Кузовл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апы и сроки проведения проекта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9360" y="209520"/>
            <a:ext cx="4562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улирование тем исследований 1 у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групп 2 у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ор творческого названия проекта 3 у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суждение 4 у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щита 5 у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3T21:40:22Z</dcterms:created>
  <dc:creator>Фомина И.А</dc:creator>
  <dc:description/>
  <dc:language>en-US</dc:language>
  <cp:lastModifiedBy>ZooM</cp:lastModifiedBy>
  <dcterms:modified xsi:type="dcterms:W3CDTF">2013-11-07T18:06:16Z</dcterms:modified>
  <cp:revision>14</cp:revision>
  <dc:subject/>
  <dc:title>Слайд 1</dc:title>
</cp:coreProperties>
</file>