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EBD-E9FE-4719-BE81-15395565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B7E-D8BF-4F7A-AEEF-1677FEFC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3719-D9DD-48B8-9864-A5387EC5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C16-B353-46A1-B31B-656ED26A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B56E-233A-425E-BD32-3B32E962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FB4-EF1D-4A0D-A57A-83C19AF0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E3B7-898A-4FD8-BC7A-16A9A83D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D13C-24C8-4181-9B21-1C5AD0EF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F07C-9E03-4A32-8FD9-79338790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6967-05FB-497B-846D-039D96BA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522E-9B18-4650-B92B-AEDAA7C6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3C90-C748-4720-BFF3-62A846A0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4EC1-01A6-4429-B2F4-3A6E476C6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2627280" y="333360"/>
            <a:ext cx="61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тавители различных культур выражают св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4720" y="2590920"/>
            <a:ext cx="647856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т молодежных группиров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58920" y="4149720"/>
            <a:ext cx="5724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бкуль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4500720" y="5877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Сергеева. Т.Г. Школа 14.Балах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06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заставляет молодых людей выбирать субкультур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одёжные группировки- это реально для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ые предме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ология, психология, обществознание, английский 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стник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и 10 кла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формировать компетентность в сф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й познава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ическ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обретение навыков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ман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ольшими объёмам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мение увидеть пробл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метить пути её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116000" y="9079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Arial"/>
              </a:rPr>
              <a:t>Дидактические цели 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воить представление 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ёжных группиров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ть определение каждой групп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ать свою точку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ить пользоваться различной литерату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лагать своё м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ь умение аудировать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 устно и письменно оформлять свою реч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116000" y="9079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Arial"/>
              </a:rPr>
              <a:t>Методические цели 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532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одростки выражают свою индивидуаль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подростки выражают свою индивидуаль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А МОЛОДЁЖНЫХ ГРУППИРО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116000" y="404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Arial"/>
              </a:rPr>
              <a:t>Темы самостоятельных исследова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84360" y="4292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95280" y="3860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Результаты представления исследова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39640" y="458136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зентация - фотоальб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б-сайт – обзор мнений и новых концепций п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КУЛЬТУРАМ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глийский язык В.П.Кузовлев.10-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а для чтения В.П.Кузовл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а упражнений В.П.Кузовл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ы и сроки проведения проекта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9360" y="209520"/>
            <a:ext cx="45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лирование тем исследований 1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групп 2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творческого названия проекта 3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уждение 4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а 5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3T21:40:22Z</dcterms:created>
  <dc:creator>Фомина И.А</dc:creator>
  <dc:description/>
  <dc:language>en-US</dc:language>
  <cp:lastModifiedBy>ZooM</cp:lastModifiedBy>
  <dcterms:modified xsi:type="dcterms:W3CDTF">2013-11-07T18:06:16Z</dcterms:modified>
  <cp:revision>14</cp:revision>
  <dc:subject/>
  <dc:title>Слайд 1</dc:title>
</cp:coreProperties>
</file>