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68F-DFC0-4F8D-8769-6D6F994E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3A2-D675-4732-8B1C-15FE1F14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C72-9EEF-4BB8-99CD-BCA48D51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DA4-9A62-4011-9983-5E5E7886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0EF5-43C3-4386-80E4-9B8D87F7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E692-9FE3-4F31-8560-5E46789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121B-6DDA-427E-9731-890F1CE3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F331-FD6F-4E28-B2C0-22FAEBCB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04EB-6707-4255-8D10-5755CADB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2A1A-CB02-4BFF-A535-17BD403D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CA4B-16C4-483B-B77E-245DE11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714-D5A6-43B5-97FD-A99CA548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C8B9-79D2-43D0-A4E5-B8DFD209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C8C4-78EB-4EAE-99B7-5187CD2C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9842-AA8F-4E4D-B33B-89F08F94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0E14-8621-48E9-81F6-457D0224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0E56-EA44-41C1-99B0-B66E3600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BE08-B3B8-4AEF-95D0-E6C65445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DD1C-FEF0-4C8D-AAEA-0D313B48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1CB5-A995-4D96-95AD-4FD4EB4F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758A-733C-4B12-9B81-825AEE05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BF21-D283-492F-867B-E0BD2655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941-C1D4-4BAF-9B46-D8251926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2327A-7509-4FE8-A714-3DE2DCA9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31A5-FD52-4AF7-B008-ADFC2358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866C-2944-4D8D-840D-CED2FF25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1C55-1371-42D4-A079-99F75A88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1CE2-E3D2-4FA3-A9AD-09EB43FF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45BE-8109-4F5E-A12B-4DA56A68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E58E-CF13-4586-BF37-09A7D136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92B-807E-4043-89A7-A257C0E3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77D-5111-4877-A85C-C0F2D7B2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4B8-600C-4F8A-8820-059A66F3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247-E1F7-494E-9517-3C5B31E6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C1C-3A3C-45FC-B50A-1B8F427D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BDF-D125-4083-A850-660773BB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AA3E-3299-489E-9E4D-09B7E537A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041E-64A9-45D3-80E3-62622679C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67C8-4DC2-4A1C-AEF0-DDBB43013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-24840"/>
            <a:ext cx="9144000" cy="22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 курса:     ХРОМАТОГРАФИЧЕСКИЙ 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лекции:</a:t>
            </a:r>
            <a:r>
              <a:rPr b="1" lang="ru-RU" sz="2200" spc="-1" strike="noStrike">
                <a:solidFill>
                  <a:srgbClr val="ffcc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СОРБЦИОННАЯ ХРОМАТОГРАФ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ДКОСТНАЯ  ХРОМАТОГРАФ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070720"/>
            <a:ext cx="88200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н ле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88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Адсорбенты  и  требования  к  н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Влияние адсорбционных характеристик  на  время удерживания  и форму пи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Преимущества и  недостатки адсорбционной хроматографии по сравнению с другими вариантами хроматографического анализ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Тонкослойная хроматограф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Метод ВЭЖХ  и его возмож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Газоадсорбционная хроматограф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4720" y="40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 екция 39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20440" y="71280"/>
            <a:ext cx="57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вязь изотермы и формы п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32000" y="600120"/>
            <a:ext cx="2758320" cy="2193840"/>
            <a:chOff x="432000" y="600120"/>
            <a:chExt cx="2758320" cy="2193840"/>
          </a:xfrm>
        </p:grpSpPr>
        <p:grpSp>
          <p:nvGrpSpPr>
            <p:cNvPr id="277" name=""/>
            <p:cNvGrpSpPr/>
            <p:nvPr/>
          </p:nvGrpSpPr>
          <p:grpSpPr>
            <a:xfrm>
              <a:off x="432000" y="600120"/>
              <a:ext cx="2758320" cy="2193840"/>
              <a:chOff x="432000" y="600120"/>
              <a:chExt cx="2758320" cy="21938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826920" y="764640"/>
                <a:ext cx="2232360" cy="1656000"/>
                <a:chOff x="826920" y="764640"/>
                <a:chExt cx="2232360" cy="1656000"/>
              </a:xfrm>
            </p:grpSpPr>
            <p:sp>
              <p:nvSpPr>
                <p:cNvPr id="279" name=""/>
                <p:cNvSpPr/>
                <p:nvPr/>
              </p:nvSpPr>
              <p:spPr>
                <a:xfrm flipV="1">
                  <a:off x="826920" y="76464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26920" y="2420640"/>
                  <a:ext cx="22323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432000" y="6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45080" y="24256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826920" y="907560"/>
              <a:ext cx="1944720" cy="1513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293800" y="620640"/>
            <a:ext cx="3206520" cy="2135160"/>
            <a:chOff x="5293800" y="620640"/>
            <a:chExt cx="3206520" cy="2135160"/>
          </a:xfrm>
        </p:grpSpPr>
        <p:grpSp>
          <p:nvGrpSpPr>
            <p:cNvPr id="285" name=""/>
            <p:cNvGrpSpPr/>
            <p:nvPr/>
          </p:nvGrpSpPr>
          <p:grpSpPr>
            <a:xfrm>
              <a:off x="5293800" y="630360"/>
              <a:ext cx="3206520" cy="2125440"/>
              <a:chOff x="5293800" y="630360"/>
              <a:chExt cx="3206520" cy="2125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5713200" y="764640"/>
                <a:ext cx="2615400" cy="1656000"/>
                <a:chOff x="5713200" y="764640"/>
                <a:chExt cx="2615400" cy="1656000"/>
              </a:xfrm>
            </p:grpSpPr>
            <p:sp>
              <p:nvSpPr>
                <p:cNvPr id="287" name=""/>
                <p:cNvSpPr/>
                <p:nvPr/>
              </p:nvSpPr>
              <p:spPr>
                <a:xfrm flipV="1">
                  <a:off x="5713200" y="76464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713200" y="2420640"/>
                  <a:ext cx="26154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5293800" y="6303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43280" y="2387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084720" y="620640"/>
              <a:ext cx="1800360" cy="1657440"/>
              <a:chOff x="6084720" y="620640"/>
              <a:chExt cx="1800360" cy="1657440"/>
            </a:xfrm>
          </p:grpSpPr>
          <p:sp>
            <p:nvSpPr>
              <p:cNvPr id="292" name=""/>
              <p:cNvSpPr/>
              <p:nvPr/>
            </p:nvSpPr>
            <p:spPr>
              <a:xfrm>
                <a:off x="6084720" y="2278080"/>
                <a:ext cx="432000" cy="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6516720" y="620640"/>
                <a:ext cx="431640" cy="165744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6948000" y="620640"/>
                <a:ext cx="505080" cy="165744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53440" y="2278080"/>
                <a:ext cx="431640" cy="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5243040" y="2562120"/>
            <a:ext cx="3390480" cy="2225880"/>
            <a:chOff x="5243040" y="2562120"/>
            <a:chExt cx="3390480" cy="2225880"/>
          </a:xfrm>
        </p:grpSpPr>
        <p:grpSp>
          <p:nvGrpSpPr>
            <p:cNvPr id="297" name=""/>
            <p:cNvGrpSpPr/>
            <p:nvPr/>
          </p:nvGrpSpPr>
          <p:grpSpPr>
            <a:xfrm>
              <a:off x="5243040" y="2562120"/>
              <a:ext cx="3390480" cy="2225880"/>
              <a:chOff x="5243040" y="2562120"/>
              <a:chExt cx="3390480" cy="22258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741280" y="2781000"/>
                <a:ext cx="2719800" cy="1656000"/>
                <a:chOff x="5741280" y="2781000"/>
                <a:chExt cx="2719800" cy="165600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741280" y="278100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741280" y="4437000"/>
                  <a:ext cx="27198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5243040" y="25621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376480" y="4419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016680" y="2687400"/>
              <a:ext cx="2401560" cy="1678320"/>
              <a:chOff x="6016680" y="2687400"/>
              <a:chExt cx="2401560" cy="1678320"/>
            </a:xfrm>
          </p:grpSpPr>
          <p:sp>
            <p:nvSpPr>
              <p:cNvPr id="304" name=""/>
              <p:cNvSpPr/>
              <p:nvPr/>
            </p:nvSpPr>
            <p:spPr>
              <a:xfrm>
                <a:off x="6016680" y="4365720"/>
                <a:ext cx="385200" cy="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404760" y="2708280"/>
                <a:ext cx="385200" cy="165744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798960" y="2687400"/>
                <a:ext cx="1222200" cy="1655640"/>
              </a:xfrm>
              <a:prstGeom prst="line">
                <a:avLst/>
              </a:prstGeom>
              <a:ln cap="sq"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32680" y="4352760"/>
                <a:ext cx="385560" cy="0"/>
              </a:xfrm>
              <a:prstGeom prst="line">
                <a:avLst/>
              </a:prstGeom>
              <a:ln cap="sq"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220720" y="4629240"/>
            <a:ext cx="3412800" cy="2185920"/>
            <a:chOff x="5220720" y="4629240"/>
            <a:chExt cx="3412800" cy="2185920"/>
          </a:xfrm>
        </p:grpSpPr>
        <p:grpSp>
          <p:nvGrpSpPr>
            <p:cNvPr id="309" name=""/>
            <p:cNvGrpSpPr/>
            <p:nvPr/>
          </p:nvGrpSpPr>
          <p:grpSpPr>
            <a:xfrm>
              <a:off x="5220720" y="4629240"/>
              <a:ext cx="3412800" cy="2185920"/>
              <a:chOff x="5220720" y="4629240"/>
              <a:chExt cx="3412800" cy="218592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5745240" y="4797000"/>
                <a:ext cx="2716200" cy="1656000"/>
                <a:chOff x="5745240" y="4797000"/>
                <a:chExt cx="2716200" cy="165600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5745240" y="479700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745240" y="6453000"/>
                  <a:ext cx="27162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220720" y="4629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376480" y="6446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796000" y="4797000"/>
              <a:ext cx="2520720" cy="1584720"/>
              <a:chOff x="5796000" y="4797000"/>
              <a:chExt cx="2520720" cy="1584720"/>
            </a:xfrm>
          </p:grpSpPr>
          <p:sp>
            <p:nvSpPr>
              <p:cNvPr id="316" name=""/>
              <p:cNvSpPr/>
              <p:nvPr/>
            </p:nvSpPr>
            <p:spPr>
              <a:xfrm flipH="1" flipV="1">
                <a:off x="7521120" y="4797360"/>
                <a:ext cx="397800" cy="151128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6193440" y="4797000"/>
                <a:ext cx="1326240" cy="1584360"/>
              </a:xfrm>
              <a:prstGeom prst="line">
                <a:avLst/>
              </a:prstGeom>
              <a:ln cap="sq"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19280" y="6308640"/>
                <a:ext cx="397440" cy="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96000" y="6381720"/>
                <a:ext cx="397440" cy="0"/>
              </a:xfrm>
              <a:prstGeom prst="line">
                <a:avLst/>
              </a:prstGeom>
              <a:ln cap="sq"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419400" y="2631960"/>
            <a:ext cx="2928600" cy="2168640"/>
            <a:chOff x="419400" y="2631960"/>
            <a:chExt cx="2928600" cy="2168640"/>
          </a:xfrm>
        </p:grpSpPr>
        <p:grpSp>
          <p:nvGrpSpPr>
            <p:cNvPr id="321" name=""/>
            <p:cNvGrpSpPr/>
            <p:nvPr/>
          </p:nvGrpSpPr>
          <p:grpSpPr>
            <a:xfrm>
              <a:off x="419400" y="2631960"/>
              <a:ext cx="2750400" cy="2168640"/>
              <a:chOff x="419400" y="2631960"/>
              <a:chExt cx="2750400" cy="216864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826920" y="2781000"/>
                <a:ext cx="2232360" cy="1656000"/>
                <a:chOff x="826920" y="2781000"/>
                <a:chExt cx="2232360" cy="165600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826920" y="278100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26920" y="4437000"/>
                  <a:ext cx="22323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2824560" y="4432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19400" y="2631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27" name=""/>
            <p:cNvCxnSpPr>
              <a:stCxn id="324" idx="0"/>
            </p:cNvCxnSpPr>
            <p:nvPr/>
          </p:nvCxnSpPr>
          <p:spPr>
            <a:xfrm flipH="1" flipV="1" rot="5400000">
              <a:off x="1474920" y="2563920"/>
              <a:ext cx="1224720" cy="2521800"/>
            </a:xfrm>
            <a:prstGeom prst="curvedConnector2">
              <a:avLst/>
            </a:prstGeom>
            <a:ln cap="sq" w="44280">
              <a:solidFill>
                <a:srgbClr val="ff0000"/>
              </a:solidFill>
              <a:miter/>
            </a:ln>
          </p:spPr>
        </p:cxnSp>
      </p:grpSp>
      <p:grpSp>
        <p:nvGrpSpPr>
          <p:cNvPr id="328" name=""/>
          <p:cNvGrpSpPr/>
          <p:nvPr/>
        </p:nvGrpSpPr>
        <p:grpSpPr>
          <a:xfrm>
            <a:off x="-1726560" y="3147480"/>
            <a:ext cx="5106960" cy="3667680"/>
            <a:chOff x="-1726560" y="3147480"/>
            <a:chExt cx="5106960" cy="3667680"/>
          </a:xfrm>
        </p:grpSpPr>
        <p:grpSp>
          <p:nvGrpSpPr>
            <p:cNvPr id="329" name=""/>
            <p:cNvGrpSpPr/>
            <p:nvPr/>
          </p:nvGrpSpPr>
          <p:grpSpPr>
            <a:xfrm>
              <a:off x="422640" y="4627440"/>
              <a:ext cx="2796120" cy="2187720"/>
              <a:chOff x="422640" y="4627440"/>
              <a:chExt cx="2796120" cy="218772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826920" y="4797000"/>
                <a:ext cx="2232360" cy="1656000"/>
                <a:chOff x="826920" y="4797000"/>
                <a:chExt cx="2232360" cy="1656000"/>
              </a:xfrm>
            </p:grpSpPr>
            <p:sp>
              <p:nvSpPr>
                <p:cNvPr id="331" name=""/>
                <p:cNvSpPr/>
                <p:nvPr/>
              </p:nvSpPr>
              <p:spPr>
                <a:xfrm flipV="1">
                  <a:off x="826920" y="479700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26920" y="6453000"/>
                  <a:ext cx="22323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422640" y="462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73520" y="6446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-1726200" y="3147120"/>
              <a:ext cx="510696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8500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850083"/>
                </a:path>
              </a:pathLst>
            </a:custGeom>
            <a:noFill/>
            <a:ln cap="sq"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04000" y="620640"/>
            <a:ext cx="708120" cy="5832720"/>
            <a:chOff x="6804000" y="620640"/>
            <a:chExt cx="708120" cy="5832720"/>
          </a:xfrm>
        </p:grpSpPr>
        <p:sp>
          <p:nvSpPr>
            <p:cNvPr id="337" name=""/>
            <p:cNvSpPr/>
            <p:nvPr/>
          </p:nvSpPr>
          <p:spPr>
            <a:xfrm>
              <a:off x="6948360" y="620640"/>
              <a:ext cx="0" cy="18003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04000" y="2670120"/>
              <a:ext cx="0" cy="18003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12120" y="4869000"/>
              <a:ext cx="0" cy="15843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еимущества и ограничения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дсорбционной хромат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1268280"/>
            <a:ext cx="867564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зможность работы при высоких  температурах и давлениях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зможность направленной модификации свойств адсорб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елективность адсорбции (вплоть до разделения изотоп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птических изомеров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явление дополнительного эффекта –  разделение молекул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 размерам.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092480"/>
            <a:ext cx="9144000" cy="29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бор адсорбе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граничен, а  их свойства при повтор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готовлении колонки плохо  воспроизводимы  и   теоретичес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предсказуемы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ь необратимой сорбции  и  химических превращ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онентов пробы на активных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линейность изотерм адсорбции, ведущая к искажению  фо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ков и неполному разделению компон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42920" y="5493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новные варианты  адсорбционной хромат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989000"/>
            <a:ext cx="849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7400" indent="-43488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ассическая жидкостная хроматография (Ж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2401"/>
              </a:spcBef>
              <a:spcAft>
                <a:spcPts val="165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нкослойная жидкостная хроматография (ТС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1500"/>
              </a:spcBef>
              <a:spcAft>
                <a:spcPts val="28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оэффективная  жидкостная хроматография (ВЭЖХ, ЖХВ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зоадсорбционная хроматография (Г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95280" y="692280"/>
            <a:ext cx="8209080" cy="40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онкослойная хроматография  (ТС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Метод ТСХ предложен в 1938 г. Измайловым и Шрайб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Используется для экспрессного полуколичественного и качественного анализа жидкостей (органический синтез,  биохимические исследования, криминалистическая экспертиза, контроль качества пищевых продуктов, лекарств и други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2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315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хема выполнения (А) и результат разделения (Б) двухкомпонентной смеси методом ТС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44000" y="1852560"/>
            <a:ext cx="8746920" cy="3446640"/>
            <a:chOff x="144000" y="1852560"/>
            <a:chExt cx="8746920" cy="3446640"/>
          </a:xfrm>
        </p:grpSpPr>
        <p:grpSp>
          <p:nvGrpSpPr>
            <p:cNvPr id="349" name=""/>
            <p:cNvGrpSpPr/>
            <p:nvPr/>
          </p:nvGrpSpPr>
          <p:grpSpPr>
            <a:xfrm>
              <a:off x="225720" y="2301840"/>
              <a:ext cx="4968720" cy="2997360"/>
              <a:chOff x="225720" y="2301840"/>
              <a:chExt cx="4968720" cy="2997360"/>
            </a:xfrm>
          </p:grpSpPr>
          <p:sp>
            <p:nvSpPr>
              <p:cNvPr id="350" name=""/>
              <p:cNvSpPr/>
              <p:nvPr/>
            </p:nvSpPr>
            <p:spPr>
              <a:xfrm>
                <a:off x="225720" y="2301840"/>
                <a:ext cx="4968720" cy="299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5720" y="2301840"/>
                <a:ext cx="4968720" cy="299736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654880" y="4014720"/>
              <a:ext cx="3235680" cy="614520"/>
              <a:chOff x="5654880" y="4014720"/>
              <a:chExt cx="3235680" cy="614520"/>
            </a:xfrm>
          </p:grpSpPr>
          <p:sp>
            <p:nvSpPr>
              <p:cNvPr id="353" name=""/>
              <p:cNvSpPr/>
              <p:nvPr/>
            </p:nvSpPr>
            <p:spPr>
              <a:xfrm>
                <a:off x="5658840" y="4017960"/>
                <a:ext cx="322956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54880" y="4014720"/>
                <a:ext cx="3235680" cy="614520"/>
              </a:xfrm>
              <a:custGeom>
                <a:avLst/>
                <a:gdLst/>
                <a:ahLst/>
                <a:rect l="l" t="t" r="r" b="b"/>
                <a:pathLst>
                  <a:path w="9990" h="1816">
                    <a:moveTo>
                      <a:pt x="9965" y="16"/>
                    </a:moveTo>
                    <a:lnTo>
                      <a:pt x="9965" y="16"/>
                    </a:lnTo>
                    <a:cubicBezTo>
                      <a:pt x="9960" y="16"/>
                      <a:pt x="9956" y="13"/>
                      <a:pt x="9956" y="8"/>
                    </a:cubicBezTo>
                    <a:cubicBezTo>
                      <a:pt x="9956" y="4"/>
                      <a:pt x="9960" y="0"/>
                      <a:pt x="9965" y="0"/>
                    </a:cubicBezTo>
                    <a:lnTo>
                      <a:pt x="9965" y="0"/>
                    </a:lnTo>
                    <a:cubicBezTo>
                      <a:pt x="9969" y="0"/>
                      <a:pt x="9973" y="4"/>
                      <a:pt x="9973" y="8"/>
                    </a:cubicBezTo>
                    <a:cubicBezTo>
                      <a:pt x="9973" y="13"/>
                      <a:pt x="9969" y="16"/>
                      <a:pt x="9965" y="16"/>
                    </a:cubicBezTo>
                    <a:close/>
                    <a:moveTo>
                      <a:pt x="9931" y="16"/>
                    </a:moveTo>
                    <a:lnTo>
                      <a:pt x="9931" y="16"/>
                    </a:lnTo>
                    <a:cubicBezTo>
                      <a:pt x="9927" y="16"/>
                      <a:pt x="9923" y="13"/>
                      <a:pt x="9923" y="8"/>
                    </a:cubicBezTo>
                    <a:cubicBezTo>
                      <a:pt x="9923" y="4"/>
                      <a:pt x="9927" y="0"/>
                      <a:pt x="9931" y="0"/>
                    </a:cubicBezTo>
                    <a:lnTo>
                      <a:pt x="9931" y="0"/>
                    </a:lnTo>
                    <a:cubicBezTo>
                      <a:pt x="9936" y="0"/>
                      <a:pt x="9940" y="4"/>
                      <a:pt x="9940" y="8"/>
                    </a:cubicBezTo>
                    <a:cubicBezTo>
                      <a:pt x="9940" y="13"/>
                      <a:pt x="9936" y="16"/>
                      <a:pt x="9931" y="16"/>
                    </a:cubicBezTo>
                    <a:close/>
                    <a:moveTo>
                      <a:pt x="9898" y="16"/>
                    </a:moveTo>
                    <a:lnTo>
                      <a:pt x="9898" y="16"/>
                    </a:lnTo>
                    <a:cubicBezTo>
                      <a:pt x="9893" y="16"/>
                      <a:pt x="9890" y="13"/>
                      <a:pt x="9890" y="8"/>
                    </a:cubicBezTo>
                    <a:cubicBezTo>
                      <a:pt x="9890" y="4"/>
                      <a:pt x="9893" y="0"/>
                      <a:pt x="9898" y="0"/>
                    </a:cubicBezTo>
                    <a:lnTo>
                      <a:pt x="9898" y="0"/>
                    </a:lnTo>
                    <a:cubicBezTo>
                      <a:pt x="9903" y="0"/>
                      <a:pt x="9906" y="4"/>
                      <a:pt x="9906" y="8"/>
                    </a:cubicBezTo>
                    <a:cubicBezTo>
                      <a:pt x="9906" y="13"/>
                      <a:pt x="9903" y="16"/>
                      <a:pt x="9898" y="16"/>
                    </a:cubicBezTo>
                    <a:close/>
                    <a:moveTo>
                      <a:pt x="9865" y="16"/>
                    </a:moveTo>
                    <a:lnTo>
                      <a:pt x="9865" y="16"/>
                    </a:lnTo>
                    <a:cubicBezTo>
                      <a:pt x="9860" y="16"/>
                      <a:pt x="9856" y="13"/>
                      <a:pt x="9856" y="8"/>
                    </a:cubicBezTo>
                    <a:cubicBezTo>
                      <a:pt x="9856" y="4"/>
                      <a:pt x="9860" y="0"/>
                      <a:pt x="9865" y="0"/>
                    </a:cubicBezTo>
                    <a:lnTo>
                      <a:pt x="9865" y="0"/>
                    </a:lnTo>
                    <a:cubicBezTo>
                      <a:pt x="9869" y="0"/>
                      <a:pt x="9873" y="4"/>
                      <a:pt x="9873" y="8"/>
                    </a:cubicBezTo>
                    <a:cubicBezTo>
                      <a:pt x="9873" y="13"/>
                      <a:pt x="9869" y="16"/>
                      <a:pt x="9865" y="16"/>
                    </a:cubicBezTo>
                    <a:close/>
                    <a:moveTo>
                      <a:pt x="9831" y="16"/>
                    </a:moveTo>
                    <a:lnTo>
                      <a:pt x="9831" y="16"/>
                    </a:lnTo>
                    <a:cubicBezTo>
                      <a:pt x="9827" y="16"/>
                      <a:pt x="9823" y="13"/>
                      <a:pt x="9823" y="8"/>
                    </a:cubicBezTo>
                    <a:cubicBezTo>
                      <a:pt x="9823" y="4"/>
                      <a:pt x="9827" y="0"/>
                      <a:pt x="9831" y="0"/>
                    </a:cubicBezTo>
                    <a:lnTo>
                      <a:pt x="9831" y="0"/>
                    </a:lnTo>
                    <a:cubicBezTo>
                      <a:pt x="9836" y="0"/>
                      <a:pt x="9840" y="4"/>
                      <a:pt x="9840" y="8"/>
                    </a:cubicBezTo>
                    <a:cubicBezTo>
                      <a:pt x="9840" y="13"/>
                      <a:pt x="9836" y="16"/>
                      <a:pt x="9831" y="16"/>
                    </a:cubicBezTo>
                    <a:close/>
                    <a:moveTo>
                      <a:pt x="9798" y="16"/>
                    </a:moveTo>
                    <a:lnTo>
                      <a:pt x="9798" y="16"/>
                    </a:lnTo>
                    <a:cubicBezTo>
                      <a:pt x="9793" y="16"/>
                      <a:pt x="9790" y="13"/>
                      <a:pt x="9790" y="8"/>
                    </a:cubicBezTo>
                    <a:cubicBezTo>
                      <a:pt x="9790" y="4"/>
                      <a:pt x="9793" y="0"/>
                      <a:pt x="9798" y="0"/>
                    </a:cubicBezTo>
                    <a:lnTo>
                      <a:pt x="9798" y="0"/>
                    </a:lnTo>
                    <a:cubicBezTo>
                      <a:pt x="9803" y="0"/>
                      <a:pt x="9806" y="4"/>
                      <a:pt x="9806" y="8"/>
                    </a:cubicBezTo>
                    <a:cubicBezTo>
                      <a:pt x="9806" y="13"/>
                      <a:pt x="9803" y="16"/>
                      <a:pt x="9798" y="16"/>
                    </a:cubicBezTo>
                    <a:close/>
                    <a:moveTo>
                      <a:pt x="9765" y="16"/>
                    </a:moveTo>
                    <a:lnTo>
                      <a:pt x="9765" y="16"/>
                    </a:lnTo>
                    <a:cubicBezTo>
                      <a:pt x="9760" y="16"/>
                      <a:pt x="9756" y="13"/>
                      <a:pt x="9756" y="8"/>
                    </a:cubicBezTo>
                    <a:cubicBezTo>
                      <a:pt x="9756" y="4"/>
                      <a:pt x="9760" y="0"/>
                      <a:pt x="9765" y="0"/>
                    </a:cubicBezTo>
                    <a:lnTo>
                      <a:pt x="9765" y="0"/>
                    </a:lnTo>
                    <a:cubicBezTo>
                      <a:pt x="9769" y="0"/>
                      <a:pt x="9773" y="4"/>
                      <a:pt x="9773" y="8"/>
                    </a:cubicBezTo>
                    <a:cubicBezTo>
                      <a:pt x="9773" y="13"/>
                      <a:pt x="9769" y="16"/>
                      <a:pt x="9765" y="16"/>
                    </a:cubicBezTo>
                    <a:close/>
                    <a:moveTo>
                      <a:pt x="9731" y="16"/>
                    </a:moveTo>
                    <a:lnTo>
                      <a:pt x="9731" y="16"/>
                    </a:lnTo>
                    <a:cubicBezTo>
                      <a:pt x="9727" y="16"/>
                      <a:pt x="9723" y="13"/>
                      <a:pt x="9723" y="8"/>
                    </a:cubicBezTo>
                    <a:cubicBezTo>
                      <a:pt x="9723" y="4"/>
                      <a:pt x="9727" y="0"/>
                      <a:pt x="9731" y="0"/>
                    </a:cubicBezTo>
                    <a:lnTo>
                      <a:pt x="9731" y="0"/>
                    </a:lnTo>
                    <a:cubicBezTo>
                      <a:pt x="9736" y="0"/>
                      <a:pt x="9740" y="4"/>
                      <a:pt x="9740" y="8"/>
                    </a:cubicBezTo>
                    <a:cubicBezTo>
                      <a:pt x="9740" y="13"/>
                      <a:pt x="9736" y="16"/>
                      <a:pt x="9731" y="16"/>
                    </a:cubicBezTo>
                    <a:close/>
                    <a:moveTo>
                      <a:pt x="9698" y="16"/>
                    </a:moveTo>
                    <a:lnTo>
                      <a:pt x="9698" y="16"/>
                    </a:lnTo>
                    <a:cubicBezTo>
                      <a:pt x="9693" y="16"/>
                      <a:pt x="9690" y="13"/>
                      <a:pt x="9690" y="8"/>
                    </a:cubicBezTo>
                    <a:cubicBezTo>
                      <a:pt x="9690" y="4"/>
                      <a:pt x="9693" y="0"/>
                      <a:pt x="9698" y="0"/>
                    </a:cubicBezTo>
                    <a:lnTo>
                      <a:pt x="9698" y="0"/>
                    </a:lnTo>
                    <a:cubicBezTo>
                      <a:pt x="9703" y="0"/>
                      <a:pt x="9706" y="4"/>
                      <a:pt x="9706" y="8"/>
                    </a:cubicBezTo>
                    <a:cubicBezTo>
                      <a:pt x="9706" y="13"/>
                      <a:pt x="9703" y="16"/>
                      <a:pt x="9698" y="16"/>
                    </a:cubicBezTo>
                    <a:close/>
                    <a:moveTo>
                      <a:pt x="9665" y="16"/>
                    </a:moveTo>
                    <a:lnTo>
                      <a:pt x="9665" y="16"/>
                    </a:lnTo>
                    <a:cubicBezTo>
                      <a:pt x="9660" y="16"/>
                      <a:pt x="9656" y="13"/>
                      <a:pt x="9656" y="8"/>
                    </a:cubicBezTo>
                    <a:cubicBezTo>
                      <a:pt x="9656" y="4"/>
                      <a:pt x="9660" y="0"/>
                      <a:pt x="9665" y="0"/>
                    </a:cubicBezTo>
                    <a:lnTo>
                      <a:pt x="9665" y="0"/>
                    </a:lnTo>
                    <a:cubicBezTo>
                      <a:pt x="9669" y="0"/>
                      <a:pt x="9673" y="4"/>
                      <a:pt x="9673" y="8"/>
                    </a:cubicBezTo>
                    <a:cubicBezTo>
                      <a:pt x="9673" y="13"/>
                      <a:pt x="9669" y="16"/>
                      <a:pt x="9665" y="16"/>
                    </a:cubicBezTo>
                    <a:close/>
                    <a:moveTo>
                      <a:pt x="9631" y="16"/>
                    </a:moveTo>
                    <a:lnTo>
                      <a:pt x="9631" y="16"/>
                    </a:lnTo>
                    <a:cubicBezTo>
                      <a:pt x="9627" y="16"/>
                      <a:pt x="9623" y="13"/>
                      <a:pt x="9623" y="8"/>
                    </a:cubicBezTo>
                    <a:cubicBezTo>
                      <a:pt x="9623" y="4"/>
                      <a:pt x="9627" y="0"/>
                      <a:pt x="9631" y="0"/>
                    </a:cubicBezTo>
                    <a:lnTo>
                      <a:pt x="9631" y="0"/>
                    </a:lnTo>
                    <a:cubicBezTo>
                      <a:pt x="9636" y="0"/>
                      <a:pt x="9640" y="4"/>
                      <a:pt x="9640" y="8"/>
                    </a:cubicBezTo>
                    <a:cubicBezTo>
                      <a:pt x="9640" y="13"/>
                      <a:pt x="9636" y="16"/>
                      <a:pt x="9631" y="16"/>
                    </a:cubicBezTo>
                    <a:close/>
                    <a:moveTo>
                      <a:pt x="9598" y="16"/>
                    </a:moveTo>
                    <a:lnTo>
                      <a:pt x="9598" y="16"/>
                    </a:lnTo>
                    <a:cubicBezTo>
                      <a:pt x="9593" y="16"/>
                      <a:pt x="9590" y="13"/>
                      <a:pt x="9590" y="8"/>
                    </a:cubicBezTo>
                    <a:cubicBezTo>
                      <a:pt x="9590" y="4"/>
                      <a:pt x="9593" y="0"/>
                      <a:pt x="9598" y="0"/>
                    </a:cubicBezTo>
                    <a:lnTo>
                      <a:pt x="9598" y="0"/>
                    </a:lnTo>
                    <a:cubicBezTo>
                      <a:pt x="9603" y="0"/>
                      <a:pt x="9606" y="4"/>
                      <a:pt x="9606" y="8"/>
                    </a:cubicBezTo>
                    <a:cubicBezTo>
                      <a:pt x="9606" y="13"/>
                      <a:pt x="9603" y="16"/>
                      <a:pt x="9598" y="16"/>
                    </a:cubicBezTo>
                    <a:close/>
                    <a:moveTo>
                      <a:pt x="9565" y="16"/>
                    </a:moveTo>
                    <a:lnTo>
                      <a:pt x="9565" y="16"/>
                    </a:lnTo>
                    <a:cubicBezTo>
                      <a:pt x="9560" y="16"/>
                      <a:pt x="9556" y="13"/>
                      <a:pt x="9556" y="8"/>
                    </a:cubicBezTo>
                    <a:cubicBezTo>
                      <a:pt x="9556" y="4"/>
                      <a:pt x="9560" y="0"/>
                      <a:pt x="9565" y="0"/>
                    </a:cubicBezTo>
                    <a:lnTo>
                      <a:pt x="9565" y="0"/>
                    </a:lnTo>
                    <a:cubicBezTo>
                      <a:pt x="9569" y="0"/>
                      <a:pt x="9573" y="4"/>
                      <a:pt x="9573" y="8"/>
                    </a:cubicBezTo>
                    <a:cubicBezTo>
                      <a:pt x="9573" y="13"/>
                      <a:pt x="9569" y="16"/>
                      <a:pt x="9565" y="16"/>
                    </a:cubicBezTo>
                    <a:close/>
                    <a:moveTo>
                      <a:pt x="9531" y="16"/>
                    </a:moveTo>
                    <a:lnTo>
                      <a:pt x="9531" y="16"/>
                    </a:lnTo>
                    <a:cubicBezTo>
                      <a:pt x="9527" y="16"/>
                      <a:pt x="9523" y="13"/>
                      <a:pt x="9523" y="8"/>
                    </a:cubicBezTo>
                    <a:cubicBezTo>
                      <a:pt x="9523" y="4"/>
                      <a:pt x="9527" y="0"/>
                      <a:pt x="9531" y="0"/>
                    </a:cubicBezTo>
                    <a:lnTo>
                      <a:pt x="9531" y="0"/>
                    </a:lnTo>
                    <a:cubicBezTo>
                      <a:pt x="9536" y="0"/>
                      <a:pt x="9540" y="4"/>
                      <a:pt x="9540" y="8"/>
                    </a:cubicBezTo>
                    <a:cubicBezTo>
                      <a:pt x="9540" y="13"/>
                      <a:pt x="9536" y="16"/>
                      <a:pt x="9531" y="16"/>
                    </a:cubicBezTo>
                    <a:close/>
                    <a:moveTo>
                      <a:pt x="9498" y="16"/>
                    </a:moveTo>
                    <a:lnTo>
                      <a:pt x="9498" y="16"/>
                    </a:lnTo>
                    <a:cubicBezTo>
                      <a:pt x="9493" y="16"/>
                      <a:pt x="9490" y="13"/>
                      <a:pt x="9490" y="8"/>
                    </a:cubicBezTo>
                    <a:cubicBezTo>
                      <a:pt x="9490" y="4"/>
                      <a:pt x="9493" y="0"/>
                      <a:pt x="9498" y="0"/>
                    </a:cubicBezTo>
                    <a:lnTo>
                      <a:pt x="9498" y="0"/>
                    </a:lnTo>
                    <a:cubicBezTo>
                      <a:pt x="9502" y="0"/>
                      <a:pt x="9506" y="4"/>
                      <a:pt x="9506" y="8"/>
                    </a:cubicBezTo>
                    <a:cubicBezTo>
                      <a:pt x="9506" y="13"/>
                      <a:pt x="9502" y="16"/>
                      <a:pt x="9498" y="16"/>
                    </a:cubicBezTo>
                    <a:close/>
                    <a:moveTo>
                      <a:pt x="9465" y="16"/>
                    </a:moveTo>
                    <a:lnTo>
                      <a:pt x="9465" y="16"/>
                    </a:lnTo>
                    <a:cubicBezTo>
                      <a:pt x="9460" y="16"/>
                      <a:pt x="9456" y="13"/>
                      <a:pt x="9456" y="8"/>
                    </a:cubicBezTo>
                    <a:cubicBezTo>
                      <a:pt x="9456" y="4"/>
                      <a:pt x="9460" y="0"/>
                      <a:pt x="9465" y="0"/>
                    </a:cubicBezTo>
                    <a:lnTo>
                      <a:pt x="9465" y="0"/>
                    </a:lnTo>
                    <a:cubicBezTo>
                      <a:pt x="9469" y="0"/>
                      <a:pt x="9473" y="4"/>
                      <a:pt x="9473" y="8"/>
                    </a:cubicBezTo>
                    <a:cubicBezTo>
                      <a:pt x="9473" y="13"/>
                      <a:pt x="9469" y="16"/>
                      <a:pt x="9465" y="16"/>
                    </a:cubicBezTo>
                    <a:close/>
                    <a:moveTo>
                      <a:pt x="9431" y="16"/>
                    </a:moveTo>
                    <a:lnTo>
                      <a:pt x="9431" y="16"/>
                    </a:lnTo>
                    <a:cubicBezTo>
                      <a:pt x="9427" y="16"/>
                      <a:pt x="9423" y="13"/>
                      <a:pt x="9423" y="8"/>
                    </a:cubicBezTo>
                    <a:cubicBezTo>
                      <a:pt x="9423" y="4"/>
                      <a:pt x="9427" y="0"/>
                      <a:pt x="9431" y="0"/>
                    </a:cubicBezTo>
                    <a:lnTo>
                      <a:pt x="9431" y="0"/>
                    </a:lnTo>
                    <a:cubicBezTo>
                      <a:pt x="9436" y="0"/>
                      <a:pt x="9440" y="4"/>
                      <a:pt x="9440" y="8"/>
                    </a:cubicBezTo>
                    <a:cubicBezTo>
                      <a:pt x="9440" y="13"/>
                      <a:pt x="9436" y="16"/>
                      <a:pt x="9431" y="16"/>
                    </a:cubicBezTo>
                    <a:close/>
                    <a:moveTo>
                      <a:pt x="9398" y="16"/>
                    </a:moveTo>
                    <a:lnTo>
                      <a:pt x="9398" y="16"/>
                    </a:lnTo>
                    <a:cubicBezTo>
                      <a:pt x="9393" y="16"/>
                      <a:pt x="9389" y="13"/>
                      <a:pt x="9389" y="8"/>
                    </a:cubicBezTo>
                    <a:cubicBezTo>
                      <a:pt x="9389" y="4"/>
                      <a:pt x="9393" y="0"/>
                      <a:pt x="9398" y="0"/>
                    </a:cubicBezTo>
                    <a:lnTo>
                      <a:pt x="9398" y="0"/>
                    </a:lnTo>
                    <a:cubicBezTo>
                      <a:pt x="9402" y="0"/>
                      <a:pt x="9406" y="4"/>
                      <a:pt x="9406" y="8"/>
                    </a:cubicBezTo>
                    <a:cubicBezTo>
                      <a:pt x="9406" y="13"/>
                      <a:pt x="9402" y="16"/>
                      <a:pt x="9398" y="16"/>
                    </a:cubicBezTo>
                    <a:close/>
                    <a:moveTo>
                      <a:pt x="9364" y="16"/>
                    </a:moveTo>
                    <a:lnTo>
                      <a:pt x="9364" y="16"/>
                    </a:lnTo>
                    <a:cubicBezTo>
                      <a:pt x="9360" y="16"/>
                      <a:pt x="9356" y="13"/>
                      <a:pt x="9356" y="8"/>
                    </a:cubicBezTo>
                    <a:cubicBezTo>
                      <a:pt x="9356" y="4"/>
                      <a:pt x="9360" y="0"/>
                      <a:pt x="9364" y="0"/>
                    </a:cubicBezTo>
                    <a:lnTo>
                      <a:pt x="9364" y="0"/>
                    </a:lnTo>
                    <a:cubicBezTo>
                      <a:pt x="9369" y="0"/>
                      <a:pt x="9373" y="4"/>
                      <a:pt x="9373" y="8"/>
                    </a:cubicBezTo>
                    <a:cubicBezTo>
                      <a:pt x="9373" y="13"/>
                      <a:pt x="9369" y="16"/>
                      <a:pt x="9364" y="16"/>
                    </a:cubicBezTo>
                    <a:close/>
                    <a:moveTo>
                      <a:pt x="9331" y="16"/>
                    </a:moveTo>
                    <a:lnTo>
                      <a:pt x="9331" y="16"/>
                    </a:lnTo>
                    <a:cubicBezTo>
                      <a:pt x="9327" y="16"/>
                      <a:pt x="9323" y="13"/>
                      <a:pt x="9323" y="8"/>
                    </a:cubicBezTo>
                    <a:cubicBezTo>
                      <a:pt x="9323" y="4"/>
                      <a:pt x="9327" y="0"/>
                      <a:pt x="9331" y="0"/>
                    </a:cubicBezTo>
                    <a:lnTo>
                      <a:pt x="9331" y="0"/>
                    </a:lnTo>
                    <a:cubicBezTo>
                      <a:pt x="9336" y="0"/>
                      <a:pt x="9339" y="4"/>
                      <a:pt x="9339" y="8"/>
                    </a:cubicBezTo>
                    <a:cubicBezTo>
                      <a:pt x="9339" y="13"/>
                      <a:pt x="9336" y="16"/>
                      <a:pt x="9331" y="16"/>
                    </a:cubicBezTo>
                    <a:close/>
                    <a:moveTo>
                      <a:pt x="9298" y="16"/>
                    </a:moveTo>
                    <a:lnTo>
                      <a:pt x="9298" y="16"/>
                    </a:lnTo>
                    <a:cubicBezTo>
                      <a:pt x="9293" y="16"/>
                      <a:pt x="9289" y="13"/>
                      <a:pt x="9289" y="8"/>
                    </a:cubicBezTo>
                    <a:cubicBezTo>
                      <a:pt x="9289" y="4"/>
                      <a:pt x="9293" y="0"/>
                      <a:pt x="9298" y="0"/>
                    </a:cubicBezTo>
                    <a:lnTo>
                      <a:pt x="9298" y="0"/>
                    </a:lnTo>
                    <a:cubicBezTo>
                      <a:pt x="9302" y="0"/>
                      <a:pt x="9306" y="4"/>
                      <a:pt x="9306" y="8"/>
                    </a:cubicBezTo>
                    <a:cubicBezTo>
                      <a:pt x="9306" y="13"/>
                      <a:pt x="9302" y="16"/>
                      <a:pt x="9298" y="16"/>
                    </a:cubicBezTo>
                    <a:close/>
                    <a:moveTo>
                      <a:pt x="9264" y="16"/>
                    </a:moveTo>
                    <a:lnTo>
                      <a:pt x="9264" y="16"/>
                    </a:lnTo>
                    <a:cubicBezTo>
                      <a:pt x="9260" y="16"/>
                      <a:pt x="9256" y="13"/>
                      <a:pt x="9256" y="8"/>
                    </a:cubicBezTo>
                    <a:cubicBezTo>
                      <a:pt x="9256" y="4"/>
                      <a:pt x="9260" y="0"/>
                      <a:pt x="9264" y="0"/>
                    </a:cubicBezTo>
                    <a:lnTo>
                      <a:pt x="9264" y="0"/>
                    </a:lnTo>
                    <a:cubicBezTo>
                      <a:pt x="9269" y="0"/>
                      <a:pt x="9273" y="4"/>
                      <a:pt x="9273" y="8"/>
                    </a:cubicBezTo>
                    <a:cubicBezTo>
                      <a:pt x="9273" y="13"/>
                      <a:pt x="9269" y="16"/>
                      <a:pt x="9264" y="16"/>
                    </a:cubicBezTo>
                    <a:close/>
                    <a:moveTo>
                      <a:pt x="9231" y="16"/>
                    </a:moveTo>
                    <a:lnTo>
                      <a:pt x="9231" y="16"/>
                    </a:lnTo>
                    <a:cubicBezTo>
                      <a:pt x="9226" y="16"/>
                      <a:pt x="9223" y="13"/>
                      <a:pt x="9223" y="8"/>
                    </a:cubicBezTo>
                    <a:cubicBezTo>
                      <a:pt x="9223" y="4"/>
                      <a:pt x="9226" y="0"/>
                      <a:pt x="9231" y="0"/>
                    </a:cubicBezTo>
                    <a:lnTo>
                      <a:pt x="9231" y="0"/>
                    </a:lnTo>
                    <a:cubicBezTo>
                      <a:pt x="9236" y="0"/>
                      <a:pt x="9239" y="4"/>
                      <a:pt x="9239" y="8"/>
                    </a:cubicBezTo>
                    <a:cubicBezTo>
                      <a:pt x="9239" y="13"/>
                      <a:pt x="9236" y="16"/>
                      <a:pt x="9231" y="16"/>
                    </a:cubicBezTo>
                    <a:close/>
                    <a:moveTo>
                      <a:pt x="9198" y="16"/>
                    </a:moveTo>
                    <a:lnTo>
                      <a:pt x="9198" y="16"/>
                    </a:lnTo>
                    <a:cubicBezTo>
                      <a:pt x="9193" y="16"/>
                      <a:pt x="9189" y="13"/>
                      <a:pt x="9189" y="8"/>
                    </a:cubicBezTo>
                    <a:cubicBezTo>
                      <a:pt x="9189" y="4"/>
                      <a:pt x="9193" y="0"/>
                      <a:pt x="9198" y="0"/>
                    </a:cubicBezTo>
                    <a:lnTo>
                      <a:pt x="9198" y="0"/>
                    </a:lnTo>
                    <a:cubicBezTo>
                      <a:pt x="9202" y="0"/>
                      <a:pt x="9206" y="4"/>
                      <a:pt x="9206" y="8"/>
                    </a:cubicBezTo>
                    <a:cubicBezTo>
                      <a:pt x="9206" y="13"/>
                      <a:pt x="9202" y="16"/>
                      <a:pt x="9198" y="16"/>
                    </a:cubicBezTo>
                    <a:close/>
                    <a:moveTo>
                      <a:pt x="9164" y="16"/>
                    </a:moveTo>
                    <a:lnTo>
                      <a:pt x="9164" y="16"/>
                    </a:lnTo>
                    <a:cubicBezTo>
                      <a:pt x="9160" y="16"/>
                      <a:pt x="9156" y="13"/>
                      <a:pt x="9156" y="8"/>
                    </a:cubicBezTo>
                    <a:cubicBezTo>
                      <a:pt x="9156" y="4"/>
                      <a:pt x="9160" y="0"/>
                      <a:pt x="9164" y="0"/>
                    </a:cubicBezTo>
                    <a:lnTo>
                      <a:pt x="9164" y="0"/>
                    </a:lnTo>
                    <a:cubicBezTo>
                      <a:pt x="9169" y="0"/>
                      <a:pt x="9173" y="4"/>
                      <a:pt x="9173" y="8"/>
                    </a:cubicBezTo>
                    <a:cubicBezTo>
                      <a:pt x="9173" y="13"/>
                      <a:pt x="9169" y="16"/>
                      <a:pt x="9164" y="16"/>
                    </a:cubicBezTo>
                    <a:close/>
                    <a:moveTo>
                      <a:pt x="9131" y="16"/>
                    </a:moveTo>
                    <a:lnTo>
                      <a:pt x="9131" y="16"/>
                    </a:lnTo>
                    <a:cubicBezTo>
                      <a:pt x="9126" y="16"/>
                      <a:pt x="9123" y="13"/>
                      <a:pt x="9123" y="8"/>
                    </a:cubicBezTo>
                    <a:cubicBezTo>
                      <a:pt x="9123" y="4"/>
                      <a:pt x="9126" y="0"/>
                      <a:pt x="9131" y="0"/>
                    </a:cubicBezTo>
                    <a:lnTo>
                      <a:pt x="9131" y="0"/>
                    </a:lnTo>
                    <a:cubicBezTo>
                      <a:pt x="9136" y="0"/>
                      <a:pt x="9139" y="4"/>
                      <a:pt x="9139" y="8"/>
                    </a:cubicBezTo>
                    <a:cubicBezTo>
                      <a:pt x="9139" y="13"/>
                      <a:pt x="9136" y="16"/>
                      <a:pt x="9131" y="16"/>
                    </a:cubicBezTo>
                    <a:close/>
                    <a:moveTo>
                      <a:pt x="9098" y="16"/>
                    </a:moveTo>
                    <a:lnTo>
                      <a:pt x="9098" y="16"/>
                    </a:lnTo>
                    <a:cubicBezTo>
                      <a:pt x="9093" y="16"/>
                      <a:pt x="9089" y="13"/>
                      <a:pt x="9089" y="8"/>
                    </a:cubicBezTo>
                    <a:cubicBezTo>
                      <a:pt x="9089" y="4"/>
                      <a:pt x="9093" y="0"/>
                      <a:pt x="9098" y="0"/>
                    </a:cubicBezTo>
                    <a:lnTo>
                      <a:pt x="9098" y="0"/>
                    </a:lnTo>
                    <a:cubicBezTo>
                      <a:pt x="9102" y="0"/>
                      <a:pt x="9106" y="4"/>
                      <a:pt x="9106" y="8"/>
                    </a:cubicBezTo>
                    <a:cubicBezTo>
                      <a:pt x="9106" y="13"/>
                      <a:pt x="9102" y="16"/>
                      <a:pt x="9098" y="16"/>
                    </a:cubicBezTo>
                    <a:close/>
                    <a:moveTo>
                      <a:pt x="9064" y="16"/>
                    </a:moveTo>
                    <a:lnTo>
                      <a:pt x="9064" y="16"/>
                    </a:lnTo>
                    <a:cubicBezTo>
                      <a:pt x="9060" y="16"/>
                      <a:pt x="9056" y="13"/>
                      <a:pt x="9056" y="8"/>
                    </a:cubicBezTo>
                    <a:cubicBezTo>
                      <a:pt x="9056" y="4"/>
                      <a:pt x="9060" y="0"/>
                      <a:pt x="9064" y="0"/>
                    </a:cubicBezTo>
                    <a:lnTo>
                      <a:pt x="9064" y="0"/>
                    </a:lnTo>
                    <a:cubicBezTo>
                      <a:pt x="9069" y="0"/>
                      <a:pt x="9073" y="4"/>
                      <a:pt x="9073" y="8"/>
                    </a:cubicBezTo>
                    <a:cubicBezTo>
                      <a:pt x="9073" y="13"/>
                      <a:pt x="9069" y="16"/>
                      <a:pt x="9064" y="16"/>
                    </a:cubicBezTo>
                    <a:close/>
                    <a:moveTo>
                      <a:pt x="9031" y="16"/>
                    </a:moveTo>
                    <a:lnTo>
                      <a:pt x="9031" y="16"/>
                    </a:lnTo>
                    <a:cubicBezTo>
                      <a:pt x="9026" y="16"/>
                      <a:pt x="9023" y="13"/>
                      <a:pt x="9023" y="8"/>
                    </a:cubicBezTo>
                    <a:cubicBezTo>
                      <a:pt x="9023" y="4"/>
                      <a:pt x="9026" y="0"/>
                      <a:pt x="9031" y="0"/>
                    </a:cubicBezTo>
                    <a:lnTo>
                      <a:pt x="9031" y="0"/>
                    </a:lnTo>
                    <a:cubicBezTo>
                      <a:pt x="9036" y="0"/>
                      <a:pt x="9039" y="4"/>
                      <a:pt x="9039" y="8"/>
                    </a:cubicBezTo>
                    <a:cubicBezTo>
                      <a:pt x="9039" y="13"/>
                      <a:pt x="9036" y="16"/>
                      <a:pt x="9031" y="16"/>
                    </a:cubicBezTo>
                    <a:close/>
                    <a:moveTo>
                      <a:pt x="8998" y="16"/>
                    </a:moveTo>
                    <a:lnTo>
                      <a:pt x="8998" y="16"/>
                    </a:lnTo>
                    <a:cubicBezTo>
                      <a:pt x="8993" y="16"/>
                      <a:pt x="8989" y="13"/>
                      <a:pt x="8989" y="8"/>
                    </a:cubicBezTo>
                    <a:cubicBezTo>
                      <a:pt x="8989" y="4"/>
                      <a:pt x="8993" y="0"/>
                      <a:pt x="8998" y="0"/>
                    </a:cubicBezTo>
                    <a:lnTo>
                      <a:pt x="8998" y="0"/>
                    </a:lnTo>
                    <a:cubicBezTo>
                      <a:pt x="9002" y="0"/>
                      <a:pt x="9006" y="4"/>
                      <a:pt x="9006" y="8"/>
                    </a:cubicBezTo>
                    <a:cubicBezTo>
                      <a:pt x="9006" y="13"/>
                      <a:pt x="9002" y="16"/>
                      <a:pt x="8998" y="16"/>
                    </a:cubicBezTo>
                    <a:close/>
                    <a:moveTo>
                      <a:pt x="8964" y="16"/>
                    </a:moveTo>
                    <a:lnTo>
                      <a:pt x="8964" y="16"/>
                    </a:lnTo>
                    <a:cubicBezTo>
                      <a:pt x="8960" y="16"/>
                      <a:pt x="8956" y="13"/>
                      <a:pt x="8956" y="8"/>
                    </a:cubicBezTo>
                    <a:cubicBezTo>
                      <a:pt x="8956" y="4"/>
                      <a:pt x="8960" y="0"/>
                      <a:pt x="8964" y="0"/>
                    </a:cubicBezTo>
                    <a:lnTo>
                      <a:pt x="8964" y="0"/>
                    </a:lnTo>
                    <a:cubicBezTo>
                      <a:pt x="8969" y="0"/>
                      <a:pt x="8973" y="4"/>
                      <a:pt x="8973" y="8"/>
                    </a:cubicBezTo>
                    <a:cubicBezTo>
                      <a:pt x="8973" y="13"/>
                      <a:pt x="8969" y="16"/>
                      <a:pt x="8964" y="16"/>
                    </a:cubicBezTo>
                    <a:close/>
                    <a:moveTo>
                      <a:pt x="8931" y="16"/>
                    </a:moveTo>
                    <a:lnTo>
                      <a:pt x="8931" y="16"/>
                    </a:lnTo>
                    <a:cubicBezTo>
                      <a:pt x="8926" y="16"/>
                      <a:pt x="8923" y="13"/>
                      <a:pt x="8923" y="8"/>
                    </a:cubicBezTo>
                    <a:cubicBezTo>
                      <a:pt x="8923" y="4"/>
                      <a:pt x="8926" y="0"/>
                      <a:pt x="8931" y="0"/>
                    </a:cubicBezTo>
                    <a:lnTo>
                      <a:pt x="8931" y="0"/>
                    </a:lnTo>
                    <a:cubicBezTo>
                      <a:pt x="8936" y="0"/>
                      <a:pt x="8939" y="4"/>
                      <a:pt x="8939" y="8"/>
                    </a:cubicBezTo>
                    <a:cubicBezTo>
                      <a:pt x="8939" y="13"/>
                      <a:pt x="8936" y="16"/>
                      <a:pt x="8931" y="16"/>
                    </a:cubicBezTo>
                    <a:close/>
                    <a:moveTo>
                      <a:pt x="8898" y="16"/>
                    </a:moveTo>
                    <a:lnTo>
                      <a:pt x="8898" y="16"/>
                    </a:lnTo>
                    <a:cubicBezTo>
                      <a:pt x="8893" y="16"/>
                      <a:pt x="8889" y="13"/>
                      <a:pt x="8889" y="8"/>
                    </a:cubicBezTo>
                    <a:cubicBezTo>
                      <a:pt x="8889" y="4"/>
                      <a:pt x="8893" y="0"/>
                      <a:pt x="8898" y="0"/>
                    </a:cubicBezTo>
                    <a:lnTo>
                      <a:pt x="8898" y="0"/>
                    </a:lnTo>
                    <a:cubicBezTo>
                      <a:pt x="8902" y="0"/>
                      <a:pt x="8906" y="4"/>
                      <a:pt x="8906" y="8"/>
                    </a:cubicBezTo>
                    <a:cubicBezTo>
                      <a:pt x="8906" y="13"/>
                      <a:pt x="8902" y="16"/>
                      <a:pt x="8898" y="16"/>
                    </a:cubicBezTo>
                    <a:close/>
                    <a:moveTo>
                      <a:pt x="8864" y="16"/>
                    </a:moveTo>
                    <a:lnTo>
                      <a:pt x="8864" y="16"/>
                    </a:lnTo>
                    <a:cubicBezTo>
                      <a:pt x="8860" y="16"/>
                      <a:pt x="8856" y="13"/>
                      <a:pt x="8856" y="8"/>
                    </a:cubicBezTo>
                    <a:cubicBezTo>
                      <a:pt x="8856" y="4"/>
                      <a:pt x="8860" y="0"/>
                      <a:pt x="8864" y="0"/>
                    </a:cubicBezTo>
                    <a:lnTo>
                      <a:pt x="8864" y="0"/>
                    </a:lnTo>
                    <a:cubicBezTo>
                      <a:pt x="8869" y="0"/>
                      <a:pt x="8873" y="4"/>
                      <a:pt x="8873" y="8"/>
                    </a:cubicBezTo>
                    <a:cubicBezTo>
                      <a:pt x="8873" y="13"/>
                      <a:pt x="8869" y="16"/>
                      <a:pt x="8864" y="16"/>
                    </a:cubicBezTo>
                    <a:close/>
                    <a:moveTo>
                      <a:pt x="8831" y="16"/>
                    </a:moveTo>
                    <a:lnTo>
                      <a:pt x="8831" y="16"/>
                    </a:lnTo>
                    <a:cubicBezTo>
                      <a:pt x="8826" y="16"/>
                      <a:pt x="8822" y="13"/>
                      <a:pt x="8822" y="8"/>
                    </a:cubicBezTo>
                    <a:cubicBezTo>
                      <a:pt x="8822" y="4"/>
                      <a:pt x="8826" y="0"/>
                      <a:pt x="8831" y="0"/>
                    </a:cubicBezTo>
                    <a:lnTo>
                      <a:pt x="8831" y="0"/>
                    </a:lnTo>
                    <a:cubicBezTo>
                      <a:pt x="8835" y="0"/>
                      <a:pt x="8839" y="4"/>
                      <a:pt x="8839" y="8"/>
                    </a:cubicBezTo>
                    <a:cubicBezTo>
                      <a:pt x="8839" y="13"/>
                      <a:pt x="8835" y="16"/>
                      <a:pt x="8831" y="16"/>
                    </a:cubicBezTo>
                    <a:close/>
                    <a:moveTo>
                      <a:pt x="8797" y="16"/>
                    </a:moveTo>
                    <a:lnTo>
                      <a:pt x="8797" y="16"/>
                    </a:lnTo>
                    <a:cubicBezTo>
                      <a:pt x="8793" y="16"/>
                      <a:pt x="8789" y="13"/>
                      <a:pt x="8789" y="8"/>
                    </a:cubicBezTo>
                    <a:cubicBezTo>
                      <a:pt x="8789" y="4"/>
                      <a:pt x="8793" y="0"/>
                      <a:pt x="8797" y="0"/>
                    </a:cubicBezTo>
                    <a:lnTo>
                      <a:pt x="8797" y="0"/>
                    </a:lnTo>
                    <a:cubicBezTo>
                      <a:pt x="8802" y="0"/>
                      <a:pt x="8806" y="4"/>
                      <a:pt x="8806" y="8"/>
                    </a:cubicBezTo>
                    <a:cubicBezTo>
                      <a:pt x="8806" y="13"/>
                      <a:pt x="8802" y="16"/>
                      <a:pt x="8797" y="16"/>
                    </a:cubicBezTo>
                    <a:close/>
                    <a:moveTo>
                      <a:pt x="8764" y="16"/>
                    </a:moveTo>
                    <a:lnTo>
                      <a:pt x="8764" y="16"/>
                    </a:lnTo>
                    <a:cubicBezTo>
                      <a:pt x="8760" y="16"/>
                      <a:pt x="8756" y="13"/>
                      <a:pt x="8756" y="8"/>
                    </a:cubicBezTo>
                    <a:cubicBezTo>
                      <a:pt x="8756" y="4"/>
                      <a:pt x="8760" y="0"/>
                      <a:pt x="8764" y="0"/>
                    </a:cubicBezTo>
                    <a:lnTo>
                      <a:pt x="8764" y="0"/>
                    </a:lnTo>
                    <a:cubicBezTo>
                      <a:pt x="8769" y="0"/>
                      <a:pt x="8772" y="4"/>
                      <a:pt x="8772" y="8"/>
                    </a:cubicBezTo>
                    <a:cubicBezTo>
                      <a:pt x="8772" y="13"/>
                      <a:pt x="8769" y="16"/>
                      <a:pt x="8764" y="16"/>
                    </a:cubicBezTo>
                    <a:close/>
                    <a:moveTo>
                      <a:pt x="8731" y="16"/>
                    </a:moveTo>
                    <a:lnTo>
                      <a:pt x="8731" y="16"/>
                    </a:lnTo>
                    <a:cubicBezTo>
                      <a:pt x="8726" y="16"/>
                      <a:pt x="8722" y="13"/>
                      <a:pt x="8722" y="8"/>
                    </a:cubicBezTo>
                    <a:cubicBezTo>
                      <a:pt x="8722" y="4"/>
                      <a:pt x="8726" y="0"/>
                      <a:pt x="8731" y="0"/>
                    </a:cubicBezTo>
                    <a:lnTo>
                      <a:pt x="8731" y="0"/>
                    </a:lnTo>
                    <a:cubicBezTo>
                      <a:pt x="8735" y="0"/>
                      <a:pt x="8739" y="4"/>
                      <a:pt x="8739" y="8"/>
                    </a:cubicBezTo>
                    <a:cubicBezTo>
                      <a:pt x="8739" y="13"/>
                      <a:pt x="8735" y="16"/>
                      <a:pt x="8731" y="16"/>
                    </a:cubicBezTo>
                    <a:close/>
                    <a:moveTo>
                      <a:pt x="8697" y="16"/>
                    </a:moveTo>
                    <a:lnTo>
                      <a:pt x="8697" y="16"/>
                    </a:lnTo>
                    <a:cubicBezTo>
                      <a:pt x="8693" y="16"/>
                      <a:pt x="8689" y="13"/>
                      <a:pt x="8689" y="8"/>
                    </a:cubicBezTo>
                    <a:cubicBezTo>
                      <a:pt x="8689" y="4"/>
                      <a:pt x="8693" y="0"/>
                      <a:pt x="8697" y="0"/>
                    </a:cubicBezTo>
                    <a:lnTo>
                      <a:pt x="8697" y="0"/>
                    </a:lnTo>
                    <a:cubicBezTo>
                      <a:pt x="8702" y="0"/>
                      <a:pt x="8706" y="4"/>
                      <a:pt x="8706" y="8"/>
                    </a:cubicBezTo>
                    <a:cubicBezTo>
                      <a:pt x="8706" y="13"/>
                      <a:pt x="8702" y="16"/>
                      <a:pt x="8697" y="16"/>
                    </a:cubicBezTo>
                    <a:close/>
                    <a:moveTo>
                      <a:pt x="8664" y="16"/>
                    </a:moveTo>
                    <a:lnTo>
                      <a:pt x="8664" y="16"/>
                    </a:lnTo>
                    <a:cubicBezTo>
                      <a:pt x="8659" y="16"/>
                      <a:pt x="8656" y="13"/>
                      <a:pt x="8656" y="8"/>
                    </a:cubicBezTo>
                    <a:cubicBezTo>
                      <a:pt x="8656" y="4"/>
                      <a:pt x="8659" y="0"/>
                      <a:pt x="8664" y="0"/>
                    </a:cubicBezTo>
                    <a:lnTo>
                      <a:pt x="8664" y="0"/>
                    </a:lnTo>
                    <a:cubicBezTo>
                      <a:pt x="8669" y="0"/>
                      <a:pt x="8672" y="4"/>
                      <a:pt x="8672" y="8"/>
                    </a:cubicBezTo>
                    <a:cubicBezTo>
                      <a:pt x="8672" y="13"/>
                      <a:pt x="8669" y="16"/>
                      <a:pt x="8664" y="16"/>
                    </a:cubicBezTo>
                    <a:close/>
                    <a:moveTo>
                      <a:pt x="8631" y="16"/>
                    </a:moveTo>
                    <a:lnTo>
                      <a:pt x="8631" y="16"/>
                    </a:lnTo>
                    <a:cubicBezTo>
                      <a:pt x="8626" y="16"/>
                      <a:pt x="8622" y="13"/>
                      <a:pt x="8622" y="8"/>
                    </a:cubicBezTo>
                    <a:cubicBezTo>
                      <a:pt x="8622" y="4"/>
                      <a:pt x="8626" y="0"/>
                      <a:pt x="8631" y="0"/>
                    </a:cubicBezTo>
                    <a:lnTo>
                      <a:pt x="8631" y="0"/>
                    </a:lnTo>
                    <a:cubicBezTo>
                      <a:pt x="8635" y="0"/>
                      <a:pt x="8639" y="4"/>
                      <a:pt x="8639" y="8"/>
                    </a:cubicBezTo>
                    <a:cubicBezTo>
                      <a:pt x="8639" y="13"/>
                      <a:pt x="8635" y="16"/>
                      <a:pt x="8631" y="16"/>
                    </a:cubicBezTo>
                    <a:close/>
                    <a:moveTo>
                      <a:pt x="8597" y="16"/>
                    </a:moveTo>
                    <a:lnTo>
                      <a:pt x="8597" y="16"/>
                    </a:lnTo>
                    <a:cubicBezTo>
                      <a:pt x="8593" y="16"/>
                      <a:pt x="8589" y="13"/>
                      <a:pt x="8589" y="8"/>
                    </a:cubicBezTo>
                    <a:cubicBezTo>
                      <a:pt x="8589" y="4"/>
                      <a:pt x="8593" y="0"/>
                      <a:pt x="8597" y="0"/>
                    </a:cubicBezTo>
                    <a:lnTo>
                      <a:pt x="8597" y="0"/>
                    </a:lnTo>
                    <a:cubicBezTo>
                      <a:pt x="8602" y="0"/>
                      <a:pt x="8606" y="4"/>
                      <a:pt x="8606" y="8"/>
                    </a:cubicBezTo>
                    <a:cubicBezTo>
                      <a:pt x="8606" y="13"/>
                      <a:pt x="8602" y="16"/>
                      <a:pt x="8597" y="16"/>
                    </a:cubicBezTo>
                    <a:close/>
                    <a:moveTo>
                      <a:pt x="8564" y="16"/>
                    </a:moveTo>
                    <a:lnTo>
                      <a:pt x="8564" y="16"/>
                    </a:lnTo>
                    <a:cubicBezTo>
                      <a:pt x="8559" y="16"/>
                      <a:pt x="8556" y="13"/>
                      <a:pt x="8556" y="8"/>
                    </a:cubicBezTo>
                    <a:cubicBezTo>
                      <a:pt x="8556" y="4"/>
                      <a:pt x="8559" y="0"/>
                      <a:pt x="8564" y="0"/>
                    </a:cubicBezTo>
                    <a:lnTo>
                      <a:pt x="8564" y="0"/>
                    </a:lnTo>
                    <a:cubicBezTo>
                      <a:pt x="8569" y="0"/>
                      <a:pt x="8572" y="4"/>
                      <a:pt x="8572" y="8"/>
                    </a:cubicBezTo>
                    <a:cubicBezTo>
                      <a:pt x="8572" y="13"/>
                      <a:pt x="8569" y="16"/>
                      <a:pt x="8564" y="16"/>
                    </a:cubicBezTo>
                    <a:close/>
                    <a:moveTo>
                      <a:pt x="8531" y="16"/>
                    </a:moveTo>
                    <a:lnTo>
                      <a:pt x="8531" y="16"/>
                    </a:lnTo>
                    <a:cubicBezTo>
                      <a:pt x="8526" y="16"/>
                      <a:pt x="8522" y="13"/>
                      <a:pt x="8522" y="8"/>
                    </a:cubicBezTo>
                    <a:cubicBezTo>
                      <a:pt x="8522" y="4"/>
                      <a:pt x="8526" y="0"/>
                      <a:pt x="8531" y="0"/>
                    </a:cubicBezTo>
                    <a:lnTo>
                      <a:pt x="8531" y="0"/>
                    </a:lnTo>
                    <a:cubicBezTo>
                      <a:pt x="8535" y="0"/>
                      <a:pt x="8539" y="4"/>
                      <a:pt x="8539" y="8"/>
                    </a:cubicBezTo>
                    <a:cubicBezTo>
                      <a:pt x="8539" y="13"/>
                      <a:pt x="8535" y="16"/>
                      <a:pt x="8531" y="16"/>
                    </a:cubicBezTo>
                    <a:close/>
                    <a:moveTo>
                      <a:pt x="8497" y="16"/>
                    </a:moveTo>
                    <a:lnTo>
                      <a:pt x="8497" y="16"/>
                    </a:lnTo>
                    <a:cubicBezTo>
                      <a:pt x="8493" y="16"/>
                      <a:pt x="8489" y="13"/>
                      <a:pt x="8489" y="8"/>
                    </a:cubicBezTo>
                    <a:cubicBezTo>
                      <a:pt x="8489" y="4"/>
                      <a:pt x="8493" y="0"/>
                      <a:pt x="8497" y="0"/>
                    </a:cubicBezTo>
                    <a:lnTo>
                      <a:pt x="8497" y="0"/>
                    </a:lnTo>
                    <a:cubicBezTo>
                      <a:pt x="8502" y="0"/>
                      <a:pt x="8506" y="4"/>
                      <a:pt x="8506" y="8"/>
                    </a:cubicBezTo>
                    <a:cubicBezTo>
                      <a:pt x="8506" y="13"/>
                      <a:pt x="8502" y="16"/>
                      <a:pt x="8497" y="16"/>
                    </a:cubicBezTo>
                    <a:close/>
                    <a:moveTo>
                      <a:pt x="8464" y="16"/>
                    </a:moveTo>
                    <a:lnTo>
                      <a:pt x="8464" y="16"/>
                    </a:lnTo>
                    <a:cubicBezTo>
                      <a:pt x="8459" y="16"/>
                      <a:pt x="8456" y="13"/>
                      <a:pt x="8456" y="8"/>
                    </a:cubicBezTo>
                    <a:cubicBezTo>
                      <a:pt x="8456" y="4"/>
                      <a:pt x="8459" y="0"/>
                      <a:pt x="8464" y="0"/>
                    </a:cubicBezTo>
                    <a:lnTo>
                      <a:pt x="8464" y="0"/>
                    </a:lnTo>
                    <a:cubicBezTo>
                      <a:pt x="8469" y="0"/>
                      <a:pt x="8472" y="4"/>
                      <a:pt x="8472" y="8"/>
                    </a:cubicBezTo>
                    <a:cubicBezTo>
                      <a:pt x="8472" y="13"/>
                      <a:pt x="8469" y="16"/>
                      <a:pt x="8464" y="16"/>
                    </a:cubicBezTo>
                    <a:close/>
                    <a:moveTo>
                      <a:pt x="8431" y="16"/>
                    </a:moveTo>
                    <a:lnTo>
                      <a:pt x="8431" y="16"/>
                    </a:lnTo>
                    <a:cubicBezTo>
                      <a:pt x="8426" y="16"/>
                      <a:pt x="8422" y="13"/>
                      <a:pt x="8422" y="8"/>
                    </a:cubicBezTo>
                    <a:cubicBezTo>
                      <a:pt x="8422" y="4"/>
                      <a:pt x="8426" y="0"/>
                      <a:pt x="8431" y="0"/>
                    </a:cubicBezTo>
                    <a:lnTo>
                      <a:pt x="8431" y="0"/>
                    </a:lnTo>
                    <a:cubicBezTo>
                      <a:pt x="8435" y="0"/>
                      <a:pt x="8439" y="4"/>
                      <a:pt x="8439" y="8"/>
                    </a:cubicBezTo>
                    <a:cubicBezTo>
                      <a:pt x="8439" y="13"/>
                      <a:pt x="8435" y="16"/>
                      <a:pt x="8431" y="16"/>
                    </a:cubicBezTo>
                    <a:close/>
                    <a:moveTo>
                      <a:pt x="8397" y="16"/>
                    </a:moveTo>
                    <a:lnTo>
                      <a:pt x="8397" y="16"/>
                    </a:lnTo>
                    <a:cubicBezTo>
                      <a:pt x="8393" y="16"/>
                      <a:pt x="8389" y="13"/>
                      <a:pt x="8389" y="8"/>
                    </a:cubicBezTo>
                    <a:cubicBezTo>
                      <a:pt x="8389" y="4"/>
                      <a:pt x="8393" y="0"/>
                      <a:pt x="8397" y="0"/>
                    </a:cubicBezTo>
                    <a:lnTo>
                      <a:pt x="8397" y="0"/>
                    </a:lnTo>
                    <a:cubicBezTo>
                      <a:pt x="8402" y="0"/>
                      <a:pt x="8406" y="4"/>
                      <a:pt x="8406" y="8"/>
                    </a:cubicBezTo>
                    <a:cubicBezTo>
                      <a:pt x="8406" y="13"/>
                      <a:pt x="8402" y="16"/>
                      <a:pt x="8397" y="16"/>
                    </a:cubicBezTo>
                    <a:close/>
                    <a:moveTo>
                      <a:pt x="8364" y="16"/>
                    </a:moveTo>
                    <a:lnTo>
                      <a:pt x="8364" y="16"/>
                    </a:lnTo>
                    <a:cubicBezTo>
                      <a:pt x="8359" y="16"/>
                      <a:pt x="8356" y="13"/>
                      <a:pt x="8356" y="8"/>
                    </a:cubicBezTo>
                    <a:cubicBezTo>
                      <a:pt x="8356" y="4"/>
                      <a:pt x="8359" y="0"/>
                      <a:pt x="8364" y="0"/>
                    </a:cubicBezTo>
                    <a:lnTo>
                      <a:pt x="8364" y="0"/>
                    </a:lnTo>
                    <a:cubicBezTo>
                      <a:pt x="8369" y="0"/>
                      <a:pt x="8372" y="4"/>
                      <a:pt x="8372" y="8"/>
                    </a:cubicBezTo>
                    <a:cubicBezTo>
                      <a:pt x="8372" y="13"/>
                      <a:pt x="8369" y="16"/>
                      <a:pt x="8364" y="16"/>
                    </a:cubicBezTo>
                    <a:close/>
                    <a:moveTo>
                      <a:pt x="8331" y="16"/>
                    </a:moveTo>
                    <a:lnTo>
                      <a:pt x="8331" y="16"/>
                    </a:lnTo>
                    <a:cubicBezTo>
                      <a:pt x="8326" y="16"/>
                      <a:pt x="8322" y="13"/>
                      <a:pt x="8322" y="8"/>
                    </a:cubicBezTo>
                    <a:cubicBezTo>
                      <a:pt x="8322" y="4"/>
                      <a:pt x="8326" y="0"/>
                      <a:pt x="8331" y="0"/>
                    </a:cubicBezTo>
                    <a:lnTo>
                      <a:pt x="8331" y="0"/>
                    </a:lnTo>
                    <a:cubicBezTo>
                      <a:pt x="8335" y="0"/>
                      <a:pt x="8339" y="4"/>
                      <a:pt x="8339" y="8"/>
                    </a:cubicBezTo>
                    <a:cubicBezTo>
                      <a:pt x="8339" y="13"/>
                      <a:pt x="8335" y="16"/>
                      <a:pt x="8331" y="16"/>
                    </a:cubicBezTo>
                    <a:close/>
                    <a:moveTo>
                      <a:pt x="8297" y="16"/>
                    </a:moveTo>
                    <a:lnTo>
                      <a:pt x="8297" y="16"/>
                    </a:lnTo>
                    <a:cubicBezTo>
                      <a:pt x="8293" y="16"/>
                      <a:pt x="8289" y="13"/>
                      <a:pt x="8289" y="8"/>
                    </a:cubicBezTo>
                    <a:cubicBezTo>
                      <a:pt x="8289" y="4"/>
                      <a:pt x="8293" y="0"/>
                      <a:pt x="8297" y="0"/>
                    </a:cubicBezTo>
                    <a:lnTo>
                      <a:pt x="8297" y="0"/>
                    </a:lnTo>
                    <a:cubicBezTo>
                      <a:pt x="8302" y="0"/>
                      <a:pt x="8306" y="4"/>
                      <a:pt x="8306" y="8"/>
                    </a:cubicBezTo>
                    <a:cubicBezTo>
                      <a:pt x="8306" y="13"/>
                      <a:pt x="8302" y="16"/>
                      <a:pt x="8297" y="16"/>
                    </a:cubicBezTo>
                    <a:close/>
                    <a:moveTo>
                      <a:pt x="8264" y="16"/>
                    </a:moveTo>
                    <a:lnTo>
                      <a:pt x="8264" y="16"/>
                    </a:lnTo>
                    <a:cubicBezTo>
                      <a:pt x="8259" y="16"/>
                      <a:pt x="8256" y="13"/>
                      <a:pt x="8256" y="8"/>
                    </a:cubicBezTo>
                    <a:cubicBezTo>
                      <a:pt x="8256" y="4"/>
                      <a:pt x="8259" y="0"/>
                      <a:pt x="8264" y="0"/>
                    </a:cubicBezTo>
                    <a:lnTo>
                      <a:pt x="8264" y="0"/>
                    </a:lnTo>
                    <a:cubicBezTo>
                      <a:pt x="8268" y="0"/>
                      <a:pt x="8272" y="4"/>
                      <a:pt x="8272" y="8"/>
                    </a:cubicBezTo>
                    <a:cubicBezTo>
                      <a:pt x="8272" y="13"/>
                      <a:pt x="8268" y="16"/>
                      <a:pt x="8264" y="16"/>
                    </a:cubicBezTo>
                    <a:close/>
                    <a:moveTo>
                      <a:pt x="8231" y="16"/>
                    </a:moveTo>
                    <a:lnTo>
                      <a:pt x="8231" y="16"/>
                    </a:lnTo>
                    <a:cubicBezTo>
                      <a:pt x="8226" y="16"/>
                      <a:pt x="8222" y="13"/>
                      <a:pt x="8222" y="8"/>
                    </a:cubicBezTo>
                    <a:cubicBezTo>
                      <a:pt x="8222" y="4"/>
                      <a:pt x="8226" y="0"/>
                      <a:pt x="8231" y="0"/>
                    </a:cubicBezTo>
                    <a:lnTo>
                      <a:pt x="8231" y="0"/>
                    </a:lnTo>
                    <a:cubicBezTo>
                      <a:pt x="8235" y="0"/>
                      <a:pt x="8239" y="4"/>
                      <a:pt x="8239" y="8"/>
                    </a:cubicBezTo>
                    <a:cubicBezTo>
                      <a:pt x="8239" y="13"/>
                      <a:pt x="8235" y="16"/>
                      <a:pt x="8231" y="16"/>
                    </a:cubicBezTo>
                    <a:close/>
                    <a:moveTo>
                      <a:pt x="8197" y="16"/>
                    </a:moveTo>
                    <a:lnTo>
                      <a:pt x="8197" y="16"/>
                    </a:lnTo>
                    <a:cubicBezTo>
                      <a:pt x="8193" y="16"/>
                      <a:pt x="8189" y="13"/>
                      <a:pt x="8189" y="8"/>
                    </a:cubicBezTo>
                    <a:cubicBezTo>
                      <a:pt x="8189" y="4"/>
                      <a:pt x="8193" y="0"/>
                      <a:pt x="8197" y="0"/>
                    </a:cubicBezTo>
                    <a:lnTo>
                      <a:pt x="8197" y="0"/>
                    </a:lnTo>
                    <a:cubicBezTo>
                      <a:pt x="8202" y="0"/>
                      <a:pt x="8206" y="4"/>
                      <a:pt x="8206" y="8"/>
                    </a:cubicBezTo>
                    <a:cubicBezTo>
                      <a:pt x="8206" y="13"/>
                      <a:pt x="8202" y="16"/>
                      <a:pt x="8197" y="16"/>
                    </a:cubicBezTo>
                    <a:close/>
                    <a:moveTo>
                      <a:pt x="8164" y="16"/>
                    </a:moveTo>
                    <a:lnTo>
                      <a:pt x="8164" y="16"/>
                    </a:lnTo>
                    <a:cubicBezTo>
                      <a:pt x="8159" y="16"/>
                      <a:pt x="8155" y="13"/>
                      <a:pt x="8155" y="8"/>
                    </a:cubicBezTo>
                    <a:cubicBezTo>
                      <a:pt x="8155" y="4"/>
                      <a:pt x="8159" y="0"/>
                      <a:pt x="8164" y="0"/>
                    </a:cubicBezTo>
                    <a:lnTo>
                      <a:pt x="8164" y="0"/>
                    </a:lnTo>
                    <a:cubicBezTo>
                      <a:pt x="8168" y="0"/>
                      <a:pt x="8172" y="4"/>
                      <a:pt x="8172" y="8"/>
                    </a:cubicBezTo>
                    <a:cubicBezTo>
                      <a:pt x="8172" y="13"/>
                      <a:pt x="8168" y="16"/>
                      <a:pt x="8164" y="16"/>
                    </a:cubicBezTo>
                    <a:close/>
                    <a:moveTo>
                      <a:pt x="8130" y="16"/>
                    </a:moveTo>
                    <a:lnTo>
                      <a:pt x="8130" y="16"/>
                    </a:lnTo>
                    <a:cubicBezTo>
                      <a:pt x="8126" y="16"/>
                      <a:pt x="8122" y="13"/>
                      <a:pt x="8122" y="8"/>
                    </a:cubicBezTo>
                    <a:cubicBezTo>
                      <a:pt x="8122" y="4"/>
                      <a:pt x="8126" y="0"/>
                      <a:pt x="8130" y="0"/>
                    </a:cubicBezTo>
                    <a:lnTo>
                      <a:pt x="8130" y="0"/>
                    </a:lnTo>
                    <a:cubicBezTo>
                      <a:pt x="8135" y="0"/>
                      <a:pt x="8139" y="4"/>
                      <a:pt x="8139" y="8"/>
                    </a:cubicBezTo>
                    <a:cubicBezTo>
                      <a:pt x="8139" y="13"/>
                      <a:pt x="8135" y="16"/>
                      <a:pt x="8130" y="16"/>
                    </a:cubicBezTo>
                    <a:close/>
                    <a:moveTo>
                      <a:pt x="8097" y="16"/>
                    </a:moveTo>
                    <a:lnTo>
                      <a:pt x="8097" y="16"/>
                    </a:lnTo>
                    <a:cubicBezTo>
                      <a:pt x="8092" y="16"/>
                      <a:pt x="8089" y="13"/>
                      <a:pt x="8089" y="8"/>
                    </a:cubicBezTo>
                    <a:cubicBezTo>
                      <a:pt x="8089" y="4"/>
                      <a:pt x="8092" y="0"/>
                      <a:pt x="8097" y="0"/>
                    </a:cubicBezTo>
                    <a:lnTo>
                      <a:pt x="8097" y="0"/>
                    </a:lnTo>
                    <a:cubicBezTo>
                      <a:pt x="8102" y="0"/>
                      <a:pt x="8105" y="4"/>
                      <a:pt x="8105" y="8"/>
                    </a:cubicBezTo>
                    <a:cubicBezTo>
                      <a:pt x="8105" y="13"/>
                      <a:pt x="8102" y="16"/>
                      <a:pt x="8097" y="16"/>
                    </a:cubicBezTo>
                    <a:close/>
                    <a:moveTo>
                      <a:pt x="8064" y="16"/>
                    </a:moveTo>
                    <a:lnTo>
                      <a:pt x="8064" y="16"/>
                    </a:lnTo>
                    <a:cubicBezTo>
                      <a:pt x="8059" y="16"/>
                      <a:pt x="8055" y="13"/>
                      <a:pt x="8055" y="8"/>
                    </a:cubicBezTo>
                    <a:cubicBezTo>
                      <a:pt x="8055" y="4"/>
                      <a:pt x="8059" y="0"/>
                      <a:pt x="8064" y="0"/>
                    </a:cubicBezTo>
                    <a:lnTo>
                      <a:pt x="8064" y="0"/>
                    </a:lnTo>
                    <a:cubicBezTo>
                      <a:pt x="8068" y="0"/>
                      <a:pt x="8072" y="4"/>
                      <a:pt x="8072" y="8"/>
                    </a:cubicBezTo>
                    <a:cubicBezTo>
                      <a:pt x="8072" y="13"/>
                      <a:pt x="8068" y="16"/>
                      <a:pt x="8064" y="16"/>
                    </a:cubicBezTo>
                    <a:close/>
                    <a:moveTo>
                      <a:pt x="8030" y="16"/>
                    </a:moveTo>
                    <a:lnTo>
                      <a:pt x="8030" y="16"/>
                    </a:lnTo>
                    <a:cubicBezTo>
                      <a:pt x="8026" y="16"/>
                      <a:pt x="8022" y="13"/>
                      <a:pt x="8022" y="8"/>
                    </a:cubicBezTo>
                    <a:cubicBezTo>
                      <a:pt x="8022" y="4"/>
                      <a:pt x="8026" y="0"/>
                      <a:pt x="8030" y="0"/>
                    </a:cubicBezTo>
                    <a:lnTo>
                      <a:pt x="8030" y="0"/>
                    </a:lnTo>
                    <a:cubicBezTo>
                      <a:pt x="8035" y="0"/>
                      <a:pt x="8039" y="4"/>
                      <a:pt x="8039" y="8"/>
                    </a:cubicBezTo>
                    <a:cubicBezTo>
                      <a:pt x="8039" y="13"/>
                      <a:pt x="8035" y="16"/>
                      <a:pt x="8030" y="16"/>
                    </a:cubicBezTo>
                    <a:close/>
                    <a:moveTo>
                      <a:pt x="7997" y="16"/>
                    </a:moveTo>
                    <a:lnTo>
                      <a:pt x="7997" y="16"/>
                    </a:lnTo>
                    <a:cubicBezTo>
                      <a:pt x="7992" y="16"/>
                      <a:pt x="7989" y="13"/>
                      <a:pt x="7989" y="8"/>
                    </a:cubicBezTo>
                    <a:cubicBezTo>
                      <a:pt x="7989" y="4"/>
                      <a:pt x="7992" y="0"/>
                      <a:pt x="7997" y="0"/>
                    </a:cubicBezTo>
                    <a:lnTo>
                      <a:pt x="7997" y="0"/>
                    </a:lnTo>
                    <a:cubicBezTo>
                      <a:pt x="8002" y="0"/>
                      <a:pt x="8005" y="4"/>
                      <a:pt x="8005" y="8"/>
                    </a:cubicBezTo>
                    <a:cubicBezTo>
                      <a:pt x="8005" y="13"/>
                      <a:pt x="8002" y="16"/>
                      <a:pt x="7997" y="16"/>
                    </a:cubicBezTo>
                    <a:close/>
                    <a:moveTo>
                      <a:pt x="7964" y="16"/>
                    </a:moveTo>
                    <a:lnTo>
                      <a:pt x="7964" y="16"/>
                    </a:lnTo>
                    <a:cubicBezTo>
                      <a:pt x="7959" y="16"/>
                      <a:pt x="7955" y="13"/>
                      <a:pt x="7955" y="8"/>
                    </a:cubicBezTo>
                    <a:cubicBezTo>
                      <a:pt x="7955" y="4"/>
                      <a:pt x="7959" y="0"/>
                      <a:pt x="7964" y="0"/>
                    </a:cubicBezTo>
                    <a:lnTo>
                      <a:pt x="7964" y="0"/>
                    </a:lnTo>
                    <a:cubicBezTo>
                      <a:pt x="7968" y="0"/>
                      <a:pt x="7972" y="4"/>
                      <a:pt x="7972" y="8"/>
                    </a:cubicBezTo>
                    <a:cubicBezTo>
                      <a:pt x="7972" y="13"/>
                      <a:pt x="7968" y="16"/>
                      <a:pt x="7964" y="16"/>
                    </a:cubicBezTo>
                    <a:close/>
                    <a:moveTo>
                      <a:pt x="7930" y="16"/>
                    </a:moveTo>
                    <a:lnTo>
                      <a:pt x="7930" y="16"/>
                    </a:lnTo>
                    <a:cubicBezTo>
                      <a:pt x="7926" y="16"/>
                      <a:pt x="7922" y="13"/>
                      <a:pt x="7922" y="8"/>
                    </a:cubicBezTo>
                    <a:cubicBezTo>
                      <a:pt x="7922" y="4"/>
                      <a:pt x="7926" y="0"/>
                      <a:pt x="7930" y="0"/>
                    </a:cubicBezTo>
                    <a:lnTo>
                      <a:pt x="7930" y="0"/>
                    </a:lnTo>
                    <a:cubicBezTo>
                      <a:pt x="7935" y="0"/>
                      <a:pt x="7939" y="4"/>
                      <a:pt x="7939" y="8"/>
                    </a:cubicBezTo>
                    <a:cubicBezTo>
                      <a:pt x="7939" y="13"/>
                      <a:pt x="7935" y="16"/>
                      <a:pt x="7930" y="16"/>
                    </a:cubicBezTo>
                    <a:close/>
                    <a:moveTo>
                      <a:pt x="7897" y="16"/>
                    </a:moveTo>
                    <a:lnTo>
                      <a:pt x="7897" y="16"/>
                    </a:lnTo>
                    <a:cubicBezTo>
                      <a:pt x="7892" y="16"/>
                      <a:pt x="7889" y="13"/>
                      <a:pt x="7889" y="8"/>
                    </a:cubicBezTo>
                    <a:cubicBezTo>
                      <a:pt x="7889" y="4"/>
                      <a:pt x="7892" y="0"/>
                      <a:pt x="7897" y="0"/>
                    </a:cubicBezTo>
                    <a:lnTo>
                      <a:pt x="7897" y="0"/>
                    </a:lnTo>
                    <a:cubicBezTo>
                      <a:pt x="7902" y="0"/>
                      <a:pt x="7905" y="4"/>
                      <a:pt x="7905" y="8"/>
                    </a:cubicBezTo>
                    <a:cubicBezTo>
                      <a:pt x="7905" y="13"/>
                      <a:pt x="7902" y="16"/>
                      <a:pt x="7897" y="16"/>
                    </a:cubicBezTo>
                    <a:close/>
                    <a:moveTo>
                      <a:pt x="7864" y="16"/>
                    </a:moveTo>
                    <a:lnTo>
                      <a:pt x="7864" y="16"/>
                    </a:lnTo>
                    <a:cubicBezTo>
                      <a:pt x="7859" y="16"/>
                      <a:pt x="7855" y="13"/>
                      <a:pt x="7855" y="8"/>
                    </a:cubicBezTo>
                    <a:cubicBezTo>
                      <a:pt x="7855" y="4"/>
                      <a:pt x="7859" y="0"/>
                      <a:pt x="7864" y="0"/>
                    </a:cubicBezTo>
                    <a:lnTo>
                      <a:pt x="7864" y="0"/>
                    </a:lnTo>
                    <a:cubicBezTo>
                      <a:pt x="7868" y="0"/>
                      <a:pt x="7872" y="4"/>
                      <a:pt x="7872" y="8"/>
                    </a:cubicBezTo>
                    <a:cubicBezTo>
                      <a:pt x="7872" y="13"/>
                      <a:pt x="7868" y="16"/>
                      <a:pt x="7864" y="16"/>
                    </a:cubicBezTo>
                    <a:close/>
                    <a:moveTo>
                      <a:pt x="7830" y="16"/>
                    </a:moveTo>
                    <a:lnTo>
                      <a:pt x="7830" y="16"/>
                    </a:lnTo>
                    <a:cubicBezTo>
                      <a:pt x="7826" y="16"/>
                      <a:pt x="7822" y="13"/>
                      <a:pt x="7822" y="8"/>
                    </a:cubicBezTo>
                    <a:cubicBezTo>
                      <a:pt x="7822" y="4"/>
                      <a:pt x="7826" y="0"/>
                      <a:pt x="7830" y="0"/>
                    </a:cubicBezTo>
                    <a:lnTo>
                      <a:pt x="7830" y="0"/>
                    </a:lnTo>
                    <a:cubicBezTo>
                      <a:pt x="7835" y="0"/>
                      <a:pt x="7839" y="4"/>
                      <a:pt x="7839" y="8"/>
                    </a:cubicBezTo>
                    <a:cubicBezTo>
                      <a:pt x="7839" y="13"/>
                      <a:pt x="7835" y="16"/>
                      <a:pt x="7830" y="16"/>
                    </a:cubicBezTo>
                    <a:close/>
                    <a:moveTo>
                      <a:pt x="7797" y="16"/>
                    </a:moveTo>
                    <a:lnTo>
                      <a:pt x="7797" y="16"/>
                    </a:lnTo>
                    <a:cubicBezTo>
                      <a:pt x="7792" y="16"/>
                      <a:pt x="7789" y="13"/>
                      <a:pt x="7789" y="8"/>
                    </a:cubicBezTo>
                    <a:cubicBezTo>
                      <a:pt x="7789" y="4"/>
                      <a:pt x="7792" y="0"/>
                      <a:pt x="7797" y="0"/>
                    </a:cubicBezTo>
                    <a:lnTo>
                      <a:pt x="7797" y="0"/>
                    </a:lnTo>
                    <a:cubicBezTo>
                      <a:pt x="7802" y="0"/>
                      <a:pt x="7805" y="4"/>
                      <a:pt x="7805" y="8"/>
                    </a:cubicBezTo>
                    <a:cubicBezTo>
                      <a:pt x="7805" y="13"/>
                      <a:pt x="7802" y="16"/>
                      <a:pt x="7797" y="16"/>
                    </a:cubicBezTo>
                    <a:close/>
                    <a:moveTo>
                      <a:pt x="7764" y="16"/>
                    </a:moveTo>
                    <a:lnTo>
                      <a:pt x="7764" y="16"/>
                    </a:lnTo>
                    <a:cubicBezTo>
                      <a:pt x="7759" y="16"/>
                      <a:pt x="7755" y="13"/>
                      <a:pt x="7755" y="8"/>
                    </a:cubicBezTo>
                    <a:cubicBezTo>
                      <a:pt x="7755" y="4"/>
                      <a:pt x="7759" y="0"/>
                      <a:pt x="7764" y="0"/>
                    </a:cubicBezTo>
                    <a:lnTo>
                      <a:pt x="7764" y="0"/>
                    </a:lnTo>
                    <a:cubicBezTo>
                      <a:pt x="7768" y="0"/>
                      <a:pt x="7772" y="4"/>
                      <a:pt x="7772" y="8"/>
                    </a:cubicBezTo>
                    <a:cubicBezTo>
                      <a:pt x="7772" y="13"/>
                      <a:pt x="7768" y="16"/>
                      <a:pt x="7764" y="16"/>
                    </a:cubicBezTo>
                    <a:close/>
                    <a:moveTo>
                      <a:pt x="7730" y="16"/>
                    </a:moveTo>
                    <a:lnTo>
                      <a:pt x="7730" y="16"/>
                    </a:lnTo>
                    <a:cubicBezTo>
                      <a:pt x="7726" y="16"/>
                      <a:pt x="7722" y="13"/>
                      <a:pt x="7722" y="8"/>
                    </a:cubicBezTo>
                    <a:cubicBezTo>
                      <a:pt x="7722" y="4"/>
                      <a:pt x="7726" y="0"/>
                      <a:pt x="7730" y="0"/>
                    </a:cubicBezTo>
                    <a:lnTo>
                      <a:pt x="7730" y="0"/>
                    </a:lnTo>
                    <a:cubicBezTo>
                      <a:pt x="7735" y="0"/>
                      <a:pt x="7739" y="4"/>
                      <a:pt x="7739" y="8"/>
                    </a:cubicBezTo>
                    <a:cubicBezTo>
                      <a:pt x="7739" y="13"/>
                      <a:pt x="7735" y="16"/>
                      <a:pt x="7730" y="16"/>
                    </a:cubicBezTo>
                    <a:close/>
                    <a:moveTo>
                      <a:pt x="7697" y="16"/>
                    </a:moveTo>
                    <a:lnTo>
                      <a:pt x="7697" y="16"/>
                    </a:lnTo>
                    <a:cubicBezTo>
                      <a:pt x="7692" y="16"/>
                      <a:pt x="7689" y="13"/>
                      <a:pt x="7689" y="8"/>
                    </a:cubicBezTo>
                    <a:cubicBezTo>
                      <a:pt x="7689" y="4"/>
                      <a:pt x="7692" y="0"/>
                      <a:pt x="7697" y="0"/>
                    </a:cubicBezTo>
                    <a:lnTo>
                      <a:pt x="7697" y="0"/>
                    </a:lnTo>
                    <a:cubicBezTo>
                      <a:pt x="7701" y="0"/>
                      <a:pt x="7705" y="4"/>
                      <a:pt x="7705" y="8"/>
                    </a:cubicBezTo>
                    <a:cubicBezTo>
                      <a:pt x="7705" y="13"/>
                      <a:pt x="7701" y="16"/>
                      <a:pt x="7697" y="16"/>
                    </a:cubicBezTo>
                    <a:close/>
                    <a:moveTo>
                      <a:pt x="7664" y="16"/>
                    </a:moveTo>
                    <a:lnTo>
                      <a:pt x="7664" y="16"/>
                    </a:lnTo>
                    <a:cubicBezTo>
                      <a:pt x="7659" y="16"/>
                      <a:pt x="7655" y="13"/>
                      <a:pt x="7655" y="8"/>
                    </a:cubicBezTo>
                    <a:cubicBezTo>
                      <a:pt x="7655" y="4"/>
                      <a:pt x="7659" y="0"/>
                      <a:pt x="7664" y="0"/>
                    </a:cubicBezTo>
                    <a:lnTo>
                      <a:pt x="7664" y="0"/>
                    </a:lnTo>
                    <a:cubicBezTo>
                      <a:pt x="7668" y="0"/>
                      <a:pt x="7672" y="4"/>
                      <a:pt x="7672" y="8"/>
                    </a:cubicBezTo>
                    <a:cubicBezTo>
                      <a:pt x="7672" y="13"/>
                      <a:pt x="7668" y="16"/>
                      <a:pt x="7664" y="16"/>
                    </a:cubicBezTo>
                    <a:close/>
                    <a:moveTo>
                      <a:pt x="7630" y="16"/>
                    </a:moveTo>
                    <a:lnTo>
                      <a:pt x="7630" y="16"/>
                    </a:lnTo>
                    <a:cubicBezTo>
                      <a:pt x="7626" y="16"/>
                      <a:pt x="7622" y="13"/>
                      <a:pt x="7622" y="8"/>
                    </a:cubicBezTo>
                    <a:cubicBezTo>
                      <a:pt x="7622" y="4"/>
                      <a:pt x="7626" y="0"/>
                      <a:pt x="7630" y="0"/>
                    </a:cubicBezTo>
                    <a:lnTo>
                      <a:pt x="7630" y="0"/>
                    </a:lnTo>
                    <a:cubicBezTo>
                      <a:pt x="7635" y="0"/>
                      <a:pt x="7639" y="4"/>
                      <a:pt x="7639" y="8"/>
                    </a:cubicBezTo>
                    <a:cubicBezTo>
                      <a:pt x="7639" y="13"/>
                      <a:pt x="7635" y="16"/>
                      <a:pt x="7630" y="16"/>
                    </a:cubicBezTo>
                    <a:close/>
                    <a:moveTo>
                      <a:pt x="7597" y="16"/>
                    </a:moveTo>
                    <a:lnTo>
                      <a:pt x="7597" y="16"/>
                    </a:lnTo>
                    <a:cubicBezTo>
                      <a:pt x="7592" y="16"/>
                      <a:pt x="7588" y="13"/>
                      <a:pt x="7588" y="8"/>
                    </a:cubicBezTo>
                    <a:cubicBezTo>
                      <a:pt x="7588" y="4"/>
                      <a:pt x="7592" y="0"/>
                      <a:pt x="7597" y="0"/>
                    </a:cubicBezTo>
                    <a:lnTo>
                      <a:pt x="7597" y="0"/>
                    </a:lnTo>
                    <a:cubicBezTo>
                      <a:pt x="7601" y="0"/>
                      <a:pt x="7605" y="4"/>
                      <a:pt x="7605" y="8"/>
                    </a:cubicBezTo>
                    <a:cubicBezTo>
                      <a:pt x="7605" y="13"/>
                      <a:pt x="7601" y="16"/>
                      <a:pt x="7597" y="16"/>
                    </a:cubicBezTo>
                    <a:close/>
                    <a:moveTo>
                      <a:pt x="7563" y="16"/>
                    </a:moveTo>
                    <a:lnTo>
                      <a:pt x="7563" y="16"/>
                    </a:lnTo>
                    <a:cubicBezTo>
                      <a:pt x="7559" y="16"/>
                      <a:pt x="7555" y="13"/>
                      <a:pt x="7555" y="8"/>
                    </a:cubicBezTo>
                    <a:cubicBezTo>
                      <a:pt x="7555" y="4"/>
                      <a:pt x="7559" y="0"/>
                      <a:pt x="7563" y="0"/>
                    </a:cubicBezTo>
                    <a:lnTo>
                      <a:pt x="7563" y="0"/>
                    </a:lnTo>
                    <a:cubicBezTo>
                      <a:pt x="7568" y="0"/>
                      <a:pt x="7572" y="4"/>
                      <a:pt x="7572" y="8"/>
                    </a:cubicBezTo>
                    <a:cubicBezTo>
                      <a:pt x="7572" y="13"/>
                      <a:pt x="7568" y="16"/>
                      <a:pt x="7563" y="16"/>
                    </a:cubicBezTo>
                    <a:close/>
                    <a:moveTo>
                      <a:pt x="7530" y="16"/>
                    </a:moveTo>
                    <a:lnTo>
                      <a:pt x="7530" y="16"/>
                    </a:lnTo>
                    <a:cubicBezTo>
                      <a:pt x="7526" y="16"/>
                      <a:pt x="7522" y="13"/>
                      <a:pt x="7522" y="8"/>
                    </a:cubicBezTo>
                    <a:cubicBezTo>
                      <a:pt x="7522" y="4"/>
                      <a:pt x="7526" y="0"/>
                      <a:pt x="7530" y="0"/>
                    </a:cubicBezTo>
                    <a:lnTo>
                      <a:pt x="7530" y="0"/>
                    </a:lnTo>
                    <a:cubicBezTo>
                      <a:pt x="7535" y="0"/>
                      <a:pt x="7538" y="4"/>
                      <a:pt x="7538" y="8"/>
                    </a:cubicBezTo>
                    <a:cubicBezTo>
                      <a:pt x="7538" y="13"/>
                      <a:pt x="7535" y="16"/>
                      <a:pt x="7530" y="16"/>
                    </a:cubicBezTo>
                    <a:close/>
                    <a:moveTo>
                      <a:pt x="7497" y="16"/>
                    </a:moveTo>
                    <a:lnTo>
                      <a:pt x="7497" y="16"/>
                    </a:lnTo>
                    <a:cubicBezTo>
                      <a:pt x="7492" y="16"/>
                      <a:pt x="7488" y="13"/>
                      <a:pt x="7488" y="8"/>
                    </a:cubicBezTo>
                    <a:cubicBezTo>
                      <a:pt x="7488" y="4"/>
                      <a:pt x="7492" y="0"/>
                      <a:pt x="7497" y="0"/>
                    </a:cubicBezTo>
                    <a:lnTo>
                      <a:pt x="7497" y="0"/>
                    </a:lnTo>
                    <a:cubicBezTo>
                      <a:pt x="7501" y="0"/>
                      <a:pt x="7505" y="4"/>
                      <a:pt x="7505" y="8"/>
                    </a:cubicBezTo>
                    <a:cubicBezTo>
                      <a:pt x="7505" y="13"/>
                      <a:pt x="7501" y="16"/>
                      <a:pt x="7497" y="16"/>
                    </a:cubicBezTo>
                    <a:close/>
                    <a:moveTo>
                      <a:pt x="7463" y="16"/>
                    </a:moveTo>
                    <a:lnTo>
                      <a:pt x="7463" y="16"/>
                    </a:lnTo>
                    <a:cubicBezTo>
                      <a:pt x="7459" y="16"/>
                      <a:pt x="7455" y="13"/>
                      <a:pt x="7455" y="8"/>
                    </a:cubicBezTo>
                    <a:cubicBezTo>
                      <a:pt x="7455" y="4"/>
                      <a:pt x="7459" y="0"/>
                      <a:pt x="7463" y="0"/>
                    </a:cubicBezTo>
                    <a:lnTo>
                      <a:pt x="7463" y="0"/>
                    </a:lnTo>
                    <a:cubicBezTo>
                      <a:pt x="7468" y="0"/>
                      <a:pt x="7472" y="4"/>
                      <a:pt x="7472" y="8"/>
                    </a:cubicBezTo>
                    <a:cubicBezTo>
                      <a:pt x="7472" y="13"/>
                      <a:pt x="7468" y="16"/>
                      <a:pt x="7463" y="16"/>
                    </a:cubicBezTo>
                    <a:close/>
                    <a:moveTo>
                      <a:pt x="7430" y="16"/>
                    </a:moveTo>
                    <a:lnTo>
                      <a:pt x="7430" y="16"/>
                    </a:lnTo>
                    <a:cubicBezTo>
                      <a:pt x="7425" y="16"/>
                      <a:pt x="7422" y="13"/>
                      <a:pt x="7422" y="8"/>
                    </a:cubicBezTo>
                    <a:cubicBezTo>
                      <a:pt x="7422" y="4"/>
                      <a:pt x="7425" y="0"/>
                      <a:pt x="7430" y="0"/>
                    </a:cubicBezTo>
                    <a:lnTo>
                      <a:pt x="7430" y="0"/>
                    </a:lnTo>
                    <a:cubicBezTo>
                      <a:pt x="7435" y="0"/>
                      <a:pt x="7438" y="4"/>
                      <a:pt x="7438" y="8"/>
                    </a:cubicBezTo>
                    <a:cubicBezTo>
                      <a:pt x="7438" y="13"/>
                      <a:pt x="7435" y="16"/>
                      <a:pt x="7430" y="16"/>
                    </a:cubicBezTo>
                    <a:close/>
                    <a:moveTo>
                      <a:pt x="7397" y="16"/>
                    </a:moveTo>
                    <a:lnTo>
                      <a:pt x="7397" y="16"/>
                    </a:lnTo>
                    <a:cubicBezTo>
                      <a:pt x="7392" y="16"/>
                      <a:pt x="7388" y="13"/>
                      <a:pt x="7388" y="8"/>
                    </a:cubicBezTo>
                    <a:cubicBezTo>
                      <a:pt x="7388" y="4"/>
                      <a:pt x="7392" y="0"/>
                      <a:pt x="7397" y="0"/>
                    </a:cubicBezTo>
                    <a:lnTo>
                      <a:pt x="7397" y="0"/>
                    </a:lnTo>
                    <a:cubicBezTo>
                      <a:pt x="7401" y="0"/>
                      <a:pt x="7405" y="4"/>
                      <a:pt x="7405" y="8"/>
                    </a:cubicBezTo>
                    <a:cubicBezTo>
                      <a:pt x="7405" y="13"/>
                      <a:pt x="7401" y="16"/>
                      <a:pt x="7397" y="16"/>
                    </a:cubicBezTo>
                    <a:close/>
                    <a:moveTo>
                      <a:pt x="7363" y="16"/>
                    </a:moveTo>
                    <a:lnTo>
                      <a:pt x="7363" y="16"/>
                    </a:lnTo>
                    <a:cubicBezTo>
                      <a:pt x="7359" y="16"/>
                      <a:pt x="7355" y="13"/>
                      <a:pt x="7355" y="8"/>
                    </a:cubicBezTo>
                    <a:cubicBezTo>
                      <a:pt x="7355" y="4"/>
                      <a:pt x="7359" y="0"/>
                      <a:pt x="7363" y="0"/>
                    </a:cubicBezTo>
                    <a:lnTo>
                      <a:pt x="7363" y="0"/>
                    </a:lnTo>
                    <a:cubicBezTo>
                      <a:pt x="7368" y="0"/>
                      <a:pt x="7372" y="4"/>
                      <a:pt x="7372" y="8"/>
                    </a:cubicBezTo>
                    <a:cubicBezTo>
                      <a:pt x="7372" y="13"/>
                      <a:pt x="7368" y="16"/>
                      <a:pt x="7363" y="16"/>
                    </a:cubicBezTo>
                    <a:close/>
                    <a:moveTo>
                      <a:pt x="7330" y="16"/>
                    </a:moveTo>
                    <a:lnTo>
                      <a:pt x="7330" y="16"/>
                    </a:lnTo>
                    <a:cubicBezTo>
                      <a:pt x="7325" y="16"/>
                      <a:pt x="7322" y="13"/>
                      <a:pt x="7322" y="8"/>
                    </a:cubicBezTo>
                    <a:cubicBezTo>
                      <a:pt x="7322" y="4"/>
                      <a:pt x="7325" y="0"/>
                      <a:pt x="7330" y="0"/>
                    </a:cubicBezTo>
                    <a:lnTo>
                      <a:pt x="7330" y="0"/>
                    </a:lnTo>
                    <a:cubicBezTo>
                      <a:pt x="7335" y="0"/>
                      <a:pt x="7338" y="4"/>
                      <a:pt x="7338" y="8"/>
                    </a:cubicBezTo>
                    <a:cubicBezTo>
                      <a:pt x="7338" y="13"/>
                      <a:pt x="7335" y="16"/>
                      <a:pt x="7330" y="16"/>
                    </a:cubicBezTo>
                    <a:close/>
                    <a:moveTo>
                      <a:pt x="7297" y="16"/>
                    </a:moveTo>
                    <a:lnTo>
                      <a:pt x="7297" y="16"/>
                    </a:lnTo>
                    <a:cubicBezTo>
                      <a:pt x="7292" y="16"/>
                      <a:pt x="7288" y="13"/>
                      <a:pt x="7288" y="8"/>
                    </a:cubicBezTo>
                    <a:cubicBezTo>
                      <a:pt x="7288" y="4"/>
                      <a:pt x="7292" y="0"/>
                      <a:pt x="7297" y="0"/>
                    </a:cubicBezTo>
                    <a:lnTo>
                      <a:pt x="7297" y="0"/>
                    </a:lnTo>
                    <a:cubicBezTo>
                      <a:pt x="7301" y="0"/>
                      <a:pt x="7305" y="4"/>
                      <a:pt x="7305" y="8"/>
                    </a:cubicBezTo>
                    <a:cubicBezTo>
                      <a:pt x="7305" y="13"/>
                      <a:pt x="7301" y="16"/>
                      <a:pt x="7297" y="16"/>
                    </a:cubicBezTo>
                    <a:close/>
                    <a:moveTo>
                      <a:pt x="7263" y="16"/>
                    </a:moveTo>
                    <a:lnTo>
                      <a:pt x="7263" y="16"/>
                    </a:lnTo>
                    <a:cubicBezTo>
                      <a:pt x="7259" y="16"/>
                      <a:pt x="7255" y="13"/>
                      <a:pt x="7255" y="8"/>
                    </a:cubicBezTo>
                    <a:cubicBezTo>
                      <a:pt x="7255" y="4"/>
                      <a:pt x="7259" y="0"/>
                      <a:pt x="7263" y="0"/>
                    </a:cubicBezTo>
                    <a:lnTo>
                      <a:pt x="7263" y="0"/>
                    </a:lnTo>
                    <a:cubicBezTo>
                      <a:pt x="7268" y="0"/>
                      <a:pt x="7272" y="4"/>
                      <a:pt x="7272" y="8"/>
                    </a:cubicBezTo>
                    <a:cubicBezTo>
                      <a:pt x="7272" y="13"/>
                      <a:pt x="7268" y="16"/>
                      <a:pt x="7263" y="16"/>
                    </a:cubicBezTo>
                    <a:close/>
                    <a:moveTo>
                      <a:pt x="7230" y="16"/>
                    </a:moveTo>
                    <a:lnTo>
                      <a:pt x="7230" y="16"/>
                    </a:lnTo>
                    <a:cubicBezTo>
                      <a:pt x="7225" y="16"/>
                      <a:pt x="7222" y="13"/>
                      <a:pt x="7222" y="8"/>
                    </a:cubicBezTo>
                    <a:cubicBezTo>
                      <a:pt x="7222" y="4"/>
                      <a:pt x="7225" y="0"/>
                      <a:pt x="7230" y="0"/>
                    </a:cubicBezTo>
                    <a:lnTo>
                      <a:pt x="7230" y="0"/>
                    </a:lnTo>
                    <a:cubicBezTo>
                      <a:pt x="7235" y="0"/>
                      <a:pt x="7238" y="4"/>
                      <a:pt x="7238" y="8"/>
                    </a:cubicBezTo>
                    <a:cubicBezTo>
                      <a:pt x="7238" y="13"/>
                      <a:pt x="7235" y="16"/>
                      <a:pt x="7230" y="16"/>
                    </a:cubicBezTo>
                    <a:close/>
                    <a:moveTo>
                      <a:pt x="7197" y="16"/>
                    </a:moveTo>
                    <a:lnTo>
                      <a:pt x="7197" y="16"/>
                    </a:lnTo>
                    <a:cubicBezTo>
                      <a:pt x="7192" y="16"/>
                      <a:pt x="7188" y="13"/>
                      <a:pt x="7188" y="8"/>
                    </a:cubicBezTo>
                    <a:cubicBezTo>
                      <a:pt x="7188" y="4"/>
                      <a:pt x="7192" y="0"/>
                      <a:pt x="7197" y="0"/>
                    </a:cubicBezTo>
                    <a:lnTo>
                      <a:pt x="7197" y="0"/>
                    </a:lnTo>
                    <a:cubicBezTo>
                      <a:pt x="7201" y="0"/>
                      <a:pt x="7205" y="4"/>
                      <a:pt x="7205" y="8"/>
                    </a:cubicBezTo>
                    <a:cubicBezTo>
                      <a:pt x="7205" y="13"/>
                      <a:pt x="7201" y="16"/>
                      <a:pt x="7197" y="16"/>
                    </a:cubicBezTo>
                    <a:close/>
                    <a:moveTo>
                      <a:pt x="7163" y="16"/>
                    </a:moveTo>
                    <a:lnTo>
                      <a:pt x="7163" y="16"/>
                    </a:lnTo>
                    <a:cubicBezTo>
                      <a:pt x="7159" y="16"/>
                      <a:pt x="7155" y="13"/>
                      <a:pt x="7155" y="8"/>
                    </a:cubicBezTo>
                    <a:cubicBezTo>
                      <a:pt x="7155" y="4"/>
                      <a:pt x="7159" y="0"/>
                      <a:pt x="7163" y="0"/>
                    </a:cubicBezTo>
                    <a:lnTo>
                      <a:pt x="7163" y="0"/>
                    </a:lnTo>
                    <a:cubicBezTo>
                      <a:pt x="7168" y="0"/>
                      <a:pt x="7172" y="4"/>
                      <a:pt x="7172" y="8"/>
                    </a:cubicBezTo>
                    <a:cubicBezTo>
                      <a:pt x="7172" y="13"/>
                      <a:pt x="7168" y="16"/>
                      <a:pt x="7163" y="16"/>
                    </a:cubicBezTo>
                    <a:close/>
                    <a:moveTo>
                      <a:pt x="7130" y="16"/>
                    </a:moveTo>
                    <a:lnTo>
                      <a:pt x="7130" y="16"/>
                    </a:lnTo>
                    <a:cubicBezTo>
                      <a:pt x="7125" y="16"/>
                      <a:pt x="7122" y="13"/>
                      <a:pt x="7122" y="8"/>
                    </a:cubicBezTo>
                    <a:cubicBezTo>
                      <a:pt x="7122" y="4"/>
                      <a:pt x="7125" y="0"/>
                      <a:pt x="7130" y="0"/>
                    </a:cubicBezTo>
                    <a:lnTo>
                      <a:pt x="7130" y="0"/>
                    </a:lnTo>
                    <a:cubicBezTo>
                      <a:pt x="7135" y="0"/>
                      <a:pt x="7138" y="4"/>
                      <a:pt x="7138" y="8"/>
                    </a:cubicBezTo>
                    <a:cubicBezTo>
                      <a:pt x="7138" y="13"/>
                      <a:pt x="7135" y="16"/>
                      <a:pt x="7130" y="16"/>
                    </a:cubicBezTo>
                    <a:close/>
                    <a:moveTo>
                      <a:pt x="7097" y="16"/>
                    </a:moveTo>
                    <a:lnTo>
                      <a:pt x="7097" y="16"/>
                    </a:lnTo>
                    <a:cubicBezTo>
                      <a:pt x="7092" y="16"/>
                      <a:pt x="7088" y="13"/>
                      <a:pt x="7088" y="8"/>
                    </a:cubicBezTo>
                    <a:cubicBezTo>
                      <a:pt x="7088" y="4"/>
                      <a:pt x="7092" y="0"/>
                      <a:pt x="7097" y="0"/>
                    </a:cubicBezTo>
                    <a:lnTo>
                      <a:pt x="7097" y="0"/>
                    </a:lnTo>
                    <a:cubicBezTo>
                      <a:pt x="7101" y="0"/>
                      <a:pt x="7105" y="4"/>
                      <a:pt x="7105" y="8"/>
                    </a:cubicBezTo>
                    <a:cubicBezTo>
                      <a:pt x="7105" y="13"/>
                      <a:pt x="7101" y="16"/>
                      <a:pt x="7097" y="16"/>
                    </a:cubicBezTo>
                    <a:close/>
                    <a:moveTo>
                      <a:pt x="7063" y="16"/>
                    </a:moveTo>
                    <a:lnTo>
                      <a:pt x="7063" y="16"/>
                    </a:lnTo>
                    <a:cubicBezTo>
                      <a:pt x="7059" y="16"/>
                      <a:pt x="7055" y="13"/>
                      <a:pt x="7055" y="8"/>
                    </a:cubicBezTo>
                    <a:cubicBezTo>
                      <a:pt x="7055" y="4"/>
                      <a:pt x="7059" y="0"/>
                      <a:pt x="7063" y="0"/>
                    </a:cubicBezTo>
                    <a:lnTo>
                      <a:pt x="7063" y="0"/>
                    </a:lnTo>
                    <a:cubicBezTo>
                      <a:pt x="7068" y="0"/>
                      <a:pt x="7072" y="4"/>
                      <a:pt x="7072" y="8"/>
                    </a:cubicBezTo>
                    <a:cubicBezTo>
                      <a:pt x="7072" y="13"/>
                      <a:pt x="7068" y="16"/>
                      <a:pt x="7063" y="16"/>
                    </a:cubicBezTo>
                    <a:close/>
                    <a:moveTo>
                      <a:pt x="7030" y="16"/>
                    </a:moveTo>
                    <a:lnTo>
                      <a:pt x="7030" y="16"/>
                    </a:lnTo>
                    <a:cubicBezTo>
                      <a:pt x="7025" y="16"/>
                      <a:pt x="7022" y="13"/>
                      <a:pt x="7022" y="8"/>
                    </a:cubicBezTo>
                    <a:cubicBezTo>
                      <a:pt x="7022" y="4"/>
                      <a:pt x="7025" y="0"/>
                      <a:pt x="7030" y="0"/>
                    </a:cubicBezTo>
                    <a:lnTo>
                      <a:pt x="7030" y="0"/>
                    </a:lnTo>
                    <a:cubicBezTo>
                      <a:pt x="7034" y="0"/>
                      <a:pt x="7038" y="4"/>
                      <a:pt x="7038" y="8"/>
                    </a:cubicBezTo>
                    <a:cubicBezTo>
                      <a:pt x="7038" y="13"/>
                      <a:pt x="7034" y="16"/>
                      <a:pt x="7030" y="16"/>
                    </a:cubicBezTo>
                    <a:close/>
                    <a:moveTo>
                      <a:pt x="6997" y="16"/>
                    </a:moveTo>
                    <a:lnTo>
                      <a:pt x="6996" y="16"/>
                    </a:lnTo>
                    <a:cubicBezTo>
                      <a:pt x="6992" y="16"/>
                      <a:pt x="6988" y="13"/>
                      <a:pt x="6988" y="8"/>
                    </a:cubicBezTo>
                    <a:cubicBezTo>
                      <a:pt x="6988" y="4"/>
                      <a:pt x="6992" y="0"/>
                      <a:pt x="6996" y="0"/>
                    </a:cubicBezTo>
                    <a:lnTo>
                      <a:pt x="6997" y="0"/>
                    </a:lnTo>
                    <a:cubicBezTo>
                      <a:pt x="7001" y="0"/>
                      <a:pt x="7005" y="4"/>
                      <a:pt x="7005" y="8"/>
                    </a:cubicBezTo>
                    <a:cubicBezTo>
                      <a:pt x="7005" y="13"/>
                      <a:pt x="7001" y="16"/>
                      <a:pt x="6997" y="16"/>
                    </a:cubicBezTo>
                    <a:close/>
                    <a:moveTo>
                      <a:pt x="6963" y="16"/>
                    </a:moveTo>
                    <a:lnTo>
                      <a:pt x="6963" y="16"/>
                    </a:lnTo>
                    <a:cubicBezTo>
                      <a:pt x="6959" y="16"/>
                      <a:pt x="6955" y="13"/>
                      <a:pt x="6955" y="8"/>
                    </a:cubicBezTo>
                    <a:cubicBezTo>
                      <a:pt x="6955" y="4"/>
                      <a:pt x="6959" y="0"/>
                      <a:pt x="6963" y="0"/>
                    </a:cubicBezTo>
                    <a:lnTo>
                      <a:pt x="6963" y="0"/>
                    </a:lnTo>
                    <a:cubicBezTo>
                      <a:pt x="6968" y="0"/>
                      <a:pt x="6971" y="4"/>
                      <a:pt x="6971" y="8"/>
                    </a:cubicBezTo>
                    <a:cubicBezTo>
                      <a:pt x="6971" y="13"/>
                      <a:pt x="6968" y="16"/>
                      <a:pt x="6963" y="16"/>
                    </a:cubicBezTo>
                    <a:close/>
                    <a:moveTo>
                      <a:pt x="6930" y="16"/>
                    </a:moveTo>
                    <a:lnTo>
                      <a:pt x="6930" y="16"/>
                    </a:lnTo>
                    <a:cubicBezTo>
                      <a:pt x="6925" y="16"/>
                      <a:pt x="6921" y="13"/>
                      <a:pt x="6921" y="8"/>
                    </a:cubicBezTo>
                    <a:cubicBezTo>
                      <a:pt x="6921" y="4"/>
                      <a:pt x="6925" y="0"/>
                      <a:pt x="6930" y="0"/>
                    </a:cubicBezTo>
                    <a:lnTo>
                      <a:pt x="6930" y="0"/>
                    </a:lnTo>
                    <a:cubicBezTo>
                      <a:pt x="6934" y="0"/>
                      <a:pt x="6938" y="4"/>
                      <a:pt x="6938" y="8"/>
                    </a:cubicBezTo>
                    <a:cubicBezTo>
                      <a:pt x="6938" y="13"/>
                      <a:pt x="6934" y="16"/>
                      <a:pt x="6930" y="16"/>
                    </a:cubicBezTo>
                    <a:close/>
                    <a:moveTo>
                      <a:pt x="6896" y="16"/>
                    </a:moveTo>
                    <a:lnTo>
                      <a:pt x="6896" y="16"/>
                    </a:lnTo>
                    <a:cubicBezTo>
                      <a:pt x="6892" y="16"/>
                      <a:pt x="6888" y="13"/>
                      <a:pt x="6888" y="8"/>
                    </a:cubicBezTo>
                    <a:cubicBezTo>
                      <a:pt x="6888" y="4"/>
                      <a:pt x="6892" y="0"/>
                      <a:pt x="6896" y="0"/>
                    </a:cubicBezTo>
                    <a:lnTo>
                      <a:pt x="6896" y="0"/>
                    </a:lnTo>
                    <a:cubicBezTo>
                      <a:pt x="6901" y="0"/>
                      <a:pt x="6905" y="4"/>
                      <a:pt x="6905" y="8"/>
                    </a:cubicBezTo>
                    <a:cubicBezTo>
                      <a:pt x="6905" y="13"/>
                      <a:pt x="6901" y="16"/>
                      <a:pt x="6896" y="16"/>
                    </a:cubicBezTo>
                    <a:close/>
                    <a:moveTo>
                      <a:pt x="6863" y="16"/>
                    </a:moveTo>
                    <a:lnTo>
                      <a:pt x="6863" y="16"/>
                    </a:lnTo>
                    <a:cubicBezTo>
                      <a:pt x="6858" y="16"/>
                      <a:pt x="6855" y="13"/>
                      <a:pt x="6855" y="8"/>
                    </a:cubicBezTo>
                    <a:cubicBezTo>
                      <a:pt x="6855" y="4"/>
                      <a:pt x="6858" y="0"/>
                      <a:pt x="6863" y="0"/>
                    </a:cubicBezTo>
                    <a:lnTo>
                      <a:pt x="6863" y="0"/>
                    </a:lnTo>
                    <a:cubicBezTo>
                      <a:pt x="6868" y="0"/>
                      <a:pt x="6871" y="4"/>
                      <a:pt x="6871" y="8"/>
                    </a:cubicBezTo>
                    <a:cubicBezTo>
                      <a:pt x="6871" y="13"/>
                      <a:pt x="6868" y="16"/>
                      <a:pt x="6863" y="16"/>
                    </a:cubicBezTo>
                    <a:close/>
                    <a:moveTo>
                      <a:pt x="6830" y="16"/>
                    </a:moveTo>
                    <a:lnTo>
                      <a:pt x="6830" y="16"/>
                    </a:lnTo>
                    <a:cubicBezTo>
                      <a:pt x="6825" y="16"/>
                      <a:pt x="6821" y="13"/>
                      <a:pt x="6821" y="8"/>
                    </a:cubicBezTo>
                    <a:cubicBezTo>
                      <a:pt x="6821" y="4"/>
                      <a:pt x="6825" y="0"/>
                      <a:pt x="6830" y="0"/>
                    </a:cubicBezTo>
                    <a:lnTo>
                      <a:pt x="6830" y="0"/>
                    </a:lnTo>
                    <a:cubicBezTo>
                      <a:pt x="6834" y="0"/>
                      <a:pt x="6838" y="4"/>
                      <a:pt x="6838" y="8"/>
                    </a:cubicBezTo>
                    <a:cubicBezTo>
                      <a:pt x="6838" y="13"/>
                      <a:pt x="6834" y="16"/>
                      <a:pt x="6830" y="16"/>
                    </a:cubicBezTo>
                    <a:close/>
                    <a:moveTo>
                      <a:pt x="6796" y="16"/>
                    </a:moveTo>
                    <a:lnTo>
                      <a:pt x="6796" y="16"/>
                    </a:lnTo>
                    <a:cubicBezTo>
                      <a:pt x="6792" y="16"/>
                      <a:pt x="6788" y="13"/>
                      <a:pt x="6788" y="8"/>
                    </a:cubicBezTo>
                    <a:cubicBezTo>
                      <a:pt x="6788" y="4"/>
                      <a:pt x="6792" y="0"/>
                      <a:pt x="6796" y="0"/>
                    </a:cubicBezTo>
                    <a:lnTo>
                      <a:pt x="6796" y="0"/>
                    </a:lnTo>
                    <a:cubicBezTo>
                      <a:pt x="6801" y="0"/>
                      <a:pt x="6805" y="4"/>
                      <a:pt x="6805" y="8"/>
                    </a:cubicBezTo>
                    <a:cubicBezTo>
                      <a:pt x="6805" y="13"/>
                      <a:pt x="6801" y="16"/>
                      <a:pt x="6796" y="16"/>
                    </a:cubicBezTo>
                    <a:close/>
                    <a:moveTo>
                      <a:pt x="6763" y="16"/>
                    </a:moveTo>
                    <a:lnTo>
                      <a:pt x="6763" y="16"/>
                    </a:lnTo>
                    <a:cubicBezTo>
                      <a:pt x="6758" y="16"/>
                      <a:pt x="6755" y="13"/>
                      <a:pt x="6755" y="8"/>
                    </a:cubicBezTo>
                    <a:cubicBezTo>
                      <a:pt x="6755" y="4"/>
                      <a:pt x="6758" y="0"/>
                      <a:pt x="6763" y="0"/>
                    </a:cubicBezTo>
                    <a:lnTo>
                      <a:pt x="6763" y="0"/>
                    </a:lnTo>
                    <a:cubicBezTo>
                      <a:pt x="6768" y="0"/>
                      <a:pt x="6771" y="4"/>
                      <a:pt x="6771" y="8"/>
                    </a:cubicBezTo>
                    <a:cubicBezTo>
                      <a:pt x="6771" y="13"/>
                      <a:pt x="6768" y="16"/>
                      <a:pt x="6763" y="16"/>
                    </a:cubicBezTo>
                    <a:close/>
                    <a:moveTo>
                      <a:pt x="6730" y="16"/>
                    </a:moveTo>
                    <a:lnTo>
                      <a:pt x="6730" y="16"/>
                    </a:lnTo>
                    <a:cubicBezTo>
                      <a:pt x="6725" y="16"/>
                      <a:pt x="6721" y="13"/>
                      <a:pt x="6721" y="8"/>
                    </a:cubicBezTo>
                    <a:cubicBezTo>
                      <a:pt x="6721" y="4"/>
                      <a:pt x="6725" y="0"/>
                      <a:pt x="6730" y="0"/>
                    </a:cubicBezTo>
                    <a:lnTo>
                      <a:pt x="6730" y="0"/>
                    </a:lnTo>
                    <a:cubicBezTo>
                      <a:pt x="6734" y="0"/>
                      <a:pt x="6738" y="4"/>
                      <a:pt x="6738" y="8"/>
                    </a:cubicBezTo>
                    <a:cubicBezTo>
                      <a:pt x="6738" y="13"/>
                      <a:pt x="6734" y="16"/>
                      <a:pt x="6730" y="16"/>
                    </a:cubicBezTo>
                    <a:close/>
                    <a:moveTo>
                      <a:pt x="6696" y="16"/>
                    </a:moveTo>
                    <a:lnTo>
                      <a:pt x="6696" y="16"/>
                    </a:lnTo>
                    <a:cubicBezTo>
                      <a:pt x="6692" y="16"/>
                      <a:pt x="6688" y="13"/>
                      <a:pt x="6688" y="8"/>
                    </a:cubicBezTo>
                    <a:cubicBezTo>
                      <a:pt x="6688" y="4"/>
                      <a:pt x="6692" y="0"/>
                      <a:pt x="6696" y="0"/>
                    </a:cubicBezTo>
                    <a:lnTo>
                      <a:pt x="6696" y="0"/>
                    </a:lnTo>
                    <a:cubicBezTo>
                      <a:pt x="6701" y="0"/>
                      <a:pt x="6705" y="4"/>
                      <a:pt x="6705" y="8"/>
                    </a:cubicBezTo>
                    <a:cubicBezTo>
                      <a:pt x="6705" y="13"/>
                      <a:pt x="6701" y="16"/>
                      <a:pt x="6696" y="16"/>
                    </a:cubicBezTo>
                    <a:close/>
                    <a:moveTo>
                      <a:pt x="6663" y="16"/>
                    </a:moveTo>
                    <a:lnTo>
                      <a:pt x="6663" y="16"/>
                    </a:lnTo>
                    <a:cubicBezTo>
                      <a:pt x="6658" y="16"/>
                      <a:pt x="6655" y="13"/>
                      <a:pt x="6655" y="8"/>
                    </a:cubicBezTo>
                    <a:cubicBezTo>
                      <a:pt x="6655" y="4"/>
                      <a:pt x="6658" y="0"/>
                      <a:pt x="6663" y="0"/>
                    </a:cubicBezTo>
                    <a:lnTo>
                      <a:pt x="6663" y="0"/>
                    </a:lnTo>
                    <a:cubicBezTo>
                      <a:pt x="6668" y="0"/>
                      <a:pt x="6671" y="4"/>
                      <a:pt x="6671" y="8"/>
                    </a:cubicBezTo>
                    <a:cubicBezTo>
                      <a:pt x="6671" y="13"/>
                      <a:pt x="6668" y="16"/>
                      <a:pt x="6663" y="16"/>
                    </a:cubicBezTo>
                    <a:close/>
                    <a:moveTo>
                      <a:pt x="6630" y="16"/>
                    </a:moveTo>
                    <a:lnTo>
                      <a:pt x="6630" y="16"/>
                    </a:lnTo>
                    <a:cubicBezTo>
                      <a:pt x="6625" y="16"/>
                      <a:pt x="6621" y="13"/>
                      <a:pt x="6621" y="8"/>
                    </a:cubicBezTo>
                    <a:cubicBezTo>
                      <a:pt x="6621" y="4"/>
                      <a:pt x="6625" y="0"/>
                      <a:pt x="6630" y="0"/>
                    </a:cubicBezTo>
                    <a:lnTo>
                      <a:pt x="6630" y="0"/>
                    </a:lnTo>
                    <a:cubicBezTo>
                      <a:pt x="6634" y="0"/>
                      <a:pt x="6638" y="4"/>
                      <a:pt x="6638" y="8"/>
                    </a:cubicBezTo>
                    <a:cubicBezTo>
                      <a:pt x="6638" y="13"/>
                      <a:pt x="6634" y="16"/>
                      <a:pt x="6630" y="16"/>
                    </a:cubicBezTo>
                    <a:close/>
                    <a:moveTo>
                      <a:pt x="6596" y="16"/>
                    </a:moveTo>
                    <a:lnTo>
                      <a:pt x="6596" y="16"/>
                    </a:lnTo>
                    <a:cubicBezTo>
                      <a:pt x="6592" y="16"/>
                      <a:pt x="6588" y="13"/>
                      <a:pt x="6588" y="8"/>
                    </a:cubicBezTo>
                    <a:cubicBezTo>
                      <a:pt x="6588" y="4"/>
                      <a:pt x="6592" y="0"/>
                      <a:pt x="6596" y="0"/>
                    </a:cubicBezTo>
                    <a:lnTo>
                      <a:pt x="6596" y="0"/>
                    </a:lnTo>
                    <a:cubicBezTo>
                      <a:pt x="6601" y="0"/>
                      <a:pt x="6605" y="4"/>
                      <a:pt x="6605" y="8"/>
                    </a:cubicBezTo>
                    <a:cubicBezTo>
                      <a:pt x="6605" y="13"/>
                      <a:pt x="6601" y="16"/>
                      <a:pt x="6596" y="16"/>
                    </a:cubicBezTo>
                    <a:close/>
                    <a:moveTo>
                      <a:pt x="6563" y="16"/>
                    </a:moveTo>
                    <a:lnTo>
                      <a:pt x="6563" y="16"/>
                    </a:lnTo>
                    <a:cubicBezTo>
                      <a:pt x="6558" y="16"/>
                      <a:pt x="6555" y="13"/>
                      <a:pt x="6555" y="8"/>
                    </a:cubicBezTo>
                    <a:cubicBezTo>
                      <a:pt x="6555" y="4"/>
                      <a:pt x="6558" y="0"/>
                      <a:pt x="6563" y="0"/>
                    </a:cubicBezTo>
                    <a:lnTo>
                      <a:pt x="6563" y="0"/>
                    </a:lnTo>
                    <a:cubicBezTo>
                      <a:pt x="6568" y="0"/>
                      <a:pt x="6571" y="4"/>
                      <a:pt x="6571" y="8"/>
                    </a:cubicBezTo>
                    <a:cubicBezTo>
                      <a:pt x="6571" y="13"/>
                      <a:pt x="6568" y="16"/>
                      <a:pt x="6563" y="16"/>
                    </a:cubicBezTo>
                    <a:close/>
                    <a:moveTo>
                      <a:pt x="6530" y="16"/>
                    </a:moveTo>
                    <a:lnTo>
                      <a:pt x="6530" y="16"/>
                    </a:lnTo>
                    <a:cubicBezTo>
                      <a:pt x="6525" y="16"/>
                      <a:pt x="6521" y="13"/>
                      <a:pt x="6521" y="8"/>
                    </a:cubicBezTo>
                    <a:cubicBezTo>
                      <a:pt x="6521" y="4"/>
                      <a:pt x="6525" y="0"/>
                      <a:pt x="6530" y="0"/>
                    </a:cubicBezTo>
                    <a:lnTo>
                      <a:pt x="6530" y="0"/>
                    </a:lnTo>
                    <a:cubicBezTo>
                      <a:pt x="6534" y="0"/>
                      <a:pt x="6538" y="4"/>
                      <a:pt x="6538" y="8"/>
                    </a:cubicBezTo>
                    <a:cubicBezTo>
                      <a:pt x="6538" y="13"/>
                      <a:pt x="6534" y="16"/>
                      <a:pt x="6530" y="16"/>
                    </a:cubicBezTo>
                    <a:close/>
                    <a:moveTo>
                      <a:pt x="6496" y="16"/>
                    </a:moveTo>
                    <a:lnTo>
                      <a:pt x="6496" y="16"/>
                    </a:lnTo>
                    <a:cubicBezTo>
                      <a:pt x="6492" y="16"/>
                      <a:pt x="6488" y="13"/>
                      <a:pt x="6488" y="8"/>
                    </a:cubicBezTo>
                    <a:cubicBezTo>
                      <a:pt x="6488" y="4"/>
                      <a:pt x="6492" y="0"/>
                      <a:pt x="6496" y="0"/>
                    </a:cubicBezTo>
                    <a:lnTo>
                      <a:pt x="6496" y="0"/>
                    </a:lnTo>
                    <a:cubicBezTo>
                      <a:pt x="6501" y="0"/>
                      <a:pt x="6505" y="4"/>
                      <a:pt x="6505" y="8"/>
                    </a:cubicBezTo>
                    <a:cubicBezTo>
                      <a:pt x="6505" y="13"/>
                      <a:pt x="6501" y="16"/>
                      <a:pt x="6496" y="16"/>
                    </a:cubicBezTo>
                    <a:close/>
                    <a:moveTo>
                      <a:pt x="6463" y="16"/>
                    </a:moveTo>
                    <a:lnTo>
                      <a:pt x="6463" y="16"/>
                    </a:lnTo>
                    <a:cubicBezTo>
                      <a:pt x="6458" y="16"/>
                      <a:pt x="6455" y="13"/>
                      <a:pt x="6455" y="8"/>
                    </a:cubicBezTo>
                    <a:cubicBezTo>
                      <a:pt x="6455" y="4"/>
                      <a:pt x="6458" y="0"/>
                      <a:pt x="6463" y="0"/>
                    </a:cubicBezTo>
                    <a:lnTo>
                      <a:pt x="6463" y="0"/>
                    </a:lnTo>
                    <a:cubicBezTo>
                      <a:pt x="6467" y="0"/>
                      <a:pt x="6471" y="4"/>
                      <a:pt x="6471" y="8"/>
                    </a:cubicBezTo>
                    <a:cubicBezTo>
                      <a:pt x="6471" y="13"/>
                      <a:pt x="6467" y="16"/>
                      <a:pt x="6463" y="16"/>
                    </a:cubicBezTo>
                    <a:close/>
                    <a:moveTo>
                      <a:pt x="6430" y="16"/>
                    </a:moveTo>
                    <a:lnTo>
                      <a:pt x="6430" y="16"/>
                    </a:lnTo>
                    <a:cubicBezTo>
                      <a:pt x="6425" y="16"/>
                      <a:pt x="6421" y="13"/>
                      <a:pt x="6421" y="8"/>
                    </a:cubicBezTo>
                    <a:cubicBezTo>
                      <a:pt x="6421" y="4"/>
                      <a:pt x="6425" y="0"/>
                      <a:pt x="6430" y="0"/>
                    </a:cubicBezTo>
                    <a:lnTo>
                      <a:pt x="6430" y="0"/>
                    </a:lnTo>
                    <a:cubicBezTo>
                      <a:pt x="6434" y="0"/>
                      <a:pt x="6438" y="4"/>
                      <a:pt x="6438" y="8"/>
                    </a:cubicBezTo>
                    <a:cubicBezTo>
                      <a:pt x="6438" y="13"/>
                      <a:pt x="6434" y="16"/>
                      <a:pt x="6430" y="16"/>
                    </a:cubicBezTo>
                    <a:close/>
                    <a:moveTo>
                      <a:pt x="6396" y="16"/>
                    </a:moveTo>
                    <a:lnTo>
                      <a:pt x="6396" y="16"/>
                    </a:lnTo>
                    <a:cubicBezTo>
                      <a:pt x="6392" y="16"/>
                      <a:pt x="6388" y="13"/>
                      <a:pt x="6388" y="8"/>
                    </a:cubicBezTo>
                    <a:cubicBezTo>
                      <a:pt x="6388" y="4"/>
                      <a:pt x="6392" y="0"/>
                      <a:pt x="6396" y="0"/>
                    </a:cubicBezTo>
                    <a:lnTo>
                      <a:pt x="6396" y="0"/>
                    </a:lnTo>
                    <a:cubicBezTo>
                      <a:pt x="6401" y="0"/>
                      <a:pt x="6405" y="4"/>
                      <a:pt x="6405" y="8"/>
                    </a:cubicBezTo>
                    <a:cubicBezTo>
                      <a:pt x="6405" y="13"/>
                      <a:pt x="6401" y="16"/>
                      <a:pt x="6396" y="16"/>
                    </a:cubicBezTo>
                    <a:close/>
                    <a:moveTo>
                      <a:pt x="6363" y="16"/>
                    </a:moveTo>
                    <a:lnTo>
                      <a:pt x="6363" y="16"/>
                    </a:lnTo>
                    <a:cubicBezTo>
                      <a:pt x="6358" y="16"/>
                      <a:pt x="6354" y="13"/>
                      <a:pt x="6354" y="8"/>
                    </a:cubicBezTo>
                    <a:cubicBezTo>
                      <a:pt x="6354" y="4"/>
                      <a:pt x="6358" y="0"/>
                      <a:pt x="6363" y="0"/>
                    </a:cubicBezTo>
                    <a:lnTo>
                      <a:pt x="6363" y="0"/>
                    </a:lnTo>
                    <a:cubicBezTo>
                      <a:pt x="6367" y="0"/>
                      <a:pt x="6371" y="4"/>
                      <a:pt x="6371" y="8"/>
                    </a:cubicBezTo>
                    <a:cubicBezTo>
                      <a:pt x="6371" y="13"/>
                      <a:pt x="6367" y="16"/>
                      <a:pt x="6363" y="16"/>
                    </a:cubicBezTo>
                    <a:close/>
                    <a:moveTo>
                      <a:pt x="6329" y="16"/>
                    </a:moveTo>
                    <a:lnTo>
                      <a:pt x="6329" y="16"/>
                    </a:lnTo>
                    <a:cubicBezTo>
                      <a:pt x="6325" y="16"/>
                      <a:pt x="6321" y="13"/>
                      <a:pt x="6321" y="8"/>
                    </a:cubicBezTo>
                    <a:cubicBezTo>
                      <a:pt x="6321" y="4"/>
                      <a:pt x="6325" y="0"/>
                      <a:pt x="6329" y="0"/>
                    </a:cubicBezTo>
                    <a:lnTo>
                      <a:pt x="6329" y="0"/>
                    </a:lnTo>
                    <a:cubicBezTo>
                      <a:pt x="6334" y="0"/>
                      <a:pt x="6338" y="4"/>
                      <a:pt x="6338" y="8"/>
                    </a:cubicBezTo>
                    <a:cubicBezTo>
                      <a:pt x="6338" y="13"/>
                      <a:pt x="6334" y="16"/>
                      <a:pt x="6329" y="16"/>
                    </a:cubicBezTo>
                    <a:close/>
                    <a:moveTo>
                      <a:pt x="6296" y="16"/>
                    </a:moveTo>
                    <a:lnTo>
                      <a:pt x="6296" y="16"/>
                    </a:lnTo>
                    <a:cubicBezTo>
                      <a:pt x="6292" y="16"/>
                      <a:pt x="6288" y="13"/>
                      <a:pt x="6288" y="8"/>
                    </a:cubicBezTo>
                    <a:cubicBezTo>
                      <a:pt x="6288" y="4"/>
                      <a:pt x="6292" y="0"/>
                      <a:pt x="6296" y="0"/>
                    </a:cubicBezTo>
                    <a:lnTo>
                      <a:pt x="6296" y="0"/>
                    </a:lnTo>
                    <a:cubicBezTo>
                      <a:pt x="6301" y="0"/>
                      <a:pt x="6304" y="4"/>
                      <a:pt x="6304" y="8"/>
                    </a:cubicBezTo>
                    <a:cubicBezTo>
                      <a:pt x="6304" y="13"/>
                      <a:pt x="6301" y="16"/>
                      <a:pt x="6296" y="16"/>
                    </a:cubicBezTo>
                    <a:close/>
                    <a:moveTo>
                      <a:pt x="6263" y="16"/>
                    </a:moveTo>
                    <a:lnTo>
                      <a:pt x="6263" y="16"/>
                    </a:lnTo>
                    <a:cubicBezTo>
                      <a:pt x="6258" y="16"/>
                      <a:pt x="6254" y="13"/>
                      <a:pt x="6254" y="8"/>
                    </a:cubicBezTo>
                    <a:cubicBezTo>
                      <a:pt x="6254" y="4"/>
                      <a:pt x="6258" y="0"/>
                      <a:pt x="6263" y="0"/>
                    </a:cubicBezTo>
                    <a:lnTo>
                      <a:pt x="6263" y="0"/>
                    </a:lnTo>
                    <a:cubicBezTo>
                      <a:pt x="6267" y="0"/>
                      <a:pt x="6271" y="4"/>
                      <a:pt x="6271" y="8"/>
                    </a:cubicBezTo>
                    <a:cubicBezTo>
                      <a:pt x="6271" y="13"/>
                      <a:pt x="6267" y="16"/>
                      <a:pt x="6263" y="16"/>
                    </a:cubicBezTo>
                    <a:close/>
                    <a:moveTo>
                      <a:pt x="6229" y="16"/>
                    </a:moveTo>
                    <a:lnTo>
                      <a:pt x="6229" y="16"/>
                    </a:lnTo>
                    <a:cubicBezTo>
                      <a:pt x="6225" y="16"/>
                      <a:pt x="6221" y="13"/>
                      <a:pt x="6221" y="8"/>
                    </a:cubicBezTo>
                    <a:cubicBezTo>
                      <a:pt x="6221" y="4"/>
                      <a:pt x="6225" y="0"/>
                      <a:pt x="6229" y="0"/>
                    </a:cubicBezTo>
                    <a:lnTo>
                      <a:pt x="6229" y="0"/>
                    </a:lnTo>
                    <a:cubicBezTo>
                      <a:pt x="6234" y="0"/>
                      <a:pt x="6238" y="4"/>
                      <a:pt x="6238" y="8"/>
                    </a:cubicBezTo>
                    <a:cubicBezTo>
                      <a:pt x="6238" y="13"/>
                      <a:pt x="6234" y="16"/>
                      <a:pt x="6229" y="16"/>
                    </a:cubicBezTo>
                    <a:close/>
                    <a:moveTo>
                      <a:pt x="6196" y="16"/>
                    </a:moveTo>
                    <a:lnTo>
                      <a:pt x="6196" y="16"/>
                    </a:lnTo>
                    <a:cubicBezTo>
                      <a:pt x="6191" y="16"/>
                      <a:pt x="6188" y="13"/>
                      <a:pt x="6188" y="8"/>
                    </a:cubicBezTo>
                    <a:cubicBezTo>
                      <a:pt x="6188" y="4"/>
                      <a:pt x="6191" y="0"/>
                      <a:pt x="6196" y="0"/>
                    </a:cubicBezTo>
                    <a:lnTo>
                      <a:pt x="6196" y="0"/>
                    </a:lnTo>
                    <a:cubicBezTo>
                      <a:pt x="6201" y="0"/>
                      <a:pt x="6204" y="4"/>
                      <a:pt x="6204" y="8"/>
                    </a:cubicBezTo>
                    <a:cubicBezTo>
                      <a:pt x="6204" y="13"/>
                      <a:pt x="6201" y="16"/>
                      <a:pt x="6196" y="16"/>
                    </a:cubicBezTo>
                    <a:close/>
                    <a:moveTo>
                      <a:pt x="6163" y="16"/>
                    </a:moveTo>
                    <a:lnTo>
                      <a:pt x="6163" y="16"/>
                    </a:lnTo>
                    <a:cubicBezTo>
                      <a:pt x="6158" y="16"/>
                      <a:pt x="6154" y="13"/>
                      <a:pt x="6154" y="8"/>
                    </a:cubicBezTo>
                    <a:cubicBezTo>
                      <a:pt x="6154" y="4"/>
                      <a:pt x="6158" y="0"/>
                      <a:pt x="6163" y="0"/>
                    </a:cubicBezTo>
                    <a:lnTo>
                      <a:pt x="6163" y="0"/>
                    </a:lnTo>
                    <a:cubicBezTo>
                      <a:pt x="6167" y="0"/>
                      <a:pt x="6171" y="4"/>
                      <a:pt x="6171" y="8"/>
                    </a:cubicBezTo>
                    <a:cubicBezTo>
                      <a:pt x="6171" y="13"/>
                      <a:pt x="6167" y="16"/>
                      <a:pt x="6163" y="16"/>
                    </a:cubicBezTo>
                    <a:close/>
                    <a:moveTo>
                      <a:pt x="6129" y="16"/>
                    </a:moveTo>
                    <a:lnTo>
                      <a:pt x="6129" y="16"/>
                    </a:lnTo>
                    <a:cubicBezTo>
                      <a:pt x="6125" y="16"/>
                      <a:pt x="6121" y="13"/>
                      <a:pt x="6121" y="8"/>
                    </a:cubicBezTo>
                    <a:cubicBezTo>
                      <a:pt x="6121" y="4"/>
                      <a:pt x="6125" y="0"/>
                      <a:pt x="6129" y="0"/>
                    </a:cubicBezTo>
                    <a:lnTo>
                      <a:pt x="6129" y="0"/>
                    </a:lnTo>
                    <a:cubicBezTo>
                      <a:pt x="6134" y="0"/>
                      <a:pt x="6138" y="4"/>
                      <a:pt x="6138" y="8"/>
                    </a:cubicBezTo>
                    <a:cubicBezTo>
                      <a:pt x="6138" y="13"/>
                      <a:pt x="6134" y="16"/>
                      <a:pt x="6129" y="16"/>
                    </a:cubicBezTo>
                    <a:close/>
                    <a:moveTo>
                      <a:pt x="6096" y="16"/>
                    </a:moveTo>
                    <a:lnTo>
                      <a:pt x="6096" y="16"/>
                    </a:lnTo>
                    <a:cubicBezTo>
                      <a:pt x="6091" y="16"/>
                      <a:pt x="6088" y="13"/>
                      <a:pt x="6088" y="8"/>
                    </a:cubicBezTo>
                    <a:cubicBezTo>
                      <a:pt x="6088" y="4"/>
                      <a:pt x="6091" y="0"/>
                      <a:pt x="6096" y="0"/>
                    </a:cubicBezTo>
                    <a:lnTo>
                      <a:pt x="6096" y="0"/>
                    </a:lnTo>
                    <a:cubicBezTo>
                      <a:pt x="6101" y="0"/>
                      <a:pt x="6104" y="4"/>
                      <a:pt x="6104" y="8"/>
                    </a:cubicBezTo>
                    <a:cubicBezTo>
                      <a:pt x="6104" y="13"/>
                      <a:pt x="6101" y="16"/>
                      <a:pt x="6096" y="16"/>
                    </a:cubicBezTo>
                    <a:close/>
                    <a:moveTo>
                      <a:pt x="6063" y="16"/>
                    </a:moveTo>
                    <a:lnTo>
                      <a:pt x="6063" y="16"/>
                    </a:lnTo>
                    <a:cubicBezTo>
                      <a:pt x="6058" y="16"/>
                      <a:pt x="6054" y="13"/>
                      <a:pt x="6054" y="8"/>
                    </a:cubicBezTo>
                    <a:cubicBezTo>
                      <a:pt x="6054" y="4"/>
                      <a:pt x="6058" y="0"/>
                      <a:pt x="6063" y="0"/>
                    </a:cubicBezTo>
                    <a:lnTo>
                      <a:pt x="6063" y="0"/>
                    </a:lnTo>
                    <a:cubicBezTo>
                      <a:pt x="6067" y="0"/>
                      <a:pt x="6071" y="4"/>
                      <a:pt x="6071" y="8"/>
                    </a:cubicBezTo>
                    <a:cubicBezTo>
                      <a:pt x="6071" y="13"/>
                      <a:pt x="6067" y="16"/>
                      <a:pt x="6063" y="16"/>
                    </a:cubicBezTo>
                    <a:close/>
                    <a:moveTo>
                      <a:pt x="6029" y="16"/>
                    </a:moveTo>
                    <a:lnTo>
                      <a:pt x="6029" y="16"/>
                    </a:lnTo>
                    <a:cubicBezTo>
                      <a:pt x="6025" y="16"/>
                      <a:pt x="6021" y="13"/>
                      <a:pt x="6021" y="8"/>
                    </a:cubicBezTo>
                    <a:cubicBezTo>
                      <a:pt x="6021" y="4"/>
                      <a:pt x="6025" y="0"/>
                      <a:pt x="6029" y="0"/>
                    </a:cubicBezTo>
                    <a:lnTo>
                      <a:pt x="6029" y="0"/>
                    </a:lnTo>
                    <a:cubicBezTo>
                      <a:pt x="6034" y="0"/>
                      <a:pt x="6038" y="4"/>
                      <a:pt x="6038" y="8"/>
                    </a:cubicBezTo>
                    <a:cubicBezTo>
                      <a:pt x="6038" y="13"/>
                      <a:pt x="6034" y="16"/>
                      <a:pt x="6029" y="16"/>
                    </a:cubicBezTo>
                    <a:close/>
                    <a:moveTo>
                      <a:pt x="5996" y="16"/>
                    </a:moveTo>
                    <a:lnTo>
                      <a:pt x="5996" y="16"/>
                    </a:lnTo>
                    <a:cubicBezTo>
                      <a:pt x="5991" y="16"/>
                      <a:pt x="5988" y="13"/>
                      <a:pt x="5988" y="8"/>
                    </a:cubicBezTo>
                    <a:cubicBezTo>
                      <a:pt x="5988" y="4"/>
                      <a:pt x="5991" y="0"/>
                      <a:pt x="5996" y="0"/>
                    </a:cubicBezTo>
                    <a:lnTo>
                      <a:pt x="5996" y="0"/>
                    </a:lnTo>
                    <a:cubicBezTo>
                      <a:pt x="6001" y="0"/>
                      <a:pt x="6004" y="4"/>
                      <a:pt x="6004" y="8"/>
                    </a:cubicBezTo>
                    <a:cubicBezTo>
                      <a:pt x="6004" y="13"/>
                      <a:pt x="6001" y="16"/>
                      <a:pt x="5996" y="16"/>
                    </a:cubicBezTo>
                    <a:close/>
                    <a:moveTo>
                      <a:pt x="5963" y="16"/>
                    </a:moveTo>
                    <a:lnTo>
                      <a:pt x="5963" y="16"/>
                    </a:lnTo>
                    <a:cubicBezTo>
                      <a:pt x="5958" y="16"/>
                      <a:pt x="5954" y="13"/>
                      <a:pt x="5954" y="8"/>
                    </a:cubicBezTo>
                    <a:cubicBezTo>
                      <a:pt x="5954" y="4"/>
                      <a:pt x="5958" y="0"/>
                      <a:pt x="5963" y="0"/>
                    </a:cubicBezTo>
                    <a:lnTo>
                      <a:pt x="5963" y="0"/>
                    </a:lnTo>
                    <a:cubicBezTo>
                      <a:pt x="5967" y="0"/>
                      <a:pt x="5971" y="4"/>
                      <a:pt x="5971" y="8"/>
                    </a:cubicBezTo>
                    <a:cubicBezTo>
                      <a:pt x="5971" y="13"/>
                      <a:pt x="5967" y="16"/>
                      <a:pt x="5963" y="16"/>
                    </a:cubicBezTo>
                    <a:close/>
                    <a:moveTo>
                      <a:pt x="5929" y="16"/>
                    </a:moveTo>
                    <a:lnTo>
                      <a:pt x="5929" y="16"/>
                    </a:lnTo>
                    <a:cubicBezTo>
                      <a:pt x="5925" y="16"/>
                      <a:pt x="5921" y="13"/>
                      <a:pt x="5921" y="8"/>
                    </a:cubicBezTo>
                    <a:cubicBezTo>
                      <a:pt x="5921" y="4"/>
                      <a:pt x="5925" y="0"/>
                      <a:pt x="5929" y="0"/>
                    </a:cubicBezTo>
                    <a:lnTo>
                      <a:pt x="5929" y="0"/>
                    </a:lnTo>
                    <a:cubicBezTo>
                      <a:pt x="5934" y="0"/>
                      <a:pt x="5938" y="4"/>
                      <a:pt x="5938" y="8"/>
                    </a:cubicBezTo>
                    <a:cubicBezTo>
                      <a:pt x="5938" y="13"/>
                      <a:pt x="5934" y="16"/>
                      <a:pt x="5929" y="16"/>
                    </a:cubicBezTo>
                    <a:close/>
                    <a:moveTo>
                      <a:pt x="5896" y="16"/>
                    </a:moveTo>
                    <a:lnTo>
                      <a:pt x="5896" y="16"/>
                    </a:lnTo>
                    <a:cubicBezTo>
                      <a:pt x="5891" y="16"/>
                      <a:pt x="5888" y="13"/>
                      <a:pt x="5888" y="8"/>
                    </a:cubicBezTo>
                    <a:cubicBezTo>
                      <a:pt x="5888" y="4"/>
                      <a:pt x="5891" y="0"/>
                      <a:pt x="5896" y="0"/>
                    </a:cubicBezTo>
                    <a:lnTo>
                      <a:pt x="5896" y="0"/>
                    </a:lnTo>
                    <a:cubicBezTo>
                      <a:pt x="5901" y="0"/>
                      <a:pt x="5904" y="4"/>
                      <a:pt x="5904" y="8"/>
                    </a:cubicBezTo>
                    <a:cubicBezTo>
                      <a:pt x="5904" y="13"/>
                      <a:pt x="5901" y="16"/>
                      <a:pt x="5896" y="16"/>
                    </a:cubicBezTo>
                    <a:close/>
                    <a:moveTo>
                      <a:pt x="5863" y="16"/>
                    </a:moveTo>
                    <a:lnTo>
                      <a:pt x="5863" y="16"/>
                    </a:lnTo>
                    <a:cubicBezTo>
                      <a:pt x="5858" y="16"/>
                      <a:pt x="5854" y="13"/>
                      <a:pt x="5854" y="8"/>
                    </a:cubicBezTo>
                    <a:cubicBezTo>
                      <a:pt x="5854" y="4"/>
                      <a:pt x="5858" y="0"/>
                      <a:pt x="5863" y="0"/>
                    </a:cubicBezTo>
                    <a:lnTo>
                      <a:pt x="5863" y="0"/>
                    </a:lnTo>
                    <a:cubicBezTo>
                      <a:pt x="5867" y="0"/>
                      <a:pt x="5871" y="4"/>
                      <a:pt x="5871" y="8"/>
                    </a:cubicBezTo>
                    <a:cubicBezTo>
                      <a:pt x="5871" y="13"/>
                      <a:pt x="5867" y="16"/>
                      <a:pt x="5863" y="16"/>
                    </a:cubicBezTo>
                    <a:close/>
                    <a:moveTo>
                      <a:pt x="5829" y="16"/>
                    </a:moveTo>
                    <a:lnTo>
                      <a:pt x="5829" y="16"/>
                    </a:lnTo>
                    <a:cubicBezTo>
                      <a:pt x="5825" y="16"/>
                      <a:pt x="5821" y="13"/>
                      <a:pt x="5821" y="8"/>
                    </a:cubicBezTo>
                    <a:cubicBezTo>
                      <a:pt x="5821" y="4"/>
                      <a:pt x="5825" y="0"/>
                      <a:pt x="5829" y="0"/>
                    </a:cubicBezTo>
                    <a:lnTo>
                      <a:pt x="5829" y="0"/>
                    </a:lnTo>
                    <a:cubicBezTo>
                      <a:pt x="5834" y="0"/>
                      <a:pt x="5838" y="4"/>
                      <a:pt x="5838" y="8"/>
                    </a:cubicBezTo>
                    <a:cubicBezTo>
                      <a:pt x="5838" y="13"/>
                      <a:pt x="5834" y="16"/>
                      <a:pt x="5829" y="16"/>
                    </a:cubicBezTo>
                    <a:close/>
                    <a:moveTo>
                      <a:pt x="5796" y="16"/>
                    </a:moveTo>
                    <a:lnTo>
                      <a:pt x="5796" y="16"/>
                    </a:lnTo>
                    <a:cubicBezTo>
                      <a:pt x="5791" y="16"/>
                      <a:pt x="5788" y="13"/>
                      <a:pt x="5788" y="8"/>
                    </a:cubicBezTo>
                    <a:cubicBezTo>
                      <a:pt x="5788" y="4"/>
                      <a:pt x="5791" y="0"/>
                      <a:pt x="5796" y="0"/>
                    </a:cubicBezTo>
                    <a:lnTo>
                      <a:pt x="5796" y="0"/>
                    </a:lnTo>
                    <a:cubicBezTo>
                      <a:pt x="5800" y="0"/>
                      <a:pt x="5804" y="4"/>
                      <a:pt x="5804" y="8"/>
                    </a:cubicBezTo>
                    <a:cubicBezTo>
                      <a:pt x="5804" y="13"/>
                      <a:pt x="5800" y="16"/>
                      <a:pt x="5796" y="16"/>
                    </a:cubicBezTo>
                    <a:close/>
                    <a:moveTo>
                      <a:pt x="5763" y="16"/>
                    </a:moveTo>
                    <a:lnTo>
                      <a:pt x="5762" y="16"/>
                    </a:lnTo>
                    <a:cubicBezTo>
                      <a:pt x="5758" y="16"/>
                      <a:pt x="5754" y="13"/>
                      <a:pt x="5754" y="8"/>
                    </a:cubicBezTo>
                    <a:cubicBezTo>
                      <a:pt x="5754" y="4"/>
                      <a:pt x="5758" y="0"/>
                      <a:pt x="5762" y="0"/>
                    </a:cubicBezTo>
                    <a:lnTo>
                      <a:pt x="5763" y="0"/>
                    </a:lnTo>
                    <a:cubicBezTo>
                      <a:pt x="5767" y="0"/>
                      <a:pt x="5771" y="4"/>
                      <a:pt x="5771" y="8"/>
                    </a:cubicBezTo>
                    <a:cubicBezTo>
                      <a:pt x="5771" y="13"/>
                      <a:pt x="5767" y="16"/>
                      <a:pt x="5763" y="16"/>
                    </a:cubicBezTo>
                    <a:close/>
                    <a:moveTo>
                      <a:pt x="5729" y="16"/>
                    </a:moveTo>
                    <a:lnTo>
                      <a:pt x="5729" y="16"/>
                    </a:lnTo>
                    <a:cubicBezTo>
                      <a:pt x="5725" y="16"/>
                      <a:pt x="5721" y="13"/>
                      <a:pt x="5721" y="8"/>
                    </a:cubicBezTo>
                    <a:cubicBezTo>
                      <a:pt x="5721" y="4"/>
                      <a:pt x="5725" y="0"/>
                      <a:pt x="5729" y="0"/>
                    </a:cubicBezTo>
                    <a:lnTo>
                      <a:pt x="5729" y="0"/>
                    </a:lnTo>
                    <a:cubicBezTo>
                      <a:pt x="5734" y="0"/>
                      <a:pt x="5737" y="4"/>
                      <a:pt x="5737" y="8"/>
                    </a:cubicBezTo>
                    <a:cubicBezTo>
                      <a:pt x="5737" y="13"/>
                      <a:pt x="5734" y="16"/>
                      <a:pt x="5729" y="16"/>
                    </a:cubicBezTo>
                    <a:close/>
                    <a:moveTo>
                      <a:pt x="5696" y="16"/>
                    </a:moveTo>
                    <a:lnTo>
                      <a:pt x="5696" y="16"/>
                    </a:lnTo>
                    <a:cubicBezTo>
                      <a:pt x="5691" y="16"/>
                      <a:pt x="5687" y="13"/>
                      <a:pt x="5687" y="8"/>
                    </a:cubicBezTo>
                    <a:cubicBezTo>
                      <a:pt x="5687" y="4"/>
                      <a:pt x="5691" y="0"/>
                      <a:pt x="5696" y="0"/>
                    </a:cubicBezTo>
                    <a:lnTo>
                      <a:pt x="5696" y="0"/>
                    </a:lnTo>
                    <a:cubicBezTo>
                      <a:pt x="5700" y="0"/>
                      <a:pt x="5704" y="4"/>
                      <a:pt x="5704" y="8"/>
                    </a:cubicBezTo>
                    <a:cubicBezTo>
                      <a:pt x="5704" y="13"/>
                      <a:pt x="5700" y="16"/>
                      <a:pt x="5696" y="16"/>
                    </a:cubicBezTo>
                    <a:close/>
                    <a:moveTo>
                      <a:pt x="5662" y="16"/>
                    </a:moveTo>
                    <a:lnTo>
                      <a:pt x="5662" y="16"/>
                    </a:lnTo>
                    <a:cubicBezTo>
                      <a:pt x="5658" y="16"/>
                      <a:pt x="5654" y="13"/>
                      <a:pt x="5654" y="8"/>
                    </a:cubicBezTo>
                    <a:cubicBezTo>
                      <a:pt x="5654" y="4"/>
                      <a:pt x="5658" y="0"/>
                      <a:pt x="5662" y="0"/>
                    </a:cubicBezTo>
                    <a:lnTo>
                      <a:pt x="5662" y="0"/>
                    </a:lnTo>
                    <a:cubicBezTo>
                      <a:pt x="5667" y="0"/>
                      <a:pt x="5671" y="4"/>
                      <a:pt x="5671" y="8"/>
                    </a:cubicBezTo>
                    <a:cubicBezTo>
                      <a:pt x="5671" y="13"/>
                      <a:pt x="5667" y="16"/>
                      <a:pt x="5662" y="16"/>
                    </a:cubicBezTo>
                    <a:close/>
                    <a:moveTo>
                      <a:pt x="5629" y="16"/>
                    </a:moveTo>
                    <a:lnTo>
                      <a:pt x="5629" y="16"/>
                    </a:lnTo>
                    <a:cubicBezTo>
                      <a:pt x="5624" y="16"/>
                      <a:pt x="5621" y="13"/>
                      <a:pt x="5621" y="8"/>
                    </a:cubicBezTo>
                    <a:cubicBezTo>
                      <a:pt x="5621" y="4"/>
                      <a:pt x="5624" y="0"/>
                      <a:pt x="5629" y="0"/>
                    </a:cubicBezTo>
                    <a:lnTo>
                      <a:pt x="5629" y="0"/>
                    </a:lnTo>
                    <a:cubicBezTo>
                      <a:pt x="5634" y="0"/>
                      <a:pt x="5637" y="4"/>
                      <a:pt x="5637" y="8"/>
                    </a:cubicBezTo>
                    <a:cubicBezTo>
                      <a:pt x="5637" y="13"/>
                      <a:pt x="5634" y="16"/>
                      <a:pt x="5629" y="16"/>
                    </a:cubicBezTo>
                    <a:close/>
                    <a:moveTo>
                      <a:pt x="5596" y="16"/>
                    </a:moveTo>
                    <a:lnTo>
                      <a:pt x="5596" y="16"/>
                    </a:lnTo>
                    <a:cubicBezTo>
                      <a:pt x="5591" y="16"/>
                      <a:pt x="5587" y="13"/>
                      <a:pt x="5587" y="8"/>
                    </a:cubicBezTo>
                    <a:cubicBezTo>
                      <a:pt x="5587" y="4"/>
                      <a:pt x="5591" y="0"/>
                      <a:pt x="5596" y="0"/>
                    </a:cubicBezTo>
                    <a:lnTo>
                      <a:pt x="5596" y="0"/>
                    </a:lnTo>
                    <a:cubicBezTo>
                      <a:pt x="5600" y="0"/>
                      <a:pt x="5604" y="4"/>
                      <a:pt x="5604" y="8"/>
                    </a:cubicBezTo>
                    <a:cubicBezTo>
                      <a:pt x="5604" y="13"/>
                      <a:pt x="5600" y="16"/>
                      <a:pt x="5596" y="16"/>
                    </a:cubicBezTo>
                    <a:close/>
                    <a:moveTo>
                      <a:pt x="5562" y="16"/>
                    </a:moveTo>
                    <a:lnTo>
                      <a:pt x="5562" y="16"/>
                    </a:lnTo>
                    <a:cubicBezTo>
                      <a:pt x="5558" y="16"/>
                      <a:pt x="5554" y="13"/>
                      <a:pt x="5554" y="8"/>
                    </a:cubicBezTo>
                    <a:cubicBezTo>
                      <a:pt x="5554" y="4"/>
                      <a:pt x="5558" y="0"/>
                      <a:pt x="5562" y="0"/>
                    </a:cubicBezTo>
                    <a:lnTo>
                      <a:pt x="5562" y="0"/>
                    </a:lnTo>
                    <a:cubicBezTo>
                      <a:pt x="5567" y="0"/>
                      <a:pt x="5571" y="4"/>
                      <a:pt x="5571" y="8"/>
                    </a:cubicBezTo>
                    <a:cubicBezTo>
                      <a:pt x="5571" y="13"/>
                      <a:pt x="5567" y="16"/>
                      <a:pt x="5562" y="16"/>
                    </a:cubicBezTo>
                    <a:close/>
                    <a:moveTo>
                      <a:pt x="5529" y="16"/>
                    </a:moveTo>
                    <a:lnTo>
                      <a:pt x="5529" y="16"/>
                    </a:lnTo>
                    <a:cubicBezTo>
                      <a:pt x="5524" y="16"/>
                      <a:pt x="5521" y="13"/>
                      <a:pt x="5521" y="8"/>
                    </a:cubicBezTo>
                    <a:cubicBezTo>
                      <a:pt x="5521" y="4"/>
                      <a:pt x="5524" y="0"/>
                      <a:pt x="5529" y="0"/>
                    </a:cubicBezTo>
                    <a:lnTo>
                      <a:pt x="5529" y="0"/>
                    </a:lnTo>
                    <a:cubicBezTo>
                      <a:pt x="5534" y="0"/>
                      <a:pt x="5537" y="4"/>
                      <a:pt x="5537" y="8"/>
                    </a:cubicBezTo>
                    <a:cubicBezTo>
                      <a:pt x="5537" y="13"/>
                      <a:pt x="5534" y="16"/>
                      <a:pt x="5529" y="16"/>
                    </a:cubicBezTo>
                    <a:close/>
                    <a:moveTo>
                      <a:pt x="5496" y="16"/>
                    </a:moveTo>
                    <a:lnTo>
                      <a:pt x="5496" y="16"/>
                    </a:lnTo>
                    <a:cubicBezTo>
                      <a:pt x="5491" y="16"/>
                      <a:pt x="5487" y="13"/>
                      <a:pt x="5487" y="8"/>
                    </a:cubicBezTo>
                    <a:cubicBezTo>
                      <a:pt x="5487" y="4"/>
                      <a:pt x="5491" y="0"/>
                      <a:pt x="5496" y="0"/>
                    </a:cubicBezTo>
                    <a:lnTo>
                      <a:pt x="5496" y="0"/>
                    </a:lnTo>
                    <a:cubicBezTo>
                      <a:pt x="5500" y="0"/>
                      <a:pt x="5504" y="4"/>
                      <a:pt x="5504" y="8"/>
                    </a:cubicBezTo>
                    <a:cubicBezTo>
                      <a:pt x="5504" y="13"/>
                      <a:pt x="5500" y="16"/>
                      <a:pt x="5496" y="16"/>
                    </a:cubicBezTo>
                    <a:close/>
                    <a:moveTo>
                      <a:pt x="5462" y="16"/>
                    </a:moveTo>
                    <a:lnTo>
                      <a:pt x="5462" y="16"/>
                    </a:lnTo>
                    <a:cubicBezTo>
                      <a:pt x="5458" y="16"/>
                      <a:pt x="5454" y="13"/>
                      <a:pt x="5454" y="8"/>
                    </a:cubicBezTo>
                    <a:cubicBezTo>
                      <a:pt x="5454" y="4"/>
                      <a:pt x="5458" y="0"/>
                      <a:pt x="5462" y="0"/>
                    </a:cubicBezTo>
                    <a:lnTo>
                      <a:pt x="5462" y="0"/>
                    </a:lnTo>
                    <a:cubicBezTo>
                      <a:pt x="5467" y="0"/>
                      <a:pt x="5471" y="4"/>
                      <a:pt x="5471" y="8"/>
                    </a:cubicBezTo>
                    <a:cubicBezTo>
                      <a:pt x="5471" y="13"/>
                      <a:pt x="5467" y="16"/>
                      <a:pt x="5462" y="16"/>
                    </a:cubicBezTo>
                    <a:close/>
                    <a:moveTo>
                      <a:pt x="5429" y="16"/>
                    </a:moveTo>
                    <a:lnTo>
                      <a:pt x="5429" y="16"/>
                    </a:lnTo>
                    <a:cubicBezTo>
                      <a:pt x="5424" y="16"/>
                      <a:pt x="5421" y="13"/>
                      <a:pt x="5421" y="8"/>
                    </a:cubicBezTo>
                    <a:cubicBezTo>
                      <a:pt x="5421" y="4"/>
                      <a:pt x="5424" y="0"/>
                      <a:pt x="5429" y="0"/>
                    </a:cubicBezTo>
                    <a:lnTo>
                      <a:pt x="5429" y="0"/>
                    </a:lnTo>
                    <a:cubicBezTo>
                      <a:pt x="5434" y="0"/>
                      <a:pt x="5437" y="4"/>
                      <a:pt x="5437" y="8"/>
                    </a:cubicBezTo>
                    <a:cubicBezTo>
                      <a:pt x="5437" y="13"/>
                      <a:pt x="5434" y="16"/>
                      <a:pt x="5429" y="16"/>
                    </a:cubicBezTo>
                    <a:close/>
                    <a:moveTo>
                      <a:pt x="5396" y="16"/>
                    </a:moveTo>
                    <a:lnTo>
                      <a:pt x="5396" y="16"/>
                    </a:lnTo>
                    <a:cubicBezTo>
                      <a:pt x="5391" y="16"/>
                      <a:pt x="5387" y="13"/>
                      <a:pt x="5387" y="8"/>
                    </a:cubicBezTo>
                    <a:cubicBezTo>
                      <a:pt x="5387" y="4"/>
                      <a:pt x="5391" y="0"/>
                      <a:pt x="5396" y="0"/>
                    </a:cubicBezTo>
                    <a:lnTo>
                      <a:pt x="5396" y="0"/>
                    </a:lnTo>
                    <a:cubicBezTo>
                      <a:pt x="5400" y="0"/>
                      <a:pt x="5404" y="4"/>
                      <a:pt x="5404" y="8"/>
                    </a:cubicBezTo>
                    <a:cubicBezTo>
                      <a:pt x="5404" y="13"/>
                      <a:pt x="5400" y="16"/>
                      <a:pt x="5396" y="16"/>
                    </a:cubicBezTo>
                    <a:close/>
                    <a:moveTo>
                      <a:pt x="5362" y="16"/>
                    </a:moveTo>
                    <a:lnTo>
                      <a:pt x="5362" y="16"/>
                    </a:lnTo>
                    <a:cubicBezTo>
                      <a:pt x="5358" y="16"/>
                      <a:pt x="5354" y="13"/>
                      <a:pt x="5354" y="8"/>
                    </a:cubicBezTo>
                    <a:cubicBezTo>
                      <a:pt x="5354" y="4"/>
                      <a:pt x="5358" y="0"/>
                      <a:pt x="5362" y="0"/>
                    </a:cubicBezTo>
                    <a:lnTo>
                      <a:pt x="5362" y="0"/>
                    </a:lnTo>
                    <a:cubicBezTo>
                      <a:pt x="5367" y="0"/>
                      <a:pt x="5371" y="4"/>
                      <a:pt x="5371" y="8"/>
                    </a:cubicBezTo>
                    <a:cubicBezTo>
                      <a:pt x="5371" y="13"/>
                      <a:pt x="5367" y="16"/>
                      <a:pt x="5362" y="16"/>
                    </a:cubicBezTo>
                    <a:close/>
                    <a:moveTo>
                      <a:pt x="5329" y="16"/>
                    </a:moveTo>
                    <a:lnTo>
                      <a:pt x="5329" y="16"/>
                    </a:lnTo>
                    <a:cubicBezTo>
                      <a:pt x="5324" y="16"/>
                      <a:pt x="5321" y="13"/>
                      <a:pt x="5321" y="8"/>
                    </a:cubicBezTo>
                    <a:cubicBezTo>
                      <a:pt x="5321" y="4"/>
                      <a:pt x="5324" y="0"/>
                      <a:pt x="5329" y="0"/>
                    </a:cubicBezTo>
                    <a:lnTo>
                      <a:pt x="5329" y="0"/>
                    </a:lnTo>
                    <a:cubicBezTo>
                      <a:pt x="5334" y="0"/>
                      <a:pt x="5337" y="4"/>
                      <a:pt x="5337" y="8"/>
                    </a:cubicBezTo>
                    <a:cubicBezTo>
                      <a:pt x="5337" y="13"/>
                      <a:pt x="5334" y="16"/>
                      <a:pt x="5329" y="16"/>
                    </a:cubicBezTo>
                    <a:close/>
                    <a:moveTo>
                      <a:pt x="5296" y="16"/>
                    </a:moveTo>
                    <a:lnTo>
                      <a:pt x="5296" y="16"/>
                    </a:lnTo>
                    <a:cubicBezTo>
                      <a:pt x="5291" y="16"/>
                      <a:pt x="5287" y="13"/>
                      <a:pt x="5287" y="8"/>
                    </a:cubicBezTo>
                    <a:cubicBezTo>
                      <a:pt x="5287" y="4"/>
                      <a:pt x="5291" y="0"/>
                      <a:pt x="5296" y="0"/>
                    </a:cubicBezTo>
                    <a:lnTo>
                      <a:pt x="5296" y="0"/>
                    </a:lnTo>
                    <a:cubicBezTo>
                      <a:pt x="5300" y="0"/>
                      <a:pt x="5304" y="4"/>
                      <a:pt x="5304" y="8"/>
                    </a:cubicBezTo>
                    <a:cubicBezTo>
                      <a:pt x="5304" y="13"/>
                      <a:pt x="5300" y="16"/>
                      <a:pt x="5296" y="16"/>
                    </a:cubicBezTo>
                    <a:close/>
                    <a:moveTo>
                      <a:pt x="5262" y="16"/>
                    </a:moveTo>
                    <a:lnTo>
                      <a:pt x="5262" y="16"/>
                    </a:lnTo>
                    <a:cubicBezTo>
                      <a:pt x="5258" y="16"/>
                      <a:pt x="5254" y="13"/>
                      <a:pt x="5254" y="8"/>
                    </a:cubicBezTo>
                    <a:cubicBezTo>
                      <a:pt x="5254" y="4"/>
                      <a:pt x="5258" y="0"/>
                      <a:pt x="5262" y="0"/>
                    </a:cubicBezTo>
                    <a:lnTo>
                      <a:pt x="5262" y="0"/>
                    </a:lnTo>
                    <a:cubicBezTo>
                      <a:pt x="5267" y="0"/>
                      <a:pt x="5271" y="4"/>
                      <a:pt x="5271" y="8"/>
                    </a:cubicBezTo>
                    <a:cubicBezTo>
                      <a:pt x="5271" y="13"/>
                      <a:pt x="5267" y="16"/>
                      <a:pt x="5262" y="16"/>
                    </a:cubicBezTo>
                    <a:close/>
                    <a:moveTo>
                      <a:pt x="5229" y="16"/>
                    </a:moveTo>
                    <a:lnTo>
                      <a:pt x="5229" y="16"/>
                    </a:lnTo>
                    <a:cubicBezTo>
                      <a:pt x="5224" y="16"/>
                      <a:pt x="5221" y="13"/>
                      <a:pt x="5221" y="8"/>
                    </a:cubicBezTo>
                    <a:cubicBezTo>
                      <a:pt x="5221" y="4"/>
                      <a:pt x="5224" y="0"/>
                      <a:pt x="5229" y="0"/>
                    </a:cubicBezTo>
                    <a:lnTo>
                      <a:pt x="5229" y="0"/>
                    </a:lnTo>
                    <a:cubicBezTo>
                      <a:pt x="5233" y="0"/>
                      <a:pt x="5237" y="4"/>
                      <a:pt x="5237" y="8"/>
                    </a:cubicBezTo>
                    <a:cubicBezTo>
                      <a:pt x="5237" y="13"/>
                      <a:pt x="5233" y="16"/>
                      <a:pt x="5229" y="16"/>
                    </a:cubicBezTo>
                    <a:close/>
                    <a:moveTo>
                      <a:pt x="5196" y="16"/>
                    </a:moveTo>
                    <a:lnTo>
                      <a:pt x="5196" y="16"/>
                    </a:lnTo>
                    <a:cubicBezTo>
                      <a:pt x="5191" y="16"/>
                      <a:pt x="5187" y="13"/>
                      <a:pt x="5187" y="8"/>
                    </a:cubicBezTo>
                    <a:cubicBezTo>
                      <a:pt x="5187" y="4"/>
                      <a:pt x="5191" y="0"/>
                      <a:pt x="5196" y="0"/>
                    </a:cubicBezTo>
                    <a:lnTo>
                      <a:pt x="5196" y="0"/>
                    </a:lnTo>
                    <a:cubicBezTo>
                      <a:pt x="5200" y="0"/>
                      <a:pt x="5204" y="4"/>
                      <a:pt x="5204" y="8"/>
                    </a:cubicBezTo>
                    <a:cubicBezTo>
                      <a:pt x="5204" y="13"/>
                      <a:pt x="5200" y="16"/>
                      <a:pt x="5196" y="16"/>
                    </a:cubicBezTo>
                    <a:close/>
                    <a:moveTo>
                      <a:pt x="5162" y="16"/>
                    </a:moveTo>
                    <a:lnTo>
                      <a:pt x="5162" y="16"/>
                    </a:lnTo>
                    <a:cubicBezTo>
                      <a:pt x="5158" y="16"/>
                      <a:pt x="5154" y="13"/>
                      <a:pt x="5154" y="8"/>
                    </a:cubicBezTo>
                    <a:cubicBezTo>
                      <a:pt x="5154" y="4"/>
                      <a:pt x="5158" y="0"/>
                      <a:pt x="5162" y="0"/>
                    </a:cubicBezTo>
                    <a:lnTo>
                      <a:pt x="5162" y="0"/>
                    </a:lnTo>
                    <a:cubicBezTo>
                      <a:pt x="5167" y="0"/>
                      <a:pt x="5171" y="4"/>
                      <a:pt x="5171" y="8"/>
                    </a:cubicBezTo>
                    <a:cubicBezTo>
                      <a:pt x="5171" y="13"/>
                      <a:pt x="5167" y="16"/>
                      <a:pt x="5162" y="16"/>
                    </a:cubicBezTo>
                    <a:close/>
                    <a:moveTo>
                      <a:pt x="5129" y="16"/>
                    </a:moveTo>
                    <a:lnTo>
                      <a:pt x="5129" y="16"/>
                    </a:lnTo>
                    <a:cubicBezTo>
                      <a:pt x="5124" y="16"/>
                      <a:pt x="5120" y="13"/>
                      <a:pt x="5120" y="8"/>
                    </a:cubicBezTo>
                    <a:cubicBezTo>
                      <a:pt x="5120" y="4"/>
                      <a:pt x="5124" y="0"/>
                      <a:pt x="5129" y="0"/>
                    </a:cubicBezTo>
                    <a:lnTo>
                      <a:pt x="5129" y="0"/>
                    </a:lnTo>
                    <a:cubicBezTo>
                      <a:pt x="5133" y="0"/>
                      <a:pt x="5137" y="4"/>
                      <a:pt x="5137" y="8"/>
                    </a:cubicBezTo>
                    <a:cubicBezTo>
                      <a:pt x="5137" y="13"/>
                      <a:pt x="5133" y="16"/>
                      <a:pt x="5129" y="16"/>
                    </a:cubicBezTo>
                    <a:close/>
                    <a:moveTo>
                      <a:pt x="5095" y="16"/>
                    </a:moveTo>
                    <a:lnTo>
                      <a:pt x="5095" y="16"/>
                    </a:lnTo>
                    <a:cubicBezTo>
                      <a:pt x="5091" y="16"/>
                      <a:pt x="5087" y="13"/>
                      <a:pt x="5087" y="8"/>
                    </a:cubicBezTo>
                    <a:cubicBezTo>
                      <a:pt x="5087" y="4"/>
                      <a:pt x="5091" y="0"/>
                      <a:pt x="5095" y="0"/>
                    </a:cubicBezTo>
                    <a:lnTo>
                      <a:pt x="5095" y="0"/>
                    </a:lnTo>
                    <a:cubicBezTo>
                      <a:pt x="5100" y="0"/>
                      <a:pt x="5104" y="4"/>
                      <a:pt x="5104" y="8"/>
                    </a:cubicBezTo>
                    <a:cubicBezTo>
                      <a:pt x="5104" y="13"/>
                      <a:pt x="5100" y="16"/>
                      <a:pt x="5095" y="16"/>
                    </a:cubicBezTo>
                    <a:close/>
                    <a:moveTo>
                      <a:pt x="5062" y="16"/>
                    </a:moveTo>
                    <a:lnTo>
                      <a:pt x="5062" y="16"/>
                    </a:lnTo>
                    <a:cubicBezTo>
                      <a:pt x="5058" y="16"/>
                      <a:pt x="5054" y="13"/>
                      <a:pt x="5054" y="8"/>
                    </a:cubicBezTo>
                    <a:cubicBezTo>
                      <a:pt x="5054" y="4"/>
                      <a:pt x="5058" y="0"/>
                      <a:pt x="5062" y="0"/>
                    </a:cubicBezTo>
                    <a:lnTo>
                      <a:pt x="5062" y="0"/>
                    </a:lnTo>
                    <a:cubicBezTo>
                      <a:pt x="5067" y="0"/>
                      <a:pt x="5070" y="4"/>
                      <a:pt x="5070" y="8"/>
                    </a:cubicBezTo>
                    <a:cubicBezTo>
                      <a:pt x="5070" y="13"/>
                      <a:pt x="5067" y="16"/>
                      <a:pt x="5062" y="16"/>
                    </a:cubicBezTo>
                    <a:close/>
                    <a:moveTo>
                      <a:pt x="5029" y="16"/>
                    </a:moveTo>
                    <a:lnTo>
                      <a:pt x="5029" y="16"/>
                    </a:lnTo>
                    <a:cubicBezTo>
                      <a:pt x="5024" y="16"/>
                      <a:pt x="5020" y="13"/>
                      <a:pt x="5020" y="8"/>
                    </a:cubicBezTo>
                    <a:cubicBezTo>
                      <a:pt x="5020" y="4"/>
                      <a:pt x="5024" y="0"/>
                      <a:pt x="5029" y="0"/>
                    </a:cubicBezTo>
                    <a:lnTo>
                      <a:pt x="5029" y="0"/>
                    </a:lnTo>
                    <a:cubicBezTo>
                      <a:pt x="5033" y="0"/>
                      <a:pt x="5037" y="4"/>
                      <a:pt x="5037" y="8"/>
                    </a:cubicBezTo>
                    <a:cubicBezTo>
                      <a:pt x="5037" y="13"/>
                      <a:pt x="5033" y="16"/>
                      <a:pt x="5029" y="16"/>
                    </a:cubicBezTo>
                    <a:close/>
                    <a:moveTo>
                      <a:pt x="4995" y="16"/>
                    </a:moveTo>
                    <a:lnTo>
                      <a:pt x="4995" y="16"/>
                    </a:lnTo>
                    <a:cubicBezTo>
                      <a:pt x="4991" y="16"/>
                      <a:pt x="4987" y="13"/>
                      <a:pt x="4987" y="8"/>
                    </a:cubicBezTo>
                    <a:cubicBezTo>
                      <a:pt x="4987" y="4"/>
                      <a:pt x="4991" y="0"/>
                      <a:pt x="4995" y="0"/>
                    </a:cubicBezTo>
                    <a:lnTo>
                      <a:pt x="4995" y="0"/>
                    </a:lnTo>
                    <a:cubicBezTo>
                      <a:pt x="5000" y="0"/>
                      <a:pt x="5004" y="4"/>
                      <a:pt x="5004" y="8"/>
                    </a:cubicBezTo>
                    <a:cubicBezTo>
                      <a:pt x="5004" y="13"/>
                      <a:pt x="5000" y="16"/>
                      <a:pt x="4995" y="16"/>
                    </a:cubicBezTo>
                    <a:close/>
                    <a:moveTo>
                      <a:pt x="4962" y="16"/>
                    </a:moveTo>
                    <a:lnTo>
                      <a:pt x="4962" y="16"/>
                    </a:lnTo>
                    <a:cubicBezTo>
                      <a:pt x="4957" y="16"/>
                      <a:pt x="4954" y="13"/>
                      <a:pt x="4954" y="8"/>
                    </a:cubicBezTo>
                    <a:cubicBezTo>
                      <a:pt x="4954" y="4"/>
                      <a:pt x="4957" y="0"/>
                      <a:pt x="4962" y="0"/>
                    </a:cubicBezTo>
                    <a:lnTo>
                      <a:pt x="4962" y="0"/>
                    </a:lnTo>
                    <a:cubicBezTo>
                      <a:pt x="4967" y="0"/>
                      <a:pt x="4970" y="4"/>
                      <a:pt x="4970" y="8"/>
                    </a:cubicBezTo>
                    <a:cubicBezTo>
                      <a:pt x="4970" y="13"/>
                      <a:pt x="4967" y="16"/>
                      <a:pt x="4962" y="16"/>
                    </a:cubicBezTo>
                    <a:close/>
                    <a:moveTo>
                      <a:pt x="4929" y="16"/>
                    </a:moveTo>
                    <a:lnTo>
                      <a:pt x="4929" y="16"/>
                    </a:lnTo>
                    <a:cubicBezTo>
                      <a:pt x="4924" y="16"/>
                      <a:pt x="4920" y="13"/>
                      <a:pt x="4920" y="8"/>
                    </a:cubicBezTo>
                    <a:cubicBezTo>
                      <a:pt x="4920" y="4"/>
                      <a:pt x="4924" y="0"/>
                      <a:pt x="4929" y="0"/>
                    </a:cubicBezTo>
                    <a:lnTo>
                      <a:pt x="4929" y="0"/>
                    </a:lnTo>
                    <a:cubicBezTo>
                      <a:pt x="4933" y="0"/>
                      <a:pt x="4937" y="4"/>
                      <a:pt x="4937" y="8"/>
                    </a:cubicBezTo>
                    <a:cubicBezTo>
                      <a:pt x="4937" y="13"/>
                      <a:pt x="4933" y="16"/>
                      <a:pt x="4929" y="16"/>
                    </a:cubicBezTo>
                    <a:close/>
                    <a:moveTo>
                      <a:pt x="4895" y="16"/>
                    </a:moveTo>
                    <a:lnTo>
                      <a:pt x="4895" y="16"/>
                    </a:lnTo>
                    <a:cubicBezTo>
                      <a:pt x="4891" y="16"/>
                      <a:pt x="4887" y="13"/>
                      <a:pt x="4887" y="8"/>
                    </a:cubicBezTo>
                    <a:cubicBezTo>
                      <a:pt x="4887" y="4"/>
                      <a:pt x="4891" y="0"/>
                      <a:pt x="4895" y="0"/>
                    </a:cubicBezTo>
                    <a:lnTo>
                      <a:pt x="4895" y="0"/>
                    </a:lnTo>
                    <a:cubicBezTo>
                      <a:pt x="4900" y="0"/>
                      <a:pt x="4904" y="4"/>
                      <a:pt x="4904" y="8"/>
                    </a:cubicBezTo>
                    <a:cubicBezTo>
                      <a:pt x="4904" y="13"/>
                      <a:pt x="4900" y="16"/>
                      <a:pt x="4895" y="16"/>
                    </a:cubicBezTo>
                    <a:close/>
                    <a:moveTo>
                      <a:pt x="4862" y="16"/>
                    </a:moveTo>
                    <a:lnTo>
                      <a:pt x="4862" y="16"/>
                    </a:lnTo>
                    <a:cubicBezTo>
                      <a:pt x="4857" y="16"/>
                      <a:pt x="4854" y="13"/>
                      <a:pt x="4854" y="8"/>
                    </a:cubicBezTo>
                    <a:cubicBezTo>
                      <a:pt x="4854" y="4"/>
                      <a:pt x="4857" y="0"/>
                      <a:pt x="4862" y="0"/>
                    </a:cubicBezTo>
                    <a:lnTo>
                      <a:pt x="4862" y="0"/>
                    </a:lnTo>
                    <a:cubicBezTo>
                      <a:pt x="4867" y="0"/>
                      <a:pt x="4870" y="4"/>
                      <a:pt x="4870" y="8"/>
                    </a:cubicBezTo>
                    <a:cubicBezTo>
                      <a:pt x="4870" y="13"/>
                      <a:pt x="4867" y="16"/>
                      <a:pt x="4862" y="16"/>
                    </a:cubicBezTo>
                    <a:close/>
                    <a:moveTo>
                      <a:pt x="4829" y="16"/>
                    </a:moveTo>
                    <a:lnTo>
                      <a:pt x="4829" y="16"/>
                    </a:lnTo>
                    <a:cubicBezTo>
                      <a:pt x="4824" y="16"/>
                      <a:pt x="4820" y="13"/>
                      <a:pt x="4820" y="8"/>
                    </a:cubicBezTo>
                    <a:cubicBezTo>
                      <a:pt x="4820" y="4"/>
                      <a:pt x="4824" y="0"/>
                      <a:pt x="4829" y="0"/>
                    </a:cubicBezTo>
                    <a:lnTo>
                      <a:pt x="4829" y="0"/>
                    </a:lnTo>
                    <a:cubicBezTo>
                      <a:pt x="4833" y="0"/>
                      <a:pt x="4837" y="4"/>
                      <a:pt x="4837" y="8"/>
                    </a:cubicBezTo>
                    <a:cubicBezTo>
                      <a:pt x="4837" y="13"/>
                      <a:pt x="4833" y="16"/>
                      <a:pt x="4829" y="16"/>
                    </a:cubicBezTo>
                    <a:close/>
                    <a:moveTo>
                      <a:pt x="4795" y="16"/>
                    </a:moveTo>
                    <a:lnTo>
                      <a:pt x="4795" y="16"/>
                    </a:lnTo>
                    <a:cubicBezTo>
                      <a:pt x="4791" y="16"/>
                      <a:pt x="4787" y="13"/>
                      <a:pt x="4787" y="8"/>
                    </a:cubicBezTo>
                    <a:cubicBezTo>
                      <a:pt x="4787" y="4"/>
                      <a:pt x="4791" y="0"/>
                      <a:pt x="4795" y="0"/>
                    </a:cubicBezTo>
                    <a:lnTo>
                      <a:pt x="4795" y="0"/>
                    </a:lnTo>
                    <a:cubicBezTo>
                      <a:pt x="4800" y="0"/>
                      <a:pt x="4804" y="4"/>
                      <a:pt x="4804" y="8"/>
                    </a:cubicBezTo>
                    <a:cubicBezTo>
                      <a:pt x="4804" y="13"/>
                      <a:pt x="4800" y="16"/>
                      <a:pt x="4795" y="16"/>
                    </a:cubicBezTo>
                    <a:close/>
                    <a:moveTo>
                      <a:pt x="4762" y="16"/>
                    </a:moveTo>
                    <a:lnTo>
                      <a:pt x="4762" y="16"/>
                    </a:lnTo>
                    <a:cubicBezTo>
                      <a:pt x="4757" y="16"/>
                      <a:pt x="4754" y="13"/>
                      <a:pt x="4754" y="8"/>
                    </a:cubicBezTo>
                    <a:cubicBezTo>
                      <a:pt x="4754" y="4"/>
                      <a:pt x="4757" y="0"/>
                      <a:pt x="4762" y="0"/>
                    </a:cubicBezTo>
                    <a:lnTo>
                      <a:pt x="4762" y="0"/>
                    </a:lnTo>
                    <a:cubicBezTo>
                      <a:pt x="4767" y="0"/>
                      <a:pt x="4770" y="4"/>
                      <a:pt x="4770" y="8"/>
                    </a:cubicBezTo>
                    <a:cubicBezTo>
                      <a:pt x="4770" y="13"/>
                      <a:pt x="4767" y="16"/>
                      <a:pt x="4762" y="16"/>
                    </a:cubicBezTo>
                    <a:close/>
                    <a:moveTo>
                      <a:pt x="4729" y="16"/>
                    </a:moveTo>
                    <a:lnTo>
                      <a:pt x="4729" y="16"/>
                    </a:lnTo>
                    <a:cubicBezTo>
                      <a:pt x="4724" y="16"/>
                      <a:pt x="4720" y="13"/>
                      <a:pt x="4720" y="8"/>
                    </a:cubicBezTo>
                    <a:cubicBezTo>
                      <a:pt x="4720" y="4"/>
                      <a:pt x="4724" y="0"/>
                      <a:pt x="4729" y="0"/>
                    </a:cubicBezTo>
                    <a:lnTo>
                      <a:pt x="4729" y="0"/>
                    </a:lnTo>
                    <a:cubicBezTo>
                      <a:pt x="4733" y="0"/>
                      <a:pt x="4737" y="4"/>
                      <a:pt x="4737" y="8"/>
                    </a:cubicBezTo>
                    <a:cubicBezTo>
                      <a:pt x="4737" y="13"/>
                      <a:pt x="4733" y="16"/>
                      <a:pt x="4729" y="16"/>
                    </a:cubicBezTo>
                    <a:close/>
                    <a:moveTo>
                      <a:pt x="4695" y="16"/>
                    </a:moveTo>
                    <a:lnTo>
                      <a:pt x="4695" y="16"/>
                    </a:lnTo>
                    <a:cubicBezTo>
                      <a:pt x="4691" y="16"/>
                      <a:pt x="4687" y="13"/>
                      <a:pt x="4687" y="8"/>
                    </a:cubicBezTo>
                    <a:cubicBezTo>
                      <a:pt x="4687" y="4"/>
                      <a:pt x="4691" y="0"/>
                      <a:pt x="4695" y="0"/>
                    </a:cubicBezTo>
                    <a:lnTo>
                      <a:pt x="4695" y="0"/>
                    </a:lnTo>
                    <a:cubicBezTo>
                      <a:pt x="4700" y="0"/>
                      <a:pt x="4704" y="4"/>
                      <a:pt x="4704" y="8"/>
                    </a:cubicBezTo>
                    <a:cubicBezTo>
                      <a:pt x="4704" y="13"/>
                      <a:pt x="4700" y="16"/>
                      <a:pt x="4695" y="16"/>
                    </a:cubicBezTo>
                    <a:close/>
                    <a:moveTo>
                      <a:pt x="4662" y="16"/>
                    </a:moveTo>
                    <a:lnTo>
                      <a:pt x="4662" y="16"/>
                    </a:lnTo>
                    <a:cubicBezTo>
                      <a:pt x="4657" y="16"/>
                      <a:pt x="4654" y="13"/>
                      <a:pt x="4654" y="8"/>
                    </a:cubicBezTo>
                    <a:cubicBezTo>
                      <a:pt x="4654" y="4"/>
                      <a:pt x="4657" y="0"/>
                      <a:pt x="4662" y="0"/>
                    </a:cubicBezTo>
                    <a:lnTo>
                      <a:pt x="4662" y="0"/>
                    </a:lnTo>
                    <a:cubicBezTo>
                      <a:pt x="4667" y="0"/>
                      <a:pt x="4670" y="4"/>
                      <a:pt x="4670" y="8"/>
                    </a:cubicBezTo>
                    <a:cubicBezTo>
                      <a:pt x="4670" y="13"/>
                      <a:pt x="4667" y="16"/>
                      <a:pt x="4662" y="16"/>
                    </a:cubicBezTo>
                    <a:close/>
                    <a:moveTo>
                      <a:pt x="4629" y="16"/>
                    </a:moveTo>
                    <a:lnTo>
                      <a:pt x="4629" y="16"/>
                    </a:lnTo>
                    <a:cubicBezTo>
                      <a:pt x="4624" y="16"/>
                      <a:pt x="4620" y="13"/>
                      <a:pt x="4620" y="8"/>
                    </a:cubicBezTo>
                    <a:cubicBezTo>
                      <a:pt x="4620" y="4"/>
                      <a:pt x="4624" y="0"/>
                      <a:pt x="4629" y="0"/>
                    </a:cubicBezTo>
                    <a:lnTo>
                      <a:pt x="4629" y="0"/>
                    </a:lnTo>
                    <a:cubicBezTo>
                      <a:pt x="4633" y="0"/>
                      <a:pt x="4637" y="4"/>
                      <a:pt x="4637" y="8"/>
                    </a:cubicBezTo>
                    <a:cubicBezTo>
                      <a:pt x="4637" y="13"/>
                      <a:pt x="4633" y="16"/>
                      <a:pt x="4629" y="16"/>
                    </a:cubicBezTo>
                    <a:close/>
                    <a:moveTo>
                      <a:pt x="4595" y="16"/>
                    </a:moveTo>
                    <a:lnTo>
                      <a:pt x="4595" y="16"/>
                    </a:lnTo>
                    <a:cubicBezTo>
                      <a:pt x="4591" y="16"/>
                      <a:pt x="4587" y="13"/>
                      <a:pt x="4587" y="8"/>
                    </a:cubicBezTo>
                    <a:cubicBezTo>
                      <a:pt x="4587" y="4"/>
                      <a:pt x="4591" y="0"/>
                      <a:pt x="4595" y="0"/>
                    </a:cubicBezTo>
                    <a:lnTo>
                      <a:pt x="4595" y="0"/>
                    </a:lnTo>
                    <a:cubicBezTo>
                      <a:pt x="4600" y="0"/>
                      <a:pt x="4604" y="4"/>
                      <a:pt x="4604" y="8"/>
                    </a:cubicBezTo>
                    <a:cubicBezTo>
                      <a:pt x="4604" y="13"/>
                      <a:pt x="4600" y="16"/>
                      <a:pt x="4595" y="16"/>
                    </a:cubicBezTo>
                    <a:close/>
                    <a:moveTo>
                      <a:pt x="4562" y="16"/>
                    </a:moveTo>
                    <a:lnTo>
                      <a:pt x="4562" y="16"/>
                    </a:lnTo>
                    <a:cubicBezTo>
                      <a:pt x="4557" y="16"/>
                      <a:pt x="4553" y="13"/>
                      <a:pt x="4553" y="8"/>
                    </a:cubicBezTo>
                    <a:cubicBezTo>
                      <a:pt x="4553" y="4"/>
                      <a:pt x="4557" y="0"/>
                      <a:pt x="4562" y="0"/>
                    </a:cubicBezTo>
                    <a:lnTo>
                      <a:pt x="4562" y="0"/>
                    </a:lnTo>
                    <a:cubicBezTo>
                      <a:pt x="4566" y="0"/>
                      <a:pt x="4570" y="4"/>
                      <a:pt x="4570" y="8"/>
                    </a:cubicBezTo>
                    <a:cubicBezTo>
                      <a:pt x="4570" y="13"/>
                      <a:pt x="4566" y="16"/>
                      <a:pt x="4562" y="16"/>
                    </a:cubicBezTo>
                    <a:close/>
                    <a:moveTo>
                      <a:pt x="4528" y="16"/>
                    </a:moveTo>
                    <a:lnTo>
                      <a:pt x="4528" y="16"/>
                    </a:lnTo>
                    <a:cubicBezTo>
                      <a:pt x="4524" y="16"/>
                      <a:pt x="4520" y="13"/>
                      <a:pt x="4520" y="8"/>
                    </a:cubicBezTo>
                    <a:cubicBezTo>
                      <a:pt x="4520" y="4"/>
                      <a:pt x="4524" y="0"/>
                      <a:pt x="4528" y="0"/>
                    </a:cubicBezTo>
                    <a:lnTo>
                      <a:pt x="4528" y="0"/>
                    </a:lnTo>
                    <a:cubicBezTo>
                      <a:pt x="4533" y="0"/>
                      <a:pt x="4537" y="4"/>
                      <a:pt x="4537" y="8"/>
                    </a:cubicBezTo>
                    <a:cubicBezTo>
                      <a:pt x="4537" y="13"/>
                      <a:pt x="4533" y="16"/>
                      <a:pt x="4528" y="16"/>
                    </a:cubicBezTo>
                    <a:close/>
                    <a:moveTo>
                      <a:pt x="4495" y="16"/>
                    </a:moveTo>
                    <a:lnTo>
                      <a:pt x="4495" y="16"/>
                    </a:lnTo>
                    <a:cubicBezTo>
                      <a:pt x="4491" y="16"/>
                      <a:pt x="4487" y="13"/>
                      <a:pt x="4487" y="8"/>
                    </a:cubicBezTo>
                    <a:cubicBezTo>
                      <a:pt x="4487" y="4"/>
                      <a:pt x="4491" y="0"/>
                      <a:pt x="4495" y="0"/>
                    </a:cubicBezTo>
                    <a:lnTo>
                      <a:pt x="4495" y="0"/>
                    </a:lnTo>
                    <a:cubicBezTo>
                      <a:pt x="4500" y="0"/>
                      <a:pt x="4503" y="4"/>
                      <a:pt x="4503" y="8"/>
                    </a:cubicBezTo>
                    <a:cubicBezTo>
                      <a:pt x="4503" y="13"/>
                      <a:pt x="4500" y="16"/>
                      <a:pt x="4495" y="16"/>
                    </a:cubicBezTo>
                    <a:close/>
                    <a:moveTo>
                      <a:pt x="4462" y="16"/>
                    </a:moveTo>
                    <a:lnTo>
                      <a:pt x="4462" y="16"/>
                    </a:lnTo>
                    <a:cubicBezTo>
                      <a:pt x="4457" y="16"/>
                      <a:pt x="4453" y="13"/>
                      <a:pt x="4453" y="8"/>
                    </a:cubicBezTo>
                    <a:cubicBezTo>
                      <a:pt x="4453" y="4"/>
                      <a:pt x="4457" y="0"/>
                      <a:pt x="4462" y="0"/>
                    </a:cubicBezTo>
                    <a:lnTo>
                      <a:pt x="4462" y="0"/>
                    </a:lnTo>
                    <a:cubicBezTo>
                      <a:pt x="4466" y="0"/>
                      <a:pt x="4470" y="4"/>
                      <a:pt x="4470" y="8"/>
                    </a:cubicBezTo>
                    <a:cubicBezTo>
                      <a:pt x="4470" y="13"/>
                      <a:pt x="4466" y="16"/>
                      <a:pt x="4462" y="16"/>
                    </a:cubicBezTo>
                    <a:close/>
                    <a:moveTo>
                      <a:pt x="4428" y="16"/>
                    </a:moveTo>
                    <a:lnTo>
                      <a:pt x="4428" y="16"/>
                    </a:lnTo>
                    <a:cubicBezTo>
                      <a:pt x="4424" y="16"/>
                      <a:pt x="4420" y="13"/>
                      <a:pt x="4420" y="8"/>
                    </a:cubicBezTo>
                    <a:cubicBezTo>
                      <a:pt x="4420" y="4"/>
                      <a:pt x="4424" y="0"/>
                      <a:pt x="4428" y="0"/>
                    </a:cubicBezTo>
                    <a:lnTo>
                      <a:pt x="4428" y="0"/>
                    </a:lnTo>
                    <a:cubicBezTo>
                      <a:pt x="4433" y="0"/>
                      <a:pt x="4437" y="4"/>
                      <a:pt x="4437" y="8"/>
                    </a:cubicBezTo>
                    <a:cubicBezTo>
                      <a:pt x="4437" y="13"/>
                      <a:pt x="4433" y="16"/>
                      <a:pt x="4428" y="16"/>
                    </a:cubicBezTo>
                    <a:close/>
                    <a:moveTo>
                      <a:pt x="4395" y="16"/>
                    </a:moveTo>
                    <a:lnTo>
                      <a:pt x="4395" y="16"/>
                    </a:lnTo>
                    <a:cubicBezTo>
                      <a:pt x="4390" y="16"/>
                      <a:pt x="4387" y="13"/>
                      <a:pt x="4387" y="8"/>
                    </a:cubicBezTo>
                    <a:cubicBezTo>
                      <a:pt x="4387" y="4"/>
                      <a:pt x="4390" y="0"/>
                      <a:pt x="4395" y="0"/>
                    </a:cubicBezTo>
                    <a:lnTo>
                      <a:pt x="4395" y="0"/>
                    </a:lnTo>
                    <a:cubicBezTo>
                      <a:pt x="4400" y="0"/>
                      <a:pt x="4403" y="4"/>
                      <a:pt x="4403" y="8"/>
                    </a:cubicBezTo>
                    <a:cubicBezTo>
                      <a:pt x="4403" y="13"/>
                      <a:pt x="4400" y="16"/>
                      <a:pt x="4395" y="16"/>
                    </a:cubicBezTo>
                    <a:close/>
                    <a:moveTo>
                      <a:pt x="4362" y="16"/>
                    </a:moveTo>
                    <a:lnTo>
                      <a:pt x="4362" y="16"/>
                    </a:lnTo>
                    <a:cubicBezTo>
                      <a:pt x="4357" y="16"/>
                      <a:pt x="4353" y="13"/>
                      <a:pt x="4353" y="8"/>
                    </a:cubicBezTo>
                    <a:cubicBezTo>
                      <a:pt x="4353" y="4"/>
                      <a:pt x="4357" y="0"/>
                      <a:pt x="4362" y="0"/>
                    </a:cubicBezTo>
                    <a:lnTo>
                      <a:pt x="4362" y="0"/>
                    </a:lnTo>
                    <a:cubicBezTo>
                      <a:pt x="4366" y="0"/>
                      <a:pt x="4370" y="4"/>
                      <a:pt x="4370" y="8"/>
                    </a:cubicBezTo>
                    <a:cubicBezTo>
                      <a:pt x="4370" y="13"/>
                      <a:pt x="4366" y="16"/>
                      <a:pt x="4362" y="16"/>
                    </a:cubicBezTo>
                    <a:close/>
                    <a:moveTo>
                      <a:pt x="4328" y="16"/>
                    </a:moveTo>
                    <a:lnTo>
                      <a:pt x="4328" y="16"/>
                    </a:lnTo>
                    <a:cubicBezTo>
                      <a:pt x="4324" y="16"/>
                      <a:pt x="4320" y="13"/>
                      <a:pt x="4320" y="8"/>
                    </a:cubicBezTo>
                    <a:cubicBezTo>
                      <a:pt x="4320" y="4"/>
                      <a:pt x="4324" y="0"/>
                      <a:pt x="4328" y="0"/>
                    </a:cubicBezTo>
                    <a:lnTo>
                      <a:pt x="4328" y="0"/>
                    </a:lnTo>
                    <a:cubicBezTo>
                      <a:pt x="4333" y="0"/>
                      <a:pt x="4337" y="4"/>
                      <a:pt x="4337" y="8"/>
                    </a:cubicBezTo>
                    <a:cubicBezTo>
                      <a:pt x="4337" y="13"/>
                      <a:pt x="4333" y="16"/>
                      <a:pt x="4328" y="16"/>
                    </a:cubicBezTo>
                    <a:close/>
                    <a:moveTo>
                      <a:pt x="4295" y="16"/>
                    </a:moveTo>
                    <a:lnTo>
                      <a:pt x="4295" y="16"/>
                    </a:lnTo>
                    <a:cubicBezTo>
                      <a:pt x="4290" y="16"/>
                      <a:pt x="4287" y="13"/>
                      <a:pt x="4287" y="8"/>
                    </a:cubicBezTo>
                    <a:cubicBezTo>
                      <a:pt x="4287" y="4"/>
                      <a:pt x="4290" y="0"/>
                      <a:pt x="4295" y="0"/>
                    </a:cubicBezTo>
                    <a:lnTo>
                      <a:pt x="4295" y="0"/>
                    </a:lnTo>
                    <a:cubicBezTo>
                      <a:pt x="4300" y="0"/>
                      <a:pt x="4303" y="4"/>
                      <a:pt x="4303" y="8"/>
                    </a:cubicBezTo>
                    <a:cubicBezTo>
                      <a:pt x="4303" y="13"/>
                      <a:pt x="4300" y="16"/>
                      <a:pt x="4295" y="16"/>
                    </a:cubicBezTo>
                    <a:close/>
                    <a:moveTo>
                      <a:pt x="4262" y="16"/>
                    </a:moveTo>
                    <a:lnTo>
                      <a:pt x="4262" y="16"/>
                    </a:lnTo>
                    <a:cubicBezTo>
                      <a:pt x="4257" y="16"/>
                      <a:pt x="4253" y="13"/>
                      <a:pt x="4253" y="8"/>
                    </a:cubicBezTo>
                    <a:cubicBezTo>
                      <a:pt x="4253" y="4"/>
                      <a:pt x="4257" y="0"/>
                      <a:pt x="4262" y="0"/>
                    </a:cubicBezTo>
                    <a:lnTo>
                      <a:pt x="4262" y="0"/>
                    </a:lnTo>
                    <a:cubicBezTo>
                      <a:pt x="4266" y="0"/>
                      <a:pt x="4270" y="4"/>
                      <a:pt x="4270" y="8"/>
                    </a:cubicBezTo>
                    <a:cubicBezTo>
                      <a:pt x="4270" y="13"/>
                      <a:pt x="4266" y="16"/>
                      <a:pt x="4262" y="16"/>
                    </a:cubicBezTo>
                    <a:close/>
                    <a:moveTo>
                      <a:pt x="4228" y="16"/>
                    </a:moveTo>
                    <a:lnTo>
                      <a:pt x="4228" y="16"/>
                    </a:lnTo>
                    <a:cubicBezTo>
                      <a:pt x="4224" y="16"/>
                      <a:pt x="4220" y="13"/>
                      <a:pt x="4220" y="8"/>
                    </a:cubicBezTo>
                    <a:cubicBezTo>
                      <a:pt x="4220" y="4"/>
                      <a:pt x="4224" y="0"/>
                      <a:pt x="4228" y="0"/>
                    </a:cubicBezTo>
                    <a:lnTo>
                      <a:pt x="4228" y="0"/>
                    </a:lnTo>
                    <a:cubicBezTo>
                      <a:pt x="4233" y="0"/>
                      <a:pt x="4237" y="4"/>
                      <a:pt x="4237" y="8"/>
                    </a:cubicBezTo>
                    <a:cubicBezTo>
                      <a:pt x="4237" y="13"/>
                      <a:pt x="4233" y="16"/>
                      <a:pt x="4228" y="16"/>
                    </a:cubicBezTo>
                    <a:close/>
                    <a:moveTo>
                      <a:pt x="4195" y="16"/>
                    </a:moveTo>
                    <a:lnTo>
                      <a:pt x="4195" y="16"/>
                    </a:lnTo>
                    <a:cubicBezTo>
                      <a:pt x="4190" y="16"/>
                      <a:pt x="4187" y="13"/>
                      <a:pt x="4187" y="8"/>
                    </a:cubicBezTo>
                    <a:cubicBezTo>
                      <a:pt x="4187" y="4"/>
                      <a:pt x="4190" y="0"/>
                      <a:pt x="4195" y="0"/>
                    </a:cubicBezTo>
                    <a:lnTo>
                      <a:pt x="4195" y="0"/>
                    </a:lnTo>
                    <a:cubicBezTo>
                      <a:pt x="4200" y="0"/>
                      <a:pt x="4203" y="4"/>
                      <a:pt x="4203" y="8"/>
                    </a:cubicBezTo>
                    <a:cubicBezTo>
                      <a:pt x="4203" y="13"/>
                      <a:pt x="4200" y="16"/>
                      <a:pt x="4195" y="16"/>
                    </a:cubicBezTo>
                    <a:close/>
                    <a:moveTo>
                      <a:pt x="4162" y="16"/>
                    </a:moveTo>
                    <a:lnTo>
                      <a:pt x="4162" y="16"/>
                    </a:lnTo>
                    <a:cubicBezTo>
                      <a:pt x="4157" y="16"/>
                      <a:pt x="4153" y="13"/>
                      <a:pt x="4153" y="8"/>
                    </a:cubicBezTo>
                    <a:cubicBezTo>
                      <a:pt x="4153" y="4"/>
                      <a:pt x="4157" y="0"/>
                      <a:pt x="4162" y="0"/>
                    </a:cubicBezTo>
                    <a:lnTo>
                      <a:pt x="4162" y="0"/>
                    </a:lnTo>
                    <a:cubicBezTo>
                      <a:pt x="4166" y="0"/>
                      <a:pt x="4170" y="4"/>
                      <a:pt x="4170" y="8"/>
                    </a:cubicBezTo>
                    <a:cubicBezTo>
                      <a:pt x="4170" y="13"/>
                      <a:pt x="4166" y="16"/>
                      <a:pt x="4162" y="16"/>
                    </a:cubicBezTo>
                    <a:close/>
                    <a:moveTo>
                      <a:pt x="4128" y="16"/>
                    </a:moveTo>
                    <a:lnTo>
                      <a:pt x="4128" y="16"/>
                    </a:lnTo>
                    <a:cubicBezTo>
                      <a:pt x="4124" y="16"/>
                      <a:pt x="4120" y="13"/>
                      <a:pt x="4120" y="8"/>
                    </a:cubicBezTo>
                    <a:cubicBezTo>
                      <a:pt x="4120" y="4"/>
                      <a:pt x="4124" y="0"/>
                      <a:pt x="4128" y="0"/>
                    </a:cubicBezTo>
                    <a:lnTo>
                      <a:pt x="4128" y="0"/>
                    </a:lnTo>
                    <a:cubicBezTo>
                      <a:pt x="4133" y="0"/>
                      <a:pt x="4137" y="4"/>
                      <a:pt x="4137" y="8"/>
                    </a:cubicBezTo>
                    <a:cubicBezTo>
                      <a:pt x="4137" y="13"/>
                      <a:pt x="4133" y="16"/>
                      <a:pt x="4128" y="16"/>
                    </a:cubicBezTo>
                    <a:close/>
                    <a:moveTo>
                      <a:pt x="4095" y="16"/>
                    </a:moveTo>
                    <a:lnTo>
                      <a:pt x="4095" y="16"/>
                    </a:lnTo>
                    <a:cubicBezTo>
                      <a:pt x="4090" y="16"/>
                      <a:pt x="4087" y="13"/>
                      <a:pt x="4087" y="8"/>
                    </a:cubicBezTo>
                    <a:cubicBezTo>
                      <a:pt x="4087" y="4"/>
                      <a:pt x="4090" y="0"/>
                      <a:pt x="4095" y="0"/>
                    </a:cubicBezTo>
                    <a:lnTo>
                      <a:pt x="4095" y="0"/>
                    </a:lnTo>
                    <a:cubicBezTo>
                      <a:pt x="4100" y="0"/>
                      <a:pt x="4103" y="4"/>
                      <a:pt x="4103" y="8"/>
                    </a:cubicBezTo>
                    <a:cubicBezTo>
                      <a:pt x="4103" y="13"/>
                      <a:pt x="4100" y="16"/>
                      <a:pt x="4095" y="16"/>
                    </a:cubicBezTo>
                    <a:close/>
                    <a:moveTo>
                      <a:pt x="4062" y="16"/>
                    </a:moveTo>
                    <a:lnTo>
                      <a:pt x="4062" y="16"/>
                    </a:lnTo>
                    <a:cubicBezTo>
                      <a:pt x="4057" y="16"/>
                      <a:pt x="4053" y="13"/>
                      <a:pt x="4053" y="8"/>
                    </a:cubicBezTo>
                    <a:cubicBezTo>
                      <a:pt x="4053" y="4"/>
                      <a:pt x="4057" y="0"/>
                      <a:pt x="4062" y="0"/>
                    </a:cubicBezTo>
                    <a:lnTo>
                      <a:pt x="4062" y="0"/>
                    </a:lnTo>
                    <a:cubicBezTo>
                      <a:pt x="4066" y="0"/>
                      <a:pt x="4070" y="4"/>
                      <a:pt x="4070" y="8"/>
                    </a:cubicBezTo>
                    <a:cubicBezTo>
                      <a:pt x="4070" y="13"/>
                      <a:pt x="4066" y="16"/>
                      <a:pt x="4062" y="16"/>
                    </a:cubicBezTo>
                    <a:close/>
                    <a:moveTo>
                      <a:pt x="4028" y="16"/>
                    </a:moveTo>
                    <a:lnTo>
                      <a:pt x="4028" y="16"/>
                    </a:lnTo>
                    <a:cubicBezTo>
                      <a:pt x="4024" y="16"/>
                      <a:pt x="4020" y="13"/>
                      <a:pt x="4020" y="8"/>
                    </a:cubicBezTo>
                    <a:cubicBezTo>
                      <a:pt x="4020" y="4"/>
                      <a:pt x="4024" y="0"/>
                      <a:pt x="4028" y="0"/>
                    </a:cubicBezTo>
                    <a:lnTo>
                      <a:pt x="4028" y="0"/>
                    </a:lnTo>
                    <a:cubicBezTo>
                      <a:pt x="4033" y="0"/>
                      <a:pt x="4037" y="4"/>
                      <a:pt x="4037" y="8"/>
                    </a:cubicBezTo>
                    <a:cubicBezTo>
                      <a:pt x="4037" y="13"/>
                      <a:pt x="4033" y="16"/>
                      <a:pt x="4028" y="16"/>
                    </a:cubicBezTo>
                    <a:close/>
                    <a:moveTo>
                      <a:pt x="3995" y="16"/>
                    </a:moveTo>
                    <a:lnTo>
                      <a:pt x="3995" y="16"/>
                    </a:lnTo>
                    <a:cubicBezTo>
                      <a:pt x="3990" y="16"/>
                      <a:pt x="3987" y="13"/>
                      <a:pt x="3987" y="8"/>
                    </a:cubicBezTo>
                    <a:cubicBezTo>
                      <a:pt x="3987" y="4"/>
                      <a:pt x="3990" y="0"/>
                      <a:pt x="3995" y="0"/>
                    </a:cubicBezTo>
                    <a:lnTo>
                      <a:pt x="3995" y="0"/>
                    </a:lnTo>
                    <a:cubicBezTo>
                      <a:pt x="3999" y="0"/>
                      <a:pt x="4003" y="4"/>
                      <a:pt x="4003" y="8"/>
                    </a:cubicBezTo>
                    <a:cubicBezTo>
                      <a:pt x="4003" y="13"/>
                      <a:pt x="3999" y="16"/>
                      <a:pt x="3995" y="16"/>
                    </a:cubicBezTo>
                    <a:close/>
                    <a:moveTo>
                      <a:pt x="3962" y="16"/>
                    </a:moveTo>
                    <a:lnTo>
                      <a:pt x="3962" y="16"/>
                    </a:lnTo>
                    <a:cubicBezTo>
                      <a:pt x="3957" y="16"/>
                      <a:pt x="3953" y="13"/>
                      <a:pt x="3953" y="8"/>
                    </a:cubicBezTo>
                    <a:cubicBezTo>
                      <a:pt x="3953" y="4"/>
                      <a:pt x="3957" y="0"/>
                      <a:pt x="3962" y="0"/>
                    </a:cubicBezTo>
                    <a:lnTo>
                      <a:pt x="3962" y="0"/>
                    </a:lnTo>
                    <a:cubicBezTo>
                      <a:pt x="3966" y="0"/>
                      <a:pt x="3970" y="4"/>
                      <a:pt x="3970" y="8"/>
                    </a:cubicBezTo>
                    <a:cubicBezTo>
                      <a:pt x="3970" y="13"/>
                      <a:pt x="3966" y="16"/>
                      <a:pt x="3962" y="16"/>
                    </a:cubicBezTo>
                    <a:close/>
                    <a:moveTo>
                      <a:pt x="3928" y="16"/>
                    </a:moveTo>
                    <a:lnTo>
                      <a:pt x="3928" y="16"/>
                    </a:lnTo>
                    <a:cubicBezTo>
                      <a:pt x="3924" y="16"/>
                      <a:pt x="3920" y="13"/>
                      <a:pt x="3920" y="8"/>
                    </a:cubicBezTo>
                    <a:cubicBezTo>
                      <a:pt x="3920" y="4"/>
                      <a:pt x="3924" y="0"/>
                      <a:pt x="3928" y="0"/>
                    </a:cubicBezTo>
                    <a:lnTo>
                      <a:pt x="3928" y="0"/>
                    </a:lnTo>
                    <a:cubicBezTo>
                      <a:pt x="3933" y="0"/>
                      <a:pt x="3937" y="4"/>
                      <a:pt x="3937" y="8"/>
                    </a:cubicBezTo>
                    <a:cubicBezTo>
                      <a:pt x="3937" y="13"/>
                      <a:pt x="3933" y="16"/>
                      <a:pt x="3928" y="16"/>
                    </a:cubicBezTo>
                    <a:close/>
                    <a:moveTo>
                      <a:pt x="3895" y="16"/>
                    </a:moveTo>
                    <a:lnTo>
                      <a:pt x="3895" y="16"/>
                    </a:lnTo>
                    <a:cubicBezTo>
                      <a:pt x="3890" y="16"/>
                      <a:pt x="3886" y="13"/>
                      <a:pt x="3886" y="8"/>
                    </a:cubicBezTo>
                    <a:cubicBezTo>
                      <a:pt x="3886" y="4"/>
                      <a:pt x="3890" y="0"/>
                      <a:pt x="3895" y="0"/>
                    </a:cubicBezTo>
                    <a:lnTo>
                      <a:pt x="3895" y="0"/>
                    </a:lnTo>
                    <a:cubicBezTo>
                      <a:pt x="3899" y="0"/>
                      <a:pt x="3903" y="4"/>
                      <a:pt x="3903" y="8"/>
                    </a:cubicBezTo>
                    <a:cubicBezTo>
                      <a:pt x="3903" y="13"/>
                      <a:pt x="3899" y="16"/>
                      <a:pt x="3895" y="16"/>
                    </a:cubicBezTo>
                    <a:close/>
                    <a:moveTo>
                      <a:pt x="3861" y="16"/>
                    </a:moveTo>
                    <a:lnTo>
                      <a:pt x="3861" y="16"/>
                    </a:lnTo>
                    <a:cubicBezTo>
                      <a:pt x="3857" y="16"/>
                      <a:pt x="3853" y="13"/>
                      <a:pt x="3853" y="8"/>
                    </a:cubicBezTo>
                    <a:cubicBezTo>
                      <a:pt x="3853" y="4"/>
                      <a:pt x="3857" y="0"/>
                      <a:pt x="3861" y="0"/>
                    </a:cubicBezTo>
                    <a:lnTo>
                      <a:pt x="3861" y="0"/>
                    </a:lnTo>
                    <a:cubicBezTo>
                      <a:pt x="3866" y="0"/>
                      <a:pt x="3870" y="4"/>
                      <a:pt x="3870" y="8"/>
                    </a:cubicBezTo>
                    <a:cubicBezTo>
                      <a:pt x="3870" y="13"/>
                      <a:pt x="3866" y="16"/>
                      <a:pt x="3861" y="16"/>
                    </a:cubicBezTo>
                    <a:close/>
                    <a:moveTo>
                      <a:pt x="3828" y="16"/>
                    </a:moveTo>
                    <a:lnTo>
                      <a:pt x="3828" y="16"/>
                    </a:lnTo>
                    <a:cubicBezTo>
                      <a:pt x="3823" y="16"/>
                      <a:pt x="3820" y="13"/>
                      <a:pt x="3820" y="8"/>
                    </a:cubicBezTo>
                    <a:cubicBezTo>
                      <a:pt x="3820" y="4"/>
                      <a:pt x="3823" y="0"/>
                      <a:pt x="3828" y="0"/>
                    </a:cubicBezTo>
                    <a:lnTo>
                      <a:pt x="3828" y="0"/>
                    </a:lnTo>
                    <a:cubicBezTo>
                      <a:pt x="3833" y="0"/>
                      <a:pt x="3836" y="4"/>
                      <a:pt x="3836" y="8"/>
                    </a:cubicBezTo>
                    <a:cubicBezTo>
                      <a:pt x="3836" y="13"/>
                      <a:pt x="3833" y="16"/>
                      <a:pt x="3828" y="16"/>
                    </a:cubicBezTo>
                    <a:close/>
                    <a:moveTo>
                      <a:pt x="3795" y="16"/>
                    </a:moveTo>
                    <a:lnTo>
                      <a:pt x="3795" y="16"/>
                    </a:lnTo>
                    <a:cubicBezTo>
                      <a:pt x="3790" y="16"/>
                      <a:pt x="3786" y="13"/>
                      <a:pt x="3786" y="8"/>
                    </a:cubicBezTo>
                    <a:cubicBezTo>
                      <a:pt x="3786" y="4"/>
                      <a:pt x="3790" y="0"/>
                      <a:pt x="3795" y="0"/>
                    </a:cubicBezTo>
                    <a:lnTo>
                      <a:pt x="3795" y="0"/>
                    </a:lnTo>
                    <a:cubicBezTo>
                      <a:pt x="3799" y="0"/>
                      <a:pt x="3803" y="4"/>
                      <a:pt x="3803" y="8"/>
                    </a:cubicBezTo>
                    <a:cubicBezTo>
                      <a:pt x="3803" y="13"/>
                      <a:pt x="3799" y="16"/>
                      <a:pt x="3795" y="16"/>
                    </a:cubicBezTo>
                    <a:close/>
                    <a:moveTo>
                      <a:pt x="3761" y="16"/>
                    </a:moveTo>
                    <a:lnTo>
                      <a:pt x="3761" y="16"/>
                    </a:lnTo>
                    <a:cubicBezTo>
                      <a:pt x="3757" y="16"/>
                      <a:pt x="3753" y="13"/>
                      <a:pt x="3753" y="8"/>
                    </a:cubicBezTo>
                    <a:cubicBezTo>
                      <a:pt x="3753" y="4"/>
                      <a:pt x="3757" y="0"/>
                      <a:pt x="3761" y="0"/>
                    </a:cubicBezTo>
                    <a:lnTo>
                      <a:pt x="3761" y="0"/>
                    </a:lnTo>
                    <a:cubicBezTo>
                      <a:pt x="3766" y="0"/>
                      <a:pt x="3770" y="4"/>
                      <a:pt x="3770" y="8"/>
                    </a:cubicBezTo>
                    <a:cubicBezTo>
                      <a:pt x="3770" y="13"/>
                      <a:pt x="3766" y="16"/>
                      <a:pt x="3761" y="16"/>
                    </a:cubicBezTo>
                    <a:close/>
                    <a:moveTo>
                      <a:pt x="3728" y="16"/>
                    </a:moveTo>
                    <a:lnTo>
                      <a:pt x="3728" y="16"/>
                    </a:lnTo>
                    <a:cubicBezTo>
                      <a:pt x="3723" y="16"/>
                      <a:pt x="3720" y="13"/>
                      <a:pt x="3720" y="8"/>
                    </a:cubicBezTo>
                    <a:cubicBezTo>
                      <a:pt x="3720" y="4"/>
                      <a:pt x="3723" y="0"/>
                      <a:pt x="3728" y="0"/>
                    </a:cubicBezTo>
                    <a:lnTo>
                      <a:pt x="3728" y="0"/>
                    </a:lnTo>
                    <a:cubicBezTo>
                      <a:pt x="3733" y="0"/>
                      <a:pt x="3736" y="4"/>
                      <a:pt x="3736" y="8"/>
                    </a:cubicBezTo>
                    <a:cubicBezTo>
                      <a:pt x="3736" y="13"/>
                      <a:pt x="3733" y="16"/>
                      <a:pt x="3728" y="16"/>
                    </a:cubicBezTo>
                    <a:close/>
                    <a:moveTo>
                      <a:pt x="3695" y="16"/>
                    </a:moveTo>
                    <a:lnTo>
                      <a:pt x="3695" y="16"/>
                    </a:lnTo>
                    <a:cubicBezTo>
                      <a:pt x="3690" y="16"/>
                      <a:pt x="3686" y="13"/>
                      <a:pt x="3686" y="8"/>
                    </a:cubicBezTo>
                    <a:cubicBezTo>
                      <a:pt x="3686" y="4"/>
                      <a:pt x="3690" y="0"/>
                      <a:pt x="3695" y="0"/>
                    </a:cubicBezTo>
                    <a:lnTo>
                      <a:pt x="3695" y="0"/>
                    </a:lnTo>
                    <a:cubicBezTo>
                      <a:pt x="3699" y="0"/>
                      <a:pt x="3703" y="4"/>
                      <a:pt x="3703" y="8"/>
                    </a:cubicBezTo>
                    <a:cubicBezTo>
                      <a:pt x="3703" y="13"/>
                      <a:pt x="3699" y="16"/>
                      <a:pt x="3695" y="16"/>
                    </a:cubicBezTo>
                    <a:close/>
                    <a:moveTo>
                      <a:pt x="3661" y="16"/>
                    </a:moveTo>
                    <a:lnTo>
                      <a:pt x="3661" y="16"/>
                    </a:lnTo>
                    <a:cubicBezTo>
                      <a:pt x="3657" y="16"/>
                      <a:pt x="3653" y="13"/>
                      <a:pt x="3653" y="8"/>
                    </a:cubicBezTo>
                    <a:cubicBezTo>
                      <a:pt x="3653" y="4"/>
                      <a:pt x="3657" y="0"/>
                      <a:pt x="3661" y="0"/>
                    </a:cubicBezTo>
                    <a:lnTo>
                      <a:pt x="3661" y="0"/>
                    </a:lnTo>
                    <a:cubicBezTo>
                      <a:pt x="3666" y="0"/>
                      <a:pt x="3670" y="4"/>
                      <a:pt x="3670" y="8"/>
                    </a:cubicBezTo>
                    <a:cubicBezTo>
                      <a:pt x="3670" y="13"/>
                      <a:pt x="3666" y="16"/>
                      <a:pt x="3661" y="16"/>
                    </a:cubicBezTo>
                    <a:close/>
                    <a:moveTo>
                      <a:pt x="3628" y="16"/>
                    </a:moveTo>
                    <a:lnTo>
                      <a:pt x="3628" y="16"/>
                    </a:lnTo>
                    <a:cubicBezTo>
                      <a:pt x="3623" y="16"/>
                      <a:pt x="3620" y="13"/>
                      <a:pt x="3620" y="8"/>
                    </a:cubicBezTo>
                    <a:cubicBezTo>
                      <a:pt x="3620" y="4"/>
                      <a:pt x="3623" y="0"/>
                      <a:pt x="3628" y="0"/>
                    </a:cubicBezTo>
                    <a:lnTo>
                      <a:pt x="3628" y="0"/>
                    </a:lnTo>
                    <a:cubicBezTo>
                      <a:pt x="3633" y="0"/>
                      <a:pt x="3636" y="4"/>
                      <a:pt x="3636" y="8"/>
                    </a:cubicBezTo>
                    <a:cubicBezTo>
                      <a:pt x="3636" y="13"/>
                      <a:pt x="3633" y="16"/>
                      <a:pt x="3628" y="16"/>
                    </a:cubicBezTo>
                    <a:close/>
                    <a:moveTo>
                      <a:pt x="3595" y="16"/>
                    </a:moveTo>
                    <a:lnTo>
                      <a:pt x="3595" y="16"/>
                    </a:lnTo>
                    <a:cubicBezTo>
                      <a:pt x="3590" y="16"/>
                      <a:pt x="3586" y="13"/>
                      <a:pt x="3586" y="8"/>
                    </a:cubicBezTo>
                    <a:cubicBezTo>
                      <a:pt x="3586" y="4"/>
                      <a:pt x="3590" y="0"/>
                      <a:pt x="3595" y="0"/>
                    </a:cubicBezTo>
                    <a:lnTo>
                      <a:pt x="3595" y="0"/>
                    </a:lnTo>
                    <a:cubicBezTo>
                      <a:pt x="3599" y="0"/>
                      <a:pt x="3603" y="4"/>
                      <a:pt x="3603" y="8"/>
                    </a:cubicBezTo>
                    <a:cubicBezTo>
                      <a:pt x="3603" y="13"/>
                      <a:pt x="3599" y="16"/>
                      <a:pt x="3595" y="16"/>
                    </a:cubicBezTo>
                    <a:close/>
                    <a:moveTo>
                      <a:pt x="3561" y="16"/>
                    </a:moveTo>
                    <a:lnTo>
                      <a:pt x="3561" y="16"/>
                    </a:lnTo>
                    <a:cubicBezTo>
                      <a:pt x="3557" y="16"/>
                      <a:pt x="3553" y="13"/>
                      <a:pt x="3553" y="8"/>
                    </a:cubicBezTo>
                    <a:cubicBezTo>
                      <a:pt x="3553" y="4"/>
                      <a:pt x="3557" y="0"/>
                      <a:pt x="3561" y="0"/>
                    </a:cubicBezTo>
                    <a:lnTo>
                      <a:pt x="3561" y="0"/>
                    </a:lnTo>
                    <a:cubicBezTo>
                      <a:pt x="3566" y="0"/>
                      <a:pt x="3570" y="4"/>
                      <a:pt x="3570" y="8"/>
                    </a:cubicBezTo>
                    <a:cubicBezTo>
                      <a:pt x="3570" y="13"/>
                      <a:pt x="3566" y="16"/>
                      <a:pt x="3561" y="16"/>
                    </a:cubicBezTo>
                    <a:close/>
                    <a:moveTo>
                      <a:pt x="3528" y="16"/>
                    </a:moveTo>
                    <a:lnTo>
                      <a:pt x="3528" y="16"/>
                    </a:lnTo>
                    <a:cubicBezTo>
                      <a:pt x="3523" y="16"/>
                      <a:pt x="3520" y="13"/>
                      <a:pt x="3520" y="8"/>
                    </a:cubicBezTo>
                    <a:cubicBezTo>
                      <a:pt x="3520" y="4"/>
                      <a:pt x="3523" y="0"/>
                      <a:pt x="3528" y="0"/>
                    </a:cubicBezTo>
                    <a:lnTo>
                      <a:pt x="3528" y="0"/>
                    </a:lnTo>
                    <a:cubicBezTo>
                      <a:pt x="3533" y="0"/>
                      <a:pt x="3536" y="4"/>
                      <a:pt x="3536" y="8"/>
                    </a:cubicBezTo>
                    <a:cubicBezTo>
                      <a:pt x="3536" y="13"/>
                      <a:pt x="3533" y="16"/>
                      <a:pt x="3528" y="16"/>
                    </a:cubicBezTo>
                    <a:close/>
                    <a:moveTo>
                      <a:pt x="3495" y="16"/>
                    </a:moveTo>
                    <a:lnTo>
                      <a:pt x="3495" y="16"/>
                    </a:lnTo>
                    <a:cubicBezTo>
                      <a:pt x="3490" y="16"/>
                      <a:pt x="3486" y="13"/>
                      <a:pt x="3486" y="8"/>
                    </a:cubicBezTo>
                    <a:cubicBezTo>
                      <a:pt x="3486" y="4"/>
                      <a:pt x="3490" y="0"/>
                      <a:pt x="3495" y="0"/>
                    </a:cubicBezTo>
                    <a:lnTo>
                      <a:pt x="3495" y="0"/>
                    </a:lnTo>
                    <a:cubicBezTo>
                      <a:pt x="3499" y="0"/>
                      <a:pt x="3503" y="4"/>
                      <a:pt x="3503" y="8"/>
                    </a:cubicBezTo>
                    <a:cubicBezTo>
                      <a:pt x="3503" y="13"/>
                      <a:pt x="3499" y="16"/>
                      <a:pt x="3495" y="16"/>
                    </a:cubicBezTo>
                    <a:close/>
                    <a:moveTo>
                      <a:pt x="3461" y="16"/>
                    </a:moveTo>
                    <a:lnTo>
                      <a:pt x="3461" y="16"/>
                    </a:lnTo>
                    <a:cubicBezTo>
                      <a:pt x="3457" y="16"/>
                      <a:pt x="3453" y="13"/>
                      <a:pt x="3453" y="8"/>
                    </a:cubicBezTo>
                    <a:cubicBezTo>
                      <a:pt x="3453" y="4"/>
                      <a:pt x="3457" y="0"/>
                      <a:pt x="3461" y="0"/>
                    </a:cubicBezTo>
                    <a:lnTo>
                      <a:pt x="3461" y="0"/>
                    </a:lnTo>
                    <a:cubicBezTo>
                      <a:pt x="3466" y="0"/>
                      <a:pt x="3470" y="4"/>
                      <a:pt x="3470" y="8"/>
                    </a:cubicBezTo>
                    <a:cubicBezTo>
                      <a:pt x="3470" y="13"/>
                      <a:pt x="3466" y="16"/>
                      <a:pt x="3461" y="16"/>
                    </a:cubicBezTo>
                    <a:close/>
                    <a:moveTo>
                      <a:pt x="3428" y="16"/>
                    </a:moveTo>
                    <a:lnTo>
                      <a:pt x="3428" y="16"/>
                    </a:lnTo>
                    <a:cubicBezTo>
                      <a:pt x="3423" y="16"/>
                      <a:pt x="3420" y="13"/>
                      <a:pt x="3420" y="8"/>
                    </a:cubicBezTo>
                    <a:cubicBezTo>
                      <a:pt x="3420" y="4"/>
                      <a:pt x="3423" y="0"/>
                      <a:pt x="3428" y="0"/>
                    </a:cubicBezTo>
                    <a:lnTo>
                      <a:pt x="3428" y="0"/>
                    </a:lnTo>
                    <a:cubicBezTo>
                      <a:pt x="3433" y="0"/>
                      <a:pt x="3436" y="4"/>
                      <a:pt x="3436" y="8"/>
                    </a:cubicBezTo>
                    <a:cubicBezTo>
                      <a:pt x="3436" y="13"/>
                      <a:pt x="3433" y="16"/>
                      <a:pt x="3428" y="16"/>
                    </a:cubicBezTo>
                    <a:close/>
                    <a:moveTo>
                      <a:pt x="3395" y="16"/>
                    </a:moveTo>
                    <a:lnTo>
                      <a:pt x="3395" y="16"/>
                    </a:lnTo>
                    <a:cubicBezTo>
                      <a:pt x="3390" y="16"/>
                      <a:pt x="3386" y="13"/>
                      <a:pt x="3386" y="8"/>
                    </a:cubicBezTo>
                    <a:cubicBezTo>
                      <a:pt x="3386" y="4"/>
                      <a:pt x="3390" y="0"/>
                      <a:pt x="3395" y="0"/>
                    </a:cubicBezTo>
                    <a:lnTo>
                      <a:pt x="3395" y="0"/>
                    </a:lnTo>
                    <a:cubicBezTo>
                      <a:pt x="3399" y="0"/>
                      <a:pt x="3403" y="4"/>
                      <a:pt x="3403" y="8"/>
                    </a:cubicBezTo>
                    <a:cubicBezTo>
                      <a:pt x="3403" y="13"/>
                      <a:pt x="3399" y="16"/>
                      <a:pt x="3395" y="16"/>
                    </a:cubicBezTo>
                    <a:close/>
                    <a:moveTo>
                      <a:pt x="3361" y="16"/>
                    </a:moveTo>
                    <a:lnTo>
                      <a:pt x="3361" y="16"/>
                    </a:lnTo>
                    <a:cubicBezTo>
                      <a:pt x="3357" y="16"/>
                      <a:pt x="3353" y="13"/>
                      <a:pt x="3353" y="8"/>
                    </a:cubicBezTo>
                    <a:cubicBezTo>
                      <a:pt x="3353" y="4"/>
                      <a:pt x="3357" y="0"/>
                      <a:pt x="3361" y="0"/>
                    </a:cubicBezTo>
                    <a:lnTo>
                      <a:pt x="3361" y="0"/>
                    </a:lnTo>
                    <a:cubicBezTo>
                      <a:pt x="3366" y="0"/>
                      <a:pt x="3370" y="4"/>
                      <a:pt x="3370" y="8"/>
                    </a:cubicBezTo>
                    <a:cubicBezTo>
                      <a:pt x="3370" y="13"/>
                      <a:pt x="3366" y="16"/>
                      <a:pt x="3361" y="16"/>
                    </a:cubicBezTo>
                    <a:close/>
                    <a:moveTo>
                      <a:pt x="3328" y="16"/>
                    </a:moveTo>
                    <a:lnTo>
                      <a:pt x="3328" y="16"/>
                    </a:lnTo>
                    <a:cubicBezTo>
                      <a:pt x="3323" y="16"/>
                      <a:pt x="3320" y="13"/>
                      <a:pt x="3320" y="8"/>
                    </a:cubicBezTo>
                    <a:cubicBezTo>
                      <a:pt x="3320" y="4"/>
                      <a:pt x="3323" y="0"/>
                      <a:pt x="3328" y="0"/>
                    </a:cubicBezTo>
                    <a:lnTo>
                      <a:pt x="3328" y="0"/>
                    </a:lnTo>
                    <a:cubicBezTo>
                      <a:pt x="3332" y="0"/>
                      <a:pt x="3336" y="4"/>
                      <a:pt x="3336" y="8"/>
                    </a:cubicBezTo>
                    <a:cubicBezTo>
                      <a:pt x="3336" y="13"/>
                      <a:pt x="3332" y="16"/>
                      <a:pt x="3328" y="16"/>
                    </a:cubicBezTo>
                    <a:close/>
                    <a:moveTo>
                      <a:pt x="3295" y="16"/>
                    </a:moveTo>
                    <a:lnTo>
                      <a:pt x="3294" y="16"/>
                    </a:lnTo>
                    <a:cubicBezTo>
                      <a:pt x="3290" y="16"/>
                      <a:pt x="3286" y="13"/>
                      <a:pt x="3286" y="8"/>
                    </a:cubicBezTo>
                    <a:cubicBezTo>
                      <a:pt x="3286" y="4"/>
                      <a:pt x="3290" y="0"/>
                      <a:pt x="3294" y="0"/>
                    </a:cubicBezTo>
                    <a:lnTo>
                      <a:pt x="3295" y="0"/>
                    </a:lnTo>
                    <a:cubicBezTo>
                      <a:pt x="3299" y="0"/>
                      <a:pt x="3303" y="4"/>
                      <a:pt x="3303" y="8"/>
                    </a:cubicBezTo>
                    <a:cubicBezTo>
                      <a:pt x="3303" y="13"/>
                      <a:pt x="3299" y="16"/>
                      <a:pt x="3295" y="16"/>
                    </a:cubicBezTo>
                    <a:close/>
                    <a:moveTo>
                      <a:pt x="3261" y="16"/>
                    </a:moveTo>
                    <a:lnTo>
                      <a:pt x="3261" y="16"/>
                    </a:lnTo>
                    <a:cubicBezTo>
                      <a:pt x="3257" y="16"/>
                      <a:pt x="3253" y="13"/>
                      <a:pt x="3253" y="8"/>
                    </a:cubicBezTo>
                    <a:cubicBezTo>
                      <a:pt x="3253" y="4"/>
                      <a:pt x="3257" y="0"/>
                      <a:pt x="3261" y="0"/>
                    </a:cubicBezTo>
                    <a:lnTo>
                      <a:pt x="3261" y="0"/>
                    </a:lnTo>
                    <a:cubicBezTo>
                      <a:pt x="3266" y="0"/>
                      <a:pt x="3269" y="4"/>
                      <a:pt x="3269" y="8"/>
                    </a:cubicBezTo>
                    <a:cubicBezTo>
                      <a:pt x="3269" y="13"/>
                      <a:pt x="3266" y="16"/>
                      <a:pt x="3261" y="16"/>
                    </a:cubicBezTo>
                    <a:close/>
                    <a:moveTo>
                      <a:pt x="3228" y="16"/>
                    </a:moveTo>
                    <a:lnTo>
                      <a:pt x="3228" y="16"/>
                    </a:lnTo>
                    <a:cubicBezTo>
                      <a:pt x="3223" y="16"/>
                      <a:pt x="3219" y="13"/>
                      <a:pt x="3219" y="8"/>
                    </a:cubicBezTo>
                    <a:cubicBezTo>
                      <a:pt x="3219" y="4"/>
                      <a:pt x="3223" y="0"/>
                      <a:pt x="3228" y="0"/>
                    </a:cubicBezTo>
                    <a:lnTo>
                      <a:pt x="3228" y="0"/>
                    </a:lnTo>
                    <a:cubicBezTo>
                      <a:pt x="3232" y="0"/>
                      <a:pt x="3236" y="4"/>
                      <a:pt x="3236" y="8"/>
                    </a:cubicBezTo>
                    <a:cubicBezTo>
                      <a:pt x="3236" y="13"/>
                      <a:pt x="3232" y="16"/>
                      <a:pt x="3228" y="16"/>
                    </a:cubicBezTo>
                    <a:close/>
                    <a:moveTo>
                      <a:pt x="3194" y="16"/>
                    </a:moveTo>
                    <a:lnTo>
                      <a:pt x="3194" y="16"/>
                    </a:lnTo>
                    <a:cubicBezTo>
                      <a:pt x="3190" y="16"/>
                      <a:pt x="3186" y="13"/>
                      <a:pt x="3186" y="8"/>
                    </a:cubicBezTo>
                    <a:cubicBezTo>
                      <a:pt x="3186" y="4"/>
                      <a:pt x="3190" y="0"/>
                      <a:pt x="3194" y="0"/>
                    </a:cubicBezTo>
                    <a:lnTo>
                      <a:pt x="3194" y="0"/>
                    </a:lnTo>
                    <a:cubicBezTo>
                      <a:pt x="3199" y="0"/>
                      <a:pt x="3203" y="4"/>
                      <a:pt x="3203" y="8"/>
                    </a:cubicBezTo>
                    <a:cubicBezTo>
                      <a:pt x="3203" y="13"/>
                      <a:pt x="3199" y="16"/>
                      <a:pt x="3194" y="16"/>
                    </a:cubicBezTo>
                    <a:close/>
                    <a:moveTo>
                      <a:pt x="3161" y="16"/>
                    </a:moveTo>
                    <a:lnTo>
                      <a:pt x="3161" y="16"/>
                    </a:lnTo>
                    <a:cubicBezTo>
                      <a:pt x="3156" y="16"/>
                      <a:pt x="3153" y="13"/>
                      <a:pt x="3153" y="8"/>
                    </a:cubicBezTo>
                    <a:cubicBezTo>
                      <a:pt x="3153" y="4"/>
                      <a:pt x="3156" y="0"/>
                      <a:pt x="3161" y="0"/>
                    </a:cubicBezTo>
                    <a:lnTo>
                      <a:pt x="3161" y="0"/>
                    </a:lnTo>
                    <a:cubicBezTo>
                      <a:pt x="3166" y="0"/>
                      <a:pt x="3169" y="4"/>
                      <a:pt x="3169" y="8"/>
                    </a:cubicBezTo>
                    <a:cubicBezTo>
                      <a:pt x="3169" y="13"/>
                      <a:pt x="3166" y="16"/>
                      <a:pt x="3161" y="16"/>
                    </a:cubicBezTo>
                    <a:close/>
                    <a:moveTo>
                      <a:pt x="3128" y="16"/>
                    </a:moveTo>
                    <a:lnTo>
                      <a:pt x="3128" y="16"/>
                    </a:lnTo>
                    <a:cubicBezTo>
                      <a:pt x="3123" y="16"/>
                      <a:pt x="3119" y="13"/>
                      <a:pt x="3119" y="8"/>
                    </a:cubicBezTo>
                    <a:cubicBezTo>
                      <a:pt x="3119" y="4"/>
                      <a:pt x="3123" y="0"/>
                      <a:pt x="3128" y="0"/>
                    </a:cubicBezTo>
                    <a:lnTo>
                      <a:pt x="3128" y="0"/>
                    </a:lnTo>
                    <a:cubicBezTo>
                      <a:pt x="3132" y="0"/>
                      <a:pt x="3136" y="4"/>
                      <a:pt x="3136" y="8"/>
                    </a:cubicBezTo>
                    <a:cubicBezTo>
                      <a:pt x="3136" y="13"/>
                      <a:pt x="3132" y="16"/>
                      <a:pt x="3128" y="16"/>
                    </a:cubicBezTo>
                    <a:close/>
                    <a:moveTo>
                      <a:pt x="3094" y="16"/>
                    </a:moveTo>
                    <a:lnTo>
                      <a:pt x="3094" y="16"/>
                    </a:lnTo>
                    <a:cubicBezTo>
                      <a:pt x="3090" y="16"/>
                      <a:pt x="3086" y="13"/>
                      <a:pt x="3086" y="8"/>
                    </a:cubicBezTo>
                    <a:cubicBezTo>
                      <a:pt x="3086" y="4"/>
                      <a:pt x="3090" y="0"/>
                      <a:pt x="3094" y="0"/>
                    </a:cubicBezTo>
                    <a:lnTo>
                      <a:pt x="3094" y="0"/>
                    </a:lnTo>
                    <a:cubicBezTo>
                      <a:pt x="3099" y="0"/>
                      <a:pt x="3103" y="4"/>
                      <a:pt x="3103" y="8"/>
                    </a:cubicBezTo>
                    <a:cubicBezTo>
                      <a:pt x="3103" y="13"/>
                      <a:pt x="3099" y="16"/>
                      <a:pt x="3094" y="16"/>
                    </a:cubicBezTo>
                    <a:close/>
                    <a:moveTo>
                      <a:pt x="3061" y="16"/>
                    </a:moveTo>
                    <a:lnTo>
                      <a:pt x="3061" y="16"/>
                    </a:lnTo>
                    <a:cubicBezTo>
                      <a:pt x="3056" y="16"/>
                      <a:pt x="3053" y="13"/>
                      <a:pt x="3053" y="8"/>
                    </a:cubicBezTo>
                    <a:cubicBezTo>
                      <a:pt x="3053" y="4"/>
                      <a:pt x="3056" y="0"/>
                      <a:pt x="3061" y="0"/>
                    </a:cubicBezTo>
                    <a:lnTo>
                      <a:pt x="3061" y="0"/>
                    </a:lnTo>
                    <a:cubicBezTo>
                      <a:pt x="3066" y="0"/>
                      <a:pt x="3069" y="4"/>
                      <a:pt x="3069" y="8"/>
                    </a:cubicBezTo>
                    <a:cubicBezTo>
                      <a:pt x="3069" y="13"/>
                      <a:pt x="3066" y="16"/>
                      <a:pt x="3061" y="16"/>
                    </a:cubicBezTo>
                    <a:close/>
                    <a:moveTo>
                      <a:pt x="3028" y="16"/>
                    </a:moveTo>
                    <a:lnTo>
                      <a:pt x="3028" y="16"/>
                    </a:lnTo>
                    <a:cubicBezTo>
                      <a:pt x="3023" y="16"/>
                      <a:pt x="3019" y="13"/>
                      <a:pt x="3019" y="8"/>
                    </a:cubicBezTo>
                    <a:cubicBezTo>
                      <a:pt x="3019" y="4"/>
                      <a:pt x="3023" y="0"/>
                      <a:pt x="3028" y="0"/>
                    </a:cubicBezTo>
                    <a:lnTo>
                      <a:pt x="3028" y="0"/>
                    </a:lnTo>
                    <a:cubicBezTo>
                      <a:pt x="3032" y="0"/>
                      <a:pt x="3036" y="4"/>
                      <a:pt x="3036" y="8"/>
                    </a:cubicBezTo>
                    <a:cubicBezTo>
                      <a:pt x="3036" y="13"/>
                      <a:pt x="3032" y="16"/>
                      <a:pt x="3028" y="16"/>
                    </a:cubicBezTo>
                    <a:close/>
                    <a:moveTo>
                      <a:pt x="2994" y="16"/>
                    </a:moveTo>
                    <a:lnTo>
                      <a:pt x="2994" y="16"/>
                    </a:lnTo>
                    <a:cubicBezTo>
                      <a:pt x="2990" y="16"/>
                      <a:pt x="2986" y="13"/>
                      <a:pt x="2986" y="8"/>
                    </a:cubicBezTo>
                    <a:cubicBezTo>
                      <a:pt x="2986" y="4"/>
                      <a:pt x="2990" y="0"/>
                      <a:pt x="2994" y="0"/>
                    </a:cubicBezTo>
                    <a:lnTo>
                      <a:pt x="2994" y="0"/>
                    </a:lnTo>
                    <a:cubicBezTo>
                      <a:pt x="2999" y="0"/>
                      <a:pt x="3003" y="4"/>
                      <a:pt x="3003" y="8"/>
                    </a:cubicBezTo>
                    <a:cubicBezTo>
                      <a:pt x="3003" y="13"/>
                      <a:pt x="2999" y="16"/>
                      <a:pt x="2994" y="16"/>
                    </a:cubicBezTo>
                    <a:close/>
                    <a:moveTo>
                      <a:pt x="2961" y="16"/>
                    </a:moveTo>
                    <a:lnTo>
                      <a:pt x="2961" y="16"/>
                    </a:lnTo>
                    <a:cubicBezTo>
                      <a:pt x="2956" y="16"/>
                      <a:pt x="2953" y="13"/>
                      <a:pt x="2953" y="8"/>
                    </a:cubicBezTo>
                    <a:cubicBezTo>
                      <a:pt x="2953" y="4"/>
                      <a:pt x="2956" y="0"/>
                      <a:pt x="2961" y="0"/>
                    </a:cubicBezTo>
                    <a:lnTo>
                      <a:pt x="2961" y="0"/>
                    </a:lnTo>
                    <a:cubicBezTo>
                      <a:pt x="2966" y="0"/>
                      <a:pt x="2969" y="4"/>
                      <a:pt x="2969" y="8"/>
                    </a:cubicBezTo>
                    <a:cubicBezTo>
                      <a:pt x="2969" y="13"/>
                      <a:pt x="2966" y="16"/>
                      <a:pt x="2961" y="16"/>
                    </a:cubicBezTo>
                    <a:close/>
                    <a:moveTo>
                      <a:pt x="2928" y="16"/>
                    </a:moveTo>
                    <a:lnTo>
                      <a:pt x="2928" y="16"/>
                    </a:lnTo>
                    <a:cubicBezTo>
                      <a:pt x="2923" y="16"/>
                      <a:pt x="2919" y="13"/>
                      <a:pt x="2919" y="8"/>
                    </a:cubicBezTo>
                    <a:cubicBezTo>
                      <a:pt x="2919" y="4"/>
                      <a:pt x="2923" y="0"/>
                      <a:pt x="2928" y="0"/>
                    </a:cubicBezTo>
                    <a:lnTo>
                      <a:pt x="2928" y="0"/>
                    </a:lnTo>
                    <a:cubicBezTo>
                      <a:pt x="2932" y="0"/>
                      <a:pt x="2936" y="4"/>
                      <a:pt x="2936" y="8"/>
                    </a:cubicBezTo>
                    <a:cubicBezTo>
                      <a:pt x="2936" y="13"/>
                      <a:pt x="2932" y="16"/>
                      <a:pt x="2928" y="16"/>
                    </a:cubicBezTo>
                    <a:close/>
                    <a:moveTo>
                      <a:pt x="2894" y="16"/>
                    </a:moveTo>
                    <a:lnTo>
                      <a:pt x="2894" y="16"/>
                    </a:lnTo>
                    <a:cubicBezTo>
                      <a:pt x="2890" y="16"/>
                      <a:pt x="2886" y="13"/>
                      <a:pt x="2886" y="8"/>
                    </a:cubicBezTo>
                    <a:cubicBezTo>
                      <a:pt x="2886" y="4"/>
                      <a:pt x="2890" y="0"/>
                      <a:pt x="2894" y="0"/>
                    </a:cubicBezTo>
                    <a:lnTo>
                      <a:pt x="2894" y="0"/>
                    </a:lnTo>
                    <a:cubicBezTo>
                      <a:pt x="2899" y="0"/>
                      <a:pt x="2903" y="4"/>
                      <a:pt x="2903" y="8"/>
                    </a:cubicBezTo>
                    <a:cubicBezTo>
                      <a:pt x="2903" y="13"/>
                      <a:pt x="2899" y="16"/>
                      <a:pt x="2894" y="16"/>
                    </a:cubicBezTo>
                    <a:close/>
                    <a:moveTo>
                      <a:pt x="2861" y="16"/>
                    </a:moveTo>
                    <a:lnTo>
                      <a:pt x="2861" y="16"/>
                    </a:lnTo>
                    <a:cubicBezTo>
                      <a:pt x="2856" y="16"/>
                      <a:pt x="2853" y="13"/>
                      <a:pt x="2853" y="8"/>
                    </a:cubicBezTo>
                    <a:cubicBezTo>
                      <a:pt x="2853" y="4"/>
                      <a:pt x="2856" y="0"/>
                      <a:pt x="2861" y="0"/>
                    </a:cubicBezTo>
                    <a:lnTo>
                      <a:pt x="2861" y="0"/>
                    </a:lnTo>
                    <a:cubicBezTo>
                      <a:pt x="2866" y="0"/>
                      <a:pt x="2869" y="4"/>
                      <a:pt x="2869" y="8"/>
                    </a:cubicBezTo>
                    <a:cubicBezTo>
                      <a:pt x="2869" y="13"/>
                      <a:pt x="2866" y="16"/>
                      <a:pt x="2861" y="16"/>
                    </a:cubicBezTo>
                    <a:close/>
                    <a:moveTo>
                      <a:pt x="2828" y="16"/>
                    </a:moveTo>
                    <a:lnTo>
                      <a:pt x="2828" y="16"/>
                    </a:lnTo>
                    <a:cubicBezTo>
                      <a:pt x="2823" y="16"/>
                      <a:pt x="2819" y="13"/>
                      <a:pt x="2819" y="8"/>
                    </a:cubicBezTo>
                    <a:cubicBezTo>
                      <a:pt x="2819" y="4"/>
                      <a:pt x="2823" y="0"/>
                      <a:pt x="2828" y="0"/>
                    </a:cubicBezTo>
                    <a:lnTo>
                      <a:pt x="2828" y="0"/>
                    </a:lnTo>
                    <a:cubicBezTo>
                      <a:pt x="2832" y="0"/>
                      <a:pt x="2836" y="4"/>
                      <a:pt x="2836" y="8"/>
                    </a:cubicBezTo>
                    <a:cubicBezTo>
                      <a:pt x="2836" y="13"/>
                      <a:pt x="2832" y="16"/>
                      <a:pt x="2828" y="16"/>
                    </a:cubicBezTo>
                    <a:close/>
                    <a:moveTo>
                      <a:pt x="2794" y="16"/>
                    </a:moveTo>
                    <a:lnTo>
                      <a:pt x="2794" y="16"/>
                    </a:lnTo>
                    <a:cubicBezTo>
                      <a:pt x="2790" y="16"/>
                      <a:pt x="2786" y="13"/>
                      <a:pt x="2786" y="8"/>
                    </a:cubicBezTo>
                    <a:cubicBezTo>
                      <a:pt x="2786" y="4"/>
                      <a:pt x="2790" y="0"/>
                      <a:pt x="2794" y="0"/>
                    </a:cubicBezTo>
                    <a:lnTo>
                      <a:pt x="2794" y="0"/>
                    </a:lnTo>
                    <a:cubicBezTo>
                      <a:pt x="2799" y="0"/>
                      <a:pt x="2803" y="4"/>
                      <a:pt x="2803" y="8"/>
                    </a:cubicBezTo>
                    <a:cubicBezTo>
                      <a:pt x="2803" y="13"/>
                      <a:pt x="2799" y="16"/>
                      <a:pt x="2794" y="16"/>
                    </a:cubicBezTo>
                    <a:close/>
                    <a:moveTo>
                      <a:pt x="2761" y="16"/>
                    </a:moveTo>
                    <a:lnTo>
                      <a:pt x="2761" y="16"/>
                    </a:lnTo>
                    <a:cubicBezTo>
                      <a:pt x="2756" y="16"/>
                      <a:pt x="2753" y="13"/>
                      <a:pt x="2753" y="8"/>
                    </a:cubicBezTo>
                    <a:cubicBezTo>
                      <a:pt x="2753" y="4"/>
                      <a:pt x="2756" y="0"/>
                      <a:pt x="2761" y="0"/>
                    </a:cubicBezTo>
                    <a:lnTo>
                      <a:pt x="2761" y="0"/>
                    </a:lnTo>
                    <a:cubicBezTo>
                      <a:pt x="2766" y="0"/>
                      <a:pt x="2769" y="4"/>
                      <a:pt x="2769" y="8"/>
                    </a:cubicBezTo>
                    <a:cubicBezTo>
                      <a:pt x="2769" y="13"/>
                      <a:pt x="2766" y="16"/>
                      <a:pt x="2761" y="16"/>
                    </a:cubicBezTo>
                    <a:close/>
                    <a:moveTo>
                      <a:pt x="2728" y="16"/>
                    </a:moveTo>
                    <a:lnTo>
                      <a:pt x="2728" y="16"/>
                    </a:lnTo>
                    <a:cubicBezTo>
                      <a:pt x="2723" y="16"/>
                      <a:pt x="2719" y="13"/>
                      <a:pt x="2719" y="8"/>
                    </a:cubicBezTo>
                    <a:cubicBezTo>
                      <a:pt x="2719" y="4"/>
                      <a:pt x="2723" y="0"/>
                      <a:pt x="2728" y="0"/>
                    </a:cubicBezTo>
                    <a:lnTo>
                      <a:pt x="2728" y="0"/>
                    </a:lnTo>
                    <a:cubicBezTo>
                      <a:pt x="2732" y="0"/>
                      <a:pt x="2736" y="4"/>
                      <a:pt x="2736" y="8"/>
                    </a:cubicBezTo>
                    <a:cubicBezTo>
                      <a:pt x="2736" y="13"/>
                      <a:pt x="2732" y="16"/>
                      <a:pt x="2728" y="16"/>
                    </a:cubicBezTo>
                    <a:close/>
                    <a:moveTo>
                      <a:pt x="2694" y="16"/>
                    </a:moveTo>
                    <a:lnTo>
                      <a:pt x="2694" y="16"/>
                    </a:lnTo>
                    <a:cubicBezTo>
                      <a:pt x="2690" y="16"/>
                      <a:pt x="2686" y="13"/>
                      <a:pt x="2686" y="8"/>
                    </a:cubicBezTo>
                    <a:cubicBezTo>
                      <a:pt x="2686" y="4"/>
                      <a:pt x="2690" y="0"/>
                      <a:pt x="2694" y="0"/>
                    </a:cubicBezTo>
                    <a:lnTo>
                      <a:pt x="2694" y="0"/>
                    </a:lnTo>
                    <a:cubicBezTo>
                      <a:pt x="2699" y="0"/>
                      <a:pt x="2703" y="4"/>
                      <a:pt x="2703" y="8"/>
                    </a:cubicBezTo>
                    <a:cubicBezTo>
                      <a:pt x="2703" y="13"/>
                      <a:pt x="2699" y="16"/>
                      <a:pt x="2694" y="16"/>
                    </a:cubicBezTo>
                    <a:close/>
                    <a:moveTo>
                      <a:pt x="2661" y="16"/>
                    </a:moveTo>
                    <a:lnTo>
                      <a:pt x="2661" y="16"/>
                    </a:lnTo>
                    <a:cubicBezTo>
                      <a:pt x="2656" y="16"/>
                      <a:pt x="2653" y="13"/>
                      <a:pt x="2653" y="8"/>
                    </a:cubicBezTo>
                    <a:cubicBezTo>
                      <a:pt x="2653" y="4"/>
                      <a:pt x="2656" y="0"/>
                      <a:pt x="2661" y="0"/>
                    </a:cubicBezTo>
                    <a:lnTo>
                      <a:pt x="2661" y="0"/>
                    </a:lnTo>
                    <a:cubicBezTo>
                      <a:pt x="2665" y="0"/>
                      <a:pt x="2669" y="4"/>
                      <a:pt x="2669" y="8"/>
                    </a:cubicBezTo>
                    <a:cubicBezTo>
                      <a:pt x="2669" y="13"/>
                      <a:pt x="2665" y="16"/>
                      <a:pt x="2661" y="16"/>
                    </a:cubicBezTo>
                    <a:close/>
                    <a:moveTo>
                      <a:pt x="2628" y="16"/>
                    </a:moveTo>
                    <a:lnTo>
                      <a:pt x="2627" y="16"/>
                    </a:lnTo>
                    <a:cubicBezTo>
                      <a:pt x="2623" y="16"/>
                      <a:pt x="2619" y="13"/>
                      <a:pt x="2619" y="8"/>
                    </a:cubicBezTo>
                    <a:cubicBezTo>
                      <a:pt x="2619" y="4"/>
                      <a:pt x="2623" y="0"/>
                      <a:pt x="2627" y="0"/>
                    </a:cubicBezTo>
                    <a:lnTo>
                      <a:pt x="2628" y="0"/>
                    </a:lnTo>
                    <a:cubicBezTo>
                      <a:pt x="2632" y="0"/>
                      <a:pt x="2636" y="4"/>
                      <a:pt x="2636" y="8"/>
                    </a:cubicBezTo>
                    <a:cubicBezTo>
                      <a:pt x="2636" y="13"/>
                      <a:pt x="2632" y="16"/>
                      <a:pt x="2628" y="16"/>
                    </a:cubicBezTo>
                    <a:close/>
                    <a:moveTo>
                      <a:pt x="2594" y="16"/>
                    </a:moveTo>
                    <a:lnTo>
                      <a:pt x="2594" y="16"/>
                    </a:lnTo>
                    <a:cubicBezTo>
                      <a:pt x="2590" y="16"/>
                      <a:pt x="2586" y="13"/>
                      <a:pt x="2586" y="8"/>
                    </a:cubicBezTo>
                    <a:cubicBezTo>
                      <a:pt x="2586" y="4"/>
                      <a:pt x="2590" y="0"/>
                      <a:pt x="2594" y="0"/>
                    </a:cubicBezTo>
                    <a:lnTo>
                      <a:pt x="2594" y="0"/>
                    </a:lnTo>
                    <a:cubicBezTo>
                      <a:pt x="2599" y="0"/>
                      <a:pt x="2602" y="4"/>
                      <a:pt x="2602" y="8"/>
                    </a:cubicBezTo>
                    <a:cubicBezTo>
                      <a:pt x="2602" y="13"/>
                      <a:pt x="2599" y="16"/>
                      <a:pt x="2594" y="16"/>
                    </a:cubicBezTo>
                    <a:close/>
                    <a:moveTo>
                      <a:pt x="2561" y="16"/>
                    </a:moveTo>
                    <a:lnTo>
                      <a:pt x="2561" y="16"/>
                    </a:lnTo>
                    <a:cubicBezTo>
                      <a:pt x="2556" y="16"/>
                      <a:pt x="2552" y="13"/>
                      <a:pt x="2552" y="8"/>
                    </a:cubicBezTo>
                    <a:cubicBezTo>
                      <a:pt x="2552" y="4"/>
                      <a:pt x="2556" y="0"/>
                      <a:pt x="2561" y="0"/>
                    </a:cubicBezTo>
                    <a:lnTo>
                      <a:pt x="2561" y="0"/>
                    </a:lnTo>
                    <a:cubicBezTo>
                      <a:pt x="2565" y="0"/>
                      <a:pt x="2569" y="4"/>
                      <a:pt x="2569" y="8"/>
                    </a:cubicBezTo>
                    <a:cubicBezTo>
                      <a:pt x="2569" y="13"/>
                      <a:pt x="2565" y="16"/>
                      <a:pt x="2561" y="16"/>
                    </a:cubicBezTo>
                    <a:close/>
                    <a:moveTo>
                      <a:pt x="2527" y="16"/>
                    </a:moveTo>
                    <a:lnTo>
                      <a:pt x="2527" y="16"/>
                    </a:lnTo>
                    <a:cubicBezTo>
                      <a:pt x="2523" y="16"/>
                      <a:pt x="2519" y="13"/>
                      <a:pt x="2519" y="8"/>
                    </a:cubicBezTo>
                    <a:cubicBezTo>
                      <a:pt x="2519" y="4"/>
                      <a:pt x="2523" y="0"/>
                      <a:pt x="2527" y="0"/>
                    </a:cubicBezTo>
                    <a:lnTo>
                      <a:pt x="2527" y="0"/>
                    </a:lnTo>
                    <a:cubicBezTo>
                      <a:pt x="2532" y="0"/>
                      <a:pt x="2536" y="4"/>
                      <a:pt x="2536" y="8"/>
                    </a:cubicBezTo>
                    <a:cubicBezTo>
                      <a:pt x="2536" y="13"/>
                      <a:pt x="2532" y="16"/>
                      <a:pt x="2527" y="16"/>
                    </a:cubicBezTo>
                    <a:close/>
                    <a:moveTo>
                      <a:pt x="2494" y="16"/>
                    </a:moveTo>
                    <a:lnTo>
                      <a:pt x="2494" y="16"/>
                    </a:lnTo>
                    <a:cubicBezTo>
                      <a:pt x="2489" y="16"/>
                      <a:pt x="2486" y="13"/>
                      <a:pt x="2486" y="8"/>
                    </a:cubicBezTo>
                    <a:cubicBezTo>
                      <a:pt x="2486" y="4"/>
                      <a:pt x="2489" y="0"/>
                      <a:pt x="2494" y="0"/>
                    </a:cubicBezTo>
                    <a:lnTo>
                      <a:pt x="2494" y="0"/>
                    </a:lnTo>
                    <a:cubicBezTo>
                      <a:pt x="2499" y="0"/>
                      <a:pt x="2502" y="4"/>
                      <a:pt x="2502" y="8"/>
                    </a:cubicBezTo>
                    <a:cubicBezTo>
                      <a:pt x="2502" y="13"/>
                      <a:pt x="2499" y="16"/>
                      <a:pt x="2494" y="16"/>
                    </a:cubicBezTo>
                    <a:close/>
                    <a:moveTo>
                      <a:pt x="2461" y="16"/>
                    </a:moveTo>
                    <a:lnTo>
                      <a:pt x="2461" y="16"/>
                    </a:lnTo>
                    <a:cubicBezTo>
                      <a:pt x="2456" y="16"/>
                      <a:pt x="2452" y="13"/>
                      <a:pt x="2452" y="8"/>
                    </a:cubicBezTo>
                    <a:cubicBezTo>
                      <a:pt x="2452" y="4"/>
                      <a:pt x="2456" y="0"/>
                      <a:pt x="2461" y="0"/>
                    </a:cubicBezTo>
                    <a:lnTo>
                      <a:pt x="2461" y="0"/>
                    </a:lnTo>
                    <a:cubicBezTo>
                      <a:pt x="2465" y="0"/>
                      <a:pt x="2469" y="4"/>
                      <a:pt x="2469" y="8"/>
                    </a:cubicBezTo>
                    <a:cubicBezTo>
                      <a:pt x="2469" y="13"/>
                      <a:pt x="2465" y="16"/>
                      <a:pt x="2461" y="16"/>
                    </a:cubicBezTo>
                    <a:close/>
                    <a:moveTo>
                      <a:pt x="2427" y="16"/>
                    </a:moveTo>
                    <a:lnTo>
                      <a:pt x="2427" y="16"/>
                    </a:lnTo>
                    <a:cubicBezTo>
                      <a:pt x="2423" y="16"/>
                      <a:pt x="2419" y="13"/>
                      <a:pt x="2419" y="8"/>
                    </a:cubicBezTo>
                    <a:cubicBezTo>
                      <a:pt x="2419" y="4"/>
                      <a:pt x="2423" y="0"/>
                      <a:pt x="2427" y="0"/>
                    </a:cubicBezTo>
                    <a:lnTo>
                      <a:pt x="2427" y="0"/>
                    </a:lnTo>
                    <a:cubicBezTo>
                      <a:pt x="2432" y="0"/>
                      <a:pt x="2436" y="4"/>
                      <a:pt x="2436" y="8"/>
                    </a:cubicBezTo>
                    <a:cubicBezTo>
                      <a:pt x="2436" y="13"/>
                      <a:pt x="2432" y="16"/>
                      <a:pt x="2427" y="16"/>
                    </a:cubicBezTo>
                    <a:close/>
                    <a:moveTo>
                      <a:pt x="2394" y="16"/>
                    </a:moveTo>
                    <a:lnTo>
                      <a:pt x="2394" y="16"/>
                    </a:lnTo>
                    <a:cubicBezTo>
                      <a:pt x="2389" y="16"/>
                      <a:pt x="2386" y="13"/>
                      <a:pt x="2386" y="8"/>
                    </a:cubicBezTo>
                    <a:cubicBezTo>
                      <a:pt x="2386" y="4"/>
                      <a:pt x="2389" y="0"/>
                      <a:pt x="2394" y="0"/>
                    </a:cubicBezTo>
                    <a:lnTo>
                      <a:pt x="2394" y="0"/>
                    </a:lnTo>
                    <a:cubicBezTo>
                      <a:pt x="2399" y="0"/>
                      <a:pt x="2402" y="4"/>
                      <a:pt x="2402" y="8"/>
                    </a:cubicBezTo>
                    <a:cubicBezTo>
                      <a:pt x="2402" y="13"/>
                      <a:pt x="2399" y="16"/>
                      <a:pt x="2394" y="16"/>
                    </a:cubicBezTo>
                    <a:close/>
                    <a:moveTo>
                      <a:pt x="2361" y="16"/>
                    </a:moveTo>
                    <a:lnTo>
                      <a:pt x="2361" y="16"/>
                    </a:lnTo>
                    <a:cubicBezTo>
                      <a:pt x="2356" y="16"/>
                      <a:pt x="2352" y="13"/>
                      <a:pt x="2352" y="8"/>
                    </a:cubicBezTo>
                    <a:cubicBezTo>
                      <a:pt x="2352" y="4"/>
                      <a:pt x="2356" y="0"/>
                      <a:pt x="2361" y="0"/>
                    </a:cubicBezTo>
                    <a:lnTo>
                      <a:pt x="2361" y="0"/>
                    </a:lnTo>
                    <a:cubicBezTo>
                      <a:pt x="2365" y="0"/>
                      <a:pt x="2369" y="4"/>
                      <a:pt x="2369" y="8"/>
                    </a:cubicBezTo>
                    <a:cubicBezTo>
                      <a:pt x="2369" y="13"/>
                      <a:pt x="2365" y="16"/>
                      <a:pt x="2361" y="16"/>
                    </a:cubicBezTo>
                    <a:close/>
                    <a:moveTo>
                      <a:pt x="2327" y="16"/>
                    </a:moveTo>
                    <a:lnTo>
                      <a:pt x="2327" y="16"/>
                    </a:lnTo>
                    <a:cubicBezTo>
                      <a:pt x="2323" y="16"/>
                      <a:pt x="2319" y="13"/>
                      <a:pt x="2319" y="8"/>
                    </a:cubicBezTo>
                    <a:cubicBezTo>
                      <a:pt x="2319" y="4"/>
                      <a:pt x="2323" y="0"/>
                      <a:pt x="2327" y="0"/>
                    </a:cubicBezTo>
                    <a:lnTo>
                      <a:pt x="2327" y="0"/>
                    </a:lnTo>
                    <a:cubicBezTo>
                      <a:pt x="2332" y="0"/>
                      <a:pt x="2336" y="4"/>
                      <a:pt x="2336" y="8"/>
                    </a:cubicBezTo>
                    <a:cubicBezTo>
                      <a:pt x="2336" y="13"/>
                      <a:pt x="2332" y="16"/>
                      <a:pt x="2327" y="16"/>
                    </a:cubicBezTo>
                    <a:close/>
                    <a:moveTo>
                      <a:pt x="2294" y="16"/>
                    </a:moveTo>
                    <a:lnTo>
                      <a:pt x="2294" y="16"/>
                    </a:lnTo>
                    <a:cubicBezTo>
                      <a:pt x="2289" y="16"/>
                      <a:pt x="2286" y="13"/>
                      <a:pt x="2286" y="8"/>
                    </a:cubicBezTo>
                    <a:cubicBezTo>
                      <a:pt x="2286" y="4"/>
                      <a:pt x="2289" y="0"/>
                      <a:pt x="2294" y="0"/>
                    </a:cubicBezTo>
                    <a:lnTo>
                      <a:pt x="2294" y="0"/>
                    </a:lnTo>
                    <a:cubicBezTo>
                      <a:pt x="2299" y="0"/>
                      <a:pt x="2302" y="4"/>
                      <a:pt x="2302" y="8"/>
                    </a:cubicBezTo>
                    <a:cubicBezTo>
                      <a:pt x="2302" y="13"/>
                      <a:pt x="2299" y="16"/>
                      <a:pt x="2294" y="16"/>
                    </a:cubicBezTo>
                    <a:close/>
                    <a:moveTo>
                      <a:pt x="2261" y="16"/>
                    </a:moveTo>
                    <a:lnTo>
                      <a:pt x="2261" y="16"/>
                    </a:lnTo>
                    <a:cubicBezTo>
                      <a:pt x="2256" y="16"/>
                      <a:pt x="2252" y="13"/>
                      <a:pt x="2252" y="8"/>
                    </a:cubicBezTo>
                    <a:cubicBezTo>
                      <a:pt x="2252" y="4"/>
                      <a:pt x="2256" y="0"/>
                      <a:pt x="2261" y="0"/>
                    </a:cubicBezTo>
                    <a:lnTo>
                      <a:pt x="2261" y="0"/>
                    </a:lnTo>
                    <a:cubicBezTo>
                      <a:pt x="2265" y="0"/>
                      <a:pt x="2269" y="4"/>
                      <a:pt x="2269" y="8"/>
                    </a:cubicBezTo>
                    <a:cubicBezTo>
                      <a:pt x="2269" y="13"/>
                      <a:pt x="2265" y="16"/>
                      <a:pt x="2261" y="16"/>
                    </a:cubicBezTo>
                    <a:close/>
                    <a:moveTo>
                      <a:pt x="2227" y="16"/>
                    </a:moveTo>
                    <a:lnTo>
                      <a:pt x="2227" y="16"/>
                    </a:lnTo>
                    <a:cubicBezTo>
                      <a:pt x="2223" y="16"/>
                      <a:pt x="2219" y="13"/>
                      <a:pt x="2219" y="8"/>
                    </a:cubicBezTo>
                    <a:cubicBezTo>
                      <a:pt x="2219" y="4"/>
                      <a:pt x="2223" y="0"/>
                      <a:pt x="2227" y="0"/>
                    </a:cubicBezTo>
                    <a:lnTo>
                      <a:pt x="2227" y="0"/>
                    </a:lnTo>
                    <a:cubicBezTo>
                      <a:pt x="2232" y="0"/>
                      <a:pt x="2236" y="4"/>
                      <a:pt x="2236" y="8"/>
                    </a:cubicBezTo>
                    <a:cubicBezTo>
                      <a:pt x="2236" y="13"/>
                      <a:pt x="2232" y="16"/>
                      <a:pt x="2227" y="16"/>
                    </a:cubicBezTo>
                    <a:close/>
                    <a:moveTo>
                      <a:pt x="2194" y="16"/>
                    </a:moveTo>
                    <a:lnTo>
                      <a:pt x="2194" y="16"/>
                    </a:lnTo>
                    <a:cubicBezTo>
                      <a:pt x="2189" y="16"/>
                      <a:pt x="2186" y="13"/>
                      <a:pt x="2186" y="8"/>
                    </a:cubicBezTo>
                    <a:cubicBezTo>
                      <a:pt x="2186" y="4"/>
                      <a:pt x="2189" y="0"/>
                      <a:pt x="2194" y="0"/>
                    </a:cubicBezTo>
                    <a:lnTo>
                      <a:pt x="2194" y="0"/>
                    </a:lnTo>
                    <a:cubicBezTo>
                      <a:pt x="2199" y="0"/>
                      <a:pt x="2202" y="4"/>
                      <a:pt x="2202" y="8"/>
                    </a:cubicBezTo>
                    <a:cubicBezTo>
                      <a:pt x="2202" y="13"/>
                      <a:pt x="2199" y="16"/>
                      <a:pt x="2194" y="16"/>
                    </a:cubicBezTo>
                    <a:close/>
                    <a:moveTo>
                      <a:pt x="2161" y="16"/>
                    </a:moveTo>
                    <a:lnTo>
                      <a:pt x="2161" y="16"/>
                    </a:lnTo>
                    <a:cubicBezTo>
                      <a:pt x="2156" y="16"/>
                      <a:pt x="2152" y="13"/>
                      <a:pt x="2152" y="8"/>
                    </a:cubicBezTo>
                    <a:cubicBezTo>
                      <a:pt x="2152" y="4"/>
                      <a:pt x="2156" y="0"/>
                      <a:pt x="2161" y="0"/>
                    </a:cubicBezTo>
                    <a:lnTo>
                      <a:pt x="2161" y="0"/>
                    </a:lnTo>
                    <a:cubicBezTo>
                      <a:pt x="2165" y="0"/>
                      <a:pt x="2169" y="4"/>
                      <a:pt x="2169" y="8"/>
                    </a:cubicBezTo>
                    <a:cubicBezTo>
                      <a:pt x="2169" y="13"/>
                      <a:pt x="2165" y="16"/>
                      <a:pt x="2161" y="16"/>
                    </a:cubicBezTo>
                    <a:close/>
                    <a:moveTo>
                      <a:pt x="2127" y="16"/>
                    </a:moveTo>
                    <a:lnTo>
                      <a:pt x="2127" y="16"/>
                    </a:lnTo>
                    <a:cubicBezTo>
                      <a:pt x="2123" y="16"/>
                      <a:pt x="2119" y="13"/>
                      <a:pt x="2119" y="8"/>
                    </a:cubicBezTo>
                    <a:cubicBezTo>
                      <a:pt x="2119" y="4"/>
                      <a:pt x="2123" y="0"/>
                      <a:pt x="2127" y="0"/>
                    </a:cubicBezTo>
                    <a:lnTo>
                      <a:pt x="2127" y="0"/>
                    </a:lnTo>
                    <a:cubicBezTo>
                      <a:pt x="2132" y="0"/>
                      <a:pt x="2136" y="4"/>
                      <a:pt x="2136" y="8"/>
                    </a:cubicBezTo>
                    <a:cubicBezTo>
                      <a:pt x="2136" y="13"/>
                      <a:pt x="2132" y="16"/>
                      <a:pt x="2127" y="16"/>
                    </a:cubicBezTo>
                    <a:close/>
                    <a:moveTo>
                      <a:pt x="2094" y="16"/>
                    </a:moveTo>
                    <a:lnTo>
                      <a:pt x="2094" y="16"/>
                    </a:lnTo>
                    <a:cubicBezTo>
                      <a:pt x="2089" y="16"/>
                      <a:pt x="2086" y="13"/>
                      <a:pt x="2086" y="8"/>
                    </a:cubicBezTo>
                    <a:cubicBezTo>
                      <a:pt x="2086" y="4"/>
                      <a:pt x="2089" y="0"/>
                      <a:pt x="2094" y="0"/>
                    </a:cubicBezTo>
                    <a:lnTo>
                      <a:pt x="2094" y="0"/>
                    </a:lnTo>
                    <a:cubicBezTo>
                      <a:pt x="2099" y="0"/>
                      <a:pt x="2102" y="4"/>
                      <a:pt x="2102" y="8"/>
                    </a:cubicBezTo>
                    <a:cubicBezTo>
                      <a:pt x="2102" y="13"/>
                      <a:pt x="2099" y="16"/>
                      <a:pt x="2094" y="16"/>
                    </a:cubicBezTo>
                    <a:close/>
                    <a:moveTo>
                      <a:pt x="2061" y="16"/>
                    </a:moveTo>
                    <a:lnTo>
                      <a:pt x="2061" y="16"/>
                    </a:lnTo>
                    <a:cubicBezTo>
                      <a:pt x="2056" y="16"/>
                      <a:pt x="2052" y="13"/>
                      <a:pt x="2052" y="8"/>
                    </a:cubicBezTo>
                    <a:cubicBezTo>
                      <a:pt x="2052" y="4"/>
                      <a:pt x="2056" y="0"/>
                      <a:pt x="2061" y="0"/>
                    </a:cubicBezTo>
                    <a:lnTo>
                      <a:pt x="2061" y="0"/>
                    </a:lnTo>
                    <a:cubicBezTo>
                      <a:pt x="2065" y="0"/>
                      <a:pt x="2069" y="4"/>
                      <a:pt x="2069" y="8"/>
                    </a:cubicBezTo>
                    <a:cubicBezTo>
                      <a:pt x="2069" y="13"/>
                      <a:pt x="2065" y="16"/>
                      <a:pt x="2061" y="16"/>
                    </a:cubicBezTo>
                    <a:close/>
                    <a:moveTo>
                      <a:pt x="2027" y="16"/>
                    </a:moveTo>
                    <a:lnTo>
                      <a:pt x="2027" y="16"/>
                    </a:lnTo>
                    <a:cubicBezTo>
                      <a:pt x="2023" y="16"/>
                      <a:pt x="2019" y="13"/>
                      <a:pt x="2019" y="8"/>
                    </a:cubicBezTo>
                    <a:cubicBezTo>
                      <a:pt x="2019" y="4"/>
                      <a:pt x="2023" y="0"/>
                      <a:pt x="2027" y="0"/>
                    </a:cubicBezTo>
                    <a:lnTo>
                      <a:pt x="2027" y="0"/>
                    </a:lnTo>
                    <a:cubicBezTo>
                      <a:pt x="2032" y="0"/>
                      <a:pt x="2036" y="4"/>
                      <a:pt x="2036" y="8"/>
                    </a:cubicBezTo>
                    <a:cubicBezTo>
                      <a:pt x="2036" y="13"/>
                      <a:pt x="2032" y="16"/>
                      <a:pt x="2027" y="16"/>
                    </a:cubicBezTo>
                    <a:close/>
                    <a:moveTo>
                      <a:pt x="1994" y="16"/>
                    </a:moveTo>
                    <a:lnTo>
                      <a:pt x="1994" y="16"/>
                    </a:lnTo>
                    <a:cubicBezTo>
                      <a:pt x="1989" y="16"/>
                      <a:pt x="1986" y="13"/>
                      <a:pt x="1986" y="8"/>
                    </a:cubicBezTo>
                    <a:cubicBezTo>
                      <a:pt x="1986" y="4"/>
                      <a:pt x="1989" y="0"/>
                      <a:pt x="1994" y="0"/>
                    </a:cubicBezTo>
                    <a:lnTo>
                      <a:pt x="1994" y="0"/>
                    </a:lnTo>
                    <a:cubicBezTo>
                      <a:pt x="1998" y="0"/>
                      <a:pt x="2002" y="4"/>
                      <a:pt x="2002" y="8"/>
                    </a:cubicBezTo>
                    <a:cubicBezTo>
                      <a:pt x="2002" y="13"/>
                      <a:pt x="1998" y="16"/>
                      <a:pt x="1994" y="16"/>
                    </a:cubicBezTo>
                    <a:close/>
                    <a:moveTo>
                      <a:pt x="1961" y="16"/>
                    </a:moveTo>
                    <a:lnTo>
                      <a:pt x="1961" y="16"/>
                    </a:lnTo>
                    <a:cubicBezTo>
                      <a:pt x="1956" y="16"/>
                      <a:pt x="1952" y="13"/>
                      <a:pt x="1952" y="8"/>
                    </a:cubicBezTo>
                    <a:cubicBezTo>
                      <a:pt x="1952" y="4"/>
                      <a:pt x="1956" y="0"/>
                      <a:pt x="1961" y="0"/>
                    </a:cubicBezTo>
                    <a:lnTo>
                      <a:pt x="1961" y="0"/>
                    </a:lnTo>
                    <a:cubicBezTo>
                      <a:pt x="1965" y="0"/>
                      <a:pt x="1969" y="4"/>
                      <a:pt x="1969" y="8"/>
                    </a:cubicBezTo>
                    <a:cubicBezTo>
                      <a:pt x="1969" y="13"/>
                      <a:pt x="1965" y="16"/>
                      <a:pt x="1961" y="16"/>
                    </a:cubicBezTo>
                    <a:close/>
                    <a:moveTo>
                      <a:pt x="1927" y="16"/>
                    </a:moveTo>
                    <a:lnTo>
                      <a:pt x="1927" y="16"/>
                    </a:lnTo>
                    <a:cubicBezTo>
                      <a:pt x="1923" y="16"/>
                      <a:pt x="1919" y="13"/>
                      <a:pt x="1919" y="8"/>
                    </a:cubicBezTo>
                    <a:cubicBezTo>
                      <a:pt x="1919" y="4"/>
                      <a:pt x="1923" y="0"/>
                      <a:pt x="1927" y="0"/>
                    </a:cubicBezTo>
                    <a:lnTo>
                      <a:pt x="1927" y="0"/>
                    </a:lnTo>
                    <a:cubicBezTo>
                      <a:pt x="1932" y="0"/>
                      <a:pt x="1936" y="4"/>
                      <a:pt x="1936" y="8"/>
                    </a:cubicBezTo>
                    <a:cubicBezTo>
                      <a:pt x="1936" y="13"/>
                      <a:pt x="1932" y="16"/>
                      <a:pt x="1927" y="16"/>
                    </a:cubicBezTo>
                    <a:close/>
                    <a:moveTo>
                      <a:pt x="1894" y="16"/>
                    </a:moveTo>
                    <a:lnTo>
                      <a:pt x="1894" y="16"/>
                    </a:lnTo>
                    <a:cubicBezTo>
                      <a:pt x="1889" y="16"/>
                      <a:pt x="1885" y="13"/>
                      <a:pt x="1885" y="8"/>
                    </a:cubicBezTo>
                    <a:cubicBezTo>
                      <a:pt x="1885" y="4"/>
                      <a:pt x="1889" y="0"/>
                      <a:pt x="1894" y="0"/>
                    </a:cubicBezTo>
                    <a:lnTo>
                      <a:pt x="1894" y="0"/>
                    </a:lnTo>
                    <a:cubicBezTo>
                      <a:pt x="1898" y="0"/>
                      <a:pt x="1902" y="4"/>
                      <a:pt x="1902" y="8"/>
                    </a:cubicBezTo>
                    <a:cubicBezTo>
                      <a:pt x="1902" y="13"/>
                      <a:pt x="1898" y="16"/>
                      <a:pt x="1894" y="16"/>
                    </a:cubicBezTo>
                    <a:close/>
                    <a:moveTo>
                      <a:pt x="1860" y="16"/>
                    </a:moveTo>
                    <a:lnTo>
                      <a:pt x="1860" y="16"/>
                    </a:lnTo>
                    <a:cubicBezTo>
                      <a:pt x="1856" y="16"/>
                      <a:pt x="1852" y="13"/>
                      <a:pt x="1852" y="8"/>
                    </a:cubicBezTo>
                    <a:cubicBezTo>
                      <a:pt x="1852" y="4"/>
                      <a:pt x="1856" y="0"/>
                      <a:pt x="1860" y="0"/>
                    </a:cubicBezTo>
                    <a:lnTo>
                      <a:pt x="1860" y="0"/>
                    </a:lnTo>
                    <a:cubicBezTo>
                      <a:pt x="1865" y="0"/>
                      <a:pt x="1869" y="4"/>
                      <a:pt x="1869" y="8"/>
                    </a:cubicBezTo>
                    <a:cubicBezTo>
                      <a:pt x="1869" y="13"/>
                      <a:pt x="1865" y="16"/>
                      <a:pt x="1860" y="16"/>
                    </a:cubicBezTo>
                    <a:close/>
                    <a:moveTo>
                      <a:pt x="1827" y="16"/>
                    </a:moveTo>
                    <a:lnTo>
                      <a:pt x="1827" y="16"/>
                    </a:lnTo>
                    <a:cubicBezTo>
                      <a:pt x="1823" y="16"/>
                      <a:pt x="1819" y="13"/>
                      <a:pt x="1819" y="8"/>
                    </a:cubicBezTo>
                    <a:cubicBezTo>
                      <a:pt x="1819" y="4"/>
                      <a:pt x="1823" y="0"/>
                      <a:pt x="1827" y="0"/>
                    </a:cubicBezTo>
                    <a:lnTo>
                      <a:pt x="1827" y="0"/>
                    </a:lnTo>
                    <a:cubicBezTo>
                      <a:pt x="1832" y="0"/>
                      <a:pt x="1835" y="4"/>
                      <a:pt x="1835" y="8"/>
                    </a:cubicBezTo>
                    <a:cubicBezTo>
                      <a:pt x="1835" y="13"/>
                      <a:pt x="1832" y="16"/>
                      <a:pt x="1827" y="16"/>
                    </a:cubicBezTo>
                    <a:close/>
                    <a:moveTo>
                      <a:pt x="1794" y="16"/>
                    </a:moveTo>
                    <a:lnTo>
                      <a:pt x="1794" y="16"/>
                    </a:lnTo>
                    <a:cubicBezTo>
                      <a:pt x="1789" y="16"/>
                      <a:pt x="1785" y="13"/>
                      <a:pt x="1785" y="8"/>
                    </a:cubicBezTo>
                    <a:cubicBezTo>
                      <a:pt x="1785" y="4"/>
                      <a:pt x="1789" y="0"/>
                      <a:pt x="1794" y="0"/>
                    </a:cubicBezTo>
                    <a:lnTo>
                      <a:pt x="1794" y="0"/>
                    </a:lnTo>
                    <a:cubicBezTo>
                      <a:pt x="1798" y="0"/>
                      <a:pt x="1802" y="4"/>
                      <a:pt x="1802" y="8"/>
                    </a:cubicBezTo>
                    <a:cubicBezTo>
                      <a:pt x="1802" y="13"/>
                      <a:pt x="1798" y="16"/>
                      <a:pt x="1794" y="16"/>
                    </a:cubicBezTo>
                    <a:close/>
                    <a:moveTo>
                      <a:pt x="1760" y="16"/>
                    </a:moveTo>
                    <a:lnTo>
                      <a:pt x="1760" y="16"/>
                    </a:lnTo>
                    <a:cubicBezTo>
                      <a:pt x="1756" y="16"/>
                      <a:pt x="1752" y="13"/>
                      <a:pt x="1752" y="8"/>
                    </a:cubicBezTo>
                    <a:cubicBezTo>
                      <a:pt x="1752" y="4"/>
                      <a:pt x="1756" y="0"/>
                      <a:pt x="1760" y="0"/>
                    </a:cubicBezTo>
                    <a:lnTo>
                      <a:pt x="1760" y="0"/>
                    </a:lnTo>
                    <a:cubicBezTo>
                      <a:pt x="1765" y="0"/>
                      <a:pt x="1769" y="4"/>
                      <a:pt x="1769" y="8"/>
                    </a:cubicBezTo>
                    <a:cubicBezTo>
                      <a:pt x="1769" y="13"/>
                      <a:pt x="1765" y="16"/>
                      <a:pt x="1760" y="16"/>
                    </a:cubicBezTo>
                    <a:close/>
                    <a:moveTo>
                      <a:pt x="1727" y="16"/>
                    </a:moveTo>
                    <a:lnTo>
                      <a:pt x="1727" y="16"/>
                    </a:lnTo>
                    <a:cubicBezTo>
                      <a:pt x="1722" y="16"/>
                      <a:pt x="1719" y="13"/>
                      <a:pt x="1719" y="8"/>
                    </a:cubicBezTo>
                    <a:cubicBezTo>
                      <a:pt x="1719" y="4"/>
                      <a:pt x="1722" y="0"/>
                      <a:pt x="1727" y="0"/>
                    </a:cubicBezTo>
                    <a:lnTo>
                      <a:pt x="1727" y="0"/>
                    </a:lnTo>
                    <a:cubicBezTo>
                      <a:pt x="1732" y="0"/>
                      <a:pt x="1735" y="4"/>
                      <a:pt x="1735" y="8"/>
                    </a:cubicBezTo>
                    <a:cubicBezTo>
                      <a:pt x="1735" y="13"/>
                      <a:pt x="1732" y="16"/>
                      <a:pt x="1727" y="16"/>
                    </a:cubicBezTo>
                    <a:close/>
                    <a:moveTo>
                      <a:pt x="1694" y="16"/>
                    </a:moveTo>
                    <a:lnTo>
                      <a:pt x="1694" y="16"/>
                    </a:lnTo>
                    <a:cubicBezTo>
                      <a:pt x="1689" y="16"/>
                      <a:pt x="1685" y="13"/>
                      <a:pt x="1685" y="8"/>
                    </a:cubicBezTo>
                    <a:cubicBezTo>
                      <a:pt x="1685" y="4"/>
                      <a:pt x="1689" y="0"/>
                      <a:pt x="1694" y="0"/>
                    </a:cubicBezTo>
                    <a:lnTo>
                      <a:pt x="1694" y="0"/>
                    </a:lnTo>
                    <a:cubicBezTo>
                      <a:pt x="1698" y="0"/>
                      <a:pt x="1702" y="4"/>
                      <a:pt x="1702" y="8"/>
                    </a:cubicBezTo>
                    <a:cubicBezTo>
                      <a:pt x="1702" y="13"/>
                      <a:pt x="1698" y="16"/>
                      <a:pt x="1694" y="16"/>
                    </a:cubicBezTo>
                    <a:close/>
                    <a:moveTo>
                      <a:pt x="1660" y="16"/>
                    </a:moveTo>
                    <a:lnTo>
                      <a:pt x="1660" y="16"/>
                    </a:lnTo>
                    <a:cubicBezTo>
                      <a:pt x="1656" y="16"/>
                      <a:pt x="1652" y="13"/>
                      <a:pt x="1652" y="8"/>
                    </a:cubicBezTo>
                    <a:cubicBezTo>
                      <a:pt x="1652" y="4"/>
                      <a:pt x="1656" y="0"/>
                      <a:pt x="1660" y="0"/>
                    </a:cubicBezTo>
                    <a:lnTo>
                      <a:pt x="1660" y="0"/>
                    </a:lnTo>
                    <a:cubicBezTo>
                      <a:pt x="1665" y="0"/>
                      <a:pt x="1669" y="4"/>
                      <a:pt x="1669" y="8"/>
                    </a:cubicBezTo>
                    <a:cubicBezTo>
                      <a:pt x="1669" y="13"/>
                      <a:pt x="1665" y="16"/>
                      <a:pt x="1660" y="16"/>
                    </a:cubicBezTo>
                    <a:close/>
                    <a:moveTo>
                      <a:pt x="1627" y="16"/>
                    </a:moveTo>
                    <a:lnTo>
                      <a:pt x="1627" y="16"/>
                    </a:lnTo>
                    <a:cubicBezTo>
                      <a:pt x="1622" y="16"/>
                      <a:pt x="1619" y="13"/>
                      <a:pt x="1619" y="8"/>
                    </a:cubicBezTo>
                    <a:cubicBezTo>
                      <a:pt x="1619" y="4"/>
                      <a:pt x="1622" y="0"/>
                      <a:pt x="1627" y="0"/>
                    </a:cubicBezTo>
                    <a:lnTo>
                      <a:pt x="1627" y="0"/>
                    </a:lnTo>
                    <a:cubicBezTo>
                      <a:pt x="1632" y="0"/>
                      <a:pt x="1635" y="4"/>
                      <a:pt x="1635" y="8"/>
                    </a:cubicBezTo>
                    <a:cubicBezTo>
                      <a:pt x="1635" y="13"/>
                      <a:pt x="1632" y="16"/>
                      <a:pt x="1627" y="16"/>
                    </a:cubicBezTo>
                    <a:close/>
                    <a:moveTo>
                      <a:pt x="1594" y="16"/>
                    </a:moveTo>
                    <a:lnTo>
                      <a:pt x="1594" y="16"/>
                    </a:lnTo>
                    <a:cubicBezTo>
                      <a:pt x="1589" y="16"/>
                      <a:pt x="1585" y="13"/>
                      <a:pt x="1585" y="8"/>
                    </a:cubicBezTo>
                    <a:cubicBezTo>
                      <a:pt x="1585" y="4"/>
                      <a:pt x="1589" y="0"/>
                      <a:pt x="1594" y="0"/>
                    </a:cubicBezTo>
                    <a:lnTo>
                      <a:pt x="1594" y="0"/>
                    </a:lnTo>
                    <a:cubicBezTo>
                      <a:pt x="1598" y="0"/>
                      <a:pt x="1602" y="4"/>
                      <a:pt x="1602" y="8"/>
                    </a:cubicBezTo>
                    <a:cubicBezTo>
                      <a:pt x="1602" y="13"/>
                      <a:pt x="1598" y="16"/>
                      <a:pt x="1594" y="16"/>
                    </a:cubicBezTo>
                    <a:close/>
                    <a:moveTo>
                      <a:pt x="1560" y="16"/>
                    </a:moveTo>
                    <a:lnTo>
                      <a:pt x="1560" y="16"/>
                    </a:lnTo>
                    <a:cubicBezTo>
                      <a:pt x="1556" y="16"/>
                      <a:pt x="1552" y="13"/>
                      <a:pt x="1552" y="8"/>
                    </a:cubicBezTo>
                    <a:cubicBezTo>
                      <a:pt x="1552" y="4"/>
                      <a:pt x="1556" y="0"/>
                      <a:pt x="1560" y="0"/>
                    </a:cubicBezTo>
                    <a:lnTo>
                      <a:pt x="1560" y="0"/>
                    </a:lnTo>
                    <a:cubicBezTo>
                      <a:pt x="1565" y="0"/>
                      <a:pt x="1569" y="4"/>
                      <a:pt x="1569" y="8"/>
                    </a:cubicBezTo>
                    <a:cubicBezTo>
                      <a:pt x="1569" y="13"/>
                      <a:pt x="1565" y="16"/>
                      <a:pt x="1560" y="16"/>
                    </a:cubicBezTo>
                    <a:close/>
                    <a:moveTo>
                      <a:pt x="1527" y="16"/>
                    </a:moveTo>
                    <a:lnTo>
                      <a:pt x="1527" y="16"/>
                    </a:lnTo>
                    <a:cubicBezTo>
                      <a:pt x="1522" y="16"/>
                      <a:pt x="1519" y="13"/>
                      <a:pt x="1519" y="8"/>
                    </a:cubicBezTo>
                    <a:cubicBezTo>
                      <a:pt x="1519" y="4"/>
                      <a:pt x="1522" y="0"/>
                      <a:pt x="1527" y="0"/>
                    </a:cubicBezTo>
                    <a:lnTo>
                      <a:pt x="1527" y="0"/>
                    </a:lnTo>
                    <a:cubicBezTo>
                      <a:pt x="1532" y="0"/>
                      <a:pt x="1535" y="4"/>
                      <a:pt x="1535" y="8"/>
                    </a:cubicBezTo>
                    <a:cubicBezTo>
                      <a:pt x="1535" y="13"/>
                      <a:pt x="1532" y="16"/>
                      <a:pt x="1527" y="16"/>
                    </a:cubicBezTo>
                    <a:close/>
                    <a:moveTo>
                      <a:pt x="1494" y="16"/>
                    </a:moveTo>
                    <a:lnTo>
                      <a:pt x="1494" y="16"/>
                    </a:lnTo>
                    <a:cubicBezTo>
                      <a:pt x="1489" y="16"/>
                      <a:pt x="1485" y="13"/>
                      <a:pt x="1485" y="8"/>
                    </a:cubicBezTo>
                    <a:cubicBezTo>
                      <a:pt x="1485" y="4"/>
                      <a:pt x="1489" y="0"/>
                      <a:pt x="1494" y="0"/>
                    </a:cubicBezTo>
                    <a:lnTo>
                      <a:pt x="1494" y="0"/>
                    </a:lnTo>
                    <a:cubicBezTo>
                      <a:pt x="1498" y="0"/>
                      <a:pt x="1502" y="4"/>
                      <a:pt x="1502" y="8"/>
                    </a:cubicBezTo>
                    <a:cubicBezTo>
                      <a:pt x="1502" y="13"/>
                      <a:pt x="1498" y="16"/>
                      <a:pt x="1494" y="16"/>
                    </a:cubicBezTo>
                    <a:close/>
                    <a:moveTo>
                      <a:pt x="1460" y="16"/>
                    </a:moveTo>
                    <a:lnTo>
                      <a:pt x="1460" y="16"/>
                    </a:lnTo>
                    <a:cubicBezTo>
                      <a:pt x="1456" y="16"/>
                      <a:pt x="1452" y="13"/>
                      <a:pt x="1452" y="8"/>
                    </a:cubicBezTo>
                    <a:cubicBezTo>
                      <a:pt x="1452" y="4"/>
                      <a:pt x="1456" y="0"/>
                      <a:pt x="1460" y="0"/>
                    </a:cubicBezTo>
                    <a:lnTo>
                      <a:pt x="1460" y="0"/>
                    </a:lnTo>
                    <a:cubicBezTo>
                      <a:pt x="1465" y="0"/>
                      <a:pt x="1469" y="4"/>
                      <a:pt x="1469" y="8"/>
                    </a:cubicBezTo>
                    <a:cubicBezTo>
                      <a:pt x="1469" y="13"/>
                      <a:pt x="1465" y="16"/>
                      <a:pt x="1460" y="16"/>
                    </a:cubicBezTo>
                    <a:close/>
                    <a:moveTo>
                      <a:pt x="1427" y="16"/>
                    </a:moveTo>
                    <a:lnTo>
                      <a:pt x="1427" y="16"/>
                    </a:lnTo>
                    <a:cubicBezTo>
                      <a:pt x="1422" y="16"/>
                      <a:pt x="1419" y="13"/>
                      <a:pt x="1419" y="8"/>
                    </a:cubicBezTo>
                    <a:cubicBezTo>
                      <a:pt x="1419" y="4"/>
                      <a:pt x="1422" y="0"/>
                      <a:pt x="1427" y="0"/>
                    </a:cubicBezTo>
                    <a:lnTo>
                      <a:pt x="1427" y="0"/>
                    </a:lnTo>
                    <a:cubicBezTo>
                      <a:pt x="1432" y="0"/>
                      <a:pt x="1435" y="4"/>
                      <a:pt x="1435" y="8"/>
                    </a:cubicBezTo>
                    <a:cubicBezTo>
                      <a:pt x="1435" y="13"/>
                      <a:pt x="1432" y="16"/>
                      <a:pt x="1427" y="16"/>
                    </a:cubicBezTo>
                    <a:close/>
                    <a:moveTo>
                      <a:pt x="1394" y="16"/>
                    </a:moveTo>
                    <a:lnTo>
                      <a:pt x="1394" y="16"/>
                    </a:lnTo>
                    <a:cubicBezTo>
                      <a:pt x="1389" y="16"/>
                      <a:pt x="1385" y="13"/>
                      <a:pt x="1385" y="8"/>
                    </a:cubicBezTo>
                    <a:cubicBezTo>
                      <a:pt x="1385" y="4"/>
                      <a:pt x="1389" y="0"/>
                      <a:pt x="1394" y="0"/>
                    </a:cubicBezTo>
                    <a:lnTo>
                      <a:pt x="1394" y="0"/>
                    </a:lnTo>
                    <a:cubicBezTo>
                      <a:pt x="1398" y="0"/>
                      <a:pt x="1402" y="4"/>
                      <a:pt x="1402" y="8"/>
                    </a:cubicBezTo>
                    <a:cubicBezTo>
                      <a:pt x="1402" y="13"/>
                      <a:pt x="1398" y="16"/>
                      <a:pt x="1394" y="16"/>
                    </a:cubicBezTo>
                    <a:close/>
                    <a:moveTo>
                      <a:pt x="1360" y="16"/>
                    </a:moveTo>
                    <a:lnTo>
                      <a:pt x="1360" y="16"/>
                    </a:lnTo>
                    <a:cubicBezTo>
                      <a:pt x="1356" y="16"/>
                      <a:pt x="1352" y="13"/>
                      <a:pt x="1352" y="8"/>
                    </a:cubicBezTo>
                    <a:cubicBezTo>
                      <a:pt x="1352" y="4"/>
                      <a:pt x="1356" y="0"/>
                      <a:pt x="1360" y="0"/>
                    </a:cubicBezTo>
                    <a:lnTo>
                      <a:pt x="1360" y="0"/>
                    </a:lnTo>
                    <a:cubicBezTo>
                      <a:pt x="1365" y="0"/>
                      <a:pt x="1369" y="4"/>
                      <a:pt x="1369" y="8"/>
                    </a:cubicBezTo>
                    <a:cubicBezTo>
                      <a:pt x="1369" y="13"/>
                      <a:pt x="1365" y="16"/>
                      <a:pt x="1360" y="16"/>
                    </a:cubicBezTo>
                    <a:close/>
                    <a:moveTo>
                      <a:pt x="1327" y="16"/>
                    </a:moveTo>
                    <a:lnTo>
                      <a:pt x="1327" y="16"/>
                    </a:lnTo>
                    <a:cubicBezTo>
                      <a:pt x="1322" y="16"/>
                      <a:pt x="1319" y="13"/>
                      <a:pt x="1319" y="8"/>
                    </a:cubicBezTo>
                    <a:cubicBezTo>
                      <a:pt x="1319" y="4"/>
                      <a:pt x="1322" y="0"/>
                      <a:pt x="1327" y="0"/>
                    </a:cubicBezTo>
                    <a:lnTo>
                      <a:pt x="1327" y="0"/>
                    </a:lnTo>
                    <a:cubicBezTo>
                      <a:pt x="1331" y="0"/>
                      <a:pt x="1335" y="4"/>
                      <a:pt x="1335" y="8"/>
                    </a:cubicBezTo>
                    <a:cubicBezTo>
                      <a:pt x="1335" y="13"/>
                      <a:pt x="1331" y="16"/>
                      <a:pt x="1327" y="16"/>
                    </a:cubicBezTo>
                    <a:close/>
                    <a:moveTo>
                      <a:pt x="1294" y="16"/>
                    </a:moveTo>
                    <a:lnTo>
                      <a:pt x="1294" y="16"/>
                    </a:lnTo>
                    <a:cubicBezTo>
                      <a:pt x="1289" y="16"/>
                      <a:pt x="1285" y="13"/>
                      <a:pt x="1285" y="8"/>
                    </a:cubicBezTo>
                    <a:cubicBezTo>
                      <a:pt x="1285" y="4"/>
                      <a:pt x="1289" y="0"/>
                      <a:pt x="1294" y="0"/>
                    </a:cubicBezTo>
                    <a:lnTo>
                      <a:pt x="1294" y="0"/>
                    </a:lnTo>
                    <a:cubicBezTo>
                      <a:pt x="1298" y="0"/>
                      <a:pt x="1302" y="4"/>
                      <a:pt x="1302" y="8"/>
                    </a:cubicBezTo>
                    <a:cubicBezTo>
                      <a:pt x="1302" y="13"/>
                      <a:pt x="1298" y="16"/>
                      <a:pt x="1294" y="16"/>
                    </a:cubicBezTo>
                    <a:close/>
                    <a:moveTo>
                      <a:pt x="1260" y="16"/>
                    </a:moveTo>
                    <a:lnTo>
                      <a:pt x="1260" y="16"/>
                    </a:lnTo>
                    <a:cubicBezTo>
                      <a:pt x="1256" y="16"/>
                      <a:pt x="1252" y="13"/>
                      <a:pt x="1252" y="8"/>
                    </a:cubicBezTo>
                    <a:cubicBezTo>
                      <a:pt x="1252" y="4"/>
                      <a:pt x="1256" y="0"/>
                      <a:pt x="1260" y="0"/>
                    </a:cubicBezTo>
                    <a:lnTo>
                      <a:pt x="1260" y="0"/>
                    </a:lnTo>
                    <a:cubicBezTo>
                      <a:pt x="1265" y="0"/>
                      <a:pt x="1269" y="4"/>
                      <a:pt x="1269" y="8"/>
                    </a:cubicBezTo>
                    <a:cubicBezTo>
                      <a:pt x="1269" y="13"/>
                      <a:pt x="1265" y="16"/>
                      <a:pt x="1260" y="16"/>
                    </a:cubicBezTo>
                    <a:close/>
                    <a:moveTo>
                      <a:pt x="1227" y="16"/>
                    </a:moveTo>
                    <a:lnTo>
                      <a:pt x="1227" y="16"/>
                    </a:lnTo>
                    <a:cubicBezTo>
                      <a:pt x="1222" y="16"/>
                      <a:pt x="1218" y="13"/>
                      <a:pt x="1218" y="8"/>
                    </a:cubicBezTo>
                    <a:cubicBezTo>
                      <a:pt x="1218" y="4"/>
                      <a:pt x="1222" y="0"/>
                      <a:pt x="1227" y="0"/>
                    </a:cubicBezTo>
                    <a:lnTo>
                      <a:pt x="1227" y="0"/>
                    </a:lnTo>
                    <a:cubicBezTo>
                      <a:pt x="1231" y="0"/>
                      <a:pt x="1235" y="4"/>
                      <a:pt x="1235" y="8"/>
                    </a:cubicBezTo>
                    <a:cubicBezTo>
                      <a:pt x="1235" y="13"/>
                      <a:pt x="1231" y="16"/>
                      <a:pt x="1227" y="16"/>
                    </a:cubicBezTo>
                    <a:close/>
                    <a:moveTo>
                      <a:pt x="1193" y="16"/>
                    </a:moveTo>
                    <a:lnTo>
                      <a:pt x="1193" y="16"/>
                    </a:lnTo>
                    <a:cubicBezTo>
                      <a:pt x="1189" y="16"/>
                      <a:pt x="1185" y="13"/>
                      <a:pt x="1185" y="8"/>
                    </a:cubicBezTo>
                    <a:cubicBezTo>
                      <a:pt x="1185" y="4"/>
                      <a:pt x="1189" y="0"/>
                      <a:pt x="1193" y="0"/>
                    </a:cubicBezTo>
                    <a:lnTo>
                      <a:pt x="1193" y="0"/>
                    </a:lnTo>
                    <a:cubicBezTo>
                      <a:pt x="1198" y="0"/>
                      <a:pt x="1202" y="4"/>
                      <a:pt x="1202" y="8"/>
                    </a:cubicBezTo>
                    <a:cubicBezTo>
                      <a:pt x="1202" y="13"/>
                      <a:pt x="1198" y="16"/>
                      <a:pt x="1193" y="16"/>
                    </a:cubicBezTo>
                    <a:close/>
                    <a:moveTo>
                      <a:pt x="1160" y="16"/>
                    </a:moveTo>
                    <a:lnTo>
                      <a:pt x="1160" y="16"/>
                    </a:lnTo>
                    <a:cubicBezTo>
                      <a:pt x="1156" y="16"/>
                      <a:pt x="1152" y="13"/>
                      <a:pt x="1152" y="8"/>
                    </a:cubicBezTo>
                    <a:cubicBezTo>
                      <a:pt x="1152" y="4"/>
                      <a:pt x="1156" y="0"/>
                      <a:pt x="1160" y="0"/>
                    </a:cubicBezTo>
                    <a:lnTo>
                      <a:pt x="1160" y="0"/>
                    </a:lnTo>
                    <a:cubicBezTo>
                      <a:pt x="1165" y="0"/>
                      <a:pt x="1168" y="4"/>
                      <a:pt x="1168" y="8"/>
                    </a:cubicBezTo>
                    <a:cubicBezTo>
                      <a:pt x="1168" y="13"/>
                      <a:pt x="1165" y="16"/>
                      <a:pt x="1160" y="16"/>
                    </a:cubicBezTo>
                    <a:close/>
                    <a:moveTo>
                      <a:pt x="1127" y="16"/>
                    </a:moveTo>
                    <a:lnTo>
                      <a:pt x="1127" y="16"/>
                    </a:lnTo>
                    <a:cubicBezTo>
                      <a:pt x="1122" y="16"/>
                      <a:pt x="1118" y="13"/>
                      <a:pt x="1118" y="8"/>
                    </a:cubicBezTo>
                    <a:cubicBezTo>
                      <a:pt x="1118" y="4"/>
                      <a:pt x="1122" y="0"/>
                      <a:pt x="1127" y="0"/>
                    </a:cubicBezTo>
                    <a:lnTo>
                      <a:pt x="1127" y="0"/>
                    </a:lnTo>
                    <a:cubicBezTo>
                      <a:pt x="1131" y="0"/>
                      <a:pt x="1135" y="4"/>
                      <a:pt x="1135" y="8"/>
                    </a:cubicBezTo>
                    <a:cubicBezTo>
                      <a:pt x="1135" y="13"/>
                      <a:pt x="1131" y="16"/>
                      <a:pt x="1127" y="16"/>
                    </a:cubicBezTo>
                    <a:close/>
                    <a:moveTo>
                      <a:pt x="1093" y="16"/>
                    </a:moveTo>
                    <a:lnTo>
                      <a:pt x="1093" y="16"/>
                    </a:lnTo>
                    <a:cubicBezTo>
                      <a:pt x="1089" y="16"/>
                      <a:pt x="1085" y="13"/>
                      <a:pt x="1085" y="8"/>
                    </a:cubicBezTo>
                    <a:cubicBezTo>
                      <a:pt x="1085" y="4"/>
                      <a:pt x="1089" y="0"/>
                      <a:pt x="1093" y="0"/>
                    </a:cubicBezTo>
                    <a:lnTo>
                      <a:pt x="1093" y="0"/>
                    </a:lnTo>
                    <a:cubicBezTo>
                      <a:pt x="1098" y="0"/>
                      <a:pt x="1102" y="4"/>
                      <a:pt x="1102" y="8"/>
                    </a:cubicBezTo>
                    <a:cubicBezTo>
                      <a:pt x="1102" y="13"/>
                      <a:pt x="1098" y="16"/>
                      <a:pt x="1093" y="16"/>
                    </a:cubicBezTo>
                    <a:close/>
                    <a:moveTo>
                      <a:pt x="1060" y="16"/>
                    </a:moveTo>
                    <a:lnTo>
                      <a:pt x="1060" y="16"/>
                    </a:lnTo>
                    <a:cubicBezTo>
                      <a:pt x="1055" y="16"/>
                      <a:pt x="1052" y="13"/>
                      <a:pt x="1052" y="8"/>
                    </a:cubicBezTo>
                    <a:cubicBezTo>
                      <a:pt x="1052" y="4"/>
                      <a:pt x="1055" y="0"/>
                      <a:pt x="1060" y="0"/>
                    </a:cubicBezTo>
                    <a:lnTo>
                      <a:pt x="1060" y="0"/>
                    </a:lnTo>
                    <a:cubicBezTo>
                      <a:pt x="1065" y="0"/>
                      <a:pt x="1068" y="4"/>
                      <a:pt x="1068" y="8"/>
                    </a:cubicBezTo>
                    <a:cubicBezTo>
                      <a:pt x="1068" y="13"/>
                      <a:pt x="1065" y="16"/>
                      <a:pt x="1060" y="16"/>
                    </a:cubicBezTo>
                    <a:close/>
                    <a:moveTo>
                      <a:pt x="1027" y="16"/>
                    </a:moveTo>
                    <a:lnTo>
                      <a:pt x="1027" y="16"/>
                    </a:lnTo>
                    <a:cubicBezTo>
                      <a:pt x="1022" y="16"/>
                      <a:pt x="1018" y="13"/>
                      <a:pt x="1018" y="8"/>
                    </a:cubicBezTo>
                    <a:cubicBezTo>
                      <a:pt x="1018" y="4"/>
                      <a:pt x="1022" y="0"/>
                      <a:pt x="1027" y="0"/>
                    </a:cubicBezTo>
                    <a:lnTo>
                      <a:pt x="1027" y="0"/>
                    </a:lnTo>
                    <a:cubicBezTo>
                      <a:pt x="1031" y="0"/>
                      <a:pt x="1035" y="4"/>
                      <a:pt x="1035" y="8"/>
                    </a:cubicBezTo>
                    <a:cubicBezTo>
                      <a:pt x="1035" y="13"/>
                      <a:pt x="1031" y="16"/>
                      <a:pt x="1027" y="16"/>
                    </a:cubicBezTo>
                    <a:close/>
                    <a:moveTo>
                      <a:pt x="993" y="16"/>
                    </a:moveTo>
                    <a:lnTo>
                      <a:pt x="993" y="16"/>
                    </a:lnTo>
                    <a:cubicBezTo>
                      <a:pt x="989" y="16"/>
                      <a:pt x="985" y="13"/>
                      <a:pt x="985" y="8"/>
                    </a:cubicBezTo>
                    <a:cubicBezTo>
                      <a:pt x="985" y="4"/>
                      <a:pt x="989" y="0"/>
                      <a:pt x="993" y="0"/>
                    </a:cubicBezTo>
                    <a:lnTo>
                      <a:pt x="993" y="0"/>
                    </a:lnTo>
                    <a:cubicBezTo>
                      <a:pt x="998" y="0"/>
                      <a:pt x="1002" y="4"/>
                      <a:pt x="1002" y="8"/>
                    </a:cubicBezTo>
                    <a:cubicBezTo>
                      <a:pt x="1002" y="13"/>
                      <a:pt x="998" y="16"/>
                      <a:pt x="993" y="16"/>
                    </a:cubicBezTo>
                    <a:close/>
                    <a:moveTo>
                      <a:pt x="960" y="16"/>
                    </a:moveTo>
                    <a:lnTo>
                      <a:pt x="960" y="16"/>
                    </a:lnTo>
                    <a:cubicBezTo>
                      <a:pt x="955" y="16"/>
                      <a:pt x="952" y="13"/>
                      <a:pt x="952" y="8"/>
                    </a:cubicBezTo>
                    <a:cubicBezTo>
                      <a:pt x="952" y="4"/>
                      <a:pt x="955" y="0"/>
                      <a:pt x="960" y="0"/>
                    </a:cubicBezTo>
                    <a:lnTo>
                      <a:pt x="960" y="0"/>
                    </a:lnTo>
                    <a:cubicBezTo>
                      <a:pt x="965" y="0"/>
                      <a:pt x="968" y="4"/>
                      <a:pt x="968" y="8"/>
                    </a:cubicBezTo>
                    <a:cubicBezTo>
                      <a:pt x="968" y="13"/>
                      <a:pt x="965" y="16"/>
                      <a:pt x="960" y="16"/>
                    </a:cubicBezTo>
                    <a:close/>
                    <a:moveTo>
                      <a:pt x="927" y="16"/>
                    </a:moveTo>
                    <a:lnTo>
                      <a:pt x="927" y="16"/>
                    </a:lnTo>
                    <a:cubicBezTo>
                      <a:pt x="922" y="16"/>
                      <a:pt x="918" y="13"/>
                      <a:pt x="918" y="8"/>
                    </a:cubicBezTo>
                    <a:cubicBezTo>
                      <a:pt x="918" y="4"/>
                      <a:pt x="922" y="0"/>
                      <a:pt x="927" y="0"/>
                    </a:cubicBezTo>
                    <a:lnTo>
                      <a:pt x="927" y="0"/>
                    </a:lnTo>
                    <a:cubicBezTo>
                      <a:pt x="931" y="0"/>
                      <a:pt x="935" y="4"/>
                      <a:pt x="935" y="8"/>
                    </a:cubicBezTo>
                    <a:cubicBezTo>
                      <a:pt x="935" y="13"/>
                      <a:pt x="931" y="16"/>
                      <a:pt x="927" y="16"/>
                    </a:cubicBezTo>
                    <a:close/>
                    <a:moveTo>
                      <a:pt x="893" y="16"/>
                    </a:moveTo>
                    <a:lnTo>
                      <a:pt x="893" y="16"/>
                    </a:lnTo>
                    <a:cubicBezTo>
                      <a:pt x="889" y="16"/>
                      <a:pt x="885" y="13"/>
                      <a:pt x="885" y="8"/>
                    </a:cubicBezTo>
                    <a:cubicBezTo>
                      <a:pt x="885" y="4"/>
                      <a:pt x="889" y="0"/>
                      <a:pt x="893" y="0"/>
                    </a:cubicBezTo>
                    <a:lnTo>
                      <a:pt x="893" y="0"/>
                    </a:lnTo>
                    <a:cubicBezTo>
                      <a:pt x="898" y="0"/>
                      <a:pt x="902" y="4"/>
                      <a:pt x="902" y="8"/>
                    </a:cubicBezTo>
                    <a:cubicBezTo>
                      <a:pt x="902" y="13"/>
                      <a:pt x="898" y="16"/>
                      <a:pt x="893" y="16"/>
                    </a:cubicBezTo>
                    <a:close/>
                    <a:moveTo>
                      <a:pt x="860" y="16"/>
                    </a:moveTo>
                    <a:lnTo>
                      <a:pt x="860" y="16"/>
                    </a:lnTo>
                    <a:cubicBezTo>
                      <a:pt x="855" y="16"/>
                      <a:pt x="852" y="13"/>
                      <a:pt x="852" y="8"/>
                    </a:cubicBezTo>
                    <a:cubicBezTo>
                      <a:pt x="852" y="4"/>
                      <a:pt x="855" y="0"/>
                      <a:pt x="860" y="0"/>
                    </a:cubicBezTo>
                    <a:lnTo>
                      <a:pt x="860" y="0"/>
                    </a:lnTo>
                    <a:cubicBezTo>
                      <a:pt x="865" y="0"/>
                      <a:pt x="868" y="4"/>
                      <a:pt x="868" y="8"/>
                    </a:cubicBezTo>
                    <a:cubicBezTo>
                      <a:pt x="868" y="13"/>
                      <a:pt x="865" y="16"/>
                      <a:pt x="860" y="16"/>
                    </a:cubicBezTo>
                    <a:close/>
                    <a:moveTo>
                      <a:pt x="827" y="16"/>
                    </a:moveTo>
                    <a:lnTo>
                      <a:pt x="827" y="16"/>
                    </a:lnTo>
                    <a:cubicBezTo>
                      <a:pt x="822" y="16"/>
                      <a:pt x="818" y="13"/>
                      <a:pt x="818" y="8"/>
                    </a:cubicBezTo>
                    <a:cubicBezTo>
                      <a:pt x="818" y="4"/>
                      <a:pt x="822" y="0"/>
                      <a:pt x="827" y="0"/>
                    </a:cubicBezTo>
                    <a:lnTo>
                      <a:pt x="827" y="0"/>
                    </a:lnTo>
                    <a:cubicBezTo>
                      <a:pt x="831" y="0"/>
                      <a:pt x="835" y="4"/>
                      <a:pt x="835" y="8"/>
                    </a:cubicBezTo>
                    <a:cubicBezTo>
                      <a:pt x="835" y="13"/>
                      <a:pt x="831" y="16"/>
                      <a:pt x="827" y="16"/>
                    </a:cubicBezTo>
                    <a:close/>
                    <a:moveTo>
                      <a:pt x="793" y="16"/>
                    </a:moveTo>
                    <a:lnTo>
                      <a:pt x="793" y="16"/>
                    </a:lnTo>
                    <a:cubicBezTo>
                      <a:pt x="789" y="16"/>
                      <a:pt x="785" y="13"/>
                      <a:pt x="785" y="8"/>
                    </a:cubicBezTo>
                    <a:cubicBezTo>
                      <a:pt x="785" y="4"/>
                      <a:pt x="789" y="0"/>
                      <a:pt x="793" y="0"/>
                    </a:cubicBezTo>
                    <a:lnTo>
                      <a:pt x="793" y="0"/>
                    </a:lnTo>
                    <a:cubicBezTo>
                      <a:pt x="798" y="0"/>
                      <a:pt x="802" y="4"/>
                      <a:pt x="802" y="8"/>
                    </a:cubicBezTo>
                    <a:cubicBezTo>
                      <a:pt x="802" y="13"/>
                      <a:pt x="798" y="16"/>
                      <a:pt x="793" y="16"/>
                    </a:cubicBezTo>
                    <a:close/>
                    <a:moveTo>
                      <a:pt x="760" y="16"/>
                    </a:moveTo>
                    <a:lnTo>
                      <a:pt x="760" y="16"/>
                    </a:lnTo>
                    <a:cubicBezTo>
                      <a:pt x="755" y="16"/>
                      <a:pt x="752" y="13"/>
                      <a:pt x="752" y="8"/>
                    </a:cubicBezTo>
                    <a:cubicBezTo>
                      <a:pt x="752" y="4"/>
                      <a:pt x="755" y="0"/>
                      <a:pt x="760" y="0"/>
                    </a:cubicBezTo>
                    <a:lnTo>
                      <a:pt x="760" y="0"/>
                    </a:lnTo>
                    <a:cubicBezTo>
                      <a:pt x="765" y="0"/>
                      <a:pt x="768" y="4"/>
                      <a:pt x="768" y="8"/>
                    </a:cubicBezTo>
                    <a:cubicBezTo>
                      <a:pt x="768" y="13"/>
                      <a:pt x="765" y="16"/>
                      <a:pt x="760" y="16"/>
                    </a:cubicBezTo>
                    <a:close/>
                    <a:moveTo>
                      <a:pt x="727" y="16"/>
                    </a:moveTo>
                    <a:lnTo>
                      <a:pt x="727" y="16"/>
                    </a:lnTo>
                    <a:cubicBezTo>
                      <a:pt x="722" y="16"/>
                      <a:pt x="718" y="13"/>
                      <a:pt x="718" y="8"/>
                    </a:cubicBezTo>
                    <a:cubicBezTo>
                      <a:pt x="718" y="4"/>
                      <a:pt x="722" y="0"/>
                      <a:pt x="727" y="0"/>
                    </a:cubicBezTo>
                    <a:lnTo>
                      <a:pt x="727" y="0"/>
                    </a:lnTo>
                    <a:cubicBezTo>
                      <a:pt x="731" y="0"/>
                      <a:pt x="735" y="4"/>
                      <a:pt x="735" y="8"/>
                    </a:cubicBezTo>
                    <a:cubicBezTo>
                      <a:pt x="735" y="13"/>
                      <a:pt x="731" y="16"/>
                      <a:pt x="727" y="16"/>
                    </a:cubicBezTo>
                    <a:close/>
                    <a:moveTo>
                      <a:pt x="693" y="16"/>
                    </a:moveTo>
                    <a:lnTo>
                      <a:pt x="693" y="16"/>
                    </a:lnTo>
                    <a:cubicBezTo>
                      <a:pt x="689" y="16"/>
                      <a:pt x="685" y="13"/>
                      <a:pt x="685" y="8"/>
                    </a:cubicBezTo>
                    <a:cubicBezTo>
                      <a:pt x="685" y="4"/>
                      <a:pt x="689" y="0"/>
                      <a:pt x="693" y="0"/>
                    </a:cubicBezTo>
                    <a:lnTo>
                      <a:pt x="693" y="0"/>
                    </a:lnTo>
                    <a:cubicBezTo>
                      <a:pt x="698" y="0"/>
                      <a:pt x="702" y="4"/>
                      <a:pt x="702" y="8"/>
                    </a:cubicBezTo>
                    <a:cubicBezTo>
                      <a:pt x="702" y="13"/>
                      <a:pt x="698" y="16"/>
                      <a:pt x="693" y="16"/>
                    </a:cubicBezTo>
                    <a:close/>
                    <a:moveTo>
                      <a:pt x="660" y="16"/>
                    </a:moveTo>
                    <a:lnTo>
                      <a:pt x="660" y="16"/>
                    </a:lnTo>
                    <a:cubicBezTo>
                      <a:pt x="655" y="16"/>
                      <a:pt x="652" y="13"/>
                      <a:pt x="652" y="8"/>
                    </a:cubicBezTo>
                    <a:cubicBezTo>
                      <a:pt x="652" y="4"/>
                      <a:pt x="655" y="0"/>
                      <a:pt x="660" y="0"/>
                    </a:cubicBezTo>
                    <a:lnTo>
                      <a:pt x="660" y="0"/>
                    </a:lnTo>
                    <a:cubicBezTo>
                      <a:pt x="665" y="0"/>
                      <a:pt x="668" y="4"/>
                      <a:pt x="668" y="8"/>
                    </a:cubicBezTo>
                    <a:cubicBezTo>
                      <a:pt x="668" y="13"/>
                      <a:pt x="665" y="16"/>
                      <a:pt x="660" y="16"/>
                    </a:cubicBezTo>
                    <a:close/>
                    <a:moveTo>
                      <a:pt x="627" y="16"/>
                    </a:moveTo>
                    <a:lnTo>
                      <a:pt x="627" y="16"/>
                    </a:lnTo>
                    <a:cubicBezTo>
                      <a:pt x="622" y="16"/>
                      <a:pt x="618" y="13"/>
                      <a:pt x="618" y="8"/>
                    </a:cubicBezTo>
                    <a:cubicBezTo>
                      <a:pt x="618" y="4"/>
                      <a:pt x="622" y="0"/>
                      <a:pt x="627" y="0"/>
                    </a:cubicBezTo>
                    <a:lnTo>
                      <a:pt x="627" y="0"/>
                    </a:lnTo>
                    <a:cubicBezTo>
                      <a:pt x="631" y="0"/>
                      <a:pt x="635" y="4"/>
                      <a:pt x="635" y="8"/>
                    </a:cubicBezTo>
                    <a:cubicBezTo>
                      <a:pt x="635" y="13"/>
                      <a:pt x="631" y="16"/>
                      <a:pt x="627" y="16"/>
                    </a:cubicBezTo>
                    <a:close/>
                    <a:moveTo>
                      <a:pt x="593" y="16"/>
                    </a:moveTo>
                    <a:lnTo>
                      <a:pt x="593" y="16"/>
                    </a:lnTo>
                    <a:cubicBezTo>
                      <a:pt x="589" y="16"/>
                      <a:pt x="585" y="13"/>
                      <a:pt x="585" y="8"/>
                    </a:cubicBezTo>
                    <a:cubicBezTo>
                      <a:pt x="585" y="4"/>
                      <a:pt x="589" y="0"/>
                      <a:pt x="593" y="0"/>
                    </a:cubicBezTo>
                    <a:lnTo>
                      <a:pt x="593" y="0"/>
                    </a:lnTo>
                    <a:cubicBezTo>
                      <a:pt x="598" y="0"/>
                      <a:pt x="602" y="4"/>
                      <a:pt x="602" y="8"/>
                    </a:cubicBezTo>
                    <a:cubicBezTo>
                      <a:pt x="602" y="13"/>
                      <a:pt x="598" y="16"/>
                      <a:pt x="593" y="16"/>
                    </a:cubicBezTo>
                    <a:close/>
                    <a:moveTo>
                      <a:pt x="560" y="16"/>
                    </a:moveTo>
                    <a:lnTo>
                      <a:pt x="560" y="16"/>
                    </a:lnTo>
                    <a:cubicBezTo>
                      <a:pt x="555" y="16"/>
                      <a:pt x="552" y="13"/>
                      <a:pt x="552" y="8"/>
                    </a:cubicBezTo>
                    <a:cubicBezTo>
                      <a:pt x="552" y="4"/>
                      <a:pt x="555" y="0"/>
                      <a:pt x="560" y="0"/>
                    </a:cubicBezTo>
                    <a:lnTo>
                      <a:pt x="560" y="0"/>
                    </a:lnTo>
                    <a:cubicBezTo>
                      <a:pt x="564" y="0"/>
                      <a:pt x="568" y="4"/>
                      <a:pt x="568" y="8"/>
                    </a:cubicBezTo>
                    <a:cubicBezTo>
                      <a:pt x="568" y="13"/>
                      <a:pt x="564" y="16"/>
                      <a:pt x="560" y="16"/>
                    </a:cubicBezTo>
                    <a:close/>
                    <a:moveTo>
                      <a:pt x="527" y="16"/>
                    </a:moveTo>
                    <a:lnTo>
                      <a:pt x="526" y="16"/>
                    </a:lnTo>
                    <a:cubicBezTo>
                      <a:pt x="522" y="16"/>
                      <a:pt x="518" y="13"/>
                      <a:pt x="518" y="8"/>
                    </a:cubicBezTo>
                    <a:cubicBezTo>
                      <a:pt x="518" y="4"/>
                      <a:pt x="522" y="0"/>
                      <a:pt x="526" y="0"/>
                    </a:cubicBezTo>
                    <a:lnTo>
                      <a:pt x="527" y="0"/>
                    </a:lnTo>
                    <a:cubicBezTo>
                      <a:pt x="531" y="0"/>
                      <a:pt x="535" y="4"/>
                      <a:pt x="535" y="8"/>
                    </a:cubicBezTo>
                    <a:cubicBezTo>
                      <a:pt x="535" y="13"/>
                      <a:pt x="531" y="16"/>
                      <a:pt x="527" y="16"/>
                    </a:cubicBezTo>
                    <a:close/>
                    <a:moveTo>
                      <a:pt x="493" y="16"/>
                    </a:moveTo>
                    <a:lnTo>
                      <a:pt x="493" y="16"/>
                    </a:lnTo>
                    <a:cubicBezTo>
                      <a:pt x="489" y="16"/>
                      <a:pt x="485" y="13"/>
                      <a:pt x="485" y="8"/>
                    </a:cubicBezTo>
                    <a:cubicBezTo>
                      <a:pt x="485" y="4"/>
                      <a:pt x="489" y="0"/>
                      <a:pt x="493" y="0"/>
                    </a:cubicBezTo>
                    <a:lnTo>
                      <a:pt x="493" y="0"/>
                    </a:lnTo>
                    <a:cubicBezTo>
                      <a:pt x="498" y="0"/>
                      <a:pt x="501" y="4"/>
                      <a:pt x="501" y="8"/>
                    </a:cubicBezTo>
                    <a:cubicBezTo>
                      <a:pt x="501" y="13"/>
                      <a:pt x="498" y="16"/>
                      <a:pt x="493" y="16"/>
                    </a:cubicBezTo>
                    <a:close/>
                    <a:moveTo>
                      <a:pt x="460" y="16"/>
                    </a:moveTo>
                    <a:lnTo>
                      <a:pt x="460" y="16"/>
                    </a:lnTo>
                    <a:cubicBezTo>
                      <a:pt x="455" y="16"/>
                      <a:pt x="451" y="13"/>
                      <a:pt x="451" y="8"/>
                    </a:cubicBezTo>
                    <a:cubicBezTo>
                      <a:pt x="451" y="4"/>
                      <a:pt x="455" y="0"/>
                      <a:pt x="460" y="0"/>
                    </a:cubicBezTo>
                    <a:lnTo>
                      <a:pt x="460" y="0"/>
                    </a:lnTo>
                    <a:cubicBezTo>
                      <a:pt x="464" y="0"/>
                      <a:pt x="468" y="4"/>
                      <a:pt x="468" y="8"/>
                    </a:cubicBezTo>
                    <a:cubicBezTo>
                      <a:pt x="468" y="13"/>
                      <a:pt x="464" y="16"/>
                      <a:pt x="460" y="16"/>
                    </a:cubicBezTo>
                    <a:close/>
                    <a:moveTo>
                      <a:pt x="426" y="16"/>
                    </a:moveTo>
                    <a:lnTo>
                      <a:pt x="426" y="16"/>
                    </a:lnTo>
                    <a:cubicBezTo>
                      <a:pt x="422" y="16"/>
                      <a:pt x="418" y="13"/>
                      <a:pt x="418" y="8"/>
                    </a:cubicBezTo>
                    <a:cubicBezTo>
                      <a:pt x="418" y="4"/>
                      <a:pt x="422" y="0"/>
                      <a:pt x="426" y="0"/>
                    </a:cubicBezTo>
                    <a:lnTo>
                      <a:pt x="426" y="0"/>
                    </a:lnTo>
                    <a:cubicBezTo>
                      <a:pt x="431" y="0"/>
                      <a:pt x="435" y="4"/>
                      <a:pt x="435" y="8"/>
                    </a:cubicBezTo>
                    <a:cubicBezTo>
                      <a:pt x="435" y="13"/>
                      <a:pt x="431" y="16"/>
                      <a:pt x="426" y="16"/>
                    </a:cubicBezTo>
                    <a:close/>
                    <a:moveTo>
                      <a:pt x="393" y="16"/>
                    </a:moveTo>
                    <a:lnTo>
                      <a:pt x="393" y="16"/>
                    </a:lnTo>
                    <a:cubicBezTo>
                      <a:pt x="389" y="16"/>
                      <a:pt x="385" y="13"/>
                      <a:pt x="385" y="8"/>
                    </a:cubicBezTo>
                    <a:cubicBezTo>
                      <a:pt x="385" y="4"/>
                      <a:pt x="389" y="0"/>
                      <a:pt x="393" y="0"/>
                    </a:cubicBezTo>
                    <a:lnTo>
                      <a:pt x="393" y="0"/>
                    </a:lnTo>
                    <a:cubicBezTo>
                      <a:pt x="398" y="0"/>
                      <a:pt x="401" y="4"/>
                      <a:pt x="401" y="8"/>
                    </a:cubicBezTo>
                    <a:cubicBezTo>
                      <a:pt x="401" y="13"/>
                      <a:pt x="398" y="16"/>
                      <a:pt x="393" y="16"/>
                    </a:cubicBezTo>
                    <a:close/>
                    <a:moveTo>
                      <a:pt x="360" y="16"/>
                    </a:moveTo>
                    <a:lnTo>
                      <a:pt x="360" y="16"/>
                    </a:lnTo>
                    <a:cubicBezTo>
                      <a:pt x="355" y="16"/>
                      <a:pt x="351" y="13"/>
                      <a:pt x="351" y="8"/>
                    </a:cubicBezTo>
                    <a:cubicBezTo>
                      <a:pt x="351" y="4"/>
                      <a:pt x="355" y="0"/>
                      <a:pt x="360" y="0"/>
                    </a:cubicBezTo>
                    <a:lnTo>
                      <a:pt x="360" y="0"/>
                    </a:lnTo>
                    <a:cubicBezTo>
                      <a:pt x="364" y="0"/>
                      <a:pt x="368" y="4"/>
                      <a:pt x="368" y="8"/>
                    </a:cubicBezTo>
                    <a:cubicBezTo>
                      <a:pt x="368" y="13"/>
                      <a:pt x="364" y="16"/>
                      <a:pt x="360" y="16"/>
                    </a:cubicBezTo>
                    <a:close/>
                    <a:moveTo>
                      <a:pt x="326" y="16"/>
                    </a:moveTo>
                    <a:lnTo>
                      <a:pt x="326" y="16"/>
                    </a:lnTo>
                    <a:cubicBezTo>
                      <a:pt x="322" y="16"/>
                      <a:pt x="318" y="13"/>
                      <a:pt x="318" y="8"/>
                    </a:cubicBezTo>
                    <a:cubicBezTo>
                      <a:pt x="318" y="4"/>
                      <a:pt x="322" y="0"/>
                      <a:pt x="326" y="0"/>
                    </a:cubicBezTo>
                    <a:lnTo>
                      <a:pt x="326" y="0"/>
                    </a:lnTo>
                    <a:cubicBezTo>
                      <a:pt x="331" y="0"/>
                      <a:pt x="335" y="4"/>
                      <a:pt x="335" y="8"/>
                    </a:cubicBezTo>
                    <a:cubicBezTo>
                      <a:pt x="335" y="13"/>
                      <a:pt x="331" y="16"/>
                      <a:pt x="326" y="16"/>
                    </a:cubicBezTo>
                    <a:close/>
                    <a:moveTo>
                      <a:pt x="293" y="16"/>
                    </a:moveTo>
                    <a:lnTo>
                      <a:pt x="293" y="16"/>
                    </a:lnTo>
                    <a:cubicBezTo>
                      <a:pt x="288" y="16"/>
                      <a:pt x="285" y="13"/>
                      <a:pt x="285" y="8"/>
                    </a:cubicBezTo>
                    <a:cubicBezTo>
                      <a:pt x="285" y="4"/>
                      <a:pt x="288" y="0"/>
                      <a:pt x="293" y="0"/>
                    </a:cubicBezTo>
                    <a:lnTo>
                      <a:pt x="293" y="0"/>
                    </a:lnTo>
                    <a:cubicBezTo>
                      <a:pt x="298" y="0"/>
                      <a:pt x="301" y="4"/>
                      <a:pt x="301" y="8"/>
                    </a:cubicBezTo>
                    <a:cubicBezTo>
                      <a:pt x="301" y="13"/>
                      <a:pt x="298" y="16"/>
                      <a:pt x="293" y="16"/>
                    </a:cubicBezTo>
                    <a:close/>
                    <a:moveTo>
                      <a:pt x="260" y="16"/>
                    </a:moveTo>
                    <a:lnTo>
                      <a:pt x="260" y="16"/>
                    </a:lnTo>
                    <a:cubicBezTo>
                      <a:pt x="255" y="16"/>
                      <a:pt x="251" y="13"/>
                      <a:pt x="251" y="8"/>
                    </a:cubicBezTo>
                    <a:cubicBezTo>
                      <a:pt x="251" y="4"/>
                      <a:pt x="255" y="0"/>
                      <a:pt x="260" y="0"/>
                    </a:cubicBezTo>
                    <a:lnTo>
                      <a:pt x="260" y="0"/>
                    </a:lnTo>
                    <a:cubicBezTo>
                      <a:pt x="264" y="0"/>
                      <a:pt x="268" y="4"/>
                      <a:pt x="268" y="8"/>
                    </a:cubicBezTo>
                    <a:cubicBezTo>
                      <a:pt x="268" y="13"/>
                      <a:pt x="264" y="16"/>
                      <a:pt x="260" y="16"/>
                    </a:cubicBezTo>
                    <a:close/>
                    <a:moveTo>
                      <a:pt x="226" y="16"/>
                    </a:moveTo>
                    <a:lnTo>
                      <a:pt x="226" y="16"/>
                    </a:lnTo>
                    <a:cubicBezTo>
                      <a:pt x="222" y="16"/>
                      <a:pt x="218" y="13"/>
                      <a:pt x="218" y="8"/>
                    </a:cubicBezTo>
                    <a:cubicBezTo>
                      <a:pt x="218" y="4"/>
                      <a:pt x="222" y="0"/>
                      <a:pt x="226" y="0"/>
                    </a:cubicBezTo>
                    <a:lnTo>
                      <a:pt x="226" y="0"/>
                    </a:lnTo>
                    <a:cubicBezTo>
                      <a:pt x="231" y="0"/>
                      <a:pt x="235" y="4"/>
                      <a:pt x="235" y="8"/>
                    </a:cubicBezTo>
                    <a:cubicBezTo>
                      <a:pt x="235" y="13"/>
                      <a:pt x="231" y="16"/>
                      <a:pt x="226" y="16"/>
                    </a:cubicBezTo>
                    <a:close/>
                    <a:moveTo>
                      <a:pt x="193" y="16"/>
                    </a:moveTo>
                    <a:lnTo>
                      <a:pt x="193" y="16"/>
                    </a:lnTo>
                    <a:cubicBezTo>
                      <a:pt x="188" y="16"/>
                      <a:pt x="185" y="13"/>
                      <a:pt x="185" y="8"/>
                    </a:cubicBezTo>
                    <a:cubicBezTo>
                      <a:pt x="185" y="4"/>
                      <a:pt x="188" y="0"/>
                      <a:pt x="193" y="0"/>
                    </a:cubicBezTo>
                    <a:lnTo>
                      <a:pt x="193" y="0"/>
                    </a:lnTo>
                    <a:cubicBezTo>
                      <a:pt x="198" y="0"/>
                      <a:pt x="201" y="4"/>
                      <a:pt x="201" y="8"/>
                    </a:cubicBezTo>
                    <a:cubicBezTo>
                      <a:pt x="201" y="13"/>
                      <a:pt x="198" y="16"/>
                      <a:pt x="193" y="16"/>
                    </a:cubicBezTo>
                    <a:close/>
                    <a:moveTo>
                      <a:pt x="160" y="16"/>
                    </a:moveTo>
                    <a:lnTo>
                      <a:pt x="160" y="16"/>
                    </a:lnTo>
                    <a:cubicBezTo>
                      <a:pt x="155" y="16"/>
                      <a:pt x="151" y="13"/>
                      <a:pt x="151" y="8"/>
                    </a:cubicBezTo>
                    <a:cubicBezTo>
                      <a:pt x="151" y="4"/>
                      <a:pt x="155" y="0"/>
                      <a:pt x="160" y="0"/>
                    </a:cubicBezTo>
                    <a:lnTo>
                      <a:pt x="160" y="0"/>
                    </a:lnTo>
                    <a:cubicBezTo>
                      <a:pt x="164" y="0"/>
                      <a:pt x="168" y="4"/>
                      <a:pt x="168" y="8"/>
                    </a:cubicBezTo>
                    <a:cubicBezTo>
                      <a:pt x="168" y="13"/>
                      <a:pt x="164" y="16"/>
                      <a:pt x="160" y="16"/>
                    </a:cubicBezTo>
                    <a:close/>
                    <a:moveTo>
                      <a:pt x="126" y="16"/>
                    </a:moveTo>
                    <a:lnTo>
                      <a:pt x="126" y="16"/>
                    </a:lnTo>
                    <a:cubicBezTo>
                      <a:pt x="122" y="16"/>
                      <a:pt x="118" y="13"/>
                      <a:pt x="118" y="8"/>
                    </a:cubicBezTo>
                    <a:cubicBezTo>
                      <a:pt x="118" y="4"/>
                      <a:pt x="122" y="0"/>
                      <a:pt x="126" y="0"/>
                    </a:cubicBezTo>
                    <a:lnTo>
                      <a:pt x="126" y="0"/>
                    </a:lnTo>
                    <a:cubicBezTo>
                      <a:pt x="131" y="0"/>
                      <a:pt x="135" y="4"/>
                      <a:pt x="135" y="8"/>
                    </a:cubicBezTo>
                    <a:cubicBezTo>
                      <a:pt x="135" y="13"/>
                      <a:pt x="131" y="16"/>
                      <a:pt x="126" y="16"/>
                    </a:cubicBezTo>
                    <a:close/>
                    <a:moveTo>
                      <a:pt x="93" y="16"/>
                    </a:moveTo>
                    <a:lnTo>
                      <a:pt x="93" y="16"/>
                    </a:lnTo>
                    <a:cubicBezTo>
                      <a:pt x="88" y="16"/>
                      <a:pt x="85" y="13"/>
                      <a:pt x="85" y="8"/>
                    </a:cubicBezTo>
                    <a:cubicBezTo>
                      <a:pt x="85" y="4"/>
                      <a:pt x="88" y="0"/>
                      <a:pt x="93" y="0"/>
                    </a:cubicBezTo>
                    <a:lnTo>
                      <a:pt x="93" y="0"/>
                    </a:lnTo>
                    <a:cubicBezTo>
                      <a:pt x="98" y="0"/>
                      <a:pt x="101" y="4"/>
                      <a:pt x="101" y="8"/>
                    </a:cubicBezTo>
                    <a:cubicBezTo>
                      <a:pt x="101" y="13"/>
                      <a:pt x="98" y="16"/>
                      <a:pt x="93" y="16"/>
                    </a:cubicBezTo>
                    <a:close/>
                    <a:moveTo>
                      <a:pt x="60" y="16"/>
                    </a:moveTo>
                    <a:lnTo>
                      <a:pt x="60" y="16"/>
                    </a:lnTo>
                    <a:cubicBezTo>
                      <a:pt x="55" y="16"/>
                      <a:pt x="51" y="13"/>
                      <a:pt x="51" y="8"/>
                    </a:cubicBezTo>
                    <a:cubicBezTo>
                      <a:pt x="51" y="4"/>
                      <a:pt x="55" y="0"/>
                      <a:pt x="60" y="0"/>
                    </a:cubicBezTo>
                    <a:lnTo>
                      <a:pt x="60" y="0"/>
                    </a:lnTo>
                    <a:cubicBezTo>
                      <a:pt x="64" y="0"/>
                      <a:pt x="68" y="4"/>
                      <a:pt x="68" y="8"/>
                    </a:cubicBezTo>
                    <a:cubicBezTo>
                      <a:pt x="68" y="13"/>
                      <a:pt x="64" y="16"/>
                      <a:pt x="60" y="16"/>
                    </a:cubicBezTo>
                    <a:close/>
                    <a:moveTo>
                      <a:pt x="26" y="16"/>
                    </a:moveTo>
                    <a:lnTo>
                      <a:pt x="26" y="16"/>
                    </a:lnTo>
                    <a:cubicBezTo>
                      <a:pt x="22" y="16"/>
                      <a:pt x="18" y="13"/>
                      <a:pt x="18" y="8"/>
                    </a:cubicBezTo>
                    <a:cubicBezTo>
                      <a:pt x="18" y="4"/>
                      <a:pt x="22" y="0"/>
                      <a:pt x="26" y="0"/>
                    </a:cubicBezTo>
                    <a:lnTo>
                      <a:pt x="26" y="0"/>
                    </a:lnTo>
                    <a:cubicBezTo>
                      <a:pt x="31" y="0"/>
                      <a:pt x="35" y="4"/>
                      <a:pt x="35" y="8"/>
                    </a:cubicBezTo>
                    <a:cubicBezTo>
                      <a:pt x="35" y="13"/>
                      <a:pt x="31" y="16"/>
                      <a:pt x="26" y="16"/>
                    </a:cubicBezTo>
                    <a:close/>
                    <a:moveTo>
                      <a:pt x="16" y="23"/>
                    </a:moveTo>
                    <a:lnTo>
                      <a:pt x="16" y="23"/>
                    </a:lnTo>
                    <a:cubicBezTo>
                      <a:pt x="16" y="28"/>
                      <a:pt x="13" y="32"/>
                      <a:pt x="8" y="32"/>
                    </a:cubicBezTo>
                    <a:cubicBezTo>
                      <a:pt x="4" y="32"/>
                      <a:pt x="0" y="28"/>
                      <a:pt x="0" y="23"/>
                    </a:cubicBezTo>
                    <a:lnTo>
                      <a:pt x="0" y="23"/>
                    </a:lnTo>
                    <a:cubicBezTo>
                      <a:pt x="0" y="19"/>
                      <a:pt x="4" y="15"/>
                      <a:pt x="8" y="15"/>
                    </a:cubicBezTo>
                    <a:cubicBezTo>
                      <a:pt x="13" y="15"/>
                      <a:pt x="16" y="19"/>
                      <a:pt x="16" y="23"/>
                    </a:cubicBezTo>
                    <a:close/>
                    <a:moveTo>
                      <a:pt x="16" y="57"/>
                    </a:moveTo>
                    <a:lnTo>
                      <a:pt x="16" y="57"/>
                    </a:lnTo>
                    <a:cubicBezTo>
                      <a:pt x="16" y="61"/>
                      <a:pt x="13" y="65"/>
                      <a:pt x="8" y="65"/>
                    </a:cubicBezTo>
                    <a:cubicBezTo>
                      <a:pt x="4" y="65"/>
                      <a:pt x="0" y="61"/>
                      <a:pt x="0" y="57"/>
                    </a:cubicBezTo>
                    <a:lnTo>
                      <a:pt x="0" y="57"/>
                    </a:lnTo>
                    <a:cubicBezTo>
                      <a:pt x="0" y="52"/>
                      <a:pt x="4" y="48"/>
                      <a:pt x="8" y="48"/>
                    </a:cubicBezTo>
                    <a:cubicBezTo>
                      <a:pt x="13" y="48"/>
                      <a:pt x="16" y="52"/>
                      <a:pt x="16" y="57"/>
                    </a:cubicBezTo>
                    <a:close/>
                    <a:moveTo>
                      <a:pt x="16" y="90"/>
                    </a:moveTo>
                    <a:lnTo>
                      <a:pt x="16" y="90"/>
                    </a:lnTo>
                    <a:cubicBezTo>
                      <a:pt x="16" y="95"/>
                      <a:pt x="13" y="98"/>
                      <a:pt x="8" y="98"/>
                    </a:cubicBezTo>
                    <a:cubicBezTo>
                      <a:pt x="4" y="98"/>
                      <a:pt x="0" y="95"/>
                      <a:pt x="0" y="90"/>
                    </a:cubicBezTo>
                    <a:lnTo>
                      <a:pt x="0" y="90"/>
                    </a:lnTo>
                    <a:cubicBezTo>
                      <a:pt x="0" y="85"/>
                      <a:pt x="4" y="82"/>
                      <a:pt x="8" y="82"/>
                    </a:cubicBezTo>
                    <a:cubicBezTo>
                      <a:pt x="13" y="82"/>
                      <a:pt x="16" y="85"/>
                      <a:pt x="16" y="90"/>
                    </a:cubicBezTo>
                    <a:close/>
                    <a:moveTo>
                      <a:pt x="16" y="123"/>
                    </a:moveTo>
                    <a:lnTo>
                      <a:pt x="16" y="123"/>
                    </a:lnTo>
                    <a:cubicBezTo>
                      <a:pt x="16" y="128"/>
                      <a:pt x="13" y="132"/>
                      <a:pt x="8" y="132"/>
                    </a:cubicBezTo>
                    <a:cubicBezTo>
                      <a:pt x="4" y="132"/>
                      <a:pt x="0" y="128"/>
                      <a:pt x="0" y="123"/>
                    </a:cubicBezTo>
                    <a:lnTo>
                      <a:pt x="0" y="123"/>
                    </a:lnTo>
                    <a:cubicBezTo>
                      <a:pt x="0" y="119"/>
                      <a:pt x="4" y="115"/>
                      <a:pt x="8" y="115"/>
                    </a:cubicBezTo>
                    <a:cubicBezTo>
                      <a:pt x="13" y="115"/>
                      <a:pt x="16" y="119"/>
                      <a:pt x="16" y="123"/>
                    </a:cubicBezTo>
                    <a:close/>
                    <a:moveTo>
                      <a:pt x="16" y="157"/>
                    </a:moveTo>
                    <a:lnTo>
                      <a:pt x="16" y="157"/>
                    </a:lnTo>
                    <a:cubicBezTo>
                      <a:pt x="16" y="161"/>
                      <a:pt x="13" y="165"/>
                      <a:pt x="8" y="165"/>
                    </a:cubicBezTo>
                    <a:cubicBezTo>
                      <a:pt x="4" y="165"/>
                      <a:pt x="0" y="161"/>
                      <a:pt x="0" y="157"/>
                    </a:cubicBezTo>
                    <a:lnTo>
                      <a:pt x="0" y="157"/>
                    </a:lnTo>
                    <a:cubicBezTo>
                      <a:pt x="0" y="152"/>
                      <a:pt x="4" y="148"/>
                      <a:pt x="8" y="148"/>
                    </a:cubicBezTo>
                    <a:cubicBezTo>
                      <a:pt x="13" y="148"/>
                      <a:pt x="16" y="152"/>
                      <a:pt x="16" y="157"/>
                    </a:cubicBezTo>
                    <a:close/>
                    <a:moveTo>
                      <a:pt x="16" y="190"/>
                    </a:moveTo>
                    <a:lnTo>
                      <a:pt x="16" y="190"/>
                    </a:lnTo>
                    <a:cubicBezTo>
                      <a:pt x="16" y="195"/>
                      <a:pt x="13" y="198"/>
                      <a:pt x="8" y="198"/>
                    </a:cubicBezTo>
                    <a:cubicBezTo>
                      <a:pt x="4" y="198"/>
                      <a:pt x="0" y="195"/>
                      <a:pt x="0" y="190"/>
                    </a:cubicBezTo>
                    <a:lnTo>
                      <a:pt x="0" y="190"/>
                    </a:lnTo>
                    <a:cubicBezTo>
                      <a:pt x="0" y="185"/>
                      <a:pt x="4" y="182"/>
                      <a:pt x="8" y="182"/>
                    </a:cubicBezTo>
                    <a:cubicBezTo>
                      <a:pt x="13" y="182"/>
                      <a:pt x="16" y="185"/>
                      <a:pt x="16" y="190"/>
                    </a:cubicBezTo>
                    <a:close/>
                    <a:moveTo>
                      <a:pt x="16" y="223"/>
                    </a:moveTo>
                    <a:lnTo>
                      <a:pt x="16" y="223"/>
                    </a:lnTo>
                    <a:cubicBezTo>
                      <a:pt x="16" y="228"/>
                      <a:pt x="13" y="232"/>
                      <a:pt x="8" y="232"/>
                    </a:cubicBezTo>
                    <a:cubicBezTo>
                      <a:pt x="4" y="232"/>
                      <a:pt x="0" y="228"/>
                      <a:pt x="0" y="223"/>
                    </a:cubicBezTo>
                    <a:lnTo>
                      <a:pt x="0" y="223"/>
                    </a:lnTo>
                    <a:cubicBezTo>
                      <a:pt x="0" y="219"/>
                      <a:pt x="4" y="215"/>
                      <a:pt x="8" y="215"/>
                    </a:cubicBezTo>
                    <a:cubicBezTo>
                      <a:pt x="13" y="215"/>
                      <a:pt x="16" y="219"/>
                      <a:pt x="16" y="223"/>
                    </a:cubicBezTo>
                    <a:close/>
                    <a:moveTo>
                      <a:pt x="16" y="257"/>
                    </a:moveTo>
                    <a:lnTo>
                      <a:pt x="16" y="257"/>
                    </a:lnTo>
                    <a:cubicBezTo>
                      <a:pt x="16" y="261"/>
                      <a:pt x="13" y="265"/>
                      <a:pt x="8" y="265"/>
                    </a:cubicBezTo>
                    <a:cubicBezTo>
                      <a:pt x="4" y="265"/>
                      <a:pt x="0" y="261"/>
                      <a:pt x="0" y="257"/>
                    </a:cubicBezTo>
                    <a:lnTo>
                      <a:pt x="0" y="257"/>
                    </a:lnTo>
                    <a:cubicBezTo>
                      <a:pt x="0" y="252"/>
                      <a:pt x="4" y="248"/>
                      <a:pt x="8" y="248"/>
                    </a:cubicBezTo>
                    <a:cubicBezTo>
                      <a:pt x="13" y="248"/>
                      <a:pt x="16" y="252"/>
                      <a:pt x="16" y="257"/>
                    </a:cubicBezTo>
                    <a:close/>
                    <a:moveTo>
                      <a:pt x="16" y="290"/>
                    </a:moveTo>
                    <a:lnTo>
                      <a:pt x="16" y="290"/>
                    </a:lnTo>
                    <a:cubicBezTo>
                      <a:pt x="16" y="295"/>
                      <a:pt x="13" y="298"/>
                      <a:pt x="8" y="298"/>
                    </a:cubicBezTo>
                    <a:cubicBezTo>
                      <a:pt x="4" y="298"/>
                      <a:pt x="0" y="295"/>
                      <a:pt x="0" y="290"/>
                    </a:cubicBezTo>
                    <a:lnTo>
                      <a:pt x="0" y="290"/>
                    </a:lnTo>
                    <a:cubicBezTo>
                      <a:pt x="0" y="285"/>
                      <a:pt x="4" y="282"/>
                      <a:pt x="8" y="282"/>
                    </a:cubicBezTo>
                    <a:cubicBezTo>
                      <a:pt x="13" y="282"/>
                      <a:pt x="16" y="285"/>
                      <a:pt x="16" y="290"/>
                    </a:cubicBezTo>
                    <a:close/>
                    <a:moveTo>
                      <a:pt x="16" y="323"/>
                    </a:moveTo>
                    <a:lnTo>
                      <a:pt x="16" y="323"/>
                    </a:lnTo>
                    <a:cubicBezTo>
                      <a:pt x="16" y="328"/>
                      <a:pt x="13" y="332"/>
                      <a:pt x="8" y="332"/>
                    </a:cubicBezTo>
                    <a:cubicBezTo>
                      <a:pt x="4" y="332"/>
                      <a:pt x="0" y="328"/>
                      <a:pt x="0" y="323"/>
                    </a:cubicBezTo>
                    <a:lnTo>
                      <a:pt x="0" y="323"/>
                    </a:lnTo>
                    <a:cubicBezTo>
                      <a:pt x="0" y="319"/>
                      <a:pt x="4" y="315"/>
                      <a:pt x="8" y="315"/>
                    </a:cubicBezTo>
                    <a:cubicBezTo>
                      <a:pt x="13" y="315"/>
                      <a:pt x="16" y="319"/>
                      <a:pt x="16" y="323"/>
                    </a:cubicBezTo>
                    <a:close/>
                    <a:moveTo>
                      <a:pt x="16" y="357"/>
                    </a:moveTo>
                    <a:lnTo>
                      <a:pt x="16" y="357"/>
                    </a:lnTo>
                    <a:cubicBezTo>
                      <a:pt x="16" y="361"/>
                      <a:pt x="13" y="365"/>
                      <a:pt x="8" y="365"/>
                    </a:cubicBezTo>
                    <a:cubicBezTo>
                      <a:pt x="4" y="365"/>
                      <a:pt x="0" y="361"/>
                      <a:pt x="0" y="357"/>
                    </a:cubicBezTo>
                    <a:lnTo>
                      <a:pt x="0" y="357"/>
                    </a:lnTo>
                    <a:cubicBezTo>
                      <a:pt x="0" y="352"/>
                      <a:pt x="4" y="348"/>
                      <a:pt x="8" y="348"/>
                    </a:cubicBezTo>
                    <a:cubicBezTo>
                      <a:pt x="13" y="348"/>
                      <a:pt x="16" y="352"/>
                      <a:pt x="16" y="357"/>
                    </a:cubicBezTo>
                    <a:close/>
                    <a:moveTo>
                      <a:pt x="16" y="390"/>
                    </a:moveTo>
                    <a:lnTo>
                      <a:pt x="16" y="390"/>
                    </a:lnTo>
                    <a:cubicBezTo>
                      <a:pt x="16" y="395"/>
                      <a:pt x="13" y="398"/>
                      <a:pt x="8" y="398"/>
                    </a:cubicBezTo>
                    <a:cubicBezTo>
                      <a:pt x="4" y="398"/>
                      <a:pt x="0" y="395"/>
                      <a:pt x="0" y="390"/>
                    </a:cubicBezTo>
                    <a:lnTo>
                      <a:pt x="0" y="390"/>
                    </a:lnTo>
                    <a:cubicBezTo>
                      <a:pt x="0" y="386"/>
                      <a:pt x="4" y="382"/>
                      <a:pt x="8" y="382"/>
                    </a:cubicBezTo>
                    <a:cubicBezTo>
                      <a:pt x="13" y="382"/>
                      <a:pt x="16" y="386"/>
                      <a:pt x="16" y="390"/>
                    </a:cubicBezTo>
                    <a:close/>
                    <a:moveTo>
                      <a:pt x="16" y="423"/>
                    </a:moveTo>
                    <a:lnTo>
                      <a:pt x="16" y="424"/>
                    </a:lnTo>
                    <a:cubicBezTo>
                      <a:pt x="16" y="428"/>
                      <a:pt x="13" y="432"/>
                      <a:pt x="8" y="432"/>
                    </a:cubicBezTo>
                    <a:cubicBezTo>
                      <a:pt x="4" y="432"/>
                      <a:pt x="0" y="428"/>
                      <a:pt x="0" y="424"/>
                    </a:cubicBezTo>
                    <a:lnTo>
                      <a:pt x="0" y="423"/>
                    </a:lnTo>
                    <a:cubicBezTo>
                      <a:pt x="0" y="419"/>
                      <a:pt x="4" y="415"/>
                      <a:pt x="8" y="415"/>
                    </a:cubicBezTo>
                    <a:cubicBezTo>
                      <a:pt x="13" y="415"/>
                      <a:pt x="16" y="419"/>
                      <a:pt x="16" y="423"/>
                    </a:cubicBezTo>
                    <a:close/>
                    <a:moveTo>
                      <a:pt x="16" y="457"/>
                    </a:moveTo>
                    <a:lnTo>
                      <a:pt x="16" y="457"/>
                    </a:lnTo>
                    <a:cubicBezTo>
                      <a:pt x="16" y="461"/>
                      <a:pt x="13" y="465"/>
                      <a:pt x="8" y="465"/>
                    </a:cubicBezTo>
                    <a:cubicBezTo>
                      <a:pt x="4" y="465"/>
                      <a:pt x="0" y="461"/>
                      <a:pt x="0" y="457"/>
                    </a:cubicBezTo>
                    <a:lnTo>
                      <a:pt x="0" y="457"/>
                    </a:lnTo>
                    <a:cubicBezTo>
                      <a:pt x="0" y="452"/>
                      <a:pt x="4" y="449"/>
                      <a:pt x="8" y="449"/>
                    </a:cubicBezTo>
                    <a:cubicBezTo>
                      <a:pt x="13" y="449"/>
                      <a:pt x="16" y="452"/>
                      <a:pt x="16" y="457"/>
                    </a:cubicBezTo>
                    <a:close/>
                    <a:moveTo>
                      <a:pt x="16" y="490"/>
                    </a:moveTo>
                    <a:lnTo>
                      <a:pt x="16" y="490"/>
                    </a:lnTo>
                    <a:cubicBezTo>
                      <a:pt x="16" y="495"/>
                      <a:pt x="13" y="499"/>
                      <a:pt x="8" y="499"/>
                    </a:cubicBezTo>
                    <a:cubicBezTo>
                      <a:pt x="4" y="499"/>
                      <a:pt x="0" y="495"/>
                      <a:pt x="0" y="490"/>
                    </a:cubicBezTo>
                    <a:lnTo>
                      <a:pt x="0" y="490"/>
                    </a:lnTo>
                    <a:cubicBezTo>
                      <a:pt x="0" y="486"/>
                      <a:pt x="4" y="482"/>
                      <a:pt x="8" y="482"/>
                    </a:cubicBezTo>
                    <a:cubicBezTo>
                      <a:pt x="13" y="482"/>
                      <a:pt x="16" y="486"/>
                      <a:pt x="16" y="490"/>
                    </a:cubicBezTo>
                    <a:close/>
                    <a:moveTo>
                      <a:pt x="16" y="524"/>
                    </a:moveTo>
                    <a:lnTo>
                      <a:pt x="16" y="524"/>
                    </a:lnTo>
                    <a:cubicBezTo>
                      <a:pt x="16" y="528"/>
                      <a:pt x="13" y="532"/>
                      <a:pt x="8" y="532"/>
                    </a:cubicBezTo>
                    <a:cubicBezTo>
                      <a:pt x="4" y="532"/>
                      <a:pt x="0" y="528"/>
                      <a:pt x="0" y="524"/>
                    </a:cubicBezTo>
                    <a:lnTo>
                      <a:pt x="0" y="524"/>
                    </a:lnTo>
                    <a:cubicBezTo>
                      <a:pt x="0" y="519"/>
                      <a:pt x="4" y="515"/>
                      <a:pt x="8" y="515"/>
                    </a:cubicBezTo>
                    <a:cubicBezTo>
                      <a:pt x="13" y="515"/>
                      <a:pt x="16" y="519"/>
                      <a:pt x="16" y="524"/>
                    </a:cubicBezTo>
                    <a:close/>
                    <a:moveTo>
                      <a:pt x="16" y="557"/>
                    </a:moveTo>
                    <a:lnTo>
                      <a:pt x="16" y="557"/>
                    </a:lnTo>
                    <a:cubicBezTo>
                      <a:pt x="16" y="562"/>
                      <a:pt x="13" y="565"/>
                      <a:pt x="8" y="565"/>
                    </a:cubicBezTo>
                    <a:cubicBezTo>
                      <a:pt x="4" y="565"/>
                      <a:pt x="0" y="562"/>
                      <a:pt x="0" y="557"/>
                    </a:cubicBezTo>
                    <a:lnTo>
                      <a:pt x="0" y="557"/>
                    </a:lnTo>
                    <a:cubicBezTo>
                      <a:pt x="0" y="552"/>
                      <a:pt x="4" y="549"/>
                      <a:pt x="8" y="549"/>
                    </a:cubicBezTo>
                    <a:cubicBezTo>
                      <a:pt x="13" y="549"/>
                      <a:pt x="16" y="552"/>
                      <a:pt x="16" y="557"/>
                    </a:cubicBezTo>
                    <a:close/>
                    <a:moveTo>
                      <a:pt x="16" y="590"/>
                    </a:moveTo>
                    <a:lnTo>
                      <a:pt x="16" y="590"/>
                    </a:lnTo>
                    <a:cubicBezTo>
                      <a:pt x="16" y="595"/>
                      <a:pt x="13" y="599"/>
                      <a:pt x="8" y="599"/>
                    </a:cubicBezTo>
                    <a:cubicBezTo>
                      <a:pt x="4" y="599"/>
                      <a:pt x="0" y="595"/>
                      <a:pt x="0" y="590"/>
                    </a:cubicBezTo>
                    <a:lnTo>
                      <a:pt x="0" y="590"/>
                    </a:lnTo>
                    <a:cubicBezTo>
                      <a:pt x="0" y="586"/>
                      <a:pt x="4" y="582"/>
                      <a:pt x="8" y="582"/>
                    </a:cubicBezTo>
                    <a:cubicBezTo>
                      <a:pt x="13" y="582"/>
                      <a:pt x="16" y="586"/>
                      <a:pt x="16" y="590"/>
                    </a:cubicBezTo>
                    <a:close/>
                    <a:moveTo>
                      <a:pt x="16" y="624"/>
                    </a:moveTo>
                    <a:lnTo>
                      <a:pt x="16" y="624"/>
                    </a:lnTo>
                    <a:cubicBezTo>
                      <a:pt x="16" y="628"/>
                      <a:pt x="13" y="632"/>
                      <a:pt x="8" y="632"/>
                    </a:cubicBezTo>
                    <a:cubicBezTo>
                      <a:pt x="4" y="632"/>
                      <a:pt x="0" y="628"/>
                      <a:pt x="0" y="624"/>
                    </a:cubicBezTo>
                    <a:lnTo>
                      <a:pt x="0" y="624"/>
                    </a:lnTo>
                    <a:cubicBezTo>
                      <a:pt x="0" y="619"/>
                      <a:pt x="4" y="615"/>
                      <a:pt x="8" y="615"/>
                    </a:cubicBezTo>
                    <a:cubicBezTo>
                      <a:pt x="13" y="615"/>
                      <a:pt x="16" y="619"/>
                      <a:pt x="16" y="624"/>
                    </a:cubicBezTo>
                    <a:close/>
                    <a:moveTo>
                      <a:pt x="16" y="657"/>
                    </a:moveTo>
                    <a:lnTo>
                      <a:pt x="16" y="657"/>
                    </a:lnTo>
                    <a:cubicBezTo>
                      <a:pt x="16" y="662"/>
                      <a:pt x="13" y="665"/>
                      <a:pt x="8" y="665"/>
                    </a:cubicBezTo>
                    <a:cubicBezTo>
                      <a:pt x="4" y="665"/>
                      <a:pt x="0" y="662"/>
                      <a:pt x="0" y="657"/>
                    </a:cubicBezTo>
                    <a:lnTo>
                      <a:pt x="0" y="657"/>
                    </a:lnTo>
                    <a:cubicBezTo>
                      <a:pt x="0" y="652"/>
                      <a:pt x="4" y="649"/>
                      <a:pt x="8" y="649"/>
                    </a:cubicBezTo>
                    <a:cubicBezTo>
                      <a:pt x="13" y="649"/>
                      <a:pt x="16" y="652"/>
                      <a:pt x="16" y="657"/>
                    </a:cubicBezTo>
                    <a:close/>
                    <a:moveTo>
                      <a:pt x="16" y="690"/>
                    </a:moveTo>
                    <a:lnTo>
                      <a:pt x="16" y="690"/>
                    </a:lnTo>
                    <a:cubicBezTo>
                      <a:pt x="16" y="695"/>
                      <a:pt x="13" y="699"/>
                      <a:pt x="8" y="699"/>
                    </a:cubicBezTo>
                    <a:cubicBezTo>
                      <a:pt x="4" y="699"/>
                      <a:pt x="0" y="695"/>
                      <a:pt x="0" y="690"/>
                    </a:cubicBezTo>
                    <a:lnTo>
                      <a:pt x="0" y="690"/>
                    </a:lnTo>
                    <a:cubicBezTo>
                      <a:pt x="0" y="686"/>
                      <a:pt x="4" y="682"/>
                      <a:pt x="8" y="682"/>
                    </a:cubicBezTo>
                    <a:cubicBezTo>
                      <a:pt x="13" y="682"/>
                      <a:pt x="16" y="686"/>
                      <a:pt x="16" y="690"/>
                    </a:cubicBezTo>
                    <a:close/>
                    <a:moveTo>
                      <a:pt x="16" y="724"/>
                    </a:moveTo>
                    <a:lnTo>
                      <a:pt x="16" y="724"/>
                    </a:lnTo>
                    <a:cubicBezTo>
                      <a:pt x="16" y="728"/>
                      <a:pt x="13" y="732"/>
                      <a:pt x="8" y="732"/>
                    </a:cubicBezTo>
                    <a:cubicBezTo>
                      <a:pt x="4" y="732"/>
                      <a:pt x="0" y="728"/>
                      <a:pt x="0" y="724"/>
                    </a:cubicBezTo>
                    <a:lnTo>
                      <a:pt x="0" y="724"/>
                    </a:lnTo>
                    <a:cubicBezTo>
                      <a:pt x="0" y="719"/>
                      <a:pt x="4" y="715"/>
                      <a:pt x="8" y="715"/>
                    </a:cubicBezTo>
                    <a:cubicBezTo>
                      <a:pt x="13" y="715"/>
                      <a:pt x="16" y="719"/>
                      <a:pt x="16" y="724"/>
                    </a:cubicBezTo>
                    <a:close/>
                    <a:moveTo>
                      <a:pt x="16" y="757"/>
                    </a:moveTo>
                    <a:lnTo>
                      <a:pt x="16" y="757"/>
                    </a:lnTo>
                    <a:cubicBezTo>
                      <a:pt x="16" y="762"/>
                      <a:pt x="13" y="765"/>
                      <a:pt x="8" y="765"/>
                    </a:cubicBezTo>
                    <a:cubicBezTo>
                      <a:pt x="4" y="765"/>
                      <a:pt x="0" y="762"/>
                      <a:pt x="0" y="757"/>
                    </a:cubicBezTo>
                    <a:lnTo>
                      <a:pt x="0" y="757"/>
                    </a:lnTo>
                    <a:cubicBezTo>
                      <a:pt x="0" y="752"/>
                      <a:pt x="4" y="749"/>
                      <a:pt x="8" y="749"/>
                    </a:cubicBezTo>
                    <a:cubicBezTo>
                      <a:pt x="13" y="749"/>
                      <a:pt x="16" y="752"/>
                      <a:pt x="16" y="757"/>
                    </a:cubicBezTo>
                    <a:close/>
                    <a:moveTo>
                      <a:pt x="16" y="790"/>
                    </a:moveTo>
                    <a:lnTo>
                      <a:pt x="16" y="790"/>
                    </a:lnTo>
                    <a:cubicBezTo>
                      <a:pt x="16" y="795"/>
                      <a:pt x="13" y="799"/>
                      <a:pt x="8" y="799"/>
                    </a:cubicBezTo>
                    <a:cubicBezTo>
                      <a:pt x="4" y="799"/>
                      <a:pt x="0" y="795"/>
                      <a:pt x="0" y="790"/>
                    </a:cubicBezTo>
                    <a:lnTo>
                      <a:pt x="0" y="790"/>
                    </a:lnTo>
                    <a:cubicBezTo>
                      <a:pt x="0" y="786"/>
                      <a:pt x="4" y="782"/>
                      <a:pt x="8" y="782"/>
                    </a:cubicBezTo>
                    <a:cubicBezTo>
                      <a:pt x="13" y="782"/>
                      <a:pt x="16" y="786"/>
                      <a:pt x="16" y="790"/>
                    </a:cubicBezTo>
                    <a:close/>
                    <a:moveTo>
                      <a:pt x="16" y="824"/>
                    </a:moveTo>
                    <a:lnTo>
                      <a:pt x="16" y="824"/>
                    </a:lnTo>
                    <a:cubicBezTo>
                      <a:pt x="16" y="828"/>
                      <a:pt x="13" y="832"/>
                      <a:pt x="8" y="832"/>
                    </a:cubicBezTo>
                    <a:cubicBezTo>
                      <a:pt x="4" y="832"/>
                      <a:pt x="0" y="828"/>
                      <a:pt x="0" y="824"/>
                    </a:cubicBezTo>
                    <a:lnTo>
                      <a:pt x="0" y="824"/>
                    </a:lnTo>
                    <a:cubicBezTo>
                      <a:pt x="0" y="819"/>
                      <a:pt x="4" y="815"/>
                      <a:pt x="8" y="815"/>
                    </a:cubicBezTo>
                    <a:cubicBezTo>
                      <a:pt x="13" y="815"/>
                      <a:pt x="16" y="819"/>
                      <a:pt x="16" y="824"/>
                    </a:cubicBezTo>
                    <a:close/>
                    <a:moveTo>
                      <a:pt x="16" y="857"/>
                    </a:moveTo>
                    <a:lnTo>
                      <a:pt x="16" y="857"/>
                    </a:lnTo>
                    <a:cubicBezTo>
                      <a:pt x="16" y="862"/>
                      <a:pt x="13" y="865"/>
                      <a:pt x="8" y="865"/>
                    </a:cubicBezTo>
                    <a:cubicBezTo>
                      <a:pt x="4" y="865"/>
                      <a:pt x="0" y="862"/>
                      <a:pt x="0" y="857"/>
                    </a:cubicBezTo>
                    <a:lnTo>
                      <a:pt x="0" y="857"/>
                    </a:lnTo>
                    <a:cubicBezTo>
                      <a:pt x="0" y="852"/>
                      <a:pt x="4" y="849"/>
                      <a:pt x="8" y="849"/>
                    </a:cubicBezTo>
                    <a:cubicBezTo>
                      <a:pt x="13" y="849"/>
                      <a:pt x="16" y="852"/>
                      <a:pt x="16" y="857"/>
                    </a:cubicBezTo>
                    <a:close/>
                    <a:moveTo>
                      <a:pt x="16" y="890"/>
                    </a:moveTo>
                    <a:lnTo>
                      <a:pt x="16" y="890"/>
                    </a:lnTo>
                    <a:cubicBezTo>
                      <a:pt x="16" y="895"/>
                      <a:pt x="13" y="899"/>
                      <a:pt x="8" y="899"/>
                    </a:cubicBezTo>
                    <a:cubicBezTo>
                      <a:pt x="4" y="899"/>
                      <a:pt x="0" y="895"/>
                      <a:pt x="0" y="890"/>
                    </a:cubicBezTo>
                    <a:lnTo>
                      <a:pt x="0" y="890"/>
                    </a:lnTo>
                    <a:cubicBezTo>
                      <a:pt x="0" y="886"/>
                      <a:pt x="4" y="882"/>
                      <a:pt x="8" y="882"/>
                    </a:cubicBezTo>
                    <a:cubicBezTo>
                      <a:pt x="13" y="882"/>
                      <a:pt x="16" y="886"/>
                      <a:pt x="16" y="890"/>
                    </a:cubicBezTo>
                    <a:close/>
                    <a:moveTo>
                      <a:pt x="16" y="924"/>
                    </a:moveTo>
                    <a:lnTo>
                      <a:pt x="16" y="924"/>
                    </a:lnTo>
                    <a:cubicBezTo>
                      <a:pt x="16" y="928"/>
                      <a:pt x="13" y="932"/>
                      <a:pt x="8" y="932"/>
                    </a:cubicBezTo>
                    <a:cubicBezTo>
                      <a:pt x="4" y="932"/>
                      <a:pt x="0" y="928"/>
                      <a:pt x="0" y="924"/>
                    </a:cubicBezTo>
                    <a:lnTo>
                      <a:pt x="0" y="924"/>
                    </a:lnTo>
                    <a:cubicBezTo>
                      <a:pt x="0" y="919"/>
                      <a:pt x="4" y="915"/>
                      <a:pt x="8" y="915"/>
                    </a:cubicBezTo>
                    <a:cubicBezTo>
                      <a:pt x="13" y="915"/>
                      <a:pt x="16" y="919"/>
                      <a:pt x="16" y="924"/>
                    </a:cubicBezTo>
                    <a:close/>
                    <a:moveTo>
                      <a:pt x="16" y="957"/>
                    </a:moveTo>
                    <a:lnTo>
                      <a:pt x="16" y="957"/>
                    </a:lnTo>
                    <a:cubicBezTo>
                      <a:pt x="16" y="962"/>
                      <a:pt x="13" y="965"/>
                      <a:pt x="8" y="965"/>
                    </a:cubicBezTo>
                    <a:cubicBezTo>
                      <a:pt x="4" y="965"/>
                      <a:pt x="0" y="962"/>
                      <a:pt x="0" y="957"/>
                    </a:cubicBezTo>
                    <a:lnTo>
                      <a:pt x="0" y="957"/>
                    </a:lnTo>
                    <a:cubicBezTo>
                      <a:pt x="0" y="952"/>
                      <a:pt x="4" y="949"/>
                      <a:pt x="8" y="949"/>
                    </a:cubicBezTo>
                    <a:cubicBezTo>
                      <a:pt x="13" y="949"/>
                      <a:pt x="16" y="952"/>
                      <a:pt x="16" y="957"/>
                    </a:cubicBezTo>
                    <a:close/>
                    <a:moveTo>
                      <a:pt x="16" y="990"/>
                    </a:moveTo>
                    <a:lnTo>
                      <a:pt x="16" y="990"/>
                    </a:lnTo>
                    <a:cubicBezTo>
                      <a:pt x="16" y="995"/>
                      <a:pt x="13" y="999"/>
                      <a:pt x="8" y="999"/>
                    </a:cubicBezTo>
                    <a:cubicBezTo>
                      <a:pt x="4" y="999"/>
                      <a:pt x="0" y="995"/>
                      <a:pt x="0" y="990"/>
                    </a:cubicBezTo>
                    <a:lnTo>
                      <a:pt x="0" y="990"/>
                    </a:lnTo>
                    <a:cubicBezTo>
                      <a:pt x="0" y="986"/>
                      <a:pt x="4" y="982"/>
                      <a:pt x="8" y="982"/>
                    </a:cubicBezTo>
                    <a:cubicBezTo>
                      <a:pt x="13" y="982"/>
                      <a:pt x="16" y="986"/>
                      <a:pt x="16" y="990"/>
                    </a:cubicBezTo>
                    <a:close/>
                    <a:moveTo>
                      <a:pt x="16" y="1024"/>
                    </a:moveTo>
                    <a:lnTo>
                      <a:pt x="16" y="1024"/>
                    </a:lnTo>
                    <a:cubicBezTo>
                      <a:pt x="16" y="1028"/>
                      <a:pt x="13" y="1032"/>
                      <a:pt x="8" y="1032"/>
                    </a:cubicBezTo>
                    <a:cubicBezTo>
                      <a:pt x="4" y="1032"/>
                      <a:pt x="0" y="1028"/>
                      <a:pt x="0" y="1024"/>
                    </a:cubicBezTo>
                    <a:lnTo>
                      <a:pt x="0" y="1024"/>
                    </a:lnTo>
                    <a:cubicBezTo>
                      <a:pt x="0" y="1019"/>
                      <a:pt x="4" y="1015"/>
                      <a:pt x="8" y="1015"/>
                    </a:cubicBezTo>
                    <a:cubicBezTo>
                      <a:pt x="13" y="1015"/>
                      <a:pt x="16" y="1019"/>
                      <a:pt x="16" y="1024"/>
                    </a:cubicBezTo>
                    <a:close/>
                    <a:moveTo>
                      <a:pt x="16" y="1057"/>
                    </a:moveTo>
                    <a:lnTo>
                      <a:pt x="16" y="1057"/>
                    </a:lnTo>
                    <a:cubicBezTo>
                      <a:pt x="16" y="1062"/>
                      <a:pt x="13" y="1065"/>
                      <a:pt x="8" y="1065"/>
                    </a:cubicBezTo>
                    <a:cubicBezTo>
                      <a:pt x="4" y="1065"/>
                      <a:pt x="0" y="1062"/>
                      <a:pt x="0" y="1057"/>
                    </a:cubicBezTo>
                    <a:lnTo>
                      <a:pt x="0" y="1057"/>
                    </a:lnTo>
                    <a:cubicBezTo>
                      <a:pt x="0" y="1053"/>
                      <a:pt x="4" y="1049"/>
                      <a:pt x="8" y="1049"/>
                    </a:cubicBezTo>
                    <a:cubicBezTo>
                      <a:pt x="13" y="1049"/>
                      <a:pt x="16" y="1053"/>
                      <a:pt x="16" y="1057"/>
                    </a:cubicBezTo>
                    <a:close/>
                    <a:moveTo>
                      <a:pt x="16" y="1090"/>
                    </a:moveTo>
                    <a:lnTo>
                      <a:pt x="16" y="1091"/>
                    </a:lnTo>
                    <a:cubicBezTo>
                      <a:pt x="16" y="1095"/>
                      <a:pt x="13" y="1099"/>
                      <a:pt x="8" y="1099"/>
                    </a:cubicBezTo>
                    <a:cubicBezTo>
                      <a:pt x="4" y="1099"/>
                      <a:pt x="0" y="1095"/>
                      <a:pt x="0" y="1091"/>
                    </a:cubicBezTo>
                    <a:lnTo>
                      <a:pt x="0" y="1090"/>
                    </a:lnTo>
                    <a:cubicBezTo>
                      <a:pt x="0" y="1086"/>
                      <a:pt x="4" y="1082"/>
                      <a:pt x="8" y="1082"/>
                    </a:cubicBezTo>
                    <a:cubicBezTo>
                      <a:pt x="13" y="1082"/>
                      <a:pt x="16" y="1086"/>
                      <a:pt x="16" y="1090"/>
                    </a:cubicBezTo>
                    <a:close/>
                    <a:moveTo>
                      <a:pt x="16" y="1124"/>
                    </a:moveTo>
                    <a:lnTo>
                      <a:pt x="16" y="1124"/>
                    </a:lnTo>
                    <a:cubicBezTo>
                      <a:pt x="16" y="1128"/>
                      <a:pt x="13" y="1132"/>
                      <a:pt x="8" y="1132"/>
                    </a:cubicBezTo>
                    <a:cubicBezTo>
                      <a:pt x="4" y="1132"/>
                      <a:pt x="0" y="1128"/>
                      <a:pt x="0" y="1124"/>
                    </a:cubicBezTo>
                    <a:lnTo>
                      <a:pt x="0" y="1124"/>
                    </a:lnTo>
                    <a:cubicBezTo>
                      <a:pt x="0" y="1119"/>
                      <a:pt x="4" y="1116"/>
                      <a:pt x="8" y="1116"/>
                    </a:cubicBezTo>
                    <a:cubicBezTo>
                      <a:pt x="13" y="1116"/>
                      <a:pt x="16" y="1119"/>
                      <a:pt x="16" y="1124"/>
                    </a:cubicBezTo>
                    <a:close/>
                    <a:moveTo>
                      <a:pt x="16" y="1157"/>
                    </a:moveTo>
                    <a:lnTo>
                      <a:pt x="16" y="1157"/>
                    </a:lnTo>
                    <a:cubicBezTo>
                      <a:pt x="16" y="1162"/>
                      <a:pt x="13" y="1166"/>
                      <a:pt x="8" y="1166"/>
                    </a:cubicBezTo>
                    <a:cubicBezTo>
                      <a:pt x="4" y="1166"/>
                      <a:pt x="0" y="1162"/>
                      <a:pt x="0" y="1157"/>
                    </a:cubicBezTo>
                    <a:lnTo>
                      <a:pt x="0" y="1157"/>
                    </a:lnTo>
                    <a:cubicBezTo>
                      <a:pt x="0" y="1153"/>
                      <a:pt x="4" y="1149"/>
                      <a:pt x="8" y="1149"/>
                    </a:cubicBezTo>
                    <a:cubicBezTo>
                      <a:pt x="13" y="1149"/>
                      <a:pt x="16" y="1153"/>
                      <a:pt x="16" y="1157"/>
                    </a:cubicBezTo>
                    <a:close/>
                    <a:moveTo>
                      <a:pt x="16" y="1191"/>
                    </a:moveTo>
                    <a:lnTo>
                      <a:pt x="16" y="1191"/>
                    </a:lnTo>
                    <a:cubicBezTo>
                      <a:pt x="16" y="1195"/>
                      <a:pt x="13" y="1199"/>
                      <a:pt x="8" y="1199"/>
                    </a:cubicBezTo>
                    <a:cubicBezTo>
                      <a:pt x="4" y="1199"/>
                      <a:pt x="0" y="1195"/>
                      <a:pt x="0" y="1191"/>
                    </a:cubicBezTo>
                    <a:lnTo>
                      <a:pt x="0" y="1191"/>
                    </a:lnTo>
                    <a:cubicBezTo>
                      <a:pt x="0" y="1186"/>
                      <a:pt x="4" y="1182"/>
                      <a:pt x="8" y="1182"/>
                    </a:cubicBezTo>
                    <a:cubicBezTo>
                      <a:pt x="13" y="1182"/>
                      <a:pt x="16" y="1186"/>
                      <a:pt x="16" y="1191"/>
                    </a:cubicBezTo>
                    <a:close/>
                    <a:moveTo>
                      <a:pt x="16" y="1224"/>
                    </a:moveTo>
                    <a:lnTo>
                      <a:pt x="16" y="1224"/>
                    </a:lnTo>
                    <a:cubicBezTo>
                      <a:pt x="16" y="1229"/>
                      <a:pt x="13" y="1232"/>
                      <a:pt x="8" y="1232"/>
                    </a:cubicBezTo>
                    <a:cubicBezTo>
                      <a:pt x="4" y="1232"/>
                      <a:pt x="0" y="1229"/>
                      <a:pt x="0" y="1224"/>
                    </a:cubicBezTo>
                    <a:lnTo>
                      <a:pt x="0" y="1224"/>
                    </a:lnTo>
                    <a:cubicBezTo>
                      <a:pt x="0" y="1219"/>
                      <a:pt x="4" y="1216"/>
                      <a:pt x="8" y="1216"/>
                    </a:cubicBezTo>
                    <a:cubicBezTo>
                      <a:pt x="13" y="1216"/>
                      <a:pt x="16" y="1219"/>
                      <a:pt x="16" y="1224"/>
                    </a:cubicBezTo>
                    <a:close/>
                    <a:moveTo>
                      <a:pt x="16" y="1257"/>
                    </a:moveTo>
                    <a:lnTo>
                      <a:pt x="16" y="1257"/>
                    </a:lnTo>
                    <a:cubicBezTo>
                      <a:pt x="16" y="1262"/>
                      <a:pt x="13" y="1266"/>
                      <a:pt x="8" y="1266"/>
                    </a:cubicBezTo>
                    <a:cubicBezTo>
                      <a:pt x="4" y="1266"/>
                      <a:pt x="0" y="1262"/>
                      <a:pt x="0" y="1257"/>
                    </a:cubicBezTo>
                    <a:lnTo>
                      <a:pt x="0" y="1257"/>
                    </a:lnTo>
                    <a:cubicBezTo>
                      <a:pt x="0" y="1253"/>
                      <a:pt x="4" y="1249"/>
                      <a:pt x="8" y="1249"/>
                    </a:cubicBezTo>
                    <a:cubicBezTo>
                      <a:pt x="13" y="1249"/>
                      <a:pt x="16" y="1253"/>
                      <a:pt x="16" y="1257"/>
                    </a:cubicBezTo>
                    <a:close/>
                    <a:moveTo>
                      <a:pt x="16" y="1291"/>
                    </a:moveTo>
                    <a:lnTo>
                      <a:pt x="16" y="1291"/>
                    </a:lnTo>
                    <a:cubicBezTo>
                      <a:pt x="16" y="1295"/>
                      <a:pt x="13" y="1299"/>
                      <a:pt x="8" y="1299"/>
                    </a:cubicBezTo>
                    <a:cubicBezTo>
                      <a:pt x="4" y="1299"/>
                      <a:pt x="0" y="1295"/>
                      <a:pt x="0" y="1291"/>
                    </a:cubicBezTo>
                    <a:lnTo>
                      <a:pt x="0" y="1291"/>
                    </a:lnTo>
                    <a:cubicBezTo>
                      <a:pt x="0" y="1286"/>
                      <a:pt x="4" y="1282"/>
                      <a:pt x="8" y="1282"/>
                    </a:cubicBezTo>
                    <a:cubicBezTo>
                      <a:pt x="13" y="1282"/>
                      <a:pt x="16" y="1286"/>
                      <a:pt x="16" y="1291"/>
                    </a:cubicBezTo>
                    <a:close/>
                    <a:moveTo>
                      <a:pt x="16" y="1324"/>
                    </a:moveTo>
                    <a:lnTo>
                      <a:pt x="16" y="1324"/>
                    </a:lnTo>
                    <a:cubicBezTo>
                      <a:pt x="16" y="1329"/>
                      <a:pt x="13" y="1332"/>
                      <a:pt x="8" y="1332"/>
                    </a:cubicBezTo>
                    <a:cubicBezTo>
                      <a:pt x="4" y="1332"/>
                      <a:pt x="0" y="1329"/>
                      <a:pt x="0" y="1324"/>
                    </a:cubicBezTo>
                    <a:lnTo>
                      <a:pt x="0" y="1324"/>
                    </a:lnTo>
                    <a:cubicBezTo>
                      <a:pt x="0" y="1319"/>
                      <a:pt x="4" y="1316"/>
                      <a:pt x="8" y="1316"/>
                    </a:cubicBezTo>
                    <a:cubicBezTo>
                      <a:pt x="13" y="1316"/>
                      <a:pt x="16" y="1319"/>
                      <a:pt x="16" y="1324"/>
                    </a:cubicBezTo>
                    <a:close/>
                    <a:moveTo>
                      <a:pt x="16" y="1357"/>
                    </a:moveTo>
                    <a:lnTo>
                      <a:pt x="16" y="1357"/>
                    </a:lnTo>
                    <a:cubicBezTo>
                      <a:pt x="16" y="1362"/>
                      <a:pt x="13" y="1366"/>
                      <a:pt x="8" y="1366"/>
                    </a:cubicBezTo>
                    <a:cubicBezTo>
                      <a:pt x="4" y="1366"/>
                      <a:pt x="0" y="1362"/>
                      <a:pt x="0" y="1357"/>
                    </a:cubicBezTo>
                    <a:lnTo>
                      <a:pt x="0" y="1357"/>
                    </a:lnTo>
                    <a:cubicBezTo>
                      <a:pt x="0" y="1353"/>
                      <a:pt x="4" y="1349"/>
                      <a:pt x="8" y="1349"/>
                    </a:cubicBezTo>
                    <a:cubicBezTo>
                      <a:pt x="13" y="1349"/>
                      <a:pt x="16" y="1353"/>
                      <a:pt x="16" y="1357"/>
                    </a:cubicBezTo>
                    <a:close/>
                    <a:moveTo>
                      <a:pt x="16" y="1391"/>
                    </a:moveTo>
                    <a:lnTo>
                      <a:pt x="16" y="1391"/>
                    </a:lnTo>
                    <a:cubicBezTo>
                      <a:pt x="16" y="1395"/>
                      <a:pt x="13" y="1399"/>
                      <a:pt x="8" y="1399"/>
                    </a:cubicBezTo>
                    <a:cubicBezTo>
                      <a:pt x="4" y="1399"/>
                      <a:pt x="0" y="1395"/>
                      <a:pt x="0" y="1391"/>
                    </a:cubicBezTo>
                    <a:lnTo>
                      <a:pt x="0" y="1391"/>
                    </a:lnTo>
                    <a:cubicBezTo>
                      <a:pt x="0" y="1386"/>
                      <a:pt x="4" y="1382"/>
                      <a:pt x="8" y="1382"/>
                    </a:cubicBezTo>
                    <a:cubicBezTo>
                      <a:pt x="13" y="1382"/>
                      <a:pt x="16" y="1386"/>
                      <a:pt x="16" y="1391"/>
                    </a:cubicBezTo>
                    <a:close/>
                    <a:moveTo>
                      <a:pt x="16" y="1424"/>
                    </a:moveTo>
                    <a:lnTo>
                      <a:pt x="16" y="1424"/>
                    </a:lnTo>
                    <a:cubicBezTo>
                      <a:pt x="16" y="1429"/>
                      <a:pt x="13" y="1432"/>
                      <a:pt x="8" y="1432"/>
                    </a:cubicBezTo>
                    <a:cubicBezTo>
                      <a:pt x="4" y="1432"/>
                      <a:pt x="0" y="1429"/>
                      <a:pt x="0" y="1424"/>
                    </a:cubicBezTo>
                    <a:lnTo>
                      <a:pt x="0" y="1424"/>
                    </a:lnTo>
                    <a:cubicBezTo>
                      <a:pt x="0" y="1419"/>
                      <a:pt x="4" y="1416"/>
                      <a:pt x="8" y="1416"/>
                    </a:cubicBezTo>
                    <a:cubicBezTo>
                      <a:pt x="13" y="1416"/>
                      <a:pt x="16" y="1419"/>
                      <a:pt x="16" y="1424"/>
                    </a:cubicBezTo>
                    <a:close/>
                    <a:moveTo>
                      <a:pt x="16" y="1457"/>
                    </a:moveTo>
                    <a:lnTo>
                      <a:pt x="16" y="1457"/>
                    </a:lnTo>
                    <a:cubicBezTo>
                      <a:pt x="16" y="1462"/>
                      <a:pt x="13" y="1466"/>
                      <a:pt x="8" y="1466"/>
                    </a:cubicBezTo>
                    <a:cubicBezTo>
                      <a:pt x="4" y="1466"/>
                      <a:pt x="0" y="1462"/>
                      <a:pt x="0" y="1457"/>
                    </a:cubicBezTo>
                    <a:lnTo>
                      <a:pt x="0" y="1457"/>
                    </a:lnTo>
                    <a:cubicBezTo>
                      <a:pt x="0" y="1453"/>
                      <a:pt x="4" y="1449"/>
                      <a:pt x="8" y="1449"/>
                    </a:cubicBezTo>
                    <a:cubicBezTo>
                      <a:pt x="13" y="1449"/>
                      <a:pt x="16" y="1453"/>
                      <a:pt x="16" y="1457"/>
                    </a:cubicBezTo>
                    <a:close/>
                    <a:moveTo>
                      <a:pt x="16" y="1491"/>
                    </a:moveTo>
                    <a:lnTo>
                      <a:pt x="16" y="1491"/>
                    </a:lnTo>
                    <a:cubicBezTo>
                      <a:pt x="16" y="1495"/>
                      <a:pt x="13" y="1499"/>
                      <a:pt x="8" y="1499"/>
                    </a:cubicBezTo>
                    <a:cubicBezTo>
                      <a:pt x="4" y="1499"/>
                      <a:pt x="0" y="1495"/>
                      <a:pt x="0" y="1491"/>
                    </a:cubicBezTo>
                    <a:lnTo>
                      <a:pt x="0" y="1491"/>
                    </a:lnTo>
                    <a:cubicBezTo>
                      <a:pt x="0" y="1486"/>
                      <a:pt x="4" y="1482"/>
                      <a:pt x="8" y="1482"/>
                    </a:cubicBezTo>
                    <a:cubicBezTo>
                      <a:pt x="13" y="1482"/>
                      <a:pt x="16" y="1486"/>
                      <a:pt x="16" y="1491"/>
                    </a:cubicBezTo>
                    <a:close/>
                    <a:moveTo>
                      <a:pt x="16" y="1524"/>
                    </a:moveTo>
                    <a:lnTo>
                      <a:pt x="16" y="1524"/>
                    </a:lnTo>
                    <a:cubicBezTo>
                      <a:pt x="16" y="1529"/>
                      <a:pt x="13" y="1532"/>
                      <a:pt x="8" y="1532"/>
                    </a:cubicBezTo>
                    <a:cubicBezTo>
                      <a:pt x="4" y="1532"/>
                      <a:pt x="0" y="1529"/>
                      <a:pt x="0" y="1524"/>
                    </a:cubicBezTo>
                    <a:lnTo>
                      <a:pt x="0" y="1524"/>
                    </a:lnTo>
                    <a:cubicBezTo>
                      <a:pt x="0" y="1519"/>
                      <a:pt x="4" y="1516"/>
                      <a:pt x="8" y="1516"/>
                    </a:cubicBezTo>
                    <a:cubicBezTo>
                      <a:pt x="13" y="1516"/>
                      <a:pt x="16" y="1519"/>
                      <a:pt x="16" y="1524"/>
                    </a:cubicBezTo>
                    <a:close/>
                    <a:moveTo>
                      <a:pt x="16" y="1557"/>
                    </a:moveTo>
                    <a:lnTo>
                      <a:pt x="16" y="1557"/>
                    </a:lnTo>
                    <a:cubicBezTo>
                      <a:pt x="16" y="1562"/>
                      <a:pt x="13" y="1566"/>
                      <a:pt x="8" y="1566"/>
                    </a:cubicBezTo>
                    <a:cubicBezTo>
                      <a:pt x="4" y="1566"/>
                      <a:pt x="0" y="1562"/>
                      <a:pt x="0" y="1557"/>
                    </a:cubicBezTo>
                    <a:lnTo>
                      <a:pt x="0" y="1557"/>
                    </a:lnTo>
                    <a:cubicBezTo>
                      <a:pt x="0" y="1553"/>
                      <a:pt x="4" y="1549"/>
                      <a:pt x="8" y="1549"/>
                    </a:cubicBezTo>
                    <a:cubicBezTo>
                      <a:pt x="13" y="1549"/>
                      <a:pt x="16" y="1553"/>
                      <a:pt x="16" y="1557"/>
                    </a:cubicBezTo>
                    <a:close/>
                    <a:moveTo>
                      <a:pt x="16" y="1591"/>
                    </a:moveTo>
                    <a:lnTo>
                      <a:pt x="16" y="1591"/>
                    </a:lnTo>
                    <a:cubicBezTo>
                      <a:pt x="16" y="1595"/>
                      <a:pt x="13" y="1599"/>
                      <a:pt x="8" y="1599"/>
                    </a:cubicBezTo>
                    <a:cubicBezTo>
                      <a:pt x="4" y="1599"/>
                      <a:pt x="0" y="1595"/>
                      <a:pt x="0" y="1591"/>
                    </a:cubicBezTo>
                    <a:lnTo>
                      <a:pt x="0" y="1591"/>
                    </a:lnTo>
                    <a:cubicBezTo>
                      <a:pt x="0" y="1586"/>
                      <a:pt x="4" y="1582"/>
                      <a:pt x="8" y="1582"/>
                    </a:cubicBezTo>
                    <a:cubicBezTo>
                      <a:pt x="13" y="1582"/>
                      <a:pt x="16" y="1586"/>
                      <a:pt x="16" y="1591"/>
                    </a:cubicBezTo>
                    <a:close/>
                    <a:moveTo>
                      <a:pt x="16" y="1624"/>
                    </a:moveTo>
                    <a:lnTo>
                      <a:pt x="16" y="1624"/>
                    </a:lnTo>
                    <a:cubicBezTo>
                      <a:pt x="16" y="1629"/>
                      <a:pt x="13" y="1632"/>
                      <a:pt x="8" y="1632"/>
                    </a:cubicBezTo>
                    <a:cubicBezTo>
                      <a:pt x="4" y="1632"/>
                      <a:pt x="0" y="1629"/>
                      <a:pt x="0" y="1624"/>
                    </a:cubicBezTo>
                    <a:lnTo>
                      <a:pt x="0" y="1624"/>
                    </a:lnTo>
                    <a:cubicBezTo>
                      <a:pt x="0" y="1619"/>
                      <a:pt x="4" y="1616"/>
                      <a:pt x="8" y="1616"/>
                    </a:cubicBezTo>
                    <a:cubicBezTo>
                      <a:pt x="13" y="1616"/>
                      <a:pt x="16" y="1619"/>
                      <a:pt x="16" y="1624"/>
                    </a:cubicBezTo>
                    <a:close/>
                    <a:moveTo>
                      <a:pt x="16" y="1657"/>
                    </a:moveTo>
                    <a:lnTo>
                      <a:pt x="16" y="1657"/>
                    </a:lnTo>
                    <a:cubicBezTo>
                      <a:pt x="16" y="1662"/>
                      <a:pt x="13" y="1666"/>
                      <a:pt x="8" y="1666"/>
                    </a:cubicBezTo>
                    <a:cubicBezTo>
                      <a:pt x="4" y="1666"/>
                      <a:pt x="0" y="1662"/>
                      <a:pt x="0" y="1657"/>
                    </a:cubicBezTo>
                    <a:lnTo>
                      <a:pt x="0" y="1657"/>
                    </a:lnTo>
                    <a:cubicBezTo>
                      <a:pt x="0" y="1653"/>
                      <a:pt x="4" y="1649"/>
                      <a:pt x="8" y="1649"/>
                    </a:cubicBezTo>
                    <a:cubicBezTo>
                      <a:pt x="13" y="1649"/>
                      <a:pt x="16" y="1653"/>
                      <a:pt x="16" y="1657"/>
                    </a:cubicBezTo>
                    <a:close/>
                    <a:moveTo>
                      <a:pt x="16" y="1691"/>
                    </a:moveTo>
                    <a:lnTo>
                      <a:pt x="16" y="1691"/>
                    </a:lnTo>
                    <a:cubicBezTo>
                      <a:pt x="16" y="1695"/>
                      <a:pt x="13" y="1699"/>
                      <a:pt x="8" y="1699"/>
                    </a:cubicBezTo>
                    <a:cubicBezTo>
                      <a:pt x="4" y="1699"/>
                      <a:pt x="0" y="1695"/>
                      <a:pt x="0" y="1691"/>
                    </a:cubicBezTo>
                    <a:lnTo>
                      <a:pt x="0" y="1691"/>
                    </a:lnTo>
                    <a:cubicBezTo>
                      <a:pt x="0" y="1686"/>
                      <a:pt x="4" y="1682"/>
                      <a:pt x="8" y="1682"/>
                    </a:cubicBezTo>
                    <a:cubicBezTo>
                      <a:pt x="13" y="1682"/>
                      <a:pt x="16" y="1686"/>
                      <a:pt x="16" y="1691"/>
                    </a:cubicBezTo>
                    <a:close/>
                    <a:moveTo>
                      <a:pt x="16" y="1724"/>
                    </a:moveTo>
                    <a:lnTo>
                      <a:pt x="16" y="1724"/>
                    </a:lnTo>
                    <a:cubicBezTo>
                      <a:pt x="16" y="1729"/>
                      <a:pt x="13" y="1733"/>
                      <a:pt x="8" y="1733"/>
                    </a:cubicBezTo>
                    <a:cubicBezTo>
                      <a:pt x="4" y="1733"/>
                      <a:pt x="0" y="1729"/>
                      <a:pt x="0" y="1724"/>
                    </a:cubicBezTo>
                    <a:lnTo>
                      <a:pt x="0" y="1724"/>
                    </a:lnTo>
                    <a:cubicBezTo>
                      <a:pt x="0" y="1720"/>
                      <a:pt x="4" y="1716"/>
                      <a:pt x="8" y="1716"/>
                    </a:cubicBezTo>
                    <a:cubicBezTo>
                      <a:pt x="13" y="1716"/>
                      <a:pt x="16" y="1720"/>
                      <a:pt x="16" y="1724"/>
                    </a:cubicBezTo>
                    <a:close/>
                    <a:moveTo>
                      <a:pt x="16" y="1758"/>
                    </a:moveTo>
                    <a:lnTo>
                      <a:pt x="16" y="1758"/>
                    </a:lnTo>
                    <a:cubicBezTo>
                      <a:pt x="16" y="1762"/>
                      <a:pt x="13" y="1766"/>
                      <a:pt x="8" y="1766"/>
                    </a:cubicBezTo>
                    <a:cubicBezTo>
                      <a:pt x="4" y="1766"/>
                      <a:pt x="0" y="1762"/>
                      <a:pt x="0" y="1758"/>
                    </a:cubicBezTo>
                    <a:lnTo>
                      <a:pt x="0" y="1758"/>
                    </a:lnTo>
                    <a:cubicBezTo>
                      <a:pt x="0" y="1753"/>
                      <a:pt x="4" y="1749"/>
                      <a:pt x="8" y="1749"/>
                    </a:cubicBezTo>
                    <a:cubicBezTo>
                      <a:pt x="13" y="1749"/>
                      <a:pt x="16" y="1753"/>
                      <a:pt x="16" y="1758"/>
                    </a:cubicBezTo>
                    <a:close/>
                    <a:moveTo>
                      <a:pt x="16" y="1791"/>
                    </a:moveTo>
                    <a:lnTo>
                      <a:pt x="16" y="1791"/>
                    </a:lnTo>
                    <a:cubicBezTo>
                      <a:pt x="16" y="1795"/>
                      <a:pt x="13" y="1799"/>
                      <a:pt x="8" y="1799"/>
                    </a:cubicBezTo>
                    <a:cubicBezTo>
                      <a:pt x="4" y="1799"/>
                      <a:pt x="0" y="1795"/>
                      <a:pt x="0" y="1791"/>
                    </a:cubicBezTo>
                    <a:lnTo>
                      <a:pt x="0" y="1791"/>
                    </a:lnTo>
                    <a:cubicBezTo>
                      <a:pt x="0" y="1786"/>
                      <a:pt x="4" y="1783"/>
                      <a:pt x="8" y="1783"/>
                    </a:cubicBezTo>
                    <a:cubicBezTo>
                      <a:pt x="13" y="1783"/>
                      <a:pt x="16" y="1786"/>
                      <a:pt x="16" y="1791"/>
                    </a:cubicBezTo>
                    <a:close/>
                    <a:moveTo>
                      <a:pt x="24" y="1800"/>
                    </a:moveTo>
                    <a:lnTo>
                      <a:pt x="24" y="1800"/>
                    </a:lnTo>
                    <a:cubicBezTo>
                      <a:pt x="29" y="1800"/>
                      <a:pt x="33" y="1804"/>
                      <a:pt x="33" y="1808"/>
                    </a:cubicBezTo>
                    <a:cubicBezTo>
                      <a:pt x="33" y="1813"/>
                      <a:pt x="29" y="1816"/>
                      <a:pt x="24" y="1816"/>
                    </a:cubicBezTo>
                    <a:lnTo>
                      <a:pt x="24" y="1816"/>
                    </a:lnTo>
                    <a:cubicBezTo>
                      <a:pt x="20" y="1816"/>
                      <a:pt x="16" y="1813"/>
                      <a:pt x="16" y="1808"/>
                    </a:cubicBezTo>
                    <a:cubicBezTo>
                      <a:pt x="16" y="1804"/>
                      <a:pt x="20" y="1800"/>
                      <a:pt x="24" y="1800"/>
                    </a:cubicBezTo>
                    <a:close/>
                    <a:moveTo>
                      <a:pt x="58" y="1800"/>
                    </a:moveTo>
                    <a:lnTo>
                      <a:pt x="58" y="1800"/>
                    </a:lnTo>
                    <a:cubicBezTo>
                      <a:pt x="62" y="1800"/>
                      <a:pt x="66" y="1804"/>
                      <a:pt x="66" y="1808"/>
                    </a:cubicBezTo>
                    <a:cubicBezTo>
                      <a:pt x="66" y="1813"/>
                      <a:pt x="62" y="1816"/>
                      <a:pt x="58" y="1816"/>
                    </a:cubicBezTo>
                    <a:lnTo>
                      <a:pt x="58" y="1816"/>
                    </a:lnTo>
                    <a:cubicBezTo>
                      <a:pt x="53" y="1816"/>
                      <a:pt x="49" y="1813"/>
                      <a:pt x="49" y="1808"/>
                    </a:cubicBezTo>
                    <a:cubicBezTo>
                      <a:pt x="49" y="1804"/>
                      <a:pt x="53" y="1800"/>
                      <a:pt x="58" y="1800"/>
                    </a:cubicBezTo>
                    <a:close/>
                    <a:moveTo>
                      <a:pt x="91" y="1800"/>
                    </a:moveTo>
                    <a:lnTo>
                      <a:pt x="91" y="1800"/>
                    </a:lnTo>
                    <a:cubicBezTo>
                      <a:pt x="96" y="1800"/>
                      <a:pt x="99" y="1804"/>
                      <a:pt x="99" y="1808"/>
                    </a:cubicBezTo>
                    <a:cubicBezTo>
                      <a:pt x="99" y="1813"/>
                      <a:pt x="96" y="1816"/>
                      <a:pt x="91" y="1816"/>
                    </a:cubicBezTo>
                    <a:lnTo>
                      <a:pt x="91" y="1816"/>
                    </a:lnTo>
                    <a:cubicBezTo>
                      <a:pt x="86" y="1816"/>
                      <a:pt x="83" y="1813"/>
                      <a:pt x="83" y="1808"/>
                    </a:cubicBezTo>
                    <a:cubicBezTo>
                      <a:pt x="83" y="1804"/>
                      <a:pt x="86" y="1800"/>
                      <a:pt x="91" y="1800"/>
                    </a:cubicBezTo>
                    <a:close/>
                    <a:moveTo>
                      <a:pt x="124" y="1800"/>
                    </a:moveTo>
                    <a:lnTo>
                      <a:pt x="124" y="1800"/>
                    </a:lnTo>
                    <a:cubicBezTo>
                      <a:pt x="129" y="1800"/>
                      <a:pt x="133" y="1804"/>
                      <a:pt x="133" y="1808"/>
                    </a:cubicBezTo>
                    <a:cubicBezTo>
                      <a:pt x="133" y="1813"/>
                      <a:pt x="129" y="1816"/>
                      <a:pt x="124" y="1816"/>
                    </a:cubicBezTo>
                    <a:lnTo>
                      <a:pt x="124" y="1816"/>
                    </a:lnTo>
                    <a:cubicBezTo>
                      <a:pt x="120" y="1816"/>
                      <a:pt x="116" y="1813"/>
                      <a:pt x="116" y="1808"/>
                    </a:cubicBezTo>
                    <a:cubicBezTo>
                      <a:pt x="116" y="1804"/>
                      <a:pt x="120" y="1800"/>
                      <a:pt x="124" y="1800"/>
                    </a:cubicBezTo>
                    <a:close/>
                    <a:moveTo>
                      <a:pt x="158" y="1800"/>
                    </a:moveTo>
                    <a:lnTo>
                      <a:pt x="158" y="1800"/>
                    </a:lnTo>
                    <a:cubicBezTo>
                      <a:pt x="162" y="1800"/>
                      <a:pt x="166" y="1804"/>
                      <a:pt x="166" y="1808"/>
                    </a:cubicBezTo>
                    <a:cubicBezTo>
                      <a:pt x="166" y="1813"/>
                      <a:pt x="162" y="1816"/>
                      <a:pt x="158" y="1816"/>
                    </a:cubicBezTo>
                    <a:lnTo>
                      <a:pt x="158" y="1816"/>
                    </a:lnTo>
                    <a:cubicBezTo>
                      <a:pt x="153" y="1816"/>
                      <a:pt x="149" y="1813"/>
                      <a:pt x="149" y="1808"/>
                    </a:cubicBezTo>
                    <a:cubicBezTo>
                      <a:pt x="149" y="1804"/>
                      <a:pt x="153" y="1800"/>
                      <a:pt x="158" y="1800"/>
                    </a:cubicBezTo>
                    <a:close/>
                    <a:moveTo>
                      <a:pt x="191" y="1800"/>
                    </a:moveTo>
                    <a:lnTo>
                      <a:pt x="191" y="1800"/>
                    </a:lnTo>
                    <a:cubicBezTo>
                      <a:pt x="196" y="1800"/>
                      <a:pt x="199" y="1804"/>
                      <a:pt x="199" y="1808"/>
                    </a:cubicBezTo>
                    <a:cubicBezTo>
                      <a:pt x="199" y="1813"/>
                      <a:pt x="196" y="1816"/>
                      <a:pt x="191" y="1816"/>
                    </a:cubicBezTo>
                    <a:lnTo>
                      <a:pt x="191" y="1816"/>
                    </a:lnTo>
                    <a:cubicBezTo>
                      <a:pt x="186" y="1816"/>
                      <a:pt x="183" y="1813"/>
                      <a:pt x="183" y="1808"/>
                    </a:cubicBezTo>
                    <a:cubicBezTo>
                      <a:pt x="183" y="1804"/>
                      <a:pt x="186" y="1800"/>
                      <a:pt x="191" y="1800"/>
                    </a:cubicBezTo>
                    <a:close/>
                    <a:moveTo>
                      <a:pt x="224" y="1800"/>
                    </a:moveTo>
                    <a:lnTo>
                      <a:pt x="224" y="1800"/>
                    </a:lnTo>
                    <a:cubicBezTo>
                      <a:pt x="229" y="1800"/>
                      <a:pt x="233" y="1804"/>
                      <a:pt x="233" y="1808"/>
                    </a:cubicBezTo>
                    <a:cubicBezTo>
                      <a:pt x="233" y="1813"/>
                      <a:pt x="229" y="1816"/>
                      <a:pt x="224" y="1816"/>
                    </a:cubicBezTo>
                    <a:lnTo>
                      <a:pt x="224" y="1816"/>
                    </a:lnTo>
                    <a:cubicBezTo>
                      <a:pt x="220" y="1816"/>
                      <a:pt x="216" y="1813"/>
                      <a:pt x="216" y="1808"/>
                    </a:cubicBezTo>
                    <a:cubicBezTo>
                      <a:pt x="216" y="1804"/>
                      <a:pt x="220" y="1800"/>
                      <a:pt x="224" y="1800"/>
                    </a:cubicBezTo>
                    <a:close/>
                    <a:moveTo>
                      <a:pt x="258" y="1800"/>
                    </a:moveTo>
                    <a:lnTo>
                      <a:pt x="258" y="1800"/>
                    </a:lnTo>
                    <a:cubicBezTo>
                      <a:pt x="262" y="1800"/>
                      <a:pt x="266" y="1804"/>
                      <a:pt x="266" y="1808"/>
                    </a:cubicBezTo>
                    <a:cubicBezTo>
                      <a:pt x="266" y="1813"/>
                      <a:pt x="262" y="1816"/>
                      <a:pt x="258" y="1816"/>
                    </a:cubicBezTo>
                    <a:lnTo>
                      <a:pt x="258" y="1816"/>
                    </a:lnTo>
                    <a:cubicBezTo>
                      <a:pt x="253" y="1816"/>
                      <a:pt x="249" y="1813"/>
                      <a:pt x="249" y="1808"/>
                    </a:cubicBezTo>
                    <a:cubicBezTo>
                      <a:pt x="249" y="1804"/>
                      <a:pt x="253" y="1800"/>
                      <a:pt x="258" y="1800"/>
                    </a:cubicBezTo>
                    <a:close/>
                    <a:moveTo>
                      <a:pt x="291" y="1800"/>
                    </a:moveTo>
                    <a:lnTo>
                      <a:pt x="291" y="1800"/>
                    </a:lnTo>
                    <a:cubicBezTo>
                      <a:pt x="296" y="1800"/>
                      <a:pt x="299" y="1804"/>
                      <a:pt x="299" y="1808"/>
                    </a:cubicBezTo>
                    <a:cubicBezTo>
                      <a:pt x="299" y="1813"/>
                      <a:pt x="296" y="1816"/>
                      <a:pt x="291" y="1816"/>
                    </a:cubicBezTo>
                    <a:lnTo>
                      <a:pt x="291" y="1816"/>
                    </a:lnTo>
                    <a:cubicBezTo>
                      <a:pt x="286" y="1816"/>
                      <a:pt x="283" y="1813"/>
                      <a:pt x="283" y="1808"/>
                    </a:cubicBezTo>
                    <a:cubicBezTo>
                      <a:pt x="283" y="1804"/>
                      <a:pt x="286" y="1800"/>
                      <a:pt x="291" y="1800"/>
                    </a:cubicBezTo>
                    <a:close/>
                    <a:moveTo>
                      <a:pt x="324" y="1800"/>
                    </a:moveTo>
                    <a:lnTo>
                      <a:pt x="324" y="1800"/>
                    </a:lnTo>
                    <a:cubicBezTo>
                      <a:pt x="329" y="1800"/>
                      <a:pt x="333" y="1804"/>
                      <a:pt x="333" y="1808"/>
                    </a:cubicBezTo>
                    <a:cubicBezTo>
                      <a:pt x="333" y="1813"/>
                      <a:pt x="329" y="1816"/>
                      <a:pt x="324" y="1816"/>
                    </a:cubicBezTo>
                    <a:lnTo>
                      <a:pt x="324" y="1816"/>
                    </a:lnTo>
                    <a:cubicBezTo>
                      <a:pt x="320" y="1816"/>
                      <a:pt x="316" y="1813"/>
                      <a:pt x="316" y="1808"/>
                    </a:cubicBezTo>
                    <a:cubicBezTo>
                      <a:pt x="316" y="1804"/>
                      <a:pt x="320" y="1800"/>
                      <a:pt x="324" y="1800"/>
                    </a:cubicBezTo>
                    <a:close/>
                    <a:moveTo>
                      <a:pt x="358" y="1800"/>
                    </a:moveTo>
                    <a:lnTo>
                      <a:pt x="358" y="1800"/>
                    </a:lnTo>
                    <a:cubicBezTo>
                      <a:pt x="362" y="1800"/>
                      <a:pt x="366" y="1804"/>
                      <a:pt x="366" y="1808"/>
                    </a:cubicBezTo>
                    <a:cubicBezTo>
                      <a:pt x="366" y="1813"/>
                      <a:pt x="362" y="1816"/>
                      <a:pt x="358" y="1816"/>
                    </a:cubicBezTo>
                    <a:lnTo>
                      <a:pt x="358" y="1816"/>
                    </a:lnTo>
                    <a:cubicBezTo>
                      <a:pt x="353" y="1816"/>
                      <a:pt x="349" y="1813"/>
                      <a:pt x="349" y="1808"/>
                    </a:cubicBezTo>
                    <a:cubicBezTo>
                      <a:pt x="349" y="1804"/>
                      <a:pt x="353" y="1800"/>
                      <a:pt x="358" y="1800"/>
                    </a:cubicBezTo>
                    <a:close/>
                    <a:moveTo>
                      <a:pt x="391" y="1800"/>
                    </a:moveTo>
                    <a:lnTo>
                      <a:pt x="391" y="1800"/>
                    </a:lnTo>
                    <a:cubicBezTo>
                      <a:pt x="396" y="1800"/>
                      <a:pt x="399" y="1804"/>
                      <a:pt x="399" y="1808"/>
                    </a:cubicBezTo>
                    <a:cubicBezTo>
                      <a:pt x="399" y="1813"/>
                      <a:pt x="396" y="1816"/>
                      <a:pt x="391" y="1816"/>
                    </a:cubicBezTo>
                    <a:lnTo>
                      <a:pt x="391" y="1816"/>
                    </a:lnTo>
                    <a:cubicBezTo>
                      <a:pt x="386" y="1816"/>
                      <a:pt x="383" y="1813"/>
                      <a:pt x="383" y="1808"/>
                    </a:cubicBezTo>
                    <a:cubicBezTo>
                      <a:pt x="383" y="1804"/>
                      <a:pt x="386" y="1800"/>
                      <a:pt x="391" y="1800"/>
                    </a:cubicBezTo>
                    <a:close/>
                    <a:moveTo>
                      <a:pt x="424" y="1800"/>
                    </a:moveTo>
                    <a:lnTo>
                      <a:pt x="424" y="1800"/>
                    </a:lnTo>
                    <a:cubicBezTo>
                      <a:pt x="429" y="1800"/>
                      <a:pt x="433" y="1804"/>
                      <a:pt x="433" y="1808"/>
                    </a:cubicBezTo>
                    <a:cubicBezTo>
                      <a:pt x="433" y="1813"/>
                      <a:pt x="429" y="1816"/>
                      <a:pt x="424" y="1816"/>
                    </a:cubicBezTo>
                    <a:lnTo>
                      <a:pt x="424" y="1816"/>
                    </a:lnTo>
                    <a:cubicBezTo>
                      <a:pt x="420" y="1816"/>
                      <a:pt x="416" y="1813"/>
                      <a:pt x="416" y="1808"/>
                    </a:cubicBezTo>
                    <a:cubicBezTo>
                      <a:pt x="416" y="1804"/>
                      <a:pt x="420" y="1800"/>
                      <a:pt x="424" y="1800"/>
                    </a:cubicBezTo>
                    <a:close/>
                    <a:moveTo>
                      <a:pt x="458" y="1800"/>
                    </a:moveTo>
                    <a:lnTo>
                      <a:pt x="458" y="1800"/>
                    </a:lnTo>
                    <a:cubicBezTo>
                      <a:pt x="462" y="1800"/>
                      <a:pt x="466" y="1804"/>
                      <a:pt x="466" y="1808"/>
                    </a:cubicBezTo>
                    <a:cubicBezTo>
                      <a:pt x="466" y="1813"/>
                      <a:pt x="462" y="1816"/>
                      <a:pt x="458" y="1816"/>
                    </a:cubicBezTo>
                    <a:lnTo>
                      <a:pt x="458" y="1816"/>
                    </a:lnTo>
                    <a:cubicBezTo>
                      <a:pt x="453" y="1816"/>
                      <a:pt x="449" y="1813"/>
                      <a:pt x="449" y="1808"/>
                    </a:cubicBezTo>
                    <a:cubicBezTo>
                      <a:pt x="449" y="1804"/>
                      <a:pt x="453" y="1800"/>
                      <a:pt x="458" y="1800"/>
                    </a:cubicBezTo>
                    <a:close/>
                    <a:moveTo>
                      <a:pt x="491" y="1800"/>
                    </a:moveTo>
                    <a:lnTo>
                      <a:pt x="491" y="1800"/>
                    </a:lnTo>
                    <a:cubicBezTo>
                      <a:pt x="496" y="1800"/>
                      <a:pt x="499" y="1804"/>
                      <a:pt x="499" y="1808"/>
                    </a:cubicBezTo>
                    <a:cubicBezTo>
                      <a:pt x="499" y="1813"/>
                      <a:pt x="496" y="1816"/>
                      <a:pt x="491" y="1816"/>
                    </a:cubicBezTo>
                    <a:lnTo>
                      <a:pt x="491" y="1816"/>
                    </a:lnTo>
                    <a:cubicBezTo>
                      <a:pt x="486" y="1816"/>
                      <a:pt x="483" y="1813"/>
                      <a:pt x="483" y="1808"/>
                    </a:cubicBezTo>
                    <a:cubicBezTo>
                      <a:pt x="483" y="1804"/>
                      <a:pt x="486" y="1800"/>
                      <a:pt x="491" y="1800"/>
                    </a:cubicBezTo>
                    <a:close/>
                    <a:moveTo>
                      <a:pt x="524" y="1800"/>
                    </a:moveTo>
                    <a:lnTo>
                      <a:pt x="524" y="1800"/>
                    </a:lnTo>
                    <a:cubicBezTo>
                      <a:pt x="529" y="1800"/>
                      <a:pt x="533" y="1804"/>
                      <a:pt x="533" y="1808"/>
                    </a:cubicBezTo>
                    <a:cubicBezTo>
                      <a:pt x="533" y="1813"/>
                      <a:pt x="529" y="1816"/>
                      <a:pt x="524" y="1816"/>
                    </a:cubicBezTo>
                    <a:lnTo>
                      <a:pt x="524" y="1816"/>
                    </a:lnTo>
                    <a:cubicBezTo>
                      <a:pt x="520" y="1816"/>
                      <a:pt x="516" y="1813"/>
                      <a:pt x="516" y="1808"/>
                    </a:cubicBezTo>
                    <a:cubicBezTo>
                      <a:pt x="516" y="1804"/>
                      <a:pt x="520" y="1800"/>
                      <a:pt x="524" y="1800"/>
                    </a:cubicBezTo>
                    <a:close/>
                    <a:moveTo>
                      <a:pt x="558" y="1800"/>
                    </a:moveTo>
                    <a:lnTo>
                      <a:pt x="558" y="1800"/>
                    </a:lnTo>
                    <a:cubicBezTo>
                      <a:pt x="562" y="1800"/>
                      <a:pt x="566" y="1804"/>
                      <a:pt x="566" y="1808"/>
                    </a:cubicBezTo>
                    <a:cubicBezTo>
                      <a:pt x="566" y="1813"/>
                      <a:pt x="562" y="1816"/>
                      <a:pt x="558" y="1816"/>
                    </a:cubicBezTo>
                    <a:lnTo>
                      <a:pt x="558" y="1816"/>
                    </a:lnTo>
                    <a:cubicBezTo>
                      <a:pt x="553" y="1816"/>
                      <a:pt x="549" y="1813"/>
                      <a:pt x="549" y="1808"/>
                    </a:cubicBezTo>
                    <a:cubicBezTo>
                      <a:pt x="549" y="1804"/>
                      <a:pt x="553" y="1800"/>
                      <a:pt x="558" y="1800"/>
                    </a:cubicBezTo>
                    <a:close/>
                    <a:moveTo>
                      <a:pt x="591" y="1800"/>
                    </a:moveTo>
                    <a:lnTo>
                      <a:pt x="591" y="1800"/>
                    </a:lnTo>
                    <a:cubicBezTo>
                      <a:pt x="596" y="1800"/>
                      <a:pt x="599" y="1804"/>
                      <a:pt x="599" y="1808"/>
                    </a:cubicBezTo>
                    <a:cubicBezTo>
                      <a:pt x="599" y="1813"/>
                      <a:pt x="596" y="1816"/>
                      <a:pt x="591" y="1816"/>
                    </a:cubicBezTo>
                    <a:lnTo>
                      <a:pt x="591" y="1816"/>
                    </a:lnTo>
                    <a:cubicBezTo>
                      <a:pt x="587" y="1816"/>
                      <a:pt x="583" y="1813"/>
                      <a:pt x="583" y="1808"/>
                    </a:cubicBezTo>
                    <a:cubicBezTo>
                      <a:pt x="583" y="1804"/>
                      <a:pt x="587" y="1800"/>
                      <a:pt x="591" y="1800"/>
                    </a:cubicBezTo>
                    <a:close/>
                    <a:moveTo>
                      <a:pt x="624" y="1800"/>
                    </a:moveTo>
                    <a:lnTo>
                      <a:pt x="624" y="1800"/>
                    </a:lnTo>
                    <a:cubicBezTo>
                      <a:pt x="629" y="1800"/>
                      <a:pt x="633" y="1804"/>
                      <a:pt x="633" y="1808"/>
                    </a:cubicBezTo>
                    <a:cubicBezTo>
                      <a:pt x="633" y="1813"/>
                      <a:pt x="629" y="1816"/>
                      <a:pt x="624" y="1816"/>
                    </a:cubicBezTo>
                    <a:lnTo>
                      <a:pt x="624" y="1816"/>
                    </a:lnTo>
                    <a:cubicBezTo>
                      <a:pt x="620" y="1816"/>
                      <a:pt x="616" y="1813"/>
                      <a:pt x="616" y="1808"/>
                    </a:cubicBezTo>
                    <a:cubicBezTo>
                      <a:pt x="616" y="1804"/>
                      <a:pt x="620" y="1800"/>
                      <a:pt x="624" y="1800"/>
                    </a:cubicBezTo>
                    <a:close/>
                    <a:moveTo>
                      <a:pt x="658" y="1800"/>
                    </a:moveTo>
                    <a:lnTo>
                      <a:pt x="658" y="1800"/>
                    </a:lnTo>
                    <a:cubicBezTo>
                      <a:pt x="662" y="1800"/>
                      <a:pt x="666" y="1804"/>
                      <a:pt x="666" y="1808"/>
                    </a:cubicBezTo>
                    <a:cubicBezTo>
                      <a:pt x="666" y="1813"/>
                      <a:pt x="662" y="1816"/>
                      <a:pt x="658" y="1816"/>
                    </a:cubicBezTo>
                    <a:lnTo>
                      <a:pt x="658" y="1816"/>
                    </a:lnTo>
                    <a:cubicBezTo>
                      <a:pt x="653" y="1816"/>
                      <a:pt x="649" y="1813"/>
                      <a:pt x="649" y="1808"/>
                    </a:cubicBezTo>
                    <a:cubicBezTo>
                      <a:pt x="649" y="1804"/>
                      <a:pt x="653" y="1800"/>
                      <a:pt x="658" y="1800"/>
                    </a:cubicBezTo>
                    <a:close/>
                    <a:moveTo>
                      <a:pt x="691" y="1800"/>
                    </a:moveTo>
                    <a:lnTo>
                      <a:pt x="691" y="1800"/>
                    </a:lnTo>
                    <a:cubicBezTo>
                      <a:pt x="696" y="1800"/>
                      <a:pt x="700" y="1804"/>
                      <a:pt x="700" y="1808"/>
                    </a:cubicBezTo>
                    <a:cubicBezTo>
                      <a:pt x="700" y="1813"/>
                      <a:pt x="696" y="1816"/>
                      <a:pt x="691" y="1816"/>
                    </a:cubicBezTo>
                    <a:lnTo>
                      <a:pt x="691" y="1816"/>
                    </a:lnTo>
                    <a:cubicBezTo>
                      <a:pt x="687" y="1816"/>
                      <a:pt x="683" y="1813"/>
                      <a:pt x="683" y="1808"/>
                    </a:cubicBezTo>
                    <a:cubicBezTo>
                      <a:pt x="683" y="1804"/>
                      <a:pt x="687" y="1800"/>
                      <a:pt x="691" y="1800"/>
                    </a:cubicBezTo>
                    <a:close/>
                    <a:moveTo>
                      <a:pt x="725" y="1800"/>
                    </a:moveTo>
                    <a:lnTo>
                      <a:pt x="725" y="1800"/>
                    </a:lnTo>
                    <a:cubicBezTo>
                      <a:pt x="729" y="1800"/>
                      <a:pt x="733" y="1804"/>
                      <a:pt x="733" y="1808"/>
                    </a:cubicBezTo>
                    <a:cubicBezTo>
                      <a:pt x="733" y="1813"/>
                      <a:pt x="729" y="1816"/>
                      <a:pt x="725" y="1816"/>
                    </a:cubicBezTo>
                    <a:lnTo>
                      <a:pt x="725" y="1816"/>
                    </a:lnTo>
                    <a:cubicBezTo>
                      <a:pt x="720" y="1816"/>
                      <a:pt x="716" y="1813"/>
                      <a:pt x="716" y="1808"/>
                    </a:cubicBezTo>
                    <a:cubicBezTo>
                      <a:pt x="716" y="1804"/>
                      <a:pt x="720" y="1800"/>
                      <a:pt x="725" y="1800"/>
                    </a:cubicBezTo>
                    <a:close/>
                    <a:moveTo>
                      <a:pt x="758" y="1800"/>
                    </a:moveTo>
                    <a:lnTo>
                      <a:pt x="758" y="1800"/>
                    </a:lnTo>
                    <a:cubicBezTo>
                      <a:pt x="762" y="1800"/>
                      <a:pt x="766" y="1804"/>
                      <a:pt x="766" y="1808"/>
                    </a:cubicBezTo>
                    <a:cubicBezTo>
                      <a:pt x="766" y="1813"/>
                      <a:pt x="762" y="1816"/>
                      <a:pt x="758" y="1816"/>
                    </a:cubicBezTo>
                    <a:lnTo>
                      <a:pt x="758" y="1816"/>
                    </a:lnTo>
                    <a:cubicBezTo>
                      <a:pt x="753" y="1816"/>
                      <a:pt x="750" y="1813"/>
                      <a:pt x="750" y="1808"/>
                    </a:cubicBezTo>
                    <a:cubicBezTo>
                      <a:pt x="750" y="1804"/>
                      <a:pt x="753" y="1800"/>
                      <a:pt x="758" y="1800"/>
                    </a:cubicBezTo>
                    <a:close/>
                    <a:moveTo>
                      <a:pt x="791" y="1800"/>
                    </a:moveTo>
                    <a:lnTo>
                      <a:pt x="791" y="1800"/>
                    </a:lnTo>
                    <a:cubicBezTo>
                      <a:pt x="796" y="1800"/>
                      <a:pt x="800" y="1804"/>
                      <a:pt x="800" y="1808"/>
                    </a:cubicBezTo>
                    <a:cubicBezTo>
                      <a:pt x="800" y="1813"/>
                      <a:pt x="796" y="1816"/>
                      <a:pt x="791" y="1816"/>
                    </a:cubicBezTo>
                    <a:lnTo>
                      <a:pt x="791" y="1816"/>
                    </a:lnTo>
                    <a:cubicBezTo>
                      <a:pt x="787" y="1816"/>
                      <a:pt x="783" y="1813"/>
                      <a:pt x="783" y="1808"/>
                    </a:cubicBezTo>
                    <a:cubicBezTo>
                      <a:pt x="783" y="1804"/>
                      <a:pt x="787" y="1800"/>
                      <a:pt x="791" y="1800"/>
                    </a:cubicBezTo>
                    <a:close/>
                    <a:moveTo>
                      <a:pt x="825" y="1800"/>
                    </a:moveTo>
                    <a:lnTo>
                      <a:pt x="825" y="1800"/>
                    </a:lnTo>
                    <a:cubicBezTo>
                      <a:pt x="829" y="1800"/>
                      <a:pt x="833" y="1804"/>
                      <a:pt x="833" y="1808"/>
                    </a:cubicBezTo>
                    <a:cubicBezTo>
                      <a:pt x="833" y="1813"/>
                      <a:pt x="829" y="1816"/>
                      <a:pt x="825" y="1816"/>
                    </a:cubicBezTo>
                    <a:lnTo>
                      <a:pt x="825" y="1816"/>
                    </a:lnTo>
                    <a:cubicBezTo>
                      <a:pt x="820" y="1816"/>
                      <a:pt x="816" y="1813"/>
                      <a:pt x="816" y="1808"/>
                    </a:cubicBezTo>
                    <a:cubicBezTo>
                      <a:pt x="816" y="1804"/>
                      <a:pt x="820" y="1800"/>
                      <a:pt x="825" y="1800"/>
                    </a:cubicBezTo>
                    <a:close/>
                    <a:moveTo>
                      <a:pt x="858" y="1800"/>
                    </a:moveTo>
                    <a:lnTo>
                      <a:pt x="858" y="1800"/>
                    </a:lnTo>
                    <a:cubicBezTo>
                      <a:pt x="863" y="1800"/>
                      <a:pt x="866" y="1804"/>
                      <a:pt x="866" y="1808"/>
                    </a:cubicBezTo>
                    <a:cubicBezTo>
                      <a:pt x="866" y="1813"/>
                      <a:pt x="863" y="1816"/>
                      <a:pt x="858" y="1816"/>
                    </a:cubicBezTo>
                    <a:lnTo>
                      <a:pt x="858" y="1816"/>
                    </a:lnTo>
                    <a:cubicBezTo>
                      <a:pt x="853" y="1816"/>
                      <a:pt x="850" y="1813"/>
                      <a:pt x="850" y="1808"/>
                    </a:cubicBezTo>
                    <a:cubicBezTo>
                      <a:pt x="850" y="1804"/>
                      <a:pt x="853" y="1800"/>
                      <a:pt x="858" y="1800"/>
                    </a:cubicBezTo>
                    <a:close/>
                    <a:moveTo>
                      <a:pt x="891" y="1800"/>
                    </a:moveTo>
                    <a:lnTo>
                      <a:pt x="891" y="1800"/>
                    </a:lnTo>
                    <a:cubicBezTo>
                      <a:pt x="896" y="1800"/>
                      <a:pt x="900" y="1804"/>
                      <a:pt x="900" y="1808"/>
                    </a:cubicBezTo>
                    <a:cubicBezTo>
                      <a:pt x="900" y="1813"/>
                      <a:pt x="896" y="1816"/>
                      <a:pt x="891" y="1816"/>
                    </a:cubicBezTo>
                    <a:lnTo>
                      <a:pt x="891" y="1816"/>
                    </a:lnTo>
                    <a:cubicBezTo>
                      <a:pt x="887" y="1816"/>
                      <a:pt x="883" y="1813"/>
                      <a:pt x="883" y="1808"/>
                    </a:cubicBezTo>
                    <a:cubicBezTo>
                      <a:pt x="883" y="1804"/>
                      <a:pt x="887" y="1800"/>
                      <a:pt x="891" y="1800"/>
                    </a:cubicBezTo>
                    <a:close/>
                    <a:moveTo>
                      <a:pt x="925" y="1800"/>
                    </a:moveTo>
                    <a:lnTo>
                      <a:pt x="925" y="1800"/>
                    </a:lnTo>
                    <a:cubicBezTo>
                      <a:pt x="929" y="1800"/>
                      <a:pt x="933" y="1804"/>
                      <a:pt x="933" y="1808"/>
                    </a:cubicBezTo>
                    <a:cubicBezTo>
                      <a:pt x="933" y="1813"/>
                      <a:pt x="929" y="1816"/>
                      <a:pt x="925" y="1816"/>
                    </a:cubicBezTo>
                    <a:lnTo>
                      <a:pt x="925" y="1816"/>
                    </a:lnTo>
                    <a:cubicBezTo>
                      <a:pt x="920" y="1816"/>
                      <a:pt x="916" y="1813"/>
                      <a:pt x="916" y="1808"/>
                    </a:cubicBezTo>
                    <a:cubicBezTo>
                      <a:pt x="916" y="1804"/>
                      <a:pt x="920" y="1800"/>
                      <a:pt x="925" y="1800"/>
                    </a:cubicBezTo>
                    <a:close/>
                    <a:moveTo>
                      <a:pt x="958" y="1800"/>
                    </a:moveTo>
                    <a:lnTo>
                      <a:pt x="958" y="1800"/>
                    </a:lnTo>
                    <a:cubicBezTo>
                      <a:pt x="963" y="1800"/>
                      <a:pt x="966" y="1804"/>
                      <a:pt x="966" y="1808"/>
                    </a:cubicBezTo>
                    <a:cubicBezTo>
                      <a:pt x="966" y="1813"/>
                      <a:pt x="963" y="1816"/>
                      <a:pt x="958" y="1816"/>
                    </a:cubicBezTo>
                    <a:lnTo>
                      <a:pt x="958" y="1816"/>
                    </a:lnTo>
                    <a:cubicBezTo>
                      <a:pt x="953" y="1816"/>
                      <a:pt x="950" y="1813"/>
                      <a:pt x="950" y="1808"/>
                    </a:cubicBezTo>
                    <a:cubicBezTo>
                      <a:pt x="950" y="1804"/>
                      <a:pt x="953" y="1800"/>
                      <a:pt x="958" y="1800"/>
                    </a:cubicBezTo>
                    <a:close/>
                    <a:moveTo>
                      <a:pt x="991" y="1800"/>
                    </a:moveTo>
                    <a:lnTo>
                      <a:pt x="991" y="1800"/>
                    </a:lnTo>
                    <a:cubicBezTo>
                      <a:pt x="996" y="1800"/>
                      <a:pt x="1000" y="1804"/>
                      <a:pt x="1000" y="1808"/>
                    </a:cubicBezTo>
                    <a:cubicBezTo>
                      <a:pt x="1000" y="1813"/>
                      <a:pt x="996" y="1816"/>
                      <a:pt x="991" y="1816"/>
                    </a:cubicBezTo>
                    <a:lnTo>
                      <a:pt x="991" y="1816"/>
                    </a:lnTo>
                    <a:cubicBezTo>
                      <a:pt x="987" y="1816"/>
                      <a:pt x="983" y="1813"/>
                      <a:pt x="983" y="1808"/>
                    </a:cubicBezTo>
                    <a:cubicBezTo>
                      <a:pt x="983" y="1804"/>
                      <a:pt x="987" y="1800"/>
                      <a:pt x="991" y="1800"/>
                    </a:cubicBezTo>
                    <a:close/>
                    <a:moveTo>
                      <a:pt x="1025" y="1800"/>
                    </a:moveTo>
                    <a:lnTo>
                      <a:pt x="1025" y="1800"/>
                    </a:lnTo>
                    <a:cubicBezTo>
                      <a:pt x="1029" y="1800"/>
                      <a:pt x="1033" y="1804"/>
                      <a:pt x="1033" y="1808"/>
                    </a:cubicBezTo>
                    <a:cubicBezTo>
                      <a:pt x="1033" y="1813"/>
                      <a:pt x="1029" y="1816"/>
                      <a:pt x="1025" y="1816"/>
                    </a:cubicBezTo>
                    <a:lnTo>
                      <a:pt x="1025" y="1816"/>
                    </a:lnTo>
                    <a:cubicBezTo>
                      <a:pt x="1020" y="1816"/>
                      <a:pt x="1016" y="1813"/>
                      <a:pt x="1016" y="1808"/>
                    </a:cubicBezTo>
                    <a:cubicBezTo>
                      <a:pt x="1016" y="1804"/>
                      <a:pt x="1020" y="1800"/>
                      <a:pt x="1025" y="1800"/>
                    </a:cubicBezTo>
                    <a:close/>
                    <a:moveTo>
                      <a:pt x="1058" y="1800"/>
                    </a:moveTo>
                    <a:lnTo>
                      <a:pt x="1058" y="1800"/>
                    </a:lnTo>
                    <a:cubicBezTo>
                      <a:pt x="1063" y="1800"/>
                      <a:pt x="1066" y="1804"/>
                      <a:pt x="1066" y="1808"/>
                    </a:cubicBezTo>
                    <a:cubicBezTo>
                      <a:pt x="1066" y="1813"/>
                      <a:pt x="1063" y="1816"/>
                      <a:pt x="1058" y="1816"/>
                    </a:cubicBezTo>
                    <a:lnTo>
                      <a:pt x="1058" y="1816"/>
                    </a:lnTo>
                    <a:cubicBezTo>
                      <a:pt x="1053" y="1816"/>
                      <a:pt x="1050" y="1813"/>
                      <a:pt x="1050" y="1808"/>
                    </a:cubicBezTo>
                    <a:cubicBezTo>
                      <a:pt x="1050" y="1804"/>
                      <a:pt x="1053" y="1800"/>
                      <a:pt x="1058" y="1800"/>
                    </a:cubicBezTo>
                    <a:close/>
                    <a:moveTo>
                      <a:pt x="1091" y="1800"/>
                    </a:moveTo>
                    <a:lnTo>
                      <a:pt x="1091" y="1800"/>
                    </a:lnTo>
                    <a:cubicBezTo>
                      <a:pt x="1096" y="1800"/>
                      <a:pt x="1100" y="1804"/>
                      <a:pt x="1100" y="1808"/>
                    </a:cubicBezTo>
                    <a:cubicBezTo>
                      <a:pt x="1100" y="1813"/>
                      <a:pt x="1096" y="1816"/>
                      <a:pt x="1091" y="1816"/>
                    </a:cubicBezTo>
                    <a:lnTo>
                      <a:pt x="1091" y="1816"/>
                    </a:lnTo>
                    <a:cubicBezTo>
                      <a:pt x="1087" y="1816"/>
                      <a:pt x="1083" y="1813"/>
                      <a:pt x="1083" y="1808"/>
                    </a:cubicBezTo>
                    <a:cubicBezTo>
                      <a:pt x="1083" y="1804"/>
                      <a:pt x="1087" y="1800"/>
                      <a:pt x="1091" y="1800"/>
                    </a:cubicBezTo>
                    <a:close/>
                    <a:moveTo>
                      <a:pt x="1125" y="1800"/>
                    </a:moveTo>
                    <a:lnTo>
                      <a:pt x="1125" y="1800"/>
                    </a:lnTo>
                    <a:cubicBezTo>
                      <a:pt x="1129" y="1800"/>
                      <a:pt x="1133" y="1804"/>
                      <a:pt x="1133" y="1808"/>
                    </a:cubicBezTo>
                    <a:cubicBezTo>
                      <a:pt x="1133" y="1813"/>
                      <a:pt x="1129" y="1816"/>
                      <a:pt x="1125" y="1816"/>
                    </a:cubicBezTo>
                    <a:lnTo>
                      <a:pt x="1125" y="1816"/>
                    </a:lnTo>
                    <a:cubicBezTo>
                      <a:pt x="1120" y="1816"/>
                      <a:pt x="1116" y="1813"/>
                      <a:pt x="1116" y="1808"/>
                    </a:cubicBezTo>
                    <a:cubicBezTo>
                      <a:pt x="1116" y="1804"/>
                      <a:pt x="1120" y="1800"/>
                      <a:pt x="1125" y="1800"/>
                    </a:cubicBezTo>
                    <a:close/>
                    <a:moveTo>
                      <a:pt x="1158" y="1800"/>
                    </a:moveTo>
                    <a:lnTo>
                      <a:pt x="1158" y="1800"/>
                    </a:lnTo>
                    <a:cubicBezTo>
                      <a:pt x="1163" y="1800"/>
                      <a:pt x="1166" y="1804"/>
                      <a:pt x="1166" y="1808"/>
                    </a:cubicBezTo>
                    <a:cubicBezTo>
                      <a:pt x="1166" y="1813"/>
                      <a:pt x="1163" y="1816"/>
                      <a:pt x="1158" y="1816"/>
                    </a:cubicBezTo>
                    <a:lnTo>
                      <a:pt x="1158" y="1816"/>
                    </a:lnTo>
                    <a:cubicBezTo>
                      <a:pt x="1153" y="1816"/>
                      <a:pt x="1150" y="1813"/>
                      <a:pt x="1150" y="1808"/>
                    </a:cubicBezTo>
                    <a:cubicBezTo>
                      <a:pt x="1150" y="1804"/>
                      <a:pt x="1153" y="1800"/>
                      <a:pt x="1158" y="1800"/>
                    </a:cubicBezTo>
                    <a:close/>
                    <a:moveTo>
                      <a:pt x="1191" y="1800"/>
                    </a:moveTo>
                    <a:lnTo>
                      <a:pt x="1191" y="1800"/>
                    </a:lnTo>
                    <a:cubicBezTo>
                      <a:pt x="1196" y="1800"/>
                      <a:pt x="1200" y="1804"/>
                      <a:pt x="1200" y="1808"/>
                    </a:cubicBezTo>
                    <a:cubicBezTo>
                      <a:pt x="1200" y="1813"/>
                      <a:pt x="1196" y="1816"/>
                      <a:pt x="1191" y="1816"/>
                    </a:cubicBezTo>
                    <a:lnTo>
                      <a:pt x="1191" y="1816"/>
                    </a:lnTo>
                    <a:cubicBezTo>
                      <a:pt x="1187" y="1816"/>
                      <a:pt x="1183" y="1813"/>
                      <a:pt x="1183" y="1808"/>
                    </a:cubicBezTo>
                    <a:cubicBezTo>
                      <a:pt x="1183" y="1804"/>
                      <a:pt x="1187" y="1800"/>
                      <a:pt x="1191" y="1800"/>
                    </a:cubicBezTo>
                    <a:close/>
                    <a:moveTo>
                      <a:pt x="1225" y="1800"/>
                    </a:moveTo>
                    <a:lnTo>
                      <a:pt x="1225" y="1800"/>
                    </a:lnTo>
                    <a:cubicBezTo>
                      <a:pt x="1229" y="1800"/>
                      <a:pt x="1233" y="1804"/>
                      <a:pt x="1233" y="1808"/>
                    </a:cubicBezTo>
                    <a:cubicBezTo>
                      <a:pt x="1233" y="1813"/>
                      <a:pt x="1229" y="1816"/>
                      <a:pt x="1225" y="1816"/>
                    </a:cubicBezTo>
                    <a:lnTo>
                      <a:pt x="1225" y="1816"/>
                    </a:lnTo>
                    <a:cubicBezTo>
                      <a:pt x="1220" y="1816"/>
                      <a:pt x="1216" y="1813"/>
                      <a:pt x="1216" y="1808"/>
                    </a:cubicBezTo>
                    <a:cubicBezTo>
                      <a:pt x="1216" y="1804"/>
                      <a:pt x="1220" y="1800"/>
                      <a:pt x="1225" y="1800"/>
                    </a:cubicBezTo>
                    <a:close/>
                    <a:moveTo>
                      <a:pt x="1258" y="1800"/>
                    </a:moveTo>
                    <a:lnTo>
                      <a:pt x="1258" y="1800"/>
                    </a:lnTo>
                    <a:cubicBezTo>
                      <a:pt x="1263" y="1800"/>
                      <a:pt x="1266" y="1804"/>
                      <a:pt x="1266" y="1808"/>
                    </a:cubicBezTo>
                    <a:cubicBezTo>
                      <a:pt x="1266" y="1813"/>
                      <a:pt x="1263" y="1816"/>
                      <a:pt x="1258" y="1816"/>
                    </a:cubicBezTo>
                    <a:lnTo>
                      <a:pt x="1258" y="1816"/>
                    </a:lnTo>
                    <a:cubicBezTo>
                      <a:pt x="1253" y="1816"/>
                      <a:pt x="1250" y="1813"/>
                      <a:pt x="1250" y="1808"/>
                    </a:cubicBezTo>
                    <a:cubicBezTo>
                      <a:pt x="1250" y="1804"/>
                      <a:pt x="1253" y="1800"/>
                      <a:pt x="1258" y="1800"/>
                    </a:cubicBezTo>
                    <a:close/>
                    <a:moveTo>
                      <a:pt x="1291" y="1800"/>
                    </a:moveTo>
                    <a:lnTo>
                      <a:pt x="1291" y="1800"/>
                    </a:lnTo>
                    <a:cubicBezTo>
                      <a:pt x="1296" y="1800"/>
                      <a:pt x="1300" y="1804"/>
                      <a:pt x="1300" y="1808"/>
                    </a:cubicBezTo>
                    <a:cubicBezTo>
                      <a:pt x="1300" y="1813"/>
                      <a:pt x="1296" y="1816"/>
                      <a:pt x="1291" y="1816"/>
                    </a:cubicBezTo>
                    <a:lnTo>
                      <a:pt x="1291" y="1816"/>
                    </a:lnTo>
                    <a:cubicBezTo>
                      <a:pt x="1287" y="1816"/>
                      <a:pt x="1283" y="1813"/>
                      <a:pt x="1283" y="1808"/>
                    </a:cubicBezTo>
                    <a:cubicBezTo>
                      <a:pt x="1283" y="1804"/>
                      <a:pt x="1287" y="1800"/>
                      <a:pt x="1291" y="1800"/>
                    </a:cubicBezTo>
                    <a:close/>
                    <a:moveTo>
                      <a:pt x="1325" y="1800"/>
                    </a:moveTo>
                    <a:lnTo>
                      <a:pt x="1325" y="1800"/>
                    </a:lnTo>
                    <a:cubicBezTo>
                      <a:pt x="1329" y="1800"/>
                      <a:pt x="1333" y="1804"/>
                      <a:pt x="1333" y="1808"/>
                    </a:cubicBezTo>
                    <a:cubicBezTo>
                      <a:pt x="1333" y="1813"/>
                      <a:pt x="1329" y="1816"/>
                      <a:pt x="1325" y="1816"/>
                    </a:cubicBezTo>
                    <a:lnTo>
                      <a:pt x="1325" y="1816"/>
                    </a:lnTo>
                    <a:cubicBezTo>
                      <a:pt x="1320" y="1816"/>
                      <a:pt x="1316" y="1813"/>
                      <a:pt x="1316" y="1808"/>
                    </a:cubicBezTo>
                    <a:cubicBezTo>
                      <a:pt x="1316" y="1804"/>
                      <a:pt x="1320" y="1800"/>
                      <a:pt x="1325" y="1800"/>
                    </a:cubicBezTo>
                    <a:close/>
                    <a:moveTo>
                      <a:pt x="1358" y="1800"/>
                    </a:moveTo>
                    <a:lnTo>
                      <a:pt x="1358" y="1800"/>
                    </a:lnTo>
                    <a:cubicBezTo>
                      <a:pt x="1363" y="1800"/>
                      <a:pt x="1366" y="1804"/>
                      <a:pt x="1366" y="1808"/>
                    </a:cubicBezTo>
                    <a:cubicBezTo>
                      <a:pt x="1366" y="1813"/>
                      <a:pt x="1363" y="1816"/>
                      <a:pt x="1358" y="1816"/>
                    </a:cubicBezTo>
                    <a:lnTo>
                      <a:pt x="1358" y="1816"/>
                    </a:lnTo>
                    <a:cubicBezTo>
                      <a:pt x="1354" y="1816"/>
                      <a:pt x="1350" y="1813"/>
                      <a:pt x="1350" y="1808"/>
                    </a:cubicBezTo>
                    <a:cubicBezTo>
                      <a:pt x="1350" y="1804"/>
                      <a:pt x="1354" y="1800"/>
                      <a:pt x="1358" y="1800"/>
                    </a:cubicBezTo>
                    <a:close/>
                    <a:moveTo>
                      <a:pt x="1391" y="1800"/>
                    </a:moveTo>
                    <a:lnTo>
                      <a:pt x="1391" y="1800"/>
                    </a:lnTo>
                    <a:cubicBezTo>
                      <a:pt x="1396" y="1800"/>
                      <a:pt x="1400" y="1804"/>
                      <a:pt x="1400" y="1808"/>
                    </a:cubicBezTo>
                    <a:cubicBezTo>
                      <a:pt x="1400" y="1813"/>
                      <a:pt x="1396" y="1816"/>
                      <a:pt x="1391" y="1816"/>
                    </a:cubicBezTo>
                    <a:lnTo>
                      <a:pt x="1391" y="1816"/>
                    </a:lnTo>
                    <a:cubicBezTo>
                      <a:pt x="1387" y="1816"/>
                      <a:pt x="1383" y="1813"/>
                      <a:pt x="1383" y="1808"/>
                    </a:cubicBezTo>
                    <a:cubicBezTo>
                      <a:pt x="1383" y="1804"/>
                      <a:pt x="1387" y="1800"/>
                      <a:pt x="1391" y="1800"/>
                    </a:cubicBezTo>
                    <a:close/>
                    <a:moveTo>
                      <a:pt x="1425" y="1800"/>
                    </a:moveTo>
                    <a:lnTo>
                      <a:pt x="1425" y="1800"/>
                    </a:lnTo>
                    <a:cubicBezTo>
                      <a:pt x="1429" y="1800"/>
                      <a:pt x="1433" y="1804"/>
                      <a:pt x="1433" y="1808"/>
                    </a:cubicBezTo>
                    <a:cubicBezTo>
                      <a:pt x="1433" y="1813"/>
                      <a:pt x="1429" y="1816"/>
                      <a:pt x="1425" y="1816"/>
                    </a:cubicBezTo>
                    <a:lnTo>
                      <a:pt x="1425" y="1816"/>
                    </a:lnTo>
                    <a:cubicBezTo>
                      <a:pt x="1420" y="1816"/>
                      <a:pt x="1416" y="1813"/>
                      <a:pt x="1416" y="1808"/>
                    </a:cubicBezTo>
                    <a:cubicBezTo>
                      <a:pt x="1416" y="1804"/>
                      <a:pt x="1420" y="1800"/>
                      <a:pt x="1425" y="1800"/>
                    </a:cubicBezTo>
                    <a:close/>
                    <a:moveTo>
                      <a:pt x="1458" y="1800"/>
                    </a:moveTo>
                    <a:lnTo>
                      <a:pt x="1458" y="1800"/>
                    </a:lnTo>
                    <a:cubicBezTo>
                      <a:pt x="1463" y="1800"/>
                      <a:pt x="1467" y="1804"/>
                      <a:pt x="1467" y="1808"/>
                    </a:cubicBezTo>
                    <a:cubicBezTo>
                      <a:pt x="1467" y="1813"/>
                      <a:pt x="1463" y="1816"/>
                      <a:pt x="1458" y="1816"/>
                    </a:cubicBezTo>
                    <a:lnTo>
                      <a:pt x="1458" y="1816"/>
                    </a:lnTo>
                    <a:cubicBezTo>
                      <a:pt x="1454" y="1816"/>
                      <a:pt x="1450" y="1813"/>
                      <a:pt x="1450" y="1808"/>
                    </a:cubicBezTo>
                    <a:cubicBezTo>
                      <a:pt x="1450" y="1804"/>
                      <a:pt x="1454" y="1800"/>
                      <a:pt x="1458" y="1800"/>
                    </a:cubicBezTo>
                    <a:close/>
                    <a:moveTo>
                      <a:pt x="1492" y="1800"/>
                    </a:moveTo>
                    <a:lnTo>
                      <a:pt x="1492" y="1800"/>
                    </a:lnTo>
                    <a:cubicBezTo>
                      <a:pt x="1496" y="1800"/>
                      <a:pt x="1500" y="1804"/>
                      <a:pt x="1500" y="1808"/>
                    </a:cubicBezTo>
                    <a:cubicBezTo>
                      <a:pt x="1500" y="1813"/>
                      <a:pt x="1496" y="1816"/>
                      <a:pt x="1492" y="1816"/>
                    </a:cubicBezTo>
                    <a:lnTo>
                      <a:pt x="1492" y="1816"/>
                    </a:lnTo>
                    <a:cubicBezTo>
                      <a:pt x="1487" y="1816"/>
                      <a:pt x="1483" y="1813"/>
                      <a:pt x="1483" y="1808"/>
                    </a:cubicBezTo>
                    <a:cubicBezTo>
                      <a:pt x="1483" y="1804"/>
                      <a:pt x="1487" y="1800"/>
                      <a:pt x="1492" y="1800"/>
                    </a:cubicBezTo>
                    <a:close/>
                    <a:moveTo>
                      <a:pt x="1525" y="1800"/>
                    </a:moveTo>
                    <a:lnTo>
                      <a:pt x="1525" y="1800"/>
                    </a:lnTo>
                    <a:cubicBezTo>
                      <a:pt x="1529" y="1800"/>
                      <a:pt x="1533" y="1804"/>
                      <a:pt x="1533" y="1808"/>
                    </a:cubicBezTo>
                    <a:cubicBezTo>
                      <a:pt x="1533" y="1813"/>
                      <a:pt x="1529" y="1816"/>
                      <a:pt x="1525" y="1816"/>
                    </a:cubicBezTo>
                    <a:lnTo>
                      <a:pt x="1525" y="1816"/>
                    </a:lnTo>
                    <a:cubicBezTo>
                      <a:pt x="1520" y="1816"/>
                      <a:pt x="1517" y="1813"/>
                      <a:pt x="1517" y="1808"/>
                    </a:cubicBezTo>
                    <a:cubicBezTo>
                      <a:pt x="1517" y="1804"/>
                      <a:pt x="1520" y="1800"/>
                      <a:pt x="1525" y="1800"/>
                    </a:cubicBezTo>
                    <a:close/>
                    <a:moveTo>
                      <a:pt x="1558" y="1800"/>
                    </a:moveTo>
                    <a:lnTo>
                      <a:pt x="1558" y="1800"/>
                    </a:lnTo>
                    <a:cubicBezTo>
                      <a:pt x="1563" y="1800"/>
                      <a:pt x="1567" y="1804"/>
                      <a:pt x="1567" y="1808"/>
                    </a:cubicBezTo>
                    <a:cubicBezTo>
                      <a:pt x="1567" y="1813"/>
                      <a:pt x="1563" y="1816"/>
                      <a:pt x="1558" y="1816"/>
                    </a:cubicBezTo>
                    <a:lnTo>
                      <a:pt x="1558" y="1816"/>
                    </a:lnTo>
                    <a:cubicBezTo>
                      <a:pt x="1554" y="1816"/>
                      <a:pt x="1550" y="1813"/>
                      <a:pt x="1550" y="1808"/>
                    </a:cubicBezTo>
                    <a:cubicBezTo>
                      <a:pt x="1550" y="1804"/>
                      <a:pt x="1554" y="1800"/>
                      <a:pt x="1558" y="1800"/>
                    </a:cubicBezTo>
                    <a:close/>
                    <a:moveTo>
                      <a:pt x="1592" y="1800"/>
                    </a:moveTo>
                    <a:lnTo>
                      <a:pt x="1592" y="1800"/>
                    </a:lnTo>
                    <a:cubicBezTo>
                      <a:pt x="1596" y="1800"/>
                      <a:pt x="1600" y="1804"/>
                      <a:pt x="1600" y="1808"/>
                    </a:cubicBezTo>
                    <a:cubicBezTo>
                      <a:pt x="1600" y="1813"/>
                      <a:pt x="1596" y="1816"/>
                      <a:pt x="1592" y="1816"/>
                    </a:cubicBezTo>
                    <a:lnTo>
                      <a:pt x="1592" y="1816"/>
                    </a:lnTo>
                    <a:cubicBezTo>
                      <a:pt x="1587" y="1816"/>
                      <a:pt x="1583" y="1813"/>
                      <a:pt x="1583" y="1808"/>
                    </a:cubicBezTo>
                    <a:cubicBezTo>
                      <a:pt x="1583" y="1804"/>
                      <a:pt x="1587" y="1800"/>
                      <a:pt x="1592" y="1800"/>
                    </a:cubicBezTo>
                    <a:close/>
                    <a:moveTo>
                      <a:pt x="1625" y="1800"/>
                    </a:moveTo>
                    <a:lnTo>
                      <a:pt x="1625" y="1800"/>
                    </a:lnTo>
                    <a:cubicBezTo>
                      <a:pt x="1630" y="1800"/>
                      <a:pt x="1633" y="1804"/>
                      <a:pt x="1633" y="1808"/>
                    </a:cubicBezTo>
                    <a:cubicBezTo>
                      <a:pt x="1633" y="1813"/>
                      <a:pt x="1630" y="1816"/>
                      <a:pt x="1625" y="1816"/>
                    </a:cubicBezTo>
                    <a:lnTo>
                      <a:pt x="1625" y="1816"/>
                    </a:lnTo>
                    <a:cubicBezTo>
                      <a:pt x="1620" y="1816"/>
                      <a:pt x="1617" y="1813"/>
                      <a:pt x="1617" y="1808"/>
                    </a:cubicBezTo>
                    <a:cubicBezTo>
                      <a:pt x="1617" y="1804"/>
                      <a:pt x="1620" y="1800"/>
                      <a:pt x="1625" y="1800"/>
                    </a:cubicBezTo>
                    <a:close/>
                    <a:moveTo>
                      <a:pt x="1658" y="1800"/>
                    </a:moveTo>
                    <a:lnTo>
                      <a:pt x="1658" y="1800"/>
                    </a:lnTo>
                    <a:cubicBezTo>
                      <a:pt x="1663" y="1800"/>
                      <a:pt x="1667" y="1804"/>
                      <a:pt x="1667" y="1808"/>
                    </a:cubicBezTo>
                    <a:cubicBezTo>
                      <a:pt x="1667" y="1813"/>
                      <a:pt x="1663" y="1816"/>
                      <a:pt x="1658" y="1816"/>
                    </a:cubicBezTo>
                    <a:lnTo>
                      <a:pt x="1658" y="1816"/>
                    </a:lnTo>
                    <a:cubicBezTo>
                      <a:pt x="1654" y="1816"/>
                      <a:pt x="1650" y="1813"/>
                      <a:pt x="1650" y="1808"/>
                    </a:cubicBezTo>
                    <a:cubicBezTo>
                      <a:pt x="1650" y="1804"/>
                      <a:pt x="1654" y="1800"/>
                      <a:pt x="1658" y="1800"/>
                    </a:cubicBezTo>
                    <a:close/>
                    <a:moveTo>
                      <a:pt x="1692" y="1800"/>
                    </a:moveTo>
                    <a:lnTo>
                      <a:pt x="1692" y="1800"/>
                    </a:lnTo>
                    <a:cubicBezTo>
                      <a:pt x="1696" y="1800"/>
                      <a:pt x="1700" y="1804"/>
                      <a:pt x="1700" y="1808"/>
                    </a:cubicBezTo>
                    <a:cubicBezTo>
                      <a:pt x="1700" y="1813"/>
                      <a:pt x="1696" y="1816"/>
                      <a:pt x="1692" y="1816"/>
                    </a:cubicBezTo>
                    <a:lnTo>
                      <a:pt x="1692" y="1816"/>
                    </a:lnTo>
                    <a:cubicBezTo>
                      <a:pt x="1687" y="1816"/>
                      <a:pt x="1683" y="1813"/>
                      <a:pt x="1683" y="1808"/>
                    </a:cubicBezTo>
                    <a:cubicBezTo>
                      <a:pt x="1683" y="1804"/>
                      <a:pt x="1687" y="1800"/>
                      <a:pt x="1692" y="1800"/>
                    </a:cubicBezTo>
                    <a:close/>
                    <a:moveTo>
                      <a:pt x="1725" y="1800"/>
                    </a:moveTo>
                    <a:lnTo>
                      <a:pt x="1725" y="1800"/>
                    </a:lnTo>
                    <a:cubicBezTo>
                      <a:pt x="1730" y="1800"/>
                      <a:pt x="1733" y="1804"/>
                      <a:pt x="1733" y="1808"/>
                    </a:cubicBezTo>
                    <a:cubicBezTo>
                      <a:pt x="1733" y="1813"/>
                      <a:pt x="1730" y="1816"/>
                      <a:pt x="1725" y="1816"/>
                    </a:cubicBezTo>
                    <a:lnTo>
                      <a:pt x="1725" y="1816"/>
                    </a:lnTo>
                    <a:cubicBezTo>
                      <a:pt x="1720" y="1816"/>
                      <a:pt x="1717" y="1813"/>
                      <a:pt x="1717" y="1808"/>
                    </a:cubicBezTo>
                    <a:cubicBezTo>
                      <a:pt x="1717" y="1804"/>
                      <a:pt x="1720" y="1800"/>
                      <a:pt x="1725" y="1800"/>
                    </a:cubicBezTo>
                    <a:close/>
                    <a:moveTo>
                      <a:pt x="1758" y="1800"/>
                    </a:moveTo>
                    <a:lnTo>
                      <a:pt x="1758" y="1800"/>
                    </a:lnTo>
                    <a:cubicBezTo>
                      <a:pt x="1763" y="1800"/>
                      <a:pt x="1767" y="1804"/>
                      <a:pt x="1767" y="1808"/>
                    </a:cubicBezTo>
                    <a:cubicBezTo>
                      <a:pt x="1767" y="1813"/>
                      <a:pt x="1763" y="1816"/>
                      <a:pt x="1758" y="1816"/>
                    </a:cubicBezTo>
                    <a:lnTo>
                      <a:pt x="1758" y="1816"/>
                    </a:lnTo>
                    <a:cubicBezTo>
                      <a:pt x="1754" y="1816"/>
                      <a:pt x="1750" y="1813"/>
                      <a:pt x="1750" y="1808"/>
                    </a:cubicBezTo>
                    <a:cubicBezTo>
                      <a:pt x="1750" y="1804"/>
                      <a:pt x="1754" y="1800"/>
                      <a:pt x="1758" y="1800"/>
                    </a:cubicBezTo>
                    <a:close/>
                    <a:moveTo>
                      <a:pt x="1792" y="1800"/>
                    </a:moveTo>
                    <a:lnTo>
                      <a:pt x="1792" y="1800"/>
                    </a:lnTo>
                    <a:cubicBezTo>
                      <a:pt x="1796" y="1800"/>
                      <a:pt x="1800" y="1804"/>
                      <a:pt x="1800" y="1808"/>
                    </a:cubicBezTo>
                    <a:cubicBezTo>
                      <a:pt x="1800" y="1813"/>
                      <a:pt x="1796" y="1816"/>
                      <a:pt x="1792" y="1816"/>
                    </a:cubicBezTo>
                    <a:lnTo>
                      <a:pt x="1792" y="1816"/>
                    </a:lnTo>
                    <a:cubicBezTo>
                      <a:pt x="1787" y="1816"/>
                      <a:pt x="1783" y="1813"/>
                      <a:pt x="1783" y="1808"/>
                    </a:cubicBezTo>
                    <a:cubicBezTo>
                      <a:pt x="1783" y="1804"/>
                      <a:pt x="1787" y="1800"/>
                      <a:pt x="1792" y="1800"/>
                    </a:cubicBezTo>
                    <a:close/>
                    <a:moveTo>
                      <a:pt x="1825" y="1800"/>
                    </a:moveTo>
                    <a:lnTo>
                      <a:pt x="1825" y="1800"/>
                    </a:lnTo>
                    <a:cubicBezTo>
                      <a:pt x="1830" y="1800"/>
                      <a:pt x="1833" y="1804"/>
                      <a:pt x="1833" y="1808"/>
                    </a:cubicBezTo>
                    <a:cubicBezTo>
                      <a:pt x="1833" y="1813"/>
                      <a:pt x="1830" y="1816"/>
                      <a:pt x="1825" y="1816"/>
                    </a:cubicBezTo>
                    <a:lnTo>
                      <a:pt x="1825" y="1816"/>
                    </a:lnTo>
                    <a:cubicBezTo>
                      <a:pt x="1820" y="1816"/>
                      <a:pt x="1817" y="1813"/>
                      <a:pt x="1817" y="1808"/>
                    </a:cubicBezTo>
                    <a:cubicBezTo>
                      <a:pt x="1817" y="1804"/>
                      <a:pt x="1820" y="1800"/>
                      <a:pt x="1825" y="1800"/>
                    </a:cubicBezTo>
                    <a:close/>
                    <a:moveTo>
                      <a:pt x="1858" y="1800"/>
                    </a:moveTo>
                    <a:lnTo>
                      <a:pt x="1858" y="1800"/>
                    </a:lnTo>
                    <a:cubicBezTo>
                      <a:pt x="1863" y="1800"/>
                      <a:pt x="1867" y="1804"/>
                      <a:pt x="1867" y="1808"/>
                    </a:cubicBezTo>
                    <a:cubicBezTo>
                      <a:pt x="1867" y="1813"/>
                      <a:pt x="1863" y="1816"/>
                      <a:pt x="1858" y="1816"/>
                    </a:cubicBezTo>
                    <a:lnTo>
                      <a:pt x="1858" y="1816"/>
                    </a:lnTo>
                    <a:cubicBezTo>
                      <a:pt x="1854" y="1816"/>
                      <a:pt x="1850" y="1813"/>
                      <a:pt x="1850" y="1808"/>
                    </a:cubicBezTo>
                    <a:cubicBezTo>
                      <a:pt x="1850" y="1804"/>
                      <a:pt x="1854" y="1800"/>
                      <a:pt x="1858" y="1800"/>
                    </a:cubicBezTo>
                    <a:close/>
                    <a:moveTo>
                      <a:pt x="1892" y="1800"/>
                    </a:moveTo>
                    <a:lnTo>
                      <a:pt x="1892" y="1800"/>
                    </a:lnTo>
                    <a:cubicBezTo>
                      <a:pt x="1896" y="1800"/>
                      <a:pt x="1900" y="1804"/>
                      <a:pt x="1900" y="1808"/>
                    </a:cubicBezTo>
                    <a:cubicBezTo>
                      <a:pt x="1900" y="1813"/>
                      <a:pt x="1896" y="1816"/>
                      <a:pt x="1892" y="1816"/>
                    </a:cubicBezTo>
                    <a:lnTo>
                      <a:pt x="1892" y="1816"/>
                    </a:lnTo>
                    <a:cubicBezTo>
                      <a:pt x="1887" y="1816"/>
                      <a:pt x="1883" y="1813"/>
                      <a:pt x="1883" y="1808"/>
                    </a:cubicBezTo>
                    <a:cubicBezTo>
                      <a:pt x="1883" y="1804"/>
                      <a:pt x="1887" y="1800"/>
                      <a:pt x="1892" y="1800"/>
                    </a:cubicBezTo>
                    <a:close/>
                    <a:moveTo>
                      <a:pt x="1925" y="1800"/>
                    </a:moveTo>
                    <a:lnTo>
                      <a:pt x="1925" y="1800"/>
                    </a:lnTo>
                    <a:cubicBezTo>
                      <a:pt x="1930" y="1800"/>
                      <a:pt x="1933" y="1804"/>
                      <a:pt x="1933" y="1808"/>
                    </a:cubicBezTo>
                    <a:cubicBezTo>
                      <a:pt x="1933" y="1813"/>
                      <a:pt x="1930" y="1816"/>
                      <a:pt x="1925" y="1816"/>
                    </a:cubicBezTo>
                    <a:lnTo>
                      <a:pt x="1925" y="1816"/>
                    </a:lnTo>
                    <a:cubicBezTo>
                      <a:pt x="1920" y="1816"/>
                      <a:pt x="1917" y="1813"/>
                      <a:pt x="1917" y="1808"/>
                    </a:cubicBezTo>
                    <a:cubicBezTo>
                      <a:pt x="1917" y="1804"/>
                      <a:pt x="1920" y="1800"/>
                      <a:pt x="1925" y="1800"/>
                    </a:cubicBezTo>
                    <a:close/>
                    <a:moveTo>
                      <a:pt x="1958" y="1800"/>
                    </a:moveTo>
                    <a:lnTo>
                      <a:pt x="1958" y="1800"/>
                    </a:lnTo>
                    <a:cubicBezTo>
                      <a:pt x="1963" y="1800"/>
                      <a:pt x="1967" y="1804"/>
                      <a:pt x="1967" y="1808"/>
                    </a:cubicBezTo>
                    <a:cubicBezTo>
                      <a:pt x="1967" y="1813"/>
                      <a:pt x="1963" y="1816"/>
                      <a:pt x="1958" y="1816"/>
                    </a:cubicBezTo>
                    <a:lnTo>
                      <a:pt x="1958" y="1816"/>
                    </a:lnTo>
                    <a:cubicBezTo>
                      <a:pt x="1954" y="1816"/>
                      <a:pt x="1950" y="1813"/>
                      <a:pt x="1950" y="1808"/>
                    </a:cubicBezTo>
                    <a:cubicBezTo>
                      <a:pt x="1950" y="1804"/>
                      <a:pt x="1954" y="1800"/>
                      <a:pt x="1958" y="1800"/>
                    </a:cubicBezTo>
                    <a:close/>
                    <a:moveTo>
                      <a:pt x="1992" y="1800"/>
                    </a:moveTo>
                    <a:lnTo>
                      <a:pt x="1992" y="1800"/>
                    </a:lnTo>
                    <a:cubicBezTo>
                      <a:pt x="1996" y="1800"/>
                      <a:pt x="2000" y="1804"/>
                      <a:pt x="2000" y="1808"/>
                    </a:cubicBezTo>
                    <a:cubicBezTo>
                      <a:pt x="2000" y="1813"/>
                      <a:pt x="1996" y="1816"/>
                      <a:pt x="1992" y="1816"/>
                    </a:cubicBezTo>
                    <a:lnTo>
                      <a:pt x="1992" y="1816"/>
                    </a:lnTo>
                    <a:cubicBezTo>
                      <a:pt x="1987" y="1816"/>
                      <a:pt x="1983" y="1813"/>
                      <a:pt x="1983" y="1808"/>
                    </a:cubicBezTo>
                    <a:cubicBezTo>
                      <a:pt x="1983" y="1804"/>
                      <a:pt x="1987" y="1800"/>
                      <a:pt x="1992" y="1800"/>
                    </a:cubicBezTo>
                    <a:close/>
                    <a:moveTo>
                      <a:pt x="2025" y="1800"/>
                    </a:moveTo>
                    <a:lnTo>
                      <a:pt x="2025" y="1800"/>
                    </a:lnTo>
                    <a:cubicBezTo>
                      <a:pt x="2030" y="1800"/>
                      <a:pt x="2033" y="1804"/>
                      <a:pt x="2033" y="1808"/>
                    </a:cubicBezTo>
                    <a:cubicBezTo>
                      <a:pt x="2033" y="1813"/>
                      <a:pt x="2030" y="1816"/>
                      <a:pt x="2025" y="1816"/>
                    </a:cubicBezTo>
                    <a:lnTo>
                      <a:pt x="2025" y="1816"/>
                    </a:lnTo>
                    <a:cubicBezTo>
                      <a:pt x="2020" y="1816"/>
                      <a:pt x="2017" y="1813"/>
                      <a:pt x="2017" y="1808"/>
                    </a:cubicBezTo>
                    <a:cubicBezTo>
                      <a:pt x="2017" y="1804"/>
                      <a:pt x="2020" y="1800"/>
                      <a:pt x="2025" y="1800"/>
                    </a:cubicBezTo>
                    <a:close/>
                    <a:moveTo>
                      <a:pt x="2058" y="1800"/>
                    </a:moveTo>
                    <a:lnTo>
                      <a:pt x="2058" y="1800"/>
                    </a:lnTo>
                    <a:cubicBezTo>
                      <a:pt x="2063" y="1800"/>
                      <a:pt x="2067" y="1804"/>
                      <a:pt x="2067" y="1808"/>
                    </a:cubicBezTo>
                    <a:cubicBezTo>
                      <a:pt x="2067" y="1813"/>
                      <a:pt x="2063" y="1816"/>
                      <a:pt x="2058" y="1816"/>
                    </a:cubicBezTo>
                    <a:lnTo>
                      <a:pt x="2058" y="1816"/>
                    </a:lnTo>
                    <a:cubicBezTo>
                      <a:pt x="2054" y="1816"/>
                      <a:pt x="2050" y="1813"/>
                      <a:pt x="2050" y="1808"/>
                    </a:cubicBezTo>
                    <a:cubicBezTo>
                      <a:pt x="2050" y="1804"/>
                      <a:pt x="2054" y="1800"/>
                      <a:pt x="2058" y="1800"/>
                    </a:cubicBezTo>
                    <a:close/>
                    <a:moveTo>
                      <a:pt x="2092" y="1800"/>
                    </a:moveTo>
                    <a:lnTo>
                      <a:pt x="2092" y="1800"/>
                    </a:lnTo>
                    <a:cubicBezTo>
                      <a:pt x="2096" y="1800"/>
                      <a:pt x="2100" y="1804"/>
                      <a:pt x="2100" y="1808"/>
                    </a:cubicBezTo>
                    <a:cubicBezTo>
                      <a:pt x="2100" y="1813"/>
                      <a:pt x="2096" y="1816"/>
                      <a:pt x="2092" y="1816"/>
                    </a:cubicBezTo>
                    <a:lnTo>
                      <a:pt x="2092" y="1816"/>
                    </a:lnTo>
                    <a:cubicBezTo>
                      <a:pt x="2087" y="1816"/>
                      <a:pt x="2083" y="1813"/>
                      <a:pt x="2083" y="1808"/>
                    </a:cubicBezTo>
                    <a:cubicBezTo>
                      <a:pt x="2083" y="1804"/>
                      <a:pt x="2087" y="1800"/>
                      <a:pt x="2092" y="1800"/>
                    </a:cubicBezTo>
                    <a:close/>
                    <a:moveTo>
                      <a:pt x="2125" y="1800"/>
                    </a:moveTo>
                    <a:lnTo>
                      <a:pt x="2125" y="1800"/>
                    </a:lnTo>
                    <a:cubicBezTo>
                      <a:pt x="2130" y="1800"/>
                      <a:pt x="2133" y="1804"/>
                      <a:pt x="2133" y="1808"/>
                    </a:cubicBezTo>
                    <a:cubicBezTo>
                      <a:pt x="2133" y="1813"/>
                      <a:pt x="2130" y="1816"/>
                      <a:pt x="2125" y="1816"/>
                    </a:cubicBezTo>
                    <a:lnTo>
                      <a:pt x="2125" y="1816"/>
                    </a:lnTo>
                    <a:cubicBezTo>
                      <a:pt x="2121" y="1816"/>
                      <a:pt x="2117" y="1813"/>
                      <a:pt x="2117" y="1808"/>
                    </a:cubicBezTo>
                    <a:cubicBezTo>
                      <a:pt x="2117" y="1804"/>
                      <a:pt x="2121" y="1800"/>
                      <a:pt x="2125" y="1800"/>
                    </a:cubicBezTo>
                    <a:close/>
                    <a:moveTo>
                      <a:pt x="2158" y="1800"/>
                    </a:moveTo>
                    <a:lnTo>
                      <a:pt x="2159" y="1800"/>
                    </a:lnTo>
                    <a:cubicBezTo>
                      <a:pt x="2163" y="1800"/>
                      <a:pt x="2167" y="1804"/>
                      <a:pt x="2167" y="1808"/>
                    </a:cubicBezTo>
                    <a:cubicBezTo>
                      <a:pt x="2167" y="1813"/>
                      <a:pt x="2163" y="1816"/>
                      <a:pt x="2159" y="1816"/>
                    </a:cubicBezTo>
                    <a:lnTo>
                      <a:pt x="2158" y="1816"/>
                    </a:lnTo>
                    <a:cubicBezTo>
                      <a:pt x="2154" y="1816"/>
                      <a:pt x="2150" y="1813"/>
                      <a:pt x="2150" y="1808"/>
                    </a:cubicBezTo>
                    <a:cubicBezTo>
                      <a:pt x="2150" y="1804"/>
                      <a:pt x="2154" y="1800"/>
                      <a:pt x="2158" y="1800"/>
                    </a:cubicBezTo>
                    <a:close/>
                    <a:moveTo>
                      <a:pt x="2192" y="1800"/>
                    </a:moveTo>
                    <a:lnTo>
                      <a:pt x="2192" y="1800"/>
                    </a:lnTo>
                    <a:cubicBezTo>
                      <a:pt x="2196" y="1800"/>
                      <a:pt x="2200" y="1804"/>
                      <a:pt x="2200" y="1808"/>
                    </a:cubicBezTo>
                    <a:cubicBezTo>
                      <a:pt x="2200" y="1813"/>
                      <a:pt x="2196" y="1816"/>
                      <a:pt x="2192" y="1816"/>
                    </a:cubicBezTo>
                    <a:lnTo>
                      <a:pt x="2192" y="1816"/>
                    </a:lnTo>
                    <a:cubicBezTo>
                      <a:pt x="2187" y="1816"/>
                      <a:pt x="2184" y="1813"/>
                      <a:pt x="2184" y="1808"/>
                    </a:cubicBezTo>
                    <a:cubicBezTo>
                      <a:pt x="2184" y="1804"/>
                      <a:pt x="2187" y="1800"/>
                      <a:pt x="2192" y="1800"/>
                    </a:cubicBezTo>
                    <a:close/>
                    <a:moveTo>
                      <a:pt x="2225" y="1800"/>
                    </a:moveTo>
                    <a:lnTo>
                      <a:pt x="2225" y="1800"/>
                    </a:lnTo>
                    <a:cubicBezTo>
                      <a:pt x="2230" y="1800"/>
                      <a:pt x="2234" y="1804"/>
                      <a:pt x="2234" y="1808"/>
                    </a:cubicBezTo>
                    <a:cubicBezTo>
                      <a:pt x="2234" y="1813"/>
                      <a:pt x="2230" y="1816"/>
                      <a:pt x="2225" y="1816"/>
                    </a:cubicBezTo>
                    <a:lnTo>
                      <a:pt x="2225" y="1816"/>
                    </a:lnTo>
                    <a:cubicBezTo>
                      <a:pt x="2221" y="1816"/>
                      <a:pt x="2217" y="1813"/>
                      <a:pt x="2217" y="1808"/>
                    </a:cubicBezTo>
                    <a:cubicBezTo>
                      <a:pt x="2217" y="1804"/>
                      <a:pt x="2221" y="1800"/>
                      <a:pt x="2225" y="1800"/>
                    </a:cubicBezTo>
                    <a:close/>
                    <a:moveTo>
                      <a:pt x="2259" y="1800"/>
                    </a:moveTo>
                    <a:lnTo>
                      <a:pt x="2259" y="1800"/>
                    </a:lnTo>
                    <a:cubicBezTo>
                      <a:pt x="2263" y="1800"/>
                      <a:pt x="2267" y="1804"/>
                      <a:pt x="2267" y="1808"/>
                    </a:cubicBezTo>
                    <a:cubicBezTo>
                      <a:pt x="2267" y="1813"/>
                      <a:pt x="2263" y="1816"/>
                      <a:pt x="2259" y="1816"/>
                    </a:cubicBezTo>
                    <a:lnTo>
                      <a:pt x="2259" y="1816"/>
                    </a:lnTo>
                    <a:cubicBezTo>
                      <a:pt x="2254" y="1816"/>
                      <a:pt x="2250" y="1813"/>
                      <a:pt x="2250" y="1808"/>
                    </a:cubicBezTo>
                    <a:cubicBezTo>
                      <a:pt x="2250" y="1804"/>
                      <a:pt x="2254" y="1800"/>
                      <a:pt x="2259" y="1800"/>
                    </a:cubicBezTo>
                    <a:close/>
                    <a:moveTo>
                      <a:pt x="2292" y="1800"/>
                    </a:moveTo>
                    <a:lnTo>
                      <a:pt x="2292" y="1800"/>
                    </a:lnTo>
                    <a:cubicBezTo>
                      <a:pt x="2297" y="1800"/>
                      <a:pt x="2300" y="1804"/>
                      <a:pt x="2300" y="1808"/>
                    </a:cubicBezTo>
                    <a:cubicBezTo>
                      <a:pt x="2300" y="1813"/>
                      <a:pt x="2297" y="1816"/>
                      <a:pt x="2292" y="1816"/>
                    </a:cubicBezTo>
                    <a:lnTo>
                      <a:pt x="2292" y="1816"/>
                    </a:lnTo>
                    <a:cubicBezTo>
                      <a:pt x="2287" y="1816"/>
                      <a:pt x="2284" y="1813"/>
                      <a:pt x="2284" y="1808"/>
                    </a:cubicBezTo>
                    <a:cubicBezTo>
                      <a:pt x="2284" y="1804"/>
                      <a:pt x="2287" y="1800"/>
                      <a:pt x="2292" y="1800"/>
                    </a:cubicBezTo>
                    <a:close/>
                    <a:moveTo>
                      <a:pt x="2325" y="1800"/>
                    </a:moveTo>
                    <a:lnTo>
                      <a:pt x="2325" y="1800"/>
                    </a:lnTo>
                    <a:cubicBezTo>
                      <a:pt x="2330" y="1800"/>
                      <a:pt x="2334" y="1804"/>
                      <a:pt x="2334" y="1808"/>
                    </a:cubicBezTo>
                    <a:cubicBezTo>
                      <a:pt x="2334" y="1813"/>
                      <a:pt x="2330" y="1816"/>
                      <a:pt x="2325" y="1816"/>
                    </a:cubicBezTo>
                    <a:lnTo>
                      <a:pt x="2325" y="1816"/>
                    </a:lnTo>
                    <a:cubicBezTo>
                      <a:pt x="2321" y="1816"/>
                      <a:pt x="2317" y="1813"/>
                      <a:pt x="2317" y="1808"/>
                    </a:cubicBezTo>
                    <a:cubicBezTo>
                      <a:pt x="2317" y="1804"/>
                      <a:pt x="2321" y="1800"/>
                      <a:pt x="2325" y="1800"/>
                    </a:cubicBezTo>
                    <a:close/>
                    <a:moveTo>
                      <a:pt x="2359" y="1800"/>
                    </a:moveTo>
                    <a:lnTo>
                      <a:pt x="2359" y="1800"/>
                    </a:lnTo>
                    <a:cubicBezTo>
                      <a:pt x="2363" y="1800"/>
                      <a:pt x="2367" y="1804"/>
                      <a:pt x="2367" y="1808"/>
                    </a:cubicBezTo>
                    <a:cubicBezTo>
                      <a:pt x="2367" y="1813"/>
                      <a:pt x="2363" y="1816"/>
                      <a:pt x="2359" y="1816"/>
                    </a:cubicBezTo>
                    <a:lnTo>
                      <a:pt x="2359" y="1816"/>
                    </a:lnTo>
                    <a:cubicBezTo>
                      <a:pt x="2354" y="1816"/>
                      <a:pt x="2350" y="1813"/>
                      <a:pt x="2350" y="1808"/>
                    </a:cubicBezTo>
                    <a:cubicBezTo>
                      <a:pt x="2350" y="1804"/>
                      <a:pt x="2354" y="1800"/>
                      <a:pt x="2359" y="1800"/>
                    </a:cubicBezTo>
                    <a:close/>
                    <a:moveTo>
                      <a:pt x="2392" y="1800"/>
                    </a:moveTo>
                    <a:lnTo>
                      <a:pt x="2392" y="1800"/>
                    </a:lnTo>
                    <a:cubicBezTo>
                      <a:pt x="2397" y="1800"/>
                      <a:pt x="2400" y="1804"/>
                      <a:pt x="2400" y="1808"/>
                    </a:cubicBezTo>
                    <a:cubicBezTo>
                      <a:pt x="2400" y="1813"/>
                      <a:pt x="2397" y="1816"/>
                      <a:pt x="2392" y="1816"/>
                    </a:cubicBezTo>
                    <a:lnTo>
                      <a:pt x="2392" y="1816"/>
                    </a:lnTo>
                    <a:cubicBezTo>
                      <a:pt x="2387" y="1816"/>
                      <a:pt x="2384" y="1813"/>
                      <a:pt x="2384" y="1808"/>
                    </a:cubicBezTo>
                    <a:cubicBezTo>
                      <a:pt x="2384" y="1804"/>
                      <a:pt x="2387" y="1800"/>
                      <a:pt x="2392" y="1800"/>
                    </a:cubicBezTo>
                    <a:close/>
                    <a:moveTo>
                      <a:pt x="2425" y="1800"/>
                    </a:moveTo>
                    <a:lnTo>
                      <a:pt x="2425" y="1800"/>
                    </a:lnTo>
                    <a:cubicBezTo>
                      <a:pt x="2430" y="1800"/>
                      <a:pt x="2434" y="1804"/>
                      <a:pt x="2434" y="1808"/>
                    </a:cubicBezTo>
                    <a:cubicBezTo>
                      <a:pt x="2434" y="1813"/>
                      <a:pt x="2430" y="1816"/>
                      <a:pt x="2425" y="1816"/>
                    </a:cubicBezTo>
                    <a:lnTo>
                      <a:pt x="2425" y="1816"/>
                    </a:lnTo>
                    <a:cubicBezTo>
                      <a:pt x="2421" y="1816"/>
                      <a:pt x="2417" y="1813"/>
                      <a:pt x="2417" y="1808"/>
                    </a:cubicBezTo>
                    <a:cubicBezTo>
                      <a:pt x="2417" y="1804"/>
                      <a:pt x="2421" y="1800"/>
                      <a:pt x="2425" y="1800"/>
                    </a:cubicBezTo>
                    <a:close/>
                    <a:moveTo>
                      <a:pt x="2459" y="1800"/>
                    </a:moveTo>
                    <a:lnTo>
                      <a:pt x="2459" y="1800"/>
                    </a:lnTo>
                    <a:cubicBezTo>
                      <a:pt x="2463" y="1800"/>
                      <a:pt x="2467" y="1804"/>
                      <a:pt x="2467" y="1808"/>
                    </a:cubicBezTo>
                    <a:cubicBezTo>
                      <a:pt x="2467" y="1813"/>
                      <a:pt x="2463" y="1816"/>
                      <a:pt x="2459" y="1816"/>
                    </a:cubicBezTo>
                    <a:lnTo>
                      <a:pt x="2459" y="1816"/>
                    </a:lnTo>
                    <a:cubicBezTo>
                      <a:pt x="2454" y="1816"/>
                      <a:pt x="2450" y="1813"/>
                      <a:pt x="2450" y="1808"/>
                    </a:cubicBezTo>
                    <a:cubicBezTo>
                      <a:pt x="2450" y="1804"/>
                      <a:pt x="2454" y="1800"/>
                      <a:pt x="2459" y="1800"/>
                    </a:cubicBezTo>
                    <a:close/>
                    <a:moveTo>
                      <a:pt x="2492" y="1800"/>
                    </a:moveTo>
                    <a:lnTo>
                      <a:pt x="2492" y="1800"/>
                    </a:lnTo>
                    <a:cubicBezTo>
                      <a:pt x="2497" y="1800"/>
                      <a:pt x="2500" y="1804"/>
                      <a:pt x="2500" y="1808"/>
                    </a:cubicBezTo>
                    <a:cubicBezTo>
                      <a:pt x="2500" y="1813"/>
                      <a:pt x="2497" y="1816"/>
                      <a:pt x="2492" y="1816"/>
                    </a:cubicBezTo>
                    <a:lnTo>
                      <a:pt x="2492" y="1816"/>
                    </a:lnTo>
                    <a:cubicBezTo>
                      <a:pt x="2487" y="1816"/>
                      <a:pt x="2484" y="1813"/>
                      <a:pt x="2484" y="1808"/>
                    </a:cubicBezTo>
                    <a:cubicBezTo>
                      <a:pt x="2484" y="1804"/>
                      <a:pt x="2487" y="1800"/>
                      <a:pt x="2492" y="1800"/>
                    </a:cubicBezTo>
                    <a:close/>
                    <a:moveTo>
                      <a:pt x="2525" y="1800"/>
                    </a:moveTo>
                    <a:lnTo>
                      <a:pt x="2525" y="1800"/>
                    </a:lnTo>
                    <a:cubicBezTo>
                      <a:pt x="2530" y="1800"/>
                      <a:pt x="2534" y="1804"/>
                      <a:pt x="2534" y="1808"/>
                    </a:cubicBezTo>
                    <a:cubicBezTo>
                      <a:pt x="2534" y="1813"/>
                      <a:pt x="2530" y="1816"/>
                      <a:pt x="2525" y="1816"/>
                    </a:cubicBezTo>
                    <a:lnTo>
                      <a:pt x="2525" y="1816"/>
                    </a:lnTo>
                    <a:cubicBezTo>
                      <a:pt x="2521" y="1816"/>
                      <a:pt x="2517" y="1813"/>
                      <a:pt x="2517" y="1808"/>
                    </a:cubicBezTo>
                    <a:cubicBezTo>
                      <a:pt x="2517" y="1804"/>
                      <a:pt x="2521" y="1800"/>
                      <a:pt x="2525" y="1800"/>
                    </a:cubicBezTo>
                    <a:close/>
                    <a:moveTo>
                      <a:pt x="2559" y="1800"/>
                    </a:moveTo>
                    <a:lnTo>
                      <a:pt x="2559" y="1800"/>
                    </a:lnTo>
                    <a:cubicBezTo>
                      <a:pt x="2563" y="1800"/>
                      <a:pt x="2567" y="1804"/>
                      <a:pt x="2567" y="1808"/>
                    </a:cubicBezTo>
                    <a:cubicBezTo>
                      <a:pt x="2567" y="1813"/>
                      <a:pt x="2563" y="1816"/>
                      <a:pt x="2559" y="1816"/>
                    </a:cubicBezTo>
                    <a:lnTo>
                      <a:pt x="2559" y="1816"/>
                    </a:lnTo>
                    <a:cubicBezTo>
                      <a:pt x="2554" y="1816"/>
                      <a:pt x="2550" y="1813"/>
                      <a:pt x="2550" y="1808"/>
                    </a:cubicBezTo>
                    <a:cubicBezTo>
                      <a:pt x="2550" y="1804"/>
                      <a:pt x="2554" y="1800"/>
                      <a:pt x="2559" y="1800"/>
                    </a:cubicBezTo>
                    <a:close/>
                    <a:moveTo>
                      <a:pt x="2592" y="1800"/>
                    </a:moveTo>
                    <a:lnTo>
                      <a:pt x="2592" y="1800"/>
                    </a:lnTo>
                    <a:cubicBezTo>
                      <a:pt x="2597" y="1800"/>
                      <a:pt x="2600" y="1804"/>
                      <a:pt x="2600" y="1808"/>
                    </a:cubicBezTo>
                    <a:cubicBezTo>
                      <a:pt x="2600" y="1813"/>
                      <a:pt x="2597" y="1816"/>
                      <a:pt x="2592" y="1816"/>
                    </a:cubicBezTo>
                    <a:lnTo>
                      <a:pt x="2592" y="1816"/>
                    </a:lnTo>
                    <a:cubicBezTo>
                      <a:pt x="2587" y="1816"/>
                      <a:pt x="2584" y="1813"/>
                      <a:pt x="2584" y="1808"/>
                    </a:cubicBezTo>
                    <a:cubicBezTo>
                      <a:pt x="2584" y="1804"/>
                      <a:pt x="2587" y="1800"/>
                      <a:pt x="2592" y="1800"/>
                    </a:cubicBezTo>
                    <a:close/>
                    <a:moveTo>
                      <a:pt x="2625" y="1800"/>
                    </a:moveTo>
                    <a:lnTo>
                      <a:pt x="2625" y="1800"/>
                    </a:lnTo>
                    <a:cubicBezTo>
                      <a:pt x="2630" y="1800"/>
                      <a:pt x="2634" y="1804"/>
                      <a:pt x="2634" y="1808"/>
                    </a:cubicBezTo>
                    <a:cubicBezTo>
                      <a:pt x="2634" y="1813"/>
                      <a:pt x="2630" y="1816"/>
                      <a:pt x="2625" y="1816"/>
                    </a:cubicBezTo>
                    <a:lnTo>
                      <a:pt x="2625" y="1816"/>
                    </a:lnTo>
                    <a:cubicBezTo>
                      <a:pt x="2621" y="1816"/>
                      <a:pt x="2617" y="1813"/>
                      <a:pt x="2617" y="1808"/>
                    </a:cubicBezTo>
                    <a:cubicBezTo>
                      <a:pt x="2617" y="1804"/>
                      <a:pt x="2621" y="1800"/>
                      <a:pt x="2625" y="1800"/>
                    </a:cubicBezTo>
                    <a:close/>
                    <a:moveTo>
                      <a:pt x="2659" y="1800"/>
                    </a:moveTo>
                    <a:lnTo>
                      <a:pt x="2659" y="1800"/>
                    </a:lnTo>
                    <a:cubicBezTo>
                      <a:pt x="2663" y="1800"/>
                      <a:pt x="2667" y="1804"/>
                      <a:pt x="2667" y="1808"/>
                    </a:cubicBezTo>
                    <a:cubicBezTo>
                      <a:pt x="2667" y="1813"/>
                      <a:pt x="2663" y="1816"/>
                      <a:pt x="2659" y="1816"/>
                    </a:cubicBezTo>
                    <a:lnTo>
                      <a:pt x="2659" y="1816"/>
                    </a:lnTo>
                    <a:cubicBezTo>
                      <a:pt x="2654" y="1816"/>
                      <a:pt x="2650" y="1813"/>
                      <a:pt x="2650" y="1808"/>
                    </a:cubicBezTo>
                    <a:cubicBezTo>
                      <a:pt x="2650" y="1804"/>
                      <a:pt x="2654" y="1800"/>
                      <a:pt x="2659" y="1800"/>
                    </a:cubicBezTo>
                    <a:close/>
                    <a:moveTo>
                      <a:pt x="2692" y="1800"/>
                    </a:moveTo>
                    <a:lnTo>
                      <a:pt x="2692" y="1800"/>
                    </a:lnTo>
                    <a:cubicBezTo>
                      <a:pt x="2697" y="1800"/>
                      <a:pt x="2700" y="1804"/>
                      <a:pt x="2700" y="1808"/>
                    </a:cubicBezTo>
                    <a:cubicBezTo>
                      <a:pt x="2700" y="1813"/>
                      <a:pt x="2697" y="1816"/>
                      <a:pt x="2692" y="1816"/>
                    </a:cubicBezTo>
                    <a:lnTo>
                      <a:pt x="2692" y="1816"/>
                    </a:lnTo>
                    <a:cubicBezTo>
                      <a:pt x="2687" y="1816"/>
                      <a:pt x="2684" y="1813"/>
                      <a:pt x="2684" y="1808"/>
                    </a:cubicBezTo>
                    <a:cubicBezTo>
                      <a:pt x="2684" y="1804"/>
                      <a:pt x="2687" y="1800"/>
                      <a:pt x="2692" y="1800"/>
                    </a:cubicBezTo>
                    <a:close/>
                    <a:moveTo>
                      <a:pt x="2725" y="1800"/>
                    </a:moveTo>
                    <a:lnTo>
                      <a:pt x="2725" y="1800"/>
                    </a:lnTo>
                    <a:cubicBezTo>
                      <a:pt x="2730" y="1800"/>
                      <a:pt x="2734" y="1804"/>
                      <a:pt x="2734" y="1808"/>
                    </a:cubicBezTo>
                    <a:cubicBezTo>
                      <a:pt x="2734" y="1813"/>
                      <a:pt x="2730" y="1816"/>
                      <a:pt x="2725" y="1816"/>
                    </a:cubicBezTo>
                    <a:lnTo>
                      <a:pt x="2725" y="1816"/>
                    </a:lnTo>
                    <a:cubicBezTo>
                      <a:pt x="2721" y="1816"/>
                      <a:pt x="2717" y="1813"/>
                      <a:pt x="2717" y="1808"/>
                    </a:cubicBezTo>
                    <a:cubicBezTo>
                      <a:pt x="2717" y="1804"/>
                      <a:pt x="2721" y="1800"/>
                      <a:pt x="2725" y="1800"/>
                    </a:cubicBezTo>
                    <a:close/>
                    <a:moveTo>
                      <a:pt x="2759" y="1800"/>
                    </a:moveTo>
                    <a:lnTo>
                      <a:pt x="2759" y="1800"/>
                    </a:lnTo>
                    <a:cubicBezTo>
                      <a:pt x="2763" y="1800"/>
                      <a:pt x="2767" y="1804"/>
                      <a:pt x="2767" y="1808"/>
                    </a:cubicBezTo>
                    <a:cubicBezTo>
                      <a:pt x="2767" y="1813"/>
                      <a:pt x="2763" y="1816"/>
                      <a:pt x="2759" y="1816"/>
                    </a:cubicBezTo>
                    <a:lnTo>
                      <a:pt x="2759" y="1816"/>
                    </a:lnTo>
                    <a:cubicBezTo>
                      <a:pt x="2754" y="1816"/>
                      <a:pt x="2750" y="1813"/>
                      <a:pt x="2750" y="1808"/>
                    </a:cubicBezTo>
                    <a:cubicBezTo>
                      <a:pt x="2750" y="1804"/>
                      <a:pt x="2754" y="1800"/>
                      <a:pt x="2759" y="1800"/>
                    </a:cubicBezTo>
                    <a:close/>
                    <a:moveTo>
                      <a:pt x="2792" y="1800"/>
                    </a:moveTo>
                    <a:lnTo>
                      <a:pt x="2792" y="1800"/>
                    </a:lnTo>
                    <a:cubicBezTo>
                      <a:pt x="2797" y="1800"/>
                      <a:pt x="2800" y="1804"/>
                      <a:pt x="2800" y="1808"/>
                    </a:cubicBezTo>
                    <a:cubicBezTo>
                      <a:pt x="2800" y="1813"/>
                      <a:pt x="2797" y="1816"/>
                      <a:pt x="2792" y="1816"/>
                    </a:cubicBezTo>
                    <a:lnTo>
                      <a:pt x="2792" y="1816"/>
                    </a:lnTo>
                    <a:cubicBezTo>
                      <a:pt x="2788" y="1816"/>
                      <a:pt x="2784" y="1813"/>
                      <a:pt x="2784" y="1808"/>
                    </a:cubicBezTo>
                    <a:cubicBezTo>
                      <a:pt x="2784" y="1804"/>
                      <a:pt x="2788" y="1800"/>
                      <a:pt x="2792" y="1800"/>
                    </a:cubicBezTo>
                    <a:close/>
                    <a:moveTo>
                      <a:pt x="2825" y="1800"/>
                    </a:moveTo>
                    <a:lnTo>
                      <a:pt x="2826" y="1800"/>
                    </a:lnTo>
                    <a:cubicBezTo>
                      <a:pt x="2830" y="1800"/>
                      <a:pt x="2834" y="1804"/>
                      <a:pt x="2834" y="1808"/>
                    </a:cubicBezTo>
                    <a:cubicBezTo>
                      <a:pt x="2834" y="1813"/>
                      <a:pt x="2830" y="1816"/>
                      <a:pt x="2826" y="1816"/>
                    </a:cubicBezTo>
                    <a:lnTo>
                      <a:pt x="2825" y="1816"/>
                    </a:lnTo>
                    <a:cubicBezTo>
                      <a:pt x="2821" y="1816"/>
                      <a:pt x="2817" y="1813"/>
                      <a:pt x="2817" y="1808"/>
                    </a:cubicBezTo>
                    <a:cubicBezTo>
                      <a:pt x="2817" y="1804"/>
                      <a:pt x="2821" y="1800"/>
                      <a:pt x="2825" y="1800"/>
                    </a:cubicBezTo>
                    <a:close/>
                    <a:moveTo>
                      <a:pt x="2859" y="1800"/>
                    </a:moveTo>
                    <a:lnTo>
                      <a:pt x="2859" y="1800"/>
                    </a:lnTo>
                    <a:cubicBezTo>
                      <a:pt x="2863" y="1800"/>
                      <a:pt x="2867" y="1804"/>
                      <a:pt x="2867" y="1808"/>
                    </a:cubicBezTo>
                    <a:cubicBezTo>
                      <a:pt x="2867" y="1813"/>
                      <a:pt x="2863" y="1816"/>
                      <a:pt x="2859" y="1816"/>
                    </a:cubicBezTo>
                    <a:lnTo>
                      <a:pt x="2859" y="1816"/>
                    </a:lnTo>
                    <a:cubicBezTo>
                      <a:pt x="2854" y="1816"/>
                      <a:pt x="2851" y="1813"/>
                      <a:pt x="2851" y="1808"/>
                    </a:cubicBezTo>
                    <a:cubicBezTo>
                      <a:pt x="2851" y="1804"/>
                      <a:pt x="2854" y="1800"/>
                      <a:pt x="2859" y="1800"/>
                    </a:cubicBezTo>
                    <a:close/>
                    <a:moveTo>
                      <a:pt x="2892" y="1800"/>
                    </a:moveTo>
                    <a:lnTo>
                      <a:pt x="2892" y="1800"/>
                    </a:lnTo>
                    <a:cubicBezTo>
                      <a:pt x="2897" y="1800"/>
                      <a:pt x="2901" y="1804"/>
                      <a:pt x="2901" y="1808"/>
                    </a:cubicBezTo>
                    <a:cubicBezTo>
                      <a:pt x="2901" y="1813"/>
                      <a:pt x="2897" y="1816"/>
                      <a:pt x="2892" y="1816"/>
                    </a:cubicBezTo>
                    <a:lnTo>
                      <a:pt x="2892" y="1816"/>
                    </a:lnTo>
                    <a:cubicBezTo>
                      <a:pt x="2888" y="1816"/>
                      <a:pt x="2884" y="1813"/>
                      <a:pt x="2884" y="1808"/>
                    </a:cubicBezTo>
                    <a:cubicBezTo>
                      <a:pt x="2884" y="1804"/>
                      <a:pt x="2888" y="1800"/>
                      <a:pt x="2892" y="1800"/>
                    </a:cubicBezTo>
                    <a:close/>
                    <a:moveTo>
                      <a:pt x="2926" y="1800"/>
                    </a:moveTo>
                    <a:lnTo>
                      <a:pt x="2926" y="1800"/>
                    </a:lnTo>
                    <a:cubicBezTo>
                      <a:pt x="2930" y="1800"/>
                      <a:pt x="2934" y="1804"/>
                      <a:pt x="2934" y="1808"/>
                    </a:cubicBezTo>
                    <a:cubicBezTo>
                      <a:pt x="2934" y="1813"/>
                      <a:pt x="2930" y="1816"/>
                      <a:pt x="2926" y="1816"/>
                    </a:cubicBezTo>
                    <a:lnTo>
                      <a:pt x="2926" y="1816"/>
                    </a:lnTo>
                    <a:cubicBezTo>
                      <a:pt x="2921" y="1816"/>
                      <a:pt x="2917" y="1813"/>
                      <a:pt x="2917" y="1808"/>
                    </a:cubicBezTo>
                    <a:cubicBezTo>
                      <a:pt x="2917" y="1804"/>
                      <a:pt x="2921" y="1800"/>
                      <a:pt x="2926" y="1800"/>
                    </a:cubicBezTo>
                    <a:close/>
                    <a:moveTo>
                      <a:pt x="2959" y="1800"/>
                    </a:moveTo>
                    <a:lnTo>
                      <a:pt x="2959" y="1800"/>
                    </a:lnTo>
                    <a:cubicBezTo>
                      <a:pt x="2964" y="1800"/>
                      <a:pt x="2967" y="1804"/>
                      <a:pt x="2967" y="1808"/>
                    </a:cubicBezTo>
                    <a:cubicBezTo>
                      <a:pt x="2967" y="1813"/>
                      <a:pt x="2964" y="1816"/>
                      <a:pt x="2959" y="1816"/>
                    </a:cubicBezTo>
                    <a:lnTo>
                      <a:pt x="2959" y="1816"/>
                    </a:lnTo>
                    <a:cubicBezTo>
                      <a:pt x="2954" y="1816"/>
                      <a:pt x="2951" y="1813"/>
                      <a:pt x="2951" y="1808"/>
                    </a:cubicBezTo>
                    <a:cubicBezTo>
                      <a:pt x="2951" y="1804"/>
                      <a:pt x="2954" y="1800"/>
                      <a:pt x="2959" y="1800"/>
                    </a:cubicBezTo>
                    <a:close/>
                    <a:moveTo>
                      <a:pt x="2992" y="1800"/>
                    </a:moveTo>
                    <a:lnTo>
                      <a:pt x="2992" y="1800"/>
                    </a:lnTo>
                    <a:cubicBezTo>
                      <a:pt x="2997" y="1800"/>
                      <a:pt x="3001" y="1804"/>
                      <a:pt x="3001" y="1808"/>
                    </a:cubicBezTo>
                    <a:cubicBezTo>
                      <a:pt x="3001" y="1813"/>
                      <a:pt x="2997" y="1816"/>
                      <a:pt x="2992" y="1816"/>
                    </a:cubicBezTo>
                    <a:lnTo>
                      <a:pt x="2992" y="1816"/>
                    </a:lnTo>
                    <a:cubicBezTo>
                      <a:pt x="2988" y="1816"/>
                      <a:pt x="2984" y="1813"/>
                      <a:pt x="2984" y="1808"/>
                    </a:cubicBezTo>
                    <a:cubicBezTo>
                      <a:pt x="2984" y="1804"/>
                      <a:pt x="2988" y="1800"/>
                      <a:pt x="2992" y="1800"/>
                    </a:cubicBezTo>
                    <a:close/>
                    <a:moveTo>
                      <a:pt x="3026" y="1800"/>
                    </a:moveTo>
                    <a:lnTo>
                      <a:pt x="3026" y="1800"/>
                    </a:lnTo>
                    <a:cubicBezTo>
                      <a:pt x="3030" y="1800"/>
                      <a:pt x="3034" y="1804"/>
                      <a:pt x="3034" y="1808"/>
                    </a:cubicBezTo>
                    <a:cubicBezTo>
                      <a:pt x="3034" y="1813"/>
                      <a:pt x="3030" y="1816"/>
                      <a:pt x="3026" y="1816"/>
                    </a:cubicBezTo>
                    <a:lnTo>
                      <a:pt x="3026" y="1816"/>
                    </a:lnTo>
                    <a:cubicBezTo>
                      <a:pt x="3021" y="1816"/>
                      <a:pt x="3017" y="1813"/>
                      <a:pt x="3017" y="1808"/>
                    </a:cubicBezTo>
                    <a:cubicBezTo>
                      <a:pt x="3017" y="1804"/>
                      <a:pt x="3021" y="1800"/>
                      <a:pt x="3026" y="1800"/>
                    </a:cubicBezTo>
                    <a:close/>
                    <a:moveTo>
                      <a:pt x="3059" y="1800"/>
                    </a:moveTo>
                    <a:lnTo>
                      <a:pt x="3059" y="1800"/>
                    </a:lnTo>
                    <a:cubicBezTo>
                      <a:pt x="3064" y="1800"/>
                      <a:pt x="3067" y="1804"/>
                      <a:pt x="3067" y="1808"/>
                    </a:cubicBezTo>
                    <a:cubicBezTo>
                      <a:pt x="3067" y="1813"/>
                      <a:pt x="3064" y="1816"/>
                      <a:pt x="3059" y="1816"/>
                    </a:cubicBezTo>
                    <a:lnTo>
                      <a:pt x="3059" y="1816"/>
                    </a:lnTo>
                    <a:cubicBezTo>
                      <a:pt x="3054" y="1816"/>
                      <a:pt x="3051" y="1813"/>
                      <a:pt x="3051" y="1808"/>
                    </a:cubicBezTo>
                    <a:cubicBezTo>
                      <a:pt x="3051" y="1804"/>
                      <a:pt x="3054" y="1800"/>
                      <a:pt x="3059" y="1800"/>
                    </a:cubicBezTo>
                    <a:close/>
                    <a:moveTo>
                      <a:pt x="3092" y="1800"/>
                    </a:moveTo>
                    <a:lnTo>
                      <a:pt x="3092" y="1800"/>
                    </a:lnTo>
                    <a:cubicBezTo>
                      <a:pt x="3097" y="1800"/>
                      <a:pt x="3101" y="1804"/>
                      <a:pt x="3101" y="1808"/>
                    </a:cubicBezTo>
                    <a:cubicBezTo>
                      <a:pt x="3101" y="1813"/>
                      <a:pt x="3097" y="1816"/>
                      <a:pt x="3092" y="1816"/>
                    </a:cubicBezTo>
                    <a:lnTo>
                      <a:pt x="3092" y="1816"/>
                    </a:lnTo>
                    <a:cubicBezTo>
                      <a:pt x="3088" y="1816"/>
                      <a:pt x="3084" y="1813"/>
                      <a:pt x="3084" y="1808"/>
                    </a:cubicBezTo>
                    <a:cubicBezTo>
                      <a:pt x="3084" y="1804"/>
                      <a:pt x="3088" y="1800"/>
                      <a:pt x="3092" y="1800"/>
                    </a:cubicBezTo>
                    <a:close/>
                    <a:moveTo>
                      <a:pt x="3126" y="1800"/>
                    </a:moveTo>
                    <a:lnTo>
                      <a:pt x="3126" y="1800"/>
                    </a:lnTo>
                    <a:cubicBezTo>
                      <a:pt x="3130" y="1800"/>
                      <a:pt x="3134" y="1804"/>
                      <a:pt x="3134" y="1808"/>
                    </a:cubicBezTo>
                    <a:cubicBezTo>
                      <a:pt x="3134" y="1813"/>
                      <a:pt x="3130" y="1816"/>
                      <a:pt x="3126" y="1816"/>
                    </a:cubicBezTo>
                    <a:lnTo>
                      <a:pt x="3126" y="1816"/>
                    </a:lnTo>
                    <a:cubicBezTo>
                      <a:pt x="3121" y="1816"/>
                      <a:pt x="3117" y="1813"/>
                      <a:pt x="3117" y="1808"/>
                    </a:cubicBezTo>
                    <a:cubicBezTo>
                      <a:pt x="3117" y="1804"/>
                      <a:pt x="3121" y="1800"/>
                      <a:pt x="3126" y="1800"/>
                    </a:cubicBezTo>
                    <a:close/>
                    <a:moveTo>
                      <a:pt x="3159" y="1800"/>
                    </a:moveTo>
                    <a:lnTo>
                      <a:pt x="3159" y="1800"/>
                    </a:lnTo>
                    <a:cubicBezTo>
                      <a:pt x="3164" y="1800"/>
                      <a:pt x="3167" y="1804"/>
                      <a:pt x="3167" y="1808"/>
                    </a:cubicBezTo>
                    <a:cubicBezTo>
                      <a:pt x="3167" y="1813"/>
                      <a:pt x="3164" y="1816"/>
                      <a:pt x="3159" y="1816"/>
                    </a:cubicBezTo>
                    <a:lnTo>
                      <a:pt x="3159" y="1816"/>
                    </a:lnTo>
                    <a:cubicBezTo>
                      <a:pt x="3154" y="1816"/>
                      <a:pt x="3151" y="1813"/>
                      <a:pt x="3151" y="1808"/>
                    </a:cubicBezTo>
                    <a:cubicBezTo>
                      <a:pt x="3151" y="1804"/>
                      <a:pt x="3154" y="1800"/>
                      <a:pt x="3159" y="1800"/>
                    </a:cubicBezTo>
                    <a:close/>
                    <a:moveTo>
                      <a:pt x="3192" y="1800"/>
                    </a:moveTo>
                    <a:lnTo>
                      <a:pt x="3192" y="1800"/>
                    </a:lnTo>
                    <a:cubicBezTo>
                      <a:pt x="3197" y="1800"/>
                      <a:pt x="3201" y="1804"/>
                      <a:pt x="3201" y="1808"/>
                    </a:cubicBezTo>
                    <a:cubicBezTo>
                      <a:pt x="3201" y="1813"/>
                      <a:pt x="3197" y="1816"/>
                      <a:pt x="3192" y="1816"/>
                    </a:cubicBezTo>
                    <a:lnTo>
                      <a:pt x="3192" y="1816"/>
                    </a:lnTo>
                    <a:cubicBezTo>
                      <a:pt x="3188" y="1816"/>
                      <a:pt x="3184" y="1813"/>
                      <a:pt x="3184" y="1808"/>
                    </a:cubicBezTo>
                    <a:cubicBezTo>
                      <a:pt x="3184" y="1804"/>
                      <a:pt x="3188" y="1800"/>
                      <a:pt x="3192" y="1800"/>
                    </a:cubicBezTo>
                    <a:close/>
                    <a:moveTo>
                      <a:pt x="3226" y="1800"/>
                    </a:moveTo>
                    <a:lnTo>
                      <a:pt x="3226" y="1800"/>
                    </a:lnTo>
                    <a:cubicBezTo>
                      <a:pt x="3230" y="1800"/>
                      <a:pt x="3234" y="1804"/>
                      <a:pt x="3234" y="1808"/>
                    </a:cubicBezTo>
                    <a:cubicBezTo>
                      <a:pt x="3234" y="1813"/>
                      <a:pt x="3230" y="1816"/>
                      <a:pt x="3226" y="1816"/>
                    </a:cubicBezTo>
                    <a:lnTo>
                      <a:pt x="3226" y="1816"/>
                    </a:lnTo>
                    <a:cubicBezTo>
                      <a:pt x="3221" y="1816"/>
                      <a:pt x="3217" y="1813"/>
                      <a:pt x="3217" y="1808"/>
                    </a:cubicBezTo>
                    <a:cubicBezTo>
                      <a:pt x="3217" y="1804"/>
                      <a:pt x="3221" y="1800"/>
                      <a:pt x="3226" y="1800"/>
                    </a:cubicBezTo>
                    <a:close/>
                    <a:moveTo>
                      <a:pt x="3259" y="1800"/>
                    </a:moveTo>
                    <a:lnTo>
                      <a:pt x="3259" y="1800"/>
                    </a:lnTo>
                    <a:cubicBezTo>
                      <a:pt x="3264" y="1800"/>
                      <a:pt x="3267" y="1804"/>
                      <a:pt x="3267" y="1808"/>
                    </a:cubicBezTo>
                    <a:cubicBezTo>
                      <a:pt x="3267" y="1813"/>
                      <a:pt x="3264" y="1816"/>
                      <a:pt x="3259" y="1816"/>
                    </a:cubicBezTo>
                    <a:lnTo>
                      <a:pt x="3259" y="1816"/>
                    </a:lnTo>
                    <a:cubicBezTo>
                      <a:pt x="3254" y="1816"/>
                      <a:pt x="3251" y="1813"/>
                      <a:pt x="3251" y="1808"/>
                    </a:cubicBezTo>
                    <a:cubicBezTo>
                      <a:pt x="3251" y="1804"/>
                      <a:pt x="3254" y="1800"/>
                      <a:pt x="3259" y="1800"/>
                    </a:cubicBezTo>
                    <a:close/>
                    <a:moveTo>
                      <a:pt x="3292" y="1800"/>
                    </a:moveTo>
                    <a:lnTo>
                      <a:pt x="3292" y="1800"/>
                    </a:lnTo>
                    <a:cubicBezTo>
                      <a:pt x="3297" y="1800"/>
                      <a:pt x="3301" y="1804"/>
                      <a:pt x="3301" y="1808"/>
                    </a:cubicBezTo>
                    <a:cubicBezTo>
                      <a:pt x="3301" y="1813"/>
                      <a:pt x="3297" y="1816"/>
                      <a:pt x="3292" y="1816"/>
                    </a:cubicBezTo>
                    <a:lnTo>
                      <a:pt x="3292" y="1816"/>
                    </a:lnTo>
                    <a:cubicBezTo>
                      <a:pt x="3288" y="1816"/>
                      <a:pt x="3284" y="1813"/>
                      <a:pt x="3284" y="1808"/>
                    </a:cubicBezTo>
                    <a:cubicBezTo>
                      <a:pt x="3284" y="1804"/>
                      <a:pt x="3288" y="1800"/>
                      <a:pt x="3292" y="1800"/>
                    </a:cubicBezTo>
                    <a:close/>
                    <a:moveTo>
                      <a:pt x="3326" y="1800"/>
                    </a:moveTo>
                    <a:lnTo>
                      <a:pt x="3326" y="1800"/>
                    </a:lnTo>
                    <a:cubicBezTo>
                      <a:pt x="3330" y="1800"/>
                      <a:pt x="3334" y="1804"/>
                      <a:pt x="3334" y="1808"/>
                    </a:cubicBezTo>
                    <a:cubicBezTo>
                      <a:pt x="3334" y="1813"/>
                      <a:pt x="3330" y="1816"/>
                      <a:pt x="3326" y="1816"/>
                    </a:cubicBezTo>
                    <a:lnTo>
                      <a:pt x="3326" y="1816"/>
                    </a:lnTo>
                    <a:cubicBezTo>
                      <a:pt x="3321" y="1816"/>
                      <a:pt x="3317" y="1813"/>
                      <a:pt x="3317" y="1808"/>
                    </a:cubicBezTo>
                    <a:cubicBezTo>
                      <a:pt x="3317" y="1804"/>
                      <a:pt x="3321" y="1800"/>
                      <a:pt x="3326" y="1800"/>
                    </a:cubicBezTo>
                    <a:close/>
                    <a:moveTo>
                      <a:pt x="3359" y="1800"/>
                    </a:moveTo>
                    <a:lnTo>
                      <a:pt x="3359" y="1800"/>
                    </a:lnTo>
                    <a:cubicBezTo>
                      <a:pt x="3364" y="1800"/>
                      <a:pt x="3367" y="1804"/>
                      <a:pt x="3367" y="1808"/>
                    </a:cubicBezTo>
                    <a:cubicBezTo>
                      <a:pt x="3367" y="1813"/>
                      <a:pt x="3364" y="1816"/>
                      <a:pt x="3359" y="1816"/>
                    </a:cubicBezTo>
                    <a:lnTo>
                      <a:pt x="3359" y="1816"/>
                    </a:lnTo>
                    <a:cubicBezTo>
                      <a:pt x="3354" y="1816"/>
                      <a:pt x="3351" y="1813"/>
                      <a:pt x="3351" y="1808"/>
                    </a:cubicBezTo>
                    <a:cubicBezTo>
                      <a:pt x="3351" y="1804"/>
                      <a:pt x="3354" y="1800"/>
                      <a:pt x="3359" y="1800"/>
                    </a:cubicBezTo>
                    <a:close/>
                    <a:moveTo>
                      <a:pt x="3392" y="1800"/>
                    </a:moveTo>
                    <a:lnTo>
                      <a:pt x="3392" y="1800"/>
                    </a:lnTo>
                    <a:cubicBezTo>
                      <a:pt x="3397" y="1800"/>
                      <a:pt x="3401" y="1804"/>
                      <a:pt x="3401" y="1808"/>
                    </a:cubicBezTo>
                    <a:cubicBezTo>
                      <a:pt x="3401" y="1813"/>
                      <a:pt x="3397" y="1816"/>
                      <a:pt x="3392" y="1816"/>
                    </a:cubicBezTo>
                    <a:lnTo>
                      <a:pt x="3392" y="1816"/>
                    </a:lnTo>
                    <a:cubicBezTo>
                      <a:pt x="3388" y="1816"/>
                      <a:pt x="3384" y="1813"/>
                      <a:pt x="3384" y="1808"/>
                    </a:cubicBezTo>
                    <a:cubicBezTo>
                      <a:pt x="3384" y="1804"/>
                      <a:pt x="3388" y="1800"/>
                      <a:pt x="3392" y="1800"/>
                    </a:cubicBezTo>
                    <a:close/>
                    <a:moveTo>
                      <a:pt x="3426" y="1800"/>
                    </a:moveTo>
                    <a:lnTo>
                      <a:pt x="3426" y="1800"/>
                    </a:lnTo>
                    <a:cubicBezTo>
                      <a:pt x="3430" y="1800"/>
                      <a:pt x="3434" y="1804"/>
                      <a:pt x="3434" y="1808"/>
                    </a:cubicBezTo>
                    <a:cubicBezTo>
                      <a:pt x="3434" y="1813"/>
                      <a:pt x="3430" y="1816"/>
                      <a:pt x="3426" y="1816"/>
                    </a:cubicBezTo>
                    <a:lnTo>
                      <a:pt x="3426" y="1816"/>
                    </a:lnTo>
                    <a:cubicBezTo>
                      <a:pt x="3421" y="1816"/>
                      <a:pt x="3417" y="1813"/>
                      <a:pt x="3417" y="1808"/>
                    </a:cubicBezTo>
                    <a:cubicBezTo>
                      <a:pt x="3417" y="1804"/>
                      <a:pt x="3421" y="1800"/>
                      <a:pt x="3426" y="1800"/>
                    </a:cubicBezTo>
                    <a:close/>
                    <a:moveTo>
                      <a:pt x="3459" y="1800"/>
                    </a:moveTo>
                    <a:lnTo>
                      <a:pt x="3459" y="1800"/>
                    </a:lnTo>
                    <a:cubicBezTo>
                      <a:pt x="3464" y="1800"/>
                      <a:pt x="3467" y="1804"/>
                      <a:pt x="3467" y="1808"/>
                    </a:cubicBezTo>
                    <a:cubicBezTo>
                      <a:pt x="3467" y="1813"/>
                      <a:pt x="3464" y="1816"/>
                      <a:pt x="3459" y="1816"/>
                    </a:cubicBezTo>
                    <a:lnTo>
                      <a:pt x="3459" y="1816"/>
                    </a:lnTo>
                    <a:cubicBezTo>
                      <a:pt x="3455" y="1816"/>
                      <a:pt x="3451" y="1813"/>
                      <a:pt x="3451" y="1808"/>
                    </a:cubicBezTo>
                    <a:cubicBezTo>
                      <a:pt x="3451" y="1804"/>
                      <a:pt x="3455" y="1800"/>
                      <a:pt x="3459" y="1800"/>
                    </a:cubicBezTo>
                    <a:close/>
                    <a:moveTo>
                      <a:pt x="3492" y="1800"/>
                    </a:moveTo>
                    <a:lnTo>
                      <a:pt x="3492" y="1800"/>
                    </a:lnTo>
                    <a:cubicBezTo>
                      <a:pt x="3497" y="1800"/>
                      <a:pt x="3501" y="1804"/>
                      <a:pt x="3501" y="1808"/>
                    </a:cubicBezTo>
                    <a:cubicBezTo>
                      <a:pt x="3501" y="1813"/>
                      <a:pt x="3497" y="1816"/>
                      <a:pt x="3492" y="1816"/>
                    </a:cubicBezTo>
                    <a:lnTo>
                      <a:pt x="3492" y="1816"/>
                    </a:lnTo>
                    <a:cubicBezTo>
                      <a:pt x="3488" y="1816"/>
                      <a:pt x="3484" y="1813"/>
                      <a:pt x="3484" y="1808"/>
                    </a:cubicBezTo>
                    <a:cubicBezTo>
                      <a:pt x="3484" y="1804"/>
                      <a:pt x="3488" y="1800"/>
                      <a:pt x="3492" y="1800"/>
                    </a:cubicBezTo>
                    <a:close/>
                    <a:moveTo>
                      <a:pt x="3526" y="1800"/>
                    </a:moveTo>
                    <a:lnTo>
                      <a:pt x="3526" y="1800"/>
                    </a:lnTo>
                    <a:cubicBezTo>
                      <a:pt x="3530" y="1800"/>
                      <a:pt x="3534" y="1804"/>
                      <a:pt x="3534" y="1808"/>
                    </a:cubicBezTo>
                    <a:cubicBezTo>
                      <a:pt x="3534" y="1813"/>
                      <a:pt x="3530" y="1816"/>
                      <a:pt x="3526" y="1816"/>
                    </a:cubicBezTo>
                    <a:lnTo>
                      <a:pt x="3526" y="1816"/>
                    </a:lnTo>
                    <a:cubicBezTo>
                      <a:pt x="3521" y="1816"/>
                      <a:pt x="3517" y="1813"/>
                      <a:pt x="3517" y="1808"/>
                    </a:cubicBezTo>
                    <a:cubicBezTo>
                      <a:pt x="3517" y="1804"/>
                      <a:pt x="3521" y="1800"/>
                      <a:pt x="3526" y="1800"/>
                    </a:cubicBezTo>
                    <a:close/>
                    <a:moveTo>
                      <a:pt x="3559" y="1800"/>
                    </a:moveTo>
                    <a:lnTo>
                      <a:pt x="3559" y="1800"/>
                    </a:lnTo>
                    <a:cubicBezTo>
                      <a:pt x="3564" y="1800"/>
                      <a:pt x="3568" y="1804"/>
                      <a:pt x="3568" y="1808"/>
                    </a:cubicBezTo>
                    <a:cubicBezTo>
                      <a:pt x="3568" y="1813"/>
                      <a:pt x="3564" y="1816"/>
                      <a:pt x="3559" y="1816"/>
                    </a:cubicBezTo>
                    <a:lnTo>
                      <a:pt x="3559" y="1816"/>
                    </a:lnTo>
                    <a:cubicBezTo>
                      <a:pt x="3555" y="1816"/>
                      <a:pt x="3551" y="1813"/>
                      <a:pt x="3551" y="1808"/>
                    </a:cubicBezTo>
                    <a:cubicBezTo>
                      <a:pt x="3551" y="1804"/>
                      <a:pt x="3555" y="1800"/>
                      <a:pt x="3559" y="1800"/>
                    </a:cubicBezTo>
                    <a:close/>
                    <a:moveTo>
                      <a:pt x="3593" y="1800"/>
                    </a:moveTo>
                    <a:lnTo>
                      <a:pt x="3593" y="1800"/>
                    </a:lnTo>
                    <a:cubicBezTo>
                      <a:pt x="3597" y="1800"/>
                      <a:pt x="3601" y="1804"/>
                      <a:pt x="3601" y="1808"/>
                    </a:cubicBezTo>
                    <a:cubicBezTo>
                      <a:pt x="3601" y="1813"/>
                      <a:pt x="3597" y="1816"/>
                      <a:pt x="3593" y="1816"/>
                    </a:cubicBezTo>
                    <a:lnTo>
                      <a:pt x="3593" y="1816"/>
                    </a:lnTo>
                    <a:cubicBezTo>
                      <a:pt x="3588" y="1816"/>
                      <a:pt x="3584" y="1813"/>
                      <a:pt x="3584" y="1808"/>
                    </a:cubicBezTo>
                    <a:cubicBezTo>
                      <a:pt x="3584" y="1804"/>
                      <a:pt x="3588" y="1800"/>
                      <a:pt x="3593" y="1800"/>
                    </a:cubicBezTo>
                    <a:close/>
                    <a:moveTo>
                      <a:pt x="3626" y="1800"/>
                    </a:moveTo>
                    <a:lnTo>
                      <a:pt x="3626" y="1800"/>
                    </a:lnTo>
                    <a:cubicBezTo>
                      <a:pt x="3630" y="1800"/>
                      <a:pt x="3634" y="1804"/>
                      <a:pt x="3634" y="1808"/>
                    </a:cubicBezTo>
                    <a:cubicBezTo>
                      <a:pt x="3634" y="1813"/>
                      <a:pt x="3630" y="1816"/>
                      <a:pt x="3626" y="1816"/>
                    </a:cubicBezTo>
                    <a:lnTo>
                      <a:pt x="3626" y="1816"/>
                    </a:lnTo>
                    <a:cubicBezTo>
                      <a:pt x="3621" y="1816"/>
                      <a:pt x="3618" y="1813"/>
                      <a:pt x="3618" y="1808"/>
                    </a:cubicBezTo>
                    <a:cubicBezTo>
                      <a:pt x="3618" y="1804"/>
                      <a:pt x="3621" y="1800"/>
                      <a:pt x="3626" y="1800"/>
                    </a:cubicBezTo>
                    <a:close/>
                    <a:moveTo>
                      <a:pt x="3659" y="1800"/>
                    </a:moveTo>
                    <a:lnTo>
                      <a:pt x="3659" y="1800"/>
                    </a:lnTo>
                    <a:cubicBezTo>
                      <a:pt x="3664" y="1800"/>
                      <a:pt x="3668" y="1804"/>
                      <a:pt x="3668" y="1808"/>
                    </a:cubicBezTo>
                    <a:cubicBezTo>
                      <a:pt x="3668" y="1813"/>
                      <a:pt x="3664" y="1816"/>
                      <a:pt x="3659" y="1816"/>
                    </a:cubicBezTo>
                    <a:lnTo>
                      <a:pt x="3659" y="1816"/>
                    </a:lnTo>
                    <a:cubicBezTo>
                      <a:pt x="3655" y="1816"/>
                      <a:pt x="3651" y="1813"/>
                      <a:pt x="3651" y="1808"/>
                    </a:cubicBezTo>
                    <a:cubicBezTo>
                      <a:pt x="3651" y="1804"/>
                      <a:pt x="3655" y="1800"/>
                      <a:pt x="3659" y="1800"/>
                    </a:cubicBezTo>
                    <a:close/>
                    <a:moveTo>
                      <a:pt x="3693" y="1800"/>
                    </a:moveTo>
                    <a:lnTo>
                      <a:pt x="3693" y="1800"/>
                    </a:lnTo>
                    <a:cubicBezTo>
                      <a:pt x="3697" y="1800"/>
                      <a:pt x="3701" y="1804"/>
                      <a:pt x="3701" y="1808"/>
                    </a:cubicBezTo>
                    <a:cubicBezTo>
                      <a:pt x="3701" y="1813"/>
                      <a:pt x="3697" y="1816"/>
                      <a:pt x="3693" y="1816"/>
                    </a:cubicBezTo>
                    <a:lnTo>
                      <a:pt x="3693" y="1816"/>
                    </a:lnTo>
                    <a:cubicBezTo>
                      <a:pt x="3688" y="1816"/>
                      <a:pt x="3684" y="1813"/>
                      <a:pt x="3684" y="1808"/>
                    </a:cubicBezTo>
                    <a:cubicBezTo>
                      <a:pt x="3684" y="1804"/>
                      <a:pt x="3688" y="1800"/>
                      <a:pt x="3693" y="1800"/>
                    </a:cubicBezTo>
                    <a:close/>
                    <a:moveTo>
                      <a:pt x="3726" y="1800"/>
                    </a:moveTo>
                    <a:lnTo>
                      <a:pt x="3726" y="1800"/>
                    </a:lnTo>
                    <a:cubicBezTo>
                      <a:pt x="3731" y="1800"/>
                      <a:pt x="3734" y="1804"/>
                      <a:pt x="3734" y="1808"/>
                    </a:cubicBezTo>
                    <a:cubicBezTo>
                      <a:pt x="3734" y="1813"/>
                      <a:pt x="3731" y="1816"/>
                      <a:pt x="3726" y="1816"/>
                    </a:cubicBezTo>
                    <a:lnTo>
                      <a:pt x="3726" y="1816"/>
                    </a:lnTo>
                    <a:cubicBezTo>
                      <a:pt x="3721" y="1816"/>
                      <a:pt x="3718" y="1813"/>
                      <a:pt x="3718" y="1808"/>
                    </a:cubicBezTo>
                    <a:cubicBezTo>
                      <a:pt x="3718" y="1804"/>
                      <a:pt x="3721" y="1800"/>
                      <a:pt x="3726" y="1800"/>
                    </a:cubicBezTo>
                    <a:close/>
                    <a:moveTo>
                      <a:pt x="3759" y="1800"/>
                    </a:moveTo>
                    <a:lnTo>
                      <a:pt x="3759" y="1800"/>
                    </a:lnTo>
                    <a:cubicBezTo>
                      <a:pt x="3764" y="1800"/>
                      <a:pt x="3768" y="1804"/>
                      <a:pt x="3768" y="1808"/>
                    </a:cubicBezTo>
                    <a:cubicBezTo>
                      <a:pt x="3768" y="1813"/>
                      <a:pt x="3764" y="1816"/>
                      <a:pt x="3759" y="1816"/>
                    </a:cubicBezTo>
                    <a:lnTo>
                      <a:pt x="3759" y="1816"/>
                    </a:lnTo>
                    <a:cubicBezTo>
                      <a:pt x="3755" y="1816"/>
                      <a:pt x="3751" y="1813"/>
                      <a:pt x="3751" y="1808"/>
                    </a:cubicBezTo>
                    <a:cubicBezTo>
                      <a:pt x="3751" y="1804"/>
                      <a:pt x="3755" y="1800"/>
                      <a:pt x="3759" y="1800"/>
                    </a:cubicBezTo>
                    <a:close/>
                    <a:moveTo>
                      <a:pt x="3793" y="1800"/>
                    </a:moveTo>
                    <a:lnTo>
                      <a:pt x="3793" y="1800"/>
                    </a:lnTo>
                    <a:cubicBezTo>
                      <a:pt x="3797" y="1800"/>
                      <a:pt x="3801" y="1804"/>
                      <a:pt x="3801" y="1808"/>
                    </a:cubicBezTo>
                    <a:cubicBezTo>
                      <a:pt x="3801" y="1813"/>
                      <a:pt x="3797" y="1816"/>
                      <a:pt x="3793" y="1816"/>
                    </a:cubicBezTo>
                    <a:lnTo>
                      <a:pt x="3793" y="1816"/>
                    </a:lnTo>
                    <a:cubicBezTo>
                      <a:pt x="3788" y="1816"/>
                      <a:pt x="3784" y="1813"/>
                      <a:pt x="3784" y="1808"/>
                    </a:cubicBezTo>
                    <a:cubicBezTo>
                      <a:pt x="3784" y="1804"/>
                      <a:pt x="3788" y="1800"/>
                      <a:pt x="3793" y="1800"/>
                    </a:cubicBezTo>
                    <a:close/>
                    <a:moveTo>
                      <a:pt x="3826" y="1800"/>
                    </a:moveTo>
                    <a:lnTo>
                      <a:pt x="3826" y="1800"/>
                    </a:lnTo>
                    <a:cubicBezTo>
                      <a:pt x="3831" y="1800"/>
                      <a:pt x="3834" y="1804"/>
                      <a:pt x="3834" y="1808"/>
                    </a:cubicBezTo>
                    <a:cubicBezTo>
                      <a:pt x="3834" y="1813"/>
                      <a:pt x="3831" y="1816"/>
                      <a:pt x="3826" y="1816"/>
                    </a:cubicBezTo>
                    <a:lnTo>
                      <a:pt x="3826" y="1816"/>
                    </a:lnTo>
                    <a:cubicBezTo>
                      <a:pt x="3821" y="1816"/>
                      <a:pt x="3818" y="1813"/>
                      <a:pt x="3818" y="1808"/>
                    </a:cubicBezTo>
                    <a:cubicBezTo>
                      <a:pt x="3818" y="1804"/>
                      <a:pt x="3821" y="1800"/>
                      <a:pt x="3826" y="1800"/>
                    </a:cubicBezTo>
                    <a:close/>
                    <a:moveTo>
                      <a:pt x="3859" y="1800"/>
                    </a:moveTo>
                    <a:lnTo>
                      <a:pt x="3859" y="1800"/>
                    </a:lnTo>
                    <a:cubicBezTo>
                      <a:pt x="3864" y="1800"/>
                      <a:pt x="3868" y="1804"/>
                      <a:pt x="3868" y="1808"/>
                    </a:cubicBezTo>
                    <a:cubicBezTo>
                      <a:pt x="3868" y="1813"/>
                      <a:pt x="3864" y="1816"/>
                      <a:pt x="3859" y="1816"/>
                    </a:cubicBezTo>
                    <a:lnTo>
                      <a:pt x="3859" y="1816"/>
                    </a:lnTo>
                    <a:cubicBezTo>
                      <a:pt x="3855" y="1816"/>
                      <a:pt x="3851" y="1813"/>
                      <a:pt x="3851" y="1808"/>
                    </a:cubicBezTo>
                    <a:cubicBezTo>
                      <a:pt x="3851" y="1804"/>
                      <a:pt x="3855" y="1800"/>
                      <a:pt x="3859" y="1800"/>
                    </a:cubicBezTo>
                    <a:close/>
                    <a:moveTo>
                      <a:pt x="3893" y="1800"/>
                    </a:moveTo>
                    <a:lnTo>
                      <a:pt x="3893" y="1800"/>
                    </a:lnTo>
                    <a:cubicBezTo>
                      <a:pt x="3897" y="1800"/>
                      <a:pt x="3901" y="1804"/>
                      <a:pt x="3901" y="1808"/>
                    </a:cubicBezTo>
                    <a:cubicBezTo>
                      <a:pt x="3901" y="1813"/>
                      <a:pt x="3897" y="1816"/>
                      <a:pt x="3893" y="1816"/>
                    </a:cubicBezTo>
                    <a:lnTo>
                      <a:pt x="3893" y="1816"/>
                    </a:lnTo>
                    <a:cubicBezTo>
                      <a:pt x="3888" y="1816"/>
                      <a:pt x="3884" y="1813"/>
                      <a:pt x="3884" y="1808"/>
                    </a:cubicBezTo>
                    <a:cubicBezTo>
                      <a:pt x="3884" y="1804"/>
                      <a:pt x="3888" y="1800"/>
                      <a:pt x="3893" y="1800"/>
                    </a:cubicBezTo>
                    <a:close/>
                    <a:moveTo>
                      <a:pt x="3926" y="1800"/>
                    </a:moveTo>
                    <a:lnTo>
                      <a:pt x="3926" y="1800"/>
                    </a:lnTo>
                    <a:cubicBezTo>
                      <a:pt x="3931" y="1800"/>
                      <a:pt x="3934" y="1804"/>
                      <a:pt x="3934" y="1808"/>
                    </a:cubicBezTo>
                    <a:cubicBezTo>
                      <a:pt x="3934" y="1813"/>
                      <a:pt x="3931" y="1816"/>
                      <a:pt x="3926" y="1816"/>
                    </a:cubicBezTo>
                    <a:lnTo>
                      <a:pt x="3926" y="1816"/>
                    </a:lnTo>
                    <a:cubicBezTo>
                      <a:pt x="3921" y="1816"/>
                      <a:pt x="3918" y="1813"/>
                      <a:pt x="3918" y="1808"/>
                    </a:cubicBezTo>
                    <a:cubicBezTo>
                      <a:pt x="3918" y="1804"/>
                      <a:pt x="3921" y="1800"/>
                      <a:pt x="3926" y="1800"/>
                    </a:cubicBezTo>
                    <a:close/>
                    <a:moveTo>
                      <a:pt x="3959" y="1800"/>
                    </a:moveTo>
                    <a:lnTo>
                      <a:pt x="3959" y="1800"/>
                    </a:lnTo>
                    <a:cubicBezTo>
                      <a:pt x="3964" y="1800"/>
                      <a:pt x="3968" y="1804"/>
                      <a:pt x="3968" y="1808"/>
                    </a:cubicBezTo>
                    <a:cubicBezTo>
                      <a:pt x="3968" y="1813"/>
                      <a:pt x="3964" y="1816"/>
                      <a:pt x="3959" y="1816"/>
                    </a:cubicBezTo>
                    <a:lnTo>
                      <a:pt x="3959" y="1816"/>
                    </a:lnTo>
                    <a:cubicBezTo>
                      <a:pt x="3955" y="1816"/>
                      <a:pt x="3951" y="1813"/>
                      <a:pt x="3951" y="1808"/>
                    </a:cubicBezTo>
                    <a:cubicBezTo>
                      <a:pt x="3951" y="1804"/>
                      <a:pt x="3955" y="1800"/>
                      <a:pt x="3959" y="1800"/>
                    </a:cubicBezTo>
                    <a:close/>
                    <a:moveTo>
                      <a:pt x="3993" y="1800"/>
                    </a:moveTo>
                    <a:lnTo>
                      <a:pt x="3993" y="1800"/>
                    </a:lnTo>
                    <a:cubicBezTo>
                      <a:pt x="3997" y="1800"/>
                      <a:pt x="4001" y="1804"/>
                      <a:pt x="4001" y="1808"/>
                    </a:cubicBezTo>
                    <a:cubicBezTo>
                      <a:pt x="4001" y="1813"/>
                      <a:pt x="3997" y="1816"/>
                      <a:pt x="3993" y="1816"/>
                    </a:cubicBezTo>
                    <a:lnTo>
                      <a:pt x="3993" y="1816"/>
                    </a:lnTo>
                    <a:cubicBezTo>
                      <a:pt x="3988" y="1816"/>
                      <a:pt x="3984" y="1813"/>
                      <a:pt x="3984" y="1808"/>
                    </a:cubicBezTo>
                    <a:cubicBezTo>
                      <a:pt x="3984" y="1804"/>
                      <a:pt x="3988" y="1800"/>
                      <a:pt x="3993" y="1800"/>
                    </a:cubicBezTo>
                    <a:close/>
                    <a:moveTo>
                      <a:pt x="4026" y="1800"/>
                    </a:moveTo>
                    <a:lnTo>
                      <a:pt x="4026" y="1800"/>
                    </a:lnTo>
                    <a:cubicBezTo>
                      <a:pt x="4031" y="1800"/>
                      <a:pt x="4034" y="1804"/>
                      <a:pt x="4034" y="1808"/>
                    </a:cubicBezTo>
                    <a:cubicBezTo>
                      <a:pt x="4034" y="1813"/>
                      <a:pt x="4031" y="1816"/>
                      <a:pt x="4026" y="1816"/>
                    </a:cubicBezTo>
                    <a:lnTo>
                      <a:pt x="4026" y="1816"/>
                    </a:lnTo>
                    <a:cubicBezTo>
                      <a:pt x="4021" y="1816"/>
                      <a:pt x="4018" y="1813"/>
                      <a:pt x="4018" y="1808"/>
                    </a:cubicBezTo>
                    <a:cubicBezTo>
                      <a:pt x="4018" y="1804"/>
                      <a:pt x="4021" y="1800"/>
                      <a:pt x="4026" y="1800"/>
                    </a:cubicBezTo>
                    <a:close/>
                    <a:moveTo>
                      <a:pt x="4059" y="1800"/>
                    </a:moveTo>
                    <a:lnTo>
                      <a:pt x="4059" y="1800"/>
                    </a:lnTo>
                    <a:cubicBezTo>
                      <a:pt x="4064" y="1800"/>
                      <a:pt x="4068" y="1804"/>
                      <a:pt x="4068" y="1808"/>
                    </a:cubicBezTo>
                    <a:cubicBezTo>
                      <a:pt x="4068" y="1813"/>
                      <a:pt x="4064" y="1816"/>
                      <a:pt x="4059" y="1816"/>
                    </a:cubicBezTo>
                    <a:lnTo>
                      <a:pt x="4059" y="1816"/>
                    </a:lnTo>
                    <a:cubicBezTo>
                      <a:pt x="4055" y="1816"/>
                      <a:pt x="4051" y="1813"/>
                      <a:pt x="4051" y="1808"/>
                    </a:cubicBezTo>
                    <a:cubicBezTo>
                      <a:pt x="4051" y="1804"/>
                      <a:pt x="4055" y="1800"/>
                      <a:pt x="4059" y="1800"/>
                    </a:cubicBezTo>
                    <a:close/>
                    <a:moveTo>
                      <a:pt x="4093" y="1800"/>
                    </a:moveTo>
                    <a:lnTo>
                      <a:pt x="4093" y="1800"/>
                    </a:lnTo>
                    <a:cubicBezTo>
                      <a:pt x="4097" y="1800"/>
                      <a:pt x="4101" y="1804"/>
                      <a:pt x="4101" y="1808"/>
                    </a:cubicBezTo>
                    <a:cubicBezTo>
                      <a:pt x="4101" y="1813"/>
                      <a:pt x="4097" y="1816"/>
                      <a:pt x="4093" y="1816"/>
                    </a:cubicBezTo>
                    <a:lnTo>
                      <a:pt x="4093" y="1816"/>
                    </a:lnTo>
                    <a:cubicBezTo>
                      <a:pt x="4088" y="1816"/>
                      <a:pt x="4084" y="1813"/>
                      <a:pt x="4084" y="1808"/>
                    </a:cubicBezTo>
                    <a:cubicBezTo>
                      <a:pt x="4084" y="1804"/>
                      <a:pt x="4088" y="1800"/>
                      <a:pt x="4093" y="1800"/>
                    </a:cubicBezTo>
                    <a:close/>
                    <a:moveTo>
                      <a:pt x="4126" y="1800"/>
                    </a:moveTo>
                    <a:lnTo>
                      <a:pt x="4126" y="1800"/>
                    </a:lnTo>
                    <a:cubicBezTo>
                      <a:pt x="4131" y="1800"/>
                      <a:pt x="4134" y="1804"/>
                      <a:pt x="4134" y="1808"/>
                    </a:cubicBezTo>
                    <a:cubicBezTo>
                      <a:pt x="4134" y="1813"/>
                      <a:pt x="4131" y="1816"/>
                      <a:pt x="4126" y="1816"/>
                    </a:cubicBezTo>
                    <a:lnTo>
                      <a:pt x="4126" y="1816"/>
                    </a:lnTo>
                    <a:cubicBezTo>
                      <a:pt x="4122" y="1816"/>
                      <a:pt x="4118" y="1813"/>
                      <a:pt x="4118" y="1808"/>
                    </a:cubicBezTo>
                    <a:cubicBezTo>
                      <a:pt x="4118" y="1804"/>
                      <a:pt x="4122" y="1800"/>
                      <a:pt x="4126" y="1800"/>
                    </a:cubicBezTo>
                    <a:close/>
                    <a:moveTo>
                      <a:pt x="4159" y="1800"/>
                    </a:moveTo>
                    <a:lnTo>
                      <a:pt x="4159" y="1800"/>
                    </a:lnTo>
                    <a:cubicBezTo>
                      <a:pt x="4164" y="1800"/>
                      <a:pt x="4168" y="1804"/>
                      <a:pt x="4168" y="1808"/>
                    </a:cubicBezTo>
                    <a:cubicBezTo>
                      <a:pt x="4168" y="1813"/>
                      <a:pt x="4164" y="1816"/>
                      <a:pt x="4159" y="1816"/>
                    </a:cubicBezTo>
                    <a:lnTo>
                      <a:pt x="4159" y="1816"/>
                    </a:lnTo>
                    <a:cubicBezTo>
                      <a:pt x="4155" y="1816"/>
                      <a:pt x="4151" y="1813"/>
                      <a:pt x="4151" y="1808"/>
                    </a:cubicBezTo>
                    <a:cubicBezTo>
                      <a:pt x="4151" y="1804"/>
                      <a:pt x="4155" y="1800"/>
                      <a:pt x="4159" y="1800"/>
                    </a:cubicBezTo>
                    <a:close/>
                    <a:moveTo>
                      <a:pt x="4193" y="1800"/>
                    </a:moveTo>
                    <a:lnTo>
                      <a:pt x="4193" y="1800"/>
                    </a:lnTo>
                    <a:cubicBezTo>
                      <a:pt x="4197" y="1800"/>
                      <a:pt x="4201" y="1804"/>
                      <a:pt x="4201" y="1808"/>
                    </a:cubicBezTo>
                    <a:cubicBezTo>
                      <a:pt x="4201" y="1813"/>
                      <a:pt x="4197" y="1816"/>
                      <a:pt x="4193" y="1816"/>
                    </a:cubicBezTo>
                    <a:lnTo>
                      <a:pt x="4193" y="1816"/>
                    </a:lnTo>
                    <a:cubicBezTo>
                      <a:pt x="4188" y="1816"/>
                      <a:pt x="4184" y="1813"/>
                      <a:pt x="4184" y="1808"/>
                    </a:cubicBezTo>
                    <a:cubicBezTo>
                      <a:pt x="4184" y="1804"/>
                      <a:pt x="4188" y="1800"/>
                      <a:pt x="4193" y="1800"/>
                    </a:cubicBezTo>
                    <a:close/>
                    <a:moveTo>
                      <a:pt x="4226" y="1800"/>
                    </a:moveTo>
                    <a:lnTo>
                      <a:pt x="4226" y="1800"/>
                    </a:lnTo>
                    <a:cubicBezTo>
                      <a:pt x="4231" y="1800"/>
                      <a:pt x="4235" y="1804"/>
                      <a:pt x="4235" y="1808"/>
                    </a:cubicBezTo>
                    <a:cubicBezTo>
                      <a:pt x="4235" y="1813"/>
                      <a:pt x="4231" y="1816"/>
                      <a:pt x="4226" y="1816"/>
                    </a:cubicBezTo>
                    <a:lnTo>
                      <a:pt x="4226" y="1816"/>
                    </a:lnTo>
                    <a:cubicBezTo>
                      <a:pt x="4222" y="1816"/>
                      <a:pt x="4218" y="1813"/>
                      <a:pt x="4218" y="1808"/>
                    </a:cubicBezTo>
                    <a:cubicBezTo>
                      <a:pt x="4218" y="1804"/>
                      <a:pt x="4222" y="1800"/>
                      <a:pt x="4226" y="1800"/>
                    </a:cubicBezTo>
                    <a:close/>
                    <a:moveTo>
                      <a:pt x="4260" y="1800"/>
                    </a:moveTo>
                    <a:lnTo>
                      <a:pt x="4260" y="1800"/>
                    </a:lnTo>
                    <a:cubicBezTo>
                      <a:pt x="4264" y="1800"/>
                      <a:pt x="4268" y="1804"/>
                      <a:pt x="4268" y="1808"/>
                    </a:cubicBezTo>
                    <a:cubicBezTo>
                      <a:pt x="4268" y="1813"/>
                      <a:pt x="4264" y="1816"/>
                      <a:pt x="4260" y="1816"/>
                    </a:cubicBezTo>
                    <a:lnTo>
                      <a:pt x="4260" y="1816"/>
                    </a:lnTo>
                    <a:cubicBezTo>
                      <a:pt x="4255" y="1816"/>
                      <a:pt x="4251" y="1813"/>
                      <a:pt x="4251" y="1808"/>
                    </a:cubicBezTo>
                    <a:cubicBezTo>
                      <a:pt x="4251" y="1804"/>
                      <a:pt x="4255" y="1800"/>
                      <a:pt x="4260" y="1800"/>
                    </a:cubicBezTo>
                    <a:close/>
                    <a:moveTo>
                      <a:pt x="4293" y="1800"/>
                    </a:moveTo>
                    <a:lnTo>
                      <a:pt x="4293" y="1800"/>
                    </a:lnTo>
                    <a:cubicBezTo>
                      <a:pt x="4297" y="1800"/>
                      <a:pt x="4301" y="1804"/>
                      <a:pt x="4301" y="1808"/>
                    </a:cubicBezTo>
                    <a:cubicBezTo>
                      <a:pt x="4301" y="1813"/>
                      <a:pt x="4297" y="1816"/>
                      <a:pt x="4293" y="1816"/>
                    </a:cubicBezTo>
                    <a:lnTo>
                      <a:pt x="4293" y="1816"/>
                    </a:lnTo>
                    <a:cubicBezTo>
                      <a:pt x="4288" y="1816"/>
                      <a:pt x="4285" y="1813"/>
                      <a:pt x="4285" y="1808"/>
                    </a:cubicBezTo>
                    <a:cubicBezTo>
                      <a:pt x="4285" y="1804"/>
                      <a:pt x="4288" y="1800"/>
                      <a:pt x="4293" y="1800"/>
                    </a:cubicBezTo>
                    <a:close/>
                    <a:moveTo>
                      <a:pt x="4326" y="1800"/>
                    </a:moveTo>
                    <a:lnTo>
                      <a:pt x="4326" y="1800"/>
                    </a:lnTo>
                    <a:cubicBezTo>
                      <a:pt x="4331" y="1800"/>
                      <a:pt x="4335" y="1804"/>
                      <a:pt x="4335" y="1808"/>
                    </a:cubicBezTo>
                    <a:cubicBezTo>
                      <a:pt x="4335" y="1813"/>
                      <a:pt x="4331" y="1816"/>
                      <a:pt x="4326" y="1816"/>
                    </a:cubicBezTo>
                    <a:lnTo>
                      <a:pt x="4326" y="1816"/>
                    </a:lnTo>
                    <a:cubicBezTo>
                      <a:pt x="4322" y="1816"/>
                      <a:pt x="4318" y="1813"/>
                      <a:pt x="4318" y="1808"/>
                    </a:cubicBezTo>
                    <a:cubicBezTo>
                      <a:pt x="4318" y="1804"/>
                      <a:pt x="4322" y="1800"/>
                      <a:pt x="4326" y="1800"/>
                    </a:cubicBezTo>
                    <a:close/>
                    <a:moveTo>
                      <a:pt x="4360" y="1800"/>
                    </a:moveTo>
                    <a:lnTo>
                      <a:pt x="4360" y="1800"/>
                    </a:lnTo>
                    <a:cubicBezTo>
                      <a:pt x="4364" y="1800"/>
                      <a:pt x="4368" y="1804"/>
                      <a:pt x="4368" y="1808"/>
                    </a:cubicBezTo>
                    <a:cubicBezTo>
                      <a:pt x="4368" y="1813"/>
                      <a:pt x="4364" y="1816"/>
                      <a:pt x="4360" y="1816"/>
                    </a:cubicBezTo>
                    <a:lnTo>
                      <a:pt x="4360" y="1816"/>
                    </a:lnTo>
                    <a:cubicBezTo>
                      <a:pt x="4355" y="1816"/>
                      <a:pt x="4351" y="1813"/>
                      <a:pt x="4351" y="1808"/>
                    </a:cubicBezTo>
                    <a:cubicBezTo>
                      <a:pt x="4351" y="1804"/>
                      <a:pt x="4355" y="1800"/>
                      <a:pt x="4360" y="1800"/>
                    </a:cubicBezTo>
                    <a:close/>
                    <a:moveTo>
                      <a:pt x="4393" y="1800"/>
                    </a:moveTo>
                    <a:lnTo>
                      <a:pt x="4393" y="1800"/>
                    </a:lnTo>
                    <a:cubicBezTo>
                      <a:pt x="4398" y="1800"/>
                      <a:pt x="4401" y="1804"/>
                      <a:pt x="4401" y="1808"/>
                    </a:cubicBezTo>
                    <a:cubicBezTo>
                      <a:pt x="4401" y="1813"/>
                      <a:pt x="4398" y="1816"/>
                      <a:pt x="4393" y="1816"/>
                    </a:cubicBezTo>
                    <a:lnTo>
                      <a:pt x="4393" y="1816"/>
                    </a:lnTo>
                    <a:cubicBezTo>
                      <a:pt x="4388" y="1816"/>
                      <a:pt x="4385" y="1813"/>
                      <a:pt x="4385" y="1808"/>
                    </a:cubicBezTo>
                    <a:cubicBezTo>
                      <a:pt x="4385" y="1804"/>
                      <a:pt x="4388" y="1800"/>
                      <a:pt x="4393" y="1800"/>
                    </a:cubicBezTo>
                    <a:close/>
                    <a:moveTo>
                      <a:pt x="4426" y="1800"/>
                    </a:moveTo>
                    <a:lnTo>
                      <a:pt x="4426" y="1800"/>
                    </a:lnTo>
                    <a:cubicBezTo>
                      <a:pt x="4431" y="1800"/>
                      <a:pt x="4435" y="1804"/>
                      <a:pt x="4435" y="1808"/>
                    </a:cubicBezTo>
                    <a:cubicBezTo>
                      <a:pt x="4435" y="1813"/>
                      <a:pt x="4431" y="1816"/>
                      <a:pt x="4426" y="1816"/>
                    </a:cubicBezTo>
                    <a:lnTo>
                      <a:pt x="4426" y="1816"/>
                    </a:lnTo>
                    <a:cubicBezTo>
                      <a:pt x="4422" y="1816"/>
                      <a:pt x="4418" y="1813"/>
                      <a:pt x="4418" y="1808"/>
                    </a:cubicBezTo>
                    <a:cubicBezTo>
                      <a:pt x="4418" y="1804"/>
                      <a:pt x="4422" y="1800"/>
                      <a:pt x="4426" y="1800"/>
                    </a:cubicBezTo>
                    <a:close/>
                    <a:moveTo>
                      <a:pt x="4460" y="1800"/>
                    </a:moveTo>
                    <a:lnTo>
                      <a:pt x="4460" y="1800"/>
                    </a:lnTo>
                    <a:cubicBezTo>
                      <a:pt x="4464" y="1800"/>
                      <a:pt x="4468" y="1804"/>
                      <a:pt x="4468" y="1808"/>
                    </a:cubicBezTo>
                    <a:cubicBezTo>
                      <a:pt x="4468" y="1813"/>
                      <a:pt x="4464" y="1816"/>
                      <a:pt x="4460" y="1816"/>
                    </a:cubicBezTo>
                    <a:lnTo>
                      <a:pt x="4460" y="1816"/>
                    </a:lnTo>
                    <a:cubicBezTo>
                      <a:pt x="4455" y="1816"/>
                      <a:pt x="4451" y="1813"/>
                      <a:pt x="4451" y="1808"/>
                    </a:cubicBezTo>
                    <a:cubicBezTo>
                      <a:pt x="4451" y="1804"/>
                      <a:pt x="4455" y="1800"/>
                      <a:pt x="4460" y="1800"/>
                    </a:cubicBezTo>
                    <a:close/>
                    <a:moveTo>
                      <a:pt x="4493" y="1800"/>
                    </a:moveTo>
                    <a:lnTo>
                      <a:pt x="4493" y="1800"/>
                    </a:lnTo>
                    <a:cubicBezTo>
                      <a:pt x="4498" y="1800"/>
                      <a:pt x="4501" y="1804"/>
                      <a:pt x="4501" y="1808"/>
                    </a:cubicBezTo>
                    <a:cubicBezTo>
                      <a:pt x="4501" y="1813"/>
                      <a:pt x="4498" y="1816"/>
                      <a:pt x="4493" y="1816"/>
                    </a:cubicBezTo>
                    <a:lnTo>
                      <a:pt x="4493" y="1816"/>
                    </a:lnTo>
                    <a:cubicBezTo>
                      <a:pt x="4488" y="1816"/>
                      <a:pt x="4485" y="1813"/>
                      <a:pt x="4485" y="1808"/>
                    </a:cubicBezTo>
                    <a:cubicBezTo>
                      <a:pt x="4485" y="1804"/>
                      <a:pt x="4488" y="1800"/>
                      <a:pt x="4493" y="1800"/>
                    </a:cubicBezTo>
                    <a:close/>
                    <a:moveTo>
                      <a:pt x="4526" y="1800"/>
                    </a:moveTo>
                    <a:lnTo>
                      <a:pt x="4526" y="1800"/>
                    </a:lnTo>
                    <a:cubicBezTo>
                      <a:pt x="4531" y="1800"/>
                      <a:pt x="4535" y="1804"/>
                      <a:pt x="4535" y="1808"/>
                    </a:cubicBezTo>
                    <a:cubicBezTo>
                      <a:pt x="4535" y="1813"/>
                      <a:pt x="4531" y="1816"/>
                      <a:pt x="4526" y="1816"/>
                    </a:cubicBezTo>
                    <a:lnTo>
                      <a:pt x="4526" y="1816"/>
                    </a:lnTo>
                    <a:cubicBezTo>
                      <a:pt x="4522" y="1816"/>
                      <a:pt x="4518" y="1813"/>
                      <a:pt x="4518" y="1808"/>
                    </a:cubicBezTo>
                    <a:cubicBezTo>
                      <a:pt x="4518" y="1804"/>
                      <a:pt x="4522" y="1800"/>
                      <a:pt x="4526" y="1800"/>
                    </a:cubicBezTo>
                    <a:close/>
                    <a:moveTo>
                      <a:pt x="4560" y="1800"/>
                    </a:moveTo>
                    <a:lnTo>
                      <a:pt x="4560" y="1800"/>
                    </a:lnTo>
                    <a:cubicBezTo>
                      <a:pt x="4564" y="1800"/>
                      <a:pt x="4568" y="1804"/>
                      <a:pt x="4568" y="1808"/>
                    </a:cubicBezTo>
                    <a:cubicBezTo>
                      <a:pt x="4568" y="1813"/>
                      <a:pt x="4564" y="1816"/>
                      <a:pt x="4560" y="1816"/>
                    </a:cubicBezTo>
                    <a:lnTo>
                      <a:pt x="4560" y="1816"/>
                    </a:lnTo>
                    <a:cubicBezTo>
                      <a:pt x="4555" y="1816"/>
                      <a:pt x="4551" y="1813"/>
                      <a:pt x="4551" y="1808"/>
                    </a:cubicBezTo>
                    <a:cubicBezTo>
                      <a:pt x="4551" y="1804"/>
                      <a:pt x="4555" y="1800"/>
                      <a:pt x="4560" y="1800"/>
                    </a:cubicBezTo>
                    <a:close/>
                    <a:moveTo>
                      <a:pt x="4593" y="1800"/>
                    </a:moveTo>
                    <a:lnTo>
                      <a:pt x="4593" y="1800"/>
                    </a:lnTo>
                    <a:cubicBezTo>
                      <a:pt x="4598" y="1800"/>
                      <a:pt x="4601" y="1804"/>
                      <a:pt x="4601" y="1808"/>
                    </a:cubicBezTo>
                    <a:cubicBezTo>
                      <a:pt x="4601" y="1813"/>
                      <a:pt x="4598" y="1816"/>
                      <a:pt x="4593" y="1816"/>
                    </a:cubicBezTo>
                    <a:lnTo>
                      <a:pt x="4593" y="1816"/>
                    </a:lnTo>
                    <a:cubicBezTo>
                      <a:pt x="4588" y="1816"/>
                      <a:pt x="4585" y="1813"/>
                      <a:pt x="4585" y="1808"/>
                    </a:cubicBezTo>
                    <a:cubicBezTo>
                      <a:pt x="4585" y="1804"/>
                      <a:pt x="4588" y="1800"/>
                      <a:pt x="4593" y="1800"/>
                    </a:cubicBezTo>
                    <a:close/>
                    <a:moveTo>
                      <a:pt x="4626" y="1800"/>
                    </a:moveTo>
                    <a:lnTo>
                      <a:pt x="4626" y="1800"/>
                    </a:lnTo>
                    <a:cubicBezTo>
                      <a:pt x="4631" y="1800"/>
                      <a:pt x="4635" y="1804"/>
                      <a:pt x="4635" y="1808"/>
                    </a:cubicBezTo>
                    <a:cubicBezTo>
                      <a:pt x="4635" y="1813"/>
                      <a:pt x="4631" y="1816"/>
                      <a:pt x="4626" y="1816"/>
                    </a:cubicBezTo>
                    <a:lnTo>
                      <a:pt x="4626" y="1816"/>
                    </a:lnTo>
                    <a:cubicBezTo>
                      <a:pt x="4622" y="1816"/>
                      <a:pt x="4618" y="1813"/>
                      <a:pt x="4618" y="1808"/>
                    </a:cubicBezTo>
                    <a:cubicBezTo>
                      <a:pt x="4618" y="1804"/>
                      <a:pt x="4622" y="1800"/>
                      <a:pt x="4626" y="1800"/>
                    </a:cubicBezTo>
                    <a:close/>
                    <a:moveTo>
                      <a:pt x="4660" y="1800"/>
                    </a:moveTo>
                    <a:lnTo>
                      <a:pt x="4660" y="1800"/>
                    </a:lnTo>
                    <a:cubicBezTo>
                      <a:pt x="4664" y="1800"/>
                      <a:pt x="4668" y="1804"/>
                      <a:pt x="4668" y="1808"/>
                    </a:cubicBezTo>
                    <a:cubicBezTo>
                      <a:pt x="4668" y="1813"/>
                      <a:pt x="4664" y="1816"/>
                      <a:pt x="4660" y="1816"/>
                    </a:cubicBezTo>
                    <a:lnTo>
                      <a:pt x="4660" y="1816"/>
                    </a:lnTo>
                    <a:cubicBezTo>
                      <a:pt x="4655" y="1816"/>
                      <a:pt x="4651" y="1813"/>
                      <a:pt x="4651" y="1808"/>
                    </a:cubicBezTo>
                    <a:cubicBezTo>
                      <a:pt x="4651" y="1804"/>
                      <a:pt x="4655" y="1800"/>
                      <a:pt x="4660" y="1800"/>
                    </a:cubicBezTo>
                    <a:close/>
                    <a:moveTo>
                      <a:pt x="4693" y="1800"/>
                    </a:moveTo>
                    <a:lnTo>
                      <a:pt x="4693" y="1800"/>
                    </a:lnTo>
                    <a:cubicBezTo>
                      <a:pt x="4698" y="1800"/>
                      <a:pt x="4701" y="1804"/>
                      <a:pt x="4701" y="1808"/>
                    </a:cubicBezTo>
                    <a:cubicBezTo>
                      <a:pt x="4701" y="1813"/>
                      <a:pt x="4698" y="1816"/>
                      <a:pt x="4693" y="1816"/>
                    </a:cubicBezTo>
                    <a:lnTo>
                      <a:pt x="4693" y="1816"/>
                    </a:lnTo>
                    <a:cubicBezTo>
                      <a:pt x="4688" y="1816"/>
                      <a:pt x="4685" y="1813"/>
                      <a:pt x="4685" y="1808"/>
                    </a:cubicBezTo>
                    <a:cubicBezTo>
                      <a:pt x="4685" y="1804"/>
                      <a:pt x="4688" y="1800"/>
                      <a:pt x="4693" y="1800"/>
                    </a:cubicBezTo>
                    <a:close/>
                    <a:moveTo>
                      <a:pt x="4726" y="1800"/>
                    </a:moveTo>
                    <a:lnTo>
                      <a:pt x="4726" y="1800"/>
                    </a:lnTo>
                    <a:cubicBezTo>
                      <a:pt x="4731" y="1800"/>
                      <a:pt x="4735" y="1804"/>
                      <a:pt x="4735" y="1808"/>
                    </a:cubicBezTo>
                    <a:cubicBezTo>
                      <a:pt x="4735" y="1813"/>
                      <a:pt x="4731" y="1816"/>
                      <a:pt x="4726" y="1816"/>
                    </a:cubicBezTo>
                    <a:lnTo>
                      <a:pt x="4726" y="1816"/>
                    </a:lnTo>
                    <a:cubicBezTo>
                      <a:pt x="4722" y="1816"/>
                      <a:pt x="4718" y="1813"/>
                      <a:pt x="4718" y="1808"/>
                    </a:cubicBezTo>
                    <a:cubicBezTo>
                      <a:pt x="4718" y="1804"/>
                      <a:pt x="4722" y="1800"/>
                      <a:pt x="4726" y="1800"/>
                    </a:cubicBezTo>
                    <a:close/>
                    <a:moveTo>
                      <a:pt x="4760" y="1800"/>
                    </a:moveTo>
                    <a:lnTo>
                      <a:pt x="4760" y="1800"/>
                    </a:lnTo>
                    <a:cubicBezTo>
                      <a:pt x="4764" y="1800"/>
                      <a:pt x="4768" y="1804"/>
                      <a:pt x="4768" y="1808"/>
                    </a:cubicBezTo>
                    <a:cubicBezTo>
                      <a:pt x="4768" y="1813"/>
                      <a:pt x="4764" y="1816"/>
                      <a:pt x="4760" y="1816"/>
                    </a:cubicBezTo>
                    <a:lnTo>
                      <a:pt x="4760" y="1816"/>
                    </a:lnTo>
                    <a:cubicBezTo>
                      <a:pt x="4755" y="1816"/>
                      <a:pt x="4751" y="1813"/>
                      <a:pt x="4751" y="1808"/>
                    </a:cubicBezTo>
                    <a:cubicBezTo>
                      <a:pt x="4751" y="1804"/>
                      <a:pt x="4755" y="1800"/>
                      <a:pt x="4760" y="1800"/>
                    </a:cubicBezTo>
                    <a:close/>
                    <a:moveTo>
                      <a:pt x="4793" y="1800"/>
                    </a:moveTo>
                    <a:lnTo>
                      <a:pt x="4793" y="1800"/>
                    </a:lnTo>
                    <a:cubicBezTo>
                      <a:pt x="4798" y="1800"/>
                      <a:pt x="4801" y="1804"/>
                      <a:pt x="4801" y="1808"/>
                    </a:cubicBezTo>
                    <a:cubicBezTo>
                      <a:pt x="4801" y="1813"/>
                      <a:pt x="4798" y="1816"/>
                      <a:pt x="4793" y="1816"/>
                    </a:cubicBezTo>
                    <a:lnTo>
                      <a:pt x="4793" y="1816"/>
                    </a:lnTo>
                    <a:cubicBezTo>
                      <a:pt x="4789" y="1816"/>
                      <a:pt x="4785" y="1813"/>
                      <a:pt x="4785" y="1808"/>
                    </a:cubicBezTo>
                    <a:cubicBezTo>
                      <a:pt x="4785" y="1804"/>
                      <a:pt x="4789" y="1800"/>
                      <a:pt x="4793" y="1800"/>
                    </a:cubicBezTo>
                    <a:close/>
                    <a:moveTo>
                      <a:pt x="4826" y="1800"/>
                    </a:moveTo>
                    <a:lnTo>
                      <a:pt x="4826" y="1800"/>
                    </a:lnTo>
                    <a:cubicBezTo>
                      <a:pt x="4831" y="1800"/>
                      <a:pt x="4835" y="1804"/>
                      <a:pt x="4835" y="1808"/>
                    </a:cubicBezTo>
                    <a:cubicBezTo>
                      <a:pt x="4835" y="1813"/>
                      <a:pt x="4831" y="1816"/>
                      <a:pt x="4826" y="1816"/>
                    </a:cubicBezTo>
                    <a:lnTo>
                      <a:pt x="4826" y="1816"/>
                    </a:lnTo>
                    <a:cubicBezTo>
                      <a:pt x="4822" y="1816"/>
                      <a:pt x="4818" y="1813"/>
                      <a:pt x="4818" y="1808"/>
                    </a:cubicBezTo>
                    <a:cubicBezTo>
                      <a:pt x="4818" y="1804"/>
                      <a:pt x="4822" y="1800"/>
                      <a:pt x="4826" y="1800"/>
                    </a:cubicBezTo>
                    <a:close/>
                    <a:moveTo>
                      <a:pt x="4860" y="1800"/>
                    </a:moveTo>
                    <a:lnTo>
                      <a:pt x="4860" y="1800"/>
                    </a:lnTo>
                    <a:cubicBezTo>
                      <a:pt x="4864" y="1800"/>
                      <a:pt x="4868" y="1804"/>
                      <a:pt x="4868" y="1808"/>
                    </a:cubicBezTo>
                    <a:cubicBezTo>
                      <a:pt x="4868" y="1813"/>
                      <a:pt x="4864" y="1816"/>
                      <a:pt x="4860" y="1816"/>
                    </a:cubicBezTo>
                    <a:lnTo>
                      <a:pt x="4860" y="1816"/>
                    </a:lnTo>
                    <a:cubicBezTo>
                      <a:pt x="4855" y="1816"/>
                      <a:pt x="4851" y="1813"/>
                      <a:pt x="4851" y="1808"/>
                    </a:cubicBezTo>
                    <a:cubicBezTo>
                      <a:pt x="4851" y="1804"/>
                      <a:pt x="4855" y="1800"/>
                      <a:pt x="4860" y="1800"/>
                    </a:cubicBezTo>
                    <a:close/>
                    <a:moveTo>
                      <a:pt x="4893" y="1800"/>
                    </a:moveTo>
                    <a:lnTo>
                      <a:pt x="4893" y="1800"/>
                    </a:lnTo>
                    <a:cubicBezTo>
                      <a:pt x="4898" y="1800"/>
                      <a:pt x="4902" y="1804"/>
                      <a:pt x="4902" y="1808"/>
                    </a:cubicBezTo>
                    <a:cubicBezTo>
                      <a:pt x="4902" y="1813"/>
                      <a:pt x="4898" y="1816"/>
                      <a:pt x="4893" y="1816"/>
                    </a:cubicBezTo>
                    <a:lnTo>
                      <a:pt x="4893" y="1816"/>
                    </a:lnTo>
                    <a:cubicBezTo>
                      <a:pt x="4889" y="1816"/>
                      <a:pt x="4885" y="1813"/>
                      <a:pt x="4885" y="1808"/>
                    </a:cubicBezTo>
                    <a:cubicBezTo>
                      <a:pt x="4885" y="1804"/>
                      <a:pt x="4889" y="1800"/>
                      <a:pt x="4893" y="1800"/>
                    </a:cubicBezTo>
                    <a:close/>
                    <a:moveTo>
                      <a:pt x="4927" y="1800"/>
                    </a:moveTo>
                    <a:lnTo>
                      <a:pt x="4927" y="1800"/>
                    </a:lnTo>
                    <a:cubicBezTo>
                      <a:pt x="4931" y="1800"/>
                      <a:pt x="4935" y="1804"/>
                      <a:pt x="4935" y="1808"/>
                    </a:cubicBezTo>
                    <a:cubicBezTo>
                      <a:pt x="4935" y="1813"/>
                      <a:pt x="4931" y="1816"/>
                      <a:pt x="4927" y="1816"/>
                    </a:cubicBezTo>
                    <a:lnTo>
                      <a:pt x="4927" y="1816"/>
                    </a:lnTo>
                    <a:cubicBezTo>
                      <a:pt x="4922" y="1816"/>
                      <a:pt x="4918" y="1813"/>
                      <a:pt x="4918" y="1808"/>
                    </a:cubicBezTo>
                    <a:cubicBezTo>
                      <a:pt x="4918" y="1804"/>
                      <a:pt x="4922" y="1800"/>
                      <a:pt x="4927" y="1800"/>
                    </a:cubicBezTo>
                    <a:close/>
                    <a:moveTo>
                      <a:pt x="4960" y="1800"/>
                    </a:moveTo>
                    <a:lnTo>
                      <a:pt x="4960" y="1800"/>
                    </a:lnTo>
                    <a:cubicBezTo>
                      <a:pt x="4964" y="1800"/>
                      <a:pt x="4968" y="1804"/>
                      <a:pt x="4968" y="1808"/>
                    </a:cubicBezTo>
                    <a:cubicBezTo>
                      <a:pt x="4968" y="1813"/>
                      <a:pt x="4964" y="1816"/>
                      <a:pt x="4960" y="1816"/>
                    </a:cubicBezTo>
                    <a:lnTo>
                      <a:pt x="4960" y="1816"/>
                    </a:lnTo>
                    <a:cubicBezTo>
                      <a:pt x="4955" y="1816"/>
                      <a:pt x="4952" y="1813"/>
                      <a:pt x="4952" y="1808"/>
                    </a:cubicBezTo>
                    <a:cubicBezTo>
                      <a:pt x="4952" y="1804"/>
                      <a:pt x="4955" y="1800"/>
                      <a:pt x="4960" y="1800"/>
                    </a:cubicBezTo>
                    <a:close/>
                    <a:moveTo>
                      <a:pt x="4993" y="1800"/>
                    </a:moveTo>
                    <a:lnTo>
                      <a:pt x="4993" y="1800"/>
                    </a:lnTo>
                    <a:cubicBezTo>
                      <a:pt x="4998" y="1800"/>
                      <a:pt x="5002" y="1804"/>
                      <a:pt x="5002" y="1808"/>
                    </a:cubicBezTo>
                    <a:cubicBezTo>
                      <a:pt x="5002" y="1813"/>
                      <a:pt x="4998" y="1816"/>
                      <a:pt x="4993" y="1816"/>
                    </a:cubicBezTo>
                    <a:lnTo>
                      <a:pt x="4993" y="1816"/>
                    </a:lnTo>
                    <a:cubicBezTo>
                      <a:pt x="4989" y="1816"/>
                      <a:pt x="4985" y="1813"/>
                      <a:pt x="4985" y="1808"/>
                    </a:cubicBezTo>
                    <a:cubicBezTo>
                      <a:pt x="4985" y="1804"/>
                      <a:pt x="4989" y="1800"/>
                      <a:pt x="4993" y="1800"/>
                    </a:cubicBezTo>
                    <a:close/>
                    <a:moveTo>
                      <a:pt x="5027" y="1800"/>
                    </a:moveTo>
                    <a:lnTo>
                      <a:pt x="5027" y="1800"/>
                    </a:lnTo>
                    <a:cubicBezTo>
                      <a:pt x="5031" y="1800"/>
                      <a:pt x="5035" y="1804"/>
                      <a:pt x="5035" y="1808"/>
                    </a:cubicBezTo>
                    <a:cubicBezTo>
                      <a:pt x="5035" y="1813"/>
                      <a:pt x="5031" y="1816"/>
                      <a:pt x="5027" y="1816"/>
                    </a:cubicBezTo>
                    <a:lnTo>
                      <a:pt x="5027" y="1816"/>
                    </a:lnTo>
                    <a:cubicBezTo>
                      <a:pt x="5022" y="1816"/>
                      <a:pt x="5018" y="1813"/>
                      <a:pt x="5018" y="1808"/>
                    </a:cubicBezTo>
                    <a:cubicBezTo>
                      <a:pt x="5018" y="1804"/>
                      <a:pt x="5022" y="1800"/>
                      <a:pt x="5027" y="1800"/>
                    </a:cubicBezTo>
                    <a:close/>
                    <a:moveTo>
                      <a:pt x="5060" y="1800"/>
                    </a:moveTo>
                    <a:lnTo>
                      <a:pt x="5060" y="1800"/>
                    </a:lnTo>
                    <a:cubicBezTo>
                      <a:pt x="5065" y="1800"/>
                      <a:pt x="5068" y="1804"/>
                      <a:pt x="5068" y="1808"/>
                    </a:cubicBezTo>
                    <a:cubicBezTo>
                      <a:pt x="5068" y="1813"/>
                      <a:pt x="5065" y="1816"/>
                      <a:pt x="5060" y="1816"/>
                    </a:cubicBezTo>
                    <a:lnTo>
                      <a:pt x="5060" y="1816"/>
                    </a:lnTo>
                    <a:cubicBezTo>
                      <a:pt x="5055" y="1816"/>
                      <a:pt x="5052" y="1813"/>
                      <a:pt x="5052" y="1808"/>
                    </a:cubicBezTo>
                    <a:cubicBezTo>
                      <a:pt x="5052" y="1804"/>
                      <a:pt x="5055" y="1800"/>
                      <a:pt x="5060" y="1800"/>
                    </a:cubicBezTo>
                    <a:close/>
                    <a:moveTo>
                      <a:pt x="5093" y="1800"/>
                    </a:moveTo>
                    <a:lnTo>
                      <a:pt x="5093" y="1800"/>
                    </a:lnTo>
                    <a:cubicBezTo>
                      <a:pt x="5098" y="1800"/>
                      <a:pt x="5102" y="1804"/>
                      <a:pt x="5102" y="1808"/>
                    </a:cubicBezTo>
                    <a:cubicBezTo>
                      <a:pt x="5102" y="1813"/>
                      <a:pt x="5098" y="1816"/>
                      <a:pt x="5093" y="1816"/>
                    </a:cubicBezTo>
                    <a:lnTo>
                      <a:pt x="5093" y="1816"/>
                    </a:lnTo>
                    <a:cubicBezTo>
                      <a:pt x="5089" y="1816"/>
                      <a:pt x="5085" y="1813"/>
                      <a:pt x="5085" y="1808"/>
                    </a:cubicBezTo>
                    <a:cubicBezTo>
                      <a:pt x="5085" y="1804"/>
                      <a:pt x="5089" y="1800"/>
                      <a:pt x="5093" y="1800"/>
                    </a:cubicBezTo>
                    <a:close/>
                    <a:moveTo>
                      <a:pt x="5127" y="1800"/>
                    </a:moveTo>
                    <a:lnTo>
                      <a:pt x="5127" y="1800"/>
                    </a:lnTo>
                    <a:cubicBezTo>
                      <a:pt x="5131" y="1800"/>
                      <a:pt x="5135" y="1804"/>
                      <a:pt x="5135" y="1808"/>
                    </a:cubicBezTo>
                    <a:cubicBezTo>
                      <a:pt x="5135" y="1813"/>
                      <a:pt x="5131" y="1816"/>
                      <a:pt x="5127" y="1816"/>
                    </a:cubicBezTo>
                    <a:lnTo>
                      <a:pt x="5127" y="1816"/>
                    </a:lnTo>
                    <a:cubicBezTo>
                      <a:pt x="5122" y="1816"/>
                      <a:pt x="5118" y="1813"/>
                      <a:pt x="5118" y="1808"/>
                    </a:cubicBezTo>
                    <a:cubicBezTo>
                      <a:pt x="5118" y="1804"/>
                      <a:pt x="5122" y="1800"/>
                      <a:pt x="5127" y="1800"/>
                    </a:cubicBezTo>
                    <a:close/>
                    <a:moveTo>
                      <a:pt x="5160" y="1800"/>
                    </a:moveTo>
                    <a:lnTo>
                      <a:pt x="5160" y="1800"/>
                    </a:lnTo>
                    <a:cubicBezTo>
                      <a:pt x="5165" y="1800"/>
                      <a:pt x="5168" y="1804"/>
                      <a:pt x="5168" y="1808"/>
                    </a:cubicBezTo>
                    <a:cubicBezTo>
                      <a:pt x="5168" y="1813"/>
                      <a:pt x="5165" y="1816"/>
                      <a:pt x="5160" y="1816"/>
                    </a:cubicBezTo>
                    <a:lnTo>
                      <a:pt x="5160" y="1816"/>
                    </a:lnTo>
                    <a:cubicBezTo>
                      <a:pt x="5155" y="1816"/>
                      <a:pt x="5152" y="1813"/>
                      <a:pt x="5152" y="1808"/>
                    </a:cubicBezTo>
                    <a:cubicBezTo>
                      <a:pt x="5152" y="1804"/>
                      <a:pt x="5155" y="1800"/>
                      <a:pt x="5160" y="1800"/>
                    </a:cubicBezTo>
                    <a:close/>
                    <a:moveTo>
                      <a:pt x="5193" y="1800"/>
                    </a:moveTo>
                    <a:lnTo>
                      <a:pt x="5193" y="1800"/>
                    </a:lnTo>
                    <a:cubicBezTo>
                      <a:pt x="5198" y="1800"/>
                      <a:pt x="5202" y="1804"/>
                      <a:pt x="5202" y="1808"/>
                    </a:cubicBezTo>
                    <a:cubicBezTo>
                      <a:pt x="5202" y="1813"/>
                      <a:pt x="5198" y="1816"/>
                      <a:pt x="5193" y="1816"/>
                    </a:cubicBezTo>
                    <a:lnTo>
                      <a:pt x="5193" y="1816"/>
                    </a:lnTo>
                    <a:cubicBezTo>
                      <a:pt x="5189" y="1816"/>
                      <a:pt x="5185" y="1813"/>
                      <a:pt x="5185" y="1808"/>
                    </a:cubicBezTo>
                    <a:cubicBezTo>
                      <a:pt x="5185" y="1804"/>
                      <a:pt x="5189" y="1800"/>
                      <a:pt x="5193" y="1800"/>
                    </a:cubicBezTo>
                    <a:close/>
                    <a:moveTo>
                      <a:pt x="5227" y="1800"/>
                    </a:moveTo>
                    <a:lnTo>
                      <a:pt x="5227" y="1800"/>
                    </a:lnTo>
                    <a:cubicBezTo>
                      <a:pt x="5231" y="1800"/>
                      <a:pt x="5235" y="1804"/>
                      <a:pt x="5235" y="1808"/>
                    </a:cubicBezTo>
                    <a:cubicBezTo>
                      <a:pt x="5235" y="1813"/>
                      <a:pt x="5231" y="1816"/>
                      <a:pt x="5227" y="1816"/>
                    </a:cubicBezTo>
                    <a:lnTo>
                      <a:pt x="5227" y="1816"/>
                    </a:lnTo>
                    <a:cubicBezTo>
                      <a:pt x="5222" y="1816"/>
                      <a:pt x="5218" y="1813"/>
                      <a:pt x="5218" y="1808"/>
                    </a:cubicBezTo>
                    <a:cubicBezTo>
                      <a:pt x="5218" y="1804"/>
                      <a:pt x="5222" y="1800"/>
                      <a:pt x="5227" y="1800"/>
                    </a:cubicBezTo>
                    <a:close/>
                    <a:moveTo>
                      <a:pt x="5260" y="1800"/>
                    </a:moveTo>
                    <a:lnTo>
                      <a:pt x="5260" y="1800"/>
                    </a:lnTo>
                    <a:cubicBezTo>
                      <a:pt x="5265" y="1800"/>
                      <a:pt x="5268" y="1804"/>
                      <a:pt x="5268" y="1808"/>
                    </a:cubicBezTo>
                    <a:cubicBezTo>
                      <a:pt x="5268" y="1813"/>
                      <a:pt x="5265" y="1816"/>
                      <a:pt x="5260" y="1816"/>
                    </a:cubicBezTo>
                    <a:lnTo>
                      <a:pt x="5260" y="1816"/>
                    </a:lnTo>
                    <a:cubicBezTo>
                      <a:pt x="5255" y="1816"/>
                      <a:pt x="5252" y="1813"/>
                      <a:pt x="5252" y="1808"/>
                    </a:cubicBezTo>
                    <a:cubicBezTo>
                      <a:pt x="5252" y="1804"/>
                      <a:pt x="5255" y="1800"/>
                      <a:pt x="5260" y="1800"/>
                    </a:cubicBezTo>
                    <a:close/>
                    <a:moveTo>
                      <a:pt x="5293" y="1800"/>
                    </a:moveTo>
                    <a:lnTo>
                      <a:pt x="5293" y="1800"/>
                    </a:lnTo>
                    <a:cubicBezTo>
                      <a:pt x="5298" y="1800"/>
                      <a:pt x="5302" y="1804"/>
                      <a:pt x="5302" y="1808"/>
                    </a:cubicBezTo>
                    <a:cubicBezTo>
                      <a:pt x="5302" y="1813"/>
                      <a:pt x="5298" y="1816"/>
                      <a:pt x="5293" y="1816"/>
                    </a:cubicBezTo>
                    <a:lnTo>
                      <a:pt x="5293" y="1816"/>
                    </a:lnTo>
                    <a:cubicBezTo>
                      <a:pt x="5289" y="1816"/>
                      <a:pt x="5285" y="1813"/>
                      <a:pt x="5285" y="1808"/>
                    </a:cubicBezTo>
                    <a:cubicBezTo>
                      <a:pt x="5285" y="1804"/>
                      <a:pt x="5289" y="1800"/>
                      <a:pt x="5293" y="1800"/>
                    </a:cubicBezTo>
                    <a:close/>
                    <a:moveTo>
                      <a:pt x="5327" y="1800"/>
                    </a:moveTo>
                    <a:lnTo>
                      <a:pt x="5327" y="1800"/>
                    </a:lnTo>
                    <a:cubicBezTo>
                      <a:pt x="5331" y="1800"/>
                      <a:pt x="5335" y="1804"/>
                      <a:pt x="5335" y="1808"/>
                    </a:cubicBezTo>
                    <a:cubicBezTo>
                      <a:pt x="5335" y="1813"/>
                      <a:pt x="5331" y="1816"/>
                      <a:pt x="5327" y="1816"/>
                    </a:cubicBezTo>
                    <a:lnTo>
                      <a:pt x="5327" y="1816"/>
                    </a:lnTo>
                    <a:cubicBezTo>
                      <a:pt x="5322" y="1816"/>
                      <a:pt x="5318" y="1813"/>
                      <a:pt x="5318" y="1808"/>
                    </a:cubicBezTo>
                    <a:cubicBezTo>
                      <a:pt x="5318" y="1804"/>
                      <a:pt x="5322" y="1800"/>
                      <a:pt x="5327" y="1800"/>
                    </a:cubicBezTo>
                    <a:close/>
                    <a:moveTo>
                      <a:pt x="5360" y="1800"/>
                    </a:moveTo>
                    <a:lnTo>
                      <a:pt x="5360" y="1800"/>
                    </a:lnTo>
                    <a:cubicBezTo>
                      <a:pt x="5365" y="1800"/>
                      <a:pt x="5368" y="1804"/>
                      <a:pt x="5368" y="1808"/>
                    </a:cubicBezTo>
                    <a:cubicBezTo>
                      <a:pt x="5368" y="1813"/>
                      <a:pt x="5365" y="1816"/>
                      <a:pt x="5360" y="1816"/>
                    </a:cubicBezTo>
                    <a:lnTo>
                      <a:pt x="5360" y="1816"/>
                    </a:lnTo>
                    <a:cubicBezTo>
                      <a:pt x="5355" y="1816"/>
                      <a:pt x="5352" y="1813"/>
                      <a:pt x="5352" y="1808"/>
                    </a:cubicBezTo>
                    <a:cubicBezTo>
                      <a:pt x="5352" y="1804"/>
                      <a:pt x="5355" y="1800"/>
                      <a:pt x="5360" y="1800"/>
                    </a:cubicBezTo>
                    <a:close/>
                    <a:moveTo>
                      <a:pt x="5393" y="1800"/>
                    </a:moveTo>
                    <a:lnTo>
                      <a:pt x="5393" y="1800"/>
                    </a:lnTo>
                    <a:cubicBezTo>
                      <a:pt x="5398" y="1800"/>
                      <a:pt x="5402" y="1804"/>
                      <a:pt x="5402" y="1808"/>
                    </a:cubicBezTo>
                    <a:cubicBezTo>
                      <a:pt x="5402" y="1813"/>
                      <a:pt x="5398" y="1816"/>
                      <a:pt x="5393" y="1816"/>
                    </a:cubicBezTo>
                    <a:lnTo>
                      <a:pt x="5393" y="1816"/>
                    </a:lnTo>
                    <a:cubicBezTo>
                      <a:pt x="5389" y="1816"/>
                      <a:pt x="5385" y="1813"/>
                      <a:pt x="5385" y="1808"/>
                    </a:cubicBezTo>
                    <a:cubicBezTo>
                      <a:pt x="5385" y="1804"/>
                      <a:pt x="5389" y="1800"/>
                      <a:pt x="5393" y="1800"/>
                    </a:cubicBezTo>
                    <a:close/>
                    <a:moveTo>
                      <a:pt x="5427" y="1800"/>
                    </a:moveTo>
                    <a:lnTo>
                      <a:pt x="5427" y="1800"/>
                    </a:lnTo>
                    <a:cubicBezTo>
                      <a:pt x="5431" y="1800"/>
                      <a:pt x="5435" y="1804"/>
                      <a:pt x="5435" y="1808"/>
                    </a:cubicBezTo>
                    <a:cubicBezTo>
                      <a:pt x="5435" y="1813"/>
                      <a:pt x="5431" y="1816"/>
                      <a:pt x="5427" y="1816"/>
                    </a:cubicBezTo>
                    <a:lnTo>
                      <a:pt x="5427" y="1816"/>
                    </a:lnTo>
                    <a:cubicBezTo>
                      <a:pt x="5422" y="1816"/>
                      <a:pt x="5418" y="1813"/>
                      <a:pt x="5418" y="1808"/>
                    </a:cubicBezTo>
                    <a:cubicBezTo>
                      <a:pt x="5418" y="1804"/>
                      <a:pt x="5422" y="1800"/>
                      <a:pt x="5427" y="1800"/>
                    </a:cubicBezTo>
                    <a:close/>
                    <a:moveTo>
                      <a:pt x="5460" y="1800"/>
                    </a:moveTo>
                    <a:lnTo>
                      <a:pt x="5460" y="1800"/>
                    </a:lnTo>
                    <a:cubicBezTo>
                      <a:pt x="5465" y="1800"/>
                      <a:pt x="5468" y="1804"/>
                      <a:pt x="5468" y="1808"/>
                    </a:cubicBezTo>
                    <a:cubicBezTo>
                      <a:pt x="5468" y="1813"/>
                      <a:pt x="5465" y="1816"/>
                      <a:pt x="5460" y="1816"/>
                    </a:cubicBezTo>
                    <a:lnTo>
                      <a:pt x="5460" y="1816"/>
                    </a:lnTo>
                    <a:cubicBezTo>
                      <a:pt x="5456" y="1816"/>
                      <a:pt x="5452" y="1813"/>
                      <a:pt x="5452" y="1808"/>
                    </a:cubicBezTo>
                    <a:cubicBezTo>
                      <a:pt x="5452" y="1804"/>
                      <a:pt x="5456" y="1800"/>
                      <a:pt x="5460" y="1800"/>
                    </a:cubicBezTo>
                    <a:close/>
                    <a:moveTo>
                      <a:pt x="5493" y="1800"/>
                    </a:moveTo>
                    <a:lnTo>
                      <a:pt x="5493" y="1800"/>
                    </a:lnTo>
                    <a:cubicBezTo>
                      <a:pt x="5498" y="1800"/>
                      <a:pt x="5502" y="1804"/>
                      <a:pt x="5502" y="1808"/>
                    </a:cubicBezTo>
                    <a:cubicBezTo>
                      <a:pt x="5502" y="1813"/>
                      <a:pt x="5498" y="1816"/>
                      <a:pt x="5493" y="1816"/>
                    </a:cubicBezTo>
                    <a:lnTo>
                      <a:pt x="5493" y="1816"/>
                    </a:lnTo>
                    <a:cubicBezTo>
                      <a:pt x="5489" y="1816"/>
                      <a:pt x="5485" y="1813"/>
                      <a:pt x="5485" y="1808"/>
                    </a:cubicBezTo>
                    <a:cubicBezTo>
                      <a:pt x="5485" y="1804"/>
                      <a:pt x="5489" y="1800"/>
                      <a:pt x="5493" y="1800"/>
                    </a:cubicBezTo>
                    <a:close/>
                    <a:moveTo>
                      <a:pt x="5527" y="1800"/>
                    </a:moveTo>
                    <a:lnTo>
                      <a:pt x="5527" y="1800"/>
                    </a:lnTo>
                    <a:cubicBezTo>
                      <a:pt x="5531" y="1800"/>
                      <a:pt x="5535" y="1804"/>
                      <a:pt x="5535" y="1808"/>
                    </a:cubicBezTo>
                    <a:cubicBezTo>
                      <a:pt x="5535" y="1813"/>
                      <a:pt x="5531" y="1816"/>
                      <a:pt x="5527" y="1816"/>
                    </a:cubicBezTo>
                    <a:lnTo>
                      <a:pt x="5527" y="1816"/>
                    </a:lnTo>
                    <a:cubicBezTo>
                      <a:pt x="5522" y="1816"/>
                      <a:pt x="5518" y="1813"/>
                      <a:pt x="5518" y="1808"/>
                    </a:cubicBezTo>
                    <a:cubicBezTo>
                      <a:pt x="5518" y="1804"/>
                      <a:pt x="5522" y="1800"/>
                      <a:pt x="5527" y="1800"/>
                    </a:cubicBezTo>
                    <a:close/>
                    <a:moveTo>
                      <a:pt x="5560" y="1800"/>
                    </a:moveTo>
                    <a:lnTo>
                      <a:pt x="5560" y="1800"/>
                    </a:lnTo>
                    <a:cubicBezTo>
                      <a:pt x="5565" y="1800"/>
                      <a:pt x="5569" y="1804"/>
                      <a:pt x="5569" y="1808"/>
                    </a:cubicBezTo>
                    <a:cubicBezTo>
                      <a:pt x="5569" y="1813"/>
                      <a:pt x="5565" y="1816"/>
                      <a:pt x="5560" y="1816"/>
                    </a:cubicBezTo>
                    <a:lnTo>
                      <a:pt x="5560" y="1816"/>
                    </a:lnTo>
                    <a:cubicBezTo>
                      <a:pt x="5556" y="1816"/>
                      <a:pt x="5552" y="1813"/>
                      <a:pt x="5552" y="1808"/>
                    </a:cubicBezTo>
                    <a:cubicBezTo>
                      <a:pt x="5552" y="1804"/>
                      <a:pt x="5556" y="1800"/>
                      <a:pt x="5560" y="1800"/>
                    </a:cubicBezTo>
                    <a:close/>
                    <a:moveTo>
                      <a:pt x="5594" y="1800"/>
                    </a:moveTo>
                    <a:lnTo>
                      <a:pt x="5594" y="1800"/>
                    </a:lnTo>
                    <a:cubicBezTo>
                      <a:pt x="5598" y="1800"/>
                      <a:pt x="5602" y="1804"/>
                      <a:pt x="5602" y="1808"/>
                    </a:cubicBezTo>
                    <a:cubicBezTo>
                      <a:pt x="5602" y="1813"/>
                      <a:pt x="5598" y="1816"/>
                      <a:pt x="5594" y="1816"/>
                    </a:cubicBezTo>
                    <a:lnTo>
                      <a:pt x="5594" y="1816"/>
                    </a:lnTo>
                    <a:cubicBezTo>
                      <a:pt x="5589" y="1816"/>
                      <a:pt x="5585" y="1813"/>
                      <a:pt x="5585" y="1808"/>
                    </a:cubicBezTo>
                    <a:cubicBezTo>
                      <a:pt x="5585" y="1804"/>
                      <a:pt x="5589" y="1800"/>
                      <a:pt x="5594" y="1800"/>
                    </a:cubicBezTo>
                    <a:close/>
                    <a:moveTo>
                      <a:pt x="5627" y="1800"/>
                    </a:moveTo>
                    <a:lnTo>
                      <a:pt x="5627" y="1800"/>
                    </a:lnTo>
                    <a:cubicBezTo>
                      <a:pt x="5631" y="1800"/>
                      <a:pt x="5635" y="1804"/>
                      <a:pt x="5635" y="1808"/>
                    </a:cubicBezTo>
                    <a:cubicBezTo>
                      <a:pt x="5635" y="1813"/>
                      <a:pt x="5631" y="1816"/>
                      <a:pt x="5627" y="1816"/>
                    </a:cubicBezTo>
                    <a:lnTo>
                      <a:pt x="5627" y="1816"/>
                    </a:lnTo>
                    <a:cubicBezTo>
                      <a:pt x="5622" y="1816"/>
                      <a:pt x="5619" y="1813"/>
                      <a:pt x="5619" y="1808"/>
                    </a:cubicBezTo>
                    <a:cubicBezTo>
                      <a:pt x="5619" y="1804"/>
                      <a:pt x="5622" y="1800"/>
                      <a:pt x="5627" y="1800"/>
                    </a:cubicBezTo>
                    <a:close/>
                    <a:moveTo>
                      <a:pt x="5660" y="1800"/>
                    </a:moveTo>
                    <a:lnTo>
                      <a:pt x="5660" y="1800"/>
                    </a:lnTo>
                    <a:cubicBezTo>
                      <a:pt x="5665" y="1800"/>
                      <a:pt x="5669" y="1804"/>
                      <a:pt x="5669" y="1808"/>
                    </a:cubicBezTo>
                    <a:cubicBezTo>
                      <a:pt x="5669" y="1813"/>
                      <a:pt x="5665" y="1816"/>
                      <a:pt x="5660" y="1816"/>
                    </a:cubicBezTo>
                    <a:lnTo>
                      <a:pt x="5660" y="1816"/>
                    </a:lnTo>
                    <a:cubicBezTo>
                      <a:pt x="5656" y="1816"/>
                      <a:pt x="5652" y="1813"/>
                      <a:pt x="5652" y="1808"/>
                    </a:cubicBezTo>
                    <a:cubicBezTo>
                      <a:pt x="5652" y="1804"/>
                      <a:pt x="5656" y="1800"/>
                      <a:pt x="5660" y="1800"/>
                    </a:cubicBezTo>
                    <a:close/>
                    <a:moveTo>
                      <a:pt x="5694" y="1800"/>
                    </a:moveTo>
                    <a:lnTo>
                      <a:pt x="5694" y="1800"/>
                    </a:lnTo>
                    <a:cubicBezTo>
                      <a:pt x="5698" y="1800"/>
                      <a:pt x="5702" y="1804"/>
                      <a:pt x="5702" y="1808"/>
                    </a:cubicBezTo>
                    <a:cubicBezTo>
                      <a:pt x="5702" y="1813"/>
                      <a:pt x="5698" y="1816"/>
                      <a:pt x="5694" y="1816"/>
                    </a:cubicBezTo>
                    <a:lnTo>
                      <a:pt x="5694" y="1816"/>
                    </a:lnTo>
                    <a:cubicBezTo>
                      <a:pt x="5689" y="1816"/>
                      <a:pt x="5685" y="1813"/>
                      <a:pt x="5685" y="1808"/>
                    </a:cubicBezTo>
                    <a:cubicBezTo>
                      <a:pt x="5685" y="1804"/>
                      <a:pt x="5689" y="1800"/>
                      <a:pt x="5694" y="1800"/>
                    </a:cubicBezTo>
                    <a:close/>
                    <a:moveTo>
                      <a:pt x="5727" y="1800"/>
                    </a:moveTo>
                    <a:lnTo>
                      <a:pt x="5727" y="1800"/>
                    </a:lnTo>
                    <a:cubicBezTo>
                      <a:pt x="5732" y="1800"/>
                      <a:pt x="5735" y="1804"/>
                      <a:pt x="5735" y="1808"/>
                    </a:cubicBezTo>
                    <a:cubicBezTo>
                      <a:pt x="5735" y="1813"/>
                      <a:pt x="5732" y="1816"/>
                      <a:pt x="5727" y="1816"/>
                    </a:cubicBezTo>
                    <a:lnTo>
                      <a:pt x="5727" y="1816"/>
                    </a:lnTo>
                    <a:cubicBezTo>
                      <a:pt x="5722" y="1816"/>
                      <a:pt x="5719" y="1813"/>
                      <a:pt x="5719" y="1808"/>
                    </a:cubicBezTo>
                    <a:cubicBezTo>
                      <a:pt x="5719" y="1804"/>
                      <a:pt x="5722" y="1800"/>
                      <a:pt x="5727" y="1800"/>
                    </a:cubicBezTo>
                    <a:close/>
                    <a:moveTo>
                      <a:pt x="5760" y="1800"/>
                    </a:moveTo>
                    <a:lnTo>
                      <a:pt x="5760" y="1800"/>
                    </a:lnTo>
                    <a:cubicBezTo>
                      <a:pt x="5765" y="1800"/>
                      <a:pt x="5769" y="1804"/>
                      <a:pt x="5769" y="1808"/>
                    </a:cubicBezTo>
                    <a:cubicBezTo>
                      <a:pt x="5769" y="1813"/>
                      <a:pt x="5765" y="1816"/>
                      <a:pt x="5760" y="1816"/>
                    </a:cubicBezTo>
                    <a:lnTo>
                      <a:pt x="5760" y="1816"/>
                    </a:lnTo>
                    <a:cubicBezTo>
                      <a:pt x="5756" y="1816"/>
                      <a:pt x="5752" y="1813"/>
                      <a:pt x="5752" y="1808"/>
                    </a:cubicBezTo>
                    <a:cubicBezTo>
                      <a:pt x="5752" y="1804"/>
                      <a:pt x="5756" y="1800"/>
                      <a:pt x="5760" y="1800"/>
                    </a:cubicBezTo>
                    <a:close/>
                    <a:moveTo>
                      <a:pt x="5794" y="1800"/>
                    </a:moveTo>
                    <a:lnTo>
                      <a:pt x="5794" y="1800"/>
                    </a:lnTo>
                    <a:cubicBezTo>
                      <a:pt x="5798" y="1800"/>
                      <a:pt x="5802" y="1804"/>
                      <a:pt x="5802" y="1808"/>
                    </a:cubicBezTo>
                    <a:cubicBezTo>
                      <a:pt x="5802" y="1813"/>
                      <a:pt x="5798" y="1816"/>
                      <a:pt x="5794" y="1816"/>
                    </a:cubicBezTo>
                    <a:lnTo>
                      <a:pt x="5794" y="1816"/>
                    </a:lnTo>
                    <a:cubicBezTo>
                      <a:pt x="5789" y="1816"/>
                      <a:pt x="5785" y="1813"/>
                      <a:pt x="5785" y="1808"/>
                    </a:cubicBezTo>
                    <a:cubicBezTo>
                      <a:pt x="5785" y="1804"/>
                      <a:pt x="5789" y="1800"/>
                      <a:pt x="5794" y="1800"/>
                    </a:cubicBezTo>
                    <a:close/>
                    <a:moveTo>
                      <a:pt x="5827" y="1800"/>
                    </a:moveTo>
                    <a:lnTo>
                      <a:pt x="5827" y="1800"/>
                    </a:lnTo>
                    <a:cubicBezTo>
                      <a:pt x="5832" y="1800"/>
                      <a:pt x="5835" y="1804"/>
                      <a:pt x="5835" y="1808"/>
                    </a:cubicBezTo>
                    <a:cubicBezTo>
                      <a:pt x="5835" y="1813"/>
                      <a:pt x="5832" y="1816"/>
                      <a:pt x="5827" y="1816"/>
                    </a:cubicBezTo>
                    <a:lnTo>
                      <a:pt x="5827" y="1816"/>
                    </a:lnTo>
                    <a:cubicBezTo>
                      <a:pt x="5822" y="1816"/>
                      <a:pt x="5819" y="1813"/>
                      <a:pt x="5819" y="1808"/>
                    </a:cubicBezTo>
                    <a:cubicBezTo>
                      <a:pt x="5819" y="1804"/>
                      <a:pt x="5822" y="1800"/>
                      <a:pt x="5827" y="1800"/>
                    </a:cubicBezTo>
                    <a:close/>
                    <a:moveTo>
                      <a:pt x="5860" y="1800"/>
                    </a:moveTo>
                    <a:lnTo>
                      <a:pt x="5860" y="1800"/>
                    </a:lnTo>
                    <a:cubicBezTo>
                      <a:pt x="5865" y="1800"/>
                      <a:pt x="5869" y="1804"/>
                      <a:pt x="5869" y="1808"/>
                    </a:cubicBezTo>
                    <a:cubicBezTo>
                      <a:pt x="5869" y="1813"/>
                      <a:pt x="5865" y="1816"/>
                      <a:pt x="5860" y="1816"/>
                    </a:cubicBezTo>
                    <a:lnTo>
                      <a:pt x="5860" y="1816"/>
                    </a:lnTo>
                    <a:cubicBezTo>
                      <a:pt x="5856" y="1816"/>
                      <a:pt x="5852" y="1813"/>
                      <a:pt x="5852" y="1808"/>
                    </a:cubicBezTo>
                    <a:cubicBezTo>
                      <a:pt x="5852" y="1804"/>
                      <a:pt x="5856" y="1800"/>
                      <a:pt x="5860" y="1800"/>
                    </a:cubicBezTo>
                    <a:close/>
                    <a:moveTo>
                      <a:pt x="5894" y="1800"/>
                    </a:moveTo>
                    <a:lnTo>
                      <a:pt x="5894" y="1800"/>
                    </a:lnTo>
                    <a:cubicBezTo>
                      <a:pt x="5898" y="1800"/>
                      <a:pt x="5902" y="1804"/>
                      <a:pt x="5902" y="1808"/>
                    </a:cubicBezTo>
                    <a:cubicBezTo>
                      <a:pt x="5902" y="1813"/>
                      <a:pt x="5898" y="1816"/>
                      <a:pt x="5894" y="1816"/>
                    </a:cubicBezTo>
                    <a:lnTo>
                      <a:pt x="5894" y="1816"/>
                    </a:lnTo>
                    <a:cubicBezTo>
                      <a:pt x="5889" y="1816"/>
                      <a:pt x="5885" y="1813"/>
                      <a:pt x="5885" y="1808"/>
                    </a:cubicBezTo>
                    <a:cubicBezTo>
                      <a:pt x="5885" y="1804"/>
                      <a:pt x="5889" y="1800"/>
                      <a:pt x="5894" y="1800"/>
                    </a:cubicBezTo>
                    <a:close/>
                    <a:moveTo>
                      <a:pt x="5927" y="1800"/>
                    </a:moveTo>
                    <a:lnTo>
                      <a:pt x="5927" y="1800"/>
                    </a:lnTo>
                    <a:cubicBezTo>
                      <a:pt x="5932" y="1800"/>
                      <a:pt x="5935" y="1804"/>
                      <a:pt x="5935" y="1808"/>
                    </a:cubicBezTo>
                    <a:cubicBezTo>
                      <a:pt x="5935" y="1813"/>
                      <a:pt x="5932" y="1816"/>
                      <a:pt x="5927" y="1816"/>
                    </a:cubicBezTo>
                    <a:lnTo>
                      <a:pt x="5927" y="1816"/>
                    </a:lnTo>
                    <a:cubicBezTo>
                      <a:pt x="5922" y="1816"/>
                      <a:pt x="5919" y="1813"/>
                      <a:pt x="5919" y="1808"/>
                    </a:cubicBezTo>
                    <a:cubicBezTo>
                      <a:pt x="5919" y="1804"/>
                      <a:pt x="5922" y="1800"/>
                      <a:pt x="5927" y="1800"/>
                    </a:cubicBezTo>
                    <a:close/>
                    <a:moveTo>
                      <a:pt x="5960" y="1800"/>
                    </a:moveTo>
                    <a:lnTo>
                      <a:pt x="5960" y="1800"/>
                    </a:lnTo>
                    <a:cubicBezTo>
                      <a:pt x="5965" y="1800"/>
                      <a:pt x="5969" y="1804"/>
                      <a:pt x="5969" y="1808"/>
                    </a:cubicBezTo>
                    <a:cubicBezTo>
                      <a:pt x="5969" y="1813"/>
                      <a:pt x="5965" y="1816"/>
                      <a:pt x="5960" y="1816"/>
                    </a:cubicBezTo>
                    <a:lnTo>
                      <a:pt x="5960" y="1816"/>
                    </a:lnTo>
                    <a:cubicBezTo>
                      <a:pt x="5956" y="1816"/>
                      <a:pt x="5952" y="1813"/>
                      <a:pt x="5952" y="1808"/>
                    </a:cubicBezTo>
                    <a:cubicBezTo>
                      <a:pt x="5952" y="1804"/>
                      <a:pt x="5956" y="1800"/>
                      <a:pt x="5960" y="1800"/>
                    </a:cubicBezTo>
                    <a:close/>
                    <a:moveTo>
                      <a:pt x="5994" y="1800"/>
                    </a:moveTo>
                    <a:lnTo>
                      <a:pt x="5994" y="1800"/>
                    </a:lnTo>
                    <a:cubicBezTo>
                      <a:pt x="5998" y="1800"/>
                      <a:pt x="6002" y="1804"/>
                      <a:pt x="6002" y="1808"/>
                    </a:cubicBezTo>
                    <a:cubicBezTo>
                      <a:pt x="6002" y="1813"/>
                      <a:pt x="5998" y="1816"/>
                      <a:pt x="5994" y="1816"/>
                    </a:cubicBezTo>
                    <a:lnTo>
                      <a:pt x="5994" y="1816"/>
                    </a:lnTo>
                    <a:cubicBezTo>
                      <a:pt x="5989" y="1816"/>
                      <a:pt x="5985" y="1813"/>
                      <a:pt x="5985" y="1808"/>
                    </a:cubicBezTo>
                    <a:cubicBezTo>
                      <a:pt x="5985" y="1804"/>
                      <a:pt x="5989" y="1800"/>
                      <a:pt x="5994" y="1800"/>
                    </a:cubicBezTo>
                    <a:close/>
                    <a:moveTo>
                      <a:pt x="6027" y="1800"/>
                    </a:moveTo>
                    <a:lnTo>
                      <a:pt x="6027" y="1800"/>
                    </a:lnTo>
                    <a:cubicBezTo>
                      <a:pt x="6032" y="1800"/>
                      <a:pt x="6035" y="1804"/>
                      <a:pt x="6035" y="1808"/>
                    </a:cubicBezTo>
                    <a:cubicBezTo>
                      <a:pt x="6035" y="1813"/>
                      <a:pt x="6032" y="1816"/>
                      <a:pt x="6027" y="1816"/>
                    </a:cubicBezTo>
                    <a:lnTo>
                      <a:pt x="6027" y="1816"/>
                    </a:lnTo>
                    <a:cubicBezTo>
                      <a:pt x="6022" y="1816"/>
                      <a:pt x="6019" y="1813"/>
                      <a:pt x="6019" y="1808"/>
                    </a:cubicBezTo>
                    <a:cubicBezTo>
                      <a:pt x="6019" y="1804"/>
                      <a:pt x="6022" y="1800"/>
                      <a:pt x="6027" y="1800"/>
                    </a:cubicBezTo>
                    <a:close/>
                    <a:moveTo>
                      <a:pt x="6060" y="1800"/>
                    </a:moveTo>
                    <a:lnTo>
                      <a:pt x="6060" y="1800"/>
                    </a:lnTo>
                    <a:cubicBezTo>
                      <a:pt x="6065" y="1800"/>
                      <a:pt x="6069" y="1804"/>
                      <a:pt x="6069" y="1808"/>
                    </a:cubicBezTo>
                    <a:cubicBezTo>
                      <a:pt x="6069" y="1813"/>
                      <a:pt x="6065" y="1816"/>
                      <a:pt x="6060" y="1816"/>
                    </a:cubicBezTo>
                    <a:lnTo>
                      <a:pt x="6060" y="1816"/>
                    </a:lnTo>
                    <a:cubicBezTo>
                      <a:pt x="6056" y="1816"/>
                      <a:pt x="6052" y="1813"/>
                      <a:pt x="6052" y="1808"/>
                    </a:cubicBezTo>
                    <a:cubicBezTo>
                      <a:pt x="6052" y="1804"/>
                      <a:pt x="6056" y="1800"/>
                      <a:pt x="6060" y="1800"/>
                    </a:cubicBezTo>
                    <a:close/>
                    <a:moveTo>
                      <a:pt x="6094" y="1800"/>
                    </a:moveTo>
                    <a:lnTo>
                      <a:pt x="6094" y="1800"/>
                    </a:lnTo>
                    <a:cubicBezTo>
                      <a:pt x="6098" y="1800"/>
                      <a:pt x="6102" y="1804"/>
                      <a:pt x="6102" y="1808"/>
                    </a:cubicBezTo>
                    <a:cubicBezTo>
                      <a:pt x="6102" y="1813"/>
                      <a:pt x="6098" y="1816"/>
                      <a:pt x="6094" y="1816"/>
                    </a:cubicBezTo>
                    <a:lnTo>
                      <a:pt x="6094" y="1816"/>
                    </a:lnTo>
                    <a:cubicBezTo>
                      <a:pt x="6089" y="1816"/>
                      <a:pt x="6085" y="1813"/>
                      <a:pt x="6085" y="1808"/>
                    </a:cubicBezTo>
                    <a:cubicBezTo>
                      <a:pt x="6085" y="1804"/>
                      <a:pt x="6089" y="1800"/>
                      <a:pt x="6094" y="1800"/>
                    </a:cubicBezTo>
                    <a:close/>
                    <a:moveTo>
                      <a:pt x="6127" y="1800"/>
                    </a:moveTo>
                    <a:lnTo>
                      <a:pt x="6127" y="1800"/>
                    </a:lnTo>
                    <a:cubicBezTo>
                      <a:pt x="6132" y="1800"/>
                      <a:pt x="6135" y="1804"/>
                      <a:pt x="6135" y="1808"/>
                    </a:cubicBezTo>
                    <a:cubicBezTo>
                      <a:pt x="6135" y="1813"/>
                      <a:pt x="6132" y="1816"/>
                      <a:pt x="6127" y="1816"/>
                    </a:cubicBezTo>
                    <a:lnTo>
                      <a:pt x="6127" y="1816"/>
                    </a:lnTo>
                    <a:cubicBezTo>
                      <a:pt x="6123" y="1816"/>
                      <a:pt x="6119" y="1813"/>
                      <a:pt x="6119" y="1808"/>
                    </a:cubicBezTo>
                    <a:cubicBezTo>
                      <a:pt x="6119" y="1804"/>
                      <a:pt x="6123" y="1800"/>
                      <a:pt x="6127" y="1800"/>
                    </a:cubicBezTo>
                    <a:close/>
                    <a:moveTo>
                      <a:pt x="6160" y="1800"/>
                    </a:moveTo>
                    <a:lnTo>
                      <a:pt x="6160" y="1800"/>
                    </a:lnTo>
                    <a:cubicBezTo>
                      <a:pt x="6165" y="1800"/>
                      <a:pt x="6169" y="1804"/>
                      <a:pt x="6169" y="1808"/>
                    </a:cubicBezTo>
                    <a:cubicBezTo>
                      <a:pt x="6169" y="1813"/>
                      <a:pt x="6165" y="1816"/>
                      <a:pt x="6160" y="1816"/>
                    </a:cubicBezTo>
                    <a:lnTo>
                      <a:pt x="6160" y="1816"/>
                    </a:lnTo>
                    <a:cubicBezTo>
                      <a:pt x="6156" y="1816"/>
                      <a:pt x="6152" y="1813"/>
                      <a:pt x="6152" y="1808"/>
                    </a:cubicBezTo>
                    <a:cubicBezTo>
                      <a:pt x="6152" y="1804"/>
                      <a:pt x="6156" y="1800"/>
                      <a:pt x="6160" y="1800"/>
                    </a:cubicBezTo>
                    <a:close/>
                    <a:moveTo>
                      <a:pt x="6194" y="1800"/>
                    </a:moveTo>
                    <a:lnTo>
                      <a:pt x="6194" y="1800"/>
                    </a:lnTo>
                    <a:cubicBezTo>
                      <a:pt x="6198" y="1800"/>
                      <a:pt x="6202" y="1804"/>
                      <a:pt x="6202" y="1808"/>
                    </a:cubicBezTo>
                    <a:cubicBezTo>
                      <a:pt x="6202" y="1813"/>
                      <a:pt x="6198" y="1816"/>
                      <a:pt x="6194" y="1816"/>
                    </a:cubicBezTo>
                    <a:lnTo>
                      <a:pt x="6194" y="1816"/>
                    </a:lnTo>
                    <a:cubicBezTo>
                      <a:pt x="6189" y="1816"/>
                      <a:pt x="6185" y="1813"/>
                      <a:pt x="6185" y="1808"/>
                    </a:cubicBezTo>
                    <a:cubicBezTo>
                      <a:pt x="6185" y="1804"/>
                      <a:pt x="6189" y="1800"/>
                      <a:pt x="6194" y="1800"/>
                    </a:cubicBezTo>
                    <a:close/>
                    <a:moveTo>
                      <a:pt x="6227" y="1800"/>
                    </a:moveTo>
                    <a:lnTo>
                      <a:pt x="6227" y="1800"/>
                    </a:lnTo>
                    <a:cubicBezTo>
                      <a:pt x="6232" y="1800"/>
                      <a:pt x="6236" y="1804"/>
                      <a:pt x="6236" y="1808"/>
                    </a:cubicBezTo>
                    <a:cubicBezTo>
                      <a:pt x="6236" y="1813"/>
                      <a:pt x="6232" y="1816"/>
                      <a:pt x="6227" y="1816"/>
                    </a:cubicBezTo>
                    <a:lnTo>
                      <a:pt x="6227" y="1816"/>
                    </a:lnTo>
                    <a:cubicBezTo>
                      <a:pt x="6223" y="1816"/>
                      <a:pt x="6219" y="1813"/>
                      <a:pt x="6219" y="1808"/>
                    </a:cubicBezTo>
                    <a:cubicBezTo>
                      <a:pt x="6219" y="1804"/>
                      <a:pt x="6223" y="1800"/>
                      <a:pt x="6227" y="1800"/>
                    </a:cubicBezTo>
                    <a:close/>
                    <a:moveTo>
                      <a:pt x="6261" y="1800"/>
                    </a:moveTo>
                    <a:lnTo>
                      <a:pt x="6261" y="1800"/>
                    </a:lnTo>
                    <a:cubicBezTo>
                      <a:pt x="6265" y="1800"/>
                      <a:pt x="6269" y="1804"/>
                      <a:pt x="6269" y="1808"/>
                    </a:cubicBezTo>
                    <a:cubicBezTo>
                      <a:pt x="6269" y="1813"/>
                      <a:pt x="6265" y="1816"/>
                      <a:pt x="6261" y="1816"/>
                    </a:cubicBezTo>
                    <a:lnTo>
                      <a:pt x="6261" y="1816"/>
                    </a:lnTo>
                    <a:cubicBezTo>
                      <a:pt x="6256" y="1816"/>
                      <a:pt x="6252" y="1813"/>
                      <a:pt x="6252" y="1808"/>
                    </a:cubicBezTo>
                    <a:cubicBezTo>
                      <a:pt x="6252" y="1804"/>
                      <a:pt x="6256" y="1800"/>
                      <a:pt x="6261" y="1800"/>
                    </a:cubicBezTo>
                    <a:close/>
                    <a:moveTo>
                      <a:pt x="6294" y="1800"/>
                    </a:moveTo>
                    <a:lnTo>
                      <a:pt x="6294" y="1800"/>
                    </a:lnTo>
                    <a:cubicBezTo>
                      <a:pt x="6298" y="1800"/>
                      <a:pt x="6302" y="1804"/>
                      <a:pt x="6302" y="1808"/>
                    </a:cubicBezTo>
                    <a:cubicBezTo>
                      <a:pt x="6302" y="1813"/>
                      <a:pt x="6298" y="1816"/>
                      <a:pt x="6294" y="1816"/>
                    </a:cubicBezTo>
                    <a:lnTo>
                      <a:pt x="6294" y="1816"/>
                    </a:lnTo>
                    <a:cubicBezTo>
                      <a:pt x="6289" y="1816"/>
                      <a:pt x="6286" y="1813"/>
                      <a:pt x="6286" y="1808"/>
                    </a:cubicBezTo>
                    <a:cubicBezTo>
                      <a:pt x="6286" y="1804"/>
                      <a:pt x="6289" y="1800"/>
                      <a:pt x="6294" y="1800"/>
                    </a:cubicBezTo>
                    <a:close/>
                    <a:moveTo>
                      <a:pt x="6327" y="1800"/>
                    </a:moveTo>
                    <a:lnTo>
                      <a:pt x="6327" y="1800"/>
                    </a:lnTo>
                    <a:cubicBezTo>
                      <a:pt x="6332" y="1800"/>
                      <a:pt x="6336" y="1804"/>
                      <a:pt x="6336" y="1808"/>
                    </a:cubicBezTo>
                    <a:cubicBezTo>
                      <a:pt x="6336" y="1813"/>
                      <a:pt x="6332" y="1816"/>
                      <a:pt x="6327" y="1816"/>
                    </a:cubicBezTo>
                    <a:lnTo>
                      <a:pt x="6327" y="1816"/>
                    </a:lnTo>
                    <a:cubicBezTo>
                      <a:pt x="6323" y="1816"/>
                      <a:pt x="6319" y="1813"/>
                      <a:pt x="6319" y="1808"/>
                    </a:cubicBezTo>
                    <a:cubicBezTo>
                      <a:pt x="6319" y="1804"/>
                      <a:pt x="6323" y="1800"/>
                      <a:pt x="6327" y="1800"/>
                    </a:cubicBezTo>
                    <a:close/>
                    <a:moveTo>
                      <a:pt x="6361" y="1800"/>
                    </a:moveTo>
                    <a:lnTo>
                      <a:pt x="6361" y="1800"/>
                    </a:lnTo>
                    <a:cubicBezTo>
                      <a:pt x="6365" y="1800"/>
                      <a:pt x="6369" y="1804"/>
                      <a:pt x="6369" y="1808"/>
                    </a:cubicBezTo>
                    <a:cubicBezTo>
                      <a:pt x="6369" y="1813"/>
                      <a:pt x="6365" y="1816"/>
                      <a:pt x="6361" y="1816"/>
                    </a:cubicBezTo>
                    <a:lnTo>
                      <a:pt x="6361" y="1816"/>
                    </a:lnTo>
                    <a:cubicBezTo>
                      <a:pt x="6356" y="1816"/>
                      <a:pt x="6352" y="1813"/>
                      <a:pt x="6352" y="1808"/>
                    </a:cubicBezTo>
                    <a:cubicBezTo>
                      <a:pt x="6352" y="1804"/>
                      <a:pt x="6356" y="1800"/>
                      <a:pt x="6361" y="1800"/>
                    </a:cubicBezTo>
                    <a:close/>
                    <a:moveTo>
                      <a:pt x="6394" y="1800"/>
                    </a:moveTo>
                    <a:lnTo>
                      <a:pt x="6394" y="1800"/>
                    </a:lnTo>
                    <a:cubicBezTo>
                      <a:pt x="6399" y="1800"/>
                      <a:pt x="6402" y="1804"/>
                      <a:pt x="6402" y="1808"/>
                    </a:cubicBezTo>
                    <a:cubicBezTo>
                      <a:pt x="6402" y="1813"/>
                      <a:pt x="6399" y="1816"/>
                      <a:pt x="6394" y="1816"/>
                    </a:cubicBezTo>
                    <a:lnTo>
                      <a:pt x="6394" y="1816"/>
                    </a:lnTo>
                    <a:cubicBezTo>
                      <a:pt x="6389" y="1816"/>
                      <a:pt x="6386" y="1813"/>
                      <a:pt x="6386" y="1808"/>
                    </a:cubicBezTo>
                    <a:cubicBezTo>
                      <a:pt x="6386" y="1804"/>
                      <a:pt x="6389" y="1800"/>
                      <a:pt x="6394" y="1800"/>
                    </a:cubicBezTo>
                    <a:close/>
                    <a:moveTo>
                      <a:pt x="6427" y="1800"/>
                    </a:moveTo>
                    <a:lnTo>
                      <a:pt x="6427" y="1800"/>
                    </a:lnTo>
                    <a:cubicBezTo>
                      <a:pt x="6432" y="1800"/>
                      <a:pt x="6436" y="1804"/>
                      <a:pt x="6436" y="1808"/>
                    </a:cubicBezTo>
                    <a:cubicBezTo>
                      <a:pt x="6436" y="1813"/>
                      <a:pt x="6432" y="1816"/>
                      <a:pt x="6427" y="1816"/>
                    </a:cubicBezTo>
                    <a:lnTo>
                      <a:pt x="6427" y="1816"/>
                    </a:lnTo>
                    <a:cubicBezTo>
                      <a:pt x="6423" y="1816"/>
                      <a:pt x="6419" y="1813"/>
                      <a:pt x="6419" y="1808"/>
                    </a:cubicBezTo>
                    <a:cubicBezTo>
                      <a:pt x="6419" y="1804"/>
                      <a:pt x="6423" y="1800"/>
                      <a:pt x="6427" y="1800"/>
                    </a:cubicBezTo>
                    <a:close/>
                    <a:moveTo>
                      <a:pt x="6461" y="1800"/>
                    </a:moveTo>
                    <a:lnTo>
                      <a:pt x="6461" y="1800"/>
                    </a:lnTo>
                    <a:cubicBezTo>
                      <a:pt x="6465" y="1800"/>
                      <a:pt x="6469" y="1804"/>
                      <a:pt x="6469" y="1808"/>
                    </a:cubicBezTo>
                    <a:cubicBezTo>
                      <a:pt x="6469" y="1813"/>
                      <a:pt x="6465" y="1816"/>
                      <a:pt x="6461" y="1816"/>
                    </a:cubicBezTo>
                    <a:lnTo>
                      <a:pt x="6461" y="1816"/>
                    </a:lnTo>
                    <a:cubicBezTo>
                      <a:pt x="6456" y="1816"/>
                      <a:pt x="6452" y="1813"/>
                      <a:pt x="6452" y="1808"/>
                    </a:cubicBezTo>
                    <a:cubicBezTo>
                      <a:pt x="6452" y="1804"/>
                      <a:pt x="6456" y="1800"/>
                      <a:pt x="6461" y="1800"/>
                    </a:cubicBezTo>
                    <a:close/>
                    <a:moveTo>
                      <a:pt x="6494" y="1800"/>
                    </a:moveTo>
                    <a:lnTo>
                      <a:pt x="6494" y="1800"/>
                    </a:lnTo>
                    <a:cubicBezTo>
                      <a:pt x="6499" y="1800"/>
                      <a:pt x="6502" y="1804"/>
                      <a:pt x="6502" y="1808"/>
                    </a:cubicBezTo>
                    <a:cubicBezTo>
                      <a:pt x="6502" y="1813"/>
                      <a:pt x="6499" y="1816"/>
                      <a:pt x="6494" y="1816"/>
                    </a:cubicBezTo>
                    <a:lnTo>
                      <a:pt x="6494" y="1816"/>
                    </a:lnTo>
                    <a:cubicBezTo>
                      <a:pt x="6489" y="1816"/>
                      <a:pt x="6486" y="1813"/>
                      <a:pt x="6486" y="1808"/>
                    </a:cubicBezTo>
                    <a:cubicBezTo>
                      <a:pt x="6486" y="1804"/>
                      <a:pt x="6489" y="1800"/>
                      <a:pt x="6494" y="1800"/>
                    </a:cubicBezTo>
                    <a:close/>
                    <a:moveTo>
                      <a:pt x="6527" y="1800"/>
                    </a:moveTo>
                    <a:lnTo>
                      <a:pt x="6527" y="1800"/>
                    </a:lnTo>
                    <a:cubicBezTo>
                      <a:pt x="6532" y="1800"/>
                      <a:pt x="6536" y="1804"/>
                      <a:pt x="6536" y="1808"/>
                    </a:cubicBezTo>
                    <a:cubicBezTo>
                      <a:pt x="6536" y="1813"/>
                      <a:pt x="6532" y="1816"/>
                      <a:pt x="6527" y="1816"/>
                    </a:cubicBezTo>
                    <a:lnTo>
                      <a:pt x="6527" y="1816"/>
                    </a:lnTo>
                    <a:cubicBezTo>
                      <a:pt x="6523" y="1816"/>
                      <a:pt x="6519" y="1813"/>
                      <a:pt x="6519" y="1808"/>
                    </a:cubicBezTo>
                    <a:cubicBezTo>
                      <a:pt x="6519" y="1804"/>
                      <a:pt x="6523" y="1800"/>
                      <a:pt x="6527" y="1800"/>
                    </a:cubicBezTo>
                    <a:close/>
                    <a:moveTo>
                      <a:pt x="6561" y="1800"/>
                    </a:moveTo>
                    <a:lnTo>
                      <a:pt x="6561" y="1800"/>
                    </a:lnTo>
                    <a:cubicBezTo>
                      <a:pt x="6565" y="1800"/>
                      <a:pt x="6569" y="1804"/>
                      <a:pt x="6569" y="1808"/>
                    </a:cubicBezTo>
                    <a:cubicBezTo>
                      <a:pt x="6569" y="1813"/>
                      <a:pt x="6565" y="1816"/>
                      <a:pt x="6561" y="1816"/>
                    </a:cubicBezTo>
                    <a:lnTo>
                      <a:pt x="6561" y="1816"/>
                    </a:lnTo>
                    <a:cubicBezTo>
                      <a:pt x="6556" y="1816"/>
                      <a:pt x="6552" y="1813"/>
                      <a:pt x="6552" y="1808"/>
                    </a:cubicBezTo>
                    <a:cubicBezTo>
                      <a:pt x="6552" y="1804"/>
                      <a:pt x="6556" y="1800"/>
                      <a:pt x="6561" y="1800"/>
                    </a:cubicBezTo>
                    <a:close/>
                    <a:moveTo>
                      <a:pt x="6594" y="1800"/>
                    </a:moveTo>
                    <a:lnTo>
                      <a:pt x="6594" y="1800"/>
                    </a:lnTo>
                    <a:cubicBezTo>
                      <a:pt x="6599" y="1800"/>
                      <a:pt x="6602" y="1804"/>
                      <a:pt x="6602" y="1808"/>
                    </a:cubicBezTo>
                    <a:cubicBezTo>
                      <a:pt x="6602" y="1813"/>
                      <a:pt x="6599" y="1816"/>
                      <a:pt x="6594" y="1816"/>
                    </a:cubicBezTo>
                    <a:lnTo>
                      <a:pt x="6594" y="1816"/>
                    </a:lnTo>
                    <a:cubicBezTo>
                      <a:pt x="6589" y="1816"/>
                      <a:pt x="6586" y="1813"/>
                      <a:pt x="6586" y="1808"/>
                    </a:cubicBezTo>
                    <a:cubicBezTo>
                      <a:pt x="6586" y="1804"/>
                      <a:pt x="6589" y="1800"/>
                      <a:pt x="6594" y="1800"/>
                    </a:cubicBezTo>
                    <a:close/>
                    <a:moveTo>
                      <a:pt x="6627" y="1800"/>
                    </a:moveTo>
                    <a:lnTo>
                      <a:pt x="6627" y="1800"/>
                    </a:lnTo>
                    <a:cubicBezTo>
                      <a:pt x="6632" y="1800"/>
                      <a:pt x="6636" y="1804"/>
                      <a:pt x="6636" y="1808"/>
                    </a:cubicBezTo>
                    <a:cubicBezTo>
                      <a:pt x="6636" y="1813"/>
                      <a:pt x="6632" y="1816"/>
                      <a:pt x="6627" y="1816"/>
                    </a:cubicBezTo>
                    <a:lnTo>
                      <a:pt x="6627" y="1816"/>
                    </a:lnTo>
                    <a:cubicBezTo>
                      <a:pt x="6623" y="1816"/>
                      <a:pt x="6619" y="1813"/>
                      <a:pt x="6619" y="1808"/>
                    </a:cubicBezTo>
                    <a:cubicBezTo>
                      <a:pt x="6619" y="1804"/>
                      <a:pt x="6623" y="1800"/>
                      <a:pt x="6627" y="1800"/>
                    </a:cubicBezTo>
                    <a:close/>
                    <a:moveTo>
                      <a:pt x="6661" y="1800"/>
                    </a:moveTo>
                    <a:lnTo>
                      <a:pt x="6661" y="1800"/>
                    </a:lnTo>
                    <a:cubicBezTo>
                      <a:pt x="6665" y="1800"/>
                      <a:pt x="6669" y="1804"/>
                      <a:pt x="6669" y="1808"/>
                    </a:cubicBezTo>
                    <a:cubicBezTo>
                      <a:pt x="6669" y="1813"/>
                      <a:pt x="6665" y="1816"/>
                      <a:pt x="6661" y="1816"/>
                    </a:cubicBezTo>
                    <a:lnTo>
                      <a:pt x="6661" y="1816"/>
                    </a:lnTo>
                    <a:cubicBezTo>
                      <a:pt x="6656" y="1816"/>
                      <a:pt x="6652" y="1813"/>
                      <a:pt x="6652" y="1808"/>
                    </a:cubicBezTo>
                    <a:cubicBezTo>
                      <a:pt x="6652" y="1804"/>
                      <a:pt x="6656" y="1800"/>
                      <a:pt x="6661" y="1800"/>
                    </a:cubicBezTo>
                    <a:close/>
                    <a:moveTo>
                      <a:pt x="6694" y="1800"/>
                    </a:moveTo>
                    <a:lnTo>
                      <a:pt x="6694" y="1800"/>
                    </a:lnTo>
                    <a:cubicBezTo>
                      <a:pt x="6699" y="1800"/>
                      <a:pt x="6702" y="1804"/>
                      <a:pt x="6702" y="1808"/>
                    </a:cubicBezTo>
                    <a:cubicBezTo>
                      <a:pt x="6702" y="1813"/>
                      <a:pt x="6699" y="1816"/>
                      <a:pt x="6694" y="1816"/>
                    </a:cubicBezTo>
                    <a:lnTo>
                      <a:pt x="6694" y="1816"/>
                    </a:lnTo>
                    <a:cubicBezTo>
                      <a:pt x="6689" y="1816"/>
                      <a:pt x="6686" y="1813"/>
                      <a:pt x="6686" y="1808"/>
                    </a:cubicBezTo>
                    <a:cubicBezTo>
                      <a:pt x="6686" y="1804"/>
                      <a:pt x="6689" y="1800"/>
                      <a:pt x="6694" y="1800"/>
                    </a:cubicBezTo>
                    <a:close/>
                    <a:moveTo>
                      <a:pt x="6727" y="1800"/>
                    </a:moveTo>
                    <a:lnTo>
                      <a:pt x="6727" y="1800"/>
                    </a:lnTo>
                    <a:cubicBezTo>
                      <a:pt x="6732" y="1800"/>
                      <a:pt x="6736" y="1804"/>
                      <a:pt x="6736" y="1808"/>
                    </a:cubicBezTo>
                    <a:cubicBezTo>
                      <a:pt x="6736" y="1813"/>
                      <a:pt x="6732" y="1816"/>
                      <a:pt x="6727" y="1816"/>
                    </a:cubicBezTo>
                    <a:lnTo>
                      <a:pt x="6727" y="1816"/>
                    </a:lnTo>
                    <a:cubicBezTo>
                      <a:pt x="6723" y="1816"/>
                      <a:pt x="6719" y="1813"/>
                      <a:pt x="6719" y="1808"/>
                    </a:cubicBezTo>
                    <a:cubicBezTo>
                      <a:pt x="6719" y="1804"/>
                      <a:pt x="6723" y="1800"/>
                      <a:pt x="6727" y="1800"/>
                    </a:cubicBezTo>
                    <a:close/>
                    <a:moveTo>
                      <a:pt x="6761" y="1800"/>
                    </a:moveTo>
                    <a:lnTo>
                      <a:pt x="6761" y="1800"/>
                    </a:lnTo>
                    <a:cubicBezTo>
                      <a:pt x="6765" y="1800"/>
                      <a:pt x="6769" y="1804"/>
                      <a:pt x="6769" y="1808"/>
                    </a:cubicBezTo>
                    <a:cubicBezTo>
                      <a:pt x="6769" y="1813"/>
                      <a:pt x="6765" y="1816"/>
                      <a:pt x="6761" y="1816"/>
                    </a:cubicBezTo>
                    <a:lnTo>
                      <a:pt x="6761" y="1816"/>
                    </a:lnTo>
                    <a:cubicBezTo>
                      <a:pt x="6756" y="1816"/>
                      <a:pt x="6752" y="1813"/>
                      <a:pt x="6752" y="1808"/>
                    </a:cubicBezTo>
                    <a:cubicBezTo>
                      <a:pt x="6752" y="1804"/>
                      <a:pt x="6756" y="1800"/>
                      <a:pt x="6761" y="1800"/>
                    </a:cubicBezTo>
                    <a:close/>
                    <a:moveTo>
                      <a:pt x="6794" y="1800"/>
                    </a:moveTo>
                    <a:lnTo>
                      <a:pt x="6794" y="1800"/>
                    </a:lnTo>
                    <a:cubicBezTo>
                      <a:pt x="6799" y="1800"/>
                      <a:pt x="6802" y="1804"/>
                      <a:pt x="6802" y="1808"/>
                    </a:cubicBezTo>
                    <a:cubicBezTo>
                      <a:pt x="6802" y="1813"/>
                      <a:pt x="6799" y="1816"/>
                      <a:pt x="6794" y="1816"/>
                    </a:cubicBezTo>
                    <a:lnTo>
                      <a:pt x="6794" y="1816"/>
                    </a:lnTo>
                    <a:cubicBezTo>
                      <a:pt x="6790" y="1816"/>
                      <a:pt x="6786" y="1813"/>
                      <a:pt x="6786" y="1808"/>
                    </a:cubicBezTo>
                    <a:cubicBezTo>
                      <a:pt x="6786" y="1804"/>
                      <a:pt x="6790" y="1800"/>
                      <a:pt x="6794" y="1800"/>
                    </a:cubicBezTo>
                    <a:close/>
                    <a:moveTo>
                      <a:pt x="6827" y="1800"/>
                    </a:moveTo>
                    <a:lnTo>
                      <a:pt x="6828" y="1800"/>
                    </a:lnTo>
                    <a:cubicBezTo>
                      <a:pt x="6832" y="1800"/>
                      <a:pt x="6836" y="1804"/>
                      <a:pt x="6836" y="1808"/>
                    </a:cubicBezTo>
                    <a:cubicBezTo>
                      <a:pt x="6836" y="1813"/>
                      <a:pt x="6832" y="1816"/>
                      <a:pt x="6828" y="1816"/>
                    </a:cubicBezTo>
                    <a:lnTo>
                      <a:pt x="6827" y="1816"/>
                    </a:lnTo>
                    <a:cubicBezTo>
                      <a:pt x="6823" y="1816"/>
                      <a:pt x="6819" y="1813"/>
                      <a:pt x="6819" y="1808"/>
                    </a:cubicBezTo>
                    <a:cubicBezTo>
                      <a:pt x="6819" y="1804"/>
                      <a:pt x="6823" y="1800"/>
                      <a:pt x="6827" y="1800"/>
                    </a:cubicBezTo>
                    <a:close/>
                    <a:moveTo>
                      <a:pt x="6861" y="1800"/>
                    </a:moveTo>
                    <a:lnTo>
                      <a:pt x="6861" y="1800"/>
                    </a:lnTo>
                    <a:cubicBezTo>
                      <a:pt x="6865" y="1800"/>
                      <a:pt x="6869" y="1804"/>
                      <a:pt x="6869" y="1808"/>
                    </a:cubicBezTo>
                    <a:cubicBezTo>
                      <a:pt x="6869" y="1813"/>
                      <a:pt x="6865" y="1816"/>
                      <a:pt x="6861" y="1816"/>
                    </a:cubicBezTo>
                    <a:lnTo>
                      <a:pt x="6861" y="1816"/>
                    </a:lnTo>
                    <a:cubicBezTo>
                      <a:pt x="6856" y="1816"/>
                      <a:pt x="6853" y="1813"/>
                      <a:pt x="6853" y="1808"/>
                    </a:cubicBezTo>
                    <a:cubicBezTo>
                      <a:pt x="6853" y="1804"/>
                      <a:pt x="6856" y="1800"/>
                      <a:pt x="6861" y="1800"/>
                    </a:cubicBezTo>
                    <a:close/>
                    <a:moveTo>
                      <a:pt x="6894" y="1800"/>
                    </a:moveTo>
                    <a:lnTo>
                      <a:pt x="6894" y="1800"/>
                    </a:lnTo>
                    <a:cubicBezTo>
                      <a:pt x="6899" y="1800"/>
                      <a:pt x="6903" y="1804"/>
                      <a:pt x="6903" y="1808"/>
                    </a:cubicBezTo>
                    <a:cubicBezTo>
                      <a:pt x="6903" y="1813"/>
                      <a:pt x="6899" y="1816"/>
                      <a:pt x="6894" y="1816"/>
                    </a:cubicBezTo>
                    <a:lnTo>
                      <a:pt x="6894" y="1816"/>
                    </a:lnTo>
                    <a:cubicBezTo>
                      <a:pt x="6890" y="1816"/>
                      <a:pt x="6886" y="1813"/>
                      <a:pt x="6886" y="1808"/>
                    </a:cubicBezTo>
                    <a:cubicBezTo>
                      <a:pt x="6886" y="1804"/>
                      <a:pt x="6890" y="1800"/>
                      <a:pt x="6894" y="1800"/>
                    </a:cubicBezTo>
                    <a:close/>
                    <a:moveTo>
                      <a:pt x="6928" y="1800"/>
                    </a:moveTo>
                    <a:lnTo>
                      <a:pt x="6928" y="1800"/>
                    </a:lnTo>
                    <a:cubicBezTo>
                      <a:pt x="6932" y="1800"/>
                      <a:pt x="6936" y="1804"/>
                      <a:pt x="6936" y="1808"/>
                    </a:cubicBezTo>
                    <a:cubicBezTo>
                      <a:pt x="6936" y="1813"/>
                      <a:pt x="6932" y="1816"/>
                      <a:pt x="6928" y="1816"/>
                    </a:cubicBezTo>
                    <a:lnTo>
                      <a:pt x="6928" y="1816"/>
                    </a:lnTo>
                    <a:cubicBezTo>
                      <a:pt x="6923" y="1816"/>
                      <a:pt x="6919" y="1813"/>
                      <a:pt x="6919" y="1808"/>
                    </a:cubicBezTo>
                    <a:cubicBezTo>
                      <a:pt x="6919" y="1804"/>
                      <a:pt x="6923" y="1800"/>
                      <a:pt x="6928" y="1800"/>
                    </a:cubicBezTo>
                    <a:close/>
                    <a:moveTo>
                      <a:pt x="6961" y="1800"/>
                    </a:moveTo>
                    <a:lnTo>
                      <a:pt x="6961" y="1800"/>
                    </a:lnTo>
                    <a:cubicBezTo>
                      <a:pt x="6966" y="1800"/>
                      <a:pt x="6969" y="1804"/>
                      <a:pt x="6969" y="1808"/>
                    </a:cubicBezTo>
                    <a:cubicBezTo>
                      <a:pt x="6969" y="1813"/>
                      <a:pt x="6966" y="1816"/>
                      <a:pt x="6961" y="1816"/>
                    </a:cubicBezTo>
                    <a:lnTo>
                      <a:pt x="6961" y="1816"/>
                    </a:lnTo>
                    <a:cubicBezTo>
                      <a:pt x="6956" y="1816"/>
                      <a:pt x="6953" y="1813"/>
                      <a:pt x="6953" y="1808"/>
                    </a:cubicBezTo>
                    <a:cubicBezTo>
                      <a:pt x="6953" y="1804"/>
                      <a:pt x="6956" y="1800"/>
                      <a:pt x="6961" y="1800"/>
                    </a:cubicBezTo>
                    <a:close/>
                    <a:moveTo>
                      <a:pt x="6994" y="1800"/>
                    </a:moveTo>
                    <a:lnTo>
                      <a:pt x="6994" y="1800"/>
                    </a:lnTo>
                    <a:cubicBezTo>
                      <a:pt x="6999" y="1800"/>
                      <a:pt x="7003" y="1804"/>
                      <a:pt x="7003" y="1808"/>
                    </a:cubicBezTo>
                    <a:cubicBezTo>
                      <a:pt x="7003" y="1813"/>
                      <a:pt x="6999" y="1816"/>
                      <a:pt x="6994" y="1816"/>
                    </a:cubicBezTo>
                    <a:lnTo>
                      <a:pt x="6994" y="1816"/>
                    </a:lnTo>
                    <a:cubicBezTo>
                      <a:pt x="6990" y="1816"/>
                      <a:pt x="6986" y="1813"/>
                      <a:pt x="6986" y="1808"/>
                    </a:cubicBezTo>
                    <a:cubicBezTo>
                      <a:pt x="6986" y="1804"/>
                      <a:pt x="6990" y="1800"/>
                      <a:pt x="6994" y="1800"/>
                    </a:cubicBezTo>
                    <a:close/>
                    <a:moveTo>
                      <a:pt x="7028" y="1800"/>
                    </a:moveTo>
                    <a:lnTo>
                      <a:pt x="7028" y="1800"/>
                    </a:lnTo>
                    <a:cubicBezTo>
                      <a:pt x="7032" y="1800"/>
                      <a:pt x="7036" y="1804"/>
                      <a:pt x="7036" y="1808"/>
                    </a:cubicBezTo>
                    <a:cubicBezTo>
                      <a:pt x="7036" y="1813"/>
                      <a:pt x="7032" y="1816"/>
                      <a:pt x="7028" y="1816"/>
                    </a:cubicBezTo>
                    <a:lnTo>
                      <a:pt x="7028" y="1816"/>
                    </a:lnTo>
                    <a:cubicBezTo>
                      <a:pt x="7023" y="1816"/>
                      <a:pt x="7019" y="1813"/>
                      <a:pt x="7019" y="1808"/>
                    </a:cubicBezTo>
                    <a:cubicBezTo>
                      <a:pt x="7019" y="1804"/>
                      <a:pt x="7023" y="1800"/>
                      <a:pt x="7028" y="1800"/>
                    </a:cubicBezTo>
                    <a:close/>
                    <a:moveTo>
                      <a:pt x="7061" y="1800"/>
                    </a:moveTo>
                    <a:lnTo>
                      <a:pt x="7061" y="1800"/>
                    </a:lnTo>
                    <a:cubicBezTo>
                      <a:pt x="7066" y="1800"/>
                      <a:pt x="7069" y="1804"/>
                      <a:pt x="7069" y="1808"/>
                    </a:cubicBezTo>
                    <a:cubicBezTo>
                      <a:pt x="7069" y="1813"/>
                      <a:pt x="7066" y="1816"/>
                      <a:pt x="7061" y="1816"/>
                    </a:cubicBezTo>
                    <a:lnTo>
                      <a:pt x="7061" y="1816"/>
                    </a:lnTo>
                    <a:cubicBezTo>
                      <a:pt x="7056" y="1816"/>
                      <a:pt x="7053" y="1813"/>
                      <a:pt x="7053" y="1808"/>
                    </a:cubicBezTo>
                    <a:cubicBezTo>
                      <a:pt x="7053" y="1804"/>
                      <a:pt x="7056" y="1800"/>
                      <a:pt x="7061" y="1800"/>
                    </a:cubicBezTo>
                    <a:close/>
                    <a:moveTo>
                      <a:pt x="7094" y="1800"/>
                    </a:moveTo>
                    <a:lnTo>
                      <a:pt x="7094" y="1800"/>
                    </a:lnTo>
                    <a:cubicBezTo>
                      <a:pt x="7099" y="1800"/>
                      <a:pt x="7103" y="1804"/>
                      <a:pt x="7103" y="1808"/>
                    </a:cubicBezTo>
                    <a:cubicBezTo>
                      <a:pt x="7103" y="1813"/>
                      <a:pt x="7099" y="1816"/>
                      <a:pt x="7094" y="1816"/>
                    </a:cubicBezTo>
                    <a:lnTo>
                      <a:pt x="7094" y="1816"/>
                    </a:lnTo>
                    <a:cubicBezTo>
                      <a:pt x="7090" y="1816"/>
                      <a:pt x="7086" y="1813"/>
                      <a:pt x="7086" y="1808"/>
                    </a:cubicBezTo>
                    <a:cubicBezTo>
                      <a:pt x="7086" y="1804"/>
                      <a:pt x="7090" y="1800"/>
                      <a:pt x="7094" y="1800"/>
                    </a:cubicBezTo>
                    <a:close/>
                    <a:moveTo>
                      <a:pt x="7128" y="1800"/>
                    </a:moveTo>
                    <a:lnTo>
                      <a:pt x="7128" y="1800"/>
                    </a:lnTo>
                    <a:cubicBezTo>
                      <a:pt x="7132" y="1800"/>
                      <a:pt x="7136" y="1804"/>
                      <a:pt x="7136" y="1808"/>
                    </a:cubicBezTo>
                    <a:cubicBezTo>
                      <a:pt x="7136" y="1813"/>
                      <a:pt x="7132" y="1816"/>
                      <a:pt x="7128" y="1816"/>
                    </a:cubicBezTo>
                    <a:lnTo>
                      <a:pt x="7128" y="1816"/>
                    </a:lnTo>
                    <a:cubicBezTo>
                      <a:pt x="7123" y="1816"/>
                      <a:pt x="7119" y="1813"/>
                      <a:pt x="7119" y="1808"/>
                    </a:cubicBezTo>
                    <a:cubicBezTo>
                      <a:pt x="7119" y="1804"/>
                      <a:pt x="7123" y="1800"/>
                      <a:pt x="7128" y="1800"/>
                    </a:cubicBezTo>
                    <a:close/>
                    <a:moveTo>
                      <a:pt x="7161" y="1800"/>
                    </a:moveTo>
                    <a:lnTo>
                      <a:pt x="7161" y="1800"/>
                    </a:lnTo>
                    <a:cubicBezTo>
                      <a:pt x="7166" y="1800"/>
                      <a:pt x="7169" y="1804"/>
                      <a:pt x="7169" y="1808"/>
                    </a:cubicBezTo>
                    <a:cubicBezTo>
                      <a:pt x="7169" y="1813"/>
                      <a:pt x="7166" y="1816"/>
                      <a:pt x="7161" y="1816"/>
                    </a:cubicBezTo>
                    <a:lnTo>
                      <a:pt x="7161" y="1816"/>
                    </a:lnTo>
                    <a:cubicBezTo>
                      <a:pt x="7156" y="1816"/>
                      <a:pt x="7153" y="1813"/>
                      <a:pt x="7153" y="1808"/>
                    </a:cubicBezTo>
                    <a:cubicBezTo>
                      <a:pt x="7153" y="1804"/>
                      <a:pt x="7156" y="1800"/>
                      <a:pt x="7161" y="1800"/>
                    </a:cubicBezTo>
                    <a:close/>
                    <a:moveTo>
                      <a:pt x="7194" y="1800"/>
                    </a:moveTo>
                    <a:lnTo>
                      <a:pt x="7194" y="1800"/>
                    </a:lnTo>
                    <a:cubicBezTo>
                      <a:pt x="7199" y="1800"/>
                      <a:pt x="7203" y="1804"/>
                      <a:pt x="7203" y="1808"/>
                    </a:cubicBezTo>
                    <a:cubicBezTo>
                      <a:pt x="7203" y="1813"/>
                      <a:pt x="7199" y="1816"/>
                      <a:pt x="7194" y="1816"/>
                    </a:cubicBezTo>
                    <a:lnTo>
                      <a:pt x="7194" y="1816"/>
                    </a:lnTo>
                    <a:cubicBezTo>
                      <a:pt x="7190" y="1816"/>
                      <a:pt x="7186" y="1813"/>
                      <a:pt x="7186" y="1808"/>
                    </a:cubicBezTo>
                    <a:cubicBezTo>
                      <a:pt x="7186" y="1804"/>
                      <a:pt x="7190" y="1800"/>
                      <a:pt x="7194" y="1800"/>
                    </a:cubicBezTo>
                    <a:close/>
                    <a:moveTo>
                      <a:pt x="7228" y="1800"/>
                    </a:moveTo>
                    <a:lnTo>
                      <a:pt x="7228" y="1800"/>
                    </a:lnTo>
                    <a:cubicBezTo>
                      <a:pt x="7232" y="1800"/>
                      <a:pt x="7236" y="1804"/>
                      <a:pt x="7236" y="1808"/>
                    </a:cubicBezTo>
                    <a:cubicBezTo>
                      <a:pt x="7236" y="1813"/>
                      <a:pt x="7232" y="1816"/>
                      <a:pt x="7228" y="1816"/>
                    </a:cubicBezTo>
                    <a:lnTo>
                      <a:pt x="7228" y="1816"/>
                    </a:lnTo>
                    <a:cubicBezTo>
                      <a:pt x="7223" y="1816"/>
                      <a:pt x="7219" y="1813"/>
                      <a:pt x="7219" y="1808"/>
                    </a:cubicBezTo>
                    <a:cubicBezTo>
                      <a:pt x="7219" y="1804"/>
                      <a:pt x="7223" y="1800"/>
                      <a:pt x="7228" y="1800"/>
                    </a:cubicBezTo>
                    <a:close/>
                    <a:moveTo>
                      <a:pt x="7261" y="1800"/>
                    </a:moveTo>
                    <a:lnTo>
                      <a:pt x="7261" y="1800"/>
                    </a:lnTo>
                    <a:cubicBezTo>
                      <a:pt x="7266" y="1800"/>
                      <a:pt x="7269" y="1804"/>
                      <a:pt x="7269" y="1808"/>
                    </a:cubicBezTo>
                    <a:cubicBezTo>
                      <a:pt x="7269" y="1813"/>
                      <a:pt x="7266" y="1816"/>
                      <a:pt x="7261" y="1816"/>
                    </a:cubicBezTo>
                    <a:lnTo>
                      <a:pt x="7261" y="1816"/>
                    </a:lnTo>
                    <a:cubicBezTo>
                      <a:pt x="7256" y="1816"/>
                      <a:pt x="7253" y="1813"/>
                      <a:pt x="7253" y="1808"/>
                    </a:cubicBezTo>
                    <a:cubicBezTo>
                      <a:pt x="7253" y="1804"/>
                      <a:pt x="7256" y="1800"/>
                      <a:pt x="7261" y="1800"/>
                    </a:cubicBezTo>
                    <a:close/>
                    <a:moveTo>
                      <a:pt x="7294" y="1800"/>
                    </a:moveTo>
                    <a:lnTo>
                      <a:pt x="7294" y="1800"/>
                    </a:lnTo>
                    <a:cubicBezTo>
                      <a:pt x="7299" y="1800"/>
                      <a:pt x="7303" y="1804"/>
                      <a:pt x="7303" y="1808"/>
                    </a:cubicBezTo>
                    <a:cubicBezTo>
                      <a:pt x="7303" y="1813"/>
                      <a:pt x="7299" y="1816"/>
                      <a:pt x="7294" y="1816"/>
                    </a:cubicBezTo>
                    <a:lnTo>
                      <a:pt x="7294" y="1816"/>
                    </a:lnTo>
                    <a:cubicBezTo>
                      <a:pt x="7290" y="1816"/>
                      <a:pt x="7286" y="1813"/>
                      <a:pt x="7286" y="1808"/>
                    </a:cubicBezTo>
                    <a:cubicBezTo>
                      <a:pt x="7286" y="1804"/>
                      <a:pt x="7290" y="1800"/>
                      <a:pt x="7294" y="1800"/>
                    </a:cubicBezTo>
                    <a:close/>
                    <a:moveTo>
                      <a:pt x="7328" y="1800"/>
                    </a:moveTo>
                    <a:lnTo>
                      <a:pt x="7328" y="1800"/>
                    </a:lnTo>
                    <a:cubicBezTo>
                      <a:pt x="7332" y="1800"/>
                      <a:pt x="7336" y="1804"/>
                      <a:pt x="7336" y="1808"/>
                    </a:cubicBezTo>
                    <a:cubicBezTo>
                      <a:pt x="7336" y="1813"/>
                      <a:pt x="7332" y="1816"/>
                      <a:pt x="7328" y="1816"/>
                    </a:cubicBezTo>
                    <a:lnTo>
                      <a:pt x="7328" y="1816"/>
                    </a:lnTo>
                    <a:cubicBezTo>
                      <a:pt x="7323" y="1816"/>
                      <a:pt x="7319" y="1813"/>
                      <a:pt x="7319" y="1808"/>
                    </a:cubicBezTo>
                    <a:cubicBezTo>
                      <a:pt x="7319" y="1804"/>
                      <a:pt x="7323" y="1800"/>
                      <a:pt x="7328" y="1800"/>
                    </a:cubicBezTo>
                    <a:close/>
                    <a:moveTo>
                      <a:pt x="7361" y="1800"/>
                    </a:moveTo>
                    <a:lnTo>
                      <a:pt x="7361" y="1800"/>
                    </a:lnTo>
                    <a:cubicBezTo>
                      <a:pt x="7366" y="1800"/>
                      <a:pt x="7369" y="1804"/>
                      <a:pt x="7369" y="1808"/>
                    </a:cubicBezTo>
                    <a:cubicBezTo>
                      <a:pt x="7369" y="1813"/>
                      <a:pt x="7366" y="1816"/>
                      <a:pt x="7361" y="1816"/>
                    </a:cubicBezTo>
                    <a:lnTo>
                      <a:pt x="7361" y="1816"/>
                    </a:lnTo>
                    <a:cubicBezTo>
                      <a:pt x="7357" y="1816"/>
                      <a:pt x="7353" y="1813"/>
                      <a:pt x="7353" y="1808"/>
                    </a:cubicBezTo>
                    <a:cubicBezTo>
                      <a:pt x="7353" y="1804"/>
                      <a:pt x="7357" y="1800"/>
                      <a:pt x="7361" y="1800"/>
                    </a:cubicBezTo>
                    <a:close/>
                    <a:moveTo>
                      <a:pt x="7394" y="1800"/>
                    </a:moveTo>
                    <a:lnTo>
                      <a:pt x="7394" y="1800"/>
                    </a:lnTo>
                    <a:cubicBezTo>
                      <a:pt x="7399" y="1800"/>
                      <a:pt x="7403" y="1804"/>
                      <a:pt x="7403" y="1808"/>
                    </a:cubicBezTo>
                    <a:cubicBezTo>
                      <a:pt x="7403" y="1813"/>
                      <a:pt x="7399" y="1816"/>
                      <a:pt x="7394" y="1816"/>
                    </a:cubicBezTo>
                    <a:lnTo>
                      <a:pt x="7394" y="1816"/>
                    </a:lnTo>
                    <a:cubicBezTo>
                      <a:pt x="7390" y="1816"/>
                      <a:pt x="7386" y="1813"/>
                      <a:pt x="7386" y="1808"/>
                    </a:cubicBezTo>
                    <a:cubicBezTo>
                      <a:pt x="7386" y="1804"/>
                      <a:pt x="7390" y="1800"/>
                      <a:pt x="7394" y="1800"/>
                    </a:cubicBezTo>
                    <a:close/>
                    <a:moveTo>
                      <a:pt x="7428" y="1800"/>
                    </a:moveTo>
                    <a:lnTo>
                      <a:pt x="7428" y="1800"/>
                    </a:lnTo>
                    <a:cubicBezTo>
                      <a:pt x="7432" y="1800"/>
                      <a:pt x="7436" y="1804"/>
                      <a:pt x="7436" y="1808"/>
                    </a:cubicBezTo>
                    <a:cubicBezTo>
                      <a:pt x="7436" y="1813"/>
                      <a:pt x="7432" y="1816"/>
                      <a:pt x="7428" y="1816"/>
                    </a:cubicBezTo>
                    <a:lnTo>
                      <a:pt x="7428" y="1816"/>
                    </a:lnTo>
                    <a:cubicBezTo>
                      <a:pt x="7423" y="1816"/>
                      <a:pt x="7419" y="1813"/>
                      <a:pt x="7419" y="1808"/>
                    </a:cubicBezTo>
                    <a:cubicBezTo>
                      <a:pt x="7419" y="1804"/>
                      <a:pt x="7423" y="1800"/>
                      <a:pt x="7428" y="1800"/>
                    </a:cubicBezTo>
                    <a:close/>
                    <a:moveTo>
                      <a:pt x="7461" y="1800"/>
                    </a:moveTo>
                    <a:lnTo>
                      <a:pt x="7461" y="1800"/>
                    </a:lnTo>
                    <a:cubicBezTo>
                      <a:pt x="7466" y="1800"/>
                      <a:pt x="7470" y="1804"/>
                      <a:pt x="7470" y="1808"/>
                    </a:cubicBezTo>
                    <a:cubicBezTo>
                      <a:pt x="7470" y="1813"/>
                      <a:pt x="7466" y="1816"/>
                      <a:pt x="7461" y="1816"/>
                    </a:cubicBezTo>
                    <a:lnTo>
                      <a:pt x="7461" y="1816"/>
                    </a:lnTo>
                    <a:cubicBezTo>
                      <a:pt x="7457" y="1816"/>
                      <a:pt x="7453" y="1813"/>
                      <a:pt x="7453" y="1808"/>
                    </a:cubicBezTo>
                    <a:cubicBezTo>
                      <a:pt x="7453" y="1804"/>
                      <a:pt x="7457" y="1800"/>
                      <a:pt x="7461" y="1800"/>
                    </a:cubicBezTo>
                    <a:close/>
                    <a:moveTo>
                      <a:pt x="7495" y="1800"/>
                    </a:moveTo>
                    <a:lnTo>
                      <a:pt x="7495" y="1800"/>
                    </a:lnTo>
                    <a:cubicBezTo>
                      <a:pt x="7499" y="1800"/>
                      <a:pt x="7503" y="1804"/>
                      <a:pt x="7503" y="1808"/>
                    </a:cubicBezTo>
                    <a:cubicBezTo>
                      <a:pt x="7503" y="1813"/>
                      <a:pt x="7499" y="1816"/>
                      <a:pt x="7495" y="1816"/>
                    </a:cubicBezTo>
                    <a:lnTo>
                      <a:pt x="7495" y="1816"/>
                    </a:lnTo>
                    <a:cubicBezTo>
                      <a:pt x="7490" y="1816"/>
                      <a:pt x="7486" y="1813"/>
                      <a:pt x="7486" y="1808"/>
                    </a:cubicBezTo>
                    <a:cubicBezTo>
                      <a:pt x="7486" y="1804"/>
                      <a:pt x="7490" y="1800"/>
                      <a:pt x="7495" y="1800"/>
                    </a:cubicBezTo>
                    <a:close/>
                    <a:moveTo>
                      <a:pt x="7528" y="1800"/>
                    </a:moveTo>
                    <a:lnTo>
                      <a:pt x="7528" y="1800"/>
                    </a:lnTo>
                    <a:cubicBezTo>
                      <a:pt x="7532" y="1800"/>
                      <a:pt x="7536" y="1804"/>
                      <a:pt x="7536" y="1808"/>
                    </a:cubicBezTo>
                    <a:cubicBezTo>
                      <a:pt x="7536" y="1813"/>
                      <a:pt x="7532" y="1816"/>
                      <a:pt x="7528" y="1816"/>
                    </a:cubicBezTo>
                    <a:lnTo>
                      <a:pt x="7528" y="1816"/>
                    </a:lnTo>
                    <a:cubicBezTo>
                      <a:pt x="7523" y="1816"/>
                      <a:pt x="7520" y="1813"/>
                      <a:pt x="7520" y="1808"/>
                    </a:cubicBezTo>
                    <a:cubicBezTo>
                      <a:pt x="7520" y="1804"/>
                      <a:pt x="7523" y="1800"/>
                      <a:pt x="7528" y="1800"/>
                    </a:cubicBezTo>
                    <a:close/>
                    <a:moveTo>
                      <a:pt x="7561" y="1800"/>
                    </a:moveTo>
                    <a:lnTo>
                      <a:pt x="7561" y="1800"/>
                    </a:lnTo>
                    <a:cubicBezTo>
                      <a:pt x="7566" y="1800"/>
                      <a:pt x="7570" y="1804"/>
                      <a:pt x="7570" y="1808"/>
                    </a:cubicBezTo>
                    <a:cubicBezTo>
                      <a:pt x="7570" y="1813"/>
                      <a:pt x="7566" y="1816"/>
                      <a:pt x="7561" y="1816"/>
                    </a:cubicBezTo>
                    <a:lnTo>
                      <a:pt x="7561" y="1816"/>
                    </a:lnTo>
                    <a:cubicBezTo>
                      <a:pt x="7557" y="1816"/>
                      <a:pt x="7553" y="1813"/>
                      <a:pt x="7553" y="1808"/>
                    </a:cubicBezTo>
                    <a:cubicBezTo>
                      <a:pt x="7553" y="1804"/>
                      <a:pt x="7557" y="1800"/>
                      <a:pt x="7561" y="1800"/>
                    </a:cubicBezTo>
                    <a:close/>
                    <a:moveTo>
                      <a:pt x="7595" y="1800"/>
                    </a:moveTo>
                    <a:lnTo>
                      <a:pt x="7595" y="1800"/>
                    </a:lnTo>
                    <a:cubicBezTo>
                      <a:pt x="7599" y="1800"/>
                      <a:pt x="7603" y="1804"/>
                      <a:pt x="7603" y="1808"/>
                    </a:cubicBezTo>
                    <a:cubicBezTo>
                      <a:pt x="7603" y="1813"/>
                      <a:pt x="7599" y="1816"/>
                      <a:pt x="7595" y="1816"/>
                    </a:cubicBezTo>
                    <a:lnTo>
                      <a:pt x="7595" y="1816"/>
                    </a:lnTo>
                    <a:cubicBezTo>
                      <a:pt x="7590" y="1816"/>
                      <a:pt x="7586" y="1813"/>
                      <a:pt x="7586" y="1808"/>
                    </a:cubicBezTo>
                    <a:cubicBezTo>
                      <a:pt x="7586" y="1804"/>
                      <a:pt x="7590" y="1800"/>
                      <a:pt x="7595" y="1800"/>
                    </a:cubicBezTo>
                    <a:close/>
                    <a:moveTo>
                      <a:pt x="7628" y="1800"/>
                    </a:moveTo>
                    <a:lnTo>
                      <a:pt x="7628" y="1800"/>
                    </a:lnTo>
                    <a:cubicBezTo>
                      <a:pt x="7633" y="1800"/>
                      <a:pt x="7636" y="1804"/>
                      <a:pt x="7636" y="1808"/>
                    </a:cubicBezTo>
                    <a:cubicBezTo>
                      <a:pt x="7636" y="1813"/>
                      <a:pt x="7633" y="1816"/>
                      <a:pt x="7628" y="1816"/>
                    </a:cubicBezTo>
                    <a:lnTo>
                      <a:pt x="7628" y="1816"/>
                    </a:lnTo>
                    <a:cubicBezTo>
                      <a:pt x="7623" y="1816"/>
                      <a:pt x="7620" y="1813"/>
                      <a:pt x="7620" y="1808"/>
                    </a:cubicBezTo>
                    <a:cubicBezTo>
                      <a:pt x="7620" y="1804"/>
                      <a:pt x="7623" y="1800"/>
                      <a:pt x="7628" y="1800"/>
                    </a:cubicBezTo>
                    <a:close/>
                    <a:moveTo>
                      <a:pt x="7661" y="1800"/>
                    </a:moveTo>
                    <a:lnTo>
                      <a:pt x="7661" y="1800"/>
                    </a:lnTo>
                    <a:cubicBezTo>
                      <a:pt x="7666" y="1800"/>
                      <a:pt x="7670" y="1804"/>
                      <a:pt x="7670" y="1808"/>
                    </a:cubicBezTo>
                    <a:cubicBezTo>
                      <a:pt x="7670" y="1813"/>
                      <a:pt x="7666" y="1816"/>
                      <a:pt x="7661" y="1816"/>
                    </a:cubicBezTo>
                    <a:lnTo>
                      <a:pt x="7661" y="1816"/>
                    </a:lnTo>
                    <a:cubicBezTo>
                      <a:pt x="7657" y="1816"/>
                      <a:pt x="7653" y="1813"/>
                      <a:pt x="7653" y="1808"/>
                    </a:cubicBezTo>
                    <a:cubicBezTo>
                      <a:pt x="7653" y="1804"/>
                      <a:pt x="7657" y="1800"/>
                      <a:pt x="7661" y="1800"/>
                    </a:cubicBezTo>
                    <a:close/>
                    <a:moveTo>
                      <a:pt x="7695" y="1800"/>
                    </a:moveTo>
                    <a:lnTo>
                      <a:pt x="7695" y="1800"/>
                    </a:lnTo>
                    <a:cubicBezTo>
                      <a:pt x="7699" y="1800"/>
                      <a:pt x="7703" y="1804"/>
                      <a:pt x="7703" y="1808"/>
                    </a:cubicBezTo>
                    <a:cubicBezTo>
                      <a:pt x="7703" y="1813"/>
                      <a:pt x="7699" y="1816"/>
                      <a:pt x="7695" y="1816"/>
                    </a:cubicBezTo>
                    <a:lnTo>
                      <a:pt x="7695" y="1816"/>
                    </a:lnTo>
                    <a:cubicBezTo>
                      <a:pt x="7690" y="1816"/>
                      <a:pt x="7686" y="1813"/>
                      <a:pt x="7686" y="1808"/>
                    </a:cubicBezTo>
                    <a:cubicBezTo>
                      <a:pt x="7686" y="1804"/>
                      <a:pt x="7690" y="1800"/>
                      <a:pt x="7695" y="1800"/>
                    </a:cubicBezTo>
                    <a:close/>
                    <a:moveTo>
                      <a:pt x="7728" y="1800"/>
                    </a:moveTo>
                    <a:lnTo>
                      <a:pt x="7728" y="1800"/>
                    </a:lnTo>
                    <a:cubicBezTo>
                      <a:pt x="7733" y="1800"/>
                      <a:pt x="7736" y="1804"/>
                      <a:pt x="7736" y="1808"/>
                    </a:cubicBezTo>
                    <a:cubicBezTo>
                      <a:pt x="7736" y="1813"/>
                      <a:pt x="7733" y="1816"/>
                      <a:pt x="7728" y="1816"/>
                    </a:cubicBezTo>
                    <a:lnTo>
                      <a:pt x="7728" y="1816"/>
                    </a:lnTo>
                    <a:cubicBezTo>
                      <a:pt x="7723" y="1816"/>
                      <a:pt x="7720" y="1813"/>
                      <a:pt x="7720" y="1808"/>
                    </a:cubicBezTo>
                    <a:cubicBezTo>
                      <a:pt x="7720" y="1804"/>
                      <a:pt x="7723" y="1800"/>
                      <a:pt x="7728" y="1800"/>
                    </a:cubicBezTo>
                    <a:close/>
                    <a:moveTo>
                      <a:pt x="7761" y="1800"/>
                    </a:moveTo>
                    <a:lnTo>
                      <a:pt x="7761" y="1800"/>
                    </a:lnTo>
                    <a:cubicBezTo>
                      <a:pt x="7766" y="1800"/>
                      <a:pt x="7770" y="1804"/>
                      <a:pt x="7770" y="1808"/>
                    </a:cubicBezTo>
                    <a:cubicBezTo>
                      <a:pt x="7770" y="1813"/>
                      <a:pt x="7766" y="1816"/>
                      <a:pt x="7761" y="1816"/>
                    </a:cubicBezTo>
                    <a:lnTo>
                      <a:pt x="7761" y="1816"/>
                    </a:lnTo>
                    <a:cubicBezTo>
                      <a:pt x="7757" y="1816"/>
                      <a:pt x="7753" y="1813"/>
                      <a:pt x="7753" y="1808"/>
                    </a:cubicBezTo>
                    <a:cubicBezTo>
                      <a:pt x="7753" y="1804"/>
                      <a:pt x="7757" y="1800"/>
                      <a:pt x="7761" y="1800"/>
                    </a:cubicBezTo>
                    <a:close/>
                    <a:moveTo>
                      <a:pt x="7795" y="1800"/>
                    </a:moveTo>
                    <a:lnTo>
                      <a:pt x="7795" y="1800"/>
                    </a:lnTo>
                    <a:cubicBezTo>
                      <a:pt x="7799" y="1800"/>
                      <a:pt x="7803" y="1804"/>
                      <a:pt x="7803" y="1808"/>
                    </a:cubicBezTo>
                    <a:cubicBezTo>
                      <a:pt x="7803" y="1813"/>
                      <a:pt x="7799" y="1816"/>
                      <a:pt x="7795" y="1816"/>
                    </a:cubicBezTo>
                    <a:lnTo>
                      <a:pt x="7795" y="1816"/>
                    </a:lnTo>
                    <a:cubicBezTo>
                      <a:pt x="7790" y="1816"/>
                      <a:pt x="7786" y="1813"/>
                      <a:pt x="7786" y="1808"/>
                    </a:cubicBezTo>
                    <a:cubicBezTo>
                      <a:pt x="7786" y="1804"/>
                      <a:pt x="7790" y="1800"/>
                      <a:pt x="7795" y="1800"/>
                    </a:cubicBezTo>
                    <a:close/>
                    <a:moveTo>
                      <a:pt x="7828" y="1800"/>
                    </a:moveTo>
                    <a:lnTo>
                      <a:pt x="7828" y="1800"/>
                    </a:lnTo>
                    <a:cubicBezTo>
                      <a:pt x="7833" y="1800"/>
                      <a:pt x="7836" y="1804"/>
                      <a:pt x="7836" y="1808"/>
                    </a:cubicBezTo>
                    <a:cubicBezTo>
                      <a:pt x="7836" y="1813"/>
                      <a:pt x="7833" y="1816"/>
                      <a:pt x="7828" y="1816"/>
                    </a:cubicBezTo>
                    <a:lnTo>
                      <a:pt x="7828" y="1816"/>
                    </a:lnTo>
                    <a:cubicBezTo>
                      <a:pt x="7823" y="1816"/>
                      <a:pt x="7820" y="1813"/>
                      <a:pt x="7820" y="1808"/>
                    </a:cubicBezTo>
                    <a:cubicBezTo>
                      <a:pt x="7820" y="1804"/>
                      <a:pt x="7823" y="1800"/>
                      <a:pt x="7828" y="1800"/>
                    </a:cubicBezTo>
                    <a:close/>
                    <a:moveTo>
                      <a:pt x="7861" y="1800"/>
                    </a:moveTo>
                    <a:lnTo>
                      <a:pt x="7861" y="1800"/>
                    </a:lnTo>
                    <a:cubicBezTo>
                      <a:pt x="7866" y="1800"/>
                      <a:pt x="7870" y="1804"/>
                      <a:pt x="7870" y="1808"/>
                    </a:cubicBezTo>
                    <a:cubicBezTo>
                      <a:pt x="7870" y="1813"/>
                      <a:pt x="7866" y="1816"/>
                      <a:pt x="7861" y="1816"/>
                    </a:cubicBezTo>
                    <a:lnTo>
                      <a:pt x="7861" y="1816"/>
                    </a:lnTo>
                    <a:cubicBezTo>
                      <a:pt x="7857" y="1816"/>
                      <a:pt x="7853" y="1813"/>
                      <a:pt x="7853" y="1808"/>
                    </a:cubicBezTo>
                    <a:cubicBezTo>
                      <a:pt x="7853" y="1804"/>
                      <a:pt x="7857" y="1800"/>
                      <a:pt x="7861" y="1800"/>
                    </a:cubicBezTo>
                    <a:close/>
                    <a:moveTo>
                      <a:pt x="7895" y="1800"/>
                    </a:moveTo>
                    <a:lnTo>
                      <a:pt x="7895" y="1800"/>
                    </a:lnTo>
                    <a:cubicBezTo>
                      <a:pt x="7899" y="1800"/>
                      <a:pt x="7903" y="1804"/>
                      <a:pt x="7903" y="1808"/>
                    </a:cubicBezTo>
                    <a:cubicBezTo>
                      <a:pt x="7903" y="1813"/>
                      <a:pt x="7899" y="1816"/>
                      <a:pt x="7895" y="1816"/>
                    </a:cubicBezTo>
                    <a:lnTo>
                      <a:pt x="7895" y="1816"/>
                    </a:lnTo>
                    <a:cubicBezTo>
                      <a:pt x="7890" y="1816"/>
                      <a:pt x="7886" y="1813"/>
                      <a:pt x="7886" y="1808"/>
                    </a:cubicBezTo>
                    <a:cubicBezTo>
                      <a:pt x="7886" y="1804"/>
                      <a:pt x="7890" y="1800"/>
                      <a:pt x="7895" y="1800"/>
                    </a:cubicBezTo>
                    <a:close/>
                    <a:moveTo>
                      <a:pt x="7928" y="1800"/>
                    </a:moveTo>
                    <a:lnTo>
                      <a:pt x="7928" y="1800"/>
                    </a:lnTo>
                    <a:cubicBezTo>
                      <a:pt x="7933" y="1800"/>
                      <a:pt x="7936" y="1804"/>
                      <a:pt x="7936" y="1808"/>
                    </a:cubicBezTo>
                    <a:cubicBezTo>
                      <a:pt x="7936" y="1813"/>
                      <a:pt x="7933" y="1816"/>
                      <a:pt x="7928" y="1816"/>
                    </a:cubicBezTo>
                    <a:lnTo>
                      <a:pt x="7928" y="1816"/>
                    </a:lnTo>
                    <a:cubicBezTo>
                      <a:pt x="7923" y="1816"/>
                      <a:pt x="7920" y="1813"/>
                      <a:pt x="7920" y="1808"/>
                    </a:cubicBezTo>
                    <a:cubicBezTo>
                      <a:pt x="7920" y="1804"/>
                      <a:pt x="7923" y="1800"/>
                      <a:pt x="7928" y="1800"/>
                    </a:cubicBezTo>
                    <a:close/>
                    <a:moveTo>
                      <a:pt x="7961" y="1800"/>
                    </a:moveTo>
                    <a:lnTo>
                      <a:pt x="7961" y="1800"/>
                    </a:lnTo>
                    <a:cubicBezTo>
                      <a:pt x="7966" y="1800"/>
                      <a:pt x="7970" y="1804"/>
                      <a:pt x="7970" y="1808"/>
                    </a:cubicBezTo>
                    <a:cubicBezTo>
                      <a:pt x="7970" y="1813"/>
                      <a:pt x="7966" y="1816"/>
                      <a:pt x="7961" y="1816"/>
                    </a:cubicBezTo>
                    <a:lnTo>
                      <a:pt x="7961" y="1816"/>
                    </a:lnTo>
                    <a:cubicBezTo>
                      <a:pt x="7957" y="1816"/>
                      <a:pt x="7953" y="1813"/>
                      <a:pt x="7953" y="1808"/>
                    </a:cubicBezTo>
                    <a:cubicBezTo>
                      <a:pt x="7953" y="1804"/>
                      <a:pt x="7957" y="1800"/>
                      <a:pt x="7961" y="1800"/>
                    </a:cubicBezTo>
                    <a:close/>
                    <a:moveTo>
                      <a:pt x="7995" y="1800"/>
                    </a:moveTo>
                    <a:lnTo>
                      <a:pt x="7995" y="1800"/>
                    </a:lnTo>
                    <a:cubicBezTo>
                      <a:pt x="7999" y="1800"/>
                      <a:pt x="8003" y="1804"/>
                      <a:pt x="8003" y="1808"/>
                    </a:cubicBezTo>
                    <a:cubicBezTo>
                      <a:pt x="8003" y="1813"/>
                      <a:pt x="7999" y="1816"/>
                      <a:pt x="7995" y="1816"/>
                    </a:cubicBezTo>
                    <a:lnTo>
                      <a:pt x="7995" y="1816"/>
                    </a:lnTo>
                    <a:cubicBezTo>
                      <a:pt x="7990" y="1816"/>
                      <a:pt x="7986" y="1813"/>
                      <a:pt x="7986" y="1808"/>
                    </a:cubicBezTo>
                    <a:cubicBezTo>
                      <a:pt x="7986" y="1804"/>
                      <a:pt x="7990" y="1800"/>
                      <a:pt x="7995" y="1800"/>
                    </a:cubicBezTo>
                    <a:close/>
                    <a:moveTo>
                      <a:pt x="8028" y="1800"/>
                    </a:moveTo>
                    <a:lnTo>
                      <a:pt x="8028" y="1800"/>
                    </a:lnTo>
                    <a:cubicBezTo>
                      <a:pt x="8033" y="1800"/>
                      <a:pt x="8036" y="1804"/>
                      <a:pt x="8036" y="1808"/>
                    </a:cubicBezTo>
                    <a:cubicBezTo>
                      <a:pt x="8036" y="1813"/>
                      <a:pt x="8033" y="1816"/>
                      <a:pt x="8028" y="1816"/>
                    </a:cubicBezTo>
                    <a:lnTo>
                      <a:pt x="8028" y="1816"/>
                    </a:lnTo>
                    <a:cubicBezTo>
                      <a:pt x="8024" y="1816"/>
                      <a:pt x="8020" y="1813"/>
                      <a:pt x="8020" y="1808"/>
                    </a:cubicBezTo>
                    <a:cubicBezTo>
                      <a:pt x="8020" y="1804"/>
                      <a:pt x="8024" y="1800"/>
                      <a:pt x="8028" y="1800"/>
                    </a:cubicBezTo>
                    <a:close/>
                    <a:moveTo>
                      <a:pt x="8061" y="1800"/>
                    </a:moveTo>
                    <a:lnTo>
                      <a:pt x="8062" y="1800"/>
                    </a:lnTo>
                    <a:cubicBezTo>
                      <a:pt x="8066" y="1800"/>
                      <a:pt x="8070" y="1804"/>
                      <a:pt x="8070" y="1808"/>
                    </a:cubicBezTo>
                    <a:cubicBezTo>
                      <a:pt x="8070" y="1813"/>
                      <a:pt x="8066" y="1816"/>
                      <a:pt x="8062" y="1816"/>
                    </a:cubicBezTo>
                    <a:lnTo>
                      <a:pt x="8061" y="1816"/>
                    </a:lnTo>
                    <a:cubicBezTo>
                      <a:pt x="8057" y="1816"/>
                      <a:pt x="8053" y="1813"/>
                      <a:pt x="8053" y="1808"/>
                    </a:cubicBezTo>
                    <a:cubicBezTo>
                      <a:pt x="8053" y="1804"/>
                      <a:pt x="8057" y="1800"/>
                      <a:pt x="8061" y="1800"/>
                    </a:cubicBezTo>
                    <a:close/>
                    <a:moveTo>
                      <a:pt x="8095" y="1800"/>
                    </a:moveTo>
                    <a:lnTo>
                      <a:pt x="8095" y="1800"/>
                    </a:lnTo>
                    <a:cubicBezTo>
                      <a:pt x="8099" y="1800"/>
                      <a:pt x="8103" y="1804"/>
                      <a:pt x="8103" y="1808"/>
                    </a:cubicBezTo>
                    <a:cubicBezTo>
                      <a:pt x="8103" y="1813"/>
                      <a:pt x="8099" y="1816"/>
                      <a:pt x="8095" y="1816"/>
                    </a:cubicBezTo>
                    <a:lnTo>
                      <a:pt x="8095" y="1816"/>
                    </a:lnTo>
                    <a:cubicBezTo>
                      <a:pt x="8090" y="1816"/>
                      <a:pt x="8087" y="1813"/>
                      <a:pt x="8087" y="1808"/>
                    </a:cubicBezTo>
                    <a:cubicBezTo>
                      <a:pt x="8087" y="1804"/>
                      <a:pt x="8090" y="1800"/>
                      <a:pt x="8095" y="1800"/>
                    </a:cubicBezTo>
                    <a:close/>
                    <a:moveTo>
                      <a:pt x="8128" y="1800"/>
                    </a:moveTo>
                    <a:lnTo>
                      <a:pt x="8128" y="1800"/>
                    </a:lnTo>
                    <a:cubicBezTo>
                      <a:pt x="8133" y="1800"/>
                      <a:pt x="8137" y="1804"/>
                      <a:pt x="8137" y="1808"/>
                    </a:cubicBezTo>
                    <a:cubicBezTo>
                      <a:pt x="8137" y="1813"/>
                      <a:pt x="8133" y="1816"/>
                      <a:pt x="8128" y="1816"/>
                    </a:cubicBezTo>
                    <a:lnTo>
                      <a:pt x="8128" y="1816"/>
                    </a:lnTo>
                    <a:cubicBezTo>
                      <a:pt x="8124" y="1816"/>
                      <a:pt x="8120" y="1813"/>
                      <a:pt x="8120" y="1808"/>
                    </a:cubicBezTo>
                    <a:cubicBezTo>
                      <a:pt x="8120" y="1804"/>
                      <a:pt x="8124" y="1800"/>
                      <a:pt x="8128" y="1800"/>
                    </a:cubicBezTo>
                    <a:close/>
                    <a:moveTo>
                      <a:pt x="8162" y="1800"/>
                    </a:moveTo>
                    <a:lnTo>
                      <a:pt x="8162" y="1800"/>
                    </a:lnTo>
                    <a:cubicBezTo>
                      <a:pt x="8166" y="1800"/>
                      <a:pt x="8170" y="1804"/>
                      <a:pt x="8170" y="1808"/>
                    </a:cubicBezTo>
                    <a:cubicBezTo>
                      <a:pt x="8170" y="1813"/>
                      <a:pt x="8166" y="1816"/>
                      <a:pt x="8162" y="1816"/>
                    </a:cubicBezTo>
                    <a:lnTo>
                      <a:pt x="8162" y="1816"/>
                    </a:lnTo>
                    <a:cubicBezTo>
                      <a:pt x="8157" y="1816"/>
                      <a:pt x="8153" y="1813"/>
                      <a:pt x="8153" y="1808"/>
                    </a:cubicBezTo>
                    <a:cubicBezTo>
                      <a:pt x="8153" y="1804"/>
                      <a:pt x="8157" y="1800"/>
                      <a:pt x="8162" y="1800"/>
                    </a:cubicBezTo>
                    <a:close/>
                    <a:moveTo>
                      <a:pt x="8195" y="1800"/>
                    </a:moveTo>
                    <a:lnTo>
                      <a:pt x="8195" y="1800"/>
                    </a:lnTo>
                    <a:cubicBezTo>
                      <a:pt x="8200" y="1800"/>
                      <a:pt x="8203" y="1804"/>
                      <a:pt x="8203" y="1808"/>
                    </a:cubicBezTo>
                    <a:cubicBezTo>
                      <a:pt x="8203" y="1813"/>
                      <a:pt x="8200" y="1816"/>
                      <a:pt x="8195" y="1816"/>
                    </a:cubicBezTo>
                    <a:lnTo>
                      <a:pt x="8195" y="1816"/>
                    </a:lnTo>
                    <a:cubicBezTo>
                      <a:pt x="8190" y="1816"/>
                      <a:pt x="8187" y="1813"/>
                      <a:pt x="8187" y="1808"/>
                    </a:cubicBezTo>
                    <a:cubicBezTo>
                      <a:pt x="8187" y="1804"/>
                      <a:pt x="8190" y="1800"/>
                      <a:pt x="8195" y="1800"/>
                    </a:cubicBezTo>
                    <a:close/>
                    <a:moveTo>
                      <a:pt x="8228" y="1800"/>
                    </a:moveTo>
                    <a:lnTo>
                      <a:pt x="8228" y="1800"/>
                    </a:lnTo>
                    <a:cubicBezTo>
                      <a:pt x="8233" y="1800"/>
                      <a:pt x="8237" y="1804"/>
                      <a:pt x="8237" y="1808"/>
                    </a:cubicBezTo>
                    <a:cubicBezTo>
                      <a:pt x="8237" y="1813"/>
                      <a:pt x="8233" y="1816"/>
                      <a:pt x="8228" y="1816"/>
                    </a:cubicBezTo>
                    <a:lnTo>
                      <a:pt x="8228" y="1816"/>
                    </a:lnTo>
                    <a:cubicBezTo>
                      <a:pt x="8224" y="1816"/>
                      <a:pt x="8220" y="1813"/>
                      <a:pt x="8220" y="1808"/>
                    </a:cubicBezTo>
                    <a:cubicBezTo>
                      <a:pt x="8220" y="1804"/>
                      <a:pt x="8224" y="1800"/>
                      <a:pt x="8228" y="1800"/>
                    </a:cubicBezTo>
                    <a:close/>
                    <a:moveTo>
                      <a:pt x="8262" y="1800"/>
                    </a:moveTo>
                    <a:lnTo>
                      <a:pt x="8262" y="1800"/>
                    </a:lnTo>
                    <a:cubicBezTo>
                      <a:pt x="8266" y="1800"/>
                      <a:pt x="8270" y="1804"/>
                      <a:pt x="8270" y="1808"/>
                    </a:cubicBezTo>
                    <a:cubicBezTo>
                      <a:pt x="8270" y="1813"/>
                      <a:pt x="8266" y="1816"/>
                      <a:pt x="8262" y="1816"/>
                    </a:cubicBezTo>
                    <a:lnTo>
                      <a:pt x="8262" y="1816"/>
                    </a:lnTo>
                    <a:cubicBezTo>
                      <a:pt x="8257" y="1816"/>
                      <a:pt x="8253" y="1813"/>
                      <a:pt x="8253" y="1808"/>
                    </a:cubicBezTo>
                    <a:cubicBezTo>
                      <a:pt x="8253" y="1804"/>
                      <a:pt x="8257" y="1800"/>
                      <a:pt x="8262" y="1800"/>
                    </a:cubicBezTo>
                    <a:close/>
                    <a:moveTo>
                      <a:pt x="8295" y="1800"/>
                    </a:moveTo>
                    <a:lnTo>
                      <a:pt x="8295" y="1800"/>
                    </a:lnTo>
                    <a:cubicBezTo>
                      <a:pt x="8300" y="1800"/>
                      <a:pt x="8303" y="1804"/>
                      <a:pt x="8303" y="1808"/>
                    </a:cubicBezTo>
                    <a:cubicBezTo>
                      <a:pt x="8303" y="1813"/>
                      <a:pt x="8300" y="1816"/>
                      <a:pt x="8295" y="1816"/>
                    </a:cubicBezTo>
                    <a:lnTo>
                      <a:pt x="8295" y="1816"/>
                    </a:lnTo>
                    <a:cubicBezTo>
                      <a:pt x="8290" y="1816"/>
                      <a:pt x="8287" y="1813"/>
                      <a:pt x="8287" y="1808"/>
                    </a:cubicBezTo>
                    <a:cubicBezTo>
                      <a:pt x="8287" y="1804"/>
                      <a:pt x="8290" y="1800"/>
                      <a:pt x="8295" y="1800"/>
                    </a:cubicBezTo>
                    <a:close/>
                    <a:moveTo>
                      <a:pt x="8328" y="1800"/>
                    </a:moveTo>
                    <a:lnTo>
                      <a:pt x="8328" y="1800"/>
                    </a:lnTo>
                    <a:cubicBezTo>
                      <a:pt x="8333" y="1800"/>
                      <a:pt x="8337" y="1804"/>
                      <a:pt x="8337" y="1808"/>
                    </a:cubicBezTo>
                    <a:cubicBezTo>
                      <a:pt x="8337" y="1813"/>
                      <a:pt x="8333" y="1816"/>
                      <a:pt x="8328" y="1816"/>
                    </a:cubicBezTo>
                    <a:lnTo>
                      <a:pt x="8328" y="1816"/>
                    </a:lnTo>
                    <a:cubicBezTo>
                      <a:pt x="8324" y="1816"/>
                      <a:pt x="8320" y="1813"/>
                      <a:pt x="8320" y="1808"/>
                    </a:cubicBezTo>
                    <a:cubicBezTo>
                      <a:pt x="8320" y="1804"/>
                      <a:pt x="8324" y="1800"/>
                      <a:pt x="8328" y="1800"/>
                    </a:cubicBezTo>
                    <a:close/>
                    <a:moveTo>
                      <a:pt x="8362" y="1800"/>
                    </a:moveTo>
                    <a:lnTo>
                      <a:pt x="8362" y="1800"/>
                    </a:lnTo>
                    <a:cubicBezTo>
                      <a:pt x="8366" y="1800"/>
                      <a:pt x="8370" y="1804"/>
                      <a:pt x="8370" y="1808"/>
                    </a:cubicBezTo>
                    <a:cubicBezTo>
                      <a:pt x="8370" y="1813"/>
                      <a:pt x="8366" y="1816"/>
                      <a:pt x="8362" y="1816"/>
                    </a:cubicBezTo>
                    <a:lnTo>
                      <a:pt x="8362" y="1816"/>
                    </a:lnTo>
                    <a:cubicBezTo>
                      <a:pt x="8357" y="1816"/>
                      <a:pt x="8353" y="1813"/>
                      <a:pt x="8353" y="1808"/>
                    </a:cubicBezTo>
                    <a:cubicBezTo>
                      <a:pt x="8353" y="1804"/>
                      <a:pt x="8357" y="1800"/>
                      <a:pt x="8362" y="1800"/>
                    </a:cubicBezTo>
                    <a:close/>
                    <a:moveTo>
                      <a:pt x="8395" y="1800"/>
                    </a:moveTo>
                    <a:lnTo>
                      <a:pt x="8395" y="1800"/>
                    </a:lnTo>
                    <a:cubicBezTo>
                      <a:pt x="8400" y="1800"/>
                      <a:pt x="8403" y="1804"/>
                      <a:pt x="8403" y="1808"/>
                    </a:cubicBezTo>
                    <a:cubicBezTo>
                      <a:pt x="8403" y="1813"/>
                      <a:pt x="8400" y="1816"/>
                      <a:pt x="8395" y="1816"/>
                    </a:cubicBezTo>
                    <a:lnTo>
                      <a:pt x="8395" y="1816"/>
                    </a:lnTo>
                    <a:cubicBezTo>
                      <a:pt x="8390" y="1816"/>
                      <a:pt x="8387" y="1813"/>
                      <a:pt x="8387" y="1808"/>
                    </a:cubicBezTo>
                    <a:cubicBezTo>
                      <a:pt x="8387" y="1804"/>
                      <a:pt x="8390" y="1800"/>
                      <a:pt x="8395" y="1800"/>
                    </a:cubicBezTo>
                    <a:close/>
                    <a:moveTo>
                      <a:pt x="8428" y="1800"/>
                    </a:moveTo>
                    <a:lnTo>
                      <a:pt x="8428" y="1800"/>
                    </a:lnTo>
                    <a:cubicBezTo>
                      <a:pt x="8433" y="1800"/>
                      <a:pt x="8437" y="1804"/>
                      <a:pt x="8437" y="1808"/>
                    </a:cubicBezTo>
                    <a:cubicBezTo>
                      <a:pt x="8437" y="1813"/>
                      <a:pt x="8433" y="1816"/>
                      <a:pt x="8428" y="1816"/>
                    </a:cubicBezTo>
                    <a:lnTo>
                      <a:pt x="8428" y="1816"/>
                    </a:lnTo>
                    <a:cubicBezTo>
                      <a:pt x="8424" y="1816"/>
                      <a:pt x="8420" y="1813"/>
                      <a:pt x="8420" y="1808"/>
                    </a:cubicBezTo>
                    <a:cubicBezTo>
                      <a:pt x="8420" y="1804"/>
                      <a:pt x="8424" y="1800"/>
                      <a:pt x="8428" y="1800"/>
                    </a:cubicBezTo>
                    <a:close/>
                    <a:moveTo>
                      <a:pt x="8462" y="1800"/>
                    </a:moveTo>
                    <a:lnTo>
                      <a:pt x="8462" y="1800"/>
                    </a:lnTo>
                    <a:cubicBezTo>
                      <a:pt x="8466" y="1800"/>
                      <a:pt x="8470" y="1804"/>
                      <a:pt x="8470" y="1808"/>
                    </a:cubicBezTo>
                    <a:cubicBezTo>
                      <a:pt x="8470" y="1813"/>
                      <a:pt x="8466" y="1816"/>
                      <a:pt x="8462" y="1816"/>
                    </a:cubicBezTo>
                    <a:lnTo>
                      <a:pt x="8462" y="1816"/>
                    </a:lnTo>
                    <a:cubicBezTo>
                      <a:pt x="8457" y="1816"/>
                      <a:pt x="8453" y="1813"/>
                      <a:pt x="8453" y="1808"/>
                    </a:cubicBezTo>
                    <a:cubicBezTo>
                      <a:pt x="8453" y="1804"/>
                      <a:pt x="8457" y="1800"/>
                      <a:pt x="8462" y="1800"/>
                    </a:cubicBezTo>
                    <a:close/>
                    <a:moveTo>
                      <a:pt x="8495" y="1800"/>
                    </a:moveTo>
                    <a:lnTo>
                      <a:pt x="8495" y="1800"/>
                    </a:lnTo>
                    <a:cubicBezTo>
                      <a:pt x="8500" y="1800"/>
                      <a:pt x="8503" y="1804"/>
                      <a:pt x="8503" y="1808"/>
                    </a:cubicBezTo>
                    <a:cubicBezTo>
                      <a:pt x="8503" y="1813"/>
                      <a:pt x="8500" y="1816"/>
                      <a:pt x="8495" y="1816"/>
                    </a:cubicBezTo>
                    <a:lnTo>
                      <a:pt x="8495" y="1816"/>
                    </a:lnTo>
                    <a:cubicBezTo>
                      <a:pt x="8490" y="1816"/>
                      <a:pt x="8487" y="1813"/>
                      <a:pt x="8487" y="1808"/>
                    </a:cubicBezTo>
                    <a:cubicBezTo>
                      <a:pt x="8487" y="1804"/>
                      <a:pt x="8490" y="1800"/>
                      <a:pt x="8495" y="1800"/>
                    </a:cubicBezTo>
                    <a:close/>
                    <a:moveTo>
                      <a:pt x="8528" y="1800"/>
                    </a:moveTo>
                    <a:lnTo>
                      <a:pt x="8528" y="1800"/>
                    </a:lnTo>
                    <a:cubicBezTo>
                      <a:pt x="8533" y="1800"/>
                      <a:pt x="8537" y="1804"/>
                      <a:pt x="8537" y="1808"/>
                    </a:cubicBezTo>
                    <a:cubicBezTo>
                      <a:pt x="8537" y="1813"/>
                      <a:pt x="8533" y="1816"/>
                      <a:pt x="8528" y="1816"/>
                    </a:cubicBezTo>
                    <a:lnTo>
                      <a:pt x="8528" y="1816"/>
                    </a:lnTo>
                    <a:cubicBezTo>
                      <a:pt x="8524" y="1816"/>
                      <a:pt x="8520" y="1813"/>
                      <a:pt x="8520" y="1808"/>
                    </a:cubicBezTo>
                    <a:cubicBezTo>
                      <a:pt x="8520" y="1804"/>
                      <a:pt x="8524" y="1800"/>
                      <a:pt x="8528" y="1800"/>
                    </a:cubicBezTo>
                    <a:close/>
                    <a:moveTo>
                      <a:pt x="8562" y="1800"/>
                    </a:moveTo>
                    <a:lnTo>
                      <a:pt x="8562" y="1800"/>
                    </a:lnTo>
                    <a:cubicBezTo>
                      <a:pt x="8566" y="1800"/>
                      <a:pt x="8570" y="1804"/>
                      <a:pt x="8570" y="1808"/>
                    </a:cubicBezTo>
                    <a:cubicBezTo>
                      <a:pt x="8570" y="1813"/>
                      <a:pt x="8566" y="1816"/>
                      <a:pt x="8562" y="1816"/>
                    </a:cubicBezTo>
                    <a:lnTo>
                      <a:pt x="8562" y="1816"/>
                    </a:lnTo>
                    <a:cubicBezTo>
                      <a:pt x="8557" y="1816"/>
                      <a:pt x="8553" y="1813"/>
                      <a:pt x="8553" y="1808"/>
                    </a:cubicBezTo>
                    <a:cubicBezTo>
                      <a:pt x="8553" y="1804"/>
                      <a:pt x="8557" y="1800"/>
                      <a:pt x="8562" y="1800"/>
                    </a:cubicBezTo>
                    <a:close/>
                    <a:moveTo>
                      <a:pt x="8595" y="1800"/>
                    </a:moveTo>
                    <a:lnTo>
                      <a:pt x="8595" y="1800"/>
                    </a:lnTo>
                    <a:cubicBezTo>
                      <a:pt x="8600" y="1800"/>
                      <a:pt x="8603" y="1804"/>
                      <a:pt x="8603" y="1808"/>
                    </a:cubicBezTo>
                    <a:cubicBezTo>
                      <a:pt x="8603" y="1813"/>
                      <a:pt x="8600" y="1816"/>
                      <a:pt x="8595" y="1816"/>
                    </a:cubicBezTo>
                    <a:lnTo>
                      <a:pt x="8595" y="1816"/>
                    </a:lnTo>
                    <a:cubicBezTo>
                      <a:pt x="8591" y="1816"/>
                      <a:pt x="8587" y="1813"/>
                      <a:pt x="8587" y="1808"/>
                    </a:cubicBezTo>
                    <a:cubicBezTo>
                      <a:pt x="8587" y="1804"/>
                      <a:pt x="8591" y="1800"/>
                      <a:pt x="8595" y="1800"/>
                    </a:cubicBezTo>
                    <a:close/>
                    <a:moveTo>
                      <a:pt x="8628" y="1800"/>
                    </a:moveTo>
                    <a:lnTo>
                      <a:pt x="8629" y="1800"/>
                    </a:lnTo>
                    <a:cubicBezTo>
                      <a:pt x="8633" y="1800"/>
                      <a:pt x="8637" y="1804"/>
                      <a:pt x="8637" y="1808"/>
                    </a:cubicBezTo>
                    <a:cubicBezTo>
                      <a:pt x="8637" y="1813"/>
                      <a:pt x="8633" y="1816"/>
                      <a:pt x="8629" y="1816"/>
                    </a:cubicBezTo>
                    <a:lnTo>
                      <a:pt x="8628" y="1816"/>
                    </a:lnTo>
                    <a:cubicBezTo>
                      <a:pt x="8624" y="1816"/>
                      <a:pt x="8620" y="1813"/>
                      <a:pt x="8620" y="1808"/>
                    </a:cubicBezTo>
                    <a:cubicBezTo>
                      <a:pt x="8620" y="1804"/>
                      <a:pt x="8624" y="1800"/>
                      <a:pt x="8628" y="1800"/>
                    </a:cubicBezTo>
                    <a:close/>
                    <a:moveTo>
                      <a:pt x="8662" y="1800"/>
                    </a:moveTo>
                    <a:lnTo>
                      <a:pt x="8662" y="1800"/>
                    </a:lnTo>
                    <a:cubicBezTo>
                      <a:pt x="8666" y="1800"/>
                      <a:pt x="8670" y="1804"/>
                      <a:pt x="8670" y="1808"/>
                    </a:cubicBezTo>
                    <a:cubicBezTo>
                      <a:pt x="8670" y="1813"/>
                      <a:pt x="8666" y="1816"/>
                      <a:pt x="8662" y="1816"/>
                    </a:cubicBezTo>
                    <a:lnTo>
                      <a:pt x="8662" y="1816"/>
                    </a:lnTo>
                    <a:cubicBezTo>
                      <a:pt x="8657" y="1816"/>
                      <a:pt x="8654" y="1813"/>
                      <a:pt x="8654" y="1808"/>
                    </a:cubicBezTo>
                    <a:cubicBezTo>
                      <a:pt x="8654" y="1804"/>
                      <a:pt x="8657" y="1800"/>
                      <a:pt x="8662" y="1800"/>
                    </a:cubicBezTo>
                    <a:close/>
                    <a:moveTo>
                      <a:pt x="8695" y="1800"/>
                    </a:moveTo>
                    <a:lnTo>
                      <a:pt x="8695" y="1800"/>
                    </a:lnTo>
                    <a:cubicBezTo>
                      <a:pt x="8700" y="1800"/>
                      <a:pt x="8704" y="1804"/>
                      <a:pt x="8704" y="1808"/>
                    </a:cubicBezTo>
                    <a:cubicBezTo>
                      <a:pt x="8704" y="1813"/>
                      <a:pt x="8700" y="1816"/>
                      <a:pt x="8695" y="1816"/>
                    </a:cubicBezTo>
                    <a:lnTo>
                      <a:pt x="8695" y="1816"/>
                    </a:lnTo>
                    <a:cubicBezTo>
                      <a:pt x="8691" y="1816"/>
                      <a:pt x="8687" y="1813"/>
                      <a:pt x="8687" y="1808"/>
                    </a:cubicBezTo>
                    <a:cubicBezTo>
                      <a:pt x="8687" y="1804"/>
                      <a:pt x="8691" y="1800"/>
                      <a:pt x="8695" y="1800"/>
                    </a:cubicBezTo>
                    <a:close/>
                    <a:moveTo>
                      <a:pt x="8729" y="1800"/>
                    </a:moveTo>
                    <a:lnTo>
                      <a:pt x="8729" y="1800"/>
                    </a:lnTo>
                    <a:cubicBezTo>
                      <a:pt x="8733" y="1800"/>
                      <a:pt x="8737" y="1804"/>
                      <a:pt x="8737" y="1808"/>
                    </a:cubicBezTo>
                    <a:cubicBezTo>
                      <a:pt x="8737" y="1813"/>
                      <a:pt x="8733" y="1816"/>
                      <a:pt x="8729" y="1816"/>
                    </a:cubicBezTo>
                    <a:lnTo>
                      <a:pt x="8729" y="1816"/>
                    </a:lnTo>
                    <a:cubicBezTo>
                      <a:pt x="8724" y="1816"/>
                      <a:pt x="8720" y="1813"/>
                      <a:pt x="8720" y="1808"/>
                    </a:cubicBezTo>
                    <a:cubicBezTo>
                      <a:pt x="8720" y="1804"/>
                      <a:pt x="8724" y="1800"/>
                      <a:pt x="8729" y="1800"/>
                    </a:cubicBezTo>
                    <a:close/>
                    <a:moveTo>
                      <a:pt x="8762" y="1800"/>
                    </a:moveTo>
                    <a:lnTo>
                      <a:pt x="8762" y="1800"/>
                    </a:lnTo>
                    <a:cubicBezTo>
                      <a:pt x="8767" y="1800"/>
                      <a:pt x="8770" y="1804"/>
                      <a:pt x="8770" y="1808"/>
                    </a:cubicBezTo>
                    <a:cubicBezTo>
                      <a:pt x="8770" y="1813"/>
                      <a:pt x="8767" y="1816"/>
                      <a:pt x="8762" y="1816"/>
                    </a:cubicBezTo>
                    <a:lnTo>
                      <a:pt x="8762" y="1816"/>
                    </a:lnTo>
                    <a:cubicBezTo>
                      <a:pt x="8757" y="1816"/>
                      <a:pt x="8754" y="1813"/>
                      <a:pt x="8754" y="1808"/>
                    </a:cubicBezTo>
                    <a:cubicBezTo>
                      <a:pt x="8754" y="1804"/>
                      <a:pt x="8757" y="1800"/>
                      <a:pt x="8762" y="1800"/>
                    </a:cubicBezTo>
                    <a:close/>
                    <a:moveTo>
                      <a:pt x="8795" y="1800"/>
                    </a:moveTo>
                    <a:lnTo>
                      <a:pt x="8795" y="1800"/>
                    </a:lnTo>
                    <a:cubicBezTo>
                      <a:pt x="8800" y="1800"/>
                      <a:pt x="8804" y="1804"/>
                      <a:pt x="8804" y="1808"/>
                    </a:cubicBezTo>
                    <a:cubicBezTo>
                      <a:pt x="8804" y="1813"/>
                      <a:pt x="8800" y="1816"/>
                      <a:pt x="8795" y="1816"/>
                    </a:cubicBezTo>
                    <a:lnTo>
                      <a:pt x="8795" y="1816"/>
                    </a:lnTo>
                    <a:cubicBezTo>
                      <a:pt x="8791" y="1816"/>
                      <a:pt x="8787" y="1813"/>
                      <a:pt x="8787" y="1808"/>
                    </a:cubicBezTo>
                    <a:cubicBezTo>
                      <a:pt x="8787" y="1804"/>
                      <a:pt x="8791" y="1800"/>
                      <a:pt x="8795" y="1800"/>
                    </a:cubicBezTo>
                    <a:close/>
                    <a:moveTo>
                      <a:pt x="8829" y="1800"/>
                    </a:moveTo>
                    <a:lnTo>
                      <a:pt x="8829" y="1800"/>
                    </a:lnTo>
                    <a:cubicBezTo>
                      <a:pt x="8833" y="1800"/>
                      <a:pt x="8837" y="1804"/>
                      <a:pt x="8837" y="1808"/>
                    </a:cubicBezTo>
                    <a:cubicBezTo>
                      <a:pt x="8837" y="1813"/>
                      <a:pt x="8833" y="1816"/>
                      <a:pt x="8829" y="1816"/>
                    </a:cubicBezTo>
                    <a:lnTo>
                      <a:pt x="8829" y="1816"/>
                    </a:lnTo>
                    <a:cubicBezTo>
                      <a:pt x="8824" y="1816"/>
                      <a:pt x="8820" y="1813"/>
                      <a:pt x="8820" y="1808"/>
                    </a:cubicBezTo>
                    <a:cubicBezTo>
                      <a:pt x="8820" y="1804"/>
                      <a:pt x="8824" y="1800"/>
                      <a:pt x="8829" y="1800"/>
                    </a:cubicBezTo>
                    <a:close/>
                    <a:moveTo>
                      <a:pt x="8862" y="1800"/>
                    </a:moveTo>
                    <a:lnTo>
                      <a:pt x="8862" y="1800"/>
                    </a:lnTo>
                    <a:cubicBezTo>
                      <a:pt x="8867" y="1800"/>
                      <a:pt x="8870" y="1804"/>
                      <a:pt x="8870" y="1808"/>
                    </a:cubicBezTo>
                    <a:cubicBezTo>
                      <a:pt x="8870" y="1813"/>
                      <a:pt x="8867" y="1816"/>
                      <a:pt x="8862" y="1816"/>
                    </a:cubicBezTo>
                    <a:lnTo>
                      <a:pt x="8862" y="1816"/>
                    </a:lnTo>
                    <a:cubicBezTo>
                      <a:pt x="8857" y="1816"/>
                      <a:pt x="8854" y="1813"/>
                      <a:pt x="8854" y="1808"/>
                    </a:cubicBezTo>
                    <a:cubicBezTo>
                      <a:pt x="8854" y="1804"/>
                      <a:pt x="8857" y="1800"/>
                      <a:pt x="8862" y="1800"/>
                    </a:cubicBezTo>
                    <a:close/>
                    <a:moveTo>
                      <a:pt x="8895" y="1800"/>
                    </a:moveTo>
                    <a:lnTo>
                      <a:pt x="8895" y="1800"/>
                    </a:lnTo>
                    <a:cubicBezTo>
                      <a:pt x="8900" y="1800"/>
                      <a:pt x="8904" y="1804"/>
                      <a:pt x="8904" y="1808"/>
                    </a:cubicBezTo>
                    <a:cubicBezTo>
                      <a:pt x="8904" y="1813"/>
                      <a:pt x="8900" y="1816"/>
                      <a:pt x="8895" y="1816"/>
                    </a:cubicBezTo>
                    <a:lnTo>
                      <a:pt x="8895" y="1816"/>
                    </a:lnTo>
                    <a:cubicBezTo>
                      <a:pt x="8891" y="1816"/>
                      <a:pt x="8887" y="1813"/>
                      <a:pt x="8887" y="1808"/>
                    </a:cubicBezTo>
                    <a:cubicBezTo>
                      <a:pt x="8887" y="1804"/>
                      <a:pt x="8891" y="1800"/>
                      <a:pt x="8895" y="1800"/>
                    </a:cubicBezTo>
                    <a:close/>
                    <a:moveTo>
                      <a:pt x="8929" y="1800"/>
                    </a:moveTo>
                    <a:lnTo>
                      <a:pt x="8929" y="1800"/>
                    </a:lnTo>
                    <a:cubicBezTo>
                      <a:pt x="8933" y="1800"/>
                      <a:pt x="8937" y="1804"/>
                      <a:pt x="8937" y="1808"/>
                    </a:cubicBezTo>
                    <a:cubicBezTo>
                      <a:pt x="8937" y="1813"/>
                      <a:pt x="8933" y="1816"/>
                      <a:pt x="8929" y="1816"/>
                    </a:cubicBezTo>
                    <a:lnTo>
                      <a:pt x="8929" y="1816"/>
                    </a:lnTo>
                    <a:cubicBezTo>
                      <a:pt x="8924" y="1816"/>
                      <a:pt x="8920" y="1813"/>
                      <a:pt x="8920" y="1808"/>
                    </a:cubicBezTo>
                    <a:cubicBezTo>
                      <a:pt x="8920" y="1804"/>
                      <a:pt x="8924" y="1800"/>
                      <a:pt x="8929" y="1800"/>
                    </a:cubicBezTo>
                    <a:close/>
                    <a:moveTo>
                      <a:pt x="8962" y="1800"/>
                    </a:moveTo>
                    <a:lnTo>
                      <a:pt x="8962" y="1800"/>
                    </a:lnTo>
                    <a:cubicBezTo>
                      <a:pt x="8967" y="1800"/>
                      <a:pt x="8970" y="1804"/>
                      <a:pt x="8970" y="1808"/>
                    </a:cubicBezTo>
                    <a:cubicBezTo>
                      <a:pt x="8970" y="1813"/>
                      <a:pt x="8967" y="1816"/>
                      <a:pt x="8962" y="1816"/>
                    </a:cubicBezTo>
                    <a:lnTo>
                      <a:pt x="8962" y="1816"/>
                    </a:lnTo>
                    <a:cubicBezTo>
                      <a:pt x="8957" y="1816"/>
                      <a:pt x="8954" y="1813"/>
                      <a:pt x="8954" y="1808"/>
                    </a:cubicBezTo>
                    <a:cubicBezTo>
                      <a:pt x="8954" y="1804"/>
                      <a:pt x="8957" y="1800"/>
                      <a:pt x="8962" y="1800"/>
                    </a:cubicBezTo>
                    <a:close/>
                    <a:moveTo>
                      <a:pt x="8995" y="1800"/>
                    </a:moveTo>
                    <a:lnTo>
                      <a:pt x="8995" y="1800"/>
                    </a:lnTo>
                    <a:cubicBezTo>
                      <a:pt x="9000" y="1800"/>
                      <a:pt x="9004" y="1804"/>
                      <a:pt x="9004" y="1808"/>
                    </a:cubicBezTo>
                    <a:cubicBezTo>
                      <a:pt x="9004" y="1813"/>
                      <a:pt x="9000" y="1816"/>
                      <a:pt x="8995" y="1816"/>
                    </a:cubicBezTo>
                    <a:lnTo>
                      <a:pt x="8995" y="1816"/>
                    </a:lnTo>
                    <a:cubicBezTo>
                      <a:pt x="8991" y="1816"/>
                      <a:pt x="8987" y="1813"/>
                      <a:pt x="8987" y="1808"/>
                    </a:cubicBezTo>
                    <a:cubicBezTo>
                      <a:pt x="8987" y="1804"/>
                      <a:pt x="8991" y="1800"/>
                      <a:pt x="8995" y="1800"/>
                    </a:cubicBezTo>
                    <a:close/>
                    <a:moveTo>
                      <a:pt x="9029" y="1800"/>
                    </a:moveTo>
                    <a:lnTo>
                      <a:pt x="9029" y="1800"/>
                    </a:lnTo>
                    <a:cubicBezTo>
                      <a:pt x="9033" y="1800"/>
                      <a:pt x="9037" y="1804"/>
                      <a:pt x="9037" y="1808"/>
                    </a:cubicBezTo>
                    <a:cubicBezTo>
                      <a:pt x="9037" y="1813"/>
                      <a:pt x="9033" y="1816"/>
                      <a:pt x="9029" y="1816"/>
                    </a:cubicBezTo>
                    <a:lnTo>
                      <a:pt x="9029" y="1816"/>
                    </a:lnTo>
                    <a:cubicBezTo>
                      <a:pt x="9024" y="1816"/>
                      <a:pt x="9020" y="1813"/>
                      <a:pt x="9020" y="1808"/>
                    </a:cubicBezTo>
                    <a:cubicBezTo>
                      <a:pt x="9020" y="1804"/>
                      <a:pt x="9024" y="1800"/>
                      <a:pt x="9029" y="1800"/>
                    </a:cubicBezTo>
                    <a:close/>
                    <a:moveTo>
                      <a:pt x="9062" y="1800"/>
                    </a:moveTo>
                    <a:lnTo>
                      <a:pt x="9062" y="1800"/>
                    </a:lnTo>
                    <a:cubicBezTo>
                      <a:pt x="9067" y="1800"/>
                      <a:pt x="9070" y="1804"/>
                      <a:pt x="9070" y="1808"/>
                    </a:cubicBezTo>
                    <a:cubicBezTo>
                      <a:pt x="9070" y="1813"/>
                      <a:pt x="9067" y="1816"/>
                      <a:pt x="9062" y="1816"/>
                    </a:cubicBezTo>
                    <a:lnTo>
                      <a:pt x="9062" y="1816"/>
                    </a:lnTo>
                    <a:cubicBezTo>
                      <a:pt x="9057" y="1816"/>
                      <a:pt x="9054" y="1813"/>
                      <a:pt x="9054" y="1808"/>
                    </a:cubicBezTo>
                    <a:cubicBezTo>
                      <a:pt x="9054" y="1804"/>
                      <a:pt x="9057" y="1800"/>
                      <a:pt x="9062" y="1800"/>
                    </a:cubicBezTo>
                    <a:close/>
                    <a:moveTo>
                      <a:pt x="9095" y="1800"/>
                    </a:moveTo>
                    <a:lnTo>
                      <a:pt x="9095" y="1800"/>
                    </a:lnTo>
                    <a:cubicBezTo>
                      <a:pt x="9100" y="1800"/>
                      <a:pt x="9104" y="1804"/>
                      <a:pt x="9104" y="1808"/>
                    </a:cubicBezTo>
                    <a:cubicBezTo>
                      <a:pt x="9104" y="1813"/>
                      <a:pt x="9100" y="1816"/>
                      <a:pt x="9095" y="1816"/>
                    </a:cubicBezTo>
                    <a:lnTo>
                      <a:pt x="9095" y="1816"/>
                    </a:lnTo>
                    <a:cubicBezTo>
                      <a:pt x="9091" y="1816"/>
                      <a:pt x="9087" y="1813"/>
                      <a:pt x="9087" y="1808"/>
                    </a:cubicBezTo>
                    <a:cubicBezTo>
                      <a:pt x="9087" y="1804"/>
                      <a:pt x="9091" y="1800"/>
                      <a:pt x="9095" y="1800"/>
                    </a:cubicBezTo>
                    <a:close/>
                    <a:moveTo>
                      <a:pt x="9129" y="1800"/>
                    </a:moveTo>
                    <a:lnTo>
                      <a:pt x="9129" y="1800"/>
                    </a:lnTo>
                    <a:cubicBezTo>
                      <a:pt x="9133" y="1800"/>
                      <a:pt x="9137" y="1804"/>
                      <a:pt x="9137" y="1808"/>
                    </a:cubicBezTo>
                    <a:cubicBezTo>
                      <a:pt x="9137" y="1813"/>
                      <a:pt x="9133" y="1816"/>
                      <a:pt x="9129" y="1816"/>
                    </a:cubicBezTo>
                    <a:lnTo>
                      <a:pt x="9129" y="1816"/>
                    </a:lnTo>
                    <a:cubicBezTo>
                      <a:pt x="9124" y="1816"/>
                      <a:pt x="9120" y="1813"/>
                      <a:pt x="9120" y="1808"/>
                    </a:cubicBezTo>
                    <a:cubicBezTo>
                      <a:pt x="9120" y="1804"/>
                      <a:pt x="9124" y="1800"/>
                      <a:pt x="9129" y="1800"/>
                    </a:cubicBezTo>
                    <a:close/>
                    <a:moveTo>
                      <a:pt x="9162" y="1800"/>
                    </a:moveTo>
                    <a:lnTo>
                      <a:pt x="9162" y="1800"/>
                    </a:lnTo>
                    <a:cubicBezTo>
                      <a:pt x="9167" y="1800"/>
                      <a:pt x="9170" y="1804"/>
                      <a:pt x="9170" y="1808"/>
                    </a:cubicBezTo>
                    <a:cubicBezTo>
                      <a:pt x="9170" y="1813"/>
                      <a:pt x="9167" y="1816"/>
                      <a:pt x="9162" y="1816"/>
                    </a:cubicBezTo>
                    <a:lnTo>
                      <a:pt x="9162" y="1816"/>
                    </a:lnTo>
                    <a:cubicBezTo>
                      <a:pt x="9158" y="1816"/>
                      <a:pt x="9154" y="1813"/>
                      <a:pt x="9154" y="1808"/>
                    </a:cubicBezTo>
                    <a:cubicBezTo>
                      <a:pt x="9154" y="1804"/>
                      <a:pt x="9158" y="1800"/>
                      <a:pt x="9162" y="1800"/>
                    </a:cubicBezTo>
                    <a:close/>
                    <a:moveTo>
                      <a:pt x="9195" y="1800"/>
                    </a:moveTo>
                    <a:lnTo>
                      <a:pt x="9196" y="1800"/>
                    </a:lnTo>
                    <a:cubicBezTo>
                      <a:pt x="9200" y="1800"/>
                      <a:pt x="9204" y="1804"/>
                      <a:pt x="9204" y="1808"/>
                    </a:cubicBezTo>
                    <a:cubicBezTo>
                      <a:pt x="9204" y="1813"/>
                      <a:pt x="9200" y="1816"/>
                      <a:pt x="9196" y="1816"/>
                    </a:cubicBezTo>
                    <a:lnTo>
                      <a:pt x="9195" y="1816"/>
                    </a:lnTo>
                    <a:cubicBezTo>
                      <a:pt x="9191" y="1816"/>
                      <a:pt x="9187" y="1813"/>
                      <a:pt x="9187" y="1808"/>
                    </a:cubicBezTo>
                    <a:cubicBezTo>
                      <a:pt x="9187" y="1804"/>
                      <a:pt x="9191" y="1800"/>
                      <a:pt x="9195" y="1800"/>
                    </a:cubicBezTo>
                    <a:close/>
                    <a:moveTo>
                      <a:pt x="9229" y="1800"/>
                    </a:moveTo>
                    <a:lnTo>
                      <a:pt x="9229" y="1800"/>
                    </a:lnTo>
                    <a:cubicBezTo>
                      <a:pt x="9233" y="1800"/>
                      <a:pt x="9237" y="1804"/>
                      <a:pt x="9237" y="1808"/>
                    </a:cubicBezTo>
                    <a:cubicBezTo>
                      <a:pt x="9237" y="1813"/>
                      <a:pt x="9233" y="1816"/>
                      <a:pt x="9229" y="1816"/>
                    </a:cubicBezTo>
                    <a:lnTo>
                      <a:pt x="9229" y="1816"/>
                    </a:lnTo>
                    <a:cubicBezTo>
                      <a:pt x="9224" y="1816"/>
                      <a:pt x="9221" y="1813"/>
                      <a:pt x="9221" y="1808"/>
                    </a:cubicBezTo>
                    <a:cubicBezTo>
                      <a:pt x="9221" y="1804"/>
                      <a:pt x="9224" y="1800"/>
                      <a:pt x="9229" y="1800"/>
                    </a:cubicBezTo>
                    <a:close/>
                    <a:moveTo>
                      <a:pt x="9262" y="1800"/>
                    </a:moveTo>
                    <a:lnTo>
                      <a:pt x="9262" y="1800"/>
                    </a:lnTo>
                    <a:cubicBezTo>
                      <a:pt x="9267" y="1800"/>
                      <a:pt x="9271" y="1804"/>
                      <a:pt x="9271" y="1808"/>
                    </a:cubicBezTo>
                    <a:cubicBezTo>
                      <a:pt x="9271" y="1813"/>
                      <a:pt x="9267" y="1816"/>
                      <a:pt x="9262" y="1816"/>
                    </a:cubicBezTo>
                    <a:lnTo>
                      <a:pt x="9262" y="1816"/>
                    </a:lnTo>
                    <a:cubicBezTo>
                      <a:pt x="9258" y="1816"/>
                      <a:pt x="9254" y="1813"/>
                      <a:pt x="9254" y="1808"/>
                    </a:cubicBezTo>
                    <a:cubicBezTo>
                      <a:pt x="9254" y="1804"/>
                      <a:pt x="9258" y="1800"/>
                      <a:pt x="9262" y="1800"/>
                    </a:cubicBezTo>
                    <a:close/>
                    <a:moveTo>
                      <a:pt x="9296" y="1800"/>
                    </a:moveTo>
                    <a:lnTo>
                      <a:pt x="9296" y="1800"/>
                    </a:lnTo>
                    <a:cubicBezTo>
                      <a:pt x="9300" y="1800"/>
                      <a:pt x="9304" y="1804"/>
                      <a:pt x="9304" y="1808"/>
                    </a:cubicBezTo>
                    <a:cubicBezTo>
                      <a:pt x="9304" y="1813"/>
                      <a:pt x="9300" y="1816"/>
                      <a:pt x="9296" y="1816"/>
                    </a:cubicBezTo>
                    <a:lnTo>
                      <a:pt x="9296" y="1816"/>
                    </a:lnTo>
                    <a:cubicBezTo>
                      <a:pt x="9291" y="1816"/>
                      <a:pt x="9287" y="1813"/>
                      <a:pt x="9287" y="1808"/>
                    </a:cubicBezTo>
                    <a:cubicBezTo>
                      <a:pt x="9287" y="1804"/>
                      <a:pt x="9291" y="1800"/>
                      <a:pt x="9296" y="1800"/>
                    </a:cubicBezTo>
                    <a:close/>
                    <a:moveTo>
                      <a:pt x="9329" y="1800"/>
                    </a:moveTo>
                    <a:lnTo>
                      <a:pt x="9329" y="1800"/>
                    </a:lnTo>
                    <a:cubicBezTo>
                      <a:pt x="9334" y="1800"/>
                      <a:pt x="9337" y="1804"/>
                      <a:pt x="9337" y="1808"/>
                    </a:cubicBezTo>
                    <a:cubicBezTo>
                      <a:pt x="9337" y="1813"/>
                      <a:pt x="9334" y="1816"/>
                      <a:pt x="9329" y="1816"/>
                    </a:cubicBezTo>
                    <a:lnTo>
                      <a:pt x="9329" y="1816"/>
                    </a:lnTo>
                    <a:cubicBezTo>
                      <a:pt x="9324" y="1816"/>
                      <a:pt x="9321" y="1813"/>
                      <a:pt x="9321" y="1808"/>
                    </a:cubicBezTo>
                    <a:cubicBezTo>
                      <a:pt x="9321" y="1804"/>
                      <a:pt x="9324" y="1800"/>
                      <a:pt x="9329" y="1800"/>
                    </a:cubicBezTo>
                    <a:close/>
                    <a:moveTo>
                      <a:pt x="9362" y="1800"/>
                    </a:moveTo>
                    <a:lnTo>
                      <a:pt x="9362" y="1800"/>
                    </a:lnTo>
                    <a:cubicBezTo>
                      <a:pt x="9367" y="1800"/>
                      <a:pt x="9371" y="1804"/>
                      <a:pt x="9371" y="1808"/>
                    </a:cubicBezTo>
                    <a:cubicBezTo>
                      <a:pt x="9371" y="1813"/>
                      <a:pt x="9367" y="1816"/>
                      <a:pt x="9362" y="1816"/>
                    </a:cubicBezTo>
                    <a:lnTo>
                      <a:pt x="9362" y="1816"/>
                    </a:lnTo>
                    <a:cubicBezTo>
                      <a:pt x="9358" y="1816"/>
                      <a:pt x="9354" y="1813"/>
                      <a:pt x="9354" y="1808"/>
                    </a:cubicBezTo>
                    <a:cubicBezTo>
                      <a:pt x="9354" y="1804"/>
                      <a:pt x="9358" y="1800"/>
                      <a:pt x="9362" y="1800"/>
                    </a:cubicBezTo>
                    <a:close/>
                    <a:moveTo>
                      <a:pt x="9396" y="1800"/>
                    </a:moveTo>
                    <a:lnTo>
                      <a:pt x="9396" y="1800"/>
                    </a:lnTo>
                    <a:cubicBezTo>
                      <a:pt x="9400" y="1800"/>
                      <a:pt x="9404" y="1804"/>
                      <a:pt x="9404" y="1808"/>
                    </a:cubicBezTo>
                    <a:cubicBezTo>
                      <a:pt x="9404" y="1813"/>
                      <a:pt x="9400" y="1816"/>
                      <a:pt x="9396" y="1816"/>
                    </a:cubicBezTo>
                    <a:lnTo>
                      <a:pt x="9396" y="1816"/>
                    </a:lnTo>
                    <a:cubicBezTo>
                      <a:pt x="9391" y="1816"/>
                      <a:pt x="9387" y="1813"/>
                      <a:pt x="9387" y="1808"/>
                    </a:cubicBezTo>
                    <a:cubicBezTo>
                      <a:pt x="9387" y="1804"/>
                      <a:pt x="9391" y="1800"/>
                      <a:pt x="9396" y="1800"/>
                    </a:cubicBezTo>
                    <a:close/>
                    <a:moveTo>
                      <a:pt x="9429" y="1800"/>
                    </a:moveTo>
                    <a:lnTo>
                      <a:pt x="9429" y="1800"/>
                    </a:lnTo>
                    <a:cubicBezTo>
                      <a:pt x="9434" y="1800"/>
                      <a:pt x="9437" y="1804"/>
                      <a:pt x="9437" y="1808"/>
                    </a:cubicBezTo>
                    <a:cubicBezTo>
                      <a:pt x="9437" y="1813"/>
                      <a:pt x="9434" y="1816"/>
                      <a:pt x="9429" y="1816"/>
                    </a:cubicBezTo>
                    <a:lnTo>
                      <a:pt x="9429" y="1816"/>
                    </a:lnTo>
                    <a:cubicBezTo>
                      <a:pt x="9424" y="1816"/>
                      <a:pt x="9421" y="1813"/>
                      <a:pt x="9421" y="1808"/>
                    </a:cubicBezTo>
                    <a:cubicBezTo>
                      <a:pt x="9421" y="1804"/>
                      <a:pt x="9424" y="1800"/>
                      <a:pt x="9429" y="1800"/>
                    </a:cubicBezTo>
                    <a:close/>
                    <a:moveTo>
                      <a:pt x="9462" y="1800"/>
                    </a:moveTo>
                    <a:lnTo>
                      <a:pt x="9462" y="1800"/>
                    </a:lnTo>
                    <a:cubicBezTo>
                      <a:pt x="9467" y="1800"/>
                      <a:pt x="9471" y="1804"/>
                      <a:pt x="9471" y="1808"/>
                    </a:cubicBezTo>
                    <a:cubicBezTo>
                      <a:pt x="9471" y="1813"/>
                      <a:pt x="9467" y="1816"/>
                      <a:pt x="9462" y="1816"/>
                    </a:cubicBezTo>
                    <a:lnTo>
                      <a:pt x="9462" y="1816"/>
                    </a:lnTo>
                    <a:cubicBezTo>
                      <a:pt x="9458" y="1816"/>
                      <a:pt x="9454" y="1813"/>
                      <a:pt x="9454" y="1808"/>
                    </a:cubicBezTo>
                    <a:cubicBezTo>
                      <a:pt x="9454" y="1804"/>
                      <a:pt x="9458" y="1800"/>
                      <a:pt x="9462" y="1800"/>
                    </a:cubicBezTo>
                    <a:close/>
                    <a:moveTo>
                      <a:pt x="9496" y="1800"/>
                    </a:moveTo>
                    <a:lnTo>
                      <a:pt x="9496" y="1800"/>
                    </a:lnTo>
                    <a:cubicBezTo>
                      <a:pt x="9500" y="1800"/>
                      <a:pt x="9504" y="1804"/>
                      <a:pt x="9504" y="1808"/>
                    </a:cubicBezTo>
                    <a:cubicBezTo>
                      <a:pt x="9504" y="1813"/>
                      <a:pt x="9500" y="1816"/>
                      <a:pt x="9496" y="1816"/>
                    </a:cubicBezTo>
                    <a:lnTo>
                      <a:pt x="9496" y="1816"/>
                    </a:lnTo>
                    <a:cubicBezTo>
                      <a:pt x="9491" y="1816"/>
                      <a:pt x="9487" y="1813"/>
                      <a:pt x="9487" y="1808"/>
                    </a:cubicBezTo>
                    <a:cubicBezTo>
                      <a:pt x="9487" y="1804"/>
                      <a:pt x="9491" y="1800"/>
                      <a:pt x="9496" y="1800"/>
                    </a:cubicBezTo>
                    <a:close/>
                    <a:moveTo>
                      <a:pt x="9529" y="1800"/>
                    </a:moveTo>
                    <a:lnTo>
                      <a:pt x="9529" y="1800"/>
                    </a:lnTo>
                    <a:cubicBezTo>
                      <a:pt x="9534" y="1800"/>
                      <a:pt x="9537" y="1804"/>
                      <a:pt x="9537" y="1808"/>
                    </a:cubicBezTo>
                    <a:cubicBezTo>
                      <a:pt x="9537" y="1813"/>
                      <a:pt x="9534" y="1816"/>
                      <a:pt x="9529" y="1816"/>
                    </a:cubicBezTo>
                    <a:lnTo>
                      <a:pt x="9529" y="1816"/>
                    </a:lnTo>
                    <a:cubicBezTo>
                      <a:pt x="9524" y="1816"/>
                      <a:pt x="9521" y="1813"/>
                      <a:pt x="9521" y="1808"/>
                    </a:cubicBezTo>
                    <a:cubicBezTo>
                      <a:pt x="9521" y="1804"/>
                      <a:pt x="9524" y="1800"/>
                      <a:pt x="9529" y="1800"/>
                    </a:cubicBezTo>
                    <a:close/>
                    <a:moveTo>
                      <a:pt x="9562" y="1800"/>
                    </a:moveTo>
                    <a:lnTo>
                      <a:pt x="9562" y="1800"/>
                    </a:lnTo>
                    <a:cubicBezTo>
                      <a:pt x="9567" y="1800"/>
                      <a:pt x="9571" y="1804"/>
                      <a:pt x="9571" y="1808"/>
                    </a:cubicBezTo>
                    <a:cubicBezTo>
                      <a:pt x="9571" y="1813"/>
                      <a:pt x="9567" y="1816"/>
                      <a:pt x="9562" y="1816"/>
                    </a:cubicBezTo>
                    <a:lnTo>
                      <a:pt x="9562" y="1816"/>
                    </a:lnTo>
                    <a:cubicBezTo>
                      <a:pt x="9558" y="1816"/>
                      <a:pt x="9554" y="1813"/>
                      <a:pt x="9554" y="1808"/>
                    </a:cubicBezTo>
                    <a:cubicBezTo>
                      <a:pt x="9554" y="1804"/>
                      <a:pt x="9558" y="1800"/>
                      <a:pt x="9562" y="1800"/>
                    </a:cubicBezTo>
                    <a:close/>
                    <a:moveTo>
                      <a:pt x="9596" y="1800"/>
                    </a:moveTo>
                    <a:lnTo>
                      <a:pt x="9596" y="1800"/>
                    </a:lnTo>
                    <a:cubicBezTo>
                      <a:pt x="9600" y="1800"/>
                      <a:pt x="9604" y="1804"/>
                      <a:pt x="9604" y="1808"/>
                    </a:cubicBezTo>
                    <a:cubicBezTo>
                      <a:pt x="9604" y="1813"/>
                      <a:pt x="9600" y="1816"/>
                      <a:pt x="9596" y="1816"/>
                    </a:cubicBezTo>
                    <a:lnTo>
                      <a:pt x="9596" y="1816"/>
                    </a:lnTo>
                    <a:cubicBezTo>
                      <a:pt x="9591" y="1816"/>
                      <a:pt x="9587" y="1813"/>
                      <a:pt x="9587" y="1808"/>
                    </a:cubicBezTo>
                    <a:cubicBezTo>
                      <a:pt x="9587" y="1804"/>
                      <a:pt x="9591" y="1800"/>
                      <a:pt x="9596" y="1800"/>
                    </a:cubicBezTo>
                    <a:close/>
                    <a:moveTo>
                      <a:pt x="9629" y="1800"/>
                    </a:moveTo>
                    <a:lnTo>
                      <a:pt x="9629" y="1800"/>
                    </a:lnTo>
                    <a:cubicBezTo>
                      <a:pt x="9634" y="1800"/>
                      <a:pt x="9637" y="1804"/>
                      <a:pt x="9637" y="1808"/>
                    </a:cubicBezTo>
                    <a:cubicBezTo>
                      <a:pt x="9637" y="1813"/>
                      <a:pt x="9634" y="1816"/>
                      <a:pt x="9629" y="1816"/>
                    </a:cubicBezTo>
                    <a:lnTo>
                      <a:pt x="9629" y="1816"/>
                    </a:lnTo>
                    <a:cubicBezTo>
                      <a:pt x="9625" y="1816"/>
                      <a:pt x="9621" y="1813"/>
                      <a:pt x="9621" y="1808"/>
                    </a:cubicBezTo>
                    <a:cubicBezTo>
                      <a:pt x="9621" y="1804"/>
                      <a:pt x="9625" y="1800"/>
                      <a:pt x="9629" y="1800"/>
                    </a:cubicBezTo>
                    <a:close/>
                    <a:moveTo>
                      <a:pt x="9662" y="1800"/>
                    </a:moveTo>
                    <a:lnTo>
                      <a:pt x="9662" y="1800"/>
                    </a:lnTo>
                    <a:cubicBezTo>
                      <a:pt x="9667" y="1800"/>
                      <a:pt x="9671" y="1804"/>
                      <a:pt x="9671" y="1808"/>
                    </a:cubicBezTo>
                    <a:cubicBezTo>
                      <a:pt x="9671" y="1813"/>
                      <a:pt x="9667" y="1816"/>
                      <a:pt x="9662" y="1816"/>
                    </a:cubicBezTo>
                    <a:lnTo>
                      <a:pt x="9662" y="1816"/>
                    </a:lnTo>
                    <a:cubicBezTo>
                      <a:pt x="9658" y="1816"/>
                      <a:pt x="9654" y="1813"/>
                      <a:pt x="9654" y="1808"/>
                    </a:cubicBezTo>
                    <a:cubicBezTo>
                      <a:pt x="9654" y="1804"/>
                      <a:pt x="9658" y="1800"/>
                      <a:pt x="9662" y="1800"/>
                    </a:cubicBezTo>
                    <a:close/>
                    <a:moveTo>
                      <a:pt x="9696" y="1800"/>
                    </a:moveTo>
                    <a:lnTo>
                      <a:pt x="9696" y="1800"/>
                    </a:lnTo>
                    <a:cubicBezTo>
                      <a:pt x="9700" y="1800"/>
                      <a:pt x="9704" y="1804"/>
                      <a:pt x="9704" y="1808"/>
                    </a:cubicBezTo>
                    <a:cubicBezTo>
                      <a:pt x="9704" y="1813"/>
                      <a:pt x="9700" y="1816"/>
                      <a:pt x="9696" y="1816"/>
                    </a:cubicBezTo>
                    <a:lnTo>
                      <a:pt x="9696" y="1816"/>
                    </a:lnTo>
                    <a:cubicBezTo>
                      <a:pt x="9691" y="1816"/>
                      <a:pt x="9687" y="1813"/>
                      <a:pt x="9687" y="1808"/>
                    </a:cubicBezTo>
                    <a:cubicBezTo>
                      <a:pt x="9687" y="1804"/>
                      <a:pt x="9691" y="1800"/>
                      <a:pt x="9696" y="1800"/>
                    </a:cubicBezTo>
                    <a:close/>
                    <a:moveTo>
                      <a:pt x="9729" y="1800"/>
                    </a:moveTo>
                    <a:lnTo>
                      <a:pt x="9729" y="1800"/>
                    </a:lnTo>
                    <a:cubicBezTo>
                      <a:pt x="9734" y="1800"/>
                      <a:pt x="9738" y="1804"/>
                      <a:pt x="9738" y="1808"/>
                    </a:cubicBezTo>
                    <a:cubicBezTo>
                      <a:pt x="9738" y="1813"/>
                      <a:pt x="9734" y="1816"/>
                      <a:pt x="9729" y="1816"/>
                    </a:cubicBezTo>
                    <a:lnTo>
                      <a:pt x="9729" y="1816"/>
                    </a:lnTo>
                    <a:cubicBezTo>
                      <a:pt x="9725" y="1816"/>
                      <a:pt x="9721" y="1813"/>
                      <a:pt x="9721" y="1808"/>
                    </a:cubicBezTo>
                    <a:cubicBezTo>
                      <a:pt x="9721" y="1804"/>
                      <a:pt x="9725" y="1800"/>
                      <a:pt x="9729" y="1800"/>
                    </a:cubicBezTo>
                    <a:close/>
                    <a:moveTo>
                      <a:pt x="9763" y="1800"/>
                    </a:moveTo>
                    <a:lnTo>
                      <a:pt x="9763" y="1800"/>
                    </a:lnTo>
                    <a:cubicBezTo>
                      <a:pt x="9767" y="1800"/>
                      <a:pt x="9771" y="1804"/>
                      <a:pt x="9771" y="1808"/>
                    </a:cubicBezTo>
                    <a:cubicBezTo>
                      <a:pt x="9771" y="1813"/>
                      <a:pt x="9767" y="1816"/>
                      <a:pt x="9763" y="1816"/>
                    </a:cubicBezTo>
                    <a:lnTo>
                      <a:pt x="9763" y="1816"/>
                    </a:lnTo>
                    <a:cubicBezTo>
                      <a:pt x="9758" y="1816"/>
                      <a:pt x="9754" y="1813"/>
                      <a:pt x="9754" y="1808"/>
                    </a:cubicBezTo>
                    <a:cubicBezTo>
                      <a:pt x="9754" y="1804"/>
                      <a:pt x="9758" y="1800"/>
                      <a:pt x="9763" y="1800"/>
                    </a:cubicBezTo>
                    <a:close/>
                    <a:moveTo>
                      <a:pt x="9796" y="1800"/>
                    </a:moveTo>
                    <a:lnTo>
                      <a:pt x="9796" y="1800"/>
                    </a:lnTo>
                    <a:cubicBezTo>
                      <a:pt x="9801" y="1800"/>
                      <a:pt x="9804" y="1804"/>
                      <a:pt x="9804" y="1808"/>
                    </a:cubicBezTo>
                    <a:cubicBezTo>
                      <a:pt x="9804" y="1813"/>
                      <a:pt x="9801" y="1816"/>
                      <a:pt x="9796" y="1816"/>
                    </a:cubicBezTo>
                    <a:lnTo>
                      <a:pt x="9796" y="1816"/>
                    </a:lnTo>
                    <a:cubicBezTo>
                      <a:pt x="9791" y="1816"/>
                      <a:pt x="9788" y="1813"/>
                      <a:pt x="9788" y="1808"/>
                    </a:cubicBezTo>
                    <a:cubicBezTo>
                      <a:pt x="9788" y="1804"/>
                      <a:pt x="9791" y="1800"/>
                      <a:pt x="9796" y="1800"/>
                    </a:cubicBezTo>
                    <a:close/>
                    <a:moveTo>
                      <a:pt x="9829" y="1800"/>
                    </a:moveTo>
                    <a:lnTo>
                      <a:pt x="9829" y="1800"/>
                    </a:lnTo>
                    <a:cubicBezTo>
                      <a:pt x="9834" y="1800"/>
                      <a:pt x="9838" y="1804"/>
                      <a:pt x="9838" y="1808"/>
                    </a:cubicBezTo>
                    <a:cubicBezTo>
                      <a:pt x="9838" y="1813"/>
                      <a:pt x="9834" y="1816"/>
                      <a:pt x="9829" y="1816"/>
                    </a:cubicBezTo>
                    <a:lnTo>
                      <a:pt x="9829" y="1816"/>
                    </a:lnTo>
                    <a:cubicBezTo>
                      <a:pt x="9825" y="1816"/>
                      <a:pt x="9821" y="1813"/>
                      <a:pt x="9821" y="1808"/>
                    </a:cubicBezTo>
                    <a:cubicBezTo>
                      <a:pt x="9821" y="1804"/>
                      <a:pt x="9825" y="1800"/>
                      <a:pt x="9829" y="1800"/>
                    </a:cubicBezTo>
                    <a:close/>
                    <a:moveTo>
                      <a:pt x="9863" y="1800"/>
                    </a:moveTo>
                    <a:lnTo>
                      <a:pt x="9863" y="1800"/>
                    </a:lnTo>
                    <a:cubicBezTo>
                      <a:pt x="9867" y="1800"/>
                      <a:pt x="9871" y="1804"/>
                      <a:pt x="9871" y="1808"/>
                    </a:cubicBezTo>
                    <a:cubicBezTo>
                      <a:pt x="9871" y="1813"/>
                      <a:pt x="9867" y="1816"/>
                      <a:pt x="9863" y="1816"/>
                    </a:cubicBezTo>
                    <a:lnTo>
                      <a:pt x="9863" y="1816"/>
                    </a:lnTo>
                    <a:cubicBezTo>
                      <a:pt x="9858" y="1816"/>
                      <a:pt x="9854" y="1813"/>
                      <a:pt x="9854" y="1808"/>
                    </a:cubicBezTo>
                    <a:cubicBezTo>
                      <a:pt x="9854" y="1804"/>
                      <a:pt x="9858" y="1800"/>
                      <a:pt x="9863" y="1800"/>
                    </a:cubicBezTo>
                    <a:close/>
                    <a:moveTo>
                      <a:pt x="9896" y="1800"/>
                    </a:moveTo>
                    <a:lnTo>
                      <a:pt x="9896" y="1800"/>
                    </a:lnTo>
                    <a:cubicBezTo>
                      <a:pt x="9901" y="1800"/>
                      <a:pt x="9904" y="1804"/>
                      <a:pt x="9904" y="1808"/>
                    </a:cubicBezTo>
                    <a:cubicBezTo>
                      <a:pt x="9904" y="1813"/>
                      <a:pt x="9901" y="1816"/>
                      <a:pt x="9896" y="1816"/>
                    </a:cubicBezTo>
                    <a:lnTo>
                      <a:pt x="9896" y="1816"/>
                    </a:lnTo>
                    <a:cubicBezTo>
                      <a:pt x="9891" y="1816"/>
                      <a:pt x="9888" y="1813"/>
                      <a:pt x="9888" y="1808"/>
                    </a:cubicBezTo>
                    <a:cubicBezTo>
                      <a:pt x="9888" y="1804"/>
                      <a:pt x="9891" y="1800"/>
                      <a:pt x="9896" y="1800"/>
                    </a:cubicBezTo>
                    <a:close/>
                    <a:moveTo>
                      <a:pt x="9929" y="1800"/>
                    </a:moveTo>
                    <a:lnTo>
                      <a:pt x="9929" y="1800"/>
                    </a:lnTo>
                    <a:cubicBezTo>
                      <a:pt x="9934" y="1800"/>
                      <a:pt x="9938" y="1804"/>
                      <a:pt x="9938" y="1808"/>
                    </a:cubicBezTo>
                    <a:cubicBezTo>
                      <a:pt x="9938" y="1813"/>
                      <a:pt x="9934" y="1816"/>
                      <a:pt x="9929" y="1816"/>
                    </a:cubicBezTo>
                    <a:lnTo>
                      <a:pt x="9929" y="1816"/>
                    </a:lnTo>
                    <a:cubicBezTo>
                      <a:pt x="9925" y="1816"/>
                      <a:pt x="9921" y="1813"/>
                      <a:pt x="9921" y="1808"/>
                    </a:cubicBezTo>
                    <a:cubicBezTo>
                      <a:pt x="9921" y="1804"/>
                      <a:pt x="9925" y="1800"/>
                      <a:pt x="9929" y="1800"/>
                    </a:cubicBezTo>
                    <a:close/>
                    <a:moveTo>
                      <a:pt x="9963" y="1800"/>
                    </a:moveTo>
                    <a:lnTo>
                      <a:pt x="9963" y="1800"/>
                    </a:lnTo>
                    <a:cubicBezTo>
                      <a:pt x="9967" y="1800"/>
                      <a:pt x="9971" y="1804"/>
                      <a:pt x="9971" y="1808"/>
                    </a:cubicBezTo>
                    <a:cubicBezTo>
                      <a:pt x="9971" y="1813"/>
                      <a:pt x="9967" y="1816"/>
                      <a:pt x="9963" y="1816"/>
                    </a:cubicBezTo>
                    <a:lnTo>
                      <a:pt x="9963" y="1816"/>
                    </a:lnTo>
                    <a:cubicBezTo>
                      <a:pt x="9958" y="1816"/>
                      <a:pt x="9954" y="1813"/>
                      <a:pt x="9954" y="1808"/>
                    </a:cubicBezTo>
                    <a:cubicBezTo>
                      <a:pt x="9954" y="1804"/>
                      <a:pt x="9958" y="1800"/>
                      <a:pt x="9963" y="1800"/>
                    </a:cubicBezTo>
                    <a:close/>
                    <a:moveTo>
                      <a:pt x="9973" y="1794"/>
                    </a:moveTo>
                    <a:lnTo>
                      <a:pt x="9973" y="1794"/>
                    </a:lnTo>
                    <a:cubicBezTo>
                      <a:pt x="9973" y="1789"/>
                      <a:pt x="9977" y="1785"/>
                      <a:pt x="9981" y="1785"/>
                    </a:cubicBezTo>
                    <a:cubicBezTo>
                      <a:pt x="9986" y="1785"/>
                      <a:pt x="9990" y="1789"/>
                      <a:pt x="9990" y="1794"/>
                    </a:cubicBezTo>
                    <a:lnTo>
                      <a:pt x="9990" y="1794"/>
                    </a:lnTo>
                    <a:cubicBezTo>
                      <a:pt x="9990" y="1798"/>
                      <a:pt x="9986" y="1802"/>
                      <a:pt x="9981" y="1802"/>
                    </a:cubicBezTo>
                    <a:cubicBezTo>
                      <a:pt x="9977" y="1802"/>
                      <a:pt x="9973" y="1798"/>
                      <a:pt x="9973" y="1794"/>
                    </a:cubicBezTo>
                    <a:close/>
                    <a:moveTo>
                      <a:pt x="9973" y="1760"/>
                    </a:moveTo>
                    <a:lnTo>
                      <a:pt x="9973" y="1760"/>
                    </a:lnTo>
                    <a:cubicBezTo>
                      <a:pt x="9973" y="1756"/>
                      <a:pt x="9977" y="1752"/>
                      <a:pt x="9981" y="1752"/>
                    </a:cubicBezTo>
                    <a:cubicBezTo>
                      <a:pt x="9986" y="1752"/>
                      <a:pt x="9990" y="1756"/>
                      <a:pt x="9990" y="1760"/>
                    </a:cubicBezTo>
                    <a:lnTo>
                      <a:pt x="9990" y="1760"/>
                    </a:lnTo>
                    <a:cubicBezTo>
                      <a:pt x="9990" y="1765"/>
                      <a:pt x="9986" y="1769"/>
                      <a:pt x="9981" y="1769"/>
                    </a:cubicBezTo>
                    <a:cubicBezTo>
                      <a:pt x="9977" y="1769"/>
                      <a:pt x="9973" y="1765"/>
                      <a:pt x="9973" y="1760"/>
                    </a:cubicBezTo>
                    <a:close/>
                    <a:moveTo>
                      <a:pt x="9973" y="1727"/>
                    </a:moveTo>
                    <a:lnTo>
                      <a:pt x="9973" y="1727"/>
                    </a:lnTo>
                    <a:cubicBezTo>
                      <a:pt x="9973" y="1722"/>
                      <a:pt x="9977" y="1719"/>
                      <a:pt x="9981" y="1719"/>
                    </a:cubicBezTo>
                    <a:cubicBezTo>
                      <a:pt x="9986" y="1719"/>
                      <a:pt x="9990" y="1722"/>
                      <a:pt x="9990" y="1727"/>
                    </a:cubicBezTo>
                    <a:lnTo>
                      <a:pt x="9990" y="1727"/>
                    </a:lnTo>
                    <a:cubicBezTo>
                      <a:pt x="9990" y="1731"/>
                      <a:pt x="9986" y="1735"/>
                      <a:pt x="9981" y="1735"/>
                    </a:cubicBezTo>
                    <a:cubicBezTo>
                      <a:pt x="9977" y="1735"/>
                      <a:pt x="9973" y="1731"/>
                      <a:pt x="9973" y="1727"/>
                    </a:cubicBezTo>
                    <a:close/>
                    <a:moveTo>
                      <a:pt x="9973" y="1694"/>
                    </a:moveTo>
                    <a:lnTo>
                      <a:pt x="9973" y="1694"/>
                    </a:lnTo>
                    <a:cubicBezTo>
                      <a:pt x="9973" y="1689"/>
                      <a:pt x="9977" y="1685"/>
                      <a:pt x="9981" y="1685"/>
                    </a:cubicBezTo>
                    <a:cubicBezTo>
                      <a:pt x="9986" y="1685"/>
                      <a:pt x="9990" y="1689"/>
                      <a:pt x="9990" y="1694"/>
                    </a:cubicBezTo>
                    <a:lnTo>
                      <a:pt x="9990" y="1694"/>
                    </a:lnTo>
                    <a:cubicBezTo>
                      <a:pt x="9990" y="1698"/>
                      <a:pt x="9986" y="1702"/>
                      <a:pt x="9981" y="1702"/>
                    </a:cubicBezTo>
                    <a:cubicBezTo>
                      <a:pt x="9977" y="1702"/>
                      <a:pt x="9973" y="1698"/>
                      <a:pt x="9973" y="1694"/>
                    </a:cubicBezTo>
                    <a:close/>
                    <a:moveTo>
                      <a:pt x="9973" y="1660"/>
                    </a:moveTo>
                    <a:lnTo>
                      <a:pt x="9973" y="1660"/>
                    </a:lnTo>
                    <a:cubicBezTo>
                      <a:pt x="9973" y="1656"/>
                      <a:pt x="9977" y="1652"/>
                      <a:pt x="9981" y="1652"/>
                    </a:cubicBezTo>
                    <a:cubicBezTo>
                      <a:pt x="9986" y="1652"/>
                      <a:pt x="9990" y="1656"/>
                      <a:pt x="9990" y="1660"/>
                    </a:cubicBezTo>
                    <a:lnTo>
                      <a:pt x="9990" y="1660"/>
                    </a:lnTo>
                    <a:cubicBezTo>
                      <a:pt x="9990" y="1665"/>
                      <a:pt x="9986" y="1669"/>
                      <a:pt x="9981" y="1669"/>
                    </a:cubicBezTo>
                    <a:cubicBezTo>
                      <a:pt x="9977" y="1669"/>
                      <a:pt x="9973" y="1665"/>
                      <a:pt x="9973" y="1660"/>
                    </a:cubicBezTo>
                    <a:close/>
                    <a:moveTo>
                      <a:pt x="9973" y="1627"/>
                    </a:moveTo>
                    <a:lnTo>
                      <a:pt x="9973" y="1627"/>
                    </a:lnTo>
                    <a:cubicBezTo>
                      <a:pt x="9973" y="1622"/>
                      <a:pt x="9977" y="1618"/>
                      <a:pt x="9981" y="1618"/>
                    </a:cubicBezTo>
                    <a:cubicBezTo>
                      <a:pt x="9986" y="1618"/>
                      <a:pt x="9990" y="1622"/>
                      <a:pt x="9990" y="1627"/>
                    </a:cubicBezTo>
                    <a:lnTo>
                      <a:pt x="9990" y="1627"/>
                    </a:lnTo>
                    <a:cubicBezTo>
                      <a:pt x="9990" y="1631"/>
                      <a:pt x="9986" y="1635"/>
                      <a:pt x="9981" y="1635"/>
                    </a:cubicBezTo>
                    <a:cubicBezTo>
                      <a:pt x="9977" y="1635"/>
                      <a:pt x="9973" y="1631"/>
                      <a:pt x="9973" y="1627"/>
                    </a:cubicBezTo>
                    <a:close/>
                    <a:moveTo>
                      <a:pt x="9973" y="1593"/>
                    </a:moveTo>
                    <a:lnTo>
                      <a:pt x="9973" y="1593"/>
                    </a:lnTo>
                    <a:cubicBezTo>
                      <a:pt x="9973" y="1589"/>
                      <a:pt x="9977" y="1585"/>
                      <a:pt x="9981" y="1585"/>
                    </a:cubicBezTo>
                    <a:cubicBezTo>
                      <a:pt x="9986" y="1585"/>
                      <a:pt x="9990" y="1589"/>
                      <a:pt x="9990" y="1593"/>
                    </a:cubicBezTo>
                    <a:lnTo>
                      <a:pt x="9990" y="1593"/>
                    </a:lnTo>
                    <a:cubicBezTo>
                      <a:pt x="9990" y="1598"/>
                      <a:pt x="9986" y="1602"/>
                      <a:pt x="9981" y="1602"/>
                    </a:cubicBezTo>
                    <a:cubicBezTo>
                      <a:pt x="9977" y="1602"/>
                      <a:pt x="9973" y="1598"/>
                      <a:pt x="9973" y="1593"/>
                    </a:cubicBezTo>
                    <a:close/>
                    <a:moveTo>
                      <a:pt x="9973" y="1560"/>
                    </a:moveTo>
                    <a:lnTo>
                      <a:pt x="9973" y="1560"/>
                    </a:lnTo>
                    <a:cubicBezTo>
                      <a:pt x="9973" y="1555"/>
                      <a:pt x="9977" y="1552"/>
                      <a:pt x="9981" y="1552"/>
                    </a:cubicBezTo>
                    <a:cubicBezTo>
                      <a:pt x="9986" y="1552"/>
                      <a:pt x="9990" y="1555"/>
                      <a:pt x="9990" y="1560"/>
                    </a:cubicBezTo>
                    <a:lnTo>
                      <a:pt x="9990" y="1560"/>
                    </a:lnTo>
                    <a:cubicBezTo>
                      <a:pt x="9990" y="1565"/>
                      <a:pt x="9986" y="1568"/>
                      <a:pt x="9981" y="1568"/>
                    </a:cubicBezTo>
                    <a:cubicBezTo>
                      <a:pt x="9977" y="1568"/>
                      <a:pt x="9973" y="1565"/>
                      <a:pt x="9973" y="1560"/>
                    </a:cubicBezTo>
                    <a:close/>
                    <a:moveTo>
                      <a:pt x="9973" y="1527"/>
                    </a:moveTo>
                    <a:lnTo>
                      <a:pt x="9973" y="1527"/>
                    </a:lnTo>
                    <a:cubicBezTo>
                      <a:pt x="9973" y="1522"/>
                      <a:pt x="9977" y="1518"/>
                      <a:pt x="9981" y="1518"/>
                    </a:cubicBezTo>
                    <a:cubicBezTo>
                      <a:pt x="9986" y="1518"/>
                      <a:pt x="9990" y="1522"/>
                      <a:pt x="9990" y="1527"/>
                    </a:cubicBezTo>
                    <a:lnTo>
                      <a:pt x="9990" y="1527"/>
                    </a:lnTo>
                    <a:cubicBezTo>
                      <a:pt x="9990" y="1531"/>
                      <a:pt x="9986" y="1535"/>
                      <a:pt x="9981" y="1535"/>
                    </a:cubicBezTo>
                    <a:cubicBezTo>
                      <a:pt x="9977" y="1535"/>
                      <a:pt x="9973" y="1531"/>
                      <a:pt x="9973" y="1527"/>
                    </a:cubicBezTo>
                    <a:close/>
                    <a:moveTo>
                      <a:pt x="9973" y="1493"/>
                    </a:moveTo>
                    <a:lnTo>
                      <a:pt x="9973" y="1493"/>
                    </a:lnTo>
                    <a:cubicBezTo>
                      <a:pt x="9973" y="1489"/>
                      <a:pt x="9977" y="1485"/>
                      <a:pt x="9981" y="1485"/>
                    </a:cubicBezTo>
                    <a:cubicBezTo>
                      <a:pt x="9986" y="1485"/>
                      <a:pt x="9990" y="1489"/>
                      <a:pt x="9990" y="1493"/>
                    </a:cubicBezTo>
                    <a:lnTo>
                      <a:pt x="9990" y="1493"/>
                    </a:lnTo>
                    <a:cubicBezTo>
                      <a:pt x="9990" y="1498"/>
                      <a:pt x="9986" y="1502"/>
                      <a:pt x="9981" y="1502"/>
                    </a:cubicBezTo>
                    <a:cubicBezTo>
                      <a:pt x="9977" y="1502"/>
                      <a:pt x="9973" y="1498"/>
                      <a:pt x="9973" y="1493"/>
                    </a:cubicBezTo>
                    <a:close/>
                    <a:moveTo>
                      <a:pt x="9973" y="1460"/>
                    </a:moveTo>
                    <a:lnTo>
                      <a:pt x="9973" y="1460"/>
                    </a:lnTo>
                    <a:cubicBezTo>
                      <a:pt x="9973" y="1455"/>
                      <a:pt x="9977" y="1452"/>
                      <a:pt x="9981" y="1452"/>
                    </a:cubicBezTo>
                    <a:cubicBezTo>
                      <a:pt x="9986" y="1452"/>
                      <a:pt x="9990" y="1455"/>
                      <a:pt x="9990" y="1460"/>
                    </a:cubicBezTo>
                    <a:lnTo>
                      <a:pt x="9990" y="1460"/>
                    </a:lnTo>
                    <a:cubicBezTo>
                      <a:pt x="9990" y="1465"/>
                      <a:pt x="9986" y="1468"/>
                      <a:pt x="9981" y="1468"/>
                    </a:cubicBezTo>
                    <a:cubicBezTo>
                      <a:pt x="9977" y="1468"/>
                      <a:pt x="9973" y="1465"/>
                      <a:pt x="9973" y="1460"/>
                    </a:cubicBezTo>
                    <a:close/>
                    <a:moveTo>
                      <a:pt x="9973" y="1427"/>
                    </a:moveTo>
                    <a:lnTo>
                      <a:pt x="9973" y="1427"/>
                    </a:lnTo>
                    <a:cubicBezTo>
                      <a:pt x="9973" y="1422"/>
                      <a:pt x="9977" y="1418"/>
                      <a:pt x="9981" y="1418"/>
                    </a:cubicBezTo>
                    <a:cubicBezTo>
                      <a:pt x="9986" y="1418"/>
                      <a:pt x="9990" y="1422"/>
                      <a:pt x="9990" y="1427"/>
                    </a:cubicBezTo>
                    <a:lnTo>
                      <a:pt x="9990" y="1427"/>
                    </a:lnTo>
                    <a:cubicBezTo>
                      <a:pt x="9990" y="1431"/>
                      <a:pt x="9986" y="1435"/>
                      <a:pt x="9981" y="1435"/>
                    </a:cubicBezTo>
                    <a:cubicBezTo>
                      <a:pt x="9977" y="1435"/>
                      <a:pt x="9973" y="1431"/>
                      <a:pt x="9973" y="1427"/>
                    </a:cubicBezTo>
                    <a:close/>
                    <a:moveTo>
                      <a:pt x="9973" y="1393"/>
                    </a:moveTo>
                    <a:lnTo>
                      <a:pt x="9973" y="1393"/>
                    </a:lnTo>
                    <a:cubicBezTo>
                      <a:pt x="9973" y="1389"/>
                      <a:pt x="9977" y="1385"/>
                      <a:pt x="9981" y="1385"/>
                    </a:cubicBezTo>
                    <a:cubicBezTo>
                      <a:pt x="9986" y="1385"/>
                      <a:pt x="9990" y="1389"/>
                      <a:pt x="9990" y="1393"/>
                    </a:cubicBezTo>
                    <a:lnTo>
                      <a:pt x="9990" y="1393"/>
                    </a:lnTo>
                    <a:cubicBezTo>
                      <a:pt x="9990" y="1398"/>
                      <a:pt x="9986" y="1402"/>
                      <a:pt x="9981" y="1402"/>
                    </a:cubicBezTo>
                    <a:cubicBezTo>
                      <a:pt x="9977" y="1402"/>
                      <a:pt x="9973" y="1398"/>
                      <a:pt x="9973" y="1393"/>
                    </a:cubicBezTo>
                    <a:close/>
                    <a:moveTo>
                      <a:pt x="9973" y="1360"/>
                    </a:moveTo>
                    <a:lnTo>
                      <a:pt x="9973" y="1360"/>
                    </a:lnTo>
                    <a:cubicBezTo>
                      <a:pt x="9973" y="1355"/>
                      <a:pt x="9977" y="1352"/>
                      <a:pt x="9981" y="1352"/>
                    </a:cubicBezTo>
                    <a:cubicBezTo>
                      <a:pt x="9986" y="1352"/>
                      <a:pt x="9990" y="1355"/>
                      <a:pt x="9990" y="1360"/>
                    </a:cubicBezTo>
                    <a:lnTo>
                      <a:pt x="9990" y="1360"/>
                    </a:lnTo>
                    <a:cubicBezTo>
                      <a:pt x="9990" y="1365"/>
                      <a:pt x="9986" y="1368"/>
                      <a:pt x="9981" y="1368"/>
                    </a:cubicBezTo>
                    <a:cubicBezTo>
                      <a:pt x="9977" y="1368"/>
                      <a:pt x="9973" y="1365"/>
                      <a:pt x="9973" y="1360"/>
                    </a:cubicBezTo>
                    <a:close/>
                    <a:moveTo>
                      <a:pt x="9973" y="1327"/>
                    </a:moveTo>
                    <a:lnTo>
                      <a:pt x="9973" y="1327"/>
                    </a:lnTo>
                    <a:cubicBezTo>
                      <a:pt x="9973" y="1322"/>
                      <a:pt x="9977" y="1318"/>
                      <a:pt x="9981" y="1318"/>
                    </a:cubicBezTo>
                    <a:cubicBezTo>
                      <a:pt x="9986" y="1318"/>
                      <a:pt x="9990" y="1322"/>
                      <a:pt x="9990" y="1327"/>
                    </a:cubicBezTo>
                    <a:lnTo>
                      <a:pt x="9990" y="1327"/>
                    </a:lnTo>
                    <a:cubicBezTo>
                      <a:pt x="9990" y="1331"/>
                      <a:pt x="9986" y="1335"/>
                      <a:pt x="9981" y="1335"/>
                    </a:cubicBezTo>
                    <a:cubicBezTo>
                      <a:pt x="9977" y="1335"/>
                      <a:pt x="9973" y="1331"/>
                      <a:pt x="9973" y="1327"/>
                    </a:cubicBezTo>
                    <a:close/>
                    <a:moveTo>
                      <a:pt x="9973" y="1293"/>
                    </a:moveTo>
                    <a:lnTo>
                      <a:pt x="9973" y="1293"/>
                    </a:lnTo>
                    <a:cubicBezTo>
                      <a:pt x="9973" y="1289"/>
                      <a:pt x="9977" y="1285"/>
                      <a:pt x="9981" y="1285"/>
                    </a:cubicBezTo>
                    <a:cubicBezTo>
                      <a:pt x="9986" y="1285"/>
                      <a:pt x="9990" y="1289"/>
                      <a:pt x="9990" y="1293"/>
                    </a:cubicBezTo>
                    <a:lnTo>
                      <a:pt x="9990" y="1293"/>
                    </a:lnTo>
                    <a:cubicBezTo>
                      <a:pt x="9990" y="1298"/>
                      <a:pt x="9986" y="1302"/>
                      <a:pt x="9981" y="1302"/>
                    </a:cubicBezTo>
                    <a:cubicBezTo>
                      <a:pt x="9977" y="1302"/>
                      <a:pt x="9973" y="1298"/>
                      <a:pt x="9973" y="1293"/>
                    </a:cubicBezTo>
                    <a:close/>
                    <a:moveTo>
                      <a:pt x="9973" y="1260"/>
                    </a:moveTo>
                    <a:lnTo>
                      <a:pt x="9973" y="1260"/>
                    </a:lnTo>
                    <a:cubicBezTo>
                      <a:pt x="9973" y="1255"/>
                      <a:pt x="9977" y="1252"/>
                      <a:pt x="9981" y="1252"/>
                    </a:cubicBezTo>
                    <a:cubicBezTo>
                      <a:pt x="9986" y="1252"/>
                      <a:pt x="9990" y="1255"/>
                      <a:pt x="9990" y="1260"/>
                    </a:cubicBezTo>
                    <a:lnTo>
                      <a:pt x="9990" y="1260"/>
                    </a:lnTo>
                    <a:cubicBezTo>
                      <a:pt x="9990" y="1265"/>
                      <a:pt x="9986" y="1268"/>
                      <a:pt x="9981" y="1268"/>
                    </a:cubicBezTo>
                    <a:cubicBezTo>
                      <a:pt x="9977" y="1268"/>
                      <a:pt x="9973" y="1265"/>
                      <a:pt x="9973" y="1260"/>
                    </a:cubicBezTo>
                    <a:close/>
                    <a:moveTo>
                      <a:pt x="9973" y="1227"/>
                    </a:moveTo>
                    <a:lnTo>
                      <a:pt x="9973" y="1227"/>
                    </a:lnTo>
                    <a:cubicBezTo>
                      <a:pt x="9973" y="1222"/>
                      <a:pt x="9977" y="1218"/>
                      <a:pt x="9981" y="1218"/>
                    </a:cubicBezTo>
                    <a:cubicBezTo>
                      <a:pt x="9986" y="1218"/>
                      <a:pt x="9990" y="1222"/>
                      <a:pt x="9990" y="1227"/>
                    </a:cubicBezTo>
                    <a:lnTo>
                      <a:pt x="9990" y="1227"/>
                    </a:lnTo>
                    <a:cubicBezTo>
                      <a:pt x="9990" y="1231"/>
                      <a:pt x="9986" y="1235"/>
                      <a:pt x="9981" y="1235"/>
                    </a:cubicBezTo>
                    <a:cubicBezTo>
                      <a:pt x="9977" y="1235"/>
                      <a:pt x="9973" y="1231"/>
                      <a:pt x="9973" y="1227"/>
                    </a:cubicBezTo>
                    <a:close/>
                    <a:moveTo>
                      <a:pt x="9973" y="1193"/>
                    </a:moveTo>
                    <a:lnTo>
                      <a:pt x="9973" y="1193"/>
                    </a:lnTo>
                    <a:cubicBezTo>
                      <a:pt x="9973" y="1189"/>
                      <a:pt x="9977" y="1185"/>
                      <a:pt x="9981" y="1185"/>
                    </a:cubicBezTo>
                    <a:cubicBezTo>
                      <a:pt x="9986" y="1185"/>
                      <a:pt x="9990" y="1189"/>
                      <a:pt x="9990" y="1193"/>
                    </a:cubicBezTo>
                    <a:lnTo>
                      <a:pt x="9990" y="1193"/>
                    </a:lnTo>
                    <a:cubicBezTo>
                      <a:pt x="9990" y="1198"/>
                      <a:pt x="9986" y="1202"/>
                      <a:pt x="9981" y="1202"/>
                    </a:cubicBezTo>
                    <a:cubicBezTo>
                      <a:pt x="9977" y="1202"/>
                      <a:pt x="9973" y="1198"/>
                      <a:pt x="9973" y="1193"/>
                    </a:cubicBezTo>
                    <a:close/>
                    <a:moveTo>
                      <a:pt x="9973" y="1160"/>
                    </a:moveTo>
                    <a:lnTo>
                      <a:pt x="9973" y="1160"/>
                    </a:lnTo>
                    <a:cubicBezTo>
                      <a:pt x="9973" y="1155"/>
                      <a:pt x="9977" y="1152"/>
                      <a:pt x="9981" y="1152"/>
                    </a:cubicBezTo>
                    <a:cubicBezTo>
                      <a:pt x="9986" y="1152"/>
                      <a:pt x="9990" y="1155"/>
                      <a:pt x="9990" y="1160"/>
                    </a:cubicBezTo>
                    <a:lnTo>
                      <a:pt x="9990" y="1160"/>
                    </a:lnTo>
                    <a:cubicBezTo>
                      <a:pt x="9990" y="1165"/>
                      <a:pt x="9986" y="1168"/>
                      <a:pt x="9981" y="1168"/>
                    </a:cubicBezTo>
                    <a:cubicBezTo>
                      <a:pt x="9977" y="1168"/>
                      <a:pt x="9973" y="1165"/>
                      <a:pt x="9973" y="1160"/>
                    </a:cubicBezTo>
                    <a:close/>
                    <a:moveTo>
                      <a:pt x="9973" y="1127"/>
                    </a:moveTo>
                    <a:lnTo>
                      <a:pt x="9973" y="1127"/>
                    </a:lnTo>
                    <a:cubicBezTo>
                      <a:pt x="9973" y="1122"/>
                      <a:pt x="9977" y="1118"/>
                      <a:pt x="9981" y="1118"/>
                    </a:cubicBezTo>
                    <a:cubicBezTo>
                      <a:pt x="9986" y="1118"/>
                      <a:pt x="9990" y="1122"/>
                      <a:pt x="9990" y="1127"/>
                    </a:cubicBezTo>
                    <a:lnTo>
                      <a:pt x="9990" y="1127"/>
                    </a:lnTo>
                    <a:cubicBezTo>
                      <a:pt x="9990" y="1131"/>
                      <a:pt x="9986" y="1135"/>
                      <a:pt x="9981" y="1135"/>
                    </a:cubicBezTo>
                    <a:cubicBezTo>
                      <a:pt x="9977" y="1135"/>
                      <a:pt x="9973" y="1131"/>
                      <a:pt x="9973" y="1127"/>
                    </a:cubicBezTo>
                    <a:close/>
                    <a:moveTo>
                      <a:pt x="9973" y="1093"/>
                    </a:moveTo>
                    <a:lnTo>
                      <a:pt x="9973" y="1093"/>
                    </a:lnTo>
                    <a:cubicBezTo>
                      <a:pt x="9973" y="1089"/>
                      <a:pt x="9977" y="1085"/>
                      <a:pt x="9981" y="1085"/>
                    </a:cubicBezTo>
                    <a:cubicBezTo>
                      <a:pt x="9986" y="1085"/>
                      <a:pt x="9990" y="1089"/>
                      <a:pt x="9990" y="1093"/>
                    </a:cubicBezTo>
                    <a:lnTo>
                      <a:pt x="9990" y="1093"/>
                    </a:lnTo>
                    <a:cubicBezTo>
                      <a:pt x="9990" y="1098"/>
                      <a:pt x="9986" y="1102"/>
                      <a:pt x="9981" y="1102"/>
                    </a:cubicBezTo>
                    <a:cubicBezTo>
                      <a:pt x="9977" y="1102"/>
                      <a:pt x="9973" y="1098"/>
                      <a:pt x="9973" y="1093"/>
                    </a:cubicBezTo>
                    <a:close/>
                    <a:moveTo>
                      <a:pt x="9973" y="1060"/>
                    </a:moveTo>
                    <a:lnTo>
                      <a:pt x="9973" y="1060"/>
                    </a:lnTo>
                    <a:cubicBezTo>
                      <a:pt x="9973" y="1055"/>
                      <a:pt x="9977" y="1052"/>
                      <a:pt x="9981" y="1052"/>
                    </a:cubicBezTo>
                    <a:cubicBezTo>
                      <a:pt x="9986" y="1052"/>
                      <a:pt x="9990" y="1055"/>
                      <a:pt x="9990" y="1060"/>
                    </a:cubicBezTo>
                    <a:lnTo>
                      <a:pt x="9990" y="1060"/>
                    </a:lnTo>
                    <a:cubicBezTo>
                      <a:pt x="9990" y="1064"/>
                      <a:pt x="9986" y="1068"/>
                      <a:pt x="9981" y="1068"/>
                    </a:cubicBezTo>
                    <a:cubicBezTo>
                      <a:pt x="9977" y="1068"/>
                      <a:pt x="9973" y="1064"/>
                      <a:pt x="9973" y="1060"/>
                    </a:cubicBezTo>
                    <a:close/>
                    <a:moveTo>
                      <a:pt x="9973" y="1027"/>
                    </a:moveTo>
                    <a:lnTo>
                      <a:pt x="9973" y="1026"/>
                    </a:lnTo>
                    <a:cubicBezTo>
                      <a:pt x="9973" y="1022"/>
                      <a:pt x="9977" y="1018"/>
                      <a:pt x="9981" y="1018"/>
                    </a:cubicBezTo>
                    <a:cubicBezTo>
                      <a:pt x="9986" y="1018"/>
                      <a:pt x="9990" y="1022"/>
                      <a:pt x="9990" y="1026"/>
                    </a:cubicBezTo>
                    <a:lnTo>
                      <a:pt x="9990" y="1027"/>
                    </a:lnTo>
                    <a:cubicBezTo>
                      <a:pt x="9990" y="1031"/>
                      <a:pt x="9986" y="1035"/>
                      <a:pt x="9981" y="1035"/>
                    </a:cubicBezTo>
                    <a:cubicBezTo>
                      <a:pt x="9977" y="1035"/>
                      <a:pt x="9973" y="1031"/>
                      <a:pt x="9973" y="1027"/>
                    </a:cubicBezTo>
                    <a:close/>
                    <a:moveTo>
                      <a:pt x="9973" y="993"/>
                    </a:moveTo>
                    <a:lnTo>
                      <a:pt x="9973" y="993"/>
                    </a:lnTo>
                    <a:cubicBezTo>
                      <a:pt x="9973" y="989"/>
                      <a:pt x="9977" y="985"/>
                      <a:pt x="9981" y="985"/>
                    </a:cubicBezTo>
                    <a:cubicBezTo>
                      <a:pt x="9986" y="985"/>
                      <a:pt x="9990" y="989"/>
                      <a:pt x="9990" y="993"/>
                    </a:cubicBezTo>
                    <a:lnTo>
                      <a:pt x="9990" y="993"/>
                    </a:lnTo>
                    <a:cubicBezTo>
                      <a:pt x="9990" y="998"/>
                      <a:pt x="9986" y="1001"/>
                      <a:pt x="9981" y="1001"/>
                    </a:cubicBezTo>
                    <a:cubicBezTo>
                      <a:pt x="9977" y="1001"/>
                      <a:pt x="9973" y="998"/>
                      <a:pt x="9973" y="993"/>
                    </a:cubicBezTo>
                    <a:close/>
                    <a:moveTo>
                      <a:pt x="9973" y="960"/>
                    </a:moveTo>
                    <a:lnTo>
                      <a:pt x="9973" y="960"/>
                    </a:lnTo>
                    <a:cubicBezTo>
                      <a:pt x="9973" y="955"/>
                      <a:pt x="9977" y="951"/>
                      <a:pt x="9981" y="951"/>
                    </a:cubicBezTo>
                    <a:cubicBezTo>
                      <a:pt x="9986" y="951"/>
                      <a:pt x="9990" y="955"/>
                      <a:pt x="9990" y="960"/>
                    </a:cubicBezTo>
                    <a:lnTo>
                      <a:pt x="9990" y="960"/>
                    </a:lnTo>
                    <a:cubicBezTo>
                      <a:pt x="9990" y="964"/>
                      <a:pt x="9986" y="968"/>
                      <a:pt x="9981" y="968"/>
                    </a:cubicBezTo>
                    <a:cubicBezTo>
                      <a:pt x="9977" y="968"/>
                      <a:pt x="9973" y="964"/>
                      <a:pt x="9973" y="960"/>
                    </a:cubicBezTo>
                    <a:close/>
                    <a:moveTo>
                      <a:pt x="9973" y="926"/>
                    </a:moveTo>
                    <a:lnTo>
                      <a:pt x="9973" y="926"/>
                    </a:lnTo>
                    <a:cubicBezTo>
                      <a:pt x="9973" y="922"/>
                      <a:pt x="9977" y="918"/>
                      <a:pt x="9981" y="918"/>
                    </a:cubicBezTo>
                    <a:cubicBezTo>
                      <a:pt x="9986" y="918"/>
                      <a:pt x="9990" y="922"/>
                      <a:pt x="9990" y="926"/>
                    </a:cubicBezTo>
                    <a:lnTo>
                      <a:pt x="9990" y="926"/>
                    </a:lnTo>
                    <a:cubicBezTo>
                      <a:pt x="9990" y="931"/>
                      <a:pt x="9986" y="935"/>
                      <a:pt x="9981" y="935"/>
                    </a:cubicBezTo>
                    <a:cubicBezTo>
                      <a:pt x="9977" y="935"/>
                      <a:pt x="9973" y="931"/>
                      <a:pt x="9973" y="926"/>
                    </a:cubicBezTo>
                    <a:close/>
                    <a:moveTo>
                      <a:pt x="9973" y="893"/>
                    </a:moveTo>
                    <a:lnTo>
                      <a:pt x="9973" y="893"/>
                    </a:lnTo>
                    <a:cubicBezTo>
                      <a:pt x="9973" y="888"/>
                      <a:pt x="9977" y="885"/>
                      <a:pt x="9981" y="885"/>
                    </a:cubicBezTo>
                    <a:cubicBezTo>
                      <a:pt x="9986" y="885"/>
                      <a:pt x="9990" y="888"/>
                      <a:pt x="9990" y="893"/>
                    </a:cubicBezTo>
                    <a:lnTo>
                      <a:pt x="9990" y="893"/>
                    </a:lnTo>
                    <a:cubicBezTo>
                      <a:pt x="9990" y="898"/>
                      <a:pt x="9986" y="901"/>
                      <a:pt x="9981" y="901"/>
                    </a:cubicBezTo>
                    <a:cubicBezTo>
                      <a:pt x="9977" y="901"/>
                      <a:pt x="9973" y="898"/>
                      <a:pt x="9973" y="893"/>
                    </a:cubicBezTo>
                    <a:close/>
                    <a:moveTo>
                      <a:pt x="9973" y="860"/>
                    </a:moveTo>
                    <a:lnTo>
                      <a:pt x="9973" y="860"/>
                    </a:lnTo>
                    <a:cubicBezTo>
                      <a:pt x="9973" y="855"/>
                      <a:pt x="9977" y="851"/>
                      <a:pt x="9981" y="851"/>
                    </a:cubicBezTo>
                    <a:cubicBezTo>
                      <a:pt x="9986" y="851"/>
                      <a:pt x="9990" y="855"/>
                      <a:pt x="9990" y="860"/>
                    </a:cubicBezTo>
                    <a:lnTo>
                      <a:pt x="9990" y="860"/>
                    </a:lnTo>
                    <a:cubicBezTo>
                      <a:pt x="9990" y="864"/>
                      <a:pt x="9986" y="868"/>
                      <a:pt x="9981" y="868"/>
                    </a:cubicBezTo>
                    <a:cubicBezTo>
                      <a:pt x="9977" y="868"/>
                      <a:pt x="9973" y="864"/>
                      <a:pt x="9973" y="860"/>
                    </a:cubicBezTo>
                    <a:close/>
                    <a:moveTo>
                      <a:pt x="9973" y="826"/>
                    </a:moveTo>
                    <a:lnTo>
                      <a:pt x="9973" y="826"/>
                    </a:lnTo>
                    <a:cubicBezTo>
                      <a:pt x="9973" y="822"/>
                      <a:pt x="9977" y="818"/>
                      <a:pt x="9981" y="818"/>
                    </a:cubicBezTo>
                    <a:cubicBezTo>
                      <a:pt x="9986" y="818"/>
                      <a:pt x="9990" y="822"/>
                      <a:pt x="9990" y="826"/>
                    </a:cubicBezTo>
                    <a:lnTo>
                      <a:pt x="9990" y="826"/>
                    </a:lnTo>
                    <a:cubicBezTo>
                      <a:pt x="9990" y="831"/>
                      <a:pt x="9986" y="835"/>
                      <a:pt x="9981" y="835"/>
                    </a:cubicBezTo>
                    <a:cubicBezTo>
                      <a:pt x="9977" y="835"/>
                      <a:pt x="9973" y="831"/>
                      <a:pt x="9973" y="826"/>
                    </a:cubicBezTo>
                    <a:close/>
                    <a:moveTo>
                      <a:pt x="9973" y="793"/>
                    </a:moveTo>
                    <a:lnTo>
                      <a:pt x="9973" y="793"/>
                    </a:lnTo>
                    <a:cubicBezTo>
                      <a:pt x="9973" y="788"/>
                      <a:pt x="9977" y="785"/>
                      <a:pt x="9981" y="785"/>
                    </a:cubicBezTo>
                    <a:cubicBezTo>
                      <a:pt x="9986" y="785"/>
                      <a:pt x="9990" y="788"/>
                      <a:pt x="9990" y="793"/>
                    </a:cubicBezTo>
                    <a:lnTo>
                      <a:pt x="9990" y="793"/>
                    </a:lnTo>
                    <a:cubicBezTo>
                      <a:pt x="9990" y="798"/>
                      <a:pt x="9986" y="801"/>
                      <a:pt x="9981" y="801"/>
                    </a:cubicBezTo>
                    <a:cubicBezTo>
                      <a:pt x="9977" y="801"/>
                      <a:pt x="9973" y="798"/>
                      <a:pt x="9973" y="793"/>
                    </a:cubicBezTo>
                    <a:close/>
                    <a:moveTo>
                      <a:pt x="9973" y="760"/>
                    </a:moveTo>
                    <a:lnTo>
                      <a:pt x="9973" y="760"/>
                    </a:lnTo>
                    <a:cubicBezTo>
                      <a:pt x="9973" y="755"/>
                      <a:pt x="9977" y="751"/>
                      <a:pt x="9981" y="751"/>
                    </a:cubicBezTo>
                    <a:cubicBezTo>
                      <a:pt x="9986" y="751"/>
                      <a:pt x="9990" y="755"/>
                      <a:pt x="9990" y="760"/>
                    </a:cubicBezTo>
                    <a:lnTo>
                      <a:pt x="9990" y="760"/>
                    </a:lnTo>
                    <a:cubicBezTo>
                      <a:pt x="9990" y="764"/>
                      <a:pt x="9986" y="768"/>
                      <a:pt x="9981" y="768"/>
                    </a:cubicBezTo>
                    <a:cubicBezTo>
                      <a:pt x="9977" y="768"/>
                      <a:pt x="9973" y="764"/>
                      <a:pt x="9973" y="760"/>
                    </a:cubicBezTo>
                    <a:close/>
                    <a:moveTo>
                      <a:pt x="9973" y="726"/>
                    </a:moveTo>
                    <a:lnTo>
                      <a:pt x="9973" y="726"/>
                    </a:lnTo>
                    <a:cubicBezTo>
                      <a:pt x="9973" y="722"/>
                      <a:pt x="9977" y="718"/>
                      <a:pt x="9981" y="718"/>
                    </a:cubicBezTo>
                    <a:cubicBezTo>
                      <a:pt x="9986" y="718"/>
                      <a:pt x="9990" y="722"/>
                      <a:pt x="9990" y="726"/>
                    </a:cubicBezTo>
                    <a:lnTo>
                      <a:pt x="9990" y="726"/>
                    </a:lnTo>
                    <a:cubicBezTo>
                      <a:pt x="9990" y="731"/>
                      <a:pt x="9986" y="735"/>
                      <a:pt x="9981" y="735"/>
                    </a:cubicBezTo>
                    <a:cubicBezTo>
                      <a:pt x="9977" y="735"/>
                      <a:pt x="9973" y="731"/>
                      <a:pt x="9973" y="726"/>
                    </a:cubicBezTo>
                    <a:close/>
                    <a:moveTo>
                      <a:pt x="9973" y="693"/>
                    </a:moveTo>
                    <a:lnTo>
                      <a:pt x="9973" y="693"/>
                    </a:lnTo>
                    <a:cubicBezTo>
                      <a:pt x="9973" y="688"/>
                      <a:pt x="9977" y="685"/>
                      <a:pt x="9981" y="685"/>
                    </a:cubicBezTo>
                    <a:cubicBezTo>
                      <a:pt x="9986" y="685"/>
                      <a:pt x="9990" y="688"/>
                      <a:pt x="9990" y="693"/>
                    </a:cubicBezTo>
                    <a:lnTo>
                      <a:pt x="9990" y="693"/>
                    </a:lnTo>
                    <a:cubicBezTo>
                      <a:pt x="9990" y="698"/>
                      <a:pt x="9986" y="701"/>
                      <a:pt x="9981" y="701"/>
                    </a:cubicBezTo>
                    <a:cubicBezTo>
                      <a:pt x="9977" y="701"/>
                      <a:pt x="9973" y="698"/>
                      <a:pt x="9973" y="693"/>
                    </a:cubicBezTo>
                    <a:close/>
                    <a:moveTo>
                      <a:pt x="9973" y="660"/>
                    </a:moveTo>
                    <a:lnTo>
                      <a:pt x="9973" y="660"/>
                    </a:lnTo>
                    <a:cubicBezTo>
                      <a:pt x="9973" y="655"/>
                      <a:pt x="9977" y="651"/>
                      <a:pt x="9981" y="651"/>
                    </a:cubicBezTo>
                    <a:cubicBezTo>
                      <a:pt x="9986" y="651"/>
                      <a:pt x="9990" y="655"/>
                      <a:pt x="9990" y="660"/>
                    </a:cubicBezTo>
                    <a:lnTo>
                      <a:pt x="9990" y="660"/>
                    </a:lnTo>
                    <a:cubicBezTo>
                      <a:pt x="9990" y="664"/>
                      <a:pt x="9986" y="668"/>
                      <a:pt x="9981" y="668"/>
                    </a:cubicBezTo>
                    <a:cubicBezTo>
                      <a:pt x="9977" y="668"/>
                      <a:pt x="9973" y="664"/>
                      <a:pt x="9973" y="660"/>
                    </a:cubicBezTo>
                    <a:close/>
                    <a:moveTo>
                      <a:pt x="9973" y="626"/>
                    </a:moveTo>
                    <a:lnTo>
                      <a:pt x="9973" y="626"/>
                    </a:lnTo>
                    <a:cubicBezTo>
                      <a:pt x="9973" y="622"/>
                      <a:pt x="9977" y="618"/>
                      <a:pt x="9981" y="618"/>
                    </a:cubicBezTo>
                    <a:cubicBezTo>
                      <a:pt x="9986" y="618"/>
                      <a:pt x="9990" y="622"/>
                      <a:pt x="9990" y="626"/>
                    </a:cubicBezTo>
                    <a:lnTo>
                      <a:pt x="9990" y="626"/>
                    </a:lnTo>
                    <a:cubicBezTo>
                      <a:pt x="9990" y="631"/>
                      <a:pt x="9986" y="635"/>
                      <a:pt x="9981" y="635"/>
                    </a:cubicBezTo>
                    <a:cubicBezTo>
                      <a:pt x="9977" y="635"/>
                      <a:pt x="9973" y="631"/>
                      <a:pt x="9973" y="626"/>
                    </a:cubicBezTo>
                    <a:close/>
                    <a:moveTo>
                      <a:pt x="9973" y="593"/>
                    </a:moveTo>
                    <a:lnTo>
                      <a:pt x="9973" y="593"/>
                    </a:lnTo>
                    <a:cubicBezTo>
                      <a:pt x="9973" y="588"/>
                      <a:pt x="9977" y="585"/>
                      <a:pt x="9981" y="585"/>
                    </a:cubicBezTo>
                    <a:cubicBezTo>
                      <a:pt x="9986" y="585"/>
                      <a:pt x="9990" y="588"/>
                      <a:pt x="9990" y="593"/>
                    </a:cubicBezTo>
                    <a:lnTo>
                      <a:pt x="9990" y="593"/>
                    </a:lnTo>
                    <a:cubicBezTo>
                      <a:pt x="9990" y="598"/>
                      <a:pt x="9986" y="601"/>
                      <a:pt x="9981" y="601"/>
                    </a:cubicBezTo>
                    <a:cubicBezTo>
                      <a:pt x="9977" y="601"/>
                      <a:pt x="9973" y="598"/>
                      <a:pt x="9973" y="593"/>
                    </a:cubicBezTo>
                    <a:close/>
                    <a:moveTo>
                      <a:pt x="9973" y="560"/>
                    </a:moveTo>
                    <a:lnTo>
                      <a:pt x="9973" y="560"/>
                    </a:lnTo>
                    <a:cubicBezTo>
                      <a:pt x="9973" y="555"/>
                      <a:pt x="9977" y="551"/>
                      <a:pt x="9981" y="551"/>
                    </a:cubicBezTo>
                    <a:cubicBezTo>
                      <a:pt x="9986" y="551"/>
                      <a:pt x="9990" y="555"/>
                      <a:pt x="9990" y="560"/>
                    </a:cubicBezTo>
                    <a:lnTo>
                      <a:pt x="9990" y="560"/>
                    </a:lnTo>
                    <a:cubicBezTo>
                      <a:pt x="9990" y="564"/>
                      <a:pt x="9986" y="568"/>
                      <a:pt x="9981" y="568"/>
                    </a:cubicBezTo>
                    <a:cubicBezTo>
                      <a:pt x="9977" y="568"/>
                      <a:pt x="9973" y="564"/>
                      <a:pt x="9973" y="560"/>
                    </a:cubicBezTo>
                    <a:close/>
                    <a:moveTo>
                      <a:pt x="9973" y="526"/>
                    </a:moveTo>
                    <a:lnTo>
                      <a:pt x="9973" y="526"/>
                    </a:lnTo>
                    <a:cubicBezTo>
                      <a:pt x="9973" y="522"/>
                      <a:pt x="9977" y="518"/>
                      <a:pt x="9981" y="518"/>
                    </a:cubicBezTo>
                    <a:cubicBezTo>
                      <a:pt x="9986" y="518"/>
                      <a:pt x="9990" y="522"/>
                      <a:pt x="9990" y="526"/>
                    </a:cubicBezTo>
                    <a:lnTo>
                      <a:pt x="9990" y="526"/>
                    </a:lnTo>
                    <a:cubicBezTo>
                      <a:pt x="9990" y="531"/>
                      <a:pt x="9986" y="535"/>
                      <a:pt x="9981" y="535"/>
                    </a:cubicBezTo>
                    <a:cubicBezTo>
                      <a:pt x="9977" y="535"/>
                      <a:pt x="9973" y="531"/>
                      <a:pt x="9973" y="526"/>
                    </a:cubicBezTo>
                    <a:close/>
                    <a:moveTo>
                      <a:pt x="9973" y="493"/>
                    </a:moveTo>
                    <a:lnTo>
                      <a:pt x="9973" y="493"/>
                    </a:lnTo>
                    <a:cubicBezTo>
                      <a:pt x="9973" y="488"/>
                      <a:pt x="9977" y="485"/>
                      <a:pt x="9981" y="485"/>
                    </a:cubicBezTo>
                    <a:cubicBezTo>
                      <a:pt x="9986" y="485"/>
                      <a:pt x="9990" y="488"/>
                      <a:pt x="9990" y="493"/>
                    </a:cubicBezTo>
                    <a:lnTo>
                      <a:pt x="9990" y="493"/>
                    </a:lnTo>
                    <a:cubicBezTo>
                      <a:pt x="9990" y="498"/>
                      <a:pt x="9986" y="501"/>
                      <a:pt x="9981" y="501"/>
                    </a:cubicBezTo>
                    <a:cubicBezTo>
                      <a:pt x="9977" y="501"/>
                      <a:pt x="9973" y="498"/>
                      <a:pt x="9973" y="493"/>
                    </a:cubicBezTo>
                    <a:close/>
                    <a:moveTo>
                      <a:pt x="9973" y="460"/>
                    </a:moveTo>
                    <a:lnTo>
                      <a:pt x="9973" y="460"/>
                    </a:lnTo>
                    <a:cubicBezTo>
                      <a:pt x="9973" y="455"/>
                      <a:pt x="9977" y="451"/>
                      <a:pt x="9981" y="451"/>
                    </a:cubicBezTo>
                    <a:cubicBezTo>
                      <a:pt x="9986" y="451"/>
                      <a:pt x="9990" y="455"/>
                      <a:pt x="9990" y="460"/>
                    </a:cubicBezTo>
                    <a:lnTo>
                      <a:pt x="9990" y="460"/>
                    </a:lnTo>
                    <a:cubicBezTo>
                      <a:pt x="9990" y="464"/>
                      <a:pt x="9986" y="468"/>
                      <a:pt x="9981" y="468"/>
                    </a:cubicBezTo>
                    <a:cubicBezTo>
                      <a:pt x="9977" y="468"/>
                      <a:pt x="9973" y="464"/>
                      <a:pt x="9973" y="460"/>
                    </a:cubicBezTo>
                    <a:close/>
                    <a:moveTo>
                      <a:pt x="9973" y="426"/>
                    </a:moveTo>
                    <a:lnTo>
                      <a:pt x="9973" y="426"/>
                    </a:lnTo>
                    <a:cubicBezTo>
                      <a:pt x="9973" y="422"/>
                      <a:pt x="9977" y="418"/>
                      <a:pt x="9981" y="418"/>
                    </a:cubicBezTo>
                    <a:cubicBezTo>
                      <a:pt x="9986" y="418"/>
                      <a:pt x="9990" y="422"/>
                      <a:pt x="9990" y="426"/>
                    </a:cubicBezTo>
                    <a:lnTo>
                      <a:pt x="9990" y="426"/>
                    </a:lnTo>
                    <a:cubicBezTo>
                      <a:pt x="9990" y="431"/>
                      <a:pt x="9986" y="435"/>
                      <a:pt x="9981" y="435"/>
                    </a:cubicBezTo>
                    <a:cubicBezTo>
                      <a:pt x="9977" y="435"/>
                      <a:pt x="9973" y="431"/>
                      <a:pt x="9973" y="426"/>
                    </a:cubicBezTo>
                    <a:close/>
                    <a:moveTo>
                      <a:pt x="9973" y="393"/>
                    </a:moveTo>
                    <a:lnTo>
                      <a:pt x="9973" y="393"/>
                    </a:lnTo>
                    <a:cubicBezTo>
                      <a:pt x="9973" y="388"/>
                      <a:pt x="9977" y="385"/>
                      <a:pt x="9981" y="385"/>
                    </a:cubicBezTo>
                    <a:cubicBezTo>
                      <a:pt x="9986" y="385"/>
                      <a:pt x="9990" y="388"/>
                      <a:pt x="9990" y="393"/>
                    </a:cubicBezTo>
                    <a:lnTo>
                      <a:pt x="9990" y="393"/>
                    </a:lnTo>
                    <a:cubicBezTo>
                      <a:pt x="9990" y="397"/>
                      <a:pt x="9986" y="401"/>
                      <a:pt x="9981" y="401"/>
                    </a:cubicBezTo>
                    <a:cubicBezTo>
                      <a:pt x="9977" y="401"/>
                      <a:pt x="9973" y="397"/>
                      <a:pt x="9973" y="393"/>
                    </a:cubicBezTo>
                    <a:close/>
                    <a:moveTo>
                      <a:pt x="9973" y="360"/>
                    </a:moveTo>
                    <a:lnTo>
                      <a:pt x="9973" y="359"/>
                    </a:lnTo>
                    <a:cubicBezTo>
                      <a:pt x="9973" y="355"/>
                      <a:pt x="9977" y="351"/>
                      <a:pt x="9981" y="351"/>
                    </a:cubicBezTo>
                    <a:cubicBezTo>
                      <a:pt x="9986" y="351"/>
                      <a:pt x="9990" y="355"/>
                      <a:pt x="9990" y="359"/>
                    </a:cubicBezTo>
                    <a:lnTo>
                      <a:pt x="9990" y="360"/>
                    </a:lnTo>
                    <a:cubicBezTo>
                      <a:pt x="9990" y="364"/>
                      <a:pt x="9986" y="368"/>
                      <a:pt x="9981" y="368"/>
                    </a:cubicBezTo>
                    <a:cubicBezTo>
                      <a:pt x="9977" y="368"/>
                      <a:pt x="9973" y="364"/>
                      <a:pt x="9973" y="360"/>
                    </a:cubicBezTo>
                    <a:close/>
                    <a:moveTo>
                      <a:pt x="9973" y="326"/>
                    </a:moveTo>
                    <a:lnTo>
                      <a:pt x="9973" y="326"/>
                    </a:lnTo>
                    <a:cubicBezTo>
                      <a:pt x="9973" y="322"/>
                      <a:pt x="9977" y="318"/>
                      <a:pt x="9981" y="318"/>
                    </a:cubicBezTo>
                    <a:cubicBezTo>
                      <a:pt x="9986" y="318"/>
                      <a:pt x="9990" y="322"/>
                      <a:pt x="9990" y="326"/>
                    </a:cubicBezTo>
                    <a:lnTo>
                      <a:pt x="9990" y="326"/>
                    </a:lnTo>
                    <a:cubicBezTo>
                      <a:pt x="9990" y="331"/>
                      <a:pt x="9986" y="334"/>
                      <a:pt x="9981" y="334"/>
                    </a:cubicBezTo>
                    <a:cubicBezTo>
                      <a:pt x="9977" y="334"/>
                      <a:pt x="9973" y="331"/>
                      <a:pt x="9973" y="326"/>
                    </a:cubicBezTo>
                    <a:close/>
                    <a:moveTo>
                      <a:pt x="9973" y="293"/>
                    </a:moveTo>
                    <a:lnTo>
                      <a:pt x="9973" y="293"/>
                    </a:lnTo>
                    <a:cubicBezTo>
                      <a:pt x="9973" y="288"/>
                      <a:pt x="9977" y="284"/>
                      <a:pt x="9981" y="284"/>
                    </a:cubicBezTo>
                    <a:cubicBezTo>
                      <a:pt x="9986" y="284"/>
                      <a:pt x="9990" y="288"/>
                      <a:pt x="9990" y="293"/>
                    </a:cubicBezTo>
                    <a:lnTo>
                      <a:pt x="9990" y="293"/>
                    </a:lnTo>
                    <a:cubicBezTo>
                      <a:pt x="9990" y="297"/>
                      <a:pt x="9986" y="301"/>
                      <a:pt x="9981" y="301"/>
                    </a:cubicBezTo>
                    <a:cubicBezTo>
                      <a:pt x="9977" y="301"/>
                      <a:pt x="9973" y="297"/>
                      <a:pt x="9973" y="293"/>
                    </a:cubicBezTo>
                    <a:close/>
                    <a:moveTo>
                      <a:pt x="9973" y="259"/>
                    </a:moveTo>
                    <a:lnTo>
                      <a:pt x="9973" y="259"/>
                    </a:lnTo>
                    <a:cubicBezTo>
                      <a:pt x="9973" y="255"/>
                      <a:pt x="9977" y="251"/>
                      <a:pt x="9981" y="251"/>
                    </a:cubicBezTo>
                    <a:cubicBezTo>
                      <a:pt x="9986" y="251"/>
                      <a:pt x="9990" y="255"/>
                      <a:pt x="9990" y="259"/>
                    </a:cubicBezTo>
                    <a:lnTo>
                      <a:pt x="9990" y="259"/>
                    </a:lnTo>
                    <a:cubicBezTo>
                      <a:pt x="9990" y="264"/>
                      <a:pt x="9986" y="268"/>
                      <a:pt x="9981" y="268"/>
                    </a:cubicBezTo>
                    <a:cubicBezTo>
                      <a:pt x="9977" y="268"/>
                      <a:pt x="9973" y="264"/>
                      <a:pt x="9973" y="259"/>
                    </a:cubicBezTo>
                    <a:close/>
                    <a:moveTo>
                      <a:pt x="9973" y="226"/>
                    </a:moveTo>
                    <a:lnTo>
                      <a:pt x="9973" y="226"/>
                    </a:lnTo>
                    <a:cubicBezTo>
                      <a:pt x="9973" y="221"/>
                      <a:pt x="9977" y="218"/>
                      <a:pt x="9981" y="218"/>
                    </a:cubicBezTo>
                    <a:cubicBezTo>
                      <a:pt x="9986" y="218"/>
                      <a:pt x="9990" y="221"/>
                      <a:pt x="9990" y="226"/>
                    </a:cubicBezTo>
                    <a:lnTo>
                      <a:pt x="9990" y="226"/>
                    </a:lnTo>
                    <a:cubicBezTo>
                      <a:pt x="9990" y="231"/>
                      <a:pt x="9986" y="234"/>
                      <a:pt x="9981" y="234"/>
                    </a:cubicBezTo>
                    <a:cubicBezTo>
                      <a:pt x="9977" y="234"/>
                      <a:pt x="9973" y="231"/>
                      <a:pt x="9973" y="226"/>
                    </a:cubicBezTo>
                    <a:close/>
                    <a:moveTo>
                      <a:pt x="9973" y="193"/>
                    </a:moveTo>
                    <a:lnTo>
                      <a:pt x="9973" y="193"/>
                    </a:lnTo>
                    <a:cubicBezTo>
                      <a:pt x="9973" y="188"/>
                      <a:pt x="9977" y="184"/>
                      <a:pt x="9981" y="184"/>
                    </a:cubicBezTo>
                    <a:cubicBezTo>
                      <a:pt x="9986" y="184"/>
                      <a:pt x="9990" y="188"/>
                      <a:pt x="9990" y="193"/>
                    </a:cubicBezTo>
                    <a:lnTo>
                      <a:pt x="9990" y="193"/>
                    </a:lnTo>
                    <a:cubicBezTo>
                      <a:pt x="9990" y="197"/>
                      <a:pt x="9986" y="201"/>
                      <a:pt x="9981" y="201"/>
                    </a:cubicBezTo>
                    <a:cubicBezTo>
                      <a:pt x="9977" y="201"/>
                      <a:pt x="9973" y="197"/>
                      <a:pt x="9973" y="193"/>
                    </a:cubicBezTo>
                    <a:close/>
                    <a:moveTo>
                      <a:pt x="9973" y="159"/>
                    </a:moveTo>
                    <a:lnTo>
                      <a:pt x="9973" y="159"/>
                    </a:lnTo>
                    <a:cubicBezTo>
                      <a:pt x="9973" y="155"/>
                      <a:pt x="9977" y="151"/>
                      <a:pt x="9981" y="151"/>
                    </a:cubicBezTo>
                    <a:cubicBezTo>
                      <a:pt x="9986" y="151"/>
                      <a:pt x="9990" y="155"/>
                      <a:pt x="9990" y="159"/>
                    </a:cubicBezTo>
                    <a:lnTo>
                      <a:pt x="9990" y="159"/>
                    </a:lnTo>
                    <a:cubicBezTo>
                      <a:pt x="9990" y="164"/>
                      <a:pt x="9986" y="168"/>
                      <a:pt x="9981" y="168"/>
                    </a:cubicBezTo>
                    <a:cubicBezTo>
                      <a:pt x="9977" y="168"/>
                      <a:pt x="9973" y="164"/>
                      <a:pt x="9973" y="159"/>
                    </a:cubicBezTo>
                    <a:close/>
                    <a:moveTo>
                      <a:pt x="9973" y="126"/>
                    </a:moveTo>
                    <a:lnTo>
                      <a:pt x="9973" y="126"/>
                    </a:lnTo>
                    <a:cubicBezTo>
                      <a:pt x="9973" y="121"/>
                      <a:pt x="9977" y="118"/>
                      <a:pt x="9981" y="118"/>
                    </a:cubicBezTo>
                    <a:cubicBezTo>
                      <a:pt x="9986" y="118"/>
                      <a:pt x="9990" y="121"/>
                      <a:pt x="9990" y="126"/>
                    </a:cubicBezTo>
                    <a:lnTo>
                      <a:pt x="9990" y="126"/>
                    </a:lnTo>
                    <a:cubicBezTo>
                      <a:pt x="9990" y="131"/>
                      <a:pt x="9986" y="134"/>
                      <a:pt x="9981" y="134"/>
                    </a:cubicBezTo>
                    <a:cubicBezTo>
                      <a:pt x="9977" y="134"/>
                      <a:pt x="9973" y="131"/>
                      <a:pt x="9973" y="126"/>
                    </a:cubicBezTo>
                    <a:close/>
                    <a:moveTo>
                      <a:pt x="9973" y="93"/>
                    </a:moveTo>
                    <a:lnTo>
                      <a:pt x="9973" y="93"/>
                    </a:lnTo>
                    <a:cubicBezTo>
                      <a:pt x="9973" y="88"/>
                      <a:pt x="9977" y="84"/>
                      <a:pt x="9981" y="84"/>
                    </a:cubicBezTo>
                    <a:cubicBezTo>
                      <a:pt x="9986" y="84"/>
                      <a:pt x="9990" y="88"/>
                      <a:pt x="9990" y="93"/>
                    </a:cubicBezTo>
                    <a:lnTo>
                      <a:pt x="9990" y="93"/>
                    </a:lnTo>
                    <a:cubicBezTo>
                      <a:pt x="9990" y="97"/>
                      <a:pt x="9986" y="101"/>
                      <a:pt x="9981" y="101"/>
                    </a:cubicBezTo>
                    <a:cubicBezTo>
                      <a:pt x="9977" y="101"/>
                      <a:pt x="9973" y="97"/>
                      <a:pt x="9973" y="93"/>
                    </a:cubicBezTo>
                    <a:close/>
                    <a:moveTo>
                      <a:pt x="9973" y="59"/>
                    </a:moveTo>
                    <a:lnTo>
                      <a:pt x="9973" y="59"/>
                    </a:lnTo>
                    <a:cubicBezTo>
                      <a:pt x="9973" y="55"/>
                      <a:pt x="9977" y="51"/>
                      <a:pt x="9981" y="51"/>
                    </a:cubicBezTo>
                    <a:cubicBezTo>
                      <a:pt x="9986" y="51"/>
                      <a:pt x="9990" y="55"/>
                      <a:pt x="9990" y="59"/>
                    </a:cubicBezTo>
                    <a:lnTo>
                      <a:pt x="9990" y="59"/>
                    </a:lnTo>
                    <a:cubicBezTo>
                      <a:pt x="9990" y="64"/>
                      <a:pt x="9986" y="68"/>
                      <a:pt x="9981" y="68"/>
                    </a:cubicBezTo>
                    <a:cubicBezTo>
                      <a:pt x="9977" y="68"/>
                      <a:pt x="9973" y="64"/>
                      <a:pt x="9973" y="59"/>
                    </a:cubicBezTo>
                    <a:close/>
                    <a:moveTo>
                      <a:pt x="9973" y="26"/>
                    </a:moveTo>
                    <a:lnTo>
                      <a:pt x="9973" y="26"/>
                    </a:lnTo>
                    <a:cubicBezTo>
                      <a:pt x="9973" y="21"/>
                      <a:pt x="9977" y="18"/>
                      <a:pt x="9981" y="18"/>
                    </a:cubicBezTo>
                    <a:cubicBezTo>
                      <a:pt x="9986" y="18"/>
                      <a:pt x="9990" y="21"/>
                      <a:pt x="9990" y="26"/>
                    </a:cubicBezTo>
                    <a:lnTo>
                      <a:pt x="9990" y="26"/>
                    </a:lnTo>
                    <a:cubicBezTo>
                      <a:pt x="9990" y="31"/>
                      <a:pt x="9986" y="34"/>
                      <a:pt x="9981" y="34"/>
                    </a:cubicBezTo>
                    <a:cubicBezTo>
                      <a:pt x="9977" y="34"/>
                      <a:pt x="9973" y="31"/>
                      <a:pt x="9973" y="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659200" y="4017960"/>
              <a:ext cx="3229200" cy="609480"/>
              <a:chOff x="5659200" y="4017960"/>
              <a:chExt cx="3229200" cy="609480"/>
            </a:xfrm>
          </p:grpSpPr>
          <p:sp>
            <p:nvSpPr>
              <p:cNvPr id="356" name=""/>
              <p:cNvSpPr/>
              <p:nvPr/>
            </p:nvSpPr>
            <p:spPr>
              <a:xfrm>
                <a:off x="5659200" y="4017960"/>
                <a:ext cx="322920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59200" y="4017960"/>
                <a:ext cx="322920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726480" y="185256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45000" y="185256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51440" y="1852560"/>
              <a:ext cx="2109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53040" y="185256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00" y="22161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2800" y="2522520"/>
              <a:ext cx="207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теклянная каме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87840" y="2522520"/>
              <a:ext cx="1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4400" y="2522520"/>
              <a:ext cx="75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35840" y="25225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59280" y="2805120"/>
              <a:ext cx="104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ласти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7760" y="28051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58920" y="306540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 сорбен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82120" y="30654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5640" y="33274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5640" y="3613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59280" y="389736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осуд с элюен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40120" y="38973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6360" y="416088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5640" y="44719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00" y="47563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5659200" y="2301840"/>
              <a:ext cx="3229200" cy="2997360"/>
              <a:chOff x="5659200" y="2301840"/>
              <a:chExt cx="3229200" cy="2997360"/>
            </a:xfrm>
          </p:grpSpPr>
          <p:sp>
            <p:nvSpPr>
              <p:cNvPr id="379" name=""/>
              <p:cNvSpPr/>
              <p:nvPr/>
            </p:nvSpPr>
            <p:spPr>
              <a:xfrm>
                <a:off x="5659200" y="2301840"/>
                <a:ext cx="3229200" cy="299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59200" y="2301840"/>
                <a:ext cx="3229200" cy="2997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5825880" y="2403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5656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08720" y="2403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3868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92280" y="2403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2296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07440" y="2403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3848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56880" y="2403360"/>
              <a:ext cx="2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5164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21400" y="3522600"/>
              <a:ext cx="1423440" cy="623880"/>
            </a:xfrm>
            <a:custGeom>
              <a:avLst/>
              <a:gdLst/>
              <a:ahLst/>
              <a:rect l="l" t="t" r="r" b="b"/>
              <a:pathLst>
                <a:path w="8802" h="3682">
                  <a:moveTo>
                    <a:pt x="50" y="3545"/>
                  </a:moveTo>
                  <a:lnTo>
                    <a:pt x="7668" y="397"/>
                  </a:lnTo>
                  <a:cubicBezTo>
                    <a:pt x="7702" y="382"/>
                    <a:pt x="7741" y="399"/>
                    <a:pt x="7755" y="433"/>
                  </a:cubicBezTo>
                  <a:cubicBezTo>
                    <a:pt x="7769" y="467"/>
                    <a:pt x="7753" y="506"/>
                    <a:pt x="7719" y="520"/>
                  </a:cubicBezTo>
                  <a:lnTo>
                    <a:pt x="101" y="3668"/>
                  </a:lnTo>
                  <a:cubicBezTo>
                    <a:pt x="67" y="3682"/>
                    <a:pt x="28" y="3666"/>
                    <a:pt x="14" y="3632"/>
                  </a:cubicBezTo>
                  <a:cubicBezTo>
                    <a:pt x="0" y="3598"/>
                    <a:pt x="16" y="3559"/>
                    <a:pt x="50" y="3545"/>
                  </a:cubicBezTo>
                  <a:close/>
                  <a:moveTo>
                    <a:pt x="7468" y="263"/>
                  </a:moveTo>
                  <a:lnTo>
                    <a:pt x="8802" y="0"/>
                  </a:lnTo>
                  <a:lnTo>
                    <a:pt x="7672" y="756"/>
                  </a:lnTo>
                  <a:lnTo>
                    <a:pt x="7468" y="26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5859720" y="4221000"/>
              <a:ext cx="79200" cy="76320"/>
              <a:chOff x="5859720" y="4221000"/>
              <a:chExt cx="79200" cy="76320"/>
            </a:xfrm>
          </p:grpSpPr>
          <p:sp>
            <p:nvSpPr>
              <p:cNvPr id="393" name=""/>
              <p:cNvSpPr/>
              <p:nvPr/>
            </p:nvSpPr>
            <p:spPr>
              <a:xfrm>
                <a:off x="5859720" y="4221000"/>
                <a:ext cx="7920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59720" y="4221000"/>
                <a:ext cx="7920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859720" y="3303720"/>
              <a:ext cx="139680" cy="141120"/>
              <a:chOff x="5859720" y="3303720"/>
              <a:chExt cx="139680" cy="141120"/>
            </a:xfrm>
          </p:grpSpPr>
          <p:sp>
            <p:nvSpPr>
              <p:cNvPr id="396" name=""/>
              <p:cNvSpPr/>
              <p:nvPr/>
            </p:nvSpPr>
            <p:spPr>
              <a:xfrm>
                <a:off x="5859720" y="3303720"/>
                <a:ext cx="139680" cy="141120"/>
              </a:xfrm>
              <a:prstGeom prst="ellipse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59720" y="3303720"/>
                <a:ext cx="139680" cy="141120"/>
              </a:xfrm>
              <a:prstGeom prst="ellipse">
                <a:avLst/>
              </a:prstGeom>
              <a:solidFill>
                <a:srgbClr val="008000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465960" y="3027240"/>
              <a:ext cx="139320" cy="141480"/>
              <a:chOff x="6465960" y="3027240"/>
              <a:chExt cx="139320" cy="141480"/>
            </a:xfrm>
          </p:grpSpPr>
          <p:sp>
            <p:nvSpPr>
              <p:cNvPr id="399" name=""/>
              <p:cNvSpPr/>
              <p:nvPr/>
            </p:nvSpPr>
            <p:spPr>
              <a:xfrm>
                <a:off x="6465960" y="3027240"/>
                <a:ext cx="139320" cy="14148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65960" y="3027240"/>
                <a:ext cx="139320" cy="141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7072200" y="2932200"/>
              <a:ext cx="78480" cy="75960"/>
              <a:chOff x="7072200" y="2932200"/>
              <a:chExt cx="78480" cy="75960"/>
            </a:xfrm>
          </p:grpSpPr>
          <p:sp>
            <p:nvSpPr>
              <p:cNvPr id="402" name=""/>
              <p:cNvSpPr/>
              <p:nvPr/>
            </p:nvSpPr>
            <p:spPr>
              <a:xfrm>
                <a:off x="7072200" y="2932200"/>
                <a:ext cx="7848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72200" y="2932200"/>
                <a:ext cx="78480" cy="759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282520" y="2932200"/>
              <a:ext cx="79200" cy="75960"/>
              <a:chOff x="8282520" y="2932200"/>
              <a:chExt cx="79200" cy="75960"/>
            </a:xfrm>
          </p:grpSpPr>
          <p:sp>
            <p:nvSpPr>
              <p:cNvPr id="405" name=""/>
              <p:cNvSpPr/>
              <p:nvPr/>
            </p:nvSpPr>
            <p:spPr>
              <a:xfrm>
                <a:off x="8282520" y="2932200"/>
                <a:ext cx="7920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82520" y="2932200"/>
                <a:ext cx="79200" cy="759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282520" y="3373560"/>
              <a:ext cx="116640" cy="117360"/>
              <a:chOff x="8282520" y="3373560"/>
              <a:chExt cx="116640" cy="117360"/>
            </a:xfrm>
          </p:grpSpPr>
          <p:sp>
            <p:nvSpPr>
              <p:cNvPr id="408" name=""/>
              <p:cNvSpPr/>
              <p:nvPr/>
            </p:nvSpPr>
            <p:spPr>
              <a:xfrm>
                <a:off x="8282520" y="3373560"/>
                <a:ext cx="116640" cy="117360"/>
              </a:xfrm>
              <a:prstGeom prst="ellipse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282520" y="3373560"/>
                <a:ext cx="116640" cy="117360"/>
              </a:xfrm>
              <a:prstGeom prst="ellipse">
                <a:avLst/>
              </a:prstGeom>
              <a:solidFill>
                <a:srgbClr val="008000"/>
              </a:solidFill>
              <a:ln w="46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7475760" y="2708280"/>
              <a:ext cx="139320" cy="141120"/>
              <a:chOff x="7475760" y="2708280"/>
              <a:chExt cx="139320" cy="141120"/>
            </a:xfrm>
          </p:grpSpPr>
          <p:sp>
            <p:nvSpPr>
              <p:cNvPr id="411" name=""/>
              <p:cNvSpPr/>
              <p:nvPr/>
            </p:nvSpPr>
            <p:spPr>
              <a:xfrm>
                <a:off x="7475760" y="2708280"/>
                <a:ext cx="139320" cy="141120"/>
              </a:xfrm>
              <a:prstGeom prst="ellipse">
                <a:avLst/>
              </a:prstGeom>
              <a:solidFill>
                <a:srgbClr val="3333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75760" y="2708280"/>
                <a:ext cx="139320" cy="141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465960" y="4221000"/>
              <a:ext cx="79200" cy="76320"/>
              <a:chOff x="6465960" y="4221000"/>
              <a:chExt cx="79200" cy="76320"/>
            </a:xfrm>
          </p:grpSpPr>
          <p:sp>
            <p:nvSpPr>
              <p:cNvPr id="414" name=""/>
              <p:cNvSpPr/>
              <p:nvPr/>
            </p:nvSpPr>
            <p:spPr>
              <a:xfrm>
                <a:off x="6465960" y="4221000"/>
                <a:ext cx="7920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65960" y="4221000"/>
                <a:ext cx="7920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7072200" y="4221000"/>
              <a:ext cx="78480" cy="76320"/>
              <a:chOff x="7072200" y="4221000"/>
              <a:chExt cx="78480" cy="76320"/>
            </a:xfrm>
          </p:grpSpPr>
          <p:sp>
            <p:nvSpPr>
              <p:cNvPr id="417" name=""/>
              <p:cNvSpPr/>
              <p:nvPr/>
            </p:nvSpPr>
            <p:spPr>
              <a:xfrm>
                <a:off x="7072200" y="4221000"/>
                <a:ext cx="7848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72200" y="4221000"/>
                <a:ext cx="7848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7475760" y="4221000"/>
              <a:ext cx="79200" cy="76320"/>
              <a:chOff x="7475760" y="4221000"/>
              <a:chExt cx="79200" cy="76320"/>
            </a:xfrm>
          </p:grpSpPr>
          <p:sp>
            <p:nvSpPr>
              <p:cNvPr id="420" name=""/>
              <p:cNvSpPr/>
              <p:nvPr/>
            </p:nvSpPr>
            <p:spPr>
              <a:xfrm>
                <a:off x="7475760" y="4221000"/>
                <a:ext cx="7920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75760" y="4221000"/>
                <a:ext cx="7920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8282520" y="4221000"/>
              <a:ext cx="79200" cy="76320"/>
              <a:chOff x="8282520" y="4221000"/>
              <a:chExt cx="79200" cy="76320"/>
            </a:xfrm>
          </p:grpSpPr>
          <p:sp>
            <p:nvSpPr>
              <p:cNvPr id="423" name=""/>
              <p:cNvSpPr/>
              <p:nvPr/>
            </p:nvSpPr>
            <p:spPr>
              <a:xfrm>
                <a:off x="8282520" y="4221000"/>
                <a:ext cx="7920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282520" y="4221000"/>
                <a:ext cx="7920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654880" y="2705040"/>
              <a:ext cx="3236040" cy="6480"/>
            </a:xfrm>
            <a:custGeom>
              <a:avLst/>
              <a:gdLst/>
              <a:ahLst/>
              <a:rect l="l" t="t" r="r" b="b"/>
              <a:pathLst>
                <a:path w="9988" h="17">
                  <a:moveTo>
                    <a:pt x="8" y="0"/>
                  </a:moveTo>
                  <a:lnTo>
                    <a:pt x="8" y="0"/>
                  </a:lnTo>
                  <a:cubicBezTo>
                    <a:pt x="13" y="0"/>
                    <a:pt x="16" y="4"/>
                    <a:pt x="16" y="9"/>
                  </a:cubicBezTo>
                  <a:cubicBezTo>
                    <a:pt x="16" y="13"/>
                    <a:pt x="13" y="17"/>
                    <a:pt x="8" y="17"/>
                  </a:cubicBezTo>
                  <a:lnTo>
                    <a:pt x="8" y="17"/>
                  </a:lnTo>
                  <a:cubicBezTo>
                    <a:pt x="4" y="17"/>
                    <a:pt x="0" y="13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41" y="0"/>
                  </a:moveTo>
                  <a:lnTo>
                    <a:pt x="41" y="0"/>
                  </a:lnTo>
                  <a:cubicBezTo>
                    <a:pt x="46" y="0"/>
                    <a:pt x="50" y="4"/>
                    <a:pt x="50" y="9"/>
                  </a:cubicBezTo>
                  <a:cubicBezTo>
                    <a:pt x="50" y="13"/>
                    <a:pt x="46" y="17"/>
                    <a:pt x="41" y="17"/>
                  </a:cubicBezTo>
                  <a:lnTo>
                    <a:pt x="41" y="17"/>
                  </a:lnTo>
                  <a:cubicBezTo>
                    <a:pt x="37" y="17"/>
                    <a:pt x="33" y="13"/>
                    <a:pt x="33" y="9"/>
                  </a:cubicBezTo>
                  <a:cubicBezTo>
                    <a:pt x="33" y="4"/>
                    <a:pt x="37" y="0"/>
                    <a:pt x="41" y="0"/>
                  </a:cubicBezTo>
                  <a:close/>
                  <a:moveTo>
                    <a:pt x="75" y="0"/>
                  </a:moveTo>
                  <a:lnTo>
                    <a:pt x="75" y="0"/>
                  </a:lnTo>
                  <a:cubicBezTo>
                    <a:pt x="79" y="0"/>
                    <a:pt x="83" y="4"/>
                    <a:pt x="83" y="9"/>
                  </a:cubicBezTo>
                  <a:cubicBezTo>
                    <a:pt x="83" y="13"/>
                    <a:pt x="79" y="17"/>
                    <a:pt x="75" y="17"/>
                  </a:cubicBezTo>
                  <a:lnTo>
                    <a:pt x="75" y="17"/>
                  </a:lnTo>
                  <a:cubicBezTo>
                    <a:pt x="70" y="17"/>
                    <a:pt x="66" y="13"/>
                    <a:pt x="66" y="9"/>
                  </a:cubicBezTo>
                  <a:cubicBezTo>
                    <a:pt x="66" y="4"/>
                    <a:pt x="70" y="0"/>
                    <a:pt x="75" y="0"/>
                  </a:cubicBezTo>
                  <a:close/>
                  <a:moveTo>
                    <a:pt x="108" y="0"/>
                  </a:moveTo>
                  <a:lnTo>
                    <a:pt x="108" y="0"/>
                  </a:lnTo>
                  <a:cubicBezTo>
                    <a:pt x="113" y="0"/>
                    <a:pt x="117" y="4"/>
                    <a:pt x="117" y="9"/>
                  </a:cubicBezTo>
                  <a:cubicBezTo>
                    <a:pt x="117" y="13"/>
                    <a:pt x="113" y="17"/>
                    <a:pt x="108" y="17"/>
                  </a:cubicBezTo>
                  <a:lnTo>
                    <a:pt x="108" y="17"/>
                  </a:lnTo>
                  <a:cubicBezTo>
                    <a:pt x="104" y="17"/>
                    <a:pt x="100" y="13"/>
                    <a:pt x="100" y="9"/>
                  </a:cubicBezTo>
                  <a:cubicBezTo>
                    <a:pt x="100" y="4"/>
                    <a:pt x="104" y="0"/>
                    <a:pt x="108" y="0"/>
                  </a:cubicBezTo>
                  <a:close/>
                  <a:moveTo>
                    <a:pt x="142" y="0"/>
                  </a:moveTo>
                  <a:lnTo>
                    <a:pt x="142" y="0"/>
                  </a:lnTo>
                  <a:cubicBezTo>
                    <a:pt x="146" y="0"/>
                    <a:pt x="150" y="4"/>
                    <a:pt x="150" y="9"/>
                  </a:cubicBezTo>
                  <a:cubicBezTo>
                    <a:pt x="150" y="13"/>
                    <a:pt x="146" y="17"/>
                    <a:pt x="142" y="17"/>
                  </a:cubicBezTo>
                  <a:lnTo>
                    <a:pt x="142" y="17"/>
                  </a:lnTo>
                  <a:cubicBezTo>
                    <a:pt x="137" y="17"/>
                    <a:pt x="133" y="13"/>
                    <a:pt x="133" y="9"/>
                  </a:cubicBezTo>
                  <a:cubicBezTo>
                    <a:pt x="133" y="4"/>
                    <a:pt x="137" y="0"/>
                    <a:pt x="142" y="0"/>
                  </a:cubicBezTo>
                  <a:close/>
                  <a:moveTo>
                    <a:pt x="175" y="0"/>
                  </a:moveTo>
                  <a:lnTo>
                    <a:pt x="175" y="0"/>
                  </a:lnTo>
                  <a:cubicBezTo>
                    <a:pt x="179" y="0"/>
                    <a:pt x="183" y="4"/>
                    <a:pt x="183" y="9"/>
                  </a:cubicBezTo>
                  <a:cubicBezTo>
                    <a:pt x="183" y="13"/>
                    <a:pt x="179" y="17"/>
                    <a:pt x="175" y="17"/>
                  </a:cubicBezTo>
                  <a:lnTo>
                    <a:pt x="175" y="17"/>
                  </a:lnTo>
                  <a:cubicBezTo>
                    <a:pt x="170" y="17"/>
                    <a:pt x="167" y="13"/>
                    <a:pt x="167" y="9"/>
                  </a:cubicBezTo>
                  <a:cubicBezTo>
                    <a:pt x="167" y="4"/>
                    <a:pt x="170" y="0"/>
                    <a:pt x="175" y="0"/>
                  </a:cubicBezTo>
                  <a:close/>
                  <a:moveTo>
                    <a:pt x="208" y="0"/>
                  </a:moveTo>
                  <a:lnTo>
                    <a:pt x="208" y="0"/>
                  </a:lnTo>
                  <a:cubicBezTo>
                    <a:pt x="213" y="0"/>
                    <a:pt x="217" y="4"/>
                    <a:pt x="217" y="9"/>
                  </a:cubicBezTo>
                  <a:cubicBezTo>
                    <a:pt x="217" y="13"/>
                    <a:pt x="213" y="17"/>
                    <a:pt x="208" y="17"/>
                  </a:cubicBezTo>
                  <a:lnTo>
                    <a:pt x="208" y="17"/>
                  </a:lnTo>
                  <a:cubicBezTo>
                    <a:pt x="204" y="17"/>
                    <a:pt x="200" y="13"/>
                    <a:pt x="200" y="9"/>
                  </a:cubicBezTo>
                  <a:cubicBezTo>
                    <a:pt x="200" y="4"/>
                    <a:pt x="204" y="0"/>
                    <a:pt x="208" y="0"/>
                  </a:cubicBezTo>
                  <a:close/>
                  <a:moveTo>
                    <a:pt x="242" y="0"/>
                  </a:moveTo>
                  <a:lnTo>
                    <a:pt x="242" y="0"/>
                  </a:lnTo>
                  <a:cubicBezTo>
                    <a:pt x="246" y="0"/>
                    <a:pt x="250" y="4"/>
                    <a:pt x="250" y="9"/>
                  </a:cubicBezTo>
                  <a:cubicBezTo>
                    <a:pt x="250" y="13"/>
                    <a:pt x="246" y="17"/>
                    <a:pt x="242" y="17"/>
                  </a:cubicBezTo>
                  <a:lnTo>
                    <a:pt x="242" y="17"/>
                  </a:lnTo>
                  <a:cubicBezTo>
                    <a:pt x="237" y="17"/>
                    <a:pt x="233" y="13"/>
                    <a:pt x="233" y="9"/>
                  </a:cubicBezTo>
                  <a:cubicBezTo>
                    <a:pt x="233" y="4"/>
                    <a:pt x="237" y="0"/>
                    <a:pt x="242" y="0"/>
                  </a:cubicBezTo>
                  <a:close/>
                  <a:moveTo>
                    <a:pt x="275" y="0"/>
                  </a:moveTo>
                  <a:lnTo>
                    <a:pt x="275" y="0"/>
                  </a:lnTo>
                  <a:cubicBezTo>
                    <a:pt x="280" y="0"/>
                    <a:pt x="283" y="4"/>
                    <a:pt x="283" y="9"/>
                  </a:cubicBezTo>
                  <a:cubicBezTo>
                    <a:pt x="283" y="13"/>
                    <a:pt x="280" y="17"/>
                    <a:pt x="275" y="17"/>
                  </a:cubicBezTo>
                  <a:lnTo>
                    <a:pt x="275" y="17"/>
                  </a:lnTo>
                  <a:cubicBezTo>
                    <a:pt x="270" y="17"/>
                    <a:pt x="267" y="13"/>
                    <a:pt x="267" y="9"/>
                  </a:cubicBezTo>
                  <a:cubicBezTo>
                    <a:pt x="267" y="4"/>
                    <a:pt x="270" y="0"/>
                    <a:pt x="275" y="0"/>
                  </a:cubicBezTo>
                  <a:close/>
                  <a:moveTo>
                    <a:pt x="308" y="0"/>
                  </a:moveTo>
                  <a:lnTo>
                    <a:pt x="308" y="0"/>
                  </a:lnTo>
                  <a:cubicBezTo>
                    <a:pt x="313" y="0"/>
                    <a:pt x="317" y="4"/>
                    <a:pt x="317" y="9"/>
                  </a:cubicBezTo>
                  <a:cubicBezTo>
                    <a:pt x="317" y="13"/>
                    <a:pt x="313" y="17"/>
                    <a:pt x="308" y="17"/>
                  </a:cubicBezTo>
                  <a:lnTo>
                    <a:pt x="308" y="17"/>
                  </a:lnTo>
                  <a:cubicBezTo>
                    <a:pt x="304" y="17"/>
                    <a:pt x="300" y="13"/>
                    <a:pt x="300" y="9"/>
                  </a:cubicBezTo>
                  <a:cubicBezTo>
                    <a:pt x="300" y="4"/>
                    <a:pt x="304" y="0"/>
                    <a:pt x="308" y="0"/>
                  </a:cubicBezTo>
                  <a:close/>
                  <a:moveTo>
                    <a:pt x="342" y="0"/>
                  </a:moveTo>
                  <a:lnTo>
                    <a:pt x="342" y="0"/>
                  </a:lnTo>
                  <a:cubicBezTo>
                    <a:pt x="346" y="0"/>
                    <a:pt x="350" y="4"/>
                    <a:pt x="350" y="9"/>
                  </a:cubicBezTo>
                  <a:cubicBezTo>
                    <a:pt x="350" y="13"/>
                    <a:pt x="346" y="17"/>
                    <a:pt x="342" y="17"/>
                  </a:cubicBezTo>
                  <a:lnTo>
                    <a:pt x="342" y="17"/>
                  </a:lnTo>
                  <a:cubicBezTo>
                    <a:pt x="337" y="17"/>
                    <a:pt x="333" y="13"/>
                    <a:pt x="333" y="9"/>
                  </a:cubicBezTo>
                  <a:cubicBezTo>
                    <a:pt x="333" y="4"/>
                    <a:pt x="337" y="0"/>
                    <a:pt x="342" y="0"/>
                  </a:cubicBezTo>
                  <a:close/>
                  <a:moveTo>
                    <a:pt x="375" y="0"/>
                  </a:moveTo>
                  <a:lnTo>
                    <a:pt x="375" y="0"/>
                  </a:lnTo>
                  <a:cubicBezTo>
                    <a:pt x="380" y="0"/>
                    <a:pt x="383" y="4"/>
                    <a:pt x="383" y="9"/>
                  </a:cubicBezTo>
                  <a:cubicBezTo>
                    <a:pt x="383" y="13"/>
                    <a:pt x="380" y="17"/>
                    <a:pt x="375" y="17"/>
                  </a:cubicBezTo>
                  <a:lnTo>
                    <a:pt x="375" y="17"/>
                  </a:lnTo>
                  <a:cubicBezTo>
                    <a:pt x="370" y="17"/>
                    <a:pt x="367" y="13"/>
                    <a:pt x="367" y="9"/>
                  </a:cubicBezTo>
                  <a:cubicBezTo>
                    <a:pt x="367" y="4"/>
                    <a:pt x="370" y="0"/>
                    <a:pt x="375" y="0"/>
                  </a:cubicBezTo>
                  <a:close/>
                  <a:moveTo>
                    <a:pt x="408" y="0"/>
                  </a:moveTo>
                  <a:lnTo>
                    <a:pt x="408" y="0"/>
                  </a:lnTo>
                  <a:cubicBezTo>
                    <a:pt x="413" y="0"/>
                    <a:pt x="417" y="4"/>
                    <a:pt x="417" y="9"/>
                  </a:cubicBezTo>
                  <a:cubicBezTo>
                    <a:pt x="417" y="13"/>
                    <a:pt x="413" y="17"/>
                    <a:pt x="408" y="17"/>
                  </a:cubicBezTo>
                  <a:lnTo>
                    <a:pt x="408" y="17"/>
                  </a:lnTo>
                  <a:cubicBezTo>
                    <a:pt x="404" y="17"/>
                    <a:pt x="400" y="13"/>
                    <a:pt x="400" y="9"/>
                  </a:cubicBezTo>
                  <a:cubicBezTo>
                    <a:pt x="400" y="4"/>
                    <a:pt x="404" y="0"/>
                    <a:pt x="408" y="0"/>
                  </a:cubicBezTo>
                  <a:close/>
                  <a:moveTo>
                    <a:pt x="442" y="0"/>
                  </a:moveTo>
                  <a:lnTo>
                    <a:pt x="442" y="0"/>
                  </a:lnTo>
                  <a:cubicBezTo>
                    <a:pt x="446" y="0"/>
                    <a:pt x="450" y="4"/>
                    <a:pt x="450" y="9"/>
                  </a:cubicBezTo>
                  <a:cubicBezTo>
                    <a:pt x="450" y="13"/>
                    <a:pt x="446" y="17"/>
                    <a:pt x="442" y="17"/>
                  </a:cubicBezTo>
                  <a:lnTo>
                    <a:pt x="442" y="17"/>
                  </a:lnTo>
                  <a:cubicBezTo>
                    <a:pt x="437" y="17"/>
                    <a:pt x="433" y="13"/>
                    <a:pt x="433" y="9"/>
                  </a:cubicBezTo>
                  <a:cubicBezTo>
                    <a:pt x="433" y="4"/>
                    <a:pt x="437" y="0"/>
                    <a:pt x="442" y="0"/>
                  </a:cubicBezTo>
                  <a:close/>
                  <a:moveTo>
                    <a:pt x="475" y="0"/>
                  </a:moveTo>
                  <a:lnTo>
                    <a:pt x="475" y="0"/>
                  </a:lnTo>
                  <a:cubicBezTo>
                    <a:pt x="480" y="0"/>
                    <a:pt x="483" y="4"/>
                    <a:pt x="483" y="9"/>
                  </a:cubicBezTo>
                  <a:cubicBezTo>
                    <a:pt x="483" y="13"/>
                    <a:pt x="480" y="17"/>
                    <a:pt x="475" y="17"/>
                  </a:cubicBezTo>
                  <a:lnTo>
                    <a:pt x="475" y="17"/>
                  </a:lnTo>
                  <a:cubicBezTo>
                    <a:pt x="470" y="17"/>
                    <a:pt x="467" y="13"/>
                    <a:pt x="467" y="9"/>
                  </a:cubicBezTo>
                  <a:cubicBezTo>
                    <a:pt x="467" y="4"/>
                    <a:pt x="470" y="0"/>
                    <a:pt x="475" y="0"/>
                  </a:cubicBezTo>
                  <a:close/>
                  <a:moveTo>
                    <a:pt x="508" y="0"/>
                  </a:moveTo>
                  <a:lnTo>
                    <a:pt x="508" y="0"/>
                  </a:lnTo>
                  <a:cubicBezTo>
                    <a:pt x="513" y="0"/>
                    <a:pt x="517" y="4"/>
                    <a:pt x="517" y="9"/>
                  </a:cubicBezTo>
                  <a:cubicBezTo>
                    <a:pt x="517" y="13"/>
                    <a:pt x="513" y="17"/>
                    <a:pt x="508" y="17"/>
                  </a:cubicBezTo>
                  <a:lnTo>
                    <a:pt x="508" y="17"/>
                  </a:lnTo>
                  <a:cubicBezTo>
                    <a:pt x="504" y="17"/>
                    <a:pt x="500" y="13"/>
                    <a:pt x="500" y="9"/>
                  </a:cubicBezTo>
                  <a:cubicBezTo>
                    <a:pt x="500" y="4"/>
                    <a:pt x="504" y="0"/>
                    <a:pt x="508" y="0"/>
                  </a:cubicBezTo>
                  <a:close/>
                  <a:moveTo>
                    <a:pt x="542" y="0"/>
                  </a:moveTo>
                  <a:lnTo>
                    <a:pt x="542" y="0"/>
                  </a:lnTo>
                  <a:cubicBezTo>
                    <a:pt x="546" y="0"/>
                    <a:pt x="550" y="4"/>
                    <a:pt x="550" y="9"/>
                  </a:cubicBezTo>
                  <a:cubicBezTo>
                    <a:pt x="550" y="13"/>
                    <a:pt x="546" y="17"/>
                    <a:pt x="542" y="17"/>
                  </a:cubicBezTo>
                  <a:lnTo>
                    <a:pt x="542" y="17"/>
                  </a:lnTo>
                  <a:cubicBezTo>
                    <a:pt x="537" y="17"/>
                    <a:pt x="533" y="13"/>
                    <a:pt x="533" y="9"/>
                  </a:cubicBezTo>
                  <a:cubicBezTo>
                    <a:pt x="533" y="4"/>
                    <a:pt x="537" y="0"/>
                    <a:pt x="542" y="0"/>
                  </a:cubicBezTo>
                  <a:close/>
                  <a:moveTo>
                    <a:pt x="575" y="0"/>
                  </a:moveTo>
                  <a:lnTo>
                    <a:pt x="575" y="0"/>
                  </a:lnTo>
                  <a:cubicBezTo>
                    <a:pt x="580" y="0"/>
                    <a:pt x="583" y="4"/>
                    <a:pt x="583" y="9"/>
                  </a:cubicBezTo>
                  <a:cubicBezTo>
                    <a:pt x="583" y="13"/>
                    <a:pt x="580" y="17"/>
                    <a:pt x="575" y="17"/>
                  </a:cubicBezTo>
                  <a:lnTo>
                    <a:pt x="575" y="17"/>
                  </a:lnTo>
                  <a:cubicBezTo>
                    <a:pt x="570" y="17"/>
                    <a:pt x="567" y="13"/>
                    <a:pt x="567" y="9"/>
                  </a:cubicBezTo>
                  <a:cubicBezTo>
                    <a:pt x="567" y="4"/>
                    <a:pt x="570" y="0"/>
                    <a:pt x="575" y="0"/>
                  </a:cubicBezTo>
                  <a:close/>
                  <a:moveTo>
                    <a:pt x="608" y="0"/>
                  </a:moveTo>
                  <a:lnTo>
                    <a:pt x="608" y="0"/>
                  </a:lnTo>
                  <a:cubicBezTo>
                    <a:pt x="613" y="0"/>
                    <a:pt x="617" y="4"/>
                    <a:pt x="617" y="9"/>
                  </a:cubicBezTo>
                  <a:cubicBezTo>
                    <a:pt x="617" y="13"/>
                    <a:pt x="613" y="17"/>
                    <a:pt x="608" y="17"/>
                  </a:cubicBezTo>
                  <a:lnTo>
                    <a:pt x="608" y="17"/>
                  </a:lnTo>
                  <a:cubicBezTo>
                    <a:pt x="604" y="17"/>
                    <a:pt x="600" y="13"/>
                    <a:pt x="600" y="9"/>
                  </a:cubicBezTo>
                  <a:cubicBezTo>
                    <a:pt x="600" y="4"/>
                    <a:pt x="604" y="0"/>
                    <a:pt x="608" y="0"/>
                  </a:cubicBezTo>
                  <a:close/>
                  <a:moveTo>
                    <a:pt x="642" y="0"/>
                  </a:moveTo>
                  <a:lnTo>
                    <a:pt x="642" y="0"/>
                  </a:lnTo>
                  <a:cubicBezTo>
                    <a:pt x="646" y="0"/>
                    <a:pt x="650" y="4"/>
                    <a:pt x="650" y="9"/>
                  </a:cubicBezTo>
                  <a:cubicBezTo>
                    <a:pt x="650" y="13"/>
                    <a:pt x="646" y="17"/>
                    <a:pt x="642" y="17"/>
                  </a:cubicBezTo>
                  <a:lnTo>
                    <a:pt x="642" y="17"/>
                  </a:lnTo>
                  <a:cubicBezTo>
                    <a:pt x="637" y="17"/>
                    <a:pt x="633" y="13"/>
                    <a:pt x="633" y="9"/>
                  </a:cubicBezTo>
                  <a:cubicBezTo>
                    <a:pt x="633" y="4"/>
                    <a:pt x="637" y="0"/>
                    <a:pt x="642" y="0"/>
                  </a:cubicBezTo>
                  <a:close/>
                  <a:moveTo>
                    <a:pt x="675" y="0"/>
                  </a:moveTo>
                  <a:lnTo>
                    <a:pt x="675" y="0"/>
                  </a:lnTo>
                  <a:cubicBezTo>
                    <a:pt x="680" y="0"/>
                    <a:pt x="683" y="4"/>
                    <a:pt x="683" y="9"/>
                  </a:cubicBezTo>
                  <a:cubicBezTo>
                    <a:pt x="683" y="13"/>
                    <a:pt x="680" y="17"/>
                    <a:pt x="675" y="17"/>
                  </a:cubicBezTo>
                  <a:lnTo>
                    <a:pt x="675" y="17"/>
                  </a:lnTo>
                  <a:cubicBezTo>
                    <a:pt x="670" y="17"/>
                    <a:pt x="667" y="13"/>
                    <a:pt x="667" y="9"/>
                  </a:cubicBezTo>
                  <a:cubicBezTo>
                    <a:pt x="667" y="4"/>
                    <a:pt x="670" y="0"/>
                    <a:pt x="675" y="0"/>
                  </a:cubicBezTo>
                  <a:close/>
                  <a:moveTo>
                    <a:pt x="708" y="0"/>
                  </a:moveTo>
                  <a:lnTo>
                    <a:pt x="708" y="0"/>
                  </a:lnTo>
                  <a:cubicBezTo>
                    <a:pt x="713" y="0"/>
                    <a:pt x="717" y="4"/>
                    <a:pt x="717" y="9"/>
                  </a:cubicBezTo>
                  <a:cubicBezTo>
                    <a:pt x="717" y="13"/>
                    <a:pt x="713" y="17"/>
                    <a:pt x="708" y="17"/>
                  </a:cubicBezTo>
                  <a:lnTo>
                    <a:pt x="708" y="17"/>
                  </a:lnTo>
                  <a:cubicBezTo>
                    <a:pt x="704" y="17"/>
                    <a:pt x="700" y="13"/>
                    <a:pt x="700" y="9"/>
                  </a:cubicBezTo>
                  <a:cubicBezTo>
                    <a:pt x="700" y="4"/>
                    <a:pt x="704" y="0"/>
                    <a:pt x="708" y="0"/>
                  </a:cubicBezTo>
                  <a:close/>
                  <a:moveTo>
                    <a:pt x="742" y="0"/>
                  </a:moveTo>
                  <a:lnTo>
                    <a:pt x="742" y="0"/>
                  </a:lnTo>
                  <a:cubicBezTo>
                    <a:pt x="746" y="0"/>
                    <a:pt x="750" y="4"/>
                    <a:pt x="750" y="9"/>
                  </a:cubicBezTo>
                  <a:cubicBezTo>
                    <a:pt x="750" y="13"/>
                    <a:pt x="746" y="17"/>
                    <a:pt x="742" y="17"/>
                  </a:cubicBezTo>
                  <a:lnTo>
                    <a:pt x="742" y="17"/>
                  </a:lnTo>
                  <a:cubicBezTo>
                    <a:pt x="737" y="17"/>
                    <a:pt x="733" y="13"/>
                    <a:pt x="733" y="9"/>
                  </a:cubicBezTo>
                  <a:cubicBezTo>
                    <a:pt x="733" y="4"/>
                    <a:pt x="737" y="0"/>
                    <a:pt x="742" y="0"/>
                  </a:cubicBezTo>
                  <a:close/>
                  <a:moveTo>
                    <a:pt x="775" y="0"/>
                  </a:moveTo>
                  <a:lnTo>
                    <a:pt x="775" y="0"/>
                  </a:lnTo>
                  <a:cubicBezTo>
                    <a:pt x="780" y="0"/>
                    <a:pt x="783" y="4"/>
                    <a:pt x="783" y="9"/>
                  </a:cubicBezTo>
                  <a:cubicBezTo>
                    <a:pt x="783" y="13"/>
                    <a:pt x="780" y="17"/>
                    <a:pt x="775" y="17"/>
                  </a:cubicBezTo>
                  <a:lnTo>
                    <a:pt x="775" y="17"/>
                  </a:lnTo>
                  <a:cubicBezTo>
                    <a:pt x="771" y="17"/>
                    <a:pt x="767" y="13"/>
                    <a:pt x="767" y="9"/>
                  </a:cubicBezTo>
                  <a:cubicBezTo>
                    <a:pt x="767" y="4"/>
                    <a:pt x="771" y="0"/>
                    <a:pt x="775" y="0"/>
                  </a:cubicBezTo>
                  <a:close/>
                  <a:moveTo>
                    <a:pt x="808" y="0"/>
                  </a:moveTo>
                  <a:lnTo>
                    <a:pt x="808" y="0"/>
                  </a:lnTo>
                  <a:cubicBezTo>
                    <a:pt x="813" y="0"/>
                    <a:pt x="817" y="4"/>
                    <a:pt x="817" y="9"/>
                  </a:cubicBezTo>
                  <a:cubicBezTo>
                    <a:pt x="817" y="13"/>
                    <a:pt x="813" y="17"/>
                    <a:pt x="808" y="17"/>
                  </a:cubicBezTo>
                  <a:lnTo>
                    <a:pt x="808" y="17"/>
                  </a:lnTo>
                  <a:cubicBezTo>
                    <a:pt x="804" y="17"/>
                    <a:pt x="800" y="13"/>
                    <a:pt x="800" y="9"/>
                  </a:cubicBezTo>
                  <a:cubicBezTo>
                    <a:pt x="800" y="4"/>
                    <a:pt x="804" y="0"/>
                    <a:pt x="808" y="0"/>
                  </a:cubicBezTo>
                  <a:close/>
                  <a:moveTo>
                    <a:pt x="842" y="0"/>
                  </a:moveTo>
                  <a:lnTo>
                    <a:pt x="842" y="0"/>
                  </a:lnTo>
                  <a:cubicBezTo>
                    <a:pt x="846" y="0"/>
                    <a:pt x="850" y="4"/>
                    <a:pt x="850" y="9"/>
                  </a:cubicBezTo>
                  <a:cubicBezTo>
                    <a:pt x="850" y="13"/>
                    <a:pt x="846" y="17"/>
                    <a:pt x="842" y="17"/>
                  </a:cubicBezTo>
                  <a:lnTo>
                    <a:pt x="842" y="17"/>
                  </a:lnTo>
                  <a:cubicBezTo>
                    <a:pt x="837" y="17"/>
                    <a:pt x="833" y="13"/>
                    <a:pt x="833" y="9"/>
                  </a:cubicBezTo>
                  <a:cubicBezTo>
                    <a:pt x="833" y="4"/>
                    <a:pt x="837" y="0"/>
                    <a:pt x="842" y="0"/>
                  </a:cubicBezTo>
                  <a:close/>
                  <a:moveTo>
                    <a:pt x="875" y="0"/>
                  </a:moveTo>
                  <a:lnTo>
                    <a:pt x="875" y="0"/>
                  </a:lnTo>
                  <a:cubicBezTo>
                    <a:pt x="880" y="0"/>
                    <a:pt x="884" y="4"/>
                    <a:pt x="884" y="9"/>
                  </a:cubicBezTo>
                  <a:cubicBezTo>
                    <a:pt x="884" y="13"/>
                    <a:pt x="880" y="17"/>
                    <a:pt x="875" y="17"/>
                  </a:cubicBezTo>
                  <a:lnTo>
                    <a:pt x="875" y="17"/>
                  </a:lnTo>
                  <a:cubicBezTo>
                    <a:pt x="871" y="17"/>
                    <a:pt x="867" y="13"/>
                    <a:pt x="867" y="9"/>
                  </a:cubicBezTo>
                  <a:cubicBezTo>
                    <a:pt x="867" y="4"/>
                    <a:pt x="871" y="0"/>
                    <a:pt x="875" y="0"/>
                  </a:cubicBezTo>
                  <a:close/>
                  <a:moveTo>
                    <a:pt x="909" y="0"/>
                  </a:moveTo>
                  <a:lnTo>
                    <a:pt x="909" y="0"/>
                  </a:lnTo>
                  <a:cubicBezTo>
                    <a:pt x="913" y="0"/>
                    <a:pt x="917" y="4"/>
                    <a:pt x="917" y="9"/>
                  </a:cubicBezTo>
                  <a:cubicBezTo>
                    <a:pt x="917" y="13"/>
                    <a:pt x="913" y="17"/>
                    <a:pt x="909" y="17"/>
                  </a:cubicBezTo>
                  <a:lnTo>
                    <a:pt x="909" y="17"/>
                  </a:lnTo>
                  <a:cubicBezTo>
                    <a:pt x="904" y="17"/>
                    <a:pt x="900" y="13"/>
                    <a:pt x="900" y="9"/>
                  </a:cubicBezTo>
                  <a:cubicBezTo>
                    <a:pt x="900" y="4"/>
                    <a:pt x="904" y="0"/>
                    <a:pt x="909" y="0"/>
                  </a:cubicBezTo>
                  <a:close/>
                  <a:moveTo>
                    <a:pt x="942" y="0"/>
                  </a:moveTo>
                  <a:lnTo>
                    <a:pt x="942" y="0"/>
                  </a:lnTo>
                  <a:cubicBezTo>
                    <a:pt x="946" y="0"/>
                    <a:pt x="950" y="4"/>
                    <a:pt x="950" y="9"/>
                  </a:cubicBezTo>
                  <a:cubicBezTo>
                    <a:pt x="950" y="13"/>
                    <a:pt x="946" y="17"/>
                    <a:pt x="942" y="17"/>
                  </a:cubicBezTo>
                  <a:lnTo>
                    <a:pt x="942" y="17"/>
                  </a:lnTo>
                  <a:cubicBezTo>
                    <a:pt x="937" y="17"/>
                    <a:pt x="934" y="13"/>
                    <a:pt x="934" y="9"/>
                  </a:cubicBezTo>
                  <a:cubicBezTo>
                    <a:pt x="934" y="4"/>
                    <a:pt x="937" y="0"/>
                    <a:pt x="942" y="0"/>
                  </a:cubicBezTo>
                  <a:close/>
                  <a:moveTo>
                    <a:pt x="975" y="0"/>
                  </a:moveTo>
                  <a:lnTo>
                    <a:pt x="975" y="0"/>
                  </a:lnTo>
                  <a:cubicBezTo>
                    <a:pt x="980" y="0"/>
                    <a:pt x="984" y="4"/>
                    <a:pt x="984" y="9"/>
                  </a:cubicBezTo>
                  <a:cubicBezTo>
                    <a:pt x="984" y="13"/>
                    <a:pt x="980" y="17"/>
                    <a:pt x="975" y="17"/>
                  </a:cubicBezTo>
                  <a:lnTo>
                    <a:pt x="975" y="17"/>
                  </a:lnTo>
                  <a:cubicBezTo>
                    <a:pt x="971" y="17"/>
                    <a:pt x="967" y="13"/>
                    <a:pt x="967" y="9"/>
                  </a:cubicBezTo>
                  <a:cubicBezTo>
                    <a:pt x="967" y="4"/>
                    <a:pt x="971" y="0"/>
                    <a:pt x="975" y="0"/>
                  </a:cubicBezTo>
                  <a:close/>
                  <a:moveTo>
                    <a:pt x="1009" y="0"/>
                  </a:moveTo>
                  <a:lnTo>
                    <a:pt x="1009" y="0"/>
                  </a:lnTo>
                  <a:cubicBezTo>
                    <a:pt x="1013" y="0"/>
                    <a:pt x="1017" y="4"/>
                    <a:pt x="1017" y="9"/>
                  </a:cubicBezTo>
                  <a:cubicBezTo>
                    <a:pt x="1017" y="13"/>
                    <a:pt x="1013" y="17"/>
                    <a:pt x="1009" y="17"/>
                  </a:cubicBezTo>
                  <a:lnTo>
                    <a:pt x="1009" y="17"/>
                  </a:lnTo>
                  <a:cubicBezTo>
                    <a:pt x="1004" y="17"/>
                    <a:pt x="1000" y="13"/>
                    <a:pt x="1000" y="9"/>
                  </a:cubicBezTo>
                  <a:cubicBezTo>
                    <a:pt x="1000" y="4"/>
                    <a:pt x="1004" y="0"/>
                    <a:pt x="1009" y="0"/>
                  </a:cubicBezTo>
                  <a:close/>
                  <a:moveTo>
                    <a:pt x="1042" y="0"/>
                  </a:moveTo>
                  <a:lnTo>
                    <a:pt x="1042" y="0"/>
                  </a:lnTo>
                  <a:cubicBezTo>
                    <a:pt x="1047" y="0"/>
                    <a:pt x="1050" y="4"/>
                    <a:pt x="1050" y="9"/>
                  </a:cubicBezTo>
                  <a:cubicBezTo>
                    <a:pt x="1050" y="13"/>
                    <a:pt x="1047" y="17"/>
                    <a:pt x="1042" y="17"/>
                  </a:cubicBezTo>
                  <a:lnTo>
                    <a:pt x="1042" y="17"/>
                  </a:lnTo>
                  <a:cubicBezTo>
                    <a:pt x="1037" y="17"/>
                    <a:pt x="1034" y="13"/>
                    <a:pt x="1034" y="9"/>
                  </a:cubicBezTo>
                  <a:cubicBezTo>
                    <a:pt x="1034" y="4"/>
                    <a:pt x="1037" y="0"/>
                    <a:pt x="1042" y="0"/>
                  </a:cubicBezTo>
                  <a:close/>
                  <a:moveTo>
                    <a:pt x="1075" y="0"/>
                  </a:moveTo>
                  <a:lnTo>
                    <a:pt x="1075" y="0"/>
                  </a:lnTo>
                  <a:cubicBezTo>
                    <a:pt x="1080" y="0"/>
                    <a:pt x="1084" y="4"/>
                    <a:pt x="1084" y="9"/>
                  </a:cubicBezTo>
                  <a:cubicBezTo>
                    <a:pt x="1084" y="13"/>
                    <a:pt x="1080" y="17"/>
                    <a:pt x="1075" y="17"/>
                  </a:cubicBezTo>
                  <a:lnTo>
                    <a:pt x="1075" y="17"/>
                  </a:lnTo>
                  <a:cubicBezTo>
                    <a:pt x="1071" y="17"/>
                    <a:pt x="1067" y="13"/>
                    <a:pt x="1067" y="9"/>
                  </a:cubicBezTo>
                  <a:cubicBezTo>
                    <a:pt x="1067" y="4"/>
                    <a:pt x="1071" y="0"/>
                    <a:pt x="1075" y="0"/>
                  </a:cubicBezTo>
                  <a:close/>
                  <a:moveTo>
                    <a:pt x="1109" y="0"/>
                  </a:moveTo>
                  <a:lnTo>
                    <a:pt x="1109" y="0"/>
                  </a:lnTo>
                  <a:cubicBezTo>
                    <a:pt x="1113" y="0"/>
                    <a:pt x="1117" y="4"/>
                    <a:pt x="1117" y="9"/>
                  </a:cubicBezTo>
                  <a:cubicBezTo>
                    <a:pt x="1117" y="13"/>
                    <a:pt x="1113" y="17"/>
                    <a:pt x="1109" y="17"/>
                  </a:cubicBezTo>
                  <a:lnTo>
                    <a:pt x="1109" y="17"/>
                  </a:lnTo>
                  <a:cubicBezTo>
                    <a:pt x="1104" y="17"/>
                    <a:pt x="1100" y="13"/>
                    <a:pt x="1100" y="9"/>
                  </a:cubicBezTo>
                  <a:cubicBezTo>
                    <a:pt x="1100" y="4"/>
                    <a:pt x="1104" y="0"/>
                    <a:pt x="1109" y="0"/>
                  </a:cubicBezTo>
                  <a:close/>
                  <a:moveTo>
                    <a:pt x="1142" y="0"/>
                  </a:moveTo>
                  <a:lnTo>
                    <a:pt x="1142" y="0"/>
                  </a:lnTo>
                  <a:cubicBezTo>
                    <a:pt x="1147" y="0"/>
                    <a:pt x="1150" y="4"/>
                    <a:pt x="1150" y="9"/>
                  </a:cubicBezTo>
                  <a:cubicBezTo>
                    <a:pt x="1150" y="13"/>
                    <a:pt x="1147" y="17"/>
                    <a:pt x="1142" y="17"/>
                  </a:cubicBezTo>
                  <a:lnTo>
                    <a:pt x="1142" y="17"/>
                  </a:lnTo>
                  <a:cubicBezTo>
                    <a:pt x="1137" y="17"/>
                    <a:pt x="1134" y="13"/>
                    <a:pt x="1134" y="9"/>
                  </a:cubicBezTo>
                  <a:cubicBezTo>
                    <a:pt x="1134" y="4"/>
                    <a:pt x="1137" y="0"/>
                    <a:pt x="1142" y="0"/>
                  </a:cubicBezTo>
                  <a:close/>
                  <a:moveTo>
                    <a:pt x="1175" y="0"/>
                  </a:moveTo>
                  <a:lnTo>
                    <a:pt x="1175" y="0"/>
                  </a:lnTo>
                  <a:cubicBezTo>
                    <a:pt x="1180" y="0"/>
                    <a:pt x="1184" y="4"/>
                    <a:pt x="1184" y="9"/>
                  </a:cubicBezTo>
                  <a:cubicBezTo>
                    <a:pt x="1184" y="13"/>
                    <a:pt x="1180" y="17"/>
                    <a:pt x="1175" y="17"/>
                  </a:cubicBezTo>
                  <a:lnTo>
                    <a:pt x="1175" y="17"/>
                  </a:lnTo>
                  <a:cubicBezTo>
                    <a:pt x="1171" y="17"/>
                    <a:pt x="1167" y="13"/>
                    <a:pt x="1167" y="9"/>
                  </a:cubicBezTo>
                  <a:cubicBezTo>
                    <a:pt x="1167" y="4"/>
                    <a:pt x="1171" y="0"/>
                    <a:pt x="1175" y="0"/>
                  </a:cubicBezTo>
                  <a:close/>
                  <a:moveTo>
                    <a:pt x="1209" y="0"/>
                  </a:moveTo>
                  <a:lnTo>
                    <a:pt x="1209" y="0"/>
                  </a:lnTo>
                  <a:cubicBezTo>
                    <a:pt x="1213" y="0"/>
                    <a:pt x="1217" y="4"/>
                    <a:pt x="1217" y="9"/>
                  </a:cubicBezTo>
                  <a:cubicBezTo>
                    <a:pt x="1217" y="13"/>
                    <a:pt x="1213" y="17"/>
                    <a:pt x="1209" y="17"/>
                  </a:cubicBezTo>
                  <a:lnTo>
                    <a:pt x="1209" y="17"/>
                  </a:lnTo>
                  <a:cubicBezTo>
                    <a:pt x="1204" y="17"/>
                    <a:pt x="1200" y="13"/>
                    <a:pt x="1200" y="9"/>
                  </a:cubicBezTo>
                  <a:cubicBezTo>
                    <a:pt x="1200" y="4"/>
                    <a:pt x="1204" y="0"/>
                    <a:pt x="1209" y="0"/>
                  </a:cubicBezTo>
                  <a:close/>
                  <a:moveTo>
                    <a:pt x="1242" y="0"/>
                  </a:moveTo>
                  <a:lnTo>
                    <a:pt x="1242" y="0"/>
                  </a:lnTo>
                  <a:cubicBezTo>
                    <a:pt x="1247" y="0"/>
                    <a:pt x="1250" y="4"/>
                    <a:pt x="1250" y="9"/>
                  </a:cubicBezTo>
                  <a:cubicBezTo>
                    <a:pt x="1250" y="13"/>
                    <a:pt x="1247" y="17"/>
                    <a:pt x="1242" y="17"/>
                  </a:cubicBezTo>
                  <a:lnTo>
                    <a:pt x="1242" y="17"/>
                  </a:lnTo>
                  <a:cubicBezTo>
                    <a:pt x="1237" y="17"/>
                    <a:pt x="1234" y="13"/>
                    <a:pt x="1234" y="9"/>
                  </a:cubicBezTo>
                  <a:cubicBezTo>
                    <a:pt x="1234" y="4"/>
                    <a:pt x="1237" y="0"/>
                    <a:pt x="1242" y="0"/>
                  </a:cubicBezTo>
                  <a:close/>
                  <a:moveTo>
                    <a:pt x="1275" y="0"/>
                  </a:moveTo>
                  <a:lnTo>
                    <a:pt x="1275" y="0"/>
                  </a:lnTo>
                  <a:cubicBezTo>
                    <a:pt x="1280" y="0"/>
                    <a:pt x="1284" y="4"/>
                    <a:pt x="1284" y="9"/>
                  </a:cubicBezTo>
                  <a:cubicBezTo>
                    <a:pt x="1284" y="13"/>
                    <a:pt x="1280" y="17"/>
                    <a:pt x="1275" y="17"/>
                  </a:cubicBezTo>
                  <a:lnTo>
                    <a:pt x="1275" y="17"/>
                  </a:lnTo>
                  <a:cubicBezTo>
                    <a:pt x="1271" y="17"/>
                    <a:pt x="1267" y="13"/>
                    <a:pt x="1267" y="9"/>
                  </a:cubicBezTo>
                  <a:cubicBezTo>
                    <a:pt x="1267" y="4"/>
                    <a:pt x="1271" y="0"/>
                    <a:pt x="1275" y="0"/>
                  </a:cubicBezTo>
                  <a:close/>
                  <a:moveTo>
                    <a:pt x="1309" y="0"/>
                  </a:moveTo>
                  <a:lnTo>
                    <a:pt x="1309" y="0"/>
                  </a:lnTo>
                  <a:cubicBezTo>
                    <a:pt x="1313" y="0"/>
                    <a:pt x="1317" y="4"/>
                    <a:pt x="1317" y="9"/>
                  </a:cubicBezTo>
                  <a:cubicBezTo>
                    <a:pt x="1317" y="13"/>
                    <a:pt x="1313" y="17"/>
                    <a:pt x="1309" y="17"/>
                  </a:cubicBezTo>
                  <a:lnTo>
                    <a:pt x="1309" y="17"/>
                  </a:lnTo>
                  <a:cubicBezTo>
                    <a:pt x="1304" y="17"/>
                    <a:pt x="1300" y="13"/>
                    <a:pt x="1300" y="9"/>
                  </a:cubicBezTo>
                  <a:cubicBezTo>
                    <a:pt x="1300" y="4"/>
                    <a:pt x="1304" y="0"/>
                    <a:pt x="1309" y="0"/>
                  </a:cubicBezTo>
                  <a:close/>
                  <a:moveTo>
                    <a:pt x="1342" y="0"/>
                  </a:moveTo>
                  <a:lnTo>
                    <a:pt x="1342" y="0"/>
                  </a:lnTo>
                  <a:cubicBezTo>
                    <a:pt x="1347" y="0"/>
                    <a:pt x="1350" y="4"/>
                    <a:pt x="1350" y="9"/>
                  </a:cubicBezTo>
                  <a:cubicBezTo>
                    <a:pt x="1350" y="13"/>
                    <a:pt x="1347" y="17"/>
                    <a:pt x="1342" y="17"/>
                  </a:cubicBezTo>
                  <a:lnTo>
                    <a:pt x="1342" y="17"/>
                  </a:lnTo>
                  <a:cubicBezTo>
                    <a:pt x="1337" y="17"/>
                    <a:pt x="1334" y="13"/>
                    <a:pt x="1334" y="9"/>
                  </a:cubicBezTo>
                  <a:cubicBezTo>
                    <a:pt x="1334" y="4"/>
                    <a:pt x="1337" y="0"/>
                    <a:pt x="1342" y="0"/>
                  </a:cubicBezTo>
                  <a:close/>
                  <a:moveTo>
                    <a:pt x="1375" y="0"/>
                  </a:moveTo>
                  <a:lnTo>
                    <a:pt x="1375" y="0"/>
                  </a:lnTo>
                  <a:cubicBezTo>
                    <a:pt x="1380" y="0"/>
                    <a:pt x="1384" y="4"/>
                    <a:pt x="1384" y="9"/>
                  </a:cubicBezTo>
                  <a:cubicBezTo>
                    <a:pt x="1384" y="13"/>
                    <a:pt x="1380" y="17"/>
                    <a:pt x="1375" y="17"/>
                  </a:cubicBezTo>
                  <a:lnTo>
                    <a:pt x="1375" y="17"/>
                  </a:lnTo>
                  <a:cubicBezTo>
                    <a:pt x="1371" y="17"/>
                    <a:pt x="1367" y="13"/>
                    <a:pt x="1367" y="9"/>
                  </a:cubicBezTo>
                  <a:cubicBezTo>
                    <a:pt x="1367" y="4"/>
                    <a:pt x="1371" y="0"/>
                    <a:pt x="1375" y="0"/>
                  </a:cubicBezTo>
                  <a:close/>
                  <a:moveTo>
                    <a:pt x="1409" y="0"/>
                  </a:moveTo>
                  <a:lnTo>
                    <a:pt x="1409" y="0"/>
                  </a:lnTo>
                  <a:cubicBezTo>
                    <a:pt x="1413" y="0"/>
                    <a:pt x="1417" y="4"/>
                    <a:pt x="1417" y="9"/>
                  </a:cubicBezTo>
                  <a:cubicBezTo>
                    <a:pt x="1417" y="13"/>
                    <a:pt x="1413" y="17"/>
                    <a:pt x="1409" y="17"/>
                  </a:cubicBezTo>
                  <a:lnTo>
                    <a:pt x="1409" y="17"/>
                  </a:lnTo>
                  <a:cubicBezTo>
                    <a:pt x="1404" y="17"/>
                    <a:pt x="1400" y="13"/>
                    <a:pt x="1400" y="9"/>
                  </a:cubicBezTo>
                  <a:cubicBezTo>
                    <a:pt x="1400" y="4"/>
                    <a:pt x="1404" y="0"/>
                    <a:pt x="1409" y="0"/>
                  </a:cubicBezTo>
                  <a:close/>
                  <a:moveTo>
                    <a:pt x="1442" y="0"/>
                  </a:moveTo>
                  <a:lnTo>
                    <a:pt x="1442" y="0"/>
                  </a:lnTo>
                  <a:cubicBezTo>
                    <a:pt x="1447" y="0"/>
                    <a:pt x="1450" y="4"/>
                    <a:pt x="1450" y="9"/>
                  </a:cubicBezTo>
                  <a:cubicBezTo>
                    <a:pt x="1450" y="13"/>
                    <a:pt x="1447" y="17"/>
                    <a:pt x="1442" y="17"/>
                  </a:cubicBezTo>
                  <a:lnTo>
                    <a:pt x="1442" y="17"/>
                  </a:lnTo>
                  <a:cubicBezTo>
                    <a:pt x="1437" y="17"/>
                    <a:pt x="1434" y="13"/>
                    <a:pt x="1434" y="9"/>
                  </a:cubicBezTo>
                  <a:cubicBezTo>
                    <a:pt x="1434" y="4"/>
                    <a:pt x="1437" y="0"/>
                    <a:pt x="1442" y="0"/>
                  </a:cubicBezTo>
                  <a:close/>
                  <a:moveTo>
                    <a:pt x="1475" y="0"/>
                  </a:moveTo>
                  <a:lnTo>
                    <a:pt x="1475" y="0"/>
                  </a:lnTo>
                  <a:cubicBezTo>
                    <a:pt x="1480" y="0"/>
                    <a:pt x="1484" y="4"/>
                    <a:pt x="1484" y="9"/>
                  </a:cubicBezTo>
                  <a:cubicBezTo>
                    <a:pt x="1484" y="13"/>
                    <a:pt x="1480" y="17"/>
                    <a:pt x="1475" y="17"/>
                  </a:cubicBezTo>
                  <a:lnTo>
                    <a:pt x="1475" y="17"/>
                  </a:lnTo>
                  <a:cubicBezTo>
                    <a:pt x="1471" y="17"/>
                    <a:pt x="1467" y="13"/>
                    <a:pt x="1467" y="9"/>
                  </a:cubicBezTo>
                  <a:cubicBezTo>
                    <a:pt x="1467" y="4"/>
                    <a:pt x="1471" y="0"/>
                    <a:pt x="1475" y="0"/>
                  </a:cubicBezTo>
                  <a:close/>
                  <a:moveTo>
                    <a:pt x="1509" y="0"/>
                  </a:moveTo>
                  <a:lnTo>
                    <a:pt x="1509" y="0"/>
                  </a:lnTo>
                  <a:cubicBezTo>
                    <a:pt x="1513" y="0"/>
                    <a:pt x="1517" y="4"/>
                    <a:pt x="1517" y="9"/>
                  </a:cubicBezTo>
                  <a:cubicBezTo>
                    <a:pt x="1517" y="13"/>
                    <a:pt x="1513" y="17"/>
                    <a:pt x="1509" y="17"/>
                  </a:cubicBezTo>
                  <a:lnTo>
                    <a:pt x="1509" y="17"/>
                  </a:lnTo>
                  <a:cubicBezTo>
                    <a:pt x="1504" y="17"/>
                    <a:pt x="1500" y="13"/>
                    <a:pt x="1500" y="9"/>
                  </a:cubicBezTo>
                  <a:cubicBezTo>
                    <a:pt x="1500" y="4"/>
                    <a:pt x="1504" y="0"/>
                    <a:pt x="1509" y="0"/>
                  </a:cubicBezTo>
                  <a:close/>
                  <a:moveTo>
                    <a:pt x="1542" y="0"/>
                  </a:moveTo>
                  <a:lnTo>
                    <a:pt x="1542" y="0"/>
                  </a:lnTo>
                  <a:cubicBezTo>
                    <a:pt x="1547" y="0"/>
                    <a:pt x="1550" y="4"/>
                    <a:pt x="1550" y="9"/>
                  </a:cubicBezTo>
                  <a:cubicBezTo>
                    <a:pt x="1550" y="13"/>
                    <a:pt x="1547" y="17"/>
                    <a:pt x="1542" y="17"/>
                  </a:cubicBezTo>
                  <a:lnTo>
                    <a:pt x="1542" y="17"/>
                  </a:lnTo>
                  <a:cubicBezTo>
                    <a:pt x="1538" y="17"/>
                    <a:pt x="1534" y="13"/>
                    <a:pt x="1534" y="9"/>
                  </a:cubicBezTo>
                  <a:cubicBezTo>
                    <a:pt x="1534" y="4"/>
                    <a:pt x="1538" y="0"/>
                    <a:pt x="1542" y="0"/>
                  </a:cubicBezTo>
                  <a:close/>
                  <a:moveTo>
                    <a:pt x="1575" y="0"/>
                  </a:moveTo>
                  <a:lnTo>
                    <a:pt x="1575" y="0"/>
                  </a:lnTo>
                  <a:cubicBezTo>
                    <a:pt x="1580" y="0"/>
                    <a:pt x="1584" y="4"/>
                    <a:pt x="1584" y="9"/>
                  </a:cubicBezTo>
                  <a:cubicBezTo>
                    <a:pt x="1584" y="13"/>
                    <a:pt x="1580" y="17"/>
                    <a:pt x="1575" y="17"/>
                  </a:cubicBezTo>
                  <a:lnTo>
                    <a:pt x="1575" y="17"/>
                  </a:lnTo>
                  <a:cubicBezTo>
                    <a:pt x="1571" y="17"/>
                    <a:pt x="1567" y="13"/>
                    <a:pt x="1567" y="9"/>
                  </a:cubicBezTo>
                  <a:cubicBezTo>
                    <a:pt x="1567" y="4"/>
                    <a:pt x="1571" y="0"/>
                    <a:pt x="1575" y="0"/>
                  </a:cubicBezTo>
                  <a:close/>
                  <a:moveTo>
                    <a:pt x="1609" y="0"/>
                  </a:moveTo>
                  <a:lnTo>
                    <a:pt x="1609" y="0"/>
                  </a:lnTo>
                  <a:cubicBezTo>
                    <a:pt x="1613" y="0"/>
                    <a:pt x="1617" y="4"/>
                    <a:pt x="1617" y="9"/>
                  </a:cubicBezTo>
                  <a:cubicBezTo>
                    <a:pt x="1617" y="13"/>
                    <a:pt x="1613" y="17"/>
                    <a:pt x="1609" y="17"/>
                  </a:cubicBezTo>
                  <a:lnTo>
                    <a:pt x="1609" y="17"/>
                  </a:lnTo>
                  <a:cubicBezTo>
                    <a:pt x="1604" y="17"/>
                    <a:pt x="1600" y="13"/>
                    <a:pt x="1600" y="9"/>
                  </a:cubicBezTo>
                  <a:cubicBezTo>
                    <a:pt x="1600" y="4"/>
                    <a:pt x="1604" y="0"/>
                    <a:pt x="1609" y="0"/>
                  </a:cubicBezTo>
                  <a:close/>
                  <a:moveTo>
                    <a:pt x="1642" y="0"/>
                  </a:moveTo>
                  <a:lnTo>
                    <a:pt x="1642" y="0"/>
                  </a:lnTo>
                  <a:cubicBezTo>
                    <a:pt x="1647" y="0"/>
                    <a:pt x="1651" y="4"/>
                    <a:pt x="1651" y="9"/>
                  </a:cubicBezTo>
                  <a:cubicBezTo>
                    <a:pt x="1651" y="13"/>
                    <a:pt x="1647" y="17"/>
                    <a:pt x="1642" y="17"/>
                  </a:cubicBezTo>
                  <a:lnTo>
                    <a:pt x="1642" y="17"/>
                  </a:lnTo>
                  <a:cubicBezTo>
                    <a:pt x="1638" y="17"/>
                    <a:pt x="1634" y="13"/>
                    <a:pt x="1634" y="9"/>
                  </a:cubicBezTo>
                  <a:cubicBezTo>
                    <a:pt x="1634" y="4"/>
                    <a:pt x="1638" y="0"/>
                    <a:pt x="1642" y="0"/>
                  </a:cubicBezTo>
                  <a:close/>
                  <a:moveTo>
                    <a:pt x="1676" y="0"/>
                  </a:moveTo>
                  <a:lnTo>
                    <a:pt x="1676" y="0"/>
                  </a:lnTo>
                  <a:cubicBezTo>
                    <a:pt x="1680" y="0"/>
                    <a:pt x="1684" y="4"/>
                    <a:pt x="1684" y="9"/>
                  </a:cubicBezTo>
                  <a:cubicBezTo>
                    <a:pt x="1684" y="13"/>
                    <a:pt x="1680" y="17"/>
                    <a:pt x="1676" y="17"/>
                  </a:cubicBezTo>
                  <a:lnTo>
                    <a:pt x="1676" y="17"/>
                  </a:lnTo>
                  <a:cubicBezTo>
                    <a:pt x="1671" y="17"/>
                    <a:pt x="1667" y="13"/>
                    <a:pt x="1667" y="9"/>
                  </a:cubicBezTo>
                  <a:cubicBezTo>
                    <a:pt x="1667" y="4"/>
                    <a:pt x="1671" y="0"/>
                    <a:pt x="1676" y="0"/>
                  </a:cubicBezTo>
                  <a:close/>
                  <a:moveTo>
                    <a:pt x="1709" y="0"/>
                  </a:moveTo>
                  <a:lnTo>
                    <a:pt x="1709" y="0"/>
                  </a:lnTo>
                  <a:cubicBezTo>
                    <a:pt x="1713" y="0"/>
                    <a:pt x="1717" y="4"/>
                    <a:pt x="1717" y="9"/>
                  </a:cubicBezTo>
                  <a:cubicBezTo>
                    <a:pt x="1717" y="13"/>
                    <a:pt x="1713" y="17"/>
                    <a:pt x="1709" y="17"/>
                  </a:cubicBezTo>
                  <a:lnTo>
                    <a:pt x="1709" y="17"/>
                  </a:lnTo>
                  <a:cubicBezTo>
                    <a:pt x="1704" y="17"/>
                    <a:pt x="1701" y="13"/>
                    <a:pt x="1701" y="9"/>
                  </a:cubicBezTo>
                  <a:cubicBezTo>
                    <a:pt x="1701" y="4"/>
                    <a:pt x="1704" y="0"/>
                    <a:pt x="1709" y="0"/>
                  </a:cubicBezTo>
                  <a:close/>
                  <a:moveTo>
                    <a:pt x="1742" y="0"/>
                  </a:moveTo>
                  <a:lnTo>
                    <a:pt x="1742" y="0"/>
                  </a:lnTo>
                  <a:cubicBezTo>
                    <a:pt x="1747" y="0"/>
                    <a:pt x="1751" y="4"/>
                    <a:pt x="1751" y="9"/>
                  </a:cubicBezTo>
                  <a:cubicBezTo>
                    <a:pt x="1751" y="13"/>
                    <a:pt x="1747" y="17"/>
                    <a:pt x="1742" y="17"/>
                  </a:cubicBezTo>
                  <a:lnTo>
                    <a:pt x="1742" y="17"/>
                  </a:lnTo>
                  <a:cubicBezTo>
                    <a:pt x="1738" y="17"/>
                    <a:pt x="1734" y="13"/>
                    <a:pt x="1734" y="9"/>
                  </a:cubicBezTo>
                  <a:cubicBezTo>
                    <a:pt x="1734" y="4"/>
                    <a:pt x="1738" y="0"/>
                    <a:pt x="1742" y="0"/>
                  </a:cubicBezTo>
                  <a:close/>
                  <a:moveTo>
                    <a:pt x="1776" y="0"/>
                  </a:moveTo>
                  <a:lnTo>
                    <a:pt x="1776" y="0"/>
                  </a:lnTo>
                  <a:cubicBezTo>
                    <a:pt x="1780" y="0"/>
                    <a:pt x="1784" y="4"/>
                    <a:pt x="1784" y="9"/>
                  </a:cubicBezTo>
                  <a:cubicBezTo>
                    <a:pt x="1784" y="13"/>
                    <a:pt x="1780" y="17"/>
                    <a:pt x="1776" y="17"/>
                  </a:cubicBezTo>
                  <a:lnTo>
                    <a:pt x="1776" y="17"/>
                  </a:lnTo>
                  <a:cubicBezTo>
                    <a:pt x="1771" y="17"/>
                    <a:pt x="1767" y="13"/>
                    <a:pt x="1767" y="9"/>
                  </a:cubicBezTo>
                  <a:cubicBezTo>
                    <a:pt x="1767" y="4"/>
                    <a:pt x="1771" y="0"/>
                    <a:pt x="1776" y="0"/>
                  </a:cubicBezTo>
                  <a:close/>
                  <a:moveTo>
                    <a:pt x="1809" y="0"/>
                  </a:moveTo>
                  <a:lnTo>
                    <a:pt x="1809" y="0"/>
                  </a:lnTo>
                  <a:cubicBezTo>
                    <a:pt x="1814" y="0"/>
                    <a:pt x="1817" y="4"/>
                    <a:pt x="1817" y="9"/>
                  </a:cubicBezTo>
                  <a:cubicBezTo>
                    <a:pt x="1817" y="13"/>
                    <a:pt x="1814" y="17"/>
                    <a:pt x="1809" y="17"/>
                  </a:cubicBezTo>
                  <a:lnTo>
                    <a:pt x="1809" y="17"/>
                  </a:lnTo>
                  <a:cubicBezTo>
                    <a:pt x="1804" y="17"/>
                    <a:pt x="1801" y="13"/>
                    <a:pt x="1801" y="9"/>
                  </a:cubicBezTo>
                  <a:cubicBezTo>
                    <a:pt x="1801" y="4"/>
                    <a:pt x="1804" y="0"/>
                    <a:pt x="1809" y="0"/>
                  </a:cubicBezTo>
                  <a:close/>
                  <a:moveTo>
                    <a:pt x="1842" y="0"/>
                  </a:moveTo>
                  <a:lnTo>
                    <a:pt x="1842" y="0"/>
                  </a:lnTo>
                  <a:cubicBezTo>
                    <a:pt x="1847" y="0"/>
                    <a:pt x="1851" y="4"/>
                    <a:pt x="1851" y="9"/>
                  </a:cubicBezTo>
                  <a:cubicBezTo>
                    <a:pt x="1851" y="13"/>
                    <a:pt x="1847" y="17"/>
                    <a:pt x="1842" y="17"/>
                  </a:cubicBezTo>
                  <a:lnTo>
                    <a:pt x="1842" y="17"/>
                  </a:lnTo>
                  <a:cubicBezTo>
                    <a:pt x="1838" y="17"/>
                    <a:pt x="1834" y="13"/>
                    <a:pt x="1834" y="9"/>
                  </a:cubicBezTo>
                  <a:cubicBezTo>
                    <a:pt x="1834" y="4"/>
                    <a:pt x="1838" y="0"/>
                    <a:pt x="1842" y="0"/>
                  </a:cubicBezTo>
                  <a:close/>
                  <a:moveTo>
                    <a:pt x="1876" y="0"/>
                  </a:moveTo>
                  <a:lnTo>
                    <a:pt x="1876" y="0"/>
                  </a:lnTo>
                  <a:cubicBezTo>
                    <a:pt x="1880" y="0"/>
                    <a:pt x="1884" y="4"/>
                    <a:pt x="1884" y="9"/>
                  </a:cubicBezTo>
                  <a:cubicBezTo>
                    <a:pt x="1884" y="13"/>
                    <a:pt x="1880" y="17"/>
                    <a:pt x="1876" y="17"/>
                  </a:cubicBezTo>
                  <a:lnTo>
                    <a:pt x="1876" y="17"/>
                  </a:lnTo>
                  <a:cubicBezTo>
                    <a:pt x="1871" y="17"/>
                    <a:pt x="1867" y="13"/>
                    <a:pt x="1867" y="9"/>
                  </a:cubicBezTo>
                  <a:cubicBezTo>
                    <a:pt x="1867" y="4"/>
                    <a:pt x="1871" y="0"/>
                    <a:pt x="1876" y="0"/>
                  </a:cubicBezTo>
                  <a:close/>
                  <a:moveTo>
                    <a:pt x="1909" y="0"/>
                  </a:moveTo>
                  <a:lnTo>
                    <a:pt x="1909" y="0"/>
                  </a:lnTo>
                  <a:cubicBezTo>
                    <a:pt x="1914" y="0"/>
                    <a:pt x="1917" y="4"/>
                    <a:pt x="1917" y="9"/>
                  </a:cubicBezTo>
                  <a:cubicBezTo>
                    <a:pt x="1917" y="13"/>
                    <a:pt x="1914" y="17"/>
                    <a:pt x="1909" y="17"/>
                  </a:cubicBezTo>
                  <a:lnTo>
                    <a:pt x="1909" y="17"/>
                  </a:lnTo>
                  <a:cubicBezTo>
                    <a:pt x="1904" y="17"/>
                    <a:pt x="1901" y="13"/>
                    <a:pt x="1901" y="9"/>
                  </a:cubicBezTo>
                  <a:cubicBezTo>
                    <a:pt x="1901" y="4"/>
                    <a:pt x="1904" y="0"/>
                    <a:pt x="1909" y="0"/>
                  </a:cubicBezTo>
                  <a:close/>
                  <a:moveTo>
                    <a:pt x="1942" y="0"/>
                  </a:moveTo>
                  <a:lnTo>
                    <a:pt x="1942" y="0"/>
                  </a:lnTo>
                  <a:cubicBezTo>
                    <a:pt x="1947" y="0"/>
                    <a:pt x="1951" y="4"/>
                    <a:pt x="1951" y="9"/>
                  </a:cubicBezTo>
                  <a:cubicBezTo>
                    <a:pt x="1951" y="13"/>
                    <a:pt x="1947" y="17"/>
                    <a:pt x="1942" y="17"/>
                  </a:cubicBezTo>
                  <a:lnTo>
                    <a:pt x="1942" y="17"/>
                  </a:lnTo>
                  <a:cubicBezTo>
                    <a:pt x="1938" y="17"/>
                    <a:pt x="1934" y="13"/>
                    <a:pt x="1934" y="9"/>
                  </a:cubicBezTo>
                  <a:cubicBezTo>
                    <a:pt x="1934" y="4"/>
                    <a:pt x="1938" y="0"/>
                    <a:pt x="1942" y="0"/>
                  </a:cubicBezTo>
                  <a:close/>
                  <a:moveTo>
                    <a:pt x="1976" y="0"/>
                  </a:moveTo>
                  <a:lnTo>
                    <a:pt x="1976" y="0"/>
                  </a:lnTo>
                  <a:cubicBezTo>
                    <a:pt x="1980" y="0"/>
                    <a:pt x="1984" y="4"/>
                    <a:pt x="1984" y="9"/>
                  </a:cubicBezTo>
                  <a:cubicBezTo>
                    <a:pt x="1984" y="13"/>
                    <a:pt x="1980" y="17"/>
                    <a:pt x="1976" y="17"/>
                  </a:cubicBezTo>
                  <a:lnTo>
                    <a:pt x="1976" y="17"/>
                  </a:lnTo>
                  <a:cubicBezTo>
                    <a:pt x="1971" y="17"/>
                    <a:pt x="1967" y="13"/>
                    <a:pt x="1967" y="9"/>
                  </a:cubicBezTo>
                  <a:cubicBezTo>
                    <a:pt x="1967" y="4"/>
                    <a:pt x="1971" y="0"/>
                    <a:pt x="1976" y="0"/>
                  </a:cubicBezTo>
                  <a:close/>
                  <a:moveTo>
                    <a:pt x="2009" y="0"/>
                  </a:moveTo>
                  <a:lnTo>
                    <a:pt x="2009" y="0"/>
                  </a:lnTo>
                  <a:cubicBezTo>
                    <a:pt x="2014" y="0"/>
                    <a:pt x="2017" y="4"/>
                    <a:pt x="2017" y="9"/>
                  </a:cubicBezTo>
                  <a:cubicBezTo>
                    <a:pt x="2017" y="13"/>
                    <a:pt x="2014" y="17"/>
                    <a:pt x="2009" y="17"/>
                  </a:cubicBezTo>
                  <a:lnTo>
                    <a:pt x="2009" y="17"/>
                  </a:lnTo>
                  <a:cubicBezTo>
                    <a:pt x="2004" y="17"/>
                    <a:pt x="2001" y="13"/>
                    <a:pt x="2001" y="9"/>
                  </a:cubicBezTo>
                  <a:cubicBezTo>
                    <a:pt x="2001" y="4"/>
                    <a:pt x="2004" y="0"/>
                    <a:pt x="2009" y="0"/>
                  </a:cubicBezTo>
                  <a:close/>
                  <a:moveTo>
                    <a:pt x="2042" y="0"/>
                  </a:moveTo>
                  <a:lnTo>
                    <a:pt x="2042" y="0"/>
                  </a:lnTo>
                  <a:cubicBezTo>
                    <a:pt x="2047" y="0"/>
                    <a:pt x="2051" y="4"/>
                    <a:pt x="2051" y="9"/>
                  </a:cubicBezTo>
                  <a:cubicBezTo>
                    <a:pt x="2051" y="13"/>
                    <a:pt x="2047" y="17"/>
                    <a:pt x="2042" y="17"/>
                  </a:cubicBezTo>
                  <a:lnTo>
                    <a:pt x="2042" y="17"/>
                  </a:lnTo>
                  <a:cubicBezTo>
                    <a:pt x="2038" y="17"/>
                    <a:pt x="2034" y="13"/>
                    <a:pt x="2034" y="9"/>
                  </a:cubicBezTo>
                  <a:cubicBezTo>
                    <a:pt x="2034" y="4"/>
                    <a:pt x="2038" y="0"/>
                    <a:pt x="2042" y="0"/>
                  </a:cubicBezTo>
                  <a:close/>
                  <a:moveTo>
                    <a:pt x="2076" y="0"/>
                  </a:moveTo>
                  <a:lnTo>
                    <a:pt x="2076" y="0"/>
                  </a:lnTo>
                  <a:cubicBezTo>
                    <a:pt x="2080" y="0"/>
                    <a:pt x="2084" y="4"/>
                    <a:pt x="2084" y="9"/>
                  </a:cubicBezTo>
                  <a:cubicBezTo>
                    <a:pt x="2084" y="13"/>
                    <a:pt x="2080" y="17"/>
                    <a:pt x="2076" y="17"/>
                  </a:cubicBezTo>
                  <a:lnTo>
                    <a:pt x="2076" y="17"/>
                  </a:lnTo>
                  <a:cubicBezTo>
                    <a:pt x="2071" y="17"/>
                    <a:pt x="2067" y="13"/>
                    <a:pt x="2067" y="9"/>
                  </a:cubicBezTo>
                  <a:cubicBezTo>
                    <a:pt x="2067" y="4"/>
                    <a:pt x="2071" y="0"/>
                    <a:pt x="2076" y="0"/>
                  </a:cubicBezTo>
                  <a:close/>
                  <a:moveTo>
                    <a:pt x="2109" y="0"/>
                  </a:moveTo>
                  <a:lnTo>
                    <a:pt x="2109" y="0"/>
                  </a:lnTo>
                  <a:cubicBezTo>
                    <a:pt x="2114" y="0"/>
                    <a:pt x="2117" y="4"/>
                    <a:pt x="2117" y="9"/>
                  </a:cubicBezTo>
                  <a:cubicBezTo>
                    <a:pt x="2117" y="13"/>
                    <a:pt x="2114" y="17"/>
                    <a:pt x="2109" y="17"/>
                  </a:cubicBezTo>
                  <a:lnTo>
                    <a:pt x="2109" y="17"/>
                  </a:lnTo>
                  <a:cubicBezTo>
                    <a:pt x="2104" y="17"/>
                    <a:pt x="2101" y="13"/>
                    <a:pt x="2101" y="9"/>
                  </a:cubicBezTo>
                  <a:cubicBezTo>
                    <a:pt x="2101" y="4"/>
                    <a:pt x="2104" y="0"/>
                    <a:pt x="2109" y="0"/>
                  </a:cubicBezTo>
                  <a:close/>
                  <a:moveTo>
                    <a:pt x="2142" y="0"/>
                  </a:moveTo>
                  <a:lnTo>
                    <a:pt x="2142" y="0"/>
                  </a:lnTo>
                  <a:cubicBezTo>
                    <a:pt x="2147" y="0"/>
                    <a:pt x="2151" y="4"/>
                    <a:pt x="2151" y="9"/>
                  </a:cubicBezTo>
                  <a:cubicBezTo>
                    <a:pt x="2151" y="13"/>
                    <a:pt x="2147" y="17"/>
                    <a:pt x="2142" y="17"/>
                  </a:cubicBezTo>
                  <a:lnTo>
                    <a:pt x="2142" y="17"/>
                  </a:lnTo>
                  <a:cubicBezTo>
                    <a:pt x="2138" y="17"/>
                    <a:pt x="2134" y="13"/>
                    <a:pt x="2134" y="9"/>
                  </a:cubicBezTo>
                  <a:cubicBezTo>
                    <a:pt x="2134" y="4"/>
                    <a:pt x="2138" y="0"/>
                    <a:pt x="2142" y="0"/>
                  </a:cubicBezTo>
                  <a:close/>
                  <a:moveTo>
                    <a:pt x="2176" y="0"/>
                  </a:moveTo>
                  <a:lnTo>
                    <a:pt x="2176" y="0"/>
                  </a:lnTo>
                  <a:cubicBezTo>
                    <a:pt x="2180" y="0"/>
                    <a:pt x="2184" y="4"/>
                    <a:pt x="2184" y="9"/>
                  </a:cubicBezTo>
                  <a:cubicBezTo>
                    <a:pt x="2184" y="13"/>
                    <a:pt x="2180" y="17"/>
                    <a:pt x="2176" y="17"/>
                  </a:cubicBezTo>
                  <a:lnTo>
                    <a:pt x="2176" y="17"/>
                  </a:lnTo>
                  <a:cubicBezTo>
                    <a:pt x="2171" y="17"/>
                    <a:pt x="2167" y="13"/>
                    <a:pt x="2167" y="9"/>
                  </a:cubicBezTo>
                  <a:cubicBezTo>
                    <a:pt x="2167" y="4"/>
                    <a:pt x="2171" y="0"/>
                    <a:pt x="2176" y="0"/>
                  </a:cubicBezTo>
                  <a:close/>
                  <a:moveTo>
                    <a:pt x="2209" y="0"/>
                  </a:moveTo>
                  <a:lnTo>
                    <a:pt x="2209" y="0"/>
                  </a:lnTo>
                  <a:cubicBezTo>
                    <a:pt x="2214" y="0"/>
                    <a:pt x="2217" y="4"/>
                    <a:pt x="2217" y="9"/>
                  </a:cubicBezTo>
                  <a:cubicBezTo>
                    <a:pt x="2217" y="13"/>
                    <a:pt x="2214" y="17"/>
                    <a:pt x="2209" y="17"/>
                  </a:cubicBezTo>
                  <a:lnTo>
                    <a:pt x="2209" y="17"/>
                  </a:lnTo>
                  <a:cubicBezTo>
                    <a:pt x="2205" y="17"/>
                    <a:pt x="2201" y="13"/>
                    <a:pt x="2201" y="9"/>
                  </a:cubicBezTo>
                  <a:cubicBezTo>
                    <a:pt x="2201" y="4"/>
                    <a:pt x="2205" y="0"/>
                    <a:pt x="2209" y="0"/>
                  </a:cubicBezTo>
                  <a:close/>
                  <a:moveTo>
                    <a:pt x="2242" y="0"/>
                  </a:moveTo>
                  <a:lnTo>
                    <a:pt x="2242" y="0"/>
                  </a:lnTo>
                  <a:cubicBezTo>
                    <a:pt x="2247" y="0"/>
                    <a:pt x="2251" y="4"/>
                    <a:pt x="2251" y="9"/>
                  </a:cubicBezTo>
                  <a:cubicBezTo>
                    <a:pt x="2251" y="13"/>
                    <a:pt x="2247" y="17"/>
                    <a:pt x="2242" y="17"/>
                  </a:cubicBezTo>
                  <a:lnTo>
                    <a:pt x="2242" y="17"/>
                  </a:lnTo>
                  <a:cubicBezTo>
                    <a:pt x="2238" y="17"/>
                    <a:pt x="2234" y="13"/>
                    <a:pt x="2234" y="9"/>
                  </a:cubicBezTo>
                  <a:cubicBezTo>
                    <a:pt x="2234" y="4"/>
                    <a:pt x="2238" y="0"/>
                    <a:pt x="2242" y="0"/>
                  </a:cubicBezTo>
                  <a:close/>
                  <a:moveTo>
                    <a:pt x="2276" y="0"/>
                  </a:moveTo>
                  <a:lnTo>
                    <a:pt x="2276" y="0"/>
                  </a:lnTo>
                  <a:cubicBezTo>
                    <a:pt x="2280" y="0"/>
                    <a:pt x="2284" y="4"/>
                    <a:pt x="2284" y="9"/>
                  </a:cubicBezTo>
                  <a:cubicBezTo>
                    <a:pt x="2284" y="13"/>
                    <a:pt x="2280" y="17"/>
                    <a:pt x="2276" y="17"/>
                  </a:cubicBezTo>
                  <a:lnTo>
                    <a:pt x="2276" y="17"/>
                  </a:lnTo>
                  <a:cubicBezTo>
                    <a:pt x="2271" y="17"/>
                    <a:pt x="2267" y="13"/>
                    <a:pt x="2267" y="9"/>
                  </a:cubicBezTo>
                  <a:cubicBezTo>
                    <a:pt x="2267" y="4"/>
                    <a:pt x="2271" y="0"/>
                    <a:pt x="2276" y="0"/>
                  </a:cubicBezTo>
                  <a:close/>
                  <a:moveTo>
                    <a:pt x="2309" y="0"/>
                  </a:moveTo>
                  <a:lnTo>
                    <a:pt x="2309" y="0"/>
                  </a:lnTo>
                  <a:cubicBezTo>
                    <a:pt x="2314" y="0"/>
                    <a:pt x="2318" y="4"/>
                    <a:pt x="2318" y="9"/>
                  </a:cubicBezTo>
                  <a:cubicBezTo>
                    <a:pt x="2318" y="13"/>
                    <a:pt x="2314" y="17"/>
                    <a:pt x="2309" y="17"/>
                  </a:cubicBezTo>
                  <a:lnTo>
                    <a:pt x="2309" y="17"/>
                  </a:lnTo>
                  <a:cubicBezTo>
                    <a:pt x="2305" y="17"/>
                    <a:pt x="2301" y="13"/>
                    <a:pt x="2301" y="9"/>
                  </a:cubicBezTo>
                  <a:cubicBezTo>
                    <a:pt x="2301" y="4"/>
                    <a:pt x="2305" y="0"/>
                    <a:pt x="2309" y="0"/>
                  </a:cubicBezTo>
                  <a:close/>
                  <a:moveTo>
                    <a:pt x="2343" y="0"/>
                  </a:moveTo>
                  <a:lnTo>
                    <a:pt x="2343" y="0"/>
                  </a:lnTo>
                  <a:cubicBezTo>
                    <a:pt x="2347" y="0"/>
                    <a:pt x="2351" y="4"/>
                    <a:pt x="2351" y="9"/>
                  </a:cubicBezTo>
                  <a:cubicBezTo>
                    <a:pt x="2351" y="13"/>
                    <a:pt x="2347" y="17"/>
                    <a:pt x="2343" y="17"/>
                  </a:cubicBezTo>
                  <a:lnTo>
                    <a:pt x="2343" y="17"/>
                  </a:lnTo>
                  <a:cubicBezTo>
                    <a:pt x="2338" y="17"/>
                    <a:pt x="2334" y="13"/>
                    <a:pt x="2334" y="9"/>
                  </a:cubicBezTo>
                  <a:cubicBezTo>
                    <a:pt x="2334" y="4"/>
                    <a:pt x="2338" y="0"/>
                    <a:pt x="2343" y="0"/>
                  </a:cubicBezTo>
                  <a:close/>
                  <a:moveTo>
                    <a:pt x="2376" y="0"/>
                  </a:moveTo>
                  <a:lnTo>
                    <a:pt x="2376" y="0"/>
                  </a:lnTo>
                  <a:cubicBezTo>
                    <a:pt x="2380" y="0"/>
                    <a:pt x="2384" y="4"/>
                    <a:pt x="2384" y="9"/>
                  </a:cubicBezTo>
                  <a:cubicBezTo>
                    <a:pt x="2384" y="13"/>
                    <a:pt x="2380" y="17"/>
                    <a:pt x="2376" y="17"/>
                  </a:cubicBezTo>
                  <a:lnTo>
                    <a:pt x="2376" y="17"/>
                  </a:lnTo>
                  <a:cubicBezTo>
                    <a:pt x="2371" y="17"/>
                    <a:pt x="2368" y="13"/>
                    <a:pt x="2368" y="9"/>
                  </a:cubicBezTo>
                  <a:cubicBezTo>
                    <a:pt x="2368" y="4"/>
                    <a:pt x="2371" y="0"/>
                    <a:pt x="2376" y="0"/>
                  </a:cubicBezTo>
                  <a:close/>
                  <a:moveTo>
                    <a:pt x="2409" y="0"/>
                  </a:moveTo>
                  <a:lnTo>
                    <a:pt x="2409" y="0"/>
                  </a:lnTo>
                  <a:cubicBezTo>
                    <a:pt x="2414" y="0"/>
                    <a:pt x="2418" y="4"/>
                    <a:pt x="2418" y="9"/>
                  </a:cubicBezTo>
                  <a:cubicBezTo>
                    <a:pt x="2418" y="13"/>
                    <a:pt x="2414" y="17"/>
                    <a:pt x="2409" y="17"/>
                  </a:cubicBezTo>
                  <a:lnTo>
                    <a:pt x="2409" y="17"/>
                  </a:lnTo>
                  <a:cubicBezTo>
                    <a:pt x="2405" y="17"/>
                    <a:pt x="2401" y="13"/>
                    <a:pt x="2401" y="9"/>
                  </a:cubicBezTo>
                  <a:cubicBezTo>
                    <a:pt x="2401" y="4"/>
                    <a:pt x="2405" y="0"/>
                    <a:pt x="2409" y="0"/>
                  </a:cubicBezTo>
                  <a:close/>
                  <a:moveTo>
                    <a:pt x="2443" y="0"/>
                  </a:moveTo>
                  <a:lnTo>
                    <a:pt x="2443" y="0"/>
                  </a:lnTo>
                  <a:cubicBezTo>
                    <a:pt x="2447" y="0"/>
                    <a:pt x="2451" y="4"/>
                    <a:pt x="2451" y="9"/>
                  </a:cubicBezTo>
                  <a:cubicBezTo>
                    <a:pt x="2451" y="13"/>
                    <a:pt x="2447" y="17"/>
                    <a:pt x="2443" y="17"/>
                  </a:cubicBezTo>
                  <a:lnTo>
                    <a:pt x="2443" y="17"/>
                  </a:lnTo>
                  <a:cubicBezTo>
                    <a:pt x="2438" y="17"/>
                    <a:pt x="2434" y="13"/>
                    <a:pt x="2434" y="9"/>
                  </a:cubicBezTo>
                  <a:cubicBezTo>
                    <a:pt x="2434" y="4"/>
                    <a:pt x="2438" y="0"/>
                    <a:pt x="2443" y="0"/>
                  </a:cubicBezTo>
                  <a:close/>
                  <a:moveTo>
                    <a:pt x="2476" y="0"/>
                  </a:moveTo>
                  <a:lnTo>
                    <a:pt x="2476" y="0"/>
                  </a:lnTo>
                  <a:cubicBezTo>
                    <a:pt x="2481" y="0"/>
                    <a:pt x="2484" y="4"/>
                    <a:pt x="2484" y="9"/>
                  </a:cubicBezTo>
                  <a:cubicBezTo>
                    <a:pt x="2484" y="13"/>
                    <a:pt x="2481" y="17"/>
                    <a:pt x="2476" y="17"/>
                  </a:cubicBezTo>
                  <a:lnTo>
                    <a:pt x="2476" y="17"/>
                  </a:lnTo>
                  <a:cubicBezTo>
                    <a:pt x="2471" y="17"/>
                    <a:pt x="2468" y="13"/>
                    <a:pt x="2468" y="9"/>
                  </a:cubicBezTo>
                  <a:cubicBezTo>
                    <a:pt x="2468" y="4"/>
                    <a:pt x="2471" y="0"/>
                    <a:pt x="2476" y="0"/>
                  </a:cubicBezTo>
                  <a:close/>
                  <a:moveTo>
                    <a:pt x="2509" y="0"/>
                  </a:moveTo>
                  <a:lnTo>
                    <a:pt x="2509" y="0"/>
                  </a:lnTo>
                  <a:cubicBezTo>
                    <a:pt x="2514" y="0"/>
                    <a:pt x="2518" y="4"/>
                    <a:pt x="2518" y="9"/>
                  </a:cubicBezTo>
                  <a:cubicBezTo>
                    <a:pt x="2518" y="13"/>
                    <a:pt x="2514" y="17"/>
                    <a:pt x="2509" y="17"/>
                  </a:cubicBezTo>
                  <a:lnTo>
                    <a:pt x="2509" y="17"/>
                  </a:lnTo>
                  <a:cubicBezTo>
                    <a:pt x="2505" y="17"/>
                    <a:pt x="2501" y="13"/>
                    <a:pt x="2501" y="9"/>
                  </a:cubicBezTo>
                  <a:cubicBezTo>
                    <a:pt x="2501" y="4"/>
                    <a:pt x="2505" y="0"/>
                    <a:pt x="2509" y="0"/>
                  </a:cubicBezTo>
                  <a:close/>
                  <a:moveTo>
                    <a:pt x="2543" y="0"/>
                  </a:moveTo>
                  <a:lnTo>
                    <a:pt x="2543" y="0"/>
                  </a:lnTo>
                  <a:cubicBezTo>
                    <a:pt x="2547" y="0"/>
                    <a:pt x="2551" y="4"/>
                    <a:pt x="2551" y="9"/>
                  </a:cubicBezTo>
                  <a:cubicBezTo>
                    <a:pt x="2551" y="13"/>
                    <a:pt x="2547" y="17"/>
                    <a:pt x="2543" y="17"/>
                  </a:cubicBezTo>
                  <a:lnTo>
                    <a:pt x="2543" y="17"/>
                  </a:lnTo>
                  <a:cubicBezTo>
                    <a:pt x="2538" y="17"/>
                    <a:pt x="2534" y="13"/>
                    <a:pt x="2534" y="9"/>
                  </a:cubicBezTo>
                  <a:cubicBezTo>
                    <a:pt x="2534" y="4"/>
                    <a:pt x="2538" y="0"/>
                    <a:pt x="2543" y="0"/>
                  </a:cubicBezTo>
                  <a:close/>
                  <a:moveTo>
                    <a:pt x="2576" y="0"/>
                  </a:moveTo>
                  <a:lnTo>
                    <a:pt x="2576" y="0"/>
                  </a:lnTo>
                  <a:cubicBezTo>
                    <a:pt x="2581" y="0"/>
                    <a:pt x="2584" y="4"/>
                    <a:pt x="2584" y="9"/>
                  </a:cubicBezTo>
                  <a:cubicBezTo>
                    <a:pt x="2584" y="13"/>
                    <a:pt x="2581" y="17"/>
                    <a:pt x="2576" y="17"/>
                  </a:cubicBezTo>
                  <a:lnTo>
                    <a:pt x="2576" y="17"/>
                  </a:lnTo>
                  <a:cubicBezTo>
                    <a:pt x="2571" y="17"/>
                    <a:pt x="2568" y="13"/>
                    <a:pt x="2568" y="9"/>
                  </a:cubicBezTo>
                  <a:cubicBezTo>
                    <a:pt x="2568" y="4"/>
                    <a:pt x="2571" y="0"/>
                    <a:pt x="2576" y="0"/>
                  </a:cubicBezTo>
                  <a:close/>
                  <a:moveTo>
                    <a:pt x="2609" y="0"/>
                  </a:moveTo>
                  <a:lnTo>
                    <a:pt x="2609" y="0"/>
                  </a:lnTo>
                  <a:cubicBezTo>
                    <a:pt x="2614" y="0"/>
                    <a:pt x="2618" y="4"/>
                    <a:pt x="2618" y="9"/>
                  </a:cubicBezTo>
                  <a:cubicBezTo>
                    <a:pt x="2618" y="13"/>
                    <a:pt x="2614" y="17"/>
                    <a:pt x="2609" y="17"/>
                  </a:cubicBezTo>
                  <a:lnTo>
                    <a:pt x="2609" y="17"/>
                  </a:lnTo>
                  <a:cubicBezTo>
                    <a:pt x="2605" y="17"/>
                    <a:pt x="2601" y="13"/>
                    <a:pt x="2601" y="9"/>
                  </a:cubicBezTo>
                  <a:cubicBezTo>
                    <a:pt x="2601" y="4"/>
                    <a:pt x="2605" y="0"/>
                    <a:pt x="2609" y="0"/>
                  </a:cubicBezTo>
                  <a:close/>
                  <a:moveTo>
                    <a:pt x="2643" y="0"/>
                  </a:moveTo>
                  <a:lnTo>
                    <a:pt x="2643" y="0"/>
                  </a:lnTo>
                  <a:cubicBezTo>
                    <a:pt x="2647" y="0"/>
                    <a:pt x="2651" y="4"/>
                    <a:pt x="2651" y="9"/>
                  </a:cubicBezTo>
                  <a:cubicBezTo>
                    <a:pt x="2651" y="13"/>
                    <a:pt x="2647" y="17"/>
                    <a:pt x="2643" y="17"/>
                  </a:cubicBezTo>
                  <a:lnTo>
                    <a:pt x="2643" y="17"/>
                  </a:lnTo>
                  <a:cubicBezTo>
                    <a:pt x="2638" y="17"/>
                    <a:pt x="2634" y="13"/>
                    <a:pt x="2634" y="9"/>
                  </a:cubicBezTo>
                  <a:cubicBezTo>
                    <a:pt x="2634" y="4"/>
                    <a:pt x="2638" y="0"/>
                    <a:pt x="2643" y="0"/>
                  </a:cubicBezTo>
                  <a:close/>
                  <a:moveTo>
                    <a:pt x="2676" y="0"/>
                  </a:moveTo>
                  <a:lnTo>
                    <a:pt x="2676" y="0"/>
                  </a:lnTo>
                  <a:cubicBezTo>
                    <a:pt x="2681" y="0"/>
                    <a:pt x="2684" y="4"/>
                    <a:pt x="2684" y="9"/>
                  </a:cubicBezTo>
                  <a:cubicBezTo>
                    <a:pt x="2684" y="13"/>
                    <a:pt x="2681" y="17"/>
                    <a:pt x="2676" y="17"/>
                  </a:cubicBezTo>
                  <a:lnTo>
                    <a:pt x="2676" y="17"/>
                  </a:lnTo>
                  <a:cubicBezTo>
                    <a:pt x="2671" y="17"/>
                    <a:pt x="2668" y="13"/>
                    <a:pt x="2668" y="9"/>
                  </a:cubicBezTo>
                  <a:cubicBezTo>
                    <a:pt x="2668" y="4"/>
                    <a:pt x="2671" y="0"/>
                    <a:pt x="2676" y="0"/>
                  </a:cubicBezTo>
                  <a:close/>
                  <a:moveTo>
                    <a:pt x="2709" y="0"/>
                  </a:moveTo>
                  <a:lnTo>
                    <a:pt x="2709" y="0"/>
                  </a:lnTo>
                  <a:cubicBezTo>
                    <a:pt x="2714" y="0"/>
                    <a:pt x="2718" y="4"/>
                    <a:pt x="2718" y="9"/>
                  </a:cubicBezTo>
                  <a:cubicBezTo>
                    <a:pt x="2718" y="13"/>
                    <a:pt x="2714" y="17"/>
                    <a:pt x="2709" y="17"/>
                  </a:cubicBezTo>
                  <a:lnTo>
                    <a:pt x="2709" y="17"/>
                  </a:lnTo>
                  <a:cubicBezTo>
                    <a:pt x="2705" y="17"/>
                    <a:pt x="2701" y="13"/>
                    <a:pt x="2701" y="9"/>
                  </a:cubicBezTo>
                  <a:cubicBezTo>
                    <a:pt x="2701" y="4"/>
                    <a:pt x="2705" y="0"/>
                    <a:pt x="2709" y="0"/>
                  </a:cubicBezTo>
                  <a:close/>
                  <a:moveTo>
                    <a:pt x="2743" y="0"/>
                  </a:moveTo>
                  <a:lnTo>
                    <a:pt x="2743" y="0"/>
                  </a:lnTo>
                  <a:cubicBezTo>
                    <a:pt x="2747" y="0"/>
                    <a:pt x="2751" y="4"/>
                    <a:pt x="2751" y="9"/>
                  </a:cubicBezTo>
                  <a:cubicBezTo>
                    <a:pt x="2751" y="13"/>
                    <a:pt x="2747" y="17"/>
                    <a:pt x="2743" y="17"/>
                  </a:cubicBezTo>
                  <a:lnTo>
                    <a:pt x="2743" y="17"/>
                  </a:lnTo>
                  <a:cubicBezTo>
                    <a:pt x="2738" y="17"/>
                    <a:pt x="2734" y="13"/>
                    <a:pt x="2734" y="9"/>
                  </a:cubicBezTo>
                  <a:cubicBezTo>
                    <a:pt x="2734" y="4"/>
                    <a:pt x="2738" y="0"/>
                    <a:pt x="2743" y="0"/>
                  </a:cubicBezTo>
                  <a:close/>
                  <a:moveTo>
                    <a:pt x="2776" y="0"/>
                  </a:moveTo>
                  <a:lnTo>
                    <a:pt x="2776" y="0"/>
                  </a:lnTo>
                  <a:cubicBezTo>
                    <a:pt x="2781" y="0"/>
                    <a:pt x="2784" y="4"/>
                    <a:pt x="2784" y="9"/>
                  </a:cubicBezTo>
                  <a:cubicBezTo>
                    <a:pt x="2784" y="13"/>
                    <a:pt x="2781" y="17"/>
                    <a:pt x="2776" y="17"/>
                  </a:cubicBezTo>
                  <a:lnTo>
                    <a:pt x="2776" y="17"/>
                  </a:lnTo>
                  <a:cubicBezTo>
                    <a:pt x="2771" y="17"/>
                    <a:pt x="2768" y="13"/>
                    <a:pt x="2768" y="9"/>
                  </a:cubicBezTo>
                  <a:cubicBezTo>
                    <a:pt x="2768" y="4"/>
                    <a:pt x="2771" y="0"/>
                    <a:pt x="2776" y="0"/>
                  </a:cubicBezTo>
                  <a:close/>
                  <a:moveTo>
                    <a:pt x="2809" y="0"/>
                  </a:moveTo>
                  <a:lnTo>
                    <a:pt x="2809" y="0"/>
                  </a:lnTo>
                  <a:cubicBezTo>
                    <a:pt x="2814" y="0"/>
                    <a:pt x="2818" y="4"/>
                    <a:pt x="2818" y="9"/>
                  </a:cubicBezTo>
                  <a:cubicBezTo>
                    <a:pt x="2818" y="13"/>
                    <a:pt x="2814" y="17"/>
                    <a:pt x="2809" y="17"/>
                  </a:cubicBezTo>
                  <a:lnTo>
                    <a:pt x="2809" y="17"/>
                  </a:lnTo>
                  <a:cubicBezTo>
                    <a:pt x="2805" y="17"/>
                    <a:pt x="2801" y="13"/>
                    <a:pt x="2801" y="9"/>
                  </a:cubicBezTo>
                  <a:cubicBezTo>
                    <a:pt x="2801" y="4"/>
                    <a:pt x="2805" y="0"/>
                    <a:pt x="2809" y="0"/>
                  </a:cubicBezTo>
                  <a:close/>
                  <a:moveTo>
                    <a:pt x="2843" y="0"/>
                  </a:moveTo>
                  <a:lnTo>
                    <a:pt x="2843" y="0"/>
                  </a:lnTo>
                  <a:cubicBezTo>
                    <a:pt x="2847" y="0"/>
                    <a:pt x="2851" y="4"/>
                    <a:pt x="2851" y="9"/>
                  </a:cubicBezTo>
                  <a:cubicBezTo>
                    <a:pt x="2851" y="13"/>
                    <a:pt x="2847" y="17"/>
                    <a:pt x="2843" y="17"/>
                  </a:cubicBezTo>
                  <a:lnTo>
                    <a:pt x="2843" y="17"/>
                  </a:lnTo>
                  <a:cubicBezTo>
                    <a:pt x="2838" y="17"/>
                    <a:pt x="2834" y="13"/>
                    <a:pt x="2834" y="9"/>
                  </a:cubicBezTo>
                  <a:cubicBezTo>
                    <a:pt x="2834" y="4"/>
                    <a:pt x="2838" y="0"/>
                    <a:pt x="2843" y="0"/>
                  </a:cubicBezTo>
                  <a:close/>
                  <a:moveTo>
                    <a:pt x="2876" y="0"/>
                  </a:moveTo>
                  <a:lnTo>
                    <a:pt x="2876" y="0"/>
                  </a:lnTo>
                  <a:cubicBezTo>
                    <a:pt x="2881" y="0"/>
                    <a:pt x="2884" y="4"/>
                    <a:pt x="2884" y="9"/>
                  </a:cubicBezTo>
                  <a:cubicBezTo>
                    <a:pt x="2884" y="13"/>
                    <a:pt x="2881" y="17"/>
                    <a:pt x="2876" y="17"/>
                  </a:cubicBezTo>
                  <a:lnTo>
                    <a:pt x="2876" y="17"/>
                  </a:lnTo>
                  <a:cubicBezTo>
                    <a:pt x="2872" y="17"/>
                    <a:pt x="2868" y="13"/>
                    <a:pt x="2868" y="9"/>
                  </a:cubicBezTo>
                  <a:cubicBezTo>
                    <a:pt x="2868" y="4"/>
                    <a:pt x="2872" y="0"/>
                    <a:pt x="2876" y="0"/>
                  </a:cubicBezTo>
                  <a:close/>
                  <a:moveTo>
                    <a:pt x="2909" y="0"/>
                  </a:moveTo>
                  <a:lnTo>
                    <a:pt x="2909" y="0"/>
                  </a:lnTo>
                  <a:cubicBezTo>
                    <a:pt x="2914" y="0"/>
                    <a:pt x="2918" y="4"/>
                    <a:pt x="2918" y="9"/>
                  </a:cubicBezTo>
                  <a:cubicBezTo>
                    <a:pt x="2918" y="13"/>
                    <a:pt x="2914" y="17"/>
                    <a:pt x="2909" y="17"/>
                  </a:cubicBezTo>
                  <a:lnTo>
                    <a:pt x="2909" y="17"/>
                  </a:lnTo>
                  <a:cubicBezTo>
                    <a:pt x="2905" y="17"/>
                    <a:pt x="2901" y="13"/>
                    <a:pt x="2901" y="9"/>
                  </a:cubicBezTo>
                  <a:cubicBezTo>
                    <a:pt x="2901" y="4"/>
                    <a:pt x="2905" y="0"/>
                    <a:pt x="2909" y="0"/>
                  </a:cubicBezTo>
                  <a:close/>
                  <a:moveTo>
                    <a:pt x="2943" y="0"/>
                  </a:moveTo>
                  <a:lnTo>
                    <a:pt x="2943" y="0"/>
                  </a:lnTo>
                  <a:cubicBezTo>
                    <a:pt x="2947" y="0"/>
                    <a:pt x="2951" y="4"/>
                    <a:pt x="2951" y="9"/>
                  </a:cubicBezTo>
                  <a:cubicBezTo>
                    <a:pt x="2951" y="13"/>
                    <a:pt x="2947" y="17"/>
                    <a:pt x="2943" y="17"/>
                  </a:cubicBezTo>
                  <a:lnTo>
                    <a:pt x="2943" y="17"/>
                  </a:lnTo>
                  <a:cubicBezTo>
                    <a:pt x="2938" y="17"/>
                    <a:pt x="2934" y="13"/>
                    <a:pt x="2934" y="9"/>
                  </a:cubicBezTo>
                  <a:cubicBezTo>
                    <a:pt x="2934" y="4"/>
                    <a:pt x="2938" y="0"/>
                    <a:pt x="2943" y="0"/>
                  </a:cubicBezTo>
                  <a:close/>
                  <a:moveTo>
                    <a:pt x="2976" y="0"/>
                  </a:moveTo>
                  <a:lnTo>
                    <a:pt x="2976" y="0"/>
                  </a:lnTo>
                  <a:cubicBezTo>
                    <a:pt x="2981" y="0"/>
                    <a:pt x="2985" y="4"/>
                    <a:pt x="2985" y="9"/>
                  </a:cubicBezTo>
                  <a:cubicBezTo>
                    <a:pt x="2985" y="13"/>
                    <a:pt x="2981" y="17"/>
                    <a:pt x="2976" y="17"/>
                  </a:cubicBezTo>
                  <a:lnTo>
                    <a:pt x="2976" y="17"/>
                  </a:lnTo>
                  <a:cubicBezTo>
                    <a:pt x="2972" y="17"/>
                    <a:pt x="2968" y="13"/>
                    <a:pt x="2968" y="9"/>
                  </a:cubicBezTo>
                  <a:cubicBezTo>
                    <a:pt x="2968" y="4"/>
                    <a:pt x="2972" y="0"/>
                    <a:pt x="2976" y="0"/>
                  </a:cubicBezTo>
                  <a:close/>
                  <a:moveTo>
                    <a:pt x="3010" y="0"/>
                  </a:moveTo>
                  <a:lnTo>
                    <a:pt x="3010" y="0"/>
                  </a:lnTo>
                  <a:cubicBezTo>
                    <a:pt x="3014" y="0"/>
                    <a:pt x="3018" y="4"/>
                    <a:pt x="3018" y="9"/>
                  </a:cubicBezTo>
                  <a:cubicBezTo>
                    <a:pt x="3018" y="13"/>
                    <a:pt x="3014" y="17"/>
                    <a:pt x="3010" y="17"/>
                  </a:cubicBezTo>
                  <a:lnTo>
                    <a:pt x="3010" y="17"/>
                  </a:lnTo>
                  <a:cubicBezTo>
                    <a:pt x="3005" y="17"/>
                    <a:pt x="3001" y="13"/>
                    <a:pt x="3001" y="9"/>
                  </a:cubicBezTo>
                  <a:cubicBezTo>
                    <a:pt x="3001" y="4"/>
                    <a:pt x="3005" y="0"/>
                    <a:pt x="3010" y="0"/>
                  </a:cubicBezTo>
                  <a:close/>
                  <a:moveTo>
                    <a:pt x="3043" y="0"/>
                  </a:moveTo>
                  <a:lnTo>
                    <a:pt x="3043" y="0"/>
                  </a:lnTo>
                  <a:cubicBezTo>
                    <a:pt x="3047" y="0"/>
                    <a:pt x="3051" y="4"/>
                    <a:pt x="3051" y="9"/>
                  </a:cubicBezTo>
                  <a:cubicBezTo>
                    <a:pt x="3051" y="13"/>
                    <a:pt x="3047" y="17"/>
                    <a:pt x="3043" y="17"/>
                  </a:cubicBezTo>
                  <a:lnTo>
                    <a:pt x="3043" y="17"/>
                  </a:lnTo>
                  <a:cubicBezTo>
                    <a:pt x="3038" y="17"/>
                    <a:pt x="3035" y="13"/>
                    <a:pt x="3035" y="9"/>
                  </a:cubicBezTo>
                  <a:cubicBezTo>
                    <a:pt x="3035" y="4"/>
                    <a:pt x="3038" y="0"/>
                    <a:pt x="3043" y="0"/>
                  </a:cubicBezTo>
                  <a:close/>
                  <a:moveTo>
                    <a:pt x="3076" y="0"/>
                  </a:moveTo>
                  <a:lnTo>
                    <a:pt x="3076" y="0"/>
                  </a:lnTo>
                  <a:cubicBezTo>
                    <a:pt x="3081" y="0"/>
                    <a:pt x="3085" y="4"/>
                    <a:pt x="3085" y="9"/>
                  </a:cubicBezTo>
                  <a:cubicBezTo>
                    <a:pt x="3085" y="13"/>
                    <a:pt x="3081" y="17"/>
                    <a:pt x="3076" y="17"/>
                  </a:cubicBezTo>
                  <a:lnTo>
                    <a:pt x="3076" y="17"/>
                  </a:lnTo>
                  <a:cubicBezTo>
                    <a:pt x="3072" y="17"/>
                    <a:pt x="3068" y="13"/>
                    <a:pt x="3068" y="9"/>
                  </a:cubicBezTo>
                  <a:cubicBezTo>
                    <a:pt x="3068" y="4"/>
                    <a:pt x="3072" y="0"/>
                    <a:pt x="3076" y="0"/>
                  </a:cubicBezTo>
                  <a:close/>
                  <a:moveTo>
                    <a:pt x="3110" y="0"/>
                  </a:moveTo>
                  <a:lnTo>
                    <a:pt x="3110" y="0"/>
                  </a:lnTo>
                  <a:cubicBezTo>
                    <a:pt x="3114" y="0"/>
                    <a:pt x="3118" y="4"/>
                    <a:pt x="3118" y="9"/>
                  </a:cubicBezTo>
                  <a:cubicBezTo>
                    <a:pt x="3118" y="13"/>
                    <a:pt x="3114" y="17"/>
                    <a:pt x="3110" y="17"/>
                  </a:cubicBezTo>
                  <a:lnTo>
                    <a:pt x="3110" y="17"/>
                  </a:lnTo>
                  <a:cubicBezTo>
                    <a:pt x="3105" y="17"/>
                    <a:pt x="3101" y="13"/>
                    <a:pt x="3101" y="9"/>
                  </a:cubicBezTo>
                  <a:cubicBezTo>
                    <a:pt x="3101" y="4"/>
                    <a:pt x="3105" y="0"/>
                    <a:pt x="3110" y="0"/>
                  </a:cubicBezTo>
                  <a:close/>
                  <a:moveTo>
                    <a:pt x="3143" y="0"/>
                  </a:moveTo>
                  <a:lnTo>
                    <a:pt x="3143" y="0"/>
                  </a:lnTo>
                  <a:cubicBezTo>
                    <a:pt x="3148" y="0"/>
                    <a:pt x="3151" y="4"/>
                    <a:pt x="3151" y="9"/>
                  </a:cubicBezTo>
                  <a:cubicBezTo>
                    <a:pt x="3151" y="13"/>
                    <a:pt x="3148" y="17"/>
                    <a:pt x="3143" y="17"/>
                  </a:cubicBezTo>
                  <a:lnTo>
                    <a:pt x="3143" y="17"/>
                  </a:lnTo>
                  <a:cubicBezTo>
                    <a:pt x="3138" y="17"/>
                    <a:pt x="3135" y="13"/>
                    <a:pt x="3135" y="9"/>
                  </a:cubicBezTo>
                  <a:cubicBezTo>
                    <a:pt x="3135" y="4"/>
                    <a:pt x="3138" y="0"/>
                    <a:pt x="3143" y="0"/>
                  </a:cubicBezTo>
                  <a:close/>
                  <a:moveTo>
                    <a:pt x="3176" y="0"/>
                  </a:moveTo>
                  <a:lnTo>
                    <a:pt x="3176" y="0"/>
                  </a:lnTo>
                  <a:cubicBezTo>
                    <a:pt x="3181" y="0"/>
                    <a:pt x="3185" y="4"/>
                    <a:pt x="3185" y="9"/>
                  </a:cubicBezTo>
                  <a:cubicBezTo>
                    <a:pt x="3185" y="13"/>
                    <a:pt x="3181" y="17"/>
                    <a:pt x="3176" y="17"/>
                  </a:cubicBezTo>
                  <a:lnTo>
                    <a:pt x="3176" y="17"/>
                  </a:lnTo>
                  <a:cubicBezTo>
                    <a:pt x="3172" y="17"/>
                    <a:pt x="3168" y="13"/>
                    <a:pt x="3168" y="9"/>
                  </a:cubicBezTo>
                  <a:cubicBezTo>
                    <a:pt x="3168" y="4"/>
                    <a:pt x="3172" y="0"/>
                    <a:pt x="3176" y="0"/>
                  </a:cubicBezTo>
                  <a:close/>
                  <a:moveTo>
                    <a:pt x="3210" y="0"/>
                  </a:moveTo>
                  <a:lnTo>
                    <a:pt x="3210" y="0"/>
                  </a:lnTo>
                  <a:cubicBezTo>
                    <a:pt x="3214" y="0"/>
                    <a:pt x="3218" y="4"/>
                    <a:pt x="3218" y="9"/>
                  </a:cubicBezTo>
                  <a:cubicBezTo>
                    <a:pt x="3218" y="13"/>
                    <a:pt x="3214" y="17"/>
                    <a:pt x="3210" y="17"/>
                  </a:cubicBezTo>
                  <a:lnTo>
                    <a:pt x="3210" y="17"/>
                  </a:lnTo>
                  <a:cubicBezTo>
                    <a:pt x="3205" y="17"/>
                    <a:pt x="3201" y="13"/>
                    <a:pt x="3201" y="9"/>
                  </a:cubicBezTo>
                  <a:cubicBezTo>
                    <a:pt x="3201" y="4"/>
                    <a:pt x="3205" y="0"/>
                    <a:pt x="3210" y="0"/>
                  </a:cubicBezTo>
                  <a:close/>
                  <a:moveTo>
                    <a:pt x="3243" y="0"/>
                  </a:moveTo>
                  <a:lnTo>
                    <a:pt x="3243" y="0"/>
                  </a:lnTo>
                  <a:cubicBezTo>
                    <a:pt x="3248" y="0"/>
                    <a:pt x="3251" y="4"/>
                    <a:pt x="3251" y="9"/>
                  </a:cubicBezTo>
                  <a:cubicBezTo>
                    <a:pt x="3251" y="13"/>
                    <a:pt x="3248" y="17"/>
                    <a:pt x="3243" y="17"/>
                  </a:cubicBezTo>
                  <a:lnTo>
                    <a:pt x="3243" y="17"/>
                  </a:lnTo>
                  <a:cubicBezTo>
                    <a:pt x="3238" y="17"/>
                    <a:pt x="3235" y="13"/>
                    <a:pt x="3235" y="9"/>
                  </a:cubicBezTo>
                  <a:cubicBezTo>
                    <a:pt x="3235" y="4"/>
                    <a:pt x="3238" y="0"/>
                    <a:pt x="3243" y="0"/>
                  </a:cubicBezTo>
                  <a:close/>
                  <a:moveTo>
                    <a:pt x="3276" y="0"/>
                  </a:moveTo>
                  <a:lnTo>
                    <a:pt x="3276" y="0"/>
                  </a:lnTo>
                  <a:cubicBezTo>
                    <a:pt x="3281" y="0"/>
                    <a:pt x="3285" y="4"/>
                    <a:pt x="3285" y="9"/>
                  </a:cubicBezTo>
                  <a:cubicBezTo>
                    <a:pt x="3285" y="13"/>
                    <a:pt x="3281" y="17"/>
                    <a:pt x="3276" y="17"/>
                  </a:cubicBezTo>
                  <a:lnTo>
                    <a:pt x="3276" y="17"/>
                  </a:lnTo>
                  <a:cubicBezTo>
                    <a:pt x="3272" y="17"/>
                    <a:pt x="3268" y="13"/>
                    <a:pt x="3268" y="9"/>
                  </a:cubicBezTo>
                  <a:cubicBezTo>
                    <a:pt x="3268" y="4"/>
                    <a:pt x="3272" y="0"/>
                    <a:pt x="3276" y="0"/>
                  </a:cubicBezTo>
                  <a:close/>
                  <a:moveTo>
                    <a:pt x="3310" y="0"/>
                  </a:moveTo>
                  <a:lnTo>
                    <a:pt x="3310" y="0"/>
                  </a:lnTo>
                  <a:cubicBezTo>
                    <a:pt x="3314" y="0"/>
                    <a:pt x="3318" y="4"/>
                    <a:pt x="3318" y="9"/>
                  </a:cubicBezTo>
                  <a:cubicBezTo>
                    <a:pt x="3318" y="13"/>
                    <a:pt x="3314" y="17"/>
                    <a:pt x="3310" y="17"/>
                  </a:cubicBezTo>
                  <a:lnTo>
                    <a:pt x="3310" y="17"/>
                  </a:lnTo>
                  <a:cubicBezTo>
                    <a:pt x="3305" y="17"/>
                    <a:pt x="3301" y="13"/>
                    <a:pt x="3301" y="9"/>
                  </a:cubicBezTo>
                  <a:cubicBezTo>
                    <a:pt x="3301" y="4"/>
                    <a:pt x="3305" y="0"/>
                    <a:pt x="3310" y="0"/>
                  </a:cubicBezTo>
                  <a:close/>
                  <a:moveTo>
                    <a:pt x="3343" y="0"/>
                  </a:moveTo>
                  <a:lnTo>
                    <a:pt x="3343" y="0"/>
                  </a:lnTo>
                  <a:cubicBezTo>
                    <a:pt x="3348" y="0"/>
                    <a:pt x="3351" y="4"/>
                    <a:pt x="3351" y="9"/>
                  </a:cubicBezTo>
                  <a:cubicBezTo>
                    <a:pt x="3351" y="13"/>
                    <a:pt x="3348" y="17"/>
                    <a:pt x="3343" y="17"/>
                  </a:cubicBezTo>
                  <a:lnTo>
                    <a:pt x="3343" y="17"/>
                  </a:lnTo>
                  <a:cubicBezTo>
                    <a:pt x="3338" y="17"/>
                    <a:pt x="3335" y="13"/>
                    <a:pt x="3335" y="9"/>
                  </a:cubicBezTo>
                  <a:cubicBezTo>
                    <a:pt x="3335" y="4"/>
                    <a:pt x="3338" y="0"/>
                    <a:pt x="3343" y="0"/>
                  </a:cubicBezTo>
                  <a:close/>
                  <a:moveTo>
                    <a:pt x="3376" y="0"/>
                  </a:moveTo>
                  <a:lnTo>
                    <a:pt x="3376" y="0"/>
                  </a:lnTo>
                  <a:cubicBezTo>
                    <a:pt x="3381" y="0"/>
                    <a:pt x="3385" y="4"/>
                    <a:pt x="3385" y="9"/>
                  </a:cubicBezTo>
                  <a:cubicBezTo>
                    <a:pt x="3385" y="13"/>
                    <a:pt x="3381" y="17"/>
                    <a:pt x="3376" y="17"/>
                  </a:cubicBezTo>
                  <a:lnTo>
                    <a:pt x="3376" y="17"/>
                  </a:lnTo>
                  <a:cubicBezTo>
                    <a:pt x="3372" y="17"/>
                    <a:pt x="3368" y="13"/>
                    <a:pt x="3368" y="9"/>
                  </a:cubicBezTo>
                  <a:cubicBezTo>
                    <a:pt x="3368" y="4"/>
                    <a:pt x="3372" y="0"/>
                    <a:pt x="3376" y="0"/>
                  </a:cubicBezTo>
                  <a:close/>
                  <a:moveTo>
                    <a:pt x="3410" y="0"/>
                  </a:moveTo>
                  <a:lnTo>
                    <a:pt x="3410" y="0"/>
                  </a:lnTo>
                  <a:cubicBezTo>
                    <a:pt x="3414" y="0"/>
                    <a:pt x="3418" y="4"/>
                    <a:pt x="3418" y="9"/>
                  </a:cubicBezTo>
                  <a:cubicBezTo>
                    <a:pt x="3418" y="13"/>
                    <a:pt x="3414" y="17"/>
                    <a:pt x="3410" y="17"/>
                  </a:cubicBezTo>
                  <a:lnTo>
                    <a:pt x="3410" y="17"/>
                  </a:lnTo>
                  <a:cubicBezTo>
                    <a:pt x="3405" y="17"/>
                    <a:pt x="3401" y="13"/>
                    <a:pt x="3401" y="9"/>
                  </a:cubicBezTo>
                  <a:cubicBezTo>
                    <a:pt x="3401" y="4"/>
                    <a:pt x="3405" y="0"/>
                    <a:pt x="3410" y="0"/>
                  </a:cubicBezTo>
                  <a:close/>
                  <a:moveTo>
                    <a:pt x="3443" y="0"/>
                  </a:moveTo>
                  <a:lnTo>
                    <a:pt x="3443" y="0"/>
                  </a:lnTo>
                  <a:cubicBezTo>
                    <a:pt x="3448" y="0"/>
                    <a:pt x="3451" y="4"/>
                    <a:pt x="3451" y="9"/>
                  </a:cubicBezTo>
                  <a:cubicBezTo>
                    <a:pt x="3451" y="13"/>
                    <a:pt x="3448" y="17"/>
                    <a:pt x="3443" y="17"/>
                  </a:cubicBezTo>
                  <a:lnTo>
                    <a:pt x="3443" y="17"/>
                  </a:lnTo>
                  <a:cubicBezTo>
                    <a:pt x="3438" y="17"/>
                    <a:pt x="3435" y="13"/>
                    <a:pt x="3435" y="9"/>
                  </a:cubicBezTo>
                  <a:cubicBezTo>
                    <a:pt x="3435" y="4"/>
                    <a:pt x="3438" y="0"/>
                    <a:pt x="3443" y="0"/>
                  </a:cubicBezTo>
                  <a:close/>
                  <a:moveTo>
                    <a:pt x="3476" y="0"/>
                  </a:moveTo>
                  <a:lnTo>
                    <a:pt x="3476" y="0"/>
                  </a:lnTo>
                  <a:cubicBezTo>
                    <a:pt x="3481" y="0"/>
                    <a:pt x="3485" y="4"/>
                    <a:pt x="3485" y="9"/>
                  </a:cubicBezTo>
                  <a:cubicBezTo>
                    <a:pt x="3485" y="13"/>
                    <a:pt x="3481" y="17"/>
                    <a:pt x="3476" y="17"/>
                  </a:cubicBezTo>
                  <a:lnTo>
                    <a:pt x="3476" y="17"/>
                  </a:lnTo>
                  <a:cubicBezTo>
                    <a:pt x="3472" y="17"/>
                    <a:pt x="3468" y="13"/>
                    <a:pt x="3468" y="9"/>
                  </a:cubicBezTo>
                  <a:cubicBezTo>
                    <a:pt x="3468" y="4"/>
                    <a:pt x="3472" y="0"/>
                    <a:pt x="3476" y="0"/>
                  </a:cubicBezTo>
                  <a:close/>
                  <a:moveTo>
                    <a:pt x="3510" y="0"/>
                  </a:moveTo>
                  <a:lnTo>
                    <a:pt x="3510" y="0"/>
                  </a:lnTo>
                  <a:cubicBezTo>
                    <a:pt x="3514" y="0"/>
                    <a:pt x="3518" y="4"/>
                    <a:pt x="3518" y="9"/>
                  </a:cubicBezTo>
                  <a:cubicBezTo>
                    <a:pt x="3518" y="13"/>
                    <a:pt x="3514" y="17"/>
                    <a:pt x="3510" y="17"/>
                  </a:cubicBezTo>
                  <a:lnTo>
                    <a:pt x="3510" y="17"/>
                  </a:lnTo>
                  <a:cubicBezTo>
                    <a:pt x="3505" y="17"/>
                    <a:pt x="3501" y="13"/>
                    <a:pt x="3501" y="9"/>
                  </a:cubicBezTo>
                  <a:cubicBezTo>
                    <a:pt x="3501" y="4"/>
                    <a:pt x="3505" y="0"/>
                    <a:pt x="3510" y="0"/>
                  </a:cubicBezTo>
                  <a:close/>
                  <a:moveTo>
                    <a:pt x="3543" y="0"/>
                  </a:moveTo>
                  <a:lnTo>
                    <a:pt x="3543" y="0"/>
                  </a:lnTo>
                  <a:cubicBezTo>
                    <a:pt x="3548" y="0"/>
                    <a:pt x="3551" y="4"/>
                    <a:pt x="3551" y="9"/>
                  </a:cubicBezTo>
                  <a:cubicBezTo>
                    <a:pt x="3551" y="13"/>
                    <a:pt x="3548" y="17"/>
                    <a:pt x="3543" y="17"/>
                  </a:cubicBezTo>
                  <a:lnTo>
                    <a:pt x="3543" y="17"/>
                  </a:lnTo>
                  <a:cubicBezTo>
                    <a:pt x="3539" y="17"/>
                    <a:pt x="3535" y="13"/>
                    <a:pt x="3535" y="9"/>
                  </a:cubicBezTo>
                  <a:cubicBezTo>
                    <a:pt x="3535" y="4"/>
                    <a:pt x="3539" y="0"/>
                    <a:pt x="3543" y="0"/>
                  </a:cubicBezTo>
                  <a:close/>
                  <a:moveTo>
                    <a:pt x="3576" y="0"/>
                  </a:moveTo>
                  <a:lnTo>
                    <a:pt x="3576" y="0"/>
                  </a:lnTo>
                  <a:cubicBezTo>
                    <a:pt x="3581" y="0"/>
                    <a:pt x="3585" y="4"/>
                    <a:pt x="3585" y="9"/>
                  </a:cubicBezTo>
                  <a:cubicBezTo>
                    <a:pt x="3585" y="13"/>
                    <a:pt x="3581" y="17"/>
                    <a:pt x="3576" y="17"/>
                  </a:cubicBezTo>
                  <a:lnTo>
                    <a:pt x="3576" y="17"/>
                  </a:lnTo>
                  <a:cubicBezTo>
                    <a:pt x="3572" y="17"/>
                    <a:pt x="3568" y="13"/>
                    <a:pt x="3568" y="9"/>
                  </a:cubicBezTo>
                  <a:cubicBezTo>
                    <a:pt x="3568" y="4"/>
                    <a:pt x="3572" y="0"/>
                    <a:pt x="3576" y="0"/>
                  </a:cubicBezTo>
                  <a:close/>
                  <a:moveTo>
                    <a:pt x="3610" y="0"/>
                  </a:moveTo>
                  <a:lnTo>
                    <a:pt x="3610" y="0"/>
                  </a:lnTo>
                  <a:cubicBezTo>
                    <a:pt x="3614" y="0"/>
                    <a:pt x="3618" y="4"/>
                    <a:pt x="3618" y="9"/>
                  </a:cubicBezTo>
                  <a:cubicBezTo>
                    <a:pt x="3618" y="13"/>
                    <a:pt x="3614" y="17"/>
                    <a:pt x="3610" y="17"/>
                  </a:cubicBezTo>
                  <a:lnTo>
                    <a:pt x="3610" y="17"/>
                  </a:lnTo>
                  <a:cubicBezTo>
                    <a:pt x="3605" y="17"/>
                    <a:pt x="3601" y="13"/>
                    <a:pt x="3601" y="9"/>
                  </a:cubicBezTo>
                  <a:cubicBezTo>
                    <a:pt x="3601" y="4"/>
                    <a:pt x="3605" y="0"/>
                    <a:pt x="3610" y="0"/>
                  </a:cubicBezTo>
                  <a:close/>
                  <a:moveTo>
                    <a:pt x="3643" y="0"/>
                  </a:moveTo>
                  <a:lnTo>
                    <a:pt x="3643" y="0"/>
                  </a:lnTo>
                  <a:cubicBezTo>
                    <a:pt x="3648" y="0"/>
                    <a:pt x="3652" y="4"/>
                    <a:pt x="3652" y="9"/>
                  </a:cubicBezTo>
                  <a:cubicBezTo>
                    <a:pt x="3652" y="13"/>
                    <a:pt x="3648" y="17"/>
                    <a:pt x="3643" y="17"/>
                  </a:cubicBezTo>
                  <a:lnTo>
                    <a:pt x="3643" y="17"/>
                  </a:lnTo>
                  <a:cubicBezTo>
                    <a:pt x="3639" y="17"/>
                    <a:pt x="3635" y="13"/>
                    <a:pt x="3635" y="9"/>
                  </a:cubicBezTo>
                  <a:cubicBezTo>
                    <a:pt x="3635" y="4"/>
                    <a:pt x="3639" y="0"/>
                    <a:pt x="3643" y="0"/>
                  </a:cubicBezTo>
                  <a:close/>
                  <a:moveTo>
                    <a:pt x="3677" y="0"/>
                  </a:moveTo>
                  <a:lnTo>
                    <a:pt x="3677" y="0"/>
                  </a:lnTo>
                  <a:cubicBezTo>
                    <a:pt x="3681" y="0"/>
                    <a:pt x="3685" y="4"/>
                    <a:pt x="3685" y="9"/>
                  </a:cubicBezTo>
                  <a:cubicBezTo>
                    <a:pt x="3685" y="13"/>
                    <a:pt x="3681" y="17"/>
                    <a:pt x="3677" y="17"/>
                  </a:cubicBezTo>
                  <a:lnTo>
                    <a:pt x="3677" y="17"/>
                  </a:lnTo>
                  <a:cubicBezTo>
                    <a:pt x="3672" y="17"/>
                    <a:pt x="3668" y="13"/>
                    <a:pt x="3668" y="9"/>
                  </a:cubicBezTo>
                  <a:cubicBezTo>
                    <a:pt x="3668" y="4"/>
                    <a:pt x="3672" y="0"/>
                    <a:pt x="3677" y="0"/>
                  </a:cubicBezTo>
                  <a:close/>
                  <a:moveTo>
                    <a:pt x="3710" y="0"/>
                  </a:moveTo>
                  <a:lnTo>
                    <a:pt x="3710" y="0"/>
                  </a:lnTo>
                  <a:cubicBezTo>
                    <a:pt x="3714" y="0"/>
                    <a:pt x="3718" y="4"/>
                    <a:pt x="3718" y="9"/>
                  </a:cubicBezTo>
                  <a:cubicBezTo>
                    <a:pt x="3718" y="13"/>
                    <a:pt x="3714" y="17"/>
                    <a:pt x="3710" y="17"/>
                  </a:cubicBezTo>
                  <a:lnTo>
                    <a:pt x="3710" y="17"/>
                  </a:lnTo>
                  <a:cubicBezTo>
                    <a:pt x="3705" y="17"/>
                    <a:pt x="3702" y="13"/>
                    <a:pt x="3702" y="9"/>
                  </a:cubicBezTo>
                  <a:cubicBezTo>
                    <a:pt x="3702" y="4"/>
                    <a:pt x="3705" y="0"/>
                    <a:pt x="3710" y="0"/>
                  </a:cubicBezTo>
                  <a:close/>
                  <a:moveTo>
                    <a:pt x="3743" y="0"/>
                  </a:moveTo>
                  <a:lnTo>
                    <a:pt x="3743" y="0"/>
                  </a:lnTo>
                  <a:cubicBezTo>
                    <a:pt x="3748" y="0"/>
                    <a:pt x="3752" y="4"/>
                    <a:pt x="3752" y="9"/>
                  </a:cubicBezTo>
                  <a:cubicBezTo>
                    <a:pt x="3752" y="13"/>
                    <a:pt x="3748" y="17"/>
                    <a:pt x="3743" y="17"/>
                  </a:cubicBezTo>
                  <a:lnTo>
                    <a:pt x="3743" y="17"/>
                  </a:lnTo>
                  <a:cubicBezTo>
                    <a:pt x="3739" y="17"/>
                    <a:pt x="3735" y="13"/>
                    <a:pt x="3735" y="9"/>
                  </a:cubicBezTo>
                  <a:cubicBezTo>
                    <a:pt x="3735" y="4"/>
                    <a:pt x="3739" y="0"/>
                    <a:pt x="3743" y="0"/>
                  </a:cubicBezTo>
                  <a:close/>
                  <a:moveTo>
                    <a:pt x="3777" y="0"/>
                  </a:moveTo>
                  <a:lnTo>
                    <a:pt x="3777" y="0"/>
                  </a:lnTo>
                  <a:cubicBezTo>
                    <a:pt x="3781" y="0"/>
                    <a:pt x="3785" y="4"/>
                    <a:pt x="3785" y="9"/>
                  </a:cubicBezTo>
                  <a:cubicBezTo>
                    <a:pt x="3785" y="13"/>
                    <a:pt x="3781" y="17"/>
                    <a:pt x="3777" y="17"/>
                  </a:cubicBezTo>
                  <a:lnTo>
                    <a:pt x="3777" y="17"/>
                  </a:lnTo>
                  <a:cubicBezTo>
                    <a:pt x="3772" y="17"/>
                    <a:pt x="3768" y="13"/>
                    <a:pt x="3768" y="9"/>
                  </a:cubicBezTo>
                  <a:cubicBezTo>
                    <a:pt x="3768" y="4"/>
                    <a:pt x="3772" y="0"/>
                    <a:pt x="3777" y="0"/>
                  </a:cubicBezTo>
                  <a:close/>
                  <a:moveTo>
                    <a:pt x="3810" y="0"/>
                  </a:moveTo>
                  <a:lnTo>
                    <a:pt x="3810" y="0"/>
                  </a:lnTo>
                  <a:cubicBezTo>
                    <a:pt x="3815" y="0"/>
                    <a:pt x="3818" y="4"/>
                    <a:pt x="3818" y="9"/>
                  </a:cubicBezTo>
                  <a:cubicBezTo>
                    <a:pt x="3818" y="13"/>
                    <a:pt x="3815" y="17"/>
                    <a:pt x="3810" y="17"/>
                  </a:cubicBezTo>
                  <a:lnTo>
                    <a:pt x="3810" y="17"/>
                  </a:lnTo>
                  <a:cubicBezTo>
                    <a:pt x="3805" y="17"/>
                    <a:pt x="3802" y="13"/>
                    <a:pt x="3802" y="9"/>
                  </a:cubicBezTo>
                  <a:cubicBezTo>
                    <a:pt x="3802" y="4"/>
                    <a:pt x="3805" y="0"/>
                    <a:pt x="3810" y="0"/>
                  </a:cubicBezTo>
                  <a:close/>
                  <a:moveTo>
                    <a:pt x="3843" y="0"/>
                  </a:moveTo>
                  <a:lnTo>
                    <a:pt x="3843" y="0"/>
                  </a:lnTo>
                  <a:cubicBezTo>
                    <a:pt x="3848" y="0"/>
                    <a:pt x="3852" y="4"/>
                    <a:pt x="3852" y="9"/>
                  </a:cubicBezTo>
                  <a:cubicBezTo>
                    <a:pt x="3852" y="13"/>
                    <a:pt x="3848" y="17"/>
                    <a:pt x="3843" y="17"/>
                  </a:cubicBezTo>
                  <a:lnTo>
                    <a:pt x="3843" y="17"/>
                  </a:lnTo>
                  <a:cubicBezTo>
                    <a:pt x="3839" y="17"/>
                    <a:pt x="3835" y="13"/>
                    <a:pt x="3835" y="9"/>
                  </a:cubicBezTo>
                  <a:cubicBezTo>
                    <a:pt x="3835" y="4"/>
                    <a:pt x="3839" y="0"/>
                    <a:pt x="3843" y="0"/>
                  </a:cubicBezTo>
                  <a:close/>
                  <a:moveTo>
                    <a:pt x="3877" y="0"/>
                  </a:moveTo>
                  <a:lnTo>
                    <a:pt x="3877" y="0"/>
                  </a:lnTo>
                  <a:cubicBezTo>
                    <a:pt x="3881" y="0"/>
                    <a:pt x="3885" y="4"/>
                    <a:pt x="3885" y="9"/>
                  </a:cubicBezTo>
                  <a:cubicBezTo>
                    <a:pt x="3885" y="13"/>
                    <a:pt x="3881" y="17"/>
                    <a:pt x="3877" y="17"/>
                  </a:cubicBezTo>
                  <a:lnTo>
                    <a:pt x="3877" y="17"/>
                  </a:lnTo>
                  <a:cubicBezTo>
                    <a:pt x="3872" y="17"/>
                    <a:pt x="3868" y="13"/>
                    <a:pt x="3868" y="9"/>
                  </a:cubicBezTo>
                  <a:cubicBezTo>
                    <a:pt x="3868" y="4"/>
                    <a:pt x="3872" y="0"/>
                    <a:pt x="3877" y="0"/>
                  </a:cubicBezTo>
                  <a:close/>
                  <a:moveTo>
                    <a:pt x="3910" y="0"/>
                  </a:moveTo>
                  <a:lnTo>
                    <a:pt x="3910" y="0"/>
                  </a:lnTo>
                  <a:cubicBezTo>
                    <a:pt x="3915" y="0"/>
                    <a:pt x="3918" y="4"/>
                    <a:pt x="3918" y="9"/>
                  </a:cubicBezTo>
                  <a:cubicBezTo>
                    <a:pt x="3918" y="13"/>
                    <a:pt x="3915" y="17"/>
                    <a:pt x="3910" y="17"/>
                  </a:cubicBezTo>
                  <a:lnTo>
                    <a:pt x="3910" y="17"/>
                  </a:lnTo>
                  <a:cubicBezTo>
                    <a:pt x="3905" y="17"/>
                    <a:pt x="3902" y="13"/>
                    <a:pt x="3902" y="9"/>
                  </a:cubicBezTo>
                  <a:cubicBezTo>
                    <a:pt x="3902" y="4"/>
                    <a:pt x="3905" y="0"/>
                    <a:pt x="3910" y="0"/>
                  </a:cubicBezTo>
                  <a:close/>
                  <a:moveTo>
                    <a:pt x="3943" y="0"/>
                  </a:moveTo>
                  <a:lnTo>
                    <a:pt x="3943" y="0"/>
                  </a:lnTo>
                  <a:cubicBezTo>
                    <a:pt x="3948" y="0"/>
                    <a:pt x="3952" y="4"/>
                    <a:pt x="3952" y="9"/>
                  </a:cubicBezTo>
                  <a:cubicBezTo>
                    <a:pt x="3952" y="13"/>
                    <a:pt x="3948" y="17"/>
                    <a:pt x="3943" y="17"/>
                  </a:cubicBezTo>
                  <a:lnTo>
                    <a:pt x="3943" y="17"/>
                  </a:lnTo>
                  <a:cubicBezTo>
                    <a:pt x="3939" y="17"/>
                    <a:pt x="3935" y="13"/>
                    <a:pt x="3935" y="9"/>
                  </a:cubicBezTo>
                  <a:cubicBezTo>
                    <a:pt x="3935" y="4"/>
                    <a:pt x="3939" y="0"/>
                    <a:pt x="3943" y="0"/>
                  </a:cubicBezTo>
                  <a:close/>
                  <a:moveTo>
                    <a:pt x="3977" y="0"/>
                  </a:moveTo>
                  <a:lnTo>
                    <a:pt x="3977" y="0"/>
                  </a:lnTo>
                  <a:cubicBezTo>
                    <a:pt x="3981" y="0"/>
                    <a:pt x="3985" y="4"/>
                    <a:pt x="3985" y="9"/>
                  </a:cubicBezTo>
                  <a:cubicBezTo>
                    <a:pt x="3985" y="13"/>
                    <a:pt x="3981" y="17"/>
                    <a:pt x="3977" y="17"/>
                  </a:cubicBezTo>
                  <a:lnTo>
                    <a:pt x="3977" y="17"/>
                  </a:lnTo>
                  <a:cubicBezTo>
                    <a:pt x="3972" y="17"/>
                    <a:pt x="3968" y="13"/>
                    <a:pt x="3968" y="9"/>
                  </a:cubicBezTo>
                  <a:cubicBezTo>
                    <a:pt x="3968" y="4"/>
                    <a:pt x="3972" y="0"/>
                    <a:pt x="3977" y="0"/>
                  </a:cubicBezTo>
                  <a:close/>
                  <a:moveTo>
                    <a:pt x="4010" y="0"/>
                  </a:moveTo>
                  <a:lnTo>
                    <a:pt x="4010" y="0"/>
                  </a:lnTo>
                  <a:cubicBezTo>
                    <a:pt x="4015" y="0"/>
                    <a:pt x="4018" y="4"/>
                    <a:pt x="4018" y="9"/>
                  </a:cubicBezTo>
                  <a:cubicBezTo>
                    <a:pt x="4018" y="13"/>
                    <a:pt x="4015" y="17"/>
                    <a:pt x="4010" y="17"/>
                  </a:cubicBezTo>
                  <a:lnTo>
                    <a:pt x="4010" y="17"/>
                  </a:lnTo>
                  <a:cubicBezTo>
                    <a:pt x="4005" y="17"/>
                    <a:pt x="4002" y="13"/>
                    <a:pt x="4002" y="9"/>
                  </a:cubicBezTo>
                  <a:cubicBezTo>
                    <a:pt x="4002" y="4"/>
                    <a:pt x="4005" y="0"/>
                    <a:pt x="4010" y="0"/>
                  </a:cubicBezTo>
                  <a:close/>
                  <a:moveTo>
                    <a:pt x="4043" y="0"/>
                  </a:moveTo>
                  <a:lnTo>
                    <a:pt x="4043" y="0"/>
                  </a:lnTo>
                  <a:cubicBezTo>
                    <a:pt x="4048" y="0"/>
                    <a:pt x="4052" y="4"/>
                    <a:pt x="4052" y="9"/>
                  </a:cubicBezTo>
                  <a:cubicBezTo>
                    <a:pt x="4052" y="13"/>
                    <a:pt x="4048" y="17"/>
                    <a:pt x="4043" y="17"/>
                  </a:cubicBezTo>
                  <a:lnTo>
                    <a:pt x="4043" y="17"/>
                  </a:lnTo>
                  <a:cubicBezTo>
                    <a:pt x="4039" y="17"/>
                    <a:pt x="4035" y="13"/>
                    <a:pt x="4035" y="9"/>
                  </a:cubicBezTo>
                  <a:cubicBezTo>
                    <a:pt x="4035" y="4"/>
                    <a:pt x="4039" y="0"/>
                    <a:pt x="4043" y="0"/>
                  </a:cubicBezTo>
                  <a:close/>
                  <a:moveTo>
                    <a:pt x="4077" y="0"/>
                  </a:moveTo>
                  <a:lnTo>
                    <a:pt x="4077" y="0"/>
                  </a:lnTo>
                  <a:cubicBezTo>
                    <a:pt x="4081" y="0"/>
                    <a:pt x="4085" y="4"/>
                    <a:pt x="4085" y="9"/>
                  </a:cubicBezTo>
                  <a:cubicBezTo>
                    <a:pt x="4085" y="13"/>
                    <a:pt x="4081" y="17"/>
                    <a:pt x="4077" y="17"/>
                  </a:cubicBezTo>
                  <a:lnTo>
                    <a:pt x="4077" y="17"/>
                  </a:lnTo>
                  <a:cubicBezTo>
                    <a:pt x="4072" y="17"/>
                    <a:pt x="4068" y="13"/>
                    <a:pt x="4068" y="9"/>
                  </a:cubicBezTo>
                  <a:cubicBezTo>
                    <a:pt x="4068" y="4"/>
                    <a:pt x="4072" y="0"/>
                    <a:pt x="4077" y="0"/>
                  </a:cubicBezTo>
                  <a:close/>
                  <a:moveTo>
                    <a:pt x="4110" y="0"/>
                  </a:moveTo>
                  <a:lnTo>
                    <a:pt x="4110" y="0"/>
                  </a:lnTo>
                  <a:cubicBezTo>
                    <a:pt x="4115" y="0"/>
                    <a:pt x="4118" y="4"/>
                    <a:pt x="4118" y="9"/>
                  </a:cubicBezTo>
                  <a:cubicBezTo>
                    <a:pt x="4118" y="13"/>
                    <a:pt x="4115" y="17"/>
                    <a:pt x="4110" y="17"/>
                  </a:cubicBezTo>
                  <a:lnTo>
                    <a:pt x="4110" y="17"/>
                  </a:lnTo>
                  <a:cubicBezTo>
                    <a:pt x="4105" y="17"/>
                    <a:pt x="4102" y="13"/>
                    <a:pt x="4102" y="9"/>
                  </a:cubicBezTo>
                  <a:cubicBezTo>
                    <a:pt x="4102" y="4"/>
                    <a:pt x="4105" y="0"/>
                    <a:pt x="4110" y="0"/>
                  </a:cubicBezTo>
                  <a:close/>
                  <a:moveTo>
                    <a:pt x="4143" y="0"/>
                  </a:moveTo>
                  <a:lnTo>
                    <a:pt x="4143" y="0"/>
                  </a:lnTo>
                  <a:cubicBezTo>
                    <a:pt x="4148" y="0"/>
                    <a:pt x="4152" y="4"/>
                    <a:pt x="4152" y="9"/>
                  </a:cubicBezTo>
                  <a:cubicBezTo>
                    <a:pt x="4152" y="13"/>
                    <a:pt x="4148" y="17"/>
                    <a:pt x="4143" y="17"/>
                  </a:cubicBezTo>
                  <a:lnTo>
                    <a:pt x="4143" y="17"/>
                  </a:lnTo>
                  <a:cubicBezTo>
                    <a:pt x="4139" y="17"/>
                    <a:pt x="4135" y="13"/>
                    <a:pt x="4135" y="9"/>
                  </a:cubicBezTo>
                  <a:cubicBezTo>
                    <a:pt x="4135" y="4"/>
                    <a:pt x="4139" y="0"/>
                    <a:pt x="4143" y="0"/>
                  </a:cubicBezTo>
                  <a:close/>
                  <a:moveTo>
                    <a:pt x="4177" y="0"/>
                  </a:moveTo>
                  <a:lnTo>
                    <a:pt x="4177" y="0"/>
                  </a:lnTo>
                  <a:cubicBezTo>
                    <a:pt x="4181" y="0"/>
                    <a:pt x="4185" y="4"/>
                    <a:pt x="4185" y="9"/>
                  </a:cubicBezTo>
                  <a:cubicBezTo>
                    <a:pt x="4185" y="13"/>
                    <a:pt x="4181" y="17"/>
                    <a:pt x="4177" y="17"/>
                  </a:cubicBezTo>
                  <a:lnTo>
                    <a:pt x="4177" y="17"/>
                  </a:lnTo>
                  <a:cubicBezTo>
                    <a:pt x="4172" y="17"/>
                    <a:pt x="4168" y="13"/>
                    <a:pt x="4168" y="9"/>
                  </a:cubicBezTo>
                  <a:cubicBezTo>
                    <a:pt x="4168" y="4"/>
                    <a:pt x="4172" y="0"/>
                    <a:pt x="4177" y="0"/>
                  </a:cubicBezTo>
                  <a:close/>
                  <a:moveTo>
                    <a:pt x="4210" y="0"/>
                  </a:moveTo>
                  <a:lnTo>
                    <a:pt x="4210" y="0"/>
                  </a:lnTo>
                  <a:cubicBezTo>
                    <a:pt x="4215" y="0"/>
                    <a:pt x="4218" y="4"/>
                    <a:pt x="4218" y="9"/>
                  </a:cubicBezTo>
                  <a:cubicBezTo>
                    <a:pt x="4218" y="13"/>
                    <a:pt x="4215" y="17"/>
                    <a:pt x="4210" y="17"/>
                  </a:cubicBezTo>
                  <a:lnTo>
                    <a:pt x="4210" y="17"/>
                  </a:lnTo>
                  <a:cubicBezTo>
                    <a:pt x="4205" y="17"/>
                    <a:pt x="4202" y="13"/>
                    <a:pt x="4202" y="9"/>
                  </a:cubicBezTo>
                  <a:cubicBezTo>
                    <a:pt x="4202" y="4"/>
                    <a:pt x="4205" y="0"/>
                    <a:pt x="4210" y="0"/>
                  </a:cubicBezTo>
                  <a:close/>
                  <a:moveTo>
                    <a:pt x="4243" y="0"/>
                  </a:moveTo>
                  <a:lnTo>
                    <a:pt x="4243" y="0"/>
                  </a:lnTo>
                  <a:cubicBezTo>
                    <a:pt x="4248" y="0"/>
                    <a:pt x="4252" y="4"/>
                    <a:pt x="4252" y="9"/>
                  </a:cubicBezTo>
                  <a:cubicBezTo>
                    <a:pt x="4252" y="13"/>
                    <a:pt x="4248" y="17"/>
                    <a:pt x="4243" y="17"/>
                  </a:cubicBezTo>
                  <a:lnTo>
                    <a:pt x="4243" y="17"/>
                  </a:lnTo>
                  <a:cubicBezTo>
                    <a:pt x="4239" y="17"/>
                    <a:pt x="4235" y="13"/>
                    <a:pt x="4235" y="9"/>
                  </a:cubicBezTo>
                  <a:cubicBezTo>
                    <a:pt x="4235" y="4"/>
                    <a:pt x="4239" y="0"/>
                    <a:pt x="4243" y="0"/>
                  </a:cubicBezTo>
                  <a:close/>
                  <a:moveTo>
                    <a:pt x="4277" y="0"/>
                  </a:moveTo>
                  <a:lnTo>
                    <a:pt x="4277" y="0"/>
                  </a:lnTo>
                  <a:cubicBezTo>
                    <a:pt x="4281" y="0"/>
                    <a:pt x="4285" y="4"/>
                    <a:pt x="4285" y="9"/>
                  </a:cubicBezTo>
                  <a:cubicBezTo>
                    <a:pt x="4285" y="13"/>
                    <a:pt x="4281" y="17"/>
                    <a:pt x="4277" y="17"/>
                  </a:cubicBezTo>
                  <a:lnTo>
                    <a:pt x="4277" y="17"/>
                  </a:lnTo>
                  <a:cubicBezTo>
                    <a:pt x="4272" y="17"/>
                    <a:pt x="4268" y="13"/>
                    <a:pt x="4268" y="9"/>
                  </a:cubicBezTo>
                  <a:cubicBezTo>
                    <a:pt x="4268" y="4"/>
                    <a:pt x="4272" y="0"/>
                    <a:pt x="4277" y="0"/>
                  </a:cubicBezTo>
                  <a:close/>
                  <a:moveTo>
                    <a:pt x="4310" y="0"/>
                  </a:moveTo>
                  <a:lnTo>
                    <a:pt x="4310" y="0"/>
                  </a:lnTo>
                  <a:cubicBezTo>
                    <a:pt x="4315" y="0"/>
                    <a:pt x="4318" y="4"/>
                    <a:pt x="4318" y="9"/>
                  </a:cubicBezTo>
                  <a:cubicBezTo>
                    <a:pt x="4318" y="13"/>
                    <a:pt x="4315" y="17"/>
                    <a:pt x="4310" y="17"/>
                  </a:cubicBezTo>
                  <a:lnTo>
                    <a:pt x="4310" y="17"/>
                  </a:lnTo>
                  <a:cubicBezTo>
                    <a:pt x="4306" y="17"/>
                    <a:pt x="4302" y="13"/>
                    <a:pt x="4302" y="9"/>
                  </a:cubicBezTo>
                  <a:cubicBezTo>
                    <a:pt x="4302" y="4"/>
                    <a:pt x="4306" y="0"/>
                    <a:pt x="4310" y="0"/>
                  </a:cubicBezTo>
                  <a:close/>
                  <a:moveTo>
                    <a:pt x="4344" y="0"/>
                  </a:moveTo>
                  <a:lnTo>
                    <a:pt x="4344" y="0"/>
                  </a:lnTo>
                  <a:cubicBezTo>
                    <a:pt x="4348" y="0"/>
                    <a:pt x="4352" y="4"/>
                    <a:pt x="4352" y="9"/>
                  </a:cubicBezTo>
                  <a:cubicBezTo>
                    <a:pt x="4352" y="13"/>
                    <a:pt x="4348" y="17"/>
                    <a:pt x="4344" y="17"/>
                  </a:cubicBezTo>
                  <a:lnTo>
                    <a:pt x="4344" y="17"/>
                  </a:lnTo>
                  <a:cubicBezTo>
                    <a:pt x="4339" y="17"/>
                    <a:pt x="4335" y="13"/>
                    <a:pt x="4335" y="9"/>
                  </a:cubicBezTo>
                  <a:cubicBezTo>
                    <a:pt x="4335" y="4"/>
                    <a:pt x="4339" y="0"/>
                    <a:pt x="4344" y="0"/>
                  </a:cubicBezTo>
                  <a:close/>
                  <a:moveTo>
                    <a:pt x="4377" y="0"/>
                  </a:moveTo>
                  <a:lnTo>
                    <a:pt x="4377" y="0"/>
                  </a:lnTo>
                  <a:cubicBezTo>
                    <a:pt x="4381" y="0"/>
                    <a:pt x="4385" y="4"/>
                    <a:pt x="4385" y="9"/>
                  </a:cubicBezTo>
                  <a:cubicBezTo>
                    <a:pt x="4385" y="13"/>
                    <a:pt x="4381" y="17"/>
                    <a:pt x="4377" y="17"/>
                  </a:cubicBezTo>
                  <a:lnTo>
                    <a:pt x="4377" y="17"/>
                  </a:lnTo>
                  <a:cubicBezTo>
                    <a:pt x="4372" y="17"/>
                    <a:pt x="4369" y="13"/>
                    <a:pt x="4369" y="9"/>
                  </a:cubicBezTo>
                  <a:cubicBezTo>
                    <a:pt x="4369" y="4"/>
                    <a:pt x="4372" y="0"/>
                    <a:pt x="4377" y="0"/>
                  </a:cubicBezTo>
                  <a:close/>
                  <a:moveTo>
                    <a:pt x="4410" y="0"/>
                  </a:moveTo>
                  <a:lnTo>
                    <a:pt x="4410" y="0"/>
                  </a:lnTo>
                  <a:cubicBezTo>
                    <a:pt x="4415" y="0"/>
                    <a:pt x="4419" y="4"/>
                    <a:pt x="4419" y="9"/>
                  </a:cubicBezTo>
                  <a:cubicBezTo>
                    <a:pt x="4419" y="13"/>
                    <a:pt x="4415" y="17"/>
                    <a:pt x="4410" y="17"/>
                  </a:cubicBezTo>
                  <a:lnTo>
                    <a:pt x="4410" y="17"/>
                  </a:lnTo>
                  <a:cubicBezTo>
                    <a:pt x="4406" y="17"/>
                    <a:pt x="4402" y="13"/>
                    <a:pt x="4402" y="9"/>
                  </a:cubicBezTo>
                  <a:cubicBezTo>
                    <a:pt x="4402" y="4"/>
                    <a:pt x="4406" y="0"/>
                    <a:pt x="4410" y="0"/>
                  </a:cubicBezTo>
                  <a:close/>
                  <a:moveTo>
                    <a:pt x="4444" y="0"/>
                  </a:moveTo>
                  <a:lnTo>
                    <a:pt x="4444" y="0"/>
                  </a:lnTo>
                  <a:cubicBezTo>
                    <a:pt x="4448" y="0"/>
                    <a:pt x="4452" y="4"/>
                    <a:pt x="4452" y="9"/>
                  </a:cubicBezTo>
                  <a:cubicBezTo>
                    <a:pt x="4452" y="13"/>
                    <a:pt x="4448" y="17"/>
                    <a:pt x="4444" y="17"/>
                  </a:cubicBezTo>
                  <a:lnTo>
                    <a:pt x="4444" y="17"/>
                  </a:lnTo>
                  <a:cubicBezTo>
                    <a:pt x="4439" y="17"/>
                    <a:pt x="4435" y="13"/>
                    <a:pt x="4435" y="9"/>
                  </a:cubicBezTo>
                  <a:cubicBezTo>
                    <a:pt x="4435" y="4"/>
                    <a:pt x="4439" y="0"/>
                    <a:pt x="4444" y="0"/>
                  </a:cubicBezTo>
                  <a:close/>
                  <a:moveTo>
                    <a:pt x="4477" y="0"/>
                  </a:moveTo>
                  <a:lnTo>
                    <a:pt x="4477" y="0"/>
                  </a:lnTo>
                  <a:cubicBezTo>
                    <a:pt x="4482" y="0"/>
                    <a:pt x="4485" y="4"/>
                    <a:pt x="4485" y="9"/>
                  </a:cubicBezTo>
                  <a:cubicBezTo>
                    <a:pt x="4485" y="13"/>
                    <a:pt x="4482" y="17"/>
                    <a:pt x="4477" y="17"/>
                  </a:cubicBezTo>
                  <a:lnTo>
                    <a:pt x="4477" y="17"/>
                  </a:lnTo>
                  <a:cubicBezTo>
                    <a:pt x="4472" y="17"/>
                    <a:pt x="4469" y="13"/>
                    <a:pt x="4469" y="9"/>
                  </a:cubicBezTo>
                  <a:cubicBezTo>
                    <a:pt x="4469" y="4"/>
                    <a:pt x="4472" y="0"/>
                    <a:pt x="4477" y="0"/>
                  </a:cubicBezTo>
                  <a:close/>
                  <a:moveTo>
                    <a:pt x="4510" y="0"/>
                  </a:moveTo>
                  <a:lnTo>
                    <a:pt x="4510" y="0"/>
                  </a:lnTo>
                  <a:cubicBezTo>
                    <a:pt x="4515" y="0"/>
                    <a:pt x="4519" y="4"/>
                    <a:pt x="4519" y="9"/>
                  </a:cubicBezTo>
                  <a:cubicBezTo>
                    <a:pt x="4519" y="13"/>
                    <a:pt x="4515" y="17"/>
                    <a:pt x="4510" y="17"/>
                  </a:cubicBezTo>
                  <a:lnTo>
                    <a:pt x="4510" y="17"/>
                  </a:lnTo>
                  <a:cubicBezTo>
                    <a:pt x="4506" y="17"/>
                    <a:pt x="4502" y="13"/>
                    <a:pt x="4502" y="9"/>
                  </a:cubicBezTo>
                  <a:cubicBezTo>
                    <a:pt x="4502" y="4"/>
                    <a:pt x="4506" y="0"/>
                    <a:pt x="4510" y="0"/>
                  </a:cubicBezTo>
                  <a:close/>
                  <a:moveTo>
                    <a:pt x="4544" y="0"/>
                  </a:moveTo>
                  <a:lnTo>
                    <a:pt x="4544" y="0"/>
                  </a:lnTo>
                  <a:cubicBezTo>
                    <a:pt x="4548" y="0"/>
                    <a:pt x="4552" y="4"/>
                    <a:pt x="4552" y="9"/>
                  </a:cubicBezTo>
                  <a:cubicBezTo>
                    <a:pt x="4552" y="13"/>
                    <a:pt x="4548" y="17"/>
                    <a:pt x="4544" y="17"/>
                  </a:cubicBezTo>
                  <a:lnTo>
                    <a:pt x="4544" y="17"/>
                  </a:lnTo>
                  <a:cubicBezTo>
                    <a:pt x="4539" y="17"/>
                    <a:pt x="4535" y="13"/>
                    <a:pt x="4535" y="9"/>
                  </a:cubicBezTo>
                  <a:cubicBezTo>
                    <a:pt x="4535" y="4"/>
                    <a:pt x="4539" y="0"/>
                    <a:pt x="4544" y="0"/>
                  </a:cubicBezTo>
                  <a:close/>
                  <a:moveTo>
                    <a:pt x="4577" y="0"/>
                  </a:moveTo>
                  <a:lnTo>
                    <a:pt x="4577" y="0"/>
                  </a:lnTo>
                  <a:cubicBezTo>
                    <a:pt x="4582" y="0"/>
                    <a:pt x="4585" y="4"/>
                    <a:pt x="4585" y="9"/>
                  </a:cubicBezTo>
                  <a:cubicBezTo>
                    <a:pt x="4585" y="13"/>
                    <a:pt x="4582" y="17"/>
                    <a:pt x="4577" y="17"/>
                  </a:cubicBezTo>
                  <a:lnTo>
                    <a:pt x="4577" y="17"/>
                  </a:lnTo>
                  <a:cubicBezTo>
                    <a:pt x="4572" y="17"/>
                    <a:pt x="4569" y="13"/>
                    <a:pt x="4569" y="9"/>
                  </a:cubicBezTo>
                  <a:cubicBezTo>
                    <a:pt x="4569" y="4"/>
                    <a:pt x="4572" y="0"/>
                    <a:pt x="4577" y="0"/>
                  </a:cubicBezTo>
                  <a:close/>
                  <a:moveTo>
                    <a:pt x="4610" y="0"/>
                  </a:moveTo>
                  <a:lnTo>
                    <a:pt x="4610" y="0"/>
                  </a:lnTo>
                  <a:cubicBezTo>
                    <a:pt x="4615" y="0"/>
                    <a:pt x="4619" y="4"/>
                    <a:pt x="4619" y="9"/>
                  </a:cubicBezTo>
                  <a:cubicBezTo>
                    <a:pt x="4619" y="13"/>
                    <a:pt x="4615" y="17"/>
                    <a:pt x="4610" y="17"/>
                  </a:cubicBezTo>
                  <a:lnTo>
                    <a:pt x="4610" y="17"/>
                  </a:lnTo>
                  <a:cubicBezTo>
                    <a:pt x="4606" y="17"/>
                    <a:pt x="4602" y="13"/>
                    <a:pt x="4602" y="9"/>
                  </a:cubicBezTo>
                  <a:cubicBezTo>
                    <a:pt x="4602" y="4"/>
                    <a:pt x="4606" y="0"/>
                    <a:pt x="4610" y="0"/>
                  </a:cubicBezTo>
                  <a:close/>
                  <a:moveTo>
                    <a:pt x="4644" y="0"/>
                  </a:moveTo>
                  <a:lnTo>
                    <a:pt x="4644" y="0"/>
                  </a:lnTo>
                  <a:cubicBezTo>
                    <a:pt x="4648" y="0"/>
                    <a:pt x="4652" y="4"/>
                    <a:pt x="4652" y="9"/>
                  </a:cubicBezTo>
                  <a:cubicBezTo>
                    <a:pt x="4652" y="13"/>
                    <a:pt x="4648" y="17"/>
                    <a:pt x="4644" y="17"/>
                  </a:cubicBezTo>
                  <a:lnTo>
                    <a:pt x="4644" y="17"/>
                  </a:lnTo>
                  <a:cubicBezTo>
                    <a:pt x="4639" y="17"/>
                    <a:pt x="4635" y="13"/>
                    <a:pt x="4635" y="9"/>
                  </a:cubicBezTo>
                  <a:cubicBezTo>
                    <a:pt x="4635" y="4"/>
                    <a:pt x="4639" y="0"/>
                    <a:pt x="4644" y="0"/>
                  </a:cubicBezTo>
                  <a:close/>
                  <a:moveTo>
                    <a:pt x="4677" y="0"/>
                  </a:moveTo>
                  <a:lnTo>
                    <a:pt x="4677" y="0"/>
                  </a:lnTo>
                  <a:cubicBezTo>
                    <a:pt x="4682" y="0"/>
                    <a:pt x="4685" y="4"/>
                    <a:pt x="4685" y="9"/>
                  </a:cubicBezTo>
                  <a:cubicBezTo>
                    <a:pt x="4685" y="13"/>
                    <a:pt x="4682" y="17"/>
                    <a:pt x="4677" y="17"/>
                  </a:cubicBezTo>
                  <a:lnTo>
                    <a:pt x="4677" y="17"/>
                  </a:lnTo>
                  <a:cubicBezTo>
                    <a:pt x="4672" y="17"/>
                    <a:pt x="4669" y="13"/>
                    <a:pt x="4669" y="9"/>
                  </a:cubicBezTo>
                  <a:cubicBezTo>
                    <a:pt x="4669" y="4"/>
                    <a:pt x="4672" y="0"/>
                    <a:pt x="4677" y="0"/>
                  </a:cubicBezTo>
                  <a:close/>
                  <a:moveTo>
                    <a:pt x="4710" y="0"/>
                  </a:moveTo>
                  <a:lnTo>
                    <a:pt x="4710" y="0"/>
                  </a:lnTo>
                  <a:cubicBezTo>
                    <a:pt x="4715" y="0"/>
                    <a:pt x="4719" y="4"/>
                    <a:pt x="4719" y="9"/>
                  </a:cubicBezTo>
                  <a:cubicBezTo>
                    <a:pt x="4719" y="13"/>
                    <a:pt x="4715" y="17"/>
                    <a:pt x="4710" y="17"/>
                  </a:cubicBezTo>
                  <a:lnTo>
                    <a:pt x="4710" y="17"/>
                  </a:lnTo>
                  <a:cubicBezTo>
                    <a:pt x="4706" y="17"/>
                    <a:pt x="4702" y="13"/>
                    <a:pt x="4702" y="9"/>
                  </a:cubicBezTo>
                  <a:cubicBezTo>
                    <a:pt x="4702" y="4"/>
                    <a:pt x="4706" y="0"/>
                    <a:pt x="4710" y="0"/>
                  </a:cubicBezTo>
                  <a:close/>
                  <a:moveTo>
                    <a:pt x="4744" y="0"/>
                  </a:moveTo>
                  <a:lnTo>
                    <a:pt x="4744" y="0"/>
                  </a:lnTo>
                  <a:cubicBezTo>
                    <a:pt x="4748" y="0"/>
                    <a:pt x="4752" y="4"/>
                    <a:pt x="4752" y="9"/>
                  </a:cubicBezTo>
                  <a:cubicBezTo>
                    <a:pt x="4752" y="13"/>
                    <a:pt x="4748" y="17"/>
                    <a:pt x="4744" y="17"/>
                  </a:cubicBezTo>
                  <a:lnTo>
                    <a:pt x="4744" y="17"/>
                  </a:lnTo>
                  <a:cubicBezTo>
                    <a:pt x="4739" y="17"/>
                    <a:pt x="4735" y="13"/>
                    <a:pt x="4735" y="9"/>
                  </a:cubicBezTo>
                  <a:cubicBezTo>
                    <a:pt x="4735" y="4"/>
                    <a:pt x="4739" y="0"/>
                    <a:pt x="4744" y="0"/>
                  </a:cubicBezTo>
                  <a:close/>
                  <a:moveTo>
                    <a:pt x="4777" y="0"/>
                  </a:moveTo>
                  <a:lnTo>
                    <a:pt x="4777" y="0"/>
                  </a:lnTo>
                  <a:cubicBezTo>
                    <a:pt x="4782" y="0"/>
                    <a:pt x="4785" y="4"/>
                    <a:pt x="4785" y="9"/>
                  </a:cubicBezTo>
                  <a:cubicBezTo>
                    <a:pt x="4785" y="13"/>
                    <a:pt x="4782" y="17"/>
                    <a:pt x="4777" y="17"/>
                  </a:cubicBezTo>
                  <a:lnTo>
                    <a:pt x="4777" y="17"/>
                  </a:lnTo>
                  <a:cubicBezTo>
                    <a:pt x="4772" y="17"/>
                    <a:pt x="4769" y="13"/>
                    <a:pt x="4769" y="9"/>
                  </a:cubicBezTo>
                  <a:cubicBezTo>
                    <a:pt x="4769" y="4"/>
                    <a:pt x="4772" y="0"/>
                    <a:pt x="4777" y="0"/>
                  </a:cubicBezTo>
                  <a:close/>
                  <a:moveTo>
                    <a:pt x="4810" y="0"/>
                  </a:moveTo>
                  <a:lnTo>
                    <a:pt x="4810" y="0"/>
                  </a:lnTo>
                  <a:cubicBezTo>
                    <a:pt x="4815" y="0"/>
                    <a:pt x="4819" y="4"/>
                    <a:pt x="4819" y="9"/>
                  </a:cubicBezTo>
                  <a:cubicBezTo>
                    <a:pt x="4819" y="13"/>
                    <a:pt x="4815" y="17"/>
                    <a:pt x="4810" y="17"/>
                  </a:cubicBezTo>
                  <a:lnTo>
                    <a:pt x="4810" y="17"/>
                  </a:lnTo>
                  <a:cubicBezTo>
                    <a:pt x="4806" y="17"/>
                    <a:pt x="4802" y="13"/>
                    <a:pt x="4802" y="9"/>
                  </a:cubicBezTo>
                  <a:cubicBezTo>
                    <a:pt x="4802" y="4"/>
                    <a:pt x="4806" y="0"/>
                    <a:pt x="4810" y="0"/>
                  </a:cubicBezTo>
                  <a:close/>
                  <a:moveTo>
                    <a:pt x="4844" y="0"/>
                  </a:moveTo>
                  <a:lnTo>
                    <a:pt x="4844" y="0"/>
                  </a:lnTo>
                  <a:cubicBezTo>
                    <a:pt x="4848" y="0"/>
                    <a:pt x="4852" y="4"/>
                    <a:pt x="4852" y="9"/>
                  </a:cubicBezTo>
                  <a:cubicBezTo>
                    <a:pt x="4852" y="13"/>
                    <a:pt x="4848" y="17"/>
                    <a:pt x="4844" y="17"/>
                  </a:cubicBezTo>
                  <a:lnTo>
                    <a:pt x="4844" y="17"/>
                  </a:lnTo>
                  <a:cubicBezTo>
                    <a:pt x="4839" y="17"/>
                    <a:pt x="4835" y="13"/>
                    <a:pt x="4835" y="9"/>
                  </a:cubicBezTo>
                  <a:cubicBezTo>
                    <a:pt x="4835" y="4"/>
                    <a:pt x="4839" y="0"/>
                    <a:pt x="4844" y="0"/>
                  </a:cubicBezTo>
                  <a:close/>
                  <a:moveTo>
                    <a:pt x="4877" y="0"/>
                  </a:moveTo>
                  <a:lnTo>
                    <a:pt x="4877" y="0"/>
                  </a:lnTo>
                  <a:cubicBezTo>
                    <a:pt x="4882" y="0"/>
                    <a:pt x="4885" y="4"/>
                    <a:pt x="4885" y="9"/>
                  </a:cubicBezTo>
                  <a:cubicBezTo>
                    <a:pt x="4885" y="13"/>
                    <a:pt x="4882" y="17"/>
                    <a:pt x="4877" y="17"/>
                  </a:cubicBezTo>
                  <a:lnTo>
                    <a:pt x="4877" y="17"/>
                  </a:lnTo>
                  <a:cubicBezTo>
                    <a:pt x="4872" y="17"/>
                    <a:pt x="4869" y="13"/>
                    <a:pt x="4869" y="9"/>
                  </a:cubicBezTo>
                  <a:cubicBezTo>
                    <a:pt x="4869" y="4"/>
                    <a:pt x="4872" y="0"/>
                    <a:pt x="4877" y="0"/>
                  </a:cubicBezTo>
                  <a:close/>
                  <a:moveTo>
                    <a:pt x="4910" y="0"/>
                  </a:moveTo>
                  <a:lnTo>
                    <a:pt x="4910" y="0"/>
                  </a:lnTo>
                  <a:cubicBezTo>
                    <a:pt x="4915" y="0"/>
                    <a:pt x="4919" y="4"/>
                    <a:pt x="4919" y="9"/>
                  </a:cubicBezTo>
                  <a:cubicBezTo>
                    <a:pt x="4919" y="13"/>
                    <a:pt x="4915" y="17"/>
                    <a:pt x="4910" y="17"/>
                  </a:cubicBezTo>
                  <a:lnTo>
                    <a:pt x="4910" y="17"/>
                  </a:lnTo>
                  <a:cubicBezTo>
                    <a:pt x="4906" y="17"/>
                    <a:pt x="4902" y="13"/>
                    <a:pt x="4902" y="9"/>
                  </a:cubicBezTo>
                  <a:cubicBezTo>
                    <a:pt x="4902" y="4"/>
                    <a:pt x="4906" y="0"/>
                    <a:pt x="4910" y="0"/>
                  </a:cubicBezTo>
                  <a:close/>
                  <a:moveTo>
                    <a:pt x="4944" y="0"/>
                  </a:moveTo>
                  <a:lnTo>
                    <a:pt x="4944" y="0"/>
                  </a:lnTo>
                  <a:cubicBezTo>
                    <a:pt x="4948" y="0"/>
                    <a:pt x="4952" y="4"/>
                    <a:pt x="4952" y="9"/>
                  </a:cubicBezTo>
                  <a:cubicBezTo>
                    <a:pt x="4952" y="13"/>
                    <a:pt x="4948" y="17"/>
                    <a:pt x="4944" y="17"/>
                  </a:cubicBezTo>
                  <a:lnTo>
                    <a:pt x="4944" y="17"/>
                  </a:lnTo>
                  <a:cubicBezTo>
                    <a:pt x="4939" y="17"/>
                    <a:pt x="4935" y="13"/>
                    <a:pt x="4935" y="9"/>
                  </a:cubicBezTo>
                  <a:cubicBezTo>
                    <a:pt x="4935" y="4"/>
                    <a:pt x="4939" y="0"/>
                    <a:pt x="4944" y="0"/>
                  </a:cubicBezTo>
                  <a:close/>
                  <a:moveTo>
                    <a:pt x="4977" y="0"/>
                  </a:moveTo>
                  <a:lnTo>
                    <a:pt x="4977" y="0"/>
                  </a:lnTo>
                  <a:cubicBezTo>
                    <a:pt x="4982" y="0"/>
                    <a:pt x="4985" y="4"/>
                    <a:pt x="4985" y="9"/>
                  </a:cubicBezTo>
                  <a:cubicBezTo>
                    <a:pt x="4985" y="13"/>
                    <a:pt x="4982" y="17"/>
                    <a:pt x="4977" y="17"/>
                  </a:cubicBezTo>
                  <a:lnTo>
                    <a:pt x="4977" y="17"/>
                  </a:lnTo>
                  <a:cubicBezTo>
                    <a:pt x="4973" y="17"/>
                    <a:pt x="4969" y="13"/>
                    <a:pt x="4969" y="9"/>
                  </a:cubicBezTo>
                  <a:cubicBezTo>
                    <a:pt x="4969" y="4"/>
                    <a:pt x="4973" y="0"/>
                    <a:pt x="4977" y="0"/>
                  </a:cubicBezTo>
                  <a:close/>
                  <a:moveTo>
                    <a:pt x="5010" y="0"/>
                  </a:moveTo>
                  <a:lnTo>
                    <a:pt x="5011" y="0"/>
                  </a:lnTo>
                  <a:cubicBezTo>
                    <a:pt x="5015" y="0"/>
                    <a:pt x="5019" y="4"/>
                    <a:pt x="5019" y="9"/>
                  </a:cubicBezTo>
                  <a:cubicBezTo>
                    <a:pt x="5019" y="13"/>
                    <a:pt x="5015" y="17"/>
                    <a:pt x="5011" y="17"/>
                  </a:cubicBezTo>
                  <a:lnTo>
                    <a:pt x="5010" y="17"/>
                  </a:lnTo>
                  <a:cubicBezTo>
                    <a:pt x="5006" y="17"/>
                    <a:pt x="5002" y="13"/>
                    <a:pt x="5002" y="9"/>
                  </a:cubicBezTo>
                  <a:cubicBezTo>
                    <a:pt x="5002" y="4"/>
                    <a:pt x="5006" y="0"/>
                    <a:pt x="5010" y="0"/>
                  </a:cubicBezTo>
                  <a:close/>
                  <a:moveTo>
                    <a:pt x="5044" y="0"/>
                  </a:moveTo>
                  <a:lnTo>
                    <a:pt x="5044" y="0"/>
                  </a:lnTo>
                  <a:cubicBezTo>
                    <a:pt x="5048" y="0"/>
                    <a:pt x="5052" y="4"/>
                    <a:pt x="5052" y="9"/>
                  </a:cubicBezTo>
                  <a:cubicBezTo>
                    <a:pt x="5052" y="13"/>
                    <a:pt x="5048" y="17"/>
                    <a:pt x="5044" y="17"/>
                  </a:cubicBezTo>
                  <a:lnTo>
                    <a:pt x="5044" y="17"/>
                  </a:lnTo>
                  <a:cubicBezTo>
                    <a:pt x="5039" y="17"/>
                    <a:pt x="5036" y="13"/>
                    <a:pt x="5036" y="9"/>
                  </a:cubicBezTo>
                  <a:cubicBezTo>
                    <a:pt x="5036" y="4"/>
                    <a:pt x="5039" y="0"/>
                    <a:pt x="5044" y="0"/>
                  </a:cubicBezTo>
                  <a:close/>
                  <a:moveTo>
                    <a:pt x="5077" y="0"/>
                  </a:moveTo>
                  <a:lnTo>
                    <a:pt x="5077" y="0"/>
                  </a:lnTo>
                  <a:cubicBezTo>
                    <a:pt x="5082" y="0"/>
                    <a:pt x="5086" y="4"/>
                    <a:pt x="5086" y="9"/>
                  </a:cubicBezTo>
                  <a:cubicBezTo>
                    <a:pt x="5086" y="13"/>
                    <a:pt x="5082" y="17"/>
                    <a:pt x="5077" y="17"/>
                  </a:cubicBezTo>
                  <a:lnTo>
                    <a:pt x="5077" y="17"/>
                  </a:lnTo>
                  <a:cubicBezTo>
                    <a:pt x="5073" y="17"/>
                    <a:pt x="5069" y="13"/>
                    <a:pt x="5069" y="9"/>
                  </a:cubicBezTo>
                  <a:cubicBezTo>
                    <a:pt x="5069" y="4"/>
                    <a:pt x="5073" y="0"/>
                    <a:pt x="5077" y="0"/>
                  </a:cubicBezTo>
                  <a:close/>
                  <a:moveTo>
                    <a:pt x="5111" y="0"/>
                  </a:moveTo>
                  <a:lnTo>
                    <a:pt x="5111" y="0"/>
                  </a:lnTo>
                  <a:cubicBezTo>
                    <a:pt x="5115" y="0"/>
                    <a:pt x="5119" y="4"/>
                    <a:pt x="5119" y="9"/>
                  </a:cubicBezTo>
                  <a:cubicBezTo>
                    <a:pt x="5119" y="13"/>
                    <a:pt x="5115" y="17"/>
                    <a:pt x="5111" y="17"/>
                  </a:cubicBezTo>
                  <a:lnTo>
                    <a:pt x="5111" y="17"/>
                  </a:lnTo>
                  <a:cubicBezTo>
                    <a:pt x="5106" y="17"/>
                    <a:pt x="5102" y="13"/>
                    <a:pt x="5102" y="9"/>
                  </a:cubicBezTo>
                  <a:cubicBezTo>
                    <a:pt x="5102" y="4"/>
                    <a:pt x="5106" y="0"/>
                    <a:pt x="5111" y="0"/>
                  </a:cubicBezTo>
                  <a:close/>
                  <a:moveTo>
                    <a:pt x="5144" y="0"/>
                  </a:moveTo>
                  <a:lnTo>
                    <a:pt x="5144" y="0"/>
                  </a:lnTo>
                  <a:cubicBezTo>
                    <a:pt x="5149" y="0"/>
                    <a:pt x="5152" y="4"/>
                    <a:pt x="5152" y="9"/>
                  </a:cubicBezTo>
                  <a:cubicBezTo>
                    <a:pt x="5152" y="13"/>
                    <a:pt x="5149" y="17"/>
                    <a:pt x="5144" y="17"/>
                  </a:cubicBezTo>
                  <a:lnTo>
                    <a:pt x="5144" y="17"/>
                  </a:lnTo>
                  <a:cubicBezTo>
                    <a:pt x="5139" y="17"/>
                    <a:pt x="5136" y="13"/>
                    <a:pt x="5136" y="9"/>
                  </a:cubicBezTo>
                  <a:cubicBezTo>
                    <a:pt x="5136" y="4"/>
                    <a:pt x="5139" y="0"/>
                    <a:pt x="5144" y="0"/>
                  </a:cubicBezTo>
                  <a:close/>
                  <a:moveTo>
                    <a:pt x="5177" y="0"/>
                  </a:moveTo>
                  <a:lnTo>
                    <a:pt x="5177" y="0"/>
                  </a:lnTo>
                  <a:cubicBezTo>
                    <a:pt x="5182" y="0"/>
                    <a:pt x="5186" y="4"/>
                    <a:pt x="5186" y="9"/>
                  </a:cubicBezTo>
                  <a:cubicBezTo>
                    <a:pt x="5186" y="13"/>
                    <a:pt x="5182" y="17"/>
                    <a:pt x="5177" y="17"/>
                  </a:cubicBezTo>
                  <a:lnTo>
                    <a:pt x="5177" y="17"/>
                  </a:lnTo>
                  <a:cubicBezTo>
                    <a:pt x="5173" y="17"/>
                    <a:pt x="5169" y="13"/>
                    <a:pt x="5169" y="9"/>
                  </a:cubicBezTo>
                  <a:cubicBezTo>
                    <a:pt x="5169" y="4"/>
                    <a:pt x="5173" y="0"/>
                    <a:pt x="5177" y="0"/>
                  </a:cubicBezTo>
                  <a:close/>
                  <a:moveTo>
                    <a:pt x="5211" y="0"/>
                  </a:moveTo>
                  <a:lnTo>
                    <a:pt x="5211" y="0"/>
                  </a:lnTo>
                  <a:cubicBezTo>
                    <a:pt x="5215" y="0"/>
                    <a:pt x="5219" y="4"/>
                    <a:pt x="5219" y="9"/>
                  </a:cubicBezTo>
                  <a:cubicBezTo>
                    <a:pt x="5219" y="13"/>
                    <a:pt x="5215" y="17"/>
                    <a:pt x="5211" y="17"/>
                  </a:cubicBezTo>
                  <a:lnTo>
                    <a:pt x="5211" y="17"/>
                  </a:lnTo>
                  <a:cubicBezTo>
                    <a:pt x="5206" y="17"/>
                    <a:pt x="5202" y="13"/>
                    <a:pt x="5202" y="9"/>
                  </a:cubicBezTo>
                  <a:cubicBezTo>
                    <a:pt x="5202" y="4"/>
                    <a:pt x="5206" y="0"/>
                    <a:pt x="5211" y="0"/>
                  </a:cubicBezTo>
                  <a:close/>
                  <a:moveTo>
                    <a:pt x="5244" y="0"/>
                  </a:moveTo>
                  <a:lnTo>
                    <a:pt x="5244" y="0"/>
                  </a:lnTo>
                  <a:cubicBezTo>
                    <a:pt x="5249" y="0"/>
                    <a:pt x="5252" y="4"/>
                    <a:pt x="5252" y="9"/>
                  </a:cubicBezTo>
                  <a:cubicBezTo>
                    <a:pt x="5252" y="13"/>
                    <a:pt x="5249" y="17"/>
                    <a:pt x="5244" y="17"/>
                  </a:cubicBezTo>
                  <a:lnTo>
                    <a:pt x="5244" y="17"/>
                  </a:lnTo>
                  <a:cubicBezTo>
                    <a:pt x="5239" y="17"/>
                    <a:pt x="5236" y="13"/>
                    <a:pt x="5236" y="9"/>
                  </a:cubicBezTo>
                  <a:cubicBezTo>
                    <a:pt x="5236" y="4"/>
                    <a:pt x="5239" y="0"/>
                    <a:pt x="5244" y="0"/>
                  </a:cubicBezTo>
                  <a:close/>
                  <a:moveTo>
                    <a:pt x="5277" y="0"/>
                  </a:moveTo>
                  <a:lnTo>
                    <a:pt x="5277" y="0"/>
                  </a:lnTo>
                  <a:cubicBezTo>
                    <a:pt x="5282" y="0"/>
                    <a:pt x="5286" y="4"/>
                    <a:pt x="5286" y="9"/>
                  </a:cubicBezTo>
                  <a:cubicBezTo>
                    <a:pt x="5286" y="13"/>
                    <a:pt x="5282" y="17"/>
                    <a:pt x="5277" y="17"/>
                  </a:cubicBezTo>
                  <a:lnTo>
                    <a:pt x="5277" y="17"/>
                  </a:lnTo>
                  <a:cubicBezTo>
                    <a:pt x="5273" y="17"/>
                    <a:pt x="5269" y="13"/>
                    <a:pt x="5269" y="9"/>
                  </a:cubicBezTo>
                  <a:cubicBezTo>
                    <a:pt x="5269" y="4"/>
                    <a:pt x="5273" y="0"/>
                    <a:pt x="5277" y="0"/>
                  </a:cubicBezTo>
                  <a:close/>
                  <a:moveTo>
                    <a:pt x="5311" y="0"/>
                  </a:moveTo>
                  <a:lnTo>
                    <a:pt x="5311" y="0"/>
                  </a:lnTo>
                  <a:cubicBezTo>
                    <a:pt x="5315" y="0"/>
                    <a:pt x="5319" y="4"/>
                    <a:pt x="5319" y="9"/>
                  </a:cubicBezTo>
                  <a:cubicBezTo>
                    <a:pt x="5319" y="13"/>
                    <a:pt x="5315" y="17"/>
                    <a:pt x="5311" y="17"/>
                  </a:cubicBezTo>
                  <a:lnTo>
                    <a:pt x="5311" y="17"/>
                  </a:lnTo>
                  <a:cubicBezTo>
                    <a:pt x="5306" y="17"/>
                    <a:pt x="5302" y="13"/>
                    <a:pt x="5302" y="9"/>
                  </a:cubicBezTo>
                  <a:cubicBezTo>
                    <a:pt x="5302" y="4"/>
                    <a:pt x="5306" y="0"/>
                    <a:pt x="5311" y="0"/>
                  </a:cubicBezTo>
                  <a:close/>
                  <a:moveTo>
                    <a:pt x="5344" y="0"/>
                  </a:moveTo>
                  <a:lnTo>
                    <a:pt x="5344" y="0"/>
                  </a:lnTo>
                  <a:cubicBezTo>
                    <a:pt x="5349" y="0"/>
                    <a:pt x="5352" y="4"/>
                    <a:pt x="5352" y="9"/>
                  </a:cubicBezTo>
                  <a:cubicBezTo>
                    <a:pt x="5352" y="13"/>
                    <a:pt x="5349" y="17"/>
                    <a:pt x="5344" y="17"/>
                  </a:cubicBezTo>
                  <a:lnTo>
                    <a:pt x="5344" y="17"/>
                  </a:lnTo>
                  <a:cubicBezTo>
                    <a:pt x="5339" y="17"/>
                    <a:pt x="5336" y="13"/>
                    <a:pt x="5336" y="9"/>
                  </a:cubicBezTo>
                  <a:cubicBezTo>
                    <a:pt x="5336" y="4"/>
                    <a:pt x="5339" y="0"/>
                    <a:pt x="5344" y="0"/>
                  </a:cubicBezTo>
                  <a:close/>
                  <a:moveTo>
                    <a:pt x="5377" y="0"/>
                  </a:moveTo>
                  <a:lnTo>
                    <a:pt x="5377" y="0"/>
                  </a:lnTo>
                  <a:cubicBezTo>
                    <a:pt x="5382" y="0"/>
                    <a:pt x="5386" y="4"/>
                    <a:pt x="5386" y="9"/>
                  </a:cubicBezTo>
                  <a:cubicBezTo>
                    <a:pt x="5386" y="13"/>
                    <a:pt x="5382" y="17"/>
                    <a:pt x="5377" y="17"/>
                  </a:cubicBezTo>
                  <a:lnTo>
                    <a:pt x="5377" y="17"/>
                  </a:lnTo>
                  <a:cubicBezTo>
                    <a:pt x="5373" y="17"/>
                    <a:pt x="5369" y="13"/>
                    <a:pt x="5369" y="9"/>
                  </a:cubicBezTo>
                  <a:cubicBezTo>
                    <a:pt x="5369" y="4"/>
                    <a:pt x="5373" y="0"/>
                    <a:pt x="5377" y="0"/>
                  </a:cubicBezTo>
                  <a:close/>
                  <a:moveTo>
                    <a:pt x="5411" y="0"/>
                  </a:moveTo>
                  <a:lnTo>
                    <a:pt x="5411" y="0"/>
                  </a:lnTo>
                  <a:cubicBezTo>
                    <a:pt x="5415" y="0"/>
                    <a:pt x="5419" y="4"/>
                    <a:pt x="5419" y="9"/>
                  </a:cubicBezTo>
                  <a:cubicBezTo>
                    <a:pt x="5419" y="13"/>
                    <a:pt x="5415" y="17"/>
                    <a:pt x="5411" y="17"/>
                  </a:cubicBezTo>
                  <a:lnTo>
                    <a:pt x="5411" y="17"/>
                  </a:lnTo>
                  <a:cubicBezTo>
                    <a:pt x="5406" y="17"/>
                    <a:pt x="5402" y="13"/>
                    <a:pt x="5402" y="9"/>
                  </a:cubicBezTo>
                  <a:cubicBezTo>
                    <a:pt x="5402" y="4"/>
                    <a:pt x="5406" y="0"/>
                    <a:pt x="5411" y="0"/>
                  </a:cubicBezTo>
                  <a:close/>
                  <a:moveTo>
                    <a:pt x="5444" y="0"/>
                  </a:moveTo>
                  <a:lnTo>
                    <a:pt x="5444" y="0"/>
                  </a:lnTo>
                  <a:cubicBezTo>
                    <a:pt x="5449" y="0"/>
                    <a:pt x="5452" y="4"/>
                    <a:pt x="5452" y="9"/>
                  </a:cubicBezTo>
                  <a:cubicBezTo>
                    <a:pt x="5452" y="13"/>
                    <a:pt x="5449" y="17"/>
                    <a:pt x="5444" y="17"/>
                  </a:cubicBezTo>
                  <a:lnTo>
                    <a:pt x="5444" y="17"/>
                  </a:lnTo>
                  <a:cubicBezTo>
                    <a:pt x="5439" y="17"/>
                    <a:pt x="5436" y="13"/>
                    <a:pt x="5436" y="9"/>
                  </a:cubicBezTo>
                  <a:cubicBezTo>
                    <a:pt x="5436" y="4"/>
                    <a:pt x="5439" y="0"/>
                    <a:pt x="5444" y="0"/>
                  </a:cubicBezTo>
                  <a:close/>
                  <a:moveTo>
                    <a:pt x="5477" y="0"/>
                  </a:moveTo>
                  <a:lnTo>
                    <a:pt x="5477" y="0"/>
                  </a:lnTo>
                  <a:cubicBezTo>
                    <a:pt x="5482" y="0"/>
                    <a:pt x="5486" y="4"/>
                    <a:pt x="5486" y="9"/>
                  </a:cubicBezTo>
                  <a:cubicBezTo>
                    <a:pt x="5486" y="13"/>
                    <a:pt x="5482" y="17"/>
                    <a:pt x="5477" y="17"/>
                  </a:cubicBezTo>
                  <a:lnTo>
                    <a:pt x="5477" y="17"/>
                  </a:lnTo>
                  <a:cubicBezTo>
                    <a:pt x="5473" y="17"/>
                    <a:pt x="5469" y="13"/>
                    <a:pt x="5469" y="9"/>
                  </a:cubicBezTo>
                  <a:cubicBezTo>
                    <a:pt x="5469" y="4"/>
                    <a:pt x="5473" y="0"/>
                    <a:pt x="5477" y="0"/>
                  </a:cubicBezTo>
                  <a:close/>
                  <a:moveTo>
                    <a:pt x="5511" y="0"/>
                  </a:moveTo>
                  <a:lnTo>
                    <a:pt x="5511" y="0"/>
                  </a:lnTo>
                  <a:cubicBezTo>
                    <a:pt x="5515" y="0"/>
                    <a:pt x="5519" y="4"/>
                    <a:pt x="5519" y="9"/>
                  </a:cubicBezTo>
                  <a:cubicBezTo>
                    <a:pt x="5519" y="13"/>
                    <a:pt x="5515" y="17"/>
                    <a:pt x="5511" y="17"/>
                  </a:cubicBezTo>
                  <a:lnTo>
                    <a:pt x="5511" y="17"/>
                  </a:lnTo>
                  <a:cubicBezTo>
                    <a:pt x="5506" y="17"/>
                    <a:pt x="5502" y="13"/>
                    <a:pt x="5502" y="9"/>
                  </a:cubicBezTo>
                  <a:cubicBezTo>
                    <a:pt x="5502" y="4"/>
                    <a:pt x="5506" y="0"/>
                    <a:pt x="5511" y="0"/>
                  </a:cubicBezTo>
                  <a:close/>
                  <a:moveTo>
                    <a:pt x="5544" y="0"/>
                  </a:moveTo>
                  <a:lnTo>
                    <a:pt x="5544" y="0"/>
                  </a:lnTo>
                  <a:cubicBezTo>
                    <a:pt x="5549" y="0"/>
                    <a:pt x="5552" y="4"/>
                    <a:pt x="5552" y="9"/>
                  </a:cubicBezTo>
                  <a:cubicBezTo>
                    <a:pt x="5552" y="13"/>
                    <a:pt x="5549" y="17"/>
                    <a:pt x="5544" y="17"/>
                  </a:cubicBezTo>
                  <a:lnTo>
                    <a:pt x="5544" y="17"/>
                  </a:lnTo>
                  <a:cubicBezTo>
                    <a:pt x="5539" y="17"/>
                    <a:pt x="5536" y="13"/>
                    <a:pt x="5536" y="9"/>
                  </a:cubicBezTo>
                  <a:cubicBezTo>
                    <a:pt x="5536" y="4"/>
                    <a:pt x="5539" y="0"/>
                    <a:pt x="5544" y="0"/>
                  </a:cubicBezTo>
                  <a:close/>
                  <a:moveTo>
                    <a:pt x="5577" y="0"/>
                  </a:moveTo>
                  <a:lnTo>
                    <a:pt x="5577" y="0"/>
                  </a:lnTo>
                  <a:cubicBezTo>
                    <a:pt x="5582" y="0"/>
                    <a:pt x="5586" y="4"/>
                    <a:pt x="5586" y="9"/>
                  </a:cubicBezTo>
                  <a:cubicBezTo>
                    <a:pt x="5586" y="13"/>
                    <a:pt x="5582" y="17"/>
                    <a:pt x="5577" y="17"/>
                  </a:cubicBezTo>
                  <a:lnTo>
                    <a:pt x="5577" y="17"/>
                  </a:lnTo>
                  <a:cubicBezTo>
                    <a:pt x="5573" y="17"/>
                    <a:pt x="5569" y="13"/>
                    <a:pt x="5569" y="9"/>
                  </a:cubicBezTo>
                  <a:cubicBezTo>
                    <a:pt x="5569" y="4"/>
                    <a:pt x="5573" y="0"/>
                    <a:pt x="5577" y="0"/>
                  </a:cubicBezTo>
                  <a:close/>
                  <a:moveTo>
                    <a:pt x="5611" y="0"/>
                  </a:moveTo>
                  <a:lnTo>
                    <a:pt x="5611" y="0"/>
                  </a:lnTo>
                  <a:cubicBezTo>
                    <a:pt x="5615" y="0"/>
                    <a:pt x="5619" y="4"/>
                    <a:pt x="5619" y="9"/>
                  </a:cubicBezTo>
                  <a:cubicBezTo>
                    <a:pt x="5619" y="13"/>
                    <a:pt x="5615" y="17"/>
                    <a:pt x="5611" y="17"/>
                  </a:cubicBezTo>
                  <a:lnTo>
                    <a:pt x="5611" y="17"/>
                  </a:lnTo>
                  <a:cubicBezTo>
                    <a:pt x="5606" y="17"/>
                    <a:pt x="5602" y="13"/>
                    <a:pt x="5602" y="9"/>
                  </a:cubicBezTo>
                  <a:cubicBezTo>
                    <a:pt x="5602" y="4"/>
                    <a:pt x="5606" y="0"/>
                    <a:pt x="5611" y="0"/>
                  </a:cubicBezTo>
                  <a:close/>
                  <a:moveTo>
                    <a:pt x="5644" y="0"/>
                  </a:moveTo>
                  <a:lnTo>
                    <a:pt x="5644" y="0"/>
                  </a:lnTo>
                  <a:cubicBezTo>
                    <a:pt x="5649" y="0"/>
                    <a:pt x="5652" y="4"/>
                    <a:pt x="5652" y="9"/>
                  </a:cubicBezTo>
                  <a:cubicBezTo>
                    <a:pt x="5652" y="13"/>
                    <a:pt x="5649" y="17"/>
                    <a:pt x="5644" y="17"/>
                  </a:cubicBezTo>
                  <a:lnTo>
                    <a:pt x="5644" y="17"/>
                  </a:lnTo>
                  <a:cubicBezTo>
                    <a:pt x="5640" y="17"/>
                    <a:pt x="5636" y="13"/>
                    <a:pt x="5636" y="9"/>
                  </a:cubicBezTo>
                  <a:cubicBezTo>
                    <a:pt x="5636" y="4"/>
                    <a:pt x="5640" y="0"/>
                    <a:pt x="5644" y="0"/>
                  </a:cubicBezTo>
                  <a:close/>
                  <a:moveTo>
                    <a:pt x="5677" y="0"/>
                  </a:moveTo>
                  <a:lnTo>
                    <a:pt x="5678" y="0"/>
                  </a:lnTo>
                  <a:cubicBezTo>
                    <a:pt x="5682" y="0"/>
                    <a:pt x="5686" y="4"/>
                    <a:pt x="5686" y="9"/>
                  </a:cubicBezTo>
                  <a:cubicBezTo>
                    <a:pt x="5686" y="13"/>
                    <a:pt x="5682" y="17"/>
                    <a:pt x="5678" y="17"/>
                  </a:cubicBezTo>
                  <a:lnTo>
                    <a:pt x="5677" y="17"/>
                  </a:lnTo>
                  <a:cubicBezTo>
                    <a:pt x="5673" y="17"/>
                    <a:pt x="5669" y="13"/>
                    <a:pt x="5669" y="9"/>
                  </a:cubicBezTo>
                  <a:cubicBezTo>
                    <a:pt x="5669" y="4"/>
                    <a:pt x="5673" y="0"/>
                    <a:pt x="5677" y="0"/>
                  </a:cubicBezTo>
                  <a:close/>
                  <a:moveTo>
                    <a:pt x="5711" y="0"/>
                  </a:moveTo>
                  <a:lnTo>
                    <a:pt x="5711" y="0"/>
                  </a:lnTo>
                  <a:cubicBezTo>
                    <a:pt x="5715" y="0"/>
                    <a:pt x="5719" y="4"/>
                    <a:pt x="5719" y="9"/>
                  </a:cubicBezTo>
                  <a:cubicBezTo>
                    <a:pt x="5719" y="13"/>
                    <a:pt x="5715" y="17"/>
                    <a:pt x="5711" y="17"/>
                  </a:cubicBezTo>
                  <a:lnTo>
                    <a:pt x="5711" y="17"/>
                  </a:lnTo>
                  <a:cubicBezTo>
                    <a:pt x="5706" y="17"/>
                    <a:pt x="5703" y="13"/>
                    <a:pt x="5703" y="9"/>
                  </a:cubicBezTo>
                  <a:cubicBezTo>
                    <a:pt x="5703" y="4"/>
                    <a:pt x="5706" y="0"/>
                    <a:pt x="5711" y="0"/>
                  </a:cubicBezTo>
                  <a:close/>
                  <a:moveTo>
                    <a:pt x="5744" y="0"/>
                  </a:moveTo>
                  <a:lnTo>
                    <a:pt x="5744" y="0"/>
                  </a:lnTo>
                  <a:cubicBezTo>
                    <a:pt x="5749" y="0"/>
                    <a:pt x="5753" y="4"/>
                    <a:pt x="5753" y="9"/>
                  </a:cubicBezTo>
                  <a:cubicBezTo>
                    <a:pt x="5753" y="13"/>
                    <a:pt x="5749" y="17"/>
                    <a:pt x="5744" y="17"/>
                  </a:cubicBezTo>
                  <a:lnTo>
                    <a:pt x="5744" y="17"/>
                  </a:lnTo>
                  <a:cubicBezTo>
                    <a:pt x="5740" y="17"/>
                    <a:pt x="5736" y="13"/>
                    <a:pt x="5736" y="9"/>
                  </a:cubicBezTo>
                  <a:cubicBezTo>
                    <a:pt x="5736" y="4"/>
                    <a:pt x="5740" y="0"/>
                    <a:pt x="5744" y="0"/>
                  </a:cubicBezTo>
                  <a:close/>
                  <a:moveTo>
                    <a:pt x="5778" y="0"/>
                  </a:moveTo>
                  <a:lnTo>
                    <a:pt x="5778" y="0"/>
                  </a:lnTo>
                  <a:cubicBezTo>
                    <a:pt x="5782" y="0"/>
                    <a:pt x="5786" y="4"/>
                    <a:pt x="5786" y="9"/>
                  </a:cubicBezTo>
                  <a:cubicBezTo>
                    <a:pt x="5786" y="13"/>
                    <a:pt x="5782" y="17"/>
                    <a:pt x="5778" y="17"/>
                  </a:cubicBezTo>
                  <a:lnTo>
                    <a:pt x="5778" y="17"/>
                  </a:lnTo>
                  <a:cubicBezTo>
                    <a:pt x="5773" y="17"/>
                    <a:pt x="5769" y="13"/>
                    <a:pt x="5769" y="9"/>
                  </a:cubicBezTo>
                  <a:cubicBezTo>
                    <a:pt x="5769" y="4"/>
                    <a:pt x="5773" y="0"/>
                    <a:pt x="5778" y="0"/>
                  </a:cubicBezTo>
                  <a:close/>
                  <a:moveTo>
                    <a:pt x="5811" y="0"/>
                  </a:moveTo>
                  <a:lnTo>
                    <a:pt x="5811" y="0"/>
                  </a:lnTo>
                  <a:cubicBezTo>
                    <a:pt x="5816" y="0"/>
                    <a:pt x="5819" y="4"/>
                    <a:pt x="5819" y="9"/>
                  </a:cubicBezTo>
                  <a:cubicBezTo>
                    <a:pt x="5819" y="13"/>
                    <a:pt x="5816" y="17"/>
                    <a:pt x="5811" y="17"/>
                  </a:cubicBezTo>
                  <a:lnTo>
                    <a:pt x="5811" y="17"/>
                  </a:lnTo>
                  <a:cubicBezTo>
                    <a:pt x="5806" y="17"/>
                    <a:pt x="5803" y="13"/>
                    <a:pt x="5803" y="9"/>
                  </a:cubicBezTo>
                  <a:cubicBezTo>
                    <a:pt x="5803" y="4"/>
                    <a:pt x="5806" y="0"/>
                    <a:pt x="5811" y="0"/>
                  </a:cubicBezTo>
                  <a:close/>
                  <a:moveTo>
                    <a:pt x="5844" y="0"/>
                  </a:moveTo>
                  <a:lnTo>
                    <a:pt x="5844" y="0"/>
                  </a:lnTo>
                  <a:cubicBezTo>
                    <a:pt x="5849" y="0"/>
                    <a:pt x="5853" y="4"/>
                    <a:pt x="5853" y="9"/>
                  </a:cubicBezTo>
                  <a:cubicBezTo>
                    <a:pt x="5853" y="13"/>
                    <a:pt x="5849" y="17"/>
                    <a:pt x="5844" y="17"/>
                  </a:cubicBezTo>
                  <a:lnTo>
                    <a:pt x="5844" y="17"/>
                  </a:lnTo>
                  <a:cubicBezTo>
                    <a:pt x="5840" y="17"/>
                    <a:pt x="5836" y="13"/>
                    <a:pt x="5836" y="9"/>
                  </a:cubicBezTo>
                  <a:cubicBezTo>
                    <a:pt x="5836" y="4"/>
                    <a:pt x="5840" y="0"/>
                    <a:pt x="5844" y="0"/>
                  </a:cubicBezTo>
                  <a:close/>
                  <a:moveTo>
                    <a:pt x="5878" y="0"/>
                  </a:moveTo>
                  <a:lnTo>
                    <a:pt x="5878" y="0"/>
                  </a:lnTo>
                  <a:cubicBezTo>
                    <a:pt x="5882" y="0"/>
                    <a:pt x="5886" y="4"/>
                    <a:pt x="5886" y="9"/>
                  </a:cubicBezTo>
                  <a:cubicBezTo>
                    <a:pt x="5886" y="13"/>
                    <a:pt x="5882" y="17"/>
                    <a:pt x="5878" y="17"/>
                  </a:cubicBezTo>
                  <a:lnTo>
                    <a:pt x="5878" y="17"/>
                  </a:lnTo>
                  <a:cubicBezTo>
                    <a:pt x="5873" y="17"/>
                    <a:pt x="5869" y="13"/>
                    <a:pt x="5869" y="9"/>
                  </a:cubicBezTo>
                  <a:cubicBezTo>
                    <a:pt x="5869" y="4"/>
                    <a:pt x="5873" y="0"/>
                    <a:pt x="5878" y="0"/>
                  </a:cubicBezTo>
                  <a:close/>
                  <a:moveTo>
                    <a:pt x="5911" y="0"/>
                  </a:moveTo>
                  <a:lnTo>
                    <a:pt x="5911" y="0"/>
                  </a:lnTo>
                  <a:cubicBezTo>
                    <a:pt x="5916" y="0"/>
                    <a:pt x="5919" y="4"/>
                    <a:pt x="5919" y="9"/>
                  </a:cubicBezTo>
                  <a:cubicBezTo>
                    <a:pt x="5919" y="13"/>
                    <a:pt x="5916" y="17"/>
                    <a:pt x="5911" y="17"/>
                  </a:cubicBezTo>
                  <a:lnTo>
                    <a:pt x="5911" y="17"/>
                  </a:lnTo>
                  <a:cubicBezTo>
                    <a:pt x="5906" y="17"/>
                    <a:pt x="5903" y="13"/>
                    <a:pt x="5903" y="9"/>
                  </a:cubicBezTo>
                  <a:cubicBezTo>
                    <a:pt x="5903" y="4"/>
                    <a:pt x="5906" y="0"/>
                    <a:pt x="5911" y="0"/>
                  </a:cubicBezTo>
                  <a:close/>
                  <a:moveTo>
                    <a:pt x="5944" y="0"/>
                  </a:moveTo>
                  <a:lnTo>
                    <a:pt x="5944" y="0"/>
                  </a:lnTo>
                  <a:cubicBezTo>
                    <a:pt x="5949" y="0"/>
                    <a:pt x="5953" y="4"/>
                    <a:pt x="5953" y="9"/>
                  </a:cubicBezTo>
                  <a:cubicBezTo>
                    <a:pt x="5953" y="13"/>
                    <a:pt x="5949" y="17"/>
                    <a:pt x="5944" y="17"/>
                  </a:cubicBezTo>
                  <a:lnTo>
                    <a:pt x="5944" y="17"/>
                  </a:lnTo>
                  <a:cubicBezTo>
                    <a:pt x="5940" y="17"/>
                    <a:pt x="5936" y="13"/>
                    <a:pt x="5936" y="9"/>
                  </a:cubicBezTo>
                  <a:cubicBezTo>
                    <a:pt x="5936" y="4"/>
                    <a:pt x="5940" y="0"/>
                    <a:pt x="5944" y="0"/>
                  </a:cubicBezTo>
                  <a:close/>
                  <a:moveTo>
                    <a:pt x="5978" y="0"/>
                  </a:moveTo>
                  <a:lnTo>
                    <a:pt x="5978" y="0"/>
                  </a:lnTo>
                  <a:cubicBezTo>
                    <a:pt x="5982" y="0"/>
                    <a:pt x="5986" y="4"/>
                    <a:pt x="5986" y="9"/>
                  </a:cubicBezTo>
                  <a:cubicBezTo>
                    <a:pt x="5986" y="13"/>
                    <a:pt x="5982" y="17"/>
                    <a:pt x="5978" y="17"/>
                  </a:cubicBezTo>
                  <a:lnTo>
                    <a:pt x="5978" y="17"/>
                  </a:lnTo>
                  <a:cubicBezTo>
                    <a:pt x="5973" y="17"/>
                    <a:pt x="5969" y="13"/>
                    <a:pt x="5969" y="9"/>
                  </a:cubicBezTo>
                  <a:cubicBezTo>
                    <a:pt x="5969" y="4"/>
                    <a:pt x="5973" y="0"/>
                    <a:pt x="5978" y="0"/>
                  </a:cubicBezTo>
                  <a:close/>
                  <a:moveTo>
                    <a:pt x="6011" y="0"/>
                  </a:moveTo>
                  <a:lnTo>
                    <a:pt x="6011" y="0"/>
                  </a:lnTo>
                  <a:cubicBezTo>
                    <a:pt x="6016" y="0"/>
                    <a:pt x="6019" y="4"/>
                    <a:pt x="6019" y="9"/>
                  </a:cubicBezTo>
                  <a:cubicBezTo>
                    <a:pt x="6019" y="13"/>
                    <a:pt x="6016" y="17"/>
                    <a:pt x="6011" y="17"/>
                  </a:cubicBezTo>
                  <a:lnTo>
                    <a:pt x="6011" y="17"/>
                  </a:lnTo>
                  <a:cubicBezTo>
                    <a:pt x="6006" y="17"/>
                    <a:pt x="6003" y="13"/>
                    <a:pt x="6003" y="9"/>
                  </a:cubicBezTo>
                  <a:cubicBezTo>
                    <a:pt x="6003" y="4"/>
                    <a:pt x="6006" y="0"/>
                    <a:pt x="6011" y="0"/>
                  </a:cubicBezTo>
                  <a:close/>
                  <a:moveTo>
                    <a:pt x="6044" y="0"/>
                  </a:moveTo>
                  <a:lnTo>
                    <a:pt x="6044" y="0"/>
                  </a:lnTo>
                  <a:cubicBezTo>
                    <a:pt x="6049" y="0"/>
                    <a:pt x="6053" y="4"/>
                    <a:pt x="6053" y="9"/>
                  </a:cubicBezTo>
                  <a:cubicBezTo>
                    <a:pt x="6053" y="13"/>
                    <a:pt x="6049" y="17"/>
                    <a:pt x="6044" y="17"/>
                  </a:cubicBezTo>
                  <a:lnTo>
                    <a:pt x="6044" y="17"/>
                  </a:lnTo>
                  <a:cubicBezTo>
                    <a:pt x="6040" y="17"/>
                    <a:pt x="6036" y="13"/>
                    <a:pt x="6036" y="9"/>
                  </a:cubicBezTo>
                  <a:cubicBezTo>
                    <a:pt x="6036" y="4"/>
                    <a:pt x="6040" y="0"/>
                    <a:pt x="6044" y="0"/>
                  </a:cubicBezTo>
                  <a:close/>
                  <a:moveTo>
                    <a:pt x="6078" y="0"/>
                  </a:moveTo>
                  <a:lnTo>
                    <a:pt x="6078" y="0"/>
                  </a:lnTo>
                  <a:cubicBezTo>
                    <a:pt x="6082" y="0"/>
                    <a:pt x="6086" y="4"/>
                    <a:pt x="6086" y="9"/>
                  </a:cubicBezTo>
                  <a:cubicBezTo>
                    <a:pt x="6086" y="13"/>
                    <a:pt x="6082" y="17"/>
                    <a:pt x="6078" y="17"/>
                  </a:cubicBezTo>
                  <a:lnTo>
                    <a:pt x="6078" y="17"/>
                  </a:lnTo>
                  <a:cubicBezTo>
                    <a:pt x="6073" y="17"/>
                    <a:pt x="6069" y="13"/>
                    <a:pt x="6069" y="9"/>
                  </a:cubicBezTo>
                  <a:cubicBezTo>
                    <a:pt x="6069" y="4"/>
                    <a:pt x="6073" y="0"/>
                    <a:pt x="6078" y="0"/>
                  </a:cubicBezTo>
                  <a:close/>
                  <a:moveTo>
                    <a:pt x="6111" y="0"/>
                  </a:moveTo>
                  <a:lnTo>
                    <a:pt x="6111" y="0"/>
                  </a:lnTo>
                  <a:cubicBezTo>
                    <a:pt x="6116" y="0"/>
                    <a:pt x="6119" y="4"/>
                    <a:pt x="6119" y="9"/>
                  </a:cubicBezTo>
                  <a:cubicBezTo>
                    <a:pt x="6119" y="13"/>
                    <a:pt x="6116" y="17"/>
                    <a:pt x="6111" y="17"/>
                  </a:cubicBezTo>
                  <a:lnTo>
                    <a:pt x="6111" y="17"/>
                  </a:lnTo>
                  <a:cubicBezTo>
                    <a:pt x="6106" y="17"/>
                    <a:pt x="6103" y="13"/>
                    <a:pt x="6103" y="9"/>
                  </a:cubicBezTo>
                  <a:cubicBezTo>
                    <a:pt x="6103" y="4"/>
                    <a:pt x="6106" y="0"/>
                    <a:pt x="6111" y="0"/>
                  </a:cubicBezTo>
                  <a:close/>
                  <a:moveTo>
                    <a:pt x="6144" y="0"/>
                  </a:moveTo>
                  <a:lnTo>
                    <a:pt x="6144" y="0"/>
                  </a:lnTo>
                  <a:cubicBezTo>
                    <a:pt x="6149" y="0"/>
                    <a:pt x="6153" y="4"/>
                    <a:pt x="6153" y="9"/>
                  </a:cubicBezTo>
                  <a:cubicBezTo>
                    <a:pt x="6153" y="13"/>
                    <a:pt x="6149" y="17"/>
                    <a:pt x="6144" y="17"/>
                  </a:cubicBezTo>
                  <a:lnTo>
                    <a:pt x="6144" y="17"/>
                  </a:lnTo>
                  <a:cubicBezTo>
                    <a:pt x="6140" y="17"/>
                    <a:pt x="6136" y="13"/>
                    <a:pt x="6136" y="9"/>
                  </a:cubicBezTo>
                  <a:cubicBezTo>
                    <a:pt x="6136" y="4"/>
                    <a:pt x="6140" y="0"/>
                    <a:pt x="6144" y="0"/>
                  </a:cubicBezTo>
                  <a:close/>
                  <a:moveTo>
                    <a:pt x="6178" y="0"/>
                  </a:moveTo>
                  <a:lnTo>
                    <a:pt x="6178" y="0"/>
                  </a:lnTo>
                  <a:cubicBezTo>
                    <a:pt x="6182" y="0"/>
                    <a:pt x="6186" y="4"/>
                    <a:pt x="6186" y="9"/>
                  </a:cubicBezTo>
                  <a:cubicBezTo>
                    <a:pt x="6186" y="13"/>
                    <a:pt x="6182" y="17"/>
                    <a:pt x="6178" y="17"/>
                  </a:cubicBezTo>
                  <a:lnTo>
                    <a:pt x="6178" y="17"/>
                  </a:lnTo>
                  <a:cubicBezTo>
                    <a:pt x="6173" y="17"/>
                    <a:pt x="6169" y="13"/>
                    <a:pt x="6169" y="9"/>
                  </a:cubicBezTo>
                  <a:cubicBezTo>
                    <a:pt x="6169" y="4"/>
                    <a:pt x="6173" y="0"/>
                    <a:pt x="6178" y="0"/>
                  </a:cubicBezTo>
                  <a:close/>
                  <a:moveTo>
                    <a:pt x="6211" y="0"/>
                  </a:moveTo>
                  <a:lnTo>
                    <a:pt x="6211" y="0"/>
                  </a:lnTo>
                  <a:cubicBezTo>
                    <a:pt x="6216" y="0"/>
                    <a:pt x="6219" y="4"/>
                    <a:pt x="6219" y="9"/>
                  </a:cubicBezTo>
                  <a:cubicBezTo>
                    <a:pt x="6219" y="13"/>
                    <a:pt x="6216" y="17"/>
                    <a:pt x="6211" y="17"/>
                  </a:cubicBezTo>
                  <a:lnTo>
                    <a:pt x="6211" y="17"/>
                  </a:lnTo>
                  <a:cubicBezTo>
                    <a:pt x="6206" y="17"/>
                    <a:pt x="6203" y="13"/>
                    <a:pt x="6203" y="9"/>
                  </a:cubicBezTo>
                  <a:cubicBezTo>
                    <a:pt x="6203" y="4"/>
                    <a:pt x="6206" y="0"/>
                    <a:pt x="6211" y="0"/>
                  </a:cubicBezTo>
                  <a:close/>
                  <a:moveTo>
                    <a:pt x="6244" y="0"/>
                  </a:moveTo>
                  <a:lnTo>
                    <a:pt x="6244" y="0"/>
                  </a:lnTo>
                  <a:cubicBezTo>
                    <a:pt x="6249" y="0"/>
                    <a:pt x="6253" y="4"/>
                    <a:pt x="6253" y="9"/>
                  </a:cubicBezTo>
                  <a:cubicBezTo>
                    <a:pt x="6253" y="13"/>
                    <a:pt x="6249" y="17"/>
                    <a:pt x="6244" y="17"/>
                  </a:cubicBezTo>
                  <a:lnTo>
                    <a:pt x="6244" y="17"/>
                  </a:lnTo>
                  <a:cubicBezTo>
                    <a:pt x="6240" y="17"/>
                    <a:pt x="6236" y="13"/>
                    <a:pt x="6236" y="9"/>
                  </a:cubicBezTo>
                  <a:cubicBezTo>
                    <a:pt x="6236" y="4"/>
                    <a:pt x="6240" y="0"/>
                    <a:pt x="6244" y="0"/>
                  </a:cubicBezTo>
                  <a:close/>
                  <a:moveTo>
                    <a:pt x="6278" y="0"/>
                  </a:moveTo>
                  <a:lnTo>
                    <a:pt x="6278" y="0"/>
                  </a:lnTo>
                  <a:cubicBezTo>
                    <a:pt x="6282" y="0"/>
                    <a:pt x="6286" y="4"/>
                    <a:pt x="6286" y="9"/>
                  </a:cubicBezTo>
                  <a:cubicBezTo>
                    <a:pt x="6286" y="13"/>
                    <a:pt x="6282" y="17"/>
                    <a:pt x="6278" y="17"/>
                  </a:cubicBezTo>
                  <a:lnTo>
                    <a:pt x="6278" y="17"/>
                  </a:lnTo>
                  <a:cubicBezTo>
                    <a:pt x="6273" y="17"/>
                    <a:pt x="6269" y="13"/>
                    <a:pt x="6269" y="9"/>
                  </a:cubicBezTo>
                  <a:cubicBezTo>
                    <a:pt x="6269" y="4"/>
                    <a:pt x="6273" y="0"/>
                    <a:pt x="6278" y="0"/>
                  </a:cubicBezTo>
                  <a:close/>
                  <a:moveTo>
                    <a:pt x="6311" y="0"/>
                  </a:moveTo>
                  <a:lnTo>
                    <a:pt x="6311" y="0"/>
                  </a:lnTo>
                  <a:cubicBezTo>
                    <a:pt x="6316" y="0"/>
                    <a:pt x="6319" y="4"/>
                    <a:pt x="6319" y="9"/>
                  </a:cubicBezTo>
                  <a:cubicBezTo>
                    <a:pt x="6319" y="13"/>
                    <a:pt x="6316" y="17"/>
                    <a:pt x="6311" y="17"/>
                  </a:cubicBezTo>
                  <a:lnTo>
                    <a:pt x="6311" y="17"/>
                  </a:lnTo>
                  <a:cubicBezTo>
                    <a:pt x="6307" y="17"/>
                    <a:pt x="6303" y="13"/>
                    <a:pt x="6303" y="9"/>
                  </a:cubicBezTo>
                  <a:cubicBezTo>
                    <a:pt x="6303" y="4"/>
                    <a:pt x="6307" y="0"/>
                    <a:pt x="6311" y="0"/>
                  </a:cubicBezTo>
                  <a:close/>
                  <a:moveTo>
                    <a:pt x="6344" y="0"/>
                  </a:moveTo>
                  <a:lnTo>
                    <a:pt x="6345" y="0"/>
                  </a:lnTo>
                  <a:cubicBezTo>
                    <a:pt x="6349" y="0"/>
                    <a:pt x="6353" y="4"/>
                    <a:pt x="6353" y="9"/>
                  </a:cubicBezTo>
                  <a:cubicBezTo>
                    <a:pt x="6353" y="13"/>
                    <a:pt x="6349" y="17"/>
                    <a:pt x="6345" y="17"/>
                  </a:cubicBezTo>
                  <a:lnTo>
                    <a:pt x="6344" y="17"/>
                  </a:lnTo>
                  <a:cubicBezTo>
                    <a:pt x="6340" y="17"/>
                    <a:pt x="6336" y="13"/>
                    <a:pt x="6336" y="9"/>
                  </a:cubicBezTo>
                  <a:cubicBezTo>
                    <a:pt x="6336" y="4"/>
                    <a:pt x="6340" y="0"/>
                    <a:pt x="6344" y="0"/>
                  </a:cubicBezTo>
                  <a:close/>
                  <a:moveTo>
                    <a:pt x="6378" y="0"/>
                  </a:moveTo>
                  <a:lnTo>
                    <a:pt x="6378" y="0"/>
                  </a:lnTo>
                  <a:cubicBezTo>
                    <a:pt x="6382" y="0"/>
                    <a:pt x="6386" y="4"/>
                    <a:pt x="6386" y="9"/>
                  </a:cubicBezTo>
                  <a:cubicBezTo>
                    <a:pt x="6386" y="13"/>
                    <a:pt x="6382" y="17"/>
                    <a:pt x="6378" y="17"/>
                  </a:cubicBezTo>
                  <a:lnTo>
                    <a:pt x="6378" y="17"/>
                  </a:lnTo>
                  <a:cubicBezTo>
                    <a:pt x="6373" y="17"/>
                    <a:pt x="6370" y="13"/>
                    <a:pt x="6370" y="9"/>
                  </a:cubicBezTo>
                  <a:cubicBezTo>
                    <a:pt x="6370" y="4"/>
                    <a:pt x="6373" y="0"/>
                    <a:pt x="6378" y="0"/>
                  </a:cubicBezTo>
                  <a:close/>
                  <a:moveTo>
                    <a:pt x="6411" y="0"/>
                  </a:moveTo>
                  <a:lnTo>
                    <a:pt x="6411" y="0"/>
                  </a:lnTo>
                  <a:cubicBezTo>
                    <a:pt x="6416" y="0"/>
                    <a:pt x="6420" y="4"/>
                    <a:pt x="6420" y="9"/>
                  </a:cubicBezTo>
                  <a:cubicBezTo>
                    <a:pt x="6420" y="13"/>
                    <a:pt x="6416" y="17"/>
                    <a:pt x="6411" y="17"/>
                  </a:cubicBezTo>
                  <a:lnTo>
                    <a:pt x="6411" y="17"/>
                  </a:lnTo>
                  <a:cubicBezTo>
                    <a:pt x="6407" y="17"/>
                    <a:pt x="6403" y="13"/>
                    <a:pt x="6403" y="9"/>
                  </a:cubicBezTo>
                  <a:cubicBezTo>
                    <a:pt x="6403" y="4"/>
                    <a:pt x="6407" y="0"/>
                    <a:pt x="6411" y="0"/>
                  </a:cubicBezTo>
                  <a:close/>
                  <a:moveTo>
                    <a:pt x="6445" y="0"/>
                  </a:moveTo>
                  <a:lnTo>
                    <a:pt x="6445" y="0"/>
                  </a:lnTo>
                  <a:cubicBezTo>
                    <a:pt x="6449" y="0"/>
                    <a:pt x="6453" y="4"/>
                    <a:pt x="6453" y="9"/>
                  </a:cubicBezTo>
                  <a:cubicBezTo>
                    <a:pt x="6453" y="13"/>
                    <a:pt x="6449" y="17"/>
                    <a:pt x="6445" y="17"/>
                  </a:cubicBezTo>
                  <a:lnTo>
                    <a:pt x="6445" y="17"/>
                  </a:lnTo>
                  <a:cubicBezTo>
                    <a:pt x="6440" y="17"/>
                    <a:pt x="6436" y="13"/>
                    <a:pt x="6436" y="9"/>
                  </a:cubicBezTo>
                  <a:cubicBezTo>
                    <a:pt x="6436" y="4"/>
                    <a:pt x="6440" y="0"/>
                    <a:pt x="6445" y="0"/>
                  </a:cubicBezTo>
                  <a:close/>
                  <a:moveTo>
                    <a:pt x="6478" y="0"/>
                  </a:moveTo>
                  <a:lnTo>
                    <a:pt x="6478" y="0"/>
                  </a:lnTo>
                  <a:cubicBezTo>
                    <a:pt x="6483" y="0"/>
                    <a:pt x="6486" y="4"/>
                    <a:pt x="6486" y="9"/>
                  </a:cubicBezTo>
                  <a:cubicBezTo>
                    <a:pt x="6486" y="13"/>
                    <a:pt x="6483" y="17"/>
                    <a:pt x="6478" y="17"/>
                  </a:cubicBezTo>
                  <a:lnTo>
                    <a:pt x="6478" y="17"/>
                  </a:lnTo>
                  <a:cubicBezTo>
                    <a:pt x="6473" y="17"/>
                    <a:pt x="6470" y="13"/>
                    <a:pt x="6470" y="9"/>
                  </a:cubicBezTo>
                  <a:cubicBezTo>
                    <a:pt x="6470" y="4"/>
                    <a:pt x="6473" y="0"/>
                    <a:pt x="6478" y="0"/>
                  </a:cubicBezTo>
                  <a:close/>
                  <a:moveTo>
                    <a:pt x="6511" y="0"/>
                  </a:moveTo>
                  <a:lnTo>
                    <a:pt x="6511" y="0"/>
                  </a:lnTo>
                  <a:cubicBezTo>
                    <a:pt x="6516" y="0"/>
                    <a:pt x="6520" y="4"/>
                    <a:pt x="6520" y="9"/>
                  </a:cubicBezTo>
                  <a:cubicBezTo>
                    <a:pt x="6520" y="13"/>
                    <a:pt x="6516" y="17"/>
                    <a:pt x="6511" y="17"/>
                  </a:cubicBezTo>
                  <a:lnTo>
                    <a:pt x="6511" y="17"/>
                  </a:lnTo>
                  <a:cubicBezTo>
                    <a:pt x="6507" y="17"/>
                    <a:pt x="6503" y="13"/>
                    <a:pt x="6503" y="9"/>
                  </a:cubicBezTo>
                  <a:cubicBezTo>
                    <a:pt x="6503" y="4"/>
                    <a:pt x="6507" y="0"/>
                    <a:pt x="6511" y="0"/>
                  </a:cubicBezTo>
                  <a:close/>
                  <a:moveTo>
                    <a:pt x="6545" y="0"/>
                  </a:moveTo>
                  <a:lnTo>
                    <a:pt x="6545" y="0"/>
                  </a:lnTo>
                  <a:cubicBezTo>
                    <a:pt x="6549" y="0"/>
                    <a:pt x="6553" y="4"/>
                    <a:pt x="6553" y="9"/>
                  </a:cubicBezTo>
                  <a:cubicBezTo>
                    <a:pt x="6553" y="13"/>
                    <a:pt x="6549" y="17"/>
                    <a:pt x="6545" y="17"/>
                  </a:cubicBezTo>
                  <a:lnTo>
                    <a:pt x="6545" y="17"/>
                  </a:lnTo>
                  <a:cubicBezTo>
                    <a:pt x="6540" y="17"/>
                    <a:pt x="6536" y="13"/>
                    <a:pt x="6536" y="9"/>
                  </a:cubicBezTo>
                  <a:cubicBezTo>
                    <a:pt x="6536" y="4"/>
                    <a:pt x="6540" y="0"/>
                    <a:pt x="6545" y="0"/>
                  </a:cubicBezTo>
                  <a:close/>
                  <a:moveTo>
                    <a:pt x="6578" y="0"/>
                  </a:moveTo>
                  <a:lnTo>
                    <a:pt x="6578" y="0"/>
                  </a:lnTo>
                  <a:cubicBezTo>
                    <a:pt x="6583" y="0"/>
                    <a:pt x="6586" y="4"/>
                    <a:pt x="6586" y="9"/>
                  </a:cubicBezTo>
                  <a:cubicBezTo>
                    <a:pt x="6586" y="13"/>
                    <a:pt x="6583" y="17"/>
                    <a:pt x="6578" y="17"/>
                  </a:cubicBezTo>
                  <a:lnTo>
                    <a:pt x="6578" y="17"/>
                  </a:lnTo>
                  <a:cubicBezTo>
                    <a:pt x="6573" y="17"/>
                    <a:pt x="6570" y="13"/>
                    <a:pt x="6570" y="9"/>
                  </a:cubicBezTo>
                  <a:cubicBezTo>
                    <a:pt x="6570" y="4"/>
                    <a:pt x="6573" y="0"/>
                    <a:pt x="6578" y="0"/>
                  </a:cubicBezTo>
                  <a:close/>
                  <a:moveTo>
                    <a:pt x="6611" y="0"/>
                  </a:moveTo>
                  <a:lnTo>
                    <a:pt x="6611" y="0"/>
                  </a:lnTo>
                  <a:cubicBezTo>
                    <a:pt x="6616" y="0"/>
                    <a:pt x="6620" y="4"/>
                    <a:pt x="6620" y="9"/>
                  </a:cubicBezTo>
                  <a:cubicBezTo>
                    <a:pt x="6620" y="13"/>
                    <a:pt x="6616" y="17"/>
                    <a:pt x="6611" y="17"/>
                  </a:cubicBezTo>
                  <a:lnTo>
                    <a:pt x="6611" y="17"/>
                  </a:lnTo>
                  <a:cubicBezTo>
                    <a:pt x="6607" y="17"/>
                    <a:pt x="6603" y="13"/>
                    <a:pt x="6603" y="9"/>
                  </a:cubicBezTo>
                  <a:cubicBezTo>
                    <a:pt x="6603" y="4"/>
                    <a:pt x="6607" y="0"/>
                    <a:pt x="6611" y="0"/>
                  </a:cubicBezTo>
                  <a:close/>
                  <a:moveTo>
                    <a:pt x="6645" y="0"/>
                  </a:moveTo>
                  <a:lnTo>
                    <a:pt x="6645" y="0"/>
                  </a:lnTo>
                  <a:cubicBezTo>
                    <a:pt x="6649" y="0"/>
                    <a:pt x="6653" y="4"/>
                    <a:pt x="6653" y="9"/>
                  </a:cubicBezTo>
                  <a:cubicBezTo>
                    <a:pt x="6653" y="13"/>
                    <a:pt x="6649" y="17"/>
                    <a:pt x="6645" y="17"/>
                  </a:cubicBezTo>
                  <a:lnTo>
                    <a:pt x="6645" y="17"/>
                  </a:lnTo>
                  <a:cubicBezTo>
                    <a:pt x="6640" y="17"/>
                    <a:pt x="6636" y="13"/>
                    <a:pt x="6636" y="9"/>
                  </a:cubicBezTo>
                  <a:cubicBezTo>
                    <a:pt x="6636" y="4"/>
                    <a:pt x="6640" y="0"/>
                    <a:pt x="6645" y="0"/>
                  </a:cubicBezTo>
                  <a:close/>
                  <a:moveTo>
                    <a:pt x="6678" y="0"/>
                  </a:moveTo>
                  <a:lnTo>
                    <a:pt x="6678" y="0"/>
                  </a:lnTo>
                  <a:cubicBezTo>
                    <a:pt x="6683" y="0"/>
                    <a:pt x="6686" y="4"/>
                    <a:pt x="6686" y="9"/>
                  </a:cubicBezTo>
                  <a:cubicBezTo>
                    <a:pt x="6686" y="13"/>
                    <a:pt x="6683" y="17"/>
                    <a:pt x="6678" y="17"/>
                  </a:cubicBezTo>
                  <a:lnTo>
                    <a:pt x="6678" y="17"/>
                  </a:lnTo>
                  <a:cubicBezTo>
                    <a:pt x="6673" y="17"/>
                    <a:pt x="6670" y="13"/>
                    <a:pt x="6670" y="9"/>
                  </a:cubicBezTo>
                  <a:cubicBezTo>
                    <a:pt x="6670" y="4"/>
                    <a:pt x="6673" y="0"/>
                    <a:pt x="6678" y="0"/>
                  </a:cubicBezTo>
                  <a:close/>
                  <a:moveTo>
                    <a:pt x="6711" y="0"/>
                  </a:moveTo>
                  <a:lnTo>
                    <a:pt x="6711" y="0"/>
                  </a:lnTo>
                  <a:cubicBezTo>
                    <a:pt x="6716" y="0"/>
                    <a:pt x="6720" y="4"/>
                    <a:pt x="6720" y="9"/>
                  </a:cubicBezTo>
                  <a:cubicBezTo>
                    <a:pt x="6720" y="13"/>
                    <a:pt x="6716" y="17"/>
                    <a:pt x="6711" y="17"/>
                  </a:cubicBezTo>
                  <a:lnTo>
                    <a:pt x="6711" y="17"/>
                  </a:lnTo>
                  <a:cubicBezTo>
                    <a:pt x="6707" y="17"/>
                    <a:pt x="6703" y="13"/>
                    <a:pt x="6703" y="9"/>
                  </a:cubicBezTo>
                  <a:cubicBezTo>
                    <a:pt x="6703" y="4"/>
                    <a:pt x="6707" y="0"/>
                    <a:pt x="6711" y="0"/>
                  </a:cubicBezTo>
                  <a:close/>
                  <a:moveTo>
                    <a:pt x="6745" y="0"/>
                  </a:moveTo>
                  <a:lnTo>
                    <a:pt x="6745" y="0"/>
                  </a:lnTo>
                  <a:cubicBezTo>
                    <a:pt x="6749" y="0"/>
                    <a:pt x="6753" y="4"/>
                    <a:pt x="6753" y="9"/>
                  </a:cubicBezTo>
                  <a:cubicBezTo>
                    <a:pt x="6753" y="13"/>
                    <a:pt x="6749" y="17"/>
                    <a:pt x="6745" y="17"/>
                  </a:cubicBezTo>
                  <a:lnTo>
                    <a:pt x="6745" y="17"/>
                  </a:lnTo>
                  <a:cubicBezTo>
                    <a:pt x="6740" y="17"/>
                    <a:pt x="6736" y="13"/>
                    <a:pt x="6736" y="9"/>
                  </a:cubicBezTo>
                  <a:cubicBezTo>
                    <a:pt x="6736" y="4"/>
                    <a:pt x="6740" y="0"/>
                    <a:pt x="6745" y="0"/>
                  </a:cubicBezTo>
                  <a:close/>
                  <a:moveTo>
                    <a:pt x="6778" y="0"/>
                  </a:moveTo>
                  <a:lnTo>
                    <a:pt x="6778" y="0"/>
                  </a:lnTo>
                  <a:cubicBezTo>
                    <a:pt x="6783" y="0"/>
                    <a:pt x="6786" y="4"/>
                    <a:pt x="6786" y="9"/>
                  </a:cubicBezTo>
                  <a:cubicBezTo>
                    <a:pt x="6786" y="13"/>
                    <a:pt x="6783" y="17"/>
                    <a:pt x="6778" y="17"/>
                  </a:cubicBezTo>
                  <a:lnTo>
                    <a:pt x="6778" y="17"/>
                  </a:lnTo>
                  <a:cubicBezTo>
                    <a:pt x="6773" y="17"/>
                    <a:pt x="6770" y="13"/>
                    <a:pt x="6770" y="9"/>
                  </a:cubicBezTo>
                  <a:cubicBezTo>
                    <a:pt x="6770" y="4"/>
                    <a:pt x="6773" y="0"/>
                    <a:pt x="6778" y="0"/>
                  </a:cubicBezTo>
                  <a:close/>
                  <a:moveTo>
                    <a:pt x="6811" y="0"/>
                  </a:moveTo>
                  <a:lnTo>
                    <a:pt x="6811" y="0"/>
                  </a:lnTo>
                  <a:cubicBezTo>
                    <a:pt x="6816" y="0"/>
                    <a:pt x="6820" y="4"/>
                    <a:pt x="6820" y="9"/>
                  </a:cubicBezTo>
                  <a:cubicBezTo>
                    <a:pt x="6820" y="13"/>
                    <a:pt x="6816" y="17"/>
                    <a:pt x="6811" y="17"/>
                  </a:cubicBezTo>
                  <a:lnTo>
                    <a:pt x="6811" y="17"/>
                  </a:lnTo>
                  <a:cubicBezTo>
                    <a:pt x="6807" y="17"/>
                    <a:pt x="6803" y="13"/>
                    <a:pt x="6803" y="9"/>
                  </a:cubicBezTo>
                  <a:cubicBezTo>
                    <a:pt x="6803" y="4"/>
                    <a:pt x="6807" y="0"/>
                    <a:pt x="6811" y="0"/>
                  </a:cubicBezTo>
                  <a:close/>
                  <a:moveTo>
                    <a:pt x="6845" y="0"/>
                  </a:moveTo>
                  <a:lnTo>
                    <a:pt x="6845" y="0"/>
                  </a:lnTo>
                  <a:cubicBezTo>
                    <a:pt x="6849" y="0"/>
                    <a:pt x="6853" y="4"/>
                    <a:pt x="6853" y="9"/>
                  </a:cubicBezTo>
                  <a:cubicBezTo>
                    <a:pt x="6853" y="13"/>
                    <a:pt x="6849" y="17"/>
                    <a:pt x="6845" y="17"/>
                  </a:cubicBezTo>
                  <a:lnTo>
                    <a:pt x="6845" y="17"/>
                  </a:lnTo>
                  <a:cubicBezTo>
                    <a:pt x="6840" y="17"/>
                    <a:pt x="6836" y="13"/>
                    <a:pt x="6836" y="9"/>
                  </a:cubicBezTo>
                  <a:cubicBezTo>
                    <a:pt x="6836" y="4"/>
                    <a:pt x="6840" y="0"/>
                    <a:pt x="6845" y="0"/>
                  </a:cubicBezTo>
                  <a:close/>
                  <a:moveTo>
                    <a:pt x="6878" y="0"/>
                  </a:moveTo>
                  <a:lnTo>
                    <a:pt x="6878" y="0"/>
                  </a:lnTo>
                  <a:cubicBezTo>
                    <a:pt x="6883" y="0"/>
                    <a:pt x="6886" y="4"/>
                    <a:pt x="6886" y="9"/>
                  </a:cubicBezTo>
                  <a:cubicBezTo>
                    <a:pt x="6886" y="13"/>
                    <a:pt x="6883" y="17"/>
                    <a:pt x="6878" y="17"/>
                  </a:cubicBezTo>
                  <a:lnTo>
                    <a:pt x="6878" y="17"/>
                  </a:lnTo>
                  <a:cubicBezTo>
                    <a:pt x="6874" y="17"/>
                    <a:pt x="6870" y="13"/>
                    <a:pt x="6870" y="9"/>
                  </a:cubicBezTo>
                  <a:cubicBezTo>
                    <a:pt x="6870" y="4"/>
                    <a:pt x="6874" y="0"/>
                    <a:pt x="6878" y="0"/>
                  </a:cubicBezTo>
                  <a:close/>
                  <a:moveTo>
                    <a:pt x="6911" y="0"/>
                  </a:moveTo>
                  <a:lnTo>
                    <a:pt x="6911" y="0"/>
                  </a:lnTo>
                  <a:cubicBezTo>
                    <a:pt x="6916" y="0"/>
                    <a:pt x="6920" y="4"/>
                    <a:pt x="6920" y="9"/>
                  </a:cubicBezTo>
                  <a:cubicBezTo>
                    <a:pt x="6920" y="13"/>
                    <a:pt x="6916" y="17"/>
                    <a:pt x="6911" y="17"/>
                  </a:cubicBezTo>
                  <a:lnTo>
                    <a:pt x="6911" y="17"/>
                  </a:lnTo>
                  <a:cubicBezTo>
                    <a:pt x="6907" y="17"/>
                    <a:pt x="6903" y="13"/>
                    <a:pt x="6903" y="9"/>
                  </a:cubicBezTo>
                  <a:cubicBezTo>
                    <a:pt x="6903" y="4"/>
                    <a:pt x="6907" y="0"/>
                    <a:pt x="6911" y="0"/>
                  </a:cubicBezTo>
                  <a:close/>
                  <a:moveTo>
                    <a:pt x="6945" y="0"/>
                  </a:moveTo>
                  <a:lnTo>
                    <a:pt x="6945" y="0"/>
                  </a:lnTo>
                  <a:cubicBezTo>
                    <a:pt x="6949" y="0"/>
                    <a:pt x="6953" y="4"/>
                    <a:pt x="6953" y="9"/>
                  </a:cubicBezTo>
                  <a:cubicBezTo>
                    <a:pt x="6953" y="13"/>
                    <a:pt x="6949" y="17"/>
                    <a:pt x="6945" y="17"/>
                  </a:cubicBezTo>
                  <a:lnTo>
                    <a:pt x="6945" y="17"/>
                  </a:lnTo>
                  <a:cubicBezTo>
                    <a:pt x="6940" y="17"/>
                    <a:pt x="6936" y="13"/>
                    <a:pt x="6936" y="9"/>
                  </a:cubicBezTo>
                  <a:cubicBezTo>
                    <a:pt x="6936" y="4"/>
                    <a:pt x="6940" y="0"/>
                    <a:pt x="6945" y="0"/>
                  </a:cubicBezTo>
                  <a:close/>
                  <a:moveTo>
                    <a:pt x="6978" y="0"/>
                  </a:moveTo>
                  <a:lnTo>
                    <a:pt x="6978" y="0"/>
                  </a:lnTo>
                  <a:cubicBezTo>
                    <a:pt x="6983" y="0"/>
                    <a:pt x="6987" y="4"/>
                    <a:pt x="6987" y="9"/>
                  </a:cubicBezTo>
                  <a:cubicBezTo>
                    <a:pt x="6987" y="13"/>
                    <a:pt x="6983" y="17"/>
                    <a:pt x="6978" y="17"/>
                  </a:cubicBezTo>
                  <a:lnTo>
                    <a:pt x="6978" y="17"/>
                  </a:lnTo>
                  <a:cubicBezTo>
                    <a:pt x="6974" y="17"/>
                    <a:pt x="6970" y="13"/>
                    <a:pt x="6970" y="9"/>
                  </a:cubicBezTo>
                  <a:cubicBezTo>
                    <a:pt x="6970" y="4"/>
                    <a:pt x="6974" y="0"/>
                    <a:pt x="6978" y="0"/>
                  </a:cubicBezTo>
                  <a:close/>
                  <a:moveTo>
                    <a:pt x="7012" y="0"/>
                  </a:moveTo>
                  <a:lnTo>
                    <a:pt x="7012" y="0"/>
                  </a:lnTo>
                  <a:cubicBezTo>
                    <a:pt x="7016" y="0"/>
                    <a:pt x="7020" y="4"/>
                    <a:pt x="7020" y="9"/>
                  </a:cubicBezTo>
                  <a:cubicBezTo>
                    <a:pt x="7020" y="13"/>
                    <a:pt x="7016" y="17"/>
                    <a:pt x="7012" y="17"/>
                  </a:cubicBezTo>
                  <a:lnTo>
                    <a:pt x="7012" y="17"/>
                  </a:lnTo>
                  <a:cubicBezTo>
                    <a:pt x="7007" y="17"/>
                    <a:pt x="7003" y="13"/>
                    <a:pt x="7003" y="9"/>
                  </a:cubicBezTo>
                  <a:cubicBezTo>
                    <a:pt x="7003" y="4"/>
                    <a:pt x="7007" y="0"/>
                    <a:pt x="7012" y="0"/>
                  </a:cubicBezTo>
                  <a:close/>
                  <a:moveTo>
                    <a:pt x="7045" y="0"/>
                  </a:moveTo>
                  <a:lnTo>
                    <a:pt x="7045" y="0"/>
                  </a:lnTo>
                  <a:cubicBezTo>
                    <a:pt x="7049" y="0"/>
                    <a:pt x="7053" y="4"/>
                    <a:pt x="7053" y="9"/>
                  </a:cubicBezTo>
                  <a:cubicBezTo>
                    <a:pt x="7053" y="13"/>
                    <a:pt x="7049" y="17"/>
                    <a:pt x="7045" y="17"/>
                  </a:cubicBezTo>
                  <a:lnTo>
                    <a:pt x="7045" y="17"/>
                  </a:lnTo>
                  <a:cubicBezTo>
                    <a:pt x="7040" y="17"/>
                    <a:pt x="7037" y="13"/>
                    <a:pt x="7037" y="9"/>
                  </a:cubicBezTo>
                  <a:cubicBezTo>
                    <a:pt x="7037" y="4"/>
                    <a:pt x="7040" y="0"/>
                    <a:pt x="7045" y="0"/>
                  </a:cubicBezTo>
                  <a:close/>
                  <a:moveTo>
                    <a:pt x="7078" y="0"/>
                  </a:moveTo>
                  <a:lnTo>
                    <a:pt x="7078" y="0"/>
                  </a:lnTo>
                  <a:cubicBezTo>
                    <a:pt x="7083" y="0"/>
                    <a:pt x="7087" y="4"/>
                    <a:pt x="7087" y="9"/>
                  </a:cubicBezTo>
                  <a:cubicBezTo>
                    <a:pt x="7087" y="13"/>
                    <a:pt x="7083" y="17"/>
                    <a:pt x="7078" y="17"/>
                  </a:cubicBezTo>
                  <a:lnTo>
                    <a:pt x="7078" y="17"/>
                  </a:lnTo>
                  <a:cubicBezTo>
                    <a:pt x="7074" y="17"/>
                    <a:pt x="7070" y="13"/>
                    <a:pt x="7070" y="9"/>
                  </a:cubicBezTo>
                  <a:cubicBezTo>
                    <a:pt x="7070" y="4"/>
                    <a:pt x="7074" y="0"/>
                    <a:pt x="7078" y="0"/>
                  </a:cubicBezTo>
                  <a:close/>
                  <a:moveTo>
                    <a:pt x="7112" y="0"/>
                  </a:moveTo>
                  <a:lnTo>
                    <a:pt x="7112" y="0"/>
                  </a:lnTo>
                  <a:cubicBezTo>
                    <a:pt x="7116" y="0"/>
                    <a:pt x="7120" y="4"/>
                    <a:pt x="7120" y="9"/>
                  </a:cubicBezTo>
                  <a:cubicBezTo>
                    <a:pt x="7120" y="13"/>
                    <a:pt x="7116" y="17"/>
                    <a:pt x="7112" y="17"/>
                  </a:cubicBezTo>
                  <a:lnTo>
                    <a:pt x="7112" y="17"/>
                  </a:lnTo>
                  <a:cubicBezTo>
                    <a:pt x="7107" y="17"/>
                    <a:pt x="7103" y="13"/>
                    <a:pt x="7103" y="9"/>
                  </a:cubicBezTo>
                  <a:cubicBezTo>
                    <a:pt x="7103" y="4"/>
                    <a:pt x="7107" y="0"/>
                    <a:pt x="7112" y="0"/>
                  </a:cubicBezTo>
                  <a:close/>
                  <a:moveTo>
                    <a:pt x="7145" y="0"/>
                  </a:moveTo>
                  <a:lnTo>
                    <a:pt x="7145" y="0"/>
                  </a:lnTo>
                  <a:cubicBezTo>
                    <a:pt x="7150" y="0"/>
                    <a:pt x="7153" y="4"/>
                    <a:pt x="7153" y="9"/>
                  </a:cubicBezTo>
                  <a:cubicBezTo>
                    <a:pt x="7153" y="13"/>
                    <a:pt x="7150" y="17"/>
                    <a:pt x="7145" y="17"/>
                  </a:cubicBezTo>
                  <a:lnTo>
                    <a:pt x="7145" y="17"/>
                  </a:lnTo>
                  <a:cubicBezTo>
                    <a:pt x="7140" y="17"/>
                    <a:pt x="7137" y="13"/>
                    <a:pt x="7137" y="9"/>
                  </a:cubicBezTo>
                  <a:cubicBezTo>
                    <a:pt x="7137" y="4"/>
                    <a:pt x="7140" y="0"/>
                    <a:pt x="7145" y="0"/>
                  </a:cubicBezTo>
                  <a:close/>
                  <a:moveTo>
                    <a:pt x="7178" y="0"/>
                  </a:moveTo>
                  <a:lnTo>
                    <a:pt x="7178" y="0"/>
                  </a:lnTo>
                  <a:cubicBezTo>
                    <a:pt x="7183" y="0"/>
                    <a:pt x="7187" y="4"/>
                    <a:pt x="7187" y="9"/>
                  </a:cubicBezTo>
                  <a:cubicBezTo>
                    <a:pt x="7187" y="13"/>
                    <a:pt x="7183" y="17"/>
                    <a:pt x="7178" y="17"/>
                  </a:cubicBezTo>
                  <a:lnTo>
                    <a:pt x="7178" y="17"/>
                  </a:lnTo>
                  <a:cubicBezTo>
                    <a:pt x="7174" y="17"/>
                    <a:pt x="7170" y="13"/>
                    <a:pt x="7170" y="9"/>
                  </a:cubicBezTo>
                  <a:cubicBezTo>
                    <a:pt x="7170" y="4"/>
                    <a:pt x="7174" y="0"/>
                    <a:pt x="7178" y="0"/>
                  </a:cubicBezTo>
                  <a:close/>
                  <a:moveTo>
                    <a:pt x="7212" y="0"/>
                  </a:moveTo>
                  <a:lnTo>
                    <a:pt x="7212" y="0"/>
                  </a:lnTo>
                  <a:cubicBezTo>
                    <a:pt x="7216" y="0"/>
                    <a:pt x="7220" y="4"/>
                    <a:pt x="7220" y="9"/>
                  </a:cubicBezTo>
                  <a:cubicBezTo>
                    <a:pt x="7220" y="13"/>
                    <a:pt x="7216" y="17"/>
                    <a:pt x="7212" y="17"/>
                  </a:cubicBezTo>
                  <a:lnTo>
                    <a:pt x="7212" y="17"/>
                  </a:lnTo>
                  <a:cubicBezTo>
                    <a:pt x="7207" y="17"/>
                    <a:pt x="7203" y="13"/>
                    <a:pt x="7203" y="9"/>
                  </a:cubicBezTo>
                  <a:cubicBezTo>
                    <a:pt x="7203" y="4"/>
                    <a:pt x="7207" y="0"/>
                    <a:pt x="7212" y="0"/>
                  </a:cubicBezTo>
                  <a:close/>
                  <a:moveTo>
                    <a:pt x="7245" y="0"/>
                  </a:moveTo>
                  <a:lnTo>
                    <a:pt x="7245" y="0"/>
                  </a:lnTo>
                  <a:cubicBezTo>
                    <a:pt x="7250" y="0"/>
                    <a:pt x="7253" y="4"/>
                    <a:pt x="7253" y="9"/>
                  </a:cubicBezTo>
                  <a:cubicBezTo>
                    <a:pt x="7253" y="13"/>
                    <a:pt x="7250" y="17"/>
                    <a:pt x="7245" y="17"/>
                  </a:cubicBezTo>
                  <a:lnTo>
                    <a:pt x="7245" y="17"/>
                  </a:lnTo>
                  <a:cubicBezTo>
                    <a:pt x="7240" y="17"/>
                    <a:pt x="7237" y="13"/>
                    <a:pt x="7237" y="9"/>
                  </a:cubicBezTo>
                  <a:cubicBezTo>
                    <a:pt x="7237" y="4"/>
                    <a:pt x="7240" y="0"/>
                    <a:pt x="7245" y="0"/>
                  </a:cubicBezTo>
                  <a:close/>
                  <a:moveTo>
                    <a:pt x="7278" y="0"/>
                  </a:moveTo>
                  <a:lnTo>
                    <a:pt x="7278" y="0"/>
                  </a:lnTo>
                  <a:cubicBezTo>
                    <a:pt x="7283" y="0"/>
                    <a:pt x="7287" y="4"/>
                    <a:pt x="7287" y="9"/>
                  </a:cubicBezTo>
                  <a:cubicBezTo>
                    <a:pt x="7287" y="13"/>
                    <a:pt x="7283" y="17"/>
                    <a:pt x="7278" y="17"/>
                  </a:cubicBezTo>
                  <a:lnTo>
                    <a:pt x="7278" y="17"/>
                  </a:lnTo>
                  <a:cubicBezTo>
                    <a:pt x="7274" y="17"/>
                    <a:pt x="7270" y="13"/>
                    <a:pt x="7270" y="9"/>
                  </a:cubicBezTo>
                  <a:cubicBezTo>
                    <a:pt x="7270" y="4"/>
                    <a:pt x="7274" y="0"/>
                    <a:pt x="7278" y="0"/>
                  </a:cubicBezTo>
                  <a:close/>
                  <a:moveTo>
                    <a:pt x="7312" y="0"/>
                  </a:moveTo>
                  <a:lnTo>
                    <a:pt x="7312" y="0"/>
                  </a:lnTo>
                  <a:cubicBezTo>
                    <a:pt x="7316" y="0"/>
                    <a:pt x="7320" y="4"/>
                    <a:pt x="7320" y="9"/>
                  </a:cubicBezTo>
                  <a:cubicBezTo>
                    <a:pt x="7320" y="13"/>
                    <a:pt x="7316" y="17"/>
                    <a:pt x="7312" y="17"/>
                  </a:cubicBezTo>
                  <a:lnTo>
                    <a:pt x="7312" y="17"/>
                  </a:lnTo>
                  <a:cubicBezTo>
                    <a:pt x="7307" y="17"/>
                    <a:pt x="7303" y="13"/>
                    <a:pt x="7303" y="9"/>
                  </a:cubicBezTo>
                  <a:cubicBezTo>
                    <a:pt x="7303" y="4"/>
                    <a:pt x="7307" y="0"/>
                    <a:pt x="7312" y="0"/>
                  </a:cubicBezTo>
                  <a:close/>
                  <a:moveTo>
                    <a:pt x="7345" y="0"/>
                  </a:moveTo>
                  <a:lnTo>
                    <a:pt x="7345" y="0"/>
                  </a:lnTo>
                  <a:cubicBezTo>
                    <a:pt x="7350" y="0"/>
                    <a:pt x="7353" y="4"/>
                    <a:pt x="7353" y="9"/>
                  </a:cubicBezTo>
                  <a:cubicBezTo>
                    <a:pt x="7353" y="13"/>
                    <a:pt x="7350" y="17"/>
                    <a:pt x="7345" y="17"/>
                  </a:cubicBezTo>
                  <a:lnTo>
                    <a:pt x="7345" y="17"/>
                  </a:lnTo>
                  <a:cubicBezTo>
                    <a:pt x="7340" y="17"/>
                    <a:pt x="7337" y="13"/>
                    <a:pt x="7337" y="9"/>
                  </a:cubicBezTo>
                  <a:cubicBezTo>
                    <a:pt x="7337" y="4"/>
                    <a:pt x="7340" y="0"/>
                    <a:pt x="7345" y="0"/>
                  </a:cubicBezTo>
                  <a:close/>
                  <a:moveTo>
                    <a:pt x="7378" y="0"/>
                  </a:moveTo>
                  <a:lnTo>
                    <a:pt x="7378" y="0"/>
                  </a:lnTo>
                  <a:cubicBezTo>
                    <a:pt x="7383" y="0"/>
                    <a:pt x="7387" y="4"/>
                    <a:pt x="7387" y="9"/>
                  </a:cubicBezTo>
                  <a:cubicBezTo>
                    <a:pt x="7387" y="13"/>
                    <a:pt x="7383" y="17"/>
                    <a:pt x="7378" y="17"/>
                  </a:cubicBezTo>
                  <a:lnTo>
                    <a:pt x="7378" y="17"/>
                  </a:lnTo>
                  <a:cubicBezTo>
                    <a:pt x="7374" y="17"/>
                    <a:pt x="7370" y="13"/>
                    <a:pt x="7370" y="9"/>
                  </a:cubicBezTo>
                  <a:cubicBezTo>
                    <a:pt x="7370" y="4"/>
                    <a:pt x="7374" y="0"/>
                    <a:pt x="7378" y="0"/>
                  </a:cubicBezTo>
                  <a:close/>
                  <a:moveTo>
                    <a:pt x="7412" y="0"/>
                  </a:moveTo>
                  <a:lnTo>
                    <a:pt x="7412" y="0"/>
                  </a:lnTo>
                  <a:cubicBezTo>
                    <a:pt x="7416" y="0"/>
                    <a:pt x="7420" y="4"/>
                    <a:pt x="7420" y="9"/>
                  </a:cubicBezTo>
                  <a:cubicBezTo>
                    <a:pt x="7420" y="13"/>
                    <a:pt x="7416" y="17"/>
                    <a:pt x="7412" y="17"/>
                  </a:cubicBezTo>
                  <a:lnTo>
                    <a:pt x="7412" y="17"/>
                  </a:lnTo>
                  <a:cubicBezTo>
                    <a:pt x="7407" y="17"/>
                    <a:pt x="7403" y="13"/>
                    <a:pt x="7403" y="9"/>
                  </a:cubicBezTo>
                  <a:cubicBezTo>
                    <a:pt x="7403" y="4"/>
                    <a:pt x="7407" y="0"/>
                    <a:pt x="7412" y="0"/>
                  </a:cubicBezTo>
                  <a:close/>
                  <a:moveTo>
                    <a:pt x="7445" y="0"/>
                  </a:moveTo>
                  <a:lnTo>
                    <a:pt x="7445" y="0"/>
                  </a:lnTo>
                  <a:cubicBezTo>
                    <a:pt x="7450" y="0"/>
                    <a:pt x="7453" y="4"/>
                    <a:pt x="7453" y="9"/>
                  </a:cubicBezTo>
                  <a:cubicBezTo>
                    <a:pt x="7453" y="13"/>
                    <a:pt x="7450" y="17"/>
                    <a:pt x="7445" y="17"/>
                  </a:cubicBezTo>
                  <a:lnTo>
                    <a:pt x="7445" y="17"/>
                  </a:lnTo>
                  <a:cubicBezTo>
                    <a:pt x="7440" y="17"/>
                    <a:pt x="7437" y="13"/>
                    <a:pt x="7437" y="9"/>
                  </a:cubicBezTo>
                  <a:cubicBezTo>
                    <a:pt x="7437" y="4"/>
                    <a:pt x="7440" y="0"/>
                    <a:pt x="7445" y="0"/>
                  </a:cubicBezTo>
                  <a:close/>
                  <a:moveTo>
                    <a:pt x="7478" y="0"/>
                  </a:moveTo>
                  <a:lnTo>
                    <a:pt x="7478" y="0"/>
                  </a:lnTo>
                  <a:cubicBezTo>
                    <a:pt x="7483" y="0"/>
                    <a:pt x="7487" y="4"/>
                    <a:pt x="7487" y="9"/>
                  </a:cubicBezTo>
                  <a:cubicBezTo>
                    <a:pt x="7487" y="13"/>
                    <a:pt x="7483" y="17"/>
                    <a:pt x="7478" y="17"/>
                  </a:cubicBezTo>
                  <a:lnTo>
                    <a:pt x="7478" y="17"/>
                  </a:lnTo>
                  <a:cubicBezTo>
                    <a:pt x="7474" y="17"/>
                    <a:pt x="7470" y="13"/>
                    <a:pt x="7470" y="9"/>
                  </a:cubicBezTo>
                  <a:cubicBezTo>
                    <a:pt x="7470" y="4"/>
                    <a:pt x="7474" y="0"/>
                    <a:pt x="7478" y="0"/>
                  </a:cubicBezTo>
                  <a:close/>
                  <a:moveTo>
                    <a:pt x="7512" y="0"/>
                  </a:moveTo>
                  <a:lnTo>
                    <a:pt x="7512" y="0"/>
                  </a:lnTo>
                  <a:cubicBezTo>
                    <a:pt x="7516" y="0"/>
                    <a:pt x="7520" y="4"/>
                    <a:pt x="7520" y="9"/>
                  </a:cubicBezTo>
                  <a:cubicBezTo>
                    <a:pt x="7520" y="13"/>
                    <a:pt x="7516" y="17"/>
                    <a:pt x="7512" y="17"/>
                  </a:cubicBezTo>
                  <a:lnTo>
                    <a:pt x="7512" y="17"/>
                  </a:lnTo>
                  <a:cubicBezTo>
                    <a:pt x="7507" y="17"/>
                    <a:pt x="7503" y="13"/>
                    <a:pt x="7503" y="9"/>
                  </a:cubicBezTo>
                  <a:cubicBezTo>
                    <a:pt x="7503" y="4"/>
                    <a:pt x="7507" y="0"/>
                    <a:pt x="7512" y="0"/>
                  </a:cubicBezTo>
                  <a:close/>
                  <a:moveTo>
                    <a:pt x="7545" y="0"/>
                  </a:moveTo>
                  <a:lnTo>
                    <a:pt x="7545" y="0"/>
                  </a:lnTo>
                  <a:cubicBezTo>
                    <a:pt x="7550" y="0"/>
                    <a:pt x="7554" y="4"/>
                    <a:pt x="7554" y="9"/>
                  </a:cubicBezTo>
                  <a:cubicBezTo>
                    <a:pt x="7554" y="13"/>
                    <a:pt x="7550" y="17"/>
                    <a:pt x="7545" y="17"/>
                  </a:cubicBezTo>
                  <a:lnTo>
                    <a:pt x="7545" y="17"/>
                  </a:lnTo>
                  <a:cubicBezTo>
                    <a:pt x="7541" y="17"/>
                    <a:pt x="7537" y="13"/>
                    <a:pt x="7537" y="9"/>
                  </a:cubicBezTo>
                  <a:cubicBezTo>
                    <a:pt x="7537" y="4"/>
                    <a:pt x="7541" y="0"/>
                    <a:pt x="7545" y="0"/>
                  </a:cubicBezTo>
                  <a:close/>
                  <a:moveTo>
                    <a:pt x="7579" y="0"/>
                  </a:moveTo>
                  <a:lnTo>
                    <a:pt x="7579" y="0"/>
                  </a:lnTo>
                  <a:cubicBezTo>
                    <a:pt x="7583" y="0"/>
                    <a:pt x="7587" y="4"/>
                    <a:pt x="7587" y="9"/>
                  </a:cubicBezTo>
                  <a:cubicBezTo>
                    <a:pt x="7587" y="13"/>
                    <a:pt x="7583" y="17"/>
                    <a:pt x="7579" y="17"/>
                  </a:cubicBezTo>
                  <a:lnTo>
                    <a:pt x="7579" y="17"/>
                  </a:lnTo>
                  <a:cubicBezTo>
                    <a:pt x="7574" y="17"/>
                    <a:pt x="7570" y="13"/>
                    <a:pt x="7570" y="9"/>
                  </a:cubicBezTo>
                  <a:cubicBezTo>
                    <a:pt x="7570" y="4"/>
                    <a:pt x="7574" y="0"/>
                    <a:pt x="7579" y="0"/>
                  </a:cubicBezTo>
                  <a:close/>
                  <a:moveTo>
                    <a:pt x="7612" y="0"/>
                  </a:moveTo>
                  <a:lnTo>
                    <a:pt x="7612" y="0"/>
                  </a:lnTo>
                  <a:cubicBezTo>
                    <a:pt x="7616" y="0"/>
                    <a:pt x="7620" y="4"/>
                    <a:pt x="7620" y="9"/>
                  </a:cubicBezTo>
                  <a:cubicBezTo>
                    <a:pt x="7620" y="13"/>
                    <a:pt x="7616" y="17"/>
                    <a:pt x="7612" y="17"/>
                  </a:cubicBezTo>
                  <a:lnTo>
                    <a:pt x="7612" y="17"/>
                  </a:lnTo>
                  <a:cubicBezTo>
                    <a:pt x="7607" y="17"/>
                    <a:pt x="7604" y="13"/>
                    <a:pt x="7604" y="9"/>
                  </a:cubicBezTo>
                  <a:cubicBezTo>
                    <a:pt x="7604" y="4"/>
                    <a:pt x="7607" y="0"/>
                    <a:pt x="7612" y="0"/>
                  </a:cubicBezTo>
                  <a:close/>
                  <a:moveTo>
                    <a:pt x="7645" y="0"/>
                  </a:moveTo>
                  <a:lnTo>
                    <a:pt x="7645" y="0"/>
                  </a:lnTo>
                  <a:cubicBezTo>
                    <a:pt x="7650" y="0"/>
                    <a:pt x="7654" y="4"/>
                    <a:pt x="7654" y="9"/>
                  </a:cubicBezTo>
                  <a:cubicBezTo>
                    <a:pt x="7654" y="13"/>
                    <a:pt x="7650" y="17"/>
                    <a:pt x="7645" y="17"/>
                  </a:cubicBezTo>
                  <a:lnTo>
                    <a:pt x="7645" y="17"/>
                  </a:lnTo>
                  <a:cubicBezTo>
                    <a:pt x="7641" y="17"/>
                    <a:pt x="7637" y="13"/>
                    <a:pt x="7637" y="9"/>
                  </a:cubicBezTo>
                  <a:cubicBezTo>
                    <a:pt x="7637" y="4"/>
                    <a:pt x="7641" y="0"/>
                    <a:pt x="7645" y="0"/>
                  </a:cubicBezTo>
                  <a:close/>
                  <a:moveTo>
                    <a:pt x="7679" y="0"/>
                  </a:moveTo>
                  <a:lnTo>
                    <a:pt x="7679" y="0"/>
                  </a:lnTo>
                  <a:cubicBezTo>
                    <a:pt x="7683" y="0"/>
                    <a:pt x="7687" y="4"/>
                    <a:pt x="7687" y="9"/>
                  </a:cubicBezTo>
                  <a:cubicBezTo>
                    <a:pt x="7687" y="13"/>
                    <a:pt x="7683" y="17"/>
                    <a:pt x="7679" y="17"/>
                  </a:cubicBezTo>
                  <a:lnTo>
                    <a:pt x="7679" y="17"/>
                  </a:lnTo>
                  <a:cubicBezTo>
                    <a:pt x="7674" y="17"/>
                    <a:pt x="7670" y="13"/>
                    <a:pt x="7670" y="9"/>
                  </a:cubicBezTo>
                  <a:cubicBezTo>
                    <a:pt x="7670" y="4"/>
                    <a:pt x="7674" y="0"/>
                    <a:pt x="7679" y="0"/>
                  </a:cubicBezTo>
                  <a:close/>
                  <a:moveTo>
                    <a:pt x="7712" y="0"/>
                  </a:moveTo>
                  <a:lnTo>
                    <a:pt x="7712" y="0"/>
                  </a:lnTo>
                  <a:cubicBezTo>
                    <a:pt x="7717" y="0"/>
                    <a:pt x="7720" y="4"/>
                    <a:pt x="7720" y="9"/>
                  </a:cubicBezTo>
                  <a:cubicBezTo>
                    <a:pt x="7720" y="13"/>
                    <a:pt x="7717" y="17"/>
                    <a:pt x="7712" y="17"/>
                  </a:cubicBezTo>
                  <a:lnTo>
                    <a:pt x="7712" y="17"/>
                  </a:lnTo>
                  <a:cubicBezTo>
                    <a:pt x="7707" y="17"/>
                    <a:pt x="7704" y="13"/>
                    <a:pt x="7704" y="9"/>
                  </a:cubicBezTo>
                  <a:cubicBezTo>
                    <a:pt x="7704" y="4"/>
                    <a:pt x="7707" y="0"/>
                    <a:pt x="7712" y="0"/>
                  </a:cubicBezTo>
                  <a:close/>
                  <a:moveTo>
                    <a:pt x="7745" y="0"/>
                  </a:moveTo>
                  <a:lnTo>
                    <a:pt x="7745" y="0"/>
                  </a:lnTo>
                  <a:cubicBezTo>
                    <a:pt x="7750" y="0"/>
                    <a:pt x="7754" y="4"/>
                    <a:pt x="7754" y="9"/>
                  </a:cubicBezTo>
                  <a:cubicBezTo>
                    <a:pt x="7754" y="13"/>
                    <a:pt x="7750" y="17"/>
                    <a:pt x="7745" y="17"/>
                  </a:cubicBezTo>
                  <a:lnTo>
                    <a:pt x="7745" y="17"/>
                  </a:lnTo>
                  <a:cubicBezTo>
                    <a:pt x="7741" y="17"/>
                    <a:pt x="7737" y="13"/>
                    <a:pt x="7737" y="9"/>
                  </a:cubicBezTo>
                  <a:cubicBezTo>
                    <a:pt x="7737" y="4"/>
                    <a:pt x="7741" y="0"/>
                    <a:pt x="7745" y="0"/>
                  </a:cubicBezTo>
                  <a:close/>
                  <a:moveTo>
                    <a:pt x="7779" y="0"/>
                  </a:moveTo>
                  <a:lnTo>
                    <a:pt x="7779" y="0"/>
                  </a:lnTo>
                  <a:cubicBezTo>
                    <a:pt x="7783" y="0"/>
                    <a:pt x="7787" y="4"/>
                    <a:pt x="7787" y="9"/>
                  </a:cubicBezTo>
                  <a:cubicBezTo>
                    <a:pt x="7787" y="13"/>
                    <a:pt x="7783" y="17"/>
                    <a:pt x="7779" y="17"/>
                  </a:cubicBezTo>
                  <a:lnTo>
                    <a:pt x="7779" y="17"/>
                  </a:lnTo>
                  <a:cubicBezTo>
                    <a:pt x="7774" y="17"/>
                    <a:pt x="7770" y="13"/>
                    <a:pt x="7770" y="9"/>
                  </a:cubicBezTo>
                  <a:cubicBezTo>
                    <a:pt x="7770" y="4"/>
                    <a:pt x="7774" y="0"/>
                    <a:pt x="7779" y="0"/>
                  </a:cubicBezTo>
                  <a:close/>
                  <a:moveTo>
                    <a:pt x="7812" y="0"/>
                  </a:moveTo>
                  <a:lnTo>
                    <a:pt x="7812" y="0"/>
                  </a:lnTo>
                  <a:cubicBezTo>
                    <a:pt x="7817" y="0"/>
                    <a:pt x="7820" y="4"/>
                    <a:pt x="7820" y="9"/>
                  </a:cubicBezTo>
                  <a:cubicBezTo>
                    <a:pt x="7820" y="13"/>
                    <a:pt x="7817" y="17"/>
                    <a:pt x="7812" y="17"/>
                  </a:cubicBezTo>
                  <a:lnTo>
                    <a:pt x="7812" y="17"/>
                  </a:lnTo>
                  <a:cubicBezTo>
                    <a:pt x="7807" y="17"/>
                    <a:pt x="7804" y="13"/>
                    <a:pt x="7804" y="9"/>
                  </a:cubicBezTo>
                  <a:cubicBezTo>
                    <a:pt x="7804" y="4"/>
                    <a:pt x="7807" y="0"/>
                    <a:pt x="7812" y="0"/>
                  </a:cubicBezTo>
                  <a:close/>
                  <a:moveTo>
                    <a:pt x="7845" y="0"/>
                  </a:moveTo>
                  <a:lnTo>
                    <a:pt x="7845" y="0"/>
                  </a:lnTo>
                  <a:cubicBezTo>
                    <a:pt x="7850" y="0"/>
                    <a:pt x="7854" y="4"/>
                    <a:pt x="7854" y="9"/>
                  </a:cubicBezTo>
                  <a:cubicBezTo>
                    <a:pt x="7854" y="13"/>
                    <a:pt x="7850" y="17"/>
                    <a:pt x="7845" y="17"/>
                  </a:cubicBezTo>
                  <a:lnTo>
                    <a:pt x="7845" y="17"/>
                  </a:lnTo>
                  <a:cubicBezTo>
                    <a:pt x="7841" y="17"/>
                    <a:pt x="7837" y="13"/>
                    <a:pt x="7837" y="9"/>
                  </a:cubicBezTo>
                  <a:cubicBezTo>
                    <a:pt x="7837" y="4"/>
                    <a:pt x="7841" y="0"/>
                    <a:pt x="7845" y="0"/>
                  </a:cubicBezTo>
                  <a:close/>
                  <a:moveTo>
                    <a:pt x="7879" y="0"/>
                  </a:moveTo>
                  <a:lnTo>
                    <a:pt x="7879" y="0"/>
                  </a:lnTo>
                  <a:cubicBezTo>
                    <a:pt x="7883" y="0"/>
                    <a:pt x="7887" y="4"/>
                    <a:pt x="7887" y="9"/>
                  </a:cubicBezTo>
                  <a:cubicBezTo>
                    <a:pt x="7887" y="13"/>
                    <a:pt x="7883" y="17"/>
                    <a:pt x="7879" y="17"/>
                  </a:cubicBezTo>
                  <a:lnTo>
                    <a:pt x="7879" y="17"/>
                  </a:lnTo>
                  <a:cubicBezTo>
                    <a:pt x="7874" y="17"/>
                    <a:pt x="7870" y="13"/>
                    <a:pt x="7870" y="9"/>
                  </a:cubicBezTo>
                  <a:cubicBezTo>
                    <a:pt x="7870" y="4"/>
                    <a:pt x="7874" y="0"/>
                    <a:pt x="7879" y="0"/>
                  </a:cubicBezTo>
                  <a:close/>
                  <a:moveTo>
                    <a:pt x="7912" y="0"/>
                  </a:moveTo>
                  <a:lnTo>
                    <a:pt x="7912" y="0"/>
                  </a:lnTo>
                  <a:cubicBezTo>
                    <a:pt x="7917" y="0"/>
                    <a:pt x="7920" y="4"/>
                    <a:pt x="7920" y="9"/>
                  </a:cubicBezTo>
                  <a:cubicBezTo>
                    <a:pt x="7920" y="13"/>
                    <a:pt x="7917" y="17"/>
                    <a:pt x="7912" y="17"/>
                  </a:cubicBezTo>
                  <a:lnTo>
                    <a:pt x="7912" y="17"/>
                  </a:lnTo>
                  <a:cubicBezTo>
                    <a:pt x="7907" y="17"/>
                    <a:pt x="7904" y="13"/>
                    <a:pt x="7904" y="9"/>
                  </a:cubicBezTo>
                  <a:cubicBezTo>
                    <a:pt x="7904" y="4"/>
                    <a:pt x="7907" y="0"/>
                    <a:pt x="7912" y="0"/>
                  </a:cubicBezTo>
                  <a:close/>
                  <a:moveTo>
                    <a:pt x="7945" y="0"/>
                  </a:moveTo>
                  <a:lnTo>
                    <a:pt x="7945" y="0"/>
                  </a:lnTo>
                  <a:cubicBezTo>
                    <a:pt x="7950" y="0"/>
                    <a:pt x="7954" y="4"/>
                    <a:pt x="7954" y="9"/>
                  </a:cubicBezTo>
                  <a:cubicBezTo>
                    <a:pt x="7954" y="13"/>
                    <a:pt x="7950" y="17"/>
                    <a:pt x="7945" y="17"/>
                  </a:cubicBezTo>
                  <a:lnTo>
                    <a:pt x="7945" y="17"/>
                  </a:lnTo>
                  <a:cubicBezTo>
                    <a:pt x="7941" y="17"/>
                    <a:pt x="7937" y="13"/>
                    <a:pt x="7937" y="9"/>
                  </a:cubicBezTo>
                  <a:cubicBezTo>
                    <a:pt x="7937" y="4"/>
                    <a:pt x="7941" y="0"/>
                    <a:pt x="7945" y="0"/>
                  </a:cubicBezTo>
                  <a:close/>
                  <a:moveTo>
                    <a:pt x="7979" y="0"/>
                  </a:moveTo>
                  <a:lnTo>
                    <a:pt x="7979" y="0"/>
                  </a:lnTo>
                  <a:cubicBezTo>
                    <a:pt x="7983" y="0"/>
                    <a:pt x="7987" y="4"/>
                    <a:pt x="7987" y="9"/>
                  </a:cubicBezTo>
                  <a:cubicBezTo>
                    <a:pt x="7987" y="13"/>
                    <a:pt x="7983" y="17"/>
                    <a:pt x="7979" y="17"/>
                  </a:cubicBezTo>
                  <a:lnTo>
                    <a:pt x="7979" y="17"/>
                  </a:lnTo>
                  <a:cubicBezTo>
                    <a:pt x="7974" y="17"/>
                    <a:pt x="7970" y="13"/>
                    <a:pt x="7970" y="9"/>
                  </a:cubicBezTo>
                  <a:cubicBezTo>
                    <a:pt x="7970" y="4"/>
                    <a:pt x="7974" y="0"/>
                    <a:pt x="7979" y="0"/>
                  </a:cubicBezTo>
                  <a:close/>
                  <a:moveTo>
                    <a:pt x="8012" y="0"/>
                  </a:moveTo>
                  <a:lnTo>
                    <a:pt x="8012" y="0"/>
                  </a:lnTo>
                  <a:cubicBezTo>
                    <a:pt x="8017" y="0"/>
                    <a:pt x="8020" y="4"/>
                    <a:pt x="8020" y="9"/>
                  </a:cubicBezTo>
                  <a:cubicBezTo>
                    <a:pt x="8020" y="13"/>
                    <a:pt x="8017" y="17"/>
                    <a:pt x="8012" y="17"/>
                  </a:cubicBezTo>
                  <a:lnTo>
                    <a:pt x="8012" y="17"/>
                  </a:lnTo>
                  <a:cubicBezTo>
                    <a:pt x="8007" y="17"/>
                    <a:pt x="8004" y="13"/>
                    <a:pt x="8004" y="9"/>
                  </a:cubicBezTo>
                  <a:cubicBezTo>
                    <a:pt x="8004" y="4"/>
                    <a:pt x="8007" y="0"/>
                    <a:pt x="8012" y="0"/>
                  </a:cubicBezTo>
                  <a:close/>
                  <a:moveTo>
                    <a:pt x="8045" y="0"/>
                  </a:moveTo>
                  <a:lnTo>
                    <a:pt x="8045" y="0"/>
                  </a:lnTo>
                  <a:cubicBezTo>
                    <a:pt x="8050" y="0"/>
                    <a:pt x="8054" y="4"/>
                    <a:pt x="8054" y="9"/>
                  </a:cubicBezTo>
                  <a:cubicBezTo>
                    <a:pt x="8054" y="13"/>
                    <a:pt x="8050" y="17"/>
                    <a:pt x="8045" y="17"/>
                  </a:cubicBezTo>
                  <a:lnTo>
                    <a:pt x="8045" y="17"/>
                  </a:lnTo>
                  <a:cubicBezTo>
                    <a:pt x="8041" y="17"/>
                    <a:pt x="8037" y="13"/>
                    <a:pt x="8037" y="9"/>
                  </a:cubicBezTo>
                  <a:cubicBezTo>
                    <a:pt x="8037" y="4"/>
                    <a:pt x="8041" y="0"/>
                    <a:pt x="8045" y="0"/>
                  </a:cubicBezTo>
                  <a:close/>
                  <a:moveTo>
                    <a:pt x="8079" y="0"/>
                  </a:moveTo>
                  <a:lnTo>
                    <a:pt x="8079" y="0"/>
                  </a:lnTo>
                  <a:cubicBezTo>
                    <a:pt x="8083" y="0"/>
                    <a:pt x="8087" y="4"/>
                    <a:pt x="8087" y="9"/>
                  </a:cubicBezTo>
                  <a:cubicBezTo>
                    <a:pt x="8087" y="13"/>
                    <a:pt x="8083" y="17"/>
                    <a:pt x="8079" y="17"/>
                  </a:cubicBezTo>
                  <a:lnTo>
                    <a:pt x="8079" y="17"/>
                  </a:lnTo>
                  <a:cubicBezTo>
                    <a:pt x="8074" y="17"/>
                    <a:pt x="8070" y="13"/>
                    <a:pt x="8070" y="9"/>
                  </a:cubicBezTo>
                  <a:cubicBezTo>
                    <a:pt x="8070" y="4"/>
                    <a:pt x="8074" y="0"/>
                    <a:pt x="8079" y="0"/>
                  </a:cubicBezTo>
                  <a:close/>
                  <a:moveTo>
                    <a:pt x="8112" y="0"/>
                  </a:moveTo>
                  <a:lnTo>
                    <a:pt x="8112" y="0"/>
                  </a:lnTo>
                  <a:cubicBezTo>
                    <a:pt x="8117" y="0"/>
                    <a:pt x="8120" y="4"/>
                    <a:pt x="8120" y="9"/>
                  </a:cubicBezTo>
                  <a:cubicBezTo>
                    <a:pt x="8120" y="13"/>
                    <a:pt x="8117" y="17"/>
                    <a:pt x="8112" y="17"/>
                  </a:cubicBezTo>
                  <a:lnTo>
                    <a:pt x="8112" y="17"/>
                  </a:lnTo>
                  <a:cubicBezTo>
                    <a:pt x="8108" y="17"/>
                    <a:pt x="8104" y="13"/>
                    <a:pt x="8104" y="9"/>
                  </a:cubicBezTo>
                  <a:cubicBezTo>
                    <a:pt x="8104" y="4"/>
                    <a:pt x="8108" y="0"/>
                    <a:pt x="8112" y="0"/>
                  </a:cubicBezTo>
                  <a:close/>
                  <a:moveTo>
                    <a:pt x="8145" y="0"/>
                  </a:moveTo>
                  <a:lnTo>
                    <a:pt x="8145" y="0"/>
                  </a:lnTo>
                  <a:cubicBezTo>
                    <a:pt x="8150" y="0"/>
                    <a:pt x="8154" y="4"/>
                    <a:pt x="8154" y="9"/>
                  </a:cubicBezTo>
                  <a:cubicBezTo>
                    <a:pt x="8154" y="13"/>
                    <a:pt x="8150" y="17"/>
                    <a:pt x="8145" y="17"/>
                  </a:cubicBezTo>
                  <a:lnTo>
                    <a:pt x="8145" y="17"/>
                  </a:lnTo>
                  <a:cubicBezTo>
                    <a:pt x="8141" y="17"/>
                    <a:pt x="8137" y="13"/>
                    <a:pt x="8137" y="9"/>
                  </a:cubicBezTo>
                  <a:cubicBezTo>
                    <a:pt x="8137" y="4"/>
                    <a:pt x="8141" y="0"/>
                    <a:pt x="8145" y="0"/>
                  </a:cubicBezTo>
                  <a:close/>
                  <a:moveTo>
                    <a:pt x="8179" y="0"/>
                  </a:moveTo>
                  <a:lnTo>
                    <a:pt x="8179" y="0"/>
                  </a:lnTo>
                  <a:cubicBezTo>
                    <a:pt x="8183" y="0"/>
                    <a:pt x="8187" y="4"/>
                    <a:pt x="8187" y="9"/>
                  </a:cubicBezTo>
                  <a:cubicBezTo>
                    <a:pt x="8187" y="13"/>
                    <a:pt x="8183" y="17"/>
                    <a:pt x="8179" y="17"/>
                  </a:cubicBezTo>
                  <a:lnTo>
                    <a:pt x="8179" y="17"/>
                  </a:lnTo>
                  <a:cubicBezTo>
                    <a:pt x="8174" y="17"/>
                    <a:pt x="8170" y="13"/>
                    <a:pt x="8170" y="9"/>
                  </a:cubicBezTo>
                  <a:cubicBezTo>
                    <a:pt x="8170" y="4"/>
                    <a:pt x="8174" y="0"/>
                    <a:pt x="8179" y="0"/>
                  </a:cubicBezTo>
                  <a:close/>
                  <a:moveTo>
                    <a:pt x="8212" y="0"/>
                  </a:moveTo>
                  <a:lnTo>
                    <a:pt x="8212" y="0"/>
                  </a:lnTo>
                  <a:cubicBezTo>
                    <a:pt x="8217" y="0"/>
                    <a:pt x="8221" y="4"/>
                    <a:pt x="8221" y="9"/>
                  </a:cubicBezTo>
                  <a:cubicBezTo>
                    <a:pt x="8221" y="13"/>
                    <a:pt x="8217" y="17"/>
                    <a:pt x="8212" y="17"/>
                  </a:cubicBezTo>
                  <a:lnTo>
                    <a:pt x="8212" y="17"/>
                  </a:lnTo>
                  <a:cubicBezTo>
                    <a:pt x="8208" y="17"/>
                    <a:pt x="8204" y="13"/>
                    <a:pt x="8204" y="9"/>
                  </a:cubicBezTo>
                  <a:cubicBezTo>
                    <a:pt x="8204" y="4"/>
                    <a:pt x="8208" y="0"/>
                    <a:pt x="8212" y="0"/>
                  </a:cubicBezTo>
                  <a:close/>
                  <a:moveTo>
                    <a:pt x="8246" y="0"/>
                  </a:moveTo>
                  <a:lnTo>
                    <a:pt x="8246" y="0"/>
                  </a:lnTo>
                  <a:cubicBezTo>
                    <a:pt x="8250" y="0"/>
                    <a:pt x="8254" y="4"/>
                    <a:pt x="8254" y="9"/>
                  </a:cubicBezTo>
                  <a:cubicBezTo>
                    <a:pt x="8254" y="13"/>
                    <a:pt x="8250" y="17"/>
                    <a:pt x="8246" y="17"/>
                  </a:cubicBezTo>
                  <a:lnTo>
                    <a:pt x="8246" y="17"/>
                  </a:lnTo>
                  <a:cubicBezTo>
                    <a:pt x="8241" y="17"/>
                    <a:pt x="8237" y="13"/>
                    <a:pt x="8237" y="9"/>
                  </a:cubicBezTo>
                  <a:cubicBezTo>
                    <a:pt x="8237" y="4"/>
                    <a:pt x="8241" y="0"/>
                    <a:pt x="8246" y="0"/>
                  </a:cubicBezTo>
                  <a:close/>
                  <a:moveTo>
                    <a:pt x="8279" y="0"/>
                  </a:moveTo>
                  <a:lnTo>
                    <a:pt x="8279" y="0"/>
                  </a:lnTo>
                  <a:cubicBezTo>
                    <a:pt x="8284" y="0"/>
                    <a:pt x="8287" y="4"/>
                    <a:pt x="8287" y="9"/>
                  </a:cubicBezTo>
                  <a:cubicBezTo>
                    <a:pt x="8287" y="13"/>
                    <a:pt x="8284" y="17"/>
                    <a:pt x="8279" y="17"/>
                  </a:cubicBezTo>
                  <a:lnTo>
                    <a:pt x="8279" y="17"/>
                  </a:lnTo>
                  <a:cubicBezTo>
                    <a:pt x="8274" y="17"/>
                    <a:pt x="8271" y="13"/>
                    <a:pt x="8271" y="9"/>
                  </a:cubicBezTo>
                  <a:cubicBezTo>
                    <a:pt x="8271" y="4"/>
                    <a:pt x="8274" y="0"/>
                    <a:pt x="8279" y="0"/>
                  </a:cubicBezTo>
                  <a:close/>
                  <a:moveTo>
                    <a:pt x="8312" y="0"/>
                  </a:moveTo>
                  <a:lnTo>
                    <a:pt x="8312" y="0"/>
                  </a:lnTo>
                  <a:cubicBezTo>
                    <a:pt x="8317" y="0"/>
                    <a:pt x="8321" y="4"/>
                    <a:pt x="8321" y="9"/>
                  </a:cubicBezTo>
                  <a:cubicBezTo>
                    <a:pt x="8321" y="13"/>
                    <a:pt x="8317" y="17"/>
                    <a:pt x="8312" y="17"/>
                  </a:cubicBezTo>
                  <a:lnTo>
                    <a:pt x="8312" y="17"/>
                  </a:lnTo>
                  <a:cubicBezTo>
                    <a:pt x="8308" y="17"/>
                    <a:pt x="8304" y="13"/>
                    <a:pt x="8304" y="9"/>
                  </a:cubicBezTo>
                  <a:cubicBezTo>
                    <a:pt x="8304" y="4"/>
                    <a:pt x="8308" y="0"/>
                    <a:pt x="8312" y="0"/>
                  </a:cubicBezTo>
                  <a:close/>
                  <a:moveTo>
                    <a:pt x="8346" y="0"/>
                  </a:moveTo>
                  <a:lnTo>
                    <a:pt x="8346" y="0"/>
                  </a:lnTo>
                  <a:cubicBezTo>
                    <a:pt x="8350" y="0"/>
                    <a:pt x="8354" y="4"/>
                    <a:pt x="8354" y="9"/>
                  </a:cubicBezTo>
                  <a:cubicBezTo>
                    <a:pt x="8354" y="13"/>
                    <a:pt x="8350" y="17"/>
                    <a:pt x="8346" y="17"/>
                  </a:cubicBezTo>
                  <a:lnTo>
                    <a:pt x="8346" y="17"/>
                  </a:lnTo>
                  <a:cubicBezTo>
                    <a:pt x="8341" y="17"/>
                    <a:pt x="8337" y="13"/>
                    <a:pt x="8337" y="9"/>
                  </a:cubicBezTo>
                  <a:cubicBezTo>
                    <a:pt x="8337" y="4"/>
                    <a:pt x="8341" y="0"/>
                    <a:pt x="8346" y="0"/>
                  </a:cubicBezTo>
                  <a:close/>
                  <a:moveTo>
                    <a:pt x="8379" y="0"/>
                  </a:moveTo>
                  <a:lnTo>
                    <a:pt x="8379" y="0"/>
                  </a:lnTo>
                  <a:cubicBezTo>
                    <a:pt x="8384" y="0"/>
                    <a:pt x="8387" y="4"/>
                    <a:pt x="8387" y="9"/>
                  </a:cubicBezTo>
                  <a:cubicBezTo>
                    <a:pt x="8387" y="13"/>
                    <a:pt x="8384" y="17"/>
                    <a:pt x="8379" y="17"/>
                  </a:cubicBezTo>
                  <a:lnTo>
                    <a:pt x="8379" y="17"/>
                  </a:lnTo>
                  <a:cubicBezTo>
                    <a:pt x="8374" y="17"/>
                    <a:pt x="8371" y="13"/>
                    <a:pt x="8371" y="9"/>
                  </a:cubicBezTo>
                  <a:cubicBezTo>
                    <a:pt x="8371" y="4"/>
                    <a:pt x="8374" y="0"/>
                    <a:pt x="8379" y="0"/>
                  </a:cubicBezTo>
                  <a:close/>
                  <a:moveTo>
                    <a:pt x="8412" y="0"/>
                  </a:moveTo>
                  <a:lnTo>
                    <a:pt x="8412" y="0"/>
                  </a:lnTo>
                  <a:cubicBezTo>
                    <a:pt x="8417" y="0"/>
                    <a:pt x="8421" y="4"/>
                    <a:pt x="8421" y="9"/>
                  </a:cubicBezTo>
                  <a:cubicBezTo>
                    <a:pt x="8421" y="13"/>
                    <a:pt x="8417" y="17"/>
                    <a:pt x="8412" y="17"/>
                  </a:cubicBezTo>
                  <a:lnTo>
                    <a:pt x="8412" y="17"/>
                  </a:lnTo>
                  <a:cubicBezTo>
                    <a:pt x="8408" y="17"/>
                    <a:pt x="8404" y="13"/>
                    <a:pt x="8404" y="9"/>
                  </a:cubicBezTo>
                  <a:cubicBezTo>
                    <a:pt x="8404" y="4"/>
                    <a:pt x="8408" y="0"/>
                    <a:pt x="8412" y="0"/>
                  </a:cubicBezTo>
                  <a:close/>
                  <a:moveTo>
                    <a:pt x="8446" y="0"/>
                  </a:moveTo>
                  <a:lnTo>
                    <a:pt x="8446" y="0"/>
                  </a:lnTo>
                  <a:cubicBezTo>
                    <a:pt x="8450" y="0"/>
                    <a:pt x="8454" y="4"/>
                    <a:pt x="8454" y="9"/>
                  </a:cubicBezTo>
                  <a:cubicBezTo>
                    <a:pt x="8454" y="13"/>
                    <a:pt x="8450" y="17"/>
                    <a:pt x="8446" y="17"/>
                  </a:cubicBezTo>
                  <a:lnTo>
                    <a:pt x="8446" y="17"/>
                  </a:lnTo>
                  <a:cubicBezTo>
                    <a:pt x="8441" y="17"/>
                    <a:pt x="8437" y="13"/>
                    <a:pt x="8437" y="9"/>
                  </a:cubicBezTo>
                  <a:cubicBezTo>
                    <a:pt x="8437" y="4"/>
                    <a:pt x="8441" y="0"/>
                    <a:pt x="8446" y="0"/>
                  </a:cubicBezTo>
                  <a:close/>
                  <a:moveTo>
                    <a:pt x="8479" y="0"/>
                  </a:moveTo>
                  <a:lnTo>
                    <a:pt x="8479" y="0"/>
                  </a:lnTo>
                  <a:cubicBezTo>
                    <a:pt x="8484" y="0"/>
                    <a:pt x="8487" y="4"/>
                    <a:pt x="8487" y="9"/>
                  </a:cubicBezTo>
                  <a:cubicBezTo>
                    <a:pt x="8487" y="13"/>
                    <a:pt x="8484" y="17"/>
                    <a:pt x="8479" y="17"/>
                  </a:cubicBezTo>
                  <a:lnTo>
                    <a:pt x="8479" y="17"/>
                  </a:lnTo>
                  <a:cubicBezTo>
                    <a:pt x="8474" y="17"/>
                    <a:pt x="8471" y="13"/>
                    <a:pt x="8471" y="9"/>
                  </a:cubicBezTo>
                  <a:cubicBezTo>
                    <a:pt x="8471" y="4"/>
                    <a:pt x="8474" y="0"/>
                    <a:pt x="8479" y="0"/>
                  </a:cubicBezTo>
                  <a:close/>
                  <a:moveTo>
                    <a:pt x="8512" y="0"/>
                  </a:moveTo>
                  <a:lnTo>
                    <a:pt x="8512" y="0"/>
                  </a:lnTo>
                  <a:cubicBezTo>
                    <a:pt x="8517" y="0"/>
                    <a:pt x="8521" y="4"/>
                    <a:pt x="8521" y="9"/>
                  </a:cubicBezTo>
                  <a:cubicBezTo>
                    <a:pt x="8521" y="13"/>
                    <a:pt x="8517" y="17"/>
                    <a:pt x="8512" y="17"/>
                  </a:cubicBezTo>
                  <a:lnTo>
                    <a:pt x="8512" y="17"/>
                  </a:lnTo>
                  <a:cubicBezTo>
                    <a:pt x="8508" y="17"/>
                    <a:pt x="8504" y="13"/>
                    <a:pt x="8504" y="9"/>
                  </a:cubicBezTo>
                  <a:cubicBezTo>
                    <a:pt x="8504" y="4"/>
                    <a:pt x="8508" y="0"/>
                    <a:pt x="8512" y="0"/>
                  </a:cubicBezTo>
                  <a:close/>
                  <a:moveTo>
                    <a:pt x="8546" y="0"/>
                  </a:moveTo>
                  <a:lnTo>
                    <a:pt x="8546" y="0"/>
                  </a:lnTo>
                  <a:cubicBezTo>
                    <a:pt x="8550" y="0"/>
                    <a:pt x="8554" y="4"/>
                    <a:pt x="8554" y="9"/>
                  </a:cubicBezTo>
                  <a:cubicBezTo>
                    <a:pt x="8554" y="13"/>
                    <a:pt x="8550" y="17"/>
                    <a:pt x="8546" y="17"/>
                  </a:cubicBezTo>
                  <a:lnTo>
                    <a:pt x="8546" y="17"/>
                  </a:lnTo>
                  <a:cubicBezTo>
                    <a:pt x="8541" y="17"/>
                    <a:pt x="8537" y="13"/>
                    <a:pt x="8537" y="9"/>
                  </a:cubicBezTo>
                  <a:cubicBezTo>
                    <a:pt x="8537" y="4"/>
                    <a:pt x="8541" y="0"/>
                    <a:pt x="8546" y="0"/>
                  </a:cubicBezTo>
                  <a:close/>
                  <a:moveTo>
                    <a:pt x="8579" y="0"/>
                  </a:moveTo>
                  <a:lnTo>
                    <a:pt x="8579" y="0"/>
                  </a:lnTo>
                  <a:cubicBezTo>
                    <a:pt x="8584" y="0"/>
                    <a:pt x="8587" y="4"/>
                    <a:pt x="8587" y="9"/>
                  </a:cubicBezTo>
                  <a:cubicBezTo>
                    <a:pt x="8587" y="13"/>
                    <a:pt x="8584" y="17"/>
                    <a:pt x="8579" y="17"/>
                  </a:cubicBezTo>
                  <a:lnTo>
                    <a:pt x="8579" y="17"/>
                  </a:lnTo>
                  <a:cubicBezTo>
                    <a:pt x="8574" y="17"/>
                    <a:pt x="8571" y="13"/>
                    <a:pt x="8571" y="9"/>
                  </a:cubicBezTo>
                  <a:cubicBezTo>
                    <a:pt x="8571" y="4"/>
                    <a:pt x="8574" y="0"/>
                    <a:pt x="8579" y="0"/>
                  </a:cubicBezTo>
                  <a:close/>
                  <a:moveTo>
                    <a:pt x="8612" y="0"/>
                  </a:moveTo>
                  <a:lnTo>
                    <a:pt x="8612" y="0"/>
                  </a:lnTo>
                  <a:cubicBezTo>
                    <a:pt x="8617" y="0"/>
                    <a:pt x="8621" y="4"/>
                    <a:pt x="8621" y="9"/>
                  </a:cubicBezTo>
                  <a:cubicBezTo>
                    <a:pt x="8621" y="13"/>
                    <a:pt x="8617" y="17"/>
                    <a:pt x="8612" y="17"/>
                  </a:cubicBezTo>
                  <a:lnTo>
                    <a:pt x="8612" y="17"/>
                  </a:lnTo>
                  <a:cubicBezTo>
                    <a:pt x="8608" y="17"/>
                    <a:pt x="8604" y="13"/>
                    <a:pt x="8604" y="9"/>
                  </a:cubicBezTo>
                  <a:cubicBezTo>
                    <a:pt x="8604" y="4"/>
                    <a:pt x="8608" y="0"/>
                    <a:pt x="8612" y="0"/>
                  </a:cubicBezTo>
                  <a:close/>
                  <a:moveTo>
                    <a:pt x="8646" y="0"/>
                  </a:moveTo>
                  <a:lnTo>
                    <a:pt x="8646" y="0"/>
                  </a:lnTo>
                  <a:cubicBezTo>
                    <a:pt x="8650" y="0"/>
                    <a:pt x="8654" y="4"/>
                    <a:pt x="8654" y="9"/>
                  </a:cubicBezTo>
                  <a:cubicBezTo>
                    <a:pt x="8654" y="13"/>
                    <a:pt x="8650" y="17"/>
                    <a:pt x="8646" y="17"/>
                  </a:cubicBezTo>
                  <a:lnTo>
                    <a:pt x="8646" y="17"/>
                  </a:lnTo>
                  <a:cubicBezTo>
                    <a:pt x="8641" y="17"/>
                    <a:pt x="8637" y="13"/>
                    <a:pt x="8637" y="9"/>
                  </a:cubicBezTo>
                  <a:cubicBezTo>
                    <a:pt x="8637" y="4"/>
                    <a:pt x="8641" y="0"/>
                    <a:pt x="8646" y="0"/>
                  </a:cubicBezTo>
                  <a:close/>
                  <a:moveTo>
                    <a:pt x="8679" y="0"/>
                  </a:moveTo>
                  <a:lnTo>
                    <a:pt x="8679" y="0"/>
                  </a:lnTo>
                  <a:cubicBezTo>
                    <a:pt x="8684" y="0"/>
                    <a:pt x="8687" y="4"/>
                    <a:pt x="8687" y="9"/>
                  </a:cubicBezTo>
                  <a:cubicBezTo>
                    <a:pt x="8687" y="13"/>
                    <a:pt x="8684" y="17"/>
                    <a:pt x="8679" y="17"/>
                  </a:cubicBezTo>
                  <a:lnTo>
                    <a:pt x="8679" y="17"/>
                  </a:lnTo>
                  <a:cubicBezTo>
                    <a:pt x="8675" y="17"/>
                    <a:pt x="8671" y="13"/>
                    <a:pt x="8671" y="9"/>
                  </a:cubicBezTo>
                  <a:cubicBezTo>
                    <a:pt x="8671" y="4"/>
                    <a:pt x="8675" y="0"/>
                    <a:pt x="8679" y="0"/>
                  </a:cubicBezTo>
                  <a:close/>
                  <a:moveTo>
                    <a:pt x="8712" y="0"/>
                  </a:moveTo>
                  <a:lnTo>
                    <a:pt x="8712" y="0"/>
                  </a:lnTo>
                  <a:cubicBezTo>
                    <a:pt x="8717" y="0"/>
                    <a:pt x="8721" y="4"/>
                    <a:pt x="8721" y="9"/>
                  </a:cubicBezTo>
                  <a:cubicBezTo>
                    <a:pt x="8721" y="13"/>
                    <a:pt x="8717" y="17"/>
                    <a:pt x="8712" y="17"/>
                  </a:cubicBezTo>
                  <a:lnTo>
                    <a:pt x="8712" y="17"/>
                  </a:lnTo>
                  <a:cubicBezTo>
                    <a:pt x="8708" y="17"/>
                    <a:pt x="8704" y="13"/>
                    <a:pt x="8704" y="9"/>
                  </a:cubicBezTo>
                  <a:cubicBezTo>
                    <a:pt x="8704" y="4"/>
                    <a:pt x="8708" y="0"/>
                    <a:pt x="8712" y="0"/>
                  </a:cubicBezTo>
                  <a:close/>
                  <a:moveTo>
                    <a:pt x="8746" y="0"/>
                  </a:moveTo>
                  <a:lnTo>
                    <a:pt x="8746" y="0"/>
                  </a:lnTo>
                  <a:cubicBezTo>
                    <a:pt x="8750" y="0"/>
                    <a:pt x="8754" y="4"/>
                    <a:pt x="8754" y="9"/>
                  </a:cubicBezTo>
                  <a:cubicBezTo>
                    <a:pt x="8754" y="13"/>
                    <a:pt x="8750" y="17"/>
                    <a:pt x="8746" y="17"/>
                  </a:cubicBezTo>
                  <a:lnTo>
                    <a:pt x="8746" y="17"/>
                  </a:lnTo>
                  <a:cubicBezTo>
                    <a:pt x="8741" y="17"/>
                    <a:pt x="8737" y="13"/>
                    <a:pt x="8737" y="9"/>
                  </a:cubicBezTo>
                  <a:cubicBezTo>
                    <a:pt x="8737" y="4"/>
                    <a:pt x="8741" y="0"/>
                    <a:pt x="8746" y="0"/>
                  </a:cubicBezTo>
                  <a:close/>
                  <a:moveTo>
                    <a:pt x="8779" y="0"/>
                  </a:moveTo>
                  <a:lnTo>
                    <a:pt x="8779" y="0"/>
                  </a:lnTo>
                  <a:cubicBezTo>
                    <a:pt x="8784" y="0"/>
                    <a:pt x="8788" y="4"/>
                    <a:pt x="8788" y="9"/>
                  </a:cubicBezTo>
                  <a:cubicBezTo>
                    <a:pt x="8788" y="13"/>
                    <a:pt x="8784" y="17"/>
                    <a:pt x="8779" y="17"/>
                  </a:cubicBezTo>
                  <a:lnTo>
                    <a:pt x="8779" y="17"/>
                  </a:lnTo>
                  <a:cubicBezTo>
                    <a:pt x="8775" y="17"/>
                    <a:pt x="8771" y="13"/>
                    <a:pt x="8771" y="9"/>
                  </a:cubicBezTo>
                  <a:cubicBezTo>
                    <a:pt x="8771" y="4"/>
                    <a:pt x="8775" y="0"/>
                    <a:pt x="8779" y="0"/>
                  </a:cubicBezTo>
                  <a:close/>
                  <a:moveTo>
                    <a:pt x="8813" y="0"/>
                  </a:moveTo>
                  <a:lnTo>
                    <a:pt x="8813" y="0"/>
                  </a:lnTo>
                  <a:cubicBezTo>
                    <a:pt x="8817" y="0"/>
                    <a:pt x="8821" y="4"/>
                    <a:pt x="8821" y="9"/>
                  </a:cubicBezTo>
                  <a:cubicBezTo>
                    <a:pt x="8821" y="13"/>
                    <a:pt x="8817" y="17"/>
                    <a:pt x="8813" y="17"/>
                  </a:cubicBezTo>
                  <a:lnTo>
                    <a:pt x="8813" y="17"/>
                  </a:lnTo>
                  <a:cubicBezTo>
                    <a:pt x="8808" y="17"/>
                    <a:pt x="8804" y="13"/>
                    <a:pt x="8804" y="9"/>
                  </a:cubicBezTo>
                  <a:cubicBezTo>
                    <a:pt x="8804" y="4"/>
                    <a:pt x="8808" y="0"/>
                    <a:pt x="8813" y="0"/>
                  </a:cubicBezTo>
                  <a:close/>
                  <a:moveTo>
                    <a:pt x="8846" y="0"/>
                  </a:moveTo>
                  <a:lnTo>
                    <a:pt x="8846" y="0"/>
                  </a:lnTo>
                  <a:cubicBezTo>
                    <a:pt x="8851" y="0"/>
                    <a:pt x="8854" y="4"/>
                    <a:pt x="8854" y="9"/>
                  </a:cubicBezTo>
                  <a:cubicBezTo>
                    <a:pt x="8854" y="13"/>
                    <a:pt x="8851" y="17"/>
                    <a:pt x="8846" y="17"/>
                  </a:cubicBezTo>
                  <a:lnTo>
                    <a:pt x="8846" y="17"/>
                  </a:lnTo>
                  <a:cubicBezTo>
                    <a:pt x="8841" y="17"/>
                    <a:pt x="8838" y="13"/>
                    <a:pt x="8838" y="9"/>
                  </a:cubicBezTo>
                  <a:cubicBezTo>
                    <a:pt x="8838" y="4"/>
                    <a:pt x="8841" y="0"/>
                    <a:pt x="8846" y="0"/>
                  </a:cubicBezTo>
                  <a:close/>
                  <a:moveTo>
                    <a:pt x="8879" y="0"/>
                  </a:moveTo>
                  <a:lnTo>
                    <a:pt x="8879" y="0"/>
                  </a:lnTo>
                  <a:cubicBezTo>
                    <a:pt x="8884" y="0"/>
                    <a:pt x="8888" y="4"/>
                    <a:pt x="8888" y="9"/>
                  </a:cubicBezTo>
                  <a:cubicBezTo>
                    <a:pt x="8888" y="13"/>
                    <a:pt x="8884" y="17"/>
                    <a:pt x="8879" y="17"/>
                  </a:cubicBezTo>
                  <a:lnTo>
                    <a:pt x="8879" y="17"/>
                  </a:lnTo>
                  <a:cubicBezTo>
                    <a:pt x="8875" y="17"/>
                    <a:pt x="8871" y="13"/>
                    <a:pt x="8871" y="9"/>
                  </a:cubicBezTo>
                  <a:cubicBezTo>
                    <a:pt x="8871" y="4"/>
                    <a:pt x="8875" y="0"/>
                    <a:pt x="8879" y="0"/>
                  </a:cubicBezTo>
                  <a:close/>
                  <a:moveTo>
                    <a:pt x="8913" y="0"/>
                  </a:moveTo>
                  <a:lnTo>
                    <a:pt x="8913" y="0"/>
                  </a:lnTo>
                  <a:cubicBezTo>
                    <a:pt x="8917" y="0"/>
                    <a:pt x="8921" y="4"/>
                    <a:pt x="8921" y="9"/>
                  </a:cubicBezTo>
                  <a:cubicBezTo>
                    <a:pt x="8921" y="13"/>
                    <a:pt x="8917" y="17"/>
                    <a:pt x="8913" y="17"/>
                  </a:cubicBezTo>
                  <a:lnTo>
                    <a:pt x="8913" y="17"/>
                  </a:lnTo>
                  <a:cubicBezTo>
                    <a:pt x="8908" y="17"/>
                    <a:pt x="8904" y="13"/>
                    <a:pt x="8904" y="9"/>
                  </a:cubicBezTo>
                  <a:cubicBezTo>
                    <a:pt x="8904" y="4"/>
                    <a:pt x="8908" y="0"/>
                    <a:pt x="8913" y="0"/>
                  </a:cubicBezTo>
                  <a:close/>
                  <a:moveTo>
                    <a:pt x="8946" y="0"/>
                  </a:moveTo>
                  <a:lnTo>
                    <a:pt x="8946" y="0"/>
                  </a:lnTo>
                  <a:cubicBezTo>
                    <a:pt x="8951" y="0"/>
                    <a:pt x="8954" y="4"/>
                    <a:pt x="8954" y="9"/>
                  </a:cubicBezTo>
                  <a:cubicBezTo>
                    <a:pt x="8954" y="13"/>
                    <a:pt x="8951" y="17"/>
                    <a:pt x="8946" y="17"/>
                  </a:cubicBezTo>
                  <a:lnTo>
                    <a:pt x="8946" y="17"/>
                  </a:lnTo>
                  <a:cubicBezTo>
                    <a:pt x="8941" y="17"/>
                    <a:pt x="8938" y="13"/>
                    <a:pt x="8938" y="9"/>
                  </a:cubicBezTo>
                  <a:cubicBezTo>
                    <a:pt x="8938" y="4"/>
                    <a:pt x="8941" y="0"/>
                    <a:pt x="8946" y="0"/>
                  </a:cubicBezTo>
                  <a:close/>
                  <a:moveTo>
                    <a:pt x="8979" y="0"/>
                  </a:moveTo>
                  <a:lnTo>
                    <a:pt x="8979" y="0"/>
                  </a:lnTo>
                  <a:cubicBezTo>
                    <a:pt x="8984" y="0"/>
                    <a:pt x="8988" y="4"/>
                    <a:pt x="8988" y="9"/>
                  </a:cubicBezTo>
                  <a:cubicBezTo>
                    <a:pt x="8988" y="13"/>
                    <a:pt x="8984" y="17"/>
                    <a:pt x="8979" y="17"/>
                  </a:cubicBezTo>
                  <a:lnTo>
                    <a:pt x="8979" y="17"/>
                  </a:lnTo>
                  <a:cubicBezTo>
                    <a:pt x="8975" y="17"/>
                    <a:pt x="8971" y="13"/>
                    <a:pt x="8971" y="9"/>
                  </a:cubicBezTo>
                  <a:cubicBezTo>
                    <a:pt x="8971" y="4"/>
                    <a:pt x="8975" y="0"/>
                    <a:pt x="8979" y="0"/>
                  </a:cubicBezTo>
                  <a:close/>
                  <a:moveTo>
                    <a:pt x="9013" y="0"/>
                  </a:moveTo>
                  <a:lnTo>
                    <a:pt x="9013" y="0"/>
                  </a:lnTo>
                  <a:cubicBezTo>
                    <a:pt x="9017" y="0"/>
                    <a:pt x="9021" y="4"/>
                    <a:pt x="9021" y="9"/>
                  </a:cubicBezTo>
                  <a:cubicBezTo>
                    <a:pt x="9021" y="13"/>
                    <a:pt x="9017" y="17"/>
                    <a:pt x="9013" y="17"/>
                  </a:cubicBezTo>
                  <a:lnTo>
                    <a:pt x="9013" y="17"/>
                  </a:lnTo>
                  <a:cubicBezTo>
                    <a:pt x="9008" y="17"/>
                    <a:pt x="9004" y="13"/>
                    <a:pt x="9004" y="9"/>
                  </a:cubicBezTo>
                  <a:cubicBezTo>
                    <a:pt x="9004" y="4"/>
                    <a:pt x="9008" y="0"/>
                    <a:pt x="9013" y="0"/>
                  </a:cubicBezTo>
                  <a:close/>
                  <a:moveTo>
                    <a:pt x="9046" y="0"/>
                  </a:moveTo>
                  <a:lnTo>
                    <a:pt x="9046" y="0"/>
                  </a:lnTo>
                  <a:cubicBezTo>
                    <a:pt x="9051" y="0"/>
                    <a:pt x="9054" y="4"/>
                    <a:pt x="9054" y="9"/>
                  </a:cubicBezTo>
                  <a:cubicBezTo>
                    <a:pt x="9054" y="13"/>
                    <a:pt x="9051" y="17"/>
                    <a:pt x="9046" y="17"/>
                  </a:cubicBezTo>
                  <a:lnTo>
                    <a:pt x="9046" y="17"/>
                  </a:lnTo>
                  <a:cubicBezTo>
                    <a:pt x="9041" y="17"/>
                    <a:pt x="9038" y="13"/>
                    <a:pt x="9038" y="9"/>
                  </a:cubicBezTo>
                  <a:cubicBezTo>
                    <a:pt x="9038" y="4"/>
                    <a:pt x="9041" y="0"/>
                    <a:pt x="9046" y="0"/>
                  </a:cubicBezTo>
                  <a:close/>
                  <a:moveTo>
                    <a:pt x="9079" y="0"/>
                  </a:moveTo>
                  <a:lnTo>
                    <a:pt x="9079" y="0"/>
                  </a:lnTo>
                  <a:cubicBezTo>
                    <a:pt x="9084" y="0"/>
                    <a:pt x="9088" y="4"/>
                    <a:pt x="9088" y="9"/>
                  </a:cubicBezTo>
                  <a:cubicBezTo>
                    <a:pt x="9088" y="13"/>
                    <a:pt x="9084" y="17"/>
                    <a:pt x="9079" y="17"/>
                  </a:cubicBezTo>
                  <a:lnTo>
                    <a:pt x="9079" y="17"/>
                  </a:lnTo>
                  <a:cubicBezTo>
                    <a:pt x="9075" y="17"/>
                    <a:pt x="9071" y="13"/>
                    <a:pt x="9071" y="9"/>
                  </a:cubicBezTo>
                  <a:cubicBezTo>
                    <a:pt x="9071" y="4"/>
                    <a:pt x="9075" y="0"/>
                    <a:pt x="9079" y="0"/>
                  </a:cubicBezTo>
                  <a:close/>
                  <a:moveTo>
                    <a:pt x="9113" y="0"/>
                  </a:moveTo>
                  <a:lnTo>
                    <a:pt x="9113" y="0"/>
                  </a:lnTo>
                  <a:cubicBezTo>
                    <a:pt x="9117" y="0"/>
                    <a:pt x="9121" y="4"/>
                    <a:pt x="9121" y="9"/>
                  </a:cubicBezTo>
                  <a:cubicBezTo>
                    <a:pt x="9121" y="13"/>
                    <a:pt x="9117" y="17"/>
                    <a:pt x="9113" y="17"/>
                  </a:cubicBezTo>
                  <a:lnTo>
                    <a:pt x="9113" y="17"/>
                  </a:lnTo>
                  <a:cubicBezTo>
                    <a:pt x="9108" y="17"/>
                    <a:pt x="9104" y="13"/>
                    <a:pt x="9104" y="9"/>
                  </a:cubicBezTo>
                  <a:cubicBezTo>
                    <a:pt x="9104" y="4"/>
                    <a:pt x="9108" y="0"/>
                    <a:pt x="9113" y="0"/>
                  </a:cubicBezTo>
                  <a:close/>
                  <a:moveTo>
                    <a:pt x="9146" y="0"/>
                  </a:moveTo>
                  <a:lnTo>
                    <a:pt x="9146" y="0"/>
                  </a:lnTo>
                  <a:cubicBezTo>
                    <a:pt x="9151" y="0"/>
                    <a:pt x="9154" y="4"/>
                    <a:pt x="9154" y="9"/>
                  </a:cubicBezTo>
                  <a:cubicBezTo>
                    <a:pt x="9154" y="13"/>
                    <a:pt x="9151" y="17"/>
                    <a:pt x="9146" y="17"/>
                  </a:cubicBezTo>
                  <a:lnTo>
                    <a:pt x="9146" y="17"/>
                  </a:lnTo>
                  <a:cubicBezTo>
                    <a:pt x="9141" y="17"/>
                    <a:pt x="9138" y="13"/>
                    <a:pt x="9138" y="9"/>
                  </a:cubicBezTo>
                  <a:cubicBezTo>
                    <a:pt x="9138" y="4"/>
                    <a:pt x="9141" y="0"/>
                    <a:pt x="9146" y="0"/>
                  </a:cubicBezTo>
                  <a:close/>
                  <a:moveTo>
                    <a:pt x="9179" y="0"/>
                  </a:moveTo>
                  <a:lnTo>
                    <a:pt x="9179" y="0"/>
                  </a:lnTo>
                  <a:cubicBezTo>
                    <a:pt x="9184" y="0"/>
                    <a:pt x="9188" y="4"/>
                    <a:pt x="9188" y="9"/>
                  </a:cubicBezTo>
                  <a:cubicBezTo>
                    <a:pt x="9188" y="13"/>
                    <a:pt x="9184" y="17"/>
                    <a:pt x="9179" y="17"/>
                  </a:cubicBezTo>
                  <a:lnTo>
                    <a:pt x="9179" y="17"/>
                  </a:lnTo>
                  <a:cubicBezTo>
                    <a:pt x="9175" y="17"/>
                    <a:pt x="9171" y="13"/>
                    <a:pt x="9171" y="9"/>
                  </a:cubicBezTo>
                  <a:cubicBezTo>
                    <a:pt x="9171" y="4"/>
                    <a:pt x="9175" y="0"/>
                    <a:pt x="9179" y="0"/>
                  </a:cubicBezTo>
                  <a:close/>
                  <a:moveTo>
                    <a:pt x="9213" y="0"/>
                  </a:moveTo>
                  <a:lnTo>
                    <a:pt x="9213" y="0"/>
                  </a:lnTo>
                  <a:cubicBezTo>
                    <a:pt x="9217" y="0"/>
                    <a:pt x="9221" y="4"/>
                    <a:pt x="9221" y="9"/>
                  </a:cubicBezTo>
                  <a:cubicBezTo>
                    <a:pt x="9221" y="13"/>
                    <a:pt x="9217" y="17"/>
                    <a:pt x="9213" y="17"/>
                  </a:cubicBezTo>
                  <a:lnTo>
                    <a:pt x="9213" y="17"/>
                  </a:lnTo>
                  <a:cubicBezTo>
                    <a:pt x="9208" y="17"/>
                    <a:pt x="9204" y="13"/>
                    <a:pt x="9204" y="9"/>
                  </a:cubicBezTo>
                  <a:cubicBezTo>
                    <a:pt x="9204" y="4"/>
                    <a:pt x="9208" y="0"/>
                    <a:pt x="9213" y="0"/>
                  </a:cubicBezTo>
                  <a:close/>
                  <a:moveTo>
                    <a:pt x="9246" y="0"/>
                  </a:moveTo>
                  <a:lnTo>
                    <a:pt x="9246" y="0"/>
                  </a:lnTo>
                  <a:cubicBezTo>
                    <a:pt x="9251" y="0"/>
                    <a:pt x="9254" y="4"/>
                    <a:pt x="9254" y="9"/>
                  </a:cubicBezTo>
                  <a:cubicBezTo>
                    <a:pt x="9254" y="13"/>
                    <a:pt x="9251" y="17"/>
                    <a:pt x="9246" y="17"/>
                  </a:cubicBezTo>
                  <a:lnTo>
                    <a:pt x="9246" y="17"/>
                  </a:lnTo>
                  <a:cubicBezTo>
                    <a:pt x="9242" y="17"/>
                    <a:pt x="9238" y="13"/>
                    <a:pt x="9238" y="9"/>
                  </a:cubicBezTo>
                  <a:cubicBezTo>
                    <a:pt x="9238" y="4"/>
                    <a:pt x="9242" y="0"/>
                    <a:pt x="9246" y="0"/>
                  </a:cubicBezTo>
                  <a:close/>
                  <a:moveTo>
                    <a:pt x="9279" y="0"/>
                  </a:moveTo>
                  <a:lnTo>
                    <a:pt x="9280" y="0"/>
                  </a:lnTo>
                  <a:cubicBezTo>
                    <a:pt x="9284" y="0"/>
                    <a:pt x="9288" y="4"/>
                    <a:pt x="9288" y="9"/>
                  </a:cubicBezTo>
                  <a:cubicBezTo>
                    <a:pt x="9288" y="13"/>
                    <a:pt x="9284" y="17"/>
                    <a:pt x="9280" y="17"/>
                  </a:cubicBezTo>
                  <a:lnTo>
                    <a:pt x="9279" y="17"/>
                  </a:lnTo>
                  <a:cubicBezTo>
                    <a:pt x="9275" y="17"/>
                    <a:pt x="9271" y="13"/>
                    <a:pt x="9271" y="9"/>
                  </a:cubicBezTo>
                  <a:cubicBezTo>
                    <a:pt x="9271" y="4"/>
                    <a:pt x="9275" y="0"/>
                    <a:pt x="9279" y="0"/>
                  </a:cubicBezTo>
                  <a:close/>
                  <a:moveTo>
                    <a:pt x="9313" y="0"/>
                  </a:moveTo>
                  <a:lnTo>
                    <a:pt x="9313" y="0"/>
                  </a:lnTo>
                  <a:cubicBezTo>
                    <a:pt x="9317" y="0"/>
                    <a:pt x="9321" y="4"/>
                    <a:pt x="9321" y="9"/>
                  </a:cubicBezTo>
                  <a:cubicBezTo>
                    <a:pt x="9321" y="13"/>
                    <a:pt x="9317" y="17"/>
                    <a:pt x="9313" y="17"/>
                  </a:cubicBezTo>
                  <a:lnTo>
                    <a:pt x="9313" y="17"/>
                  </a:lnTo>
                  <a:cubicBezTo>
                    <a:pt x="9308" y="17"/>
                    <a:pt x="9305" y="13"/>
                    <a:pt x="9305" y="9"/>
                  </a:cubicBezTo>
                  <a:cubicBezTo>
                    <a:pt x="9305" y="4"/>
                    <a:pt x="9308" y="0"/>
                    <a:pt x="9313" y="0"/>
                  </a:cubicBezTo>
                  <a:close/>
                  <a:moveTo>
                    <a:pt x="9346" y="0"/>
                  </a:moveTo>
                  <a:lnTo>
                    <a:pt x="9346" y="0"/>
                  </a:lnTo>
                  <a:cubicBezTo>
                    <a:pt x="9351" y="0"/>
                    <a:pt x="9355" y="4"/>
                    <a:pt x="9355" y="9"/>
                  </a:cubicBezTo>
                  <a:cubicBezTo>
                    <a:pt x="9355" y="13"/>
                    <a:pt x="9351" y="17"/>
                    <a:pt x="9346" y="17"/>
                  </a:cubicBezTo>
                  <a:lnTo>
                    <a:pt x="9346" y="17"/>
                  </a:lnTo>
                  <a:cubicBezTo>
                    <a:pt x="9342" y="17"/>
                    <a:pt x="9338" y="13"/>
                    <a:pt x="9338" y="9"/>
                  </a:cubicBezTo>
                  <a:cubicBezTo>
                    <a:pt x="9338" y="4"/>
                    <a:pt x="9342" y="0"/>
                    <a:pt x="9346" y="0"/>
                  </a:cubicBezTo>
                  <a:close/>
                  <a:moveTo>
                    <a:pt x="9380" y="0"/>
                  </a:moveTo>
                  <a:lnTo>
                    <a:pt x="9380" y="0"/>
                  </a:lnTo>
                  <a:cubicBezTo>
                    <a:pt x="9384" y="0"/>
                    <a:pt x="9388" y="4"/>
                    <a:pt x="9388" y="9"/>
                  </a:cubicBezTo>
                  <a:cubicBezTo>
                    <a:pt x="9388" y="13"/>
                    <a:pt x="9384" y="17"/>
                    <a:pt x="9380" y="17"/>
                  </a:cubicBezTo>
                  <a:lnTo>
                    <a:pt x="9380" y="17"/>
                  </a:lnTo>
                  <a:cubicBezTo>
                    <a:pt x="9375" y="17"/>
                    <a:pt x="9371" y="13"/>
                    <a:pt x="9371" y="9"/>
                  </a:cubicBezTo>
                  <a:cubicBezTo>
                    <a:pt x="9371" y="4"/>
                    <a:pt x="9375" y="0"/>
                    <a:pt x="9380" y="0"/>
                  </a:cubicBezTo>
                  <a:close/>
                  <a:moveTo>
                    <a:pt x="9413" y="0"/>
                  </a:moveTo>
                  <a:lnTo>
                    <a:pt x="9413" y="0"/>
                  </a:lnTo>
                  <a:cubicBezTo>
                    <a:pt x="9418" y="0"/>
                    <a:pt x="9421" y="4"/>
                    <a:pt x="9421" y="9"/>
                  </a:cubicBezTo>
                  <a:cubicBezTo>
                    <a:pt x="9421" y="13"/>
                    <a:pt x="9418" y="17"/>
                    <a:pt x="9413" y="17"/>
                  </a:cubicBezTo>
                  <a:lnTo>
                    <a:pt x="9413" y="17"/>
                  </a:lnTo>
                  <a:cubicBezTo>
                    <a:pt x="9408" y="17"/>
                    <a:pt x="9405" y="13"/>
                    <a:pt x="9405" y="9"/>
                  </a:cubicBezTo>
                  <a:cubicBezTo>
                    <a:pt x="9405" y="4"/>
                    <a:pt x="9408" y="0"/>
                    <a:pt x="9413" y="0"/>
                  </a:cubicBezTo>
                  <a:close/>
                  <a:moveTo>
                    <a:pt x="9446" y="0"/>
                  </a:moveTo>
                  <a:lnTo>
                    <a:pt x="9446" y="0"/>
                  </a:lnTo>
                  <a:cubicBezTo>
                    <a:pt x="9451" y="0"/>
                    <a:pt x="9455" y="4"/>
                    <a:pt x="9455" y="9"/>
                  </a:cubicBezTo>
                  <a:cubicBezTo>
                    <a:pt x="9455" y="13"/>
                    <a:pt x="9451" y="17"/>
                    <a:pt x="9446" y="17"/>
                  </a:cubicBezTo>
                  <a:lnTo>
                    <a:pt x="9446" y="17"/>
                  </a:lnTo>
                  <a:cubicBezTo>
                    <a:pt x="9442" y="17"/>
                    <a:pt x="9438" y="13"/>
                    <a:pt x="9438" y="9"/>
                  </a:cubicBezTo>
                  <a:cubicBezTo>
                    <a:pt x="9438" y="4"/>
                    <a:pt x="9442" y="0"/>
                    <a:pt x="9446" y="0"/>
                  </a:cubicBezTo>
                  <a:close/>
                  <a:moveTo>
                    <a:pt x="9480" y="0"/>
                  </a:moveTo>
                  <a:lnTo>
                    <a:pt x="9480" y="0"/>
                  </a:lnTo>
                  <a:cubicBezTo>
                    <a:pt x="9484" y="0"/>
                    <a:pt x="9488" y="4"/>
                    <a:pt x="9488" y="9"/>
                  </a:cubicBezTo>
                  <a:cubicBezTo>
                    <a:pt x="9488" y="13"/>
                    <a:pt x="9484" y="17"/>
                    <a:pt x="9480" y="17"/>
                  </a:cubicBezTo>
                  <a:lnTo>
                    <a:pt x="9480" y="17"/>
                  </a:lnTo>
                  <a:cubicBezTo>
                    <a:pt x="9475" y="17"/>
                    <a:pt x="9471" y="13"/>
                    <a:pt x="9471" y="9"/>
                  </a:cubicBezTo>
                  <a:cubicBezTo>
                    <a:pt x="9471" y="4"/>
                    <a:pt x="9475" y="0"/>
                    <a:pt x="9480" y="0"/>
                  </a:cubicBezTo>
                  <a:close/>
                  <a:moveTo>
                    <a:pt x="9513" y="0"/>
                  </a:moveTo>
                  <a:lnTo>
                    <a:pt x="9513" y="0"/>
                  </a:lnTo>
                  <a:cubicBezTo>
                    <a:pt x="9518" y="0"/>
                    <a:pt x="9521" y="4"/>
                    <a:pt x="9521" y="9"/>
                  </a:cubicBezTo>
                  <a:cubicBezTo>
                    <a:pt x="9521" y="13"/>
                    <a:pt x="9518" y="17"/>
                    <a:pt x="9513" y="17"/>
                  </a:cubicBezTo>
                  <a:lnTo>
                    <a:pt x="9513" y="17"/>
                  </a:lnTo>
                  <a:cubicBezTo>
                    <a:pt x="9508" y="17"/>
                    <a:pt x="9505" y="13"/>
                    <a:pt x="9505" y="9"/>
                  </a:cubicBezTo>
                  <a:cubicBezTo>
                    <a:pt x="9505" y="4"/>
                    <a:pt x="9508" y="0"/>
                    <a:pt x="9513" y="0"/>
                  </a:cubicBezTo>
                  <a:close/>
                  <a:moveTo>
                    <a:pt x="9546" y="0"/>
                  </a:moveTo>
                  <a:lnTo>
                    <a:pt x="9546" y="0"/>
                  </a:lnTo>
                  <a:cubicBezTo>
                    <a:pt x="9551" y="0"/>
                    <a:pt x="9555" y="4"/>
                    <a:pt x="9555" y="9"/>
                  </a:cubicBezTo>
                  <a:cubicBezTo>
                    <a:pt x="9555" y="13"/>
                    <a:pt x="9551" y="17"/>
                    <a:pt x="9546" y="17"/>
                  </a:cubicBezTo>
                  <a:lnTo>
                    <a:pt x="9546" y="17"/>
                  </a:lnTo>
                  <a:cubicBezTo>
                    <a:pt x="9542" y="17"/>
                    <a:pt x="9538" y="13"/>
                    <a:pt x="9538" y="9"/>
                  </a:cubicBezTo>
                  <a:cubicBezTo>
                    <a:pt x="9538" y="4"/>
                    <a:pt x="9542" y="0"/>
                    <a:pt x="9546" y="0"/>
                  </a:cubicBezTo>
                  <a:close/>
                  <a:moveTo>
                    <a:pt x="9580" y="0"/>
                  </a:moveTo>
                  <a:lnTo>
                    <a:pt x="9580" y="0"/>
                  </a:lnTo>
                  <a:cubicBezTo>
                    <a:pt x="9584" y="0"/>
                    <a:pt x="9588" y="4"/>
                    <a:pt x="9588" y="9"/>
                  </a:cubicBezTo>
                  <a:cubicBezTo>
                    <a:pt x="9588" y="13"/>
                    <a:pt x="9584" y="17"/>
                    <a:pt x="9580" y="17"/>
                  </a:cubicBezTo>
                  <a:lnTo>
                    <a:pt x="9580" y="17"/>
                  </a:lnTo>
                  <a:cubicBezTo>
                    <a:pt x="9575" y="17"/>
                    <a:pt x="9571" y="13"/>
                    <a:pt x="9571" y="9"/>
                  </a:cubicBezTo>
                  <a:cubicBezTo>
                    <a:pt x="9571" y="4"/>
                    <a:pt x="9575" y="0"/>
                    <a:pt x="9580" y="0"/>
                  </a:cubicBezTo>
                  <a:close/>
                  <a:moveTo>
                    <a:pt x="9613" y="0"/>
                  </a:moveTo>
                  <a:lnTo>
                    <a:pt x="9613" y="0"/>
                  </a:lnTo>
                  <a:cubicBezTo>
                    <a:pt x="9618" y="0"/>
                    <a:pt x="9621" y="4"/>
                    <a:pt x="9621" y="9"/>
                  </a:cubicBezTo>
                  <a:cubicBezTo>
                    <a:pt x="9621" y="13"/>
                    <a:pt x="9618" y="17"/>
                    <a:pt x="9613" y="17"/>
                  </a:cubicBezTo>
                  <a:lnTo>
                    <a:pt x="9613" y="17"/>
                  </a:lnTo>
                  <a:cubicBezTo>
                    <a:pt x="9608" y="17"/>
                    <a:pt x="9605" y="13"/>
                    <a:pt x="9605" y="9"/>
                  </a:cubicBezTo>
                  <a:cubicBezTo>
                    <a:pt x="9605" y="4"/>
                    <a:pt x="9608" y="0"/>
                    <a:pt x="9613" y="0"/>
                  </a:cubicBezTo>
                  <a:close/>
                  <a:moveTo>
                    <a:pt x="9646" y="0"/>
                  </a:moveTo>
                  <a:lnTo>
                    <a:pt x="9646" y="0"/>
                  </a:lnTo>
                  <a:cubicBezTo>
                    <a:pt x="9651" y="0"/>
                    <a:pt x="9655" y="4"/>
                    <a:pt x="9655" y="9"/>
                  </a:cubicBezTo>
                  <a:cubicBezTo>
                    <a:pt x="9655" y="13"/>
                    <a:pt x="9651" y="17"/>
                    <a:pt x="9646" y="17"/>
                  </a:cubicBezTo>
                  <a:lnTo>
                    <a:pt x="9646" y="17"/>
                  </a:lnTo>
                  <a:cubicBezTo>
                    <a:pt x="9642" y="17"/>
                    <a:pt x="9638" y="13"/>
                    <a:pt x="9638" y="9"/>
                  </a:cubicBezTo>
                  <a:cubicBezTo>
                    <a:pt x="9638" y="4"/>
                    <a:pt x="9642" y="0"/>
                    <a:pt x="9646" y="0"/>
                  </a:cubicBezTo>
                  <a:close/>
                  <a:moveTo>
                    <a:pt x="9680" y="0"/>
                  </a:moveTo>
                  <a:lnTo>
                    <a:pt x="9680" y="0"/>
                  </a:lnTo>
                  <a:cubicBezTo>
                    <a:pt x="9684" y="0"/>
                    <a:pt x="9688" y="4"/>
                    <a:pt x="9688" y="9"/>
                  </a:cubicBezTo>
                  <a:cubicBezTo>
                    <a:pt x="9688" y="13"/>
                    <a:pt x="9684" y="17"/>
                    <a:pt x="9680" y="17"/>
                  </a:cubicBezTo>
                  <a:lnTo>
                    <a:pt x="9680" y="17"/>
                  </a:lnTo>
                  <a:cubicBezTo>
                    <a:pt x="9675" y="17"/>
                    <a:pt x="9671" y="13"/>
                    <a:pt x="9671" y="9"/>
                  </a:cubicBezTo>
                  <a:cubicBezTo>
                    <a:pt x="9671" y="4"/>
                    <a:pt x="9675" y="0"/>
                    <a:pt x="9680" y="0"/>
                  </a:cubicBezTo>
                  <a:close/>
                  <a:moveTo>
                    <a:pt x="9713" y="0"/>
                  </a:moveTo>
                  <a:lnTo>
                    <a:pt x="9713" y="0"/>
                  </a:lnTo>
                  <a:cubicBezTo>
                    <a:pt x="9718" y="0"/>
                    <a:pt x="9721" y="4"/>
                    <a:pt x="9721" y="9"/>
                  </a:cubicBezTo>
                  <a:cubicBezTo>
                    <a:pt x="9721" y="13"/>
                    <a:pt x="9718" y="17"/>
                    <a:pt x="9713" y="17"/>
                  </a:cubicBezTo>
                  <a:lnTo>
                    <a:pt x="9713" y="17"/>
                  </a:lnTo>
                  <a:cubicBezTo>
                    <a:pt x="9709" y="17"/>
                    <a:pt x="9705" y="13"/>
                    <a:pt x="9705" y="9"/>
                  </a:cubicBezTo>
                  <a:cubicBezTo>
                    <a:pt x="9705" y="4"/>
                    <a:pt x="9709" y="0"/>
                    <a:pt x="9713" y="0"/>
                  </a:cubicBezTo>
                  <a:close/>
                  <a:moveTo>
                    <a:pt x="9746" y="0"/>
                  </a:moveTo>
                  <a:lnTo>
                    <a:pt x="9746" y="0"/>
                  </a:lnTo>
                  <a:cubicBezTo>
                    <a:pt x="9751" y="0"/>
                    <a:pt x="9755" y="4"/>
                    <a:pt x="9755" y="9"/>
                  </a:cubicBezTo>
                  <a:cubicBezTo>
                    <a:pt x="9755" y="13"/>
                    <a:pt x="9751" y="17"/>
                    <a:pt x="9746" y="17"/>
                  </a:cubicBezTo>
                  <a:lnTo>
                    <a:pt x="9746" y="17"/>
                  </a:lnTo>
                  <a:cubicBezTo>
                    <a:pt x="9742" y="17"/>
                    <a:pt x="9738" y="13"/>
                    <a:pt x="9738" y="9"/>
                  </a:cubicBezTo>
                  <a:cubicBezTo>
                    <a:pt x="9738" y="4"/>
                    <a:pt x="9742" y="0"/>
                    <a:pt x="9746" y="0"/>
                  </a:cubicBezTo>
                  <a:close/>
                  <a:moveTo>
                    <a:pt x="9780" y="0"/>
                  </a:moveTo>
                  <a:lnTo>
                    <a:pt x="9780" y="0"/>
                  </a:lnTo>
                  <a:cubicBezTo>
                    <a:pt x="9784" y="0"/>
                    <a:pt x="9788" y="4"/>
                    <a:pt x="9788" y="9"/>
                  </a:cubicBezTo>
                  <a:cubicBezTo>
                    <a:pt x="9788" y="13"/>
                    <a:pt x="9784" y="17"/>
                    <a:pt x="9780" y="17"/>
                  </a:cubicBezTo>
                  <a:lnTo>
                    <a:pt x="9780" y="17"/>
                  </a:lnTo>
                  <a:cubicBezTo>
                    <a:pt x="9775" y="17"/>
                    <a:pt x="9771" y="13"/>
                    <a:pt x="9771" y="9"/>
                  </a:cubicBezTo>
                  <a:cubicBezTo>
                    <a:pt x="9771" y="4"/>
                    <a:pt x="9775" y="0"/>
                    <a:pt x="9780" y="0"/>
                  </a:cubicBezTo>
                  <a:close/>
                  <a:moveTo>
                    <a:pt x="9813" y="0"/>
                  </a:moveTo>
                  <a:lnTo>
                    <a:pt x="9813" y="0"/>
                  </a:lnTo>
                  <a:cubicBezTo>
                    <a:pt x="9818" y="0"/>
                    <a:pt x="9822" y="4"/>
                    <a:pt x="9822" y="9"/>
                  </a:cubicBezTo>
                  <a:cubicBezTo>
                    <a:pt x="9822" y="13"/>
                    <a:pt x="9818" y="17"/>
                    <a:pt x="9813" y="17"/>
                  </a:cubicBezTo>
                  <a:lnTo>
                    <a:pt x="9813" y="17"/>
                  </a:lnTo>
                  <a:cubicBezTo>
                    <a:pt x="9809" y="17"/>
                    <a:pt x="9805" y="13"/>
                    <a:pt x="9805" y="9"/>
                  </a:cubicBezTo>
                  <a:cubicBezTo>
                    <a:pt x="9805" y="4"/>
                    <a:pt x="9809" y="0"/>
                    <a:pt x="9813" y="0"/>
                  </a:cubicBezTo>
                  <a:close/>
                  <a:moveTo>
                    <a:pt x="9847" y="0"/>
                  </a:moveTo>
                  <a:lnTo>
                    <a:pt x="9847" y="0"/>
                  </a:lnTo>
                  <a:cubicBezTo>
                    <a:pt x="9851" y="0"/>
                    <a:pt x="9855" y="4"/>
                    <a:pt x="9855" y="9"/>
                  </a:cubicBezTo>
                  <a:cubicBezTo>
                    <a:pt x="9855" y="13"/>
                    <a:pt x="9851" y="17"/>
                    <a:pt x="9847" y="17"/>
                  </a:cubicBezTo>
                  <a:lnTo>
                    <a:pt x="9847" y="17"/>
                  </a:lnTo>
                  <a:cubicBezTo>
                    <a:pt x="9842" y="17"/>
                    <a:pt x="9838" y="13"/>
                    <a:pt x="9838" y="9"/>
                  </a:cubicBezTo>
                  <a:cubicBezTo>
                    <a:pt x="9838" y="4"/>
                    <a:pt x="9842" y="0"/>
                    <a:pt x="9847" y="0"/>
                  </a:cubicBezTo>
                  <a:close/>
                  <a:moveTo>
                    <a:pt x="9880" y="0"/>
                  </a:moveTo>
                  <a:lnTo>
                    <a:pt x="9880" y="0"/>
                  </a:lnTo>
                  <a:cubicBezTo>
                    <a:pt x="9885" y="0"/>
                    <a:pt x="9888" y="4"/>
                    <a:pt x="9888" y="9"/>
                  </a:cubicBezTo>
                  <a:cubicBezTo>
                    <a:pt x="9888" y="13"/>
                    <a:pt x="9885" y="17"/>
                    <a:pt x="9880" y="17"/>
                  </a:cubicBezTo>
                  <a:lnTo>
                    <a:pt x="9880" y="17"/>
                  </a:lnTo>
                  <a:cubicBezTo>
                    <a:pt x="9875" y="17"/>
                    <a:pt x="9872" y="13"/>
                    <a:pt x="9872" y="9"/>
                  </a:cubicBezTo>
                  <a:cubicBezTo>
                    <a:pt x="9872" y="4"/>
                    <a:pt x="9875" y="0"/>
                    <a:pt x="9880" y="0"/>
                  </a:cubicBezTo>
                  <a:close/>
                  <a:moveTo>
                    <a:pt x="9913" y="0"/>
                  </a:moveTo>
                  <a:lnTo>
                    <a:pt x="9913" y="0"/>
                  </a:lnTo>
                  <a:cubicBezTo>
                    <a:pt x="9918" y="0"/>
                    <a:pt x="9922" y="4"/>
                    <a:pt x="9922" y="9"/>
                  </a:cubicBezTo>
                  <a:cubicBezTo>
                    <a:pt x="9922" y="13"/>
                    <a:pt x="9918" y="17"/>
                    <a:pt x="9913" y="17"/>
                  </a:cubicBezTo>
                  <a:lnTo>
                    <a:pt x="9913" y="17"/>
                  </a:lnTo>
                  <a:cubicBezTo>
                    <a:pt x="9909" y="17"/>
                    <a:pt x="9905" y="13"/>
                    <a:pt x="9905" y="9"/>
                  </a:cubicBezTo>
                  <a:cubicBezTo>
                    <a:pt x="9905" y="4"/>
                    <a:pt x="9909" y="0"/>
                    <a:pt x="9913" y="0"/>
                  </a:cubicBezTo>
                  <a:close/>
                  <a:moveTo>
                    <a:pt x="9947" y="0"/>
                  </a:moveTo>
                  <a:lnTo>
                    <a:pt x="9947" y="0"/>
                  </a:lnTo>
                  <a:cubicBezTo>
                    <a:pt x="9951" y="0"/>
                    <a:pt x="9955" y="4"/>
                    <a:pt x="9955" y="9"/>
                  </a:cubicBezTo>
                  <a:cubicBezTo>
                    <a:pt x="9955" y="13"/>
                    <a:pt x="9951" y="17"/>
                    <a:pt x="9947" y="17"/>
                  </a:cubicBezTo>
                  <a:lnTo>
                    <a:pt x="9947" y="17"/>
                  </a:lnTo>
                  <a:cubicBezTo>
                    <a:pt x="9942" y="17"/>
                    <a:pt x="9938" y="13"/>
                    <a:pt x="9938" y="9"/>
                  </a:cubicBezTo>
                  <a:cubicBezTo>
                    <a:pt x="9938" y="4"/>
                    <a:pt x="9942" y="0"/>
                    <a:pt x="9947" y="0"/>
                  </a:cubicBezTo>
                  <a:close/>
                  <a:moveTo>
                    <a:pt x="9980" y="0"/>
                  </a:moveTo>
                  <a:lnTo>
                    <a:pt x="9980" y="0"/>
                  </a:lnTo>
                  <a:cubicBezTo>
                    <a:pt x="9985" y="0"/>
                    <a:pt x="9988" y="4"/>
                    <a:pt x="9988" y="9"/>
                  </a:cubicBezTo>
                  <a:cubicBezTo>
                    <a:pt x="9988" y="13"/>
                    <a:pt x="9985" y="17"/>
                    <a:pt x="9980" y="17"/>
                  </a:cubicBezTo>
                  <a:lnTo>
                    <a:pt x="9980" y="17"/>
                  </a:lnTo>
                  <a:cubicBezTo>
                    <a:pt x="9975" y="17"/>
                    <a:pt x="9972" y="13"/>
                    <a:pt x="9972" y="9"/>
                  </a:cubicBezTo>
                  <a:cubicBezTo>
                    <a:pt x="9972" y="4"/>
                    <a:pt x="9975" y="0"/>
                    <a:pt x="9980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1360" y="2505240"/>
              <a:ext cx="129600" cy="2044440"/>
            </a:xfrm>
            <a:custGeom>
              <a:avLst/>
              <a:gdLst/>
              <a:ahLst/>
              <a:rect l="l" t="t" r="r" b="b"/>
              <a:pathLst>
                <a:path w="400" h="6033">
                  <a:moveTo>
                    <a:pt x="166" y="6000"/>
                  </a:moveTo>
                  <a:lnTo>
                    <a:pt x="166" y="333"/>
                  </a:lnTo>
                  <a:cubicBezTo>
                    <a:pt x="166" y="315"/>
                    <a:pt x="181" y="300"/>
                    <a:pt x="200" y="300"/>
                  </a:cubicBezTo>
                  <a:cubicBezTo>
                    <a:pt x="218" y="300"/>
                    <a:pt x="233" y="315"/>
                    <a:pt x="233" y="333"/>
                  </a:cubicBezTo>
                  <a:lnTo>
                    <a:pt x="233" y="6000"/>
                  </a:lnTo>
                  <a:cubicBezTo>
                    <a:pt x="233" y="6018"/>
                    <a:pt x="218" y="6033"/>
                    <a:pt x="200" y="6033"/>
                  </a:cubicBezTo>
                  <a:cubicBezTo>
                    <a:pt x="181" y="6033"/>
                    <a:pt x="166" y="6018"/>
                    <a:pt x="166" y="6000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54880" y="4218120"/>
              <a:ext cx="3236040" cy="4680"/>
            </a:xfrm>
            <a:custGeom>
              <a:avLst/>
              <a:gdLst/>
              <a:ahLst/>
              <a:rect l="l" t="t" r="r" b="b"/>
              <a:pathLst>
                <a:path w="9988" h="16">
                  <a:moveTo>
                    <a:pt x="8" y="0"/>
                  </a:moveTo>
                  <a:lnTo>
                    <a:pt x="8" y="0"/>
                  </a:lnTo>
                  <a:cubicBezTo>
                    <a:pt x="13" y="0"/>
                    <a:pt x="16" y="4"/>
                    <a:pt x="16" y="8"/>
                  </a:cubicBezTo>
                  <a:cubicBezTo>
                    <a:pt x="16" y="13"/>
                    <a:pt x="13" y="16"/>
                    <a:pt x="8" y="16"/>
                  </a:cubicBez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41" y="0"/>
                  </a:moveTo>
                  <a:lnTo>
                    <a:pt x="41" y="0"/>
                  </a:lnTo>
                  <a:cubicBezTo>
                    <a:pt x="46" y="0"/>
                    <a:pt x="50" y="4"/>
                    <a:pt x="50" y="8"/>
                  </a:cubicBezTo>
                  <a:cubicBezTo>
                    <a:pt x="50" y="13"/>
                    <a:pt x="46" y="16"/>
                    <a:pt x="41" y="16"/>
                  </a:cubicBezTo>
                  <a:lnTo>
                    <a:pt x="41" y="16"/>
                  </a:lnTo>
                  <a:cubicBezTo>
                    <a:pt x="37" y="16"/>
                    <a:pt x="33" y="13"/>
                    <a:pt x="33" y="8"/>
                  </a:cubicBezTo>
                  <a:cubicBezTo>
                    <a:pt x="33" y="4"/>
                    <a:pt x="37" y="0"/>
                    <a:pt x="41" y="0"/>
                  </a:cubicBezTo>
                  <a:close/>
                  <a:moveTo>
                    <a:pt x="75" y="0"/>
                  </a:moveTo>
                  <a:lnTo>
                    <a:pt x="75" y="0"/>
                  </a:lnTo>
                  <a:cubicBezTo>
                    <a:pt x="79" y="0"/>
                    <a:pt x="83" y="4"/>
                    <a:pt x="83" y="8"/>
                  </a:cubicBezTo>
                  <a:cubicBezTo>
                    <a:pt x="83" y="13"/>
                    <a:pt x="79" y="16"/>
                    <a:pt x="75" y="16"/>
                  </a:cubicBezTo>
                  <a:lnTo>
                    <a:pt x="75" y="16"/>
                  </a:lnTo>
                  <a:cubicBezTo>
                    <a:pt x="70" y="16"/>
                    <a:pt x="66" y="13"/>
                    <a:pt x="66" y="8"/>
                  </a:cubicBezTo>
                  <a:cubicBezTo>
                    <a:pt x="66" y="4"/>
                    <a:pt x="70" y="0"/>
                    <a:pt x="75" y="0"/>
                  </a:cubicBezTo>
                  <a:close/>
                  <a:moveTo>
                    <a:pt x="108" y="0"/>
                  </a:moveTo>
                  <a:lnTo>
                    <a:pt x="108" y="0"/>
                  </a:lnTo>
                  <a:cubicBezTo>
                    <a:pt x="113" y="0"/>
                    <a:pt x="117" y="4"/>
                    <a:pt x="117" y="8"/>
                  </a:cubicBezTo>
                  <a:cubicBezTo>
                    <a:pt x="117" y="13"/>
                    <a:pt x="113" y="16"/>
                    <a:pt x="108" y="16"/>
                  </a:cubicBezTo>
                  <a:lnTo>
                    <a:pt x="108" y="16"/>
                  </a:lnTo>
                  <a:cubicBezTo>
                    <a:pt x="104" y="16"/>
                    <a:pt x="100" y="13"/>
                    <a:pt x="100" y="8"/>
                  </a:cubicBezTo>
                  <a:cubicBezTo>
                    <a:pt x="100" y="4"/>
                    <a:pt x="104" y="0"/>
                    <a:pt x="108" y="0"/>
                  </a:cubicBezTo>
                  <a:close/>
                  <a:moveTo>
                    <a:pt x="142" y="0"/>
                  </a:moveTo>
                  <a:lnTo>
                    <a:pt x="142" y="0"/>
                  </a:lnTo>
                  <a:cubicBezTo>
                    <a:pt x="146" y="0"/>
                    <a:pt x="150" y="4"/>
                    <a:pt x="150" y="8"/>
                  </a:cubicBezTo>
                  <a:cubicBezTo>
                    <a:pt x="150" y="13"/>
                    <a:pt x="146" y="16"/>
                    <a:pt x="142" y="16"/>
                  </a:cubicBezTo>
                  <a:lnTo>
                    <a:pt x="142" y="16"/>
                  </a:lnTo>
                  <a:cubicBezTo>
                    <a:pt x="137" y="16"/>
                    <a:pt x="133" y="13"/>
                    <a:pt x="133" y="8"/>
                  </a:cubicBezTo>
                  <a:cubicBezTo>
                    <a:pt x="133" y="4"/>
                    <a:pt x="137" y="0"/>
                    <a:pt x="142" y="0"/>
                  </a:cubicBezTo>
                  <a:close/>
                  <a:moveTo>
                    <a:pt x="175" y="0"/>
                  </a:moveTo>
                  <a:lnTo>
                    <a:pt x="175" y="0"/>
                  </a:lnTo>
                  <a:cubicBezTo>
                    <a:pt x="179" y="0"/>
                    <a:pt x="183" y="4"/>
                    <a:pt x="183" y="8"/>
                  </a:cubicBezTo>
                  <a:cubicBezTo>
                    <a:pt x="183" y="13"/>
                    <a:pt x="179" y="16"/>
                    <a:pt x="175" y="16"/>
                  </a:cubicBezTo>
                  <a:lnTo>
                    <a:pt x="175" y="16"/>
                  </a:lnTo>
                  <a:cubicBezTo>
                    <a:pt x="170" y="16"/>
                    <a:pt x="167" y="13"/>
                    <a:pt x="167" y="8"/>
                  </a:cubicBezTo>
                  <a:cubicBezTo>
                    <a:pt x="167" y="4"/>
                    <a:pt x="170" y="0"/>
                    <a:pt x="175" y="0"/>
                  </a:cubicBezTo>
                  <a:close/>
                  <a:moveTo>
                    <a:pt x="208" y="0"/>
                  </a:moveTo>
                  <a:lnTo>
                    <a:pt x="208" y="0"/>
                  </a:lnTo>
                  <a:cubicBezTo>
                    <a:pt x="213" y="0"/>
                    <a:pt x="217" y="4"/>
                    <a:pt x="217" y="8"/>
                  </a:cubicBezTo>
                  <a:cubicBezTo>
                    <a:pt x="217" y="13"/>
                    <a:pt x="213" y="16"/>
                    <a:pt x="208" y="16"/>
                  </a:cubicBezTo>
                  <a:lnTo>
                    <a:pt x="208" y="16"/>
                  </a:lnTo>
                  <a:cubicBezTo>
                    <a:pt x="204" y="16"/>
                    <a:pt x="200" y="13"/>
                    <a:pt x="200" y="8"/>
                  </a:cubicBezTo>
                  <a:cubicBezTo>
                    <a:pt x="200" y="4"/>
                    <a:pt x="204" y="0"/>
                    <a:pt x="208" y="0"/>
                  </a:cubicBezTo>
                  <a:close/>
                  <a:moveTo>
                    <a:pt x="242" y="0"/>
                  </a:moveTo>
                  <a:lnTo>
                    <a:pt x="242" y="0"/>
                  </a:lnTo>
                  <a:cubicBezTo>
                    <a:pt x="246" y="0"/>
                    <a:pt x="250" y="4"/>
                    <a:pt x="250" y="8"/>
                  </a:cubicBezTo>
                  <a:cubicBezTo>
                    <a:pt x="250" y="13"/>
                    <a:pt x="246" y="16"/>
                    <a:pt x="242" y="16"/>
                  </a:cubicBezTo>
                  <a:lnTo>
                    <a:pt x="242" y="16"/>
                  </a:lnTo>
                  <a:cubicBezTo>
                    <a:pt x="237" y="16"/>
                    <a:pt x="233" y="13"/>
                    <a:pt x="233" y="8"/>
                  </a:cubicBezTo>
                  <a:cubicBezTo>
                    <a:pt x="233" y="4"/>
                    <a:pt x="237" y="0"/>
                    <a:pt x="242" y="0"/>
                  </a:cubicBezTo>
                  <a:close/>
                  <a:moveTo>
                    <a:pt x="275" y="0"/>
                  </a:moveTo>
                  <a:lnTo>
                    <a:pt x="275" y="0"/>
                  </a:lnTo>
                  <a:cubicBezTo>
                    <a:pt x="280" y="0"/>
                    <a:pt x="283" y="4"/>
                    <a:pt x="283" y="8"/>
                  </a:cubicBezTo>
                  <a:cubicBezTo>
                    <a:pt x="283" y="13"/>
                    <a:pt x="280" y="16"/>
                    <a:pt x="275" y="16"/>
                  </a:cubicBezTo>
                  <a:lnTo>
                    <a:pt x="275" y="16"/>
                  </a:lnTo>
                  <a:cubicBezTo>
                    <a:pt x="270" y="16"/>
                    <a:pt x="267" y="13"/>
                    <a:pt x="267" y="8"/>
                  </a:cubicBezTo>
                  <a:cubicBezTo>
                    <a:pt x="267" y="4"/>
                    <a:pt x="270" y="0"/>
                    <a:pt x="275" y="0"/>
                  </a:cubicBezTo>
                  <a:close/>
                  <a:moveTo>
                    <a:pt x="308" y="0"/>
                  </a:moveTo>
                  <a:lnTo>
                    <a:pt x="308" y="0"/>
                  </a:lnTo>
                  <a:cubicBezTo>
                    <a:pt x="313" y="0"/>
                    <a:pt x="317" y="4"/>
                    <a:pt x="317" y="8"/>
                  </a:cubicBezTo>
                  <a:cubicBezTo>
                    <a:pt x="317" y="13"/>
                    <a:pt x="313" y="16"/>
                    <a:pt x="308" y="16"/>
                  </a:cubicBezTo>
                  <a:lnTo>
                    <a:pt x="308" y="16"/>
                  </a:lnTo>
                  <a:cubicBezTo>
                    <a:pt x="304" y="16"/>
                    <a:pt x="300" y="13"/>
                    <a:pt x="300" y="8"/>
                  </a:cubicBezTo>
                  <a:cubicBezTo>
                    <a:pt x="300" y="4"/>
                    <a:pt x="304" y="0"/>
                    <a:pt x="308" y="0"/>
                  </a:cubicBezTo>
                  <a:close/>
                  <a:moveTo>
                    <a:pt x="342" y="0"/>
                  </a:moveTo>
                  <a:lnTo>
                    <a:pt x="342" y="0"/>
                  </a:lnTo>
                  <a:cubicBezTo>
                    <a:pt x="346" y="0"/>
                    <a:pt x="350" y="4"/>
                    <a:pt x="350" y="8"/>
                  </a:cubicBezTo>
                  <a:cubicBezTo>
                    <a:pt x="350" y="13"/>
                    <a:pt x="346" y="16"/>
                    <a:pt x="342" y="16"/>
                  </a:cubicBezTo>
                  <a:lnTo>
                    <a:pt x="342" y="16"/>
                  </a:lnTo>
                  <a:cubicBezTo>
                    <a:pt x="337" y="16"/>
                    <a:pt x="333" y="13"/>
                    <a:pt x="333" y="8"/>
                  </a:cubicBezTo>
                  <a:cubicBezTo>
                    <a:pt x="333" y="4"/>
                    <a:pt x="337" y="0"/>
                    <a:pt x="342" y="0"/>
                  </a:cubicBezTo>
                  <a:close/>
                  <a:moveTo>
                    <a:pt x="375" y="0"/>
                  </a:moveTo>
                  <a:lnTo>
                    <a:pt x="375" y="0"/>
                  </a:lnTo>
                  <a:cubicBezTo>
                    <a:pt x="380" y="0"/>
                    <a:pt x="383" y="4"/>
                    <a:pt x="383" y="8"/>
                  </a:cubicBezTo>
                  <a:cubicBezTo>
                    <a:pt x="383" y="13"/>
                    <a:pt x="380" y="16"/>
                    <a:pt x="375" y="16"/>
                  </a:cubicBezTo>
                  <a:lnTo>
                    <a:pt x="375" y="16"/>
                  </a:lnTo>
                  <a:cubicBezTo>
                    <a:pt x="370" y="16"/>
                    <a:pt x="367" y="13"/>
                    <a:pt x="367" y="8"/>
                  </a:cubicBezTo>
                  <a:cubicBezTo>
                    <a:pt x="367" y="4"/>
                    <a:pt x="370" y="0"/>
                    <a:pt x="375" y="0"/>
                  </a:cubicBezTo>
                  <a:close/>
                  <a:moveTo>
                    <a:pt x="408" y="0"/>
                  </a:moveTo>
                  <a:lnTo>
                    <a:pt x="408" y="0"/>
                  </a:lnTo>
                  <a:cubicBezTo>
                    <a:pt x="413" y="0"/>
                    <a:pt x="417" y="4"/>
                    <a:pt x="417" y="8"/>
                  </a:cubicBezTo>
                  <a:cubicBezTo>
                    <a:pt x="417" y="13"/>
                    <a:pt x="413" y="16"/>
                    <a:pt x="408" y="16"/>
                  </a:cubicBezTo>
                  <a:lnTo>
                    <a:pt x="408" y="16"/>
                  </a:lnTo>
                  <a:cubicBezTo>
                    <a:pt x="404" y="16"/>
                    <a:pt x="400" y="13"/>
                    <a:pt x="400" y="8"/>
                  </a:cubicBezTo>
                  <a:cubicBezTo>
                    <a:pt x="400" y="4"/>
                    <a:pt x="404" y="0"/>
                    <a:pt x="408" y="0"/>
                  </a:cubicBezTo>
                  <a:close/>
                  <a:moveTo>
                    <a:pt x="442" y="0"/>
                  </a:moveTo>
                  <a:lnTo>
                    <a:pt x="442" y="0"/>
                  </a:lnTo>
                  <a:cubicBezTo>
                    <a:pt x="446" y="0"/>
                    <a:pt x="450" y="4"/>
                    <a:pt x="450" y="8"/>
                  </a:cubicBezTo>
                  <a:cubicBezTo>
                    <a:pt x="450" y="13"/>
                    <a:pt x="446" y="16"/>
                    <a:pt x="442" y="16"/>
                  </a:cubicBezTo>
                  <a:lnTo>
                    <a:pt x="442" y="16"/>
                  </a:lnTo>
                  <a:cubicBezTo>
                    <a:pt x="437" y="16"/>
                    <a:pt x="433" y="13"/>
                    <a:pt x="433" y="8"/>
                  </a:cubicBezTo>
                  <a:cubicBezTo>
                    <a:pt x="433" y="4"/>
                    <a:pt x="437" y="0"/>
                    <a:pt x="442" y="0"/>
                  </a:cubicBezTo>
                  <a:close/>
                  <a:moveTo>
                    <a:pt x="475" y="0"/>
                  </a:moveTo>
                  <a:lnTo>
                    <a:pt x="475" y="0"/>
                  </a:lnTo>
                  <a:cubicBezTo>
                    <a:pt x="480" y="0"/>
                    <a:pt x="483" y="4"/>
                    <a:pt x="483" y="8"/>
                  </a:cubicBezTo>
                  <a:cubicBezTo>
                    <a:pt x="483" y="13"/>
                    <a:pt x="480" y="16"/>
                    <a:pt x="475" y="16"/>
                  </a:cubicBezTo>
                  <a:lnTo>
                    <a:pt x="475" y="16"/>
                  </a:lnTo>
                  <a:cubicBezTo>
                    <a:pt x="470" y="16"/>
                    <a:pt x="467" y="13"/>
                    <a:pt x="467" y="8"/>
                  </a:cubicBezTo>
                  <a:cubicBezTo>
                    <a:pt x="467" y="4"/>
                    <a:pt x="470" y="0"/>
                    <a:pt x="475" y="0"/>
                  </a:cubicBezTo>
                  <a:close/>
                  <a:moveTo>
                    <a:pt x="508" y="0"/>
                  </a:moveTo>
                  <a:lnTo>
                    <a:pt x="508" y="0"/>
                  </a:lnTo>
                  <a:cubicBezTo>
                    <a:pt x="513" y="0"/>
                    <a:pt x="517" y="4"/>
                    <a:pt x="517" y="8"/>
                  </a:cubicBezTo>
                  <a:cubicBezTo>
                    <a:pt x="517" y="13"/>
                    <a:pt x="513" y="16"/>
                    <a:pt x="508" y="16"/>
                  </a:cubicBezTo>
                  <a:lnTo>
                    <a:pt x="508" y="16"/>
                  </a:lnTo>
                  <a:cubicBezTo>
                    <a:pt x="504" y="16"/>
                    <a:pt x="500" y="13"/>
                    <a:pt x="500" y="8"/>
                  </a:cubicBezTo>
                  <a:cubicBezTo>
                    <a:pt x="500" y="4"/>
                    <a:pt x="504" y="0"/>
                    <a:pt x="508" y="0"/>
                  </a:cubicBezTo>
                  <a:close/>
                  <a:moveTo>
                    <a:pt x="542" y="0"/>
                  </a:moveTo>
                  <a:lnTo>
                    <a:pt x="542" y="0"/>
                  </a:lnTo>
                  <a:cubicBezTo>
                    <a:pt x="546" y="0"/>
                    <a:pt x="550" y="4"/>
                    <a:pt x="550" y="8"/>
                  </a:cubicBezTo>
                  <a:cubicBezTo>
                    <a:pt x="550" y="13"/>
                    <a:pt x="546" y="16"/>
                    <a:pt x="542" y="16"/>
                  </a:cubicBezTo>
                  <a:lnTo>
                    <a:pt x="542" y="16"/>
                  </a:lnTo>
                  <a:cubicBezTo>
                    <a:pt x="537" y="16"/>
                    <a:pt x="533" y="13"/>
                    <a:pt x="533" y="8"/>
                  </a:cubicBezTo>
                  <a:cubicBezTo>
                    <a:pt x="533" y="4"/>
                    <a:pt x="537" y="0"/>
                    <a:pt x="542" y="0"/>
                  </a:cubicBezTo>
                  <a:close/>
                  <a:moveTo>
                    <a:pt x="575" y="0"/>
                  </a:moveTo>
                  <a:lnTo>
                    <a:pt x="575" y="0"/>
                  </a:lnTo>
                  <a:cubicBezTo>
                    <a:pt x="580" y="0"/>
                    <a:pt x="583" y="4"/>
                    <a:pt x="583" y="8"/>
                  </a:cubicBezTo>
                  <a:cubicBezTo>
                    <a:pt x="583" y="13"/>
                    <a:pt x="580" y="16"/>
                    <a:pt x="575" y="16"/>
                  </a:cubicBezTo>
                  <a:lnTo>
                    <a:pt x="575" y="16"/>
                  </a:lnTo>
                  <a:cubicBezTo>
                    <a:pt x="570" y="16"/>
                    <a:pt x="567" y="13"/>
                    <a:pt x="567" y="8"/>
                  </a:cubicBezTo>
                  <a:cubicBezTo>
                    <a:pt x="567" y="4"/>
                    <a:pt x="570" y="0"/>
                    <a:pt x="575" y="0"/>
                  </a:cubicBezTo>
                  <a:close/>
                  <a:moveTo>
                    <a:pt x="608" y="0"/>
                  </a:moveTo>
                  <a:lnTo>
                    <a:pt x="608" y="0"/>
                  </a:lnTo>
                  <a:cubicBezTo>
                    <a:pt x="613" y="0"/>
                    <a:pt x="617" y="4"/>
                    <a:pt x="617" y="8"/>
                  </a:cubicBezTo>
                  <a:cubicBezTo>
                    <a:pt x="617" y="13"/>
                    <a:pt x="613" y="16"/>
                    <a:pt x="608" y="16"/>
                  </a:cubicBezTo>
                  <a:lnTo>
                    <a:pt x="608" y="16"/>
                  </a:lnTo>
                  <a:cubicBezTo>
                    <a:pt x="604" y="16"/>
                    <a:pt x="600" y="13"/>
                    <a:pt x="600" y="8"/>
                  </a:cubicBezTo>
                  <a:cubicBezTo>
                    <a:pt x="600" y="4"/>
                    <a:pt x="604" y="0"/>
                    <a:pt x="608" y="0"/>
                  </a:cubicBezTo>
                  <a:close/>
                  <a:moveTo>
                    <a:pt x="642" y="0"/>
                  </a:moveTo>
                  <a:lnTo>
                    <a:pt x="642" y="0"/>
                  </a:lnTo>
                  <a:cubicBezTo>
                    <a:pt x="646" y="0"/>
                    <a:pt x="650" y="4"/>
                    <a:pt x="650" y="8"/>
                  </a:cubicBezTo>
                  <a:cubicBezTo>
                    <a:pt x="650" y="13"/>
                    <a:pt x="646" y="16"/>
                    <a:pt x="642" y="16"/>
                  </a:cubicBezTo>
                  <a:lnTo>
                    <a:pt x="642" y="16"/>
                  </a:lnTo>
                  <a:cubicBezTo>
                    <a:pt x="637" y="16"/>
                    <a:pt x="633" y="13"/>
                    <a:pt x="633" y="8"/>
                  </a:cubicBezTo>
                  <a:cubicBezTo>
                    <a:pt x="633" y="4"/>
                    <a:pt x="637" y="0"/>
                    <a:pt x="642" y="0"/>
                  </a:cubicBezTo>
                  <a:close/>
                  <a:moveTo>
                    <a:pt x="675" y="0"/>
                  </a:moveTo>
                  <a:lnTo>
                    <a:pt x="675" y="0"/>
                  </a:lnTo>
                  <a:cubicBezTo>
                    <a:pt x="680" y="0"/>
                    <a:pt x="683" y="4"/>
                    <a:pt x="683" y="8"/>
                  </a:cubicBezTo>
                  <a:cubicBezTo>
                    <a:pt x="683" y="13"/>
                    <a:pt x="680" y="16"/>
                    <a:pt x="675" y="16"/>
                  </a:cubicBezTo>
                  <a:lnTo>
                    <a:pt x="675" y="16"/>
                  </a:lnTo>
                  <a:cubicBezTo>
                    <a:pt x="670" y="16"/>
                    <a:pt x="667" y="13"/>
                    <a:pt x="667" y="8"/>
                  </a:cubicBezTo>
                  <a:cubicBezTo>
                    <a:pt x="667" y="4"/>
                    <a:pt x="670" y="0"/>
                    <a:pt x="675" y="0"/>
                  </a:cubicBezTo>
                  <a:close/>
                  <a:moveTo>
                    <a:pt x="708" y="0"/>
                  </a:moveTo>
                  <a:lnTo>
                    <a:pt x="708" y="0"/>
                  </a:lnTo>
                  <a:cubicBezTo>
                    <a:pt x="713" y="0"/>
                    <a:pt x="717" y="4"/>
                    <a:pt x="717" y="8"/>
                  </a:cubicBezTo>
                  <a:cubicBezTo>
                    <a:pt x="717" y="13"/>
                    <a:pt x="713" y="16"/>
                    <a:pt x="708" y="16"/>
                  </a:cubicBezTo>
                  <a:lnTo>
                    <a:pt x="708" y="16"/>
                  </a:lnTo>
                  <a:cubicBezTo>
                    <a:pt x="704" y="16"/>
                    <a:pt x="700" y="13"/>
                    <a:pt x="700" y="8"/>
                  </a:cubicBezTo>
                  <a:cubicBezTo>
                    <a:pt x="700" y="4"/>
                    <a:pt x="704" y="0"/>
                    <a:pt x="708" y="0"/>
                  </a:cubicBezTo>
                  <a:close/>
                  <a:moveTo>
                    <a:pt x="742" y="0"/>
                  </a:moveTo>
                  <a:lnTo>
                    <a:pt x="742" y="0"/>
                  </a:lnTo>
                  <a:cubicBezTo>
                    <a:pt x="746" y="0"/>
                    <a:pt x="750" y="4"/>
                    <a:pt x="750" y="8"/>
                  </a:cubicBezTo>
                  <a:cubicBezTo>
                    <a:pt x="750" y="13"/>
                    <a:pt x="746" y="16"/>
                    <a:pt x="742" y="16"/>
                  </a:cubicBezTo>
                  <a:lnTo>
                    <a:pt x="742" y="16"/>
                  </a:lnTo>
                  <a:cubicBezTo>
                    <a:pt x="737" y="16"/>
                    <a:pt x="733" y="13"/>
                    <a:pt x="733" y="8"/>
                  </a:cubicBezTo>
                  <a:cubicBezTo>
                    <a:pt x="733" y="4"/>
                    <a:pt x="737" y="0"/>
                    <a:pt x="742" y="0"/>
                  </a:cubicBezTo>
                  <a:close/>
                  <a:moveTo>
                    <a:pt x="775" y="0"/>
                  </a:moveTo>
                  <a:lnTo>
                    <a:pt x="775" y="0"/>
                  </a:lnTo>
                  <a:cubicBezTo>
                    <a:pt x="780" y="0"/>
                    <a:pt x="783" y="4"/>
                    <a:pt x="783" y="8"/>
                  </a:cubicBezTo>
                  <a:cubicBezTo>
                    <a:pt x="783" y="13"/>
                    <a:pt x="780" y="16"/>
                    <a:pt x="775" y="16"/>
                  </a:cubicBezTo>
                  <a:lnTo>
                    <a:pt x="775" y="16"/>
                  </a:lnTo>
                  <a:cubicBezTo>
                    <a:pt x="771" y="16"/>
                    <a:pt x="767" y="13"/>
                    <a:pt x="767" y="8"/>
                  </a:cubicBezTo>
                  <a:cubicBezTo>
                    <a:pt x="767" y="4"/>
                    <a:pt x="771" y="0"/>
                    <a:pt x="775" y="0"/>
                  </a:cubicBezTo>
                  <a:close/>
                  <a:moveTo>
                    <a:pt x="808" y="0"/>
                  </a:moveTo>
                  <a:lnTo>
                    <a:pt x="808" y="0"/>
                  </a:lnTo>
                  <a:cubicBezTo>
                    <a:pt x="813" y="0"/>
                    <a:pt x="817" y="4"/>
                    <a:pt x="817" y="8"/>
                  </a:cubicBezTo>
                  <a:cubicBezTo>
                    <a:pt x="817" y="13"/>
                    <a:pt x="813" y="16"/>
                    <a:pt x="808" y="16"/>
                  </a:cubicBezTo>
                  <a:lnTo>
                    <a:pt x="808" y="16"/>
                  </a:lnTo>
                  <a:cubicBezTo>
                    <a:pt x="804" y="16"/>
                    <a:pt x="800" y="13"/>
                    <a:pt x="800" y="8"/>
                  </a:cubicBezTo>
                  <a:cubicBezTo>
                    <a:pt x="800" y="4"/>
                    <a:pt x="804" y="0"/>
                    <a:pt x="808" y="0"/>
                  </a:cubicBezTo>
                  <a:close/>
                  <a:moveTo>
                    <a:pt x="842" y="0"/>
                  </a:moveTo>
                  <a:lnTo>
                    <a:pt x="842" y="0"/>
                  </a:lnTo>
                  <a:cubicBezTo>
                    <a:pt x="846" y="0"/>
                    <a:pt x="850" y="4"/>
                    <a:pt x="850" y="8"/>
                  </a:cubicBezTo>
                  <a:cubicBezTo>
                    <a:pt x="850" y="13"/>
                    <a:pt x="846" y="16"/>
                    <a:pt x="842" y="16"/>
                  </a:cubicBezTo>
                  <a:lnTo>
                    <a:pt x="842" y="16"/>
                  </a:lnTo>
                  <a:cubicBezTo>
                    <a:pt x="837" y="16"/>
                    <a:pt x="833" y="13"/>
                    <a:pt x="833" y="8"/>
                  </a:cubicBezTo>
                  <a:cubicBezTo>
                    <a:pt x="833" y="4"/>
                    <a:pt x="837" y="0"/>
                    <a:pt x="842" y="0"/>
                  </a:cubicBezTo>
                  <a:close/>
                  <a:moveTo>
                    <a:pt x="875" y="0"/>
                  </a:moveTo>
                  <a:lnTo>
                    <a:pt x="875" y="0"/>
                  </a:lnTo>
                  <a:cubicBezTo>
                    <a:pt x="880" y="0"/>
                    <a:pt x="884" y="4"/>
                    <a:pt x="884" y="8"/>
                  </a:cubicBezTo>
                  <a:cubicBezTo>
                    <a:pt x="884" y="13"/>
                    <a:pt x="880" y="16"/>
                    <a:pt x="875" y="16"/>
                  </a:cubicBezTo>
                  <a:lnTo>
                    <a:pt x="875" y="16"/>
                  </a:lnTo>
                  <a:cubicBezTo>
                    <a:pt x="871" y="16"/>
                    <a:pt x="867" y="13"/>
                    <a:pt x="867" y="8"/>
                  </a:cubicBezTo>
                  <a:cubicBezTo>
                    <a:pt x="867" y="4"/>
                    <a:pt x="871" y="0"/>
                    <a:pt x="875" y="0"/>
                  </a:cubicBezTo>
                  <a:close/>
                  <a:moveTo>
                    <a:pt x="909" y="0"/>
                  </a:moveTo>
                  <a:lnTo>
                    <a:pt x="909" y="0"/>
                  </a:lnTo>
                  <a:cubicBezTo>
                    <a:pt x="913" y="0"/>
                    <a:pt x="917" y="4"/>
                    <a:pt x="917" y="8"/>
                  </a:cubicBezTo>
                  <a:cubicBezTo>
                    <a:pt x="917" y="13"/>
                    <a:pt x="913" y="16"/>
                    <a:pt x="909" y="16"/>
                  </a:cubicBezTo>
                  <a:lnTo>
                    <a:pt x="909" y="16"/>
                  </a:lnTo>
                  <a:cubicBezTo>
                    <a:pt x="904" y="16"/>
                    <a:pt x="900" y="13"/>
                    <a:pt x="900" y="8"/>
                  </a:cubicBezTo>
                  <a:cubicBezTo>
                    <a:pt x="900" y="4"/>
                    <a:pt x="904" y="0"/>
                    <a:pt x="909" y="0"/>
                  </a:cubicBezTo>
                  <a:close/>
                  <a:moveTo>
                    <a:pt x="942" y="0"/>
                  </a:moveTo>
                  <a:lnTo>
                    <a:pt x="942" y="0"/>
                  </a:lnTo>
                  <a:cubicBezTo>
                    <a:pt x="946" y="0"/>
                    <a:pt x="950" y="4"/>
                    <a:pt x="950" y="8"/>
                  </a:cubicBezTo>
                  <a:cubicBezTo>
                    <a:pt x="950" y="13"/>
                    <a:pt x="946" y="16"/>
                    <a:pt x="942" y="16"/>
                  </a:cubicBezTo>
                  <a:lnTo>
                    <a:pt x="942" y="16"/>
                  </a:lnTo>
                  <a:cubicBezTo>
                    <a:pt x="937" y="16"/>
                    <a:pt x="934" y="13"/>
                    <a:pt x="934" y="8"/>
                  </a:cubicBezTo>
                  <a:cubicBezTo>
                    <a:pt x="934" y="4"/>
                    <a:pt x="937" y="0"/>
                    <a:pt x="942" y="0"/>
                  </a:cubicBezTo>
                  <a:close/>
                  <a:moveTo>
                    <a:pt x="975" y="0"/>
                  </a:moveTo>
                  <a:lnTo>
                    <a:pt x="975" y="0"/>
                  </a:lnTo>
                  <a:cubicBezTo>
                    <a:pt x="980" y="0"/>
                    <a:pt x="984" y="4"/>
                    <a:pt x="984" y="8"/>
                  </a:cubicBezTo>
                  <a:cubicBezTo>
                    <a:pt x="984" y="13"/>
                    <a:pt x="980" y="16"/>
                    <a:pt x="975" y="16"/>
                  </a:cubicBezTo>
                  <a:lnTo>
                    <a:pt x="975" y="16"/>
                  </a:lnTo>
                  <a:cubicBezTo>
                    <a:pt x="971" y="16"/>
                    <a:pt x="967" y="13"/>
                    <a:pt x="967" y="8"/>
                  </a:cubicBezTo>
                  <a:cubicBezTo>
                    <a:pt x="967" y="4"/>
                    <a:pt x="971" y="0"/>
                    <a:pt x="975" y="0"/>
                  </a:cubicBezTo>
                  <a:close/>
                  <a:moveTo>
                    <a:pt x="1009" y="0"/>
                  </a:moveTo>
                  <a:lnTo>
                    <a:pt x="1009" y="0"/>
                  </a:lnTo>
                  <a:cubicBezTo>
                    <a:pt x="1013" y="0"/>
                    <a:pt x="1017" y="4"/>
                    <a:pt x="1017" y="8"/>
                  </a:cubicBezTo>
                  <a:cubicBezTo>
                    <a:pt x="1017" y="13"/>
                    <a:pt x="1013" y="16"/>
                    <a:pt x="1009" y="16"/>
                  </a:cubicBezTo>
                  <a:lnTo>
                    <a:pt x="1009" y="16"/>
                  </a:lnTo>
                  <a:cubicBezTo>
                    <a:pt x="1004" y="16"/>
                    <a:pt x="1000" y="13"/>
                    <a:pt x="1000" y="8"/>
                  </a:cubicBezTo>
                  <a:cubicBezTo>
                    <a:pt x="1000" y="4"/>
                    <a:pt x="1004" y="0"/>
                    <a:pt x="1009" y="0"/>
                  </a:cubicBezTo>
                  <a:close/>
                  <a:moveTo>
                    <a:pt x="1042" y="0"/>
                  </a:moveTo>
                  <a:lnTo>
                    <a:pt x="1042" y="0"/>
                  </a:lnTo>
                  <a:cubicBezTo>
                    <a:pt x="1047" y="0"/>
                    <a:pt x="1050" y="4"/>
                    <a:pt x="1050" y="8"/>
                  </a:cubicBezTo>
                  <a:cubicBezTo>
                    <a:pt x="1050" y="13"/>
                    <a:pt x="1047" y="16"/>
                    <a:pt x="1042" y="16"/>
                  </a:cubicBezTo>
                  <a:lnTo>
                    <a:pt x="1042" y="16"/>
                  </a:lnTo>
                  <a:cubicBezTo>
                    <a:pt x="1037" y="16"/>
                    <a:pt x="1034" y="13"/>
                    <a:pt x="1034" y="8"/>
                  </a:cubicBezTo>
                  <a:cubicBezTo>
                    <a:pt x="1034" y="4"/>
                    <a:pt x="1037" y="0"/>
                    <a:pt x="1042" y="0"/>
                  </a:cubicBezTo>
                  <a:close/>
                  <a:moveTo>
                    <a:pt x="1075" y="0"/>
                  </a:moveTo>
                  <a:lnTo>
                    <a:pt x="1075" y="0"/>
                  </a:lnTo>
                  <a:cubicBezTo>
                    <a:pt x="1080" y="0"/>
                    <a:pt x="1084" y="4"/>
                    <a:pt x="1084" y="8"/>
                  </a:cubicBezTo>
                  <a:cubicBezTo>
                    <a:pt x="1084" y="13"/>
                    <a:pt x="1080" y="16"/>
                    <a:pt x="1075" y="16"/>
                  </a:cubicBezTo>
                  <a:lnTo>
                    <a:pt x="1075" y="16"/>
                  </a:lnTo>
                  <a:cubicBezTo>
                    <a:pt x="1071" y="16"/>
                    <a:pt x="1067" y="13"/>
                    <a:pt x="1067" y="8"/>
                  </a:cubicBezTo>
                  <a:cubicBezTo>
                    <a:pt x="1067" y="4"/>
                    <a:pt x="1071" y="0"/>
                    <a:pt x="1075" y="0"/>
                  </a:cubicBezTo>
                  <a:close/>
                  <a:moveTo>
                    <a:pt x="1109" y="0"/>
                  </a:moveTo>
                  <a:lnTo>
                    <a:pt x="1109" y="0"/>
                  </a:lnTo>
                  <a:cubicBezTo>
                    <a:pt x="1113" y="0"/>
                    <a:pt x="1117" y="4"/>
                    <a:pt x="1117" y="8"/>
                  </a:cubicBezTo>
                  <a:cubicBezTo>
                    <a:pt x="1117" y="13"/>
                    <a:pt x="1113" y="16"/>
                    <a:pt x="1109" y="16"/>
                  </a:cubicBezTo>
                  <a:lnTo>
                    <a:pt x="1109" y="16"/>
                  </a:lnTo>
                  <a:cubicBezTo>
                    <a:pt x="1104" y="16"/>
                    <a:pt x="1100" y="13"/>
                    <a:pt x="1100" y="8"/>
                  </a:cubicBezTo>
                  <a:cubicBezTo>
                    <a:pt x="1100" y="4"/>
                    <a:pt x="1104" y="0"/>
                    <a:pt x="1109" y="0"/>
                  </a:cubicBezTo>
                  <a:close/>
                  <a:moveTo>
                    <a:pt x="1142" y="0"/>
                  </a:moveTo>
                  <a:lnTo>
                    <a:pt x="1142" y="0"/>
                  </a:lnTo>
                  <a:cubicBezTo>
                    <a:pt x="1147" y="0"/>
                    <a:pt x="1150" y="4"/>
                    <a:pt x="1150" y="8"/>
                  </a:cubicBezTo>
                  <a:cubicBezTo>
                    <a:pt x="1150" y="13"/>
                    <a:pt x="1147" y="16"/>
                    <a:pt x="1142" y="16"/>
                  </a:cubicBezTo>
                  <a:lnTo>
                    <a:pt x="1142" y="16"/>
                  </a:lnTo>
                  <a:cubicBezTo>
                    <a:pt x="1137" y="16"/>
                    <a:pt x="1134" y="13"/>
                    <a:pt x="1134" y="8"/>
                  </a:cubicBezTo>
                  <a:cubicBezTo>
                    <a:pt x="1134" y="4"/>
                    <a:pt x="1137" y="0"/>
                    <a:pt x="1142" y="0"/>
                  </a:cubicBezTo>
                  <a:close/>
                  <a:moveTo>
                    <a:pt x="1175" y="0"/>
                  </a:moveTo>
                  <a:lnTo>
                    <a:pt x="1175" y="0"/>
                  </a:lnTo>
                  <a:cubicBezTo>
                    <a:pt x="1180" y="0"/>
                    <a:pt x="1184" y="4"/>
                    <a:pt x="1184" y="8"/>
                  </a:cubicBezTo>
                  <a:cubicBezTo>
                    <a:pt x="1184" y="13"/>
                    <a:pt x="1180" y="16"/>
                    <a:pt x="1175" y="16"/>
                  </a:cubicBezTo>
                  <a:lnTo>
                    <a:pt x="1175" y="16"/>
                  </a:lnTo>
                  <a:cubicBezTo>
                    <a:pt x="1171" y="16"/>
                    <a:pt x="1167" y="13"/>
                    <a:pt x="1167" y="8"/>
                  </a:cubicBezTo>
                  <a:cubicBezTo>
                    <a:pt x="1167" y="4"/>
                    <a:pt x="1171" y="0"/>
                    <a:pt x="1175" y="0"/>
                  </a:cubicBezTo>
                  <a:close/>
                  <a:moveTo>
                    <a:pt x="1209" y="0"/>
                  </a:moveTo>
                  <a:lnTo>
                    <a:pt x="1209" y="0"/>
                  </a:lnTo>
                  <a:cubicBezTo>
                    <a:pt x="1213" y="0"/>
                    <a:pt x="1217" y="4"/>
                    <a:pt x="1217" y="8"/>
                  </a:cubicBezTo>
                  <a:cubicBezTo>
                    <a:pt x="1217" y="13"/>
                    <a:pt x="1213" y="16"/>
                    <a:pt x="1209" y="16"/>
                  </a:cubicBezTo>
                  <a:lnTo>
                    <a:pt x="1209" y="16"/>
                  </a:lnTo>
                  <a:cubicBezTo>
                    <a:pt x="1204" y="16"/>
                    <a:pt x="1200" y="13"/>
                    <a:pt x="1200" y="8"/>
                  </a:cubicBezTo>
                  <a:cubicBezTo>
                    <a:pt x="1200" y="4"/>
                    <a:pt x="1204" y="0"/>
                    <a:pt x="1209" y="0"/>
                  </a:cubicBezTo>
                  <a:close/>
                  <a:moveTo>
                    <a:pt x="1242" y="0"/>
                  </a:moveTo>
                  <a:lnTo>
                    <a:pt x="1242" y="0"/>
                  </a:lnTo>
                  <a:cubicBezTo>
                    <a:pt x="1247" y="0"/>
                    <a:pt x="1250" y="4"/>
                    <a:pt x="1250" y="8"/>
                  </a:cubicBezTo>
                  <a:cubicBezTo>
                    <a:pt x="1250" y="13"/>
                    <a:pt x="1247" y="16"/>
                    <a:pt x="1242" y="16"/>
                  </a:cubicBezTo>
                  <a:lnTo>
                    <a:pt x="1242" y="16"/>
                  </a:lnTo>
                  <a:cubicBezTo>
                    <a:pt x="1237" y="16"/>
                    <a:pt x="1234" y="13"/>
                    <a:pt x="1234" y="8"/>
                  </a:cubicBezTo>
                  <a:cubicBezTo>
                    <a:pt x="1234" y="4"/>
                    <a:pt x="1237" y="0"/>
                    <a:pt x="1242" y="0"/>
                  </a:cubicBezTo>
                  <a:close/>
                  <a:moveTo>
                    <a:pt x="1275" y="0"/>
                  </a:moveTo>
                  <a:lnTo>
                    <a:pt x="1275" y="0"/>
                  </a:lnTo>
                  <a:cubicBezTo>
                    <a:pt x="1280" y="0"/>
                    <a:pt x="1284" y="4"/>
                    <a:pt x="1284" y="8"/>
                  </a:cubicBezTo>
                  <a:cubicBezTo>
                    <a:pt x="1284" y="13"/>
                    <a:pt x="1280" y="16"/>
                    <a:pt x="1275" y="16"/>
                  </a:cubicBezTo>
                  <a:lnTo>
                    <a:pt x="1275" y="16"/>
                  </a:lnTo>
                  <a:cubicBezTo>
                    <a:pt x="1271" y="16"/>
                    <a:pt x="1267" y="13"/>
                    <a:pt x="1267" y="8"/>
                  </a:cubicBezTo>
                  <a:cubicBezTo>
                    <a:pt x="1267" y="4"/>
                    <a:pt x="1271" y="0"/>
                    <a:pt x="1275" y="0"/>
                  </a:cubicBezTo>
                  <a:close/>
                  <a:moveTo>
                    <a:pt x="1309" y="0"/>
                  </a:moveTo>
                  <a:lnTo>
                    <a:pt x="1309" y="0"/>
                  </a:lnTo>
                  <a:cubicBezTo>
                    <a:pt x="1313" y="0"/>
                    <a:pt x="1317" y="4"/>
                    <a:pt x="1317" y="8"/>
                  </a:cubicBezTo>
                  <a:cubicBezTo>
                    <a:pt x="1317" y="13"/>
                    <a:pt x="1313" y="16"/>
                    <a:pt x="1309" y="16"/>
                  </a:cubicBezTo>
                  <a:lnTo>
                    <a:pt x="1309" y="16"/>
                  </a:lnTo>
                  <a:cubicBezTo>
                    <a:pt x="1304" y="16"/>
                    <a:pt x="1300" y="13"/>
                    <a:pt x="1300" y="8"/>
                  </a:cubicBezTo>
                  <a:cubicBezTo>
                    <a:pt x="1300" y="4"/>
                    <a:pt x="1304" y="0"/>
                    <a:pt x="1309" y="0"/>
                  </a:cubicBezTo>
                  <a:close/>
                  <a:moveTo>
                    <a:pt x="1342" y="0"/>
                  </a:moveTo>
                  <a:lnTo>
                    <a:pt x="1342" y="0"/>
                  </a:lnTo>
                  <a:cubicBezTo>
                    <a:pt x="1347" y="0"/>
                    <a:pt x="1350" y="4"/>
                    <a:pt x="1350" y="8"/>
                  </a:cubicBezTo>
                  <a:cubicBezTo>
                    <a:pt x="1350" y="13"/>
                    <a:pt x="1347" y="16"/>
                    <a:pt x="1342" y="16"/>
                  </a:cubicBezTo>
                  <a:lnTo>
                    <a:pt x="1342" y="16"/>
                  </a:lnTo>
                  <a:cubicBezTo>
                    <a:pt x="1337" y="16"/>
                    <a:pt x="1334" y="13"/>
                    <a:pt x="1334" y="8"/>
                  </a:cubicBezTo>
                  <a:cubicBezTo>
                    <a:pt x="1334" y="4"/>
                    <a:pt x="1337" y="0"/>
                    <a:pt x="1342" y="0"/>
                  </a:cubicBezTo>
                  <a:close/>
                  <a:moveTo>
                    <a:pt x="1375" y="0"/>
                  </a:moveTo>
                  <a:lnTo>
                    <a:pt x="1375" y="0"/>
                  </a:lnTo>
                  <a:cubicBezTo>
                    <a:pt x="1380" y="0"/>
                    <a:pt x="1384" y="4"/>
                    <a:pt x="1384" y="8"/>
                  </a:cubicBezTo>
                  <a:cubicBezTo>
                    <a:pt x="1384" y="13"/>
                    <a:pt x="1380" y="16"/>
                    <a:pt x="1375" y="16"/>
                  </a:cubicBezTo>
                  <a:lnTo>
                    <a:pt x="1375" y="16"/>
                  </a:lnTo>
                  <a:cubicBezTo>
                    <a:pt x="1371" y="16"/>
                    <a:pt x="1367" y="13"/>
                    <a:pt x="1367" y="8"/>
                  </a:cubicBezTo>
                  <a:cubicBezTo>
                    <a:pt x="1367" y="4"/>
                    <a:pt x="1371" y="0"/>
                    <a:pt x="1375" y="0"/>
                  </a:cubicBezTo>
                  <a:close/>
                  <a:moveTo>
                    <a:pt x="1409" y="0"/>
                  </a:moveTo>
                  <a:lnTo>
                    <a:pt x="1409" y="0"/>
                  </a:lnTo>
                  <a:cubicBezTo>
                    <a:pt x="1413" y="0"/>
                    <a:pt x="1417" y="4"/>
                    <a:pt x="1417" y="8"/>
                  </a:cubicBezTo>
                  <a:cubicBezTo>
                    <a:pt x="1417" y="13"/>
                    <a:pt x="1413" y="16"/>
                    <a:pt x="1409" y="16"/>
                  </a:cubicBezTo>
                  <a:lnTo>
                    <a:pt x="1409" y="16"/>
                  </a:lnTo>
                  <a:cubicBezTo>
                    <a:pt x="1404" y="16"/>
                    <a:pt x="1400" y="13"/>
                    <a:pt x="1400" y="8"/>
                  </a:cubicBezTo>
                  <a:cubicBezTo>
                    <a:pt x="1400" y="4"/>
                    <a:pt x="1404" y="0"/>
                    <a:pt x="1409" y="0"/>
                  </a:cubicBezTo>
                  <a:close/>
                  <a:moveTo>
                    <a:pt x="1442" y="0"/>
                  </a:moveTo>
                  <a:lnTo>
                    <a:pt x="1442" y="0"/>
                  </a:lnTo>
                  <a:cubicBezTo>
                    <a:pt x="1447" y="0"/>
                    <a:pt x="1450" y="4"/>
                    <a:pt x="1450" y="8"/>
                  </a:cubicBezTo>
                  <a:cubicBezTo>
                    <a:pt x="1450" y="13"/>
                    <a:pt x="1447" y="16"/>
                    <a:pt x="1442" y="16"/>
                  </a:cubicBezTo>
                  <a:lnTo>
                    <a:pt x="1442" y="16"/>
                  </a:lnTo>
                  <a:cubicBezTo>
                    <a:pt x="1437" y="16"/>
                    <a:pt x="1434" y="13"/>
                    <a:pt x="1434" y="8"/>
                  </a:cubicBezTo>
                  <a:cubicBezTo>
                    <a:pt x="1434" y="4"/>
                    <a:pt x="1437" y="0"/>
                    <a:pt x="1442" y="0"/>
                  </a:cubicBezTo>
                  <a:close/>
                  <a:moveTo>
                    <a:pt x="1475" y="0"/>
                  </a:moveTo>
                  <a:lnTo>
                    <a:pt x="1475" y="0"/>
                  </a:lnTo>
                  <a:cubicBezTo>
                    <a:pt x="1480" y="0"/>
                    <a:pt x="1484" y="4"/>
                    <a:pt x="1484" y="8"/>
                  </a:cubicBezTo>
                  <a:cubicBezTo>
                    <a:pt x="1484" y="13"/>
                    <a:pt x="1480" y="16"/>
                    <a:pt x="1475" y="16"/>
                  </a:cubicBezTo>
                  <a:lnTo>
                    <a:pt x="1475" y="16"/>
                  </a:lnTo>
                  <a:cubicBezTo>
                    <a:pt x="1471" y="16"/>
                    <a:pt x="1467" y="13"/>
                    <a:pt x="1467" y="8"/>
                  </a:cubicBezTo>
                  <a:cubicBezTo>
                    <a:pt x="1467" y="4"/>
                    <a:pt x="1471" y="0"/>
                    <a:pt x="1475" y="0"/>
                  </a:cubicBezTo>
                  <a:close/>
                  <a:moveTo>
                    <a:pt x="1509" y="0"/>
                  </a:moveTo>
                  <a:lnTo>
                    <a:pt x="1509" y="0"/>
                  </a:lnTo>
                  <a:cubicBezTo>
                    <a:pt x="1513" y="0"/>
                    <a:pt x="1517" y="4"/>
                    <a:pt x="1517" y="8"/>
                  </a:cubicBezTo>
                  <a:cubicBezTo>
                    <a:pt x="1517" y="13"/>
                    <a:pt x="1513" y="16"/>
                    <a:pt x="1509" y="16"/>
                  </a:cubicBezTo>
                  <a:lnTo>
                    <a:pt x="1509" y="16"/>
                  </a:lnTo>
                  <a:cubicBezTo>
                    <a:pt x="1504" y="16"/>
                    <a:pt x="1500" y="13"/>
                    <a:pt x="1500" y="8"/>
                  </a:cubicBezTo>
                  <a:cubicBezTo>
                    <a:pt x="1500" y="4"/>
                    <a:pt x="1504" y="0"/>
                    <a:pt x="1509" y="0"/>
                  </a:cubicBezTo>
                  <a:close/>
                  <a:moveTo>
                    <a:pt x="1542" y="0"/>
                  </a:moveTo>
                  <a:lnTo>
                    <a:pt x="1542" y="0"/>
                  </a:lnTo>
                  <a:cubicBezTo>
                    <a:pt x="1547" y="0"/>
                    <a:pt x="1550" y="4"/>
                    <a:pt x="1550" y="8"/>
                  </a:cubicBezTo>
                  <a:cubicBezTo>
                    <a:pt x="1550" y="13"/>
                    <a:pt x="1547" y="16"/>
                    <a:pt x="1542" y="16"/>
                  </a:cubicBezTo>
                  <a:lnTo>
                    <a:pt x="1542" y="16"/>
                  </a:lnTo>
                  <a:cubicBezTo>
                    <a:pt x="1538" y="16"/>
                    <a:pt x="1534" y="13"/>
                    <a:pt x="1534" y="8"/>
                  </a:cubicBezTo>
                  <a:cubicBezTo>
                    <a:pt x="1534" y="4"/>
                    <a:pt x="1538" y="0"/>
                    <a:pt x="1542" y="0"/>
                  </a:cubicBezTo>
                  <a:close/>
                  <a:moveTo>
                    <a:pt x="1575" y="0"/>
                  </a:moveTo>
                  <a:lnTo>
                    <a:pt x="1575" y="0"/>
                  </a:lnTo>
                  <a:cubicBezTo>
                    <a:pt x="1580" y="0"/>
                    <a:pt x="1584" y="4"/>
                    <a:pt x="1584" y="8"/>
                  </a:cubicBezTo>
                  <a:cubicBezTo>
                    <a:pt x="1584" y="13"/>
                    <a:pt x="1580" y="16"/>
                    <a:pt x="1575" y="16"/>
                  </a:cubicBezTo>
                  <a:lnTo>
                    <a:pt x="1575" y="16"/>
                  </a:lnTo>
                  <a:cubicBezTo>
                    <a:pt x="1571" y="16"/>
                    <a:pt x="1567" y="13"/>
                    <a:pt x="1567" y="8"/>
                  </a:cubicBezTo>
                  <a:cubicBezTo>
                    <a:pt x="1567" y="4"/>
                    <a:pt x="1571" y="0"/>
                    <a:pt x="1575" y="0"/>
                  </a:cubicBezTo>
                  <a:close/>
                  <a:moveTo>
                    <a:pt x="1609" y="0"/>
                  </a:moveTo>
                  <a:lnTo>
                    <a:pt x="1609" y="0"/>
                  </a:lnTo>
                  <a:cubicBezTo>
                    <a:pt x="1613" y="0"/>
                    <a:pt x="1617" y="4"/>
                    <a:pt x="1617" y="8"/>
                  </a:cubicBezTo>
                  <a:cubicBezTo>
                    <a:pt x="1617" y="13"/>
                    <a:pt x="1613" y="16"/>
                    <a:pt x="1609" y="16"/>
                  </a:cubicBezTo>
                  <a:lnTo>
                    <a:pt x="1609" y="16"/>
                  </a:lnTo>
                  <a:cubicBezTo>
                    <a:pt x="1604" y="16"/>
                    <a:pt x="1600" y="13"/>
                    <a:pt x="1600" y="8"/>
                  </a:cubicBezTo>
                  <a:cubicBezTo>
                    <a:pt x="1600" y="4"/>
                    <a:pt x="1604" y="0"/>
                    <a:pt x="1609" y="0"/>
                  </a:cubicBezTo>
                  <a:close/>
                  <a:moveTo>
                    <a:pt x="1642" y="0"/>
                  </a:moveTo>
                  <a:lnTo>
                    <a:pt x="1642" y="0"/>
                  </a:lnTo>
                  <a:cubicBezTo>
                    <a:pt x="1647" y="0"/>
                    <a:pt x="1651" y="4"/>
                    <a:pt x="1651" y="8"/>
                  </a:cubicBezTo>
                  <a:cubicBezTo>
                    <a:pt x="1651" y="13"/>
                    <a:pt x="1647" y="16"/>
                    <a:pt x="1642" y="16"/>
                  </a:cubicBezTo>
                  <a:lnTo>
                    <a:pt x="1642" y="16"/>
                  </a:lnTo>
                  <a:cubicBezTo>
                    <a:pt x="1638" y="16"/>
                    <a:pt x="1634" y="13"/>
                    <a:pt x="1634" y="8"/>
                  </a:cubicBezTo>
                  <a:cubicBezTo>
                    <a:pt x="1634" y="4"/>
                    <a:pt x="1638" y="0"/>
                    <a:pt x="1642" y="0"/>
                  </a:cubicBezTo>
                  <a:close/>
                  <a:moveTo>
                    <a:pt x="1676" y="0"/>
                  </a:moveTo>
                  <a:lnTo>
                    <a:pt x="1676" y="0"/>
                  </a:lnTo>
                  <a:cubicBezTo>
                    <a:pt x="1680" y="0"/>
                    <a:pt x="1684" y="4"/>
                    <a:pt x="1684" y="8"/>
                  </a:cubicBezTo>
                  <a:cubicBezTo>
                    <a:pt x="1684" y="13"/>
                    <a:pt x="1680" y="16"/>
                    <a:pt x="1676" y="16"/>
                  </a:cubicBezTo>
                  <a:lnTo>
                    <a:pt x="1676" y="16"/>
                  </a:lnTo>
                  <a:cubicBezTo>
                    <a:pt x="1671" y="16"/>
                    <a:pt x="1667" y="13"/>
                    <a:pt x="1667" y="8"/>
                  </a:cubicBezTo>
                  <a:cubicBezTo>
                    <a:pt x="1667" y="4"/>
                    <a:pt x="1671" y="0"/>
                    <a:pt x="1676" y="0"/>
                  </a:cubicBezTo>
                  <a:close/>
                  <a:moveTo>
                    <a:pt x="1709" y="0"/>
                  </a:moveTo>
                  <a:lnTo>
                    <a:pt x="1709" y="0"/>
                  </a:lnTo>
                  <a:cubicBezTo>
                    <a:pt x="1713" y="0"/>
                    <a:pt x="1717" y="4"/>
                    <a:pt x="1717" y="8"/>
                  </a:cubicBezTo>
                  <a:cubicBezTo>
                    <a:pt x="1717" y="13"/>
                    <a:pt x="1713" y="16"/>
                    <a:pt x="1709" y="16"/>
                  </a:cubicBezTo>
                  <a:lnTo>
                    <a:pt x="1709" y="16"/>
                  </a:lnTo>
                  <a:cubicBezTo>
                    <a:pt x="1704" y="16"/>
                    <a:pt x="1701" y="13"/>
                    <a:pt x="1701" y="8"/>
                  </a:cubicBezTo>
                  <a:cubicBezTo>
                    <a:pt x="1701" y="4"/>
                    <a:pt x="1704" y="0"/>
                    <a:pt x="1709" y="0"/>
                  </a:cubicBezTo>
                  <a:close/>
                  <a:moveTo>
                    <a:pt x="1742" y="0"/>
                  </a:moveTo>
                  <a:lnTo>
                    <a:pt x="1742" y="0"/>
                  </a:lnTo>
                  <a:cubicBezTo>
                    <a:pt x="1747" y="0"/>
                    <a:pt x="1751" y="4"/>
                    <a:pt x="1751" y="8"/>
                  </a:cubicBezTo>
                  <a:cubicBezTo>
                    <a:pt x="1751" y="13"/>
                    <a:pt x="1747" y="16"/>
                    <a:pt x="1742" y="16"/>
                  </a:cubicBezTo>
                  <a:lnTo>
                    <a:pt x="1742" y="16"/>
                  </a:lnTo>
                  <a:cubicBezTo>
                    <a:pt x="1738" y="16"/>
                    <a:pt x="1734" y="13"/>
                    <a:pt x="1734" y="8"/>
                  </a:cubicBezTo>
                  <a:cubicBezTo>
                    <a:pt x="1734" y="4"/>
                    <a:pt x="1738" y="0"/>
                    <a:pt x="1742" y="0"/>
                  </a:cubicBezTo>
                  <a:close/>
                  <a:moveTo>
                    <a:pt x="1776" y="0"/>
                  </a:moveTo>
                  <a:lnTo>
                    <a:pt x="1776" y="0"/>
                  </a:lnTo>
                  <a:cubicBezTo>
                    <a:pt x="1780" y="0"/>
                    <a:pt x="1784" y="4"/>
                    <a:pt x="1784" y="8"/>
                  </a:cubicBezTo>
                  <a:cubicBezTo>
                    <a:pt x="1784" y="13"/>
                    <a:pt x="1780" y="16"/>
                    <a:pt x="1776" y="16"/>
                  </a:cubicBezTo>
                  <a:lnTo>
                    <a:pt x="1776" y="16"/>
                  </a:lnTo>
                  <a:cubicBezTo>
                    <a:pt x="1771" y="16"/>
                    <a:pt x="1767" y="13"/>
                    <a:pt x="1767" y="8"/>
                  </a:cubicBezTo>
                  <a:cubicBezTo>
                    <a:pt x="1767" y="4"/>
                    <a:pt x="1771" y="0"/>
                    <a:pt x="1776" y="0"/>
                  </a:cubicBezTo>
                  <a:close/>
                  <a:moveTo>
                    <a:pt x="1809" y="0"/>
                  </a:moveTo>
                  <a:lnTo>
                    <a:pt x="1809" y="0"/>
                  </a:lnTo>
                  <a:cubicBezTo>
                    <a:pt x="1814" y="0"/>
                    <a:pt x="1817" y="4"/>
                    <a:pt x="1817" y="8"/>
                  </a:cubicBezTo>
                  <a:cubicBezTo>
                    <a:pt x="1817" y="13"/>
                    <a:pt x="1814" y="16"/>
                    <a:pt x="1809" y="16"/>
                  </a:cubicBezTo>
                  <a:lnTo>
                    <a:pt x="1809" y="16"/>
                  </a:lnTo>
                  <a:cubicBezTo>
                    <a:pt x="1804" y="16"/>
                    <a:pt x="1801" y="13"/>
                    <a:pt x="1801" y="8"/>
                  </a:cubicBezTo>
                  <a:cubicBezTo>
                    <a:pt x="1801" y="4"/>
                    <a:pt x="1804" y="0"/>
                    <a:pt x="1809" y="0"/>
                  </a:cubicBezTo>
                  <a:close/>
                  <a:moveTo>
                    <a:pt x="1842" y="0"/>
                  </a:moveTo>
                  <a:lnTo>
                    <a:pt x="1842" y="0"/>
                  </a:lnTo>
                  <a:cubicBezTo>
                    <a:pt x="1847" y="0"/>
                    <a:pt x="1851" y="4"/>
                    <a:pt x="1851" y="8"/>
                  </a:cubicBezTo>
                  <a:cubicBezTo>
                    <a:pt x="1851" y="13"/>
                    <a:pt x="1847" y="16"/>
                    <a:pt x="1842" y="16"/>
                  </a:cubicBezTo>
                  <a:lnTo>
                    <a:pt x="1842" y="16"/>
                  </a:lnTo>
                  <a:cubicBezTo>
                    <a:pt x="1838" y="16"/>
                    <a:pt x="1834" y="13"/>
                    <a:pt x="1834" y="8"/>
                  </a:cubicBezTo>
                  <a:cubicBezTo>
                    <a:pt x="1834" y="4"/>
                    <a:pt x="1838" y="0"/>
                    <a:pt x="1842" y="0"/>
                  </a:cubicBezTo>
                  <a:close/>
                  <a:moveTo>
                    <a:pt x="1876" y="0"/>
                  </a:moveTo>
                  <a:lnTo>
                    <a:pt x="1876" y="0"/>
                  </a:lnTo>
                  <a:cubicBezTo>
                    <a:pt x="1880" y="0"/>
                    <a:pt x="1884" y="4"/>
                    <a:pt x="1884" y="8"/>
                  </a:cubicBezTo>
                  <a:cubicBezTo>
                    <a:pt x="1884" y="13"/>
                    <a:pt x="1880" y="16"/>
                    <a:pt x="1876" y="16"/>
                  </a:cubicBezTo>
                  <a:lnTo>
                    <a:pt x="1876" y="16"/>
                  </a:lnTo>
                  <a:cubicBezTo>
                    <a:pt x="1871" y="16"/>
                    <a:pt x="1867" y="13"/>
                    <a:pt x="1867" y="8"/>
                  </a:cubicBezTo>
                  <a:cubicBezTo>
                    <a:pt x="1867" y="4"/>
                    <a:pt x="1871" y="0"/>
                    <a:pt x="1876" y="0"/>
                  </a:cubicBezTo>
                  <a:close/>
                  <a:moveTo>
                    <a:pt x="1909" y="0"/>
                  </a:moveTo>
                  <a:lnTo>
                    <a:pt x="1909" y="0"/>
                  </a:lnTo>
                  <a:cubicBezTo>
                    <a:pt x="1914" y="0"/>
                    <a:pt x="1917" y="4"/>
                    <a:pt x="1917" y="8"/>
                  </a:cubicBezTo>
                  <a:cubicBezTo>
                    <a:pt x="1917" y="13"/>
                    <a:pt x="1914" y="16"/>
                    <a:pt x="1909" y="16"/>
                  </a:cubicBezTo>
                  <a:lnTo>
                    <a:pt x="1909" y="16"/>
                  </a:lnTo>
                  <a:cubicBezTo>
                    <a:pt x="1904" y="16"/>
                    <a:pt x="1901" y="13"/>
                    <a:pt x="1901" y="8"/>
                  </a:cubicBezTo>
                  <a:cubicBezTo>
                    <a:pt x="1901" y="4"/>
                    <a:pt x="1904" y="0"/>
                    <a:pt x="1909" y="0"/>
                  </a:cubicBezTo>
                  <a:close/>
                  <a:moveTo>
                    <a:pt x="1942" y="0"/>
                  </a:moveTo>
                  <a:lnTo>
                    <a:pt x="1942" y="0"/>
                  </a:lnTo>
                  <a:cubicBezTo>
                    <a:pt x="1947" y="0"/>
                    <a:pt x="1951" y="4"/>
                    <a:pt x="1951" y="8"/>
                  </a:cubicBezTo>
                  <a:cubicBezTo>
                    <a:pt x="1951" y="13"/>
                    <a:pt x="1947" y="16"/>
                    <a:pt x="1942" y="16"/>
                  </a:cubicBezTo>
                  <a:lnTo>
                    <a:pt x="1942" y="16"/>
                  </a:lnTo>
                  <a:cubicBezTo>
                    <a:pt x="1938" y="16"/>
                    <a:pt x="1934" y="13"/>
                    <a:pt x="1934" y="8"/>
                  </a:cubicBezTo>
                  <a:cubicBezTo>
                    <a:pt x="1934" y="4"/>
                    <a:pt x="1938" y="0"/>
                    <a:pt x="1942" y="0"/>
                  </a:cubicBezTo>
                  <a:close/>
                  <a:moveTo>
                    <a:pt x="1976" y="0"/>
                  </a:moveTo>
                  <a:lnTo>
                    <a:pt x="1976" y="0"/>
                  </a:lnTo>
                  <a:cubicBezTo>
                    <a:pt x="1980" y="0"/>
                    <a:pt x="1984" y="4"/>
                    <a:pt x="1984" y="8"/>
                  </a:cubicBezTo>
                  <a:cubicBezTo>
                    <a:pt x="1984" y="13"/>
                    <a:pt x="1980" y="16"/>
                    <a:pt x="1976" y="16"/>
                  </a:cubicBezTo>
                  <a:lnTo>
                    <a:pt x="1976" y="16"/>
                  </a:lnTo>
                  <a:cubicBezTo>
                    <a:pt x="1971" y="16"/>
                    <a:pt x="1967" y="13"/>
                    <a:pt x="1967" y="8"/>
                  </a:cubicBezTo>
                  <a:cubicBezTo>
                    <a:pt x="1967" y="4"/>
                    <a:pt x="1971" y="0"/>
                    <a:pt x="1976" y="0"/>
                  </a:cubicBezTo>
                  <a:close/>
                  <a:moveTo>
                    <a:pt x="2009" y="0"/>
                  </a:moveTo>
                  <a:lnTo>
                    <a:pt x="2009" y="0"/>
                  </a:lnTo>
                  <a:cubicBezTo>
                    <a:pt x="2014" y="0"/>
                    <a:pt x="2017" y="4"/>
                    <a:pt x="2017" y="8"/>
                  </a:cubicBezTo>
                  <a:cubicBezTo>
                    <a:pt x="2017" y="13"/>
                    <a:pt x="2014" y="16"/>
                    <a:pt x="2009" y="16"/>
                  </a:cubicBezTo>
                  <a:lnTo>
                    <a:pt x="2009" y="16"/>
                  </a:lnTo>
                  <a:cubicBezTo>
                    <a:pt x="2004" y="16"/>
                    <a:pt x="2001" y="13"/>
                    <a:pt x="2001" y="8"/>
                  </a:cubicBezTo>
                  <a:cubicBezTo>
                    <a:pt x="2001" y="4"/>
                    <a:pt x="2004" y="0"/>
                    <a:pt x="2009" y="0"/>
                  </a:cubicBezTo>
                  <a:close/>
                  <a:moveTo>
                    <a:pt x="2042" y="0"/>
                  </a:moveTo>
                  <a:lnTo>
                    <a:pt x="2042" y="0"/>
                  </a:lnTo>
                  <a:cubicBezTo>
                    <a:pt x="2047" y="0"/>
                    <a:pt x="2051" y="4"/>
                    <a:pt x="2051" y="8"/>
                  </a:cubicBezTo>
                  <a:cubicBezTo>
                    <a:pt x="2051" y="13"/>
                    <a:pt x="2047" y="16"/>
                    <a:pt x="2042" y="16"/>
                  </a:cubicBezTo>
                  <a:lnTo>
                    <a:pt x="2042" y="16"/>
                  </a:lnTo>
                  <a:cubicBezTo>
                    <a:pt x="2038" y="16"/>
                    <a:pt x="2034" y="13"/>
                    <a:pt x="2034" y="8"/>
                  </a:cubicBezTo>
                  <a:cubicBezTo>
                    <a:pt x="2034" y="4"/>
                    <a:pt x="2038" y="0"/>
                    <a:pt x="2042" y="0"/>
                  </a:cubicBezTo>
                  <a:close/>
                  <a:moveTo>
                    <a:pt x="2076" y="0"/>
                  </a:moveTo>
                  <a:lnTo>
                    <a:pt x="2076" y="0"/>
                  </a:lnTo>
                  <a:cubicBezTo>
                    <a:pt x="2080" y="0"/>
                    <a:pt x="2084" y="4"/>
                    <a:pt x="2084" y="8"/>
                  </a:cubicBezTo>
                  <a:cubicBezTo>
                    <a:pt x="2084" y="13"/>
                    <a:pt x="2080" y="16"/>
                    <a:pt x="2076" y="16"/>
                  </a:cubicBezTo>
                  <a:lnTo>
                    <a:pt x="2076" y="16"/>
                  </a:lnTo>
                  <a:cubicBezTo>
                    <a:pt x="2071" y="16"/>
                    <a:pt x="2067" y="13"/>
                    <a:pt x="2067" y="8"/>
                  </a:cubicBezTo>
                  <a:cubicBezTo>
                    <a:pt x="2067" y="4"/>
                    <a:pt x="2071" y="0"/>
                    <a:pt x="2076" y="0"/>
                  </a:cubicBezTo>
                  <a:close/>
                  <a:moveTo>
                    <a:pt x="2109" y="0"/>
                  </a:moveTo>
                  <a:lnTo>
                    <a:pt x="2109" y="0"/>
                  </a:lnTo>
                  <a:cubicBezTo>
                    <a:pt x="2114" y="0"/>
                    <a:pt x="2117" y="4"/>
                    <a:pt x="2117" y="8"/>
                  </a:cubicBezTo>
                  <a:cubicBezTo>
                    <a:pt x="2117" y="13"/>
                    <a:pt x="2114" y="16"/>
                    <a:pt x="2109" y="16"/>
                  </a:cubicBezTo>
                  <a:lnTo>
                    <a:pt x="2109" y="16"/>
                  </a:lnTo>
                  <a:cubicBezTo>
                    <a:pt x="2104" y="16"/>
                    <a:pt x="2101" y="13"/>
                    <a:pt x="2101" y="8"/>
                  </a:cubicBezTo>
                  <a:cubicBezTo>
                    <a:pt x="2101" y="4"/>
                    <a:pt x="2104" y="0"/>
                    <a:pt x="2109" y="0"/>
                  </a:cubicBezTo>
                  <a:close/>
                  <a:moveTo>
                    <a:pt x="2142" y="0"/>
                  </a:moveTo>
                  <a:lnTo>
                    <a:pt x="2142" y="0"/>
                  </a:lnTo>
                  <a:cubicBezTo>
                    <a:pt x="2147" y="0"/>
                    <a:pt x="2151" y="4"/>
                    <a:pt x="2151" y="8"/>
                  </a:cubicBezTo>
                  <a:cubicBezTo>
                    <a:pt x="2151" y="13"/>
                    <a:pt x="2147" y="16"/>
                    <a:pt x="2142" y="16"/>
                  </a:cubicBezTo>
                  <a:lnTo>
                    <a:pt x="2142" y="16"/>
                  </a:lnTo>
                  <a:cubicBezTo>
                    <a:pt x="2138" y="16"/>
                    <a:pt x="2134" y="13"/>
                    <a:pt x="2134" y="8"/>
                  </a:cubicBezTo>
                  <a:cubicBezTo>
                    <a:pt x="2134" y="4"/>
                    <a:pt x="2138" y="0"/>
                    <a:pt x="2142" y="0"/>
                  </a:cubicBezTo>
                  <a:close/>
                  <a:moveTo>
                    <a:pt x="2176" y="0"/>
                  </a:moveTo>
                  <a:lnTo>
                    <a:pt x="2176" y="0"/>
                  </a:lnTo>
                  <a:cubicBezTo>
                    <a:pt x="2180" y="0"/>
                    <a:pt x="2184" y="4"/>
                    <a:pt x="2184" y="8"/>
                  </a:cubicBezTo>
                  <a:cubicBezTo>
                    <a:pt x="2184" y="13"/>
                    <a:pt x="2180" y="16"/>
                    <a:pt x="2176" y="16"/>
                  </a:cubicBezTo>
                  <a:lnTo>
                    <a:pt x="2176" y="16"/>
                  </a:lnTo>
                  <a:cubicBezTo>
                    <a:pt x="2171" y="16"/>
                    <a:pt x="2167" y="13"/>
                    <a:pt x="2167" y="8"/>
                  </a:cubicBezTo>
                  <a:cubicBezTo>
                    <a:pt x="2167" y="4"/>
                    <a:pt x="2171" y="0"/>
                    <a:pt x="2176" y="0"/>
                  </a:cubicBezTo>
                  <a:close/>
                  <a:moveTo>
                    <a:pt x="2209" y="0"/>
                  </a:moveTo>
                  <a:lnTo>
                    <a:pt x="2209" y="0"/>
                  </a:lnTo>
                  <a:cubicBezTo>
                    <a:pt x="2214" y="0"/>
                    <a:pt x="2217" y="4"/>
                    <a:pt x="2217" y="8"/>
                  </a:cubicBezTo>
                  <a:cubicBezTo>
                    <a:pt x="2217" y="13"/>
                    <a:pt x="2214" y="16"/>
                    <a:pt x="2209" y="16"/>
                  </a:cubicBezTo>
                  <a:lnTo>
                    <a:pt x="2209" y="16"/>
                  </a:lnTo>
                  <a:cubicBezTo>
                    <a:pt x="2205" y="16"/>
                    <a:pt x="2201" y="13"/>
                    <a:pt x="2201" y="8"/>
                  </a:cubicBezTo>
                  <a:cubicBezTo>
                    <a:pt x="2201" y="4"/>
                    <a:pt x="2205" y="0"/>
                    <a:pt x="2209" y="0"/>
                  </a:cubicBezTo>
                  <a:close/>
                  <a:moveTo>
                    <a:pt x="2242" y="0"/>
                  </a:moveTo>
                  <a:lnTo>
                    <a:pt x="2242" y="0"/>
                  </a:lnTo>
                  <a:cubicBezTo>
                    <a:pt x="2247" y="0"/>
                    <a:pt x="2251" y="4"/>
                    <a:pt x="2251" y="8"/>
                  </a:cubicBezTo>
                  <a:cubicBezTo>
                    <a:pt x="2251" y="13"/>
                    <a:pt x="2247" y="16"/>
                    <a:pt x="2242" y="16"/>
                  </a:cubicBezTo>
                  <a:lnTo>
                    <a:pt x="2242" y="16"/>
                  </a:lnTo>
                  <a:cubicBezTo>
                    <a:pt x="2238" y="16"/>
                    <a:pt x="2234" y="13"/>
                    <a:pt x="2234" y="8"/>
                  </a:cubicBezTo>
                  <a:cubicBezTo>
                    <a:pt x="2234" y="4"/>
                    <a:pt x="2238" y="0"/>
                    <a:pt x="2242" y="0"/>
                  </a:cubicBezTo>
                  <a:close/>
                  <a:moveTo>
                    <a:pt x="2276" y="0"/>
                  </a:moveTo>
                  <a:lnTo>
                    <a:pt x="2276" y="0"/>
                  </a:lnTo>
                  <a:cubicBezTo>
                    <a:pt x="2280" y="0"/>
                    <a:pt x="2284" y="4"/>
                    <a:pt x="2284" y="8"/>
                  </a:cubicBezTo>
                  <a:cubicBezTo>
                    <a:pt x="2284" y="13"/>
                    <a:pt x="2280" y="16"/>
                    <a:pt x="2276" y="16"/>
                  </a:cubicBezTo>
                  <a:lnTo>
                    <a:pt x="2276" y="16"/>
                  </a:lnTo>
                  <a:cubicBezTo>
                    <a:pt x="2271" y="16"/>
                    <a:pt x="2267" y="13"/>
                    <a:pt x="2267" y="8"/>
                  </a:cubicBezTo>
                  <a:cubicBezTo>
                    <a:pt x="2267" y="4"/>
                    <a:pt x="2271" y="0"/>
                    <a:pt x="2276" y="0"/>
                  </a:cubicBezTo>
                  <a:close/>
                  <a:moveTo>
                    <a:pt x="2309" y="0"/>
                  </a:moveTo>
                  <a:lnTo>
                    <a:pt x="2309" y="0"/>
                  </a:lnTo>
                  <a:cubicBezTo>
                    <a:pt x="2314" y="0"/>
                    <a:pt x="2318" y="4"/>
                    <a:pt x="2318" y="8"/>
                  </a:cubicBezTo>
                  <a:cubicBezTo>
                    <a:pt x="2318" y="13"/>
                    <a:pt x="2314" y="16"/>
                    <a:pt x="2309" y="16"/>
                  </a:cubicBezTo>
                  <a:lnTo>
                    <a:pt x="2309" y="16"/>
                  </a:lnTo>
                  <a:cubicBezTo>
                    <a:pt x="2305" y="16"/>
                    <a:pt x="2301" y="13"/>
                    <a:pt x="2301" y="8"/>
                  </a:cubicBezTo>
                  <a:cubicBezTo>
                    <a:pt x="2301" y="4"/>
                    <a:pt x="2305" y="0"/>
                    <a:pt x="2309" y="0"/>
                  </a:cubicBezTo>
                  <a:close/>
                  <a:moveTo>
                    <a:pt x="2343" y="0"/>
                  </a:moveTo>
                  <a:lnTo>
                    <a:pt x="2343" y="0"/>
                  </a:lnTo>
                  <a:cubicBezTo>
                    <a:pt x="2347" y="0"/>
                    <a:pt x="2351" y="4"/>
                    <a:pt x="2351" y="8"/>
                  </a:cubicBezTo>
                  <a:cubicBezTo>
                    <a:pt x="2351" y="13"/>
                    <a:pt x="2347" y="16"/>
                    <a:pt x="2343" y="16"/>
                  </a:cubicBezTo>
                  <a:lnTo>
                    <a:pt x="2343" y="16"/>
                  </a:lnTo>
                  <a:cubicBezTo>
                    <a:pt x="2338" y="16"/>
                    <a:pt x="2334" y="13"/>
                    <a:pt x="2334" y="8"/>
                  </a:cubicBezTo>
                  <a:cubicBezTo>
                    <a:pt x="2334" y="4"/>
                    <a:pt x="2338" y="0"/>
                    <a:pt x="2343" y="0"/>
                  </a:cubicBezTo>
                  <a:close/>
                  <a:moveTo>
                    <a:pt x="2376" y="0"/>
                  </a:moveTo>
                  <a:lnTo>
                    <a:pt x="2376" y="0"/>
                  </a:lnTo>
                  <a:cubicBezTo>
                    <a:pt x="2380" y="0"/>
                    <a:pt x="2384" y="4"/>
                    <a:pt x="2384" y="8"/>
                  </a:cubicBezTo>
                  <a:cubicBezTo>
                    <a:pt x="2384" y="13"/>
                    <a:pt x="2380" y="16"/>
                    <a:pt x="2376" y="16"/>
                  </a:cubicBezTo>
                  <a:lnTo>
                    <a:pt x="2376" y="16"/>
                  </a:lnTo>
                  <a:cubicBezTo>
                    <a:pt x="2371" y="16"/>
                    <a:pt x="2368" y="13"/>
                    <a:pt x="2368" y="8"/>
                  </a:cubicBezTo>
                  <a:cubicBezTo>
                    <a:pt x="2368" y="4"/>
                    <a:pt x="2371" y="0"/>
                    <a:pt x="2376" y="0"/>
                  </a:cubicBezTo>
                  <a:close/>
                  <a:moveTo>
                    <a:pt x="2409" y="0"/>
                  </a:moveTo>
                  <a:lnTo>
                    <a:pt x="2409" y="0"/>
                  </a:lnTo>
                  <a:cubicBezTo>
                    <a:pt x="2414" y="0"/>
                    <a:pt x="2418" y="4"/>
                    <a:pt x="2418" y="8"/>
                  </a:cubicBezTo>
                  <a:cubicBezTo>
                    <a:pt x="2418" y="13"/>
                    <a:pt x="2414" y="16"/>
                    <a:pt x="2409" y="16"/>
                  </a:cubicBezTo>
                  <a:lnTo>
                    <a:pt x="2409" y="16"/>
                  </a:lnTo>
                  <a:cubicBezTo>
                    <a:pt x="2405" y="16"/>
                    <a:pt x="2401" y="13"/>
                    <a:pt x="2401" y="8"/>
                  </a:cubicBezTo>
                  <a:cubicBezTo>
                    <a:pt x="2401" y="4"/>
                    <a:pt x="2405" y="0"/>
                    <a:pt x="2409" y="0"/>
                  </a:cubicBezTo>
                  <a:close/>
                  <a:moveTo>
                    <a:pt x="2443" y="0"/>
                  </a:moveTo>
                  <a:lnTo>
                    <a:pt x="2443" y="0"/>
                  </a:lnTo>
                  <a:cubicBezTo>
                    <a:pt x="2447" y="0"/>
                    <a:pt x="2451" y="4"/>
                    <a:pt x="2451" y="8"/>
                  </a:cubicBezTo>
                  <a:cubicBezTo>
                    <a:pt x="2451" y="13"/>
                    <a:pt x="2447" y="16"/>
                    <a:pt x="2443" y="16"/>
                  </a:cubicBezTo>
                  <a:lnTo>
                    <a:pt x="2443" y="16"/>
                  </a:lnTo>
                  <a:cubicBezTo>
                    <a:pt x="2438" y="16"/>
                    <a:pt x="2434" y="13"/>
                    <a:pt x="2434" y="8"/>
                  </a:cubicBezTo>
                  <a:cubicBezTo>
                    <a:pt x="2434" y="4"/>
                    <a:pt x="2438" y="0"/>
                    <a:pt x="2443" y="0"/>
                  </a:cubicBezTo>
                  <a:close/>
                  <a:moveTo>
                    <a:pt x="2476" y="0"/>
                  </a:moveTo>
                  <a:lnTo>
                    <a:pt x="2476" y="0"/>
                  </a:lnTo>
                  <a:cubicBezTo>
                    <a:pt x="2481" y="0"/>
                    <a:pt x="2484" y="4"/>
                    <a:pt x="2484" y="8"/>
                  </a:cubicBezTo>
                  <a:cubicBezTo>
                    <a:pt x="2484" y="13"/>
                    <a:pt x="2481" y="16"/>
                    <a:pt x="2476" y="16"/>
                  </a:cubicBezTo>
                  <a:lnTo>
                    <a:pt x="2476" y="16"/>
                  </a:lnTo>
                  <a:cubicBezTo>
                    <a:pt x="2471" y="16"/>
                    <a:pt x="2468" y="13"/>
                    <a:pt x="2468" y="8"/>
                  </a:cubicBezTo>
                  <a:cubicBezTo>
                    <a:pt x="2468" y="4"/>
                    <a:pt x="2471" y="0"/>
                    <a:pt x="2476" y="0"/>
                  </a:cubicBezTo>
                  <a:close/>
                  <a:moveTo>
                    <a:pt x="2509" y="0"/>
                  </a:moveTo>
                  <a:lnTo>
                    <a:pt x="2509" y="0"/>
                  </a:lnTo>
                  <a:cubicBezTo>
                    <a:pt x="2514" y="0"/>
                    <a:pt x="2518" y="4"/>
                    <a:pt x="2518" y="8"/>
                  </a:cubicBezTo>
                  <a:cubicBezTo>
                    <a:pt x="2518" y="13"/>
                    <a:pt x="2514" y="16"/>
                    <a:pt x="2509" y="16"/>
                  </a:cubicBezTo>
                  <a:lnTo>
                    <a:pt x="2509" y="16"/>
                  </a:lnTo>
                  <a:cubicBezTo>
                    <a:pt x="2505" y="16"/>
                    <a:pt x="2501" y="13"/>
                    <a:pt x="2501" y="8"/>
                  </a:cubicBezTo>
                  <a:cubicBezTo>
                    <a:pt x="2501" y="4"/>
                    <a:pt x="2505" y="0"/>
                    <a:pt x="2509" y="0"/>
                  </a:cubicBezTo>
                  <a:close/>
                  <a:moveTo>
                    <a:pt x="2543" y="0"/>
                  </a:moveTo>
                  <a:lnTo>
                    <a:pt x="2543" y="0"/>
                  </a:lnTo>
                  <a:cubicBezTo>
                    <a:pt x="2547" y="0"/>
                    <a:pt x="2551" y="4"/>
                    <a:pt x="2551" y="8"/>
                  </a:cubicBezTo>
                  <a:cubicBezTo>
                    <a:pt x="2551" y="13"/>
                    <a:pt x="2547" y="16"/>
                    <a:pt x="2543" y="16"/>
                  </a:cubicBezTo>
                  <a:lnTo>
                    <a:pt x="2543" y="16"/>
                  </a:lnTo>
                  <a:cubicBezTo>
                    <a:pt x="2538" y="16"/>
                    <a:pt x="2534" y="13"/>
                    <a:pt x="2534" y="8"/>
                  </a:cubicBezTo>
                  <a:cubicBezTo>
                    <a:pt x="2534" y="4"/>
                    <a:pt x="2538" y="0"/>
                    <a:pt x="2543" y="0"/>
                  </a:cubicBezTo>
                  <a:close/>
                  <a:moveTo>
                    <a:pt x="2576" y="0"/>
                  </a:moveTo>
                  <a:lnTo>
                    <a:pt x="2576" y="0"/>
                  </a:lnTo>
                  <a:cubicBezTo>
                    <a:pt x="2581" y="0"/>
                    <a:pt x="2584" y="4"/>
                    <a:pt x="2584" y="8"/>
                  </a:cubicBezTo>
                  <a:cubicBezTo>
                    <a:pt x="2584" y="13"/>
                    <a:pt x="2581" y="16"/>
                    <a:pt x="2576" y="16"/>
                  </a:cubicBezTo>
                  <a:lnTo>
                    <a:pt x="2576" y="16"/>
                  </a:lnTo>
                  <a:cubicBezTo>
                    <a:pt x="2571" y="16"/>
                    <a:pt x="2568" y="13"/>
                    <a:pt x="2568" y="8"/>
                  </a:cubicBezTo>
                  <a:cubicBezTo>
                    <a:pt x="2568" y="4"/>
                    <a:pt x="2571" y="0"/>
                    <a:pt x="2576" y="0"/>
                  </a:cubicBezTo>
                  <a:close/>
                  <a:moveTo>
                    <a:pt x="2609" y="0"/>
                  </a:moveTo>
                  <a:lnTo>
                    <a:pt x="2609" y="0"/>
                  </a:lnTo>
                  <a:cubicBezTo>
                    <a:pt x="2614" y="0"/>
                    <a:pt x="2618" y="4"/>
                    <a:pt x="2618" y="8"/>
                  </a:cubicBezTo>
                  <a:cubicBezTo>
                    <a:pt x="2618" y="13"/>
                    <a:pt x="2614" y="16"/>
                    <a:pt x="2609" y="16"/>
                  </a:cubicBezTo>
                  <a:lnTo>
                    <a:pt x="2609" y="16"/>
                  </a:lnTo>
                  <a:cubicBezTo>
                    <a:pt x="2605" y="16"/>
                    <a:pt x="2601" y="13"/>
                    <a:pt x="2601" y="8"/>
                  </a:cubicBezTo>
                  <a:cubicBezTo>
                    <a:pt x="2601" y="4"/>
                    <a:pt x="2605" y="0"/>
                    <a:pt x="2609" y="0"/>
                  </a:cubicBezTo>
                  <a:close/>
                  <a:moveTo>
                    <a:pt x="2643" y="0"/>
                  </a:moveTo>
                  <a:lnTo>
                    <a:pt x="2643" y="0"/>
                  </a:lnTo>
                  <a:cubicBezTo>
                    <a:pt x="2647" y="0"/>
                    <a:pt x="2651" y="4"/>
                    <a:pt x="2651" y="8"/>
                  </a:cubicBezTo>
                  <a:cubicBezTo>
                    <a:pt x="2651" y="13"/>
                    <a:pt x="2647" y="16"/>
                    <a:pt x="2643" y="16"/>
                  </a:cubicBezTo>
                  <a:lnTo>
                    <a:pt x="2643" y="16"/>
                  </a:lnTo>
                  <a:cubicBezTo>
                    <a:pt x="2638" y="16"/>
                    <a:pt x="2634" y="13"/>
                    <a:pt x="2634" y="8"/>
                  </a:cubicBezTo>
                  <a:cubicBezTo>
                    <a:pt x="2634" y="4"/>
                    <a:pt x="2638" y="0"/>
                    <a:pt x="2643" y="0"/>
                  </a:cubicBezTo>
                  <a:close/>
                  <a:moveTo>
                    <a:pt x="2676" y="0"/>
                  </a:moveTo>
                  <a:lnTo>
                    <a:pt x="2676" y="0"/>
                  </a:lnTo>
                  <a:cubicBezTo>
                    <a:pt x="2681" y="0"/>
                    <a:pt x="2684" y="4"/>
                    <a:pt x="2684" y="8"/>
                  </a:cubicBezTo>
                  <a:cubicBezTo>
                    <a:pt x="2684" y="13"/>
                    <a:pt x="2681" y="16"/>
                    <a:pt x="2676" y="16"/>
                  </a:cubicBezTo>
                  <a:lnTo>
                    <a:pt x="2676" y="16"/>
                  </a:lnTo>
                  <a:cubicBezTo>
                    <a:pt x="2671" y="16"/>
                    <a:pt x="2668" y="13"/>
                    <a:pt x="2668" y="8"/>
                  </a:cubicBezTo>
                  <a:cubicBezTo>
                    <a:pt x="2668" y="4"/>
                    <a:pt x="2671" y="0"/>
                    <a:pt x="2676" y="0"/>
                  </a:cubicBezTo>
                  <a:close/>
                  <a:moveTo>
                    <a:pt x="2709" y="0"/>
                  </a:moveTo>
                  <a:lnTo>
                    <a:pt x="2709" y="0"/>
                  </a:lnTo>
                  <a:cubicBezTo>
                    <a:pt x="2714" y="0"/>
                    <a:pt x="2718" y="4"/>
                    <a:pt x="2718" y="8"/>
                  </a:cubicBezTo>
                  <a:cubicBezTo>
                    <a:pt x="2718" y="13"/>
                    <a:pt x="2714" y="16"/>
                    <a:pt x="2709" y="16"/>
                  </a:cubicBezTo>
                  <a:lnTo>
                    <a:pt x="2709" y="16"/>
                  </a:lnTo>
                  <a:cubicBezTo>
                    <a:pt x="2705" y="16"/>
                    <a:pt x="2701" y="13"/>
                    <a:pt x="2701" y="8"/>
                  </a:cubicBezTo>
                  <a:cubicBezTo>
                    <a:pt x="2701" y="4"/>
                    <a:pt x="2705" y="0"/>
                    <a:pt x="2709" y="0"/>
                  </a:cubicBezTo>
                  <a:close/>
                  <a:moveTo>
                    <a:pt x="2743" y="0"/>
                  </a:moveTo>
                  <a:lnTo>
                    <a:pt x="2743" y="0"/>
                  </a:lnTo>
                  <a:cubicBezTo>
                    <a:pt x="2747" y="0"/>
                    <a:pt x="2751" y="4"/>
                    <a:pt x="2751" y="8"/>
                  </a:cubicBezTo>
                  <a:cubicBezTo>
                    <a:pt x="2751" y="13"/>
                    <a:pt x="2747" y="16"/>
                    <a:pt x="2743" y="16"/>
                  </a:cubicBezTo>
                  <a:lnTo>
                    <a:pt x="2743" y="16"/>
                  </a:lnTo>
                  <a:cubicBezTo>
                    <a:pt x="2738" y="16"/>
                    <a:pt x="2734" y="13"/>
                    <a:pt x="2734" y="8"/>
                  </a:cubicBezTo>
                  <a:cubicBezTo>
                    <a:pt x="2734" y="4"/>
                    <a:pt x="2738" y="0"/>
                    <a:pt x="2743" y="0"/>
                  </a:cubicBezTo>
                  <a:close/>
                  <a:moveTo>
                    <a:pt x="2776" y="0"/>
                  </a:moveTo>
                  <a:lnTo>
                    <a:pt x="2776" y="0"/>
                  </a:lnTo>
                  <a:cubicBezTo>
                    <a:pt x="2781" y="0"/>
                    <a:pt x="2784" y="4"/>
                    <a:pt x="2784" y="8"/>
                  </a:cubicBezTo>
                  <a:cubicBezTo>
                    <a:pt x="2784" y="13"/>
                    <a:pt x="2781" y="16"/>
                    <a:pt x="2776" y="16"/>
                  </a:cubicBezTo>
                  <a:lnTo>
                    <a:pt x="2776" y="16"/>
                  </a:lnTo>
                  <a:cubicBezTo>
                    <a:pt x="2771" y="16"/>
                    <a:pt x="2768" y="13"/>
                    <a:pt x="2768" y="8"/>
                  </a:cubicBezTo>
                  <a:cubicBezTo>
                    <a:pt x="2768" y="4"/>
                    <a:pt x="2771" y="0"/>
                    <a:pt x="2776" y="0"/>
                  </a:cubicBezTo>
                  <a:close/>
                  <a:moveTo>
                    <a:pt x="2809" y="0"/>
                  </a:moveTo>
                  <a:lnTo>
                    <a:pt x="2809" y="0"/>
                  </a:lnTo>
                  <a:cubicBezTo>
                    <a:pt x="2814" y="0"/>
                    <a:pt x="2818" y="4"/>
                    <a:pt x="2818" y="8"/>
                  </a:cubicBezTo>
                  <a:cubicBezTo>
                    <a:pt x="2818" y="13"/>
                    <a:pt x="2814" y="16"/>
                    <a:pt x="2809" y="16"/>
                  </a:cubicBezTo>
                  <a:lnTo>
                    <a:pt x="2809" y="16"/>
                  </a:lnTo>
                  <a:cubicBezTo>
                    <a:pt x="2805" y="16"/>
                    <a:pt x="2801" y="13"/>
                    <a:pt x="2801" y="8"/>
                  </a:cubicBezTo>
                  <a:cubicBezTo>
                    <a:pt x="2801" y="4"/>
                    <a:pt x="2805" y="0"/>
                    <a:pt x="2809" y="0"/>
                  </a:cubicBezTo>
                  <a:close/>
                  <a:moveTo>
                    <a:pt x="2843" y="0"/>
                  </a:moveTo>
                  <a:lnTo>
                    <a:pt x="2843" y="0"/>
                  </a:lnTo>
                  <a:cubicBezTo>
                    <a:pt x="2847" y="0"/>
                    <a:pt x="2851" y="4"/>
                    <a:pt x="2851" y="8"/>
                  </a:cubicBezTo>
                  <a:cubicBezTo>
                    <a:pt x="2851" y="13"/>
                    <a:pt x="2847" y="16"/>
                    <a:pt x="2843" y="16"/>
                  </a:cubicBezTo>
                  <a:lnTo>
                    <a:pt x="2843" y="16"/>
                  </a:lnTo>
                  <a:cubicBezTo>
                    <a:pt x="2838" y="16"/>
                    <a:pt x="2834" y="13"/>
                    <a:pt x="2834" y="8"/>
                  </a:cubicBezTo>
                  <a:cubicBezTo>
                    <a:pt x="2834" y="4"/>
                    <a:pt x="2838" y="0"/>
                    <a:pt x="2843" y="0"/>
                  </a:cubicBezTo>
                  <a:close/>
                  <a:moveTo>
                    <a:pt x="2876" y="0"/>
                  </a:moveTo>
                  <a:lnTo>
                    <a:pt x="2876" y="0"/>
                  </a:lnTo>
                  <a:cubicBezTo>
                    <a:pt x="2881" y="0"/>
                    <a:pt x="2884" y="4"/>
                    <a:pt x="2884" y="8"/>
                  </a:cubicBezTo>
                  <a:cubicBezTo>
                    <a:pt x="2884" y="13"/>
                    <a:pt x="2881" y="16"/>
                    <a:pt x="2876" y="16"/>
                  </a:cubicBezTo>
                  <a:lnTo>
                    <a:pt x="2876" y="16"/>
                  </a:lnTo>
                  <a:cubicBezTo>
                    <a:pt x="2872" y="16"/>
                    <a:pt x="2868" y="13"/>
                    <a:pt x="2868" y="8"/>
                  </a:cubicBezTo>
                  <a:cubicBezTo>
                    <a:pt x="2868" y="4"/>
                    <a:pt x="2872" y="0"/>
                    <a:pt x="2876" y="0"/>
                  </a:cubicBezTo>
                  <a:close/>
                  <a:moveTo>
                    <a:pt x="2909" y="0"/>
                  </a:moveTo>
                  <a:lnTo>
                    <a:pt x="2909" y="0"/>
                  </a:lnTo>
                  <a:cubicBezTo>
                    <a:pt x="2914" y="0"/>
                    <a:pt x="2918" y="4"/>
                    <a:pt x="2918" y="8"/>
                  </a:cubicBezTo>
                  <a:cubicBezTo>
                    <a:pt x="2918" y="13"/>
                    <a:pt x="2914" y="16"/>
                    <a:pt x="2909" y="16"/>
                  </a:cubicBezTo>
                  <a:lnTo>
                    <a:pt x="2909" y="16"/>
                  </a:lnTo>
                  <a:cubicBezTo>
                    <a:pt x="2905" y="16"/>
                    <a:pt x="2901" y="13"/>
                    <a:pt x="2901" y="8"/>
                  </a:cubicBezTo>
                  <a:cubicBezTo>
                    <a:pt x="2901" y="4"/>
                    <a:pt x="2905" y="0"/>
                    <a:pt x="2909" y="0"/>
                  </a:cubicBezTo>
                  <a:close/>
                  <a:moveTo>
                    <a:pt x="2943" y="0"/>
                  </a:moveTo>
                  <a:lnTo>
                    <a:pt x="2943" y="0"/>
                  </a:lnTo>
                  <a:cubicBezTo>
                    <a:pt x="2947" y="0"/>
                    <a:pt x="2951" y="4"/>
                    <a:pt x="2951" y="8"/>
                  </a:cubicBezTo>
                  <a:cubicBezTo>
                    <a:pt x="2951" y="13"/>
                    <a:pt x="2947" y="16"/>
                    <a:pt x="2943" y="16"/>
                  </a:cubicBezTo>
                  <a:lnTo>
                    <a:pt x="2943" y="16"/>
                  </a:lnTo>
                  <a:cubicBezTo>
                    <a:pt x="2938" y="16"/>
                    <a:pt x="2934" y="13"/>
                    <a:pt x="2934" y="8"/>
                  </a:cubicBezTo>
                  <a:cubicBezTo>
                    <a:pt x="2934" y="4"/>
                    <a:pt x="2938" y="0"/>
                    <a:pt x="2943" y="0"/>
                  </a:cubicBezTo>
                  <a:close/>
                  <a:moveTo>
                    <a:pt x="2976" y="0"/>
                  </a:moveTo>
                  <a:lnTo>
                    <a:pt x="2976" y="0"/>
                  </a:lnTo>
                  <a:cubicBezTo>
                    <a:pt x="2981" y="0"/>
                    <a:pt x="2985" y="4"/>
                    <a:pt x="2985" y="8"/>
                  </a:cubicBezTo>
                  <a:cubicBezTo>
                    <a:pt x="2985" y="13"/>
                    <a:pt x="2981" y="16"/>
                    <a:pt x="2976" y="16"/>
                  </a:cubicBezTo>
                  <a:lnTo>
                    <a:pt x="2976" y="16"/>
                  </a:lnTo>
                  <a:cubicBezTo>
                    <a:pt x="2972" y="16"/>
                    <a:pt x="2968" y="13"/>
                    <a:pt x="2968" y="8"/>
                  </a:cubicBezTo>
                  <a:cubicBezTo>
                    <a:pt x="2968" y="4"/>
                    <a:pt x="2972" y="0"/>
                    <a:pt x="2976" y="0"/>
                  </a:cubicBezTo>
                  <a:close/>
                  <a:moveTo>
                    <a:pt x="3010" y="0"/>
                  </a:moveTo>
                  <a:lnTo>
                    <a:pt x="3010" y="0"/>
                  </a:lnTo>
                  <a:cubicBezTo>
                    <a:pt x="3014" y="0"/>
                    <a:pt x="3018" y="4"/>
                    <a:pt x="3018" y="8"/>
                  </a:cubicBezTo>
                  <a:cubicBezTo>
                    <a:pt x="3018" y="13"/>
                    <a:pt x="3014" y="16"/>
                    <a:pt x="3010" y="16"/>
                  </a:cubicBezTo>
                  <a:lnTo>
                    <a:pt x="3010" y="16"/>
                  </a:lnTo>
                  <a:cubicBezTo>
                    <a:pt x="3005" y="16"/>
                    <a:pt x="3001" y="13"/>
                    <a:pt x="3001" y="8"/>
                  </a:cubicBezTo>
                  <a:cubicBezTo>
                    <a:pt x="3001" y="4"/>
                    <a:pt x="3005" y="0"/>
                    <a:pt x="3010" y="0"/>
                  </a:cubicBezTo>
                  <a:close/>
                  <a:moveTo>
                    <a:pt x="3043" y="0"/>
                  </a:moveTo>
                  <a:lnTo>
                    <a:pt x="3043" y="0"/>
                  </a:lnTo>
                  <a:cubicBezTo>
                    <a:pt x="3047" y="0"/>
                    <a:pt x="3051" y="4"/>
                    <a:pt x="3051" y="8"/>
                  </a:cubicBezTo>
                  <a:cubicBezTo>
                    <a:pt x="3051" y="13"/>
                    <a:pt x="3047" y="16"/>
                    <a:pt x="3043" y="16"/>
                  </a:cubicBezTo>
                  <a:lnTo>
                    <a:pt x="3043" y="16"/>
                  </a:lnTo>
                  <a:cubicBezTo>
                    <a:pt x="3038" y="16"/>
                    <a:pt x="3035" y="13"/>
                    <a:pt x="3035" y="8"/>
                  </a:cubicBezTo>
                  <a:cubicBezTo>
                    <a:pt x="3035" y="4"/>
                    <a:pt x="3038" y="0"/>
                    <a:pt x="3043" y="0"/>
                  </a:cubicBezTo>
                  <a:close/>
                  <a:moveTo>
                    <a:pt x="3076" y="0"/>
                  </a:moveTo>
                  <a:lnTo>
                    <a:pt x="3076" y="0"/>
                  </a:lnTo>
                  <a:cubicBezTo>
                    <a:pt x="3081" y="0"/>
                    <a:pt x="3085" y="4"/>
                    <a:pt x="3085" y="8"/>
                  </a:cubicBezTo>
                  <a:cubicBezTo>
                    <a:pt x="3085" y="13"/>
                    <a:pt x="3081" y="16"/>
                    <a:pt x="3076" y="16"/>
                  </a:cubicBezTo>
                  <a:lnTo>
                    <a:pt x="3076" y="16"/>
                  </a:lnTo>
                  <a:cubicBezTo>
                    <a:pt x="3072" y="16"/>
                    <a:pt x="3068" y="13"/>
                    <a:pt x="3068" y="8"/>
                  </a:cubicBezTo>
                  <a:cubicBezTo>
                    <a:pt x="3068" y="4"/>
                    <a:pt x="3072" y="0"/>
                    <a:pt x="3076" y="0"/>
                  </a:cubicBezTo>
                  <a:close/>
                  <a:moveTo>
                    <a:pt x="3110" y="0"/>
                  </a:moveTo>
                  <a:lnTo>
                    <a:pt x="3110" y="0"/>
                  </a:lnTo>
                  <a:cubicBezTo>
                    <a:pt x="3114" y="0"/>
                    <a:pt x="3118" y="4"/>
                    <a:pt x="3118" y="8"/>
                  </a:cubicBezTo>
                  <a:cubicBezTo>
                    <a:pt x="3118" y="13"/>
                    <a:pt x="3114" y="16"/>
                    <a:pt x="3110" y="16"/>
                  </a:cubicBezTo>
                  <a:lnTo>
                    <a:pt x="3110" y="16"/>
                  </a:lnTo>
                  <a:cubicBezTo>
                    <a:pt x="3105" y="16"/>
                    <a:pt x="3101" y="13"/>
                    <a:pt x="3101" y="8"/>
                  </a:cubicBezTo>
                  <a:cubicBezTo>
                    <a:pt x="3101" y="4"/>
                    <a:pt x="3105" y="0"/>
                    <a:pt x="3110" y="0"/>
                  </a:cubicBezTo>
                  <a:close/>
                  <a:moveTo>
                    <a:pt x="3143" y="0"/>
                  </a:moveTo>
                  <a:lnTo>
                    <a:pt x="3143" y="0"/>
                  </a:lnTo>
                  <a:cubicBezTo>
                    <a:pt x="3148" y="0"/>
                    <a:pt x="3151" y="4"/>
                    <a:pt x="3151" y="8"/>
                  </a:cubicBezTo>
                  <a:cubicBezTo>
                    <a:pt x="3151" y="13"/>
                    <a:pt x="3148" y="16"/>
                    <a:pt x="3143" y="16"/>
                  </a:cubicBezTo>
                  <a:lnTo>
                    <a:pt x="3143" y="16"/>
                  </a:lnTo>
                  <a:cubicBezTo>
                    <a:pt x="3138" y="16"/>
                    <a:pt x="3135" y="13"/>
                    <a:pt x="3135" y="8"/>
                  </a:cubicBezTo>
                  <a:cubicBezTo>
                    <a:pt x="3135" y="4"/>
                    <a:pt x="3138" y="0"/>
                    <a:pt x="3143" y="0"/>
                  </a:cubicBezTo>
                  <a:close/>
                  <a:moveTo>
                    <a:pt x="3176" y="0"/>
                  </a:moveTo>
                  <a:lnTo>
                    <a:pt x="3176" y="0"/>
                  </a:lnTo>
                  <a:cubicBezTo>
                    <a:pt x="3181" y="0"/>
                    <a:pt x="3185" y="4"/>
                    <a:pt x="3185" y="8"/>
                  </a:cubicBezTo>
                  <a:cubicBezTo>
                    <a:pt x="3185" y="13"/>
                    <a:pt x="3181" y="16"/>
                    <a:pt x="3176" y="16"/>
                  </a:cubicBezTo>
                  <a:lnTo>
                    <a:pt x="3176" y="16"/>
                  </a:lnTo>
                  <a:cubicBezTo>
                    <a:pt x="3172" y="16"/>
                    <a:pt x="3168" y="13"/>
                    <a:pt x="3168" y="8"/>
                  </a:cubicBezTo>
                  <a:cubicBezTo>
                    <a:pt x="3168" y="4"/>
                    <a:pt x="3172" y="0"/>
                    <a:pt x="3176" y="0"/>
                  </a:cubicBezTo>
                  <a:close/>
                  <a:moveTo>
                    <a:pt x="3210" y="0"/>
                  </a:moveTo>
                  <a:lnTo>
                    <a:pt x="3210" y="0"/>
                  </a:lnTo>
                  <a:cubicBezTo>
                    <a:pt x="3214" y="0"/>
                    <a:pt x="3218" y="4"/>
                    <a:pt x="3218" y="8"/>
                  </a:cubicBezTo>
                  <a:cubicBezTo>
                    <a:pt x="3218" y="13"/>
                    <a:pt x="3214" y="16"/>
                    <a:pt x="3210" y="16"/>
                  </a:cubicBezTo>
                  <a:lnTo>
                    <a:pt x="3210" y="16"/>
                  </a:lnTo>
                  <a:cubicBezTo>
                    <a:pt x="3205" y="16"/>
                    <a:pt x="3201" y="13"/>
                    <a:pt x="3201" y="8"/>
                  </a:cubicBezTo>
                  <a:cubicBezTo>
                    <a:pt x="3201" y="4"/>
                    <a:pt x="3205" y="0"/>
                    <a:pt x="3210" y="0"/>
                  </a:cubicBezTo>
                  <a:close/>
                  <a:moveTo>
                    <a:pt x="3243" y="0"/>
                  </a:moveTo>
                  <a:lnTo>
                    <a:pt x="3243" y="0"/>
                  </a:lnTo>
                  <a:cubicBezTo>
                    <a:pt x="3248" y="0"/>
                    <a:pt x="3251" y="4"/>
                    <a:pt x="3251" y="8"/>
                  </a:cubicBezTo>
                  <a:cubicBezTo>
                    <a:pt x="3251" y="13"/>
                    <a:pt x="3248" y="16"/>
                    <a:pt x="3243" y="16"/>
                  </a:cubicBezTo>
                  <a:lnTo>
                    <a:pt x="3243" y="16"/>
                  </a:lnTo>
                  <a:cubicBezTo>
                    <a:pt x="3238" y="16"/>
                    <a:pt x="3235" y="13"/>
                    <a:pt x="3235" y="8"/>
                  </a:cubicBezTo>
                  <a:cubicBezTo>
                    <a:pt x="3235" y="4"/>
                    <a:pt x="3238" y="0"/>
                    <a:pt x="3243" y="0"/>
                  </a:cubicBezTo>
                  <a:close/>
                  <a:moveTo>
                    <a:pt x="3276" y="0"/>
                  </a:moveTo>
                  <a:lnTo>
                    <a:pt x="3276" y="0"/>
                  </a:lnTo>
                  <a:cubicBezTo>
                    <a:pt x="3281" y="0"/>
                    <a:pt x="3285" y="4"/>
                    <a:pt x="3285" y="8"/>
                  </a:cubicBezTo>
                  <a:cubicBezTo>
                    <a:pt x="3285" y="13"/>
                    <a:pt x="3281" y="16"/>
                    <a:pt x="3276" y="16"/>
                  </a:cubicBezTo>
                  <a:lnTo>
                    <a:pt x="3276" y="16"/>
                  </a:lnTo>
                  <a:cubicBezTo>
                    <a:pt x="3272" y="16"/>
                    <a:pt x="3268" y="13"/>
                    <a:pt x="3268" y="8"/>
                  </a:cubicBezTo>
                  <a:cubicBezTo>
                    <a:pt x="3268" y="4"/>
                    <a:pt x="3272" y="0"/>
                    <a:pt x="3276" y="0"/>
                  </a:cubicBezTo>
                  <a:close/>
                  <a:moveTo>
                    <a:pt x="3310" y="0"/>
                  </a:moveTo>
                  <a:lnTo>
                    <a:pt x="3310" y="0"/>
                  </a:lnTo>
                  <a:cubicBezTo>
                    <a:pt x="3314" y="0"/>
                    <a:pt x="3318" y="4"/>
                    <a:pt x="3318" y="8"/>
                  </a:cubicBezTo>
                  <a:cubicBezTo>
                    <a:pt x="3318" y="13"/>
                    <a:pt x="3314" y="16"/>
                    <a:pt x="3310" y="16"/>
                  </a:cubicBezTo>
                  <a:lnTo>
                    <a:pt x="3310" y="16"/>
                  </a:lnTo>
                  <a:cubicBezTo>
                    <a:pt x="3305" y="16"/>
                    <a:pt x="3301" y="13"/>
                    <a:pt x="3301" y="8"/>
                  </a:cubicBezTo>
                  <a:cubicBezTo>
                    <a:pt x="3301" y="4"/>
                    <a:pt x="3305" y="0"/>
                    <a:pt x="3310" y="0"/>
                  </a:cubicBezTo>
                  <a:close/>
                  <a:moveTo>
                    <a:pt x="3343" y="0"/>
                  </a:moveTo>
                  <a:lnTo>
                    <a:pt x="3343" y="0"/>
                  </a:lnTo>
                  <a:cubicBezTo>
                    <a:pt x="3348" y="0"/>
                    <a:pt x="3351" y="4"/>
                    <a:pt x="3351" y="8"/>
                  </a:cubicBezTo>
                  <a:cubicBezTo>
                    <a:pt x="3351" y="13"/>
                    <a:pt x="3348" y="16"/>
                    <a:pt x="3343" y="16"/>
                  </a:cubicBezTo>
                  <a:lnTo>
                    <a:pt x="3343" y="16"/>
                  </a:lnTo>
                  <a:cubicBezTo>
                    <a:pt x="3338" y="16"/>
                    <a:pt x="3335" y="13"/>
                    <a:pt x="3335" y="8"/>
                  </a:cubicBezTo>
                  <a:cubicBezTo>
                    <a:pt x="3335" y="4"/>
                    <a:pt x="3338" y="0"/>
                    <a:pt x="3343" y="0"/>
                  </a:cubicBezTo>
                  <a:close/>
                  <a:moveTo>
                    <a:pt x="3376" y="0"/>
                  </a:moveTo>
                  <a:lnTo>
                    <a:pt x="3376" y="0"/>
                  </a:lnTo>
                  <a:cubicBezTo>
                    <a:pt x="3381" y="0"/>
                    <a:pt x="3385" y="4"/>
                    <a:pt x="3385" y="8"/>
                  </a:cubicBezTo>
                  <a:cubicBezTo>
                    <a:pt x="3385" y="13"/>
                    <a:pt x="3381" y="16"/>
                    <a:pt x="3376" y="16"/>
                  </a:cubicBezTo>
                  <a:lnTo>
                    <a:pt x="3376" y="16"/>
                  </a:lnTo>
                  <a:cubicBezTo>
                    <a:pt x="3372" y="16"/>
                    <a:pt x="3368" y="13"/>
                    <a:pt x="3368" y="8"/>
                  </a:cubicBezTo>
                  <a:cubicBezTo>
                    <a:pt x="3368" y="4"/>
                    <a:pt x="3372" y="0"/>
                    <a:pt x="3376" y="0"/>
                  </a:cubicBezTo>
                  <a:close/>
                  <a:moveTo>
                    <a:pt x="3410" y="0"/>
                  </a:moveTo>
                  <a:lnTo>
                    <a:pt x="3410" y="0"/>
                  </a:lnTo>
                  <a:cubicBezTo>
                    <a:pt x="3414" y="0"/>
                    <a:pt x="3418" y="4"/>
                    <a:pt x="3418" y="8"/>
                  </a:cubicBezTo>
                  <a:cubicBezTo>
                    <a:pt x="3418" y="13"/>
                    <a:pt x="3414" y="16"/>
                    <a:pt x="3410" y="16"/>
                  </a:cubicBezTo>
                  <a:lnTo>
                    <a:pt x="3410" y="16"/>
                  </a:lnTo>
                  <a:cubicBezTo>
                    <a:pt x="3405" y="16"/>
                    <a:pt x="3401" y="13"/>
                    <a:pt x="3401" y="8"/>
                  </a:cubicBezTo>
                  <a:cubicBezTo>
                    <a:pt x="3401" y="4"/>
                    <a:pt x="3405" y="0"/>
                    <a:pt x="3410" y="0"/>
                  </a:cubicBezTo>
                  <a:close/>
                  <a:moveTo>
                    <a:pt x="3443" y="0"/>
                  </a:moveTo>
                  <a:lnTo>
                    <a:pt x="3443" y="0"/>
                  </a:lnTo>
                  <a:cubicBezTo>
                    <a:pt x="3448" y="0"/>
                    <a:pt x="3451" y="4"/>
                    <a:pt x="3451" y="8"/>
                  </a:cubicBezTo>
                  <a:cubicBezTo>
                    <a:pt x="3451" y="13"/>
                    <a:pt x="3448" y="16"/>
                    <a:pt x="3443" y="16"/>
                  </a:cubicBezTo>
                  <a:lnTo>
                    <a:pt x="3443" y="16"/>
                  </a:lnTo>
                  <a:cubicBezTo>
                    <a:pt x="3438" y="16"/>
                    <a:pt x="3435" y="13"/>
                    <a:pt x="3435" y="8"/>
                  </a:cubicBezTo>
                  <a:cubicBezTo>
                    <a:pt x="3435" y="4"/>
                    <a:pt x="3438" y="0"/>
                    <a:pt x="3443" y="0"/>
                  </a:cubicBezTo>
                  <a:close/>
                  <a:moveTo>
                    <a:pt x="3476" y="0"/>
                  </a:moveTo>
                  <a:lnTo>
                    <a:pt x="3476" y="0"/>
                  </a:lnTo>
                  <a:cubicBezTo>
                    <a:pt x="3481" y="0"/>
                    <a:pt x="3485" y="4"/>
                    <a:pt x="3485" y="8"/>
                  </a:cubicBezTo>
                  <a:cubicBezTo>
                    <a:pt x="3485" y="13"/>
                    <a:pt x="3481" y="16"/>
                    <a:pt x="3476" y="16"/>
                  </a:cubicBezTo>
                  <a:lnTo>
                    <a:pt x="3476" y="16"/>
                  </a:lnTo>
                  <a:cubicBezTo>
                    <a:pt x="3472" y="16"/>
                    <a:pt x="3468" y="13"/>
                    <a:pt x="3468" y="8"/>
                  </a:cubicBezTo>
                  <a:cubicBezTo>
                    <a:pt x="3468" y="4"/>
                    <a:pt x="3472" y="0"/>
                    <a:pt x="3476" y="0"/>
                  </a:cubicBezTo>
                  <a:close/>
                  <a:moveTo>
                    <a:pt x="3510" y="0"/>
                  </a:moveTo>
                  <a:lnTo>
                    <a:pt x="3510" y="0"/>
                  </a:lnTo>
                  <a:cubicBezTo>
                    <a:pt x="3514" y="0"/>
                    <a:pt x="3518" y="4"/>
                    <a:pt x="3518" y="8"/>
                  </a:cubicBezTo>
                  <a:cubicBezTo>
                    <a:pt x="3518" y="13"/>
                    <a:pt x="3514" y="16"/>
                    <a:pt x="3510" y="16"/>
                  </a:cubicBezTo>
                  <a:lnTo>
                    <a:pt x="3510" y="16"/>
                  </a:lnTo>
                  <a:cubicBezTo>
                    <a:pt x="3505" y="16"/>
                    <a:pt x="3501" y="13"/>
                    <a:pt x="3501" y="8"/>
                  </a:cubicBezTo>
                  <a:cubicBezTo>
                    <a:pt x="3501" y="4"/>
                    <a:pt x="3505" y="0"/>
                    <a:pt x="3510" y="0"/>
                  </a:cubicBezTo>
                  <a:close/>
                  <a:moveTo>
                    <a:pt x="3543" y="0"/>
                  </a:moveTo>
                  <a:lnTo>
                    <a:pt x="3543" y="0"/>
                  </a:lnTo>
                  <a:cubicBezTo>
                    <a:pt x="3548" y="0"/>
                    <a:pt x="3551" y="4"/>
                    <a:pt x="3551" y="8"/>
                  </a:cubicBezTo>
                  <a:cubicBezTo>
                    <a:pt x="3551" y="13"/>
                    <a:pt x="3548" y="16"/>
                    <a:pt x="3543" y="16"/>
                  </a:cubicBezTo>
                  <a:lnTo>
                    <a:pt x="3543" y="16"/>
                  </a:lnTo>
                  <a:cubicBezTo>
                    <a:pt x="3539" y="16"/>
                    <a:pt x="3535" y="13"/>
                    <a:pt x="3535" y="8"/>
                  </a:cubicBezTo>
                  <a:cubicBezTo>
                    <a:pt x="3535" y="4"/>
                    <a:pt x="3539" y="0"/>
                    <a:pt x="3543" y="0"/>
                  </a:cubicBezTo>
                  <a:close/>
                  <a:moveTo>
                    <a:pt x="3576" y="0"/>
                  </a:moveTo>
                  <a:lnTo>
                    <a:pt x="3576" y="0"/>
                  </a:lnTo>
                  <a:cubicBezTo>
                    <a:pt x="3581" y="0"/>
                    <a:pt x="3585" y="4"/>
                    <a:pt x="3585" y="8"/>
                  </a:cubicBezTo>
                  <a:cubicBezTo>
                    <a:pt x="3585" y="13"/>
                    <a:pt x="3581" y="16"/>
                    <a:pt x="3576" y="16"/>
                  </a:cubicBezTo>
                  <a:lnTo>
                    <a:pt x="3576" y="16"/>
                  </a:lnTo>
                  <a:cubicBezTo>
                    <a:pt x="3572" y="16"/>
                    <a:pt x="3568" y="13"/>
                    <a:pt x="3568" y="8"/>
                  </a:cubicBezTo>
                  <a:cubicBezTo>
                    <a:pt x="3568" y="4"/>
                    <a:pt x="3572" y="0"/>
                    <a:pt x="3576" y="0"/>
                  </a:cubicBezTo>
                  <a:close/>
                  <a:moveTo>
                    <a:pt x="3610" y="0"/>
                  </a:moveTo>
                  <a:lnTo>
                    <a:pt x="3610" y="0"/>
                  </a:lnTo>
                  <a:cubicBezTo>
                    <a:pt x="3614" y="0"/>
                    <a:pt x="3618" y="4"/>
                    <a:pt x="3618" y="8"/>
                  </a:cubicBezTo>
                  <a:cubicBezTo>
                    <a:pt x="3618" y="13"/>
                    <a:pt x="3614" y="16"/>
                    <a:pt x="3610" y="16"/>
                  </a:cubicBezTo>
                  <a:lnTo>
                    <a:pt x="3610" y="16"/>
                  </a:lnTo>
                  <a:cubicBezTo>
                    <a:pt x="3605" y="16"/>
                    <a:pt x="3601" y="13"/>
                    <a:pt x="3601" y="8"/>
                  </a:cubicBezTo>
                  <a:cubicBezTo>
                    <a:pt x="3601" y="4"/>
                    <a:pt x="3605" y="0"/>
                    <a:pt x="3610" y="0"/>
                  </a:cubicBezTo>
                  <a:close/>
                  <a:moveTo>
                    <a:pt x="3643" y="0"/>
                  </a:moveTo>
                  <a:lnTo>
                    <a:pt x="3643" y="0"/>
                  </a:lnTo>
                  <a:cubicBezTo>
                    <a:pt x="3648" y="0"/>
                    <a:pt x="3652" y="4"/>
                    <a:pt x="3652" y="8"/>
                  </a:cubicBezTo>
                  <a:cubicBezTo>
                    <a:pt x="3652" y="13"/>
                    <a:pt x="3648" y="16"/>
                    <a:pt x="3643" y="16"/>
                  </a:cubicBezTo>
                  <a:lnTo>
                    <a:pt x="3643" y="16"/>
                  </a:lnTo>
                  <a:cubicBezTo>
                    <a:pt x="3639" y="16"/>
                    <a:pt x="3635" y="13"/>
                    <a:pt x="3635" y="8"/>
                  </a:cubicBezTo>
                  <a:cubicBezTo>
                    <a:pt x="3635" y="4"/>
                    <a:pt x="3639" y="0"/>
                    <a:pt x="3643" y="0"/>
                  </a:cubicBezTo>
                  <a:close/>
                  <a:moveTo>
                    <a:pt x="3677" y="0"/>
                  </a:moveTo>
                  <a:lnTo>
                    <a:pt x="3677" y="0"/>
                  </a:lnTo>
                  <a:cubicBezTo>
                    <a:pt x="3681" y="0"/>
                    <a:pt x="3685" y="4"/>
                    <a:pt x="3685" y="8"/>
                  </a:cubicBezTo>
                  <a:cubicBezTo>
                    <a:pt x="3685" y="13"/>
                    <a:pt x="3681" y="16"/>
                    <a:pt x="3677" y="16"/>
                  </a:cubicBezTo>
                  <a:lnTo>
                    <a:pt x="3677" y="16"/>
                  </a:lnTo>
                  <a:cubicBezTo>
                    <a:pt x="3672" y="16"/>
                    <a:pt x="3668" y="13"/>
                    <a:pt x="3668" y="8"/>
                  </a:cubicBezTo>
                  <a:cubicBezTo>
                    <a:pt x="3668" y="4"/>
                    <a:pt x="3672" y="0"/>
                    <a:pt x="3677" y="0"/>
                  </a:cubicBezTo>
                  <a:close/>
                  <a:moveTo>
                    <a:pt x="3710" y="0"/>
                  </a:moveTo>
                  <a:lnTo>
                    <a:pt x="3710" y="0"/>
                  </a:lnTo>
                  <a:cubicBezTo>
                    <a:pt x="3714" y="0"/>
                    <a:pt x="3718" y="4"/>
                    <a:pt x="3718" y="8"/>
                  </a:cubicBezTo>
                  <a:cubicBezTo>
                    <a:pt x="3718" y="13"/>
                    <a:pt x="3714" y="16"/>
                    <a:pt x="3710" y="16"/>
                  </a:cubicBezTo>
                  <a:lnTo>
                    <a:pt x="3710" y="16"/>
                  </a:lnTo>
                  <a:cubicBezTo>
                    <a:pt x="3705" y="16"/>
                    <a:pt x="3702" y="13"/>
                    <a:pt x="3702" y="8"/>
                  </a:cubicBezTo>
                  <a:cubicBezTo>
                    <a:pt x="3702" y="4"/>
                    <a:pt x="3705" y="0"/>
                    <a:pt x="3710" y="0"/>
                  </a:cubicBezTo>
                  <a:close/>
                  <a:moveTo>
                    <a:pt x="3743" y="0"/>
                  </a:moveTo>
                  <a:lnTo>
                    <a:pt x="3743" y="0"/>
                  </a:lnTo>
                  <a:cubicBezTo>
                    <a:pt x="3748" y="0"/>
                    <a:pt x="3752" y="4"/>
                    <a:pt x="3752" y="8"/>
                  </a:cubicBezTo>
                  <a:cubicBezTo>
                    <a:pt x="3752" y="13"/>
                    <a:pt x="3748" y="16"/>
                    <a:pt x="3743" y="16"/>
                  </a:cubicBezTo>
                  <a:lnTo>
                    <a:pt x="3743" y="16"/>
                  </a:lnTo>
                  <a:cubicBezTo>
                    <a:pt x="3739" y="16"/>
                    <a:pt x="3735" y="13"/>
                    <a:pt x="3735" y="8"/>
                  </a:cubicBezTo>
                  <a:cubicBezTo>
                    <a:pt x="3735" y="4"/>
                    <a:pt x="3739" y="0"/>
                    <a:pt x="3743" y="0"/>
                  </a:cubicBezTo>
                  <a:close/>
                  <a:moveTo>
                    <a:pt x="3777" y="0"/>
                  </a:moveTo>
                  <a:lnTo>
                    <a:pt x="3777" y="0"/>
                  </a:lnTo>
                  <a:cubicBezTo>
                    <a:pt x="3781" y="0"/>
                    <a:pt x="3785" y="4"/>
                    <a:pt x="3785" y="8"/>
                  </a:cubicBezTo>
                  <a:cubicBezTo>
                    <a:pt x="3785" y="13"/>
                    <a:pt x="3781" y="16"/>
                    <a:pt x="3777" y="16"/>
                  </a:cubicBezTo>
                  <a:lnTo>
                    <a:pt x="3777" y="16"/>
                  </a:lnTo>
                  <a:cubicBezTo>
                    <a:pt x="3772" y="16"/>
                    <a:pt x="3768" y="13"/>
                    <a:pt x="3768" y="8"/>
                  </a:cubicBezTo>
                  <a:cubicBezTo>
                    <a:pt x="3768" y="4"/>
                    <a:pt x="3772" y="0"/>
                    <a:pt x="3777" y="0"/>
                  </a:cubicBezTo>
                  <a:close/>
                  <a:moveTo>
                    <a:pt x="3810" y="0"/>
                  </a:moveTo>
                  <a:lnTo>
                    <a:pt x="3810" y="0"/>
                  </a:lnTo>
                  <a:cubicBezTo>
                    <a:pt x="3815" y="0"/>
                    <a:pt x="3818" y="4"/>
                    <a:pt x="3818" y="8"/>
                  </a:cubicBezTo>
                  <a:cubicBezTo>
                    <a:pt x="3818" y="13"/>
                    <a:pt x="3815" y="16"/>
                    <a:pt x="3810" y="16"/>
                  </a:cubicBezTo>
                  <a:lnTo>
                    <a:pt x="3810" y="16"/>
                  </a:lnTo>
                  <a:cubicBezTo>
                    <a:pt x="3805" y="16"/>
                    <a:pt x="3802" y="13"/>
                    <a:pt x="3802" y="8"/>
                  </a:cubicBezTo>
                  <a:cubicBezTo>
                    <a:pt x="3802" y="4"/>
                    <a:pt x="3805" y="0"/>
                    <a:pt x="3810" y="0"/>
                  </a:cubicBezTo>
                  <a:close/>
                  <a:moveTo>
                    <a:pt x="3843" y="0"/>
                  </a:moveTo>
                  <a:lnTo>
                    <a:pt x="3843" y="0"/>
                  </a:lnTo>
                  <a:cubicBezTo>
                    <a:pt x="3848" y="0"/>
                    <a:pt x="3852" y="4"/>
                    <a:pt x="3852" y="8"/>
                  </a:cubicBezTo>
                  <a:cubicBezTo>
                    <a:pt x="3852" y="13"/>
                    <a:pt x="3848" y="16"/>
                    <a:pt x="3843" y="16"/>
                  </a:cubicBezTo>
                  <a:lnTo>
                    <a:pt x="3843" y="16"/>
                  </a:lnTo>
                  <a:cubicBezTo>
                    <a:pt x="3839" y="16"/>
                    <a:pt x="3835" y="13"/>
                    <a:pt x="3835" y="8"/>
                  </a:cubicBezTo>
                  <a:cubicBezTo>
                    <a:pt x="3835" y="4"/>
                    <a:pt x="3839" y="0"/>
                    <a:pt x="3843" y="0"/>
                  </a:cubicBezTo>
                  <a:close/>
                  <a:moveTo>
                    <a:pt x="3877" y="0"/>
                  </a:moveTo>
                  <a:lnTo>
                    <a:pt x="3877" y="0"/>
                  </a:lnTo>
                  <a:cubicBezTo>
                    <a:pt x="3881" y="0"/>
                    <a:pt x="3885" y="4"/>
                    <a:pt x="3885" y="8"/>
                  </a:cubicBezTo>
                  <a:cubicBezTo>
                    <a:pt x="3885" y="13"/>
                    <a:pt x="3881" y="16"/>
                    <a:pt x="3877" y="16"/>
                  </a:cubicBezTo>
                  <a:lnTo>
                    <a:pt x="3877" y="16"/>
                  </a:lnTo>
                  <a:cubicBezTo>
                    <a:pt x="3872" y="16"/>
                    <a:pt x="3868" y="13"/>
                    <a:pt x="3868" y="8"/>
                  </a:cubicBezTo>
                  <a:cubicBezTo>
                    <a:pt x="3868" y="4"/>
                    <a:pt x="3872" y="0"/>
                    <a:pt x="3877" y="0"/>
                  </a:cubicBezTo>
                  <a:close/>
                  <a:moveTo>
                    <a:pt x="3910" y="0"/>
                  </a:moveTo>
                  <a:lnTo>
                    <a:pt x="3910" y="0"/>
                  </a:lnTo>
                  <a:cubicBezTo>
                    <a:pt x="3915" y="0"/>
                    <a:pt x="3918" y="4"/>
                    <a:pt x="3918" y="8"/>
                  </a:cubicBezTo>
                  <a:cubicBezTo>
                    <a:pt x="3918" y="13"/>
                    <a:pt x="3915" y="16"/>
                    <a:pt x="3910" y="16"/>
                  </a:cubicBezTo>
                  <a:lnTo>
                    <a:pt x="3910" y="16"/>
                  </a:lnTo>
                  <a:cubicBezTo>
                    <a:pt x="3905" y="16"/>
                    <a:pt x="3902" y="13"/>
                    <a:pt x="3902" y="8"/>
                  </a:cubicBezTo>
                  <a:cubicBezTo>
                    <a:pt x="3902" y="4"/>
                    <a:pt x="3905" y="0"/>
                    <a:pt x="3910" y="0"/>
                  </a:cubicBezTo>
                  <a:close/>
                  <a:moveTo>
                    <a:pt x="3943" y="0"/>
                  </a:moveTo>
                  <a:lnTo>
                    <a:pt x="3943" y="0"/>
                  </a:lnTo>
                  <a:cubicBezTo>
                    <a:pt x="3948" y="0"/>
                    <a:pt x="3952" y="4"/>
                    <a:pt x="3952" y="8"/>
                  </a:cubicBezTo>
                  <a:cubicBezTo>
                    <a:pt x="3952" y="13"/>
                    <a:pt x="3948" y="16"/>
                    <a:pt x="3943" y="16"/>
                  </a:cubicBezTo>
                  <a:lnTo>
                    <a:pt x="3943" y="16"/>
                  </a:lnTo>
                  <a:cubicBezTo>
                    <a:pt x="3939" y="16"/>
                    <a:pt x="3935" y="13"/>
                    <a:pt x="3935" y="8"/>
                  </a:cubicBezTo>
                  <a:cubicBezTo>
                    <a:pt x="3935" y="4"/>
                    <a:pt x="3939" y="0"/>
                    <a:pt x="3943" y="0"/>
                  </a:cubicBezTo>
                  <a:close/>
                  <a:moveTo>
                    <a:pt x="3977" y="0"/>
                  </a:moveTo>
                  <a:lnTo>
                    <a:pt x="3977" y="0"/>
                  </a:lnTo>
                  <a:cubicBezTo>
                    <a:pt x="3981" y="0"/>
                    <a:pt x="3985" y="4"/>
                    <a:pt x="3985" y="8"/>
                  </a:cubicBezTo>
                  <a:cubicBezTo>
                    <a:pt x="3985" y="13"/>
                    <a:pt x="3981" y="16"/>
                    <a:pt x="3977" y="16"/>
                  </a:cubicBezTo>
                  <a:lnTo>
                    <a:pt x="3977" y="16"/>
                  </a:lnTo>
                  <a:cubicBezTo>
                    <a:pt x="3972" y="16"/>
                    <a:pt x="3968" y="13"/>
                    <a:pt x="3968" y="8"/>
                  </a:cubicBezTo>
                  <a:cubicBezTo>
                    <a:pt x="3968" y="4"/>
                    <a:pt x="3972" y="0"/>
                    <a:pt x="3977" y="0"/>
                  </a:cubicBezTo>
                  <a:close/>
                  <a:moveTo>
                    <a:pt x="4010" y="0"/>
                  </a:moveTo>
                  <a:lnTo>
                    <a:pt x="4010" y="0"/>
                  </a:lnTo>
                  <a:cubicBezTo>
                    <a:pt x="4015" y="0"/>
                    <a:pt x="4018" y="4"/>
                    <a:pt x="4018" y="8"/>
                  </a:cubicBezTo>
                  <a:cubicBezTo>
                    <a:pt x="4018" y="13"/>
                    <a:pt x="4015" y="16"/>
                    <a:pt x="4010" y="16"/>
                  </a:cubicBezTo>
                  <a:lnTo>
                    <a:pt x="4010" y="16"/>
                  </a:lnTo>
                  <a:cubicBezTo>
                    <a:pt x="4005" y="16"/>
                    <a:pt x="4002" y="13"/>
                    <a:pt x="4002" y="8"/>
                  </a:cubicBezTo>
                  <a:cubicBezTo>
                    <a:pt x="4002" y="4"/>
                    <a:pt x="4005" y="0"/>
                    <a:pt x="4010" y="0"/>
                  </a:cubicBezTo>
                  <a:close/>
                  <a:moveTo>
                    <a:pt x="4043" y="0"/>
                  </a:moveTo>
                  <a:lnTo>
                    <a:pt x="4043" y="0"/>
                  </a:lnTo>
                  <a:cubicBezTo>
                    <a:pt x="4048" y="0"/>
                    <a:pt x="4052" y="4"/>
                    <a:pt x="4052" y="8"/>
                  </a:cubicBezTo>
                  <a:cubicBezTo>
                    <a:pt x="4052" y="13"/>
                    <a:pt x="4048" y="16"/>
                    <a:pt x="4043" y="16"/>
                  </a:cubicBezTo>
                  <a:lnTo>
                    <a:pt x="4043" y="16"/>
                  </a:lnTo>
                  <a:cubicBezTo>
                    <a:pt x="4039" y="16"/>
                    <a:pt x="4035" y="13"/>
                    <a:pt x="4035" y="8"/>
                  </a:cubicBezTo>
                  <a:cubicBezTo>
                    <a:pt x="4035" y="4"/>
                    <a:pt x="4039" y="0"/>
                    <a:pt x="4043" y="0"/>
                  </a:cubicBezTo>
                  <a:close/>
                  <a:moveTo>
                    <a:pt x="4077" y="0"/>
                  </a:moveTo>
                  <a:lnTo>
                    <a:pt x="4077" y="0"/>
                  </a:lnTo>
                  <a:cubicBezTo>
                    <a:pt x="4081" y="0"/>
                    <a:pt x="4085" y="4"/>
                    <a:pt x="4085" y="8"/>
                  </a:cubicBezTo>
                  <a:cubicBezTo>
                    <a:pt x="4085" y="13"/>
                    <a:pt x="4081" y="16"/>
                    <a:pt x="4077" y="16"/>
                  </a:cubicBezTo>
                  <a:lnTo>
                    <a:pt x="4077" y="16"/>
                  </a:lnTo>
                  <a:cubicBezTo>
                    <a:pt x="4072" y="16"/>
                    <a:pt x="4068" y="13"/>
                    <a:pt x="4068" y="8"/>
                  </a:cubicBezTo>
                  <a:cubicBezTo>
                    <a:pt x="4068" y="4"/>
                    <a:pt x="4072" y="0"/>
                    <a:pt x="4077" y="0"/>
                  </a:cubicBezTo>
                  <a:close/>
                  <a:moveTo>
                    <a:pt x="4110" y="0"/>
                  </a:moveTo>
                  <a:lnTo>
                    <a:pt x="4110" y="0"/>
                  </a:lnTo>
                  <a:cubicBezTo>
                    <a:pt x="4115" y="0"/>
                    <a:pt x="4118" y="4"/>
                    <a:pt x="4118" y="8"/>
                  </a:cubicBezTo>
                  <a:cubicBezTo>
                    <a:pt x="4118" y="13"/>
                    <a:pt x="4115" y="16"/>
                    <a:pt x="4110" y="16"/>
                  </a:cubicBezTo>
                  <a:lnTo>
                    <a:pt x="4110" y="16"/>
                  </a:lnTo>
                  <a:cubicBezTo>
                    <a:pt x="4105" y="16"/>
                    <a:pt x="4102" y="13"/>
                    <a:pt x="4102" y="8"/>
                  </a:cubicBezTo>
                  <a:cubicBezTo>
                    <a:pt x="4102" y="4"/>
                    <a:pt x="4105" y="0"/>
                    <a:pt x="4110" y="0"/>
                  </a:cubicBezTo>
                  <a:close/>
                  <a:moveTo>
                    <a:pt x="4143" y="0"/>
                  </a:moveTo>
                  <a:lnTo>
                    <a:pt x="4143" y="0"/>
                  </a:lnTo>
                  <a:cubicBezTo>
                    <a:pt x="4148" y="0"/>
                    <a:pt x="4152" y="4"/>
                    <a:pt x="4152" y="8"/>
                  </a:cubicBezTo>
                  <a:cubicBezTo>
                    <a:pt x="4152" y="13"/>
                    <a:pt x="4148" y="16"/>
                    <a:pt x="4143" y="16"/>
                  </a:cubicBezTo>
                  <a:lnTo>
                    <a:pt x="4143" y="16"/>
                  </a:lnTo>
                  <a:cubicBezTo>
                    <a:pt x="4139" y="16"/>
                    <a:pt x="4135" y="13"/>
                    <a:pt x="4135" y="8"/>
                  </a:cubicBezTo>
                  <a:cubicBezTo>
                    <a:pt x="4135" y="4"/>
                    <a:pt x="4139" y="0"/>
                    <a:pt x="4143" y="0"/>
                  </a:cubicBezTo>
                  <a:close/>
                  <a:moveTo>
                    <a:pt x="4177" y="0"/>
                  </a:moveTo>
                  <a:lnTo>
                    <a:pt x="4177" y="0"/>
                  </a:lnTo>
                  <a:cubicBezTo>
                    <a:pt x="4181" y="0"/>
                    <a:pt x="4185" y="4"/>
                    <a:pt x="4185" y="8"/>
                  </a:cubicBezTo>
                  <a:cubicBezTo>
                    <a:pt x="4185" y="13"/>
                    <a:pt x="4181" y="16"/>
                    <a:pt x="4177" y="16"/>
                  </a:cubicBezTo>
                  <a:lnTo>
                    <a:pt x="4177" y="16"/>
                  </a:lnTo>
                  <a:cubicBezTo>
                    <a:pt x="4172" y="16"/>
                    <a:pt x="4168" y="13"/>
                    <a:pt x="4168" y="8"/>
                  </a:cubicBezTo>
                  <a:cubicBezTo>
                    <a:pt x="4168" y="4"/>
                    <a:pt x="4172" y="0"/>
                    <a:pt x="4177" y="0"/>
                  </a:cubicBezTo>
                  <a:close/>
                  <a:moveTo>
                    <a:pt x="4210" y="0"/>
                  </a:moveTo>
                  <a:lnTo>
                    <a:pt x="4210" y="0"/>
                  </a:lnTo>
                  <a:cubicBezTo>
                    <a:pt x="4215" y="0"/>
                    <a:pt x="4218" y="4"/>
                    <a:pt x="4218" y="8"/>
                  </a:cubicBezTo>
                  <a:cubicBezTo>
                    <a:pt x="4218" y="13"/>
                    <a:pt x="4215" y="16"/>
                    <a:pt x="4210" y="16"/>
                  </a:cubicBezTo>
                  <a:lnTo>
                    <a:pt x="4210" y="16"/>
                  </a:lnTo>
                  <a:cubicBezTo>
                    <a:pt x="4205" y="16"/>
                    <a:pt x="4202" y="13"/>
                    <a:pt x="4202" y="8"/>
                  </a:cubicBezTo>
                  <a:cubicBezTo>
                    <a:pt x="4202" y="4"/>
                    <a:pt x="4205" y="0"/>
                    <a:pt x="4210" y="0"/>
                  </a:cubicBezTo>
                  <a:close/>
                  <a:moveTo>
                    <a:pt x="4243" y="0"/>
                  </a:moveTo>
                  <a:lnTo>
                    <a:pt x="4243" y="0"/>
                  </a:lnTo>
                  <a:cubicBezTo>
                    <a:pt x="4248" y="0"/>
                    <a:pt x="4252" y="4"/>
                    <a:pt x="4252" y="8"/>
                  </a:cubicBezTo>
                  <a:cubicBezTo>
                    <a:pt x="4252" y="13"/>
                    <a:pt x="4248" y="16"/>
                    <a:pt x="4243" y="16"/>
                  </a:cubicBezTo>
                  <a:lnTo>
                    <a:pt x="4243" y="16"/>
                  </a:lnTo>
                  <a:cubicBezTo>
                    <a:pt x="4239" y="16"/>
                    <a:pt x="4235" y="13"/>
                    <a:pt x="4235" y="8"/>
                  </a:cubicBezTo>
                  <a:cubicBezTo>
                    <a:pt x="4235" y="4"/>
                    <a:pt x="4239" y="0"/>
                    <a:pt x="4243" y="0"/>
                  </a:cubicBezTo>
                  <a:close/>
                  <a:moveTo>
                    <a:pt x="4277" y="0"/>
                  </a:moveTo>
                  <a:lnTo>
                    <a:pt x="4277" y="0"/>
                  </a:lnTo>
                  <a:cubicBezTo>
                    <a:pt x="4281" y="0"/>
                    <a:pt x="4285" y="4"/>
                    <a:pt x="4285" y="8"/>
                  </a:cubicBezTo>
                  <a:cubicBezTo>
                    <a:pt x="4285" y="13"/>
                    <a:pt x="4281" y="16"/>
                    <a:pt x="4277" y="16"/>
                  </a:cubicBezTo>
                  <a:lnTo>
                    <a:pt x="4277" y="16"/>
                  </a:lnTo>
                  <a:cubicBezTo>
                    <a:pt x="4272" y="16"/>
                    <a:pt x="4268" y="13"/>
                    <a:pt x="4268" y="8"/>
                  </a:cubicBezTo>
                  <a:cubicBezTo>
                    <a:pt x="4268" y="4"/>
                    <a:pt x="4272" y="0"/>
                    <a:pt x="4277" y="0"/>
                  </a:cubicBezTo>
                  <a:close/>
                  <a:moveTo>
                    <a:pt x="4310" y="0"/>
                  </a:moveTo>
                  <a:lnTo>
                    <a:pt x="4310" y="0"/>
                  </a:lnTo>
                  <a:cubicBezTo>
                    <a:pt x="4315" y="0"/>
                    <a:pt x="4318" y="4"/>
                    <a:pt x="4318" y="8"/>
                  </a:cubicBezTo>
                  <a:cubicBezTo>
                    <a:pt x="4318" y="13"/>
                    <a:pt x="4315" y="16"/>
                    <a:pt x="4310" y="16"/>
                  </a:cubicBezTo>
                  <a:lnTo>
                    <a:pt x="4310" y="16"/>
                  </a:lnTo>
                  <a:cubicBezTo>
                    <a:pt x="4306" y="16"/>
                    <a:pt x="4302" y="13"/>
                    <a:pt x="4302" y="8"/>
                  </a:cubicBezTo>
                  <a:cubicBezTo>
                    <a:pt x="4302" y="4"/>
                    <a:pt x="4306" y="0"/>
                    <a:pt x="4310" y="0"/>
                  </a:cubicBezTo>
                  <a:close/>
                  <a:moveTo>
                    <a:pt x="4344" y="0"/>
                  </a:moveTo>
                  <a:lnTo>
                    <a:pt x="4344" y="0"/>
                  </a:lnTo>
                  <a:cubicBezTo>
                    <a:pt x="4348" y="0"/>
                    <a:pt x="4352" y="4"/>
                    <a:pt x="4352" y="8"/>
                  </a:cubicBezTo>
                  <a:cubicBezTo>
                    <a:pt x="4352" y="13"/>
                    <a:pt x="4348" y="16"/>
                    <a:pt x="4344" y="16"/>
                  </a:cubicBezTo>
                  <a:lnTo>
                    <a:pt x="4344" y="16"/>
                  </a:lnTo>
                  <a:cubicBezTo>
                    <a:pt x="4339" y="16"/>
                    <a:pt x="4335" y="13"/>
                    <a:pt x="4335" y="8"/>
                  </a:cubicBezTo>
                  <a:cubicBezTo>
                    <a:pt x="4335" y="4"/>
                    <a:pt x="4339" y="0"/>
                    <a:pt x="4344" y="0"/>
                  </a:cubicBezTo>
                  <a:close/>
                  <a:moveTo>
                    <a:pt x="4377" y="0"/>
                  </a:moveTo>
                  <a:lnTo>
                    <a:pt x="4377" y="0"/>
                  </a:lnTo>
                  <a:cubicBezTo>
                    <a:pt x="4381" y="0"/>
                    <a:pt x="4385" y="4"/>
                    <a:pt x="4385" y="8"/>
                  </a:cubicBezTo>
                  <a:cubicBezTo>
                    <a:pt x="4385" y="13"/>
                    <a:pt x="4381" y="16"/>
                    <a:pt x="4377" y="16"/>
                  </a:cubicBezTo>
                  <a:lnTo>
                    <a:pt x="4377" y="16"/>
                  </a:lnTo>
                  <a:cubicBezTo>
                    <a:pt x="4372" y="16"/>
                    <a:pt x="4369" y="13"/>
                    <a:pt x="4369" y="8"/>
                  </a:cubicBezTo>
                  <a:cubicBezTo>
                    <a:pt x="4369" y="4"/>
                    <a:pt x="4372" y="0"/>
                    <a:pt x="4377" y="0"/>
                  </a:cubicBezTo>
                  <a:close/>
                  <a:moveTo>
                    <a:pt x="4410" y="0"/>
                  </a:moveTo>
                  <a:lnTo>
                    <a:pt x="4410" y="0"/>
                  </a:lnTo>
                  <a:cubicBezTo>
                    <a:pt x="4415" y="0"/>
                    <a:pt x="4419" y="4"/>
                    <a:pt x="4419" y="8"/>
                  </a:cubicBezTo>
                  <a:cubicBezTo>
                    <a:pt x="4419" y="13"/>
                    <a:pt x="4415" y="16"/>
                    <a:pt x="4410" y="16"/>
                  </a:cubicBezTo>
                  <a:lnTo>
                    <a:pt x="4410" y="16"/>
                  </a:lnTo>
                  <a:cubicBezTo>
                    <a:pt x="4406" y="16"/>
                    <a:pt x="4402" y="13"/>
                    <a:pt x="4402" y="8"/>
                  </a:cubicBezTo>
                  <a:cubicBezTo>
                    <a:pt x="4402" y="4"/>
                    <a:pt x="4406" y="0"/>
                    <a:pt x="4410" y="0"/>
                  </a:cubicBezTo>
                  <a:close/>
                  <a:moveTo>
                    <a:pt x="4444" y="0"/>
                  </a:moveTo>
                  <a:lnTo>
                    <a:pt x="4444" y="0"/>
                  </a:lnTo>
                  <a:cubicBezTo>
                    <a:pt x="4448" y="0"/>
                    <a:pt x="4452" y="4"/>
                    <a:pt x="4452" y="8"/>
                  </a:cubicBezTo>
                  <a:cubicBezTo>
                    <a:pt x="4452" y="13"/>
                    <a:pt x="4448" y="16"/>
                    <a:pt x="4444" y="16"/>
                  </a:cubicBezTo>
                  <a:lnTo>
                    <a:pt x="4444" y="16"/>
                  </a:lnTo>
                  <a:cubicBezTo>
                    <a:pt x="4439" y="16"/>
                    <a:pt x="4435" y="13"/>
                    <a:pt x="4435" y="8"/>
                  </a:cubicBezTo>
                  <a:cubicBezTo>
                    <a:pt x="4435" y="4"/>
                    <a:pt x="4439" y="0"/>
                    <a:pt x="4444" y="0"/>
                  </a:cubicBezTo>
                  <a:close/>
                  <a:moveTo>
                    <a:pt x="4477" y="0"/>
                  </a:moveTo>
                  <a:lnTo>
                    <a:pt x="4477" y="0"/>
                  </a:lnTo>
                  <a:cubicBezTo>
                    <a:pt x="4482" y="0"/>
                    <a:pt x="4485" y="4"/>
                    <a:pt x="4485" y="8"/>
                  </a:cubicBezTo>
                  <a:cubicBezTo>
                    <a:pt x="4485" y="13"/>
                    <a:pt x="4482" y="16"/>
                    <a:pt x="4477" y="16"/>
                  </a:cubicBezTo>
                  <a:lnTo>
                    <a:pt x="4477" y="16"/>
                  </a:lnTo>
                  <a:cubicBezTo>
                    <a:pt x="4472" y="16"/>
                    <a:pt x="4469" y="13"/>
                    <a:pt x="4469" y="8"/>
                  </a:cubicBezTo>
                  <a:cubicBezTo>
                    <a:pt x="4469" y="4"/>
                    <a:pt x="4472" y="0"/>
                    <a:pt x="4477" y="0"/>
                  </a:cubicBezTo>
                  <a:close/>
                  <a:moveTo>
                    <a:pt x="4510" y="0"/>
                  </a:moveTo>
                  <a:lnTo>
                    <a:pt x="4510" y="0"/>
                  </a:lnTo>
                  <a:cubicBezTo>
                    <a:pt x="4515" y="0"/>
                    <a:pt x="4519" y="4"/>
                    <a:pt x="4519" y="8"/>
                  </a:cubicBezTo>
                  <a:cubicBezTo>
                    <a:pt x="4519" y="13"/>
                    <a:pt x="4515" y="16"/>
                    <a:pt x="4510" y="16"/>
                  </a:cubicBezTo>
                  <a:lnTo>
                    <a:pt x="4510" y="16"/>
                  </a:lnTo>
                  <a:cubicBezTo>
                    <a:pt x="4506" y="16"/>
                    <a:pt x="4502" y="13"/>
                    <a:pt x="4502" y="8"/>
                  </a:cubicBezTo>
                  <a:cubicBezTo>
                    <a:pt x="4502" y="4"/>
                    <a:pt x="4506" y="0"/>
                    <a:pt x="4510" y="0"/>
                  </a:cubicBezTo>
                  <a:close/>
                  <a:moveTo>
                    <a:pt x="4544" y="0"/>
                  </a:moveTo>
                  <a:lnTo>
                    <a:pt x="4544" y="0"/>
                  </a:lnTo>
                  <a:cubicBezTo>
                    <a:pt x="4548" y="0"/>
                    <a:pt x="4552" y="4"/>
                    <a:pt x="4552" y="8"/>
                  </a:cubicBezTo>
                  <a:cubicBezTo>
                    <a:pt x="4552" y="13"/>
                    <a:pt x="4548" y="16"/>
                    <a:pt x="4544" y="16"/>
                  </a:cubicBezTo>
                  <a:lnTo>
                    <a:pt x="4544" y="16"/>
                  </a:lnTo>
                  <a:cubicBezTo>
                    <a:pt x="4539" y="16"/>
                    <a:pt x="4535" y="13"/>
                    <a:pt x="4535" y="8"/>
                  </a:cubicBezTo>
                  <a:cubicBezTo>
                    <a:pt x="4535" y="4"/>
                    <a:pt x="4539" y="0"/>
                    <a:pt x="4544" y="0"/>
                  </a:cubicBezTo>
                  <a:close/>
                  <a:moveTo>
                    <a:pt x="4577" y="0"/>
                  </a:moveTo>
                  <a:lnTo>
                    <a:pt x="4577" y="0"/>
                  </a:lnTo>
                  <a:cubicBezTo>
                    <a:pt x="4582" y="0"/>
                    <a:pt x="4585" y="4"/>
                    <a:pt x="4585" y="8"/>
                  </a:cubicBezTo>
                  <a:cubicBezTo>
                    <a:pt x="4585" y="13"/>
                    <a:pt x="4582" y="16"/>
                    <a:pt x="4577" y="16"/>
                  </a:cubicBezTo>
                  <a:lnTo>
                    <a:pt x="4577" y="16"/>
                  </a:lnTo>
                  <a:cubicBezTo>
                    <a:pt x="4572" y="16"/>
                    <a:pt x="4569" y="13"/>
                    <a:pt x="4569" y="8"/>
                  </a:cubicBezTo>
                  <a:cubicBezTo>
                    <a:pt x="4569" y="4"/>
                    <a:pt x="4572" y="0"/>
                    <a:pt x="4577" y="0"/>
                  </a:cubicBezTo>
                  <a:close/>
                  <a:moveTo>
                    <a:pt x="4610" y="0"/>
                  </a:moveTo>
                  <a:lnTo>
                    <a:pt x="4610" y="0"/>
                  </a:lnTo>
                  <a:cubicBezTo>
                    <a:pt x="4615" y="0"/>
                    <a:pt x="4619" y="4"/>
                    <a:pt x="4619" y="8"/>
                  </a:cubicBezTo>
                  <a:cubicBezTo>
                    <a:pt x="4619" y="13"/>
                    <a:pt x="4615" y="16"/>
                    <a:pt x="4610" y="16"/>
                  </a:cubicBezTo>
                  <a:lnTo>
                    <a:pt x="4610" y="16"/>
                  </a:lnTo>
                  <a:cubicBezTo>
                    <a:pt x="4606" y="16"/>
                    <a:pt x="4602" y="13"/>
                    <a:pt x="4602" y="8"/>
                  </a:cubicBezTo>
                  <a:cubicBezTo>
                    <a:pt x="4602" y="4"/>
                    <a:pt x="4606" y="0"/>
                    <a:pt x="4610" y="0"/>
                  </a:cubicBezTo>
                  <a:close/>
                  <a:moveTo>
                    <a:pt x="4644" y="0"/>
                  </a:moveTo>
                  <a:lnTo>
                    <a:pt x="4644" y="0"/>
                  </a:lnTo>
                  <a:cubicBezTo>
                    <a:pt x="4648" y="0"/>
                    <a:pt x="4652" y="4"/>
                    <a:pt x="4652" y="8"/>
                  </a:cubicBezTo>
                  <a:cubicBezTo>
                    <a:pt x="4652" y="13"/>
                    <a:pt x="4648" y="16"/>
                    <a:pt x="4644" y="16"/>
                  </a:cubicBezTo>
                  <a:lnTo>
                    <a:pt x="4644" y="16"/>
                  </a:lnTo>
                  <a:cubicBezTo>
                    <a:pt x="4639" y="16"/>
                    <a:pt x="4635" y="13"/>
                    <a:pt x="4635" y="8"/>
                  </a:cubicBezTo>
                  <a:cubicBezTo>
                    <a:pt x="4635" y="4"/>
                    <a:pt x="4639" y="0"/>
                    <a:pt x="4644" y="0"/>
                  </a:cubicBezTo>
                  <a:close/>
                  <a:moveTo>
                    <a:pt x="4677" y="0"/>
                  </a:moveTo>
                  <a:lnTo>
                    <a:pt x="4677" y="0"/>
                  </a:lnTo>
                  <a:cubicBezTo>
                    <a:pt x="4682" y="0"/>
                    <a:pt x="4685" y="4"/>
                    <a:pt x="4685" y="8"/>
                  </a:cubicBezTo>
                  <a:cubicBezTo>
                    <a:pt x="4685" y="13"/>
                    <a:pt x="4682" y="16"/>
                    <a:pt x="4677" y="16"/>
                  </a:cubicBezTo>
                  <a:lnTo>
                    <a:pt x="4677" y="16"/>
                  </a:lnTo>
                  <a:cubicBezTo>
                    <a:pt x="4672" y="16"/>
                    <a:pt x="4669" y="13"/>
                    <a:pt x="4669" y="8"/>
                  </a:cubicBezTo>
                  <a:cubicBezTo>
                    <a:pt x="4669" y="4"/>
                    <a:pt x="4672" y="0"/>
                    <a:pt x="4677" y="0"/>
                  </a:cubicBezTo>
                  <a:close/>
                  <a:moveTo>
                    <a:pt x="4710" y="0"/>
                  </a:moveTo>
                  <a:lnTo>
                    <a:pt x="4710" y="0"/>
                  </a:lnTo>
                  <a:cubicBezTo>
                    <a:pt x="4715" y="0"/>
                    <a:pt x="4719" y="4"/>
                    <a:pt x="4719" y="8"/>
                  </a:cubicBezTo>
                  <a:cubicBezTo>
                    <a:pt x="4719" y="13"/>
                    <a:pt x="4715" y="16"/>
                    <a:pt x="4710" y="16"/>
                  </a:cubicBezTo>
                  <a:lnTo>
                    <a:pt x="4710" y="16"/>
                  </a:lnTo>
                  <a:cubicBezTo>
                    <a:pt x="4706" y="16"/>
                    <a:pt x="4702" y="13"/>
                    <a:pt x="4702" y="8"/>
                  </a:cubicBezTo>
                  <a:cubicBezTo>
                    <a:pt x="4702" y="4"/>
                    <a:pt x="4706" y="0"/>
                    <a:pt x="4710" y="0"/>
                  </a:cubicBezTo>
                  <a:close/>
                  <a:moveTo>
                    <a:pt x="4744" y="0"/>
                  </a:moveTo>
                  <a:lnTo>
                    <a:pt x="4744" y="0"/>
                  </a:lnTo>
                  <a:cubicBezTo>
                    <a:pt x="4748" y="0"/>
                    <a:pt x="4752" y="4"/>
                    <a:pt x="4752" y="8"/>
                  </a:cubicBezTo>
                  <a:cubicBezTo>
                    <a:pt x="4752" y="13"/>
                    <a:pt x="4748" y="16"/>
                    <a:pt x="4744" y="16"/>
                  </a:cubicBezTo>
                  <a:lnTo>
                    <a:pt x="4744" y="16"/>
                  </a:lnTo>
                  <a:cubicBezTo>
                    <a:pt x="4739" y="16"/>
                    <a:pt x="4735" y="13"/>
                    <a:pt x="4735" y="8"/>
                  </a:cubicBezTo>
                  <a:cubicBezTo>
                    <a:pt x="4735" y="4"/>
                    <a:pt x="4739" y="0"/>
                    <a:pt x="4744" y="0"/>
                  </a:cubicBezTo>
                  <a:close/>
                  <a:moveTo>
                    <a:pt x="4777" y="0"/>
                  </a:moveTo>
                  <a:lnTo>
                    <a:pt x="4777" y="0"/>
                  </a:lnTo>
                  <a:cubicBezTo>
                    <a:pt x="4782" y="0"/>
                    <a:pt x="4785" y="4"/>
                    <a:pt x="4785" y="8"/>
                  </a:cubicBezTo>
                  <a:cubicBezTo>
                    <a:pt x="4785" y="13"/>
                    <a:pt x="4782" y="16"/>
                    <a:pt x="4777" y="16"/>
                  </a:cubicBezTo>
                  <a:lnTo>
                    <a:pt x="4777" y="16"/>
                  </a:lnTo>
                  <a:cubicBezTo>
                    <a:pt x="4772" y="16"/>
                    <a:pt x="4769" y="13"/>
                    <a:pt x="4769" y="8"/>
                  </a:cubicBezTo>
                  <a:cubicBezTo>
                    <a:pt x="4769" y="4"/>
                    <a:pt x="4772" y="0"/>
                    <a:pt x="4777" y="0"/>
                  </a:cubicBezTo>
                  <a:close/>
                  <a:moveTo>
                    <a:pt x="4810" y="0"/>
                  </a:moveTo>
                  <a:lnTo>
                    <a:pt x="4810" y="0"/>
                  </a:lnTo>
                  <a:cubicBezTo>
                    <a:pt x="4815" y="0"/>
                    <a:pt x="4819" y="4"/>
                    <a:pt x="4819" y="8"/>
                  </a:cubicBezTo>
                  <a:cubicBezTo>
                    <a:pt x="4819" y="13"/>
                    <a:pt x="4815" y="16"/>
                    <a:pt x="4810" y="16"/>
                  </a:cubicBezTo>
                  <a:lnTo>
                    <a:pt x="4810" y="16"/>
                  </a:lnTo>
                  <a:cubicBezTo>
                    <a:pt x="4806" y="16"/>
                    <a:pt x="4802" y="13"/>
                    <a:pt x="4802" y="8"/>
                  </a:cubicBezTo>
                  <a:cubicBezTo>
                    <a:pt x="4802" y="4"/>
                    <a:pt x="4806" y="0"/>
                    <a:pt x="4810" y="0"/>
                  </a:cubicBezTo>
                  <a:close/>
                  <a:moveTo>
                    <a:pt x="4844" y="0"/>
                  </a:moveTo>
                  <a:lnTo>
                    <a:pt x="4844" y="0"/>
                  </a:lnTo>
                  <a:cubicBezTo>
                    <a:pt x="4848" y="0"/>
                    <a:pt x="4852" y="4"/>
                    <a:pt x="4852" y="8"/>
                  </a:cubicBezTo>
                  <a:cubicBezTo>
                    <a:pt x="4852" y="13"/>
                    <a:pt x="4848" y="16"/>
                    <a:pt x="4844" y="16"/>
                  </a:cubicBezTo>
                  <a:lnTo>
                    <a:pt x="4844" y="16"/>
                  </a:lnTo>
                  <a:cubicBezTo>
                    <a:pt x="4839" y="16"/>
                    <a:pt x="4835" y="13"/>
                    <a:pt x="4835" y="8"/>
                  </a:cubicBezTo>
                  <a:cubicBezTo>
                    <a:pt x="4835" y="4"/>
                    <a:pt x="4839" y="0"/>
                    <a:pt x="4844" y="0"/>
                  </a:cubicBezTo>
                  <a:close/>
                  <a:moveTo>
                    <a:pt x="4877" y="0"/>
                  </a:moveTo>
                  <a:lnTo>
                    <a:pt x="4877" y="0"/>
                  </a:lnTo>
                  <a:cubicBezTo>
                    <a:pt x="4882" y="0"/>
                    <a:pt x="4885" y="4"/>
                    <a:pt x="4885" y="8"/>
                  </a:cubicBezTo>
                  <a:cubicBezTo>
                    <a:pt x="4885" y="13"/>
                    <a:pt x="4882" y="16"/>
                    <a:pt x="4877" y="16"/>
                  </a:cubicBezTo>
                  <a:lnTo>
                    <a:pt x="4877" y="16"/>
                  </a:lnTo>
                  <a:cubicBezTo>
                    <a:pt x="4872" y="16"/>
                    <a:pt x="4869" y="13"/>
                    <a:pt x="4869" y="8"/>
                  </a:cubicBezTo>
                  <a:cubicBezTo>
                    <a:pt x="4869" y="4"/>
                    <a:pt x="4872" y="0"/>
                    <a:pt x="4877" y="0"/>
                  </a:cubicBezTo>
                  <a:close/>
                  <a:moveTo>
                    <a:pt x="4910" y="0"/>
                  </a:moveTo>
                  <a:lnTo>
                    <a:pt x="4910" y="0"/>
                  </a:lnTo>
                  <a:cubicBezTo>
                    <a:pt x="4915" y="0"/>
                    <a:pt x="4919" y="4"/>
                    <a:pt x="4919" y="8"/>
                  </a:cubicBezTo>
                  <a:cubicBezTo>
                    <a:pt x="4919" y="13"/>
                    <a:pt x="4915" y="16"/>
                    <a:pt x="4910" y="16"/>
                  </a:cubicBezTo>
                  <a:lnTo>
                    <a:pt x="4910" y="16"/>
                  </a:lnTo>
                  <a:cubicBezTo>
                    <a:pt x="4906" y="16"/>
                    <a:pt x="4902" y="13"/>
                    <a:pt x="4902" y="8"/>
                  </a:cubicBezTo>
                  <a:cubicBezTo>
                    <a:pt x="4902" y="4"/>
                    <a:pt x="4906" y="0"/>
                    <a:pt x="4910" y="0"/>
                  </a:cubicBezTo>
                  <a:close/>
                  <a:moveTo>
                    <a:pt x="4944" y="0"/>
                  </a:moveTo>
                  <a:lnTo>
                    <a:pt x="4944" y="0"/>
                  </a:lnTo>
                  <a:cubicBezTo>
                    <a:pt x="4948" y="0"/>
                    <a:pt x="4952" y="4"/>
                    <a:pt x="4952" y="8"/>
                  </a:cubicBezTo>
                  <a:cubicBezTo>
                    <a:pt x="4952" y="13"/>
                    <a:pt x="4948" y="16"/>
                    <a:pt x="4944" y="16"/>
                  </a:cubicBezTo>
                  <a:lnTo>
                    <a:pt x="4944" y="16"/>
                  </a:lnTo>
                  <a:cubicBezTo>
                    <a:pt x="4939" y="16"/>
                    <a:pt x="4935" y="13"/>
                    <a:pt x="4935" y="8"/>
                  </a:cubicBezTo>
                  <a:cubicBezTo>
                    <a:pt x="4935" y="4"/>
                    <a:pt x="4939" y="0"/>
                    <a:pt x="4944" y="0"/>
                  </a:cubicBezTo>
                  <a:close/>
                  <a:moveTo>
                    <a:pt x="4977" y="0"/>
                  </a:moveTo>
                  <a:lnTo>
                    <a:pt x="4977" y="0"/>
                  </a:lnTo>
                  <a:cubicBezTo>
                    <a:pt x="4982" y="0"/>
                    <a:pt x="4985" y="4"/>
                    <a:pt x="4985" y="8"/>
                  </a:cubicBezTo>
                  <a:cubicBezTo>
                    <a:pt x="4985" y="13"/>
                    <a:pt x="4982" y="16"/>
                    <a:pt x="4977" y="16"/>
                  </a:cubicBezTo>
                  <a:lnTo>
                    <a:pt x="4977" y="16"/>
                  </a:lnTo>
                  <a:cubicBezTo>
                    <a:pt x="4973" y="16"/>
                    <a:pt x="4969" y="13"/>
                    <a:pt x="4969" y="8"/>
                  </a:cubicBezTo>
                  <a:cubicBezTo>
                    <a:pt x="4969" y="4"/>
                    <a:pt x="4973" y="0"/>
                    <a:pt x="4977" y="0"/>
                  </a:cubicBezTo>
                  <a:close/>
                  <a:moveTo>
                    <a:pt x="5010" y="0"/>
                  </a:moveTo>
                  <a:lnTo>
                    <a:pt x="5011" y="0"/>
                  </a:lnTo>
                  <a:cubicBezTo>
                    <a:pt x="5015" y="0"/>
                    <a:pt x="5019" y="4"/>
                    <a:pt x="5019" y="8"/>
                  </a:cubicBezTo>
                  <a:cubicBezTo>
                    <a:pt x="5019" y="13"/>
                    <a:pt x="5015" y="16"/>
                    <a:pt x="5011" y="16"/>
                  </a:cubicBezTo>
                  <a:lnTo>
                    <a:pt x="5010" y="16"/>
                  </a:lnTo>
                  <a:cubicBezTo>
                    <a:pt x="5006" y="16"/>
                    <a:pt x="5002" y="13"/>
                    <a:pt x="5002" y="8"/>
                  </a:cubicBezTo>
                  <a:cubicBezTo>
                    <a:pt x="5002" y="4"/>
                    <a:pt x="5006" y="0"/>
                    <a:pt x="5010" y="0"/>
                  </a:cubicBezTo>
                  <a:close/>
                  <a:moveTo>
                    <a:pt x="5044" y="0"/>
                  </a:moveTo>
                  <a:lnTo>
                    <a:pt x="5044" y="0"/>
                  </a:lnTo>
                  <a:cubicBezTo>
                    <a:pt x="5048" y="0"/>
                    <a:pt x="5052" y="4"/>
                    <a:pt x="5052" y="8"/>
                  </a:cubicBezTo>
                  <a:cubicBezTo>
                    <a:pt x="5052" y="13"/>
                    <a:pt x="5048" y="16"/>
                    <a:pt x="5044" y="16"/>
                  </a:cubicBezTo>
                  <a:lnTo>
                    <a:pt x="5044" y="16"/>
                  </a:lnTo>
                  <a:cubicBezTo>
                    <a:pt x="5039" y="16"/>
                    <a:pt x="5036" y="13"/>
                    <a:pt x="5036" y="8"/>
                  </a:cubicBezTo>
                  <a:cubicBezTo>
                    <a:pt x="5036" y="4"/>
                    <a:pt x="5039" y="0"/>
                    <a:pt x="5044" y="0"/>
                  </a:cubicBezTo>
                  <a:close/>
                  <a:moveTo>
                    <a:pt x="5077" y="0"/>
                  </a:moveTo>
                  <a:lnTo>
                    <a:pt x="5077" y="0"/>
                  </a:lnTo>
                  <a:cubicBezTo>
                    <a:pt x="5082" y="0"/>
                    <a:pt x="5086" y="4"/>
                    <a:pt x="5086" y="8"/>
                  </a:cubicBezTo>
                  <a:cubicBezTo>
                    <a:pt x="5086" y="13"/>
                    <a:pt x="5082" y="16"/>
                    <a:pt x="5077" y="16"/>
                  </a:cubicBezTo>
                  <a:lnTo>
                    <a:pt x="5077" y="16"/>
                  </a:lnTo>
                  <a:cubicBezTo>
                    <a:pt x="5073" y="16"/>
                    <a:pt x="5069" y="13"/>
                    <a:pt x="5069" y="8"/>
                  </a:cubicBezTo>
                  <a:cubicBezTo>
                    <a:pt x="5069" y="4"/>
                    <a:pt x="5073" y="0"/>
                    <a:pt x="5077" y="0"/>
                  </a:cubicBezTo>
                  <a:close/>
                  <a:moveTo>
                    <a:pt x="5111" y="0"/>
                  </a:moveTo>
                  <a:lnTo>
                    <a:pt x="5111" y="0"/>
                  </a:lnTo>
                  <a:cubicBezTo>
                    <a:pt x="5115" y="0"/>
                    <a:pt x="5119" y="4"/>
                    <a:pt x="5119" y="8"/>
                  </a:cubicBezTo>
                  <a:cubicBezTo>
                    <a:pt x="5119" y="13"/>
                    <a:pt x="5115" y="16"/>
                    <a:pt x="5111" y="16"/>
                  </a:cubicBezTo>
                  <a:lnTo>
                    <a:pt x="5111" y="16"/>
                  </a:lnTo>
                  <a:cubicBezTo>
                    <a:pt x="5106" y="16"/>
                    <a:pt x="5102" y="13"/>
                    <a:pt x="5102" y="8"/>
                  </a:cubicBezTo>
                  <a:cubicBezTo>
                    <a:pt x="5102" y="4"/>
                    <a:pt x="5106" y="0"/>
                    <a:pt x="5111" y="0"/>
                  </a:cubicBezTo>
                  <a:close/>
                  <a:moveTo>
                    <a:pt x="5144" y="0"/>
                  </a:moveTo>
                  <a:lnTo>
                    <a:pt x="5144" y="0"/>
                  </a:lnTo>
                  <a:cubicBezTo>
                    <a:pt x="5149" y="0"/>
                    <a:pt x="5152" y="4"/>
                    <a:pt x="5152" y="8"/>
                  </a:cubicBezTo>
                  <a:cubicBezTo>
                    <a:pt x="5152" y="13"/>
                    <a:pt x="5149" y="16"/>
                    <a:pt x="5144" y="16"/>
                  </a:cubicBezTo>
                  <a:lnTo>
                    <a:pt x="5144" y="16"/>
                  </a:lnTo>
                  <a:cubicBezTo>
                    <a:pt x="5139" y="16"/>
                    <a:pt x="5136" y="13"/>
                    <a:pt x="5136" y="8"/>
                  </a:cubicBezTo>
                  <a:cubicBezTo>
                    <a:pt x="5136" y="4"/>
                    <a:pt x="5139" y="0"/>
                    <a:pt x="5144" y="0"/>
                  </a:cubicBezTo>
                  <a:close/>
                  <a:moveTo>
                    <a:pt x="5177" y="0"/>
                  </a:moveTo>
                  <a:lnTo>
                    <a:pt x="5177" y="0"/>
                  </a:lnTo>
                  <a:cubicBezTo>
                    <a:pt x="5182" y="0"/>
                    <a:pt x="5186" y="4"/>
                    <a:pt x="5186" y="8"/>
                  </a:cubicBezTo>
                  <a:cubicBezTo>
                    <a:pt x="5186" y="13"/>
                    <a:pt x="5182" y="16"/>
                    <a:pt x="5177" y="16"/>
                  </a:cubicBezTo>
                  <a:lnTo>
                    <a:pt x="5177" y="16"/>
                  </a:lnTo>
                  <a:cubicBezTo>
                    <a:pt x="5173" y="16"/>
                    <a:pt x="5169" y="13"/>
                    <a:pt x="5169" y="8"/>
                  </a:cubicBezTo>
                  <a:cubicBezTo>
                    <a:pt x="5169" y="4"/>
                    <a:pt x="5173" y="0"/>
                    <a:pt x="5177" y="0"/>
                  </a:cubicBezTo>
                  <a:close/>
                  <a:moveTo>
                    <a:pt x="5211" y="0"/>
                  </a:moveTo>
                  <a:lnTo>
                    <a:pt x="5211" y="0"/>
                  </a:lnTo>
                  <a:cubicBezTo>
                    <a:pt x="5215" y="0"/>
                    <a:pt x="5219" y="4"/>
                    <a:pt x="5219" y="8"/>
                  </a:cubicBezTo>
                  <a:cubicBezTo>
                    <a:pt x="5219" y="13"/>
                    <a:pt x="5215" y="16"/>
                    <a:pt x="5211" y="16"/>
                  </a:cubicBezTo>
                  <a:lnTo>
                    <a:pt x="5211" y="16"/>
                  </a:lnTo>
                  <a:cubicBezTo>
                    <a:pt x="5206" y="16"/>
                    <a:pt x="5202" y="13"/>
                    <a:pt x="5202" y="8"/>
                  </a:cubicBezTo>
                  <a:cubicBezTo>
                    <a:pt x="5202" y="4"/>
                    <a:pt x="5206" y="0"/>
                    <a:pt x="5211" y="0"/>
                  </a:cubicBezTo>
                  <a:close/>
                  <a:moveTo>
                    <a:pt x="5244" y="0"/>
                  </a:moveTo>
                  <a:lnTo>
                    <a:pt x="5244" y="0"/>
                  </a:lnTo>
                  <a:cubicBezTo>
                    <a:pt x="5249" y="0"/>
                    <a:pt x="5252" y="4"/>
                    <a:pt x="5252" y="8"/>
                  </a:cubicBezTo>
                  <a:cubicBezTo>
                    <a:pt x="5252" y="13"/>
                    <a:pt x="5249" y="16"/>
                    <a:pt x="5244" y="16"/>
                  </a:cubicBezTo>
                  <a:lnTo>
                    <a:pt x="5244" y="16"/>
                  </a:lnTo>
                  <a:cubicBezTo>
                    <a:pt x="5239" y="16"/>
                    <a:pt x="5236" y="13"/>
                    <a:pt x="5236" y="8"/>
                  </a:cubicBezTo>
                  <a:cubicBezTo>
                    <a:pt x="5236" y="4"/>
                    <a:pt x="5239" y="0"/>
                    <a:pt x="5244" y="0"/>
                  </a:cubicBezTo>
                  <a:close/>
                  <a:moveTo>
                    <a:pt x="5277" y="0"/>
                  </a:moveTo>
                  <a:lnTo>
                    <a:pt x="5277" y="0"/>
                  </a:lnTo>
                  <a:cubicBezTo>
                    <a:pt x="5282" y="0"/>
                    <a:pt x="5286" y="4"/>
                    <a:pt x="5286" y="8"/>
                  </a:cubicBezTo>
                  <a:cubicBezTo>
                    <a:pt x="5286" y="13"/>
                    <a:pt x="5282" y="16"/>
                    <a:pt x="5277" y="16"/>
                  </a:cubicBezTo>
                  <a:lnTo>
                    <a:pt x="5277" y="16"/>
                  </a:lnTo>
                  <a:cubicBezTo>
                    <a:pt x="5273" y="16"/>
                    <a:pt x="5269" y="13"/>
                    <a:pt x="5269" y="8"/>
                  </a:cubicBezTo>
                  <a:cubicBezTo>
                    <a:pt x="5269" y="4"/>
                    <a:pt x="5273" y="0"/>
                    <a:pt x="5277" y="0"/>
                  </a:cubicBezTo>
                  <a:close/>
                  <a:moveTo>
                    <a:pt x="5311" y="0"/>
                  </a:moveTo>
                  <a:lnTo>
                    <a:pt x="5311" y="0"/>
                  </a:lnTo>
                  <a:cubicBezTo>
                    <a:pt x="5315" y="0"/>
                    <a:pt x="5319" y="4"/>
                    <a:pt x="5319" y="8"/>
                  </a:cubicBezTo>
                  <a:cubicBezTo>
                    <a:pt x="5319" y="13"/>
                    <a:pt x="5315" y="16"/>
                    <a:pt x="5311" y="16"/>
                  </a:cubicBezTo>
                  <a:lnTo>
                    <a:pt x="5311" y="16"/>
                  </a:lnTo>
                  <a:cubicBezTo>
                    <a:pt x="5306" y="16"/>
                    <a:pt x="5302" y="13"/>
                    <a:pt x="5302" y="8"/>
                  </a:cubicBezTo>
                  <a:cubicBezTo>
                    <a:pt x="5302" y="4"/>
                    <a:pt x="5306" y="0"/>
                    <a:pt x="5311" y="0"/>
                  </a:cubicBezTo>
                  <a:close/>
                  <a:moveTo>
                    <a:pt x="5344" y="0"/>
                  </a:moveTo>
                  <a:lnTo>
                    <a:pt x="5344" y="0"/>
                  </a:lnTo>
                  <a:cubicBezTo>
                    <a:pt x="5349" y="0"/>
                    <a:pt x="5352" y="4"/>
                    <a:pt x="5352" y="8"/>
                  </a:cubicBezTo>
                  <a:cubicBezTo>
                    <a:pt x="5352" y="13"/>
                    <a:pt x="5349" y="16"/>
                    <a:pt x="5344" y="16"/>
                  </a:cubicBezTo>
                  <a:lnTo>
                    <a:pt x="5344" y="16"/>
                  </a:lnTo>
                  <a:cubicBezTo>
                    <a:pt x="5339" y="16"/>
                    <a:pt x="5336" y="13"/>
                    <a:pt x="5336" y="8"/>
                  </a:cubicBezTo>
                  <a:cubicBezTo>
                    <a:pt x="5336" y="4"/>
                    <a:pt x="5339" y="0"/>
                    <a:pt x="5344" y="0"/>
                  </a:cubicBezTo>
                  <a:close/>
                  <a:moveTo>
                    <a:pt x="5377" y="0"/>
                  </a:moveTo>
                  <a:lnTo>
                    <a:pt x="5377" y="0"/>
                  </a:lnTo>
                  <a:cubicBezTo>
                    <a:pt x="5382" y="0"/>
                    <a:pt x="5386" y="4"/>
                    <a:pt x="5386" y="8"/>
                  </a:cubicBezTo>
                  <a:cubicBezTo>
                    <a:pt x="5386" y="13"/>
                    <a:pt x="5382" y="16"/>
                    <a:pt x="5377" y="16"/>
                  </a:cubicBezTo>
                  <a:lnTo>
                    <a:pt x="5377" y="16"/>
                  </a:lnTo>
                  <a:cubicBezTo>
                    <a:pt x="5373" y="16"/>
                    <a:pt x="5369" y="13"/>
                    <a:pt x="5369" y="8"/>
                  </a:cubicBezTo>
                  <a:cubicBezTo>
                    <a:pt x="5369" y="4"/>
                    <a:pt x="5373" y="0"/>
                    <a:pt x="5377" y="0"/>
                  </a:cubicBezTo>
                  <a:close/>
                  <a:moveTo>
                    <a:pt x="5411" y="0"/>
                  </a:moveTo>
                  <a:lnTo>
                    <a:pt x="5411" y="0"/>
                  </a:lnTo>
                  <a:cubicBezTo>
                    <a:pt x="5415" y="0"/>
                    <a:pt x="5419" y="4"/>
                    <a:pt x="5419" y="8"/>
                  </a:cubicBezTo>
                  <a:cubicBezTo>
                    <a:pt x="5419" y="13"/>
                    <a:pt x="5415" y="16"/>
                    <a:pt x="5411" y="16"/>
                  </a:cubicBezTo>
                  <a:lnTo>
                    <a:pt x="5411" y="16"/>
                  </a:lnTo>
                  <a:cubicBezTo>
                    <a:pt x="5406" y="16"/>
                    <a:pt x="5402" y="13"/>
                    <a:pt x="5402" y="8"/>
                  </a:cubicBezTo>
                  <a:cubicBezTo>
                    <a:pt x="5402" y="4"/>
                    <a:pt x="5406" y="0"/>
                    <a:pt x="5411" y="0"/>
                  </a:cubicBezTo>
                  <a:close/>
                  <a:moveTo>
                    <a:pt x="5444" y="0"/>
                  </a:moveTo>
                  <a:lnTo>
                    <a:pt x="5444" y="0"/>
                  </a:lnTo>
                  <a:cubicBezTo>
                    <a:pt x="5449" y="0"/>
                    <a:pt x="5452" y="4"/>
                    <a:pt x="5452" y="8"/>
                  </a:cubicBezTo>
                  <a:cubicBezTo>
                    <a:pt x="5452" y="13"/>
                    <a:pt x="5449" y="16"/>
                    <a:pt x="5444" y="16"/>
                  </a:cubicBezTo>
                  <a:lnTo>
                    <a:pt x="5444" y="16"/>
                  </a:lnTo>
                  <a:cubicBezTo>
                    <a:pt x="5439" y="16"/>
                    <a:pt x="5436" y="13"/>
                    <a:pt x="5436" y="8"/>
                  </a:cubicBezTo>
                  <a:cubicBezTo>
                    <a:pt x="5436" y="4"/>
                    <a:pt x="5439" y="0"/>
                    <a:pt x="5444" y="0"/>
                  </a:cubicBezTo>
                  <a:close/>
                  <a:moveTo>
                    <a:pt x="5477" y="0"/>
                  </a:moveTo>
                  <a:lnTo>
                    <a:pt x="5477" y="0"/>
                  </a:lnTo>
                  <a:cubicBezTo>
                    <a:pt x="5482" y="0"/>
                    <a:pt x="5486" y="4"/>
                    <a:pt x="5486" y="8"/>
                  </a:cubicBezTo>
                  <a:cubicBezTo>
                    <a:pt x="5486" y="13"/>
                    <a:pt x="5482" y="16"/>
                    <a:pt x="5477" y="16"/>
                  </a:cubicBezTo>
                  <a:lnTo>
                    <a:pt x="5477" y="16"/>
                  </a:lnTo>
                  <a:cubicBezTo>
                    <a:pt x="5473" y="16"/>
                    <a:pt x="5469" y="13"/>
                    <a:pt x="5469" y="8"/>
                  </a:cubicBezTo>
                  <a:cubicBezTo>
                    <a:pt x="5469" y="4"/>
                    <a:pt x="5473" y="0"/>
                    <a:pt x="5477" y="0"/>
                  </a:cubicBezTo>
                  <a:close/>
                  <a:moveTo>
                    <a:pt x="5511" y="0"/>
                  </a:moveTo>
                  <a:lnTo>
                    <a:pt x="5511" y="0"/>
                  </a:lnTo>
                  <a:cubicBezTo>
                    <a:pt x="5515" y="0"/>
                    <a:pt x="5519" y="4"/>
                    <a:pt x="5519" y="8"/>
                  </a:cubicBezTo>
                  <a:cubicBezTo>
                    <a:pt x="5519" y="13"/>
                    <a:pt x="5515" y="16"/>
                    <a:pt x="5511" y="16"/>
                  </a:cubicBezTo>
                  <a:lnTo>
                    <a:pt x="5511" y="16"/>
                  </a:lnTo>
                  <a:cubicBezTo>
                    <a:pt x="5506" y="16"/>
                    <a:pt x="5502" y="13"/>
                    <a:pt x="5502" y="8"/>
                  </a:cubicBezTo>
                  <a:cubicBezTo>
                    <a:pt x="5502" y="4"/>
                    <a:pt x="5506" y="0"/>
                    <a:pt x="5511" y="0"/>
                  </a:cubicBezTo>
                  <a:close/>
                  <a:moveTo>
                    <a:pt x="5544" y="0"/>
                  </a:moveTo>
                  <a:lnTo>
                    <a:pt x="5544" y="0"/>
                  </a:lnTo>
                  <a:cubicBezTo>
                    <a:pt x="5549" y="0"/>
                    <a:pt x="5552" y="4"/>
                    <a:pt x="5552" y="8"/>
                  </a:cubicBezTo>
                  <a:cubicBezTo>
                    <a:pt x="5552" y="13"/>
                    <a:pt x="5549" y="16"/>
                    <a:pt x="5544" y="16"/>
                  </a:cubicBezTo>
                  <a:lnTo>
                    <a:pt x="5544" y="16"/>
                  </a:lnTo>
                  <a:cubicBezTo>
                    <a:pt x="5539" y="16"/>
                    <a:pt x="5536" y="13"/>
                    <a:pt x="5536" y="8"/>
                  </a:cubicBezTo>
                  <a:cubicBezTo>
                    <a:pt x="5536" y="4"/>
                    <a:pt x="5539" y="0"/>
                    <a:pt x="5544" y="0"/>
                  </a:cubicBezTo>
                  <a:close/>
                  <a:moveTo>
                    <a:pt x="5577" y="0"/>
                  </a:moveTo>
                  <a:lnTo>
                    <a:pt x="5577" y="0"/>
                  </a:lnTo>
                  <a:cubicBezTo>
                    <a:pt x="5582" y="0"/>
                    <a:pt x="5586" y="4"/>
                    <a:pt x="5586" y="8"/>
                  </a:cubicBezTo>
                  <a:cubicBezTo>
                    <a:pt x="5586" y="13"/>
                    <a:pt x="5582" y="16"/>
                    <a:pt x="5577" y="16"/>
                  </a:cubicBezTo>
                  <a:lnTo>
                    <a:pt x="5577" y="16"/>
                  </a:lnTo>
                  <a:cubicBezTo>
                    <a:pt x="5573" y="16"/>
                    <a:pt x="5569" y="13"/>
                    <a:pt x="5569" y="8"/>
                  </a:cubicBezTo>
                  <a:cubicBezTo>
                    <a:pt x="5569" y="4"/>
                    <a:pt x="5573" y="0"/>
                    <a:pt x="5577" y="0"/>
                  </a:cubicBezTo>
                  <a:close/>
                  <a:moveTo>
                    <a:pt x="5611" y="0"/>
                  </a:moveTo>
                  <a:lnTo>
                    <a:pt x="5611" y="0"/>
                  </a:lnTo>
                  <a:cubicBezTo>
                    <a:pt x="5615" y="0"/>
                    <a:pt x="5619" y="4"/>
                    <a:pt x="5619" y="8"/>
                  </a:cubicBezTo>
                  <a:cubicBezTo>
                    <a:pt x="5619" y="13"/>
                    <a:pt x="5615" y="16"/>
                    <a:pt x="5611" y="16"/>
                  </a:cubicBezTo>
                  <a:lnTo>
                    <a:pt x="5611" y="16"/>
                  </a:lnTo>
                  <a:cubicBezTo>
                    <a:pt x="5606" y="16"/>
                    <a:pt x="5602" y="13"/>
                    <a:pt x="5602" y="8"/>
                  </a:cubicBezTo>
                  <a:cubicBezTo>
                    <a:pt x="5602" y="4"/>
                    <a:pt x="5606" y="0"/>
                    <a:pt x="5611" y="0"/>
                  </a:cubicBezTo>
                  <a:close/>
                  <a:moveTo>
                    <a:pt x="5644" y="0"/>
                  </a:moveTo>
                  <a:lnTo>
                    <a:pt x="5644" y="0"/>
                  </a:lnTo>
                  <a:cubicBezTo>
                    <a:pt x="5649" y="0"/>
                    <a:pt x="5652" y="4"/>
                    <a:pt x="5652" y="8"/>
                  </a:cubicBezTo>
                  <a:cubicBezTo>
                    <a:pt x="5652" y="13"/>
                    <a:pt x="5649" y="16"/>
                    <a:pt x="5644" y="16"/>
                  </a:cubicBezTo>
                  <a:lnTo>
                    <a:pt x="5644" y="16"/>
                  </a:lnTo>
                  <a:cubicBezTo>
                    <a:pt x="5640" y="16"/>
                    <a:pt x="5636" y="13"/>
                    <a:pt x="5636" y="8"/>
                  </a:cubicBezTo>
                  <a:cubicBezTo>
                    <a:pt x="5636" y="4"/>
                    <a:pt x="5640" y="0"/>
                    <a:pt x="5644" y="0"/>
                  </a:cubicBezTo>
                  <a:close/>
                  <a:moveTo>
                    <a:pt x="5677" y="0"/>
                  </a:moveTo>
                  <a:lnTo>
                    <a:pt x="5678" y="0"/>
                  </a:lnTo>
                  <a:cubicBezTo>
                    <a:pt x="5682" y="0"/>
                    <a:pt x="5686" y="4"/>
                    <a:pt x="5686" y="8"/>
                  </a:cubicBezTo>
                  <a:cubicBezTo>
                    <a:pt x="5686" y="13"/>
                    <a:pt x="5682" y="16"/>
                    <a:pt x="5678" y="16"/>
                  </a:cubicBezTo>
                  <a:lnTo>
                    <a:pt x="5677" y="16"/>
                  </a:lnTo>
                  <a:cubicBezTo>
                    <a:pt x="5673" y="16"/>
                    <a:pt x="5669" y="13"/>
                    <a:pt x="5669" y="8"/>
                  </a:cubicBezTo>
                  <a:cubicBezTo>
                    <a:pt x="5669" y="4"/>
                    <a:pt x="5673" y="0"/>
                    <a:pt x="5677" y="0"/>
                  </a:cubicBezTo>
                  <a:close/>
                  <a:moveTo>
                    <a:pt x="5711" y="0"/>
                  </a:moveTo>
                  <a:lnTo>
                    <a:pt x="5711" y="0"/>
                  </a:lnTo>
                  <a:cubicBezTo>
                    <a:pt x="5715" y="0"/>
                    <a:pt x="5719" y="4"/>
                    <a:pt x="5719" y="8"/>
                  </a:cubicBezTo>
                  <a:cubicBezTo>
                    <a:pt x="5719" y="13"/>
                    <a:pt x="5715" y="16"/>
                    <a:pt x="5711" y="16"/>
                  </a:cubicBezTo>
                  <a:lnTo>
                    <a:pt x="5711" y="16"/>
                  </a:lnTo>
                  <a:cubicBezTo>
                    <a:pt x="5706" y="16"/>
                    <a:pt x="5703" y="13"/>
                    <a:pt x="5703" y="8"/>
                  </a:cubicBezTo>
                  <a:cubicBezTo>
                    <a:pt x="5703" y="4"/>
                    <a:pt x="5706" y="0"/>
                    <a:pt x="5711" y="0"/>
                  </a:cubicBezTo>
                  <a:close/>
                  <a:moveTo>
                    <a:pt x="5744" y="0"/>
                  </a:moveTo>
                  <a:lnTo>
                    <a:pt x="5744" y="0"/>
                  </a:lnTo>
                  <a:cubicBezTo>
                    <a:pt x="5749" y="0"/>
                    <a:pt x="5753" y="4"/>
                    <a:pt x="5753" y="8"/>
                  </a:cubicBezTo>
                  <a:cubicBezTo>
                    <a:pt x="5753" y="13"/>
                    <a:pt x="5749" y="16"/>
                    <a:pt x="5744" y="16"/>
                  </a:cubicBezTo>
                  <a:lnTo>
                    <a:pt x="5744" y="16"/>
                  </a:lnTo>
                  <a:cubicBezTo>
                    <a:pt x="5740" y="16"/>
                    <a:pt x="5736" y="13"/>
                    <a:pt x="5736" y="8"/>
                  </a:cubicBezTo>
                  <a:cubicBezTo>
                    <a:pt x="5736" y="4"/>
                    <a:pt x="5740" y="0"/>
                    <a:pt x="5744" y="0"/>
                  </a:cubicBezTo>
                  <a:close/>
                  <a:moveTo>
                    <a:pt x="5778" y="0"/>
                  </a:moveTo>
                  <a:lnTo>
                    <a:pt x="5778" y="0"/>
                  </a:lnTo>
                  <a:cubicBezTo>
                    <a:pt x="5782" y="0"/>
                    <a:pt x="5786" y="4"/>
                    <a:pt x="5786" y="8"/>
                  </a:cubicBezTo>
                  <a:cubicBezTo>
                    <a:pt x="5786" y="13"/>
                    <a:pt x="5782" y="16"/>
                    <a:pt x="5778" y="16"/>
                  </a:cubicBezTo>
                  <a:lnTo>
                    <a:pt x="5778" y="16"/>
                  </a:lnTo>
                  <a:cubicBezTo>
                    <a:pt x="5773" y="16"/>
                    <a:pt x="5769" y="13"/>
                    <a:pt x="5769" y="8"/>
                  </a:cubicBezTo>
                  <a:cubicBezTo>
                    <a:pt x="5769" y="4"/>
                    <a:pt x="5773" y="0"/>
                    <a:pt x="5778" y="0"/>
                  </a:cubicBezTo>
                  <a:close/>
                  <a:moveTo>
                    <a:pt x="5811" y="0"/>
                  </a:moveTo>
                  <a:lnTo>
                    <a:pt x="5811" y="0"/>
                  </a:lnTo>
                  <a:cubicBezTo>
                    <a:pt x="5816" y="0"/>
                    <a:pt x="5819" y="4"/>
                    <a:pt x="5819" y="8"/>
                  </a:cubicBezTo>
                  <a:cubicBezTo>
                    <a:pt x="5819" y="13"/>
                    <a:pt x="5816" y="16"/>
                    <a:pt x="5811" y="16"/>
                  </a:cubicBezTo>
                  <a:lnTo>
                    <a:pt x="5811" y="16"/>
                  </a:lnTo>
                  <a:cubicBezTo>
                    <a:pt x="5806" y="16"/>
                    <a:pt x="5803" y="13"/>
                    <a:pt x="5803" y="8"/>
                  </a:cubicBezTo>
                  <a:cubicBezTo>
                    <a:pt x="5803" y="4"/>
                    <a:pt x="5806" y="0"/>
                    <a:pt x="5811" y="0"/>
                  </a:cubicBezTo>
                  <a:close/>
                  <a:moveTo>
                    <a:pt x="5844" y="0"/>
                  </a:moveTo>
                  <a:lnTo>
                    <a:pt x="5844" y="0"/>
                  </a:lnTo>
                  <a:cubicBezTo>
                    <a:pt x="5849" y="0"/>
                    <a:pt x="5853" y="4"/>
                    <a:pt x="5853" y="8"/>
                  </a:cubicBezTo>
                  <a:cubicBezTo>
                    <a:pt x="5853" y="13"/>
                    <a:pt x="5849" y="16"/>
                    <a:pt x="5844" y="16"/>
                  </a:cubicBezTo>
                  <a:lnTo>
                    <a:pt x="5844" y="16"/>
                  </a:lnTo>
                  <a:cubicBezTo>
                    <a:pt x="5840" y="16"/>
                    <a:pt x="5836" y="13"/>
                    <a:pt x="5836" y="8"/>
                  </a:cubicBezTo>
                  <a:cubicBezTo>
                    <a:pt x="5836" y="4"/>
                    <a:pt x="5840" y="0"/>
                    <a:pt x="5844" y="0"/>
                  </a:cubicBezTo>
                  <a:close/>
                  <a:moveTo>
                    <a:pt x="5878" y="0"/>
                  </a:moveTo>
                  <a:lnTo>
                    <a:pt x="5878" y="0"/>
                  </a:lnTo>
                  <a:cubicBezTo>
                    <a:pt x="5882" y="0"/>
                    <a:pt x="5886" y="4"/>
                    <a:pt x="5886" y="8"/>
                  </a:cubicBezTo>
                  <a:cubicBezTo>
                    <a:pt x="5886" y="13"/>
                    <a:pt x="5882" y="16"/>
                    <a:pt x="5878" y="16"/>
                  </a:cubicBezTo>
                  <a:lnTo>
                    <a:pt x="5878" y="16"/>
                  </a:lnTo>
                  <a:cubicBezTo>
                    <a:pt x="5873" y="16"/>
                    <a:pt x="5869" y="13"/>
                    <a:pt x="5869" y="8"/>
                  </a:cubicBezTo>
                  <a:cubicBezTo>
                    <a:pt x="5869" y="4"/>
                    <a:pt x="5873" y="0"/>
                    <a:pt x="5878" y="0"/>
                  </a:cubicBezTo>
                  <a:close/>
                  <a:moveTo>
                    <a:pt x="5911" y="0"/>
                  </a:moveTo>
                  <a:lnTo>
                    <a:pt x="5911" y="0"/>
                  </a:lnTo>
                  <a:cubicBezTo>
                    <a:pt x="5916" y="0"/>
                    <a:pt x="5919" y="4"/>
                    <a:pt x="5919" y="8"/>
                  </a:cubicBezTo>
                  <a:cubicBezTo>
                    <a:pt x="5919" y="13"/>
                    <a:pt x="5916" y="16"/>
                    <a:pt x="5911" y="16"/>
                  </a:cubicBezTo>
                  <a:lnTo>
                    <a:pt x="5911" y="16"/>
                  </a:lnTo>
                  <a:cubicBezTo>
                    <a:pt x="5906" y="16"/>
                    <a:pt x="5903" y="13"/>
                    <a:pt x="5903" y="8"/>
                  </a:cubicBezTo>
                  <a:cubicBezTo>
                    <a:pt x="5903" y="4"/>
                    <a:pt x="5906" y="0"/>
                    <a:pt x="5911" y="0"/>
                  </a:cubicBezTo>
                  <a:close/>
                  <a:moveTo>
                    <a:pt x="5944" y="0"/>
                  </a:moveTo>
                  <a:lnTo>
                    <a:pt x="5944" y="0"/>
                  </a:lnTo>
                  <a:cubicBezTo>
                    <a:pt x="5949" y="0"/>
                    <a:pt x="5953" y="4"/>
                    <a:pt x="5953" y="8"/>
                  </a:cubicBezTo>
                  <a:cubicBezTo>
                    <a:pt x="5953" y="13"/>
                    <a:pt x="5949" y="16"/>
                    <a:pt x="5944" y="16"/>
                  </a:cubicBezTo>
                  <a:lnTo>
                    <a:pt x="5944" y="16"/>
                  </a:lnTo>
                  <a:cubicBezTo>
                    <a:pt x="5940" y="16"/>
                    <a:pt x="5936" y="13"/>
                    <a:pt x="5936" y="8"/>
                  </a:cubicBezTo>
                  <a:cubicBezTo>
                    <a:pt x="5936" y="4"/>
                    <a:pt x="5940" y="0"/>
                    <a:pt x="5944" y="0"/>
                  </a:cubicBezTo>
                  <a:close/>
                  <a:moveTo>
                    <a:pt x="5978" y="0"/>
                  </a:moveTo>
                  <a:lnTo>
                    <a:pt x="5978" y="0"/>
                  </a:lnTo>
                  <a:cubicBezTo>
                    <a:pt x="5982" y="0"/>
                    <a:pt x="5986" y="4"/>
                    <a:pt x="5986" y="8"/>
                  </a:cubicBezTo>
                  <a:cubicBezTo>
                    <a:pt x="5986" y="13"/>
                    <a:pt x="5982" y="16"/>
                    <a:pt x="5978" y="16"/>
                  </a:cubicBezTo>
                  <a:lnTo>
                    <a:pt x="5978" y="16"/>
                  </a:lnTo>
                  <a:cubicBezTo>
                    <a:pt x="5973" y="16"/>
                    <a:pt x="5969" y="13"/>
                    <a:pt x="5969" y="8"/>
                  </a:cubicBezTo>
                  <a:cubicBezTo>
                    <a:pt x="5969" y="4"/>
                    <a:pt x="5973" y="0"/>
                    <a:pt x="5978" y="0"/>
                  </a:cubicBezTo>
                  <a:close/>
                  <a:moveTo>
                    <a:pt x="6011" y="0"/>
                  </a:moveTo>
                  <a:lnTo>
                    <a:pt x="6011" y="0"/>
                  </a:lnTo>
                  <a:cubicBezTo>
                    <a:pt x="6016" y="0"/>
                    <a:pt x="6019" y="4"/>
                    <a:pt x="6019" y="8"/>
                  </a:cubicBezTo>
                  <a:cubicBezTo>
                    <a:pt x="6019" y="13"/>
                    <a:pt x="6016" y="16"/>
                    <a:pt x="6011" y="16"/>
                  </a:cubicBezTo>
                  <a:lnTo>
                    <a:pt x="6011" y="16"/>
                  </a:lnTo>
                  <a:cubicBezTo>
                    <a:pt x="6006" y="16"/>
                    <a:pt x="6003" y="13"/>
                    <a:pt x="6003" y="8"/>
                  </a:cubicBezTo>
                  <a:cubicBezTo>
                    <a:pt x="6003" y="4"/>
                    <a:pt x="6006" y="0"/>
                    <a:pt x="6011" y="0"/>
                  </a:cubicBezTo>
                  <a:close/>
                  <a:moveTo>
                    <a:pt x="6044" y="0"/>
                  </a:moveTo>
                  <a:lnTo>
                    <a:pt x="6044" y="0"/>
                  </a:lnTo>
                  <a:cubicBezTo>
                    <a:pt x="6049" y="0"/>
                    <a:pt x="6053" y="4"/>
                    <a:pt x="6053" y="8"/>
                  </a:cubicBezTo>
                  <a:cubicBezTo>
                    <a:pt x="6053" y="13"/>
                    <a:pt x="6049" y="16"/>
                    <a:pt x="6044" y="16"/>
                  </a:cubicBezTo>
                  <a:lnTo>
                    <a:pt x="6044" y="16"/>
                  </a:lnTo>
                  <a:cubicBezTo>
                    <a:pt x="6040" y="16"/>
                    <a:pt x="6036" y="13"/>
                    <a:pt x="6036" y="8"/>
                  </a:cubicBezTo>
                  <a:cubicBezTo>
                    <a:pt x="6036" y="4"/>
                    <a:pt x="6040" y="0"/>
                    <a:pt x="6044" y="0"/>
                  </a:cubicBezTo>
                  <a:close/>
                  <a:moveTo>
                    <a:pt x="6078" y="0"/>
                  </a:moveTo>
                  <a:lnTo>
                    <a:pt x="6078" y="0"/>
                  </a:lnTo>
                  <a:cubicBezTo>
                    <a:pt x="6082" y="0"/>
                    <a:pt x="6086" y="4"/>
                    <a:pt x="6086" y="8"/>
                  </a:cubicBezTo>
                  <a:cubicBezTo>
                    <a:pt x="6086" y="13"/>
                    <a:pt x="6082" y="16"/>
                    <a:pt x="6078" y="16"/>
                  </a:cubicBezTo>
                  <a:lnTo>
                    <a:pt x="6078" y="16"/>
                  </a:lnTo>
                  <a:cubicBezTo>
                    <a:pt x="6073" y="16"/>
                    <a:pt x="6069" y="13"/>
                    <a:pt x="6069" y="8"/>
                  </a:cubicBezTo>
                  <a:cubicBezTo>
                    <a:pt x="6069" y="4"/>
                    <a:pt x="6073" y="0"/>
                    <a:pt x="6078" y="0"/>
                  </a:cubicBezTo>
                  <a:close/>
                  <a:moveTo>
                    <a:pt x="6111" y="0"/>
                  </a:moveTo>
                  <a:lnTo>
                    <a:pt x="6111" y="0"/>
                  </a:lnTo>
                  <a:cubicBezTo>
                    <a:pt x="6116" y="0"/>
                    <a:pt x="6119" y="4"/>
                    <a:pt x="6119" y="8"/>
                  </a:cubicBezTo>
                  <a:cubicBezTo>
                    <a:pt x="6119" y="13"/>
                    <a:pt x="6116" y="16"/>
                    <a:pt x="6111" y="16"/>
                  </a:cubicBezTo>
                  <a:lnTo>
                    <a:pt x="6111" y="16"/>
                  </a:lnTo>
                  <a:cubicBezTo>
                    <a:pt x="6106" y="16"/>
                    <a:pt x="6103" y="13"/>
                    <a:pt x="6103" y="8"/>
                  </a:cubicBezTo>
                  <a:cubicBezTo>
                    <a:pt x="6103" y="4"/>
                    <a:pt x="6106" y="0"/>
                    <a:pt x="6111" y="0"/>
                  </a:cubicBezTo>
                  <a:close/>
                  <a:moveTo>
                    <a:pt x="6144" y="0"/>
                  </a:moveTo>
                  <a:lnTo>
                    <a:pt x="6144" y="0"/>
                  </a:lnTo>
                  <a:cubicBezTo>
                    <a:pt x="6149" y="0"/>
                    <a:pt x="6153" y="4"/>
                    <a:pt x="6153" y="8"/>
                  </a:cubicBezTo>
                  <a:cubicBezTo>
                    <a:pt x="6153" y="13"/>
                    <a:pt x="6149" y="16"/>
                    <a:pt x="6144" y="16"/>
                  </a:cubicBezTo>
                  <a:lnTo>
                    <a:pt x="6144" y="16"/>
                  </a:lnTo>
                  <a:cubicBezTo>
                    <a:pt x="6140" y="16"/>
                    <a:pt x="6136" y="13"/>
                    <a:pt x="6136" y="8"/>
                  </a:cubicBezTo>
                  <a:cubicBezTo>
                    <a:pt x="6136" y="4"/>
                    <a:pt x="6140" y="0"/>
                    <a:pt x="6144" y="0"/>
                  </a:cubicBezTo>
                  <a:close/>
                  <a:moveTo>
                    <a:pt x="6178" y="0"/>
                  </a:moveTo>
                  <a:lnTo>
                    <a:pt x="6178" y="0"/>
                  </a:lnTo>
                  <a:cubicBezTo>
                    <a:pt x="6182" y="0"/>
                    <a:pt x="6186" y="4"/>
                    <a:pt x="6186" y="8"/>
                  </a:cubicBezTo>
                  <a:cubicBezTo>
                    <a:pt x="6186" y="13"/>
                    <a:pt x="6182" y="16"/>
                    <a:pt x="6178" y="16"/>
                  </a:cubicBezTo>
                  <a:lnTo>
                    <a:pt x="6178" y="16"/>
                  </a:lnTo>
                  <a:cubicBezTo>
                    <a:pt x="6173" y="16"/>
                    <a:pt x="6169" y="13"/>
                    <a:pt x="6169" y="8"/>
                  </a:cubicBezTo>
                  <a:cubicBezTo>
                    <a:pt x="6169" y="4"/>
                    <a:pt x="6173" y="0"/>
                    <a:pt x="6178" y="0"/>
                  </a:cubicBezTo>
                  <a:close/>
                  <a:moveTo>
                    <a:pt x="6211" y="0"/>
                  </a:moveTo>
                  <a:lnTo>
                    <a:pt x="6211" y="0"/>
                  </a:lnTo>
                  <a:cubicBezTo>
                    <a:pt x="6216" y="0"/>
                    <a:pt x="6219" y="4"/>
                    <a:pt x="6219" y="8"/>
                  </a:cubicBezTo>
                  <a:cubicBezTo>
                    <a:pt x="6219" y="13"/>
                    <a:pt x="6216" y="16"/>
                    <a:pt x="6211" y="16"/>
                  </a:cubicBezTo>
                  <a:lnTo>
                    <a:pt x="6211" y="16"/>
                  </a:lnTo>
                  <a:cubicBezTo>
                    <a:pt x="6206" y="16"/>
                    <a:pt x="6203" y="13"/>
                    <a:pt x="6203" y="8"/>
                  </a:cubicBezTo>
                  <a:cubicBezTo>
                    <a:pt x="6203" y="4"/>
                    <a:pt x="6206" y="0"/>
                    <a:pt x="6211" y="0"/>
                  </a:cubicBezTo>
                  <a:close/>
                  <a:moveTo>
                    <a:pt x="6244" y="0"/>
                  </a:moveTo>
                  <a:lnTo>
                    <a:pt x="6244" y="0"/>
                  </a:lnTo>
                  <a:cubicBezTo>
                    <a:pt x="6249" y="0"/>
                    <a:pt x="6253" y="4"/>
                    <a:pt x="6253" y="8"/>
                  </a:cubicBezTo>
                  <a:cubicBezTo>
                    <a:pt x="6253" y="13"/>
                    <a:pt x="6249" y="16"/>
                    <a:pt x="6244" y="16"/>
                  </a:cubicBezTo>
                  <a:lnTo>
                    <a:pt x="6244" y="16"/>
                  </a:lnTo>
                  <a:cubicBezTo>
                    <a:pt x="6240" y="16"/>
                    <a:pt x="6236" y="13"/>
                    <a:pt x="6236" y="8"/>
                  </a:cubicBezTo>
                  <a:cubicBezTo>
                    <a:pt x="6236" y="4"/>
                    <a:pt x="6240" y="0"/>
                    <a:pt x="6244" y="0"/>
                  </a:cubicBezTo>
                  <a:close/>
                  <a:moveTo>
                    <a:pt x="6278" y="0"/>
                  </a:moveTo>
                  <a:lnTo>
                    <a:pt x="6278" y="0"/>
                  </a:lnTo>
                  <a:cubicBezTo>
                    <a:pt x="6282" y="0"/>
                    <a:pt x="6286" y="4"/>
                    <a:pt x="6286" y="8"/>
                  </a:cubicBezTo>
                  <a:cubicBezTo>
                    <a:pt x="6286" y="13"/>
                    <a:pt x="6282" y="16"/>
                    <a:pt x="6278" y="16"/>
                  </a:cubicBezTo>
                  <a:lnTo>
                    <a:pt x="6278" y="16"/>
                  </a:lnTo>
                  <a:cubicBezTo>
                    <a:pt x="6273" y="16"/>
                    <a:pt x="6269" y="13"/>
                    <a:pt x="6269" y="8"/>
                  </a:cubicBezTo>
                  <a:cubicBezTo>
                    <a:pt x="6269" y="4"/>
                    <a:pt x="6273" y="0"/>
                    <a:pt x="6278" y="0"/>
                  </a:cubicBezTo>
                  <a:close/>
                  <a:moveTo>
                    <a:pt x="6311" y="0"/>
                  </a:moveTo>
                  <a:lnTo>
                    <a:pt x="6311" y="0"/>
                  </a:lnTo>
                  <a:cubicBezTo>
                    <a:pt x="6316" y="0"/>
                    <a:pt x="6319" y="4"/>
                    <a:pt x="6319" y="8"/>
                  </a:cubicBezTo>
                  <a:cubicBezTo>
                    <a:pt x="6319" y="13"/>
                    <a:pt x="6316" y="16"/>
                    <a:pt x="6311" y="16"/>
                  </a:cubicBezTo>
                  <a:lnTo>
                    <a:pt x="6311" y="16"/>
                  </a:lnTo>
                  <a:cubicBezTo>
                    <a:pt x="6307" y="16"/>
                    <a:pt x="6303" y="13"/>
                    <a:pt x="6303" y="8"/>
                  </a:cubicBezTo>
                  <a:cubicBezTo>
                    <a:pt x="6303" y="4"/>
                    <a:pt x="6307" y="0"/>
                    <a:pt x="6311" y="0"/>
                  </a:cubicBezTo>
                  <a:close/>
                  <a:moveTo>
                    <a:pt x="6344" y="0"/>
                  </a:moveTo>
                  <a:lnTo>
                    <a:pt x="6345" y="0"/>
                  </a:lnTo>
                  <a:cubicBezTo>
                    <a:pt x="6349" y="0"/>
                    <a:pt x="6353" y="4"/>
                    <a:pt x="6353" y="8"/>
                  </a:cubicBezTo>
                  <a:cubicBezTo>
                    <a:pt x="6353" y="13"/>
                    <a:pt x="6349" y="16"/>
                    <a:pt x="6345" y="16"/>
                  </a:cubicBezTo>
                  <a:lnTo>
                    <a:pt x="6344" y="16"/>
                  </a:lnTo>
                  <a:cubicBezTo>
                    <a:pt x="6340" y="16"/>
                    <a:pt x="6336" y="13"/>
                    <a:pt x="6336" y="8"/>
                  </a:cubicBezTo>
                  <a:cubicBezTo>
                    <a:pt x="6336" y="4"/>
                    <a:pt x="6340" y="0"/>
                    <a:pt x="6344" y="0"/>
                  </a:cubicBezTo>
                  <a:close/>
                  <a:moveTo>
                    <a:pt x="6378" y="0"/>
                  </a:moveTo>
                  <a:lnTo>
                    <a:pt x="6378" y="0"/>
                  </a:lnTo>
                  <a:cubicBezTo>
                    <a:pt x="6382" y="0"/>
                    <a:pt x="6386" y="4"/>
                    <a:pt x="6386" y="8"/>
                  </a:cubicBezTo>
                  <a:cubicBezTo>
                    <a:pt x="6386" y="13"/>
                    <a:pt x="6382" y="16"/>
                    <a:pt x="6378" y="16"/>
                  </a:cubicBezTo>
                  <a:lnTo>
                    <a:pt x="6378" y="16"/>
                  </a:lnTo>
                  <a:cubicBezTo>
                    <a:pt x="6373" y="16"/>
                    <a:pt x="6370" y="13"/>
                    <a:pt x="6370" y="8"/>
                  </a:cubicBezTo>
                  <a:cubicBezTo>
                    <a:pt x="6370" y="4"/>
                    <a:pt x="6373" y="0"/>
                    <a:pt x="6378" y="0"/>
                  </a:cubicBezTo>
                  <a:close/>
                  <a:moveTo>
                    <a:pt x="6411" y="0"/>
                  </a:moveTo>
                  <a:lnTo>
                    <a:pt x="6411" y="0"/>
                  </a:lnTo>
                  <a:cubicBezTo>
                    <a:pt x="6416" y="0"/>
                    <a:pt x="6420" y="4"/>
                    <a:pt x="6420" y="8"/>
                  </a:cubicBezTo>
                  <a:cubicBezTo>
                    <a:pt x="6420" y="13"/>
                    <a:pt x="6416" y="16"/>
                    <a:pt x="6411" y="16"/>
                  </a:cubicBezTo>
                  <a:lnTo>
                    <a:pt x="6411" y="16"/>
                  </a:lnTo>
                  <a:cubicBezTo>
                    <a:pt x="6407" y="16"/>
                    <a:pt x="6403" y="13"/>
                    <a:pt x="6403" y="8"/>
                  </a:cubicBezTo>
                  <a:cubicBezTo>
                    <a:pt x="6403" y="4"/>
                    <a:pt x="6407" y="0"/>
                    <a:pt x="6411" y="0"/>
                  </a:cubicBezTo>
                  <a:close/>
                  <a:moveTo>
                    <a:pt x="6445" y="0"/>
                  </a:moveTo>
                  <a:lnTo>
                    <a:pt x="6445" y="0"/>
                  </a:lnTo>
                  <a:cubicBezTo>
                    <a:pt x="6449" y="0"/>
                    <a:pt x="6453" y="4"/>
                    <a:pt x="6453" y="8"/>
                  </a:cubicBezTo>
                  <a:cubicBezTo>
                    <a:pt x="6453" y="13"/>
                    <a:pt x="6449" y="16"/>
                    <a:pt x="6445" y="16"/>
                  </a:cubicBezTo>
                  <a:lnTo>
                    <a:pt x="6445" y="16"/>
                  </a:lnTo>
                  <a:cubicBezTo>
                    <a:pt x="6440" y="16"/>
                    <a:pt x="6436" y="13"/>
                    <a:pt x="6436" y="8"/>
                  </a:cubicBezTo>
                  <a:cubicBezTo>
                    <a:pt x="6436" y="4"/>
                    <a:pt x="6440" y="0"/>
                    <a:pt x="6445" y="0"/>
                  </a:cubicBezTo>
                  <a:close/>
                  <a:moveTo>
                    <a:pt x="6478" y="0"/>
                  </a:moveTo>
                  <a:lnTo>
                    <a:pt x="6478" y="0"/>
                  </a:lnTo>
                  <a:cubicBezTo>
                    <a:pt x="6483" y="0"/>
                    <a:pt x="6486" y="4"/>
                    <a:pt x="6486" y="8"/>
                  </a:cubicBezTo>
                  <a:cubicBezTo>
                    <a:pt x="6486" y="13"/>
                    <a:pt x="6483" y="16"/>
                    <a:pt x="6478" y="16"/>
                  </a:cubicBezTo>
                  <a:lnTo>
                    <a:pt x="6478" y="16"/>
                  </a:lnTo>
                  <a:cubicBezTo>
                    <a:pt x="6473" y="16"/>
                    <a:pt x="6470" y="13"/>
                    <a:pt x="6470" y="8"/>
                  </a:cubicBezTo>
                  <a:cubicBezTo>
                    <a:pt x="6470" y="4"/>
                    <a:pt x="6473" y="0"/>
                    <a:pt x="6478" y="0"/>
                  </a:cubicBezTo>
                  <a:close/>
                  <a:moveTo>
                    <a:pt x="6511" y="0"/>
                  </a:moveTo>
                  <a:lnTo>
                    <a:pt x="6511" y="0"/>
                  </a:lnTo>
                  <a:cubicBezTo>
                    <a:pt x="6516" y="0"/>
                    <a:pt x="6520" y="4"/>
                    <a:pt x="6520" y="8"/>
                  </a:cubicBezTo>
                  <a:cubicBezTo>
                    <a:pt x="6520" y="13"/>
                    <a:pt x="6516" y="16"/>
                    <a:pt x="6511" y="16"/>
                  </a:cubicBezTo>
                  <a:lnTo>
                    <a:pt x="6511" y="16"/>
                  </a:lnTo>
                  <a:cubicBezTo>
                    <a:pt x="6507" y="16"/>
                    <a:pt x="6503" y="13"/>
                    <a:pt x="6503" y="8"/>
                  </a:cubicBezTo>
                  <a:cubicBezTo>
                    <a:pt x="6503" y="4"/>
                    <a:pt x="6507" y="0"/>
                    <a:pt x="6511" y="0"/>
                  </a:cubicBezTo>
                  <a:close/>
                  <a:moveTo>
                    <a:pt x="6545" y="0"/>
                  </a:moveTo>
                  <a:lnTo>
                    <a:pt x="6545" y="0"/>
                  </a:lnTo>
                  <a:cubicBezTo>
                    <a:pt x="6549" y="0"/>
                    <a:pt x="6553" y="4"/>
                    <a:pt x="6553" y="8"/>
                  </a:cubicBezTo>
                  <a:cubicBezTo>
                    <a:pt x="6553" y="13"/>
                    <a:pt x="6549" y="16"/>
                    <a:pt x="6545" y="16"/>
                  </a:cubicBezTo>
                  <a:lnTo>
                    <a:pt x="6545" y="16"/>
                  </a:lnTo>
                  <a:cubicBezTo>
                    <a:pt x="6540" y="16"/>
                    <a:pt x="6536" y="13"/>
                    <a:pt x="6536" y="8"/>
                  </a:cubicBezTo>
                  <a:cubicBezTo>
                    <a:pt x="6536" y="4"/>
                    <a:pt x="6540" y="0"/>
                    <a:pt x="6545" y="0"/>
                  </a:cubicBezTo>
                  <a:close/>
                  <a:moveTo>
                    <a:pt x="6578" y="0"/>
                  </a:moveTo>
                  <a:lnTo>
                    <a:pt x="6578" y="0"/>
                  </a:lnTo>
                  <a:cubicBezTo>
                    <a:pt x="6583" y="0"/>
                    <a:pt x="6586" y="4"/>
                    <a:pt x="6586" y="8"/>
                  </a:cubicBezTo>
                  <a:cubicBezTo>
                    <a:pt x="6586" y="13"/>
                    <a:pt x="6583" y="16"/>
                    <a:pt x="6578" y="16"/>
                  </a:cubicBezTo>
                  <a:lnTo>
                    <a:pt x="6578" y="16"/>
                  </a:lnTo>
                  <a:cubicBezTo>
                    <a:pt x="6573" y="16"/>
                    <a:pt x="6570" y="13"/>
                    <a:pt x="6570" y="8"/>
                  </a:cubicBezTo>
                  <a:cubicBezTo>
                    <a:pt x="6570" y="4"/>
                    <a:pt x="6573" y="0"/>
                    <a:pt x="6578" y="0"/>
                  </a:cubicBezTo>
                  <a:close/>
                  <a:moveTo>
                    <a:pt x="6611" y="0"/>
                  </a:moveTo>
                  <a:lnTo>
                    <a:pt x="6611" y="0"/>
                  </a:lnTo>
                  <a:cubicBezTo>
                    <a:pt x="6616" y="0"/>
                    <a:pt x="6620" y="4"/>
                    <a:pt x="6620" y="8"/>
                  </a:cubicBezTo>
                  <a:cubicBezTo>
                    <a:pt x="6620" y="13"/>
                    <a:pt x="6616" y="16"/>
                    <a:pt x="6611" y="16"/>
                  </a:cubicBezTo>
                  <a:lnTo>
                    <a:pt x="6611" y="16"/>
                  </a:lnTo>
                  <a:cubicBezTo>
                    <a:pt x="6607" y="16"/>
                    <a:pt x="6603" y="13"/>
                    <a:pt x="6603" y="8"/>
                  </a:cubicBezTo>
                  <a:cubicBezTo>
                    <a:pt x="6603" y="4"/>
                    <a:pt x="6607" y="0"/>
                    <a:pt x="6611" y="0"/>
                  </a:cubicBezTo>
                  <a:close/>
                  <a:moveTo>
                    <a:pt x="6645" y="0"/>
                  </a:moveTo>
                  <a:lnTo>
                    <a:pt x="6645" y="0"/>
                  </a:lnTo>
                  <a:cubicBezTo>
                    <a:pt x="6649" y="0"/>
                    <a:pt x="6653" y="4"/>
                    <a:pt x="6653" y="8"/>
                  </a:cubicBezTo>
                  <a:cubicBezTo>
                    <a:pt x="6653" y="13"/>
                    <a:pt x="6649" y="16"/>
                    <a:pt x="6645" y="16"/>
                  </a:cubicBezTo>
                  <a:lnTo>
                    <a:pt x="6645" y="16"/>
                  </a:lnTo>
                  <a:cubicBezTo>
                    <a:pt x="6640" y="16"/>
                    <a:pt x="6636" y="13"/>
                    <a:pt x="6636" y="8"/>
                  </a:cubicBezTo>
                  <a:cubicBezTo>
                    <a:pt x="6636" y="4"/>
                    <a:pt x="6640" y="0"/>
                    <a:pt x="6645" y="0"/>
                  </a:cubicBezTo>
                  <a:close/>
                  <a:moveTo>
                    <a:pt x="6678" y="0"/>
                  </a:moveTo>
                  <a:lnTo>
                    <a:pt x="6678" y="0"/>
                  </a:lnTo>
                  <a:cubicBezTo>
                    <a:pt x="6683" y="0"/>
                    <a:pt x="6686" y="4"/>
                    <a:pt x="6686" y="8"/>
                  </a:cubicBezTo>
                  <a:cubicBezTo>
                    <a:pt x="6686" y="13"/>
                    <a:pt x="6683" y="16"/>
                    <a:pt x="6678" y="16"/>
                  </a:cubicBezTo>
                  <a:lnTo>
                    <a:pt x="6678" y="16"/>
                  </a:lnTo>
                  <a:cubicBezTo>
                    <a:pt x="6673" y="16"/>
                    <a:pt x="6670" y="13"/>
                    <a:pt x="6670" y="8"/>
                  </a:cubicBezTo>
                  <a:cubicBezTo>
                    <a:pt x="6670" y="4"/>
                    <a:pt x="6673" y="0"/>
                    <a:pt x="6678" y="0"/>
                  </a:cubicBezTo>
                  <a:close/>
                  <a:moveTo>
                    <a:pt x="6711" y="0"/>
                  </a:moveTo>
                  <a:lnTo>
                    <a:pt x="6711" y="0"/>
                  </a:lnTo>
                  <a:cubicBezTo>
                    <a:pt x="6716" y="0"/>
                    <a:pt x="6720" y="4"/>
                    <a:pt x="6720" y="8"/>
                  </a:cubicBezTo>
                  <a:cubicBezTo>
                    <a:pt x="6720" y="13"/>
                    <a:pt x="6716" y="16"/>
                    <a:pt x="6711" y="16"/>
                  </a:cubicBezTo>
                  <a:lnTo>
                    <a:pt x="6711" y="16"/>
                  </a:lnTo>
                  <a:cubicBezTo>
                    <a:pt x="6707" y="16"/>
                    <a:pt x="6703" y="13"/>
                    <a:pt x="6703" y="8"/>
                  </a:cubicBezTo>
                  <a:cubicBezTo>
                    <a:pt x="6703" y="4"/>
                    <a:pt x="6707" y="0"/>
                    <a:pt x="6711" y="0"/>
                  </a:cubicBezTo>
                  <a:close/>
                  <a:moveTo>
                    <a:pt x="6745" y="0"/>
                  </a:moveTo>
                  <a:lnTo>
                    <a:pt x="6745" y="0"/>
                  </a:lnTo>
                  <a:cubicBezTo>
                    <a:pt x="6749" y="0"/>
                    <a:pt x="6753" y="4"/>
                    <a:pt x="6753" y="8"/>
                  </a:cubicBezTo>
                  <a:cubicBezTo>
                    <a:pt x="6753" y="13"/>
                    <a:pt x="6749" y="16"/>
                    <a:pt x="6745" y="16"/>
                  </a:cubicBezTo>
                  <a:lnTo>
                    <a:pt x="6745" y="16"/>
                  </a:lnTo>
                  <a:cubicBezTo>
                    <a:pt x="6740" y="16"/>
                    <a:pt x="6736" y="13"/>
                    <a:pt x="6736" y="8"/>
                  </a:cubicBezTo>
                  <a:cubicBezTo>
                    <a:pt x="6736" y="4"/>
                    <a:pt x="6740" y="0"/>
                    <a:pt x="6745" y="0"/>
                  </a:cubicBezTo>
                  <a:close/>
                  <a:moveTo>
                    <a:pt x="6778" y="0"/>
                  </a:moveTo>
                  <a:lnTo>
                    <a:pt x="6778" y="0"/>
                  </a:lnTo>
                  <a:cubicBezTo>
                    <a:pt x="6783" y="0"/>
                    <a:pt x="6786" y="4"/>
                    <a:pt x="6786" y="8"/>
                  </a:cubicBezTo>
                  <a:cubicBezTo>
                    <a:pt x="6786" y="13"/>
                    <a:pt x="6783" y="16"/>
                    <a:pt x="6778" y="16"/>
                  </a:cubicBezTo>
                  <a:lnTo>
                    <a:pt x="6778" y="16"/>
                  </a:lnTo>
                  <a:cubicBezTo>
                    <a:pt x="6773" y="16"/>
                    <a:pt x="6770" y="13"/>
                    <a:pt x="6770" y="8"/>
                  </a:cubicBezTo>
                  <a:cubicBezTo>
                    <a:pt x="6770" y="4"/>
                    <a:pt x="6773" y="0"/>
                    <a:pt x="6778" y="0"/>
                  </a:cubicBezTo>
                  <a:close/>
                  <a:moveTo>
                    <a:pt x="6811" y="0"/>
                  </a:moveTo>
                  <a:lnTo>
                    <a:pt x="6811" y="0"/>
                  </a:lnTo>
                  <a:cubicBezTo>
                    <a:pt x="6816" y="0"/>
                    <a:pt x="6820" y="4"/>
                    <a:pt x="6820" y="8"/>
                  </a:cubicBezTo>
                  <a:cubicBezTo>
                    <a:pt x="6820" y="13"/>
                    <a:pt x="6816" y="16"/>
                    <a:pt x="6811" y="16"/>
                  </a:cubicBezTo>
                  <a:lnTo>
                    <a:pt x="6811" y="16"/>
                  </a:lnTo>
                  <a:cubicBezTo>
                    <a:pt x="6807" y="16"/>
                    <a:pt x="6803" y="13"/>
                    <a:pt x="6803" y="8"/>
                  </a:cubicBezTo>
                  <a:cubicBezTo>
                    <a:pt x="6803" y="4"/>
                    <a:pt x="6807" y="0"/>
                    <a:pt x="6811" y="0"/>
                  </a:cubicBezTo>
                  <a:close/>
                  <a:moveTo>
                    <a:pt x="6845" y="0"/>
                  </a:moveTo>
                  <a:lnTo>
                    <a:pt x="6845" y="0"/>
                  </a:lnTo>
                  <a:cubicBezTo>
                    <a:pt x="6849" y="0"/>
                    <a:pt x="6853" y="4"/>
                    <a:pt x="6853" y="8"/>
                  </a:cubicBezTo>
                  <a:cubicBezTo>
                    <a:pt x="6853" y="13"/>
                    <a:pt x="6849" y="16"/>
                    <a:pt x="6845" y="16"/>
                  </a:cubicBezTo>
                  <a:lnTo>
                    <a:pt x="6845" y="16"/>
                  </a:lnTo>
                  <a:cubicBezTo>
                    <a:pt x="6840" y="16"/>
                    <a:pt x="6836" y="13"/>
                    <a:pt x="6836" y="8"/>
                  </a:cubicBezTo>
                  <a:cubicBezTo>
                    <a:pt x="6836" y="4"/>
                    <a:pt x="6840" y="0"/>
                    <a:pt x="6845" y="0"/>
                  </a:cubicBezTo>
                  <a:close/>
                  <a:moveTo>
                    <a:pt x="6878" y="0"/>
                  </a:moveTo>
                  <a:lnTo>
                    <a:pt x="6878" y="0"/>
                  </a:lnTo>
                  <a:cubicBezTo>
                    <a:pt x="6883" y="0"/>
                    <a:pt x="6886" y="4"/>
                    <a:pt x="6886" y="8"/>
                  </a:cubicBezTo>
                  <a:cubicBezTo>
                    <a:pt x="6886" y="13"/>
                    <a:pt x="6883" y="16"/>
                    <a:pt x="6878" y="16"/>
                  </a:cubicBezTo>
                  <a:lnTo>
                    <a:pt x="6878" y="16"/>
                  </a:lnTo>
                  <a:cubicBezTo>
                    <a:pt x="6874" y="16"/>
                    <a:pt x="6870" y="13"/>
                    <a:pt x="6870" y="8"/>
                  </a:cubicBezTo>
                  <a:cubicBezTo>
                    <a:pt x="6870" y="4"/>
                    <a:pt x="6874" y="0"/>
                    <a:pt x="6878" y="0"/>
                  </a:cubicBezTo>
                  <a:close/>
                  <a:moveTo>
                    <a:pt x="6911" y="0"/>
                  </a:moveTo>
                  <a:lnTo>
                    <a:pt x="6911" y="0"/>
                  </a:lnTo>
                  <a:cubicBezTo>
                    <a:pt x="6916" y="0"/>
                    <a:pt x="6920" y="4"/>
                    <a:pt x="6920" y="8"/>
                  </a:cubicBezTo>
                  <a:cubicBezTo>
                    <a:pt x="6920" y="13"/>
                    <a:pt x="6916" y="16"/>
                    <a:pt x="6911" y="16"/>
                  </a:cubicBezTo>
                  <a:lnTo>
                    <a:pt x="6911" y="16"/>
                  </a:lnTo>
                  <a:cubicBezTo>
                    <a:pt x="6907" y="16"/>
                    <a:pt x="6903" y="13"/>
                    <a:pt x="6903" y="8"/>
                  </a:cubicBezTo>
                  <a:cubicBezTo>
                    <a:pt x="6903" y="4"/>
                    <a:pt x="6907" y="0"/>
                    <a:pt x="6911" y="0"/>
                  </a:cubicBezTo>
                  <a:close/>
                  <a:moveTo>
                    <a:pt x="6945" y="0"/>
                  </a:moveTo>
                  <a:lnTo>
                    <a:pt x="6945" y="0"/>
                  </a:lnTo>
                  <a:cubicBezTo>
                    <a:pt x="6949" y="0"/>
                    <a:pt x="6953" y="4"/>
                    <a:pt x="6953" y="8"/>
                  </a:cubicBezTo>
                  <a:cubicBezTo>
                    <a:pt x="6953" y="13"/>
                    <a:pt x="6949" y="16"/>
                    <a:pt x="6945" y="16"/>
                  </a:cubicBezTo>
                  <a:lnTo>
                    <a:pt x="6945" y="16"/>
                  </a:lnTo>
                  <a:cubicBezTo>
                    <a:pt x="6940" y="16"/>
                    <a:pt x="6936" y="13"/>
                    <a:pt x="6936" y="8"/>
                  </a:cubicBezTo>
                  <a:cubicBezTo>
                    <a:pt x="6936" y="4"/>
                    <a:pt x="6940" y="0"/>
                    <a:pt x="6945" y="0"/>
                  </a:cubicBezTo>
                  <a:close/>
                  <a:moveTo>
                    <a:pt x="6978" y="0"/>
                  </a:moveTo>
                  <a:lnTo>
                    <a:pt x="6978" y="0"/>
                  </a:lnTo>
                  <a:cubicBezTo>
                    <a:pt x="6983" y="0"/>
                    <a:pt x="6987" y="4"/>
                    <a:pt x="6987" y="8"/>
                  </a:cubicBezTo>
                  <a:cubicBezTo>
                    <a:pt x="6987" y="13"/>
                    <a:pt x="6983" y="16"/>
                    <a:pt x="6978" y="16"/>
                  </a:cubicBezTo>
                  <a:lnTo>
                    <a:pt x="6978" y="16"/>
                  </a:lnTo>
                  <a:cubicBezTo>
                    <a:pt x="6974" y="16"/>
                    <a:pt x="6970" y="13"/>
                    <a:pt x="6970" y="8"/>
                  </a:cubicBezTo>
                  <a:cubicBezTo>
                    <a:pt x="6970" y="4"/>
                    <a:pt x="6974" y="0"/>
                    <a:pt x="6978" y="0"/>
                  </a:cubicBezTo>
                  <a:close/>
                  <a:moveTo>
                    <a:pt x="7012" y="0"/>
                  </a:moveTo>
                  <a:lnTo>
                    <a:pt x="7012" y="0"/>
                  </a:lnTo>
                  <a:cubicBezTo>
                    <a:pt x="7016" y="0"/>
                    <a:pt x="7020" y="4"/>
                    <a:pt x="7020" y="8"/>
                  </a:cubicBezTo>
                  <a:cubicBezTo>
                    <a:pt x="7020" y="13"/>
                    <a:pt x="7016" y="16"/>
                    <a:pt x="7012" y="16"/>
                  </a:cubicBezTo>
                  <a:lnTo>
                    <a:pt x="7012" y="16"/>
                  </a:lnTo>
                  <a:cubicBezTo>
                    <a:pt x="7007" y="16"/>
                    <a:pt x="7003" y="13"/>
                    <a:pt x="7003" y="8"/>
                  </a:cubicBezTo>
                  <a:cubicBezTo>
                    <a:pt x="7003" y="4"/>
                    <a:pt x="7007" y="0"/>
                    <a:pt x="7012" y="0"/>
                  </a:cubicBezTo>
                  <a:close/>
                  <a:moveTo>
                    <a:pt x="7045" y="0"/>
                  </a:moveTo>
                  <a:lnTo>
                    <a:pt x="7045" y="0"/>
                  </a:lnTo>
                  <a:cubicBezTo>
                    <a:pt x="7049" y="0"/>
                    <a:pt x="7053" y="4"/>
                    <a:pt x="7053" y="8"/>
                  </a:cubicBezTo>
                  <a:cubicBezTo>
                    <a:pt x="7053" y="13"/>
                    <a:pt x="7049" y="16"/>
                    <a:pt x="7045" y="16"/>
                  </a:cubicBezTo>
                  <a:lnTo>
                    <a:pt x="7045" y="16"/>
                  </a:lnTo>
                  <a:cubicBezTo>
                    <a:pt x="7040" y="16"/>
                    <a:pt x="7037" y="13"/>
                    <a:pt x="7037" y="8"/>
                  </a:cubicBezTo>
                  <a:cubicBezTo>
                    <a:pt x="7037" y="4"/>
                    <a:pt x="7040" y="0"/>
                    <a:pt x="7045" y="0"/>
                  </a:cubicBezTo>
                  <a:close/>
                  <a:moveTo>
                    <a:pt x="7078" y="0"/>
                  </a:moveTo>
                  <a:lnTo>
                    <a:pt x="7078" y="0"/>
                  </a:lnTo>
                  <a:cubicBezTo>
                    <a:pt x="7083" y="0"/>
                    <a:pt x="7087" y="4"/>
                    <a:pt x="7087" y="8"/>
                  </a:cubicBezTo>
                  <a:cubicBezTo>
                    <a:pt x="7087" y="13"/>
                    <a:pt x="7083" y="16"/>
                    <a:pt x="7078" y="16"/>
                  </a:cubicBezTo>
                  <a:lnTo>
                    <a:pt x="7078" y="16"/>
                  </a:lnTo>
                  <a:cubicBezTo>
                    <a:pt x="7074" y="16"/>
                    <a:pt x="7070" y="13"/>
                    <a:pt x="7070" y="8"/>
                  </a:cubicBezTo>
                  <a:cubicBezTo>
                    <a:pt x="7070" y="4"/>
                    <a:pt x="7074" y="0"/>
                    <a:pt x="7078" y="0"/>
                  </a:cubicBezTo>
                  <a:close/>
                  <a:moveTo>
                    <a:pt x="7112" y="0"/>
                  </a:moveTo>
                  <a:lnTo>
                    <a:pt x="7112" y="0"/>
                  </a:lnTo>
                  <a:cubicBezTo>
                    <a:pt x="7116" y="0"/>
                    <a:pt x="7120" y="4"/>
                    <a:pt x="7120" y="8"/>
                  </a:cubicBezTo>
                  <a:cubicBezTo>
                    <a:pt x="7120" y="13"/>
                    <a:pt x="7116" y="16"/>
                    <a:pt x="7112" y="16"/>
                  </a:cubicBezTo>
                  <a:lnTo>
                    <a:pt x="7112" y="16"/>
                  </a:lnTo>
                  <a:cubicBezTo>
                    <a:pt x="7107" y="16"/>
                    <a:pt x="7103" y="13"/>
                    <a:pt x="7103" y="8"/>
                  </a:cubicBezTo>
                  <a:cubicBezTo>
                    <a:pt x="7103" y="4"/>
                    <a:pt x="7107" y="0"/>
                    <a:pt x="7112" y="0"/>
                  </a:cubicBezTo>
                  <a:close/>
                  <a:moveTo>
                    <a:pt x="7145" y="0"/>
                  </a:moveTo>
                  <a:lnTo>
                    <a:pt x="7145" y="0"/>
                  </a:lnTo>
                  <a:cubicBezTo>
                    <a:pt x="7150" y="0"/>
                    <a:pt x="7153" y="4"/>
                    <a:pt x="7153" y="8"/>
                  </a:cubicBezTo>
                  <a:cubicBezTo>
                    <a:pt x="7153" y="13"/>
                    <a:pt x="7150" y="16"/>
                    <a:pt x="7145" y="16"/>
                  </a:cubicBezTo>
                  <a:lnTo>
                    <a:pt x="7145" y="16"/>
                  </a:lnTo>
                  <a:cubicBezTo>
                    <a:pt x="7140" y="16"/>
                    <a:pt x="7137" y="13"/>
                    <a:pt x="7137" y="8"/>
                  </a:cubicBezTo>
                  <a:cubicBezTo>
                    <a:pt x="7137" y="4"/>
                    <a:pt x="7140" y="0"/>
                    <a:pt x="7145" y="0"/>
                  </a:cubicBezTo>
                  <a:close/>
                  <a:moveTo>
                    <a:pt x="7178" y="0"/>
                  </a:moveTo>
                  <a:lnTo>
                    <a:pt x="7178" y="0"/>
                  </a:lnTo>
                  <a:cubicBezTo>
                    <a:pt x="7183" y="0"/>
                    <a:pt x="7187" y="4"/>
                    <a:pt x="7187" y="8"/>
                  </a:cubicBezTo>
                  <a:cubicBezTo>
                    <a:pt x="7187" y="13"/>
                    <a:pt x="7183" y="16"/>
                    <a:pt x="7178" y="16"/>
                  </a:cubicBezTo>
                  <a:lnTo>
                    <a:pt x="7178" y="16"/>
                  </a:lnTo>
                  <a:cubicBezTo>
                    <a:pt x="7174" y="16"/>
                    <a:pt x="7170" y="13"/>
                    <a:pt x="7170" y="8"/>
                  </a:cubicBezTo>
                  <a:cubicBezTo>
                    <a:pt x="7170" y="4"/>
                    <a:pt x="7174" y="0"/>
                    <a:pt x="7178" y="0"/>
                  </a:cubicBezTo>
                  <a:close/>
                  <a:moveTo>
                    <a:pt x="7212" y="0"/>
                  </a:moveTo>
                  <a:lnTo>
                    <a:pt x="7212" y="0"/>
                  </a:lnTo>
                  <a:cubicBezTo>
                    <a:pt x="7216" y="0"/>
                    <a:pt x="7220" y="4"/>
                    <a:pt x="7220" y="8"/>
                  </a:cubicBezTo>
                  <a:cubicBezTo>
                    <a:pt x="7220" y="13"/>
                    <a:pt x="7216" y="16"/>
                    <a:pt x="7212" y="16"/>
                  </a:cubicBezTo>
                  <a:lnTo>
                    <a:pt x="7212" y="16"/>
                  </a:lnTo>
                  <a:cubicBezTo>
                    <a:pt x="7207" y="16"/>
                    <a:pt x="7203" y="13"/>
                    <a:pt x="7203" y="8"/>
                  </a:cubicBezTo>
                  <a:cubicBezTo>
                    <a:pt x="7203" y="4"/>
                    <a:pt x="7207" y="0"/>
                    <a:pt x="7212" y="0"/>
                  </a:cubicBezTo>
                  <a:close/>
                  <a:moveTo>
                    <a:pt x="7245" y="0"/>
                  </a:moveTo>
                  <a:lnTo>
                    <a:pt x="7245" y="0"/>
                  </a:lnTo>
                  <a:cubicBezTo>
                    <a:pt x="7250" y="0"/>
                    <a:pt x="7253" y="4"/>
                    <a:pt x="7253" y="8"/>
                  </a:cubicBezTo>
                  <a:cubicBezTo>
                    <a:pt x="7253" y="13"/>
                    <a:pt x="7250" y="16"/>
                    <a:pt x="7245" y="16"/>
                  </a:cubicBezTo>
                  <a:lnTo>
                    <a:pt x="7245" y="16"/>
                  </a:lnTo>
                  <a:cubicBezTo>
                    <a:pt x="7240" y="16"/>
                    <a:pt x="7237" y="13"/>
                    <a:pt x="7237" y="8"/>
                  </a:cubicBezTo>
                  <a:cubicBezTo>
                    <a:pt x="7237" y="4"/>
                    <a:pt x="7240" y="0"/>
                    <a:pt x="7245" y="0"/>
                  </a:cubicBezTo>
                  <a:close/>
                  <a:moveTo>
                    <a:pt x="7278" y="0"/>
                  </a:moveTo>
                  <a:lnTo>
                    <a:pt x="7278" y="0"/>
                  </a:lnTo>
                  <a:cubicBezTo>
                    <a:pt x="7283" y="0"/>
                    <a:pt x="7287" y="4"/>
                    <a:pt x="7287" y="8"/>
                  </a:cubicBezTo>
                  <a:cubicBezTo>
                    <a:pt x="7287" y="13"/>
                    <a:pt x="7283" y="16"/>
                    <a:pt x="7278" y="16"/>
                  </a:cubicBezTo>
                  <a:lnTo>
                    <a:pt x="7278" y="16"/>
                  </a:lnTo>
                  <a:cubicBezTo>
                    <a:pt x="7274" y="16"/>
                    <a:pt x="7270" y="13"/>
                    <a:pt x="7270" y="8"/>
                  </a:cubicBezTo>
                  <a:cubicBezTo>
                    <a:pt x="7270" y="4"/>
                    <a:pt x="7274" y="0"/>
                    <a:pt x="7278" y="0"/>
                  </a:cubicBezTo>
                  <a:close/>
                  <a:moveTo>
                    <a:pt x="7312" y="0"/>
                  </a:moveTo>
                  <a:lnTo>
                    <a:pt x="7312" y="0"/>
                  </a:lnTo>
                  <a:cubicBezTo>
                    <a:pt x="7316" y="0"/>
                    <a:pt x="7320" y="4"/>
                    <a:pt x="7320" y="8"/>
                  </a:cubicBezTo>
                  <a:cubicBezTo>
                    <a:pt x="7320" y="13"/>
                    <a:pt x="7316" y="16"/>
                    <a:pt x="7312" y="16"/>
                  </a:cubicBezTo>
                  <a:lnTo>
                    <a:pt x="7312" y="16"/>
                  </a:lnTo>
                  <a:cubicBezTo>
                    <a:pt x="7307" y="16"/>
                    <a:pt x="7303" y="13"/>
                    <a:pt x="7303" y="8"/>
                  </a:cubicBezTo>
                  <a:cubicBezTo>
                    <a:pt x="7303" y="4"/>
                    <a:pt x="7307" y="0"/>
                    <a:pt x="7312" y="0"/>
                  </a:cubicBezTo>
                  <a:close/>
                  <a:moveTo>
                    <a:pt x="7345" y="0"/>
                  </a:moveTo>
                  <a:lnTo>
                    <a:pt x="7345" y="0"/>
                  </a:lnTo>
                  <a:cubicBezTo>
                    <a:pt x="7350" y="0"/>
                    <a:pt x="7353" y="4"/>
                    <a:pt x="7353" y="8"/>
                  </a:cubicBezTo>
                  <a:cubicBezTo>
                    <a:pt x="7353" y="13"/>
                    <a:pt x="7350" y="16"/>
                    <a:pt x="7345" y="16"/>
                  </a:cubicBezTo>
                  <a:lnTo>
                    <a:pt x="7345" y="16"/>
                  </a:lnTo>
                  <a:cubicBezTo>
                    <a:pt x="7340" y="16"/>
                    <a:pt x="7337" y="13"/>
                    <a:pt x="7337" y="8"/>
                  </a:cubicBezTo>
                  <a:cubicBezTo>
                    <a:pt x="7337" y="4"/>
                    <a:pt x="7340" y="0"/>
                    <a:pt x="7345" y="0"/>
                  </a:cubicBezTo>
                  <a:close/>
                  <a:moveTo>
                    <a:pt x="7378" y="0"/>
                  </a:moveTo>
                  <a:lnTo>
                    <a:pt x="7378" y="0"/>
                  </a:lnTo>
                  <a:cubicBezTo>
                    <a:pt x="7383" y="0"/>
                    <a:pt x="7387" y="4"/>
                    <a:pt x="7387" y="8"/>
                  </a:cubicBezTo>
                  <a:cubicBezTo>
                    <a:pt x="7387" y="13"/>
                    <a:pt x="7383" y="16"/>
                    <a:pt x="7378" y="16"/>
                  </a:cubicBezTo>
                  <a:lnTo>
                    <a:pt x="7378" y="16"/>
                  </a:lnTo>
                  <a:cubicBezTo>
                    <a:pt x="7374" y="16"/>
                    <a:pt x="7370" y="13"/>
                    <a:pt x="7370" y="8"/>
                  </a:cubicBezTo>
                  <a:cubicBezTo>
                    <a:pt x="7370" y="4"/>
                    <a:pt x="7374" y="0"/>
                    <a:pt x="7378" y="0"/>
                  </a:cubicBezTo>
                  <a:close/>
                  <a:moveTo>
                    <a:pt x="7412" y="0"/>
                  </a:moveTo>
                  <a:lnTo>
                    <a:pt x="7412" y="0"/>
                  </a:lnTo>
                  <a:cubicBezTo>
                    <a:pt x="7416" y="0"/>
                    <a:pt x="7420" y="4"/>
                    <a:pt x="7420" y="8"/>
                  </a:cubicBezTo>
                  <a:cubicBezTo>
                    <a:pt x="7420" y="13"/>
                    <a:pt x="7416" y="16"/>
                    <a:pt x="7412" y="16"/>
                  </a:cubicBezTo>
                  <a:lnTo>
                    <a:pt x="7412" y="16"/>
                  </a:lnTo>
                  <a:cubicBezTo>
                    <a:pt x="7407" y="16"/>
                    <a:pt x="7403" y="13"/>
                    <a:pt x="7403" y="8"/>
                  </a:cubicBezTo>
                  <a:cubicBezTo>
                    <a:pt x="7403" y="4"/>
                    <a:pt x="7407" y="0"/>
                    <a:pt x="7412" y="0"/>
                  </a:cubicBezTo>
                  <a:close/>
                  <a:moveTo>
                    <a:pt x="7445" y="0"/>
                  </a:moveTo>
                  <a:lnTo>
                    <a:pt x="7445" y="0"/>
                  </a:lnTo>
                  <a:cubicBezTo>
                    <a:pt x="7450" y="0"/>
                    <a:pt x="7453" y="4"/>
                    <a:pt x="7453" y="8"/>
                  </a:cubicBezTo>
                  <a:cubicBezTo>
                    <a:pt x="7453" y="13"/>
                    <a:pt x="7450" y="16"/>
                    <a:pt x="7445" y="16"/>
                  </a:cubicBezTo>
                  <a:lnTo>
                    <a:pt x="7445" y="16"/>
                  </a:lnTo>
                  <a:cubicBezTo>
                    <a:pt x="7440" y="16"/>
                    <a:pt x="7437" y="13"/>
                    <a:pt x="7437" y="8"/>
                  </a:cubicBezTo>
                  <a:cubicBezTo>
                    <a:pt x="7437" y="4"/>
                    <a:pt x="7440" y="0"/>
                    <a:pt x="7445" y="0"/>
                  </a:cubicBezTo>
                  <a:close/>
                  <a:moveTo>
                    <a:pt x="7478" y="0"/>
                  </a:moveTo>
                  <a:lnTo>
                    <a:pt x="7478" y="0"/>
                  </a:lnTo>
                  <a:cubicBezTo>
                    <a:pt x="7483" y="0"/>
                    <a:pt x="7487" y="4"/>
                    <a:pt x="7487" y="8"/>
                  </a:cubicBezTo>
                  <a:cubicBezTo>
                    <a:pt x="7487" y="13"/>
                    <a:pt x="7483" y="16"/>
                    <a:pt x="7478" y="16"/>
                  </a:cubicBezTo>
                  <a:lnTo>
                    <a:pt x="7478" y="16"/>
                  </a:lnTo>
                  <a:cubicBezTo>
                    <a:pt x="7474" y="16"/>
                    <a:pt x="7470" y="13"/>
                    <a:pt x="7470" y="8"/>
                  </a:cubicBezTo>
                  <a:cubicBezTo>
                    <a:pt x="7470" y="4"/>
                    <a:pt x="7474" y="0"/>
                    <a:pt x="7478" y="0"/>
                  </a:cubicBezTo>
                  <a:close/>
                  <a:moveTo>
                    <a:pt x="7512" y="0"/>
                  </a:moveTo>
                  <a:lnTo>
                    <a:pt x="7512" y="0"/>
                  </a:lnTo>
                  <a:cubicBezTo>
                    <a:pt x="7516" y="0"/>
                    <a:pt x="7520" y="4"/>
                    <a:pt x="7520" y="8"/>
                  </a:cubicBezTo>
                  <a:cubicBezTo>
                    <a:pt x="7520" y="13"/>
                    <a:pt x="7516" y="16"/>
                    <a:pt x="7512" y="16"/>
                  </a:cubicBezTo>
                  <a:lnTo>
                    <a:pt x="7512" y="16"/>
                  </a:lnTo>
                  <a:cubicBezTo>
                    <a:pt x="7507" y="16"/>
                    <a:pt x="7503" y="13"/>
                    <a:pt x="7503" y="8"/>
                  </a:cubicBezTo>
                  <a:cubicBezTo>
                    <a:pt x="7503" y="4"/>
                    <a:pt x="7507" y="0"/>
                    <a:pt x="7512" y="0"/>
                  </a:cubicBezTo>
                  <a:close/>
                  <a:moveTo>
                    <a:pt x="7545" y="0"/>
                  </a:moveTo>
                  <a:lnTo>
                    <a:pt x="7545" y="0"/>
                  </a:lnTo>
                  <a:cubicBezTo>
                    <a:pt x="7550" y="0"/>
                    <a:pt x="7554" y="4"/>
                    <a:pt x="7554" y="8"/>
                  </a:cubicBezTo>
                  <a:cubicBezTo>
                    <a:pt x="7554" y="13"/>
                    <a:pt x="7550" y="16"/>
                    <a:pt x="7545" y="16"/>
                  </a:cubicBezTo>
                  <a:lnTo>
                    <a:pt x="7545" y="16"/>
                  </a:lnTo>
                  <a:cubicBezTo>
                    <a:pt x="7541" y="16"/>
                    <a:pt x="7537" y="13"/>
                    <a:pt x="7537" y="8"/>
                  </a:cubicBezTo>
                  <a:cubicBezTo>
                    <a:pt x="7537" y="4"/>
                    <a:pt x="7541" y="0"/>
                    <a:pt x="7545" y="0"/>
                  </a:cubicBezTo>
                  <a:close/>
                  <a:moveTo>
                    <a:pt x="7579" y="0"/>
                  </a:moveTo>
                  <a:lnTo>
                    <a:pt x="7579" y="0"/>
                  </a:lnTo>
                  <a:cubicBezTo>
                    <a:pt x="7583" y="0"/>
                    <a:pt x="7587" y="4"/>
                    <a:pt x="7587" y="8"/>
                  </a:cubicBezTo>
                  <a:cubicBezTo>
                    <a:pt x="7587" y="13"/>
                    <a:pt x="7583" y="16"/>
                    <a:pt x="7579" y="16"/>
                  </a:cubicBezTo>
                  <a:lnTo>
                    <a:pt x="7579" y="16"/>
                  </a:lnTo>
                  <a:cubicBezTo>
                    <a:pt x="7574" y="16"/>
                    <a:pt x="7570" y="13"/>
                    <a:pt x="7570" y="8"/>
                  </a:cubicBezTo>
                  <a:cubicBezTo>
                    <a:pt x="7570" y="4"/>
                    <a:pt x="7574" y="0"/>
                    <a:pt x="7579" y="0"/>
                  </a:cubicBezTo>
                  <a:close/>
                  <a:moveTo>
                    <a:pt x="7612" y="0"/>
                  </a:moveTo>
                  <a:lnTo>
                    <a:pt x="7612" y="0"/>
                  </a:lnTo>
                  <a:cubicBezTo>
                    <a:pt x="7616" y="0"/>
                    <a:pt x="7620" y="4"/>
                    <a:pt x="7620" y="8"/>
                  </a:cubicBezTo>
                  <a:cubicBezTo>
                    <a:pt x="7620" y="13"/>
                    <a:pt x="7616" y="16"/>
                    <a:pt x="7612" y="16"/>
                  </a:cubicBezTo>
                  <a:lnTo>
                    <a:pt x="7612" y="16"/>
                  </a:lnTo>
                  <a:cubicBezTo>
                    <a:pt x="7607" y="16"/>
                    <a:pt x="7604" y="13"/>
                    <a:pt x="7604" y="8"/>
                  </a:cubicBezTo>
                  <a:cubicBezTo>
                    <a:pt x="7604" y="4"/>
                    <a:pt x="7607" y="0"/>
                    <a:pt x="7612" y="0"/>
                  </a:cubicBezTo>
                  <a:close/>
                  <a:moveTo>
                    <a:pt x="7645" y="0"/>
                  </a:moveTo>
                  <a:lnTo>
                    <a:pt x="7645" y="0"/>
                  </a:lnTo>
                  <a:cubicBezTo>
                    <a:pt x="7650" y="0"/>
                    <a:pt x="7654" y="4"/>
                    <a:pt x="7654" y="8"/>
                  </a:cubicBezTo>
                  <a:cubicBezTo>
                    <a:pt x="7654" y="13"/>
                    <a:pt x="7650" y="16"/>
                    <a:pt x="7645" y="16"/>
                  </a:cubicBezTo>
                  <a:lnTo>
                    <a:pt x="7645" y="16"/>
                  </a:lnTo>
                  <a:cubicBezTo>
                    <a:pt x="7641" y="16"/>
                    <a:pt x="7637" y="13"/>
                    <a:pt x="7637" y="8"/>
                  </a:cubicBezTo>
                  <a:cubicBezTo>
                    <a:pt x="7637" y="4"/>
                    <a:pt x="7641" y="0"/>
                    <a:pt x="7645" y="0"/>
                  </a:cubicBezTo>
                  <a:close/>
                  <a:moveTo>
                    <a:pt x="7679" y="0"/>
                  </a:moveTo>
                  <a:lnTo>
                    <a:pt x="7679" y="0"/>
                  </a:lnTo>
                  <a:cubicBezTo>
                    <a:pt x="7683" y="0"/>
                    <a:pt x="7687" y="4"/>
                    <a:pt x="7687" y="8"/>
                  </a:cubicBezTo>
                  <a:cubicBezTo>
                    <a:pt x="7687" y="13"/>
                    <a:pt x="7683" y="16"/>
                    <a:pt x="7679" y="16"/>
                  </a:cubicBezTo>
                  <a:lnTo>
                    <a:pt x="7679" y="16"/>
                  </a:lnTo>
                  <a:cubicBezTo>
                    <a:pt x="7674" y="16"/>
                    <a:pt x="7670" y="13"/>
                    <a:pt x="7670" y="8"/>
                  </a:cubicBezTo>
                  <a:cubicBezTo>
                    <a:pt x="7670" y="4"/>
                    <a:pt x="7674" y="0"/>
                    <a:pt x="7679" y="0"/>
                  </a:cubicBezTo>
                  <a:close/>
                  <a:moveTo>
                    <a:pt x="7712" y="0"/>
                  </a:moveTo>
                  <a:lnTo>
                    <a:pt x="7712" y="0"/>
                  </a:lnTo>
                  <a:cubicBezTo>
                    <a:pt x="7717" y="0"/>
                    <a:pt x="7720" y="4"/>
                    <a:pt x="7720" y="8"/>
                  </a:cubicBezTo>
                  <a:cubicBezTo>
                    <a:pt x="7720" y="13"/>
                    <a:pt x="7717" y="16"/>
                    <a:pt x="7712" y="16"/>
                  </a:cubicBezTo>
                  <a:lnTo>
                    <a:pt x="7712" y="16"/>
                  </a:lnTo>
                  <a:cubicBezTo>
                    <a:pt x="7707" y="16"/>
                    <a:pt x="7704" y="13"/>
                    <a:pt x="7704" y="8"/>
                  </a:cubicBezTo>
                  <a:cubicBezTo>
                    <a:pt x="7704" y="4"/>
                    <a:pt x="7707" y="0"/>
                    <a:pt x="7712" y="0"/>
                  </a:cubicBezTo>
                  <a:close/>
                  <a:moveTo>
                    <a:pt x="7745" y="0"/>
                  </a:moveTo>
                  <a:lnTo>
                    <a:pt x="7745" y="0"/>
                  </a:lnTo>
                  <a:cubicBezTo>
                    <a:pt x="7750" y="0"/>
                    <a:pt x="7754" y="4"/>
                    <a:pt x="7754" y="8"/>
                  </a:cubicBezTo>
                  <a:cubicBezTo>
                    <a:pt x="7754" y="13"/>
                    <a:pt x="7750" y="16"/>
                    <a:pt x="7745" y="16"/>
                  </a:cubicBezTo>
                  <a:lnTo>
                    <a:pt x="7745" y="16"/>
                  </a:lnTo>
                  <a:cubicBezTo>
                    <a:pt x="7741" y="16"/>
                    <a:pt x="7737" y="13"/>
                    <a:pt x="7737" y="8"/>
                  </a:cubicBezTo>
                  <a:cubicBezTo>
                    <a:pt x="7737" y="4"/>
                    <a:pt x="7741" y="0"/>
                    <a:pt x="7745" y="0"/>
                  </a:cubicBezTo>
                  <a:close/>
                  <a:moveTo>
                    <a:pt x="7779" y="0"/>
                  </a:moveTo>
                  <a:lnTo>
                    <a:pt x="7779" y="0"/>
                  </a:lnTo>
                  <a:cubicBezTo>
                    <a:pt x="7783" y="0"/>
                    <a:pt x="7787" y="4"/>
                    <a:pt x="7787" y="8"/>
                  </a:cubicBezTo>
                  <a:cubicBezTo>
                    <a:pt x="7787" y="13"/>
                    <a:pt x="7783" y="16"/>
                    <a:pt x="7779" y="16"/>
                  </a:cubicBezTo>
                  <a:lnTo>
                    <a:pt x="7779" y="16"/>
                  </a:lnTo>
                  <a:cubicBezTo>
                    <a:pt x="7774" y="16"/>
                    <a:pt x="7770" y="13"/>
                    <a:pt x="7770" y="8"/>
                  </a:cubicBezTo>
                  <a:cubicBezTo>
                    <a:pt x="7770" y="4"/>
                    <a:pt x="7774" y="0"/>
                    <a:pt x="7779" y="0"/>
                  </a:cubicBezTo>
                  <a:close/>
                  <a:moveTo>
                    <a:pt x="7812" y="0"/>
                  </a:moveTo>
                  <a:lnTo>
                    <a:pt x="7812" y="0"/>
                  </a:lnTo>
                  <a:cubicBezTo>
                    <a:pt x="7817" y="0"/>
                    <a:pt x="7820" y="4"/>
                    <a:pt x="7820" y="8"/>
                  </a:cubicBezTo>
                  <a:cubicBezTo>
                    <a:pt x="7820" y="13"/>
                    <a:pt x="7817" y="16"/>
                    <a:pt x="7812" y="16"/>
                  </a:cubicBezTo>
                  <a:lnTo>
                    <a:pt x="7812" y="16"/>
                  </a:lnTo>
                  <a:cubicBezTo>
                    <a:pt x="7807" y="16"/>
                    <a:pt x="7804" y="13"/>
                    <a:pt x="7804" y="8"/>
                  </a:cubicBezTo>
                  <a:cubicBezTo>
                    <a:pt x="7804" y="4"/>
                    <a:pt x="7807" y="0"/>
                    <a:pt x="7812" y="0"/>
                  </a:cubicBezTo>
                  <a:close/>
                  <a:moveTo>
                    <a:pt x="7845" y="0"/>
                  </a:moveTo>
                  <a:lnTo>
                    <a:pt x="7845" y="0"/>
                  </a:lnTo>
                  <a:cubicBezTo>
                    <a:pt x="7850" y="0"/>
                    <a:pt x="7854" y="4"/>
                    <a:pt x="7854" y="8"/>
                  </a:cubicBezTo>
                  <a:cubicBezTo>
                    <a:pt x="7854" y="13"/>
                    <a:pt x="7850" y="16"/>
                    <a:pt x="7845" y="16"/>
                  </a:cubicBezTo>
                  <a:lnTo>
                    <a:pt x="7845" y="16"/>
                  </a:lnTo>
                  <a:cubicBezTo>
                    <a:pt x="7841" y="16"/>
                    <a:pt x="7837" y="13"/>
                    <a:pt x="7837" y="8"/>
                  </a:cubicBezTo>
                  <a:cubicBezTo>
                    <a:pt x="7837" y="4"/>
                    <a:pt x="7841" y="0"/>
                    <a:pt x="7845" y="0"/>
                  </a:cubicBezTo>
                  <a:close/>
                  <a:moveTo>
                    <a:pt x="7879" y="0"/>
                  </a:moveTo>
                  <a:lnTo>
                    <a:pt x="7879" y="0"/>
                  </a:lnTo>
                  <a:cubicBezTo>
                    <a:pt x="7883" y="0"/>
                    <a:pt x="7887" y="4"/>
                    <a:pt x="7887" y="8"/>
                  </a:cubicBezTo>
                  <a:cubicBezTo>
                    <a:pt x="7887" y="13"/>
                    <a:pt x="7883" y="16"/>
                    <a:pt x="7879" y="16"/>
                  </a:cubicBezTo>
                  <a:lnTo>
                    <a:pt x="7879" y="16"/>
                  </a:lnTo>
                  <a:cubicBezTo>
                    <a:pt x="7874" y="16"/>
                    <a:pt x="7870" y="13"/>
                    <a:pt x="7870" y="8"/>
                  </a:cubicBezTo>
                  <a:cubicBezTo>
                    <a:pt x="7870" y="4"/>
                    <a:pt x="7874" y="0"/>
                    <a:pt x="7879" y="0"/>
                  </a:cubicBezTo>
                  <a:close/>
                  <a:moveTo>
                    <a:pt x="7912" y="0"/>
                  </a:moveTo>
                  <a:lnTo>
                    <a:pt x="7912" y="0"/>
                  </a:lnTo>
                  <a:cubicBezTo>
                    <a:pt x="7917" y="0"/>
                    <a:pt x="7920" y="4"/>
                    <a:pt x="7920" y="8"/>
                  </a:cubicBezTo>
                  <a:cubicBezTo>
                    <a:pt x="7920" y="13"/>
                    <a:pt x="7917" y="16"/>
                    <a:pt x="7912" y="16"/>
                  </a:cubicBezTo>
                  <a:lnTo>
                    <a:pt x="7912" y="16"/>
                  </a:lnTo>
                  <a:cubicBezTo>
                    <a:pt x="7907" y="16"/>
                    <a:pt x="7904" y="13"/>
                    <a:pt x="7904" y="8"/>
                  </a:cubicBezTo>
                  <a:cubicBezTo>
                    <a:pt x="7904" y="4"/>
                    <a:pt x="7907" y="0"/>
                    <a:pt x="7912" y="0"/>
                  </a:cubicBezTo>
                  <a:close/>
                  <a:moveTo>
                    <a:pt x="7945" y="0"/>
                  </a:moveTo>
                  <a:lnTo>
                    <a:pt x="7945" y="0"/>
                  </a:lnTo>
                  <a:cubicBezTo>
                    <a:pt x="7950" y="0"/>
                    <a:pt x="7954" y="4"/>
                    <a:pt x="7954" y="8"/>
                  </a:cubicBezTo>
                  <a:cubicBezTo>
                    <a:pt x="7954" y="13"/>
                    <a:pt x="7950" y="16"/>
                    <a:pt x="7945" y="16"/>
                  </a:cubicBezTo>
                  <a:lnTo>
                    <a:pt x="7945" y="16"/>
                  </a:lnTo>
                  <a:cubicBezTo>
                    <a:pt x="7941" y="16"/>
                    <a:pt x="7937" y="13"/>
                    <a:pt x="7937" y="8"/>
                  </a:cubicBezTo>
                  <a:cubicBezTo>
                    <a:pt x="7937" y="4"/>
                    <a:pt x="7941" y="0"/>
                    <a:pt x="7945" y="0"/>
                  </a:cubicBezTo>
                  <a:close/>
                  <a:moveTo>
                    <a:pt x="7979" y="0"/>
                  </a:moveTo>
                  <a:lnTo>
                    <a:pt x="7979" y="0"/>
                  </a:lnTo>
                  <a:cubicBezTo>
                    <a:pt x="7983" y="0"/>
                    <a:pt x="7987" y="4"/>
                    <a:pt x="7987" y="8"/>
                  </a:cubicBezTo>
                  <a:cubicBezTo>
                    <a:pt x="7987" y="13"/>
                    <a:pt x="7983" y="16"/>
                    <a:pt x="7979" y="16"/>
                  </a:cubicBezTo>
                  <a:lnTo>
                    <a:pt x="7979" y="16"/>
                  </a:lnTo>
                  <a:cubicBezTo>
                    <a:pt x="7974" y="16"/>
                    <a:pt x="7970" y="13"/>
                    <a:pt x="7970" y="8"/>
                  </a:cubicBezTo>
                  <a:cubicBezTo>
                    <a:pt x="7970" y="4"/>
                    <a:pt x="7974" y="0"/>
                    <a:pt x="7979" y="0"/>
                  </a:cubicBezTo>
                  <a:close/>
                  <a:moveTo>
                    <a:pt x="8012" y="0"/>
                  </a:moveTo>
                  <a:lnTo>
                    <a:pt x="8012" y="0"/>
                  </a:lnTo>
                  <a:cubicBezTo>
                    <a:pt x="8017" y="0"/>
                    <a:pt x="8020" y="4"/>
                    <a:pt x="8020" y="8"/>
                  </a:cubicBezTo>
                  <a:cubicBezTo>
                    <a:pt x="8020" y="13"/>
                    <a:pt x="8017" y="16"/>
                    <a:pt x="8012" y="16"/>
                  </a:cubicBezTo>
                  <a:lnTo>
                    <a:pt x="8012" y="16"/>
                  </a:lnTo>
                  <a:cubicBezTo>
                    <a:pt x="8007" y="16"/>
                    <a:pt x="8004" y="13"/>
                    <a:pt x="8004" y="8"/>
                  </a:cubicBezTo>
                  <a:cubicBezTo>
                    <a:pt x="8004" y="4"/>
                    <a:pt x="8007" y="0"/>
                    <a:pt x="8012" y="0"/>
                  </a:cubicBezTo>
                  <a:close/>
                  <a:moveTo>
                    <a:pt x="8045" y="0"/>
                  </a:moveTo>
                  <a:lnTo>
                    <a:pt x="8045" y="0"/>
                  </a:lnTo>
                  <a:cubicBezTo>
                    <a:pt x="8050" y="0"/>
                    <a:pt x="8054" y="4"/>
                    <a:pt x="8054" y="8"/>
                  </a:cubicBezTo>
                  <a:cubicBezTo>
                    <a:pt x="8054" y="13"/>
                    <a:pt x="8050" y="16"/>
                    <a:pt x="8045" y="16"/>
                  </a:cubicBezTo>
                  <a:lnTo>
                    <a:pt x="8045" y="16"/>
                  </a:lnTo>
                  <a:cubicBezTo>
                    <a:pt x="8041" y="16"/>
                    <a:pt x="8037" y="13"/>
                    <a:pt x="8037" y="8"/>
                  </a:cubicBezTo>
                  <a:cubicBezTo>
                    <a:pt x="8037" y="4"/>
                    <a:pt x="8041" y="0"/>
                    <a:pt x="8045" y="0"/>
                  </a:cubicBezTo>
                  <a:close/>
                  <a:moveTo>
                    <a:pt x="8079" y="0"/>
                  </a:moveTo>
                  <a:lnTo>
                    <a:pt x="8079" y="0"/>
                  </a:lnTo>
                  <a:cubicBezTo>
                    <a:pt x="8083" y="0"/>
                    <a:pt x="8087" y="4"/>
                    <a:pt x="8087" y="8"/>
                  </a:cubicBezTo>
                  <a:cubicBezTo>
                    <a:pt x="8087" y="13"/>
                    <a:pt x="8083" y="16"/>
                    <a:pt x="8079" y="16"/>
                  </a:cubicBezTo>
                  <a:lnTo>
                    <a:pt x="8079" y="16"/>
                  </a:lnTo>
                  <a:cubicBezTo>
                    <a:pt x="8074" y="16"/>
                    <a:pt x="8070" y="13"/>
                    <a:pt x="8070" y="8"/>
                  </a:cubicBezTo>
                  <a:cubicBezTo>
                    <a:pt x="8070" y="4"/>
                    <a:pt x="8074" y="0"/>
                    <a:pt x="8079" y="0"/>
                  </a:cubicBezTo>
                  <a:close/>
                  <a:moveTo>
                    <a:pt x="8112" y="0"/>
                  </a:moveTo>
                  <a:lnTo>
                    <a:pt x="8112" y="0"/>
                  </a:lnTo>
                  <a:cubicBezTo>
                    <a:pt x="8117" y="0"/>
                    <a:pt x="8120" y="4"/>
                    <a:pt x="8120" y="8"/>
                  </a:cubicBezTo>
                  <a:cubicBezTo>
                    <a:pt x="8120" y="13"/>
                    <a:pt x="8117" y="16"/>
                    <a:pt x="8112" y="16"/>
                  </a:cubicBezTo>
                  <a:lnTo>
                    <a:pt x="8112" y="16"/>
                  </a:lnTo>
                  <a:cubicBezTo>
                    <a:pt x="8108" y="16"/>
                    <a:pt x="8104" y="13"/>
                    <a:pt x="8104" y="8"/>
                  </a:cubicBezTo>
                  <a:cubicBezTo>
                    <a:pt x="8104" y="4"/>
                    <a:pt x="8108" y="0"/>
                    <a:pt x="8112" y="0"/>
                  </a:cubicBezTo>
                  <a:close/>
                  <a:moveTo>
                    <a:pt x="8145" y="0"/>
                  </a:moveTo>
                  <a:lnTo>
                    <a:pt x="8145" y="0"/>
                  </a:lnTo>
                  <a:cubicBezTo>
                    <a:pt x="8150" y="0"/>
                    <a:pt x="8154" y="4"/>
                    <a:pt x="8154" y="8"/>
                  </a:cubicBezTo>
                  <a:cubicBezTo>
                    <a:pt x="8154" y="13"/>
                    <a:pt x="8150" y="16"/>
                    <a:pt x="8145" y="16"/>
                  </a:cubicBezTo>
                  <a:lnTo>
                    <a:pt x="8145" y="16"/>
                  </a:lnTo>
                  <a:cubicBezTo>
                    <a:pt x="8141" y="16"/>
                    <a:pt x="8137" y="13"/>
                    <a:pt x="8137" y="8"/>
                  </a:cubicBezTo>
                  <a:cubicBezTo>
                    <a:pt x="8137" y="4"/>
                    <a:pt x="8141" y="0"/>
                    <a:pt x="8145" y="0"/>
                  </a:cubicBezTo>
                  <a:close/>
                  <a:moveTo>
                    <a:pt x="8179" y="0"/>
                  </a:moveTo>
                  <a:lnTo>
                    <a:pt x="8179" y="0"/>
                  </a:lnTo>
                  <a:cubicBezTo>
                    <a:pt x="8183" y="0"/>
                    <a:pt x="8187" y="4"/>
                    <a:pt x="8187" y="8"/>
                  </a:cubicBezTo>
                  <a:cubicBezTo>
                    <a:pt x="8187" y="13"/>
                    <a:pt x="8183" y="16"/>
                    <a:pt x="8179" y="16"/>
                  </a:cubicBezTo>
                  <a:lnTo>
                    <a:pt x="8179" y="16"/>
                  </a:lnTo>
                  <a:cubicBezTo>
                    <a:pt x="8174" y="16"/>
                    <a:pt x="8170" y="13"/>
                    <a:pt x="8170" y="8"/>
                  </a:cubicBezTo>
                  <a:cubicBezTo>
                    <a:pt x="8170" y="4"/>
                    <a:pt x="8174" y="0"/>
                    <a:pt x="8179" y="0"/>
                  </a:cubicBezTo>
                  <a:close/>
                  <a:moveTo>
                    <a:pt x="8212" y="0"/>
                  </a:moveTo>
                  <a:lnTo>
                    <a:pt x="8212" y="0"/>
                  </a:lnTo>
                  <a:cubicBezTo>
                    <a:pt x="8217" y="0"/>
                    <a:pt x="8221" y="4"/>
                    <a:pt x="8221" y="8"/>
                  </a:cubicBezTo>
                  <a:cubicBezTo>
                    <a:pt x="8221" y="13"/>
                    <a:pt x="8217" y="16"/>
                    <a:pt x="8212" y="16"/>
                  </a:cubicBezTo>
                  <a:lnTo>
                    <a:pt x="8212" y="16"/>
                  </a:lnTo>
                  <a:cubicBezTo>
                    <a:pt x="8208" y="16"/>
                    <a:pt x="8204" y="13"/>
                    <a:pt x="8204" y="8"/>
                  </a:cubicBezTo>
                  <a:cubicBezTo>
                    <a:pt x="8204" y="4"/>
                    <a:pt x="8208" y="0"/>
                    <a:pt x="8212" y="0"/>
                  </a:cubicBezTo>
                  <a:close/>
                  <a:moveTo>
                    <a:pt x="8246" y="0"/>
                  </a:moveTo>
                  <a:lnTo>
                    <a:pt x="8246" y="0"/>
                  </a:lnTo>
                  <a:cubicBezTo>
                    <a:pt x="8250" y="0"/>
                    <a:pt x="8254" y="4"/>
                    <a:pt x="8254" y="8"/>
                  </a:cubicBezTo>
                  <a:cubicBezTo>
                    <a:pt x="8254" y="13"/>
                    <a:pt x="8250" y="16"/>
                    <a:pt x="8246" y="16"/>
                  </a:cubicBezTo>
                  <a:lnTo>
                    <a:pt x="8246" y="16"/>
                  </a:lnTo>
                  <a:cubicBezTo>
                    <a:pt x="8241" y="16"/>
                    <a:pt x="8237" y="13"/>
                    <a:pt x="8237" y="8"/>
                  </a:cubicBezTo>
                  <a:cubicBezTo>
                    <a:pt x="8237" y="4"/>
                    <a:pt x="8241" y="0"/>
                    <a:pt x="8246" y="0"/>
                  </a:cubicBezTo>
                  <a:close/>
                  <a:moveTo>
                    <a:pt x="8279" y="0"/>
                  </a:moveTo>
                  <a:lnTo>
                    <a:pt x="8279" y="0"/>
                  </a:lnTo>
                  <a:cubicBezTo>
                    <a:pt x="8284" y="0"/>
                    <a:pt x="8287" y="4"/>
                    <a:pt x="8287" y="8"/>
                  </a:cubicBezTo>
                  <a:cubicBezTo>
                    <a:pt x="8287" y="13"/>
                    <a:pt x="8284" y="16"/>
                    <a:pt x="8279" y="16"/>
                  </a:cubicBezTo>
                  <a:lnTo>
                    <a:pt x="8279" y="16"/>
                  </a:lnTo>
                  <a:cubicBezTo>
                    <a:pt x="8274" y="16"/>
                    <a:pt x="8271" y="13"/>
                    <a:pt x="8271" y="8"/>
                  </a:cubicBezTo>
                  <a:cubicBezTo>
                    <a:pt x="8271" y="4"/>
                    <a:pt x="8274" y="0"/>
                    <a:pt x="8279" y="0"/>
                  </a:cubicBezTo>
                  <a:close/>
                  <a:moveTo>
                    <a:pt x="8312" y="0"/>
                  </a:moveTo>
                  <a:lnTo>
                    <a:pt x="8312" y="0"/>
                  </a:lnTo>
                  <a:cubicBezTo>
                    <a:pt x="8317" y="0"/>
                    <a:pt x="8321" y="4"/>
                    <a:pt x="8321" y="8"/>
                  </a:cubicBezTo>
                  <a:cubicBezTo>
                    <a:pt x="8321" y="13"/>
                    <a:pt x="8317" y="16"/>
                    <a:pt x="8312" y="16"/>
                  </a:cubicBezTo>
                  <a:lnTo>
                    <a:pt x="8312" y="16"/>
                  </a:lnTo>
                  <a:cubicBezTo>
                    <a:pt x="8308" y="16"/>
                    <a:pt x="8304" y="13"/>
                    <a:pt x="8304" y="8"/>
                  </a:cubicBezTo>
                  <a:cubicBezTo>
                    <a:pt x="8304" y="4"/>
                    <a:pt x="8308" y="0"/>
                    <a:pt x="8312" y="0"/>
                  </a:cubicBezTo>
                  <a:close/>
                  <a:moveTo>
                    <a:pt x="8346" y="0"/>
                  </a:moveTo>
                  <a:lnTo>
                    <a:pt x="8346" y="0"/>
                  </a:lnTo>
                  <a:cubicBezTo>
                    <a:pt x="8350" y="0"/>
                    <a:pt x="8354" y="4"/>
                    <a:pt x="8354" y="8"/>
                  </a:cubicBezTo>
                  <a:cubicBezTo>
                    <a:pt x="8354" y="13"/>
                    <a:pt x="8350" y="16"/>
                    <a:pt x="8346" y="16"/>
                  </a:cubicBezTo>
                  <a:lnTo>
                    <a:pt x="8346" y="16"/>
                  </a:lnTo>
                  <a:cubicBezTo>
                    <a:pt x="8341" y="16"/>
                    <a:pt x="8337" y="13"/>
                    <a:pt x="8337" y="8"/>
                  </a:cubicBezTo>
                  <a:cubicBezTo>
                    <a:pt x="8337" y="4"/>
                    <a:pt x="8341" y="0"/>
                    <a:pt x="8346" y="0"/>
                  </a:cubicBezTo>
                  <a:close/>
                  <a:moveTo>
                    <a:pt x="8379" y="0"/>
                  </a:moveTo>
                  <a:lnTo>
                    <a:pt x="8379" y="0"/>
                  </a:lnTo>
                  <a:cubicBezTo>
                    <a:pt x="8384" y="0"/>
                    <a:pt x="8387" y="4"/>
                    <a:pt x="8387" y="8"/>
                  </a:cubicBezTo>
                  <a:cubicBezTo>
                    <a:pt x="8387" y="13"/>
                    <a:pt x="8384" y="16"/>
                    <a:pt x="8379" y="16"/>
                  </a:cubicBezTo>
                  <a:lnTo>
                    <a:pt x="8379" y="16"/>
                  </a:lnTo>
                  <a:cubicBezTo>
                    <a:pt x="8374" y="16"/>
                    <a:pt x="8371" y="13"/>
                    <a:pt x="8371" y="8"/>
                  </a:cubicBezTo>
                  <a:cubicBezTo>
                    <a:pt x="8371" y="4"/>
                    <a:pt x="8374" y="0"/>
                    <a:pt x="8379" y="0"/>
                  </a:cubicBezTo>
                  <a:close/>
                  <a:moveTo>
                    <a:pt x="8412" y="0"/>
                  </a:moveTo>
                  <a:lnTo>
                    <a:pt x="8412" y="0"/>
                  </a:lnTo>
                  <a:cubicBezTo>
                    <a:pt x="8417" y="0"/>
                    <a:pt x="8421" y="4"/>
                    <a:pt x="8421" y="8"/>
                  </a:cubicBezTo>
                  <a:cubicBezTo>
                    <a:pt x="8421" y="13"/>
                    <a:pt x="8417" y="16"/>
                    <a:pt x="8412" y="16"/>
                  </a:cubicBezTo>
                  <a:lnTo>
                    <a:pt x="8412" y="16"/>
                  </a:lnTo>
                  <a:cubicBezTo>
                    <a:pt x="8408" y="16"/>
                    <a:pt x="8404" y="13"/>
                    <a:pt x="8404" y="8"/>
                  </a:cubicBezTo>
                  <a:cubicBezTo>
                    <a:pt x="8404" y="4"/>
                    <a:pt x="8408" y="0"/>
                    <a:pt x="8412" y="0"/>
                  </a:cubicBezTo>
                  <a:close/>
                  <a:moveTo>
                    <a:pt x="8446" y="0"/>
                  </a:moveTo>
                  <a:lnTo>
                    <a:pt x="8446" y="0"/>
                  </a:lnTo>
                  <a:cubicBezTo>
                    <a:pt x="8450" y="0"/>
                    <a:pt x="8454" y="4"/>
                    <a:pt x="8454" y="8"/>
                  </a:cubicBezTo>
                  <a:cubicBezTo>
                    <a:pt x="8454" y="13"/>
                    <a:pt x="8450" y="16"/>
                    <a:pt x="8446" y="16"/>
                  </a:cubicBezTo>
                  <a:lnTo>
                    <a:pt x="8446" y="16"/>
                  </a:lnTo>
                  <a:cubicBezTo>
                    <a:pt x="8441" y="16"/>
                    <a:pt x="8437" y="13"/>
                    <a:pt x="8437" y="8"/>
                  </a:cubicBezTo>
                  <a:cubicBezTo>
                    <a:pt x="8437" y="4"/>
                    <a:pt x="8441" y="0"/>
                    <a:pt x="8446" y="0"/>
                  </a:cubicBezTo>
                  <a:close/>
                  <a:moveTo>
                    <a:pt x="8479" y="0"/>
                  </a:moveTo>
                  <a:lnTo>
                    <a:pt x="8479" y="0"/>
                  </a:lnTo>
                  <a:cubicBezTo>
                    <a:pt x="8484" y="0"/>
                    <a:pt x="8487" y="4"/>
                    <a:pt x="8487" y="8"/>
                  </a:cubicBezTo>
                  <a:cubicBezTo>
                    <a:pt x="8487" y="13"/>
                    <a:pt x="8484" y="16"/>
                    <a:pt x="8479" y="16"/>
                  </a:cubicBezTo>
                  <a:lnTo>
                    <a:pt x="8479" y="16"/>
                  </a:lnTo>
                  <a:cubicBezTo>
                    <a:pt x="8474" y="16"/>
                    <a:pt x="8471" y="13"/>
                    <a:pt x="8471" y="8"/>
                  </a:cubicBezTo>
                  <a:cubicBezTo>
                    <a:pt x="8471" y="4"/>
                    <a:pt x="8474" y="0"/>
                    <a:pt x="8479" y="0"/>
                  </a:cubicBezTo>
                  <a:close/>
                  <a:moveTo>
                    <a:pt x="8512" y="0"/>
                  </a:moveTo>
                  <a:lnTo>
                    <a:pt x="8512" y="0"/>
                  </a:lnTo>
                  <a:cubicBezTo>
                    <a:pt x="8517" y="0"/>
                    <a:pt x="8521" y="4"/>
                    <a:pt x="8521" y="8"/>
                  </a:cubicBezTo>
                  <a:cubicBezTo>
                    <a:pt x="8521" y="13"/>
                    <a:pt x="8517" y="16"/>
                    <a:pt x="8512" y="16"/>
                  </a:cubicBezTo>
                  <a:lnTo>
                    <a:pt x="8512" y="16"/>
                  </a:lnTo>
                  <a:cubicBezTo>
                    <a:pt x="8508" y="16"/>
                    <a:pt x="8504" y="13"/>
                    <a:pt x="8504" y="8"/>
                  </a:cubicBezTo>
                  <a:cubicBezTo>
                    <a:pt x="8504" y="4"/>
                    <a:pt x="8508" y="0"/>
                    <a:pt x="8512" y="0"/>
                  </a:cubicBezTo>
                  <a:close/>
                  <a:moveTo>
                    <a:pt x="8546" y="0"/>
                  </a:moveTo>
                  <a:lnTo>
                    <a:pt x="8546" y="0"/>
                  </a:lnTo>
                  <a:cubicBezTo>
                    <a:pt x="8550" y="0"/>
                    <a:pt x="8554" y="4"/>
                    <a:pt x="8554" y="8"/>
                  </a:cubicBezTo>
                  <a:cubicBezTo>
                    <a:pt x="8554" y="13"/>
                    <a:pt x="8550" y="16"/>
                    <a:pt x="8546" y="16"/>
                  </a:cubicBezTo>
                  <a:lnTo>
                    <a:pt x="8546" y="16"/>
                  </a:lnTo>
                  <a:cubicBezTo>
                    <a:pt x="8541" y="16"/>
                    <a:pt x="8537" y="13"/>
                    <a:pt x="8537" y="8"/>
                  </a:cubicBezTo>
                  <a:cubicBezTo>
                    <a:pt x="8537" y="4"/>
                    <a:pt x="8541" y="0"/>
                    <a:pt x="8546" y="0"/>
                  </a:cubicBezTo>
                  <a:close/>
                  <a:moveTo>
                    <a:pt x="8579" y="0"/>
                  </a:moveTo>
                  <a:lnTo>
                    <a:pt x="8579" y="0"/>
                  </a:lnTo>
                  <a:cubicBezTo>
                    <a:pt x="8584" y="0"/>
                    <a:pt x="8587" y="4"/>
                    <a:pt x="8587" y="8"/>
                  </a:cubicBezTo>
                  <a:cubicBezTo>
                    <a:pt x="8587" y="13"/>
                    <a:pt x="8584" y="16"/>
                    <a:pt x="8579" y="16"/>
                  </a:cubicBezTo>
                  <a:lnTo>
                    <a:pt x="8579" y="16"/>
                  </a:lnTo>
                  <a:cubicBezTo>
                    <a:pt x="8574" y="16"/>
                    <a:pt x="8571" y="13"/>
                    <a:pt x="8571" y="8"/>
                  </a:cubicBezTo>
                  <a:cubicBezTo>
                    <a:pt x="8571" y="4"/>
                    <a:pt x="8574" y="0"/>
                    <a:pt x="8579" y="0"/>
                  </a:cubicBezTo>
                  <a:close/>
                  <a:moveTo>
                    <a:pt x="8612" y="0"/>
                  </a:moveTo>
                  <a:lnTo>
                    <a:pt x="8612" y="0"/>
                  </a:lnTo>
                  <a:cubicBezTo>
                    <a:pt x="8617" y="0"/>
                    <a:pt x="8621" y="4"/>
                    <a:pt x="8621" y="8"/>
                  </a:cubicBezTo>
                  <a:cubicBezTo>
                    <a:pt x="8621" y="13"/>
                    <a:pt x="8617" y="16"/>
                    <a:pt x="8612" y="16"/>
                  </a:cubicBezTo>
                  <a:lnTo>
                    <a:pt x="8612" y="16"/>
                  </a:lnTo>
                  <a:cubicBezTo>
                    <a:pt x="8608" y="16"/>
                    <a:pt x="8604" y="13"/>
                    <a:pt x="8604" y="8"/>
                  </a:cubicBezTo>
                  <a:cubicBezTo>
                    <a:pt x="8604" y="4"/>
                    <a:pt x="8608" y="0"/>
                    <a:pt x="8612" y="0"/>
                  </a:cubicBezTo>
                  <a:close/>
                  <a:moveTo>
                    <a:pt x="8646" y="0"/>
                  </a:moveTo>
                  <a:lnTo>
                    <a:pt x="8646" y="0"/>
                  </a:lnTo>
                  <a:cubicBezTo>
                    <a:pt x="8650" y="0"/>
                    <a:pt x="8654" y="4"/>
                    <a:pt x="8654" y="8"/>
                  </a:cubicBezTo>
                  <a:cubicBezTo>
                    <a:pt x="8654" y="13"/>
                    <a:pt x="8650" y="16"/>
                    <a:pt x="8646" y="16"/>
                  </a:cubicBezTo>
                  <a:lnTo>
                    <a:pt x="8646" y="16"/>
                  </a:lnTo>
                  <a:cubicBezTo>
                    <a:pt x="8641" y="16"/>
                    <a:pt x="8637" y="13"/>
                    <a:pt x="8637" y="8"/>
                  </a:cubicBezTo>
                  <a:cubicBezTo>
                    <a:pt x="8637" y="4"/>
                    <a:pt x="8641" y="0"/>
                    <a:pt x="8646" y="0"/>
                  </a:cubicBezTo>
                  <a:close/>
                  <a:moveTo>
                    <a:pt x="8679" y="0"/>
                  </a:moveTo>
                  <a:lnTo>
                    <a:pt x="8679" y="0"/>
                  </a:lnTo>
                  <a:cubicBezTo>
                    <a:pt x="8684" y="0"/>
                    <a:pt x="8687" y="4"/>
                    <a:pt x="8687" y="8"/>
                  </a:cubicBezTo>
                  <a:cubicBezTo>
                    <a:pt x="8687" y="13"/>
                    <a:pt x="8684" y="16"/>
                    <a:pt x="8679" y="16"/>
                  </a:cubicBezTo>
                  <a:lnTo>
                    <a:pt x="8679" y="16"/>
                  </a:lnTo>
                  <a:cubicBezTo>
                    <a:pt x="8675" y="16"/>
                    <a:pt x="8671" y="13"/>
                    <a:pt x="8671" y="8"/>
                  </a:cubicBezTo>
                  <a:cubicBezTo>
                    <a:pt x="8671" y="4"/>
                    <a:pt x="8675" y="0"/>
                    <a:pt x="8679" y="0"/>
                  </a:cubicBezTo>
                  <a:close/>
                  <a:moveTo>
                    <a:pt x="8712" y="0"/>
                  </a:moveTo>
                  <a:lnTo>
                    <a:pt x="8712" y="0"/>
                  </a:lnTo>
                  <a:cubicBezTo>
                    <a:pt x="8717" y="0"/>
                    <a:pt x="8721" y="4"/>
                    <a:pt x="8721" y="8"/>
                  </a:cubicBezTo>
                  <a:cubicBezTo>
                    <a:pt x="8721" y="13"/>
                    <a:pt x="8717" y="16"/>
                    <a:pt x="8712" y="16"/>
                  </a:cubicBezTo>
                  <a:lnTo>
                    <a:pt x="8712" y="16"/>
                  </a:lnTo>
                  <a:cubicBezTo>
                    <a:pt x="8708" y="16"/>
                    <a:pt x="8704" y="13"/>
                    <a:pt x="8704" y="8"/>
                  </a:cubicBezTo>
                  <a:cubicBezTo>
                    <a:pt x="8704" y="4"/>
                    <a:pt x="8708" y="0"/>
                    <a:pt x="8712" y="0"/>
                  </a:cubicBezTo>
                  <a:close/>
                  <a:moveTo>
                    <a:pt x="8746" y="0"/>
                  </a:moveTo>
                  <a:lnTo>
                    <a:pt x="8746" y="0"/>
                  </a:lnTo>
                  <a:cubicBezTo>
                    <a:pt x="8750" y="0"/>
                    <a:pt x="8754" y="4"/>
                    <a:pt x="8754" y="8"/>
                  </a:cubicBezTo>
                  <a:cubicBezTo>
                    <a:pt x="8754" y="13"/>
                    <a:pt x="8750" y="16"/>
                    <a:pt x="8746" y="16"/>
                  </a:cubicBezTo>
                  <a:lnTo>
                    <a:pt x="8746" y="16"/>
                  </a:lnTo>
                  <a:cubicBezTo>
                    <a:pt x="8741" y="16"/>
                    <a:pt x="8737" y="13"/>
                    <a:pt x="8737" y="8"/>
                  </a:cubicBezTo>
                  <a:cubicBezTo>
                    <a:pt x="8737" y="4"/>
                    <a:pt x="8741" y="0"/>
                    <a:pt x="8746" y="0"/>
                  </a:cubicBezTo>
                  <a:close/>
                  <a:moveTo>
                    <a:pt x="8779" y="0"/>
                  </a:moveTo>
                  <a:lnTo>
                    <a:pt x="8779" y="0"/>
                  </a:lnTo>
                  <a:cubicBezTo>
                    <a:pt x="8784" y="0"/>
                    <a:pt x="8788" y="4"/>
                    <a:pt x="8788" y="8"/>
                  </a:cubicBezTo>
                  <a:cubicBezTo>
                    <a:pt x="8788" y="13"/>
                    <a:pt x="8784" y="16"/>
                    <a:pt x="8779" y="16"/>
                  </a:cubicBezTo>
                  <a:lnTo>
                    <a:pt x="8779" y="16"/>
                  </a:lnTo>
                  <a:cubicBezTo>
                    <a:pt x="8775" y="16"/>
                    <a:pt x="8771" y="13"/>
                    <a:pt x="8771" y="8"/>
                  </a:cubicBezTo>
                  <a:cubicBezTo>
                    <a:pt x="8771" y="4"/>
                    <a:pt x="8775" y="0"/>
                    <a:pt x="8779" y="0"/>
                  </a:cubicBezTo>
                  <a:close/>
                  <a:moveTo>
                    <a:pt x="8813" y="0"/>
                  </a:moveTo>
                  <a:lnTo>
                    <a:pt x="8813" y="0"/>
                  </a:lnTo>
                  <a:cubicBezTo>
                    <a:pt x="8817" y="0"/>
                    <a:pt x="8821" y="4"/>
                    <a:pt x="8821" y="8"/>
                  </a:cubicBezTo>
                  <a:cubicBezTo>
                    <a:pt x="8821" y="13"/>
                    <a:pt x="8817" y="16"/>
                    <a:pt x="8813" y="16"/>
                  </a:cubicBezTo>
                  <a:lnTo>
                    <a:pt x="8813" y="16"/>
                  </a:lnTo>
                  <a:cubicBezTo>
                    <a:pt x="8808" y="16"/>
                    <a:pt x="8804" y="13"/>
                    <a:pt x="8804" y="8"/>
                  </a:cubicBezTo>
                  <a:cubicBezTo>
                    <a:pt x="8804" y="4"/>
                    <a:pt x="8808" y="0"/>
                    <a:pt x="8813" y="0"/>
                  </a:cubicBezTo>
                  <a:close/>
                  <a:moveTo>
                    <a:pt x="8846" y="0"/>
                  </a:moveTo>
                  <a:lnTo>
                    <a:pt x="8846" y="0"/>
                  </a:lnTo>
                  <a:cubicBezTo>
                    <a:pt x="8851" y="0"/>
                    <a:pt x="8854" y="4"/>
                    <a:pt x="8854" y="8"/>
                  </a:cubicBezTo>
                  <a:cubicBezTo>
                    <a:pt x="8854" y="13"/>
                    <a:pt x="8851" y="16"/>
                    <a:pt x="8846" y="16"/>
                  </a:cubicBezTo>
                  <a:lnTo>
                    <a:pt x="8846" y="16"/>
                  </a:lnTo>
                  <a:cubicBezTo>
                    <a:pt x="8841" y="16"/>
                    <a:pt x="8838" y="13"/>
                    <a:pt x="8838" y="8"/>
                  </a:cubicBezTo>
                  <a:cubicBezTo>
                    <a:pt x="8838" y="4"/>
                    <a:pt x="8841" y="0"/>
                    <a:pt x="8846" y="0"/>
                  </a:cubicBezTo>
                  <a:close/>
                  <a:moveTo>
                    <a:pt x="8879" y="0"/>
                  </a:moveTo>
                  <a:lnTo>
                    <a:pt x="8879" y="0"/>
                  </a:lnTo>
                  <a:cubicBezTo>
                    <a:pt x="8884" y="0"/>
                    <a:pt x="8888" y="4"/>
                    <a:pt x="8888" y="8"/>
                  </a:cubicBezTo>
                  <a:cubicBezTo>
                    <a:pt x="8888" y="13"/>
                    <a:pt x="8884" y="16"/>
                    <a:pt x="8879" y="16"/>
                  </a:cubicBezTo>
                  <a:lnTo>
                    <a:pt x="8879" y="16"/>
                  </a:lnTo>
                  <a:cubicBezTo>
                    <a:pt x="8875" y="16"/>
                    <a:pt x="8871" y="13"/>
                    <a:pt x="8871" y="8"/>
                  </a:cubicBezTo>
                  <a:cubicBezTo>
                    <a:pt x="8871" y="4"/>
                    <a:pt x="8875" y="0"/>
                    <a:pt x="8879" y="0"/>
                  </a:cubicBezTo>
                  <a:close/>
                  <a:moveTo>
                    <a:pt x="8913" y="0"/>
                  </a:moveTo>
                  <a:lnTo>
                    <a:pt x="8913" y="0"/>
                  </a:lnTo>
                  <a:cubicBezTo>
                    <a:pt x="8917" y="0"/>
                    <a:pt x="8921" y="4"/>
                    <a:pt x="8921" y="8"/>
                  </a:cubicBezTo>
                  <a:cubicBezTo>
                    <a:pt x="8921" y="13"/>
                    <a:pt x="8917" y="16"/>
                    <a:pt x="8913" y="16"/>
                  </a:cubicBezTo>
                  <a:lnTo>
                    <a:pt x="8913" y="16"/>
                  </a:lnTo>
                  <a:cubicBezTo>
                    <a:pt x="8908" y="16"/>
                    <a:pt x="8904" y="13"/>
                    <a:pt x="8904" y="8"/>
                  </a:cubicBezTo>
                  <a:cubicBezTo>
                    <a:pt x="8904" y="4"/>
                    <a:pt x="8908" y="0"/>
                    <a:pt x="8913" y="0"/>
                  </a:cubicBezTo>
                  <a:close/>
                  <a:moveTo>
                    <a:pt x="8946" y="0"/>
                  </a:moveTo>
                  <a:lnTo>
                    <a:pt x="8946" y="0"/>
                  </a:lnTo>
                  <a:cubicBezTo>
                    <a:pt x="8951" y="0"/>
                    <a:pt x="8954" y="4"/>
                    <a:pt x="8954" y="8"/>
                  </a:cubicBezTo>
                  <a:cubicBezTo>
                    <a:pt x="8954" y="13"/>
                    <a:pt x="8951" y="16"/>
                    <a:pt x="8946" y="16"/>
                  </a:cubicBezTo>
                  <a:lnTo>
                    <a:pt x="8946" y="16"/>
                  </a:lnTo>
                  <a:cubicBezTo>
                    <a:pt x="8941" y="16"/>
                    <a:pt x="8938" y="13"/>
                    <a:pt x="8938" y="8"/>
                  </a:cubicBezTo>
                  <a:cubicBezTo>
                    <a:pt x="8938" y="4"/>
                    <a:pt x="8941" y="0"/>
                    <a:pt x="8946" y="0"/>
                  </a:cubicBezTo>
                  <a:close/>
                  <a:moveTo>
                    <a:pt x="8979" y="0"/>
                  </a:moveTo>
                  <a:lnTo>
                    <a:pt x="8979" y="0"/>
                  </a:lnTo>
                  <a:cubicBezTo>
                    <a:pt x="8984" y="0"/>
                    <a:pt x="8988" y="4"/>
                    <a:pt x="8988" y="8"/>
                  </a:cubicBezTo>
                  <a:cubicBezTo>
                    <a:pt x="8988" y="13"/>
                    <a:pt x="8984" y="16"/>
                    <a:pt x="8979" y="16"/>
                  </a:cubicBezTo>
                  <a:lnTo>
                    <a:pt x="8979" y="16"/>
                  </a:lnTo>
                  <a:cubicBezTo>
                    <a:pt x="8975" y="16"/>
                    <a:pt x="8971" y="13"/>
                    <a:pt x="8971" y="8"/>
                  </a:cubicBezTo>
                  <a:cubicBezTo>
                    <a:pt x="8971" y="4"/>
                    <a:pt x="8975" y="0"/>
                    <a:pt x="8979" y="0"/>
                  </a:cubicBezTo>
                  <a:close/>
                  <a:moveTo>
                    <a:pt x="9013" y="0"/>
                  </a:moveTo>
                  <a:lnTo>
                    <a:pt x="9013" y="0"/>
                  </a:lnTo>
                  <a:cubicBezTo>
                    <a:pt x="9017" y="0"/>
                    <a:pt x="9021" y="4"/>
                    <a:pt x="9021" y="8"/>
                  </a:cubicBezTo>
                  <a:cubicBezTo>
                    <a:pt x="9021" y="13"/>
                    <a:pt x="9017" y="16"/>
                    <a:pt x="9013" y="16"/>
                  </a:cubicBezTo>
                  <a:lnTo>
                    <a:pt x="9013" y="16"/>
                  </a:lnTo>
                  <a:cubicBezTo>
                    <a:pt x="9008" y="16"/>
                    <a:pt x="9004" y="13"/>
                    <a:pt x="9004" y="8"/>
                  </a:cubicBezTo>
                  <a:cubicBezTo>
                    <a:pt x="9004" y="4"/>
                    <a:pt x="9008" y="0"/>
                    <a:pt x="9013" y="0"/>
                  </a:cubicBezTo>
                  <a:close/>
                  <a:moveTo>
                    <a:pt x="9046" y="0"/>
                  </a:moveTo>
                  <a:lnTo>
                    <a:pt x="9046" y="0"/>
                  </a:lnTo>
                  <a:cubicBezTo>
                    <a:pt x="9051" y="0"/>
                    <a:pt x="9054" y="4"/>
                    <a:pt x="9054" y="8"/>
                  </a:cubicBezTo>
                  <a:cubicBezTo>
                    <a:pt x="9054" y="13"/>
                    <a:pt x="9051" y="16"/>
                    <a:pt x="9046" y="16"/>
                  </a:cubicBezTo>
                  <a:lnTo>
                    <a:pt x="9046" y="16"/>
                  </a:lnTo>
                  <a:cubicBezTo>
                    <a:pt x="9041" y="16"/>
                    <a:pt x="9038" y="13"/>
                    <a:pt x="9038" y="8"/>
                  </a:cubicBezTo>
                  <a:cubicBezTo>
                    <a:pt x="9038" y="4"/>
                    <a:pt x="9041" y="0"/>
                    <a:pt x="9046" y="0"/>
                  </a:cubicBezTo>
                  <a:close/>
                  <a:moveTo>
                    <a:pt x="9079" y="0"/>
                  </a:moveTo>
                  <a:lnTo>
                    <a:pt x="9079" y="0"/>
                  </a:lnTo>
                  <a:cubicBezTo>
                    <a:pt x="9084" y="0"/>
                    <a:pt x="9088" y="4"/>
                    <a:pt x="9088" y="8"/>
                  </a:cubicBezTo>
                  <a:cubicBezTo>
                    <a:pt x="9088" y="13"/>
                    <a:pt x="9084" y="16"/>
                    <a:pt x="9079" y="16"/>
                  </a:cubicBezTo>
                  <a:lnTo>
                    <a:pt x="9079" y="16"/>
                  </a:lnTo>
                  <a:cubicBezTo>
                    <a:pt x="9075" y="16"/>
                    <a:pt x="9071" y="13"/>
                    <a:pt x="9071" y="8"/>
                  </a:cubicBezTo>
                  <a:cubicBezTo>
                    <a:pt x="9071" y="4"/>
                    <a:pt x="9075" y="0"/>
                    <a:pt x="9079" y="0"/>
                  </a:cubicBezTo>
                  <a:close/>
                  <a:moveTo>
                    <a:pt x="9113" y="0"/>
                  </a:moveTo>
                  <a:lnTo>
                    <a:pt x="9113" y="0"/>
                  </a:lnTo>
                  <a:cubicBezTo>
                    <a:pt x="9117" y="0"/>
                    <a:pt x="9121" y="4"/>
                    <a:pt x="9121" y="8"/>
                  </a:cubicBezTo>
                  <a:cubicBezTo>
                    <a:pt x="9121" y="13"/>
                    <a:pt x="9117" y="16"/>
                    <a:pt x="9113" y="16"/>
                  </a:cubicBezTo>
                  <a:lnTo>
                    <a:pt x="9113" y="16"/>
                  </a:lnTo>
                  <a:cubicBezTo>
                    <a:pt x="9108" y="16"/>
                    <a:pt x="9104" y="13"/>
                    <a:pt x="9104" y="8"/>
                  </a:cubicBezTo>
                  <a:cubicBezTo>
                    <a:pt x="9104" y="4"/>
                    <a:pt x="9108" y="0"/>
                    <a:pt x="9113" y="0"/>
                  </a:cubicBezTo>
                  <a:close/>
                  <a:moveTo>
                    <a:pt x="9146" y="0"/>
                  </a:moveTo>
                  <a:lnTo>
                    <a:pt x="9146" y="0"/>
                  </a:lnTo>
                  <a:cubicBezTo>
                    <a:pt x="9151" y="0"/>
                    <a:pt x="9154" y="4"/>
                    <a:pt x="9154" y="8"/>
                  </a:cubicBezTo>
                  <a:cubicBezTo>
                    <a:pt x="9154" y="13"/>
                    <a:pt x="9151" y="16"/>
                    <a:pt x="9146" y="16"/>
                  </a:cubicBezTo>
                  <a:lnTo>
                    <a:pt x="9146" y="16"/>
                  </a:lnTo>
                  <a:cubicBezTo>
                    <a:pt x="9141" y="16"/>
                    <a:pt x="9138" y="13"/>
                    <a:pt x="9138" y="8"/>
                  </a:cubicBezTo>
                  <a:cubicBezTo>
                    <a:pt x="9138" y="4"/>
                    <a:pt x="9141" y="0"/>
                    <a:pt x="9146" y="0"/>
                  </a:cubicBezTo>
                  <a:close/>
                  <a:moveTo>
                    <a:pt x="9179" y="0"/>
                  </a:moveTo>
                  <a:lnTo>
                    <a:pt x="9179" y="0"/>
                  </a:lnTo>
                  <a:cubicBezTo>
                    <a:pt x="9184" y="0"/>
                    <a:pt x="9188" y="4"/>
                    <a:pt x="9188" y="8"/>
                  </a:cubicBezTo>
                  <a:cubicBezTo>
                    <a:pt x="9188" y="13"/>
                    <a:pt x="9184" y="16"/>
                    <a:pt x="9179" y="16"/>
                  </a:cubicBezTo>
                  <a:lnTo>
                    <a:pt x="9179" y="16"/>
                  </a:lnTo>
                  <a:cubicBezTo>
                    <a:pt x="9175" y="16"/>
                    <a:pt x="9171" y="13"/>
                    <a:pt x="9171" y="8"/>
                  </a:cubicBezTo>
                  <a:cubicBezTo>
                    <a:pt x="9171" y="4"/>
                    <a:pt x="9175" y="0"/>
                    <a:pt x="9179" y="0"/>
                  </a:cubicBezTo>
                  <a:close/>
                  <a:moveTo>
                    <a:pt x="9213" y="0"/>
                  </a:moveTo>
                  <a:lnTo>
                    <a:pt x="9213" y="0"/>
                  </a:lnTo>
                  <a:cubicBezTo>
                    <a:pt x="9217" y="0"/>
                    <a:pt x="9221" y="4"/>
                    <a:pt x="9221" y="8"/>
                  </a:cubicBezTo>
                  <a:cubicBezTo>
                    <a:pt x="9221" y="13"/>
                    <a:pt x="9217" y="16"/>
                    <a:pt x="9213" y="16"/>
                  </a:cubicBezTo>
                  <a:lnTo>
                    <a:pt x="9213" y="16"/>
                  </a:lnTo>
                  <a:cubicBezTo>
                    <a:pt x="9208" y="16"/>
                    <a:pt x="9204" y="13"/>
                    <a:pt x="9204" y="8"/>
                  </a:cubicBezTo>
                  <a:cubicBezTo>
                    <a:pt x="9204" y="4"/>
                    <a:pt x="9208" y="0"/>
                    <a:pt x="9213" y="0"/>
                  </a:cubicBezTo>
                  <a:close/>
                  <a:moveTo>
                    <a:pt x="9246" y="0"/>
                  </a:moveTo>
                  <a:lnTo>
                    <a:pt x="9246" y="0"/>
                  </a:lnTo>
                  <a:cubicBezTo>
                    <a:pt x="9251" y="0"/>
                    <a:pt x="9254" y="4"/>
                    <a:pt x="9254" y="8"/>
                  </a:cubicBezTo>
                  <a:cubicBezTo>
                    <a:pt x="9254" y="13"/>
                    <a:pt x="9251" y="16"/>
                    <a:pt x="9246" y="16"/>
                  </a:cubicBezTo>
                  <a:lnTo>
                    <a:pt x="9246" y="16"/>
                  </a:lnTo>
                  <a:cubicBezTo>
                    <a:pt x="9242" y="16"/>
                    <a:pt x="9238" y="13"/>
                    <a:pt x="9238" y="8"/>
                  </a:cubicBezTo>
                  <a:cubicBezTo>
                    <a:pt x="9238" y="4"/>
                    <a:pt x="9242" y="0"/>
                    <a:pt x="9246" y="0"/>
                  </a:cubicBezTo>
                  <a:close/>
                  <a:moveTo>
                    <a:pt x="9279" y="0"/>
                  </a:moveTo>
                  <a:lnTo>
                    <a:pt x="9280" y="0"/>
                  </a:lnTo>
                  <a:cubicBezTo>
                    <a:pt x="9284" y="0"/>
                    <a:pt x="9288" y="4"/>
                    <a:pt x="9288" y="8"/>
                  </a:cubicBezTo>
                  <a:cubicBezTo>
                    <a:pt x="9288" y="13"/>
                    <a:pt x="9284" y="16"/>
                    <a:pt x="9280" y="16"/>
                  </a:cubicBezTo>
                  <a:lnTo>
                    <a:pt x="9279" y="16"/>
                  </a:lnTo>
                  <a:cubicBezTo>
                    <a:pt x="9275" y="16"/>
                    <a:pt x="9271" y="13"/>
                    <a:pt x="9271" y="8"/>
                  </a:cubicBezTo>
                  <a:cubicBezTo>
                    <a:pt x="9271" y="4"/>
                    <a:pt x="9275" y="0"/>
                    <a:pt x="9279" y="0"/>
                  </a:cubicBezTo>
                  <a:close/>
                  <a:moveTo>
                    <a:pt x="9313" y="0"/>
                  </a:moveTo>
                  <a:lnTo>
                    <a:pt x="9313" y="0"/>
                  </a:lnTo>
                  <a:cubicBezTo>
                    <a:pt x="9317" y="0"/>
                    <a:pt x="9321" y="4"/>
                    <a:pt x="9321" y="8"/>
                  </a:cubicBezTo>
                  <a:cubicBezTo>
                    <a:pt x="9321" y="13"/>
                    <a:pt x="9317" y="16"/>
                    <a:pt x="9313" y="16"/>
                  </a:cubicBezTo>
                  <a:lnTo>
                    <a:pt x="9313" y="16"/>
                  </a:lnTo>
                  <a:cubicBezTo>
                    <a:pt x="9308" y="16"/>
                    <a:pt x="9305" y="13"/>
                    <a:pt x="9305" y="8"/>
                  </a:cubicBezTo>
                  <a:cubicBezTo>
                    <a:pt x="9305" y="4"/>
                    <a:pt x="9308" y="0"/>
                    <a:pt x="9313" y="0"/>
                  </a:cubicBezTo>
                  <a:close/>
                  <a:moveTo>
                    <a:pt x="9346" y="0"/>
                  </a:moveTo>
                  <a:lnTo>
                    <a:pt x="9346" y="0"/>
                  </a:lnTo>
                  <a:cubicBezTo>
                    <a:pt x="9351" y="0"/>
                    <a:pt x="9355" y="4"/>
                    <a:pt x="9355" y="8"/>
                  </a:cubicBezTo>
                  <a:cubicBezTo>
                    <a:pt x="9355" y="13"/>
                    <a:pt x="9351" y="16"/>
                    <a:pt x="9346" y="16"/>
                  </a:cubicBezTo>
                  <a:lnTo>
                    <a:pt x="9346" y="16"/>
                  </a:lnTo>
                  <a:cubicBezTo>
                    <a:pt x="9342" y="16"/>
                    <a:pt x="9338" y="13"/>
                    <a:pt x="9338" y="8"/>
                  </a:cubicBezTo>
                  <a:cubicBezTo>
                    <a:pt x="9338" y="4"/>
                    <a:pt x="9342" y="0"/>
                    <a:pt x="9346" y="0"/>
                  </a:cubicBezTo>
                  <a:close/>
                  <a:moveTo>
                    <a:pt x="9380" y="0"/>
                  </a:moveTo>
                  <a:lnTo>
                    <a:pt x="9380" y="0"/>
                  </a:lnTo>
                  <a:cubicBezTo>
                    <a:pt x="9384" y="0"/>
                    <a:pt x="9388" y="4"/>
                    <a:pt x="9388" y="8"/>
                  </a:cubicBezTo>
                  <a:cubicBezTo>
                    <a:pt x="9388" y="13"/>
                    <a:pt x="9384" y="16"/>
                    <a:pt x="9380" y="16"/>
                  </a:cubicBezTo>
                  <a:lnTo>
                    <a:pt x="9380" y="16"/>
                  </a:lnTo>
                  <a:cubicBezTo>
                    <a:pt x="9375" y="16"/>
                    <a:pt x="9371" y="13"/>
                    <a:pt x="9371" y="8"/>
                  </a:cubicBezTo>
                  <a:cubicBezTo>
                    <a:pt x="9371" y="4"/>
                    <a:pt x="9375" y="0"/>
                    <a:pt x="9380" y="0"/>
                  </a:cubicBezTo>
                  <a:close/>
                  <a:moveTo>
                    <a:pt x="9413" y="0"/>
                  </a:moveTo>
                  <a:lnTo>
                    <a:pt x="9413" y="0"/>
                  </a:lnTo>
                  <a:cubicBezTo>
                    <a:pt x="9418" y="0"/>
                    <a:pt x="9421" y="4"/>
                    <a:pt x="9421" y="8"/>
                  </a:cubicBezTo>
                  <a:cubicBezTo>
                    <a:pt x="9421" y="13"/>
                    <a:pt x="9418" y="16"/>
                    <a:pt x="9413" y="16"/>
                  </a:cubicBezTo>
                  <a:lnTo>
                    <a:pt x="9413" y="16"/>
                  </a:lnTo>
                  <a:cubicBezTo>
                    <a:pt x="9408" y="16"/>
                    <a:pt x="9405" y="13"/>
                    <a:pt x="9405" y="8"/>
                  </a:cubicBezTo>
                  <a:cubicBezTo>
                    <a:pt x="9405" y="4"/>
                    <a:pt x="9408" y="0"/>
                    <a:pt x="9413" y="0"/>
                  </a:cubicBezTo>
                  <a:close/>
                  <a:moveTo>
                    <a:pt x="9446" y="0"/>
                  </a:moveTo>
                  <a:lnTo>
                    <a:pt x="9446" y="0"/>
                  </a:lnTo>
                  <a:cubicBezTo>
                    <a:pt x="9451" y="0"/>
                    <a:pt x="9455" y="4"/>
                    <a:pt x="9455" y="8"/>
                  </a:cubicBezTo>
                  <a:cubicBezTo>
                    <a:pt x="9455" y="13"/>
                    <a:pt x="9451" y="16"/>
                    <a:pt x="9446" y="16"/>
                  </a:cubicBezTo>
                  <a:lnTo>
                    <a:pt x="9446" y="16"/>
                  </a:lnTo>
                  <a:cubicBezTo>
                    <a:pt x="9442" y="16"/>
                    <a:pt x="9438" y="13"/>
                    <a:pt x="9438" y="8"/>
                  </a:cubicBezTo>
                  <a:cubicBezTo>
                    <a:pt x="9438" y="4"/>
                    <a:pt x="9442" y="0"/>
                    <a:pt x="9446" y="0"/>
                  </a:cubicBezTo>
                  <a:close/>
                  <a:moveTo>
                    <a:pt x="9480" y="0"/>
                  </a:moveTo>
                  <a:lnTo>
                    <a:pt x="9480" y="0"/>
                  </a:lnTo>
                  <a:cubicBezTo>
                    <a:pt x="9484" y="0"/>
                    <a:pt x="9488" y="4"/>
                    <a:pt x="9488" y="8"/>
                  </a:cubicBezTo>
                  <a:cubicBezTo>
                    <a:pt x="9488" y="13"/>
                    <a:pt x="9484" y="16"/>
                    <a:pt x="9480" y="16"/>
                  </a:cubicBezTo>
                  <a:lnTo>
                    <a:pt x="9480" y="16"/>
                  </a:lnTo>
                  <a:cubicBezTo>
                    <a:pt x="9475" y="16"/>
                    <a:pt x="9471" y="13"/>
                    <a:pt x="9471" y="8"/>
                  </a:cubicBezTo>
                  <a:cubicBezTo>
                    <a:pt x="9471" y="4"/>
                    <a:pt x="9475" y="0"/>
                    <a:pt x="9480" y="0"/>
                  </a:cubicBezTo>
                  <a:close/>
                  <a:moveTo>
                    <a:pt x="9513" y="0"/>
                  </a:moveTo>
                  <a:lnTo>
                    <a:pt x="9513" y="0"/>
                  </a:lnTo>
                  <a:cubicBezTo>
                    <a:pt x="9518" y="0"/>
                    <a:pt x="9521" y="4"/>
                    <a:pt x="9521" y="8"/>
                  </a:cubicBezTo>
                  <a:cubicBezTo>
                    <a:pt x="9521" y="13"/>
                    <a:pt x="9518" y="16"/>
                    <a:pt x="9513" y="16"/>
                  </a:cubicBezTo>
                  <a:lnTo>
                    <a:pt x="9513" y="16"/>
                  </a:lnTo>
                  <a:cubicBezTo>
                    <a:pt x="9508" y="16"/>
                    <a:pt x="9505" y="13"/>
                    <a:pt x="9505" y="8"/>
                  </a:cubicBezTo>
                  <a:cubicBezTo>
                    <a:pt x="9505" y="4"/>
                    <a:pt x="9508" y="0"/>
                    <a:pt x="9513" y="0"/>
                  </a:cubicBezTo>
                  <a:close/>
                  <a:moveTo>
                    <a:pt x="9546" y="0"/>
                  </a:moveTo>
                  <a:lnTo>
                    <a:pt x="9546" y="0"/>
                  </a:lnTo>
                  <a:cubicBezTo>
                    <a:pt x="9551" y="0"/>
                    <a:pt x="9555" y="4"/>
                    <a:pt x="9555" y="8"/>
                  </a:cubicBezTo>
                  <a:cubicBezTo>
                    <a:pt x="9555" y="13"/>
                    <a:pt x="9551" y="16"/>
                    <a:pt x="9546" y="16"/>
                  </a:cubicBezTo>
                  <a:lnTo>
                    <a:pt x="9546" y="16"/>
                  </a:lnTo>
                  <a:cubicBezTo>
                    <a:pt x="9542" y="16"/>
                    <a:pt x="9538" y="13"/>
                    <a:pt x="9538" y="8"/>
                  </a:cubicBezTo>
                  <a:cubicBezTo>
                    <a:pt x="9538" y="4"/>
                    <a:pt x="9542" y="0"/>
                    <a:pt x="9546" y="0"/>
                  </a:cubicBezTo>
                  <a:close/>
                  <a:moveTo>
                    <a:pt x="9580" y="0"/>
                  </a:moveTo>
                  <a:lnTo>
                    <a:pt x="9580" y="0"/>
                  </a:lnTo>
                  <a:cubicBezTo>
                    <a:pt x="9584" y="0"/>
                    <a:pt x="9588" y="4"/>
                    <a:pt x="9588" y="8"/>
                  </a:cubicBezTo>
                  <a:cubicBezTo>
                    <a:pt x="9588" y="13"/>
                    <a:pt x="9584" y="16"/>
                    <a:pt x="9580" y="16"/>
                  </a:cubicBezTo>
                  <a:lnTo>
                    <a:pt x="9580" y="16"/>
                  </a:lnTo>
                  <a:cubicBezTo>
                    <a:pt x="9575" y="16"/>
                    <a:pt x="9571" y="13"/>
                    <a:pt x="9571" y="8"/>
                  </a:cubicBezTo>
                  <a:cubicBezTo>
                    <a:pt x="9571" y="4"/>
                    <a:pt x="9575" y="0"/>
                    <a:pt x="9580" y="0"/>
                  </a:cubicBezTo>
                  <a:close/>
                  <a:moveTo>
                    <a:pt x="9613" y="0"/>
                  </a:moveTo>
                  <a:lnTo>
                    <a:pt x="9613" y="0"/>
                  </a:lnTo>
                  <a:cubicBezTo>
                    <a:pt x="9618" y="0"/>
                    <a:pt x="9621" y="4"/>
                    <a:pt x="9621" y="8"/>
                  </a:cubicBezTo>
                  <a:cubicBezTo>
                    <a:pt x="9621" y="13"/>
                    <a:pt x="9618" y="16"/>
                    <a:pt x="9613" y="16"/>
                  </a:cubicBezTo>
                  <a:lnTo>
                    <a:pt x="9613" y="16"/>
                  </a:lnTo>
                  <a:cubicBezTo>
                    <a:pt x="9608" y="16"/>
                    <a:pt x="9605" y="13"/>
                    <a:pt x="9605" y="8"/>
                  </a:cubicBezTo>
                  <a:cubicBezTo>
                    <a:pt x="9605" y="4"/>
                    <a:pt x="9608" y="0"/>
                    <a:pt x="9613" y="0"/>
                  </a:cubicBezTo>
                  <a:close/>
                  <a:moveTo>
                    <a:pt x="9646" y="0"/>
                  </a:moveTo>
                  <a:lnTo>
                    <a:pt x="9646" y="0"/>
                  </a:lnTo>
                  <a:cubicBezTo>
                    <a:pt x="9651" y="0"/>
                    <a:pt x="9655" y="4"/>
                    <a:pt x="9655" y="8"/>
                  </a:cubicBezTo>
                  <a:cubicBezTo>
                    <a:pt x="9655" y="13"/>
                    <a:pt x="9651" y="16"/>
                    <a:pt x="9646" y="16"/>
                  </a:cubicBezTo>
                  <a:lnTo>
                    <a:pt x="9646" y="16"/>
                  </a:lnTo>
                  <a:cubicBezTo>
                    <a:pt x="9642" y="16"/>
                    <a:pt x="9638" y="13"/>
                    <a:pt x="9638" y="8"/>
                  </a:cubicBezTo>
                  <a:cubicBezTo>
                    <a:pt x="9638" y="4"/>
                    <a:pt x="9642" y="0"/>
                    <a:pt x="9646" y="0"/>
                  </a:cubicBezTo>
                  <a:close/>
                  <a:moveTo>
                    <a:pt x="9680" y="0"/>
                  </a:moveTo>
                  <a:lnTo>
                    <a:pt x="9680" y="0"/>
                  </a:lnTo>
                  <a:cubicBezTo>
                    <a:pt x="9684" y="0"/>
                    <a:pt x="9688" y="4"/>
                    <a:pt x="9688" y="8"/>
                  </a:cubicBezTo>
                  <a:cubicBezTo>
                    <a:pt x="9688" y="13"/>
                    <a:pt x="9684" y="16"/>
                    <a:pt x="9680" y="16"/>
                  </a:cubicBezTo>
                  <a:lnTo>
                    <a:pt x="9680" y="16"/>
                  </a:lnTo>
                  <a:cubicBezTo>
                    <a:pt x="9675" y="16"/>
                    <a:pt x="9671" y="13"/>
                    <a:pt x="9671" y="8"/>
                  </a:cubicBezTo>
                  <a:cubicBezTo>
                    <a:pt x="9671" y="4"/>
                    <a:pt x="9675" y="0"/>
                    <a:pt x="9680" y="0"/>
                  </a:cubicBezTo>
                  <a:close/>
                  <a:moveTo>
                    <a:pt x="9713" y="0"/>
                  </a:moveTo>
                  <a:lnTo>
                    <a:pt x="9713" y="0"/>
                  </a:lnTo>
                  <a:cubicBezTo>
                    <a:pt x="9718" y="0"/>
                    <a:pt x="9721" y="4"/>
                    <a:pt x="9721" y="8"/>
                  </a:cubicBezTo>
                  <a:cubicBezTo>
                    <a:pt x="9721" y="13"/>
                    <a:pt x="9718" y="16"/>
                    <a:pt x="9713" y="16"/>
                  </a:cubicBezTo>
                  <a:lnTo>
                    <a:pt x="9713" y="16"/>
                  </a:lnTo>
                  <a:cubicBezTo>
                    <a:pt x="9709" y="16"/>
                    <a:pt x="9705" y="13"/>
                    <a:pt x="9705" y="8"/>
                  </a:cubicBezTo>
                  <a:cubicBezTo>
                    <a:pt x="9705" y="4"/>
                    <a:pt x="9709" y="0"/>
                    <a:pt x="9713" y="0"/>
                  </a:cubicBezTo>
                  <a:close/>
                  <a:moveTo>
                    <a:pt x="9746" y="0"/>
                  </a:moveTo>
                  <a:lnTo>
                    <a:pt x="9746" y="0"/>
                  </a:lnTo>
                  <a:cubicBezTo>
                    <a:pt x="9751" y="0"/>
                    <a:pt x="9755" y="4"/>
                    <a:pt x="9755" y="8"/>
                  </a:cubicBezTo>
                  <a:cubicBezTo>
                    <a:pt x="9755" y="13"/>
                    <a:pt x="9751" y="16"/>
                    <a:pt x="9746" y="16"/>
                  </a:cubicBezTo>
                  <a:lnTo>
                    <a:pt x="9746" y="16"/>
                  </a:lnTo>
                  <a:cubicBezTo>
                    <a:pt x="9742" y="16"/>
                    <a:pt x="9738" y="13"/>
                    <a:pt x="9738" y="8"/>
                  </a:cubicBezTo>
                  <a:cubicBezTo>
                    <a:pt x="9738" y="4"/>
                    <a:pt x="9742" y="0"/>
                    <a:pt x="9746" y="0"/>
                  </a:cubicBezTo>
                  <a:close/>
                  <a:moveTo>
                    <a:pt x="9780" y="0"/>
                  </a:moveTo>
                  <a:lnTo>
                    <a:pt x="9780" y="0"/>
                  </a:lnTo>
                  <a:cubicBezTo>
                    <a:pt x="9784" y="0"/>
                    <a:pt x="9788" y="4"/>
                    <a:pt x="9788" y="8"/>
                  </a:cubicBezTo>
                  <a:cubicBezTo>
                    <a:pt x="9788" y="13"/>
                    <a:pt x="9784" y="16"/>
                    <a:pt x="9780" y="16"/>
                  </a:cubicBezTo>
                  <a:lnTo>
                    <a:pt x="9780" y="16"/>
                  </a:lnTo>
                  <a:cubicBezTo>
                    <a:pt x="9775" y="16"/>
                    <a:pt x="9771" y="13"/>
                    <a:pt x="9771" y="8"/>
                  </a:cubicBezTo>
                  <a:cubicBezTo>
                    <a:pt x="9771" y="4"/>
                    <a:pt x="9775" y="0"/>
                    <a:pt x="9780" y="0"/>
                  </a:cubicBezTo>
                  <a:close/>
                  <a:moveTo>
                    <a:pt x="9813" y="0"/>
                  </a:moveTo>
                  <a:lnTo>
                    <a:pt x="9813" y="0"/>
                  </a:lnTo>
                  <a:cubicBezTo>
                    <a:pt x="9818" y="0"/>
                    <a:pt x="9822" y="4"/>
                    <a:pt x="9822" y="8"/>
                  </a:cubicBezTo>
                  <a:cubicBezTo>
                    <a:pt x="9822" y="13"/>
                    <a:pt x="9818" y="16"/>
                    <a:pt x="9813" y="16"/>
                  </a:cubicBezTo>
                  <a:lnTo>
                    <a:pt x="9813" y="16"/>
                  </a:lnTo>
                  <a:cubicBezTo>
                    <a:pt x="9809" y="16"/>
                    <a:pt x="9805" y="13"/>
                    <a:pt x="9805" y="8"/>
                  </a:cubicBezTo>
                  <a:cubicBezTo>
                    <a:pt x="9805" y="4"/>
                    <a:pt x="9809" y="0"/>
                    <a:pt x="9813" y="0"/>
                  </a:cubicBezTo>
                  <a:close/>
                  <a:moveTo>
                    <a:pt x="9847" y="0"/>
                  </a:moveTo>
                  <a:lnTo>
                    <a:pt x="9847" y="0"/>
                  </a:lnTo>
                  <a:cubicBezTo>
                    <a:pt x="9851" y="0"/>
                    <a:pt x="9855" y="4"/>
                    <a:pt x="9855" y="8"/>
                  </a:cubicBezTo>
                  <a:cubicBezTo>
                    <a:pt x="9855" y="13"/>
                    <a:pt x="9851" y="16"/>
                    <a:pt x="9847" y="16"/>
                  </a:cubicBezTo>
                  <a:lnTo>
                    <a:pt x="9847" y="16"/>
                  </a:lnTo>
                  <a:cubicBezTo>
                    <a:pt x="9842" y="16"/>
                    <a:pt x="9838" y="13"/>
                    <a:pt x="9838" y="8"/>
                  </a:cubicBezTo>
                  <a:cubicBezTo>
                    <a:pt x="9838" y="4"/>
                    <a:pt x="9842" y="0"/>
                    <a:pt x="9847" y="0"/>
                  </a:cubicBezTo>
                  <a:close/>
                  <a:moveTo>
                    <a:pt x="9880" y="0"/>
                  </a:moveTo>
                  <a:lnTo>
                    <a:pt x="9880" y="0"/>
                  </a:lnTo>
                  <a:cubicBezTo>
                    <a:pt x="9885" y="0"/>
                    <a:pt x="9888" y="4"/>
                    <a:pt x="9888" y="8"/>
                  </a:cubicBezTo>
                  <a:cubicBezTo>
                    <a:pt x="9888" y="13"/>
                    <a:pt x="9885" y="16"/>
                    <a:pt x="9880" y="16"/>
                  </a:cubicBezTo>
                  <a:lnTo>
                    <a:pt x="9880" y="16"/>
                  </a:lnTo>
                  <a:cubicBezTo>
                    <a:pt x="9875" y="16"/>
                    <a:pt x="9872" y="13"/>
                    <a:pt x="9872" y="8"/>
                  </a:cubicBezTo>
                  <a:cubicBezTo>
                    <a:pt x="9872" y="4"/>
                    <a:pt x="9875" y="0"/>
                    <a:pt x="9880" y="0"/>
                  </a:cubicBezTo>
                  <a:close/>
                  <a:moveTo>
                    <a:pt x="9913" y="0"/>
                  </a:moveTo>
                  <a:lnTo>
                    <a:pt x="9913" y="0"/>
                  </a:lnTo>
                  <a:cubicBezTo>
                    <a:pt x="9918" y="0"/>
                    <a:pt x="9922" y="4"/>
                    <a:pt x="9922" y="8"/>
                  </a:cubicBezTo>
                  <a:cubicBezTo>
                    <a:pt x="9922" y="13"/>
                    <a:pt x="9918" y="16"/>
                    <a:pt x="9913" y="16"/>
                  </a:cubicBezTo>
                  <a:lnTo>
                    <a:pt x="9913" y="16"/>
                  </a:lnTo>
                  <a:cubicBezTo>
                    <a:pt x="9909" y="16"/>
                    <a:pt x="9905" y="13"/>
                    <a:pt x="9905" y="8"/>
                  </a:cubicBezTo>
                  <a:cubicBezTo>
                    <a:pt x="9905" y="4"/>
                    <a:pt x="9909" y="0"/>
                    <a:pt x="9913" y="0"/>
                  </a:cubicBezTo>
                  <a:close/>
                  <a:moveTo>
                    <a:pt x="9947" y="0"/>
                  </a:moveTo>
                  <a:lnTo>
                    <a:pt x="9947" y="0"/>
                  </a:lnTo>
                  <a:cubicBezTo>
                    <a:pt x="9951" y="0"/>
                    <a:pt x="9955" y="4"/>
                    <a:pt x="9955" y="8"/>
                  </a:cubicBezTo>
                  <a:cubicBezTo>
                    <a:pt x="9955" y="13"/>
                    <a:pt x="9951" y="16"/>
                    <a:pt x="9947" y="16"/>
                  </a:cubicBezTo>
                  <a:lnTo>
                    <a:pt x="9947" y="16"/>
                  </a:lnTo>
                  <a:cubicBezTo>
                    <a:pt x="9942" y="16"/>
                    <a:pt x="9938" y="13"/>
                    <a:pt x="9938" y="8"/>
                  </a:cubicBezTo>
                  <a:cubicBezTo>
                    <a:pt x="9938" y="4"/>
                    <a:pt x="9942" y="0"/>
                    <a:pt x="9947" y="0"/>
                  </a:cubicBezTo>
                  <a:close/>
                  <a:moveTo>
                    <a:pt x="9980" y="0"/>
                  </a:moveTo>
                  <a:lnTo>
                    <a:pt x="9980" y="0"/>
                  </a:lnTo>
                  <a:cubicBezTo>
                    <a:pt x="9985" y="0"/>
                    <a:pt x="9988" y="4"/>
                    <a:pt x="9988" y="8"/>
                  </a:cubicBezTo>
                  <a:cubicBezTo>
                    <a:pt x="9988" y="13"/>
                    <a:pt x="9985" y="16"/>
                    <a:pt x="9980" y="16"/>
                  </a:cubicBezTo>
                  <a:lnTo>
                    <a:pt x="9980" y="16"/>
                  </a:lnTo>
                  <a:cubicBezTo>
                    <a:pt x="9975" y="16"/>
                    <a:pt x="9972" y="13"/>
                    <a:pt x="9972" y="8"/>
                  </a:cubicBezTo>
                  <a:cubicBezTo>
                    <a:pt x="9972" y="4"/>
                    <a:pt x="9975" y="0"/>
                    <a:pt x="9980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34440" y="4219560"/>
              <a:ext cx="4642560" cy="927000"/>
              <a:chOff x="334440" y="4219560"/>
              <a:chExt cx="4642560" cy="927000"/>
            </a:xfrm>
          </p:grpSpPr>
          <p:sp>
            <p:nvSpPr>
              <p:cNvPr id="429" name=""/>
              <p:cNvSpPr/>
              <p:nvPr/>
            </p:nvSpPr>
            <p:spPr>
              <a:xfrm>
                <a:off x="334440" y="4219560"/>
                <a:ext cx="4642560" cy="9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4440" y="4219560"/>
                <a:ext cx="4642560" cy="9270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340920" y="4227480"/>
              <a:ext cx="46364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0560" y="42307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5000" y="42307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0920" y="4540320"/>
              <a:ext cx="4636440" cy="604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0920" y="4537080"/>
              <a:ext cx="20520" cy="588960"/>
              <a:chOff x="340920" y="4537080"/>
              <a:chExt cx="20520" cy="588960"/>
            </a:xfrm>
          </p:grpSpPr>
          <p:sp>
            <p:nvSpPr>
              <p:cNvPr id="436" name=""/>
              <p:cNvSpPr/>
              <p:nvPr/>
            </p:nvSpPr>
            <p:spPr>
              <a:xfrm>
                <a:off x="340920" y="453708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42720" y="4537080"/>
                <a:ext cx="1800" cy="588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46680" y="48895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2200" y="48895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998240" y="2976480"/>
              <a:ext cx="2160" cy="217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34440" y="2976480"/>
              <a:ext cx="2160" cy="217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4440" y="5146560"/>
              <a:ext cx="4663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919800" y="2911320"/>
              <a:ext cx="4254120" cy="18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724360" y="47149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иде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812000" y="4786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95280" y="549360"/>
            <a:ext cx="5796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Сорбенты для ТС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оксид алюминия, силикагель, мел, целлюлоза, а также композиции этих материалов со связующими (силуф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Толщина слоя – не более 1 мм.</a:t>
            </a: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724360" y="333360"/>
            <a:ext cx="3097080" cy="5283360"/>
            <a:chOff x="5724360" y="333360"/>
            <a:chExt cx="3097080" cy="5283360"/>
          </a:xfrm>
        </p:grpSpPr>
        <p:grpSp>
          <p:nvGrpSpPr>
            <p:cNvPr id="448" name=""/>
            <p:cNvGrpSpPr/>
            <p:nvPr/>
          </p:nvGrpSpPr>
          <p:grpSpPr>
            <a:xfrm>
              <a:off x="5724360" y="333360"/>
              <a:ext cx="3095640" cy="5283360"/>
              <a:chOff x="5724360" y="333360"/>
              <a:chExt cx="3095640" cy="528336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5724360" y="333360"/>
                <a:ext cx="3095640" cy="5283360"/>
                <a:chOff x="5724360" y="333360"/>
                <a:chExt cx="3095640" cy="5283360"/>
              </a:xfrm>
            </p:grpSpPr>
            <p:sp>
              <p:nvSpPr>
                <p:cNvPr id="450" name=""/>
                <p:cNvSpPr/>
                <p:nvPr/>
              </p:nvSpPr>
              <p:spPr>
                <a:xfrm rot="16200000">
                  <a:off x="5544000" y="1666080"/>
                  <a:ext cx="4608720" cy="1943280"/>
                </a:xfrm>
                <a:prstGeom prst="rect">
                  <a:avLst/>
                </a:prstGeom>
                <a:solidFill>
                  <a:srgbClr val="ffffcc"/>
                </a:solidFill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24360" y="51595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7381440" y="3502080"/>
                <a:ext cx="142920" cy="3603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597440" y="3718080"/>
                <a:ext cx="142920" cy="3603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97440" y="2638440"/>
                <a:ext cx="142920" cy="3603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453080" y="1630440"/>
                <a:ext cx="287280" cy="5763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029440" y="2854440"/>
                <a:ext cx="215640" cy="5047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29440" y="1125720"/>
                <a:ext cx="217440" cy="7207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6876720" y="4149720"/>
              <a:ext cx="1944720" cy="0"/>
            </a:xfrm>
            <a:prstGeom prst="line">
              <a:avLst/>
            </a:prstGeom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95280" y="321300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Подвижные фа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смеси органических растворителей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501336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редко сорбент заранее пропитывают растворителем 1, а используют в качестве  элюента растворитель 2. Это меняет механизм разделения – молекулы Х  распределяются между двумя жидкими фазами  (не адсорбционная, а  распределительная ТС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539640" y="692280"/>
            <a:ext cx="8088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Требования к подвижной ф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1557360"/>
            <a:ext cx="831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мачивать сорбент, но не взаимодействовать с ним;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Растворять все компоненты пробы (но не одинаково!);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Не затруднять детектирование компонентов;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Легко и количественно удаляться после разд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Низкая вязкость,  доступность, безвред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20400" y="0"/>
            <a:ext cx="87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роявление хроматограммы в методе ТС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8760" y="781200"/>
            <a:ext cx="81709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ыскивание пластины раствором реаген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дитизон, нингидрин и др.), обработка парами и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троскопические методы (УФ, люминесценц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диохимические 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-14760" y="2637000"/>
            <a:ext cx="9100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м пробы должен быть минимальным (около 0,01 мл),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бы не изменить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и правильно опознать компон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55280" y="3645000"/>
            <a:ext cx="7953120" cy="2926440"/>
            <a:chOff x="755280" y="3645000"/>
            <a:chExt cx="7953120" cy="2926440"/>
          </a:xfrm>
        </p:grpSpPr>
        <p:grpSp>
          <p:nvGrpSpPr>
            <p:cNvPr id="467" name=""/>
            <p:cNvGrpSpPr/>
            <p:nvPr/>
          </p:nvGrpSpPr>
          <p:grpSpPr>
            <a:xfrm>
              <a:off x="755280" y="3645000"/>
              <a:ext cx="7953120" cy="2926440"/>
              <a:chOff x="755280" y="3645000"/>
              <a:chExt cx="7953120" cy="292644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1403280" y="3792240"/>
                <a:ext cx="6408720" cy="2303280"/>
                <a:chOff x="1403280" y="3792240"/>
                <a:chExt cx="6408720" cy="23032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403280" y="6095520"/>
                  <a:ext cx="64087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V="1">
                  <a:off x="1403280" y="3792240"/>
                  <a:ext cx="0" cy="23032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755280" y="41479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5280" y="55879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.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02920" y="61117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.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69880" y="6111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66640" y="611172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202920" y="61117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006400" y="611172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мк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30520" y="3645000"/>
                <a:ext cx="43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1618920" y="4292280"/>
              <a:ext cx="144720" cy="14436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50920" y="4292280"/>
              <a:ext cx="144360" cy="21564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8560" y="4292280"/>
              <a:ext cx="144360" cy="21564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48000" y="4292280"/>
              <a:ext cx="217440" cy="288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1640" y="4363920"/>
              <a:ext cx="217440" cy="3600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03640" y="4508280"/>
              <a:ext cx="289080" cy="504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95640" y="4724280"/>
              <a:ext cx="287640" cy="864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59280" y="4868640"/>
              <a:ext cx="433440" cy="1152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66800" y="4330440"/>
              <a:ext cx="71280" cy="71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85840" y="4363920"/>
              <a:ext cx="7128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19280" y="4410000"/>
              <a:ext cx="7164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82920" y="4518000"/>
              <a:ext cx="7128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08400" y="4822560"/>
              <a:ext cx="71280" cy="71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95720" y="5343480"/>
              <a:ext cx="7164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37120" y="5790960"/>
              <a:ext cx="71640" cy="71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33480" y="4371840"/>
              <a:ext cx="7164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356000" y="1413000"/>
            <a:ext cx="1800360" cy="504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92360" y="1125360"/>
            <a:ext cx="3383280" cy="5589720"/>
          </a:xfrm>
          <a:prstGeom prst="can">
            <a:avLst>
              <a:gd name="adj" fmla="val 4041"/>
            </a:avLst>
          </a:prstGeom>
          <a:solidFill>
            <a:srgbClr val="bbe0e3">
              <a:alpha val="16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71920" y="5937120"/>
            <a:ext cx="3384360" cy="693720"/>
          </a:xfrm>
          <a:prstGeom prst="can">
            <a:avLst>
              <a:gd name="adj" fmla="val 15333"/>
            </a:avLst>
          </a:prstGeom>
          <a:solidFill>
            <a:srgbClr val="bbe0e3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56000" y="5516640"/>
            <a:ext cx="1800360" cy="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356000" y="1844640"/>
            <a:ext cx="1800360" cy="0"/>
          </a:xfrm>
          <a:prstGeom prst="line">
            <a:avLst/>
          </a:prstGeom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407200"/>
            <a:ext cx="216000" cy="215640"/>
          </a:xfrm>
          <a:prstGeom prst="ellipse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5411880"/>
            <a:ext cx="215640" cy="21564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24360" y="5411880"/>
            <a:ext cx="216000" cy="215640"/>
          </a:xfrm>
          <a:prstGeom prst="ellipse">
            <a:avLst/>
          </a:prstGeom>
          <a:solidFill>
            <a:srgbClr val="99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859280" y="3141720"/>
            <a:ext cx="0" cy="1727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10152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Индивидуальная характеристика кажд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компонента смеси в методе ТСХ – его подвижность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084720" y="1844640"/>
            <a:ext cx="1871640" cy="3672000"/>
            <a:chOff x="6084720" y="1844640"/>
            <a:chExt cx="1871640" cy="3672000"/>
          </a:xfrm>
        </p:grpSpPr>
        <p:sp>
          <p:nvSpPr>
            <p:cNvPr id="506" name=""/>
            <p:cNvSpPr/>
            <p:nvPr/>
          </p:nvSpPr>
          <p:spPr>
            <a:xfrm>
              <a:off x="6084720" y="5516640"/>
              <a:ext cx="187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84720" y="1844640"/>
              <a:ext cx="187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84720" y="3213000"/>
              <a:ext cx="187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308720" y="1844640"/>
            <a:ext cx="595440" cy="3672000"/>
            <a:chOff x="7308720" y="1844640"/>
            <a:chExt cx="595440" cy="3672000"/>
          </a:xfrm>
        </p:grpSpPr>
        <p:sp>
          <p:nvSpPr>
            <p:cNvPr id="510" name=""/>
            <p:cNvSpPr/>
            <p:nvPr/>
          </p:nvSpPr>
          <p:spPr>
            <a:xfrm>
              <a:off x="7308720" y="1844640"/>
              <a:ext cx="0" cy="3672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stealth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92600" y="2428920"/>
              <a:ext cx="51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12000" y="3213000"/>
            <a:ext cx="800640" cy="2303640"/>
            <a:chOff x="7812000" y="3213000"/>
            <a:chExt cx="800640" cy="2303640"/>
          </a:xfrm>
        </p:grpSpPr>
        <p:sp>
          <p:nvSpPr>
            <p:cNvPr id="513" name=""/>
            <p:cNvSpPr/>
            <p:nvPr/>
          </p:nvSpPr>
          <p:spPr>
            <a:xfrm>
              <a:off x="7878600" y="4062240"/>
              <a:ext cx="73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12000" y="3213000"/>
              <a:ext cx="0" cy="2303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7093080" y="5589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ст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9640" y="2637000"/>
            <a:ext cx="23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4760" y="1700280"/>
            <a:ext cx="182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21440" y="13413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фин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3448080"/>
            <a:ext cx="28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природы сорб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рбента и элюен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от концентрации сорбата  и присутствия примесей не завис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50637E-006 L 0.00399 -0.44125 E">
                                      <p:cBhvr>
                                        <p:cTn id="237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4276E-006 L 0.00399 -0.1161 E">
                                      <p:cBhvr>
                                        <p:cTn id="239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241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68360" y="20160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 ТСХ.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Двумерная хроматограф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смеси крас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331280" y="1779480"/>
            <a:ext cx="6531120" cy="2577240"/>
            <a:chOff x="1331280" y="1779480"/>
            <a:chExt cx="6531120" cy="2577240"/>
          </a:xfrm>
        </p:grpSpPr>
        <p:sp>
          <p:nvSpPr>
            <p:cNvPr id="522" name=""/>
            <p:cNvSpPr/>
            <p:nvPr/>
          </p:nvSpPr>
          <p:spPr>
            <a:xfrm>
              <a:off x="2010240" y="1779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97800" y="17794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520" y="177948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07760" y="17794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19400" y="17794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96880" y="1779480"/>
              <a:ext cx="55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010600" y="206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75760" y="206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31280" y="23605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31280" y="2840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02560" y="2840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31280" y="33163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10600" y="37879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31720" y="4097160"/>
              <a:ext cx="32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Ф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34200" y="4097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15920" y="4097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68560" y="4070520"/>
              <a:ext cx="89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07880" y="4097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04120" y="4097160"/>
              <a:ext cx="32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Ф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03720" y="4097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85080" y="4097160"/>
              <a:ext cx="16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05040" y="4070520"/>
              <a:ext cx="17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6240" y="4097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11400" y="4097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1503360" y="2060640"/>
              <a:ext cx="1723680" cy="1866600"/>
              <a:chOff x="1503360" y="2060640"/>
              <a:chExt cx="1723680" cy="1866600"/>
            </a:xfrm>
          </p:grpSpPr>
          <p:sp>
            <p:nvSpPr>
              <p:cNvPr id="547" name=""/>
              <p:cNvSpPr/>
              <p:nvPr/>
            </p:nvSpPr>
            <p:spPr>
              <a:xfrm>
                <a:off x="1503360" y="2060640"/>
                <a:ext cx="1723680" cy="18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03360" y="2060640"/>
                <a:ext cx="1723680" cy="18666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700440" y="2060640"/>
              <a:ext cx="1792080" cy="1920600"/>
              <a:chOff x="3700440" y="2060640"/>
              <a:chExt cx="1792080" cy="1920600"/>
            </a:xfrm>
          </p:grpSpPr>
          <p:sp>
            <p:nvSpPr>
              <p:cNvPr id="550" name=""/>
              <p:cNvSpPr/>
              <p:nvPr/>
            </p:nvSpPr>
            <p:spPr>
              <a:xfrm>
                <a:off x="3700440" y="2060640"/>
                <a:ext cx="1792080" cy="19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700440" y="2060640"/>
                <a:ext cx="1792080" cy="19206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1692360" y="3638520"/>
              <a:ext cx="167760" cy="159840"/>
              <a:chOff x="1692360" y="3638520"/>
              <a:chExt cx="167760" cy="159840"/>
            </a:xfrm>
          </p:grpSpPr>
          <p:sp>
            <p:nvSpPr>
              <p:cNvPr id="553" name=""/>
              <p:cNvSpPr/>
              <p:nvPr/>
            </p:nvSpPr>
            <p:spPr>
              <a:xfrm>
                <a:off x="1692360" y="3638520"/>
                <a:ext cx="167760" cy="1598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92360" y="3638520"/>
                <a:ext cx="167760" cy="1598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897200" y="3703680"/>
              <a:ext cx="1282680" cy="11160"/>
            </a:xfrm>
            <a:custGeom>
              <a:avLst/>
              <a:gdLst/>
              <a:ahLst/>
              <a:rect l="l" t="t" r="r" b="b"/>
              <a:pathLst>
                <a:path w="7137" h="66">
                  <a:moveTo>
                    <a:pt x="34" y="0"/>
                  </a:moveTo>
                  <a:lnTo>
                    <a:pt x="34" y="0"/>
                  </a:lnTo>
                  <a:cubicBezTo>
                    <a:pt x="52" y="0"/>
                    <a:pt x="67" y="15"/>
                    <a:pt x="67" y="33"/>
                  </a:cubicBezTo>
                  <a:cubicBezTo>
                    <a:pt x="67" y="52"/>
                    <a:pt x="52" y="66"/>
                    <a:pt x="34" y="66"/>
                  </a:cubicBezTo>
                  <a:lnTo>
                    <a:pt x="34" y="66"/>
                  </a:lnTo>
                  <a:cubicBezTo>
                    <a:pt x="15" y="66"/>
                    <a:pt x="0" y="52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  <a:moveTo>
                    <a:pt x="167" y="0"/>
                  </a:moveTo>
                  <a:lnTo>
                    <a:pt x="167" y="0"/>
                  </a:lnTo>
                  <a:cubicBezTo>
                    <a:pt x="186" y="0"/>
                    <a:pt x="201" y="15"/>
                    <a:pt x="201" y="33"/>
                  </a:cubicBezTo>
                  <a:cubicBezTo>
                    <a:pt x="201" y="52"/>
                    <a:pt x="186" y="66"/>
                    <a:pt x="167" y="66"/>
                  </a:cubicBezTo>
                  <a:lnTo>
                    <a:pt x="167" y="66"/>
                  </a:lnTo>
                  <a:cubicBezTo>
                    <a:pt x="149" y="66"/>
                    <a:pt x="134" y="52"/>
                    <a:pt x="134" y="33"/>
                  </a:cubicBezTo>
                  <a:cubicBezTo>
                    <a:pt x="134" y="15"/>
                    <a:pt x="149" y="0"/>
                    <a:pt x="167" y="0"/>
                  </a:cubicBezTo>
                  <a:close/>
                  <a:moveTo>
                    <a:pt x="301" y="0"/>
                  </a:moveTo>
                  <a:lnTo>
                    <a:pt x="301" y="0"/>
                  </a:lnTo>
                  <a:cubicBezTo>
                    <a:pt x="319" y="0"/>
                    <a:pt x="334" y="15"/>
                    <a:pt x="334" y="33"/>
                  </a:cubicBezTo>
                  <a:cubicBezTo>
                    <a:pt x="334" y="52"/>
                    <a:pt x="319" y="66"/>
                    <a:pt x="301" y="66"/>
                  </a:cubicBezTo>
                  <a:lnTo>
                    <a:pt x="301" y="66"/>
                  </a:lnTo>
                  <a:cubicBezTo>
                    <a:pt x="282" y="66"/>
                    <a:pt x="267" y="52"/>
                    <a:pt x="267" y="33"/>
                  </a:cubicBezTo>
                  <a:cubicBezTo>
                    <a:pt x="267" y="15"/>
                    <a:pt x="282" y="0"/>
                    <a:pt x="301" y="0"/>
                  </a:cubicBezTo>
                  <a:close/>
                  <a:moveTo>
                    <a:pt x="434" y="0"/>
                  </a:moveTo>
                  <a:lnTo>
                    <a:pt x="434" y="0"/>
                  </a:lnTo>
                  <a:cubicBezTo>
                    <a:pt x="452" y="0"/>
                    <a:pt x="467" y="15"/>
                    <a:pt x="467" y="33"/>
                  </a:cubicBezTo>
                  <a:cubicBezTo>
                    <a:pt x="467" y="52"/>
                    <a:pt x="452" y="66"/>
                    <a:pt x="434" y="66"/>
                  </a:cubicBezTo>
                  <a:lnTo>
                    <a:pt x="434" y="66"/>
                  </a:lnTo>
                  <a:cubicBezTo>
                    <a:pt x="416" y="66"/>
                    <a:pt x="401" y="52"/>
                    <a:pt x="401" y="33"/>
                  </a:cubicBezTo>
                  <a:cubicBezTo>
                    <a:pt x="401" y="15"/>
                    <a:pt x="416" y="0"/>
                    <a:pt x="434" y="0"/>
                  </a:cubicBezTo>
                  <a:close/>
                  <a:moveTo>
                    <a:pt x="567" y="0"/>
                  </a:moveTo>
                  <a:lnTo>
                    <a:pt x="567" y="0"/>
                  </a:lnTo>
                  <a:cubicBezTo>
                    <a:pt x="586" y="0"/>
                    <a:pt x="601" y="15"/>
                    <a:pt x="601" y="33"/>
                  </a:cubicBezTo>
                  <a:cubicBezTo>
                    <a:pt x="601" y="52"/>
                    <a:pt x="586" y="66"/>
                    <a:pt x="567" y="66"/>
                  </a:cubicBezTo>
                  <a:lnTo>
                    <a:pt x="567" y="66"/>
                  </a:lnTo>
                  <a:cubicBezTo>
                    <a:pt x="549" y="66"/>
                    <a:pt x="534" y="52"/>
                    <a:pt x="534" y="33"/>
                  </a:cubicBezTo>
                  <a:cubicBezTo>
                    <a:pt x="534" y="15"/>
                    <a:pt x="549" y="0"/>
                    <a:pt x="567" y="0"/>
                  </a:cubicBezTo>
                  <a:close/>
                  <a:moveTo>
                    <a:pt x="701" y="0"/>
                  </a:moveTo>
                  <a:lnTo>
                    <a:pt x="701" y="0"/>
                  </a:lnTo>
                  <a:cubicBezTo>
                    <a:pt x="719" y="0"/>
                    <a:pt x="734" y="15"/>
                    <a:pt x="734" y="33"/>
                  </a:cubicBezTo>
                  <a:cubicBezTo>
                    <a:pt x="734" y="52"/>
                    <a:pt x="719" y="66"/>
                    <a:pt x="701" y="66"/>
                  </a:cubicBezTo>
                  <a:lnTo>
                    <a:pt x="701" y="66"/>
                  </a:lnTo>
                  <a:cubicBezTo>
                    <a:pt x="682" y="66"/>
                    <a:pt x="667" y="52"/>
                    <a:pt x="667" y="33"/>
                  </a:cubicBezTo>
                  <a:cubicBezTo>
                    <a:pt x="667" y="15"/>
                    <a:pt x="682" y="0"/>
                    <a:pt x="701" y="0"/>
                  </a:cubicBezTo>
                  <a:close/>
                  <a:moveTo>
                    <a:pt x="834" y="0"/>
                  </a:moveTo>
                  <a:lnTo>
                    <a:pt x="834" y="0"/>
                  </a:lnTo>
                  <a:cubicBezTo>
                    <a:pt x="853" y="0"/>
                    <a:pt x="868" y="15"/>
                    <a:pt x="868" y="33"/>
                  </a:cubicBezTo>
                  <a:cubicBezTo>
                    <a:pt x="868" y="52"/>
                    <a:pt x="853" y="66"/>
                    <a:pt x="834" y="66"/>
                  </a:cubicBezTo>
                  <a:lnTo>
                    <a:pt x="834" y="66"/>
                  </a:lnTo>
                  <a:cubicBezTo>
                    <a:pt x="816" y="66"/>
                    <a:pt x="801" y="52"/>
                    <a:pt x="801" y="33"/>
                  </a:cubicBezTo>
                  <a:cubicBezTo>
                    <a:pt x="801" y="15"/>
                    <a:pt x="816" y="0"/>
                    <a:pt x="834" y="0"/>
                  </a:cubicBezTo>
                  <a:close/>
                  <a:moveTo>
                    <a:pt x="968" y="0"/>
                  </a:moveTo>
                  <a:lnTo>
                    <a:pt x="968" y="0"/>
                  </a:lnTo>
                  <a:cubicBezTo>
                    <a:pt x="986" y="0"/>
                    <a:pt x="1001" y="15"/>
                    <a:pt x="1001" y="33"/>
                  </a:cubicBezTo>
                  <a:cubicBezTo>
                    <a:pt x="1001" y="52"/>
                    <a:pt x="986" y="66"/>
                    <a:pt x="968" y="66"/>
                  </a:cubicBezTo>
                  <a:lnTo>
                    <a:pt x="968" y="66"/>
                  </a:lnTo>
                  <a:cubicBezTo>
                    <a:pt x="949" y="66"/>
                    <a:pt x="934" y="52"/>
                    <a:pt x="934" y="33"/>
                  </a:cubicBezTo>
                  <a:cubicBezTo>
                    <a:pt x="934" y="15"/>
                    <a:pt x="949" y="0"/>
                    <a:pt x="968" y="0"/>
                  </a:cubicBezTo>
                  <a:close/>
                  <a:moveTo>
                    <a:pt x="1101" y="0"/>
                  </a:moveTo>
                  <a:lnTo>
                    <a:pt x="1101" y="0"/>
                  </a:lnTo>
                  <a:cubicBezTo>
                    <a:pt x="1119" y="0"/>
                    <a:pt x="1134" y="15"/>
                    <a:pt x="1134" y="33"/>
                  </a:cubicBezTo>
                  <a:cubicBezTo>
                    <a:pt x="1134" y="52"/>
                    <a:pt x="1119" y="66"/>
                    <a:pt x="1101" y="66"/>
                  </a:cubicBezTo>
                  <a:lnTo>
                    <a:pt x="1101" y="66"/>
                  </a:lnTo>
                  <a:cubicBezTo>
                    <a:pt x="1083" y="66"/>
                    <a:pt x="1068" y="52"/>
                    <a:pt x="1068" y="33"/>
                  </a:cubicBezTo>
                  <a:cubicBezTo>
                    <a:pt x="1068" y="15"/>
                    <a:pt x="1083" y="0"/>
                    <a:pt x="1101" y="0"/>
                  </a:cubicBezTo>
                  <a:close/>
                  <a:moveTo>
                    <a:pt x="1234" y="0"/>
                  </a:moveTo>
                  <a:lnTo>
                    <a:pt x="1234" y="0"/>
                  </a:lnTo>
                  <a:cubicBezTo>
                    <a:pt x="1253" y="0"/>
                    <a:pt x="1268" y="15"/>
                    <a:pt x="1268" y="33"/>
                  </a:cubicBezTo>
                  <a:cubicBezTo>
                    <a:pt x="1268" y="52"/>
                    <a:pt x="1253" y="66"/>
                    <a:pt x="1234" y="66"/>
                  </a:cubicBezTo>
                  <a:lnTo>
                    <a:pt x="1234" y="66"/>
                  </a:lnTo>
                  <a:cubicBezTo>
                    <a:pt x="1216" y="66"/>
                    <a:pt x="1201" y="52"/>
                    <a:pt x="1201" y="33"/>
                  </a:cubicBezTo>
                  <a:cubicBezTo>
                    <a:pt x="1201" y="15"/>
                    <a:pt x="1216" y="0"/>
                    <a:pt x="1234" y="0"/>
                  </a:cubicBezTo>
                  <a:close/>
                  <a:moveTo>
                    <a:pt x="1368" y="0"/>
                  </a:moveTo>
                  <a:lnTo>
                    <a:pt x="1368" y="0"/>
                  </a:lnTo>
                  <a:cubicBezTo>
                    <a:pt x="1386" y="0"/>
                    <a:pt x="1401" y="15"/>
                    <a:pt x="1401" y="33"/>
                  </a:cubicBezTo>
                  <a:cubicBezTo>
                    <a:pt x="1401" y="52"/>
                    <a:pt x="1386" y="66"/>
                    <a:pt x="1368" y="66"/>
                  </a:cubicBezTo>
                  <a:lnTo>
                    <a:pt x="1368" y="66"/>
                  </a:lnTo>
                  <a:cubicBezTo>
                    <a:pt x="1349" y="66"/>
                    <a:pt x="1334" y="52"/>
                    <a:pt x="1334" y="33"/>
                  </a:cubicBezTo>
                  <a:cubicBezTo>
                    <a:pt x="1334" y="15"/>
                    <a:pt x="1349" y="0"/>
                    <a:pt x="1368" y="0"/>
                  </a:cubicBezTo>
                  <a:close/>
                  <a:moveTo>
                    <a:pt x="1501" y="0"/>
                  </a:moveTo>
                  <a:lnTo>
                    <a:pt x="1501" y="0"/>
                  </a:lnTo>
                  <a:cubicBezTo>
                    <a:pt x="1520" y="0"/>
                    <a:pt x="1535" y="15"/>
                    <a:pt x="1535" y="33"/>
                  </a:cubicBezTo>
                  <a:cubicBezTo>
                    <a:pt x="1535" y="52"/>
                    <a:pt x="1520" y="66"/>
                    <a:pt x="1501" y="66"/>
                  </a:cubicBezTo>
                  <a:lnTo>
                    <a:pt x="1501" y="66"/>
                  </a:lnTo>
                  <a:cubicBezTo>
                    <a:pt x="1483" y="66"/>
                    <a:pt x="1468" y="52"/>
                    <a:pt x="1468" y="33"/>
                  </a:cubicBezTo>
                  <a:cubicBezTo>
                    <a:pt x="1468" y="15"/>
                    <a:pt x="1483" y="0"/>
                    <a:pt x="1501" y="0"/>
                  </a:cubicBezTo>
                  <a:close/>
                  <a:moveTo>
                    <a:pt x="1635" y="0"/>
                  </a:moveTo>
                  <a:lnTo>
                    <a:pt x="1635" y="0"/>
                  </a:lnTo>
                  <a:cubicBezTo>
                    <a:pt x="1653" y="0"/>
                    <a:pt x="1668" y="15"/>
                    <a:pt x="1668" y="33"/>
                  </a:cubicBezTo>
                  <a:cubicBezTo>
                    <a:pt x="1668" y="52"/>
                    <a:pt x="1653" y="66"/>
                    <a:pt x="1635" y="66"/>
                  </a:cubicBezTo>
                  <a:lnTo>
                    <a:pt x="1635" y="66"/>
                  </a:lnTo>
                  <a:cubicBezTo>
                    <a:pt x="1616" y="66"/>
                    <a:pt x="1601" y="52"/>
                    <a:pt x="1601" y="33"/>
                  </a:cubicBezTo>
                  <a:cubicBezTo>
                    <a:pt x="1601" y="15"/>
                    <a:pt x="1616" y="0"/>
                    <a:pt x="1635" y="0"/>
                  </a:cubicBezTo>
                  <a:close/>
                  <a:moveTo>
                    <a:pt x="1768" y="0"/>
                  </a:moveTo>
                  <a:lnTo>
                    <a:pt x="1768" y="0"/>
                  </a:lnTo>
                  <a:cubicBezTo>
                    <a:pt x="1786" y="0"/>
                    <a:pt x="1801" y="15"/>
                    <a:pt x="1801" y="33"/>
                  </a:cubicBezTo>
                  <a:cubicBezTo>
                    <a:pt x="1801" y="52"/>
                    <a:pt x="1786" y="66"/>
                    <a:pt x="1768" y="66"/>
                  </a:cubicBezTo>
                  <a:lnTo>
                    <a:pt x="1768" y="66"/>
                  </a:lnTo>
                  <a:cubicBezTo>
                    <a:pt x="1750" y="66"/>
                    <a:pt x="1735" y="52"/>
                    <a:pt x="1735" y="33"/>
                  </a:cubicBezTo>
                  <a:cubicBezTo>
                    <a:pt x="1735" y="15"/>
                    <a:pt x="1750" y="0"/>
                    <a:pt x="1768" y="0"/>
                  </a:cubicBezTo>
                  <a:close/>
                  <a:moveTo>
                    <a:pt x="1901" y="0"/>
                  </a:moveTo>
                  <a:lnTo>
                    <a:pt x="1901" y="0"/>
                  </a:lnTo>
                  <a:cubicBezTo>
                    <a:pt x="1920" y="0"/>
                    <a:pt x="1935" y="15"/>
                    <a:pt x="1935" y="33"/>
                  </a:cubicBezTo>
                  <a:cubicBezTo>
                    <a:pt x="1935" y="52"/>
                    <a:pt x="1920" y="66"/>
                    <a:pt x="1901" y="66"/>
                  </a:cubicBezTo>
                  <a:lnTo>
                    <a:pt x="1901" y="66"/>
                  </a:lnTo>
                  <a:cubicBezTo>
                    <a:pt x="1883" y="66"/>
                    <a:pt x="1868" y="52"/>
                    <a:pt x="1868" y="33"/>
                  </a:cubicBezTo>
                  <a:cubicBezTo>
                    <a:pt x="1868" y="15"/>
                    <a:pt x="1883" y="0"/>
                    <a:pt x="1901" y="0"/>
                  </a:cubicBezTo>
                  <a:close/>
                  <a:moveTo>
                    <a:pt x="2035" y="0"/>
                  </a:moveTo>
                  <a:lnTo>
                    <a:pt x="2035" y="0"/>
                  </a:lnTo>
                  <a:cubicBezTo>
                    <a:pt x="2053" y="0"/>
                    <a:pt x="2068" y="15"/>
                    <a:pt x="2068" y="33"/>
                  </a:cubicBezTo>
                  <a:cubicBezTo>
                    <a:pt x="2068" y="52"/>
                    <a:pt x="2053" y="66"/>
                    <a:pt x="2035" y="66"/>
                  </a:cubicBezTo>
                  <a:lnTo>
                    <a:pt x="2035" y="66"/>
                  </a:lnTo>
                  <a:cubicBezTo>
                    <a:pt x="2016" y="66"/>
                    <a:pt x="2001" y="52"/>
                    <a:pt x="2001" y="33"/>
                  </a:cubicBezTo>
                  <a:cubicBezTo>
                    <a:pt x="2001" y="15"/>
                    <a:pt x="2016" y="0"/>
                    <a:pt x="2035" y="0"/>
                  </a:cubicBezTo>
                  <a:close/>
                  <a:moveTo>
                    <a:pt x="2168" y="0"/>
                  </a:moveTo>
                  <a:lnTo>
                    <a:pt x="2168" y="0"/>
                  </a:lnTo>
                  <a:cubicBezTo>
                    <a:pt x="2187" y="0"/>
                    <a:pt x="2202" y="15"/>
                    <a:pt x="2202" y="33"/>
                  </a:cubicBezTo>
                  <a:cubicBezTo>
                    <a:pt x="2202" y="52"/>
                    <a:pt x="2187" y="66"/>
                    <a:pt x="2168" y="66"/>
                  </a:cubicBezTo>
                  <a:lnTo>
                    <a:pt x="2168" y="66"/>
                  </a:lnTo>
                  <a:cubicBezTo>
                    <a:pt x="2150" y="66"/>
                    <a:pt x="2135" y="52"/>
                    <a:pt x="2135" y="33"/>
                  </a:cubicBezTo>
                  <a:cubicBezTo>
                    <a:pt x="2135" y="15"/>
                    <a:pt x="2150" y="0"/>
                    <a:pt x="2168" y="0"/>
                  </a:cubicBezTo>
                  <a:close/>
                  <a:moveTo>
                    <a:pt x="2302" y="0"/>
                  </a:moveTo>
                  <a:lnTo>
                    <a:pt x="2302" y="0"/>
                  </a:lnTo>
                  <a:cubicBezTo>
                    <a:pt x="2320" y="0"/>
                    <a:pt x="2335" y="15"/>
                    <a:pt x="2335" y="33"/>
                  </a:cubicBezTo>
                  <a:cubicBezTo>
                    <a:pt x="2335" y="52"/>
                    <a:pt x="2320" y="66"/>
                    <a:pt x="2302" y="66"/>
                  </a:cubicBezTo>
                  <a:lnTo>
                    <a:pt x="2302" y="66"/>
                  </a:lnTo>
                  <a:cubicBezTo>
                    <a:pt x="2283" y="66"/>
                    <a:pt x="2268" y="52"/>
                    <a:pt x="2268" y="33"/>
                  </a:cubicBezTo>
                  <a:cubicBezTo>
                    <a:pt x="2268" y="15"/>
                    <a:pt x="2283" y="0"/>
                    <a:pt x="2302" y="0"/>
                  </a:cubicBezTo>
                  <a:close/>
                  <a:moveTo>
                    <a:pt x="2435" y="0"/>
                  </a:moveTo>
                  <a:lnTo>
                    <a:pt x="2435" y="0"/>
                  </a:lnTo>
                  <a:cubicBezTo>
                    <a:pt x="2453" y="0"/>
                    <a:pt x="2468" y="15"/>
                    <a:pt x="2468" y="33"/>
                  </a:cubicBezTo>
                  <a:cubicBezTo>
                    <a:pt x="2468" y="52"/>
                    <a:pt x="2453" y="66"/>
                    <a:pt x="2435" y="66"/>
                  </a:cubicBezTo>
                  <a:lnTo>
                    <a:pt x="2435" y="66"/>
                  </a:lnTo>
                  <a:cubicBezTo>
                    <a:pt x="2417" y="66"/>
                    <a:pt x="2402" y="52"/>
                    <a:pt x="2402" y="33"/>
                  </a:cubicBezTo>
                  <a:cubicBezTo>
                    <a:pt x="2402" y="15"/>
                    <a:pt x="2417" y="0"/>
                    <a:pt x="2435" y="0"/>
                  </a:cubicBezTo>
                  <a:close/>
                  <a:moveTo>
                    <a:pt x="2568" y="0"/>
                  </a:moveTo>
                  <a:lnTo>
                    <a:pt x="2568" y="0"/>
                  </a:lnTo>
                  <a:cubicBezTo>
                    <a:pt x="2587" y="0"/>
                    <a:pt x="2602" y="15"/>
                    <a:pt x="2602" y="33"/>
                  </a:cubicBezTo>
                  <a:cubicBezTo>
                    <a:pt x="2602" y="52"/>
                    <a:pt x="2587" y="66"/>
                    <a:pt x="2568" y="66"/>
                  </a:cubicBezTo>
                  <a:lnTo>
                    <a:pt x="2568" y="66"/>
                  </a:lnTo>
                  <a:cubicBezTo>
                    <a:pt x="2550" y="66"/>
                    <a:pt x="2535" y="52"/>
                    <a:pt x="2535" y="33"/>
                  </a:cubicBezTo>
                  <a:cubicBezTo>
                    <a:pt x="2535" y="15"/>
                    <a:pt x="2550" y="0"/>
                    <a:pt x="2568" y="0"/>
                  </a:cubicBezTo>
                  <a:close/>
                  <a:moveTo>
                    <a:pt x="2702" y="0"/>
                  </a:moveTo>
                  <a:lnTo>
                    <a:pt x="2702" y="0"/>
                  </a:lnTo>
                  <a:cubicBezTo>
                    <a:pt x="2720" y="0"/>
                    <a:pt x="2735" y="15"/>
                    <a:pt x="2735" y="33"/>
                  </a:cubicBezTo>
                  <a:cubicBezTo>
                    <a:pt x="2735" y="52"/>
                    <a:pt x="2720" y="66"/>
                    <a:pt x="2702" y="66"/>
                  </a:cubicBezTo>
                  <a:lnTo>
                    <a:pt x="2702" y="66"/>
                  </a:lnTo>
                  <a:cubicBezTo>
                    <a:pt x="2683" y="66"/>
                    <a:pt x="2668" y="52"/>
                    <a:pt x="2668" y="33"/>
                  </a:cubicBezTo>
                  <a:cubicBezTo>
                    <a:pt x="2668" y="15"/>
                    <a:pt x="2683" y="0"/>
                    <a:pt x="2702" y="0"/>
                  </a:cubicBezTo>
                  <a:close/>
                  <a:moveTo>
                    <a:pt x="2835" y="0"/>
                  </a:moveTo>
                  <a:lnTo>
                    <a:pt x="2835" y="0"/>
                  </a:lnTo>
                  <a:cubicBezTo>
                    <a:pt x="2854" y="0"/>
                    <a:pt x="2869" y="15"/>
                    <a:pt x="2869" y="33"/>
                  </a:cubicBezTo>
                  <a:cubicBezTo>
                    <a:pt x="2869" y="52"/>
                    <a:pt x="2854" y="66"/>
                    <a:pt x="2835" y="66"/>
                  </a:cubicBezTo>
                  <a:lnTo>
                    <a:pt x="2835" y="66"/>
                  </a:lnTo>
                  <a:cubicBezTo>
                    <a:pt x="2817" y="66"/>
                    <a:pt x="2802" y="52"/>
                    <a:pt x="2802" y="33"/>
                  </a:cubicBezTo>
                  <a:cubicBezTo>
                    <a:pt x="2802" y="15"/>
                    <a:pt x="2817" y="0"/>
                    <a:pt x="2835" y="0"/>
                  </a:cubicBezTo>
                  <a:close/>
                  <a:moveTo>
                    <a:pt x="2969" y="0"/>
                  </a:moveTo>
                  <a:lnTo>
                    <a:pt x="2969" y="0"/>
                  </a:lnTo>
                  <a:cubicBezTo>
                    <a:pt x="2987" y="0"/>
                    <a:pt x="3002" y="15"/>
                    <a:pt x="3002" y="33"/>
                  </a:cubicBezTo>
                  <a:cubicBezTo>
                    <a:pt x="3002" y="52"/>
                    <a:pt x="2987" y="66"/>
                    <a:pt x="2969" y="66"/>
                  </a:cubicBezTo>
                  <a:lnTo>
                    <a:pt x="2969" y="66"/>
                  </a:lnTo>
                  <a:cubicBezTo>
                    <a:pt x="2950" y="66"/>
                    <a:pt x="2935" y="52"/>
                    <a:pt x="2935" y="33"/>
                  </a:cubicBezTo>
                  <a:cubicBezTo>
                    <a:pt x="2935" y="15"/>
                    <a:pt x="2950" y="0"/>
                    <a:pt x="2969" y="0"/>
                  </a:cubicBezTo>
                  <a:close/>
                  <a:moveTo>
                    <a:pt x="3102" y="0"/>
                  </a:moveTo>
                  <a:lnTo>
                    <a:pt x="3102" y="0"/>
                  </a:lnTo>
                  <a:cubicBezTo>
                    <a:pt x="3120" y="0"/>
                    <a:pt x="3135" y="15"/>
                    <a:pt x="3135" y="33"/>
                  </a:cubicBezTo>
                  <a:cubicBezTo>
                    <a:pt x="3135" y="52"/>
                    <a:pt x="3120" y="66"/>
                    <a:pt x="3102" y="66"/>
                  </a:cubicBezTo>
                  <a:lnTo>
                    <a:pt x="3102" y="66"/>
                  </a:lnTo>
                  <a:cubicBezTo>
                    <a:pt x="3084" y="66"/>
                    <a:pt x="3069" y="52"/>
                    <a:pt x="3069" y="33"/>
                  </a:cubicBezTo>
                  <a:cubicBezTo>
                    <a:pt x="3069" y="15"/>
                    <a:pt x="3084" y="0"/>
                    <a:pt x="3102" y="0"/>
                  </a:cubicBezTo>
                  <a:close/>
                  <a:moveTo>
                    <a:pt x="3235" y="0"/>
                  </a:moveTo>
                  <a:lnTo>
                    <a:pt x="3235" y="0"/>
                  </a:lnTo>
                  <a:cubicBezTo>
                    <a:pt x="3254" y="0"/>
                    <a:pt x="3269" y="15"/>
                    <a:pt x="3269" y="33"/>
                  </a:cubicBezTo>
                  <a:cubicBezTo>
                    <a:pt x="3269" y="52"/>
                    <a:pt x="3254" y="66"/>
                    <a:pt x="3235" y="66"/>
                  </a:cubicBezTo>
                  <a:lnTo>
                    <a:pt x="3235" y="66"/>
                  </a:lnTo>
                  <a:cubicBezTo>
                    <a:pt x="3217" y="66"/>
                    <a:pt x="3202" y="52"/>
                    <a:pt x="3202" y="33"/>
                  </a:cubicBezTo>
                  <a:cubicBezTo>
                    <a:pt x="3202" y="15"/>
                    <a:pt x="3217" y="0"/>
                    <a:pt x="3235" y="0"/>
                  </a:cubicBezTo>
                  <a:close/>
                  <a:moveTo>
                    <a:pt x="3369" y="0"/>
                  </a:moveTo>
                  <a:lnTo>
                    <a:pt x="3369" y="0"/>
                  </a:lnTo>
                  <a:cubicBezTo>
                    <a:pt x="3387" y="0"/>
                    <a:pt x="3402" y="15"/>
                    <a:pt x="3402" y="33"/>
                  </a:cubicBezTo>
                  <a:cubicBezTo>
                    <a:pt x="3402" y="52"/>
                    <a:pt x="3387" y="66"/>
                    <a:pt x="3369" y="66"/>
                  </a:cubicBezTo>
                  <a:lnTo>
                    <a:pt x="3369" y="66"/>
                  </a:lnTo>
                  <a:cubicBezTo>
                    <a:pt x="3350" y="66"/>
                    <a:pt x="3335" y="52"/>
                    <a:pt x="3335" y="33"/>
                  </a:cubicBezTo>
                  <a:cubicBezTo>
                    <a:pt x="3335" y="15"/>
                    <a:pt x="3350" y="0"/>
                    <a:pt x="3369" y="0"/>
                  </a:cubicBezTo>
                  <a:close/>
                  <a:moveTo>
                    <a:pt x="3502" y="0"/>
                  </a:moveTo>
                  <a:lnTo>
                    <a:pt x="3502" y="0"/>
                  </a:lnTo>
                  <a:cubicBezTo>
                    <a:pt x="3521" y="0"/>
                    <a:pt x="3536" y="15"/>
                    <a:pt x="3536" y="33"/>
                  </a:cubicBezTo>
                  <a:cubicBezTo>
                    <a:pt x="3536" y="52"/>
                    <a:pt x="3521" y="66"/>
                    <a:pt x="3502" y="66"/>
                  </a:cubicBezTo>
                  <a:lnTo>
                    <a:pt x="3502" y="66"/>
                  </a:lnTo>
                  <a:cubicBezTo>
                    <a:pt x="3484" y="66"/>
                    <a:pt x="3469" y="52"/>
                    <a:pt x="3469" y="33"/>
                  </a:cubicBezTo>
                  <a:cubicBezTo>
                    <a:pt x="3469" y="15"/>
                    <a:pt x="3484" y="0"/>
                    <a:pt x="3502" y="0"/>
                  </a:cubicBezTo>
                  <a:close/>
                  <a:moveTo>
                    <a:pt x="3636" y="0"/>
                  </a:moveTo>
                  <a:lnTo>
                    <a:pt x="3636" y="0"/>
                  </a:lnTo>
                  <a:cubicBezTo>
                    <a:pt x="3654" y="0"/>
                    <a:pt x="3669" y="15"/>
                    <a:pt x="3669" y="33"/>
                  </a:cubicBezTo>
                  <a:cubicBezTo>
                    <a:pt x="3669" y="52"/>
                    <a:pt x="3654" y="66"/>
                    <a:pt x="3636" y="66"/>
                  </a:cubicBezTo>
                  <a:lnTo>
                    <a:pt x="3636" y="66"/>
                  </a:lnTo>
                  <a:cubicBezTo>
                    <a:pt x="3617" y="66"/>
                    <a:pt x="3602" y="52"/>
                    <a:pt x="3602" y="33"/>
                  </a:cubicBezTo>
                  <a:cubicBezTo>
                    <a:pt x="3602" y="15"/>
                    <a:pt x="3617" y="0"/>
                    <a:pt x="3636" y="0"/>
                  </a:cubicBezTo>
                  <a:close/>
                  <a:moveTo>
                    <a:pt x="3769" y="0"/>
                  </a:moveTo>
                  <a:lnTo>
                    <a:pt x="3769" y="0"/>
                  </a:lnTo>
                  <a:cubicBezTo>
                    <a:pt x="3787" y="0"/>
                    <a:pt x="3802" y="15"/>
                    <a:pt x="3802" y="33"/>
                  </a:cubicBezTo>
                  <a:cubicBezTo>
                    <a:pt x="3802" y="52"/>
                    <a:pt x="3787" y="66"/>
                    <a:pt x="3769" y="66"/>
                  </a:cubicBezTo>
                  <a:lnTo>
                    <a:pt x="3769" y="66"/>
                  </a:lnTo>
                  <a:cubicBezTo>
                    <a:pt x="3751" y="66"/>
                    <a:pt x="3736" y="52"/>
                    <a:pt x="3736" y="33"/>
                  </a:cubicBezTo>
                  <a:cubicBezTo>
                    <a:pt x="3736" y="15"/>
                    <a:pt x="3751" y="0"/>
                    <a:pt x="3769" y="0"/>
                  </a:cubicBezTo>
                  <a:close/>
                  <a:moveTo>
                    <a:pt x="3902" y="0"/>
                  </a:moveTo>
                  <a:lnTo>
                    <a:pt x="3902" y="0"/>
                  </a:lnTo>
                  <a:cubicBezTo>
                    <a:pt x="3921" y="0"/>
                    <a:pt x="3936" y="15"/>
                    <a:pt x="3936" y="33"/>
                  </a:cubicBezTo>
                  <a:cubicBezTo>
                    <a:pt x="3936" y="52"/>
                    <a:pt x="3921" y="66"/>
                    <a:pt x="3902" y="66"/>
                  </a:cubicBezTo>
                  <a:lnTo>
                    <a:pt x="3902" y="66"/>
                  </a:lnTo>
                  <a:cubicBezTo>
                    <a:pt x="3884" y="66"/>
                    <a:pt x="3869" y="52"/>
                    <a:pt x="3869" y="33"/>
                  </a:cubicBezTo>
                  <a:cubicBezTo>
                    <a:pt x="3869" y="15"/>
                    <a:pt x="3884" y="0"/>
                    <a:pt x="3902" y="0"/>
                  </a:cubicBezTo>
                  <a:close/>
                  <a:moveTo>
                    <a:pt x="4036" y="0"/>
                  </a:moveTo>
                  <a:lnTo>
                    <a:pt x="4036" y="0"/>
                  </a:lnTo>
                  <a:cubicBezTo>
                    <a:pt x="4054" y="0"/>
                    <a:pt x="4069" y="15"/>
                    <a:pt x="4069" y="33"/>
                  </a:cubicBezTo>
                  <a:cubicBezTo>
                    <a:pt x="4069" y="52"/>
                    <a:pt x="4054" y="66"/>
                    <a:pt x="4036" y="66"/>
                  </a:cubicBezTo>
                  <a:lnTo>
                    <a:pt x="4036" y="66"/>
                  </a:lnTo>
                  <a:cubicBezTo>
                    <a:pt x="4017" y="66"/>
                    <a:pt x="4002" y="52"/>
                    <a:pt x="4002" y="33"/>
                  </a:cubicBezTo>
                  <a:cubicBezTo>
                    <a:pt x="4002" y="15"/>
                    <a:pt x="4017" y="0"/>
                    <a:pt x="4036" y="0"/>
                  </a:cubicBezTo>
                  <a:close/>
                  <a:moveTo>
                    <a:pt x="4169" y="0"/>
                  </a:moveTo>
                  <a:lnTo>
                    <a:pt x="4169" y="0"/>
                  </a:lnTo>
                  <a:cubicBezTo>
                    <a:pt x="4188" y="0"/>
                    <a:pt x="4203" y="15"/>
                    <a:pt x="4203" y="33"/>
                  </a:cubicBezTo>
                  <a:cubicBezTo>
                    <a:pt x="4203" y="52"/>
                    <a:pt x="4188" y="66"/>
                    <a:pt x="4169" y="66"/>
                  </a:cubicBezTo>
                  <a:lnTo>
                    <a:pt x="4169" y="66"/>
                  </a:lnTo>
                  <a:cubicBezTo>
                    <a:pt x="4151" y="66"/>
                    <a:pt x="4136" y="52"/>
                    <a:pt x="4136" y="33"/>
                  </a:cubicBezTo>
                  <a:cubicBezTo>
                    <a:pt x="4136" y="15"/>
                    <a:pt x="4151" y="0"/>
                    <a:pt x="4169" y="0"/>
                  </a:cubicBezTo>
                  <a:close/>
                  <a:moveTo>
                    <a:pt x="4303" y="0"/>
                  </a:moveTo>
                  <a:lnTo>
                    <a:pt x="4303" y="0"/>
                  </a:lnTo>
                  <a:cubicBezTo>
                    <a:pt x="4321" y="0"/>
                    <a:pt x="4336" y="15"/>
                    <a:pt x="4336" y="33"/>
                  </a:cubicBezTo>
                  <a:cubicBezTo>
                    <a:pt x="4336" y="52"/>
                    <a:pt x="4321" y="66"/>
                    <a:pt x="4303" y="66"/>
                  </a:cubicBezTo>
                  <a:lnTo>
                    <a:pt x="4303" y="66"/>
                  </a:lnTo>
                  <a:cubicBezTo>
                    <a:pt x="4284" y="66"/>
                    <a:pt x="4269" y="52"/>
                    <a:pt x="4269" y="33"/>
                  </a:cubicBezTo>
                  <a:cubicBezTo>
                    <a:pt x="4269" y="15"/>
                    <a:pt x="4284" y="0"/>
                    <a:pt x="4303" y="0"/>
                  </a:cubicBezTo>
                  <a:close/>
                  <a:moveTo>
                    <a:pt x="4436" y="0"/>
                  </a:moveTo>
                  <a:lnTo>
                    <a:pt x="4436" y="0"/>
                  </a:lnTo>
                  <a:cubicBezTo>
                    <a:pt x="4454" y="0"/>
                    <a:pt x="4469" y="15"/>
                    <a:pt x="4469" y="33"/>
                  </a:cubicBezTo>
                  <a:cubicBezTo>
                    <a:pt x="4469" y="52"/>
                    <a:pt x="4454" y="66"/>
                    <a:pt x="4436" y="66"/>
                  </a:cubicBezTo>
                  <a:lnTo>
                    <a:pt x="4436" y="66"/>
                  </a:lnTo>
                  <a:cubicBezTo>
                    <a:pt x="4418" y="66"/>
                    <a:pt x="4403" y="52"/>
                    <a:pt x="4403" y="33"/>
                  </a:cubicBezTo>
                  <a:cubicBezTo>
                    <a:pt x="4403" y="15"/>
                    <a:pt x="4418" y="0"/>
                    <a:pt x="4436" y="0"/>
                  </a:cubicBezTo>
                  <a:close/>
                  <a:moveTo>
                    <a:pt x="4569" y="0"/>
                  </a:moveTo>
                  <a:lnTo>
                    <a:pt x="4569" y="0"/>
                  </a:lnTo>
                  <a:cubicBezTo>
                    <a:pt x="4588" y="0"/>
                    <a:pt x="4603" y="15"/>
                    <a:pt x="4603" y="33"/>
                  </a:cubicBezTo>
                  <a:cubicBezTo>
                    <a:pt x="4603" y="52"/>
                    <a:pt x="4588" y="66"/>
                    <a:pt x="4569" y="66"/>
                  </a:cubicBezTo>
                  <a:lnTo>
                    <a:pt x="4569" y="66"/>
                  </a:lnTo>
                  <a:cubicBezTo>
                    <a:pt x="4551" y="66"/>
                    <a:pt x="4536" y="52"/>
                    <a:pt x="4536" y="33"/>
                  </a:cubicBezTo>
                  <a:cubicBezTo>
                    <a:pt x="4536" y="15"/>
                    <a:pt x="4551" y="0"/>
                    <a:pt x="4569" y="0"/>
                  </a:cubicBezTo>
                  <a:close/>
                  <a:moveTo>
                    <a:pt x="4703" y="0"/>
                  </a:moveTo>
                  <a:lnTo>
                    <a:pt x="4703" y="0"/>
                  </a:lnTo>
                  <a:cubicBezTo>
                    <a:pt x="4721" y="0"/>
                    <a:pt x="4736" y="15"/>
                    <a:pt x="4736" y="33"/>
                  </a:cubicBezTo>
                  <a:cubicBezTo>
                    <a:pt x="4736" y="52"/>
                    <a:pt x="4721" y="66"/>
                    <a:pt x="4703" y="66"/>
                  </a:cubicBezTo>
                  <a:lnTo>
                    <a:pt x="4703" y="66"/>
                  </a:lnTo>
                  <a:cubicBezTo>
                    <a:pt x="4684" y="66"/>
                    <a:pt x="4669" y="52"/>
                    <a:pt x="4669" y="33"/>
                  </a:cubicBezTo>
                  <a:cubicBezTo>
                    <a:pt x="4669" y="15"/>
                    <a:pt x="4684" y="0"/>
                    <a:pt x="4703" y="0"/>
                  </a:cubicBezTo>
                  <a:close/>
                  <a:moveTo>
                    <a:pt x="4836" y="0"/>
                  </a:moveTo>
                  <a:lnTo>
                    <a:pt x="4836" y="0"/>
                  </a:lnTo>
                  <a:cubicBezTo>
                    <a:pt x="4855" y="0"/>
                    <a:pt x="4870" y="15"/>
                    <a:pt x="4870" y="33"/>
                  </a:cubicBezTo>
                  <a:cubicBezTo>
                    <a:pt x="4870" y="52"/>
                    <a:pt x="4855" y="66"/>
                    <a:pt x="4836" y="66"/>
                  </a:cubicBezTo>
                  <a:lnTo>
                    <a:pt x="4836" y="66"/>
                  </a:lnTo>
                  <a:cubicBezTo>
                    <a:pt x="4818" y="66"/>
                    <a:pt x="4803" y="52"/>
                    <a:pt x="4803" y="33"/>
                  </a:cubicBezTo>
                  <a:cubicBezTo>
                    <a:pt x="4803" y="15"/>
                    <a:pt x="4818" y="0"/>
                    <a:pt x="4836" y="0"/>
                  </a:cubicBezTo>
                  <a:close/>
                  <a:moveTo>
                    <a:pt x="4970" y="0"/>
                  </a:moveTo>
                  <a:lnTo>
                    <a:pt x="4970" y="0"/>
                  </a:lnTo>
                  <a:cubicBezTo>
                    <a:pt x="4988" y="0"/>
                    <a:pt x="5003" y="15"/>
                    <a:pt x="5003" y="33"/>
                  </a:cubicBezTo>
                  <a:cubicBezTo>
                    <a:pt x="5003" y="52"/>
                    <a:pt x="4988" y="66"/>
                    <a:pt x="4970" y="66"/>
                  </a:cubicBezTo>
                  <a:lnTo>
                    <a:pt x="4970" y="66"/>
                  </a:lnTo>
                  <a:cubicBezTo>
                    <a:pt x="4951" y="66"/>
                    <a:pt x="4936" y="52"/>
                    <a:pt x="4936" y="33"/>
                  </a:cubicBezTo>
                  <a:cubicBezTo>
                    <a:pt x="4936" y="15"/>
                    <a:pt x="4951" y="0"/>
                    <a:pt x="4970" y="0"/>
                  </a:cubicBezTo>
                  <a:close/>
                  <a:moveTo>
                    <a:pt x="5103" y="0"/>
                  </a:moveTo>
                  <a:lnTo>
                    <a:pt x="5103" y="0"/>
                  </a:lnTo>
                  <a:cubicBezTo>
                    <a:pt x="5121" y="0"/>
                    <a:pt x="5136" y="15"/>
                    <a:pt x="5136" y="33"/>
                  </a:cubicBezTo>
                  <a:cubicBezTo>
                    <a:pt x="5136" y="52"/>
                    <a:pt x="5121" y="66"/>
                    <a:pt x="5103" y="66"/>
                  </a:cubicBezTo>
                  <a:lnTo>
                    <a:pt x="5103" y="66"/>
                  </a:lnTo>
                  <a:cubicBezTo>
                    <a:pt x="5085" y="66"/>
                    <a:pt x="5070" y="52"/>
                    <a:pt x="5070" y="33"/>
                  </a:cubicBezTo>
                  <a:cubicBezTo>
                    <a:pt x="5070" y="15"/>
                    <a:pt x="5085" y="0"/>
                    <a:pt x="5103" y="0"/>
                  </a:cubicBezTo>
                  <a:close/>
                  <a:moveTo>
                    <a:pt x="5236" y="0"/>
                  </a:moveTo>
                  <a:lnTo>
                    <a:pt x="5236" y="0"/>
                  </a:lnTo>
                  <a:cubicBezTo>
                    <a:pt x="5255" y="0"/>
                    <a:pt x="5270" y="15"/>
                    <a:pt x="5270" y="33"/>
                  </a:cubicBezTo>
                  <a:cubicBezTo>
                    <a:pt x="5270" y="52"/>
                    <a:pt x="5255" y="66"/>
                    <a:pt x="5236" y="66"/>
                  </a:cubicBezTo>
                  <a:lnTo>
                    <a:pt x="5236" y="66"/>
                  </a:lnTo>
                  <a:cubicBezTo>
                    <a:pt x="5218" y="66"/>
                    <a:pt x="5203" y="52"/>
                    <a:pt x="5203" y="33"/>
                  </a:cubicBezTo>
                  <a:cubicBezTo>
                    <a:pt x="5203" y="15"/>
                    <a:pt x="5218" y="0"/>
                    <a:pt x="5236" y="0"/>
                  </a:cubicBezTo>
                  <a:close/>
                  <a:moveTo>
                    <a:pt x="5370" y="0"/>
                  </a:moveTo>
                  <a:lnTo>
                    <a:pt x="5370" y="0"/>
                  </a:lnTo>
                  <a:cubicBezTo>
                    <a:pt x="5388" y="0"/>
                    <a:pt x="5403" y="15"/>
                    <a:pt x="5403" y="33"/>
                  </a:cubicBezTo>
                  <a:cubicBezTo>
                    <a:pt x="5403" y="52"/>
                    <a:pt x="5388" y="66"/>
                    <a:pt x="5370" y="66"/>
                  </a:cubicBezTo>
                  <a:lnTo>
                    <a:pt x="5370" y="66"/>
                  </a:lnTo>
                  <a:cubicBezTo>
                    <a:pt x="5351" y="66"/>
                    <a:pt x="5336" y="52"/>
                    <a:pt x="5336" y="33"/>
                  </a:cubicBezTo>
                  <a:cubicBezTo>
                    <a:pt x="5336" y="15"/>
                    <a:pt x="5351" y="0"/>
                    <a:pt x="5370" y="0"/>
                  </a:cubicBezTo>
                  <a:close/>
                  <a:moveTo>
                    <a:pt x="5503" y="0"/>
                  </a:moveTo>
                  <a:lnTo>
                    <a:pt x="5503" y="0"/>
                  </a:lnTo>
                  <a:cubicBezTo>
                    <a:pt x="5522" y="0"/>
                    <a:pt x="5537" y="15"/>
                    <a:pt x="5537" y="33"/>
                  </a:cubicBezTo>
                  <a:cubicBezTo>
                    <a:pt x="5537" y="52"/>
                    <a:pt x="5522" y="66"/>
                    <a:pt x="5503" y="66"/>
                  </a:cubicBezTo>
                  <a:lnTo>
                    <a:pt x="5503" y="66"/>
                  </a:lnTo>
                  <a:cubicBezTo>
                    <a:pt x="5485" y="66"/>
                    <a:pt x="5470" y="52"/>
                    <a:pt x="5470" y="33"/>
                  </a:cubicBezTo>
                  <a:cubicBezTo>
                    <a:pt x="5470" y="15"/>
                    <a:pt x="5485" y="0"/>
                    <a:pt x="5503" y="0"/>
                  </a:cubicBezTo>
                  <a:close/>
                  <a:moveTo>
                    <a:pt x="5637" y="0"/>
                  </a:moveTo>
                  <a:lnTo>
                    <a:pt x="5637" y="0"/>
                  </a:lnTo>
                  <a:cubicBezTo>
                    <a:pt x="5655" y="0"/>
                    <a:pt x="5670" y="15"/>
                    <a:pt x="5670" y="33"/>
                  </a:cubicBezTo>
                  <a:cubicBezTo>
                    <a:pt x="5670" y="52"/>
                    <a:pt x="5655" y="66"/>
                    <a:pt x="5637" y="66"/>
                  </a:cubicBezTo>
                  <a:lnTo>
                    <a:pt x="5637" y="66"/>
                  </a:lnTo>
                  <a:cubicBezTo>
                    <a:pt x="5618" y="66"/>
                    <a:pt x="5603" y="52"/>
                    <a:pt x="5603" y="33"/>
                  </a:cubicBezTo>
                  <a:cubicBezTo>
                    <a:pt x="5603" y="15"/>
                    <a:pt x="5618" y="0"/>
                    <a:pt x="5637" y="0"/>
                  </a:cubicBezTo>
                  <a:close/>
                  <a:moveTo>
                    <a:pt x="5770" y="0"/>
                  </a:moveTo>
                  <a:lnTo>
                    <a:pt x="5770" y="0"/>
                  </a:lnTo>
                  <a:cubicBezTo>
                    <a:pt x="5788" y="0"/>
                    <a:pt x="5803" y="15"/>
                    <a:pt x="5803" y="33"/>
                  </a:cubicBezTo>
                  <a:cubicBezTo>
                    <a:pt x="5803" y="52"/>
                    <a:pt x="5788" y="66"/>
                    <a:pt x="5770" y="66"/>
                  </a:cubicBezTo>
                  <a:lnTo>
                    <a:pt x="5770" y="66"/>
                  </a:lnTo>
                  <a:cubicBezTo>
                    <a:pt x="5752" y="66"/>
                    <a:pt x="5737" y="52"/>
                    <a:pt x="5737" y="33"/>
                  </a:cubicBezTo>
                  <a:cubicBezTo>
                    <a:pt x="5737" y="15"/>
                    <a:pt x="5752" y="0"/>
                    <a:pt x="5770" y="0"/>
                  </a:cubicBezTo>
                  <a:close/>
                  <a:moveTo>
                    <a:pt x="5903" y="0"/>
                  </a:moveTo>
                  <a:lnTo>
                    <a:pt x="5903" y="0"/>
                  </a:lnTo>
                  <a:cubicBezTo>
                    <a:pt x="5922" y="0"/>
                    <a:pt x="5937" y="15"/>
                    <a:pt x="5937" y="33"/>
                  </a:cubicBezTo>
                  <a:cubicBezTo>
                    <a:pt x="5937" y="52"/>
                    <a:pt x="5922" y="66"/>
                    <a:pt x="5903" y="66"/>
                  </a:cubicBezTo>
                  <a:lnTo>
                    <a:pt x="5903" y="66"/>
                  </a:lnTo>
                  <a:cubicBezTo>
                    <a:pt x="5885" y="66"/>
                    <a:pt x="5870" y="52"/>
                    <a:pt x="5870" y="33"/>
                  </a:cubicBezTo>
                  <a:cubicBezTo>
                    <a:pt x="5870" y="15"/>
                    <a:pt x="5885" y="0"/>
                    <a:pt x="5903" y="0"/>
                  </a:cubicBezTo>
                  <a:close/>
                  <a:moveTo>
                    <a:pt x="6037" y="0"/>
                  </a:moveTo>
                  <a:lnTo>
                    <a:pt x="6037" y="0"/>
                  </a:lnTo>
                  <a:cubicBezTo>
                    <a:pt x="6055" y="0"/>
                    <a:pt x="6070" y="15"/>
                    <a:pt x="6070" y="33"/>
                  </a:cubicBezTo>
                  <a:cubicBezTo>
                    <a:pt x="6070" y="52"/>
                    <a:pt x="6055" y="66"/>
                    <a:pt x="6037" y="66"/>
                  </a:cubicBezTo>
                  <a:lnTo>
                    <a:pt x="6037" y="66"/>
                  </a:lnTo>
                  <a:cubicBezTo>
                    <a:pt x="6018" y="66"/>
                    <a:pt x="6003" y="52"/>
                    <a:pt x="6003" y="33"/>
                  </a:cubicBezTo>
                  <a:cubicBezTo>
                    <a:pt x="6003" y="15"/>
                    <a:pt x="6018" y="0"/>
                    <a:pt x="6037" y="0"/>
                  </a:cubicBezTo>
                  <a:close/>
                  <a:moveTo>
                    <a:pt x="6170" y="0"/>
                  </a:moveTo>
                  <a:lnTo>
                    <a:pt x="6170" y="0"/>
                  </a:lnTo>
                  <a:cubicBezTo>
                    <a:pt x="6189" y="0"/>
                    <a:pt x="6204" y="15"/>
                    <a:pt x="6204" y="33"/>
                  </a:cubicBezTo>
                  <a:cubicBezTo>
                    <a:pt x="6204" y="52"/>
                    <a:pt x="6189" y="66"/>
                    <a:pt x="6170" y="66"/>
                  </a:cubicBezTo>
                  <a:lnTo>
                    <a:pt x="6170" y="66"/>
                  </a:lnTo>
                  <a:cubicBezTo>
                    <a:pt x="6152" y="66"/>
                    <a:pt x="6137" y="52"/>
                    <a:pt x="6137" y="33"/>
                  </a:cubicBezTo>
                  <a:cubicBezTo>
                    <a:pt x="6137" y="15"/>
                    <a:pt x="6152" y="0"/>
                    <a:pt x="6170" y="0"/>
                  </a:cubicBezTo>
                  <a:close/>
                  <a:moveTo>
                    <a:pt x="6304" y="0"/>
                  </a:moveTo>
                  <a:lnTo>
                    <a:pt x="6304" y="0"/>
                  </a:lnTo>
                  <a:cubicBezTo>
                    <a:pt x="6322" y="0"/>
                    <a:pt x="6337" y="15"/>
                    <a:pt x="6337" y="33"/>
                  </a:cubicBezTo>
                  <a:cubicBezTo>
                    <a:pt x="6337" y="52"/>
                    <a:pt x="6322" y="66"/>
                    <a:pt x="6304" y="66"/>
                  </a:cubicBezTo>
                  <a:lnTo>
                    <a:pt x="6304" y="66"/>
                  </a:lnTo>
                  <a:cubicBezTo>
                    <a:pt x="6285" y="66"/>
                    <a:pt x="6270" y="52"/>
                    <a:pt x="6270" y="33"/>
                  </a:cubicBezTo>
                  <a:cubicBezTo>
                    <a:pt x="6270" y="15"/>
                    <a:pt x="6285" y="0"/>
                    <a:pt x="6304" y="0"/>
                  </a:cubicBezTo>
                  <a:close/>
                  <a:moveTo>
                    <a:pt x="6437" y="0"/>
                  </a:moveTo>
                  <a:lnTo>
                    <a:pt x="6437" y="0"/>
                  </a:lnTo>
                  <a:cubicBezTo>
                    <a:pt x="6455" y="0"/>
                    <a:pt x="6470" y="15"/>
                    <a:pt x="6470" y="33"/>
                  </a:cubicBezTo>
                  <a:cubicBezTo>
                    <a:pt x="6470" y="52"/>
                    <a:pt x="6455" y="66"/>
                    <a:pt x="6437" y="66"/>
                  </a:cubicBezTo>
                  <a:lnTo>
                    <a:pt x="6437" y="66"/>
                  </a:lnTo>
                  <a:cubicBezTo>
                    <a:pt x="6419" y="66"/>
                    <a:pt x="6404" y="52"/>
                    <a:pt x="6404" y="33"/>
                  </a:cubicBezTo>
                  <a:cubicBezTo>
                    <a:pt x="6404" y="15"/>
                    <a:pt x="6419" y="0"/>
                    <a:pt x="6437" y="0"/>
                  </a:cubicBezTo>
                  <a:close/>
                  <a:moveTo>
                    <a:pt x="6570" y="0"/>
                  </a:moveTo>
                  <a:lnTo>
                    <a:pt x="6570" y="0"/>
                  </a:lnTo>
                  <a:cubicBezTo>
                    <a:pt x="6589" y="0"/>
                    <a:pt x="6604" y="15"/>
                    <a:pt x="6604" y="33"/>
                  </a:cubicBezTo>
                  <a:cubicBezTo>
                    <a:pt x="6604" y="52"/>
                    <a:pt x="6589" y="66"/>
                    <a:pt x="6570" y="66"/>
                  </a:cubicBezTo>
                  <a:lnTo>
                    <a:pt x="6570" y="66"/>
                  </a:lnTo>
                  <a:cubicBezTo>
                    <a:pt x="6552" y="66"/>
                    <a:pt x="6537" y="52"/>
                    <a:pt x="6537" y="33"/>
                  </a:cubicBezTo>
                  <a:cubicBezTo>
                    <a:pt x="6537" y="15"/>
                    <a:pt x="6552" y="0"/>
                    <a:pt x="6570" y="0"/>
                  </a:cubicBezTo>
                  <a:close/>
                  <a:moveTo>
                    <a:pt x="6704" y="0"/>
                  </a:moveTo>
                  <a:lnTo>
                    <a:pt x="6704" y="0"/>
                  </a:lnTo>
                  <a:cubicBezTo>
                    <a:pt x="6722" y="0"/>
                    <a:pt x="6737" y="15"/>
                    <a:pt x="6737" y="33"/>
                  </a:cubicBezTo>
                  <a:cubicBezTo>
                    <a:pt x="6737" y="52"/>
                    <a:pt x="6722" y="66"/>
                    <a:pt x="6704" y="66"/>
                  </a:cubicBezTo>
                  <a:lnTo>
                    <a:pt x="6704" y="66"/>
                  </a:lnTo>
                  <a:cubicBezTo>
                    <a:pt x="6685" y="66"/>
                    <a:pt x="6670" y="52"/>
                    <a:pt x="6670" y="33"/>
                  </a:cubicBezTo>
                  <a:cubicBezTo>
                    <a:pt x="6670" y="15"/>
                    <a:pt x="6685" y="0"/>
                    <a:pt x="6704" y="0"/>
                  </a:cubicBezTo>
                  <a:close/>
                  <a:moveTo>
                    <a:pt x="6837" y="0"/>
                  </a:moveTo>
                  <a:lnTo>
                    <a:pt x="6837" y="0"/>
                  </a:lnTo>
                  <a:cubicBezTo>
                    <a:pt x="6856" y="0"/>
                    <a:pt x="6871" y="15"/>
                    <a:pt x="6871" y="33"/>
                  </a:cubicBezTo>
                  <a:cubicBezTo>
                    <a:pt x="6871" y="52"/>
                    <a:pt x="6856" y="66"/>
                    <a:pt x="6837" y="66"/>
                  </a:cubicBezTo>
                  <a:lnTo>
                    <a:pt x="6837" y="66"/>
                  </a:lnTo>
                  <a:cubicBezTo>
                    <a:pt x="6819" y="66"/>
                    <a:pt x="6804" y="52"/>
                    <a:pt x="6804" y="33"/>
                  </a:cubicBezTo>
                  <a:cubicBezTo>
                    <a:pt x="6804" y="15"/>
                    <a:pt x="6819" y="0"/>
                    <a:pt x="6837" y="0"/>
                  </a:cubicBezTo>
                  <a:close/>
                  <a:moveTo>
                    <a:pt x="6971" y="0"/>
                  </a:moveTo>
                  <a:lnTo>
                    <a:pt x="6971" y="0"/>
                  </a:lnTo>
                  <a:cubicBezTo>
                    <a:pt x="6989" y="0"/>
                    <a:pt x="7004" y="15"/>
                    <a:pt x="7004" y="33"/>
                  </a:cubicBezTo>
                  <a:cubicBezTo>
                    <a:pt x="7004" y="52"/>
                    <a:pt x="6989" y="66"/>
                    <a:pt x="6971" y="66"/>
                  </a:cubicBezTo>
                  <a:lnTo>
                    <a:pt x="6971" y="66"/>
                  </a:lnTo>
                  <a:cubicBezTo>
                    <a:pt x="6952" y="66"/>
                    <a:pt x="6937" y="52"/>
                    <a:pt x="6937" y="33"/>
                  </a:cubicBezTo>
                  <a:cubicBezTo>
                    <a:pt x="6937" y="15"/>
                    <a:pt x="6952" y="0"/>
                    <a:pt x="6971" y="0"/>
                  </a:cubicBezTo>
                  <a:close/>
                  <a:moveTo>
                    <a:pt x="7104" y="0"/>
                  </a:moveTo>
                  <a:lnTo>
                    <a:pt x="7104" y="0"/>
                  </a:lnTo>
                  <a:cubicBezTo>
                    <a:pt x="7122" y="0"/>
                    <a:pt x="7137" y="15"/>
                    <a:pt x="7137" y="33"/>
                  </a:cubicBezTo>
                  <a:cubicBezTo>
                    <a:pt x="7137" y="52"/>
                    <a:pt x="7122" y="66"/>
                    <a:pt x="7104" y="66"/>
                  </a:cubicBezTo>
                  <a:lnTo>
                    <a:pt x="7104" y="66"/>
                  </a:lnTo>
                  <a:cubicBezTo>
                    <a:pt x="7086" y="66"/>
                    <a:pt x="7071" y="52"/>
                    <a:pt x="7071" y="33"/>
                  </a:cubicBezTo>
                  <a:cubicBezTo>
                    <a:pt x="7071" y="15"/>
                    <a:pt x="7086" y="0"/>
                    <a:pt x="7104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3925800" y="3646440"/>
              <a:ext cx="168120" cy="161640"/>
              <a:chOff x="3925800" y="3646440"/>
              <a:chExt cx="168120" cy="161640"/>
            </a:xfrm>
          </p:grpSpPr>
          <p:sp>
            <p:nvSpPr>
              <p:cNvPr id="557" name=""/>
              <p:cNvSpPr/>
              <p:nvPr/>
            </p:nvSpPr>
            <p:spPr>
              <a:xfrm>
                <a:off x="3925800" y="3646440"/>
                <a:ext cx="168120" cy="1616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925800" y="3646440"/>
                <a:ext cx="16812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3965400" y="2463840"/>
              <a:ext cx="168120" cy="163080"/>
              <a:chOff x="3965400" y="2463840"/>
              <a:chExt cx="168120" cy="163080"/>
            </a:xfrm>
          </p:grpSpPr>
          <p:sp>
            <p:nvSpPr>
              <p:cNvPr id="560" name=""/>
              <p:cNvSpPr/>
              <p:nvPr/>
            </p:nvSpPr>
            <p:spPr>
              <a:xfrm>
                <a:off x="3965400" y="2463840"/>
                <a:ext cx="168120" cy="163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965400" y="2463840"/>
                <a:ext cx="168120" cy="16308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3965400" y="2847960"/>
              <a:ext cx="168120" cy="159840"/>
              <a:chOff x="3965400" y="2847960"/>
              <a:chExt cx="168120" cy="159840"/>
            </a:xfrm>
          </p:grpSpPr>
          <p:sp>
            <p:nvSpPr>
              <p:cNvPr id="563" name=""/>
              <p:cNvSpPr/>
              <p:nvPr/>
            </p:nvSpPr>
            <p:spPr>
              <a:xfrm>
                <a:off x="3965400" y="2847960"/>
                <a:ext cx="168120" cy="1598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65400" y="2847960"/>
                <a:ext cx="168120" cy="159840"/>
              </a:xfrm>
              <a:prstGeom prst="ellipse">
                <a:avLst/>
              </a:prstGeom>
              <a:solidFill>
                <a:srgbClr val="800080"/>
              </a:solidFill>
              <a:ln w="144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3965400" y="2222640"/>
              <a:ext cx="168120" cy="159840"/>
              <a:chOff x="3965400" y="2222640"/>
              <a:chExt cx="168120" cy="159840"/>
            </a:xfrm>
          </p:grpSpPr>
          <p:sp>
            <p:nvSpPr>
              <p:cNvPr id="566" name=""/>
              <p:cNvSpPr/>
              <p:nvPr/>
            </p:nvSpPr>
            <p:spPr>
              <a:xfrm>
                <a:off x="3965400" y="2222640"/>
                <a:ext cx="168120" cy="1598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65400" y="2222640"/>
                <a:ext cx="168120" cy="159840"/>
              </a:xfrm>
              <a:prstGeom prst="ellipse">
                <a:avLst/>
              </a:prstGeom>
              <a:solidFill>
                <a:srgbClr val="009999"/>
              </a:solidFill>
              <a:ln w="144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692520" y="3693960"/>
              <a:ext cx="1778040" cy="19080"/>
            </a:xfrm>
            <a:custGeom>
              <a:avLst/>
              <a:gdLst/>
              <a:ahLst/>
              <a:rect l="l" t="t" r="r" b="b"/>
              <a:pathLst>
                <a:path w="9905" h="107">
                  <a:moveTo>
                    <a:pt x="50" y="6"/>
                  </a:moveTo>
                  <a:lnTo>
                    <a:pt x="50" y="6"/>
                  </a:lnTo>
                  <a:cubicBezTo>
                    <a:pt x="77" y="6"/>
                    <a:pt x="100" y="28"/>
                    <a:pt x="100" y="56"/>
                  </a:cubicBezTo>
                  <a:cubicBezTo>
                    <a:pt x="101" y="84"/>
                    <a:pt x="78" y="106"/>
                    <a:pt x="51" y="106"/>
                  </a:cubicBezTo>
                  <a:lnTo>
                    <a:pt x="51" y="106"/>
                  </a:lnTo>
                  <a:cubicBezTo>
                    <a:pt x="23" y="107"/>
                    <a:pt x="0" y="85"/>
                    <a:pt x="0" y="57"/>
                  </a:cubicBezTo>
                  <a:cubicBezTo>
                    <a:pt x="0" y="29"/>
                    <a:pt x="22" y="7"/>
                    <a:pt x="50" y="6"/>
                  </a:cubicBezTo>
                  <a:close/>
                  <a:moveTo>
                    <a:pt x="250" y="6"/>
                  </a:moveTo>
                  <a:lnTo>
                    <a:pt x="250" y="6"/>
                  </a:lnTo>
                  <a:cubicBezTo>
                    <a:pt x="277" y="6"/>
                    <a:pt x="300" y="28"/>
                    <a:pt x="300" y="56"/>
                  </a:cubicBezTo>
                  <a:cubicBezTo>
                    <a:pt x="301" y="83"/>
                    <a:pt x="278" y="106"/>
                    <a:pt x="251" y="106"/>
                  </a:cubicBezTo>
                  <a:lnTo>
                    <a:pt x="251" y="106"/>
                  </a:lnTo>
                  <a:cubicBezTo>
                    <a:pt x="223" y="107"/>
                    <a:pt x="201" y="84"/>
                    <a:pt x="200" y="57"/>
                  </a:cubicBezTo>
                  <a:cubicBezTo>
                    <a:pt x="200" y="29"/>
                    <a:pt x="222" y="7"/>
                    <a:pt x="250" y="6"/>
                  </a:cubicBezTo>
                  <a:close/>
                  <a:moveTo>
                    <a:pt x="450" y="6"/>
                  </a:moveTo>
                  <a:lnTo>
                    <a:pt x="450" y="6"/>
                  </a:lnTo>
                  <a:cubicBezTo>
                    <a:pt x="478" y="6"/>
                    <a:pt x="500" y="28"/>
                    <a:pt x="500" y="56"/>
                  </a:cubicBezTo>
                  <a:cubicBezTo>
                    <a:pt x="501" y="83"/>
                    <a:pt x="479" y="106"/>
                    <a:pt x="451" y="106"/>
                  </a:cubicBezTo>
                  <a:lnTo>
                    <a:pt x="451" y="106"/>
                  </a:lnTo>
                  <a:cubicBezTo>
                    <a:pt x="423" y="106"/>
                    <a:pt x="401" y="84"/>
                    <a:pt x="400" y="57"/>
                  </a:cubicBezTo>
                  <a:cubicBezTo>
                    <a:pt x="400" y="29"/>
                    <a:pt x="422" y="6"/>
                    <a:pt x="450" y="6"/>
                  </a:cubicBezTo>
                  <a:close/>
                  <a:moveTo>
                    <a:pt x="650" y="6"/>
                  </a:moveTo>
                  <a:lnTo>
                    <a:pt x="650" y="6"/>
                  </a:lnTo>
                  <a:cubicBezTo>
                    <a:pt x="678" y="6"/>
                    <a:pt x="700" y="28"/>
                    <a:pt x="701" y="56"/>
                  </a:cubicBezTo>
                  <a:cubicBezTo>
                    <a:pt x="701" y="83"/>
                    <a:pt x="679" y="106"/>
                    <a:pt x="651" y="106"/>
                  </a:cubicBezTo>
                  <a:lnTo>
                    <a:pt x="651" y="106"/>
                  </a:lnTo>
                  <a:cubicBezTo>
                    <a:pt x="623" y="106"/>
                    <a:pt x="601" y="84"/>
                    <a:pt x="600" y="57"/>
                  </a:cubicBezTo>
                  <a:cubicBezTo>
                    <a:pt x="600" y="29"/>
                    <a:pt x="622" y="6"/>
                    <a:pt x="650" y="6"/>
                  </a:cubicBezTo>
                  <a:close/>
                  <a:moveTo>
                    <a:pt x="850" y="6"/>
                  </a:moveTo>
                  <a:lnTo>
                    <a:pt x="850" y="6"/>
                  </a:lnTo>
                  <a:cubicBezTo>
                    <a:pt x="878" y="6"/>
                    <a:pt x="900" y="28"/>
                    <a:pt x="901" y="55"/>
                  </a:cubicBezTo>
                  <a:cubicBezTo>
                    <a:pt x="901" y="83"/>
                    <a:pt x="879" y="106"/>
                    <a:pt x="851" y="106"/>
                  </a:cubicBezTo>
                  <a:lnTo>
                    <a:pt x="851" y="106"/>
                  </a:lnTo>
                  <a:cubicBezTo>
                    <a:pt x="823" y="106"/>
                    <a:pt x="801" y="84"/>
                    <a:pt x="801" y="56"/>
                  </a:cubicBezTo>
                  <a:cubicBezTo>
                    <a:pt x="800" y="29"/>
                    <a:pt x="822" y="6"/>
                    <a:pt x="850" y="6"/>
                  </a:cubicBezTo>
                  <a:close/>
                  <a:moveTo>
                    <a:pt x="1050" y="6"/>
                  </a:moveTo>
                  <a:lnTo>
                    <a:pt x="1050" y="6"/>
                  </a:lnTo>
                  <a:cubicBezTo>
                    <a:pt x="1078" y="6"/>
                    <a:pt x="1100" y="28"/>
                    <a:pt x="1101" y="55"/>
                  </a:cubicBezTo>
                  <a:cubicBezTo>
                    <a:pt x="1101" y="83"/>
                    <a:pt x="1079" y="106"/>
                    <a:pt x="1051" y="106"/>
                  </a:cubicBezTo>
                  <a:lnTo>
                    <a:pt x="1051" y="106"/>
                  </a:lnTo>
                  <a:cubicBezTo>
                    <a:pt x="1024" y="106"/>
                    <a:pt x="1001" y="84"/>
                    <a:pt x="1001" y="56"/>
                  </a:cubicBezTo>
                  <a:cubicBezTo>
                    <a:pt x="1000" y="29"/>
                    <a:pt x="1023" y="6"/>
                    <a:pt x="1050" y="6"/>
                  </a:cubicBezTo>
                  <a:close/>
                  <a:moveTo>
                    <a:pt x="1250" y="6"/>
                  </a:moveTo>
                  <a:lnTo>
                    <a:pt x="1250" y="6"/>
                  </a:lnTo>
                  <a:cubicBezTo>
                    <a:pt x="1278" y="5"/>
                    <a:pt x="1301" y="28"/>
                    <a:pt x="1301" y="55"/>
                  </a:cubicBezTo>
                  <a:cubicBezTo>
                    <a:pt x="1301" y="83"/>
                    <a:pt x="1279" y="105"/>
                    <a:pt x="1251" y="106"/>
                  </a:cubicBezTo>
                  <a:lnTo>
                    <a:pt x="1251" y="106"/>
                  </a:lnTo>
                  <a:cubicBezTo>
                    <a:pt x="1224" y="106"/>
                    <a:pt x="1201" y="84"/>
                    <a:pt x="1201" y="56"/>
                  </a:cubicBezTo>
                  <a:cubicBezTo>
                    <a:pt x="1200" y="29"/>
                    <a:pt x="1223" y="6"/>
                    <a:pt x="1250" y="6"/>
                  </a:cubicBezTo>
                  <a:close/>
                  <a:moveTo>
                    <a:pt x="1450" y="6"/>
                  </a:moveTo>
                  <a:lnTo>
                    <a:pt x="1450" y="6"/>
                  </a:lnTo>
                  <a:cubicBezTo>
                    <a:pt x="1478" y="5"/>
                    <a:pt x="1501" y="27"/>
                    <a:pt x="1501" y="55"/>
                  </a:cubicBezTo>
                  <a:cubicBezTo>
                    <a:pt x="1501" y="83"/>
                    <a:pt x="1479" y="105"/>
                    <a:pt x="1451" y="106"/>
                  </a:cubicBezTo>
                  <a:lnTo>
                    <a:pt x="1451" y="106"/>
                  </a:lnTo>
                  <a:cubicBezTo>
                    <a:pt x="1424" y="106"/>
                    <a:pt x="1401" y="84"/>
                    <a:pt x="1401" y="56"/>
                  </a:cubicBezTo>
                  <a:cubicBezTo>
                    <a:pt x="1401" y="28"/>
                    <a:pt x="1423" y="6"/>
                    <a:pt x="1450" y="6"/>
                  </a:cubicBezTo>
                  <a:close/>
                  <a:moveTo>
                    <a:pt x="1650" y="5"/>
                  </a:moveTo>
                  <a:lnTo>
                    <a:pt x="1651" y="5"/>
                  </a:lnTo>
                  <a:cubicBezTo>
                    <a:pt x="1678" y="5"/>
                    <a:pt x="1701" y="27"/>
                    <a:pt x="1701" y="55"/>
                  </a:cubicBezTo>
                  <a:cubicBezTo>
                    <a:pt x="1701" y="83"/>
                    <a:pt x="1679" y="105"/>
                    <a:pt x="1652" y="105"/>
                  </a:cubicBezTo>
                  <a:lnTo>
                    <a:pt x="1651" y="105"/>
                  </a:lnTo>
                  <a:cubicBezTo>
                    <a:pt x="1624" y="106"/>
                    <a:pt x="1601" y="83"/>
                    <a:pt x="1601" y="56"/>
                  </a:cubicBezTo>
                  <a:cubicBezTo>
                    <a:pt x="1601" y="28"/>
                    <a:pt x="1623" y="6"/>
                    <a:pt x="1650" y="5"/>
                  </a:cubicBezTo>
                  <a:close/>
                  <a:moveTo>
                    <a:pt x="1851" y="5"/>
                  </a:moveTo>
                  <a:lnTo>
                    <a:pt x="1851" y="5"/>
                  </a:lnTo>
                  <a:cubicBezTo>
                    <a:pt x="1878" y="5"/>
                    <a:pt x="1901" y="27"/>
                    <a:pt x="1901" y="55"/>
                  </a:cubicBezTo>
                  <a:cubicBezTo>
                    <a:pt x="1901" y="82"/>
                    <a:pt x="1879" y="105"/>
                    <a:pt x="1852" y="105"/>
                  </a:cubicBezTo>
                  <a:lnTo>
                    <a:pt x="1852" y="105"/>
                  </a:lnTo>
                  <a:cubicBezTo>
                    <a:pt x="1824" y="106"/>
                    <a:pt x="1801" y="83"/>
                    <a:pt x="1801" y="56"/>
                  </a:cubicBezTo>
                  <a:cubicBezTo>
                    <a:pt x="1801" y="28"/>
                    <a:pt x="1823" y="6"/>
                    <a:pt x="1851" y="5"/>
                  </a:cubicBezTo>
                  <a:close/>
                  <a:moveTo>
                    <a:pt x="2051" y="5"/>
                  </a:moveTo>
                  <a:lnTo>
                    <a:pt x="2051" y="5"/>
                  </a:lnTo>
                  <a:cubicBezTo>
                    <a:pt x="2078" y="5"/>
                    <a:pt x="2101" y="27"/>
                    <a:pt x="2101" y="55"/>
                  </a:cubicBezTo>
                  <a:cubicBezTo>
                    <a:pt x="2101" y="82"/>
                    <a:pt x="2079" y="105"/>
                    <a:pt x="2052" y="105"/>
                  </a:cubicBezTo>
                  <a:lnTo>
                    <a:pt x="2052" y="105"/>
                  </a:lnTo>
                  <a:cubicBezTo>
                    <a:pt x="2024" y="105"/>
                    <a:pt x="2001" y="83"/>
                    <a:pt x="2001" y="56"/>
                  </a:cubicBezTo>
                  <a:cubicBezTo>
                    <a:pt x="2001" y="28"/>
                    <a:pt x="2023" y="5"/>
                    <a:pt x="2051" y="5"/>
                  </a:cubicBezTo>
                  <a:close/>
                  <a:moveTo>
                    <a:pt x="2251" y="5"/>
                  </a:moveTo>
                  <a:lnTo>
                    <a:pt x="2251" y="5"/>
                  </a:lnTo>
                  <a:cubicBezTo>
                    <a:pt x="2278" y="5"/>
                    <a:pt x="2301" y="27"/>
                    <a:pt x="2301" y="54"/>
                  </a:cubicBezTo>
                  <a:cubicBezTo>
                    <a:pt x="2302" y="82"/>
                    <a:pt x="2279" y="105"/>
                    <a:pt x="2252" y="105"/>
                  </a:cubicBezTo>
                  <a:lnTo>
                    <a:pt x="2252" y="105"/>
                  </a:lnTo>
                  <a:cubicBezTo>
                    <a:pt x="2224" y="105"/>
                    <a:pt x="2202" y="83"/>
                    <a:pt x="2201" y="55"/>
                  </a:cubicBezTo>
                  <a:cubicBezTo>
                    <a:pt x="2201" y="28"/>
                    <a:pt x="2223" y="5"/>
                    <a:pt x="2251" y="5"/>
                  </a:cubicBezTo>
                  <a:close/>
                  <a:moveTo>
                    <a:pt x="2451" y="5"/>
                  </a:moveTo>
                  <a:lnTo>
                    <a:pt x="2451" y="5"/>
                  </a:lnTo>
                  <a:cubicBezTo>
                    <a:pt x="2479" y="5"/>
                    <a:pt x="2501" y="27"/>
                    <a:pt x="2501" y="54"/>
                  </a:cubicBezTo>
                  <a:cubicBezTo>
                    <a:pt x="2502" y="82"/>
                    <a:pt x="2480" y="105"/>
                    <a:pt x="2452" y="105"/>
                  </a:cubicBezTo>
                  <a:lnTo>
                    <a:pt x="2452" y="105"/>
                  </a:lnTo>
                  <a:cubicBezTo>
                    <a:pt x="2424" y="105"/>
                    <a:pt x="2402" y="83"/>
                    <a:pt x="2401" y="55"/>
                  </a:cubicBezTo>
                  <a:cubicBezTo>
                    <a:pt x="2401" y="28"/>
                    <a:pt x="2423" y="5"/>
                    <a:pt x="2451" y="5"/>
                  </a:cubicBezTo>
                  <a:close/>
                  <a:moveTo>
                    <a:pt x="2651" y="5"/>
                  </a:moveTo>
                  <a:lnTo>
                    <a:pt x="2651" y="5"/>
                  </a:lnTo>
                  <a:cubicBezTo>
                    <a:pt x="2679" y="4"/>
                    <a:pt x="2701" y="27"/>
                    <a:pt x="2702" y="54"/>
                  </a:cubicBezTo>
                  <a:cubicBezTo>
                    <a:pt x="2702" y="82"/>
                    <a:pt x="2680" y="104"/>
                    <a:pt x="2652" y="105"/>
                  </a:cubicBezTo>
                  <a:lnTo>
                    <a:pt x="2652" y="105"/>
                  </a:lnTo>
                  <a:cubicBezTo>
                    <a:pt x="2624" y="105"/>
                    <a:pt x="2602" y="83"/>
                    <a:pt x="2601" y="55"/>
                  </a:cubicBezTo>
                  <a:cubicBezTo>
                    <a:pt x="2601" y="28"/>
                    <a:pt x="2623" y="5"/>
                    <a:pt x="2651" y="5"/>
                  </a:cubicBezTo>
                  <a:close/>
                  <a:moveTo>
                    <a:pt x="2851" y="5"/>
                  </a:moveTo>
                  <a:lnTo>
                    <a:pt x="2851" y="5"/>
                  </a:lnTo>
                  <a:cubicBezTo>
                    <a:pt x="2879" y="4"/>
                    <a:pt x="2901" y="26"/>
                    <a:pt x="2902" y="54"/>
                  </a:cubicBezTo>
                  <a:cubicBezTo>
                    <a:pt x="2902" y="82"/>
                    <a:pt x="2880" y="104"/>
                    <a:pt x="2852" y="105"/>
                  </a:cubicBezTo>
                  <a:lnTo>
                    <a:pt x="2852" y="105"/>
                  </a:lnTo>
                  <a:cubicBezTo>
                    <a:pt x="2824" y="105"/>
                    <a:pt x="2802" y="83"/>
                    <a:pt x="2802" y="55"/>
                  </a:cubicBezTo>
                  <a:cubicBezTo>
                    <a:pt x="2801" y="27"/>
                    <a:pt x="2823" y="5"/>
                    <a:pt x="2851" y="5"/>
                  </a:cubicBezTo>
                  <a:close/>
                  <a:moveTo>
                    <a:pt x="3051" y="4"/>
                  </a:moveTo>
                  <a:lnTo>
                    <a:pt x="3051" y="4"/>
                  </a:lnTo>
                  <a:cubicBezTo>
                    <a:pt x="3079" y="4"/>
                    <a:pt x="3101" y="26"/>
                    <a:pt x="3102" y="54"/>
                  </a:cubicBezTo>
                  <a:cubicBezTo>
                    <a:pt x="3102" y="82"/>
                    <a:pt x="3080" y="104"/>
                    <a:pt x="3052" y="104"/>
                  </a:cubicBezTo>
                  <a:lnTo>
                    <a:pt x="3052" y="104"/>
                  </a:lnTo>
                  <a:cubicBezTo>
                    <a:pt x="3025" y="105"/>
                    <a:pt x="3002" y="83"/>
                    <a:pt x="3002" y="55"/>
                  </a:cubicBezTo>
                  <a:cubicBezTo>
                    <a:pt x="3001" y="27"/>
                    <a:pt x="3024" y="5"/>
                    <a:pt x="3051" y="4"/>
                  </a:cubicBezTo>
                  <a:close/>
                  <a:moveTo>
                    <a:pt x="3251" y="4"/>
                  </a:moveTo>
                  <a:lnTo>
                    <a:pt x="3251" y="4"/>
                  </a:lnTo>
                  <a:cubicBezTo>
                    <a:pt x="3279" y="4"/>
                    <a:pt x="3302" y="26"/>
                    <a:pt x="3302" y="54"/>
                  </a:cubicBezTo>
                  <a:cubicBezTo>
                    <a:pt x="3302" y="81"/>
                    <a:pt x="3280" y="104"/>
                    <a:pt x="3252" y="104"/>
                  </a:cubicBezTo>
                  <a:lnTo>
                    <a:pt x="3252" y="104"/>
                  </a:lnTo>
                  <a:cubicBezTo>
                    <a:pt x="3225" y="105"/>
                    <a:pt x="3202" y="82"/>
                    <a:pt x="3202" y="55"/>
                  </a:cubicBezTo>
                  <a:cubicBezTo>
                    <a:pt x="3201" y="27"/>
                    <a:pt x="3224" y="5"/>
                    <a:pt x="3251" y="4"/>
                  </a:cubicBezTo>
                  <a:close/>
                  <a:moveTo>
                    <a:pt x="3451" y="4"/>
                  </a:moveTo>
                  <a:lnTo>
                    <a:pt x="3451" y="4"/>
                  </a:lnTo>
                  <a:cubicBezTo>
                    <a:pt x="3479" y="4"/>
                    <a:pt x="3502" y="26"/>
                    <a:pt x="3502" y="54"/>
                  </a:cubicBezTo>
                  <a:cubicBezTo>
                    <a:pt x="3502" y="81"/>
                    <a:pt x="3480" y="104"/>
                    <a:pt x="3452" y="104"/>
                  </a:cubicBezTo>
                  <a:lnTo>
                    <a:pt x="3452" y="104"/>
                  </a:lnTo>
                  <a:cubicBezTo>
                    <a:pt x="3425" y="104"/>
                    <a:pt x="3402" y="82"/>
                    <a:pt x="3402" y="55"/>
                  </a:cubicBezTo>
                  <a:cubicBezTo>
                    <a:pt x="3402" y="27"/>
                    <a:pt x="3424" y="4"/>
                    <a:pt x="3451" y="4"/>
                  </a:cubicBezTo>
                  <a:close/>
                  <a:moveTo>
                    <a:pt x="3651" y="4"/>
                  </a:moveTo>
                  <a:lnTo>
                    <a:pt x="3652" y="4"/>
                  </a:lnTo>
                  <a:cubicBezTo>
                    <a:pt x="3679" y="4"/>
                    <a:pt x="3702" y="26"/>
                    <a:pt x="3702" y="54"/>
                  </a:cubicBezTo>
                  <a:cubicBezTo>
                    <a:pt x="3702" y="81"/>
                    <a:pt x="3680" y="104"/>
                    <a:pt x="3653" y="104"/>
                  </a:cubicBezTo>
                  <a:lnTo>
                    <a:pt x="3652" y="104"/>
                  </a:lnTo>
                  <a:cubicBezTo>
                    <a:pt x="3625" y="104"/>
                    <a:pt x="3602" y="82"/>
                    <a:pt x="3602" y="55"/>
                  </a:cubicBezTo>
                  <a:cubicBezTo>
                    <a:pt x="3602" y="27"/>
                    <a:pt x="3624" y="4"/>
                    <a:pt x="3651" y="4"/>
                  </a:cubicBezTo>
                  <a:close/>
                  <a:moveTo>
                    <a:pt x="3852" y="4"/>
                  </a:moveTo>
                  <a:lnTo>
                    <a:pt x="3852" y="4"/>
                  </a:lnTo>
                  <a:cubicBezTo>
                    <a:pt x="3879" y="4"/>
                    <a:pt x="3902" y="26"/>
                    <a:pt x="3902" y="53"/>
                  </a:cubicBezTo>
                  <a:cubicBezTo>
                    <a:pt x="3902" y="81"/>
                    <a:pt x="3880" y="104"/>
                    <a:pt x="3853" y="104"/>
                  </a:cubicBezTo>
                  <a:lnTo>
                    <a:pt x="3853" y="104"/>
                  </a:lnTo>
                  <a:cubicBezTo>
                    <a:pt x="3825" y="104"/>
                    <a:pt x="3802" y="82"/>
                    <a:pt x="3802" y="54"/>
                  </a:cubicBezTo>
                  <a:cubicBezTo>
                    <a:pt x="3802" y="27"/>
                    <a:pt x="3824" y="4"/>
                    <a:pt x="3852" y="4"/>
                  </a:cubicBezTo>
                  <a:close/>
                  <a:moveTo>
                    <a:pt x="4052" y="4"/>
                  </a:moveTo>
                  <a:lnTo>
                    <a:pt x="4052" y="4"/>
                  </a:lnTo>
                  <a:cubicBezTo>
                    <a:pt x="4079" y="4"/>
                    <a:pt x="4102" y="26"/>
                    <a:pt x="4102" y="53"/>
                  </a:cubicBezTo>
                  <a:cubicBezTo>
                    <a:pt x="4102" y="81"/>
                    <a:pt x="4080" y="103"/>
                    <a:pt x="4053" y="104"/>
                  </a:cubicBezTo>
                  <a:lnTo>
                    <a:pt x="4053" y="104"/>
                  </a:lnTo>
                  <a:cubicBezTo>
                    <a:pt x="4025" y="104"/>
                    <a:pt x="4002" y="82"/>
                    <a:pt x="4002" y="54"/>
                  </a:cubicBezTo>
                  <a:cubicBezTo>
                    <a:pt x="4002" y="27"/>
                    <a:pt x="4024" y="4"/>
                    <a:pt x="4052" y="4"/>
                  </a:cubicBezTo>
                  <a:close/>
                  <a:moveTo>
                    <a:pt x="4252" y="4"/>
                  </a:moveTo>
                  <a:lnTo>
                    <a:pt x="4252" y="4"/>
                  </a:lnTo>
                  <a:cubicBezTo>
                    <a:pt x="4279" y="3"/>
                    <a:pt x="4302" y="26"/>
                    <a:pt x="4302" y="53"/>
                  </a:cubicBezTo>
                  <a:cubicBezTo>
                    <a:pt x="4303" y="81"/>
                    <a:pt x="4280" y="103"/>
                    <a:pt x="4253" y="104"/>
                  </a:cubicBezTo>
                  <a:lnTo>
                    <a:pt x="4253" y="104"/>
                  </a:lnTo>
                  <a:cubicBezTo>
                    <a:pt x="4225" y="104"/>
                    <a:pt x="4202" y="82"/>
                    <a:pt x="4202" y="54"/>
                  </a:cubicBezTo>
                  <a:cubicBezTo>
                    <a:pt x="4202" y="27"/>
                    <a:pt x="4224" y="4"/>
                    <a:pt x="4252" y="4"/>
                  </a:cubicBezTo>
                  <a:close/>
                  <a:moveTo>
                    <a:pt x="4452" y="4"/>
                  </a:moveTo>
                  <a:lnTo>
                    <a:pt x="4452" y="4"/>
                  </a:lnTo>
                  <a:cubicBezTo>
                    <a:pt x="4480" y="3"/>
                    <a:pt x="4502" y="25"/>
                    <a:pt x="4502" y="53"/>
                  </a:cubicBezTo>
                  <a:cubicBezTo>
                    <a:pt x="4503" y="81"/>
                    <a:pt x="4481" y="103"/>
                    <a:pt x="4453" y="104"/>
                  </a:cubicBezTo>
                  <a:lnTo>
                    <a:pt x="4453" y="104"/>
                  </a:lnTo>
                  <a:cubicBezTo>
                    <a:pt x="4425" y="104"/>
                    <a:pt x="4403" y="82"/>
                    <a:pt x="4402" y="54"/>
                  </a:cubicBezTo>
                  <a:cubicBezTo>
                    <a:pt x="4402" y="26"/>
                    <a:pt x="4424" y="4"/>
                    <a:pt x="4452" y="4"/>
                  </a:cubicBezTo>
                  <a:close/>
                  <a:moveTo>
                    <a:pt x="4652" y="3"/>
                  </a:moveTo>
                  <a:lnTo>
                    <a:pt x="4652" y="3"/>
                  </a:lnTo>
                  <a:cubicBezTo>
                    <a:pt x="4680" y="3"/>
                    <a:pt x="4702" y="25"/>
                    <a:pt x="4703" y="53"/>
                  </a:cubicBezTo>
                  <a:cubicBezTo>
                    <a:pt x="4703" y="80"/>
                    <a:pt x="4681" y="103"/>
                    <a:pt x="4653" y="103"/>
                  </a:cubicBezTo>
                  <a:lnTo>
                    <a:pt x="4653" y="103"/>
                  </a:lnTo>
                  <a:cubicBezTo>
                    <a:pt x="4625" y="104"/>
                    <a:pt x="4603" y="81"/>
                    <a:pt x="4602" y="54"/>
                  </a:cubicBezTo>
                  <a:cubicBezTo>
                    <a:pt x="4602" y="26"/>
                    <a:pt x="4624" y="4"/>
                    <a:pt x="4652" y="3"/>
                  </a:cubicBezTo>
                  <a:close/>
                  <a:moveTo>
                    <a:pt x="4852" y="3"/>
                  </a:moveTo>
                  <a:lnTo>
                    <a:pt x="4852" y="3"/>
                  </a:lnTo>
                  <a:cubicBezTo>
                    <a:pt x="4880" y="3"/>
                    <a:pt x="4902" y="25"/>
                    <a:pt x="4903" y="53"/>
                  </a:cubicBezTo>
                  <a:cubicBezTo>
                    <a:pt x="4903" y="80"/>
                    <a:pt x="4881" y="103"/>
                    <a:pt x="4853" y="103"/>
                  </a:cubicBezTo>
                  <a:lnTo>
                    <a:pt x="4853" y="103"/>
                  </a:lnTo>
                  <a:cubicBezTo>
                    <a:pt x="4825" y="104"/>
                    <a:pt x="4803" y="81"/>
                    <a:pt x="4803" y="54"/>
                  </a:cubicBezTo>
                  <a:cubicBezTo>
                    <a:pt x="4802" y="26"/>
                    <a:pt x="4824" y="4"/>
                    <a:pt x="4852" y="3"/>
                  </a:cubicBezTo>
                  <a:close/>
                  <a:moveTo>
                    <a:pt x="5052" y="3"/>
                  </a:moveTo>
                  <a:lnTo>
                    <a:pt x="5052" y="3"/>
                  </a:lnTo>
                  <a:cubicBezTo>
                    <a:pt x="5080" y="3"/>
                    <a:pt x="5102" y="25"/>
                    <a:pt x="5103" y="53"/>
                  </a:cubicBezTo>
                  <a:cubicBezTo>
                    <a:pt x="5103" y="80"/>
                    <a:pt x="5081" y="103"/>
                    <a:pt x="5053" y="103"/>
                  </a:cubicBezTo>
                  <a:lnTo>
                    <a:pt x="5053" y="103"/>
                  </a:lnTo>
                  <a:cubicBezTo>
                    <a:pt x="5026" y="103"/>
                    <a:pt x="5003" y="81"/>
                    <a:pt x="5003" y="54"/>
                  </a:cubicBezTo>
                  <a:cubicBezTo>
                    <a:pt x="5002" y="26"/>
                    <a:pt x="5025" y="3"/>
                    <a:pt x="5052" y="3"/>
                  </a:cubicBezTo>
                  <a:close/>
                  <a:moveTo>
                    <a:pt x="5252" y="3"/>
                  </a:moveTo>
                  <a:lnTo>
                    <a:pt x="5252" y="3"/>
                  </a:lnTo>
                  <a:cubicBezTo>
                    <a:pt x="5280" y="3"/>
                    <a:pt x="5303" y="25"/>
                    <a:pt x="5303" y="52"/>
                  </a:cubicBezTo>
                  <a:cubicBezTo>
                    <a:pt x="5303" y="80"/>
                    <a:pt x="5281" y="103"/>
                    <a:pt x="5253" y="103"/>
                  </a:cubicBezTo>
                  <a:lnTo>
                    <a:pt x="5253" y="103"/>
                  </a:lnTo>
                  <a:cubicBezTo>
                    <a:pt x="5226" y="103"/>
                    <a:pt x="5203" y="81"/>
                    <a:pt x="5203" y="53"/>
                  </a:cubicBezTo>
                  <a:cubicBezTo>
                    <a:pt x="5202" y="26"/>
                    <a:pt x="5225" y="3"/>
                    <a:pt x="5252" y="3"/>
                  </a:cubicBezTo>
                  <a:close/>
                  <a:moveTo>
                    <a:pt x="5452" y="3"/>
                  </a:moveTo>
                  <a:lnTo>
                    <a:pt x="5452" y="3"/>
                  </a:lnTo>
                  <a:cubicBezTo>
                    <a:pt x="5480" y="3"/>
                    <a:pt x="5503" y="25"/>
                    <a:pt x="5503" y="52"/>
                  </a:cubicBezTo>
                  <a:cubicBezTo>
                    <a:pt x="5503" y="80"/>
                    <a:pt x="5481" y="103"/>
                    <a:pt x="5453" y="103"/>
                  </a:cubicBezTo>
                  <a:lnTo>
                    <a:pt x="5453" y="103"/>
                  </a:lnTo>
                  <a:cubicBezTo>
                    <a:pt x="5426" y="103"/>
                    <a:pt x="5403" y="81"/>
                    <a:pt x="5403" y="53"/>
                  </a:cubicBezTo>
                  <a:cubicBezTo>
                    <a:pt x="5403" y="26"/>
                    <a:pt x="5425" y="3"/>
                    <a:pt x="5452" y="3"/>
                  </a:cubicBezTo>
                  <a:close/>
                  <a:moveTo>
                    <a:pt x="5652" y="3"/>
                  </a:moveTo>
                  <a:lnTo>
                    <a:pt x="5653" y="3"/>
                  </a:lnTo>
                  <a:cubicBezTo>
                    <a:pt x="5680" y="2"/>
                    <a:pt x="5703" y="25"/>
                    <a:pt x="5703" y="52"/>
                  </a:cubicBezTo>
                  <a:cubicBezTo>
                    <a:pt x="5703" y="80"/>
                    <a:pt x="5681" y="102"/>
                    <a:pt x="5654" y="103"/>
                  </a:cubicBezTo>
                  <a:lnTo>
                    <a:pt x="5653" y="103"/>
                  </a:lnTo>
                  <a:cubicBezTo>
                    <a:pt x="5626" y="103"/>
                    <a:pt x="5603" y="81"/>
                    <a:pt x="5603" y="53"/>
                  </a:cubicBezTo>
                  <a:cubicBezTo>
                    <a:pt x="5603" y="26"/>
                    <a:pt x="5625" y="3"/>
                    <a:pt x="5652" y="3"/>
                  </a:cubicBezTo>
                  <a:close/>
                  <a:moveTo>
                    <a:pt x="5853" y="3"/>
                  </a:moveTo>
                  <a:lnTo>
                    <a:pt x="5853" y="3"/>
                  </a:lnTo>
                  <a:cubicBezTo>
                    <a:pt x="5880" y="2"/>
                    <a:pt x="5903" y="24"/>
                    <a:pt x="5903" y="52"/>
                  </a:cubicBezTo>
                  <a:cubicBezTo>
                    <a:pt x="5903" y="80"/>
                    <a:pt x="5881" y="102"/>
                    <a:pt x="5854" y="103"/>
                  </a:cubicBezTo>
                  <a:lnTo>
                    <a:pt x="5854" y="103"/>
                  </a:lnTo>
                  <a:cubicBezTo>
                    <a:pt x="5826" y="103"/>
                    <a:pt x="5803" y="81"/>
                    <a:pt x="5803" y="53"/>
                  </a:cubicBezTo>
                  <a:cubicBezTo>
                    <a:pt x="5803" y="25"/>
                    <a:pt x="5825" y="3"/>
                    <a:pt x="5853" y="3"/>
                  </a:cubicBezTo>
                  <a:close/>
                  <a:moveTo>
                    <a:pt x="6053" y="2"/>
                  </a:moveTo>
                  <a:lnTo>
                    <a:pt x="6053" y="2"/>
                  </a:lnTo>
                  <a:cubicBezTo>
                    <a:pt x="6080" y="2"/>
                    <a:pt x="6103" y="24"/>
                    <a:pt x="6103" y="52"/>
                  </a:cubicBezTo>
                  <a:cubicBezTo>
                    <a:pt x="6103" y="80"/>
                    <a:pt x="6081" y="102"/>
                    <a:pt x="6054" y="102"/>
                  </a:cubicBezTo>
                  <a:lnTo>
                    <a:pt x="6054" y="102"/>
                  </a:lnTo>
                  <a:cubicBezTo>
                    <a:pt x="6026" y="103"/>
                    <a:pt x="6003" y="81"/>
                    <a:pt x="6003" y="53"/>
                  </a:cubicBezTo>
                  <a:cubicBezTo>
                    <a:pt x="6003" y="25"/>
                    <a:pt x="6025" y="3"/>
                    <a:pt x="6053" y="2"/>
                  </a:cubicBezTo>
                  <a:close/>
                  <a:moveTo>
                    <a:pt x="6253" y="2"/>
                  </a:moveTo>
                  <a:lnTo>
                    <a:pt x="6253" y="2"/>
                  </a:lnTo>
                  <a:cubicBezTo>
                    <a:pt x="6280" y="2"/>
                    <a:pt x="6303" y="24"/>
                    <a:pt x="6303" y="52"/>
                  </a:cubicBezTo>
                  <a:cubicBezTo>
                    <a:pt x="6304" y="79"/>
                    <a:pt x="6281" y="102"/>
                    <a:pt x="6254" y="102"/>
                  </a:cubicBezTo>
                  <a:lnTo>
                    <a:pt x="6254" y="102"/>
                  </a:lnTo>
                  <a:cubicBezTo>
                    <a:pt x="6226" y="103"/>
                    <a:pt x="6203" y="80"/>
                    <a:pt x="6203" y="53"/>
                  </a:cubicBezTo>
                  <a:cubicBezTo>
                    <a:pt x="6203" y="25"/>
                    <a:pt x="6225" y="3"/>
                    <a:pt x="6253" y="2"/>
                  </a:cubicBezTo>
                  <a:close/>
                  <a:moveTo>
                    <a:pt x="6453" y="2"/>
                  </a:moveTo>
                  <a:lnTo>
                    <a:pt x="6453" y="2"/>
                  </a:lnTo>
                  <a:cubicBezTo>
                    <a:pt x="6481" y="2"/>
                    <a:pt x="6503" y="24"/>
                    <a:pt x="6503" y="52"/>
                  </a:cubicBezTo>
                  <a:cubicBezTo>
                    <a:pt x="6504" y="79"/>
                    <a:pt x="6482" y="102"/>
                    <a:pt x="6454" y="102"/>
                  </a:cubicBezTo>
                  <a:lnTo>
                    <a:pt x="6454" y="102"/>
                  </a:lnTo>
                  <a:cubicBezTo>
                    <a:pt x="6426" y="102"/>
                    <a:pt x="6404" y="80"/>
                    <a:pt x="6403" y="53"/>
                  </a:cubicBezTo>
                  <a:cubicBezTo>
                    <a:pt x="6403" y="25"/>
                    <a:pt x="6425" y="2"/>
                    <a:pt x="6453" y="2"/>
                  </a:cubicBezTo>
                  <a:close/>
                  <a:moveTo>
                    <a:pt x="6653" y="2"/>
                  </a:moveTo>
                  <a:lnTo>
                    <a:pt x="6653" y="2"/>
                  </a:lnTo>
                  <a:cubicBezTo>
                    <a:pt x="6681" y="2"/>
                    <a:pt x="6703" y="24"/>
                    <a:pt x="6704" y="52"/>
                  </a:cubicBezTo>
                  <a:cubicBezTo>
                    <a:pt x="6704" y="79"/>
                    <a:pt x="6682" y="102"/>
                    <a:pt x="6654" y="102"/>
                  </a:cubicBezTo>
                  <a:lnTo>
                    <a:pt x="6654" y="102"/>
                  </a:lnTo>
                  <a:cubicBezTo>
                    <a:pt x="6626" y="102"/>
                    <a:pt x="6604" y="80"/>
                    <a:pt x="6603" y="53"/>
                  </a:cubicBezTo>
                  <a:cubicBezTo>
                    <a:pt x="6603" y="25"/>
                    <a:pt x="6625" y="2"/>
                    <a:pt x="6653" y="2"/>
                  </a:cubicBezTo>
                  <a:close/>
                  <a:moveTo>
                    <a:pt x="6853" y="2"/>
                  </a:moveTo>
                  <a:lnTo>
                    <a:pt x="6853" y="2"/>
                  </a:lnTo>
                  <a:cubicBezTo>
                    <a:pt x="6881" y="2"/>
                    <a:pt x="6903" y="24"/>
                    <a:pt x="6904" y="51"/>
                  </a:cubicBezTo>
                  <a:cubicBezTo>
                    <a:pt x="6904" y="79"/>
                    <a:pt x="6882" y="102"/>
                    <a:pt x="6854" y="102"/>
                  </a:cubicBezTo>
                  <a:lnTo>
                    <a:pt x="6854" y="102"/>
                  </a:lnTo>
                  <a:cubicBezTo>
                    <a:pt x="6826" y="102"/>
                    <a:pt x="6804" y="80"/>
                    <a:pt x="6804" y="52"/>
                  </a:cubicBezTo>
                  <a:cubicBezTo>
                    <a:pt x="6803" y="25"/>
                    <a:pt x="6825" y="2"/>
                    <a:pt x="6853" y="2"/>
                  </a:cubicBezTo>
                  <a:close/>
                  <a:moveTo>
                    <a:pt x="7053" y="2"/>
                  </a:moveTo>
                  <a:lnTo>
                    <a:pt x="7053" y="2"/>
                  </a:lnTo>
                  <a:cubicBezTo>
                    <a:pt x="7081" y="1"/>
                    <a:pt x="7103" y="24"/>
                    <a:pt x="7104" y="51"/>
                  </a:cubicBezTo>
                  <a:cubicBezTo>
                    <a:pt x="7104" y="79"/>
                    <a:pt x="7082" y="101"/>
                    <a:pt x="7054" y="102"/>
                  </a:cubicBezTo>
                  <a:lnTo>
                    <a:pt x="7054" y="102"/>
                  </a:lnTo>
                  <a:cubicBezTo>
                    <a:pt x="7026" y="102"/>
                    <a:pt x="7004" y="80"/>
                    <a:pt x="7004" y="52"/>
                  </a:cubicBezTo>
                  <a:cubicBezTo>
                    <a:pt x="7003" y="25"/>
                    <a:pt x="7026" y="2"/>
                    <a:pt x="7053" y="2"/>
                  </a:cubicBezTo>
                  <a:close/>
                  <a:moveTo>
                    <a:pt x="7253" y="2"/>
                  </a:moveTo>
                  <a:lnTo>
                    <a:pt x="7253" y="2"/>
                  </a:lnTo>
                  <a:cubicBezTo>
                    <a:pt x="7281" y="1"/>
                    <a:pt x="7304" y="24"/>
                    <a:pt x="7304" y="51"/>
                  </a:cubicBezTo>
                  <a:cubicBezTo>
                    <a:pt x="7304" y="79"/>
                    <a:pt x="7282" y="101"/>
                    <a:pt x="7254" y="102"/>
                  </a:cubicBezTo>
                  <a:lnTo>
                    <a:pt x="7254" y="102"/>
                  </a:lnTo>
                  <a:cubicBezTo>
                    <a:pt x="7227" y="102"/>
                    <a:pt x="7204" y="80"/>
                    <a:pt x="7204" y="52"/>
                  </a:cubicBezTo>
                  <a:cubicBezTo>
                    <a:pt x="7203" y="25"/>
                    <a:pt x="7226" y="2"/>
                    <a:pt x="7253" y="2"/>
                  </a:cubicBezTo>
                  <a:close/>
                  <a:moveTo>
                    <a:pt x="7453" y="1"/>
                  </a:moveTo>
                  <a:lnTo>
                    <a:pt x="7453" y="1"/>
                  </a:lnTo>
                  <a:cubicBezTo>
                    <a:pt x="7481" y="1"/>
                    <a:pt x="7504" y="23"/>
                    <a:pt x="7504" y="51"/>
                  </a:cubicBezTo>
                  <a:cubicBezTo>
                    <a:pt x="7504" y="79"/>
                    <a:pt x="7482" y="101"/>
                    <a:pt x="7454" y="101"/>
                  </a:cubicBezTo>
                  <a:lnTo>
                    <a:pt x="7454" y="101"/>
                  </a:lnTo>
                  <a:cubicBezTo>
                    <a:pt x="7427" y="102"/>
                    <a:pt x="7404" y="80"/>
                    <a:pt x="7404" y="52"/>
                  </a:cubicBezTo>
                  <a:cubicBezTo>
                    <a:pt x="7404" y="24"/>
                    <a:pt x="7426" y="2"/>
                    <a:pt x="7453" y="1"/>
                  </a:cubicBezTo>
                  <a:close/>
                  <a:moveTo>
                    <a:pt x="7653" y="1"/>
                  </a:moveTo>
                  <a:lnTo>
                    <a:pt x="7654" y="1"/>
                  </a:lnTo>
                  <a:cubicBezTo>
                    <a:pt x="7681" y="1"/>
                    <a:pt x="7704" y="23"/>
                    <a:pt x="7704" y="51"/>
                  </a:cubicBezTo>
                  <a:cubicBezTo>
                    <a:pt x="7704" y="78"/>
                    <a:pt x="7682" y="101"/>
                    <a:pt x="7655" y="101"/>
                  </a:cubicBezTo>
                  <a:lnTo>
                    <a:pt x="7654" y="101"/>
                  </a:lnTo>
                  <a:cubicBezTo>
                    <a:pt x="7627" y="102"/>
                    <a:pt x="7604" y="79"/>
                    <a:pt x="7604" y="52"/>
                  </a:cubicBezTo>
                  <a:cubicBezTo>
                    <a:pt x="7604" y="24"/>
                    <a:pt x="7626" y="2"/>
                    <a:pt x="7653" y="1"/>
                  </a:cubicBezTo>
                  <a:close/>
                  <a:moveTo>
                    <a:pt x="7854" y="1"/>
                  </a:moveTo>
                  <a:lnTo>
                    <a:pt x="7854" y="1"/>
                  </a:lnTo>
                  <a:cubicBezTo>
                    <a:pt x="7881" y="1"/>
                    <a:pt x="7904" y="23"/>
                    <a:pt x="7904" y="51"/>
                  </a:cubicBezTo>
                  <a:cubicBezTo>
                    <a:pt x="7904" y="78"/>
                    <a:pt x="7882" y="101"/>
                    <a:pt x="7855" y="101"/>
                  </a:cubicBezTo>
                  <a:lnTo>
                    <a:pt x="7855" y="101"/>
                  </a:lnTo>
                  <a:cubicBezTo>
                    <a:pt x="7827" y="101"/>
                    <a:pt x="7804" y="79"/>
                    <a:pt x="7804" y="52"/>
                  </a:cubicBezTo>
                  <a:cubicBezTo>
                    <a:pt x="7804" y="24"/>
                    <a:pt x="7826" y="2"/>
                    <a:pt x="7854" y="1"/>
                  </a:cubicBezTo>
                  <a:close/>
                  <a:moveTo>
                    <a:pt x="8054" y="1"/>
                  </a:moveTo>
                  <a:lnTo>
                    <a:pt x="8054" y="1"/>
                  </a:lnTo>
                  <a:cubicBezTo>
                    <a:pt x="8081" y="1"/>
                    <a:pt x="8104" y="23"/>
                    <a:pt x="8104" y="51"/>
                  </a:cubicBezTo>
                  <a:cubicBezTo>
                    <a:pt x="8104" y="78"/>
                    <a:pt x="8082" y="101"/>
                    <a:pt x="8055" y="101"/>
                  </a:cubicBezTo>
                  <a:lnTo>
                    <a:pt x="8055" y="101"/>
                  </a:lnTo>
                  <a:cubicBezTo>
                    <a:pt x="8027" y="101"/>
                    <a:pt x="8004" y="79"/>
                    <a:pt x="8004" y="52"/>
                  </a:cubicBezTo>
                  <a:cubicBezTo>
                    <a:pt x="8004" y="24"/>
                    <a:pt x="8026" y="1"/>
                    <a:pt x="8054" y="1"/>
                  </a:cubicBezTo>
                  <a:close/>
                  <a:moveTo>
                    <a:pt x="8254" y="1"/>
                  </a:moveTo>
                  <a:lnTo>
                    <a:pt x="8254" y="1"/>
                  </a:lnTo>
                  <a:cubicBezTo>
                    <a:pt x="8281" y="1"/>
                    <a:pt x="8304" y="23"/>
                    <a:pt x="8304" y="50"/>
                  </a:cubicBezTo>
                  <a:cubicBezTo>
                    <a:pt x="8305" y="78"/>
                    <a:pt x="8282" y="101"/>
                    <a:pt x="8255" y="101"/>
                  </a:cubicBezTo>
                  <a:lnTo>
                    <a:pt x="8255" y="101"/>
                  </a:lnTo>
                  <a:cubicBezTo>
                    <a:pt x="8227" y="101"/>
                    <a:pt x="8204" y="79"/>
                    <a:pt x="8204" y="51"/>
                  </a:cubicBezTo>
                  <a:cubicBezTo>
                    <a:pt x="8204" y="24"/>
                    <a:pt x="8226" y="1"/>
                    <a:pt x="8254" y="1"/>
                  </a:cubicBezTo>
                  <a:close/>
                  <a:moveTo>
                    <a:pt x="8454" y="1"/>
                  </a:moveTo>
                  <a:lnTo>
                    <a:pt x="8454" y="1"/>
                  </a:lnTo>
                  <a:cubicBezTo>
                    <a:pt x="8482" y="1"/>
                    <a:pt x="8504" y="23"/>
                    <a:pt x="8504" y="50"/>
                  </a:cubicBezTo>
                  <a:cubicBezTo>
                    <a:pt x="8505" y="78"/>
                    <a:pt x="8483" y="101"/>
                    <a:pt x="8455" y="101"/>
                  </a:cubicBezTo>
                  <a:lnTo>
                    <a:pt x="8455" y="101"/>
                  </a:lnTo>
                  <a:cubicBezTo>
                    <a:pt x="8427" y="101"/>
                    <a:pt x="8405" y="79"/>
                    <a:pt x="8404" y="51"/>
                  </a:cubicBezTo>
                  <a:cubicBezTo>
                    <a:pt x="8404" y="24"/>
                    <a:pt x="8426" y="1"/>
                    <a:pt x="8454" y="1"/>
                  </a:cubicBezTo>
                  <a:close/>
                  <a:moveTo>
                    <a:pt x="8654" y="1"/>
                  </a:moveTo>
                  <a:lnTo>
                    <a:pt x="8654" y="1"/>
                  </a:lnTo>
                  <a:cubicBezTo>
                    <a:pt x="8682" y="0"/>
                    <a:pt x="8704" y="23"/>
                    <a:pt x="8705" y="50"/>
                  </a:cubicBezTo>
                  <a:cubicBezTo>
                    <a:pt x="8705" y="78"/>
                    <a:pt x="8683" y="100"/>
                    <a:pt x="8655" y="101"/>
                  </a:cubicBezTo>
                  <a:lnTo>
                    <a:pt x="8655" y="101"/>
                  </a:lnTo>
                  <a:cubicBezTo>
                    <a:pt x="8627" y="101"/>
                    <a:pt x="8605" y="79"/>
                    <a:pt x="8604" y="51"/>
                  </a:cubicBezTo>
                  <a:cubicBezTo>
                    <a:pt x="8604" y="24"/>
                    <a:pt x="8626" y="1"/>
                    <a:pt x="8654" y="1"/>
                  </a:cubicBezTo>
                  <a:close/>
                  <a:moveTo>
                    <a:pt x="8854" y="1"/>
                  </a:moveTo>
                  <a:lnTo>
                    <a:pt x="8854" y="1"/>
                  </a:lnTo>
                  <a:cubicBezTo>
                    <a:pt x="8882" y="0"/>
                    <a:pt x="8904" y="22"/>
                    <a:pt x="8905" y="50"/>
                  </a:cubicBezTo>
                  <a:cubicBezTo>
                    <a:pt x="8905" y="78"/>
                    <a:pt x="8883" y="100"/>
                    <a:pt x="8855" y="101"/>
                  </a:cubicBezTo>
                  <a:lnTo>
                    <a:pt x="8855" y="101"/>
                  </a:lnTo>
                  <a:cubicBezTo>
                    <a:pt x="8827" y="101"/>
                    <a:pt x="8805" y="79"/>
                    <a:pt x="8805" y="51"/>
                  </a:cubicBezTo>
                  <a:cubicBezTo>
                    <a:pt x="8804" y="23"/>
                    <a:pt x="8826" y="1"/>
                    <a:pt x="8854" y="1"/>
                  </a:cubicBezTo>
                  <a:close/>
                  <a:moveTo>
                    <a:pt x="9054" y="0"/>
                  </a:moveTo>
                  <a:lnTo>
                    <a:pt x="9054" y="0"/>
                  </a:lnTo>
                  <a:cubicBezTo>
                    <a:pt x="9082" y="0"/>
                    <a:pt x="9104" y="22"/>
                    <a:pt x="9105" y="50"/>
                  </a:cubicBezTo>
                  <a:cubicBezTo>
                    <a:pt x="9105" y="78"/>
                    <a:pt x="9083" y="100"/>
                    <a:pt x="9055" y="100"/>
                  </a:cubicBezTo>
                  <a:lnTo>
                    <a:pt x="9055" y="100"/>
                  </a:lnTo>
                  <a:cubicBezTo>
                    <a:pt x="9028" y="101"/>
                    <a:pt x="9005" y="79"/>
                    <a:pt x="9005" y="51"/>
                  </a:cubicBezTo>
                  <a:cubicBezTo>
                    <a:pt x="9004" y="23"/>
                    <a:pt x="9027" y="1"/>
                    <a:pt x="9054" y="0"/>
                  </a:cubicBezTo>
                  <a:close/>
                  <a:moveTo>
                    <a:pt x="9254" y="0"/>
                  </a:moveTo>
                  <a:lnTo>
                    <a:pt x="9254" y="0"/>
                  </a:lnTo>
                  <a:cubicBezTo>
                    <a:pt x="9282" y="0"/>
                    <a:pt x="9305" y="22"/>
                    <a:pt x="9305" y="50"/>
                  </a:cubicBezTo>
                  <a:cubicBezTo>
                    <a:pt x="9305" y="77"/>
                    <a:pt x="9283" y="100"/>
                    <a:pt x="9255" y="100"/>
                  </a:cubicBezTo>
                  <a:lnTo>
                    <a:pt x="9255" y="100"/>
                  </a:lnTo>
                  <a:cubicBezTo>
                    <a:pt x="9228" y="101"/>
                    <a:pt x="9205" y="78"/>
                    <a:pt x="9205" y="51"/>
                  </a:cubicBezTo>
                  <a:cubicBezTo>
                    <a:pt x="9204" y="23"/>
                    <a:pt x="9227" y="1"/>
                    <a:pt x="9254" y="0"/>
                  </a:cubicBezTo>
                  <a:close/>
                  <a:moveTo>
                    <a:pt x="9454" y="0"/>
                  </a:moveTo>
                  <a:lnTo>
                    <a:pt x="9454" y="0"/>
                  </a:lnTo>
                  <a:cubicBezTo>
                    <a:pt x="9482" y="0"/>
                    <a:pt x="9505" y="22"/>
                    <a:pt x="9505" y="50"/>
                  </a:cubicBezTo>
                  <a:cubicBezTo>
                    <a:pt x="9505" y="77"/>
                    <a:pt x="9483" y="100"/>
                    <a:pt x="9455" y="100"/>
                  </a:cubicBezTo>
                  <a:lnTo>
                    <a:pt x="9455" y="100"/>
                  </a:lnTo>
                  <a:cubicBezTo>
                    <a:pt x="9428" y="100"/>
                    <a:pt x="9405" y="78"/>
                    <a:pt x="9405" y="51"/>
                  </a:cubicBezTo>
                  <a:cubicBezTo>
                    <a:pt x="9405" y="23"/>
                    <a:pt x="9427" y="0"/>
                    <a:pt x="9454" y="0"/>
                  </a:cubicBezTo>
                  <a:close/>
                  <a:moveTo>
                    <a:pt x="9654" y="0"/>
                  </a:moveTo>
                  <a:lnTo>
                    <a:pt x="9655" y="0"/>
                  </a:lnTo>
                  <a:cubicBezTo>
                    <a:pt x="9682" y="0"/>
                    <a:pt x="9705" y="22"/>
                    <a:pt x="9705" y="50"/>
                  </a:cubicBezTo>
                  <a:cubicBezTo>
                    <a:pt x="9705" y="77"/>
                    <a:pt x="9683" y="100"/>
                    <a:pt x="9656" y="100"/>
                  </a:cubicBezTo>
                  <a:lnTo>
                    <a:pt x="9655" y="100"/>
                  </a:lnTo>
                  <a:cubicBezTo>
                    <a:pt x="9628" y="100"/>
                    <a:pt x="9605" y="78"/>
                    <a:pt x="9605" y="51"/>
                  </a:cubicBezTo>
                  <a:cubicBezTo>
                    <a:pt x="9605" y="23"/>
                    <a:pt x="9627" y="0"/>
                    <a:pt x="9654" y="0"/>
                  </a:cubicBezTo>
                  <a:close/>
                  <a:moveTo>
                    <a:pt x="9855" y="0"/>
                  </a:moveTo>
                  <a:lnTo>
                    <a:pt x="9855" y="0"/>
                  </a:lnTo>
                  <a:cubicBezTo>
                    <a:pt x="9882" y="0"/>
                    <a:pt x="9905" y="22"/>
                    <a:pt x="9905" y="49"/>
                  </a:cubicBezTo>
                  <a:cubicBezTo>
                    <a:pt x="9905" y="77"/>
                    <a:pt x="9883" y="100"/>
                    <a:pt x="9856" y="100"/>
                  </a:cubicBezTo>
                  <a:lnTo>
                    <a:pt x="9856" y="100"/>
                  </a:lnTo>
                  <a:cubicBezTo>
                    <a:pt x="9828" y="100"/>
                    <a:pt x="9805" y="78"/>
                    <a:pt x="9805" y="50"/>
                  </a:cubicBezTo>
                  <a:cubicBezTo>
                    <a:pt x="9805" y="23"/>
                    <a:pt x="9827" y="0"/>
                    <a:pt x="9855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072120" y="2060640"/>
              <a:ext cx="1790280" cy="1890360"/>
              <a:chOff x="6072120" y="2060640"/>
              <a:chExt cx="1790280" cy="1890360"/>
            </a:xfrm>
          </p:grpSpPr>
          <p:sp>
            <p:nvSpPr>
              <p:cNvPr id="570" name=""/>
              <p:cNvSpPr/>
              <p:nvPr/>
            </p:nvSpPr>
            <p:spPr>
              <a:xfrm>
                <a:off x="6072120" y="2060640"/>
                <a:ext cx="1790280" cy="189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72120" y="2060640"/>
                <a:ext cx="1790280" cy="18903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296040" y="2305080"/>
              <a:ext cx="167760" cy="159840"/>
              <a:chOff x="6296040" y="2305080"/>
              <a:chExt cx="167760" cy="159840"/>
            </a:xfrm>
          </p:grpSpPr>
          <p:sp>
            <p:nvSpPr>
              <p:cNvPr id="573" name=""/>
              <p:cNvSpPr/>
              <p:nvPr/>
            </p:nvSpPr>
            <p:spPr>
              <a:xfrm>
                <a:off x="6296040" y="2305080"/>
                <a:ext cx="167760" cy="1598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96040" y="2305080"/>
                <a:ext cx="167760" cy="1598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296040" y="2538360"/>
              <a:ext cx="167760" cy="161640"/>
              <a:chOff x="6296040" y="2538360"/>
              <a:chExt cx="167760" cy="161640"/>
            </a:xfrm>
          </p:grpSpPr>
          <p:sp>
            <p:nvSpPr>
              <p:cNvPr id="576" name=""/>
              <p:cNvSpPr/>
              <p:nvPr/>
            </p:nvSpPr>
            <p:spPr>
              <a:xfrm>
                <a:off x="6296040" y="2538360"/>
                <a:ext cx="167760" cy="1616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96040" y="2538360"/>
                <a:ext cx="16776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6296040" y="2957400"/>
              <a:ext cx="167760" cy="161640"/>
              <a:chOff x="6296040" y="2957400"/>
              <a:chExt cx="167760" cy="161640"/>
            </a:xfrm>
          </p:grpSpPr>
          <p:sp>
            <p:nvSpPr>
              <p:cNvPr id="579" name=""/>
              <p:cNvSpPr/>
              <p:nvPr/>
            </p:nvSpPr>
            <p:spPr>
              <a:xfrm>
                <a:off x="6296040" y="2957400"/>
                <a:ext cx="167760" cy="1616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96040" y="2957400"/>
                <a:ext cx="16776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296040" y="3646440"/>
              <a:ext cx="167760" cy="161640"/>
              <a:chOff x="6296040" y="3646440"/>
              <a:chExt cx="167760" cy="161640"/>
            </a:xfrm>
          </p:grpSpPr>
          <p:sp>
            <p:nvSpPr>
              <p:cNvPr id="582" name=""/>
              <p:cNvSpPr/>
              <p:nvPr/>
            </p:nvSpPr>
            <p:spPr>
              <a:xfrm>
                <a:off x="6296040" y="3646440"/>
                <a:ext cx="167760" cy="1616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96040" y="3646440"/>
                <a:ext cx="16776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6178680" y="3695760"/>
              <a:ext cx="1671480" cy="17280"/>
            </a:xfrm>
            <a:custGeom>
              <a:avLst/>
              <a:gdLst/>
              <a:ahLst/>
              <a:rect l="l" t="t" r="r" b="b"/>
              <a:pathLst>
                <a:path w="4652" h="50">
                  <a:moveTo>
                    <a:pt x="25" y="0"/>
                  </a:moveTo>
                  <a:lnTo>
                    <a:pt x="25" y="0"/>
                  </a:lnTo>
                  <a:cubicBezTo>
                    <a:pt x="39" y="0"/>
                    <a:pt x="50" y="12"/>
                    <a:pt x="50" y="25"/>
                  </a:cubicBezTo>
                  <a:cubicBezTo>
                    <a:pt x="50" y="39"/>
                    <a:pt x="39" y="50"/>
                    <a:pt x="25" y="50"/>
                  </a:cubicBezTo>
                  <a:lnTo>
                    <a:pt x="25" y="50"/>
                  </a:lnTo>
                  <a:cubicBezTo>
                    <a:pt x="11" y="50"/>
                    <a:pt x="0" y="39"/>
                    <a:pt x="0" y="25"/>
                  </a:cubicBezTo>
                  <a:cubicBezTo>
                    <a:pt x="0" y="12"/>
                    <a:pt x="11" y="0"/>
                    <a:pt x="25" y="0"/>
                  </a:cubicBezTo>
                  <a:close/>
                  <a:moveTo>
                    <a:pt x="125" y="0"/>
                  </a:moveTo>
                  <a:lnTo>
                    <a:pt x="125" y="0"/>
                  </a:lnTo>
                  <a:cubicBezTo>
                    <a:pt x="139" y="0"/>
                    <a:pt x="150" y="12"/>
                    <a:pt x="150" y="25"/>
                  </a:cubicBezTo>
                  <a:cubicBezTo>
                    <a:pt x="150" y="39"/>
                    <a:pt x="139" y="50"/>
                    <a:pt x="125" y="50"/>
                  </a:cubicBezTo>
                  <a:lnTo>
                    <a:pt x="125" y="50"/>
                  </a:lnTo>
                  <a:cubicBezTo>
                    <a:pt x="111" y="50"/>
                    <a:pt x="100" y="39"/>
                    <a:pt x="100" y="25"/>
                  </a:cubicBezTo>
                  <a:cubicBezTo>
                    <a:pt x="100" y="12"/>
                    <a:pt x="111" y="0"/>
                    <a:pt x="125" y="0"/>
                  </a:cubicBezTo>
                  <a:close/>
                  <a:moveTo>
                    <a:pt x="225" y="0"/>
                  </a:moveTo>
                  <a:lnTo>
                    <a:pt x="225" y="0"/>
                  </a:lnTo>
                  <a:cubicBezTo>
                    <a:pt x="239" y="0"/>
                    <a:pt x="250" y="12"/>
                    <a:pt x="250" y="25"/>
                  </a:cubicBezTo>
                  <a:cubicBezTo>
                    <a:pt x="250" y="39"/>
                    <a:pt x="239" y="50"/>
                    <a:pt x="225" y="50"/>
                  </a:cubicBezTo>
                  <a:lnTo>
                    <a:pt x="225" y="50"/>
                  </a:lnTo>
                  <a:cubicBezTo>
                    <a:pt x="211" y="50"/>
                    <a:pt x="200" y="39"/>
                    <a:pt x="200" y="25"/>
                  </a:cubicBezTo>
                  <a:cubicBezTo>
                    <a:pt x="200" y="12"/>
                    <a:pt x="211" y="0"/>
                    <a:pt x="225" y="0"/>
                  </a:cubicBezTo>
                  <a:close/>
                  <a:moveTo>
                    <a:pt x="325" y="0"/>
                  </a:moveTo>
                  <a:lnTo>
                    <a:pt x="325" y="0"/>
                  </a:lnTo>
                  <a:cubicBezTo>
                    <a:pt x="339" y="0"/>
                    <a:pt x="350" y="12"/>
                    <a:pt x="350" y="25"/>
                  </a:cubicBezTo>
                  <a:cubicBezTo>
                    <a:pt x="350" y="39"/>
                    <a:pt x="339" y="50"/>
                    <a:pt x="325" y="50"/>
                  </a:cubicBezTo>
                  <a:lnTo>
                    <a:pt x="325" y="50"/>
                  </a:lnTo>
                  <a:cubicBezTo>
                    <a:pt x="311" y="50"/>
                    <a:pt x="300" y="39"/>
                    <a:pt x="300" y="25"/>
                  </a:cubicBezTo>
                  <a:cubicBezTo>
                    <a:pt x="300" y="12"/>
                    <a:pt x="311" y="0"/>
                    <a:pt x="325" y="0"/>
                  </a:cubicBezTo>
                  <a:close/>
                  <a:moveTo>
                    <a:pt x="425" y="0"/>
                  </a:moveTo>
                  <a:lnTo>
                    <a:pt x="425" y="0"/>
                  </a:lnTo>
                  <a:cubicBezTo>
                    <a:pt x="439" y="0"/>
                    <a:pt x="450" y="12"/>
                    <a:pt x="450" y="25"/>
                  </a:cubicBezTo>
                  <a:cubicBezTo>
                    <a:pt x="450" y="39"/>
                    <a:pt x="439" y="50"/>
                    <a:pt x="425" y="50"/>
                  </a:cubicBezTo>
                  <a:lnTo>
                    <a:pt x="425" y="50"/>
                  </a:lnTo>
                  <a:cubicBezTo>
                    <a:pt x="411" y="50"/>
                    <a:pt x="400" y="39"/>
                    <a:pt x="400" y="25"/>
                  </a:cubicBezTo>
                  <a:cubicBezTo>
                    <a:pt x="400" y="12"/>
                    <a:pt x="411" y="0"/>
                    <a:pt x="425" y="0"/>
                  </a:cubicBezTo>
                  <a:close/>
                  <a:moveTo>
                    <a:pt x="525" y="0"/>
                  </a:moveTo>
                  <a:lnTo>
                    <a:pt x="525" y="0"/>
                  </a:lnTo>
                  <a:cubicBezTo>
                    <a:pt x="539" y="0"/>
                    <a:pt x="550" y="12"/>
                    <a:pt x="550" y="25"/>
                  </a:cubicBezTo>
                  <a:cubicBezTo>
                    <a:pt x="550" y="39"/>
                    <a:pt x="539" y="50"/>
                    <a:pt x="525" y="50"/>
                  </a:cubicBezTo>
                  <a:lnTo>
                    <a:pt x="525" y="50"/>
                  </a:lnTo>
                  <a:cubicBezTo>
                    <a:pt x="511" y="50"/>
                    <a:pt x="500" y="39"/>
                    <a:pt x="500" y="25"/>
                  </a:cubicBezTo>
                  <a:cubicBezTo>
                    <a:pt x="500" y="12"/>
                    <a:pt x="511" y="0"/>
                    <a:pt x="525" y="0"/>
                  </a:cubicBezTo>
                  <a:close/>
                  <a:moveTo>
                    <a:pt x="625" y="0"/>
                  </a:moveTo>
                  <a:lnTo>
                    <a:pt x="625" y="0"/>
                  </a:lnTo>
                  <a:cubicBezTo>
                    <a:pt x="639" y="0"/>
                    <a:pt x="650" y="12"/>
                    <a:pt x="650" y="25"/>
                  </a:cubicBezTo>
                  <a:cubicBezTo>
                    <a:pt x="650" y="39"/>
                    <a:pt x="639" y="50"/>
                    <a:pt x="625" y="50"/>
                  </a:cubicBezTo>
                  <a:lnTo>
                    <a:pt x="625" y="50"/>
                  </a:lnTo>
                  <a:cubicBezTo>
                    <a:pt x="611" y="50"/>
                    <a:pt x="600" y="39"/>
                    <a:pt x="600" y="25"/>
                  </a:cubicBezTo>
                  <a:cubicBezTo>
                    <a:pt x="600" y="12"/>
                    <a:pt x="611" y="0"/>
                    <a:pt x="625" y="0"/>
                  </a:cubicBezTo>
                  <a:close/>
                  <a:moveTo>
                    <a:pt x="725" y="0"/>
                  </a:moveTo>
                  <a:lnTo>
                    <a:pt x="725" y="0"/>
                  </a:lnTo>
                  <a:cubicBezTo>
                    <a:pt x="739" y="0"/>
                    <a:pt x="750" y="12"/>
                    <a:pt x="750" y="25"/>
                  </a:cubicBezTo>
                  <a:cubicBezTo>
                    <a:pt x="750" y="39"/>
                    <a:pt x="739" y="50"/>
                    <a:pt x="725" y="50"/>
                  </a:cubicBezTo>
                  <a:lnTo>
                    <a:pt x="725" y="50"/>
                  </a:lnTo>
                  <a:cubicBezTo>
                    <a:pt x="711" y="50"/>
                    <a:pt x="700" y="39"/>
                    <a:pt x="700" y="25"/>
                  </a:cubicBezTo>
                  <a:cubicBezTo>
                    <a:pt x="700" y="12"/>
                    <a:pt x="711" y="0"/>
                    <a:pt x="725" y="0"/>
                  </a:cubicBezTo>
                  <a:close/>
                  <a:moveTo>
                    <a:pt x="825" y="0"/>
                  </a:moveTo>
                  <a:lnTo>
                    <a:pt x="825" y="0"/>
                  </a:lnTo>
                  <a:cubicBezTo>
                    <a:pt x="839" y="0"/>
                    <a:pt x="850" y="12"/>
                    <a:pt x="850" y="25"/>
                  </a:cubicBezTo>
                  <a:cubicBezTo>
                    <a:pt x="850" y="39"/>
                    <a:pt x="839" y="50"/>
                    <a:pt x="825" y="50"/>
                  </a:cubicBezTo>
                  <a:lnTo>
                    <a:pt x="825" y="50"/>
                  </a:lnTo>
                  <a:cubicBezTo>
                    <a:pt x="811" y="50"/>
                    <a:pt x="800" y="39"/>
                    <a:pt x="800" y="25"/>
                  </a:cubicBezTo>
                  <a:cubicBezTo>
                    <a:pt x="800" y="12"/>
                    <a:pt x="811" y="0"/>
                    <a:pt x="825" y="0"/>
                  </a:cubicBezTo>
                  <a:close/>
                  <a:moveTo>
                    <a:pt x="925" y="0"/>
                  </a:moveTo>
                  <a:lnTo>
                    <a:pt x="925" y="0"/>
                  </a:lnTo>
                  <a:cubicBezTo>
                    <a:pt x="939" y="0"/>
                    <a:pt x="950" y="12"/>
                    <a:pt x="950" y="25"/>
                  </a:cubicBezTo>
                  <a:cubicBezTo>
                    <a:pt x="950" y="39"/>
                    <a:pt x="939" y="50"/>
                    <a:pt x="925" y="50"/>
                  </a:cubicBezTo>
                  <a:lnTo>
                    <a:pt x="925" y="50"/>
                  </a:lnTo>
                  <a:cubicBezTo>
                    <a:pt x="911" y="50"/>
                    <a:pt x="900" y="39"/>
                    <a:pt x="900" y="25"/>
                  </a:cubicBezTo>
                  <a:cubicBezTo>
                    <a:pt x="900" y="12"/>
                    <a:pt x="911" y="0"/>
                    <a:pt x="925" y="0"/>
                  </a:cubicBezTo>
                  <a:close/>
                  <a:moveTo>
                    <a:pt x="1025" y="0"/>
                  </a:moveTo>
                  <a:lnTo>
                    <a:pt x="1025" y="0"/>
                  </a:lnTo>
                  <a:cubicBezTo>
                    <a:pt x="1039" y="0"/>
                    <a:pt x="1050" y="12"/>
                    <a:pt x="1050" y="25"/>
                  </a:cubicBezTo>
                  <a:cubicBezTo>
                    <a:pt x="1050" y="39"/>
                    <a:pt x="1039" y="50"/>
                    <a:pt x="1025" y="50"/>
                  </a:cubicBezTo>
                  <a:lnTo>
                    <a:pt x="1025" y="50"/>
                  </a:lnTo>
                  <a:cubicBezTo>
                    <a:pt x="1011" y="50"/>
                    <a:pt x="1000" y="39"/>
                    <a:pt x="1000" y="25"/>
                  </a:cubicBezTo>
                  <a:cubicBezTo>
                    <a:pt x="1000" y="12"/>
                    <a:pt x="1011" y="0"/>
                    <a:pt x="1025" y="0"/>
                  </a:cubicBezTo>
                  <a:close/>
                  <a:moveTo>
                    <a:pt x="1125" y="0"/>
                  </a:moveTo>
                  <a:lnTo>
                    <a:pt x="1125" y="0"/>
                  </a:lnTo>
                  <a:cubicBezTo>
                    <a:pt x="1139" y="0"/>
                    <a:pt x="1150" y="12"/>
                    <a:pt x="1150" y="25"/>
                  </a:cubicBezTo>
                  <a:cubicBezTo>
                    <a:pt x="1150" y="39"/>
                    <a:pt x="1139" y="50"/>
                    <a:pt x="1125" y="50"/>
                  </a:cubicBezTo>
                  <a:lnTo>
                    <a:pt x="1125" y="50"/>
                  </a:lnTo>
                  <a:cubicBezTo>
                    <a:pt x="1112" y="50"/>
                    <a:pt x="1100" y="39"/>
                    <a:pt x="1100" y="25"/>
                  </a:cubicBezTo>
                  <a:cubicBezTo>
                    <a:pt x="1100" y="12"/>
                    <a:pt x="1112" y="0"/>
                    <a:pt x="1125" y="0"/>
                  </a:cubicBezTo>
                  <a:close/>
                  <a:moveTo>
                    <a:pt x="1225" y="0"/>
                  </a:moveTo>
                  <a:lnTo>
                    <a:pt x="1225" y="0"/>
                  </a:lnTo>
                  <a:cubicBezTo>
                    <a:pt x="1239" y="0"/>
                    <a:pt x="1250" y="12"/>
                    <a:pt x="1250" y="25"/>
                  </a:cubicBezTo>
                  <a:cubicBezTo>
                    <a:pt x="1250" y="39"/>
                    <a:pt x="1239" y="50"/>
                    <a:pt x="1225" y="50"/>
                  </a:cubicBezTo>
                  <a:lnTo>
                    <a:pt x="1225" y="50"/>
                  </a:lnTo>
                  <a:cubicBezTo>
                    <a:pt x="1212" y="50"/>
                    <a:pt x="1200" y="39"/>
                    <a:pt x="1200" y="25"/>
                  </a:cubicBezTo>
                  <a:cubicBezTo>
                    <a:pt x="1200" y="12"/>
                    <a:pt x="1212" y="0"/>
                    <a:pt x="1225" y="0"/>
                  </a:cubicBezTo>
                  <a:close/>
                  <a:moveTo>
                    <a:pt x="1325" y="0"/>
                  </a:moveTo>
                  <a:lnTo>
                    <a:pt x="1325" y="0"/>
                  </a:lnTo>
                  <a:cubicBezTo>
                    <a:pt x="1339" y="0"/>
                    <a:pt x="1350" y="12"/>
                    <a:pt x="1350" y="25"/>
                  </a:cubicBezTo>
                  <a:cubicBezTo>
                    <a:pt x="1350" y="39"/>
                    <a:pt x="1339" y="50"/>
                    <a:pt x="1325" y="50"/>
                  </a:cubicBezTo>
                  <a:lnTo>
                    <a:pt x="1325" y="50"/>
                  </a:lnTo>
                  <a:cubicBezTo>
                    <a:pt x="1312" y="50"/>
                    <a:pt x="1300" y="39"/>
                    <a:pt x="1300" y="25"/>
                  </a:cubicBezTo>
                  <a:cubicBezTo>
                    <a:pt x="1300" y="12"/>
                    <a:pt x="1312" y="0"/>
                    <a:pt x="1325" y="0"/>
                  </a:cubicBezTo>
                  <a:close/>
                  <a:moveTo>
                    <a:pt x="1425" y="0"/>
                  </a:moveTo>
                  <a:lnTo>
                    <a:pt x="1426" y="0"/>
                  </a:lnTo>
                  <a:cubicBezTo>
                    <a:pt x="1439" y="0"/>
                    <a:pt x="1451" y="12"/>
                    <a:pt x="1451" y="25"/>
                  </a:cubicBezTo>
                  <a:cubicBezTo>
                    <a:pt x="1451" y="39"/>
                    <a:pt x="1439" y="50"/>
                    <a:pt x="1426" y="50"/>
                  </a:cubicBezTo>
                  <a:lnTo>
                    <a:pt x="1425" y="50"/>
                  </a:lnTo>
                  <a:cubicBezTo>
                    <a:pt x="1412" y="50"/>
                    <a:pt x="1400" y="39"/>
                    <a:pt x="1400" y="25"/>
                  </a:cubicBezTo>
                  <a:cubicBezTo>
                    <a:pt x="1400" y="12"/>
                    <a:pt x="1412" y="0"/>
                    <a:pt x="1425" y="0"/>
                  </a:cubicBezTo>
                  <a:close/>
                  <a:moveTo>
                    <a:pt x="1526" y="0"/>
                  </a:moveTo>
                  <a:lnTo>
                    <a:pt x="1526" y="0"/>
                  </a:lnTo>
                  <a:cubicBezTo>
                    <a:pt x="1539" y="0"/>
                    <a:pt x="1551" y="12"/>
                    <a:pt x="1551" y="25"/>
                  </a:cubicBezTo>
                  <a:cubicBezTo>
                    <a:pt x="1551" y="39"/>
                    <a:pt x="1539" y="50"/>
                    <a:pt x="1526" y="50"/>
                  </a:cubicBezTo>
                  <a:lnTo>
                    <a:pt x="1526" y="50"/>
                  </a:lnTo>
                  <a:cubicBezTo>
                    <a:pt x="1512" y="50"/>
                    <a:pt x="1501" y="39"/>
                    <a:pt x="1501" y="25"/>
                  </a:cubicBezTo>
                  <a:cubicBezTo>
                    <a:pt x="1501" y="12"/>
                    <a:pt x="1512" y="0"/>
                    <a:pt x="1526" y="0"/>
                  </a:cubicBezTo>
                  <a:close/>
                  <a:moveTo>
                    <a:pt x="1626" y="0"/>
                  </a:moveTo>
                  <a:lnTo>
                    <a:pt x="1626" y="0"/>
                  </a:lnTo>
                  <a:cubicBezTo>
                    <a:pt x="1639" y="0"/>
                    <a:pt x="1651" y="12"/>
                    <a:pt x="1651" y="25"/>
                  </a:cubicBezTo>
                  <a:cubicBezTo>
                    <a:pt x="1651" y="39"/>
                    <a:pt x="1639" y="50"/>
                    <a:pt x="1626" y="50"/>
                  </a:cubicBezTo>
                  <a:lnTo>
                    <a:pt x="1626" y="50"/>
                  </a:lnTo>
                  <a:cubicBezTo>
                    <a:pt x="1612" y="50"/>
                    <a:pt x="1601" y="39"/>
                    <a:pt x="1601" y="25"/>
                  </a:cubicBezTo>
                  <a:cubicBezTo>
                    <a:pt x="1601" y="12"/>
                    <a:pt x="1612" y="0"/>
                    <a:pt x="1626" y="0"/>
                  </a:cubicBezTo>
                  <a:close/>
                  <a:moveTo>
                    <a:pt x="1726" y="0"/>
                  </a:moveTo>
                  <a:lnTo>
                    <a:pt x="1726" y="0"/>
                  </a:lnTo>
                  <a:cubicBezTo>
                    <a:pt x="1740" y="0"/>
                    <a:pt x="1751" y="12"/>
                    <a:pt x="1751" y="25"/>
                  </a:cubicBezTo>
                  <a:cubicBezTo>
                    <a:pt x="1751" y="39"/>
                    <a:pt x="1740" y="50"/>
                    <a:pt x="1726" y="50"/>
                  </a:cubicBezTo>
                  <a:lnTo>
                    <a:pt x="1726" y="50"/>
                  </a:lnTo>
                  <a:cubicBezTo>
                    <a:pt x="1712" y="50"/>
                    <a:pt x="1701" y="39"/>
                    <a:pt x="1701" y="25"/>
                  </a:cubicBezTo>
                  <a:cubicBezTo>
                    <a:pt x="1701" y="12"/>
                    <a:pt x="1712" y="0"/>
                    <a:pt x="1726" y="0"/>
                  </a:cubicBezTo>
                  <a:close/>
                  <a:moveTo>
                    <a:pt x="1826" y="0"/>
                  </a:moveTo>
                  <a:lnTo>
                    <a:pt x="1826" y="0"/>
                  </a:lnTo>
                  <a:cubicBezTo>
                    <a:pt x="1840" y="0"/>
                    <a:pt x="1851" y="12"/>
                    <a:pt x="1851" y="25"/>
                  </a:cubicBezTo>
                  <a:cubicBezTo>
                    <a:pt x="1851" y="39"/>
                    <a:pt x="1840" y="50"/>
                    <a:pt x="1826" y="50"/>
                  </a:cubicBezTo>
                  <a:lnTo>
                    <a:pt x="1826" y="50"/>
                  </a:lnTo>
                  <a:cubicBezTo>
                    <a:pt x="1812" y="50"/>
                    <a:pt x="1801" y="39"/>
                    <a:pt x="1801" y="25"/>
                  </a:cubicBezTo>
                  <a:cubicBezTo>
                    <a:pt x="1801" y="12"/>
                    <a:pt x="1812" y="0"/>
                    <a:pt x="1826" y="0"/>
                  </a:cubicBezTo>
                  <a:close/>
                  <a:moveTo>
                    <a:pt x="1926" y="0"/>
                  </a:moveTo>
                  <a:lnTo>
                    <a:pt x="1926" y="0"/>
                  </a:lnTo>
                  <a:cubicBezTo>
                    <a:pt x="1940" y="0"/>
                    <a:pt x="1951" y="12"/>
                    <a:pt x="1951" y="25"/>
                  </a:cubicBezTo>
                  <a:cubicBezTo>
                    <a:pt x="1951" y="39"/>
                    <a:pt x="1940" y="50"/>
                    <a:pt x="1926" y="50"/>
                  </a:cubicBezTo>
                  <a:lnTo>
                    <a:pt x="1926" y="50"/>
                  </a:lnTo>
                  <a:cubicBezTo>
                    <a:pt x="1912" y="50"/>
                    <a:pt x="1901" y="39"/>
                    <a:pt x="1901" y="25"/>
                  </a:cubicBezTo>
                  <a:cubicBezTo>
                    <a:pt x="1901" y="12"/>
                    <a:pt x="1912" y="0"/>
                    <a:pt x="1926" y="0"/>
                  </a:cubicBezTo>
                  <a:close/>
                  <a:moveTo>
                    <a:pt x="2026" y="0"/>
                  </a:moveTo>
                  <a:lnTo>
                    <a:pt x="2026" y="0"/>
                  </a:lnTo>
                  <a:cubicBezTo>
                    <a:pt x="2040" y="0"/>
                    <a:pt x="2051" y="12"/>
                    <a:pt x="2051" y="25"/>
                  </a:cubicBezTo>
                  <a:cubicBezTo>
                    <a:pt x="2051" y="39"/>
                    <a:pt x="2040" y="50"/>
                    <a:pt x="2026" y="50"/>
                  </a:cubicBezTo>
                  <a:lnTo>
                    <a:pt x="2026" y="50"/>
                  </a:lnTo>
                  <a:cubicBezTo>
                    <a:pt x="2012" y="50"/>
                    <a:pt x="2001" y="39"/>
                    <a:pt x="2001" y="25"/>
                  </a:cubicBezTo>
                  <a:cubicBezTo>
                    <a:pt x="2001" y="12"/>
                    <a:pt x="2012" y="0"/>
                    <a:pt x="2026" y="0"/>
                  </a:cubicBezTo>
                  <a:close/>
                  <a:moveTo>
                    <a:pt x="2126" y="0"/>
                  </a:moveTo>
                  <a:lnTo>
                    <a:pt x="2126" y="0"/>
                  </a:lnTo>
                  <a:cubicBezTo>
                    <a:pt x="2140" y="0"/>
                    <a:pt x="2151" y="12"/>
                    <a:pt x="2151" y="25"/>
                  </a:cubicBezTo>
                  <a:cubicBezTo>
                    <a:pt x="2151" y="39"/>
                    <a:pt x="2140" y="50"/>
                    <a:pt x="2126" y="50"/>
                  </a:cubicBezTo>
                  <a:lnTo>
                    <a:pt x="2126" y="50"/>
                  </a:lnTo>
                  <a:cubicBezTo>
                    <a:pt x="2112" y="50"/>
                    <a:pt x="2101" y="39"/>
                    <a:pt x="2101" y="25"/>
                  </a:cubicBezTo>
                  <a:cubicBezTo>
                    <a:pt x="2101" y="12"/>
                    <a:pt x="2112" y="0"/>
                    <a:pt x="2126" y="0"/>
                  </a:cubicBezTo>
                  <a:close/>
                  <a:moveTo>
                    <a:pt x="2226" y="0"/>
                  </a:moveTo>
                  <a:lnTo>
                    <a:pt x="2226" y="0"/>
                  </a:lnTo>
                  <a:cubicBezTo>
                    <a:pt x="2240" y="0"/>
                    <a:pt x="2251" y="12"/>
                    <a:pt x="2251" y="25"/>
                  </a:cubicBezTo>
                  <a:cubicBezTo>
                    <a:pt x="2251" y="39"/>
                    <a:pt x="2240" y="50"/>
                    <a:pt x="2226" y="50"/>
                  </a:cubicBezTo>
                  <a:lnTo>
                    <a:pt x="2226" y="50"/>
                  </a:lnTo>
                  <a:cubicBezTo>
                    <a:pt x="2212" y="50"/>
                    <a:pt x="2201" y="39"/>
                    <a:pt x="2201" y="25"/>
                  </a:cubicBezTo>
                  <a:cubicBezTo>
                    <a:pt x="2201" y="12"/>
                    <a:pt x="2212" y="0"/>
                    <a:pt x="2226" y="0"/>
                  </a:cubicBezTo>
                  <a:close/>
                  <a:moveTo>
                    <a:pt x="2326" y="0"/>
                  </a:moveTo>
                  <a:lnTo>
                    <a:pt x="2326" y="0"/>
                  </a:lnTo>
                  <a:cubicBezTo>
                    <a:pt x="2340" y="0"/>
                    <a:pt x="2351" y="12"/>
                    <a:pt x="2351" y="25"/>
                  </a:cubicBezTo>
                  <a:cubicBezTo>
                    <a:pt x="2351" y="39"/>
                    <a:pt x="2340" y="50"/>
                    <a:pt x="2326" y="50"/>
                  </a:cubicBezTo>
                  <a:lnTo>
                    <a:pt x="2326" y="50"/>
                  </a:lnTo>
                  <a:cubicBezTo>
                    <a:pt x="2312" y="50"/>
                    <a:pt x="2301" y="39"/>
                    <a:pt x="2301" y="25"/>
                  </a:cubicBezTo>
                  <a:cubicBezTo>
                    <a:pt x="2301" y="12"/>
                    <a:pt x="2312" y="0"/>
                    <a:pt x="2326" y="0"/>
                  </a:cubicBezTo>
                  <a:close/>
                  <a:moveTo>
                    <a:pt x="2426" y="0"/>
                  </a:moveTo>
                  <a:lnTo>
                    <a:pt x="2426" y="0"/>
                  </a:lnTo>
                  <a:cubicBezTo>
                    <a:pt x="2440" y="0"/>
                    <a:pt x="2451" y="12"/>
                    <a:pt x="2451" y="25"/>
                  </a:cubicBezTo>
                  <a:cubicBezTo>
                    <a:pt x="2451" y="39"/>
                    <a:pt x="2440" y="50"/>
                    <a:pt x="2426" y="50"/>
                  </a:cubicBezTo>
                  <a:lnTo>
                    <a:pt x="2426" y="50"/>
                  </a:lnTo>
                  <a:cubicBezTo>
                    <a:pt x="2412" y="50"/>
                    <a:pt x="2401" y="39"/>
                    <a:pt x="2401" y="25"/>
                  </a:cubicBezTo>
                  <a:cubicBezTo>
                    <a:pt x="2401" y="12"/>
                    <a:pt x="2412" y="0"/>
                    <a:pt x="2426" y="0"/>
                  </a:cubicBezTo>
                  <a:close/>
                  <a:moveTo>
                    <a:pt x="2526" y="0"/>
                  </a:moveTo>
                  <a:lnTo>
                    <a:pt x="2526" y="0"/>
                  </a:lnTo>
                  <a:cubicBezTo>
                    <a:pt x="2540" y="0"/>
                    <a:pt x="2551" y="12"/>
                    <a:pt x="2551" y="25"/>
                  </a:cubicBezTo>
                  <a:cubicBezTo>
                    <a:pt x="2551" y="39"/>
                    <a:pt x="2540" y="50"/>
                    <a:pt x="2526" y="50"/>
                  </a:cubicBezTo>
                  <a:lnTo>
                    <a:pt x="2526" y="50"/>
                  </a:lnTo>
                  <a:cubicBezTo>
                    <a:pt x="2512" y="50"/>
                    <a:pt x="2501" y="39"/>
                    <a:pt x="2501" y="25"/>
                  </a:cubicBezTo>
                  <a:cubicBezTo>
                    <a:pt x="2501" y="12"/>
                    <a:pt x="2512" y="0"/>
                    <a:pt x="2526" y="0"/>
                  </a:cubicBezTo>
                  <a:close/>
                  <a:moveTo>
                    <a:pt x="2626" y="0"/>
                  </a:moveTo>
                  <a:lnTo>
                    <a:pt x="2626" y="0"/>
                  </a:lnTo>
                  <a:cubicBezTo>
                    <a:pt x="2640" y="0"/>
                    <a:pt x="2651" y="12"/>
                    <a:pt x="2651" y="25"/>
                  </a:cubicBezTo>
                  <a:cubicBezTo>
                    <a:pt x="2651" y="39"/>
                    <a:pt x="2640" y="50"/>
                    <a:pt x="2626" y="50"/>
                  </a:cubicBezTo>
                  <a:lnTo>
                    <a:pt x="2626" y="50"/>
                  </a:lnTo>
                  <a:cubicBezTo>
                    <a:pt x="2612" y="50"/>
                    <a:pt x="2601" y="39"/>
                    <a:pt x="2601" y="25"/>
                  </a:cubicBezTo>
                  <a:cubicBezTo>
                    <a:pt x="2601" y="12"/>
                    <a:pt x="2612" y="0"/>
                    <a:pt x="2626" y="0"/>
                  </a:cubicBezTo>
                  <a:close/>
                  <a:moveTo>
                    <a:pt x="2726" y="0"/>
                  </a:moveTo>
                  <a:lnTo>
                    <a:pt x="2726" y="0"/>
                  </a:lnTo>
                  <a:cubicBezTo>
                    <a:pt x="2740" y="0"/>
                    <a:pt x="2751" y="12"/>
                    <a:pt x="2751" y="25"/>
                  </a:cubicBezTo>
                  <a:cubicBezTo>
                    <a:pt x="2751" y="39"/>
                    <a:pt x="2740" y="50"/>
                    <a:pt x="2726" y="50"/>
                  </a:cubicBezTo>
                  <a:lnTo>
                    <a:pt x="2726" y="50"/>
                  </a:lnTo>
                  <a:cubicBezTo>
                    <a:pt x="2712" y="50"/>
                    <a:pt x="2701" y="39"/>
                    <a:pt x="2701" y="25"/>
                  </a:cubicBezTo>
                  <a:cubicBezTo>
                    <a:pt x="2701" y="12"/>
                    <a:pt x="2712" y="0"/>
                    <a:pt x="2726" y="0"/>
                  </a:cubicBezTo>
                  <a:close/>
                  <a:moveTo>
                    <a:pt x="2826" y="0"/>
                  </a:moveTo>
                  <a:lnTo>
                    <a:pt x="2826" y="0"/>
                  </a:lnTo>
                  <a:cubicBezTo>
                    <a:pt x="2840" y="0"/>
                    <a:pt x="2851" y="12"/>
                    <a:pt x="2851" y="25"/>
                  </a:cubicBezTo>
                  <a:cubicBezTo>
                    <a:pt x="2851" y="39"/>
                    <a:pt x="2840" y="50"/>
                    <a:pt x="2826" y="50"/>
                  </a:cubicBezTo>
                  <a:lnTo>
                    <a:pt x="2826" y="50"/>
                  </a:lnTo>
                  <a:cubicBezTo>
                    <a:pt x="2812" y="50"/>
                    <a:pt x="2801" y="39"/>
                    <a:pt x="2801" y="25"/>
                  </a:cubicBezTo>
                  <a:cubicBezTo>
                    <a:pt x="2801" y="12"/>
                    <a:pt x="2812" y="0"/>
                    <a:pt x="2826" y="0"/>
                  </a:cubicBezTo>
                  <a:close/>
                  <a:moveTo>
                    <a:pt x="2926" y="0"/>
                  </a:moveTo>
                  <a:lnTo>
                    <a:pt x="2926" y="0"/>
                  </a:lnTo>
                  <a:cubicBezTo>
                    <a:pt x="2940" y="0"/>
                    <a:pt x="2951" y="12"/>
                    <a:pt x="2951" y="25"/>
                  </a:cubicBezTo>
                  <a:cubicBezTo>
                    <a:pt x="2951" y="39"/>
                    <a:pt x="2940" y="50"/>
                    <a:pt x="2926" y="50"/>
                  </a:cubicBezTo>
                  <a:lnTo>
                    <a:pt x="2926" y="50"/>
                  </a:lnTo>
                  <a:cubicBezTo>
                    <a:pt x="2912" y="50"/>
                    <a:pt x="2901" y="39"/>
                    <a:pt x="2901" y="25"/>
                  </a:cubicBezTo>
                  <a:cubicBezTo>
                    <a:pt x="2901" y="12"/>
                    <a:pt x="2912" y="0"/>
                    <a:pt x="2926" y="0"/>
                  </a:cubicBezTo>
                  <a:close/>
                  <a:moveTo>
                    <a:pt x="3026" y="0"/>
                  </a:moveTo>
                  <a:lnTo>
                    <a:pt x="3026" y="0"/>
                  </a:lnTo>
                  <a:cubicBezTo>
                    <a:pt x="3040" y="0"/>
                    <a:pt x="3051" y="12"/>
                    <a:pt x="3051" y="25"/>
                  </a:cubicBezTo>
                  <a:cubicBezTo>
                    <a:pt x="3051" y="39"/>
                    <a:pt x="3040" y="50"/>
                    <a:pt x="3026" y="50"/>
                  </a:cubicBezTo>
                  <a:lnTo>
                    <a:pt x="3026" y="50"/>
                  </a:lnTo>
                  <a:cubicBezTo>
                    <a:pt x="3012" y="50"/>
                    <a:pt x="3001" y="39"/>
                    <a:pt x="3001" y="25"/>
                  </a:cubicBezTo>
                  <a:cubicBezTo>
                    <a:pt x="3001" y="12"/>
                    <a:pt x="3012" y="0"/>
                    <a:pt x="3026" y="0"/>
                  </a:cubicBezTo>
                  <a:close/>
                  <a:moveTo>
                    <a:pt x="3126" y="0"/>
                  </a:moveTo>
                  <a:lnTo>
                    <a:pt x="3126" y="0"/>
                  </a:lnTo>
                  <a:cubicBezTo>
                    <a:pt x="3140" y="0"/>
                    <a:pt x="3151" y="12"/>
                    <a:pt x="3151" y="25"/>
                  </a:cubicBezTo>
                  <a:cubicBezTo>
                    <a:pt x="3151" y="39"/>
                    <a:pt x="3140" y="50"/>
                    <a:pt x="3126" y="50"/>
                  </a:cubicBezTo>
                  <a:lnTo>
                    <a:pt x="3126" y="50"/>
                  </a:lnTo>
                  <a:cubicBezTo>
                    <a:pt x="3113" y="50"/>
                    <a:pt x="3101" y="39"/>
                    <a:pt x="3101" y="25"/>
                  </a:cubicBezTo>
                  <a:cubicBezTo>
                    <a:pt x="3101" y="12"/>
                    <a:pt x="3113" y="0"/>
                    <a:pt x="3126" y="0"/>
                  </a:cubicBezTo>
                  <a:close/>
                  <a:moveTo>
                    <a:pt x="3226" y="0"/>
                  </a:moveTo>
                  <a:lnTo>
                    <a:pt x="3226" y="0"/>
                  </a:lnTo>
                  <a:cubicBezTo>
                    <a:pt x="3240" y="0"/>
                    <a:pt x="3251" y="12"/>
                    <a:pt x="3251" y="25"/>
                  </a:cubicBezTo>
                  <a:cubicBezTo>
                    <a:pt x="3251" y="39"/>
                    <a:pt x="3240" y="50"/>
                    <a:pt x="3226" y="50"/>
                  </a:cubicBezTo>
                  <a:lnTo>
                    <a:pt x="3226" y="50"/>
                  </a:lnTo>
                  <a:cubicBezTo>
                    <a:pt x="3213" y="50"/>
                    <a:pt x="3201" y="39"/>
                    <a:pt x="3201" y="25"/>
                  </a:cubicBezTo>
                  <a:cubicBezTo>
                    <a:pt x="3201" y="12"/>
                    <a:pt x="3213" y="0"/>
                    <a:pt x="3226" y="0"/>
                  </a:cubicBezTo>
                  <a:close/>
                  <a:moveTo>
                    <a:pt x="3326" y="0"/>
                  </a:moveTo>
                  <a:lnTo>
                    <a:pt x="3326" y="0"/>
                  </a:lnTo>
                  <a:cubicBezTo>
                    <a:pt x="3340" y="0"/>
                    <a:pt x="3351" y="12"/>
                    <a:pt x="3351" y="25"/>
                  </a:cubicBezTo>
                  <a:cubicBezTo>
                    <a:pt x="3351" y="39"/>
                    <a:pt x="3340" y="50"/>
                    <a:pt x="3326" y="50"/>
                  </a:cubicBezTo>
                  <a:lnTo>
                    <a:pt x="3326" y="50"/>
                  </a:lnTo>
                  <a:cubicBezTo>
                    <a:pt x="3313" y="50"/>
                    <a:pt x="3301" y="39"/>
                    <a:pt x="3301" y="25"/>
                  </a:cubicBezTo>
                  <a:cubicBezTo>
                    <a:pt x="3301" y="12"/>
                    <a:pt x="3313" y="0"/>
                    <a:pt x="3326" y="0"/>
                  </a:cubicBezTo>
                  <a:close/>
                  <a:moveTo>
                    <a:pt x="3426" y="0"/>
                  </a:moveTo>
                  <a:lnTo>
                    <a:pt x="3427" y="0"/>
                  </a:lnTo>
                  <a:cubicBezTo>
                    <a:pt x="3440" y="0"/>
                    <a:pt x="3452" y="12"/>
                    <a:pt x="3452" y="25"/>
                  </a:cubicBezTo>
                  <a:cubicBezTo>
                    <a:pt x="3452" y="39"/>
                    <a:pt x="3440" y="50"/>
                    <a:pt x="3427" y="50"/>
                  </a:cubicBezTo>
                  <a:lnTo>
                    <a:pt x="3426" y="50"/>
                  </a:lnTo>
                  <a:cubicBezTo>
                    <a:pt x="3413" y="50"/>
                    <a:pt x="3401" y="39"/>
                    <a:pt x="3401" y="25"/>
                  </a:cubicBezTo>
                  <a:cubicBezTo>
                    <a:pt x="3401" y="12"/>
                    <a:pt x="3413" y="0"/>
                    <a:pt x="3426" y="0"/>
                  </a:cubicBezTo>
                  <a:close/>
                  <a:moveTo>
                    <a:pt x="3527" y="0"/>
                  </a:moveTo>
                  <a:lnTo>
                    <a:pt x="3527" y="0"/>
                  </a:lnTo>
                  <a:cubicBezTo>
                    <a:pt x="3540" y="0"/>
                    <a:pt x="3552" y="12"/>
                    <a:pt x="3552" y="25"/>
                  </a:cubicBezTo>
                  <a:cubicBezTo>
                    <a:pt x="3552" y="39"/>
                    <a:pt x="3540" y="50"/>
                    <a:pt x="3527" y="50"/>
                  </a:cubicBezTo>
                  <a:lnTo>
                    <a:pt x="3527" y="50"/>
                  </a:lnTo>
                  <a:cubicBezTo>
                    <a:pt x="3513" y="50"/>
                    <a:pt x="3502" y="39"/>
                    <a:pt x="3502" y="25"/>
                  </a:cubicBezTo>
                  <a:cubicBezTo>
                    <a:pt x="3502" y="12"/>
                    <a:pt x="3513" y="0"/>
                    <a:pt x="3527" y="0"/>
                  </a:cubicBezTo>
                  <a:close/>
                  <a:moveTo>
                    <a:pt x="3627" y="0"/>
                  </a:moveTo>
                  <a:lnTo>
                    <a:pt x="3627" y="0"/>
                  </a:lnTo>
                  <a:cubicBezTo>
                    <a:pt x="3640" y="0"/>
                    <a:pt x="3652" y="12"/>
                    <a:pt x="3652" y="25"/>
                  </a:cubicBezTo>
                  <a:cubicBezTo>
                    <a:pt x="3652" y="39"/>
                    <a:pt x="3640" y="50"/>
                    <a:pt x="3627" y="50"/>
                  </a:cubicBezTo>
                  <a:lnTo>
                    <a:pt x="3627" y="50"/>
                  </a:lnTo>
                  <a:cubicBezTo>
                    <a:pt x="3613" y="50"/>
                    <a:pt x="3602" y="39"/>
                    <a:pt x="3602" y="25"/>
                  </a:cubicBezTo>
                  <a:cubicBezTo>
                    <a:pt x="3602" y="12"/>
                    <a:pt x="3613" y="0"/>
                    <a:pt x="3627" y="0"/>
                  </a:cubicBezTo>
                  <a:close/>
                  <a:moveTo>
                    <a:pt x="3727" y="0"/>
                  </a:moveTo>
                  <a:lnTo>
                    <a:pt x="3727" y="0"/>
                  </a:lnTo>
                  <a:cubicBezTo>
                    <a:pt x="3740" y="0"/>
                    <a:pt x="3752" y="12"/>
                    <a:pt x="3752" y="25"/>
                  </a:cubicBezTo>
                  <a:cubicBezTo>
                    <a:pt x="3752" y="39"/>
                    <a:pt x="3740" y="50"/>
                    <a:pt x="3727" y="50"/>
                  </a:cubicBezTo>
                  <a:lnTo>
                    <a:pt x="3727" y="50"/>
                  </a:lnTo>
                  <a:cubicBezTo>
                    <a:pt x="3713" y="50"/>
                    <a:pt x="3702" y="39"/>
                    <a:pt x="3702" y="25"/>
                  </a:cubicBezTo>
                  <a:cubicBezTo>
                    <a:pt x="3702" y="12"/>
                    <a:pt x="3713" y="0"/>
                    <a:pt x="3727" y="0"/>
                  </a:cubicBezTo>
                  <a:close/>
                  <a:moveTo>
                    <a:pt x="3827" y="0"/>
                  </a:moveTo>
                  <a:lnTo>
                    <a:pt x="3827" y="0"/>
                  </a:lnTo>
                  <a:cubicBezTo>
                    <a:pt x="3841" y="0"/>
                    <a:pt x="3852" y="12"/>
                    <a:pt x="3852" y="25"/>
                  </a:cubicBezTo>
                  <a:cubicBezTo>
                    <a:pt x="3852" y="39"/>
                    <a:pt x="3841" y="50"/>
                    <a:pt x="3827" y="50"/>
                  </a:cubicBezTo>
                  <a:lnTo>
                    <a:pt x="3827" y="50"/>
                  </a:lnTo>
                  <a:cubicBezTo>
                    <a:pt x="3813" y="50"/>
                    <a:pt x="3802" y="39"/>
                    <a:pt x="3802" y="25"/>
                  </a:cubicBezTo>
                  <a:cubicBezTo>
                    <a:pt x="3802" y="12"/>
                    <a:pt x="3813" y="0"/>
                    <a:pt x="3827" y="0"/>
                  </a:cubicBezTo>
                  <a:close/>
                  <a:moveTo>
                    <a:pt x="3927" y="0"/>
                  </a:moveTo>
                  <a:lnTo>
                    <a:pt x="3927" y="0"/>
                  </a:lnTo>
                  <a:cubicBezTo>
                    <a:pt x="3941" y="0"/>
                    <a:pt x="3952" y="12"/>
                    <a:pt x="3952" y="25"/>
                  </a:cubicBezTo>
                  <a:cubicBezTo>
                    <a:pt x="3952" y="39"/>
                    <a:pt x="3941" y="50"/>
                    <a:pt x="3927" y="50"/>
                  </a:cubicBezTo>
                  <a:lnTo>
                    <a:pt x="3927" y="50"/>
                  </a:lnTo>
                  <a:cubicBezTo>
                    <a:pt x="3913" y="50"/>
                    <a:pt x="3902" y="39"/>
                    <a:pt x="3902" y="25"/>
                  </a:cubicBezTo>
                  <a:cubicBezTo>
                    <a:pt x="3902" y="12"/>
                    <a:pt x="3913" y="0"/>
                    <a:pt x="3927" y="0"/>
                  </a:cubicBezTo>
                  <a:close/>
                  <a:moveTo>
                    <a:pt x="4027" y="0"/>
                  </a:moveTo>
                  <a:lnTo>
                    <a:pt x="4027" y="0"/>
                  </a:lnTo>
                  <a:cubicBezTo>
                    <a:pt x="4041" y="0"/>
                    <a:pt x="4052" y="12"/>
                    <a:pt x="4052" y="25"/>
                  </a:cubicBezTo>
                  <a:cubicBezTo>
                    <a:pt x="4052" y="39"/>
                    <a:pt x="4041" y="50"/>
                    <a:pt x="4027" y="50"/>
                  </a:cubicBezTo>
                  <a:lnTo>
                    <a:pt x="4027" y="50"/>
                  </a:lnTo>
                  <a:cubicBezTo>
                    <a:pt x="4013" y="50"/>
                    <a:pt x="4002" y="39"/>
                    <a:pt x="4002" y="25"/>
                  </a:cubicBezTo>
                  <a:cubicBezTo>
                    <a:pt x="4002" y="12"/>
                    <a:pt x="4013" y="0"/>
                    <a:pt x="4027" y="0"/>
                  </a:cubicBezTo>
                  <a:close/>
                  <a:moveTo>
                    <a:pt x="4127" y="0"/>
                  </a:moveTo>
                  <a:lnTo>
                    <a:pt x="4127" y="0"/>
                  </a:lnTo>
                  <a:cubicBezTo>
                    <a:pt x="4141" y="0"/>
                    <a:pt x="4152" y="12"/>
                    <a:pt x="4152" y="25"/>
                  </a:cubicBezTo>
                  <a:cubicBezTo>
                    <a:pt x="4152" y="39"/>
                    <a:pt x="4141" y="50"/>
                    <a:pt x="4127" y="50"/>
                  </a:cubicBezTo>
                  <a:lnTo>
                    <a:pt x="4127" y="50"/>
                  </a:lnTo>
                  <a:cubicBezTo>
                    <a:pt x="4113" y="50"/>
                    <a:pt x="4102" y="39"/>
                    <a:pt x="4102" y="25"/>
                  </a:cubicBezTo>
                  <a:cubicBezTo>
                    <a:pt x="4102" y="12"/>
                    <a:pt x="4113" y="0"/>
                    <a:pt x="4127" y="0"/>
                  </a:cubicBezTo>
                  <a:close/>
                  <a:moveTo>
                    <a:pt x="4227" y="0"/>
                  </a:moveTo>
                  <a:lnTo>
                    <a:pt x="4227" y="0"/>
                  </a:lnTo>
                  <a:cubicBezTo>
                    <a:pt x="4241" y="0"/>
                    <a:pt x="4252" y="12"/>
                    <a:pt x="4252" y="25"/>
                  </a:cubicBezTo>
                  <a:cubicBezTo>
                    <a:pt x="4252" y="39"/>
                    <a:pt x="4241" y="50"/>
                    <a:pt x="4227" y="50"/>
                  </a:cubicBezTo>
                  <a:lnTo>
                    <a:pt x="4227" y="50"/>
                  </a:lnTo>
                  <a:cubicBezTo>
                    <a:pt x="4213" y="50"/>
                    <a:pt x="4202" y="39"/>
                    <a:pt x="4202" y="25"/>
                  </a:cubicBezTo>
                  <a:cubicBezTo>
                    <a:pt x="4202" y="12"/>
                    <a:pt x="4213" y="0"/>
                    <a:pt x="4227" y="0"/>
                  </a:cubicBezTo>
                  <a:close/>
                  <a:moveTo>
                    <a:pt x="4327" y="0"/>
                  </a:moveTo>
                  <a:lnTo>
                    <a:pt x="4327" y="0"/>
                  </a:lnTo>
                  <a:cubicBezTo>
                    <a:pt x="4341" y="0"/>
                    <a:pt x="4352" y="12"/>
                    <a:pt x="4352" y="25"/>
                  </a:cubicBezTo>
                  <a:cubicBezTo>
                    <a:pt x="4352" y="39"/>
                    <a:pt x="4341" y="50"/>
                    <a:pt x="4327" y="50"/>
                  </a:cubicBezTo>
                  <a:lnTo>
                    <a:pt x="4327" y="50"/>
                  </a:lnTo>
                  <a:cubicBezTo>
                    <a:pt x="4313" y="50"/>
                    <a:pt x="4302" y="39"/>
                    <a:pt x="4302" y="25"/>
                  </a:cubicBezTo>
                  <a:cubicBezTo>
                    <a:pt x="4302" y="12"/>
                    <a:pt x="4313" y="0"/>
                    <a:pt x="4327" y="0"/>
                  </a:cubicBezTo>
                  <a:close/>
                  <a:moveTo>
                    <a:pt x="4427" y="0"/>
                  </a:moveTo>
                  <a:lnTo>
                    <a:pt x="4427" y="0"/>
                  </a:lnTo>
                  <a:cubicBezTo>
                    <a:pt x="4441" y="0"/>
                    <a:pt x="4452" y="12"/>
                    <a:pt x="4452" y="25"/>
                  </a:cubicBezTo>
                  <a:cubicBezTo>
                    <a:pt x="4452" y="39"/>
                    <a:pt x="4441" y="50"/>
                    <a:pt x="4427" y="50"/>
                  </a:cubicBezTo>
                  <a:lnTo>
                    <a:pt x="4427" y="50"/>
                  </a:lnTo>
                  <a:cubicBezTo>
                    <a:pt x="4413" y="50"/>
                    <a:pt x="4402" y="39"/>
                    <a:pt x="4402" y="25"/>
                  </a:cubicBezTo>
                  <a:cubicBezTo>
                    <a:pt x="4402" y="12"/>
                    <a:pt x="4413" y="0"/>
                    <a:pt x="4427" y="0"/>
                  </a:cubicBezTo>
                  <a:close/>
                  <a:moveTo>
                    <a:pt x="4527" y="0"/>
                  </a:moveTo>
                  <a:lnTo>
                    <a:pt x="4527" y="0"/>
                  </a:lnTo>
                  <a:cubicBezTo>
                    <a:pt x="4541" y="0"/>
                    <a:pt x="4552" y="12"/>
                    <a:pt x="4552" y="25"/>
                  </a:cubicBezTo>
                  <a:cubicBezTo>
                    <a:pt x="4552" y="39"/>
                    <a:pt x="4541" y="50"/>
                    <a:pt x="4527" y="50"/>
                  </a:cubicBezTo>
                  <a:lnTo>
                    <a:pt x="4527" y="50"/>
                  </a:lnTo>
                  <a:cubicBezTo>
                    <a:pt x="4513" y="50"/>
                    <a:pt x="4502" y="39"/>
                    <a:pt x="4502" y="25"/>
                  </a:cubicBezTo>
                  <a:cubicBezTo>
                    <a:pt x="4502" y="12"/>
                    <a:pt x="4513" y="0"/>
                    <a:pt x="4527" y="0"/>
                  </a:cubicBezTo>
                  <a:close/>
                  <a:moveTo>
                    <a:pt x="4627" y="0"/>
                  </a:moveTo>
                  <a:lnTo>
                    <a:pt x="4627" y="0"/>
                  </a:lnTo>
                  <a:cubicBezTo>
                    <a:pt x="4641" y="0"/>
                    <a:pt x="4652" y="12"/>
                    <a:pt x="4652" y="25"/>
                  </a:cubicBezTo>
                  <a:cubicBezTo>
                    <a:pt x="4652" y="39"/>
                    <a:pt x="4641" y="50"/>
                    <a:pt x="4627" y="50"/>
                  </a:cubicBezTo>
                  <a:lnTo>
                    <a:pt x="4627" y="50"/>
                  </a:lnTo>
                  <a:cubicBezTo>
                    <a:pt x="4613" y="50"/>
                    <a:pt x="4602" y="39"/>
                    <a:pt x="4602" y="25"/>
                  </a:cubicBezTo>
                  <a:cubicBezTo>
                    <a:pt x="4602" y="12"/>
                    <a:pt x="4613" y="0"/>
                    <a:pt x="4627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51680" y="2217600"/>
              <a:ext cx="1471320" cy="12960"/>
            </a:xfrm>
            <a:custGeom>
              <a:avLst/>
              <a:gdLst/>
              <a:ahLst/>
              <a:rect l="l" t="t" r="r" b="b"/>
              <a:pathLst>
                <a:path w="4100" h="33">
                  <a:moveTo>
                    <a:pt x="16" y="0"/>
                  </a:moveTo>
                  <a:lnTo>
                    <a:pt x="116" y="0"/>
                  </a:lnTo>
                  <a:cubicBezTo>
                    <a:pt x="126" y="0"/>
                    <a:pt x="133" y="7"/>
                    <a:pt x="133" y="16"/>
                  </a:cubicBezTo>
                  <a:cubicBezTo>
                    <a:pt x="133" y="26"/>
                    <a:pt x="126" y="33"/>
                    <a:pt x="116" y="33"/>
                  </a:cubicBezTo>
                  <a:lnTo>
                    <a:pt x="16" y="33"/>
                  </a:lnTo>
                  <a:cubicBezTo>
                    <a:pt x="7" y="33"/>
                    <a:pt x="0" y="26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lose/>
                  <a:moveTo>
                    <a:pt x="250" y="0"/>
                  </a:moveTo>
                  <a:lnTo>
                    <a:pt x="350" y="0"/>
                  </a:lnTo>
                  <a:cubicBezTo>
                    <a:pt x="359" y="0"/>
                    <a:pt x="366" y="7"/>
                    <a:pt x="366" y="16"/>
                  </a:cubicBezTo>
                  <a:cubicBezTo>
                    <a:pt x="366" y="26"/>
                    <a:pt x="359" y="33"/>
                    <a:pt x="350" y="33"/>
                  </a:cubicBezTo>
                  <a:lnTo>
                    <a:pt x="250" y="33"/>
                  </a:lnTo>
                  <a:cubicBezTo>
                    <a:pt x="241" y="33"/>
                    <a:pt x="233" y="26"/>
                    <a:pt x="233" y="16"/>
                  </a:cubicBezTo>
                  <a:cubicBezTo>
                    <a:pt x="233" y="7"/>
                    <a:pt x="241" y="0"/>
                    <a:pt x="250" y="0"/>
                  </a:cubicBezTo>
                  <a:close/>
                  <a:moveTo>
                    <a:pt x="483" y="0"/>
                  </a:moveTo>
                  <a:lnTo>
                    <a:pt x="583" y="0"/>
                  </a:lnTo>
                  <a:cubicBezTo>
                    <a:pt x="592" y="0"/>
                    <a:pt x="600" y="7"/>
                    <a:pt x="600" y="16"/>
                  </a:cubicBezTo>
                  <a:cubicBezTo>
                    <a:pt x="600" y="26"/>
                    <a:pt x="592" y="33"/>
                    <a:pt x="583" y="33"/>
                  </a:cubicBezTo>
                  <a:lnTo>
                    <a:pt x="483" y="33"/>
                  </a:lnTo>
                  <a:cubicBezTo>
                    <a:pt x="474" y="33"/>
                    <a:pt x="466" y="26"/>
                    <a:pt x="466" y="16"/>
                  </a:cubicBezTo>
                  <a:cubicBezTo>
                    <a:pt x="466" y="7"/>
                    <a:pt x="474" y="0"/>
                    <a:pt x="483" y="0"/>
                  </a:cubicBezTo>
                  <a:close/>
                  <a:moveTo>
                    <a:pt x="716" y="0"/>
                  </a:moveTo>
                  <a:lnTo>
                    <a:pt x="816" y="0"/>
                  </a:lnTo>
                  <a:cubicBezTo>
                    <a:pt x="826" y="0"/>
                    <a:pt x="833" y="7"/>
                    <a:pt x="833" y="16"/>
                  </a:cubicBezTo>
                  <a:cubicBezTo>
                    <a:pt x="833" y="26"/>
                    <a:pt x="826" y="33"/>
                    <a:pt x="816" y="33"/>
                  </a:cubicBezTo>
                  <a:lnTo>
                    <a:pt x="716" y="33"/>
                  </a:lnTo>
                  <a:cubicBezTo>
                    <a:pt x="707" y="33"/>
                    <a:pt x="700" y="26"/>
                    <a:pt x="700" y="16"/>
                  </a:cubicBezTo>
                  <a:cubicBezTo>
                    <a:pt x="700" y="7"/>
                    <a:pt x="707" y="0"/>
                    <a:pt x="716" y="0"/>
                  </a:cubicBezTo>
                  <a:close/>
                  <a:moveTo>
                    <a:pt x="950" y="0"/>
                  </a:moveTo>
                  <a:lnTo>
                    <a:pt x="1050" y="0"/>
                  </a:lnTo>
                  <a:cubicBezTo>
                    <a:pt x="1059" y="0"/>
                    <a:pt x="1066" y="7"/>
                    <a:pt x="1066" y="16"/>
                  </a:cubicBezTo>
                  <a:cubicBezTo>
                    <a:pt x="1066" y="26"/>
                    <a:pt x="1059" y="33"/>
                    <a:pt x="1050" y="33"/>
                  </a:cubicBezTo>
                  <a:lnTo>
                    <a:pt x="950" y="33"/>
                  </a:lnTo>
                  <a:cubicBezTo>
                    <a:pt x="941" y="33"/>
                    <a:pt x="933" y="26"/>
                    <a:pt x="933" y="16"/>
                  </a:cubicBezTo>
                  <a:cubicBezTo>
                    <a:pt x="933" y="7"/>
                    <a:pt x="941" y="0"/>
                    <a:pt x="950" y="0"/>
                  </a:cubicBezTo>
                  <a:close/>
                  <a:moveTo>
                    <a:pt x="1183" y="0"/>
                  </a:moveTo>
                  <a:lnTo>
                    <a:pt x="1283" y="0"/>
                  </a:lnTo>
                  <a:cubicBezTo>
                    <a:pt x="1292" y="0"/>
                    <a:pt x="1300" y="7"/>
                    <a:pt x="1300" y="16"/>
                  </a:cubicBezTo>
                  <a:cubicBezTo>
                    <a:pt x="1300" y="26"/>
                    <a:pt x="1292" y="33"/>
                    <a:pt x="1283" y="33"/>
                  </a:cubicBezTo>
                  <a:lnTo>
                    <a:pt x="1183" y="33"/>
                  </a:lnTo>
                  <a:cubicBezTo>
                    <a:pt x="1174" y="33"/>
                    <a:pt x="1166" y="26"/>
                    <a:pt x="1166" y="16"/>
                  </a:cubicBezTo>
                  <a:cubicBezTo>
                    <a:pt x="1166" y="7"/>
                    <a:pt x="1174" y="0"/>
                    <a:pt x="1183" y="0"/>
                  </a:cubicBezTo>
                  <a:close/>
                  <a:moveTo>
                    <a:pt x="1416" y="0"/>
                  </a:moveTo>
                  <a:lnTo>
                    <a:pt x="1516" y="0"/>
                  </a:lnTo>
                  <a:cubicBezTo>
                    <a:pt x="1526" y="0"/>
                    <a:pt x="1533" y="7"/>
                    <a:pt x="1533" y="16"/>
                  </a:cubicBezTo>
                  <a:cubicBezTo>
                    <a:pt x="1533" y="26"/>
                    <a:pt x="1526" y="33"/>
                    <a:pt x="1516" y="33"/>
                  </a:cubicBezTo>
                  <a:lnTo>
                    <a:pt x="1416" y="33"/>
                  </a:lnTo>
                  <a:cubicBezTo>
                    <a:pt x="1407" y="33"/>
                    <a:pt x="1400" y="26"/>
                    <a:pt x="1400" y="16"/>
                  </a:cubicBezTo>
                  <a:cubicBezTo>
                    <a:pt x="1400" y="7"/>
                    <a:pt x="1407" y="0"/>
                    <a:pt x="1416" y="0"/>
                  </a:cubicBezTo>
                  <a:close/>
                  <a:moveTo>
                    <a:pt x="1650" y="0"/>
                  </a:moveTo>
                  <a:lnTo>
                    <a:pt x="1750" y="0"/>
                  </a:lnTo>
                  <a:cubicBezTo>
                    <a:pt x="1759" y="0"/>
                    <a:pt x="1766" y="7"/>
                    <a:pt x="1766" y="16"/>
                  </a:cubicBezTo>
                  <a:cubicBezTo>
                    <a:pt x="1766" y="26"/>
                    <a:pt x="1759" y="33"/>
                    <a:pt x="1750" y="33"/>
                  </a:cubicBezTo>
                  <a:lnTo>
                    <a:pt x="1650" y="33"/>
                  </a:lnTo>
                  <a:cubicBezTo>
                    <a:pt x="1641" y="33"/>
                    <a:pt x="1633" y="26"/>
                    <a:pt x="1633" y="16"/>
                  </a:cubicBezTo>
                  <a:cubicBezTo>
                    <a:pt x="1633" y="7"/>
                    <a:pt x="1641" y="0"/>
                    <a:pt x="1650" y="0"/>
                  </a:cubicBezTo>
                  <a:close/>
                  <a:moveTo>
                    <a:pt x="1883" y="0"/>
                  </a:moveTo>
                  <a:lnTo>
                    <a:pt x="1983" y="0"/>
                  </a:lnTo>
                  <a:cubicBezTo>
                    <a:pt x="1992" y="0"/>
                    <a:pt x="2000" y="7"/>
                    <a:pt x="2000" y="16"/>
                  </a:cubicBezTo>
                  <a:cubicBezTo>
                    <a:pt x="2000" y="26"/>
                    <a:pt x="1992" y="33"/>
                    <a:pt x="1983" y="33"/>
                  </a:cubicBezTo>
                  <a:lnTo>
                    <a:pt x="1883" y="33"/>
                  </a:lnTo>
                  <a:cubicBezTo>
                    <a:pt x="1874" y="33"/>
                    <a:pt x="1866" y="26"/>
                    <a:pt x="1866" y="16"/>
                  </a:cubicBezTo>
                  <a:cubicBezTo>
                    <a:pt x="1866" y="7"/>
                    <a:pt x="1874" y="0"/>
                    <a:pt x="1883" y="0"/>
                  </a:cubicBezTo>
                  <a:close/>
                  <a:moveTo>
                    <a:pt x="2116" y="0"/>
                  </a:moveTo>
                  <a:lnTo>
                    <a:pt x="2216" y="0"/>
                  </a:lnTo>
                  <a:cubicBezTo>
                    <a:pt x="2226" y="0"/>
                    <a:pt x="2233" y="7"/>
                    <a:pt x="2233" y="16"/>
                  </a:cubicBezTo>
                  <a:cubicBezTo>
                    <a:pt x="2233" y="26"/>
                    <a:pt x="2226" y="33"/>
                    <a:pt x="2216" y="33"/>
                  </a:cubicBezTo>
                  <a:lnTo>
                    <a:pt x="2116" y="33"/>
                  </a:lnTo>
                  <a:cubicBezTo>
                    <a:pt x="2107" y="33"/>
                    <a:pt x="2100" y="26"/>
                    <a:pt x="2100" y="16"/>
                  </a:cubicBezTo>
                  <a:cubicBezTo>
                    <a:pt x="2100" y="7"/>
                    <a:pt x="2107" y="0"/>
                    <a:pt x="2116" y="0"/>
                  </a:cubicBezTo>
                  <a:close/>
                  <a:moveTo>
                    <a:pt x="2350" y="0"/>
                  </a:moveTo>
                  <a:lnTo>
                    <a:pt x="2450" y="0"/>
                  </a:lnTo>
                  <a:cubicBezTo>
                    <a:pt x="2459" y="0"/>
                    <a:pt x="2466" y="7"/>
                    <a:pt x="2466" y="16"/>
                  </a:cubicBezTo>
                  <a:cubicBezTo>
                    <a:pt x="2466" y="26"/>
                    <a:pt x="2459" y="33"/>
                    <a:pt x="2450" y="33"/>
                  </a:cubicBezTo>
                  <a:lnTo>
                    <a:pt x="2350" y="33"/>
                  </a:lnTo>
                  <a:cubicBezTo>
                    <a:pt x="2341" y="33"/>
                    <a:pt x="2333" y="26"/>
                    <a:pt x="2333" y="16"/>
                  </a:cubicBezTo>
                  <a:cubicBezTo>
                    <a:pt x="2333" y="7"/>
                    <a:pt x="2341" y="0"/>
                    <a:pt x="2350" y="0"/>
                  </a:cubicBezTo>
                  <a:close/>
                  <a:moveTo>
                    <a:pt x="2583" y="0"/>
                  </a:moveTo>
                  <a:lnTo>
                    <a:pt x="2683" y="0"/>
                  </a:lnTo>
                  <a:cubicBezTo>
                    <a:pt x="2692" y="0"/>
                    <a:pt x="2700" y="7"/>
                    <a:pt x="2700" y="16"/>
                  </a:cubicBezTo>
                  <a:cubicBezTo>
                    <a:pt x="2700" y="26"/>
                    <a:pt x="2692" y="33"/>
                    <a:pt x="2683" y="33"/>
                  </a:cubicBezTo>
                  <a:lnTo>
                    <a:pt x="2583" y="33"/>
                  </a:lnTo>
                  <a:cubicBezTo>
                    <a:pt x="2574" y="33"/>
                    <a:pt x="2566" y="26"/>
                    <a:pt x="2566" y="16"/>
                  </a:cubicBezTo>
                  <a:cubicBezTo>
                    <a:pt x="2566" y="7"/>
                    <a:pt x="2574" y="0"/>
                    <a:pt x="2583" y="0"/>
                  </a:cubicBezTo>
                  <a:close/>
                  <a:moveTo>
                    <a:pt x="2816" y="0"/>
                  </a:moveTo>
                  <a:lnTo>
                    <a:pt x="2916" y="0"/>
                  </a:lnTo>
                  <a:cubicBezTo>
                    <a:pt x="2926" y="0"/>
                    <a:pt x="2933" y="7"/>
                    <a:pt x="2933" y="16"/>
                  </a:cubicBezTo>
                  <a:cubicBezTo>
                    <a:pt x="2933" y="26"/>
                    <a:pt x="2926" y="33"/>
                    <a:pt x="2916" y="33"/>
                  </a:cubicBezTo>
                  <a:lnTo>
                    <a:pt x="2816" y="33"/>
                  </a:lnTo>
                  <a:cubicBezTo>
                    <a:pt x="2807" y="33"/>
                    <a:pt x="2800" y="26"/>
                    <a:pt x="2800" y="16"/>
                  </a:cubicBezTo>
                  <a:cubicBezTo>
                    <a:pt x="2800" y="7"/>
                    <a:pt x="2807" y="0"/>
                    <a:pt x="2816" y="0"/>
                  </a:cubicBezTo>
                  <a:close/>
                  <a:moveTo>
                    <a:pt x="3050" y="0"/>
                  </a:moveTo>
                  <a:lnTo>
                    <a:pt x="3150" y="0"/>
                  </a:lnTo>
                  <a:cubicBezTo>
                    <a:pt x="3159" y="0"/>
                    <a:pt x="3166" y="7"/>
                    <a:pt x="3166" y="16"/>
                  </a:cubicBezTo>
                  <a:cubicBezTo>
                    <a:pt x="3166" y="26"/>
                    <a:pt x="3159" y="33"/>
                    <a:pt x="3150" y="33"/>
                  </a:cubicBezTo>
                  <a:lnTo>
                    <a:pt x="3050" y="33"/>
                  </a:lnTo>
                  <a:cubicBezTo>
                    <a:pt x="3041" y="33"/>
                    <a:pt x="3033" y="26"/>
                    <a:pt x="3033" y="16"/>
                  </a:cubicBezTo>
                  <a:cubicBezTo>
                    <a:pt x="3033" y="7"/>
                    <a:pt x="3041" y="0"/>
                    <a:pt x="3050" y="0"/>
                  </a:cubicBezTo>
                  <a:close/>
                  <a:moveTo>
                    <a:pt x="3283" y="0"/>
                  </a:moveTo>
                  <a:lnTo>
                    <a:pt x="3383" y="0"/>
                  </a:lnTo>
                  <a:cubicBezTo>
                    <a:pt x="3392" y="0"/>
                    <a:pt x="3400" y="7"/>
                    <a:pt x="3400" y="16"/>
                  </a:cubicBezTo>
                  <a:cubicBezTo>
                    <a:pt x="3400" y="26"/>
                    <a:pt x="3392" y="33"/>
                    <a:pt x="3383" y="33"/>
                  </a:cubicBezTo>
                  <a:lnTo>
                    <a:pt x="3283" y="33"/>
                  </a:lnTo>
                  <a:cubicBezTo>
                    <a:pt x="3274" y="33"/>
                    <a:pt x="3266" y="26"/>
                    <a:pt x="3266" y="16"/>
                  </a:cubicBezTo>
                  <a:cubicBezTo>
                    <a:pt x="3266" y="7"/>
                    <a:pt x="3274" y="0"/>
                    <a:pt x="3283" y="0"/>
                  </a:cubicBezTo>
                  <a:close/>
                  <a:moveTo>
                    <a:pt x="3516" y="0"/>
                  </a:moveTo>
                  <a:lnTo>
                    <a:pt x="3616" y="0"/>
                  </a:lnTo>
                  <a:cubicBezTo>
                    <a:pt x="3626" y="0"/>
                    <a:pt x="3633" y="7"/>
                    <a:pt x="3633" y="16"/>
                  </a:cubicBezTo>
                  <a:cubicBezTo>
                    <a:pt x="3633" y="26"/>
                    <a:pt x="3626" y="33"/>
                    <a:pt x="3616" y="33"/>
                  </a:cubicBezTo>
                  <a:lnTo>
                    <a:pt x="3516" y="33"/>
                  </a:lnTo>
                  <a:cubicBezTo>
                    <a:pt x="3507" y="33"/>
                    <a:pt x="3500" y="26"/>
                    <a:pt x="3500" y="16"/>
                  </a:cubicBezTo>
                  <a:cubicBezTo>
                    <a:pt x="3500" y="7"/>
                    <a:pt x="3507" y="0"/>
                    <a:pt x="3516" y="0"/>
                  </a:cubicBezTo>
                  <a:close/>
                  <a:moveTo>
                    <a:pt x="3750" y="0"/>
                  </a:moveTo>
                  <a:lnTo>
                    <a:pt x="3850" y="0"/>
                  </a:lnTo>
                  <a:cubicBezTo>
                    <a:pt x="3859" y="0"/>
                    <a:pt x="3866" y="7"/>
                    <a:pt x="3866" y="16"/>
                  </a:cubicBezTo>
                  <a:cubicBezTo>
                    <a:pt x="3866" y="26"/>
                    <a:pt x="3859" y="33"/>
                    <a:pt x="3850" y="33"/>
                  </a:cubicBezTo>
                  <a:lnTo>
                    <a:pt x="3750" y="33"/>
                  </a:lnTo>
                  <a:cubicBezTo>
                    <a:pt x="3741" y="33"/>
                    <a:pt x="3733" y="26"/>
                    <a:pt x="3733" y="16"/>
                  </a:cubicBezTo>
                  <a:cubicBezTo>
                    <a:pt x="3733" y="7"/>
                    <a:pt x="3741" y="0"/>
                    <a:pt x="3750" y="0"/>
                  </a:cubicBezTo>
                  <a:close/>
                  <a:moveTo>
                    <a:pt x="3983" y="0"/>
                  </a:moveTo>
                  <a:lnTo>
                    <a:pt x="4083" y="0"/>
                  </a:lnTo>
                  <a:cubicBezTo>
                    <a:pt x="4092" y="0"/>
                    <a:pt x="4100" y="7"/>
                    <a:pt x="4100" y="16"/>
                  </a:cubicBezTo>
                  <a:cubicBezTo>
                    <a:pt x="4100" y="26"/>
                    <a:pt x="4092" y="33"/>
                    <a:pt x="4083" y="33"/>
                  </a:cubicBezTo>
                  <a:lnTo>
                    <a:pt x="3983" y="33"/>
                  </a:lnTo>
                  <a:cubicBezTo>
                    <a:pt x="3974" y="33"/>
                    <a:pt x="3966" y="26"/>
                    <a:pt x="3966" y="16"/>
                  </a:cubicBezTo>
                  <a:cubicBezTo>
                    <a:pt x="3966" y="7"/>
                    <a:pt x="3974" y="0"/>
                    <a:pt x="3983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86680" y="2087640"/>
              <a:ext cx="42840" cy="1643040"/>
            </a:xfrm>
            <a:custGeom>
              <a:avLst/>
              <a:gdLst/>
              <a:ahLst/>
              <a:rect l="l" t="t" r="r" b="b"/>
              <a:pathLst>
                <a:path w="232" h="9505">
                  <a:moveTo>
                    <a:pt x="231" y="51"/>
                  </a:moveTo>
                  <a:lnTo>
                    <a:pt x="231" y="52"/>
                  </a:lnTo>
                  <a:cubicBezTo>
                    <a:pt x="231" y="79"/>
                    <a:pt x="208" y="101"/>
                    <a:pt x="180" y="101"/>
                  </a:cubicBezTo>
                  <a:cubicBezTo>
                    <a:pt x="153" y="100"/>
                    <a:pt x="131" y="77"/>
                    <a:pt x="131" y="50"/>
                  </a:cubicBezTo>
                  <a:lnTo>
                    <a:pt x="131" y="49"/>
                  </a:lnTo>
                  <a:cubicBezTo>
                    <a:pt x="132" y="22"/>
                    <a:pt x="155" y="0"/>
                    <a:pt x="182" y="0"/>
                  </a:cubicBezTo>
                  <a:cubicBezTo>
                    <a:pt x="210" y="1"/>
                    <a:pt x="232" y="24"/>
                    <a:pt x="231" y="51"/>
                  </a:cubicBezTo>
                  <a:close/>
                  <a:moveTo>
                    <a:pt x="228" y="252"/>
                  </a:moveTo>
                  <a:lnTo>
                    <a:pt x="228" y="252"/>
                  </a:lnTo>
                  <a:cubicBezTo>
                    <a:pt x="228" y="279"/>
                    <a:pt x="205" y="301"/>
                    <a:pt x="177" y="301"/>
                  </a:cubicBezTo>
                  <a:cubicBezTo>
                    <a:pt x="150" y="300"/>
                    <a:pt x="128" y="277"/>
                    <a:pt x="128" y="250"/>
                  </a:cubicBezTo>
                  <a:lnTo>
                    <a:pt x="128" y="250"/>
                  </a:lnTo>
                  <a:cubicBezTo>
                    <a:pt x="129" y="222"/>
                    <a:pt x="152" y="200"/>
                    <a:pt x="179" y="201"/>
                  </a:cubicBezTo>
                  <a:cubicBezTo>
                    <a:pt x="207" y="201"/>
                    <a:pt x="229" y="224"/>
                    <a:pt x="228" y="252"/>
                  </a:cubicBezTo>
                  <a:close/>
                  <a:moveTo>
                    <a:pt x="226" y="452"/>
                  </a:moveTo>
                  <a:lnTo>
                    <a:pt x="226" y="452"/>
                  </a:lnTo>
                  <a:cubicBezTo>
                    <a:pt x="225" y="479"/>
                    <a:pt x="202" y="501"/>
                    <a:pt x="175" y="501"/>
                  </a:cubicBezTo>
                  <a:cubicBezTo>
                    <a:pt x="147" y="500"/>
                    <a:pt x="125" y="477"/>
                    <a:pt x="126" y="450"/>
                  </a:cubicBezTo>
                  <a:lnTo>
                    <a:pt x="126" y="450"/>
                  </a:lnTo>
                  <a:cubicBezTo>
                    <a:pt x="126" y="422"/>
                    <a:pt x="149" y="400"/>
                    <a:pt x="177" y="401"/>
                  </a:cubicBezTo>
                  <a:cubicBezTo>
                    <a:pt x="204" y="401"/>
                    <a:pt x="226" y="424"/>
                    <a:pt x="226" y="452"/>
                  </a:cubicBezTo>
                  <a:close/>
                  <a:moveTo>
                    <a:pt x="223" y="652"/>
                  </a:moveTo>
                  <a:lnTo>
                    <a:pt x="223" y="652"/>
                  </a:lnTo>
                  <a:cubicBezTo>
                    <a:pt x="222" y="679"/>
                    <a:pt x="199" y="701"/>
                    <a:pt x="172" y="701"/>
                  </a:cubicBezTo>
                  <a:cubicBezTo>
                    <a:pt x="144" y="700"/>
                    <a:pt x="122" y="677"/>
                    <a:pt x="123" y="650"/>
                  </a:cubicBezTo>
                  <a:lnTo>
                    <a:pt x="123" y="650"/>
                  </a:lnTo>
                  <a:cubicBezTo>
                    <a:pt x="123" y="622"/>
                    <a:pt x="146" y="600"/>
                    <a:pt x="174" y="601"/>
                  </a:cubicBezTo>
                  <a:cubicBezTo>
                    <a:pt x="201" y="601"/>
                    <a:pt x="223" y="624"/>
                    <a:pt x="223" y="652"/>
                  </a:cubicBezTo>
                  <a:close/>
                  <a:moveTo>
                    <a:pt x="220" y="852"/>
                  </a:moveTo>
                  <a:lnTo>
                    <a:pt x="220" y="852"/>
                  </a:lnTo>
                  <a:cubicBezTo>
                    <a:pt x="219" y="879"/>
                    <a:pt x="197" y="901"/>
                    <a:pt x="169" y="901"/>
                  </a:cubicBezTo>
                  <a:cubicBezTo>
                    <a:pt x="141" y="900"/>
                    <a:pt x="119" y="878"/>
                    <a:pt x="120" y="850"/>
                  </a:cubicBezTo>
                  <a:lnTo>
                    <a:pt x="120" y="850"/>
                  </a:lnTo>
                  <a:cubicBezTo>
                    <a:pt x="121" y="822"/>
                    <a:pt x="143" y="800"/>
                    <a:pt x="171" y="801"/>
                  </a:cubicBezTo>
                  <a:cubicBezTo>
                    <a:pt x="199" y="801"/>
                    <a:pt x="221" y="824"/>
                    <a:pt x="220" y="852"/>
                  </a:cubicBezTo>
                  <a:close/>
                  <a:moveTo>
                    <a:pt x="217" y="1052"/>
                  </a:moveTo>
                  <a:lnTo>
                    <a:pt x="217" y="1052"/>
                  </a:lnTo>
                  <a:cubicBezTo>
                    <a:pt x="217" y="1080"/>
                    <a:pt x="194" y="1102"/>
                    <a:pt x="166" y="1101"/>
                  </a:cubicBezTo>
                  <a:cubicBezTo>
                    <a:pt x="139" y="1100"/>
                    <a:pt x="117" y="1078"/>
                    <a:pt x="117" y="1050"/>
                  </a:cubicBezTo>
                  <a:lnTo>
                    <a:pt x="117" y="1050"/>
                  </a:lnTo>
                  <a:cubicBezTo>
                    <a:pt x="118" y="1022"/>
                    <a:pt x="141" y="1000"/>
                    <a:pt x="168" y="1001"/>
                  </a:cubicBezTo>
                  <a:cubicBezTo>
                    <a:pt x="196" y="1001"/>
                    <a:pt x="218" y="1024"/>
                    <a:pt x="217" y="1052"/>
                  </a:cubicBezTo>
                  <a:close/>
                  <a:moveTo>
                    <a:pt x="214" y="1252"/>
                  </a:moveTo>
                  <a:lnTo>
                    <a:pt x="214" y="1252"/>
                  </a:lnTo>
                  <a:cubicBezTo>
                    <a:pt x="214" y="1280"/>
                    <a:pt x="191" y="1302"/>
                    <a:pt x="163" y="1301"/>
                  </a:cubicBezTo>
                  <a:cubicBezTo>
                    <a:pt x="136" y="1301"/>
                    <a:pt x="114" y="1278"/>
                    <a:pt x="114" y="1250"/>
                  </a:cubicBezTo>
                  <a:lnTo>
                    <a:pt x="114" y="1250"/>
                  </a:lnTo>
                  <a:cubicBezTo>
                    <a:pt x="115" y="1222"/>
                    <a:pt x="138" y="1200"/>
                    <a:pt x="165" y="1201"/>
                  </a:cubicBezTo>
                  <a:cubicBezTo>
                    <a:pt x="193" y="1202"/>
                    <a:pt x="215" y="1224"/>
                    <a:pt x="214" y="1252"/>
                  </a:cubicBezTo>
                  <a:close/>
                  <a:moveTo>
                    <a:pt x="212" y="1452"/>
                  </a:moveTo>
                  <a:lnTo>
                    <a:pt x="212" y="1452"/>
                  </a:lnTo>
                  <a:cubicBezTo>
                    <a:pt x="211" y="1480"/>
                    <a:pt x="188" y="1502"/>
                    <a:pt x="161" y="1501"/>
                  </a:cubicBezTo>
                  <a:cubicBezTo>
                    <a:pt x="133" y="1501"/>
                    <a:pt x="111" y="1478"/>
                    <a:pt x="112" y="1450"/>
                  </a:cubicBezTo>
                  <a:lnTo>
                    <a:pt x="112" y="1450"/>
                  </a:lnTo>
                  <a:cubicBezTo>
                    <a:pt x="112" y="1422"/>
                    <a:pt x="135" y="1401"/>
                    <a:pt x="163" y="1401"/>
                  </a:cubicBezTo>
                  <a:cubicBezTo>
                    <a:pt x="190" y="1402"/>
                    <a:pt x="212" y="1424"/>
                    <a:pt x="212" y="1452"/>
                  </a:cubicBezTo>
                  <a:close/>
                  <a:moveTo>
                    <a:pt x="209" y="1652"/>
                  </a:moveTo>
                  <a:lnTo>
                    <a:pt x="209" y="1652"/>
                  </a:lnTo>
                  <a:cubicBezTo>
                    <a:pt x="208" y="1680"/>
                    <a:pt x="186" y="1702"/>
                    <a:pt x="158" y="1701"/>
                  </a:cubicBezTo>
                  <a:cubicBezTo>
                    <a:pt x="130" y="1701"/>
                    <a:pt x="108" y="1678"/>
                    <a:pt x="109" y="1650"/>
                  </a:cubicBezTo>
                  <a:lnTo>
                    <a:pt x="109" y="1650"/>
                  </a:lnTo>
                  <a:cubicBezTo>
                    <a:pt x="109" y="1623"/>
                    <a:pt x="132" y="1601"/>
                    <a:pt x="160" y="1601"/>
                  </a:cubicBezTo>
                  <a:cubicBezTo>
                    <a:pt x="187" y="1602"/>
                    <a:pt x="209" y="1624"/>
                    <a:pt x="209" y="1652"/>
                  </a:cubicBezTo>
                  <a:close/>
                  <a:moveTo>
                    <a:pt x="206" y="1852"/>
                  </a:moveTo>
                  <a:lnTo>
                    <a:pt x="206" y="1852"/>
                  </a:lnTo>
                  <a:cubicBezTo>
                    <a:pt x="206" y="1880"/>
                    <a:pt x="183" y="1902"/>
                    <a:pt x="155" y="1901"/>
                  </a:cubicBezTo>
                  <a:cubicBezTo>
                    <a:pt x="128" y="1901"/>
                    <a:pt x="106" y="1878"/>
                    <a:pt x="106" y="1850"/>
                  </a:cubicBezTo>
                  <a:lnTo>
                    <a:pt x="106" y="1850"/>
                  </a:lnTo>
                  <a:cubicBezTo>
                    <a:pt x="107" y="1823"/>
                    <a:pt x="129" y="1801"/>
                    <a:pt x="157" y="1801"/>
                  </a:cubicBezTo>
                  <a:cubicBezTo>
                    <a:pt x="185" y="1802"/>
                    <a:pt x="207" y="1825"/>
                    <a:pt x="206" y="1852"/>
                  </a:cubicBezTo>
                  <a:close/>
                  <a:moveTo>
                    <a:pt x="203" y="2052"/>
                  </a:moveTo>
                  <a:lnTo>
                    <a:pt x="203" y="2052"/>
                  </a:lnTo>
                  <a:cubicBezTo>
                    <a:pt x="203" y="2080"/>
                    <a:pt x="180" y="2102"/>
                    <a:pt x="152" y="2101"/>
                  </a:cubicBezTo>
                  <a:cubicBezTo>
                    <a:pt x="125" y="2101"/>
                    <a:pt x="103" y="2078"/>
                    <a:pt x="103" y="2050"/>
                  </a:cubicBezTo>
                  <a:lnTo>
                    <a:pt x="103" y="2050"/>
                  </a:lnTo>
                  <a:cubicBezTo>
                    <a:pt x="104" y="2023"/>
                    <a:pt x="127" y="2001"/>
                    <a:pt x="154" y="2001"/>
                  </a:cubicBezTo>
                  <a:cubicBezTo>
                    <a:pt x="182" y="2002"/>
                    <a:pt x="204" y="2025"/>
                    <a:pt x="203" y="2052"/>
                  </a:cubicBezTo>
                  <a:close/>
                  <a:moveTo>
                    <a:pt x="201" y="2252"/>
                  </a:moveTo>
                  <a:lnTo>
                    <a:pt x="201" y="2252"/>
                  </a:lnTo>
                  <a:cubicBezTo>
                    <a:pt x="200" y="2280"/>
                    <a:pt x="177" y="2302"/>
                    <a:pt x="150" y="2301"/>
                  </a:cubicBezTo>
                  <a:cubicBezTo>
                    <a:pt x="122" y="2301"/>
                    <a:pt x="100" y="2278"/>
                    <a:pt x="101" y="2250"/>
                  </a:cubicBezTo>
                  <a:lnTo>
                    <a:pt x="101" y="2250"/>
                  </a:lnTo>
                  <a:cubicBezTo>
                    <a:pt x="101" y="2223"/>
                    <a:pt x="124" y="2201"/>
                    <a:pt x="152" y="2201"/>
                  </a:cubicBezTo>
                  <a:cubicBezTo>
                    <a:pt x="179" y="2202"/>
                    <a:pt x="201" y="2225"/>
                    <a:pt x="201" y="2252"/>
                  </a:cubicBezTo>
                  <a:close/>
                  <a:moveTo>
                    <a:pt x="198" y="2452"/>
                  </a:moveTo>
                  <a:lnTo>
                    <a:pt x="198" y="2453"/>
                  </a:lnTo>
                  <a:cubicBezTo>
                    <a:pt x="197" y="2480"/>
                    <a:pt x="174" y="2502"/>
                    <a:pt x="147" y="2502"/>
                  </a:cubicBezTo>
                  <a:cubicBezTo>
                    <a:pt x="119" y="2501"/>
                    <a:pt x="97" y="2478"/>
                    <a:pt x="98" y="2451"/>
                  </a:cubicBezTo>
                  <a:lnTo>
                    <a:pt x="98" y="2450"/>
                  </a:lnTo>
                  <a:cubicBezTo>
                    <a:pt x="98" y="2423"/>
                    <a:pt x="121" y="2401"/>
                    <a:pt x="149" y="2401"/>
                  </a:cubicBezTo>
                  <a:cubicBezTo>
                    <a:pt x="176" y="2402"/>
                    <a:pt x="198" y="2425"/>
                    <a:pt x="198" y="2452"/>
                  </a:cubicBezTo>
                  <a:close/>
                  <a:moveTo>
                    <a:pt x="195" y="2652"/>
                  </a:moveTo>
                  <a:lnTo>
                    <a:pt x="195" y="2653"/>
                  </a:lnTo>
                  <a:cubicBezTo>
                    <a:pt x="194" y="2680"/>
                    <a:pt x="172" y="2702"/>
                    <a:pt x="144" y="2702"/>
                  </a:cubicBezTo>
                  <a:cubicBezTo>
                    <a:pt x="116" y="2701"/>
                    <a:pt x="94" y="2678"/>
                    <a:pt x="95" y="2651"/>
                  </a:cubicBezTo>
                  <a:lnTo>
                    <a:pt x="95" y="2651"/>
                  </a:lnTo>
                  <a:cubicBezTo>
                    <a:pt x="96" y="2623"/>
                    <a:pt x="118" y="2601"/>
                    <a:pt x="146" y="2602"/>
                  </a:cubicBezTo>
                  <a:cubicBezTo>
                    <a:pt x="174" y="2602"/>
                    <a:pt x="196" y="2625"/>
                    <a:pt x="195" y="2652"/>
                  </a:cubicBezTo>
                  <a:close/>
                  <a:moveTo>
                    <a:pt x="192" y="2853"/>
                  </a:moveTo>
                  <a:lnTo>
                    <a:pt x="192" y="2853"/>
                  </a:lnTo>
                  <a:cubicBezTo>
                    <a:pt x="192" y="2880"/>
                    <a:pt x="169" y="2902"/>
                    <a:pt x="141" y="2902"/>
                  </a:cubicBezTo>
                  <a:cubicBezTo>
                    <a:pt x="114" y="2901"/>
                    <a:pt x="92" y="2878"/>
                    <a:pt x="92" y="2851"/>
                  </a:cubicBezTo>
                  <a:lnTo>
                    <a:pt x="92" y="2851"/>
                  </a:lnTo>
                  <a:cubicBezTo>
                    <a:pt x="93" y="2823"/>
                    <a:pt x="116" y="2801"/>
                    <a:pt x="143" y="2802"/>
                  </a:cubicBezTo>
                  <a:cubicBezTo>
                    <a:pt x="171" y="2802"/>
                    <a:pt x="193" y="2825"/>
                    <a:pt x="192" y="2853"/>
                  </a:cubicBezTo>
                  <a:close/>
                  <a:moveTo>
                    <a:pt x="189" y="3053"/>
                  </a:moveTo>
                  <a:lnTo>
                    <a:pt x="189" y="3053"/>
                  </a:lnTo>
                  <a:cubicBezTo>
                    <a:pt x="189" y="3080"/>
                    <a:pt x="166" y="3102"/>
                    <a:pt x="138" y="3102"/>
                  </a:cubicBezTo>
                  <a:cubicBezTo>
                    <a:pt x="111" y="3101"/>
                    <a:pt x="89" y="3078"/>
                    <a:pt x="89" y="3051"/>
                  </a:cubicBezTo>
                  <a:lnTo>
                    <a:pt x="89" y="3051"/>
                  </a:lnTo>
                  <a:cubicBezTo>
                    <a:pt x="90" y="3023"/>
                    <a:pt x="113" y="3001"/>
                    <a:pt x="140" y="3002"/>
                  </a:cubicBezTo>
                  <a:cubicBezTo>
                    <a:pt x="168" y="3002"/>
                    <a:pt x="190" y="3025"/>
                    <a:pt x="189" y="3053"/>
                  </a:cubicBezTo>
                  <a:close/>
                  <a:moveTo>
                    <a:pt x="187" y="3253"/>
                  </a:moveTo>
                  <a:lnTo>
                    <a:pt x="187" y="3253"/>
                  </a:lnTo>
                  <a:cubicBezTo>
                    <a:pt x="186" y="3280"/>
                    <a:pt x="163" y="3302"/>
                    <a:pt x="136" y="3302"/>
                  </a:cubicBezTo>
                  <a:cubicBezTo>
                    <a:pt x="108" y="3301"/>
                    <a:pt x="86" y="3278"/>
                    <a:pt x="87" y="3251"/>
                  </a:cubicBezTo>
                  <a:lnTo>
                    <a:pt x="87" y="3251"/>
                  </a:lnTo>
                  <a:cubicBezTo>
                    <a:pt x="87" y="3223"/>
                    <a:pt x="110" y="3201"/>
                    <a:pt x="138" y="3202"/>
                  </a:cubicBezTo>
                  <a:cubicBezTo>
                    <a:pt x="165" y="3202"/>
                    <a:pt x="187" y="3225"/>
                    <a:pt x="187" y="3253"/>
                  </a:cubicBezTo>
                  <a:close/>
                  <a:moveTo>
                    <a:pt x="184" y="3453"/>
                  </a:moveTo>
                  <a:lnTo>
                    <a:pt x="184" y="3453"/>
                  </a:lnTo>
                  <a:cubicBezTo>
                    <a:pt x="183" y="3481"/>
                    <a:pt x="161" y="3502"/>
                    <a:pt x="133" y="3502"/>
                  </a:cubicBezTo>
                  <a:cubicBezTo>
                    <a:pt x="105" y="3501"/>
                    <a:pt x="83" y="3479"/>
                    <a:pt x="84" y="3451"/>
                  </a:cubicBezTo>
                  <a:lnTo>
                    <a:pt x="84" y="3451"/>
                  </a:lnTo>
                  <a:cubicBezTo>
                    <a:pt x="84" y="3423"/>
                    <a:pt x="107" y="3401"/>
                    <a:pt x="135" y="3402"/>
                  </a:cubicBezTo>
                  <a:cubicBezTo>
                    <a:pt x="162" y="3402"/>
                    <a:pt x="184" y="3425"/>
                    <a:pt x="184" y="3453"/>
                  </a:cubicBezTo>
                  <a:close/>
                  <a:moveTo>
                    <a:pt x="181" y="3653"/>
                  </a:moveTo>
                  <a:lnTo>
                    <a:pt x="181" y="3653"/>
                  </a:lnTo>
                  <a:cubicBezTo>
                    <a:pt x="181" y="3681"/>
                    <a:pt x="158" y="3703"/>
                    <a:pt x="130" y="3702"/>
                  </a:cubicBezTo>
                  <a:cubicBezTo>
                    <a:pt x="103" y="3701"/>
                    <a:pt x="81" y="3679"/>
                    <a:pt x="81" y="3651"/>
                  </a:cubicBezTo>
                  <a:lnTo>
                    <a:pt x="81" y="3651"/>
                  </a:lnTo>
                  <a:cubicBezTo>
                    <a:pt x="82" y="3623"/>
                    <a:pt x="104" y="3601"/>
                    <a:pt x="132" y="3602"/>
                  </a:cubicBezTo>
                  <a:cubicBezTo>
                    <a:pt x="160" y="3602"/>
                    <a:pt x="182" y="3625"/>
                    <a:pt x="181" y="3653"/>
                  </a:cubicBezTo>
                  <a:close/>
                  <a:moveTo>
                    <a:pt x="178" y="3853"/>
                  </a:moveTo>
                  <a:lnTo>
                    <a:pt x="178" y="3853"/>
                  </a:lnTo>
                  <a:cubicBezTo>
                    <a:pt x="178" y="3881"/>
                    <a:pt x="155" y="3903"/>
                    <a:pt x="127" y="3902"/>
                  </a:cubicBezTo>
                  <a:cubicBezTo>
                    <a:pt x="100" y="3902"/>
                    <a:pt x="78" y="3879"/>
                    <a:pt x="78" y="3851"/>
                  </a:cubicBezTo>
                  <a:lnTo>
                    <a:pt x="78" y="3851"/>
                  </a:lnTo>
                  <a:cubicBezTo>
                    <a:pt x="79" y="3823"/>
                    <a:pt x="102" y="3801"/>
                    <a:pt x="129" y="3802"/>
                  </a:cubicBezTo>
                  <a:cubicBezTo>
                    <a:pt x="157" y="3803"/>
                    <a:pt x="179" y="3825"/>
                    <a:pt x="178" y="3853"/>
                  </a:cubicBezTo>
                  <a:close/>
                  <a:moveTo>
                    <a:pt x="176" y="4053"/>
                  </a:moveTo>
                  <a:lnTo>
                    <a:pt x="176" y="4053"/>
                  </a:lnTo>
                  <a:cubicBezTo>
                    <a:pt x="175" y="4081"/>
                    <a:pt x="152" y="4103"/>
                    <a:pt x="125" y="4102"/>
                  </a:cubicBezTo>
                  <a:cubicBezTo>
                    <a:pt x="97" y="4102"/>
                    <a:pt x="75" y="4079"/>
                    <a:pt x="76" y="4051"/>
                  </a:cubicBezTo>
                  <a:lnTo>
                    <a:pt x="76" y="4051"/>
                  </a:lnTo>
                  <a:cubicBezTo>
                    <a:pt x="76" y="4023"/>
                    <a:pt x="99" y="4002"/>
                    <a:pt x="127" y="4002"/>
                  </a:cubicBezTo>
                  <a:cubicBezTo>
                    <a:pt x="154" y="4003"/>
                    <a:pt x="176" y="4025"/>
                    <a:pt x="176" y="4053"/>
                  </a:cubicBezTo>
                  <a:close/>
                  <a:moveTo>
                    <a:pt x="173" y="4253"/>
                  </a:moveTo>
                  <a:lnTo>
                    <a:pt x="173" y="4253"/>
                  </a:lnTo>
                  <a:cubicBezTo>
                    <a:pt x="172" y="4281"/>
                    <a:pt x="149" y="4303"/>
                    <a:pt x="122" y="4302"/>
                  </a:cubicBezTo>
                  <a:cubicBezTo>
                    <a:pt x="94" y="4302"/>
                    <a:pt x="72" y="4279"/>
                    <a:pt x="73" y="4251"/>
                  </a:cubicBezTo>
                  <a:lnTo>
                    <a:pt x="73" y="4251"/>
                  </a:lnTo>
                  <a:cubicBezTo>
                    <a:pt x="73" y="4224"/>
                    <a:pt x="96" y="4202"/>
                    <a:pt x="124" y="4202"/>
                  </a:cubicBezTo>
                  <a:cubicBezTo>
                    <a:pt x="151" y="4203"/>
                    <a:pt x="173" y="4226"/>
                    <a:pt x="173" y="4253"/>
                  </a:cubicBezTo>
                  <a:close/>
                  <a:moveTo>
                    <a:pt x="170" y="4453"/>
                  </a:moveTo>
                  <a:lnTo>
                    <a:pt x="170" y="4453"/>
                  </a:lnTo>
                  <a:cubicBezTo>
                    <a:pt x="169" y="4481"/>
                    <a:pt x="147" y="4503"/>
                    <a:pt x="119" y="4502"/>
                  </a:cubicBezTo>
                  <a:cubicBezTo>
                    <a:pt x="91" y="4502"/>
                    <a:pt x="69" y="4479"/>
                    <a:pt x="70" y="4451"/>
                  </a:cubicBezTo>
                  <a:lnTo>
                    <a:pt x="70" y="4451"/>
                  </a:lnTo>
                  <a:cubicBezTo>
                    <a:pt x="71" y="4424"/>
                    <a:pt x="93" y="4402"/>
                    <a:pt x="121" y="4402"/>
                  </a:cubicBezTo>
                  <a:cubicBezTo>
                    <a:pt x="149" y="4403"/>
                    <a:pt x="171" y="4426"/>
                    <a:pt x="170" y="4453"/>
                  </a:cubicBezTo>
                  <a:close/>
                  <a:moveTo>
                    <a:pt x="167" y="4653"/>
                  </a:moveTo>
                  <a:lnTo>
                    <a:pt x="167" y="4653"/>
                  </a:lnTo>
                  <a:cubicBezTo>
                    <a:pt x="167" y="4681"/>
                    <a:pt x="144" y="4703"/>
                    <a:pt x="116" y="4702"/>
                  </a:cubicBezTo>
                  <a:cubicBezTo>
                    <a:pt x="89" y="4702"/>
                    <a:pt x="67" y="4679"/>
                    <a:pt x="67" y="4651"/>
                  </a:cubicBezTo>
                  <a:lnTo>
                    <a:pt x="67" y="4651"/>
                  </a:lnTo>
                  <a:cubicBezTo>
                    <a:pt x="68" y="4624"/>
                    <a:pt x="91" y="4602"/>
                    <a:pt x="118" y="4602"/>
                  </a:cubicBezTo>
                  <a:cubicBezTo>
                    <a:pt x="146" y="4603"/>
                    <a:pt x="168" y="4626"/>
                    <a:pt x="167" y="4653"/>
                  </a:cubicBezTo>
                  <a:close/>
                  <a:moveTo>
                    <a:pt x="164" y="4853"/>
                  </a:moveTo>
                  <a:lnTo>
                    <a:pt x="164" y="4853"/>
                  </a:lnTo>
                  <a:cubicBezTo>
                    <a:pt x="164" y="4881"/>
                    <a:pt x="141" y="4903"/>
                    <a:pt x="113" y="4902"/>
                  </a:cubicBezTo>
                  <a:cubicBezTo>
                    <a:pt x="86" y="4902"/>
                    <a:pt x="64" y="4879"/>
                    <a:pt x="64" y="4852"/>
                  </a:cubicBezTo>
                  <a:lnTo>
                    <a:pt x="64" y="4851"/>
                  </a:lnTo>
                  <a:cubicBezTo>
                    <a:pt x="65" y="4824"/>
                    <a:pt x="88" y="4802"/>
                    <a:pt x="115" y="4802"/>
                  </a:cubicBezTo>
                  <a:cubicBezTo>
                    <a:pt x="143" y="4803"/>
                    <a:pt x="165" y="4826"/>
                    <a:pt x="164" y="4853"/>
                  </a:cubicBezTo>
                  <a:close/>
                  <a:moveTo>
                    <a:pt x="162" y="5053"/>
                  </a:moveTo>
                  <a:lnTo>
                    <a:pt x="162" y="5054"/>
                  </a:lnTo>
                  <a:cubicBezTo>
                    <a:pt x="161" y="5081"/>
                    <a:pt x="138" y="5103"/>
                    <a:pt x="111" y="5103"/>
                  </a:cubicBezTo>
                  <a:cubicBezTo>
                    <a:pt x="83" y="5102"/>
                    <a:pt x="61" y="5079"/>
                    <a:pt x="62" y="5052"/>
                  </a:cubicBezTo>
                  <a:lnTo>
                    <a:pt x="62" y="5052"/>
                  </a:lnTo>
                  <a:cubicBezTo>
                    <a:pt x="62" y="5024"/>
                    <a:pt x="85" y="5002"/>
                    <a:pt x="113" y="5002"/>
                  </a:cubicBezTo>
                  <a:cubicBezTo>
                    <a:pt x="140" y="5003"/>
                    <a:pt x="162" y="5026"/>
                    <a:pt x="162" y="5053"/>
                  </a:cubicBezTo>
                  <a:close/>
                  <a:moveTo>
                    <a:pt x="159" y="5254"/>
                  </a:moveTo>
                  <a:lnTo>
                    <a:pt x="159" y="5254"/>
                  </a:lnTo>
                  <a:cubicBezTo>
                    <a:pt x="158" y="5281"/>
                    <a:pt x="135" y="5303"/>
                    <a:pt x="108" y="5303"/>
                  </a:cubicBezTo>
                  <a:cubicBezTo>
                    <a:pt x="80" y="5302"/>
                    <a:pt x="58" y="5279"/>
                    <a:pt x="59" y="5252"/>
                  </a:cubicBezTo>
                  <a:lnTo>
                    <a:pt x="59" y="5252"/>
                  </a:lnTo>
                  <a:cubicBezTo>
                    <a:pt x="59" y="5224"/>
                    <a:pt x="82" y="5202"/>
                    <a:pt x="110" y="5203"/>
                  </a:cubicBezTo>
                  <a:cubicBezTo>
                    <a:pt x="137" y="5203"/>
                    <a:pt x="159" y="5226"/>
                    <a:pt x="159" y="5254"/>
                  </a:cubicBezTo>
                  <a:close/>
                  <a:moveTo>
                    <a:pt x="156" y="5454"/>
                  </a:moveTo>
                  <a:lnTo>
                    <a:pt x="156" y="5454"/>
                  </a:lnTo>
                  <a:cubicBezTo>
                    <a:pt x="156" y="5481"/>
                    <a:pt x="133" y="5503"/>
                    <a:pt x="105" y="5503"/>
                  </a:cubicBezTo>
                  <a:cubicBezTo>
                    <a:pt x="77" y="5502"/>
                    <a:pt x="56" y="5479"/>
                    <a:pt x="56" y="5452"/>
                  </a:cubicBezTo>
                  <a:lnTo>
                    <a:pt x="56" y="5452"/>
                  </a:lnTo>
                  <a:cubicBezTo>
                    <a:pt x="57" y="5424"/>
                    <a:pt x="79" y="5402"/>
                    <a:pt x="107" y="5403"/>
                  </a:cubicBezTo>
                  <a:cubicBezTo>
                    <a:pt x="135" y="5403"/>
                    <a:pt x="157" y="5426"/>
                    <a:pt x="156" y="5454"/>
                  </a:cubicBezTo>
                  <a:close/>
                  <a:moveTo>
                    <a:pt x="153" y="5654"/>
                  </a:moveTo>
                  <a:lnTo>
                    <a:pt x="153" y="5654"/>
                  </a:lnTo>
                  <a:cubicBezTo>
                    <a:pt x="153" y="5681"/>
                    <a:pt x="130" y="5703"/>
                    <a:pt x="102" y="5703"/>
                  </a:cubicBezTo>
                  <a:cubicBezTo>
                    <a:pt x="75" y="5702"/>
                    <a:pt x="53" y="5679"/>
                    <a:pt x="53" y="5652"/>
                  </a:cubicBezTo>
                  <a:lnTo>
                    <a:pt x="53" y="5652"/>
                  </a:lnTo>
                  <a:cubicBezTo>
                    <a:pt x="54" y="5624"/>
                    <a:pt x="77" y="5602"/>
                    <a:pt x="104" y="5603"/>
                  </a:cubicBezTo>
                  <a:cubicBezTo>
                    <a:pt x="132" y="5603"/>
                    <a:pt x="154" y="5626"/>
                    <a:pt x="153" y="5654"/>
                  </a:cubicBezTo>
                  <a:close/>
                  <a:moveTo>
                    <a:pt x="151" y="5854"/>
                  </a:moveTo>
                  <a:lnTo>
                    <a:pt x="151" y="5854"/>
                  </a:lnTo>
                  <a:cubicBezTo>
                    <a:pt x="150" y="5881"/>
                    <a:pt x="127" y="5903"/>
                    <a:pt x="100" y="5903"/>
                  </a:cubicBezTo>
                  <a:cubicBezTo>
                    <a:pt x="72" y="5902"/>
                    <a:pt x="50" y="5880"/>
                    <a:pt x="51" y="5852"/>
                  </a:cubicBezTo>
                  <a:lnTo>
                    <a:pt x="51" y="5852"/>
                  </a:lnTo>
                  <a:cubicBezTo>
                    <a:pt x="51" y="5824"/>
                    <a:pt x="74" y="5802"/>
                    <a:pt x="102" y="5803"/>
                  </a:cubicBezTo>
                  <a:cubicBezTo>
                    <a:pt x="129" y="5803"/>
                    <a:pt x="151" y="5826"/>
                    <a:pt x="151" y="5854"/>
                  </a:cubicBezTo>
                  <a:close/>
                  <a:moveTo>
                    <a:pt x="148" y="6054"/>
                  </a:moveTo>
                  <a:lnTo>
                    <a:pt x="148" y="6054"/>
                  </a:lnTo>
                  <a:cubicBezTo>
                    <a:pt x="147" y="6082"/>
                    <a:pt x="124" y="6104"/>
                    <a:pt x="97" y="6103"/>
                  </a:cubicBezTo>
                  <a:cubicBezTo>
                    <a:pt x="69" y="6102"/>
                    <a:pt x="47" y="6080"/>
                    <a:pt x="48" y="6052"/>
                  </a:cubicBezTo>
                  <a:lnTo>
                    <a:pt x="48" y="6052"/>
                  </a:lnTo>
                  <a:cubicBezTo>
                    <a:pt x="48" y="6024"/>
                    <a:pt x="71" y="6002"/>
                    <a:pt x="99" y="6003"/>
                  </a:cubicBezTo>
                  <a:cubicBezTo>
                    <a:pt x="126" y="6003"/>
                    <a:pt x="148" y="6026"/>
                    <a:pt x="148" y="6054"/>
                  </a:cubicBezTo>
                  <a:close/>
                  <a:moveTo>
                    <a:pt x="145" y="6254"/>
                  </a:moveTo>
                  <a:lnTo>
                    <a:pt x="145" y="6254"/>
                  </a:lnTo>
                  <a:cubicBezTo>
                    <a:pt x="144" y="6282"/>
                    <a:pt x="122" y="6304"/>
                    <a:pt x="94" y="6303"/>
                  </a:cubicBezTo>
                  <a:cubicBezTo>
                    <a:pt x="66" y="6303"/>
                    <a:pt x="44" y="6280"/>
                    <a:pt x="45" y="6252"/>
                  </a:cubicBezTo>
                  <a:lnTo>
                    <a:pt x="45" y="6252"/>
                  </a:lnTo>
                  <a:cubicBezTo>
                    <a:pt x="46" y="6224"/>
                    <a:pt x="68" y="6202"/>
                    <a:pt x="96" y="6203"/>
                  </a:cubicBezTo>
                  <a:cubicBezTo>
                    <a:pt x="124" y="6204"/>
                    <a:pt x="146" y="6226"/>
                    <a:pt x="145" y="6254"/>
                  </a:cubicBezTo>
                  <a:close/>
                  <a:moveTo>
                    <a:pt x="142" y="6454"/>
                  </a:moveTo>
                  <a:lnTo>
                    <a:pt x="142" y="6454"/>
                  </a:lnTo>
                  <a:cubicBezTo>
                    <a:pt x="142" y="6482"/>
                    <a:pt x="119" y="6504"/>
                    <a:pt x="91" y="6503"/>
                  </a:cubicBezTo>
                  <a:cubicBezTo>
                    <a:pt x="64" y="6503"/>
                    <a:pt x="42" y="6480"/>
                    <a:pt x="42" y="6452"/>
                  </a:cubicBezTo>
                  <a:lnTo>
                    <a:pt x="42" y="6452"/>
                  </a:lnTo>
                  <a:cubicBezTo>
                    <a:pt x="43" y="6424"/>
                    <a:pt x="66" y="6403"/>
                    <a:pt x="93" y="6403"/>
                  </a:cubicBezTo>
                  <a:cubicBezTo>
                    <a:pt x="121" y="6404"/>
                    <a:pt x="143" y="6426"/>
                    <a:pt x="142" y="6454"/>
                  </a:cubicBezTo>
                  <a:close/>
                  <a:moveTo>
                    <a:pt x="139" y="6654"/>
                  </a:moveTo>
                  <a:lnTo>
                    <a:pt x="139" y="6654"/>
                  </a:lnTo>
                  <a:cubicBezTo>
                    <a:pt x="139" y="6682"/>
                    <a:pt x="116" y="6704"/>
                    <a:pt x="88" y="6703"/>
                  </a:cubicBezTo>
                  <a:cubicBezTo>
                    <a:pt x="61" y="6703"/>
                    <a:pt x="39" y="6680"/>
                    <a:pt x="39" y="6652"/>
                  </a:cubicBezTo>
                  <a:lnTo>
                    <a:pt x="39" y="6652"/>
                  </a:lnTo>
                  <a:cubicBezTo>
                    <a:pt x="40" y="6625"/>
                    <a:pt x="63" y="6603"/>
                    <a:pt x="90" y="6603"/>
                  </a:cubicBezTo>
                  <a:cubicBezTo>
                    <a:pt x="118" y="6604"/>
                    <a:pt x="140" y="6626"/>
                    <a:pt x="139" y="6654"/>
                  </a:cubicBezTo>
                  <a:close/>
                  <a:moveTo>
                    <a:pt x="137" y="6854"/>
                  </a:moveTo>
                  <a:lnTo>
                    <a:pt x="137" y="6854"/>
                  </a:lnTo>
                  <a:cubicBezTo>
                    <a:pt x="136" y="6882"/>
                    <a:pt x="113" y="6904"/>
                    <a:pt x="86" y="6903"/>
                  </a:cubicBezTo>
                  <a:cubicBezTo>
                    <a:pt x="58" y="6903"/>
                    <a:pt x="36" y="6880"/>
                    <a:pt x="37" y="6852"/>
                  </a:cubicBezTo>
                  <a:lnTo>
                    <a:pt x="37" y="6852"/>
                  </a:lnTo>
                  <a:cubicBezTo>
                    <a:pt x="37" y="6825"/>
                    <a:pt x="60" y="6803"/>
                    <a:pt x="88" y="6803"/>
                  </a:cubicBezTo>
                  <a:cubicBezTo>
                    <a:pt x="115" y="6804"/>
                    <a:pt x="137" y="6827"/>
                    <a:pt x="137" y="6854"/>
                  </a:cubicBezTo>
                  <a:close/>
                  <a:moveTo>
                    <a:pt x="134" y="7054"/>
                  </a:moveTo>
                  <a:lnTo>
                    <a:pt x="134" y="7054"/>
                  </a:lnTo>
                  <a:cubicBezTo>
                    <a:pt x="133" y="7082"/>
                    <a:pt x="110" y="7104"/>
                    <a:pt x="83" y="7103"/>
                  </a:cubicBezTo>
                  <a:cubicBezTo>
                    <a:pt x="55" y="7103"/>
                    <a:pt x="33" y="7080"/>
                    <a:pt x="34" y="7052"/>
                  </a:cubicBezTo>
                  <a:lnTo>
                    <a:pt x="34" y="7052"/>
                  </a:lnTo>
                  <a:cubicBezTo>
                    <a:pt x="34" y="7025"/>
                    <a:pt x="57" y="7003"/>
                    <a:pt x="85" y="7003"/>
                  </a:cubicBezTo>
                  <a:cubicBezTo>
                    <a:pt x="112" y="7004"/>
                    <a:pt x="134" y="7027"/>
                    <a:pt x="134" y="7054"/>
                  </a:cubicBezTo>
                  <a:close/>
                  <a:moveTo>
                    <a:pt x="131" y="7254"/>
                  </a:moveTo>
                  <a:lnTo>
                    <a:pt x="131" y="7254"/>
                  </a:lnTo>
                  <a:cubicBezTo>
                    <a:pt x="131" y="7282"/>
                    <a:pt x="108" y="7304"/>
                    <a:pt x="80" y="7303"/>
                  </a:cubicBezTo>
                  <a:cubicBezTo>
                    <a:pt x="52" y="7303"/>
                    <a:pt x="31" y="7280"/>
                    <a:pt x="31" y="7252"/>
                  </a:cubicBezTo>
                  <a:lnTo>
                    <a:pt x="31" y="7252"/>
                  </a:lnTo>
                  <a:cubicBezTo>
                    <a:pt x="32" y="7225"/>
                    <a:pt x="54" y="7203"/>
                    <a:pt x="82" y="7203"/>
                  </a:cubicBezTo>
                  <a:cubicBezTo>
                    <a:pt x="110" y="7204"/>
                    <a:pt x="132" y="7227"/>
                    <a:pt x="131" y="7254"/>
                  </a:cubicBezTo>
                  <a:close/>
                  <a:moveTo>
                    <a:pt x="128" y="7454"/>
                  </a:moveTo>
                  <a:lnTo>
                    <a:pt x="128" y="7455"/>
                  </a:lnTo>
                  <a:cubicBezTo>
                    <a:pt x="128" y="7482"/>
                    <a:pt x="105" y="7504"/>
                    <a:pt x="77" y="7504"/>
                  </a:cubicBezTo>
                  <a:cubicBezTo>
                    <a:pt x="50" y="7503"/>
                    <a:pt x="28" y="7480"/>
                    <a:pt x="28" y="7453"/>
                  </a:cubicBezTo>
                  <a:lnTo>
                    <a:pt x="28" y="7452"/>
                  </a:lnTo>
                  <a:cubicBezTo>
                    <a:pt x="29" y="7425"/>
                    <a:pt x="52" y="7403"/>
                    <a:pt x="79" y="7403"/>
                  </a:cubicBezTo>
                  <a:cubicBezTo>
                    <a:pt x="107" y="7404"/>
                    <a:pt x="129" y="7427"/>
                    <a:pt x="128" y="7454"/>
                  </a:cubicBezTo>
                  <a:close/>
                  <a:moveTo>
                    <a:pt x="126" y="7655"/>
                  </a:moveTo>
                  <a:lnTo>
                    <a:pt x="126" y="7655"/>
                  </a:lnTo>
                  <a:cubicBezTo>
                    <a:pt x="125" y="7682"/>
                    <a:pt x="102" y="7704"/>
                    <a:pt x="75" y="7704"/>
                  </a:cubicBezTo>
                  <a:cubicBezTo>
                    <a:pt x="47" y="7703"/>
                    <a:pt x="25" y="7680"/>
                    <a:pt x="26" y="7653"/>
                  </a:cubicBezTo>
                  <a:lnTo>
                    <a:pt x="26" y="7653"/>
                  </a:lnTo>
                  <a:cubicBezTo>
                    <a:pt x="26" y="7625"/>
                    <a:pt x="49" y="7603"/>
                    <a:pt x="76" y="7604"/>
                  </a:cubicBezTo>
                  <a:cubicBezTo>
                    <a:pt x="104" y="7604"/>
                    <a:pt x="126" y="7627"/>
                    <a:pt x="126" y="7655"/>
                  </a:cubicBezTo>
                  <a:close/>
                  <a:moveTo>
                    <a:pt x="123" y="7855"/>
                  </a:moveTo>
                  <a:lnTo>
                    <a:pt x="123" y="7855"/>
                  </a:lnTo>
                  <a:cubicBezTo>
                    <a:pt x="122" y="7882"/>
                    <a:pt x="99" y="7904"/>
                    <a:pt x="72" y="7904"/>
                  </a:cubicBezTo>
                  <a:cubicBezTo>
                    <a:pt x="44" y="7903"/>
                    <a:pt x="22" y="7880"/>
                    <a:pt x="23" y="7853"/>
                  </a:cubicBezTo>
                  <a:lnTo>
                    <a:pt x="23" y="7853"/>
                  </a:lnTo>
                  <a:cubicBezTo>
                    <a:pt x="23" y="7825"/>
                    <a:pt x="46" y="7803"/>
                    <a:pt x="74" y="7804"/>
                  </a:cubicBezTo>
                  <a:cubicBezTo>
                    <a:pt x="101" y="7804"/>
                    <a:pt x="123" y="7827"/>
                    <a:pt x="123" y="7855"/>
                  </a:cubicBezTo>
                  <a:close/>
                  <a:moveTo>
                    <a:pt x="120" y="8055"/>
                  </a:moveTo>
                  <a:lnTo>
                    <a:pt x="120" y="8055"/>
                  </a:lnTo>
                  <a:cubicBezTo>
                    <a:pt x="119" y="8082"/>
                    <a:pt x="97" y="8104"/>
                    <a:pt x="69" y="8104"/>
                  </a:cubicBezTo>
                  <a:cubicBezTo>
                    <a:pt x="41" y="8103"/>
                    <a:pt x="19" y="8080"/>
                    <a:pt x="20" y="8053"/>
                  </a:cubicBezTo>
                  <a:lnTo>
                    <a:pt x="20" y="8053"/>
                  </a:lnTo>
                  <a:cubicBezTo>
                    <a:pt x="21" y="8025"/>
                    <a:pt x="43" y="8003"/>
                    <a:pt x="71" y="8004"/>
                  </a:cubicBezTo>
                  <a:cubicBezTo>
                    <a:pt x="99" y="8004"/>
                    <a:pt x="120" y="8027"/>
                    <a:pt x="120" y="8055"/>
                  </a:cubicBezTo>
                  <a:close/>
                  <a:moveTo>
                    <a:pt x="117" y="8255"/>
                  </a:moveTo>
                  <a:lnTo>
                    <a:pt x="117" y="8255"/>
                  </a:lnTo>
                  <a:cubicBezTo>
                    <a:pt x="117" y="8282"/>
                    <a:pt x="94" y="8304"/>
                    <a:pt x="66" y="8304"/>
                  </a:cubicBezTo>
                  <a:cubicBezTo>
                    <a:pt x="39" y="8303"/>
                    <a:pt x="17" y="8281"/>
                    <a:pt x="17" y="8253"/>
                  </a:cubicBezTo>
                  <a:lnTo>
                    <a:pt x="17" y="8253"/>
                  </a:lnTo>
                  <a:cubicBezTo>
                    <a:pt x="18" y="8225"/>
                    <a:pt x="41" y="8203"/>
                    <a:pt x="68" y="8204"/>
                  </a:cubicBezTo>
                  <a:cubicBezTo>
                    <a:pt x="96" y="8204"/>
                    <a:pt x="118" y="8227"/>
                    <a:pt x="117" y="8255"/>
                  </a:cubicBezTo>
                  <a:close/>
                  <a:moveTo>
                    <a:pt x="114" y="8455"/>
                  </a:moveTo>
                  <a:lnTo>
                    <a:pt x="114" y="8455"/>
                  </a:lnTo>
                  <a:cubicBezTo>
                    <a:pt x="114" y="8483"/>
                    <a:pt x="91" y="8504"/>
                    <a:pt x="63" y="8504"/>
                  </a:cubicBezTo>
                  <a:cubicBezTo>
                    <a:pt x="36" y="8503"/>
                    <a:pt x="14" y="8481"/>
                    <a:pt x="14" y="8453"/>
                  </a:cubicBezTo>
                  <a:lnTo>
                    <a:pt x="14" y="8453"/>
                  </a:lnTo>
                  <a:cubicBezTo>
                    <a:pt x="15" y="8425"/>
                    <a:pt x="38" y="8403"/>
                    <a:pt x="65" y="8404"/>
                  </a:cubicBezTo>
                  <a:cubicBezTo>
                    <a:pt x="93" y="8404"/>
                    <a:pt x="115" y="8427"/>
                    <a:pt x="114" y="8455"/>
                  </a:cubicBezTo>
                  <a:close/>
                  <a:moveTo>
                    <a:pt x="112" y="8655"/>
                  </a:moveTo>
                  <a:lnTo>
                    <a:pt x="112" y="8655"/>
                  </a:lnTo>
                  <a:cubicBezTo>
                    <a:pt x="111" y="8683"/>
                    <a:pt x="88" y="8705"/>
                    <a:pt x="61" y="8704"/>
                  </a:cubicBezTo>
                  <a:cubicBezTo>
                    <a:pt x="33" y="8703"/>
                    <a:pt x="11" y="8681"/>
                    <a:pt x="12" y="8653"/>
                  </a:cubicBezTo>
                  <a:lnTo>
                    <a:pt x="12" y="8653"/>
                  </a:lnTo>
                  <a:cubicBezTo>
                    <a:pt x="12" y="8625"/>
                    <a:pt x="35" y="8603"/>
                    <a:pt x="63" y="8604"/>
                  </a:cubicBezTo>
                  <a:cubicBezTo>
                    <a:pt x="90" y="8604"/>
                    <a:pt x="112" y="8627"/>
                    <a:pt x="112" y="8655"/>
                  </a:cubicBezTo>
                  <a:close/>
                  <a:moveTo>
                    <a:pt x="109" y="8855"/>
                  </a:moveTo>
                  <a:lnTo>
                    <a:pt x="109" y="8855"/>
                  </a:lnTo>
                  <a:cubicBezTo>
                    <a:pt x="108" y="8883"/>
                    <a:pt x="85" y="8905"/>
                    <a:pt x="58" y="8904"/>
                  </a:cubicBezTo>
                  <a:cubicBezTo>
                    <a:pt x="30" y="8904"/>
                    <a:pt x="8" y="8881"/>
                    <a:pt x="9" y="8853"/>
                  </a:cubicBezTo>
                  <a:lnTo>
                    <a:pt x="9" y="8853"/>
                  </a:lnTo>
                  <a:cubicBezTo>
                    <a:pt x="9" y="8825"/>
                    <a:pt x="32" y="8803"/>
                    <a:pt x="60" y="8804"/>
                  </a:cubicBezTo>
                  <a:cubicBezTo>
                    <a:pt x="87" y="8805"/>
                    <a:pt x="109" y="8827"/>
                    <a:pt x="109" y="8855"/>
                  </a:cubicBezTo>
                  <a:close/>
                  <a:moveTo>
                    <a:pt x="106" y="9055"/>
                  </a:moveTo>
                  <a:lnTo>
                    <a:pt x="106" y="9055"/>
                  </a:lnTo>
                  <a:cubicBezTo>
                    <a:pt x="106" y="9083"/>
                    <a:pt x="83" y="9105"/>
                    <a:pt x="55" y="9104"/>
                  </a:cubicBezTo>
                  <a:cubicBezTo>
                    <a:pt x="27" y="9104"/>
                    <a:pt x="6" y="9081"/>
                    <a:pt x="6" y="9053"/>
                  </a:cubicBezTo>
                  <a:lnTo>
                    <a:pt x="6" y="9053"/>
                  </a:lnTo>
                  <a:cubicBezTo>
                    <a:pt x="7" y="9026"/>
                    <a:pt x="29" y="9004"/>
                    <a:pt x="57" y="9004"/>
                  </a:cubicBezTo>
                  <a:cubicBezTo>
                    <a:pt x="85" y="9005"/>
                    <a:pt x="107" y="9027"/>
                    <a:pt x="106" y="9055"/>
                  </a:cubicBezTo>
                  <a:close/>
                  <a:moveTo>
                    <a:pt x="103" y="9255"/>
                  </a:moveTo>
                  <a:lnTo>
                    <a:pt x="103" y="9255"/>
                  </a:lnTo>
                  <a:cubicBezTo>
                    <a:pt x="103" y="9283"/>
                    <a:pt x="80" y="9305"/>
                    <a:pt x="52" y="9304"/>
                  </a:cubicBezTo>
                  <a:cubicBezTo>
                    <a:pt x="25" y="9304"/>
                    <a:pt x="3" y="9281"/>
                    <a:pt x="3" y="9253"/>
                  </a:cubicBezTo>
                  <a:lnTo>
                    <a:pt x="3" y="9253"/>
                  </a:lnTo>
                  <a:cubicBezTo>
                    <a:pt x="4" y="9226"/>
                    <a:pt x="27" y="9204"/>
                    <a:pt x="54" y="9204"/>
                  </a:cubicBezTo>
                  <a:cubicBezTo>
                    <a:pt x="82" y="9205"/>
                    <a:pt x="104" y="9228"/>
                    <a:pt x="103" y="9255"/>
                  </a:cubicBezTo>
                  <a:close/>
                  <a:moveTo>
                    <a:pt x="101" y="9455"/>
                  </a:moveTo>
                  <a:lnTo>
                    <a:pt x="101" y="9455"/>
                  </a:lnTo>
                  <a:cubicBezTo>
                    <a:pt x="100" y="9483"/>
                    <a:pt x="77" y="9505"/>
                    <a:pt x="50" y="9504"/>
                  </a:cubicBezTo>
                  <a:cubicBezTo>
                    <a:pt x="22" y="9504"/>
                    <a:pt x="0" y="9481"/>
                    <a:pt x="1" y="9453"/>
                  </a:cubicBezTo>
                  <a:lnTo>
                    <a:pt x="1" y="9453"/>
                  </a:lnTo>
                  <a:cubicBezTo>
                    <a:pt x="1" y="9426"/>
                    <a:pt x="24" y="9404"/>
                    <a:pt x="51" y="9404"/>
                  </a:cubicBezTo>
                  <a:cubicBezTo>
                    <a:pt x="79" y="9405"/>
                    <a:pt x="101" y="9428"/>
                    <a:pt x="101" y="9455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40640" y="2098800"/>
              <a:ext cx="17640" cy="1643040"/>
            </a:xfrm>
            <a:custGeom>
              <a:avLst/>
              <a:gdLst/>
              <a:ahLst/>
              <a:rect l="l" t="t" r="r" b="b"/>
              <a:pathLst>
                <a:path w="50" h="4750">
                  <a:moveTo>
                    <a:pt x="50" y="25"/>
                  </a:moveTo>
                  <a:lnTo>
                    <a:pt x="50" y="175"/>
                  </a:lnTo>
                  <a:cubicBezTo>
                    <a:pt x="50" y="189"/>
                    <a:pt x="39" y="200"/>
                    <a:pt x="25" y="200"/>
                  </a:cubicBezTo>
                  <a:cubicBezTo>
                    <a:pt x="11" y="200"/>
                    <a:pt x="0" y="189"/>
                    <a:pt x="0" y="175"/>
                  </a:cubicBezTo>
                  <a:lnTo>
                    <a:pt x="0" y="25"/>
                  </a:lnTo>
                  <a:cubicBezTo>
                    <a:pt x="0" y="11"/>
                    <a:pt x="11" y="0"/>
                    <a:pt x="25" y="0"/>
                  </a:cubicBezTo>
                  <a:cubicBezTo>
                    <a:pt x="39" y="0"/>
                    <a:pt x="50" y="11"/>
                    <a:pt x="50" y="25"/>
                  </a:cubicBezTo>
                  <a:close/>
                  <a:moveTo>
                    <a:pt x="50" y="375"/>
                  </a:moveTo>
                  <a:lnTo>
                    <a:pt x="50" y="525"/>
                  </a:lnTo>
                  <a:cubicBezTo>
                    <a:pt x="50" y="539"/>
                    <a:pt x="39" y="550"/>
                    <a:pt x="25" y="550"/>
                  </a:cubicBezTo>
                  <a:cubicBezTo>
                    <a:pt x="11" y="550"/>
                    <a:pt x="0" y="539"/>
                    <a:pt x="0" y="525"/>
                  </a:cubicBezTo>
                  <a:lnTo>
                    <a:pt x="0" y="375"/>
                  </a:lnTo>
                  <a:cubicBezTo>
                    <a:pt x="0" y="361"/>
                    <a:pt x="11" y="350"/>
                    <a:pt x="25" y="350"/>
                  </a:cubicBezTo>
                  <a:cubicBezTo>
                    <a:pt x="39" y="350"/>
                    <a:pt x="50" y="361"/>
                    <a:pt x="50" y="375"/>
                  </a:cubicBezTo>
                  <a:close/>
                  <a:moveTo>
                    <a:pt x="50" y="725"/>
                  </a:moveTo>
                  <a:lnTo>
                    <a:pt x="50" y="875"/>
                  </a:lnTo>
                  <a:cubicBezTo>
                    <a:pt x="50" y="889"/>
                    <a:pt x="39" y="900"/>
                    <a:pt x="25" y="900"/>
                  </a:cubicBezTo>
                  <a:cubicBezTo>
                    <a:pt x="11" y="900"/>
                    <a:pt x="0" y="889"/>
                    <a:pt x="0" y="875"/>
                  </a:cubicBezTo>
                  <a:lnTo>
                    <a:pt x="0" y="725"/>
                  </a:lnTo>
                  <a:cubicBezTo>
                    <a:pt x="0" y="711"/>
                    <a:pt x="11" y="700"/>
                    <a:pt x="25" y="700"/>
                  </a:cubicBezTo>
                  <a:cubicBezTo>
                    <a:pt x="39" y="700"/>
                    <a:pt x="50" y="711"/>
                    <a:pt x="50" y="725"/>
                  </a:cubicBezTo>
                  <a:close/>
                  <a:moveTo>
                    <a:pt x="50" y="1075"/>
                  </a:moveTo>
                  <a:lnTo>
                    <a:pt x="50" y="1225"/>
                  </a:lnTo>
                  <a:cubicBezTo>
                    <a:pt x="50" y="1239"/>
                    <a:pt x="39" y="1250"/>
                    <a:pt x="25" y="1250"/>
                  </a:cubicBezTo>
                  <a:cubicBezTo>
                    <a:pt x="11" y="1250"/>
                    <a:pt x="0" y="1239"/>
                    <a:pt x="0" y="1225"/>
                  </a:cubicBezTo>
                  <a:lnTo>
                    <a:pt x="0" y="1075"/>
                  </a:lnTo>
                  <a:cubicBezTo>
                    <a:pt x="0" y="1061"/>
                    <a:pt x="11" y="1050"/>
                    <a:pt x="25" y="1050"/>
                  </a:cubicBezTo>
                  <a:cubicBezTo>
                    <a:pt x="39" y="1050"/>
                    <a:pt x="50" y="1061"/>
                    <a:pt x="50" y="1075"/>
                  </a:cubicBezTo>
                  <a:close/>
                  <a:moveTo>
                    <a:pt x="50" y="1425"/>
                  </a:moveTo>
                  <a:lnTo>
                    <a:pt x="50" y="1575"/>
                  </a:lnTo>
                  <a:cubicBezTo>
                    <a:pt x="50" y="1589"/>
                    <a:pt x="39" y="1600"/>
                    <a:pt x="25" y="1600"/>
                  </a:cubicBezTo>
                  <a:cubicBezTo>
                    <a:pt x="11" y="1600"/>
                    <a:pt x="0" y="1589"/>
                    <a:pt x="0" y="1575"/>
                  </a:cubicBezTo>
                  <a:lnTo>
                    <a:pt x="0" y="1425"/>
                  </a:lnTo>
                  <a:cubicBezTo>
                    <a:pt x="0" y="1411"/>
                    <a:pt x="11" y="1400"/>
                    <a:pt x="25" y="1400"/>
                  </a:cubicBezTo>
                  <a:cubicBezTo>
                    <a:pt x="39" y="1400"/>
                    <a:pt x="50" y="1411"/>
                    <a:pt x="50" y="1425"/>
                  </a:cubicBezTo>
                  <a:close/>
                  <a:moveTo>
                    <a:pt x="50" y="1775"/>
                  </a:moveTo>
                  <a:lnTo>
                    <a:pt x="50" y="1925"/>
                  </a:lnTo>
                  <a:cubicBezTo>
                    <a:pt x="50" y="1939"/>
                    <a:pt x="39" y="1950"/>
                    <a:pt x="25" y="1950"/>
                  </a:cubicBezTo>
                  <a:cubicBezTo>
                    <a:pt x="11" y="1950"/>
                    <a:pt x="0" y="1939"/>
                    <a:pt x="0" y="1925"/>
                  </a:cubicBezTo>
                  <a:lnTo>
                    <a:pt x="0" y="1775"/>
                  </a:lnTo>
                  <a:cubicBezTo>
                    <a:pt x="0" y="1761"/>
                    <a:pt x="11" y="1750"/>
                    <a:pt x="25" y="1750"/>
                  </a:cubicBezTo>
                  <a:cubicBezTo>
                    <a:pt x="39" y="1750"/>
                    <a:pt x="50" y="1761"/>
                    <a:pt x="50" y="1775"/>
                  </a:cubicBezTo>
                  <a:close/>
                  <a:moveTo>
                    <a:pt x="50" y="2125"/>
                  </a:moveTo>
                  <a:lnTo>
                    <a:pt x="50" y="2275"/>
                  </a:lnTo>
                  <a:cubicBezTo>
                    <a:pt x="50" y="2289"/>
                    <a:pt x="39" y="2300"/>
                    <a:pt x="25" y="2300"/>
                  </a:cubicBezTo>
                  <a:cubicBezTo>
                    <a:pt x="11" y="2300"/>
                    <a:pt x="0" y="2289"/>
                    <a:pt x="0" y="2275"/>
                  </a:cubicBezTo>
                  <a:lnTo>
                    <a:pt x="0" y="2125"/>
                  </a:lnTo>
                  <a:cubicBezTo>
                    <a:pt x="0" y="2111"/>
                    <a:pt x="11" y="2100"/>
                    <a:pt x="25" y="2100"/>
                  </a:cubicBezTo>
                  <a:cubicBezTo>
                    <a:pt x="39" y="2100"/>
                    <a:pt x="50" y="2111"/>
                    <a:pt x="50" y="2125"/>
                  </a:cubicBezTo>
                  <a:close/>
                  <a:moveTo>
                    <a:pt x="50" y="2475"/>
                  </a:moveTo>
                  <a:lnTo>
                    <a:pt x="50" y="2625"/>
                  </a:lnTo>
                  <a:cubicBezTo>
                    <a:pt x="50" y="2639"/>
                    <a:pt x="39" y="2650"/>
                    <a:pt x="25" y="2650"/>
                  </a:cubicBezTo>
                  <a:cubicBezTo>
                    <a:pt x="11" y="2650"/>
                    <a:pt x="0" y="2639"/>
                    <a:pt x="0" y="2625"/>
                  </a:cubicBezTo>
                  <a:lnTo>
                    <a:pt x="0" y="2475"/>
                  </a:lnTo>
                  <a:cubicBezTo>
                    <a:pt x="0" y="2461"/>
                    <a:pt x="11" y="2450"/>
                    <a:pt x="25" y="2450"/>
                  </a:cubicBezTo>
                  <a:cubicBezTo>
                    <a:pt x="39" y="2450"/>
                    <a:pt x="50" y="2461"/>
                    <a:pt x="50" y="2475"/>
                  </a:cubicBezTo>
                  <a:close/>
                  <a:moveTo>
                    <a:pt x="50" y="2825"/>
                  </a:moveTo>
                  <a:lnTo>
                    <a:pt x="50" y="2975"/>
                  </a:lnTo>
                  <a:cubicBezTo>
                    <a:pt x="50" y="2989"/>
                    <a:pt x="39" y="3000"/>
                    <a:pt x="25" y="3000"/>
                  </a:cubicBezTo>
                  <a:cubicBezTo>
                    <a:pt x="11" y="3000"/>
                    <a:pt x="0" y="2989"/>
                    <a:pt x="0" y="2975"/>
                  </a:cubicBezTo>
                  <a:lnTo>
                    <a:pt x="0" y="2825"/>
                  </a:lnTo>
                  <a:cubicBezTo>
                    <a:pt x="0" y="2811"/>
                    <a:pt x="11" y="2800"/>
                    <a:pt x="25" y="2800"/>
                  </a:cubicBezTo>
                  <a:cubicBezTo>
                    <a:pt x="39" y="2800"/>
                    <a:pt x="50" y="2811"/>
                    <a:pt x="50" y="2825"/>
                  </a:cubicBezTo>
                  <a:close/>
                  <a:moveTo>
                    <a:pt x="50" y="3175"/>
                  </a:moveTo>
                  <a:lnTo>
                    <a:pt x="50" y="3325"/>
                  </a:lnTo>
                  <a:cubicBezTo>
                    <a:pt x="50" y="3339"/>
                    <a:pt x="39" y="3350"/>
                    <a:pt x="25" y="3350"/>
                  </a:cubicBezTo>
                  <a:cubicBezTo>
                    <a:pt x="11" y="3350"/>
                    <a:pt x="0" y="3339"/>
                    <a:pt x="0" y="3325"/>
                  </a:cubicBezTo>
                  <a:lnTo>
                    <a:pt x="0" y="3175"/>
                  </a:lnTo>
                  <a:cubicBezTo>
                    <a:pt x="0" y="3161"/>
                    <a:pt x="11" y="3150"/>
                    <a:pt x="25" y="3150"/>
                  </a:cubicBezTo>
                  <a:cubicBezTo>
                    <a:pt x="39" y="3150"/>
                    <a:pt x="50" y="3161"/>
                    <a:pt x="50" y="3175"/>
                  </a:cubicBezTo>
                  <a:close/>
                  <a:moveTo>
                    <a:pt x="50" y="3525"/>
                  </a:moveTo>
                  <a:lnTo>
                    <a:pt x="50" y="3675"/>
                  </a:lnTo>
                  <a:cubicBezTo>
                    <a:pt x="50" y="3689"/>
                    <a:pt x="39" y="3700"/>
                    <a:pt x="25" y="3700"/>
                  </a:cubicBezTo>
                  <a:cubicBezTo>
                    <a:pt x="11" y="3700"/>
                    <a:pt x="0" y="3689"/>
                    <a:pt x="0" y="3675"/>
                  </a:cubicBezTo>
                  <a:lnTo>
                    <a:pt x="0" y="3525"/>
                  </a:lnTo>
                  <a:cubicBezTo>
                    <a:pt x="0" y="3511"/>
                    <a:pt x="11" y="3500"/>
                    <a:pt x="25" y="3500"/>
                  </a:cubicBezTo>
                  <a:cubicBezTo>
                    <a:pt x="39" y="3500"/>
                    <a:pt x="50" y="3511"/>
                    <a:pt x="50" y="3525"/>
                  </a:cubicBezTo>
                  <a:close/>
                  <a:moveTo>
                    <a:pt x="50" y="3875"/>
                  </a:moveTo>
                  <a:lnTo>
                    <a:pt x="50" y="4025"/>
                  </a:lnTo>
                  <a:cubicBezTo>
                    <a:pt x="50" y="4039"/>
                    <a:pt x="39" y="4050"/>
                    <a:pt x="25" y="4050"/>
                  </a:cubicBezTo>
                  <a:cubicBezTo>
                    <a:pt x="11" y="4050"/>
                    <a:pt x="0" y="4039"/>
                    <a:pt x="0" y="4025"/>
                  </a:cubicBezTo>
                  <a:lnTo>
                    <a:pt x="0" y="3875"/>
                  </a:lnTo>
                  <a:cubicBezTo>
                    <a:pt x="0" y="3861"/>
                    <a:pt x="11" y="3850"/>
                    <a:pt x="25" y="3850"/>
                  </a:cubicBezTo>
                  <a:cubicBezTo>
                    <a:pt x="39" y="3850"/>
                    <a:pt x="50" y="3861"/>
                    <a:pt x="50" y="3875"/>
                  </a:cubicBezTo>
                  <a:close/>
                  <a:moveTo>
                    <a:pt x="50" y="4225"/>
                  </a:moveTo>
                  <a:lnTo>
                    <a:pt x="50" y="4375"/>
                  </a:lnTo>
                  <a:cubicBezTo>
                    <a:pt x="50" y="4389"/>
                    <a:pt x="39" y="4400"/>
                    <a:pt x="25" y="4400"/>
                  </a:cubicBezTo>
                  <a:cubicBezTo>
                    <a:pt x="11" y="4400"/>
                    <a:pt x="0" y="4389"/>
                    <a:pt x="0" y="4375"/>
                  </a:cubicBezTo>
                  <a:lnTo>
                    <a:pt x="0" y="4225"/>
                  </a:lnTo>
                  <a:cubicBezTo>
                    <a:pt x="0" y="4211"/>
                    <a:pt x="11" y="4200"/>
                    <a:pt x="25" y="4200"/>
                  </a:cubicBezTo>
                  <a:cubicBezTo>
                    <a:pt x="39" y="4200"/>
                    <a:pt x="50" y="4211"/>
                    <a:pt x="50" y="4225"/>
                  </a:cubicBezTo>
                  <a:close/>
                  <a:moveTo>
                    <a:pt x="50" y="4575"/>
                  </a:moveTo>
                  <a:lnTo>
                    <a:pt x="50" y="4725"/>
                  </a:lnTo>
                  <a:cubicBezTo>
                    <a:pt x="50" y="4739"/>
                    <a:pt x="39" y="4750"/>
                    <a:pt x="25" y="4750"/>
                  </a:cubicBezTo>
                  <a:cubicBezTo>
                    <a:pt x="11" y="4750"/>
                    <a:pt x="0" y="4739"/>
                    <a:pt x="0" y="4725"/>
                  </a:cubicBezTo>
                  <a:lnTo>
                    <a:pt x="0" y="4575"/>
                  </a:lnTo>
                  <a:cubicBezTo>
                    <a:pt x="0" y="4561"/>
                    <a:pt x="11" y="4550"/>
                    <a:pt x="25" y="4550"/>
                  </a:cubicBezTo>
                  <a:cubicBezTo>
                    <a:pt x="39" y="4550"/>
                    <a:pt x="50" y="4561"/>
                    <a:pt x="50" y="4575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7410600" y="2336760"/>
              <a:ext cx="167760" cy="161640"/>
              <a:chOff x="7410600" y="2336760"/>
              <a:chExt cx="167760" cy="161640"/>
            </a:xfrm>
          </p:grpSpPr>
          <p:sp>
            <p:nvSpPr>
              <p:cNvPr id="589" name=""/>
              <p:cNvSpPr/>
              <p:nvPr/>
            </p:nvSpPr>
            <p:spPr>
              <a:xfrm>
                <a:off x="7410600" y="2336760"/>
                <a:ext cx="167760" cy="161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10600" y="2336760"/>
                <a:ext cx="167760" cy="161640"/>
              </a:xfrm>
              <a:prstGeom prst="ellipse">
                <a:avLst/>
              </a:prstGeom>
              <a:solidFill>
                <a:srgbClr val="99cc00"/>
              </a:solidFill>
              <a:ln w="144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050240" y="2336760"/>
              <a:ext cx="167760" cy="161640"/>
              <a:chOff x="7050240" y="2336760"/>
              <a:chExt cx="167760" cy="161640"/>
            </a:xfrm>
          </p:grpSpPr>
          <p:sp>
            <p:nvSpPr>
              <p:cNvPr id="592" name=""/>
              <p:cNvSpPr/>
              <p:nvPr/>
            </p:nvSpPr>
            <p:spPr>
              <a:xfrm>
                <a:off x="7050240" y="2336760"/>
                <a:ext cx="167760" cy="161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50240" y="2336760"/>
                <a:ext cx="167760" cy="161640"/>
              </a:xfrm>
              <a:prstGeom prst="ellipse">
                <a:avLst/>
              </a:prstGeom>
              <a:solidFill>
                <a:srgbClr val="3366ff"/>
              </a:solidFill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6594480" y="2336760"/>
              <a:ext cx="169560" cy="161640"/>
              <a:chOff x="6594480" y="2336760"/>
              <a:chExt cx="169560" cy="161640"/>
            </a:xfrm>
          </p:grpSpPr>
          <p:sp>
            <p:nvSpPr>
              <p:cNvPr id="595" name=""/>
              <p:cNvSpPr/>
              <p:nvPr/>
            </p:nvSpPr>
            <p:spPr>
              <a:xfrm>
                <a:off x="6594480" y="2336760"/>
                <a:ext cx="169560" cy="16164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94480" y="2336760"/>
                <a:ext cx="16956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191360" y="2957400"/>
              <a:ext cx="169560" cy="161640"/>
              <a:chOff x="7191360" y="2957400"/>
              <a:chExt cx="169560" cy="161640"/>
            </a:xfrm>
          </p:grpSpPr>
          <p:sp>
            <p:nvSpPr>
              <p:cNvPr id="598" name=""/>
              <p:cNvSpPr/>
              <p:nvPr/>
            </p:nvSpPr>
            <p:spPr>
              <a:xfrm>
                <a:off x="7191360" y="2957400"/>
                <a:ext cx="169560" cy="161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91360" y="2957400"/>
                <a:ext cx="169560" cy="161640"/>
              </a:xfrm>
              <a:prstGeom prst="ellipse">
                <a:avLst/>
              </a:prstGeom>
              <a:solidFill>
                <a:srgbClr val="663300"/>
              </a:solidFill>
              <a:ln w="144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7364520" y="2573280"/>
              <a:ext cx="167760" cy="160200"/>
              <a:chOff x="7364520" y="2573280"/>
              <a:chExt cx="167760" cy="160200"/>
            </a:xfrm>
          </p:grpSpPr>
          <p:sp>
            <p:nvSpPr>
              <p:cNvPr id="601" name=""/>
              <p:cNvSpPr/>
              <p:nvPr/>
            </p:nvSpPr>
            <p:spPr>
              <a:xfrm>
                <a:off x="7364520" y="2573280"/>
                <a:ext cx="167760" cy="160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364520" y="2573280"/>
                <a:ext cx="167760" cy="16020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6846840" y="2573280"/>
              <a:ext cx="168120" cy="160200"/>
              <a:chOff x="6846840" y="2573280"/>
              <a:chExt cx="168120" cy="160200"/>
            </a:xfrm>
          </p:grpSpPr>
          <p:sp>
            <p:nvSpPr>
              <p:cNvPr id="604" name=""/>
              <p:cNvSpPr/>
              <p:nvPr/>
            </p:nvSpPr>
            <p:spPr>
              <a:xfrm>
                <a:off x="6846840" y="2573280"/>
                <a:ext cx="168120" cy="160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46840" y="2573280"/>
                <a:ext cx="168120" cy="16020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3922560" y="2266920"/>
              <a:ext cx="1349640" cy="4680"/>
            </a:xfrm>
            <a:custGeom>
              <a:avLst/>
              <a:gdLst/>
              <a:ahLst/>
              <a:rect l="l" t="t" r="r" b="b"/>
              <a:pathLst>
                <a:path w="7513" h="33">
                  <a:moveTo>
                    <a:pt x="17" y="0"/>
                  </a:moveTo>
                  <a:lnTo>
                    <a:pt x="117" y="0"/>
                  </a:lnTo>
                  <a:cubicBezTo>
                    <a:pt x="126" y="0"/>
                    <a:pt x="133" y="8"/>
                    <a:pt x="133" y="17"/>
                  </a:cubicBezTo>
                  <a:cubicBezTo>
                    <a:pt x="133" y="26"/>
                    <a:pt x="126" y="33"/>
                    <a:pt x="117" y="33"/>
                  </a:cubicBezTo>
                  <a:lnTo>
                    <a:pt x="17" y="33"/>
                  </a:lnTo>
                  <a:cubicBezTo>
                    <a:pt x="8" y="33"/>
                    <a:pt x="0" y="26"/>
                    <a:pt x="0" y="17"/>
                  </a:cubicBezTo>
                  <a:cubicBezTo>
                    <a:pt x="0" y="8"/>
                    <a:pt x="8" y="0"/>
                    <a:pt x="17" y="0"/>
                  </a:cubicBezTo>
                  <a:close/>
                  <a:moveTo>
                    <a:pt x="250" y="0"/>
                  </a:moveTo>
                  <a:lnTo>
                    <a:pt x="350" y="0"/>
                  </a:lnTo>
                  <a:cubicBezTo>
                    <a:pt x="359" y="0"/>
                    <a:pt x="367" y="8"/>
                    <a:pt x="367" y="17"/>
                  </a:cubicBezTo>
                  <a:cubicBezTo>
                    <a:pt x="367" y="26"/>
                    <a:pt x="359" y="33"/>
                    <a:pt x="350" y="33"/>
                  </a:cubicBezTo>
                  <a:lnTo>
                    <a:pt x="250" y="33"/>
                  </a:lnTo>
                  <a:cubicBezTo>
                    <a:pt x="241" y="33"/>
                    <a:pt x="233" y="26"/>
                    <a:pt x="233" y="17"/>
                  </a:cubicBezTo>
                  <a:cubicBezTo>
                    <a:pt x="233" y="8"/>
                    <a:pt x="241" y="0"/>
                    <a:pt x="250" y="0"/>
                  </a:cubicBezTo>
                  <a:close/>
                  <a:moveTo>
                    <a:pt x="483" y="0"/>
                  </a:moveTo>
                  <a:lnTo>
                    <a:pt x="583" y="0"/>
                  </a:lnTo>
                  <a:cubicBezTo>
                    <a:pt x="593" y="0"/>
                    <a:pt x="600" y="8"/>
                    <a:pt x="600" y="17"/>
                  </a:cubicBezTo>
                  <a:cubicBezTo>
                    <a:pt x="600" y="26"/>
                    <a:pt x="593" y="33"/>
                    <a:pt x="583" y="33"/>
                  </a:cubicBezTo>
                  <a:lnTo>
                    <a:pt x="483" y="33"/>
                  </a:lnTo>
                  <a:cubicBezTo>
                    <a:pt x="474" y="33"/>
                    <a:pt x="467" y="26"/>
                    <a:pt x="467" y="17"/>
                  </a:cubicBezTo>
                  <a:cubicBezTo>
                    <a:pt x="467" y="8"/>
                    <a:pt x="474" y="0"/>
                    <a:pt x="483" y="0"/>
                  </a:cubicBezTo>
                  <a:close/>
                  <a:moveTo>
                    <a:pt x="717" y="0"/>
                  </a:moveTo>
                  <a:lnTo>
                    <a:pt x="817" y="0"/>
                  </a:lnTo>
                  <a:cubicBezTo>
                    <a:pt x="826" y="0"/>
                    <a:pt x="833" y="8"/>
                    <a:pt x="833" y="17"/>
                  </a:cubicBezTo>
                  <a:cubicBezTo>
                    <a:pt x="833" y="26"/>
                    <a:pt x="826" y="33"/>
                    <a:pt x="817" y="33"/>
                  </a:cubicBezTo>
                  <a:lnTo>
                    <a:pt x="717" y="33"/>
                  </a:lnTo>
                  <a:cubicBezTo>
                    <a:pt x="708" y="33"/>
                    <a:pt x="700" y="26"/>
                    <a:pt x="700" y="17"/>
                  </a:cubicBezTo>
                  <a:cubicBezTo>
                    <a:pt x="700" y="8"/>
                    <a:pt x="708" y="0"/>
                    <a:pt x="717" y="0"/>
                  </a:cubicBezTo>
                  <a:close/>
                  <a:moveTo>
                    <a:pt x="950" y="0"/>
                  </a:moveTo>
                  <a:lnTo>
                    <a:pt x="1050" y="0"/>
                  </a:lnTo>
                  <a:cubicBezTo>
                    <a:pt x="1059" y="0"/>
                    <a:pt x="1067" y="8"/>
                    <a:pt x="1067" y="17"/>
                  </a:cubicBezTo>
                  <a:cubicBezTo>
                    <a:pt x="1067" y="26"/>
                    <a:pt x="1059" y="33"/>
                    <a:pt x="1050" y="33"/>
                  </a:cubicBezTo>
                  <a:lnTo>
                    <a:pt x="950" y="33"/>
                  </a:lnTo>
                  <a:cubicBezTo>
                    <a:pt x="941" y="33"/>
                    <a:pt x="933" y="26"/>
                    <a:pt x="933" y="17"/>
                  </a:cubicBezTo>
                  <a:cubicBezTo>
                    <a:pt x="933" y="8"/>
                    <a:pt x="941" y="0"/>
                    <a:pt x="950" y="0"/>
                  </a:cubicBezTo>
                  <a:close/>
                  <a:moveTo>
                    <a:pt x="1183" y="0"/>
                  </a:moveTo>
                  <a:lnTo>
                    <a:pt x="1283" y="0"/>
                  </a:lnTo>
                  <a:cubicBezTo>
                    <a:pt x="1293" y="0"/>
                    <a:pt x="1300" y="8"/>
                    <a:pt x="1300" y="17"/>
                  </a:cubicBezTo>
                  <a:cubicBezTo>
                    <a:pt x="1300" y="26"/>
                    <a:pt x="1293" y="33"/>
                    <a:pt x="1283" y="33"/>
                  </a:cubicBezTo>
                  <a:lnTo>
                    <a:pt x="1183" y="33"/>
                  </a:lnTo>
                  <a:cubicBezTo>
                    <a:pt x="1174" y="33"/>
                    <a:pt x="1167" y="26"/>
                    <a:pt x="1167" y="17"/>
                  </a:cubicBezTo>
                  <a:cubicBezTo>
                    <a:pt x="1167" y="8"/>
                    <a:pt x="1174" y="0"/>
                    <a:pt x="1183" y="0"/>
                  </a:cubicBezTo>
                  <a:close/>
                  <a:moveTo>
                    <a:pt x="1417" y="0"/>
                  </a:moveTo>
                  <a:lnTo>
                    <a:pt x="1517" y="0"/>
                  </a:lnTo>
                  <a:cubicBezTo>
                    <a:pt x="1526" y="0"/>
                    <a:pt x="1533" y="8"/>
                    <a:pt x="1533" y="17"/>
                  </a:cubicBezTo>
                  <a:cubicBezTo>
                    <a:pt x="1533" y="26"/>
                    <a:pt x="1526" y="33"/>
                    <a:pt x="1517" y="33"/>
                  </a:cubicBezTo>
                  <a:lnTo>
                    <a:pt x="1417" y="33"/>
                  </a:lnTo>
                  <a:cubicBezTo>
                    <a:pt x="1408" y="33"/>
                    <a:pt x="1400" y="26"/>
                    <a:pt x="1400" y="17"/>
                  </a:cubicBezTo>
                  <a:cubicBezTo>
                    <a:pt x="1400" y="8"/>
                    <a:pt x="1408" y="0"/>
                    <a:pt x="1417" y="0"/>
                  </a:cubicBezTo>
                  <a:close/>
                  <a:moveTo>
                    <a:pt x="1650" y="0"/>
                  </a:moveTo>
                  <a:lnTo>
                    <a:pt x="1750" y="0"/>
                  </a:lnTo>
                  <a:cubicBezTo>
                    <a:pt x="1759" y="0"/>
                    <a:pt x="1767" y="8"/>
                    <a:pt x="1767" y="17"/>
                  </a:cubicBezTo>
                  <a:cubicBezTo>
                    <a:pt x="1767" y="26"/>
                    <a:pt x="1759" y="33"/>
                    <a:pt x="1750" y="33"/>
                  </a:cubicBezTo>
                  <a:lnTo>
                    <a:pt x="1650" y="33"/>
                  </a:lnTo>
                  <a:cubicBezTo>
                    <a:pt x="1641" y="33"/>
                    <a:pt x="1633" y="26"/>
                    <a:pt x="1633" y="17"/>
                  </a:cubicBezTo>
                  <a:cubicBezTo>
                    <a:pt x="1633" y="8"/>
                    <a:pt x="1641" y="0"/>
                    <a:pt x="1650" y="0"/>
                  </a:cubicBezTo>
                  <a:close/>
                  <a:moveTo>
                    <a:pt x="1883" y="0"/>
                  </a:moveTo>
                  <a:lnTo>
                    <a:pt x="1983" y="0"/>
                  </a:lnTo>
                  <a:cubicBezTo>
                    <a:pt x="1993" y="0"/>
                    <a:pt x="2000" y="8"/>
                    <a:pt x="2000" y="17"/>
                  </a:cubicBezTo>
                  <a:cubicBezTo>
                    <a:pt x="2000" y="26"/>
                    <a:pt x="1993" y="33"/>
                    <a:pt x="1983" y="33"/>
                  </a:cubicBezTo>
                  <a:lnTo>
                    <a:pt x="1883" y="33"/>
                  </a:lnTo>
                  <a:cubicBezTo>
                    <a:pt x="1874" y="33"/>
                    <a:pt x="1867" y="26"/>
                    <a:pt x="1867" y="17"/>
                  </a:cubicBezTo>
                  <a:cubicBezTo>
                    <a:pt x="1867" y="8"/>
                    <a:pt x="1874" y="0"/>
                    <a:pt x="1883" y="0"/>
                  </a:cubicBezTo>
                  <a:close/>
                  <a:moveTo>
                    <a:pt x="2117" y="0"/>
                  </a:moveTo>
                  <a:lnTo>
                    <a:pt x="2217" y="0"/>
                  </a:lnTo>
                  <a:cubicBezTo>
                    <a:pt x="2226" y="0"/>
                    <a:pt x="2233" y="8"/>
                    <a:pt x="2233" y="17"/>
                  </a:cubicBezTo>
                  <a:cubicBezTo>
                    <a:pt x="2233" y="26"/>
                    <a:pt x="2226" y="33"/>
                    <a:pt x="2217" y="33"/>
                  </a:cubicBezTo>
                  <a:lnTo>
                    <a:pt x="2117" y="33"/>
                  </a:lnTo>
                  <a:cubicBezTo>
                    <a:pt x="2108" y="33"/>
                    <a:pt x="2100" y="26"/>
                    <a:pt x="2100" y="17"/>
                  </a:cubicBezTo>
                  <a:cubicBezTo>
                    <a:pt x="2100" y="8"/>
                    <a:pt x="2108" y="0"/>
                    <a:pt x="2117" y="0"/>
                  </a:cubicBezTo>
                  <a:close/>
                  <a:moveTo>
                    <a:pt x="2350" y="0"/>
                  </a:moveTo>
                  <a:lnTo>
                    <a:pt x="2450" y="0"/>
                  </a:lnTo>
                  <a:cubicBezTo>
                    <a:pt x="2459" y="0"/>
                    <a:pt x="2467" y="8"/>
                    <a:pt x="2467" y="17"/>
                  </a:cubicBezTo>
                  <a:cubicBezTo>
                    <a:pt x="2467" y="26"/>
                    <a:pt x="2459" y="33"/>
                    <a:pt x="2450" y="33"/>
                  </a:cubicBezTo>
                  <a:lnTo>
                    <a:pt x="2350" y="33"/>
                  </a:lnTo>
                  <a:cubicBezTo>
                    <a:pt x="2341" y="33"/>
                    <a:pt x="2333" y="26"/>
                    <a:pt x="2333" y="17"/>
                  </a:cubicBezTo>
                  <a:cubicBezTo>
                    <a:pt x="2333" y="8"/>
                    <a:pt x="2341" y="0"/>
                    <a:pt x="2350" y="0"/>
                  </a:cubicBezTo>
                  <a:close/>
                  <a:moveTo>
                    <a:pt x="2583" y="0"/>
                  </a:moveTo>
                  <a:lnTo>
                    <a:pt x="2683" y="0"/>
                  </a:lnTo>
                  <a:cubicBezTo>
                    <a:pt x="2693" y="0"/>
                    <a:pt x="2700" y="8"/>
                    <a:pt x="2700" y="17"/>
                  </a:cubicBezTo>
                  <a:cubicBezTo>
                    <a:pt x="2700" y="26"/>
                    <a:pt x="2693" y="33"/>
                    <a:pt x="2683" y="33"/>
                  </a:cubicBezTo>
                  <a:lnTo>
                    <a:pt x="2583" y="33"/>
                  </a:lnTo>
                  <a:cubicBezTo>
                    <a:pt x="2574" y="33"/>
                    <a:pt x="2567" y="26"/>
                    <a:pt x="2567" y="17"/>
                  </a:cubicBezTo>
                  <a:cubicBezTo>
                    <a:pt x="2567" y="8"/>
                    <a:pt x="2574" y="0"/>
                    <a:pt x="2583" y="0"/>
                  </a:cubicBezTo>
                  <a:close/>
                  <a:moveTo>
                    <a:pt x="2817" y="0"/>
                  </a:moveTo>
                  <a:lnTo>
                    <a:pt x="2917" y="0"/>
                  </a:lnTo>
                  <a:cubicBezTo>
                    <a:pt x="2926" y="0"/>
                    <a:pt x="2933" y="8"/>
                    <a:pt x="2933" y="17"/>
                  </a:cubicBezTo>
                  <a:cubicBezTo>
                    <a:pt x="2933" y="26"/>
                    <a:pt x="2926" y="33"/>
                    <a:pt x="2917" y="33"/>
                  </a:cubicBezTo>
                  <a:lnTo>
                    <a:pt x="2817" y="33"/>
                  </a:lnTo>
                  <a:cubicBezTo>
                    <a:pt x="2808" y="33"/>
                    <a:pt x="2800" y="26"/>
                    <a:pt x="2800" y="17"/>
                  </a:cubicBezTo>
                  <a:cubicBezTo>
                    <a:pt x="2800" y="8"/>
                    <a:pt x="2808" y="0"/>
                    <a:pt x="2817" y="0"/>
                  </a:cubicBezTo>
                  <a:close/>
                  <a:moveTo>
                    <a:pt x="3050" y="0"/>
                  </a:moveTo>
                  <a:lnTo>
                    <a:pt x="3150" y="0"/>
                  </a:lnTo>
                  <a:cubicBezTo>
                    <a:pt x="3159" y="0"/>
                    <a:pt x="3167" y="8"/>
                    <a:pt x="3167" y="17"/>
                  </a:cubicBezTo>
                  <a:cubicBezTo>
                    <a:pt x="3167" y="26"/>
                    <a:pt x="3159" y="33"/>
                    <a:pt x="3150" y="33"/>
                  </a:cubicBezTo>
                  <a:lnTo>
                    <a:pt x="3050" y="33"/>
                  </a:lnTo>
                  <a:cubicBezTo>
                    <a:pt x="3041" y="33"/>
                    <a:pt x="3033" y="26"/>
                    <a:pt x="3033" y="17"/>
                  </a:cubicBezTo>
                  <a:cubicBezTo>
                    <a:pt x="3033" y="8"/>
                    <a:pt x="3041" y="0"/>
                    <a:pt x="3050" y="0"/>
                  </a:cubicBezTo>
                  <a:close/>
                  <a:moveTo>
                    <a:pt x="3283" y="0"/>
                  </a:moveTo>
                  <a:lnTo>
                    <a:pt x="3383" y="0"/>
                  </a:lnTo>
                  <a:cubicBezTo>
                    <a:pt x="3393" y="0"/>
                    <a:pt x="3400" y="8"/>
                    <a:pt x="3400" y="17"/>
                  </a:cubicBezTo>
                  <a:cubicBezTo>
                    <a:pt x="3400" y="26"/>
                    <a:pt x="3393" y="33"/>
                    <a:pt x="3383" y="33"/>
                  </a:cubicBezTo>
                  <a:lnTo>
                    <a:pt x="3283" y="33"/>
                  </a:lnTo>
                  <a:cubicBezTo>
                    <a:pt x="3274" y="33"/>
                    <a:pt x="3267" y="26"/>
                    <a:pt x="3267" y="17"/>
                  </a:cubicBezTo>
                  <a:cubicBezTo>
                    <a:pt x="3267" y="8"/>
                    <a:pt x="3274" y="0"/>
                    <a:pt x="3283" y="0"/>
                  </a:cubicBezTo>
                  <a:close/>
                  <a:moveTo>
                    <a:pt x="3517" y="0"/>
                  </a:moveTo>
                  <a:lnTo>
                    <a:pt x="3617" y="0"/>
                  </a:lnTo>
                  <a:cubicBezTo>
                    <a:pt x="3626" y="0"/>
                    <a:pt x="3633" y="8"/>
                    <a:pt x="3633" y="17"/>
                  </a:cubicBezTo>
                  <a:cubicBezTo>
                    <a:pt x="3633" y="26"/>
                    <a:pt x="3626" y="33"/>
                    <a:pt x="3617" y="33"/>
                  </a:cubicBezTo>
                  <a:lnTo>
                    <a:pt x="3517" y="33"/>
                  </a:lnTo>
                  <a:cubicBezTo>
                    <a:pt x="3508" y="33"/>
                    <a:pt x="3500" y="26"/>
                    <a:pt x="3500" y="17"/>
                  </a:cubicBezTo>
                  <a:cubicBezTo>
                    <a:pt x="3500" y="8"/>
                    <a:pt x="3508" y="0"/>
                    <a:pt x="3517" y="0"/>
                  </a:cubicBezTo>
                  <a:close/>
                  <a:moveTo>
                    <a:pt x="3750" y="0"/>
                  </a:moveTo>
                  <a:lnTo>
                    <a:pt x="3850" y="0"/>
                  </a:lnTo>
                  <a:cubicBezTo>
                    <a:pt x="3859" y="0"/>
                    <a:pt x="3867" y="8"/>
                    <a:pt x="3867" y="17"/>
                  </a:cubicBezTo>
                  <a:cubicBezTo>
                    <a:pt x="3867" y="26"/>
                    <a:pt x="3859" y="33"/>
                    <a:pt x="3850" y="33"/>
                  </a:cubicBezTo>
                  <a:lnTo>
                    <a:pt x="3750" y="33"/>
                  </a:lnTo>
                  <a:cubicBezTo>
                    <a:pt x="3741" y="33"/>
                    <a:pt x="3733" y="26"/>
                    <a:pt x="3733" y="17"/>
                  </a:cubicBezTo>
                  <a:cubicBezTo>
                    <a:pt x="3733" y="8"/>
                    <a:pt x="3741" y="0"/>
                    <a:pt x="3750" y="0"/>
                  </a:cubicBezTo>
                  <a:close/>
                  <a:moveTo>
                    <a:pt x="3983" y="0"/>
                  </a:moveTo>
                  <a:lnTo>
                    <a:pt x="4083" y="0"/>
                  </a:lnTo>
                  <a:cubicBezTo>
                    <a:pt x="4093" y="0"/>
                    <a:pt x="4100" y="8"/>
                    <a:pt x="4100" y="17"/>
                  </a:cubicBezTo>
                  <a:cubicBezTo>
                    <a:pt x="4100" y="26"/>
                    <a:pt x="4093" y="33"/>
                    <a:pt x="4083" y="33"/>
                  </a:cubicBezTo>
                  <a:lnTo>
                    <a:pt x="3983" y="33"/>
                  </a:lnTo>
                  <a:cubicBezTo>
                    <a:pt x="3974" y="33"/>
                    <a:pt x="3967" y="26"/>
                    <a:pt x="3967" y="17"/>
                  </a:cubicBezTo>
                  <a:cubicBezTo>
                    <a:pt x="3967" y="8"/>
                    <a:pt x="3974" y="0"/>
                    <a:pt x="3983" y="0"/>
                  </a:cubicBezTo>
                  <a:close/>
                  <a:moveTo>
                    <a:pt x="4217" y="0"/>
                  </a:moveTo>
                  <a:lnTo>
                    <a:pt x="4317" y="0"/>
                  </a:lnTo>
                  <a:cubicBezTo>
                    <a:pt x="4326" y="0"/>
                    <a:pt x="4333" y="8"/>
                    <a:pt x="4333" y="17"/>
                  </a:cubicBezTo>
                  <a:cubicBezTo>
                    <a:pt x="4333" y="26"/>
                    <a:pt x="4326" y="33"/>
                    <a:pt x="4317" y="33"/>
                  </a:cubicBezTo>
                  <a:lnTo>
                    <a:pt x="4217" y="33"/>
                  </a:lnTo>
                  <a:cubicBezTo>
                    <a:pt x="4208" y="33"/>
                    <a:pt x="4200" y="26"/>
                    <a:pt x="4200" y="17"/>
                  </a:cubicBezTo>
                  <a:cubicBezTo>
                    <a:pt x="4200" y="8"/>
                    <a:pt x="4208" y="0"/>
                    <a:pt x="4217" y="0"/>
                  </a:cubicBezTo>
                  <a:close/>
                  <a:moveTo>
                    <a:pt x="4450" y="0"/>
                  </a:moveTo>
                  <a:lnTo>
                    <a:pt x="4550" y="0"/>
                  </a:lnTo>
                  <a:cubicBezTo>
                    <a:pt x="4559" y="0"/>
                    <a:pt x="4567" y="8"/>
                    <a:pt x="4567" y="17"/>
                  </a:cubicBezTo>
                  <a:cubicBezTo>
                    <a:pt x="4567" y="26"/>
                    <a:pt x="4559" y="33"/>
                    <a:pt x="4550" y="33"/>
                  </a:cubicBezTo>
                  <a:lnTo>
                    <a:pt x="4450" y="33"/>
                  </a:lnTo>
                  <a:cubicBezTo>
                    <a:pt x="4441" y="33"/>
                    <a:pt x="4433" y="26"/>
                    <a:pt x="4433" y="17"/>
                  </a:cubicBezTo>
                  <a:cubicBezTo>
                    <a:pt x="4433" y="8"/>
                    <a:pt x="4441" y="0"/>
                    <a:pt x="4450" y="0"/>
                  </a:cubicBezTo>
                  <a:close/>
                  <a:moveTo>
                    <a:pt x="4683" y="0"/>
                  </a:moveTo>
                  <a:lnTo>
                    <a:pt x="4783" y="0"/>
                  </a:lnTo>
                  <a:cubicBezTo>
                    <a:pt x="4793" y="0"/>
                    <a:pt x="4800" y="8"/>
                    <a:pt x="4800" y="17"/>
                  </a:cubicBezTo>
                  <a:cubicBezTo>
                    <a:pt x="4800" y="26"/>
                    <a:pt x="4793" y="33"/>
                    <a:pt x="4783" y="33"/>
                  </a:cubicBezTo>
                  <a:lnTo>
                    <a:pt x="4683" y="33"/>
                  </a:lnTo>
                  <a:cubicBezTo>
                    <a:pt x="4674" y="33"/>
                    <a:pt x="4667" y="26"/>
                    <a:pt x="4667" y="17"/>
                  </a:cubicBezTo>
                  <a:cubicBezTo>
                    <a:pt x="4667" y="8"/>
                    <a:pt x="4674" y="0"/>
                    <a:pt x="4683" y="0"/>
                  </a:cubicBezTo>
                  <a:close/>
                  <a:moveTo>
                    <a:pt x="4917" y="0"/>
                  </a:moveTo>
                  <a:lnTo>
                    <a:pt x="5017" y="0"/>
                  </a:lnTo>
                  <a:cubicBezTo>
                    <a:pt x="5026" y="0"/>
                    <a:pt x="5033" y="8"/>
                    <a:pt x="5033" y="17"/>
                  </a:cubicBezTo>
                  <a:cubicBezTo>
                    <a:pt x="5033" y="26"/>
                    <a:pt x="5026" y="33"/>
                    <a:pt x="5017" y="33"/>
                  </a:cubicBezTo>
                  <a:lnTo>
                    <a:pt x="4917" y="33"/>
                  </a:lnTo>
                  <a:cubicBezTo>
                    <a:pt x="4908" y="33"/>
                    <a:pt x="4900" y="26"/>
                    <a:pt x="4900" y="17"/>
                  </a:cubicBezTo>
                  <a:cubicBezTo>
                    <a:pt x="4900" y="8"/>
                    <a:pt x="4908" y="0"/>
                    <a:pt x="4917" y="0"/>
                  </a:cubicBezTo>
                  <a:close/>
                  <a:moveTo>
                    <a:pt x="5150" y="0"/>
                  </a:moveTo>
                  <a:lnTo>
                    <a:pt x="5250" y="0"/>
                  </a:lnTo>
                  <a:cubicBezTo>
                    <a:pt x="5259" y="0"/>
                    <a:pt x="5267" y="8"/>
                    <a:pt x="5267" y="17"/>
                  </a:cubicBezTo>
                  <a:cubicBezTo>
                    <a:pt x="5267" y="26"/>
                    <a:pt x="5259" y="33"/>
                    <a:pt x="5250" y="33"/>
                  </a:cubicBezTo>
                  <a:lnTo>
                    <a:pt x="5150" y="33"/>
                  </a:lnTo>
                  <a:cubicBezTo>
                    <a:pt x="5141" y="33"/>
                    <a:pt x="5133" y="26"/>
                    <a:pt x="5133" y="17"/>
                  </a:cubicBezTo>
                  <a:cubicBezTo>
                    <a:pt x="5133" y="8"/>
                    <a:pt x="5141" y="0"/>
                    <a:pt x="5150" y="0"/>
                  </a:cubicBezTo>
                  <a:close/>
                  <a:moveTo>
                    <a:pt x="5383" y="0"/>
                  </a:moveTo>
                  <a:lnTo>
                    <a:pt x="5483" y="0"/>
                  </a:lnTo>
                  <a:cubicBezTo>
                    <a:pt x="5493" y="0"/>
                    <a:pt x="5500" y="8"/>
                    <a:pt x="5500" y="17"/>
                  </a:cubicBezTo>
                  <a:cubicBezTo>
                    <a:pt x="5500" y="26"/>
                    <a:pt x="5493" y="33"/>
                    <a:pt x="5483" y="33"/>
                  </a:cubicBezTo>
                  <a:lnTo>
                    <a:pt x="5383" y="33"/>
                  </a:lnTo>
                  <a:cubicBezTo>
                    <a:pt x="5374" y="33"/>
                    <a:pt x="5367" y="26"/>
                    <a:pt x="5367" y="17"/>
                  </a:cubicBezTo>
                  <a:cubicBezTo>
                    <a:pt x="5367" y="8"/>
                    <a:pt x="5374" y="0"/>
                    <a:pt x="5383" y="0"/>
                  </a:cubicBezTo>
                  <a:close/>
                  <a:moveTo>
                    <a:pt x="5617" y="0"/>
                  </a:moveTo>
                  <a:lnTo>
                    <a:pt x="5717" y="0"/>
                  </a:lnTo>
                  <a:cubicBezTo>
                    <a:pt x="5726" y="0"/>
                    <a:pt x="5733" y="8"/>
                    <a:pt x="5733" y="17"/>
                  </a:cubicBezTo>
                  <a:cubicBezTo>
                    <a:pt x="5733" y="26"/>
                    <a:pt x="5726" y="33"/>
                    <a:pt x="5717" y="33"/>
                  </a:cubicBezTo>
                  <a:lnTo>
                    <a:pt x="5617" y="33"/>
                  </a:lnTo>
                  <a:cubicBezTo>
                    <a:pt x="5608" y="33"/>
                    <a:pt x="5600" y="26"/>
                    <a:pt x="5600" y="17"/>
                  </a:cubicBezTo>
                  <a:cubicBezTo>
                    <a:pt x="5600" y="8"/>
                    <a:pt x="5608" y="0"/>
                    <a:pt x="5617" y="0"/>
                  </a:cubicBezTo>
                  <a:close/>
                  <a:moveTo>
                    <a:pt x="5850" y="0"/>
                  </a:moveTo>
                  <a:lnTo>
                    <a:pt x="5950" y="0"/>
                  </a:lnTo>
                  <a:cubicBezTo>
                    <a:pt x="5959" y="0"/>
                    <a:pt x="5967" y="8"/>
                    <a:pt x="5967" y="17"/>
                  </a:cubicBezTo>
                  <a:cubicBezTo>
                    <a:pt x="5967" y="26"/>
                    <a:pt x="5959" y="33"/>
                    <a:pt x="5950" y="33"/>
                  </a:cubicBezTo>
                  <a:lnTo>
                    <a:pt x="5850" y="33"/>
                  </a:lnTo>
                  <a:cubicBezTo>
                    <a:pt x="5841" y="33"/>
                    <a:pt x="5833" y="26"/>
                    <a:pt x="5833" y="17"/>
                  </a:cubicBezTo>
                  <a:cubicBezTo>
                    <a:pt x="5833" y="8"/>
                    <a:pt x="5841" y="0"/>
                    <a:pt x="5850" y="0"/>
                  </a:cubicBezTo>
                  <a:close/>
                  <a:moveTo>
                    <a:pt x="6083" y="0"/>
                  </a:moveTo>
                  <a:lnTo>
                    <a:pt x="6183" y="0"/>
                  </a:lnTo>
                  <a:cubicBezTo>
                    <a:pt x="6193" y="0"/>
                    <a:pt x="6200" y="8"/>
                    <a:pt x="6200" y="17"/>
                  </a:cubicBezTo>
                  <a:cubicBezTo>
                    <a:pt x="6200" y="26"/>
                    <a:pt x="6193" y="33"/>
                    <a:pt x="6183" y="33"/>
                  </a:cubicBezTo>
                  <a:lnTo>
                    <a:pt x="6083" y="33"/>
                  </a:lnTo>
                  <a:cubicBezTo>
                    <a:pt x="6074" y="33"/>
                    <a:pt x="6067" y="26"/>
                    <a:pt x="6067" y="17"/>
                  </a:cubicBezTo>
                  <a:cubicBezTo>
                    <a:pt x="6067" y="8"/>
                    <a:pt x="6074" y="0"/>
                    <a:pt x="6083" y="0"/>
                  </a:cubicBezTo>
                  <a:close/>
                  <a:moveTo>
                    <a:pt x="6317" y="0"/>
                  </a:moveTo>
                  <a:lnTo>
                    <a:pt x="6417" y="0"/>
                  </a:lnTo>
                  <a:cubicBezTo>
                    <a:pt x="6426" y="0"/>
                    <a:pt x="6433" y="8"/>
                    <a:pt x="6433" y="17"/>
                  </a:cubicBezTo>
                  <a:cubicBezTo>
                    <a:pt x="6433" y="26"/>
                    <a:pt x="6426" y="33"/>
                    <a:pt x="6417" y="33"/>
                  </a:cubicBezTo>
                  <a:lnTo>
                    <a:pt x="6317" y="33"/>
                  </a:lnTo>
                  <a:cubicBezTo>
                    <a:pt x="6308" y="33"/>
                    <a:pt x="6300" y="26"/>
                    <a:pt x="6300" y="17"/>
                  </a:cubicBezTo>
                  <a:cubicBezTo>
                    <a:pt x="6300" y="8"/>
                    <a:pt x="6308" y="0"/>
                    <a:pt x="6317" y="0"/>
                  </a:cubicBezTo>
                  <a:close/>
                  <a:moveTo>
                    <a:pt x="6550" y="0"/>
                  </a:moveTo>
                  <a:lnTo>
                    <a:pt x="6650" y="0"/>
                  </a:lnTo>
                  <a:cubicBezTo>
                    <a:pt x="6659" y="0"/>
                    <a:pt x="6667" y="8"/>
                    <a:pt x="6667" y="17"/>
                  </a:cubicBezTo>
                  <a:cubicBezTo>
                    <a:pt x="6667" y="26"/>
                    <a:pt x="6659" y="33"/>
                    <a:pt x="6650" y="33"/>
                  </a:cubicBezTo>
                  <a:lnTo>
                    <a:pt x="6550" y="33"/>
                  </a:lnTo>
                  <a:cubicBezTo>
                    <a:pt x="6541" y="33"/>
                    <a:pt x="6533" y="26"/>
                    <a:pt x="6533" y="17"/>
                  </a:cubicBezTo>
                  <a:cubicBezTo>
                    <a:pt x="6533" y="8"/>
                    <a:pt x="6541" y="0"/>
                    <a:pt x="6550" y="0"/>
                  </a:cubicBezTo>
                  <a:close/>
                  <a:moveTo>
                    <a:pt x="6783" y="0"/>
                  </a:moveTo>
                  <a:lnTo>
                    <a:pt x="6883" y="0"/>
                  </a:lnTo>
                  <a:cubicBezTo>
                    <a:pt x="6893" y="0"/>
                    <a:pt x="6900" y="8"/>
                    <a:pt x="6900" y="17"/>
                  </a:cubicBezTo>
                  <a:cubicBezTo>
                    <a:pt x="6900" y="26"/>
                    <a:pt x="6893" y="33"/>
                    <a:pt x="6883" y="33"/>
                  </a:cubicBezTo>
                  <a:lnTo>
                    <a:pt x="6783" y="33"/>
                  </a:lnTo>
                  <a:cubicBezTo>
                    <a:pt x="6774" y="33"/>
                    <a:pt x="6767" y="26"/>
                    <a:pt x="6767" y="17"/>
                  </a:cubicBezTo>
                  <a:cubicBezTo>
                    <a:pt x="6767" y="8"/>
                    <a:pt x="6774" y="0"/>
                    <a:pt x="6783" y="0"/>
                  </a:cubicBezTo>
                  <a:close/>
                  <a:moveTo>
                    <a:pt x="7017" y="0"/>
                  </a:moveTo>
                  <a:lnTo>
                    <a:pt x="7117" y="0"/>
                  </a:lnTo>
                  <a:cubicBezTo>
                    <a:pt x="7126" y="0"/>
                    <a:pt x="7133" y="8"/>
                    <a:pt x="7133" y="17"/>
                  </a:cubicBezTo>
                  <a:cubicBezTo>
                    <a:pt x="7133" y="26"/>
                    <a:pt x="7126" y="33"/>
                    <a:pt x="7117" y="33"/>
                  </a:cubicBezTo>
                  <a:lnTo>
                    <a:pt x="7017" y="33"/>
                  </a:lnTo>
                  <a:cubicBezTo>
                    <a:pt x="7008" y="33"/>
                    <a:pt x="7000" y="26"/>
                    <a:pt x="7000" y="17"/>
                  </a:cubicBezTo>
                  <a:cubicBezTo>
                    <a:pt x="7000" y="8"/>
                    <a:pt x="7008" y="0"/>
                    <a:pt x="7017" y="0"/>
                  </a:cubicBezTo>
                  <a:close/>
                  <a:moveTo>
                    <a:pt x="7250" y="0"/>
                  </a:moveTo>
                  <a:lnTo>
                    <a:pt x="7350" y="0"/>
                  </a:lnTo>
                  <a:cubicBezTo>
                    <a:pt x="7359" y="0"/>
                    <a:pt x="7367" y="8"/>
                    <a:pt x="7367" y="17"/>
                  </a:cubicBezTo>
                  <a:cubicBezTo>
                    <a:pt x="7367" y="26"/>
                    <a:pt x="7359" y="33"/>
                    <a:pt x="7350" y="33"/>
                  </a:cubicBezTo>
                  <a:lnTo>
                    <a:pt x="7250" y="33"/>
                  </a:lnTo>
                  <a:cubicBezTo>
                    <a:pt x="7241" y="33"/>
                    <a:pt x="7233" y="26"/>
                    <a:pt x="7233" y="17"/>
                  </a:cubicBezTo>
                  <a:cubicBezTo>
                    <a:pt x="7233" y="8"/>
                    <a:pt x="7241" y="0"/>
                    <a:pt x="7250" y="0"/>
                  </a:cubicBezTo>
                  <a:close/>
                  <a:moveTo>
                    <a:pt x="7483" y="0"/>
                  </a:moveTo>
                  <a:lnTo>
                    <a:pt x="7497" y="0"/>
                  </a:lnTo>
                  <a:cubicBezTo>
                    <a:pt x="7506" y="0"/>
                    <a:pt x="7513" y="8"/>
                    <a:pt x="7513" y="17"/>
                  </a:cubicBezTo>
                  <a:cubicBezTo>
                    <a:pt x="7513" y="26"/>
                    <a:pt x="7506" y="33"/>
                    <a:pt x="7497" y="33"/>
                  </a:cubicBezTo>
                  <a:lnTo>
                    <a:pt x="7483" y="33"/>
                  </a:lnTo>
                  <a:cubicBezTo>
                    <a:pt x="7474" y="33"/>
                    <a:pt x="7467" y="26"/>
                    <a:pt x="7467" y="17"/>
                  </a:cubicBezTo>
                  <a:cubicBezTo>
                    <a:pt x="7467" y="8"/>
                    <a:pt x="7474" y="0"/>
                    <a:pt x="7483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6743880" y="2957400"/>
              <a:ext cx="167760" cy="161640"/>
              <a:chOff x="6743880" y="2957400"/>
              <a:chExt cx="167760" cy="161640"/>
            </a:xfrm>
          </p:grpSpPr>
          <p:sp>
            <p:nvSpPr>
              <p:cNvPr id="608" name=""/>
              <p:cNvSpPr/>
              <p:nvPr/>
            </p:nvSpPr>
            <p:spPr>
              <a:xfrm>
                <a:off x="6743880" y="2957400"/>
                <a:ext cx="167760" cy="161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743880" y="2957400"/>
                <a:ext cx="167760" cy="161640"/>
              </a:xfrm>
              <a:prstGeom prst="ellipse">
                <a:avLst/>
              </a:prstGeom>
              <a:solidFill>
                <a:srgbClr val="ff00ff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"/>
          <p:cNvSpPr/>
          <p:nvPr/>
        </p:nvSpPr>
        <p:spPr>
          <a:xfrm>
            <a:off x="1619280" y="4797360"/>
            <a:ext cx="65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проб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 — после обработки первым элюент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— после обработки вторым элюент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549360"/>
            <a:ext cx="6732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Адсорбционная хроматограф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метод, основанный на многократном перераспределении молекул определяемого компонента (сорбата)  между подвижной фазой (элюентом) и поверхностью твердого сорбента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вследствие адсорбции  и десорбции этих молекул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Если  адсорбционные свойства  компонентов смеси различны, то  при движении элюента через сорбент  компоненты  разделяют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тод предложен  М.С.Цветом (19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66000"/>
          </a:blip>
          <a:srcRect l="0" t="0" r="0" b="21598"/>
          <a:stretch/>
        </p:blipFill>
        <p:spPr>
          <a:xfrm>
            <a:off x="7270920" y="0"/>
            <a:ext cx="1873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006200" y="0"/>
            <a:ext cx="74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Измерение сигнала в методе ТСХ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33000" y="907920"/>
            <a:ext cx="90244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изуально -  по величине и интенсивности пятен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ектроскопия диффузного отраж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ометрические мет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кстрагируют компонент из пятна  и измеряю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аналитический сигнал в полученном экстра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фотометрия, флуориметрия, кинетические методы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79640" y="4149720"/>
            <a:ext cx="33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979640" y="278100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979640" y="3141720"/>
            <a:ext cx="2087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59280" y="26845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35640" y="4149720"/>
            <a:ext cx="792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433480" y="270828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я Кубелки-Му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187280" y="27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CAMAG Automatic TLC Sampler 4 - ATS 4"/>
          <p:cNvPicPr/>
          <p:nvPr/>
        </p:nvPicPr>
        <p:blipFill>
          <a:blip r:embed="rId1"/>
          <a:stretch/>
        </p:blipFill>
        <p:spPr>
          <a:xfrm>
            <a:off x="1547640" y="1125360"/>
            <a:ext cx="5977080" cy="53769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990520" y="0"/>
            <a:ext cx="33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рибор для ТС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2099880" y="333360"/>
            <a:ext cx="55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собенности метода ТС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-85680" y="981000"/>
            <a:ext cx="9236160" cy="2426040"/>
            <a:chOff x="-85680" y="981000"/>
            <a:chExt cx="9236160" cy="2426040"/>
          </a:xfrm>
        </p:grpSpPr>
        <p:sp>
          <p:nvSpPr>
            <p:cNvPr id="624" name=""/>
            <p:cNvSpPr/>
            <p:nvPr/>
          </p:nvSpPr>
          <p:spPr>
            <a:xfrm>
              <a:off x="-85680" y="1484280"/>
              <a:ext cx="9236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8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Простота и дешевизна оборудовани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Возможность внелабораторного применения (тест-метод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Нередко - низкие пределы обнаружени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Возможность разделения веществ с сильно различны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свойствам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2080" y="9810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Достоин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50120" y="3716280"/>
            <a:ext cx="9231480" cy="2356200"/>
            <a:chOff x="150120" y="3716280"/>
            <a:chExt cx="9231480" cy="2356200"/>
          </a:xfrm>
        </p:grpSpPr>
        <p:sp>
          <p:nvSpPr>
            <p:cNvPr id="627" name=""/>
            <p:cNvSpPr/>
            <p:nvPr/>
          </p:nvSpPr>
          <p:spPr>
            <a:xfrm>
              <a:off x="414720" y="3716280"/>
              <a:ext cx="190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Недоста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0120" y="4149720"/>
              <a:ext cx="9231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4960" indent="-26496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лохая сходимость и  очень плохая межлаборатор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оспроизводимость результатов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возможность разделения веществ с близкими свойств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изкая эффективность (размывание пятен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539640" y="260280"/>
            <a:ext cx="820908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сокоэффективная жидкостная  хроматография  (ВЭЖХ, ЖХВД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PLC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етод ВЭЖХ разработан в 1960-х гг.  Ш.Хорватом (США) и, независимо от него,  Г.Киркландом (Англ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пользуется для качественного и количественного  анализа смесей органических веществ в следующих област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химическая технология и нефтехим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производство лекарственных препарат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биохимические исследования и клинический анализ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криминалистическая экспертиз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контроль качества пищевых продуктов, лекарств и д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мониторинг состояния окружающей ср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494064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1а  и 1б -  резервуары для разных элюентов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2 - смеситель для градиентного элюир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 - кран-дозато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4 – микроколонка с сорбентом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9280" y="476280"/>
            <a:ext cx="889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Принципиальная схема хроматографа для ВЭЖ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19440" y="2649600"/>
            <a:ext cx="625320" cy="41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57880" y="2374920"/>
            <a:ext cx="782640" cy="22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25760" y="3008160"/>
            <a:ext cx="781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32720" y="2924280"/>
            <a:ext cx="1152360" cy="43344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19440" y="1271520"/>
            <a:ext cx="623880" cy="41292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24160" y="1962000"/>
            <a:ext cx="468360" cy="41436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6280" y="1960560"/>
            <a:ext cx="109404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67040" y="1684440"/>
            <a:ext cx="155520" cy="276120"/>
          </a:xfrm>
          <a:prstGeom prst="upArrow">
            <a:avLst>
              <a:gd name="adj1" fmla="val 50000"/>
              <a:gd name="adj2" fmla="val 443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67040" y="2374920"/>
            <a:ext cx="155520" cy="274680"/>
          </a:xfrm>
          <a:prstGeom prst="downArrow">
            <a:avLst>
              <a:gd name="adj1" fmla="val 50000"/>
              <a:gd name="adj2" fmla="val 441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"/>
          <p:cNvCxnSpPr>
            <a:stCxn id="636" idx="3"/>
            <a:endCxn id="637" idx="1"/>
          </p:cNvCxnSpPr>
          <p:nvPr/>
        </p:nvCxnSpPr>
        <p:spPr>
          <a:xfrm>
            <a:off x="2408400" y="1477440"/>
            <a:ext cx="783360" cy="69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2" name=""/>
          <p:cNvCxnSpPr/>
          <p:nvPr/>
        </p:nvCxnSpPr>
        <p:spPr>
          <a:xfrm>
            <a:off x="3703680" y="2077560"/>
            <a:ext cx="822960" cy="1080"/>
          </a:xfrm>
          <a:prstGeom prst="straightConnector1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</p:cxnSp>
      <p:sp>
        <p:nvSpPr>
          <p:cNvPr id="643" name=""/>
          <p:cNvSpPr/>
          <p:nvPr/>
        </p:nvSpPr>
        <p:spPr>
          <a:xfrm>
            <a:off x="4473720" y="1960560"/>
            <a:ext cx="469800" cy="414360"/>
          </a:xfrm>
          <a:prstGeom prst="donu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1320" rIns="3132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 flipH="1" flipV="1">
            <a:off x="4715640" y="2420640"/>
            <a:ext cx="1080" cy="6372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3589200" y="1628640"/>
            <a:ext cx="911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элю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>
            <a:stCxn id="647" idx="2"/>
            <a:endCxn id="635" idx="1"/>
          </p:cNvCxnSpPr>
          <p:nvPr/>
        </p:nvCxnSpPr>
        <p:spPr>
          <a:xfrm flipH="1" flipV="1" rot="5400000">
            <a:off x="5708520" y="3165120"/>
            <a:ext cx="1026360" cy="978480"/>
          </a:xfrm>
          <a:prstGeom prst="curvedConnector5">
            <a:avLst>
              <a:gd name="adj1" fmla="val -22280"/>
              <a:gd name="adj2" fmla="val 27567"/>
              <a:gd name="adj3" fmla="val -22280"/>
            </a:avLst>
          </a:prstGeom>
          <a:ln w="9360">
            <a:solidFill>
              <a:srgbClr val="663300"/>
            </a:solidFill>
            <a:miter/>
            <a:tailEnd len="med" type="triangle" w="med"/>
          </a:ln>
        </p:spPr>
      </p:cxnSp>
      <p:sp>
        <p:nvSpPr>
          <p:cNvPr id="648" name=""/>
          <p:cNvSpPr/>
          <p:nvPr/>
        </p:nvSpPr>
        <p:spPr>
          <a:xfrm>
            <a:off x="6732720" y="4076640"/>
            <a:ext cx="62532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36" idx="3"/>
            <a:endCxn id="637" idx="1"/>
          </p:cNvCxnSpPr>
          <p:nvPr/>
        </p:nvCxnSpPr>
        <p:spPr>
          <a:xfrm>
            <a:off x="2442960" y="1477440"/>
            <a:ext cx="781560" cy="693000"/>
          </a:xfrm>
          <a:prstGeom prst="straightConnector1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37" idx="1"/>
            <a:endCxn id="637" idx="1"/>
          </p:cNvCxnSpPr>
          <p:nvPr/>
        </p:nvCxnSpPr>
        <p:spPr>
          <a:xfrm>
            <a:off x="3223800" y="2169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1" name=""/>
          <p:cNvSpPr/>
          <p:nvPr/>
        </p:nvSpPr>
        <p:spPr>
          <a:xfrm>
            <a:off x="6539040" y="1271520"/>
            <a:ext cx="1199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653080" y="2649600"/>
            <a:ext cx="157320" cy="151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"/>
          <p:cNvCxnSpPr>
            <a:stCxn id="643" idx="6"/>
            <a:endCxn id="647" idx="0"/>
          </p:cNvCxnSpPr>
          <p:nvPr/>
        </p:nvCxnSpPr>
        <p:spPr>
          <a:xfrm>
            <a:off x="4916520" y="2168640"/>
            <a:ext cx="859680" cy="481680"/>
          </a:xfrm>
          <a:prstGeom prst="curvedConnector2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5" idx="0"/>
            <a:endCxn id="651" idx="2"/>
          </p:cNvCxnSpPr>
          <p:nvPr/>
        </p:nvCxnSpPr>
        <p:spPr>
          <a:xfrm flipV="1" rot="16200000">
            <a:off x="6935040" y="2528280"/>
            <a:ext cx="577080" cy="170280"/>
          </a:xfrm>
          <a:prstGeom prst="curvedConnector5">
            <a:avLst>
              <a:gd name="adj1" fmla="val 47877"/>
              <a:gd name="adj2" fmla="val 50000"/>
              <a:gd name="adj3" fmla="val 47877"/>
            </a:avLst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</p:cxnSp>
      <p:cxnSp>
        <p:nvCxnSpPr>
          <p:cNvPr id="654" name=""/>
          <p:cNvCxnSpPr>
            <a:stCxn id="635" idx="3"/>
            <a:endCxn id="648" idx="0"/>
          </p:cNvCxnSpPr>
          <p:nvPr/>
        </p:nvCxnSpPr>
        <p:spPr>
          <a:xfrm flipH="1">
            <a:off x="7044480" y="3141360"/>
            <a:ext cx="862920" cy="935640"/>
          </a:xfrm>
          <a:prstGeom prst="curvedConnector5">
            <a:avLst>
              <a:gd name="adj1" fmla="val -23914"/>
              <a:gd name="adj2" fmla="val 30715"/>
              <a:gd name="adj3" fmla="val -23914"/>
            </a:avLst>
          </a:prstGeom>
          <a:ln w="9360">
            <a:solidFill>
              <a:srgbClr val="663300"/>
            </a:solidFill>
            <a:miter/>
            <a:tailEnd len="med" type="triangle" w="med"/>
          </a:ln>
        </p:spPr>
      </p:cxn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7380360" y="436572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борник фракций или сл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411280" y="2349360"/>
            <a:ext cx="792360" cy="503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971640" y="76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олонки для ВЭЖ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92360" y="1844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а колонки – до 25 см, внутренний диаметр – до 5 мм, внешний – 1-2 см. Материал – сталь + стекло.  Некоторые колонки выдерживают давление до 1000 ат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708360" y="3645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ивка – модифицированный силикагель или оксид алюминия, сферические частицы диаметром  5 – 10 м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476360" y="1574640"/>
            <a:ext cx="1368000" cy="5283360"/>
            <a:chOff x="1476360" y="1574640"/>
            <a:chExt cx="1368000" cy="5283360"/>
          </a:xfrm>
        </p:grpSpPr>
        <p:graphicFrame>
          <p:nvGraphicFramePr>
            <p:cNvPr id="662" name=""/>
            <p:cNvGraphicFramePr/>
            <p:nvPr/>
          </p:nvGraphicFramePr>
          <p:xfrm>
            <a:off x="1763640" y="1574640"/>
            <a:ext cx="108072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1574640"/>
                      <a:ext cx="108072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4" name=""/>
            <p:cNvSpPr/>
            <p:nvPr/>
          </p:nvSpPr>
          <p:spPr>
            <a:xfrm>
              <a:off x="1476360" y="640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4920" y="11592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Основной тип матриц в ВЭЖХ – силикагель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716360" y="1268280"/>
            <a:ext cx="0" cy="5329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55640" y="836640"/>
            <a:ext cx="2952720" cy="1152360"/>
            <a:chOff x="755640" y="836640"/>
            <a:chExt cx="2952720" cy="1152360"/>
          </a:xfrm>
        </p:grpSpPr>
        <p:sp>
          <p:nvSpPr>
            <p:cNvPr id="668" name=""/>
            <p:cNvSpPr/>
            <p:nvPr/>
          </p:nvSpPr>
          <p:spPr>
            <a:xfrm>
              <a:off x="755640" y="1413000"/>
              <a:ext cx="576360" cy="5760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3132000" y="1413000"/>
              <a:ext cx="576360" cy="576000"/>
              <a:chOff x="3132000" y="1413000"/>
              <a:chExt cx="576360" cy="576000"/>
            </a:xfrm>
          </p:grpSpPr>
          <p:sp>
            <p:nvSpPr>
              <p:cNvPr id="670" name=""/>
              <p:cNvSpPr/>
              <p:nvPr/>
            </p:nvSpPr>
            <p:spPr>
              <a:xfrm>
                <a:off x="3132000" y="1413000"/>
                <a:ext cx="576360" cy="57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32000" y="1484280"/>
                <a:ext cx="531720" cy="468360"/>
              </a:xfrm>
              <a:custGeom>
                <a:avLst/>
                <a:gdLst/>
                <a:ahLst/>
                <a:rect l="l" t="t" r="r" b="b"/>
                <a:pathLst>
                  <a:path w="422" h="351">
                    <a:moveTo>
                      <a:pt x="201" y="29"/>
                    </a:moveTo>
                    <a:cubicBezTo>
                      <a:pt x="195" y="37"/>
                      <a:pt x="193" y="49"/>
                      <a:pt x="184" y="54"/>
                    </a:cubicBezTo>
                    <a:cubicBezTo>
                      <a:pt x="169" y="63"/>
                      <a:pt x="133" y="71"/>
                      <a:pt x="133" y="71"/>
                    </a:cubicBezTo>
                    <a:cubicBezTo>
                      <a:pt x="124" y="99"/>
                      <a:pt x="135" y="134"/>
                      <a:pt x="116" y="156"/>
                    </a:cubicBezTo>
                    <a:cubicBezTo>
                      <a:pt x="105" y="169"/>
                      <a:pt x="82" y="161"/>
                      <a:pt x="65" y="164"/>
                    </a:cubicBezTo>
                    <a:cubicBezTo>
                      <a:pt x="49" y="188"/>
                      <a:pt x="0" y="247"/>
                      <a:pt x="48" y="274"/>
                    </a:cubicBezTo>
                    <a:cubicBezTo>
                      <a:pt x="78" y="291"/>
                      <a:pt x="116" y="285"/>
                      <a:pt x="150" y="291"/>
                    </a:cubicBezTo>
                    <a:cubicBezTo>
                      <a:pt x="163" y="346"/>
                      <a:pt x="167" y="351"/>
                      <a:pt x="218" y="325"/>
                    </a:cubicBezTo>
                    <a:cubicBezTo>
                      <a:pt x="240" y="258"/>
                      <a:pt x="218" y="269"/>
                      <a:pt x="269" y="291"/>
                    </a:cubicBezTo>
                    <a:cubicBezTo>
                      <a:pt x="277" y="295"/>
                      <a:pt x="286" y="297"/>
                      <a:pt x="294" y="300"/>
                    </a:cubicBezTo>
                    <a:cubicBezTo>
                      <a:pt x="378" y="282"/>
                      <a:pt x="361" y="267"/>
                      <a:pt x="387" y="190"/>
                    </a:cubicBezTo>
                    <a:cubicBezTo>
                      <a:pt x="365" y="157"/>
                      <a:pt x="334" y="137"/>
                      <a:pt x="362" y="96"/>
                    </a:cubicBezTo>
                    <a:cubicBezTo>
                      <a:pt x="367" y="89"/>
                      <a:pt x="379" y="91"/>
                      <a:pt x="387" y="88"/>
                    </a:cubicBezTo>
                    <a:cubicBezTo>
                      <a:pt x="405" y="39"/>
                      <a:pt x="422" y="46"/>
                      <a:pt x="370" y="20"/>
                    </a:cubicBezTo>
                    <a:cubicBezTo>
                      <a:pt x="283" y="40"/>
                      <a:pt x="319" y="43"/>
                      <a:pt x="260" y="29"/>
                    </a:cubicBezTo>
                    <a:cubicBezTo>
                      <a:pt x="257" y="20"/>
                      <a:pt x="261" y="5"/>
                      <a:pt x="252" y="3"/>
                    </a:cubicBezTo>
                    <a:cubicBezTo>
                      <a:pt x="242" y="0"/>
                      <a:pt x="235" y="15"/>
                      <a:pt x="226" y="20"/>
                    </a:cubicBezTo>
                    <a:cubicBezTo>
                      <a:pt x="218" y="24"/>
                      <a:pt x="201" y="29"/>
                      <a:pt x="201" y="29"/>
                    </a:cubicBezTo>
                    <a:close/>
                  </a:path>
                </a:pathLst>
              </a:custGeom>
              <a:solidFill>
                <a:srgbClr val="bbe0e3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1187280" y="836640"/>
              <a:ext cx="203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Сферич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57120" y="2133720"/>
            <a:ext cx="3825720" cy="1375920"/>
            <a:chOff x="357120" y="2133720"/>
            <a:chExt cx="3825720" cy="1375920"/>
          </a:xfrm>
        </p:grpSpPr>
        <p:sp>
          <p:nvSpPr>
            <p:cNvPr id="674" name=""/>
            <p:cNvSpPr/>
            <p:nvPr/>
          </p:nvSpPr>
          <p:spPr>
            <a:xfrm>
              <a:off x="801360" y="2133720"/>
              <a:ext cx="30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Размер частиц, м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7120" y="2997000"/>
              <a:ext cx="144360" cy="14436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88920" y="2958840"/>
              <a:ext cx="216000" cy="21564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53840" y="2913120"/>
              <a:ext cx="358920" cy="3582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33600" y="2827080"/>
              <a:ext cx="576000" cy="5760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90840" y="2717640"/>
              <a:ext cx="792000" cy="7920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68360" y="4149720"/>
            <a:ext cx="4129200" cy="1296720"/>
            <a:chOff x="468360" y="4149720"/>
            <a:chExt cx="4129200" cy="1296720"/>
          </a:xfrm>
        </p:grpSpPr>
        <p:sp>
          <p:nvSpPr>
            <p:cNvPr id="681" name=""/>
            <p:cNvSpPr/>
            <p:nvPr/>
          </p:nvSpPr>
          <p:spPr>
            <a:xfrm>
              <a:off x="1382760" y="4149720"/>
              <a:ext cx="25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Размер пор, 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360" y="4713120"/>
              <a:ext cx="719280" cy="720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98760" y="4725720"/>
              <a:ext cx="719280" cy="720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30600" y="4725720"/>
              <a:ext cx="719280" cy="720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48400" y="4725720"/>
              <a:ext cx="718920" cy="720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59120" y="4797360"/>
              <a:ext cx="144360" cy="144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5840" y="4797360"/>
              <a:ext cx="216000" cy="21600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6760" y="4868640"/>
              <a:ext cx="7308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22400" y="5013360"/>
              <a:ext cx="73080" cy="7128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79840" y="5086080"/>
              <a:ext cx="7272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63840" y="5013360"/>
              <a:ext cx="73080" cy="7128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5120" y="5229000"/>
              <a:ext cx="7308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51120" y="5229000"/>
              <a:ext cx="7308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0760" y="4868640"/>
              <a:ext cx="7308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0760" y="5157720"/>
              <a:ext cx="73080" cy="7128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71840" y="4868640"/>
              <a:ext cx="144360" cy="1447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03480" y="5013360"/>
              <a:ext cx="144720" cy="144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87840" y="5048280"/>
              <a:ext cx="144360" cy="144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43120" y="5229000"/>
              <a:ext cx="144720" cy="1447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183120" y="4941720"/>
              <a:ext cx="216000" cy="21600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22760" y="5086080"/>
              <a:ext cx="216000" cy="21600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86280" y="5170320"/>
              <a:ext cx="216000" cy="21600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37200" y="4868640"/>
              <a:ext cx="360360" cy="360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61000" y="4975200"/>
              <a:ext cx="360360" cy="360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5878440" y="7650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Досто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886720" y="43657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03920" y="1182600"/>
            <a:ext cx="409716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Отработанная технология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синте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Доступность и относительно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низкая ц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Большой диапазон свой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еханическая проч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72320" y="4797360"/>
            <a:ext cx="387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Химическая активность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H-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рупп на поверх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табильность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2-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Адсорбированная 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1835280" y="549360"/>
          <a:ext cx="561636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49360"/>
                    <a:ext cx="56163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755640" y="5157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наиболее распространенных  и современных жидкостных хроматограф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mad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471840" cy="61736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713" name=""/>
          <p:cNvSpPr/>
          <p:nvPr/>
        </p:nvSpPr>
        <p:spPr>
          <a:xfrm>
            <a:off x="4859280" y="1484280"/>
            <a:ext cx="35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чный жидкостной хроматограф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ilent 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580480" y="33336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Детекторы для ВЭЖ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324000" y="1197000"/>
          <a:ext cx="8568720" cy="5168880"/>
        </p:xfrm>
        <a:graphic>
          <a:graphicData uri="http://schemas.openxmlformats.org/drawingml/2006/table">
            <a:tbl>
              <a:tblPr/>
              <a:tblGrid>
                <a:gridCol w="2765520"/>
                <a:gridCol w="2130840"/>
                <a:gridCol w="1836360"/>
                <a:gridCol w="1836000"/>
              </a:tblGrid>
              <a:tr h="10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ип дет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едел обнаружения, г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пазон линейности сиг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електив-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уори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укто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ктрофото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-спектро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ракто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345400" y="9810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ребования к адсорб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844640"/>
            <a:ext cx="867564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шкообразное состоя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азмер частиц до 1 м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одисперсность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например, фракция 10-15 мк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ая удельная поверхно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свыше 50 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аническая прочность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имическая инерт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мостой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ичие  активных центров  на 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86425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Хроматограмма апельсинового с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468360" y="981000"/>
          <a:ext cx="83059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83059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>
            <a:off x="1187280" y="6093000"/>
            <a:ext cx="6337440" cy="4597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 веществ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lt; 30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нут  /  100 а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69920" y="1584360"/>
            <a:ext cx="4978440" cy="41734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971640" y="260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Хроматография при ультравысоких давл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435640" y="1484280"/>
            <a:ext cx="37083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онка: 43 см х 30 м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рбент:   1 м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: 7100 а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симальная эффективность: 625000 теор.тарелок / 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 установ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 тон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50920" y="260280"/>
            <a:ext cx="8611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акторы, улучшающие разрешение пиков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в методе ВЭЖ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69080" y="1413000"/>
            <a:ext cx="76244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 выбор неподвижной ф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ость сорбента, его сфер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ость набивки коло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длины коло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внутреннего  диаметра коло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 выбор подвижной ф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градиентного элюир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альная скорость потока элю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объема пробы и массы компон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017960" y="278136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0" y="1638360"/>
            <a:ext cx="1643040" cy="4095720"/>
            <a:chOff x="0" y="1638360"/>
            <a:chExt cx="1643040" cy="4095720"/>
          </a:xfrm>
        </p:grpSpPr>
        <p:sp>
          <p:nvSpPr>
            <p:cNvPr id="727" name=""/>
            <p:cNvSpPr/>
            <p:nvPr/>
          </p:nvSpPr>
          <p:spPr>
            <a:xfrm>
              <a:off x="728640" y="481968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2560" y="209556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5360" y="277812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3836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440" y="413388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2560" y="346392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946680" y="414972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0760" y="602136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движная фаз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деления стереоизом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-118440" y="189000"/>
            <a:ext cx="930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Хиральная хромат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(Разделение стереоизомеров в методе ВЭЖ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046 C -0.11719 0.0044 -0.09514 0.00463 -0.2724 0.00046 C -0.29358 7.40741000000017E-007 -0.33594 -0.0037 -0.33594 -0.00347 C -0.22101 0.02639 -0.33073 -0.00162 -0.00104 0.00046 Z">
                                      <p:cBhvr>
                                        <p:cTn id="338" dur="3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55 -0.0037 L -0.32014 -0.0037 E">
                                      <p:cBhvr>
                                        <p:cTn id="340" dur="3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014 -0.0037 C -0.30868 -0.00231 -0.29705 -0.00277 -0.28576 0.00047 C -0.27413 0.00371 -0.26441 0.025 -0.25451 0.0338 C -0.25243 0.03797 -0.2507 0.04236 -0.24826 0.0463 C -0.24549 0.05093 -0.2408 0.05348 -0.23889 0.0588 C -0.23455 0.07061 -0.22951 0.0963 -0.22951 0.0963 C -0.23056 0.10602 -0.22969 0.11644 -0.23264 0.12547 C -0.23403 0.1294 -0.25347 0.14121 -0.25451 0.14213 C -0.27969 0.16227 -0.30156 0.18797 -0.32951 0.20047 C -0.27118 0.22639 -0.20851 0.22616 -0.14826 0.24213 C -0.13993 0.24769 -0.13108 0.25186 -0.12326 0.2588 C -0.1158 0.26551 -0.10938 0.27431 -0.10139 0.27963 C -0.09549 0.28357 -0.08889 0.28519 -0.08264 0.28797 C -0.07639 0.2963 -0.07118 0.30649 -0.06389 0.31297 C -0.05833 0.31783 -0.05017 0.31551 -0.04514 0.3213 C -0.04184 0.325 -0.04323 0.33241 -0.04201 0.33797 C -0.03524 0.36783 -0.02708 0.39468 -0.02326 0.42547 C -0.01945 0.49074 -0.02014 0.46158 -0.02014 0.51297 E">
                                      <p:cBhvr>
                                        <p:cTn id="348" dur="5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79280" y="856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деление оптических изомеров аминокисл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-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-223920"/>
            <a:ext cx="17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680" y="2955600"/>
            <a:ext cx="2119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BL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040" y="5755680"/>
            <a:ext cx="19864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M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5456520"/>
            <a:ext cx="914400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lumn, Mightysil RP-18 (150x4.6 I.D.); mobile phase: methanol-0.01 M Na2HPO4, pH 6.0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ient elution flow-rate, 0,5 ml/min. Detection: DAD,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340 nm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Peaks: 1=L-Asp, 2=D-Asp, 3=L-Glu, 4=D-Glu, 5=L-Asn, 6=D-Asn, 7=L-Ser, 8=L-Gln, 9=D-Ser, 10=D-Gln, 11=D-His, 12=L-Thr, 13=Gly+L-His, 14=D-Thr, 15=D-Arg, 16=L-Arg, 17=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Ala, 18=L-Ala, 19=L-Tyr+GABA, 20=D-Ala, 21=D-Tyr, 22=L-Met+L-Trp, 23=L-Val, 24=L-Phe, 25=D-Met, 26=D-Trp, 27=D-Val, 28=D-Ph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9=L-Ile, 30=L-Leu, 31=L-Lys, 32=D-Ile, 33=D-Lys, 34=D-Leu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836640"/>
          <a:ext cx="807732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36640"/>
                    <a:ext cx="807732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39640" y="549360"/>
            <a:ext cx="820908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азоадсорбционная хроматография  (Г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етод ГАХ предложен в 1945-1948 гг. Эрикой Кремер (Австр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ейчас в основном используется для быстрого анализа атмосферного воздуха и легких газовых смесей (в химической технологии). Определяют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, N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, CO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, CO, H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, S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CH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.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ем же методом анализируют высококипящие органические жидкости. В остальных случаях возможности метода ГАХ уступают возможностям ГЖХ.  Метод ГАХ реализуют на насадочных (набивных), а также  на капиллярных колонках (тонкий слой пористого адсорбента фиксируется на внутренних стенках колон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439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08080" y="11736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имер разделения газовой смеси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методом Г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2916360" y="1413000"/>
          <a:ext cx="43639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413000"/>
                    <a:ext cx="4363920" cy="496872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2350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дсорбенты  для  жидкостной  хромат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е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98100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484280"/>
            <a:ext cx="40672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люлоза и ее производ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ахмал, тефлон,  другие синтетические пол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435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сид алюминия, силикагель, алюмосиликаты, графит и сажа, мел, тальк и др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9228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 этих адсорбентах раз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полярные органические        Неорганические и сильнополярные вещества (углеводороды, их                   органические вещества (соли, амино- галоидопроизводные, углеводы)              кислоты, карбоновые кислот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66600" y="4221000"/>
            <a:ext cx="92106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качестве  элюентов при этом использу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ческие растворители                                 Водные и водно-органически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ексан, хлороформ и др.)                                         растворы, ацетонитрил 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оответствующие вариан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ЖХ наз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ально-фазовая                                      обращенно-фаз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оматография                                                хромат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24000" y="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ктивные цен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69228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поверхности адсорбента одновременно  существуют разные активные центры, адсорбирующие из ПФ разные част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4000" y="1773360"/>
            <a:ext cx="4841640" cy="1915920"/>
            <a:chOff x="324000" y="1773360"/>
            <a:chExt cx="4841640" cy="1915920"/>
          </a:xfrm>
        </p:grpSpPr>
        <p:sp>
          <p:nvSpPr>
            <p:cNvPr id="141" name=""/>
            <p:cNvSpPr/>
            <p:nvPr/>
          </p:nvSpPr>
          <p:spPr>
            <a:xfrm>
              <a:off x="937440" y="3179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6800" y="323208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3232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324000" y="1773360"/>
            <a:ext cx="4841640" cy="13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773360"/>
                      <a:ext cx="4841640" cy="13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6" name=""/>
          <p:cNvGraphicFramePr/>
          <p:nvPr/>
        </p:nvGraphicFramePr>
        <p:xfrm>
          <a:off x="324000" y="3500280"/>
          <a:ext cx="489564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500280"/>
                    <a:ext cx="489564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11280" y="3573360"/>
            <a:ext cx="576000" cy="43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573360"/>
            <a:ext cx="863640" cy="503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3500280"/>
            <a:ext cx="432000" cy="64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573360"/>
            <a:ext cx="792360" cy="3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229360"/>
            <a:ext cx="83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Предварительная обработка адсорбента (прокаливание, промывка реагентами, радиационная прививка и др.) приводит к доминированию тех или иных центров, то есть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к получению адсорбента с заданными свой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191628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анольные группы (кислотные центры) для нормально-фазовой хрома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3500280"/>
            <a:ext cx="356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ильные группы (гидрофобные центры  для обращенно-фазовой хроматограф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=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2, С4, С8, С18, С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74920" y="82440"/>
            <a:ext cx="81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рядок элюирования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в нормально-фазовой хрома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4000" y="2349360"/>
            <a:ext cx="3241440" cy="3400560"/>
            <a:chOff x="324000" y="2349360"/>
            <a:chExt cx="3241440" cy="3400560"/>
          </a:xfrm>
        </p:grpSpPr>
        <p:grpSp>
          <p:nvGrpSpPr>
            <p:cNvPr id="157" name=""/>
            <p:cNvGrpSpPr/>
            <p:nvPr/>
          </p:nvGrpSpPr>
          <p:grpSpPr>
            <a:xfrm>
              <a:off x="324000" y="2491920"/>
              <a:ext cx="3241440" cy="3258000"/>
              <a:chOff x="324000" y="2491920"/>
              <a:chExt cx="3241440" cy="3258000"/>
            </a:xfrm>
          </p:grpSpPr>
          <p:sp>
            <p:nvSpPr>
              <p:cNvPr id="158" name=""/>
              <p:cNvSpPr/>
              <p:nvPr/>
            </p:nvSpPr>
            <p:spPr>
              <a:xfrm>
                <a:off x="324000" y="5749920"/>
                <a:ext cx="3241440" cy="0"/>
              </a:xfrm>
              <a:prstGeom prst="line">
                <a:avLst/>
              </a:prstGeom>
              <a:ln cap="sq" w="255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24000" y="2491920"/>
                <a:ext cx="0" cy="3241800"/>
              </a:xfrm>
              <a:prstGeom prst="line">
                <a:avLst/>
              </a:prstGeom>
              <a:ln cap="sq" w="255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24000" y="2923920"/>
                <a:ext cx="3058920" cy="2592720"/>
                <a:chOff x="324000" y="2923920"/>
                <a:chExt cx="3058920" cy="2592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24000" y="5516640"/>
                  <a:ext cx="576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900000" y="5300640"/>
                  <a:ext cx="0" cy="21600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900000" y="5300640"/>
                  <a:ext cx="73080" cy="21600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973080" y="5516640"/>
                  <a:ext cx="432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1405080" y="3357360"/>
                  <a:ext cx="144360" cy="2159280"/>
                  <a:chOff x="1405080" y="3357360"/>
                  <a:chExt cx="144360" cy="2159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V="1">
                    <a:off x="1405080" y="3357360"/>
                    <a:ext cx="712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476360" y="3357720"/>
                    <a:ext cx="730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1981080" y="2923920"/>
                  <a:ext cx="215640" cy="2590560"/>
                  <a:chOff x="1981080" y="2923920"/>
                  <a:chExt cx="215640" cy="25905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V="1">
                    <a:off x="1981080" y="2923920"/>
                    <a:ext cx="106560" cy="259020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087640" y="2924280"/>
                    <a:ext cx="109080" cy="259020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2649600" y="3357360"/>
                  <a:ext cx="286560" cy="2159280"/>
                  <a:chOff x="2649600" y="3357360"/>
                  <a:chExt cx="286560" cy="21592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V="1">
                    <a:off x="2649600" y="3357360"/>
                    <a:ext cx="1414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791080" y="3357720"/>
                    <a:ext cx="1450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549440" y="5516640"/>
                  <a:ext cx="43164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197080" y="5516640"/>
                  <a:ext cx="432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951280" y="5516640"/>
                  <a:ext cx="43164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685800" y="4869000"/>
              <a:ext cx="33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58560" y="278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6560" y="234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9080" y="278136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818388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83880" y="1844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520" y="191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029440" y="2276640"/>
          <a:ext cx="72072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9440" y="2276640"/>
                    <a:ext cx="720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084720" y="2276640"/>
          <a:ext cx="1224000" cy="74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2276640"/>
                    <a:ext cx="122400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492360" y="2349360"/>
          <a:ext cx="187164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349360"/>
                    <a:ext cx="18716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7479360" y="2421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592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24360" y="3645000"/>
            <a:ext cx="4629240" cy="2066760"/>
            <a:chOff x="3924360" y="3645000"/>
            <a:chExt cx="4629240" cy="2066760"/>
          </a:xfrm>
        </p:grpSpPr>
        <p:sp>
          <p:nvSpPr>
            <p:cNvPr id="193" name=""/>
            <p:cNvSpPr/>
            <p:nvPr/>
          </p:nvSpPr>
          <p:spPr>
            <a:xfrm>
              <a:off x="7972920" y="364500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r>
                <a:rPr b="1" lang="ru-RU" sz="2400" spc="-1" strike="noStrike">
                  <a:solidFill>
                    <a:srgbClr val="cc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23520" y="364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924360" y="3645000"/>
              <a:ext cx="4629240" cy="2066760"/>
              <a:chOff x="3924360" y="3645000"/>
              <a:chExt cx="4629240" cy="206676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3924360" y="4221000"/>
              <a:ext cx="1139760" cy="1490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924360" y="4221000"/>
                        <a:ext cx="1139760" cy="1490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8" name=""/>
              <p:cNvGraphicFramePr/>
              <p:nvPr/>
            </p:nvGraphicFramePr>
            <p:xfrm>
              <a:off x="5796000" y="4292640"/>
              <a:ext cx="1055520" cy="1154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9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96000" y="4292640"/>
                        <a:ext cx="1055520" cy="115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0" name=""/>
              <p:cNvGraphicFramePr/>
              <p:nvPr/>
            </p:nvGraphicFramePr>
            <p:xfrm>
              <a:off x="7667640" y="4581360"/>
              <a:ext cx="885960" cy="7844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01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667640" y="4581360"/>
                        <a:ext cx="885960" cy="78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2" name=""/>
              <p:cNvSpPr/>
              <p:nvPr/>
            </p:nvSpPr>
            <p:spPr>
              <a:xfrm>
                <a:off x="5225760" y="4803840"/>
                <a:ext cx="51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ahoma"/>
                  </a:rPr>
                  <a:t>&lt;</a:t>
                </a:r>
                <a:r>
                  <a:rPr b="0" lang="en-US" sz="2400" spc="-1" strike="noStrike">
                    <a:solidFill>
                      <a:srgbClr val="cc0000"/>
                    </a:solidFill>
                    <a:latin typeface="Tahoma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52960" y="4795920"/>
                <a:ext cx="51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Tahoma"/>
                  </a:rPr>
                  <a:t>  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Tahoma"/>
                  </a:rPr>
                  <a:t>&lt;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67280" y="3645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73120" y="82440"/>
            <a:ext cx="816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рядок элюирования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в обращенно-фазовой хрома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5280" y="2349360"/>
            <a:ext cx="3241440" cy="3400560"/>
            <a:chOff x="395280" y="2349360"/>
            <a:chExt cx="3241440" cy="3400560"/>
          </a:xfrm>
        </p:grpSpPr>
        <p:grpSp>
          <p:nvGrpSpPr>
            <p:cNvPr id="207" name=""/>
            <p:cNvGrpSpPr/>
            <p:nvPr/>
          </p:nvGrpSpPr>
          <p:grpSpPr>
            <a:xfrm>
              <a:off x="395280" y="2491920"/>
              <a:ext cx="3241440" cy="3258000"/>
              <a:chOff x="395280" y="2491920"/>
              <a:chExt cx="3241440" cy="3258000"/>
            </a:xfrm>
          </p:grpSpPr>
          <p:sp>
            <p:nvSpPr>
              <p:cNvPr id="208" name=""/>
              <p:cNvSpPr/>
              <p:nvPr/>
            </p:nvSpPr>
            <p:spPr>
              <a:xfrm>
                <a:off x="395280" y="5749920"/>
                <a:ext cx="3241440" cy="0"/>
              </a:xfrm>
              <a:prstGeom prst="line">
                <a:avLst/>
              </a:prstGeom>
              <a:ln cap="sq"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395280" y="2491920"/>
                <a:ext cx="0" cy="3241800"/>
              </a:xfrm>
              <a:prstGeom prst="line">
                <a:avLst/>
              </a:prstGeom>
              <a:ln cap="sq"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95280" y="2923920"/>
                <a:ext cx="3058920" cy="2592720"/>
                <a:chOff x="395280" y="2923920"/>
                <a:chExt cx="3058920" cy="2592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5280" y="5516640"/>
                  <a:ext cx="576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971280" y="5300640"/>
                  <a:ext cx="0" cy="21600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971280" y="5300640"/>
                  <a:ext cx="73080" cy="21600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044360" y="5516640"/>
                  <a:ext cx="432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1476360" y="3357360"/>
                  <a:ext cx="144360" cy="2159280"/>
                  <a:chOff x="1476360" y="3357360"/>
                  <a:chExt cx="144360" cy="21592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V="1">
                    <a:off x="1476360" y="3357360"/>
                    <a:ext cx="712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1547640" y="3357720"/>
                    <a:ext cx="730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2052360" y="2923920"/>
                  <a:ext cx="215640" cy="2590560"/>
                  <a:chOff x="2052360" y="2923920"/>
                  <a:chExt cx="215640" cy="25905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V="1">
                    <a:off x="2052360" y="2923920"/>
                    <a:ext cx="106560" cy="259020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158920" y="2924280"/>
                    <a:ext cx="109080" cy="259020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2720880" y="3357360"/>
                  <a:ext cx="286560" cy="2159280"/>
                  <a:chOff x="2720880" y="3357360"/>
                  <a:chExt cx="286560" cy="21592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V="1">
                    <a:off x="2720880" y="3357360"/>
                    <a:ext cx="1414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862360" y="3357720"/>
                    <a:ext cx="1450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1620720" y="5516640"/>
                  <a:ext cx="43164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68360" y="5516640"/>
                  <a:ext cx="432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22560" y="5516640"/>
                  <a:ext cx="43164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757080" y="4869000"/>
              <a:ext cx="33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ahoma"/>
                </a:rPr>
                <a:t>t</a:t>
              </a:r>
              <a:r>
                <a:rPr b="0" lang="en-US" sz="1800" spc="-1" strike="noStrike" baseline="-25000">
                  <a:solidFill>
                    <a:srgbClr val="cc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29840" y="278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7840" y="234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00360" y="278136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564000" y="1844640"/>
            <a:ext cx="5040000" cy="1230120"/>
            <a:chOff x="3564000" y="1844640"/>
            <a:chExt cx="5040000" cy="1230120"/>
          </a:xfrm>
        </p:grpSpPr>
        <p:sp>
          <p:nvSpPr>
            <p:cNvPr id="232" name=""/>
            <p:cNvSpPr/>
            <p:nvPr/>
          </p:nvSpPr>
          <p:spPr>
            <a:xfrm>
              <a:off x="3706560" y="1869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62200" y="1844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2920" y="1857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3564000" y="2374560"/>
            <a:ext cx="720720" cy="63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64000" y="2374560"/>
                      <a:ext cx="72072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4894200" y="2298600"/>
            <a:ext cx="1224000" cy="74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4200" y="2298600"/>
                      <a:ext cx="122400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9" name=""/>
            <p:cNvGraphicFramePr/>
            <p:nvPr/>
          </p:nvGraphicFramePr>
          <p:xfrm>
            <a:off x="6732360" y="2301840"/>
            <a:ext cx="1871640" cy="772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32360" y="2301840"/>
                      <a:ext cx="187164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4394520" y="248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53560" y="244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284720" y="4149720"/>
            <a:ext cx="4133520" cy="1668240"/>
            <a:chOff x="4284720" y="4149720"/>
            <a:chExt cx="4133520" cy="1668240"/>
          </a:xfrm>
        </p:grpSpPr>
        <p:graphicFrame>
          <p:nvGraphicFramePr>
            <p:cNvPr id="244" name=""/>
            <p:cNvGraphicFramePr/>
            <p:nvPr/>
          </p:nvGraphicFramePr>
          <p:xfrm>
            <a:off x="7316640" y="4390920"/>
            <a:ext cx="1101600" cy="1427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16640" y="4390920"/>
                      <a:ext cx="1101600" cy="14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"/>
            <p:cNvGraphicFramePr/>
            <p:nvPr/>
          </p:nvGraphicFramePr>
          <p:xfrm>
            <a:off x="5716440" y="4394160"/>
            <a:ext cx="1020960" cy="110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716440" y="4394160"/>
                      <a:ext cx="102096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"/>
            <p:cNvGraphicFramePr/>
            <p:nvPr/>
          </p:nvGraphicFramePr>
          <p:xfrm>
            <a:off x="4284720" y="4754520"/>
            <a:ext cx="855360" cy="750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84720" y="4754520"/>
                      <a:ext cx="855360" cy="7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5237640" y="4898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09040" y="4890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0640" y="4154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24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78360" y="4170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корости движения компонентов смеси в адсорбционной хроматографии  зависят  от  их коэффициентов адсорбционного распределения (коэффициентов Генр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3933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00000" y="2133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900000" y="2205000"/>
            <a:ext cx="215928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4005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20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429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g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640" y="3573360"/>
            <a:ext cx="43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1844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 = 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a / dC = f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2565360"/>
            <a:ext cx="42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изких С      Г =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nst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= Г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458136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692360" y="4221000"/>
                <a:ext cx="1900080" cy="19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Г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НФ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ПФ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716360" y="393372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н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п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  Г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&gt;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435640" y="4653000"/>
                <a:ext cx="256068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623736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При  Г</a:t>
            </a:r>
            <a:r>
              <a:rPr b="0" lang="en-US" sz="1900" spc="-1" strike="noStrike" baseline="-25000">
                <a:solidFill>
                  <a:srgbClr val="cc0000"/>
                </a:solidFill>
                <a:latin typeface="Arial"/>
              </a:rPr>
              <a:t>1 </a:t>
            </a: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 =  Г</a:t>
            </a:r>
            <a:r>
              <a:rPr b="0" lang="en-US" sz="19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  компоненты выходят из колонки одновременно, не разделяяс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1268280"/>
            <a:ext cx="8244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корости движения компонентов в адсорбционной хроматографии теоретически не должны зависеть ни от  концентрации сорбата, ни от состава про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 практике эти положения иногда не выполняются, особенно при высокой концентрации компон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  вводе большой пробы. Это ведет к ошибочным результатам анализ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03:25:08Z</dcterms:created>
  <dc:creator>Вершинин В.И.</dc:creator>
  <dc:description/>
  <dc:language>en-US</dc:language>
  <cp:lastModifiedBy>user_2</cp:lastModifiedBy>
  <dcterms:modified xsi:type="dcterms:W3CDTF">2012-01-07T05:32:38Z</dcterms:modified>
  <cp:revision>28</cp:revision>
  <dc:subject/>
  <dc:title>Слайд 1</dc:title>
</cp:coreProperties>
</file>