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4.png" ContentType="image/png"/>
  <Override PartName="/ppt/media/image9.png" ContentType="image/png"/>
  <Override PartName="/ppt/media/image1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8D19-9B0C-49B8-B4D7-030B94CB6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7989-1DAF-40B1-9281-690732F3D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F1A9-BD42-49BB-A64F-F49F6E0CD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E00C-CA0E-430B-9EE5-8E734C1F6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5676AA-5233-4012-984D-0C801A810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9EB059-C4AF-49CB-A266-C66EAD212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2F864F-3B0E-422E-B091-7D8E94ADF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DEB954-0494-4E3C-8FAF-7EFD8E014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386809-0984-4AA1-B88E-18AB3D269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753475-B192-4F7A-A66C-7125678C1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65AD58-456A-4825-8F90-01A274CA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5F22-AEB4-4E3B-AE1B-B19AED6C5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2CE717-ED8C-4001-9438-18C2E71C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0F821E-5AAF-4507-8AF4-2E95D2F8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4EA083-04F5-42DC-9347-0A10B6F2B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F06B88-AB3D-45BA-A0D3-F5B39781A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0113E9-3F6B-4371-AC6D-5641AADEF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F8361-757E-44ED-A67D-D1F04D6BF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29374-E10D-4E87-9B4C-B54E941B0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E38D9-93A0-433B-A7DD-110B0C22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B7884-F16B-46F3-AC5D-9E74765D1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22912-9A93-4D83-AEC9-5756A8435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2FCA-7114-4238-AC37-37C4FB011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CCD89-D679-4828-A64B-7061D09BB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C2DC0-24E6-43C9-A9AE-176E9750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C78C3-92D4-433A-A77B-0054F069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33FCF-A00E-483B-B116-FF492756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FA4CC-91B1-4CE9-9661-D281E282B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9FDBB-14F3-44FE-855E-F5FDCB192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A33FD-F452-4130-AC13-F79929CD7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668080-52FB-476F-87AF-2C4049C3F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F60410-F0E2-401E-93C0-EBF68D3A9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7D83C9-DB1D-40EE-885D-6405A8107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01B4-465E-4D3B-B12A-CD9DB27E0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2C3E31-829D-430E-943C-48ADB0367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1B61E6-AEB5-4B8A-9898-9BE38B450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41DEE7-A186-443A-A304-11DDE9908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D2126F-7AC3-41BA-88BA-7B630339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2329A0-8029-4CD0-93BB-BD901D50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525D6A-5BF0-4E2F-80D7-0A5DE890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1443F7-7EC0-4E0C-B1A1-15324D2A7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AC4A10-E32E-4AB6-B25A-608037D1C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80F2DA-E61F-4D18-BED1-AE32A4C82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AD62-B954-4C29-9FB8-940D376A1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3C3A-10DA-4D78-98DB-5EEB5429C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81D9-17BD-4016-9134-90D29D6A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2779-DBF7-4B9F-A307-3447F721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B5E0-BDA0-4656-BC24-B9277D98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771F-4F76-4949-87A8-B8F3D2F02669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4788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D9A6F-26B1-42D3-94ED-D6AFB59C2A01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4FD0D-1113-4E3F-B324-3A40AACA6B33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3CCED-DC62-4F67-B896-579EB214F6C9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ordynsk.com/files/Image/press-reliz/4/1486202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cards.mail.ru/36/01/0bffb1f0bed37b0f1a0be470c4b20136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bnt.ru/files/plakat-Jizn_bez_tabaka.jpg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biznesslanch.files.wordpress.com/2010/11/russian-anti-smoking-ad-1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5148360" y="2924280"/>
            <a:ext cx="374472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nstantia"/>
              </a:rPr>
              <a:t>Ежегодно в третий четверг ноября в большинстве стран мира отмечается Международный день отказа от курения. Он был установлен Американским онкологическим обществом в 1977 году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Заголовок 1" descr=""/>
          <p:cNvPicPr/>
          <p:nvPr/>
        </p:nvPicPr>
        <p:blipFill>
          <a:blip r:embed="rId1"/>
          <a:stretch/>
        </p:blipFill>
        <p:spPr>
          <a:xfrm>
            <a:off x="5072040" y="353880"/>
            <a:ext cx="3681360" cy="16401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Картинка 1 из 932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836640"/>
            <a:ext cx="4392720" cy="5040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Картинка 18 из 9326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468360" y="260280"/>
            <a:ext cx="8064360" cy="63118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Картинка 80 из 9326"/>
          <p:cNvPicPr/>
          <p:nvPr/>
        </p:nvPicPr>
        <p:blipFill>
          <a:blip r:embed="rId1"/>
          <a:stretch/>
        </p:blipFill>
        <p:spPr>
          <a:xfrm>
            <a:off x="179280" y="260280"/>
            <a:ext cx="4307040" cy="6408720"/>
          </a:xfrm>
          <a:prstGeom prst="rect">
            <a:avLst/>
          </a:prstGeom>
          <a:ln w="0">
            <a:noFill/>
          </a:ln>
        </p:spPr>
      </p:pic>
      <p:sp>
        <p:nvSpPr>
          <p:cNvPr id="190" name="Прямоугольник 3"/>
          <p:cNvSpPr/>
          <p:nvPr/>
        </p:nvSpPr>
        <p:spPr>
          <a:xfrm>
            <a:off x="4716360" y="476280"/>
            <a:ext cx="4032360" cy="60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равительство уделяет большое внимание проблеме табакокурения.                 В октябре премьер-министр России Владимир Путин подписал антитабачную концепцию до 2015 год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Этот документ предполагает увеличение  акцизов на табачные изделия, запрет на рекламу, запрет на курение в общественных местах и другие мероприятия по оздоровлению населен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Таким образом, правительство предполагает снизить долю курильщиков в России с нынешних 40% населения до 2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Прямоугольник 1"/>
          <p:cNvSpPr/>
          <p:nvPr/>
        </p:nvSpPr>
        <p:spPr>
          <a:xfrm>
            <a:off x="4140360" y="404640"/>
            <a:ext cx="460836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Почему нужно отказаться от курения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Потому что это продлит вашу жизнь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Курение "вырывает" из жизни человека от </a:t>
            </a: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19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до </a:t>
            </a: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23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л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По данным </a:t>
            </a: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Всемирной Организации Здравоохранения,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в мире каждый год от курения преждевременно умирает свыше               </a:t>
            </a: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5 миллионов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челове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В </a:t>
            </a: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России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каждый год курение уносит жизни </a:t>
            </a: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220 тысяч человек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Отказ от курения в любом возрасте принесёт Вашему организму большую пользу, однако резкое изменение образа жизни, особенно в пожилом возрасте, может оказаться небезобидным. Поэтому бросайте курить под наблюдением врач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2" descr="http://zanimatika.narod.ru/Zvezdamini.gif"/>
          <p:cNvPicPr/>
          <p:nvPr/>
        </p:nvPicPr>
        <p:blipFill>
          <a:blip r:embed="rId1"/>
          <a:stretch/>
        </p:blipFill>
        <p:spPr>
          <a:xfrm>
            <a:off x="4211640" y="260280"/>
            <a:ext cx="252360" cy="225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Картинка 7 из 9326"/>
          <p:cNvPicPr/>
          <p:nvPr/>
        </p:nvPicPr>
        <p:blipFill>
          <a:blip r:embed="rId2"/>
          <a:stretch/>
        </p:blipFill>
        <p:spPr>
          <a:xfrm>
            <a:off x="179280" y="105264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4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4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4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4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Rectangle 1" descr=""/>
          <p:cNvPicPr/>
          <p:nvPr/>
        </p:nvPicPr>
        <p:blipFill>
          <a:blip r:embed="rId1"/>
          <a:stretch/>
        </p:blipFill>
        <p:spPr>
          <a:xfrm>
            <a:off x="171360" y="933480"/>
            <a:ext cx="8991720" cy="45957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onstantia"/>
              </a:rPr>
              <a:t>Презентацию подготовил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onstantia"/>
              </a:rPr>
              <a:t>библиотекарь МОУ СОШ № 43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onstantia"/>
              </a:rPr>
              <a:t>Борискина И.В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onstantia"/>
              </a:rPr>
              <a:t>Тверь – 2011г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Картинка 2 из 93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404640"/>
            <a:ext cx="4530600" cy="5977080"/>
          </a:xfrm>
          <a:prstGeom prst="rect">
            <a:avLst/>
          </a:prstGeom>
          <a:ln w="0">
            <a:noFill/>
          </a:ln>
        </p:spPr>
      </p:pic>
      <p:sp>
        <p:nvSpPr>
          <p:cNvPr id="174" name="Прямоугольник 4"/>
          <p:cNvSpPr/>
          <p:nvPr/>
        </p:nvSpPr>
        <p:spPr>
          <a:xfrm>
            <a:off x="4859280" y="1197000"/>
            <a:ext cx="403380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nstantia"/>
              </a:rPr>
              <a:t>Цел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nstantia"/>
              </a:rPr>
              <a:t>Международного дн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nstantia"/>
              </a:rPr>
              <a:t>отказа от курения</a:t>
            </a:r>
            <a:r>
              <a:rPr b="0" lang="ru-RU" sz="20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способствовать снижению распространенности табачной зависимости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вовлечение в борьбу против курения всех слоев населения и врачей всех специальносте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профилактика  табакокурения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информирование общества о пагубном воздействии табака на здоровье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3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http://im5-tub-ru.yandex.net/i?id=336289692-02-72"/>
          <p:cNvPicPr/>
          <p:nvPr/>
        </p:nvPicPr>
        <p:blipFill>
          <a:blip r:embed="rId1"/>
          <a:stretch/>
        </p:blipFill>
        <p:spPr>
          <a:xfrm>
            <a:off x="250920" y="620640"/>
            <a:ext cx="3940200" cy="5572080"/>
          </a:xfrm>
          <a:prstGeom prst="rect">
            <a:avLst/>
          </a:prstGeom>
          <a:ln w="0">
            <a:noFill/>
          </a:ln>
        </p:spPr>
      </p:pic>
      <p:sp>
        <p:nvSpPr>
          <p:cNvPr id="176" name="Прямоугольник 2"/>
          <p:cNvSpPr/>
          <p:nvPr/>
        </p:nvSpPr>
        <p:spPr>
          <a:xfrm>
            <a:off x="4572000" y="1773360"/>
            <a:ext cx="4427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Курение считаю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редной привычкой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47%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зависимостью —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38%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неизлечимой болезнью —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9%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не смогли определить своего отношения  к курению —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6%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респондентов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1000" autoRev="1" fill="hold"/>
                                        <p:tgtEl>
                                          <p:spTgt spid="1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оугольник 1"/>
          <p:cNvSpPr/>
          <p:nvPr/>
        </p:nvSpPr>
        <p:spPr>
          <a:xfrm>
            <a:off x="826920" y="404640"/>
            <a:ext cx="792180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По данным Всемирной организации здравоохранения: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— в мире 90% смертей от рака легких, 75% — от хронического бронхита и 25% — от ишемической болезни сердца обусловлены курением;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— каждые десять секунд на планете умирает один заядлый курильщик (к 2020 году этот уровень может повыситься до одного человека за три секунды);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— в России курит минимум каждая десятая женщина, а среди старшеклассников и студентов - 53% юношей и 28% девушек;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— заядлыми курильщиками сегодня можно назвать 50-60% российских мужчин (среди некоторых категорий граждан эта цифра достигает 95%)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— курение и вызываемые им заболевания ежегодно становятся причиной смерти не менее чем миллиона граждан Росс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ик 1"/>
          <p:cNvSpPr/>
          <p:nvPr/>
        </p:nvSpPr>
        <p:spPr>
          <a:xfrm>
            <a:off x="250920" y="333360"/>
            <a:ext cx="8281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России </a:t>
            </a:r>
            <a:r>
              <a:rPr b="1" lang="ru-RU" sz="4000" spc="-1" strike="noStrike">
                <a:solidFill>
                  <a:srgbClr val="ffffff"/>
                </a:solidFill>
                <a:latin typeface="Constantia"/>
              </a:rPr>
              <a:t>17%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всех смертей связано с табакокурением, то есть ежегодно в связи с употреблением табака погибает от 350 до 500 тысяч россия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Прямоугольник 2"/>
          <p:cNvSpPr/>
          <p:nvPr/>
        </p:nvSpPr>
        <p:spPr>
          <a:xfrm>
            <a:off x="3708360" y="1484280"/>
            <a:ext cx="525636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nstantia"/>
              </a:rPr>
              <a:t>К каким заболеваниям приводит курение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onstantia"/>
              </a:rPr>
              <a:t>Курение разрушает лёгкие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овреждается значительная часть лёгочной ткани. Развивается хроническая обструктивная болезнь лёгких, появляются изнуряющие кашель и одышка из-за хронического недостатка кислорода и воспаления бронхов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Человек не только утрачивает работоспособность - он превращается в инвалида.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Constantia"/>
              </a:rPr>
              <a:t>Курение ведёт к инфаркту миокарда и инсульту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Курение способствует быстрому и раннему развитию атеросклероза. Содержащийся в табачном дыме никотин повреждает стенки сосудов и способствует усиленному свёртыванию крови внутри сосудов (формированию тромбов)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В результате закупориваются артерии сердца и головного мозга, что ведёт к инфаркту миокарда и инсульт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2" descr="Картинка 112 из 932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5680" y="1676520"/>
            <a:ext cx="3664080" cy="343188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3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http://biznesslanch.files.wordpress.com/2010/11/russian-anti-smoking-ad-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765000"/>
            <a:ext cx="3322800" cy="5112000"/>
          </a:xfrm>
          <a:prstGeom prst="rect">
            <a:avLst/>
          </a:prstGeom>
          <a:ln w="0">
            <a:noFill/>
          </a:ln>
        </p:spPr>
      </p:pic>
      <p:sp>
        <p:nvSpPr>
          <p:cNvPr id="182" name="Прямоугольник 2"/>
          <p:cNvSpPr/>
          <p:nvPr/>
        </p:nvSpPr>
        <p:spPr>
          <a:xfrm>
            <a:off x="3995640" y="765000"/>
            <a:ext cx="457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onstantia"/>
              </a:rPr>
              <a:t>Курение вызывает рак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Табачный дым содержит более 3000 химических соединений, 60 из которых способны вызвать рак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Более 90 процентов этих смертей связаны с курением и почти все их можно было бы предотвратить!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Курение также приводит к раку гортани, ротовой полости, пищевода, поджелудочной железы, мочевого пузыря и поче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3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http://www.kroo-tp.ru/images/stories/1193498182_k_17.jpg"/>
          <p:cNvPicPr/>
          <p:nvPr/>
        </p:nvPicPr>
        <p:blipFill>
          <a:blip r:embed="rId1"/>
          <a:stretch/>
        </p:blipFill>
        <p:spPr>
          <a:xfrm>
            <a:off x="324000" y="333360"/>
            <a:ext cx="6119640" cy="6264360"/>
          </a:xfrm>
          <a:prstGeom prst="rect">
            <a:avLst/>
          </a:prstGeom>
          <a:ln w="0">
            <a:noFill/>
          </a:ln>
        </p:spPr>
      </p:pic>
      <p:sp>
        <p:nvSpPr>
          <p:cNvPr id="184" name="Прямоугольник 2"/>
          <p:cNvSpPr/>
          <p:nvPr/>
        </p:nvSpPr>
        <p:spPr>
          <a:xfrm>
            <a:off x="6659640" y="1125360"/>
            <a:ext cx="2305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Никотин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- один из сильнейших известных ядов, в хозяйстве используется как инсектицид. После проникновения сигаретного дыма в легкие, никотин попадает в мозг уже через семь секунд. Постоянное и длительное курение табака приводит к преждевременному  старен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Картинка 8 из 9326"/>
          <p:cNvPicPr/>
          <p:nvPr/>
        </p:nvPicPr>
        <p:blipFill>
          <a:blip r:embed="rId1"/>
          <a:stretch/>
        </p:blipFill>
        <p:spPr>
          <a:xfrm>
            <a:off x="539640" y="476280"/>
            <a:ext cx="8058240" cy="5761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4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4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4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4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Прямоугольник 1"/>
          <p:cNvSpPr/>
          <p:nvPr/>
        </p:nvSpPr>
        <p:spPr>
          <a:xfrm>
            <a:off x="5003640" y="1125360"/>
            <a:ext cx="3780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Особенно вреден никотин беременным, так как это приводит к рождению слабых, с низким весом детей, и кормящим женщинам - повышается заболеваемость и смертность детей в первые годы жизни. После выкуренной беременной женщиной сигареты, наступает спазм кровеносных сосудов плаценты, и плод находится в состоянии легкого кислородного голодания несколько минут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4" descr="http://im3-tub-ru.yandex.net/i?id=368240884-42-72"/>
          <p:cNvPicPr/>
          <p:nvPr/>
        </p:nvPicPr>
        <p:blipFill>
          <a:blip r:embed="rId1"/>
          <a:stretch/>
        </p:blipFill>
        <p:spPr>
          <a:xfrm>
            <a:off x="179280" y="476280"/>
            <a:ext cx="3679920" cy="5905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8T07:59:32Z</dcterms:created>
  <dc:creator>3</dc:creator>
  <dc:description/>
  <dc:language>en-US</dc:language>
  <cp:lastModifiedBy>Ольга</cp:lastModifiedBy>
  <dcterms:modified xsi:type="dcterms:W3CDTF">2011-11-21T18:15:37Z</dcterms:modified>
  <cp:revision>15</cp:revision>
  <dc:subject/>
  <dc:title>Слайд 1</dc:title>
</cp:coreProperties>
</file>