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098B-564D-430A-9C0F-EC33B350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8A35-15A6-414A-91A7-C6AC09B0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FD6-2CF7-4DC0-8771-9450A893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12AB-1773-4CBF-BA0A-A59C03C4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7E5DC-63ED-4AFF-B420-BA595F8D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2894E-F413-4DD8-B676-621AA18C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63854-0D91-4F0D-9168-79D0161C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E8D79-AC36-4C12-8BE6-3069C13F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93C03-A94F-473D-9E9B-85D4B2AD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726C1-0525-442B-B35C-29197B25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9C089-949A-4093-97F3-7DF84B21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EC4F-5D16-415B-BDEE-CF8159E7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496AB-60A7-4898-950F-7EE83AED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13AF2-6CB4-4141-A747-96A3F1A8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3DD72-E5BA-40B7-A9B4-FD388D23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29563-BE6E-4630-981E-DEFC583F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7B842-6200-41C0-879C-19F935F8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E715F-F95D-4EA1-9E7C-2EF9F9AE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F3AC3-5221-4759-A655-BAD00C5E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E5100-C7DC-41D3-A2EB-007B489C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74B95-AD67-4A7F-8E6D-976FF634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63EB2-78DA-4CA1-989C-3547E452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547D-51D6-475C-AC41-347121D0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949D7-C35F-480E-BB90-1AC24842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DB3DD-6BFB-41FD-90B1-05EC11E9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07EEC-70DD-4A1D-8D6F-7AF2AFE5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FDC52-C872-441D-AE45-BC15379C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07BD8-A65D-4350-823D-6D0912D9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430A5-AD17-4DE1-B242-E4DE011B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1965F-DEDC-4E1B-A761-BF920C15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C63698-F312-42E6-85EB-915A9140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E9D6DC-E8CA-4FFF-A872-95FF504F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EF64D8-E70B-4E51-B89B-5C79A0B2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4AC9-586A-4538-A3F1-56A0B861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64C76D-306A-4D95-9CC9-5C2EFB5B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DCD439-8F2B-4D7C-8045-C31D26CF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E490DB-A872-4C99-B850-D6A0D2BC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0DD4C9-FF29-4C28-BEB3-CC172FDE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AF2106-F74E-4DA2-A433-ADD31C84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907110-35C7-480D-A353-D2A58F03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8233C3-766F-4CC3-B52E-95EE546B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CC8AD4-487A-4E2E-BEAF-20387E23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2258FE-6FDD-40EB-A145-2D6A74DE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85A-CBDB-4FF7-8D73-6FA114EB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E14-01CA-450A-8ADA-083DCF91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9840-7317-4401-A004-B96DD0B3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5AE8-6906-405F-B2E8-A179CAEC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DF8E-F148-4248-A939-38B258E6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98C7-5909-427C-824C-87B2419E186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4788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FE6F-D252-4923-847F-F4C972D326D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C3F2-3FAE-411C-BE52-677531D4598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D17B-3B1B-4D9E-BE14-4B551F29CFB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ordynsk.com/files/Image/press-reliz/4/1486202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cards.mail.ru/36/01/0bffb1f0bed37b0f1a0be470c4b2013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bnt.ru/files/plakat-Jizn_bez_tabaka.jp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iznesslanch.files.wordpress.com/2010/11/russian-anti-smoking-ad-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5148360" y="2924280"/>
            <a:ext cx="374472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Ежегодно в третий четверг ноября в большинстве стран мира отмечается Международный день отказа от курения. Он был установлен Американским онкологическим обществом в 1977 году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5072040" y="353880"/>
            <a:ext cx="3681360" cy="1640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Картинка 1 из 932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836640"/>
            <a:ext cx="439272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Картинка 18 из 9326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68360" y="260280"/>
            <a:ext cx="8064360" cy="6311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Картинка 80 из 9326"/>
          <p:cNvPicPr/>
          <p:nvPr/>
        </p:nvPicPr>
        <p:blipFill>
          <a:blip r:embed="rId1"/>
          <a:stretch/>
        </p:blipFill>
        <p:spPr>
          <a:xfrm>
            <a:off x="179280" y="260280"/>
            <a:ext cx="4307040" cy="640872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3"/>
          <p:cNvSpPr/>
          <p:nvPr/>
        </p:nvSpPr>
        <p:spPr>
          <a:xfrm>
            <a:off x="4716360" y="476280"/>
            <a:ext cx="4032360" cy="60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авительство уделяет большое внимание проблеме табакокурения.                 В октябре премьер-министр России Владимир Путин подписал антитабачную концепцию до 2015 го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тот документ предполагает увеличение  акцизов на табачные изделия, запрет на рекламу, запрет на курение в общественных местах и другие мероприятия по оздоровлению насел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Таким образом, правительство предполагает снизить долю курильщиков в России с нынешних 40% населения до 2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4140360" y="404640"/>
            <a:ext cx="46083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Почему нужно отказаться от курени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отому что это продлит вашу жизнь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урение "вырывает" из жизни человека от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19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до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23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о данным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Всемирной Организации Здравоохранения,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в мире каждый год от курения преждевременно умирает свыше              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5 миллионов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России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каждый год курение уносит жизни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220 тысяч человек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тказ от курения в любом возрасте принесёт Вашему организму большую пользу, однако резкое изменение образа жизни, особенно в пожилом возрасте, может оказаться небезобидным. Поэтому бросайте курить под наблюдением врач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2" descr="http://zanimatika.narod.ru/Zvezdamini.gif"/>
          <p:cNvPicPr/>
          <p:nvPr/>
        </p:nvPicPr>
        <p:blipFill>
          <a:blip r:embed="rId1"/>
          <a:stretch/>
        </p:blipFill>
        <p:spPr>
          <a:xfrm>
            <a:off x="4211640" y="260280"/>
            <a:ext cx="252360" cy="225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Картинка 7 из 9326"/>
          <p:cNvPicPr/>
          <p:nvPr/>
        </p:nvPicPr>
        <p:blipFill>
          <a:blip r:embed="rId2"/>
          <a:stretch/>
        </p:blipFill>
        <p:spPr>
          <a:xfrm>
            <a:off x="179280" y="105264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4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Rectangle 1" descr=""/>
          <p:cNvPicPr/>
          <p:nvPr/>
        </p:nvPicPr>
        <p:blipFill>
          <a:blip r:embed="rId1"/>
          <a:stretch/>
        </p:blipFill>
        <p:spPr>
          <a:xfrm>
            <a:off x="171360" y="933480"/>
            <a:ext cx="8991720" cy="4595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Презентацию подготовил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библиотекарь МОУ СОШ № 43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Борискина И.В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Тверь – 2011г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Картинка 2 из 93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4530600" cy="597708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4"/>
          <p:cNvSpPr/>
          <p:nvPr/>
        </p:nvSpPr>
        <p:spPr>
          <a:xfrm>
            <a:off x="4859280" y="1197000"/>
            <a:ext cx="40338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Ц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Международного д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отказа от курения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пособствовать снижению распространенности табачной зависимост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овлечение в борьбу против курения всех слоев населения и врачей всех специальносте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офилактика  табакокурен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нформирование общества о пагубном воздействии табака на здоровье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ttp://im5-tub-ru.yandex.net/i?id=336289692-02-72"/>
          <p:cNvPicPr/>
          <p:nvPr/>
        </p:nvPicPr>
        <p:blipFill>
          <a:blip r:embed="rId1"/>
          <a:stretch/>
        </p:blipFill>
        <p:spPr>
          <a:xfrm>
            <a:off x="250920" y="620640"/>
            <a:ext cx="3940200" cy="557208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2"/>
          <p:cNvSpPr/>
          <p:nvPr/>
        </p:nvSpPr>
        <p:spPr>
          <a:xfrm>
            <a:off x="4572000" y="1773360"/>
            <a:ext cx="442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урение счита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редной привычкой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47%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зависимостью —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38%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еизлечимой болезнью —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9%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е смогли определить своего отношения  к курению —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6%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респондентов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100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"/>
          <p:cNvSpPr/>
          <p:nvPr/>
        </p:nvSpPr>
        <p:spPr>
          <a:xfrm>
            <a:off x="826920" y="404640"/>
            <a:ext cx="79218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По данным Всемирной организации здравоохранения: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— в мире 90% смертей от рака легких, 75% — от хронического бронхита и 25% — от ишемической болезни сердца обусловлены курением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— каждые десять секунд на планете умирает один заядлый курильщик (к 2020 году этот уровень может повыситься до одного человека за три секунды)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— в России курит минимум каждая десятая женщина, а среди старшеклассников и студентов - 53% юношей и 28% девушек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— заядлыми курильщиками сегодня можно назвать 50-60% российских мужчин (среди некоторых категорий граждан эта цифра достигает 95%)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— курение и вызываемые им заболевания ежегодно становятся причиной смерти не менее чем миллиона граждан Росс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1"/>
          <p:cNvSpPr/>
          <p:nvPr/>
        </p:nvSpPr>
        <p:spPr>
          <a:xfrm>
            <a:off x="250920" y="333360"/>
            <a:ext cx="8281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России </a:t>
            </a: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17%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всех смертей связано с табакокурением, то есть ежегодно в связи с употреблением табака погибает от 350 до 500 тысяч россия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2"/>
          <p:cNvSpPr/>
          <p:nvPr/>
        </p:nvSpPr>
        <p:spPr>
          <a:xfrm>
            <a:off x="3708360" y="1484280"/>
            <a:ext cx="525636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К каким заболеваниям приводит курени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Курение разрушает лёгкие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овреждается значительная часть лёгочной ткани. Развивается хроническая обструктивная болезнь лёгких, появляются изнуряющие кашель и одышка из-за хронического недостатка кислорода и воспаления бронхов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Человек не только утрачивает работоспособность - он превращается в инвалида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Курение ведёт к инфаркту миокарда и инсульту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Курение способствует быстрому и раннему развитию атеросклероза. Содержащийся в табачном дыме никотин повреждает стенки сосудов и способствует усиленному свёртыванию крови внутри сосудов (формированию тромбов)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В результате закупориваются артерии сердца и головного мозга, что ведёт к инфаркту миокарда и инсульт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" descr="Картинка 112 из 93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680" y="1676520"/>
            <a:ext cx="3664080" cy="343188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ttp://biznesslanch.files.wordpress.com/2010/11/russian-anti-smoking-ad-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765000"/>
            <a:ext cx="3322800" cy="511200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2"/>
          <p:cNvSpPr/>
          <p:nvPr/>
        </p:nvSpPr>
        <p:spPr>
          <a:xfrm>
            <a:off x="3995640" y="765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Курение вызывает рак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Табачный дым содержит более 3000 химических соединений, 60 из которых способны вызвать рак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Более 90 процентов этих смертей связаны с курением и почти все их можно было бы предотвратить!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урение также приводит к раку гортани, ротовой полости, пищевода, поджелудочной железы, мочевого пузыря и поч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ttp://www.kroo-tp.ru/images/stories/1193498182_k_17.jpg"/>
          <p:cNvPicPr/>
          <p:nvPr/>
        </p:nvPicPr>
        <p:blipFill>
          <a:blip r:embed="rId1"/>
          <a:stretch/>
        </p:blipFill>
        <p:spPr>
          <a:xfrm>
            <a:off x="324000" y="333360"/>
            <a:ext cx="6119640" cy="626436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2"/>
          <p:cNvSpPr/>
          <p:nvPr/>
        </p:nvSpPr>
        <p:spPr>
          <a:xfrm>
            <a:off x="6659640" y="1125360"/>
            <a:ext cx="2305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Никотин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- один из сильнейших известных ядов, в хозяйстве используется как инсектицид. После проникновения сигаретного дыма в легкие, никотин попадает в мозг уже через семь секунд. Постоянное и длительное курение табака приводит к преждевременному  стар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Картинка 8 из 9326"/>
          <p:cNvPicPr/>
          <p:nvPr/>
        </p:nvPicPr>
        <p:blipFill>
          <a:blip r:embed="rId1"/>
          <a:stretch/>
        </p:blipFill>
        <p:spPr>
          <a:xfrm>
            <a:off x="539640" y="476280"/>
            <a:ext cx="8058240" cy="5761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4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"/>
          <p:cNvSpPr/>
          <p:nvPr/>
        </p:nvSpPr>
        <p:spPr>
          <a:xfrm>
            <a:off x="5003640" y="1125360"/>
            <a:ext cx="3780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собенно вреден никотин беременным, так как это приводит к рождению слабых, с низким весом детей, и кормящим женщинам - повышается заболеваемость и смертность детей в первые годы жизни. После выкуренной беременной женщиной сигареты, наступает спазм кровеносных сосудов плаценты, и плод находится в состоянии легкого кислородного голодания несколько мину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http://im3-tub-ru.yandex.net/i?id=368240884-42-72"/>
          <p:cNvPicPr/>
          <p:nvPr/>
        </p:nvPicPr>
        <p:blipFill>
          <a:blip r:embed="rId1"/>
          <a:stretch/>
        </p:blipFill>
        <p:spPr>
          <a:xfrm>
            <a:off x="179280" y="476280"/>
            <a:ext cx="367992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07:59:32Z</dcterms:created>
  <dc:creator>3</dc:creator>
  <dc:description/>
  <dc:language>en-US</dc:language>
  <cp:lastModifiedBy>Ольга</cp:lastModifiedBy>
  <dcterms:modified xsi:type="dcterms:W3CDTF">2011-11-21T18:15:37Z</dcterms:modified>
  <cp:revision>15</cp:revision>
  <dc:subject/>
  <dc:title>Слайд 1</dc:title>
</cp:coreProperties>
</file>