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27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1.jpeg" ContentType="image/jpeg"/>
  <Override PartName="/ppt/media/image8.png" ContentType="image/png"/>
  <Override PartName="/ppt/media/image14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5.png" ContentType="image/png"/>
  <Override PartName="/ppt/media/image10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15.jpeg" ContentType="image/jpeg"/>
  <Override PartName="/ppt/media/image16.png" ContentType="image/png"/>
  <Override PartName="/ppt/media/image17.jpeg" ContentType="image/jpeg"/>
  <Override PartName="/ppt/media/image18.jpeg" ContentType="image/jpeg"/>
  <Override PartName="/ppt/media/image19.jpeg" ContentType="image/jpeg"/>
  <Override PartName="/ppt/media/image20.png" ContentType="image/png"/>
  <Override PartName="/ppt/media/image28.jpeg" ContentType="image/jpeg"/>
  <Override PartName="/ppt/media/image21.png" ContentType="image/png"/>
  <Override PartName="/ppt/media/image24.jpeg" ContentType="image/jpeg"/>
  <Override PartName="/ppt/media/image22.png" ContentType="image/png"/>
  <Override PartName="/ppt/media/image23.jpeg" ContentType="image/jpeg"/>
  <Override PartName="/ppt/media/image2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C3066-C935-48C2-BD74-5C55EDEBF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34F88-66EC-4A1D-B922-4902F6D1B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77F10-5753-4221-88CB-85A272F1A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55530-7CBB-4CF7-9B23-754B261AC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AAF46-64B1-429A-9629-E7AD164FB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BF083-E4FA-4796-9B5A-C98AC587E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8AB43-28ED-4AFC-AC40-B390DA29B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EDAF6-2522-4130-B435-FF520D6C4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B5A49-CF9B-40F4-962B-B85490422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BCBF9-DC35-4E44-8880-CE2B19AA1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4752D-5A8D-4B30-906F-D8A8AC4B8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F7A96-7EAB-4881-A92A-27C952723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79190-F7C5-4683-B47B-5207EAA30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627A7-3E4A-4626-9066-2E9240DC9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3E949-6E2A-4D4B-BE31-56783678F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82676-7F03-46D1-AC29-2D36A061B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57216-333D-45A5-B0F3-C3FD4FBEB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4B56A9-129A-498B-81C4-7F93C171D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5AC634-B8AC-4FC4-8C5D-EBD4AA919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2F31E5-147F-41CA-BFC8-39298B30F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AF0DFB-EAC4-4CAF-ADA8-DAA1141EC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AA21FA-44DB-4F33-B7A8-5D4DD6016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23637-1243-4C25-9DFD-BE6279E4F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E664AB-BA77-43C2-8F42-DB737DF7C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860D58-D0D5-4C7F-8079-73035A6E6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A32CF8-A97E-4AF1-8B99-3F5020607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1A2168-2BC5-4442-957C-0CF77996F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F88D20-4A65-49EC-9135-244F2632E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693A02-61E2-4AD2-9214-C9E8E5A51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EC4FC0-2B6E-4497-B21C-2D55A775D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AE388C-6F16-49AC-9EFA-53463E6A2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5C0D2E-D1E6-483A-A0F3-274127C5D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872779-2690-4DF7-ACA0-C91B40129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31113-A458-4FA8-B47C-3D1682A09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D6475C-255A-433C-98D8-5F8966063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7F769F-9E1B-4A17-ACC1-79EA1E98B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7B8FBD-4EE1-44D5-AA0F-ECDC1C807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6474AF-57B4-4811-B69A-BA32B314B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9208F6-2A76-4256-BE73-BF6A7DF6F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C74092-7364-4448-A46B-60A32DB3E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1CCCDC-E17E-4325-80AB-B4F109569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4B30FD-153F-47E4-B873-C1B03D5B9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3A7998-B6B2-4988-BB6D-149076C04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661342-0D44-476B-83AB-2BC9AB7C2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DF4E3-09F7-4B2C-B6E3-7612C97C9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3A0D4F-A889-4F3C-AF57-232CB197B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5814D3-6D88-4A9C-8ADC-D50DDE154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F0B075-8FC3-4DB2-82A1-D366AB95C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D92189-8A5F-4C6C-8018-BD2C2B3AB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144420-A498-4035-A739-79D62E3D9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3FDD19-D087-48D3-AF67-61419A0BD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E434DF-6BA7-4E04-9868-53375337C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75618D-6BD1-4542-8591-79485BD48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5FD735-F270-4EBA-8AE6-5767D6D20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047169-680A-42DF-B94C-A8C2E41FB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C852C-B918-4A1A-9170-50F6745FA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FA90CB-F3AA-40F5-9808-268DBCFF6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39048E-B643-43CD-B255-E7ED96CAB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1FE6BA-F278-4F78-8D50-0CF728719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B61CFB-69BC-4A29-9B8F-7FCBE6A4A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84A305-3855-43E4-8FCB-6A54EC67E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A3847A-A7AA-4889-A480-BE37D0A14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8018EA-BC9A-4FA5-A627-EB3DD3D7C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79EF54-F7E3-4DE2-8F4A-72963FCC0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45A09C-C447-4966-9D50-2AF8408DC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081D74-1FA5-4CA3-BE82-CE18000D4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9AC56-4437-4D31-A309-45DAECD5B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8EF0CC-8849-4F3C-9C3E-E9FC25864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3E0449-B34B-4657-8C26-1C5524DB5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D83BBE-8143-4055-9587-E4B8A208D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3F360D-872D-44A7-A038-6F8E15875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D3FEF6-E6DA-4570-832A-9798851DC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4D87D1-ECFD-478B-9F48-DDD0AA315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61A5F3-5706-46C6-B43D-90118A148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27DE52-EA02-4B81-8595-9F3F7F82F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3B1061-9047-4AE7-B8C6-ADC9A976A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AA415D-BA6F-4223-A7C2-AB7F5B2D5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4D796-7AE2-41EC-8FD3-2477BDAC9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FD33F0-9C54-4C56-AA27-37DD2F3DF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F0E41E-89C6-47A1-AD86-31989FA6B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3C2910-E391-4EA0-8A66-BCF639E6E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D9654B-57F8-47B6-BFB8-FCE634EBA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BF387E-D3C7-4EF2-B236-59127634F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2E3D9-4648-43E5-8B38-71FA02350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5000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8110B-C35E-40E6-8034-DBF417760A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5000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4444F-027B-425B-ABF5-FE55BFE1B59D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5000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F48EE-1A7B-474E-BED2-A987E8633420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91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2f00"/>
            </a:gs>
            <a:gs pos="50000">
              <a:srgbClr val="996600"/>
            </a:gs>
            <a:gs pos="100000">
              <a:srgbClr val="462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3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10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11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12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48E0F-7243-4750-AF75-757D84D44FC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2f00"/>
            </a:gs>
            <a:gs pos="50000">
              <a:srgbClr val="996600"/>
            </a:gs>
            <a:gs pos="100000">
              <a:srgbClr val="462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20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1" name="PlaceHolder 1"/>
          <p:cNvSpPr>
            <a:spLocks noGrp="1"/>
          </p:cNvSpPr>
          <p:nvPr>
            <p:ph type="dt" idx="13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ftr" idx="14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 type="sldNum" idx="15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79535-1316-4F54-BB65-5595E641C32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2f00"/>
            </a:gs>
            <a:gs pos="50000">
              <a:srgbClr val="996600"/>
            </a:gs>
            <a:gs pos="100000">
              <a:srgbClr val="462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282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 type="dt" idx="16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 type="ftr" idx="17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 type="sldNum" idx="18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AD02E-0072-4578-97B1-C76E7A26CD9B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2f00"/>
            </a:gs>
            <a:gs pos="50000">
              <a:srgbClr val="996600"/>
            </a:gs>
            <a:gs pos="100000">
              <a:srgbClr val="462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7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358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2" name="PlaceHolder 1"/>
          <p:cNvSpPr>
            <a:spLocks noGrp="1"/>
          </p:cNvSpPr>
          <p:nvPr>
            <p:ph type="dt" idx="19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ftr" idx="20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 type="sldNum" idx="21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731A0-F7EF-42E2-B014-E913C046979B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2f00"/>
            </a:gs>
            <a:gs pos="50000">
              <a:srgbClr val="996600"/>
            </a:gs>
            <a:gs pos="100000">
              <a:srgbClr val="462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 txBox="1"/>
          <p:nvPr/>
        </p:nvSpPr>
        <p:spPr>
          <a:xfrm rot="675000">
            <a:off x="685440" y="-151920"/>
            <a:ext cx="7724880" cy="572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урение.</a:t>
            </a:r>
            <a:endParaRPr b="1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Его влияние на здоровье</a:t>
            </a:r>
            <a:endParaRPr b="1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p:transition>
    <p:strips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5000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1" name="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4143240" cy="3238560"/>
          </a:xfrm>
          <a:prstGeom prst="rect">
            <a:avLst/>
          </a:prstGeom>
          <a:ln w="0">
            <a:noFill/>
          </a:ln>
        </p:spPr>
      </p:pic>
      <p:pic>
        <p:nvPicPr>
          <p:cNvPr id="482" name="" descr=""/>
          <p:cNvPicPr/>
          <p:nvPr/>
        </p:nvPicPr>
        <p:blipFill>
          <a:blip r:embed="rId2">
            <a:lum contrast="36000"/>
          </a:blip>
          <a:srcRect l="0" t="0" r="0" b="14972"/>
          <a:stretch/>
        </p:blipFill>
        <p:spPr>
          <a:xfrm>
            <a:off x="5105520" y="2438280"/>
            <a:ext cx="3809880" cy="3605400"/>
          </a:xfrm>
          <a:prstGeom prst="rect">
            <a:avLst/>
          </a:prstGeom>
          <a:ln w="0">
            <a:noFill/>
          </a:ln>
        </p:spPr>
      </p:pic>
      <p:sp>
        <p:nvSpPr>
          <p:cNvPr id="483" name=""/>
          <p:cNvSpPr/>
          <p:nvPr/>
        </p:nvSpPr>
        <p:spPr>
          <a:xfrm>
            <a:off x="1066680" y="4724280"/>
            <a:ext cx="3733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рганы мишени: желудок, десны, зуб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5000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4" name="" descr=""/>
          <p:cNvPicPr/>
          <p:nvPr/>
        </p:nvPicPr>
        <p:blipFill>
          <a:blip r:embed="rId1"/>
          <a:stretch/>
        </p:blipFill>
        <p:spPr>
          <a:xfrm>
            <a:off x="352440" y="380880"/>
            <a:ext cx="2957400" cy="4419720"/>
          </a:xfrm>
          <a:prstGeom prst="rect">
            <a:avLst/>
          </a:prstGeom>
          <a:ln w="0">
            <a:noFill/>
          </a:ln>
        </p:spPr>
      </p:pic>
      <p:pic>
        <p:nvPicPr>
          <p:cNvPr id="485" name="" descr=""/>
          <p:cNvPicPr/>
          <p:nvPr/>
        </p:nvPicPr>
        <p:blipFill>
          <a:blip r:embed="rId2"/>
          <a:stretch/>
        </p:blipFill>
        <p:spPr>
          <a:xfrm>
            <a:off x="3200400" y="2514600"/>
            <a:ext cx="2286000" cy="2049480"/>
          </a:xfrm>
          <a:prstGeom prst="rect">
            <a:avLst/>
          </a:prstGeom>
          <a:ln w="0">
            <a:noFill/>
          </a:ln>
        </p:spPr>
      </p:pic>
      <p:pic>
        <p:nvPicPr>
          <p:cNvPr id="486" name="" descr=""/>
          <p:cNvPicPr/>
          <p:nvPr/>
        </p:nvPicPr>
        <p:blipFill>
          <a:blip r:embed="rId3"/>
          <a:stretch/>
        </p:blipFill>
        <p:spPr>
          <a:xfrm>
            <a:off x="5326200" y="2819520"/>
            <a:ext cx="3589200" cy="4038480"/>
          </a:xfrm>
          <a:prstGeom prst="rect">
            <a:avLst/>
          </a:prstGeom>
          <a:ln w="0">
            <a:noFill/>
          </a:ln>
        </p:spPr>
      </p:pic>
      <p:sp>
        <p:nvSpPr>
          <p:cNvPr id="487" name=""/>
          <p:cNvSpPr/>
          <p:nvPr/>
        </p:nvSpPr>
        <p:spPr>
          <a:xfrm>
            <a:off x="3657600" y="838080"/>
            <a:ext cx="4495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Курящая женщин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беда вдвой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5000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8" name="" descr=""/>
          <p:cNvPicPr/>
          <p:nvPr/>
        </p:nvPicPr>
        <p:blipFill>
          <a:blip r:embed="rId1"/>
          <a:srcRect l="4943" t="15007" r="4943" b="6563"/>
          <a:stretch/>
        </p:blipFill>
        <p:spPr>
          <a:xfrm>
            <a:off x="0" y="380880"/>
            <a:ext cx="9144000" cy="6064200"/>
          </a:xfrm>
          <a:prstGeom prst="rect">
            <a:avLst/>
          </a:prstGeom>
          <a:ln w="0">
            <a:noFill/>
          </a:ln>
        </p:spPr>
      </p:pic>
      <p:pic>
        <p:nvPicPr>
          <p:cNvPr id="489" name="" descr=""/>
          <p:cNvPicPr/>
          <p:nvPr/>
        </p:nvPicPr>
        <p:blipFill>
          <a:blip r:embed="rId2"/>
          <a:stretch/>
        </p:blipFill>
        <p:spPr>
          <a:xfrm>
            <a:off x="1905120" y="0"/>
            <a:ext cx="4903560" cy="6858000"/>
          </a:xfrm>
          <a:prstGeom prst="rect">
            <a:avLst/>
          </a:prstGeom>
          <a:ln w="0">
            <a:noFill/>
          </a:ln>
        </p:spPr>
      </p:pic>
      <p:pic>
        <p:nvPicPr>
          <p:cNvPr id="490" name="" descr=""/>
          <p:cNvPicPr/>
          <p:nvPr/>
        </p:nvPicPr>
        <p:blipFill>
          <a:blip r:embed="rId3"/>
          <a:stretch/>
        </p:blipFill>
        <p:spPr>
          <a:xfrm>
            <a:off x="533520" y="9360"/>
            <a:ext cx="8153280" cy="684864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4" dur="20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5000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1" name="" descr=""/>
          <p:cNvPicPr/>
          <p:nvPr/>
        </p:nvPicPr>
        <p:blipFill>
          <a:blip r:embed="rId1"/>
          <a:srcRect l="0" t="0" r="0" b="11266"/>
          <a:stretch/>
        </p:blipFill>
        <p:spPr>
          <a:xfrm>
            <a:off x="228600" y="533520"/>
            <a:ext cx="3629160" cy="4800600"/>
          </a:xfrm>
          <a:prstGeom prst="rect">
            <a:avLst/>
          </a:prstGeom>
          <a:ln w="0">
            <a:noFill/>
          </a:ln>
        </p:spPr>
      </p:pic>
      <p:sp>
        <p:nvSpPr>
          <p:cNvPr id="492" name=""/>
          <p:cNvSpPr/>
          <p:nvPr/>
        </p:nvSpPr>
        <p:spPr>
          <a:xfrm>
            <a:off x="4038480" y="457200"/>
            <a:ext cx="4496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Рак – самое страшное последствие кур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3" name="" descr=""/>
          <p:cNvPicPr/>
          <p:nvPr/>
        </p:nvPicPr>
        <p:blipFill>
          <a:blip r:embed="rId2"/>
          <a:srcRect l="0" t="0" r="38888" b="0"/>
          <a:stretch/>
        </p:blipFill>
        <p:spPr>
          <a:xfrm>
            <a:off x="4419720" y="1981080"/>
            <a:ext cx="3538440" cy="464832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5000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4" name="" descr=""/>
          <p:cNvPicPr/>
          <p:nvPr/>
        </p:nvPicPr>
        <p:blipFill>
          <a:blip r:embed="rId1"/>
          <a:stretch/>
        </p:blipFill>
        <p:spPr>
          <a:xfrm>
            <a:off x="1238400" y="0"/>
            <a:ext cx="6669000" cy="6858000"/>
          </a:xfrm>
          <a:prstGeom prst="rect">
            <a:avLst/>
          </a:prstGeom>
          <a:ln w="0">
            <a:noFill/>
          </a:ln>
        </p:spPr>
      </p:pic>
      <p:sp>
        <p:nvSpPr>
          <p:cNvPr id="495" name=""/>
          <p:cNvSpPr/>
          <p:nvPr/>
        </p:nvSpPr>
        <p:spPr>
          <a:xfrm>
            <a:off x="228600" y="2133720"/>
            <a:ext cx="8686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Пассивное курение - вдыхание воздуха с табачным дымом способствует развитию у некурящих заболеваний, свойственных курильщикам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6" name="" descr=""/>
          <p:cNvPicPr/>
          <p:nvPr/>
        </p:nvPicPr>
        <p:blipFill>
          <a:blip r:embed="rId2"/>
          <a:stretch/>
        </p:blipFill>
        <p:spPr>
          <a:xfrm>
            <a:off x="0" y="689040"/>
            <a:ext cx="9144000" cy="547992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98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4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5000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"/>
          <p:cNvSpPr/>
          <p:nvPr/>
        </p:nvSpPr>
        <p:spPr>
          <a:xfrm>
            <a:off x="228600" y="990720"/>
            <a:ext cx="4648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каждые 10 секунд еще один человек в мире умирает в результате потребления таба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5486400" y="1295280"/>
            <a:ext cx="365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табак ежегодно убивает около трех миллионов человек во всем мир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1600200" y="2590920"/>
            <a:ext cx="6095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начиная с 1950 года, табак убил 62 миллиона человек, то есть больше, чем погибло во второй мировой войн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3733920" y="3962520"/>
            <a:ext cx="5410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Если человек начал курить в 15 лет, то продолжительность его жизни уменьшается более чем на 8 ле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533520" y="5334120"/>
            <a:ext cx="4952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Начавшие курить до 15 лет в 5 раз чаще умирают от рака, чем те, кто начал курить после 25 ле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1066680" y="152280"/>
            <a:ext cx="61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Статистические дан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5000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3" name="" descr=""/>
          <p:cNvPicPr/>
          <p:nvPr/>
        </p:nvPicPr>
        <p:blipFill>
          <a:blip r:embed="rId1"/>
          <a:stretch/>
        </p:blipFill>
        <p:spPr>
          <a:xfrm>
            <a:off x="1828800" y="1447920"/>
            <a:ext cx="4762440" cy="3267000"/>
          </a:xfrm>
          <a:prstGeom prst="rect">
            <a:avLst/>
          </a:prstGeom>
          <a:ln w="0">
            <a:noFill/>
          </a:ln>
        </p:spPr>
      </p:pic>
      <p:sp>
        <p:nvSpPr>
          <p:cNvPr id="504" name=""/>
          <p:cNvSpPr/>
          <p:nvPr/>
        </p:nvSpPr>
        <p:spPr>
          <a:xfrm>
            <a:off x="1447920" y="380880"/>
            <a:ext cx="541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Рекламная пауз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5" name="" descr=""/>
          <p:cNvPicPr/>
          <p:nvPr/>
        </p:nvPicPr>
        <p:blipFill>
          <a:blip r:embed="rId2"/>
          <a:stretch/>
        </p:blipFill>
        <p:spPr>
          <a:xfrm>
            <a:off x="6629400" y="228600"/>
            <a:ext cx="2336760" cy="3505320"/>
          </a:xfrm>
          <a:prstGeom prst="rect">
            <a:avLst/>
          </a:prstGeom>
          <a:ln w="0">
            <a:noFill/>
          </a:ln>
        </p:spPr>
      </p:pic>
      <p:pic>
        <p:nvPicPr>
          <p:cNvPr id="506" name="" descr=""/>
          <p:cNvPicPr/>
          <p:nvPr/>
        </p:nvPicPr>
        <p:blipFill>
          <a:blip r:embed="rId3"/>
          <a:stretch/>
        </p:blipFill>
        <p:spPr>
          <a:xfrm>
            <a:off x="228600" y="4038480"/>
            <a:ext cx="3505320" cy="2719440"/>
          </a:xfrm>
          <a:prstGeom prst="rect">
            <a:avLst/>
          </a:prstGeom>
          <a:ln w="0">
            <a:noFill/>
          </a:ln>
        </p:spPr>
      </p:pic>
      <p:pic>
        <p:nvPicPr>
          <p:cNvPr id="507" name="" descr=""/>
          <p:cNvPicPr/>
          <p:nvPr/>
        </p:nvPicPr>
        <p:blipFill>
          <a:blip r:embed="rId4"/>
          <a:stretch/>
        </p:blipFill>
        <p:spPr>
          <a:xfrm>
            <a:off x="990720" y="1219320"/>
            <a:ext cx="6248160" cy="412596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6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4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69" dur="2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5000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"/>
          <p:cNvSpPr/>
          <p:nvPr/>
        </p:nvSpPr>
        <p:spPr>
          <a:xfrm>
            <a:off x="228600" y="838080"/>
            <a:ext cx="8686800" cy="50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Творческая групповая работ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-я группа – нарисовать листовку-антирекламу куре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-я группа – написать письмо ровеснику, который собирается начать курить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-я группа – написать обращение от имени детей к курящим родителям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-я группа – рассчитать финансовые затраты, связанные с курение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5000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"/>
          <p:cNvSpPr txBox="1"/>
          <p:nvPr/>
        </p:nvSpPr>
        <p:spPr>
          <a:xfrm rot="675000">
            <a:off x="1066680" y="1295280"/>
            <a:ext cx="6629400" cy="38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Курение</a:t>
            </a:r>
            <a:endParaRPr b="1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p:transition>
    <p:strips dir="r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5000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"/>
          <p:cNvSpPr/>
          <p:nvPr/>
        </p:nvSpPr>
        <p:spPr>
          <a:xfrm>
            <a:off x="380880" y="1371600"/>
            <a:ext cx="8458200" cy="32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Домашнее задание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ставить буклет о вреде курения на основе Интернет-сайто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http://antikurenie.narod.ru/true.html - Сайт о вреде кур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http://omp.ucoz.com/index/o_vrede_kurenija/0-45 - Информационно-профилактический портал «Наше здоровье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http://www.russlav.ru/tabak/kurenie_podrostkov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http://tabak-vred.ru/na-podrostkov.ph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http://www.med39.ru/article/other/a11.htm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5000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"/>
          <p:cNvSpPr/>
          <p:nvPr/>
        </p:nvSpPr>
        <p:spPr>
          <a:xfrm>
            <a:off x="1295280" y="380880"/>
            <a:ext cx="73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Тест «Что мы знаем о курении?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533520" y="160020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 Подростки курят, чтобы «быть как все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7467480" y="16765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99cc00"/>
                </a:solidFill>
                <a:latin typeface="Times New Roman"/>
              </a:rPr>
              <a:t>верно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533520" y="2286000"/>
            <a:ext cx="792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 Некурящие вынуждены страдать от заболеваний дыхательной системы в результате пассивного кур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7543800" y="29718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99cc00"/>
                </a:solidFill>
                <a:latin typeface="Times New Roman"/>
              </a:rPr>
              <a:t>верно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533520" y="3581280"/>
            <a:ext cx="7010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. Курение помогает успокоиться, когда человек нервнича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неверно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533520" y="472428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. В легких человека при выкуривании ежедневно по пачке сигарет, за год оседает 1 литр смол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7620120" y="510552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99cc00"/>
                </a:solidFill>
                <a:latin typeface="Times New Roman"/>
              </a:rPr>
              <a:t>верно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533520" y="5791320"/>
            <a:ext cx="693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. Физические упражнения нейтрализуют вред, наносимый курени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7315200" y="6095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неверно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2f00"/>
            </a:gs>
            <a:gs pos="50000">
              <a:srgbClr val="996600"/>
            </a:gs>
            <a:gs pos="100000">
              <a:srgbClr val="462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"/>
          <p:cNvSpPr txBox="1"/>
          <p:nvPr/>
        </p:nvSpPr>
        <p:spPr>
          <a:xfrm rot="675000">
            <a:off x="761760" y="457200"/>
            <a:ext cx="7724520" cy="572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урить или не курить?</a:t>
            </a:r>
            <a:endParaRPr b="1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ыбор за вами!</a:t>
            </a:r>
            <a:endParaRPr b="1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p:transition>
    <p:strips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5000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"/>
          <p:cNvSpPr/>
          <p:nvPr/>
        </p:nvSpPr>
        <p:spPr>
          <a:xfrm>
            <a:off x="1145160" y="533520"/>
            <a:ext cx="698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Тест «Что мы знаем о курении?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762120" y="1752480"/>
            <a:ext cx="6400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380880" y="1447920"/>
            <a:ext cx="708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. Одной сигареты достаточно, чтобы участился пульс, повысилось кровяное давл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7162920" y="1828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99cc00"/>
                </a:solidFill>
                <a:latin typeface="Times New Roman"/>
              </a:rPr>
              <a:t>верно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380880" y="2362320"/>
            <a:ext cx="6782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. Большинство курящих получают от курения удовольствие и не собираются броса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7238880" y="27432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неверно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80880" y="335268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. Табакокурение является одной из основных причин заболеваний сердц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7467480" y="37339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99cc00"/>
                </a:solidFill>
                <a:latin typeface="Times New Roman"/>
              </a:rPr>
              <a:t>верно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380880" y="4343400"/>
            <a:ext cx="7696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9. Большинство курящих в состоянии бросить курить в любое врем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723888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неверно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380880" y="5334120"/>
            <a:ext cx="853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0. Нет ничего страшного в том, что подростки «балуются» сигаретами, если они оставят это занятие до того, как курение превратится в привычк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7238880" y="617220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неверно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5000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"/>
          <p:cNvSpPr/>
          <p:nvPr/>
        </p:nvSpPr>
        <p:spPr>
          <a:xfrm>
            <a:off x="685800" y="838080"/>
            <a:ext cx="8153280" cy="48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Задачи урока: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ознакомиться с влиянием табака на организм человека, с понятием «пассивное курение» и его опасностью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ропагандировать здоровый образ жизн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развивать умение искать дополнительный материал в сети Интернет, выступать перед аудиторией, высказывать свое мнение, выполнять творческие мини-проект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5000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/>
          <p:nvPr/>
        </p:nvSpPr>
        <p:spPr>
          <a:xfrm>
            <a:off x="2590920" y="228600"/>
            <a:ext cx="40384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Из истори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табакокур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6746760" y="228600"/>
            <a:ext cx="1932120" cy="1981080"/>
          </a:xfrm>
          <a:prstGeom prst="rect">
            <a:avLst/>
          </a:prstGeom>
          <a:ln w="0">
            <a:noFill/>
          </a:ln>
        </p:spPr>
      </p:pic>
      <p:pic>
        <p:nvPicPr>
          <p:cNvPr id="459" name="" descr=""/>
          <p:cNvPicPr/>
          <p:nvPr/>
        </p:nvPicPr>
        <p:blipFill>
          <a:blip r:embed="rId2"/>
          <a:srcRect l="14934" t="0" r="0" b="5928"/>
          <a:stretch/>
        </p:blipFill>
        <p:spPr>
          <a:xfrm>
            <a:off x="228600" y="1828800"/>
            <a:ext cx="5210280" cy="4838760"/>
          </a:xfrm>
          <a:prstGeom prst="rect">
            <a:avLst/>
          </a:prstGeom>
          <a:ln w="0">
            <a:noFill/>
          </a:ln>
        </p:spPr>
      </p:pic>
      <p:pic>
        <p:nvPicPr>
          <p:cNvPr id="460" name="" descr=""/>
          <p:cNvPicPr/>
          <p:nvPr/>
        </p:nvPicPr>
        <p:blipFill>
          <a:blip r:embed="rId3"/>
          <a:stretch/>
        </p:blipFill>
        <p:spPr>
          <a:xfrm>
            <a:off x="533520" y="152280"/>
            <a:ext cx="1218960" cy="1549440"/>
          </a:xfrm>
          <a:prstGeom prst="rect">
            <a:avLst/>
          </a:prstGeom>
          <a:ln w="0">
            <a:noFill/>
          </a:ln>
        </p:spPr>
      </p:pic>
      <p:pic>
        <p:nvPicPr>
          <p:cNvPr id="461" name="" descr=""/>
          <p:cNvPicPr/>
          <p:nvPr/>
        </p:nvPicPr>
        <p:blipFill>
          <a:blip r:embed="rId4"/>
          <a:srcRect l="0" t="0" r="0" b="12516"/>
          <a:stretch/>
        </p:blipFill>
        <p:spPr>
          <a:xfrm>
            <a:off x="914400" y="3276720"/>
            <a:ext cx="2362320" cy="1600200"/>
          </a:xfrm>
          <a:prstGeom prst="rect">
            <a:avLst/>
          </a:prstGeom>
          <a:ln w="0">
            <a:noFill/>
          </a:ln>
        </p:spPr>
      </p:pic>
      <p:pic>
        <p:nvPicPr>
          <p:cNvPr id="462" name="" descr=""/>
          <p:cNvPicPr/>
          <p:nvPr/>
        </p:nvPicPr>
        <p:blipFill>
          <a:blip r:embed="rId5"/>
          <a:stretch/>
        </p:blipFill>
        <p:spPr>
          <a:xfrm>
            <a:off x="6415200" y="3352680"/>
            <a:ext cx="1985760" cy="2210040"/>
          </a:xfrm>
          <a:prstGeom prst="rect">
            <a:avLst/>
          </a:prstGeom>
          <a:ln w="0">
            <a:noFill/>
          </a:ln>
        </p:spPr>
      </p:pic>
      <p:sp>
        <p:nvSpPr>
          <p:cNvPr id="463" name=""/>
          <p:cNvSpPr/>
          <p:nvPr/>
        </p:nvSpPr>
        <p:spPr>
          <a:xfrm>
            <a:off x="6172200" y="5867280"/>
            <a:ext cx="243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Христофор Колум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1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1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1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5000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4" name="" descr=""/>
          <p:cNvPicPr/>
          <p:nvPr/>
        </p:nvPicPr>
        <p:blipFill>
          <a:blip r:embed="rId1"/>
          <a:stretch/>
        </p:blipFill>
        <p:spPr>
          <a:xfrm>
            <a:off x="0" y="533520"/>
            <a:ext cx="9144000" cy="5763960"/>
          </a:xfrm>
          <a:prstGeom prst="rect">
            <a:avLst/>
          </a:prstGeom>
          <a:ln w="0">
            <a:noFill/>
          </a:ln>
        </p:spPr>
      </p:pic>
      <p:pic>
        <p:nvPicPr>
          <p:cNvPr id="465" name="" descr=""/>
          <p:cNvPicPr/>
          <p:nvPr/>
        </p:nvPicPr>
        <p:blipFill>
          <a:blip r:embed="rId2"/>
          <a:stretch/>
        </p:blipFill>
        <p:spPr>
          <a:xfrm>
            <a:off x="509760" y="533520"/>
            <a:ext cx="2465280" cy="2743200"/>
          </a:xfrm>
          <a:prstGeom prst="rect">
            <a:avLst/>
          </a:prstGeom>
          <a:ln w="0">
            <a:noFill/>
          </a:ln>
        </p:spPr>
      </p:pic>
      <p:pic>
        <p:nvPicPr>
          <p:cNvPr id="466" name="" descr=""/>
          <p:cNvPicPr/>
          <p:nvPr/>
        </p:nvPicPr>
        <p:blipFill>
          <a:blip r:embed="rId3"/>
          <a:stretch/>
        </p:blipFill>
        <p:spPr>
          <a:xfrm>
            <a:off x="6095880" y="2133720"/>
            <a:ext cx="2533680" cy="2819160"/>
          </a:xfrm>
          <a:prstGeom prst="rect">
            <a:avLst/>
          </a:prstGeom>
          <a:ln w="0">
            <a:noFill/>
          </a:ln>
        </p:spPr>
      </p:pic>
      <p:pic>
        <p:nvPicPr>
          <p:cNvPr id="467" name="" descr=""/>
          <p:cNvPicPr/>
          <p:nvPr/>
        </p:nvPicPr>
        <p:blipFill>
          <a:blip r:embed="rId4"/>
          <a:stretch/>
        </p:blipFill>
        <p:spPr>
          <a:xfrm>
            <a:off x="838080" y="609480"/>
            <a:ext cx="7467840" cy="562608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7" dur="2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5000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"/>
          <p:cNvSpPr/>
          <p:nvPr/>
        </p:nvSpPr>
        <p:spPr>
          <a:xfrm>
            <a:off x="533520" y="380880"/>
            <a:ext cx="8076960" cy="235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Состав табачного дым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Табак содержит 91 органическое вещество, при термическом разложении которых образуется до 1200 твердых и газообразных соединений, в том числе и ядовитых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304920" y="2590920"/>
            <a:ext cx="3429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икотин,         </a:t>
            </a:r>
            <a:r>
              <a:rPr b="1" lang="ru-RU" sz="2400" spc="-1" strike="noStrike">
                <a:solidFill>
                  <a:srgbClr val="ff3300"/>
                </a:solidFill>
                <a:latin typeface="Times New Roman"/>
              </a:rPr>
              <a:t>бензидин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ru-RU" sz="2400" spc="-1" strike="noStrike">
                <a:solidFill>
                  <a:srgbClr val="ff3300"/>
                </a:solidFill>
                <a:latin typeface="Times New Roman"/>
              </a:rPr>
              <a:t>          бензпирен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,                           азот, водород, аргон,                угарный газ, метан и          цианистый водород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3886200" y="4267080"/>
            <a:ext cx="4876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ацетальдегид, ацетон, аммиак, бензол, бутиламин, диметиламин, ДДТ, этиламин, формальдегид, сероводород, гидрохинон, метиловый спирт, метиламин, соединения никеля и пирид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5000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"/>
          <p:cNvSpPr/>
          <p:nvPr/>
        </p:nvSpPr>
        <p:spPr>
          <a:xfrm>
            <a:off x="0" y="5791320"/>
            <a:ext cx="5029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Легкие некурящего челове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6400800" y="762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4648320" y="15228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Легкие курильщ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 flipV="1">
            <a:off x="2666880" y="533376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5" name="" descr=""/>
          <p:cNvPicPr/>
          <p:nvPr/>
        </p:nvPicPr>
        <p:blipFill>
          <a:blip r:embed="rId1"/>
          <a:stretch/>
        </p:blipFill>
        <p:spPr>
          <a:xfrm>
            <a:off x="1981080" y="1219320"/>
            <a:ext cx="5334120" cy="400032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5000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"/>
          <p:cNvSpPr/>
          <p:nvPr/>
        </p:nvSpPr>
        <p:spPr>
          <a:xfrm>
            <a:off x="4419720" y="533520"/>
            <a:ext cx="4038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мишень никотина – сердце и сосу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" descr=""/>
          <p:cNvPicPr/>
          <p:nvPr/>
        </p:nvPicPr>
        <p:blipFill>
          <a:blip r:embed="rId1"/>
          <a:stretch/>
        </p:blipFill>
        <p:spPr>
          <a:xfrm>
            <a:off x="1752480" y="1814400"/>
            <a:ext cx="5639040" cy="4510080"/>
          </a:xfrm>
          <a:prstGeom prst="rect">
            <a:avLst/>
          </a:prstGeom>
          <a:ln w="0">
            <a:noFill/>
          </a:ln>
        </p:spPr>
      </p:pic>
      <p:pic>
        <p:nvPicPr>
          <p:cNvPr id="478" name="" descr=""/>
          <p:cNvPicPr/>
          <p:nvPr/>
        </p:nvPicPr>
        <p:blipFill>
          <a:blip r:embed="rId2"/>
          <a:stretch/>
        </p:blipFill>
        <p:spPr>
          <a:xfrm>
            <a:off x="304920" y="380880"/>
            <a:ext cx="2743200" cy="2067120"/>
          </a:xfrm>
          <a:prstGeom prst="rect">
            <a:avLst/>
          </a:prstGeom>
          <a:ln w="0">
            <a:noFill/>
          </a:ln>
        </p:spPr>
      </p:pic>
      <p:pic>
        <p:nvPicPr>
          <p:cNvPr id="479" name="" descr=""/>
          <p:cNvPicPr/>
          <p:nvPr/>
        </p:nvPicPr>
        <p:blipFill>
          <a:blip r:embed="rId3"/>
          <a:stretch/>
        </p:blipFill>
        <p:spPr>
          <a:xfrm>
            <a:off x="6019920" y="4384800"/>
            <a:ext cx="2895480" cy="2162160"/>
          </a:xfrm>
          <a:prstGeom prst="rect">
            <a:avLst/>
          </a:prstGeom>
          <a:ln w="0">
            <a:noFill/>
          </a:ln>
        </p:spPr>
      </p:pic>
      <p:pic>
        <p:nvPicPr>
          <p:cNvPr id="480" name="" descr=""/>
          <p:cNvPicPr/>
          <p:nvPr/>
        </p:nvPicPr>
        <p:blipFill>
          <a:blip r:embed="rId4"/>
          <a:stretch/>
        </p:blipFill>
        <p:spPr>
          <a:xfrm>
            <a:off x="457200" y="3581280"/>
            <a:ext cx="2235240" cy="304812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ustomer</cp:lastModifiedBy>
  <dcterms:modified xsi:type="dcterms:W3CDTF">2011-03-07T09:50:55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