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jpeg" ContentType="image/jpeg"/>
  <Override PartName="/ppt/media/image20.png" ContentType="image/png"/>
  <Override PartName="/ppt/media/image28.jpeg" ContentType="image/jpeg"/>
  <Override PartName="/ppt/media/image21.png" ContentType="image/png"/>
  <Override PartName="/ppt/media/image24.jpeg" ContentType="image/jpeg"/>
  <Override PartName="/ppt/media/image22.png" ContentType="image/png"/>
  <Override PartName="/ppt/media/image23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5A08-C5B2-4D1B-A598-8F1F66D9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6814-8FCB-47E5-9EB8-50B6A523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EEB3-C348-4883-89D0-8C70B882B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3DDE-72AA-44C9-9A5B-CB6A1202C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07EC-B12C-462B-9055-E9B0922CD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5E3F-3126-472E-A7E2-C0180993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86DA-5230-400F-8D4E-5EEF997C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785D-D8EA-4FCA-B9AD-263947EB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D676-9D4E-446E-8304-CA743C39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AB91-0555-4F07-8591-70092103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5AF3-8CEC-4A2C-B59C-29B30777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A87C-B935-4741-9B2E-7008CCAF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0DE1-6EB5-4714-BEF0-71F5EE17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FC4F-B62B-479D-B25F-FCA2EBF7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3C20-37B0-490B-8023-56CF0BD5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1166-7257-480C-8AE2-A02933FD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9C04-B90B-47A4-A56B-F09C07687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A945E-EF25-4468-B771-B1A6880A9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17AAF-DAFB-4411-B4E3-F21DA3E1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09E91-4263-49D0-91A3-94A7D5FC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BD9AE-FC52-44B5-B5E2-BB1D50E5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0E06C-B386-441F-AA94-E136A0BA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181C-83D5-4164-8C3E-7AD66040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71BAA-D7BF-4D66-9E38-88E7731C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FA156-3FF4-4844-97A9-B5BB30B3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D7557-E049-4D74-8011-02E15B8F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2207A-3648-42BF-9F88-1EDEAEFA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5027E-1655-43BB-BCAE-D7D92D24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462A9-9FA3-481D-ACC0-AA8F85F8A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EC206-893A-46FE-BF60-63CED7B9C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CCE01-91CA-4F35-8945-5601B9767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C906E-31A7-4E48-9C69-481EED02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4BA21-9040-4B4B-B3DD-A9783633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B156-E2B3-4903-8DBB-07A6E94F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A1266-6FCE-45AA-A8A8-0419688E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48605-9C45-4786-A5AF-5B11E0A0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ECF4C-E175-42D1-ABB1-D0CC9348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82F4B-633F-44EF-B86A-1B01662F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EDDC1-9A8E-4ED1-BF08-5E50528D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54C81-B9F3-440E-88E2-F2F9C0BC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4FB64-CAEC-4FEE-95E1-7C7DF9C1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3CB9D-1F3B-46DA-B7D5-281706161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459AA-BA47-4FA7-9463-5C61B424A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22C4C-6F5B-44A2-8049-892466870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755A-197A-4B9B-A179-1D66D0C7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B547E-652E-4F90-A9E9-C15C9624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4FEA8-42C3-489F-929E-FE79888F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195A8-3758-4F94-817F-3F9A078E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AF810-D2F0-4B99-910C-2561A89A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F66BC-9427-4F1E-9EAA-78929A1E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8F92D-FC46-4F48-BD07-372DA845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FD802-0219-4F58-B05E-843D08BB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1D295-A3B8-4C6C-AA60-777485AB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D5905-E796-412A-988B-828BFB7E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5F7A0-4793-48C2-B329-37ABE930B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9F4D-2E76-4619-8691-A4C7386B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A9E5D-CC3B-4033-A203-20C5E0984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1DA2E-D7CD-4900-AF17-932B3AFC2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356B6-0700-483C-835F-E9D8F72D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4962C-68A4-4B12-A50D-284F2DF7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2925F-49C8-4CF0-B79B-8DCF2E1A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5894C-4652-4791-8482-E788FA03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A0B82-72B3-4129-AF39-02146AF7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D4258-9BA3-407C-8312-3C9866FB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BCA93-5216-44A8-84A6-9BAB555B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3CEBC-6236-4D8E-A251-74736916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0B5E-B79A-46C5-9830-95F0896A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248B1-39CC-4A70-ADBA-8A336D59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8B641-659B-4AB3-92C7-81AA1CE6C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37F68-9826-4816-8632-65F06AACA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6F0C7-1C40-4EB6-8EFE-6E8A33BCE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CCE09-4C6F-4E92-AE24-9D5FD1A0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119D0-35FD-4762-86AB-9AF8A912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2CC37-85D1-4E4A-B043-125743E2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592E5-7FD3-4685-A393-C1957629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E5316-C005-4ED4-B45F-55B3C7CC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6688E-4F25-4229-B343-0F908560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8306-7D23-410C-B242-FB63EFFE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5025F-85D3-4811-9D75-66D0FAFD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2C833-2D3B-4950-A714-2B0FE766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BE06A-A12D-4582-BF46-A6DBC1D3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D59B2-B3A5-4532-B1D4-5EF49C257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7C700-B3F0-47C6-A39E-8F2F6BCD3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A7AF-3469-44F4-848A-C347A017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8A78-8A7C-4379-A58B-37F47F51A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F4CC-0177-412E-B2F4-FF035760B26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C0D5-32BA-488E-A9EB-55E25219C92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91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2f00"/>
            </a:gs>
            <a:gs pos="50000">
              <a:srgbClr val="996600"/>
            </a:gs>
            <a:gs pos="100000">
              <a:srgbClr val="46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3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4484-68B1-467B-AD18-1F2FE334286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2f00"/>
            </a:gs>
            <a:gs pos="50000">
              <a:srgbClr val="996600"/>
            </a:gs>
            <a:gs pos="100000">
              <a:srgbClr val="46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0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93AB-0403-4922-97CC-BB2C529BA53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2f00"/>
            </a:gs>
            <a:gs pos="50000">
              <a:srgbClr val="996600"/>
            </a:gs>
            <a:gs pos="100000">
              <a:srgbClr val="46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8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8243-51C0-4FF9-ACE4-2A2113911DB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2f00"/>
            </a:gs>
            <a:gs pos="50000">
              <a:srgbClr val="996600"/>
            </a:gs>
            <a:gs pos="100000">
              <a:srgbClr val="46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5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8CE7-CA2F-4ECB-80BA-D6D585ED128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2f00"/>
            </a:gs>
            <a:gs pos="50000">
              <a:srgbClr val="996600"/>
            </a:gs>
            <a:gs pos="100000">
              <a:srgbClr val="46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 rot="675000">
            <a:off x="685440" y="-151920"/>
            <a:ext cx="7724880" cy="572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урение.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го влияние на здоровье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4143240" cy="32385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2">
            <a:lum contrast="36000"/>
          </a:blip>
          <a:srcRect l="0" t="0" r="0" b="14972"/>
          <a:stretch/>
        </p:blipFill>
        <p:spPr>
          <a:xfrm>
            <a:off x="5105520" y="2438280"/>
            <a:ext cx="3809880" cy="36054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1066680" y="4724280"/>
            <a:ext cx="373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рганы мишени: желудок, десны, зу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352440" y="380880"/>
            <a:ext cx="2957400" cy="441972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3200400" y="2514600"/>
            <a:ext cx="2286000" cy="204948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3"/>
          <a:stretch/>
        </p:blipFill>
        <p:spPr>
          <a:xfrm>
            <a:off x="5326200" y="2819520"/>
            <a:ext cx="3589200" cy="403848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3657600" y="83808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урящая женщин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еда вдвой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" descr=""/>
          <p:cNvPicPr/>
          <p:nvPr/>
        </p:nvPicPr>
        <p:blipFill>
          <a:blip r:embed="rId1"/>
          <a:srcRect l="4943" t="15007" r="4943" b="6563"/>
          <a:stretch/>
        </p:blipFill>
        <p:spPr>
          <a:xfrm>
            <a:off x="0" y="380880"/>
            <a:ext cx="9144000" cy="606420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1905120" y="0"/>
            <a:ext cx="4903560" cy="685800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3"/>
          <a:stretch/>
        </p:blipFill>
        <p:spPr>
          <a:xfrm>
            <a:off x="533520" y="9360"/>
            <a:ext cx="8153280" cy="6848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" descr=""/>
          <p:cNvPicPr/>
          <p:nvPr/>
        </p:nvPicPr>
        <p:blipFill>
          <a:blip r:embed="rId1"/>
          <a:srcRect l="0" t="0" r="0" b="11266"/>
          <a:stretch/>
        </p:blipFill>
        <p:spPr>
          <a:xfrm>
            <a:off x="228600" y="533520"/>
            <a:ext cx="3629160" cy="480060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4038480" y="457200"/>
            <a:ext cx="449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к – самое страшное последствие ку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2"/>
          <a:srcRect l="0" t="0" r="38888" b="0"/>
          <a:stretch/>
        </p:blipFill>
        <p:spPr>
          <a:xfrm>
            <a:off x="4419720" y="1981080"/>
            <a:ext cx="3538440" cy="46483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1238400" y="0"/>
            <a:ext cx="6669000" cy="685800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28600" y="213372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ассивное курение - вдыхание воздуха с табачным дымом способствует развитию у некурящих заболеваний, свойственных курильщика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0" y="689040"/>
            <a:ext cx="9144000" cy="5479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228600" y="99072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ждые 10 секунд еще один человек в мире умирает в результате потребления таб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486400" y="12952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абак ежегодно убивает около трех миллионов человек во всем ми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600200" y="259092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чиная с 1950 года, табак убил 62 миллиона человек, то есть больше, чем погибло во второй мировой вой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733920" y="396252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сли человек начал курить в 15 лет, то продолжительность его жизни уменьшается более чем на 8 л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33520" y="533412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чавшие курить до 15 лет в 5 раз чаще умирают от рака, чем те, кто начал курить после 25 л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066680" y="1522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атистические да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4762440" cy="326700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1447920" y="38088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кламная пау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6629400" y="228600"/>
            <a:ext cx="2336760" cy="350532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>
            <a:off x="228600" y="4038480"/>
            <a:ext cx="3505320" cy="271944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990720" y="1219320"/>
            <a:ext cx="6248160" cy="41259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9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228600" y="838080"/>
            <a:ext cx="8686800" cy="50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ворческая групповая рабо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-я группа – нарисовать листовку-антирекламу кур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-я группа – написать письмо ровеснику, который собирается начать кури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-я группа – написать обращение от имени детей к курящим родителя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-я группа – рассчитать финансовые затраты, связанные с кур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 rot="675000">
            <a:off x="1066680" y="1295280"/>
            <a:ext cx="662940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урение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380880" y="1371600"/>
            <a:ext cx="845820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машнее зада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авить буклет о вреде курения на основе Интернет-сай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antikurenie.narod.ru/true.html - Сайт о вреде ку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omp.ucoz.com/index/o_vrede_kurenija/0-45 - Информационно-профилактический портал «Наше здоровь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russlav.ru/tabak/kurenie_podrostkov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tabak-vred.ru/na-podrostkov.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med39.ru/article/other/a11.ht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1295280" y="3808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ест «Что мы знаем о курении?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33520" y="16002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Подростки курят, чтобы «быть как вс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46748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верн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33520" y="22860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Некурящие вынуждены страдать от заболеваний дыхательной системы в результате пассивного ку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543800" y="2971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верн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3520" y="358128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Курение помогает успокоиться, когда человек нервнич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неверн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33520" y="47242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В легких человека при выкуривании ежедневно по пачке сигарет, за год оседает 1 литр см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620120" y="5105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верн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3520" y="57913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Физические упражнения нейтрализуют вред, наносимый кур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315200" y="6095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неверн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2f00"/>
            </a:gs>
            <a:gs pos="50000">
              <a:srgbClr val="996600"/>
            </a:gs>
            <a:gs pos="100000">
              <a:srgbClr val="46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 rot="675000">
            <a:off x="761760" y="457200"/>
            <a:ext cx="7724520" cy="572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урить или не курить?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бор за вами!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1145160" y="533520"/>
            <a:ext cx="698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ест «Что мы знаем о курении?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62120" y="175248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80880" y="14479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Одной сигареты достаточно, чтобы участился пульс, повысилось кровяное дав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16292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верн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80880" y="236232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 Большинство курящих получают от курения удовольствие и не собираются брос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238880" y="2743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неверн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33526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 Табакокурение является одной из основных причин заболеваний серд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46748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верн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80880" y="434340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. Большинство курящих в состоянии бросить курить в люб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23888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неверн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80880" y="53341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. Нет ничего страшного в том, что подростки «балуются» сигаретами, если они оставят это занятие до того, как курение превратится в привыч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238880" y="61722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неверн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685800" y="838080"/>
            <a:ext cx="81532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и урока: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знакомиться с влиянием табака на организм человека, с понятием «пассивное курение» и его опасность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опагандировать здоровый образ жиз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азвивать умение искать дополнительный материал в сети Интернет, выступать перед аудиторией, высказывать свое мнение, выполнять творческие мини-проек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2590920" y="228600"/>
            <a:ext cx="4038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з истор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абакоку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6746760" y="228600"/>
            <a:ext cx="1932120" cy="198108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rcRect l="14934" t="0" r="0" b="5928"/>
          <a:stretch/>
        </p:blipFill>
        <p:spPr>
          <a:xfrm>
            <a:off x="228600" y="1828800"/>
            <a:ext cx="5210280" cy="48387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533520" y="152280"/>
            <a:ext cx="1218960" cy="154944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4"/>
          <a:srcRect l="0" t="0" r="0" b="12516"/>
          <a:stretch/>
        </p:blipFill>
        <p:spPr>
          <a:xfrm>
            <a:off x="914400" y="3276720"/>
            <a:ext cx="2362320" cy="160020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5"/>
          <a:stretch/>
        </p:blipFill>
        <p:spPr>
          <a:xfrm>
            <a:off x="6415200" y="3352680"/>
            <a:ext cx="1985760" cy="221004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6172200" y="58672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Христофор Колум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6396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509760" y="533520"/>
            <a:ext cx="2465280" cy="274320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3"/>
          <a:stretch/>
        </p:blipFill>
        <p:spPr>
          <a:xfrm>
            <a:off x="6095880" y="2133720"/>
            <a:ext cx="2533680" cy="281916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4"/>
          <a:stretch/>
        </p:blipFill>
        <p:spPr>
          <a:xfrm>
            <a:off x="838080" y="609480"/>
            <a:ext cx="7467840" cy="56260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533520" y="380880"/>
            <a:ext cx="8076960" cy="23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остав табачного ды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абак содержит 91 органическое вещество, при термическом разложении которых образуется до 1200 твердых и газообразных соединений, в том числе и ядовит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04920" y="2590920"/>
            <a:ext cx="342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котин,        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бензиди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         бензпире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                          азот, водород, аргон,                угарный газ, метан и          цианистый водор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886200" y="426708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цетальдегид, ацетон, аммиак, бензол, бутиламин, диметиламин, ДДТ, этиламин, формальдегид, сероводород, гидрохинон, метиловый спирт, метиламин, соединения никеля и пирид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0" y="579132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егкие некурящего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400800" y="762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648320" y="1522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егкие курильщ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2666880" y="5333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1981080" y="121932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4419720" y="533520"/>
            <a:ext cx="403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ишень никотина – сердце и сосу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1752480" y="1814400"/>
            <a:ext cx="5639040" cy="451008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2743200" cy="206712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3"/>
          <a:stretch/>
        </p:blipFill>
        <p:spPr>
          <a:xfrm>
            <a:off x="6019920" y="4384800"/>
            <a:ext cx="2895480" cy="216216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4"/>
          <a:stretch/>
        </p:blipFill>
        <p:spPr>
          <a:xfrm>
            <a:off x="457200" y="3581280"/>
            <a:ext cx="2235240" cy="30481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1-03-07T09:50:55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