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18.gif" ContentType="image/gif"/>
  <Override PartName="/ppt/media/image3.wmf" ContentType="image/x-wmf"/>
  <Override PartName="/ppt/media/image17.gif" ContentType="image/gif"/>
  <Override PartName="/ppt/media/image16.wmf" ContentType="image/x-wmf"/>
  <Override PartName="/ppt/media/image15.png" ContentType="image/png"/>
  <Override PartName="/ppt/media/image14.gif" ContentType="image/gif"/>
  <Override PartName="/ppt/media/image5.wmf" ContentType="image/x-wmf"/>
  <Override PartName="/ppt/media/image10.wmf" ContentType="image/x-wmf"/>
  <Override PartName="/ppt/media/image1.jpeg" ContentType="image/jpeg"/>
  <Override PartName="/ppt/media/image4.gif" ContentType="image/gif"/>
  <Override PartName="/ppt/media/image6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C52-7999-489F-9AA8-9A938E4A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329-9965-4815-9318-63E28F2B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389-CE49-4A74-9D7E-BA363A02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7AC-023A-4005-A2A3-8B60B3DE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EA77-ACEB-4C08-B4F3-D9A779EE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14F8-CD84-4846-BD86-B6133E73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29D9-8004-4335-B474-AD61BE0B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0F31-454C-40A2-AB55-5BF4F542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0D70-4C99-4671-955A-49B74DFF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1524-5C18-4453-8494-C1E46C01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D829-B3C0-4ECA-996A-0692358D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6CB-4742-4BE7-B9FC-4316C004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8777-F1A5-4831-915A-1DE7E40A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4CA3-FF86-437F-814F-0FB6A091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D4A1-CB11-434B-8F9B-EE5F10AE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E505-CDAC-436F-859B-18A57AD8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9B8F-F665-4207-9708-37C9A685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E02-C7F7-4347-AE5D-F476F679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3B1-490D-4A68-9E50-A45AD487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C65-BF06-4345-8ABD-BB4ECB0B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A88-4475-4CD9-A632-4E06C878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2BE-EBE5-4AE6-8E5F-EE9457B3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281-86B2-47A1-949E-E8C77C88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77A-8908-4811-9571-7F718848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86C2-3724-4FE5-B603-E25ED63F9D2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BF8E-2A59-47C8-834D-FF8E04F0F7E0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4c2b"/>
                </a:solidFill>
                <a:latin typeface="Times New Roman"/>
              </a:rPr>
              <a:t>ОБРАБОТКА ТЕКСТОВОЙ ИНФОРМАЦИИ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220640"/>
            <a:ext cx="64008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ЛЕКЦИЯ №1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94280" y="5589720"/>
            <a:ext cx="95544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7280" y="475920"/>
            <a:ext cx="85694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 u="sng">
                <a:solidFill>
                  <a:srgbClr val="004c2b"/>
                </a:solidFill>
                <a:uFillTx/>
                <a:latin typeface="Times New Roman"/>
              </a:rPr>
              <a:t>7. ВОЗМОЖНОСТИ </a:t>
            </a:r>
            <a:r>
              <a:rPr b="1" lang="en-US" sz="4600" spc="-1" strike="noStrike" u="sng">
                <a:solidFill>
                  <a:srgbClr val="004c2b"/>
                </a:solidFill>
                <a:uFillTx/>
                <a:latin typeface="Times New Roman"/>
              </a:rPr>
              <a:t>WORD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работа с различными шрифтами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удобное форматирование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оверка правописа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автоматическая расстановка перенос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оздание таблиц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оздание списк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иск и замен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едварительный просмотр перед печатью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гибкая печать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дгонка страниц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разбиение на страниц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ставка рисунк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оздание текстовых эффектов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451640" y="4653000"/>
            <a:ext cx="1443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4c2b"/>
                </a:solidFill>
                <a:uFillTx/>
                <a:latin typeface="Times New Roman"/>
              </a:rPr>
              <a:t>8. ОБЩИЙ ВИД ТР </a:t>
            </a:r>
            <a:r>
              <a:rPr b="1" lang="en-US" sz="4400" spc="-1" strike="noStrike" u="sng">
                <a:solidFill>
                  <a:srgbClr val="004c2b"/>
                </a:solidFill>
                <a:uFillTx/>
                <a:latin typeface="Times New Roman"/>
              </a:rPr>
              <a:t>WOR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0" b="4328"/>
          <a:stretch/>
        </p:blipFill>
        <p:spPr>
          <a:xfrm>
            <a:off x="1600200" y="1371600"/>
            <a:ext cx="6248520" cy="4879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09520" y="1512720"/>
            <a:ext cx="1009800" cy="307080"/>
          </a:xfrm>
          <a:prstGeom prst="borderCallout1">
            <a:avLst>
              <a:gd name="adj1" fmla="val 29336"/>
              <a:gd name="adj2" fmla="val -3085"/>
              <a:gd name="adj3" fmla="val 2445"/>
              <a:gd name="adj4" fmla="val -3058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заголовок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266920"/>
            <a:ext cx="1028880" cy="27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600" y="8688"/>
                </a:moveTo>
                <a:lnTo>
                  <a:pt x="-5033" y="8688"/>
                </a:lnTo>
                <a:lnTo>
                  <a:pt x="-5033" y="-20152"/>
                </a:lnTo>
                <a:lnTo>
                  <a:pt x="31195" y="-51093"/>
                </a:lnTo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строка меню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6324480"/>
            <a:ext cx="175248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39" y="7855"/>
                </a:moveTo>
                <a:lnTo>
                  <a:pt x="27411" y="7855"/>
                </a:lnTo>
                <a:lnTo>
                  <a:pt x="27411" y="-3164"/>
                </a:lnTo>
                <a:lnTo>
                  <a:pt x="-14320" y="-14720"/>
                </a:lnTo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строка состояния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4040280"/>
            <a:ext cx="914400" cy="307080"/>
          </a:xfrm>
          <a:prstGeom prst="borderCallout1">
            <a:avLst>
              <a:gd name="adj1" fmla="val 18750"/>
              <a:gd name="adj2" fmla="val -8333"/>
              <a:gd name="adj3" fmla="val 211356"/>
              <a:gd name="adj4" fmla="val 164578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линейки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24680" y="3790800"/>
            <a:ext cx="1028880" cy="520200"/>
          </a:xfrm>
          <a:prstGeom prst="borderCallout1">
            <a:avLst>
              <a:gd name="adj1" fmla="val 18750"/>
              <a:gd name="adj2" fmla="val -8333"/>
              <a:gd name="adj3" fmla="val -47300"/>
              <a:gd name="adj4" fmla="val -14791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полосы прокрутки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705360" y="4114800"/>
            <a:ext cx="1143000" cy="1828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143000" y="2362320"/>
            <a:ext cx="2743200" cy="16761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5564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4c2b"/>
                </a:solidFill>
                <a:uFillTx/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743200"/>
            <a:ext cx="480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§ 23, 24, 25, стр.122-134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выучить теорию по конспекту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12000" y="1989000"/>
            <a:ext cx="2795400" cy="411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0920" y="5073480"/>
            <a:ext cx="21603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11280" y="333360"/>
            <a:ext cx="813744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798720" y="2809800"/>
            <a:ext cx="15465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04c2b"/>
                </a:solidFill>
                <a:uFillTx/>
                <a:latin typeface="Times New Roman"/>
              </a:rPr>
              <a:t>1. ДОКУМЕНТ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</a:rPr>
              <a:t>Определение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Документ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- это текстовая информация по какому-то одному вопросу, которая представлена на листах бумаг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 документов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ланы, отчеты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исьмо, заявление, справки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чинение, контрольная работа, реферат, самостоятельная работа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аспорт, свидетельство о рождении, свидетельство о заключении брака, аттестат, водительское удостоверение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18440" y="2743200"/>
            <a:ext cx="2595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5811840" y="1989000"/>
            <a:ext cx="2828520" cy="1736640"/>
            <a:chOff x="5811840" y="1989000"/>
            <a:chExt cx="2828520" cy="1736640"/>
          </a:xfrm>
        </p:grpSpPr>
        <p:sp>
          <p:nvSpPr>
            <p:cNvPr id="90" name=""/>
            <p:cNvSpPr/>
            <p:nvPr/>
          </p:nvSpPr>
          <p:spPr>
            <a:xfrm>
              <a:off x="5811840" y="1989000"/>
              <a:ext cx="2828520" cy="1736640"/>
            </a:xfrm>
            <a:custGeom>
              <a:avLst/>
              <a:gdLst/>
              <a:ahLst/>
              <a:rect l="l" t="t" r="r" b="b"/>
              <a:pathLst>
                <a:path w="3565" h="2188">
                  <a:moveTo>
                    <a:pt x="455" y="1287"/>
                  </a:moveTo>
                  <a:lnTo>
                    <a:pt x="450" y="1287"/>
                  </a:lnTo>
                  <a:lnTo>
                    <a:pt x="436" y="1287"/>
                  </a:lnTo>
                  <a:lnTo>
                    <a:pt x="417" y="1287"/>
                  </a:lnTo>
                  <a:lnTo>
                    <a:pt x="394" y="1287"/>
                  </a:lnTo>
                  <a:lnTo>
                    <a:pt x="368" y="1287"/>
                  </a:lnTo>
                  <a:lnTo>
                    <a:pt x="342" y="1287"/>
                  </a:lnTo>
                  <a:lnTo>
                    <a:pt x="319" y="1287"/>
                  </a:lnTo>
                  <a:lnTo>
                    <a:pt x="299" y="1287"/>
                  </a:lnTo>
                  <a:lnTo>
                    <a:pt x="290" y="1287"/>
                  </a:lnTo>
                  <a:lnTo>
                    <a:pt x="280" y="1289"/>
                  </a:lnTo>
                  <a:lnTo>
                    <a:pt x="269" y="1293"/>
                  </a:lnTo>
                  <a:lnTo>
                    <a:pt x="257" y="1297"/>
                  </a:lnTo>
                  <a:lnTo>
                    <a:pt x="244" y="1302"/>
                  </a:lnTo>
                  <a:lnTo>
                    <a:pt x="229" y="1309"/>
                  </a:lnTo>
                  <a:lnTo>
                    <a:pt x="215" y="1317"/>
                  </a:lnTo>
                  <a:lnTo>
                    <a:pt x="201" y="1328"/>
                  </a:lnTo>
                  <a:lnTo>
                    <a:pt x="187" y="1339"/>
                  </a:lnTo>
                  <a:lnTo>
                    <a:pt x="172" y="1354"/>
                  </a:lnTo>
                  <a:lnTo>
                    <a:pt x="157" y="1371"/>
                  </a:lnTo>
                  <a:lnTo>
                    <a:pt x="143" y="1387"/>
                  </a:lnTo>
                  <a:lnTo>
                    <a:pt x="130" y="1407"/>
                  </a:lnTo>
                  <a:lnTo>
                    <a:pt x="117" y="1432"/>
                  </a:lnTo>
                  <a:lnTo>
                    <a:pt x="105" y="1456"/>
                  </a:lnTo>
                  <a:lnTo>
                    <a:pt x="94" y="1483"/>
                  </a:lnTo>
                  <a:lnTo>
                    <a:pt x="67" y="1561"/>
                  </a:lnTo>
                  <a:lnTo>
                    <a:pt x="44" y="1639"/>
                  </a:lnTo>
                  <a:lnTo>
                    <a:pt x="26" y="1715"/>
                  </a:lnTo>
                  <a:lnTo>
                    <a:pt x="12" y="1789"/>
                  </a:lnTo>
                  <a:lnTo>
                    <a:pt x="3" y="1859"/>
                  </a:lnTo>
                  <a:lnTo>
                    <a:pt x="0" y="1925"/>
                  </a:lnTo>
                  <a:lnTo>
                    <a:pt x="1" y="1985"/>
                  </a:lnTo>
                  <a:lnTo>
                    <a:pt x="9" y="2038"/>
                  </a:lnTo>
                  <a:lnTo>
                    <a:pt x="15" y="2059"/>
                  </a:lnTo>
                  <a:lnTo>
                    <a:pt x="24" y="2083"/>
                  </a:lnTo>
                  <a:lnTo>
                    <a:pt x="36" y="2107"/>
                  </a:lnTo>
                  <a:lnTo>
                    <a:pt x="52" y="2131"/>
                  </a:lnTo>
                  <a:lnTo>
                    <a:pt x="70" y="2153"/>
                  </a:lnTo>
                  <a:lnTo>
                    <a:pt x="92" y="2171"/>
                  </a:lnTo>
                  <a:lnTo>
                    <a:pt x="117" y="2184"/>
                  </a:lnTo>
                  <a:lnTo>
                    <a:pt x="145" y="2188"/>
                  </a:lnTo>
                  <a:lnTo>
                    <a:pt x="162" y="2188"/>
                  </a:lnTo>
                  <a:lnTo>
                    <a:pt x="190" y="2188"/>
                  </a:lnTo>
                  <a:lnTo>
                    <a:pt x="230" y="2186"/>
                  </a:lnTo>
                  <a:lnTo>
                    <a:pt x="283" y="2184"/>
                  </a:lnTo>
                  <a:lnTo>
                    <a:pt x="346" y="2182"/>
                  </a:lnTo>
                  <a:lnTo>
                    <a:pt x="418" y="2181"/>
                  </a:lnTo>
                  <a:lnTo>
                    <a:pt x="499" y="2179"/>
                  </a:lnTo>
                  <a:lnTo>
                    <a:pt x="587" y="2177"/>
                  </a:lnTo>
                  <a:lnTo>
                    <a:pt x="684" y="2173"/>
                  </a:lnTo>
                  <a:lnTo>
                    <a:pt x="785" y="2171"/>
                  </a:lnTo>
                  <a:lnTo>
                    <a:pt x="892" y="2168"/>
                  </a:lnTo>
                  <a:lnTo>
                    <a:pt x="1002" y="2164"/>
                  </a:lnTo>
                  <a:lnTo>
                    <a:pt x="1116" y="2162"/>
                  </a:lnTo>
                  <a:lnTo>
                    <a:pt x="1232" y="2158"/>
                  </a:lnTo>
                  <a:lnTo>
                    <a:pt x="1350" y="2155"/>
                  </a:lnTo>
                  <a:lnTo>
                    <a:pt x="1469" y="2151"/>
                  </a:lnTo>
                  <a:lnTo>
                    <a:pt x="1586" y="2147"/>
                  </a:lnTo>
                  <a:lnTo>
                    <a:pt x="1704" y="2144"/>
                  </a:lnTo>
                  <a:lnTo>
                    <a:pt x="1819" y="2140"/>
                  </a:lnTo>
                  <a:lnTo>
                    <a:pt x="1930" y="2138"/>
                  </a:lnTo>
                  <a:lnTo>
                    <a:pt x="2039" y="2134"/>
                  </a:lnTo>
                  <a:lnTo>
                    <a:pt x="2142" y="2131"/>
                  </a:lnTo>
                  <a:lnTo>
                    <a:pt x="2239" y="2129"/>
                  </a:lnTo>
                  <a:lnTo>
                    <a:pt x="2332" y="2125"/>
                  </a:lnTo>
                  <a:lnTo>
                    <a:pt x="2415" y="2123"/>
                  </a:lnTo>
                  <a:lnTo>
                    <a:pt x="2491" y="2121"/>
                  </a:lnTo>
                  <a:lnTo>
                    <a:pt x="2557" y="2120"/>
                  </a:lnTo>
                  <a:lnTo>
                    <a:pt x="2614" y="2118"/>
                  </a:lnTo>
                  <a:lnTo>
                    <a:pt x="2658" y="2116"/>
                  </a:lnTo>
                  <a:lnTo>
                    <a:pt x="2693" y="2114"/>
                  </a:lnTo>
                  <a:lnTo>
                    <a:pt x="2713" y="2114"/>
                  </a:lnTo>
                  <a:lnTo>
                    <a:pt x="2720" y="2114"/>
                  </a:lnTo>
                  <a:lnTo>
                    <a:pt x="2775" y="2103"/>
                  </a:lnTo>
                  <a:lnTo>
                    <a:pt x="2824" y="2068"/>
                  </a:lnTo>
                  <a:lnTo>
                    <a:pt x="2869" y="2016"/>
                  </a:lnTo>
                  <a:lnTo>
                    <a:pt x="2910" y="1948"/>
                  </a:lnTo>
                  <a:lnTo>
                    <a:pt x="2945" y="1864"/>
                  </a:lnTo>
                  <a:lnTo>
                    <a:pt x="2978" y="1772"/>
                  </a:lnTo>
                  <a:lnTo>
                    <a:pt x="3007" y="1672"/>
                  </a:lnTo>
                  <a:lnTo>
                    <a:pt x="3032" y="1567"/>
                  </a:lnTo>
                  <a:lnTo>
                    <a:pt x="3055" y="1457"/>
                  </a:lnTo>
                  <a:lnTo>
                    <a:pt x="3074" y="1352"/>
                  </a:lnTo>
                  <a:lnTo>
                    <a:pt x="3090" y="1248"/>
                  </a:lnTo>
                  <a:lnTo>
                    <a:pt x="3105" y="1150"/>
                  </a:lnTo>
                  <a:lnTo>
                    <a:pt x="3118" y="1062"/>
                  </a:lnTo>
                  <a:lnTo>
                    <a:pt x="3128" y="986"/>
                  </a:lnTo>
                  <a:lnTo>
                    <a:pt x="3137" y="925"/>
                  </a:lnTo>
                  <a:lnTo>
                    <a:pt x="3145" y="880"/>
                  </a:lnTo>
                  <a:lnTo>
                    <a:pt x="3149" y="880"/>
                  </a:lnTo>
                  <a:lnTo>
                    <a:pt x="3162" y="880"/>
                  </a:lnTo>
                  <a:lnTo>
                    <a:pt x="3179" y="880"/>
                  </a:lnTo>
                  <a:lnTo>
                    <a:pt x="3202" y="880"/>
                  </a:lnTo>
                  <a:lnTo>
                    <a:pt x="3224" y="880"/>
                  </a:lnTo>
                  <a:lnTo>
                    <a:pt x="3247" y="880"/>
                  </a:lnTo>
                  <a:lnTo>
                    <a:pt x="3268" y="880"/>
                  </a:lnTo>
                  <a:lnTo>
                    <a:pt x="3283" y="880"/>
                  </a:lnTo>
                  <a:lnTo>
                    <a:pt x="3290" y="880"/>
                  </a:lnTo>
                  <a:lnTo>
                    <a:pt x="3298" y="880"/>
                  </a:lnTo>
                  <a:lnTo>
                    <a:pt x="3307" y="880"/>
                  </a:lnTo>
                  <a:lnTo>
                    <a:pt x="3316" y="879"/>
                  </a:lnTo>
                  <a:lnTo>
                    <a:pt x="3327" y="879"/>
                  </a:lnTo>
                  <a:lnTo>
                    <a:pt x="3339" y="875"/>
                  </a:lnTo>
                  <a:lnTo>
                    <a:pt x="3350" y="873"/>
                  </a:lnTo>
                  <a:lnTo>
                    <a:pt x="3363" y="867"/>
                  </a:lnTo>
                  <a:lnTo>
                    <a:pt x="3375" y="860"/>
                  </a:lnTo>
                  <a:lnTo>
                    <a:pt x="3388" y="853"/>
                  </a:lnTo>
                  <a:lnTo>
                    <a:pt x="3402" y="842"/>
                  </a:lnTo>
                  <a:lnTo>
                    <a:pt x="3416" y="830"/>
                  </a:lnTo>
                  <a:lnTo>
                    <a:pt x="3429" y="814"/>
                  </a:lnTo>
                  <a:lnTo>
                    <a:pt x="3443" y="797"/>
                  </a:lnTo>
                  <a:lnTo>
                    <a:pt x="3457" y="777"/>
                  </a:lnTo>
                  <a:lnTo>
                    <a:pt x="3470" y="753"/>
                  </a:lnTo>
                  <a:lnTo>
                    <a:pt x="3499" y="694"/>
                  </a:lnTo>
                  <a:lnTo>
                    <a:pt x="3522" y="633"/>
                  </a:lnTo>
                  <a:lnTo>
                    <a:pt x="3539" y="570"/>
                  </a:lnTo>
                  <a:lnTo>
                    <a:pt x="3553" y="507"/>
                  </a:lnTo>
                  <a:lnTo>
                    <a:pt x="3561" y="442"/>
                  </a:lnTo>
                  <a:lnTo>
                    <a:pt x="3565" y="375"/>
                  </a:lnTo>
                  <a:lnTo>
                    <a:pt x="3565" y="307"/>
                  </a:lnTo>
                  <a:lnTo>
                    <a:pt x="3562" y="239"/>
                  </a:lnTo>
                  <a:lnTo>
                    <a:pt x="3559" y="207"/>
                  </a:lnTo>
                  <a:lnTo>
                    <a:pt x="3556" y="179"/>
                  </a:lnTo>
                  <a:lnTo>
                    <a:pt x="3550" y="154"/>
                  </a:lnTo>
                  <a:lnTo>
                    <a:pt x="3542" y="129"/>
                  </a:lnTo>
                  <a:lnTo>
                    <a:pt x="3533" y="107"/>
                  </a:lnTo>
                  <a:lnTo>
                    <a:pt x="3523" y="89"/>
                  </a:lnTo>
                  <a:lnTo>
                    <a:pt x="3511" y="70"/>
                  </a:lnTo>
                  <a:lnTo>
                    <a:pt x="3496" y="55"/>
                  </a:lnTo>
                  <a:lnTo>
                    <a:pt x="3480" y="43"/>
                  </a:lnTo>
                  <a:lnTo>
                    <a:pt x="3460" y="31"/>
                  </a:lnTo>
                  <a:lnTo>
                    <a:pt x="3439" y="20"/>
                  </a:lnTo>
                  <a:lnTo>
                    <a:pt x="3416" y="13"/>
                  </a:lnTo>
                  <a:lnTo>
                    <a:pt x="3389" y="7"/>
                  </a:lnTo>
                  <a:lnTo>
                    <a:pt x="3360" y="4"/>
                  </a:lnTo>
                  <a:lnTo>
                    <a:pt x="3328" y="0"/>
                  </a:lnTo>
                  <a:lnTo>
                    <a:pt x="3294" y="0"/>
                  </a:lnTo>
                  <a:lnTo>
                    <a:pt x="3282" y="0"/>
                  </a:lnTo>
                  <a:lnTo>
                    <a:pt x="3258" y="2"/>
                  </a:lnTo>
                  <a:lnTo>
                    <a:pt x="3223" y="4"/>
                  </a:lnTo>
                  <a:lnTo>
                    <a:pt x="3177" y="6"/>
                  </a:lnTo>
                  <a:lnTo>
                    <a:pt x="3124" y="9"/>
                  </a:lnTo>
                  <a:lnTo>
                    <a:pt x="3061" y="13"/>
                  </a:lnTo>
                  <a:lnTo>
                    <a:pt x="2990" y="17"/>
                  </a:lnTo>
                  <a:lnTo>
                    <a:pt x="2912" y="20"/>
                  </a:lnTo>
                  <a:lnTo>
                    <a:pt x="2828" y="26"/>
                  </a:lnTo>
                  <a:lnTo>
                    <a:pt x="2737" y="31"/>
                  </a:lnTo>
                  <a:lnTo>
                    <a:pt x="2643" y="37"/>
                  </a:lnTo>
                  <a:lnTo>
                    <a:pt x="2545" y="43"/>
                  </a:lnTo>
                  <a:lnTo>
                    <a:pt x="2443" y="48"/>
                  </a:lnTo>
                  <a:lnTo>
                    <a:pt x="2340" y="54"/>
                  </a:lnTo>
                  <a:lnTo>
                    <a:pt x="2234" y="59"/>
                  </a:lnTo>
                  <a:lnTo>
                    <a:pt x="2128" y="67"/>
                  </a:lnTo>
                  <a:lnTo>
                    <a:pt x="2021" y="72"/>
                  </a:lnTo>
                  <a:lnTo>
                    <a:pt x="1916" y="80"/>
                  </a:lnTo>
                  <a:lnTo>
                    <a:pt x="1811" y="85"/>
                  </a:lnTo>
                  <a:lnTo>
                    <a:pt x="1710" y="91"/>
                  </a:lnTo>
                  <a:lnTo>
                    <a:pt x="1611" y="96"/>
                  </a:lnTo>
                  <a:lnTo>
                    <a:pt x="1515" y="104"/>
                  </a:lnTo>
                  <a:lnTo>
                    <a:pt x="1425" y="107"/>
                  </a:lnTo>
                  <a:lnTo>
                    <a:pt x="1340" y="113"/>
                  </a:lnTo>
                  <a:lnTo>
                    <a:pt x="1262" y="118"/>
                  </a:lnTo>
                  <a:lnTo>
                    <a:pt x="1190" y="122"/>
                  </a:lnTo>
                  <a:lnTo>
                    <a:pt x="1125" y="126"/>
                  </a:lnTo>
                  <a:lnTo>
                    <a:pt x="1069" y="129"/>
                  </a:lnTo>
                  <a:lnTo>
                    <a:pt x="1022" y="131"/>
                  </a:lnTo>
                  <a:lnTo>
                    <a:pt x="986" y="135"/>
                  </a:lnTo>
                  <a:lnTo>
                    <a:pt x="961" y="137"/>
                  </a:lnTo>
                  <a:lnTo>
                    <a:pt x="946" y="137"/>
                  </a:lnTo>
                  <a:lnTo>
                    <a:pt x="889" y="148"/>
                  </a:lnTo>
                  <a:lnTo>
                    <a:pt x="836" y="174"/>
                  </a:lnTo>
                  <a:lnTo>
                    <a:pt x="787" y="213"/>
                  </a:lnTo>
                  <a:lnTo>
                    <a:pt x="744" y="263"/>
                  </a:lnTo>
                  <a:lnTo>
                    <a:pt x="704" y="322"/>
                  </a:lnTo>
                  <a:lnTo>
                    <a:pt x="669" y="390"/>
                  </a:lnTo>
                  <a:lnTo>
                    <a:pt x="636" y="466"/>
                  </a:lnTo>
                  <a:lnTo>
                    <a:pt x="608" y="549"/>
                  </a:lnTo>
                  <a:lnTo>
                    <a:pt x="581" y="636"/>
                  </a:lnTo>
                  <a:lnTo>
                    <a:pt x="558" y="729"/>
                  </a:lnTo>
                  <a:lnTo>
                    <a:pt x="537" y="821"/>
                  </a:lnTo>
                  <a:lnTo>
                    <a:pt x="517" y="917"/>
                  </a:lnTo>
                  <a:lnTo>
                    <a:pt x="500" y="1014"/>
                  </a:lnTo>
                  <a:lnTo>
                    <a:pt x="484" y="1108"/>
                  </a:lnTo>
                  <a:lnTo>
                    <a:pt x="469" y="1198"/>
                  </a:lnTo>
                  <a:lnTo>
                    <a:pt x="455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44960" y="3082680"/>
              <a:ext cx="315720" cy="560160"/>
            </a:xfrm>
            <a:custGeom>
              <a:avLst/>
              <a:gdLst/>
              <a:ahLst/>
              <a:rect l="l" t="t" r="r" b="b"/>
              <a:pathLst>
                <a:path w="396" h="706">
                  <a:moveTo>
                    <a:pt x="111" y="242"/>
                  </a:moveTo>
                  <a:lnTo>
                    <a:pt x="114" y="237"/>
                  </a:lnTo>
                  <a:lnTo>
                    <a:pt x="119" y="231"/>
                  </a:lnTo>
                  <a:lnTo>
                    <a:pt x="124" y="226"/>
                  </a:lnTo>
                  <a:lnTo>
                    <a:pt x="128" y="220"/>
                  </a:lnTo>
                  <a:lnTo>
                    <a:pt x="132" y="216"/>
                  </a:lnTo>
                  <a:lnTo>
                    <a:pt x="137" y="213"/>
                  </a:lnTo>
                  <a:lnTo>
                    <a:pt x="141" y="211"/>
                  </a:lnTo>
                  <a:lnTo>
                    <a:pt x="144" y="211"/>
                  </a:lnTo>
                  <a:lnTo>
                    <a:pt x="152" y="216"/>
                  </a:lnTo>
                  <a:lnTo>
                    <a:pt x="158" y="231"/>
                  </a:lnTo>
                  <a:lnTo>
                    <a:pt x="162" y="255"/>
                  </a:lnTo>
                  <a:lnTo>
                    <a:pt x="164" y="283"/>
                  </a:lnTo>
                  <a:lnTo>
                    <a:pt x="162" y="312"/>
                  </a:lnTo>
                  <a:lnTo>
                    <a:pt x="157" y="344"/>
                  </a:lnTo>
                  <a:lnTo>
                    <a:pt x="149" y="372"/>
                  </a:lnTo>
                  <a:lnTo>
                    <a:pt x="136" y="396"/>
                  </a:lnTo>
                  <a:lnTo>
                    <a:pt x="204" y="396"/>
                  </a:lnTo>
                  <a:lnTo>
                    <a:pt x="211" y="357"/>
                  </a:lnTo>
                  <a:lnTo>
                    <a:pt x="175" y="357"/>
                  </a:lnTo>
                  <a:lnTo>
                    <a:pt x="179" y="346"/>
                  </a:lnTo>
                  <a:lnTo>
                    <a:pt x="183" y="333"/>
                  </a:lnTo>
                  <a:lnTo>
                    <a:pt x="185" y="318"/>
                  </a:lnTo>
                  <a:lnTo>
                    <a:pt x="187" y="305"/>
                  </a:lnTo>
                  <a:lnTo>
                    <a:pt x="214" y="305"/>
                  </a:lnTo>
                  <a:lnTo>
                    <a:pt x="217" y="268"/>
                  </a:lnTo>
                  <a:lnTo>
                    <a:pt x="186" y="268"/>
                  </a:lnTo>
                  <a:lnTo>
                    <a:pt x="186" y="253"/>
                  </a:lnTo>
                  <a:lnTo>
                    <a:pt x="186" y="237"/>
                  </a:lnTo>
                  <a:lnTo>
                    <a:pt x="184" y="218"/>
                  </a:lnTo>
                  <a:lnTo>
                    <a:pt x="182" y="200"/>
                  </a:lnTo>
                  <a:lnTo>
                    <a:pt x="214" y="200"/>
                  </a:lnTo>
                  <a:lnTo>
                    <a:pt x="212" y="161"/>
                  </a:lnTo>
                  <a:lnTo>
                    <a:pt x="211" y="161"/>
                  </a:lnTo>
                  <a:lnTo>
                    <a:pt x="207" y="161"/>
                  </a:lnTo>
                  <a:lnTo>
                    <a:pt x="202" y="161"/>
                  </a:lnTo>
                  <a:lnTo>
                    <a:pt x="195" y="161"/>
                  </a:lnTo>
                  <a:lnTo>
                    <a:pt x="186" y="161"/>
                  </a:lnTo>
                  <a:lnTo>
                    <a:pt x="177" y="161"/>
                  </a:lnTo>
                  <a:lnTo>
                    <a:pt x="168" y="161"/>
                  </a:lnTo>
                  <a:lnTo>
                    <a:pt x="159" y="161"/>
                  </a:lnTo>
                  <a:lnTo>
                    <a:pt x="148" y="165"/>
                  </a:lnTo>
                  <a:lnTo>
                    <a:pt x="135" y="172"/>
                  </a:lnTo>
                  <a:lnTo>
                    <a:pt x="121" y="189"/>
                  </a:lnTo>
                  <a:lnTo>
                    <a:pt x="105" y="213"/>
                  </a:lnTo>
                  <a:lnTo>
                    <a:pt x="90" y="244"/>
                  </a:lnTo>
                  <a:lnTo>
                    <a:pt x="76" y="285"/>
                  </a:lnTo>
                  <a:lnTo>
                    <a:pt x="64" y="337"/>
                  </a:lnTo>
                  <a:lnTo>
                    <a:pt x="54" y="398"/>
                  </a:lnTo>
                  <a:lnTo>
                    <a:pt x="48" y="453"/>
                  </a:lnTo>
                  <a:lnTo>
                    <a:pt x="44" y="507"/>
                  </a:lnTo>
                  <a:lnTo>
                    <a:pt x="44" y="555"/>
                  </a:lnTo>
                  <a:lnTo>
                    <a:pt x="48" y="597"/>
                  </a:lnTo>
                  <a:lnTo>
                    <a:pt x="55" y="632"/>
                  </a:lnTo>
                  <a:lnTo>
                    <a:pt x="66" y="660"/>
                  </a:lnTo>
                  <a:lnTo>
                    <a:pt x="80" y="679"/>
                  </a:lnTo>
                  <a:lnTo>
                    <a:pt x="99" y="686"/>
                  </a:lnTo>
                  <a:lnTo>
                    <a:pt x="120" y="686"/>
                  </a:lnTo>
                  <a:lnTo>
                    <a:pt x="139" y="681"/>
                  </a:lnTo>
                  <a:lnTo>
                    <a:pt x="156" y="673"/>
                  </a:lnTo>
                  <a:lnTo>
                    <a:pt x="172" y="662"/>
                  </a:lnTo>
                  <a:lnTo>
                    <a:pt x="187" y="647"/>
                  </a:lnTo>
                  <a:lnTo>
                    <a:pt x="203" y="629"/>
                  </a:lnTo>
                  <a:lnTo>
                    <a:pt x="217" y="607"/>
                  </a:lnTo>
                  <a:lnTo>
                    <a:pt x="232" y="583"/>
                  </a:lnTo>
                  <a:lnTo>
                    <a:pt x="195" y="583"/>
                  </a:lnTo>
                  <a:lnTo>
                    <a:pt x="201" y="570"/>
                  </a:lnTo>
                  <a:lnTo>
                    <a:pt x="208" y="553"/>
                  </a:lnTo>
                  <a:lnTo>
                    <a:pt x="216" y="534"/>
                  </a:lnTo>
                  <a:lnTo>
                    <a:pt x="221" y="521"/>
                  </a:lnTo>
                  <a:lnTo>
                    <a:pt x="273" y="520"/>
                  </a:lnTo>
                  <a:lnTo>
                    <a:pt x="294" y="468"/>
                  </a:lnTo>
                  <a:lnTo>
                    <a:pt x="237" y="468"/>
                  </a:lnTo>
                  <a:lnTo>
                    <a:pt x="242" y="447"/>
                  </a:lnTo>
                  <a:lnTo>
                    <a:pt x="247" y="425"/>
                  </a:lnTo>
                  <a:lnTo>
                    <a:pt x="251" y="403"/>
                  </a:lnTo>
                  <a:lnTo>
                    <a:pt x="255" y="381"/>
                  </a:lnTo>
                  <a:lnTo>
                    <a:pt x="320" y="381"/>
                  </a:lnTo>
                  <a:lnTo>
                    <a:pt x="334" y="329"/>
                  </a:lnTo>
                  <a:lnTo>
                    <a:pt x="263" y="329"/>
                  </a:lnTo>
                  <a:lnTo>
                    <a:pt x="264" y="316"/>
                  </a:lnTo>
                  <a:lnTo>
                    <a:pt x="266" y="303"/>
                  </a:lnTo>
                  <a:lnTo>
                    <a:pt x="267" y="290"/>
                  </a:lnTo>
                  <a:lnTo>
                    <a:pt x="268" y="277"/>
                  </a:lnTo>
                  <a:lnTo>
                    <a:pt x="346" y="275"/>
                  </a:lnTo>
                  <a:lnTo>
                    <a:pt x="357" y="227"/>
                  </a:lnTo>
                  <a:lnTo>
                    <a:pt x="271" y="226"/>
                  </a:lnTo>
                  <a:lnTo>
                    <a:pt x="272" y="207"/>
                  </a:lnTo>
                  <a:lnTo>
                    <a:pt x="273" y="190"/>
                  </a:lnTo>
                  <a:lnTo>
                    <a:pt x="273" y="174"/>
                  </a:lnTo>
                  <a:lnTo>
                    <a:pt x="274" y="157"/>
                  </a:lnTo>
                  <a:lnTo>
                    <a:pt x="370" y="157"/>
                  </a:lnTo>
                  <a:lnTo>
                    <a:pt x="378" y="115"/>
                  </a:lnTo>
                  <a:lnTo>
                    <a:pt x="272" y="115"/>
                  </a:lnTo>
                  <a:lnTo>
                    <a:pt x="271" y="100"/>
                  </a:lnTo>
                  <a:lnTo>
                    <a:pt x="269" y="83"/>
                  </a:lnTo>
                  <a:lnTo>
                    <a:pt x="265" y="68"/>
                  </a:lnTo>
                  <a:lnTo>
                    <a:pt x="260" y="54"/>
                  </a:lnTo>
                  <a:lnTo>
                    <a:pt x="388" y="54"/>
                  </a:lnTo>
                  <a:lnTo>
                    <a:pt x="396" y="2"/>
                  </a:lnTo>
                  <a:lnTo>
                    <a:pt x="383" y="2"/>
                  </a:lnTo>
                  <a:lnTo>
                    <a:pt x="370" y="2"/>
                  </a:lnTo>
                  <a:lnTo>
                    <a:pt x="357" y="0"/>
                  </a:lnTo>
                  <a:lnTo>
                    <a:pt x="343" y="2"/>
                  </a:lnTo>
                  <a:lnTo>
                    <a:pt x="329" y="2"/>
                  </a:lnTo>
                  <a:lnTo>
                    <a:pt x="316" y="2"/>
                  </a:lnTo>
                  <a:lnTo>
                    <a:pt x="302" y="2"/>
                  </a:lnTo>
                  <a:lnTo>
                    <a:pt x="290" y="4"/>
                  </a:lnTo>
                  <a:lnTo>
                    <a:pt x="277" y="4"/>
                  </a:lnTo>
                  <a:lnTo>
                    <a:pt x="265" y="5"/>
                  </a:lnTo>
                  <a:lnTo>
                    <a:pt x="252" y="5"/>
                  </a:lnTo>
                  <a:lnTo>
                    <a:pt x="242" y="7"/>
                  </a:lnTo>
                  <a:lnTo>
                    <a:pt x="232" y="7"/>
                  </a:lnTo>
                  <a:lnTo>
                    <a:pt x="222" y="9"/>
                  </a:lnTo>
                  <a:lnTo>
                    <a:pt x="214" y="9"/>
                  </a:lnTo>
                  <a:lnTo>
                    <a:pt x="207" y="11"/>
                  </a:lnTo>
                  <a:lnTo>
                    <a:pt x="170" y="24"/>
                  </a:lnTo>
                  <a:lnTo>
                    <a:pt x="138" y="52"/>
                  </a:lnTo>
                  <a:lnTo>
                    <a:pt x="107" y="89"/>
                  </a:lnTo>
                  <a:lnTo>
                    <a:pt x="81" y="135"/>
                  </a:lnTo>
                  <a:lnTo>
                    <a:pt x="59" y="187"/>
                  </a:lnTo>
                  <a:lnTo>
                    <a:pt x="39" y="246"/>
                  </a:lnTo>
                  <a:lnTo>
                    <a:pt x="23" y="307"/>
                  </a:lnTo>
                  <a:lnTo>
                    <a:pt x="12" y="370"/>
                  </a:lnTo>
                  <a:lnTo>
                    <a:pt x="4" y="433"/>
                  </a:lnTo>
                  <a:lnTo>
                    <a:pt x="0" y="494"/>
                  </a:lnTo>
                  <a:lnTo>
                    <a:pt x="0" y="549"/>
                  </a:lnTo>
                  <a:lnTo>
                    <a:pt x="3" y="599"/>
                  </a:lnTo>
                  <a:lnTo>
                    <a:pt x="11" y="644"/>
                  </a:lnTo>
                  <a:lnTo>
                    <a:pt x="24" y="677"/>
                  </a:lnTo>
                  <a:lnTo>
                    <a:pt x="40" y="697"/>
                  </a:lnTo>
                  <a:lnTo>
                    <a:pt x="62" y="706"/>
                  </a:lnTo>
                  <a:lnTo>
                    <a:pt x="42" y="671"/>
                  </a:lnTo>
                  <a:lnTo>
                    <a:pt x="29" y="629"/>
                  </a:lnTo>
                  <a:lnTo>
                    <a:pt x="21" y="583"/>
                  </a:lnTo>
                  <a:lnTo>
                    <a:pt x="18" y="533"/>
                  </a:lnTo>
                  <a:lnTo>
                    <a:pt x="19" y="479"/>
                  </a:lnTo>
                  <a:lnTo>
                    <a:pt x="24" y="423"/>
                  </a:lnTo>
                  <a:lnTo>
                    <a:pt x="32" y="368"/>
                  </a:lnTo>
                  <a:lnTo>
                    <a:pt x="43" y="314"/>
                  </a:lnTo>
                  <a:lnTo>
                    <a:pt x="58" y="263"/>
                  </a:lnTo>
                  <a:lnTo>
                    <a:pt x="74" y="214"/>
                  </a:lnTo>
                  <a:lnTo>
                    <a:pt x="91" y="170"/>
                  </a:lnTo>
                  <a:lnTo>
                    <a:pt x="110" y="131"/>
                  </a:lnTo>
                  <a:lnTo>
                    <a:pt x="131" y="100"/>
                  </a:lnTo>
                  <a:lnTo>
                    <a:pt x="151" y="76"/>
                  </a:lnTo>
                  <a:lnTo>
                    <a:pt x="172" y="61"/>
                  </a:lnTo>
                  <a:lnTo>
                    <a:pt x="193" y="57"/>
                  </a:lnTo>
                  <a:lnTo>
                    <a:pt x="209" y="65"/>
                  </a:lnTo>
                  <a:lnTo>
                    <a:pt x="221" y="85"/>
                  </a:lnTo>
                  <a:lnTo>
                    <a:pt x="230" y="115"/>
                  </a:lnTo>
                  <a:lnTo>
                    <a:pt x="236" y="153"/>
                  </a:lnTo>
                  <a:lnTo>
                    <a:pt x="239" y="198"/>
                  </a:lnTo>
                  <a:lnTo>
                    <a:pt x="239" y="250"/>
                  </a:lnTo>
                  <a:lnTo>
                    <a:pt x="236" y="303"/>
                  </a:lnTo>
                  <a:lnTo>
                    <a:pt x="231" y="357"/>
                  </a:lnTo>
                  <a:lnTo>
                    <a:pt x="223" y="412"/>
                  </a:lnTo>
                  <a:lnTo>
                    <a:pt x="213" y="466"/>
                  </a:lnTo>
                  <a:lnTo>
                    <a:pt x="200" y="516"/>
                  </a:lnTo>
                  <a:lnTo>
                    <a:pt x="184" y="560"/>
                  </a:lnTo>
                  <a:lnTo>
                    <a:pt x="167" y="599"/>
                  </a:lnTo>
                  <a:lnTo>
                    <a:pt x="148" y="627"/>
                  </a:lnTo>
                  <a:lnTo>
                    <a:pt x="127" y="645"/>
                  </a:lnTo>
                  <a:lnTo>
                    <a:pt x="103" y="653"/>
                  </a:lnTo>
                  <a:lnTo>
                    <a:pt x="97" y="651"/>
                  </a:lnTo>
                  <a:lnTo>
                    <a:pt x="91" y="649"/>
                  </a:lnTo>
                  <a:lnTo>
                    <a:pt x="86" y="644"/>
                  </a:lnTo>
                  <a:lnTo>
                    <a:pt x="82" y="636"/>
                  </a:lnTo>
                  <a:lnTo>
                    <a:pt x="78" y="627"/>
                  </a:lnTo>
                  <a:lnTo>
                    <a:pt x="75" y="618"/>
                  </a:lnTo>
                  <a:lnTo>
                    <a:pt x="72" y="605"/>
                  </a:lnTo>
                  <a:lnTo>
                    <a:pt x="70" y="592"/>
                  </a:lnTo>
                  <a:lnTo>
                    <a:pt x="144" y="592"/>
                  </a:lnTo>
                  <a:lnTo>
                    <a:pt x="157" y="562"/>
                  </a:lnTo>
                  <a:lnTo>
                    <a:pt x="67" y="549"/>
                  </a:lnTo>
                  <a:lnTo>
                    <a:pt x="66" y="534"/>
                  </a:lnTo>
                  <a:lnTo>
                    <a:pt x="66" y="518"/>
                  </a:lnTo>
                  <a:lnTo>
                    <a:pt x="66" y="501"/>
                  </a:lnTo>
                  <a:lnTo>
                    <a:pt x="67" y="484"/>
                  </a:lnTo>
                  <a:lnTo>
                    <a:pt x="184" y="484"/>
                  </a:lnTo>
                  <a:lnTo>
                    <a:pt x="182" y="451"/>
                  </a:lnTo>
                  <a:lnTo>
                    <a:pt x="71" y="442"/>
                  </a:lnTo>
                  <a:lnTo>
                    <a:pt x="73" y="423"/>
                  </a:lnTo>
                  <a:lnTo>
                    <a:pt x="75" y="409"/>
                  </a:lnTo>
                  <a:lnTo>
                    <a:pt x="77" y="394"/>
                  </a:lnTo>
                  <a:lnTo>
                    <a:pt x="80" y="377"/>
                  </a:lnTo>
                  <a:lnTo>
                    <a:pt x="135" y="366"/>
                  </a:lnTo>
                  <a:lnTo>
                    <a:pt x="145" y="337"/>
                  </a:lnTo>
                  <a:lnTo>
                    <a:pt x="90" y="325"/>
                  </a:lnTo>
                  <a:lnTo>
                    <a:pt x="93" y="307"/>
                  </a:lnTo>
                  <a:lnTo>
                    <a:pt x="96" y="292"/>
                  </a:lnTo>
                  <a:lnTo>
                    <a:pt x="100" y="279"/>
                  </a:lnTo>
                  <a:lnTo>
                    <a:pt x="104" y="264"/>
                  </a:lnTo>
                  <a:lnTo>
                    <a:pt x="150" y="263"/>
                  </a:lnTo>
                  <a:lnTo>
                    <a:pt x="136" y="242"/>
                  </a:lnTo>
                  <a:lnTo>
                    <a:pt x="111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19560" y="2044440"/>
              <a:ext cx="2466720" cy="1614600"/>
            </a:xfrm>
            <a:custGeom>
              <a:avLst/>
              <a:gdLst/>
              <a:ahLst/>
              <a:rect l="l" t="t" r="r" b="b"/>
              <a:pathLst>
                <a:path w="3107" h="2035">
                  <a:moveTo>
                    <a:pt x="2617" y="1682"/>
                  </a:moveTo>
                  <a:lnTo>
                    <a:pt x="2658" y="1606"/>
                  </a:lnTo>
                  <a:lnTo>
                    <a:pt x="2693" y="1513"/>
                  </a:lnTo>
                  <a:lnTo>
                    <a:pt x="2724" y="1406"/>
                  </a:lnTo>
                  <a:lnTo>
                    <a:pt x="2751" y="1288"/>
                  </a:lnTo>
                  <a:lnTo>
                    <a:pt x="2775" y="1160"/>
                  </a:lnTo>
                  <a:lnTo>
                    <a:pt x="2798" y="1027"/>
                  </a:lnTo>
                  <a:lnTo>
                    <a:pt x="2819" y="890"/>
                  </a:lnTo>
                  <a:lnTo>
                    <a:pt x="2840" y="755"/>
                  </a:lnTo>
                  <a:lnTo>
                    <a:pt x="2862" y="622"/>
                  </a:lnTo>
                  <a:lnTo>
                    <a:pt x="2885" y="492"/>
                  </a:lnTo>
                  <a:lnTo>
                    <a:pt x="2911" y="374"/>
                  </a:lnTo>
                  <a:lnTo>
                    <a:pt x="2940" y="265"/>
                  </a:lnTo>
                  <a:lnTo>
                    <a:pt x="2973" y="172"/>
                  </a:lnTo>
                  <a:lnTo>
                    <a:pt x="3012" y="95"/>
                  </a:lnTo>
                  <a:lnTo>
                    <a:pt x="3056" y="37"/>
                  </a:lnTo>
                  <a:lnTo>
                    <a:pt x="3107" y="2"/>
                  </a:lnTo>
                  <a:lnTo>
                    <a:pt x="3088" y="0"/>
                  </a:lnTo>
                  <a:lnTo>
                    <a:pt x="3069" y="0"/>
                  </a:lnTo>
                  <a:lnTo>
                    <a:pt x="3049" y="0"/>
                  </a:lnTo>
                  <a:lnTo>
                    <a:pt x="3031" y="0"/>
                  </a:lnTo>
                  <a:lnTo>
                    <a:pt x="3013" y="2"/>
                  </a:lnTo>
                  <a:lnTo>
                    <a:pt x="2996" y="2"/>
                  </a:lnTo>
                  <a:lnTo>
                    <a:pt x="2978" y="4"/>
                  </a:lnTo>
                  <a:lnTo>
                    <a:pt x="2962" y="8"/>
                  </a:lnTo>
                  <a:lnTo>
                    <a:pt x="2947" y="10"/>
                  </a:lnTo>
                  <a:lnTo>
                    <a:pt x="2933" y="13"/>
                  </a:lnTo>
                  <a:lnTo>
                    <a:pt x="2918" y="19"/>
                  </a:lnTo>
                  <a:lnTo>
                    <a:pt x="2906" y="22"/>
                  </a:lnTo>
                  <a:lnTo>
                    <a:pt x="2894" y="28"/>
                  </a:lnTo>
                  <a:lnTo>
                    <a:pt x="2884" y="34"/>
                  </a:lnTo>
                  <a:lnTo>
                    <a:pt x="2874" y="41"/>
                  </a:lnTo>
                  <a:lnTo>
                    <a:pt x="2866" y="48"/>
                  </a:lnTo>
                  <a:lnTo>
                    <a:pt x="2856" y="43"/>
                  </a:lnTo>
                  <a:lnTo>
                    <a:pt x="2850" y="28"/>
                  </a:lnTo>
                  <a:lnTo>
                    <a:pt x="2848" y="13"/>
                  </a:lnTo>
                  <a:lnTo>
                    <a:pt x="2851" y="2"/>
                  </a:lnTo>
                  <a:lnTo>
                    <a:pt x="2842" y="4"/>
                  </a:lnTo>
                  <a:lnTo>
                    <a:pt x="2833" y="10"/>
                  </a:lnTo>
                  <a:lnTo>
                    <a:pt x="2824" y="19"/>
                  </a:lnTo>
                  <a:lnTo>
                    <a:pt x="2815" y="28"/>
                  </a:lnTo>
                  <a:lnTo>
                    <a:pt x="2806" y="37"/>
                  </a:lnTo>
                  <a:lnTo>
                    <a:pt x="2799" y="47"/>
                  </a:lnTo>
                  <a:lnTo>
                    <a:pt x="2793" y="52"/>
                  </a:lnTo>
                  <a:lnTo>
                    <a:pt x="2788" y="54"/>
                  </a:lnTo>
                  <a:lnTo>
                    <a:pt x="2778" y="48"/>
                  </a:lnTo>
                  <a:lnTo>
                    <a:pt x="2771" y="34"/>
                  </a:lnTo>
                  <a:lnTo>
                    <a:pt x="2768" y="17"/>
                  </a:lnTo>
                  <a:lnTo>
                    <a:pt x="2768" y="2"/>
                  </a:lnTo>
                  <a:lnTo>
                    <a:pt x="2759" y="4"/>
                  </a:lnTo>
                  <a:lnTo>
                    <a:pt x="2750" y="8"/>
                  </a:lnTo>
                  <a:lnTo>
                    <a:pt x="2741" y="15"/>
                  </a:lnTo>
                  <a:lnTo>
                    <a:pt x="2732" y="22"/>
                  </a:lnTo>
                  <a:lnTo>
                    <a:pt x="2722" y="32"/>
                  </a:lnTo>
                  <a:lnTo>
                    <a:pt x="2714" y="41"/>
                  </a:lnTo>
                  <a:lnTo>
                    <a:pt x="2706" y="48"/>
                  </a:lnTo>
                  <a:lnTo>
                    <a:pt x="2697" y="56"/>
                  </a:lnTo>
                  <a:lnTo>
                    <a:pt x="2686" y="48"/>
                  </a:lnTo>
                  <a:lnTo>
                    <a:pt x="2680" y="35"/>
                  </a:lnTo>
                  <a:lnTo>
                    <a:pt x="2676" y="19"/>
                  </a:lnTo>
                  <a:lnTo>
                    <a:pt x="2670" y="6"/>
                  </a:lnTo>
                  <a:lnTo>
                    <a:pt x="2664" y="8"/>
                  </a:lnTo>
                  <a:lnTo>
                    <a:pt x="2655" y="15"/>
                  </a:lnTo>
                  <a:lnTo>
                    <a:pt x="2645" y="22"/>
                  </a:lnTo>
                  <a:lnTo>
                    <a:pt x="2635" y="32"/>
                  </a:lnTo>
                  <a:lnTo>
                    <a:pt x="2623" y="43"/>
                  </a:lnTo>
                  <a:lnTo>
                    <a:pt x="2613" y="50"/>
                  </a:lnTo>
                  <a:lnTo>
                    <a:pt x="2604" y="58"/>
                  </a:lnTo>
                  <a:lnTo>
                    <a:pt x="2598" y="59"/>
                  </a:lnTo>
                  <a:lnTo>
                    <a:pt x="2590" y="54"/>
                  </a:lnTo>
                  <a:lnTo>
                    <a:pt x="2587" y="37"/>
                  </a:lnTo>
                  <a:lnTo>
                    <a:pt x="2587" y="21"/>
                  </a:lnTo>
                  <a:lnTo>
                    <a:pt x="2590" y="6"/>
                  </a:lnTo>
                  <a:lnTo>
                    <a:pt x="2581" y="6"/>
                  </a:lnTo>
                  <a:lnTo>
                    <a:pt x="2571" y="13"/>
                  </a:lnTo>
                  <a:lnTo>
                    <a:pt x="2560" y="24"/>
                  </a:lnTo>
                  <a:lnTo>
                    <a:pt x="2549" y="35"/>
                  </a:lnTo>
                  <a:lnTo>
                    <a:pt x="2538" y="50"/>
                  </a:lnTo>
                  <a:lnTo>
                    <a:pt x="2529" y="61"/>
                  </a:lnTo>
                  <a:lnTo>
                    <a:pt x="2520" y="69"/>
                  </a:lnTo>
                  <a:lnTo>
                    <a:pt x="2514" y="72"/>
                  </a:lnTo>
                  <a:lnTo>
                    <a:pt x="2506" y="65"/>
                  </a:lnTo>
                  <a:lnTo>
                    <a:pt x="2502" y="47"/>
                  </a:lnTo>
                  <a:lnTo>
                    <a:pt x="2501" y="24"/>
                  </a:lnTo>
                  <a:lnTo>
                    <a:pt x="2503" y="2"/>
                  </a:lnTo>
                  <a:lnTo>
                    <a:pt x="2492" y="6"/>
                  </a:lnTo>
                  <a:lnTo>
                    <a:pt x="2480" y="17"/>
                  </a:lnTo>
                  <a:lnTo>
                    <a:pt x="2468" y="32"/>
                  </a:lnTo>
                  <a:lnTo>
                    <a:pt x="2456" y="47"/>
                  </a:lnTo>
                  <a:lnTo>
                    <a:pt x="2445" y="63"/>
                  </a:lnTo>
                  <a:lnTo>
                    <a:pt x="2435" y="78"/>
                  </a:lnTo>
                  <a:lnTo>
                    <a:pt x="2427" y="89"/>
                  </a:lnTo>
                  <a:lnTo>
                    <a:pt x="2421" y="93"/>
                  </a:lnTo>
                  <a:lnTo>
                    <a:pt x="2414" y="84"/>
                  </a:lnTo>
                  <a:lnTo>
                    <a:pt x="2413" y="59"/>
                  </a:lnTo>
                  <a:lnTo>
                    <a:pt x="2416" y="32"/>
                  </a:lnTo>
                  <a:lnTo>
                    <a:pt x="2424" y="8"/>
                  </a:lnTo>
                  <a:lnTo>
                    <a:pt x="2410" y="11"/>
                  </a:lnTo>
                  <a:lnTo>
                    <a:pt x="2397" y="22"/>
                  </a:lnTo>
                  <a:lnTo>
                    <a:pt x="2384" y="39"/>
                  </a:lnTo>
                  <a:lnTo>
                    <a:pt x="2371" y="56"/>
                  </a:lnTo>
                  <a:lnTo>
                    <a:pt x="2360" y="74"/>
                  </a:lnTo>
                  <a:lnTo>
                    <a:pt x="2349" y="91"/>
                  </a:lnTo>
                  <a:lnTo>
                    <a:pt x="2338" y="102"/>
                  </a:lnTo>
                  <a:lnTo>
                    <a:pt x="2330" y="106"/>
                  </a:lnTo>
                  <a:lnTo>
                    <a:pt x="2321" y="96"/>
                  </a:lnTo>
                  <a:lnTo>
                    <a:pt x="2321" y="72"/>
                  </a:lnTo>
                  <a:lnTo>
                    <a:pt x="2326" y="43"/>
                  </a:lnTo>
                  <a:lnTo>
                    <a:pt x="2336" y="19"/>
                  </a:lnTo>
                  <a:lnTo>
                    <a:pt x="2326" y="24"/>
                  </a:lnTo>
                  <a:lnTo>
                    <a:pt x="2314" y="37"/>
                  </a:lnTo>
                  <a:lnTo>
                    <a:pt x="2300" y="52"/>
                  </a:lnTo>
                  <a:lnTo>
                    <a:pt x="2286" y="71"/>
                  </a:lnTo>
                  <a:lnTo>
                    <a:pt x="2271" y="89"/>
                  </a:lnTo>
                  <a:lnTo>
                    <a:pt x="2260" y="104"/>
                  </a:lnTo>
                  <a:lnTo>
                    <a:pt x="2253" y="115"/>
                  </a:lnTo>
                  <a:lnTo>
                    <a:pt x="2250" y="119"/>
                  </a:lnTo>
                  <a:lnTo>
                    <a:pt x="2241" y="109"/>
                  </a:lnTo>
                  <a:lnTo>
                    <a:pt x="2241" y="89"/>
                  </a:lnTo>
                  <a:lnTo>
                    <a:pt x="2247" y="65"/>
                  </a:lnTo>
                  <a:lnTo>
                    <a:pt x="2257" y="45"/>
                  </a:lnTo>
                  <a:lnTo>
                    <a:pt x="2246" y="48"/>
                  </a:lnTo>
                  <a:lnTo>
                    <a:pt x="2233" y="58"/>
                  </a:lnTo>
                  <a:lnTo>
                    <a:pt x="2219" y="71"/>
                  </a:lnTo>
                  <a:lnTo>
                    <a:pt x="2206" y="84"/>
                  </a:lnTo>
                  <a:lnTo>
                    <a:pt x="2192" y="98"/>
                  </a:lnTo>
                  <a:lnTo>
                    <a:pt x="2182" y="111"/>
                  </a:lnTo>
                  <a:lnTo>
                    <a:pt x="2173" y="119"/>
                  </a:lnTo>
                  <a:lnTo>
                    <a:pt x="2168" y="122"/>
                  </a:lnTo>
                  <a:lnTo>
                    <a:pt x="2163" y="113"/>
                  </a:lnTo>
                  <a:lnTo>
                    <a:pt x="2163" y="95"/>
                  </a:lnTo>
                  <a:lnTo>
                    <a:pt x="2166" y="71"/>
                  </a:lnTo>
                  <a:lnTo>
                    <a:pt x="2172" y="45"/>
                  </a:lnTo>
                  <a:lnTo>
                    <a:pt x="2163" y="50"/>
                  </a:lnTo>
                  <a:lnTo>
                    <a:pt x="2152" y="61"/>
                  </a:lnTo>
                  <a:lnTo>
                    <a:pt x="2139" y="74"/>
                  </a:lnTo>
                  <a:lnTo>
                    <a:pt x="2126" y="91"/>
                  </a:lnTo>
                  <a:lnTo>
                    <a:pt x="2115" y="106"/>
                  </a:lnTo>
                  <a:lnTo>
                    <a:pt x="2105" y="119"/>
                  </a:lnTo>
                  <a:lnTo>
                    <a:pt x="2097" y="128"/>
                  </a:lnTo>
                  <a:lnTo>
                    <a:pt x="2093" y="132"/>
                  </a:lnTo>
                  <a:lnTo>
                    <a:pt x="2093" y="119"/>
                  </a:lnTo>
                  <a:lnTo>
                    <a:pt x="2095" y="89"/>
                  </a:lnTo>
                  <a:lnTo>
                    <a:pt x="2099" y="56"/>
                  </a:lnTo>
                  <a:lnTo>
                    <a:pt x="2105" y="28"/>
                  </a:lnTo>
                  <a:lnTo>
                    <a:pt x="2095" y="35"/>
                  </a:lnTo>
                  <a:lnTo>
                    <a:pt x="2083" y="48"/>
                  </a:lnTo>
                  <a:lnTo>
                    <a:pt x="2070" y="67"/>
                  </a:lnTo>
                  <a:lnTo>
                    <a:pt x="2056" y="85"/>
                  </a:lnTo>
                  <a:lnTo>
                    <a:pt x="2044" y="104"/>
                  </a:lnTo>
                  <a:lnTo>
                    <a:pt x="2032" y="121"/>
                  </a:lnTo>
                  <a:lnTo>
                    <a:pt x="2024" y="132"/>
                  </a:lnTo>
                  <a:lnTo>
                    <a:pt x="2018" y="135"/>
                  </a:lnTo>
                  <a:lnTo>
                    <a:pt x="2013" y="121"/>
                  </a:lnTo>
                  <a:lnTo>
                    <a:pt x="2012" y="87"/>
                  </a:lnTo>
                  <a:lnTo>
                    <a:pt x="2015" y="48"/>
                  </a:lnTo>
                  <a:lnTo>
                    <a:pt x="2020" y="15"/>
                  </a:lnTo>
                  <a:lnTo>
                    <a:pt x="2010" y="22"/>
                  </a:lnTo>
                  <a:lnTo>
                    <a:pt x="1997" y="41"/>
                  </a:lnTo>
                  <a:lnTo>
                    <a:pt x="1982" y="67"/>
                  </a:lnTo>
                  <a:lnTo>
                    <a:pt x="1968" y="95"/>
                  </a:lnTo>
                  <a:lnTo>
                    <a:pt x="1954" y="122"/>
                  </a:lnTo>
                  <a:lnTo>
                    <a:pt x="1941" y="146"/>
                  </a:lnTo>
                  <a:lnTo>
                    <a:pt x="1931" y="163"/>
                  </a:lnTo>
                  <a:lnTo>
                    <a:pt x="1925" y="169"/>
                  </a:lnTo>
                  <a:lnTo>
                    <a:pt x="1921" y="163"/>
                  </a:lnTo>
                  <a:lnTo>
                    <a:pt x="1920" y="148"/>
                  </a:lnTo>
                  <a:lnTo>
                    <a:pt x="1921" y="130"/>
                  </a:lnTo>
                  <a:lnTo>
                    <a:pt x="1925" y="108"/>
                  </a:lnTo>
                  <a:lnTo>
                    <a:pt x="1930" y="84"/>
                  </a:lnTo>
                  <a:lnTo>
                    <a:pt x="1936" y="59"/>
                  </a:lnTo>
                  <a:lnTo>
                    <a:pt x="1941" y="37"/>
                  </a:lnTo>
                  <a:lnTo>
                    <a:pt x="1945" y="19"/>
                  </a:lnTo>
                  <a:lnTo>
                    <a:pt x="1930" y="30"/>
                  </a:lnTo>
                  <a:lnTo>
                    <a:pt x="1914" y="50"/>
                  </a:lnTo>
                  <a:lnTo>
                    <a:pt x="1896" y="80"/>
                  </a:lnTo>
                  <a:lnTo>
                    <a:pt x="1879" y="111"/>
                  </a:lnTo>
                  <a:lnTo>
                    <a:pt x="1864" y="145"/>
                  </a:lnTo>
                  <a:lnTo>
                    <a:pt x="1851" y="172"/>
                  </a:lnTo>
                  <a:lnTo>
                    <a:pt x="1840" y="193"/>
                  </a:lnTo>
                  <a:lnTo>
                    <a:pt x="1835" y="200"/>
                  </a:lnTo>
                  <a:lnTo>
                    <a:pt x="1833" y="182"/>
                  </a:lnTo>
                  <a:lnTo>
                    <a:pt x="1835" y="137"/>
                  </a:lnTo>
                  <a:lnTo>
                    <a:pt x="1840" y="82"/>
                  </a:lnTo>
                  <a:lnTo>
                    <a:pt x="1847" y="35"/>
                  </a:lnTo>
                  <a:lnTo>
                    <a:pt x="1834" y="45"/>
                  </a:lnTo>
                  <a:lnTo>
                    <a:pt x="1821" y="67"/>
                  </a:lnTo>
                  <a:lnTo>
                    <a:pt x="1808" y="96"/>
                  </a:lnTo>
                  <a:lnTo>
                    <a:pt x="1795" y="130"/>
                  </a:lnTo>
                  <a:lnTo>
                    <a:pt x="1783" y="165"/>
                  </a:lnTo>
                  <a:lnTo>
                    <a:pt x="1773" y="193"/>
                  </a:lnTo>
                  <a:lnTo>
                    <a:pt x="1763" y="213"/>
                  </a:lnTo>
                  <a:lnTo>
                    <a:pt x="1758" y="220"/>
                  </a:lnTo>
                  <a:lnTo>
                    <a:pt x="1752" y="200"/>
                  </a:lnTo>
                  <a:lnTo>
                    <a:pt x="1750" y="152"/>
                  </a:lnTo>
                  <a:lnTo>
                    <a:pt x="1752" y="91"/>
                  </a:lnTo>
                  <a:lnTo>
                    <a:pt x="1760" y="35"/>
                  </a:lnTo>
                  <a:lnTo>
                    <a:pt x="1752" y="47"/>
                  </a:lnTo>
                  <a:lnTo>
                    <a:pt x="1739" y="69"/>
                  </a:lnTo>
                  <a:lnTo>
                    <a:pt x="1723" y="98"/>
                  </a:lnTo>
                  <a:lnTo>
                    <a:pt x="1705" y="132"/>
                  </a:lnTo>
                  <a:lnTo>
                    <a:pt x="1687" y="167"/>
                  </a:lnTo>
                  <a:lnTo>
                    <a:pt x="1672" y="194"/>
                  </a:lnTo>
                  <a:lnTo>
                    <a:pt x="1661" y="217"/>
                  </a:lnTo>
                  <a:lnTo>
                    <a:pt x="1655" y="224"/>
                  </a:lnTo>
                  <a:lnTo>
                    <a:pt x="1652" y="204"/>
                  </a:lnTo>
                  <a:lnTo>
                    <a:pt x="1656" y="154"/>
                  </a:lnTo>
                  <a:lnTo>
                    <a:pt x="1664" y="93"/>
                  </a:lnTo>
                  <a:lnTo>
                    <a:pt x="1674" y="41"/>
                  </a:lnTo>
                  <a:lnTo>
                    <a:pt x="1665" y="50"/>
                  </a:lnTo>
                  <a:lnTo>
                    <a:pt x="1651" y="72"/>
                  </a:lnTo>
                  <a:lnTo>
                    <a:pt x="1634" y="104"/>
                  </a:lnTo>
                  <a:lnTo>
                    <a:pt x="1615" y="141"/>
                  </a:lnTo>
                  <a:lnTo>
                    <a:pt x="1597" y="180"/>
                  </a:lnTo>
                  <a:lnTo>
                    <a:pt x="1582" y="211"/>
                  </a:lnTo>
                  <a:lnTo>
                    <a:pt x="1569" y="233"/>
                  </a:lnTo>
                  <a:lnTo>
                    <a:pt x="1562" y="243"/>
                  </a:lnTo>
                  <a:lnTo>
                    <a:pt x="1561" y="222"/>
                  </a:lnTo>
                  <a:lnTo>
                    <a:pt x="1566" y="172"/>
                  </a:lnTo>
                  <a:lnTo>
                    <a:pt x="1573" y="111"/>
                  </a:lnTo>
                  <a:lnTo>
                    <a:pt x="1582" y="54"/>
                  </a:lnTo>
                  <a:lnTo>
                    <a:pt x="1572" y="67"/>
                  </a:lnTo>
                  <a:lnTo>
                    <a:pt x="1560" y="93"/>
                  </a:lnTo>
                  <a:lnTo>
                    <a:pt x="1544" y="128"/>
                  </a:lnTo>
                  <a:lnTo>
                    <a:pt x="1529" y="167"/>
                  </a:lnTo>
                  <a:lnTo>
                    <a:pt x="1513" y="206"/>
                  </a:lnTo>
                  <a:lnTo>
                    <a:pt x="1500" y="239"/>
                  </a:lnTo>
                  <a:lnTo>
                    <a:pt x="1489" y="263"/>
                  </a:lnTo>
                  <a:lnTo>
                    <a:pt x="1482" y="272"/>
                  </a:lnTo>
                  <a:lnTo>
                    <a:pt x="1476" y="252"/>
                  </a:lnTo>
                  <a:lnTo>
                    <a:pt x="1478" y="202"/>
                  </a:lnTo>
                  <a:lnTo>
                    <a:pt x="1486" y="133"/>
                  </a:lnTo>
                  <a:lnTo>
                    <a:pt x="1500" y="61"/>
                  </a:lnTo>
                  <a:lnTo>
                    <a:pt x="1493" y="72"/>
                  </a:lnTo>
                  <a:lnTo>
                    <a:pt x="1480" y="96"/>
                  </a:lnTo>
                  <a:lnTo>
                    <a:pt x="1465" y="130"/>
                  </a:lnTo>
                  <a:lnTo>
                    <a:pt x="1448" y="167"/>
                  </a:lnTo>
                  <a:lnTo>
                    <a:pt x="1431" y="204"/>
                  </a:lnTo>
                  <a:lnTo>
                    <a:pt x="1416" y="235"/>
                  </a:lnTo>
                  <a:lnTo>
                    <a:pt x="1404" y="257"/>
                  </a:lnTo>
                  <a:lnTo>
                    <a:pt x="1397" y="267"/>
                  </a:lnTo>
                  <a:lnTo>
                    <a:pt x="1393" y="261"/>
                  </a:lnTo>
                  <a:lnTo>
                    <a:pt x="1392" y="246"/>
                  </a:lnTo>
                  <a:lnTo>
                    <a:pt x="1394" y="224"/>
                  </a:lnTo>
                  <a:lnTo>
                    <a:pt x="1397" y="196"/>
                  </a:lnTo>
                  <a:lnTo>
                    <a:pt x="1401" y="167"/>
                  </a:lnTo>
                  <a:lnTo>
                    <a:pt x="1406" y="135"/>
                  </a:lnTo>
                  <a:lnTo>
                    <a:pt x="1413" y="104"/>
                  </a:lnTo>
                  <a:lnTo>
                    <a:pt x="1418" y="76"/>
                  </a:lnTo>
                  <a:lnTo>
                    <a:pt x="1405" y="87"/>
                  </a:lnTo>
                  <a:lnTo>
                    <a:pt x="1392" y="111"/>
                  </a:lnTo>
                  <a:lnTo>
                    <a:pt x="1378" y="143"/>
                  </a:lnTo>
                  <a:lnTo>
                    <a:pt x="1364" y="178"/>
                  </a:lnTo>
                  <a:lnTo>
                    <a:pt x="1350" y="215"/>
                  </a:lnTo>
                  <a:lnTo>
                    <a:pt x="1339" y="246"/>
                  </a:lnTo>
                  <a:lnTo>
                    <a:pt x="1328" y="268"/>
                  </a:lnTo>
                  <a:lnTo>
                    <a:pt x="1322" y="276"/>
                  </a:lnTo>
                  <a:lnTo>
                    <a:pt x="1316" y="256"/>
                  </a:lnTo>
                  <a:lnTo>
                    <a:pt x="1317" y="207"/>
                  </a:lnTo>
                  <a:lnTo>
                    <a:pt x="1323" y="145"/>
                  </a:lnTo>
                  <a:lnTo>
                    <a:pt x="1333" y="84"/>
                  </a:lnTo>
                  <a:lnTo>
                    <a:pt x="1326" y="96"/>
                  </a:lnTo>
                  <a:lnTo>
                    <a:pt x="1316" y="121"/>
                  </a:lnTo>
                  <a:lnTo>
                    <a:pt x="1303" y="156"/>
                  </a:lnTo>
                  <a:lnTo>
                    <a:pt x="1290" y="193"/>
                  </a:lnTo>
                  <a:lnTo>
                    <a:pt x="1276" y="230"/>
                  </a:lnTo>
                  <a:lnTo>
                    <a:pt x="1262" y="261"/>
                  </a:lnTo>
                  <a:lnTo>
                    <a:pt x="1252" y="283"/>
                  </a:lnTo>
                  <a:lnTo>
                    <a:pt x="1245" y="293"/>
                  </a:lnTo>
                  <a:lnTo>
                    <a:pt x="1239" y="274"/>
                  </a:lnTo>
                  <a:lnTo>
                    <a:pt x="1239" y="226"/>
                  </a:lnTo>
                  <a:lnTo>
                    <a:pt x="1243" y="165"/>
                  </a:lnTo>
                  <a:lnTo>
                    <a:pt x="1254" y="106"/>
                  </a:lnTo>
                  <a:lnTo>
                    <a:pt x="1244" y="122"/>
                  </a:lnTo>
                  <a:lnTo>
                    <a:pt x="1232" y="148"/>
                  </a:lnTo>
                  <a:lnTo>
                    <a:pt x="1218" y="182"/>
                  </a:lnTo>
                  <a:lnTo>
                    <a:pt x="1204" y="219"/>
                  </a:lnTo>
                  <a:lnTo>
                    <a:pt x="1188" y="254"/>
                  </a:lnTo>
                  <a:lnTo>
                    <a:pt x="1175" y="283"/>
                  </a:lnTo>
                  <a:lnTo>
                    <a:pt x="1164" y="304"/>
                  </a:lnTo>
                  <a:lnTo>
                    <a:pt x="1156" y="311"/>
                  </a:lnTo>
                  <a:lnTo>
                    <a:pt x="1149" y="293"/>
                  </a:lnTo>
                  <a:lnTo>
                    <a:pt x="1151" y="243"/>
                  </a:lnTo>
                  <a:lnTo>
                    <a:pt x="1158" y="182"/>
                  </a:lnTo>
                  <a:lnTo>
                    <a:pt x="1165" y="119"/>
                  </a:lnTo>
                  <a:lnTo>
                    <a:pt x="1157" y="133"/>
                  </a:lnTo>
                  <a:lnTo>
                    <a:pt x="1145" y="161"/>
                  </a:lnTo>
                  <a:lnTo>
                    <a:pt x="1130" y="198"/>
                  </a:lnTo>
                  <a:lnTo>
                    <a:pt x="1113" y="237"/>
                  </a:lnTo>
                  <a:lnTo>
                    <a:pt x="1097" y="276"/>
                  </a:lnTo>
                  <a:lnTo>
                    <a:pt x="1084" y="309"/>
                  </a:lnTo>
                  <a:lnTo>
                    <a:pt x="1075" y="331"/>
                  </a:lnTo>
                  <a:lnTo>
                    <a:pt x="1072" y="341"/>
                  </a:lnTo>
                  <a:lnTo>
                    <a:pt x="1069" y="317"/>
                  </a:lnTo>
                  <a:lnTo>
                    <a:pt x="1072" y="259"/>
                  </a:lnTo>
                  <a:lnTo>
                    <a:pt x="1079" y="189"/>
                  </a:lnTo>
                  <a:lnTo>
                    <a:pt x="1090" y="126"/>
                  </a:lnTo>
                  <a:lnTo>
                    <a:pt x="1079" y="145"/>
                  </a:lnTo>
                  <a:lnTo>
                    <a:pt x="1065" y="174"/>
                  </a:lnTo>
                  <a:lnTo>
                    <a:pt x="1051" y="211"/>
                  </a:lnTo>
                  <a:lnTo>
                    <a:pt x="1036" y="248"/>
                  </a:lnTo>
                  <a:lnTo>
                    <a:pt x="1022" y="285"/>
                  </a:lnTo>
                  <a:lnTo>
                    <a:pt x="1010" y="317"/>
                  </a:lnTo>
                  <a:lnTo>
                    <a:pt x="1001" y="337"/>
                  </a:lnTo>
                  <a:lnTo>
                    <a:pt x="995" y="344"/>
                  </a:lnTo>
                  <a:lnTo>
                    <a:pt x="992" y="322"/>
                  </a:lnTo>
                  <a:lnTo>
                    <a:pt x="993" y="270"/>
                  </a:lnTo>
                  <a:lnTo>
                    <a:pt x="997" y="207"/>
                  </a:lnTo>
                  <a:lnTo>
                    <a:pt x="1006" y="152"/>
                  </a:lnTo>
                  <a:lnTo>
                    <a:pt x="997" y="169"/>
                  </a:lnTo>
                  <a:lnTo>
                    <a:pt x="985" y="196"/>
                  </a:lnTo>
                  <a:lnTo>
                    <a:pt x="969" y="231"/>
                  </a:lnTo>
                  <a:lnTo>
                    <a:pt x="953" y="270"/>
                  </a:lnTo>
                  <a:lnTo>
                    <a:pt x="938" y="305"/>
                  </a:lnTo>
                  <a:lnTo>
                    <a:pt x="925" y="337"/>
                  </a:lnTo>
                  <a:lnTo>
                    <a:pt x="915" y="359"/>
                  </a:lnTo>
                  <a:lnTo>
                    <a:pt x="910" y="366"/>
                  </a:lnTo>
                  <a:lnTo>
                    <a:pt x="904" y="346"/>
                  </a:lnTo>
                  <a:lnTo>
                    <a:pt x="904" y="296"/>
                  </a:lnTo>
                  <a:lnTo>
                    <a:pt x="910" y="233"/>
                  </a:lnTo>
                  <a:lnTo>
                    <a:pt x="917" y="172"/>
                  </a:lnTo>
                  <a:lnTo>
                    <a:pt x="908" y="189"/>
                  </a:lnTo>
                  <a:lnTo>
                    <a:pt x="894" y="219"/>
                  </a:lnTo>
                  <a:lnTo>
                    <a:pt x="880" y="254"/>
                  </a:lnTo>
                  <a:lnTo>
                    <a:pt x="864" y="293"/>
                  </a:lnTo>
                  <a:lnTo>
                    <a:pt x="848" y="331"/>
                  </a:lnTo>
                  <a:lnTo>
                    <a:pt x="835" y="363"/>
                  </a:lnTo>
                  <a:lnTo>
                    <a:pt x="823" y="385"/>
                  </a:lnTo>
                  <a:lnTo>
                    <a:pt x="816" y="392"/>
                  </a:lnTo>
                  <a:lnTo>
                    <a:pt x="813" y="370"/>
                  </a:lnTo>
                  <a:lnTo>
                    <a:pt x="816" y="320"/>
                  </a:lnTo>
                  <a:lnTo>
                    <a:pt x="822" y="259"/>
                  </a:lnTo>
                  <a:lnTo>
                    <a:pt x="829" y="204"/>
                  </a:lnTo>
                  <a:lnTo>
                    <a:pt x="820" y="222"/>
                  </a:lnTo>
                  <a:lnTo>
                    <a:pt x="808" y="252"/>
                  </a:lnTo>
                  <a:lnTo>
                    <a:pt x="794" y="289"/>
                  </a:lnTo>
                  <a:lnTo>
                    <a:pt x="779" y="329"/>
                  </a:lnTo>
                  <a:lnTo>
                    <a:pt x="764" y="368"/>
                  </a:lnTo>
                  <a:lnTo>
                    <a:pt x="750" y="402"/>
                  </a:lnTo>
                  <a:lnTo>
                    <a:pt x="740" y="424"/>
                  </a:lnTo>
                  <a:lnTo>
                    <a:pt x="734" y="433"/>
                  </a:lnTo>
                  <a:lnTo>
                    <a:pt x="731" y="428"/>
                  </a:lnTo>
                  <a:lnTo>
                    <a:pt x="730" y="411"/>
                  </a:lnTo>
                  <a:lnTo>
                    <a:pt x="731" y="387"/>
                  </a:lnTo>
                  <a:lnTo>
                    <a:pt x="733" y="357"/>
                  </a:lnTo>
                  <a:lnTo>
                    <a:pt x="737" y="322"/>
                  </a:lnTo>
                  <a:lnTo>
                    <a:pt x="742" y="287"/>
                  </a:lnTo>
                  <a:lnTo>
                    <a:pt x="749" y="254"/>
                  </a:lnTo>
                  <a:lnTo>
                    <a:pt x="757" y="220"/>
                  </a:lnTo>
                  <a:lnTo>
                    <a:pt x="747" y="239"/>
                  </a:lnTo>
                  <a:lnTo>
                    <a:pt x="733" y="270"/>
                  </a:lnTo>
                  <a:lnTo>
                    <a:pt x="717" y="309"/>
                  </a:lnTo>
                  <a:lnTo>
                    <a:pt x="700" y="350"/>
                  </a:lnTo>
                  <a:lnTo>
                    <a:pt x="682" y="391"/>
                  </a:lnTo>
                  <a:lnTo>
                    <a:pt x="667" y="426"/>
                  </a:lnTo>
                  <a:lnTo>
                    <a:pt x="656" y="450"/>
                  </a:lnTo>
                  <a:lnTo>
                    <a:pt x="650" y="459"/>
                  </a:lnTo>
                  <a:lnTo>
                    <a:pt x="645" y="437"/>
                  </a:lnTo>
                  <a:lnTo>
                    <a:pt x="646" y="383"/>
                  </a:lnTo>
                  <a:lnTo>
                    <a:pt x="653" y="315"/>
                  </a:lnTo>
                  <a:lnTo>
                    <a:pt x="666" y="246"/>
                  </a:lnTo>
                  <a:lnTo>
                    <a:pt x="655" y="263"/>
                  </a:lnTo>
                  <a:lnTo>
                    <a:pt x="641" y="293"/>
                  </a:lnTo>
                  <a:lnTo>
                    <a:pt x="625" y="328"/>
                  </a:lnTo>
                  <a:lnTo>
                    <a:pt x="609" y="366"/>
                  </a:lnTo>
                  <a:lnTo>
                    <a:pt x="594" y="403"/>
                  </a:lnTo>
                  <a:lnTo>
                    <a:pt x="580" y="437"/>
                  </a:lnTo>
                  <a:lnTo>
                    <a:pt x="571" y="459"/>
                  </a:lnTo>
                  <a:lnTo>
                    <a:pt x="565" y="468"/>
                  </a:lnTo>
                  <a:lnTo>
                    <a:pt x="560" y="465"/>
                  </a:lnTo>
                  <a:lnTo>
                    <a:pt x="558" y="452"/>
                  </a:lnTo>
                  <a:lnTo>
                    <a:pt x="559" y="433"/>
                  </a:lnTo>
                  <a:lnTo>
                    <a:pt x="561" y="407"/>
                  </a:lnTo>
                  <a:lnTo>
                    <a:pt x="565" y="381"/>
                  </a:lnTo>
                  <a:lnTo>
                    <a:pt x="571" y="352"/>
                  </a:lnTo>
                  <a:lnTo>
                    <a:pt x="578" y="324"/>
                  </a:lnTo>
                  <a:lnTo>
                    <a:pt x="586" y="298"/>
                  </a:lnTo>
                  <a:lnTo>
                    <a:pt x="575" y="313"/>
                  </a:lnTo>
                  <a:lnTo>
                    <a:pt x="560" y="339"/>
                  </a:lnTo>
                  <a:lnTo>
                    <a:pt x="542" y="370"/>
                  </a:lnTo>
                  <a:lnTo>
                    <a:pt x="523" y="405"/>
                  </a:lnTo>
                  <a:lnTo>
                    <a:pt x="506" y="439"/>
                  </a:lnTo>
                  <a:lnTo>
                    <a:pt x="490" y="466"/>
                  </a:lnTo>
                  <a:lnTo>
                    <a:pt x="477" y="485"/>
                  </a:lnTo>
                  <a:lnTo>
                    <a:pt x="469" y="490"/>
                  </a:lnTo>
                  <a:lnTo>
                    <a:pt x="463" y="477"/>
                  </a:lnTo>
                  <a:lnTo>
                    <a:pt x="464" y="450"/>
                  </a:lnTo>
                  <a:lnTo>
                    <a:pt x="470" y="418"/>
                  </a:lnTo>
                  <a:lnTo>
                    <a:pt x="479" y="391"/>
                  </a:lnTo>
                  <a:lnTo>
                    <a:pt x="437" y="463"/>
                  </a:lnTo>
                  <a:lnTo>
                    <a:pt x="400" y="548"/>
                  </a:lnTo>
                  <a:lnTo>
                    <a:pt x="367" y="646"/>
                  </a:lnTo>
                  <a:lnTo>
                    <a:pt x="337" y="755"/>
                  </a:lnTo>
                  <a:lnTo>
                    <a:pt x="309" y="871"/>
                  </a:lnTo>
                  <a:lnTo>
                    <a:pt x="284" y="992"/>
                  </a:lnTo>
                  <a:lnTo>
                    <a:pt x="261" y="1116"/>
                  </a:lnTo>
                  <a:lnTo>
                    <a:pt x="237" y="1241"/>
                  </a:lnTo>
                  <a:lnTo>
                    <a:pt x="214" y="1363"/>
                  </a:lnTo>
                  <a:lnTo>
                    <a:pt x="190" y="1482"/>
                  </a:lnTo>
                  <a:lnTo>
                    <a:pt x="165" y="1595"/>
                  </a:lnTo>
                  <a:lnTo>
                    <a:pt x="138" y="1698"/>
                  </a:lnTo>
                  <a:lnTo>
                    <a:pt x="108" y="1792"/>
                  </a:lnTo>
                  <a:lnTo>
                    <a:pt x="76" y="1872"/>
                  </a:lnTo>
                  <a:lnTo>
                    <a:pt x="40" y="1935"/>
                  </a:lnTo>
                  <a:lnTo>
                    <a:pt x="0" y="1981"/>
                  </a:lnTo>
                  <a:lnTo>
                    <a:pt x="9" y="1977"/>
                  </a:lnTo>
                  <a:lnTo>
                    <a:pt x="19" y="1974"/>
                  </a:lnTo>
                  <a:lnTo>
                    <a:pt x="30" y="1968"/>
                  </a:lnTo>
                  <a:lnTo>
                    <a:pt x="42" y="1961"/>
                  </a:lnTo>
                  <a:lnTo>
                    <a:pt x="52" y="1955"/>
                  </a:lnTo>
                  <a:lnTo>
                    <a:pt x="62" y="1952"/>
                  </a:lnTo>
                  <a:lnTo>
                    <a:pt x="70" y="1950"/>
                  </a:lnTo>
                  <a:lnTo>
                    <a:pt x="76" y="1950"/>
                  </a:lnTo>
                  <a:lnTo>
                    <a:pt x="78" y="1955"/>
                  </a:lnTo>
                  <a:lnTo>
                    <a:pt x="76" y="1963"/>
                  </a:lnTo>
                  <a:lnTo>
                    <a:pt x="71" y="1974"/>
                  </a:lnTo>
                  <a:lnTo>
                    <a:pt x="65" y="1985"/>
                  </a:lnTo>
                  <a:lnTo>
                    <a:pt x="59" y="1996"/>
                  </a:lnTo>
                  <a:lnTo>
                    <a:pt x="55" y="2005"/>
                  </a:lnTo>
                  <a:lnTo>
                    <a:pt x="55" y="2013"/>
                  </a:lnTo>
                  <a:lnTo>
                    <a:pt x="60" y="2014"/>
                  </a:lnTo>
                  <a:lnTo>
                    <a:pt x="73" y="2011"/>
                  </a:lnTo>
                  <a:lnTo>
                    <a:pt x="88" y="2001"/>
                  </a:lnTo>
                  <a:lnTo>
                    <a:pt x="103" y="1992"/>
                  </a:lnTo>
                  <a:lnTo>
                    <a:pt x="120" y="1979"/>
                  </a:lnTo>
                  <a:lnTo>
                    <a:pt x="135" y="1968"/>
                  </a:lnTo>
                  <a:lnTo>
                    <a:pt x="149" y="1959"/>
                  </a:lnTo>
                  <a:lnTo>
                    <a:pt x="160" y="1952"/>
                  </a:lnTo>
                  <a:lnTo>
                    <a:pt x="167" y="1950"/>
                  </a:lnTo>
                  <a:lnTo>
                    <a:pt x="169" y="1953"/>
                  </a:lnTo>
                  <a:lnTo>
                    <a:pt x="167" y="1961"/>
                  </a:lnTo>
                  <a:lnTo>
                    <a:pt x="162" y="1972"/>
                  </a:lnTo>
                  <a:lnTo>
                    <a:pt x="157" y="1985"/>
                  </a:lnTo>
                  <a:lnTo>
                    <a:pt x="152" y="1998"/>
                  </a:lnTo>
                  <a:lnTo>
                    <a:pt x="150" y="2007"/>
                  </a:lnTo>
                  <a:lnTo>
                    <a:pt x="151" y="2014"/>
                  </a:lnTo>
                  <a:lnTo>
                    <a:pt x="158" y="2016"/>
                  </a:lnTo>
                  <a:lnTo>
                    <a:pt x="170" y="2014"/>
                  </a:lnTo>
                  <a:lnTo>
                    <a:pt x="183" y="2005"/>
                  </a:lnTo>
                  <a:lnTo>
                    <a:pt x="197" y="1994"/>
                  </a:lnTo>
                  <a:lnTo>
                    <a:pt x="211" y="1981"/>
                  </a:lnTo>
                  <a:lnTo>
                    <a:pt x="224" y="1968"/>
                  </a:lnTo>
                  <a:lnTo>
                    <a:pt x="236" y="1957"/>
                  </a:lnTo>
                  <a:lnTo>
                    <a:pt x="245" y="1950"/>
                  </a:lnTo>
                  <a:lnTo>
                    <a:pt x="251" y="1948"/>
                  </a:lnTo>
                  <a:lnTo>
                    <a:pt x="255" y="1957"/>
                  </a:lnTo>
                  <a:lnTo>
                    <a:pt x="255" y="1976"/>
                  </a:lnTo>
                  <a:lnTo>
                    <a:pt x="251" y="2000"/>
                  </a:lnTo>
                  <a:lnTo>
                    <a:pt x="243" y="2016"/>
                  </a:lnTo>
                  <a:lnTo>
                    <a:pt x="254" y="2009"/>
                  </a:lnTo>
                  <a:lnTo>
                    <a:pt x="268" y="1998"/>
                  </a:lnTo>
                  <a:lnTo>
                    <a:pt x="281" y="1983"/>
                  </a:lnTo>
                  <a:lnTo>
                    <a:pt x="295" y="1968"/>
                  </a:lnTo>
                  <a:lnTo>
                    <a:pt x="307" y="1955"/>
                  </a:lnTo>
                  <a:lnTo>
                    <a:pt x="318" y="1944"/>
                  </a:lnTo>
                  <a:lnTo>
                    <a:pt x="326" y="1937"/>
                  </a:lnTo>
                  <a:lnTo>
                    <a:pt x="332" y="1933"/>
                  </a:lnTo>
                  <a:lnTo>
                    <a:pt x="339" y="1942"/>
                  </a:lnTo>
                  <a:lnTo>
                    <a:pt x="342" y="1964"/>
                  </a:lnTo>
                  <a:lnTo>
                    <a:pt x="337" y="1996"/>
                  </a:lnTo>
                  <a:lnTo>
                    <a:pt x="323" y="2033"/>
                  </a:lnTo>
                  <a:lnTo>
                    <a:pt x="338" y="2022"/>
                  </a:lnTo>
                  <a:lnTo>
                    <a:pt x="354" y="2005"/>
                  </a:lnTo>
                  <a:lnTo>
                    <a:pt x="370" y="1989"/>
                  </a:lnTo>
                  <a:lnTo>
                    <a:pt x="386" y="1970"/>
                  </a:lnTo>
                  <a:lnTo>
                    <a:pt x="402" y="1952"/>
                  </a:lnTo>
                  <a:lnTo>
                    <a:pt x="415" y="1937"/>
                  </a:lnTo>
                  <a:lnTo>
                    <a:pt x="425" y="1927"/>
                  </a:lnTo>
                  <a:lnTo>
                    <a:pt x="431" y="1924"/>
                  </a:lnTo>
                  <a:lnTo>
                    <a:pt x="434" y="1927"/>
                  </a:lnTo>
                  <a:lnTo>
                    <a:pt x="435" y="1939"/>
                  </a:lnTo>
                  <a:lnTo>
                    <a:pt x="433" y="1952"/>
                  </a:lnTo>
                  <a:lnTo>
                    <a:pt x="429" y="1968"/>
                  </a:lnTo>
                  <a:lnTo>
                    <a:pt x="423" y="1987"/>
                  </a:lnTo>
                  <a:lnTo>
                    <a:pt x="416" y="2005"/>
                  </a:lnTo>
                  <a:lnTo>
                    <a:pt x="409" y="2022"/>
                  </a:lnTo>
                  <a:lnTo>
                    <a:pt x="402" y="2035"/>
                  </a:lnTo>
                  <a:lnTo>
                    <a:pt x="417" y="2020"/>
                  </a:lnTo>
                  <a:lnTo>
                    <a:pt x="435" y="2001"/>
                  </a:lnTo>
                  <a:lnTo>
                    <a:pt x="454" y="1981"/>
                  </a:lnTo>
                  <a:lnTo>
                    <a:pt x="472" y="1961"/>
                  </a:lnTo>
                  <a:lnTo>
                    <a:pt x="491" y="1940"/>
                  </a:lnTo>
                  <a:lnTo>
                    <a:pt x="506" y="1924"/>
                  </a:lnTo>
                  <a:lnTo>
                    <a:pt x="518" y="1915"/>
                  </a:lnTo>
                  <a:lnTo>
                    <a:pt x="525" y="1911"/>
                  </a:lnTo>
                  <a:lnTo>
                    <a:pt x="528" y="1915"/>
                  </a:lnTo>
                  <a:lnTo>
                    <a:pt x="530" y="1924"/>
                  </a:lnTo>
                  <a:lnTo>
                    <a:pt x="530" y="1935"/>
                  </a:lnTo>
                  <a:lnTo>
                    <a:pt x="528" y="1950"/>
                  </a:lnTo>
                  <a:lnTo>
                    <a:pt x="524" y="1966"/>
                  </a:lnTo>
                  <a:lnTo>
                    <a:pt x="518" y="1985"/>
                  </a:lnTo>
                  <a:lnTo>
                    <a:pt x="510" y="2003"/>
                  </a:lnTo>
                  <a:lnTo>
                    <a:pt x="499" y="2020"/>
                  </a:lnTo>
                  <a:lnTo>
                    <a:pt x="514" y="2005"/>
                  </a:lnTo>
                  <a:lnTo>
                    <a:pt x="532" y="1989"/>
                  </a:lnTo>
                  <a:lnTo>
                    <a:pt x="551" y="1968"/>
                  </a:lnTo>
                  <a:lnTo>
                    <a:pt x="569" y="1948"/>
                  </a:lnTo>
                  <a:lnTo>
                    <a:pt x="586" y="1931"/>
                  </a:lnTo>
                  <a:lnTo>
                    <a:pt x="601" y="1915"/>
                  </a:lnTo>
                  <a:lnTo>
                    <a:pt x="612" y="1903"/>
                  </a:lnTo>
                  <a:lnTo>
                    <a:pt x="620" y="1900"/>
                  </a:lnTo>
                  <a:lnTo>
                    <a:pt x="622" y="1902"/>
                  </a:lnTo>
                  <a:lnTo>
                    <a:pt x="623" y="1911"/>
                  </a:lnTo>
                  <a:lnTo>
                    <a:pt x="622" y="1926"/>
                  </a:lnTo>
                  <a:lnTo>
                    <a:pt x="619" y="1942"/>
                  </a:lnTo>
                  <a:lnTo>
                    <a:pt x="614" y="1961"/>
                  </a:lnTo>
                  <a:lnTo>
                    <a:pt x="607" y="1983"/>
                  </a:lnTo>
                  <a:lnTo>
                    <a:pt x="599" y="2003"/>
                  </a:lnTo>
                  <a:lnTo>
                    <a:pt x="589" y="2022"/>
                  </a:lnTo>
                  <a:lnTo>
                    <a:pt x="603" y="2005"/>
                  </a:lnTo>
                  <a:lnTo>
                    <a:pt x="620" y="1987"/>
                  </a:lnTo>
                  <a:lnTo>
                    <a:pt x="637" y="1963"/>
                  </a:lnTo>
                  <a:lnTo>
                    <a:pt x="654" y="1940"/>
                  </a:lnTo>
                  <a:lnTo>
                    <a:pt x="670" y="1920"/>
                  </a:lnTo>
                  <a:lnTo>
                    <a:pt x="683" y="1902"/>
                  </a:lnTo>
                  <a:lnTo>
                    <a:pt x="695" y="1889"/>
                  </a:lnTo>
                  <a:lnTo>
                    <a:pt x="701" y="1883"/>
                  </a:lnTo>
                  <a:lnTo>
                    <a:pt x="704" y="1887"/>
                  </a:lnTo>
                  <a:lnTo>
                    <a:pt x="706" y="1896"/>
                  </a:lnTo>
                  <a:lnTo>
                    <a:pt x="706" y="1909"/>
                  </a:lnTo>
                  <a:lnTo>
                    <a:pt x="704" y="1927"/>
                  </a:lnTo>
                  <a:lnTo>
                    <a:pt x="700" y="1948"/>
                  </a:lnTo>
                  <a:lnTo>
                    <a:pt x="694" y="1968"/>
                  </a:lnTo>
                  <a:lnTo>
                    <a:pt x="684" y="1989"/>
                  </a:lnTo>
                  <a:lnTo>
                    <a:pt x="672" y="2007"/>
                  </a:lnTo>
                  <a:lnTo>
                    <a:pt x="690" y="1992"/>
                  </a:lnTo>
                  <a:lnTo>
                    <a:pt x="708" y="1974"/>
                  </a:lnTo>
                  <a:lnTo>
                    <a:pt x="726" y="1952"/>
                  </a:lnTo>
                  <a:lnTo>
                    <a:pt x="743" y="1927"/>
                  </a:lnTo>
                  <a:lnTo>
                    <a:pt x="758" y="1905"/>
                  </a:lnTo>
                  <a:lnTo>
                    <a:pt x="772" y="1889"/>
                  </a:lnTo>
                  <a:lnTo>
                    <a:pt x="782" y="1876"/>
                  </a:lnTo>
                  <a:lnTo>
                    <a:pt x="788" y="1872"/>
                  </a:lnTo>
                  <a:lnTo>
                    <a:pt x="791" y="1876"/>
                  </a:lnTo>
                  <a:lnTo>
                    <a:pt x="794" y="1885"/>
                  </a:lnTo>
                  <a:lnTo>
                    <a:pt x="796" y="1900"/>
                  </a:lnTo>
                  <a:lnTo>
                    <a:pt x="796" y="1918"/>
                  </a:lnTo>
                  <a:lnTo>
                    <a:pt x="794" y="1940"/>
                  </a:lnTo>
                  <a:lnTo>
                    <a:pt x="789" y="1963"/>
                  </a:lnTo>
                  <a:lnTo>
                    <a:pt x="781" y="1985"/>
                  </a:lnTo>
                  <a:lnTo>
                    <a:pt x="769" y="2007"/>
                  </a:lnTo>
                  <a:lnTo>
                    <a:pt x="786" y="1992"/>
                  </a:lnTo>
                  <a:lnTo>
                    <a:pt x="802" y="1972"/>
                  </a:lnTo>
                  <a:lnTo>
                    <a:pt x="818" y="1948"/>
                  </a:lnTo>
                  <a:lnTo>
                    <a:pt x="832" y="1922"/>
                  </a:lnTo>
                  <a:lnTo>
                    <a:pt x="846" y="1900"/>
                  </a:lnTo>
                  <a:lnTo>
                    <a:pt x="858" y="1879"/>
                  </a:lnTo>
                  <a:lnTo>
                    <a:pt x="867" y="1865"/>
                  </a:lnTo>
                  <a:lnTo>
                    <a:pt x="874" y="1859"/>
                  </a:lnTo>
                  <a:lnTo>
                    <a:pt x="878" y="1861"/>
                  </a:lnTo>
                  <a:lnTo>
                    <a:pt x="880" y="1870"/>
                  </a:lnTo>
                  <a:lnTo>
                    <a:pt x="880" y="1885"/>
                  </a:lnTo>
                  <a:lnTo>
                    <a:pt x="879" y="1903"/>
                  </a:lnTo>
                  <a:lnTo>
                    <a:pt x="875" y="1926"/>
                  </a:lnTo>
                  <a:lnTo>
                    <a:pt x="868" y="1950"/>
                  </a:lnTo>
                  <a:lnTo>
                    <a:pt x="858" y="1976"/>
                  </a:lnTo>
                  <a:lnTo>
                    <a:pt x="845" y="2001"/>
                  </a:lnTo>
                  <a:lnTo>
                    <a:pt x="860" y="1989"/>
                  </a:lnTo>
                  <a:lnTo>
                    <a:pt x="876" y="1970"/>
                  </a:lnTo>
                  <a:lnTo>
                    <a:pt x="891" y="1946"/>
                  </a:lnTo>
                  <a:lnTo>
                    <a:pt x="907" y="1922"/>
                  </a:lnTo>
                  <a:lnTo>
                    <a:pt x="921" y="1898"/>
                  </a:lnTo>
                  <a:lnTo>
                    <a:pt x="933" y="1879"/>
                  </a:lnTo>
                  <a:lnTo>
                    <a:pt x="943" y="1865"/>
                  </a:lnTo>
                  <a:lnTo>
                    <a:pt x="950" y="1859"/>
                  </a:lnTo>
                  <a:lnTo>
                    <a:pt x="953" y="1863"/>
                  </a:lnTo>
                  <a:lnTo>
                    <a:pt x="954" y="1876"/>
                  </a:lnTo>
                  <a:lnTo>
                    <a:pt x="952" y="1896"/>
                  </a:lnTo>
                  <a:lnTo>
                    <a:pt x="950" y="1918"/>
                  </a:lnTo>
                  <a:lnTo>
                    <a:pt x="945" y="1942"/>
                  </a:lnTo>
                  <a:lnTo>
                    <a:pt x="940" y="1964"/>
                  </a:lnTo>
                  <a:lnTo>
                    <a:pt x="934" y="1983"/>
                  </a:lnTo>
                  <a:lnTo>
                    <a:pt x="928" y="1996"/>
                  </a:lnTo>
                  <a:lnTo>
                    <a:pt x="944" y="1977"/>
                  </a:lnTo>
                  <a:lnTo>
                    <a:pt x="959" y="1955"/>
                  </a:lnTo>
                  <a:lnTo>
                    <a:pt x="972" y="1933"/>
                  </a:lnTo>
                  <a:lnTo>
                    <a:pt x="986" y="1907"/>
                  </a:lnTo>
                  <a:lnTo>
                    <a:pt x="997" y="1885"/>
                  </a:lnTo>
                  <a:lnTo>
                    <a:pt x="1006" y="1866"/>
                  </a:lnTo>
                  <a:lnTo>
                    <a:pt x="1013" y="1854"/>
                  </a:lnTo>
                  <a:lnTo>
                    <a:pt x="1019" y="1848"/>
                  </a:lnTo>
                  <a:lnTo>
                    <a:pt x="1023" y="1852"/>
                  </a:lnTo>
                  <a:lnTo>
                    <a:pt x="1026" y="1863"/>
                  </a:lnTo>
                  <a:lnTo>
                    <a:pt x="1028" y="1879"/>
                  </a:lnTo>
                  <a:lnTo>
                    <a:pt x="1027" y="1900"/>
                  </a:lnTo>
                  <a:lnTo>
                    <a:pt x="1025" y="1924"/>
                  </a:lnTo>
                  <a:lnTo>
                    <a:pt x="1020" y="1948"/>
                  </a:lnTo>
                  <a:lnTo>
                    <a:pt x="1013" y="1972"/>
                  </a:lnTo>
                  <a:lnTo>
                    <a:pt x="1003" y="1992"/>
                  </a:lnTo>
                  <a:lnTo>
                    <a:pt x="1018" y="1979"/>
                  </a:lnTo>
                  <a:lnTo>
                    <a:pt x="1033" y="1959"/>
                  </a:lnTo>
                  <a:lnTo>
                    <a:pt x="1048" y="1935"/>
                  </a:lnTo>
                  <a:lnTo>
                    <a:pt x="1062" y="1909"/>
                  </a:lnTo>
                  <a:lnTo>
                    <a:pt x="1074" y="1885"/>
                  </a:lnTo>
                  <a:lnTo>
                    <a:pt x="1084" y="1865"/>
                  </a:lnTo>
                  <a:lnTo>
                    <a:pt x="1092" y="1850"/>
                  </a:lnTo>
                  <a:lnTo>
                    <a:pt x="1097" y="1848"/>
                  </a:lnTo>
                  <a:lnTo>
                    <a:pt x="1105" y="1870"/>
                  </a:lnTo>
                  <a:lnTo>
                    <a:pt x="1106" y="1907"/>
                  </a:lnTo>
                  <a:lnTo>
                    <a:pt x="1100" y="1950"/>
                  </a:lnTo>
                  <a:lnTo>
                    <a:pt x="1093" y="1992"/>
                  </a:lnTo>
                  <a:lnTo>
                    <a:pt x="1104" y="1970"/>
                  </a:lnTo>
                  <a:lnTo>
                    <a:pt x="1116" y="1946"/>
                  </a:lnTo>
                  <a:lnTo>
                    <a:pt x="1128" y="1922"/>
                  </a:lnTo>
                  <a:lnTo>
                    <a:pt x="1140" y="1900"/>
                  </a:lnTo>
                  <a:lnTo>
                    <a:pt x="1151" y="1879"/>
                  </a:lnTo>
                  <a:lnTo>
                    <a:pt x="1161" y="1863"/>
                  </a:lnTo>
                  <a:lnTo>
                    <a:pt x="1169" y="1852"/>
                  </a:lnTo>
                  <a:lnTo>
                    <a:pt x="1176" y="1846"/>
                  </a:lnTo>
                  <a:lnTo>
                    <a:pt x="1184" y="1861"/>
                  </a:lnTo>
                  <a:lnTo>
                    <a:pt x="1184" y="1900"/>
                  </a:lnTo>
                  <a:lnTo>
                    <a:pt x="1176" y="1946"/>
                  </a:lnTo>
                  <a:lnTo>
                    <a:pt x="1164" y="1987"/>
                  </a:lnTo>
                  <a:lnTo>
                    <a:pt x="1178" y="1966"/>
                  </a:lnTo>
                  <a:lnTo>
                    <a:pt x="1194" y="1944"/>
                  </a:lnTo>
                  <a:lnTo>
                    <a:pt x="1210" y="1918"/>
                  </a:lnTo>
                  <a:lnTo>
                    <a:pt x="1225" y="1894"/>
                  </a:lnTo>
                  <a:lnTo>
                    <a:pt x="1239" y="1872"/>
                  </a:lnTo>
                  <a:lnTo>
                    <a:pt x="1251" y="1852"/>
                  </a:lnTo>
                  <a:lnTo>
                    <a:pt x="1262" y="1839"/>
                  </a:lnTo>
                  <a:lnTo>
                    <a:pt x="1271" y="1833"/>
                  </a:lnTo>
                  <a:lnTo>
                    <a:pt x="1274" y="1837"/>
                  </a:lnTo>
                  <a:lnTo>
                    <a:pt x="1276" y="1848"/>
                  </a:lnTo>
                  <a:lnTo>
                    <a:pt x="1276" y="1866"/>
                  </a:lnTo>
                  <a:lnTo>
                    <a:pt x="1273" y="1889"/>
                  </a:lnTo>
                  <a:lnTo>
                    <a:pt x="1269" y="1915"/>
                  </a:lnTo>
                  <a:lnTo>
                    <a:pt x="1262" y="1940"/>
                  </a:lnTo>
                  <a:lnTo>
                    <a:pt x="1255" y="1964"/>
                  </a:lnTo>
                  <a:lnTo>
                    <a:pt x="1246" y="1985"/>
                  </a:lnTo>
                  <a:lnTo>
                    <a:pt x="1263" y="1961"/>
                  </a:lnTo>
                  <a:lnTo>
                    <a:pt x="1281" y="1935"/>
                  </a:lnTo>
                  <a:lnTo>
                    <a:pt x="1297" y="1911"/>
                  </a:lnTo>
                  <a:lnTo>
                    <a:pt x="1312" y="1887"/>
                  </a:lnTo>
                  <a:lnTo>
                    <a:pt x="1326" y="1866"/>
                  </a:lnTo>
                  <a:lnTo>
                    <a:pt x="1338" y="1850"/>
                  </a:lnTo>
                  <a:lnTo>
                    <a:pt x="1348" y="1841"/>
                  </a:lnTo>
                  <a:lnTo>
                    <a:pt x="1354" y="1837"/>
                  </a:lnTo>
                  <a:lnTo>
                    <a:pt x="1358" y="1841"/>
                  </a:lnTo>
                  <a:lnTo>
                    <a:pt x="1360" y="1852"/>
                  </a:lnTo>
                  <a:lnTo>
                    <a:pt x="1359" y="1868"/>
                  </a:lnTo>
                  <a:lnTo>
                    <a:pt x="1358" y="1891"/>
                  </a:lnTo>
                  <a:lnTo>
                    <a:pt x="1354" y="1913"/>
                  </a:lnTo>
                  <a:lnTo>
                    <a:pt x="1350" y="1937"/>
                  </a:lnTo>
                  <a:lnTo>
                    <a:pt x="1344" y="1959"/>
                  </a:lnTo>
                  <a:lnTo>
                    <a:pt x="1336" y="1977"/>
                  </a:lnTo>
                  <a:lnTo>
                    <a:pt x="1353" y="1959"/>
                  </a:lnTo>
                  <a:lnTo>
                    <a:pt x="1368" y="1937"/>
                  </a:lnTo>
                  <a:lnTo>
                    <a:pt x="1382" y="1913"/>
                  </a:lnTo>
                  <a:lnTo>
                    <a:pt x="1394" y="1889"/>
                  </a:lnTo>
                  <a:lnTo>
                    <a:pt x="1405" y="1868"/>
                  </a:lnTo>
                  <a:lnTo>
                    <a:pt x="1415" y="1850"/>
                  </a:lnTo>
                  <a:lnTo>
                    <a:pt x="1422" y="1837"/>
                  </a:lnTo>
                  <a:lnTo>
                    <a:pt x="1426" y="1833"/>
                  </a:lnTo>
                  <a:lnTo>
                    <a:pt x="1429" y="1837"/>
                  </a:lnTo>
                  <a:lnTo>
                    <a:pt x="1432" y="1846"/>
                  </a:lnTo>
                  <a:lnTo>
                    <a:pt x="1433" y="1863"/>
                  </a:lnTo>
                  <a:lnTo>
                    <a:pt x="1433" y="1881"/>
                  </a:lnTo>
                  <a:lnTo>
                    <a:pt x="1431" y="1903"/>
                  </a:lnTo>
                  <a:lnTo>
                    <a:pt x="1427" y="1929"/>
                  </a:lnTo>
                  <a:lnTo>
                    <a:pt x="1419" y="1955"/>
                  </a:lnTo>
                  <a:lnTo>
                    <a:pt x="1408" y="1981"/>
                  </a:lnTo>
                  <a:lnTo>
                    <a:pt x="1425" y="1959"/>
                  </a:lnTo>
                  <a:lnTo>
                    <a:pt x="1440" y="1933"/>
                  </a:lnTo>
                  <a:lnTo>
                    <a:pt x="1454" y="1905"/>
                  </a:lnTo>
                  <a:lnTo>
                    <a:pt x="1467" y="1878"/>
                  </a:lnTo>
                  <a:lnTo>
                    <a:pt x="1479" y="1854"/>
                  </a:lnTo>
                  <a:lnTo>
                    <a:pt x="1490" y="1835"/>
                  </a:lnTo>
                  <a:lnTo>
                    <a:pt x="1498" y="1822"/>
                  </a:lnTo>
                  <a:lnTo>
                    <a:pt x="1503" y="1818"/>
                  </a:lnTo>
                  <a:lnTo>
                    <a:pt x="1509" y="1831"/>
                  </a:lnTo>
                  <a:lnTo>
                    <a:pt x="1514" y="1865"/>
                  </a:lnTo>
                  <a:lnTo>
                    <a:pt x="1517" y="1913"/>
                  </a:lnTo>
                  <a:lnTo>
                    <a:pt x="1516" y="1972"/>
                  </a:lnTo>
                  <a:lnTo>
                    <a:pt x="1527" y="1948"/>
                  </a:lnTo>
                  <a:lnTo>
                    <a:pt x="1540" y="1918"/>
                  </a:lnTo>
                  <a:lnTo>
                    <a:pt x="1554" y="1889"/>
                  </a:lnTo>
                  <a:lnTo>
                    <a:pt x="1568" y="1859"/>
                  </a:lnTo>
                  <a:lnTo>
                    <a:pt x="1580" y="1833"/>
                  </a:lnTo>
                  <a:lnTo>
                    <a:pt x="1591" y="1813"/>
                  </a:lnTo>
                  <a:lnTo>
                    <a:pt x="1599" y="1798"/>
                  </a:lnTo>
                  <a:lnTo>
                    <a:pt x="1603" y="1792"/>
                  </a:lnTo>
                  <a:lnTo>
                    <a:pt x="1608" y="1796"/>
                  </a:lnTo>
                  <a:lnTo>
                    <a:pt x="1610" y="1809"/>
                  </a:lnTo>
                  <a:lnTo>
                    <a:pt x="1611" y="1829"/>
                  </a:lnTo>
                  <a:lnTo>
                    <a:pt x="1610" y="1855"/>
                  </a:lnTo>
                  <a:lnTo>
                    <a:pt x="1607" y="1883"/>
                  </a:lnTo>
                  <a:lnTo>
                    <a:pt x="1602" y="1911"/>
                  </a:lnTo>
                  <a:lnTo>
                    <a:pt x="1595" y="1939"/>
                  </a:lnTo>
                  <a:lnTo>
                    <a:pt x="1587" y="1964"/>
                  </a:lnTo>
                  <a:lnTo>
                    <a:pt x="1602" y="1942"/>
                  </a:lnTo>
                  <a:lnTo>
                    <a:pt x="1615" y="1916"/>
                  </a:lnTo>
                  <a:lnTo>
                    <a:pt x="1628" y="1889"/>
                  </a:lnTo>
                  <a:lnTo>
                    <a:pt x="1639" y="1859"/>
                  </a:lnTo>
                  <a:lnTo>
                    <a:pt x="1649" y="1833"/>
                  </a:lnTo>
                  <a:lnTo>
                    <a:pt x="1658" y="1813"/>
                  </a:lnTo>
                  <a:lnTo>
                    <a:pt x="1666" y="1798"/>
                  </a:lnTo>
                  <a:lnTo>
                    <a:pt x="1674" y="1792"/>
                  </a:lnTo>
                  <a:lnTo>
                    <a:pt x="1681" y="1817"/>
                  </a:lnTo>
                  <a:lnTo>
                    <a:pt x="1684" y="1868"/>
                  </a:lnTo>
                  <a:lnTo>
                    <a:pt x="1681" y="1927"/>
                  </a:lnTo>
                  <a:lnTo>
                    <a:pt x="1672" y="1968"/>
                  </a:lnTo>
                  <a:lnTo>
                    <a:pt x="1684" y="1948"/>
                  </a:lnTo>
                  <a:lnTo>
                    <a:pt x="1696" y="1920"/>
                  </a:lnTo>
                  <a:lnTo>
                    <a:pt x="1709" y="1891"/>
                  </a:lnTo>
                  <a:lnTo>
                    <a:pt x="1719" y="1859"/>
                  </a:lnTo>
                  <a:lnTo>
                    <a:pt x="1729" y="1831"/>
                  </a:lnTo>
                  <a:lnTo>
                    <a:pt x="1738" y="1807"/>
                  </a:lnTo>
                  <a:lnTo>
                    <a:pt x="1746" y="1791"/>
                  </a:lnTo>
                  <a:lnTo>
                    <a:pt x="1753" y="1785"/>
                  </a:lnTo>
                  <a:lnTo>
                    <a:pt x="1762" y="1804"/>
                  </a:lnTo>
                  <a:lnTo>
                    <a:pt x="1765" y="1848"/>
                  </a:lnTo>
                  <a:lnTo>
                    <a:pt x="1761" y="1903"/>
                  </a:lnTo>
                  <a:lnTo>
                    <a:pt x="1755" y="1952"/>
                  </a:lnTo>
                  <a:lnTo>
                    <a:pt x="1766" y="1933"/>
                  </a:lnTo>
                  <a:lnTo>
                    <a:pt x="1777" y="1907"/>
                  </a:lnTo>
                  <a:lnTo>
                    <a:pt x="1786" y="1879"/>
                  </a:lnTo>
                  <a:lnTo>
                    <a:pt x="1795" y="1848"/>
                  </a:lnTo>
                  <a:lnTo>
                    <a:pt x="1802" y="1820"/>
                  </a:lnTo>
                  <a:lnTo>
                    <a:pt x="1809" y="1796"/>
                  </a:lnTo>
                  <a:lnTo>
                    <a:pt x="1815" y="1780"/>
                  </a:lnTo>
                  <a:lnTo>
                    <a:pt x="1821" y="1772"/>
                  </a:lnTo>
                  <a:lnTo>
                    <a:pt x="1832" y="1785"/>
                  </a:lnTo>
                  <a:lnTo>
                    <a:pt x="1838" y="1824"/>
                  </a:lnTo>
                  <a:lnTo>
                    <a:pt x="1838" y="1885"/>
                  </a:lnTo>
                  <a:lnTo>
                    <a:pt x="1830" y="1959"/>
                  </a:lnTo>
                  <a:lnTo>
                    <a:pt x="1842" y="1933"/>
                  </a:lnTo>
                  <a:lnTo>
                    <a:pt x="1854" y="1902"/>
                  </a:lnTo>
                  <a:lnTo>
                    <a:pt x="1865" y="1866"/>
                  </a:lnTo>
                  <a:lnTo>
                    <a:pt x="1877" y="1831"/>
                  </a:lnTo>
                  <a:lnTo>
                    <a:pt x="1887" y="1798"/>
                  </a:lnTo>
                  <a:lnTo>
                    <a:pt x="1896" y="1772"/>
                  </a:lnTo>
                  <a:lnTo>
                    <a:pt x="1903" y="1754"/>
                  </a:lnTo>
                  <a:lnTo>
                    <a:pt x="1908" y="1746"/>
                  </a:lnTo>
                  <a:lnTo>
                    <a:pt x="1917" y="1767"/>
                  </a:lnTo>
                  <a:lnTo>
                    <a:pt x="1924" y="1815"/>
                  </a:lnTo>
                  <a:lnTo>
                    <a:pt x="1927" y="1878"/>
                  </a:lnTo>
                  <a:lnTo>
                    <a:pt x="1923" y="1933"/>
                  </a:lnTo>
                  <a:lnTo>
                    <a:pt x="1934" y="1903"/>
                  </a:lnTo>
                  <a:lnTo>
                    <a:pt x="1945" y="1870"/>
                  </a:lnTo>
                  <a:lnTo>
                    <a:pt x="1956" y="1835"/>
                  </a:lnTo>
                  <a:lnTo>
                    <a:pt x="1965" y="1802"/>
                  </a:lnTo>
                  <a:lnTo>
                    <a:pt x="1974" y="1772"/>
                  </a:lnTo>
                  <a:lnTo>
                    <a:pt x="1982" y="1748"/>
                  </a:lnTo>
                  <a:lnTo>
                    <a:pt x="1989" y="1733"/>
                  </a:lnTo>
                  <a:lnTo>
                    <a:pt x="1995" y="1728"/>
                  </a:lnTo>
                  <a:lnTo>
                    <a:pt x="2001" y="1733"/>
                  </a:lnTo>
                  <a:lnTo>
                    <a:pt x="2008" y="1748"/>
                  </a:lnTo>
                  <a:lnTo>
                    <a:pt x="2014" y="1770"/>
                  </a:lnTo>
                  <a:lnTo>
                    <a:pt x="2018" y="1800"/>
                  </a:lnTo>
                  <a:lnTo>
                    <a:pt x="2021" y="1833"/>
                  </a:lnTo>
                  <a:lnTo>
                    <a:pt x="2021" y="1868"/>
                  </a:lnTo>
                  <a:lnTo>
                    <a:pt x="2018" y="1905"/>
                  </a:lnTo>
                  <a:lnTo>
                    <a:pt x="2011" y="1942"/>
                  </a:lnTo>
                  <a:lnTo>
                    <a:pt x="2023" y="1911"/>
                  </a:lnTo>
                  <a:lnTo>
                    <a:pt x="2033" y="1878"/>
                  </a:lnTo>
                  <a:lnTo>
                    <a:pt x="2040" y="1841"/>
                  </a:lnTo>
                  <a:lnTo>
                    <a:pt x="2046" y="1805"/>
                  </a:lnTo>
                  <a:lnTo>
                    <a:pt x="2050" y="1774"/>
                  </a:lnTo>
                  <a:lnTo>
                    <a:pt x="2053" y="1748"/>
                  </a:lnTo>
                  <a:lnTo>
                    <a:pt x="2058" y="1730"/>
                  </a:lnTo>
                  <a:lnTo>
                    <a:pt x="2061" y="1720"/>
                  </a:lnTo>
                  <a:lnTo>
                    <a:pt x="2066" y="1724"/>
                  </a:lnTo>
                  <a:lnTo>
                    <a:pt x="2072" y="1737"/>
                  </a:lnTo>
                  <a:lnTo>
                    <a:pt x="2079" y="1757"/>
                  </a:lnTo>
                  <a:lnTo>
                    <a:pt x="2085" y="1785"/>
                  </a:lnTo>
                  <a:lnTo>
                    <a:pt x="2090" y="1818"/>
                  </a:lnTo>
                  <a:lnTo>
                    <a:pt x="2092" y="1854"/>
                  </a:lnTo>
                  <a:lnTo>
                    <a:pt x="2090" y="1892"/>
                  </a:lnTo>
                  <a:lnTo>
                    <a:pt x="2084" y="1929"/>
                  </a:lnTo>
                  <a:lnTo>
                    <a:pt x="2096" y="1903"/>
                  </a:lnTo>
                  <a:lnTo>
                    <a:pt x="2104" y="1874"/>
                  </a:lnTo>
                  <a:lnTo>
                    <a:pt x="2111" y="1842"/>
                  </a:lnTo>
                  <a:lnTo>
                    <a:pt x="2117" y="1811"/>
                  </a:lnTo>
                  <a:lnTo>
                    <a:pt x="2121" y="1783"/>
                  </a:lnTo>
                  <a:lnTo>
                    <a:pt x="2125" y="1759"/>
                  </a:lnTo>
                  <a:lnTo>
                    <a:pt x="2130" y="1744"/>
                  </a:lnTo>
                  <a:lnTo>
                    <a:pt x="2135" y="1737"/>
                  </a:lnTo>
                  <a:lnTo>
                    <a:pt x="2141" y="1741"/>
                  </a:lnTo>
                  <a:lnTo>
                    <a:pt x="2147" y="1752"/>
                  </a:lnTo>
                  <a:lnTo>
                    <a:pt x="2154" y="1768"/>
                  </a:lnTo>
                  <a:lnTo>
                    <a:pt x="2160" y="1792"/>
                  </a:lnTo>
                  <a:lnTo>
                    <a:pt x="2164" y="1822"/>
                  </a:lnTo>
                  <a:lnTo>
                    <a:pt x="2167" y="1857"/>
                  </a:lnTo>
                  <a:lnTo>
                    <a:pt x="2166" y="1894"/>
                  </a:lnTo>
                  <a:lnTo>
                    <a:pt x="2163" y="1933"/>
                  </a:lnTo>
                  <a:lnTo>
                    <a:pt x="2175" y="1905"/>
                  </a:lnTo>
                  <a:lnTo>
                    <a:pt x="2184" y="1872"/>
                  </a:lnTo>
                  <a:lnTo>
                    <a:pt x="2191" y="1837"/>
                  </a:lnTo>
                  <a:lnTo>
                    <a:pt x="2196" y="1802"/>
                  </a:lnTo>
                  <a:lnTo>
                    <a:pt x="2200" y="1770"/>
                  </a:lnTo>
                  <a:lnTo>
                    <a:pt x="2205" y="1744"/>
                  </a:lnTo>
                  <a:lnTo>
                    <a:pt x="2208" y="1726"/>
                  </a:lnTo>
                  <a:lnTo>
                    <a:pt x="2213" y="1717"/>
                  </a:lnTo>
                  <a:lnTo>
                    <a:pt x="2219" y="1720"/>
                  </a:lnTo>
                  <a:lnTo>
                    <a:pt x="2227" y="1735"/>
                  </a:lnTo>
                  <a:lnTo>
                    <a:pt x="2235" y="1757"/>
                  </a:lnTo>
                  <a:lnTo>
                    <a:pt x="2242" y="1787"/>
                  </a:lnTo>
                  <a:lnTo>
                    <a:pt x="2247" y="1822"/>
                  </a:lnTo>
                  <a:lnTo>
                    <a:pt x="2249" y="1859"/>
                  </a:lnTo>
                  <a:lnTo>
                    <a:pt x="2247" y="1898"/>
                  </a:lnTo>
                  <a:lnTo>
                    <a:pt x="2240" y="1935"/>
                  </a:lnTo>
                  <a:lnTo>
                    <a:pt x="2253" y="1909"/>
                  </a:lnTo>
                  <a:lnTo>
                    <a:pt x="2262" y="1876"/>
                  </a:lnTo>
                  <a:lnTo>
                    <a:pt x="2269" y="1841"/>
                  </a:lnTo>
                  <a:lnTo>
                    <a:pt x="2276" y="1804"/>
                  </a:lnTo>
                  <a:lnTo>
                    <a:pt x="2280" y="1770"/>
                  </a:lnTo>
                  <a:lnTo>
                    <a:pt x="2283" y="1743"/>
                  </a:lnTo>
                  <a:lnTo>
                    <a:pt x="2286" y="1724"/>
                  </a:lnTo>
                  <a:lnTo>
                    <a:pt x="2290" y="1717"/>
                  </a:lnTo>
                  <a:lnTo>
                    <a:pt x="2295" y="1719"/>
                  </a:lnTo>
                  <a:lnTo>
                    <a:pt x="2300" y="1728"/>
                  </a:lnTo>
                  <a:lnTo>
                    <a:pt x="2306" y="1741"/>
                  </a:lnTo>
                  <a:lnTo>
                    <a:pt x="2312" y="1761"/>
                  </a:lnTo>
                  <a:lnTo>
                    <a:pt x="2317" y="1789"/>
                  </a:lnTo>
                  <a:lnTo>
                    <a:pt x="2321" y="1826"/>
                  </a:lnTo>
                  <a:lnTo>
                    <a:pt x="2322" y="1868"/>
                  </a:lnTo>
                  <a:lnTo>
                    <a:pt x="2320" y="1922"/>
                  </a:lnTo>
                  <a:lnTo>
                    <a:pt x="2328" y="1898"/>
                  </a:lnTo>
                  <a:lnTo>
                    <a:pt x="2336" y="1866"/>
                  </a:lnTo>
                  <a:lnTo>
                    <a:pt x="2343" y="1833"/>
                  </a:lnTo>
                  <a:lnTo>
                    <a:pt x="2351" y="1800"/>
                  </a:lnTo>
                  <a:lnTo>
                    <a:pt x="2357" y="1768"/>
                  </a:lnTo>
                  <a:lnTo>
                    <a:pt x="2362" y="1743"/>
                  </a:lnTo>
                  <a:lnTo>
                    <a:pt x="2367" y="1724"/>
                  </a:lnTo>
                  <a:lnTo>
                    <a:pt x="2372" y="1717"/>
                  </a:lnTo>
                  <a:lnTo>
                    <a:pt x="2377" y="1720"/>
                  </a:lnTo>
                  <a:lnTo>
                    <a:pt x="2383" y="1733"/>
                  </a:lnTo>
                  <a:lnTo>
                    <a:pt x="2390" y="1752"/>
                  </a:lnTo>
                  <a:lnTo>
                    <a:pt x="2396" y="1778"/>
                  </a:lnTo>
                  <a:lnTo>
                    <a:pt x="2402" y="1807"/>
                  </a:lnTo>
                  <a:lnTo>
                    <a:pt x="2405" y="1839"/>
                  </a:lnTo>
                  <a:lnTo>
                    <a:pt x="2407" y="1872"/>
                  </a:lnTo>
                  <a:lnTo>
                    <a:pt x="2405" y="1903"/>
                  </a:lnTo>
                  <a:lnTo>
                    <a:pt x="2419" y="1842"/>
                  </a:lnTo>
                  <a:lnTo>
                    <a:pt x="2424" y="1776"/>
                  </a:lnTo>
                  <a:lnTo>
                    <a:pt x="2427" y="1720"/>
                  </a:lnTo>
                  <a:lnTo>
                    <a:pt x="2435" y="1694"/>
                  </a:lnTo>
                  <a:lnTo>
                    <a:pt x="2441" y="1694"/>
                  </a:lnTo>
                  <a:lnTo>
                    <a:pt x="2447" y="1702"/>
                  </a:lnTo>
                  <a:lnTo>
                    <a:pt x="2453" y="1717"/>
                  </a:lnTo>
                  <a:lnTo>
                    <a:pt x="2458" y="1737"/>
                  </a:lnTo>
                  <a:lnTo>
                    <a:pt x="2462" y="1763"/>
                  </a:lnTo>
                  <a:lnTo>
                    <a:pt x="2465" y="1792"/>
                  </a:lnTo>
                  <a:lnTo>
                    <a:pt x="2465" y="1826"/>
                  </a:lnTo>
                  <a:lnTo>
                    <a:pt x="2463" y="1865"/>
                  </a:lnTo>
                  <a:lnTo>
                    <a:pt x="2476" y="1835"/>
                  </a:lnTo>
                  <a:lnTo>
                    <a:pt x="2484" y="1805"/>
                  </a:lnTo>
                  <a:lnTo>
                    <a:pt x="2487" y="1774"/>
                  </a:lnTo>
                  <a:lnTo>
                    <a:pt x="2488" y="1743"/>
                  </a:lnTo>
                  <a:lnTo>
                    <a:pt x="2487" y="1715"/>
                  </a:lnTo>
                  <a:lnTo>
                    <a:pt x="2486" y="1691"/>
                  </a:lnTo>
                  <a:lnTo>
                    <a:pt x="2486" y="1674"/>
                  </a:lnTo>
                  <a:lnTo>
                    <a:pt x="2490" y="1665"/>
                  </a:lnTo>
                  <a:lnTo>
                    <a:pt x="2496" y="1663"/>
                  </a:lnTo>
                  <a:lnTo>
                    <a:pt x="2504" y="1665"/>
                  </a:lnTo>
                  <a:lnTo>
                    <a:pt x="2512" y="1674"/>
                  </a:lnTo>
                  <a:lnTo>
                    <a:pt x="2521" y="1687"/>
                  </a:lnTo>
                  <a:lnTo>
                    <a:pt x="2530" y="1706"/>
                  </a:lnTo>
                  <a:lnTo>
                    <a:pt x="2537" y="1730"/>
                  </a:lnTo>
                  <a:lnTo>
                    <a:pt x="2543" y="1759"/>
                  </a:lnTo>
                  <a:lnTo>
                    <a:pt x="2547" y="1792"/>
                  </a:lnTo>
                  <a:lnTo>
                    <a:pt x="2555" y="1765"/>
                  </a:lnTo>
                  <a:lnTo>
                    <a:pt x="2563" y="1735"/>
                  </a:lnTo>
                  <a:lnTo>
                    <a:pt x="2568" y="1706"/>
                  </a:lnTo>
                  <a:lnTo>
                    <a:pt x="2573" y="1680"/>
                  </a:lnTo>
                  <a:lnTo>
                    <a:pt x="2577" y="1657"/>
                  </a:lnTo>
                  <a:lnTo>
                    <a:pt x="2580" y="1637"/>
                  </a:lnTo>
                  <a:lnTo>
                    <a:pt x="2583" y="1624"/>
                  </a:lnTo>
                  <a:lnTo>
                    <a:pt x="2587" y="1619"/>
                  </a:lnTo>
                  <a:lnTo>
                    <a:pt x="2591" y="1619"/>
                  </a:lnTo>
                  <a:lnTo>
                    <a:pt x="2595" y="1620"/>
                  </a:lnTo>
                  <a:lnTo>
                    <a:pt x="2600" y="1624"/>
                  </a:lnTo>
                  <a:lnTo>
                    <a:pt x="2605" y="1630"/>
                  </a:lnTo>
                  <a:lnTo>
                    <a:pt x="2610" y="1639"/>
                  </a:lnTo>
                  <a:lnTo>
                    <a:pt x="2614" y="1650"/>
                  </a:lnTo>
                  <a:lnTo>
                    <a:pt x="2616" y="1665"/>
                  </a:lnTo>
                  <a:lnTo>
                    <a:pt x="2617" y="16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15280" y="2096640"/>
              <a:ext cx="294840" cy="533520"/>
            </a:xfrm>
            <a:custGeom>
              <a:avLst/>
              <a:gdLst/>
              <a:ahLst/>
              <a:rect l="l" t="t" r="r" b="b"/>
              <a:pathLst>
                <a:path w="372" h="673">
                  <a:moveTo>
                    <a:pt x="243" y="124"/>
                  </a:moveTo>
                  <a:lnTo>
                    <a:pt x="238" y="115"/>
                  </a:lnTo>
                  <a:lnTo>
                    <a:pt x="233" y="109"/>
                  </a:lnTo>
                  <a:lnTo>
                    <a:pt x="228" y="104"/>
                  </a:lnTo>
                  <a:lnTo>
                    <a:pt x="222" y="98"/>
                  </a:lnTo>
                  <a:lnTo>
                    <a:pt x="216" y="94"/>
                  </a:lnTo>
                  <a:lnTo>
                    <a:pt x="211" y="92"/>
                  </a:lnTo>
                  <a:lnTo>
                    <a:pt x="205" y="91"/>
                  </a:lnTo>
                  <a:lnTo>
                    <a:pt x="199" y="91"/>
                  </a:lnTo>
                  <a:lnTo>
                    <a:pt x="185" y="92"/>
                  </a:lnTo>
                  <a:lnTo>
                    <a:pt x="170" y="98"/>
                  </a:lnTo>
                  <a:lnTo>
                    <a:pt x="155" y="111"/>
                  </a:lnTo>
                  <a:lnTo>
                    <a:pt x="142" y="128"/>
                  </a:lnTo>
                  <a:lnTo>
                    <a:pt x="128" y="148"/>
                  </a:lnTo>
                  <a:lnTo>
                    <a:pt x="116" y="172"/>
                  </a:lnTo>
                  <a:lnTo>
                    <a:pt x="104" y="200"/>
                  </a:lnTo>
                  <a:lnTo>
                    <a:pt x="93" y="231"/>
                  </a:lnTo>
                  <a:lnTo>
                    <a:pt x="86" y="257"/>
                  </a:lnTo>
                  <a:lnTo>
                    <a:pt x="79" y="283"/>
                  </a:lnTo>
                  <a:lnTo>
                    <a:pt x="72" y="309"/>
                  </a:lnTo>
                  <a:lnTo>
                    <a:pt x="65" y="337"/>
                  </a:lnTo>
                  <a:lnTo>
                    <a:pt x="59" y="364"/>
                  </a:lnTo>
                  <a:lnTo>
                    <a:pt x="53" y="390"/>
                  </a:lnTo>
                  <a:lnTo>
                    <a:pt x="47" y="418"/>
                  </a:lnTo>
                  <a:lnTo>
                    <a:pt x="42" y="446"/>
                  </a:lnTo>
                  <a:lnTo>
                    <a:pt x="66" y="448"/>
                  </a:lnTo>
                  <a:lnTo>
                    <a:pt x="64" y="470"/>
                  </a:lnTo>
                  <a:lnTo>
                    <a:pt x="62" y="499"/>
                  </a:lnTo>
                  <a:lnTo>
                    <a:pt x="61" y="525"/>
                  </a:lnTo>
                  <a:lnTo>
                    <a:pt x="60" y="536"/>
                  </a:lnTo>
                  <a:lnTo>
                    <a:pt x="24" y="536"/>
                  </a:lnTo>
                  <a:lnTo>
                    <a:pt x="22" y="549"/>
                  </a:lnTo>
                  <a:lnTo>
                    <a:pt x="20" y="560"/>
                  </a:lnTo>
                  <a:lnTo>
                    <a:pt x="18" y="572"/>
                  </a:lnTo>
                  <a:lnTo>
                    <a:pt x="16" y="583"/>
                  </a:lnTo>
                  <a:lnTo>
                    <a:pt x="61" y="583"/>
                  </a:lnTo>
                  <a:lnTo>
                    <a:pt x="66" y="627"/>
                  </a:lnTo>
                  <a:lnTo>
                    <a:pt x="9" y="629"/>
                  </a:lnTo>
                  <a:lnTo>
                    <a:pt x="0" y="671"/>
                  </a:lnTo>
                  <a:lnTo>
                    <a:pt x="108" y="671"/>
                  </a:lnTo>
                  <a:lnTo>
                    <a:pt x="94" y="640"/>
                  </a:lnTo>
                  <a:lnTo>
                    <a:pt x="85" y="603"/>
                  </a:lnTo>
                  <a:lnTo>
                    <a:pt x="80" y="564"/>
                  </a:lnTo>
                  <a:lnTo>
                    <a:pt x="79" y="522"/>
                  </a:lnTo>
                  <a:lnTo>
                    <a:pt x="82" y="477"/>
                  </a:lnTo>
                  <a:lnTo>
                    <a:pt x="87" y="433"/>
                  </a:lnTo>
                  <a:lnTo>
                    <a:pt x="96" y="387"/>
                  </a:lnTo>
                  <a:lnTo>
                    <a:pt x="107" y="344"/>
                  </a:lnTo>
                  <a:lnTo>
                    <a:pt x="119" y="301"/>
                  </a:lnTo>
                  <a:lnTo>
                    <a:pt x="132" y="263"/>
                  </a:lnTo>
                  <a:lnTo>
                    <a:pt x="146" y="229"/>
                  </a:lnTo>
                  <a:lnTo>
                    <a:pt x="161" y="200"/>
                  </a:lnTo>
                  <a:lnTo>
                    <a:pt x="177" y="176"/>
                  </a:lnTo>
                  <a:lnTo>
                    <a:pt x="191" y="159"/>
                  </a:lnTo>
                  <a:lnTo>
                    <a:pt x="205" y="152"/>
                  </a:lnTo>
                  <a:lnTo>
                    <a:pt x="217" y="152"/>
                  </a:lnTo>
                  <a:lnTo>
                    <a:pt x="229" y="172"/>
                  </a:lnTo>
                  <a:lnTo>
                    <a:pt x="237" y="213"/>
                  </a:lnTo>
                  <a:lnTo>
                    <a:pt x="240" y="270"/>
                  </a:lnTo>
                  <a:lnTo>
                    <a:pt x="235" y="333"/>
                  </a:lnTo>
                  <a:lnTo>
                    <a:pt x="223" y="396"/>
                  </a:lnTo>
                  <a:lnTo>
                    <a:pt x="201" y="451"/>
                  </a:lnTo>
                  <a:lnTo>
                    <a:pt x="166" y="490"/>
                  </a:lnTo>
                  <a:lnTo>
                    <a:pt x="120" y="505"/>
                  </a:lnTo>
                  <a:lnTo>
                    <a:pt x="113" y="547"/>
                  </a:lnTo>
                  <a:lnTo>
                    <a:pt x="114" y="584"/>
                  </a:lnTo>
                  <a:lnTo>
                    <a:pt x="119" y="614"/>
                  </a:lnTo>
                  <a:lnTo>
                    <a:pt x="129" y="636"/>
                  </a:lnTo>
                  <a:lnTo>
                    <a:pt x="140" y="653"/>
                  </a:lnTo>
                  <a:lnTo>
                    <a:pt x="153" y="664"/>
                  </a:lnTo>
                  <a:lnTo>
                    <a:pt x="164" y="671"/>
                  </a:lnTo>
                  <a:lnTo>
                    <a:pt x="173" y="673"/>
                  </a:lnTo>
                  <a:lnTo>
                    <a:pt x="202" y="668"/>
                  </a:lnTo>
                  <a:lnTo>
                    <a:pt x="229" y="651"/>
                  </a:lnTo>
                  <a:lnTo>
                    <a:pt x="255" y="625"/>
                  </a:lnTo>
                  <a:lnTo>
                    <a:pt x="278" y="590"/>
                  </a:lnTo>
                  <a:lnTo>
                    <a:pt x="299" y="549"/>
                  </a:lnTo>
                  <a:lnTo>
                    <a:pt x="318" y="503"/>
                  </a:lnTo>
                  <a:lnTo>
                    <a:pt x="335" y="451"/>
                  </a:lnTo>
                  <a:lnTo>
                    <a:pt x="348" y="398"/>
                  </a:lnTo>
                  <a:lnTo>
                    <a:pt x="359" y="342"/>
                  </a:lnTo>
                  <a:lnTo>
                    <a:pt x="367" y="285"/>
                  </a:lnTo>
                  <a:lnTo>
                    <a:pt x="371" y="228"/>
                  </a:lnTo>
                  <a:lnTo>
                    <a:pt x="372" y="174"/>
                  </a:lnTo>
                  <a:lnTo>
                    <a:pt x="370" y="122"/>
                  </a:lnTo>
                  <a:lnTo>
                    <a:pt x="364" y="76"/>
                  </a:lnTo>
                  <a:lnTo>
                    <a:pt x="354" y="35"/>
                  </a:lnTo>
                  <a:lnTo>
                    <a:pt x="340" y="0"/>
                  </a:lnTo>
                  <a:lnTo>
                    <a:pt x="241" y="13"/>
                  </a:lnTo>
                  <a:lnTo>
                    <a:pt x="243" y="48"/>
                  </a:lnTo>
                  <a:lnTo>
                    <a:pt x="329" y="48"/>
                  </a:lnTo>
                  <a:lnTo>
                    <a:pt x="333" y="65"/>
                  </a:lnTo>
                  <a:lnTo>
                    <a:pt x="337" y="83"/>
                  </a:lnTo>
                  <a:lnTo>
                    <a:pt x="341" y="104"/>
                  </a:lnTo>
                  <a:lnTo>
                    <a:pt x="343" y="122"/>
                  </a:lnTo>
                  <a:lnTo>
                    <a:pt x="243" y="124"/>
                  </a:lnTo>
                  <a:lnTo>
                    <a:pt x="257" y="165"/>
                  </a:lnTo>
                  <a:lnTo>
                    <a:pt x="343" y="165"/>
                  </a:lnTo>
                  <a:lnTo>
                    <a:pt x="344" y="185"/>
                  </a:lnTo>
                  <a:lnTo>
                    <a:pt x="344" y="203"/>
                  </a:lnTo>
                  <a:lnTo>
                    <a:pt x="344" y="224"/>
                  </a:lnTo>
                  <a:lnTo>
                    <a:pt x="343" y="244"/>
                  </a:lnTo>
                  <a:lnTo>
                    <a:pt x="265" y="246"/>
                  </a:lnTo>
                  <a:lnTo>
                    <a:pt x="266" y="287"/>
                  </a:lnTo>
                  <a:lnTo>
                    <a:pt x="339" y="281"/>
                  </a:lnTo>
                  <a:lnTo>
                    <a:pt x="337" y="296"/>
                  </a:lnTo>
                  <a:lnTo>
                    <a:pt x="334" y="311"/>
                  </a:lnTo>
                  <a:lnTo>
                    <a:pt x="332" y="326"/>
                  </a:lnTo>
                  <a:lnTo>
                    <a:pt x="329" y="340"/>
                  </a:lnTo>
                  <a:lnTo>
                    <a:pt x="261" y="340"/>
                  </a:lnTo>
                  <a:lnTo>
                    <a:pt x="255" y="379"/>
                  </a:lnTo>
                  <a:lnTo>
                    <a:pt x="320" y="379"/>
                  </a:lnTo>
                  <a:lnTo>
                    <a:pt x="313" y="403"/>
                  </a:lnTo>
                  <a:lnTo>
                    <a:pt x="306" y="425"/>
                  </a:lnTo>
                  <a:lnTo>
                    <a:pt x="298" y="446"/>
                  </a:lnTo>
                  <a:lnTo>
                    <a:pt x="290" y="466"/>
                  </a:lnTo>
                  <a:lnTo>
                    <a:pt x="229" y="464"/>
                  </a:lnTo>
                  <a:lnTo>
                    <a:pt x="211" y="496"/>
                  </a:lnTo>
                  <a:lnTo>
                    <a:pt x="275" y="496"/>
                  </a:lnTo>
                  <a:lnTo>
                    <a:pt x="270" y="505"/>
                  </a:lnTo>
                  <a:lnTo>
                    <a:pt x="264" y="512"/>
                  </a:lnTo>
                  <a:lnTo>
                    <a:pt x="259" y="520"/>
                  </a:lnTo>
                  <a:lnTo>
                    <a:pt x="253" y="527"/>
                  </a:lnTo>
                  <a:lnTo>
                    <a:pt x="185" y="527"/>
                  </a:lnTo>
                  <a:lnTo>
                    <a:pt x="191" y="520"/>
                  </a:lnTo>
                  <a:lnTo>
                    <a:pt x="198" y="512"/>
                  </a:lnTo>
                  <a:lnTo>
                    <a:pt x="205" y="505"/>
                  </a:lnTo>
                  <a:lnTo>
                    <a:pt x="211" y="496"/>
                  </a:lnTo>
                  <a:lnTo>
                    <a:pt x="229" y="464"/>
                  </a:lnTo>
                  <a:lnTo>
                    <a:pt x="236" y="444"/>
                  </a:lnTo>
                  <a:lnTo>
                    <a:pt x="243" y="424"/>
                  </a:lnTo>
                  <a:lnTo>
                    <a:pt x="250" y="401"/>
                  </a:lnTo>
                  <a:lnTo>
                    <a:pt x="255" y="379"/>
                  </a:lnTo>
                  <a:lnTo>
                    <a:pt x="261" y="340"/>
                  </a:lnTo>
                  <a:lnTo>
                    <a:pt x="262" y="327"/>
                  </a:lnTo>
                  <a:lnTo>
                    <a:pt x="264" y="314"/>
                  </a:lnTo>
                  <a:lnTo>
                    <a:pt x="265" y="300"/>
                  </a:lnTo>
                  <a:lnTo>
                    <a:pt x="266" y="287"/>
                  </a:lnTo>
                  <a:lnTo>
                    <a:pt x="265" y="246"/>
                  </a:lnTo>
                  <a:lnTo>
                    <a:pt x="265" y="226"/>
                  </a:lnTo>
                  <a:lnTo>
                    <a:pt x="263" y="203"/>
                  </a:lnTo>
                  <a:lnTo>
                    <a:pt x="261" y="183"/>
                  </a:lnTo>
                  <a:lnTo>
                    <a:pt x="257" y="165"/>
                  </a:lnTo>
                  <a:lnTo>
                    <a:pt x="24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04c2b"/>
                </a:solidFill>
                <a:uFillTx/>
                <a:latin typeface="Times New Roman"/>
              </a:rPr>
              <a:t>2. ПОДГОТОВКА ДОКУМЕНТОВ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547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</a:rPr>
              <a:t>Способы создания документов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рукописны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с помощью карандаша, ручки, фломастера, маркера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машинописны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с помощью пишущей машинки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типографски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 с помощью наборных машин и печатных станков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с помощью ЭВМ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32720" y="22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300720" y="4149720"/>
            <a:ext cx="2228760" cy="254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"/>
          <a:stretch/>
        </p:blipFill>
        <p:spPr>
          <a:xfrm>
            <a:off x="4167360" y="3014640"/>
            <a:ext cx="8092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4c2b"/>
                </a:solidFill>
                <a:uFillTx/>
                <a:latin typeface="Times New Roman"/>
              </a:rPr>
              <a:t>3. ОФОРМЛЕНИЕ ДОКУМЕНТОВ</a:t>
            </a:r>
            <a:endParaRPr b="0" lang="en-US" sz="4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22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Times New Roman"/>
              </a:rPr>
              <a:t>Разные по назначению документы оформляются по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333333"/>
                </a:solidFill>
                <a:latin typeface="Times New Roman"/>
              </a:rPr>
              <a:t>разному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67480" indent="-267480">
              <a:lnSpc>
                <a:spcPct val="70000"/>
              </a:lnSpc>
              <a:spcBef>
                <a:spcPts val="22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lnSpc>
                <a:spcPct val="6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заявление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lnSpc>
                <a:spcPct val="6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паспорт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lnSpc>
                <a:spcPct val="6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контрольная работа по математике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lnSpc>
                <a:spcPct val="6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иктант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lnSpc>
                <a:spcPct val="6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реферат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lnSpc>
                <a:spcPct val="6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очинение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49528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004c2b"/>
                </a:solidFill>
                <a:uFillTx/>
                <a:latin typeface="Times New Roman"/>
              </a:rPr>
              <a:t>Правила оформления </a:t>
            </a:r>
            <a:br>
              <a:rPr sz="4300"/>
            </a:br>
            <a:r>
              <a:rPr b="1" lang="ru-RU" sz="4300" spc="-1" strike="noStrike" u="sng">
                <a:solidFill>
                  <a:srgbClr val="004c2b"/>
                </a:solidFill>
                <a:uFillTx/>
                <a:latin typeface="Times New Roman"/>
              </a:rPr>
              <a:t>объемных документов:</a:t>
            </a:r>
            <a:endParaRPr b="0" lang="en-US" sz="4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11280" y="1844280"/>
            <a:ext cx="65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окументы печатаются на листах формата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1...A4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 края листа до границ текста оставляют поля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есь текст разбивают на главы, разделы, параграфы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Текст параграфов делится на абзацы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ожение и форма абзаца определяется его параметрами (межстрочный интервал, отступ первой строки, отступы абзацев, выравнивание абзацев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Текст документа разбивается на страницы, которые нумеруются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головки глав, разделов, параграфов размещаются посередине  строк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2303640" cy="127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67080" y="3009960"/>
            <a:ext cx="609840" cy="838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24000" y="4005360"/>
            <a:ext cx="22302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c2b"/>
                </a:solidFill>
                <a:latin typeface="Times New Roman"/>
              </a:rPr>
              <a:t>4. ОБРАБОТКА ТЕКСТОВОЙ ИНФОРМАЦИИ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989000"/>
            <a:ext cx="4267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роцесс обработки текстовой информаци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это процесс создания (подготовки) текстовых документов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Редактирование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- процесс изменения содержания текстового документа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Форматирование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процесс придания тексту форм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5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4c2b"/>
                </a:solidFill>
                <a:latin typeface="Times New Roman"/>
              </a:rPr>
              <a:t>ОБРАБОТКА ТЕКСТОВОЙ ИНФОРМАЦИИ С ПОМОЩЬЮ ЭВМ</a:t>
            </a:r>
            <a:endParaRPr b="0" lang="en-US" sz="37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кстовый редакто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редактор текстов, текстовый процессор)- это прикладная программа обработки текстовой информации, которая предназначена для создания и редактирования виртуальных документов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 ТР: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Symbol" charset="2"/>
              <a:buChar char="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Лексикон, Блокнот,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WordPad,  Write, Wor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Издательская систем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это прикладная программа, предназначенная для подготовки к  изданию журналов, газет, брошюр, буклетов, книг, рекламных материалов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 издательских систем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Symbol" charset="2"/>
              <a:buChar char="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Corel Ventura, Page Maker, Quarkx Pres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72200" y="2438280"/>
            <a:ext cx="29718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004c2b"/>
                </a:solidFill>
                <a:uFillTx/>
                <a:latin typeface="Times New Roman"/>
              </a:rPr>
              <a:t>5. ТИПОВЫЕ ЗАДАЧИ ОБРАБОТКИ ТЕКСТОВОЙ ИНФОРМАЦИИ</a:t>
            </a:r>
            <a:endParaRPr b="0" lang="en-US" sz="39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64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ввод и отображение текста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редактирование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форматирование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запись документа на диск в виде файла (сохранение)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читывание документа из файла в память компьютера (загрузка)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вывод на бумагу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04000" y="4968720"/>
            <a:ext cx="23400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6. </a:t>
            </a:r>
            <a:r>
              <a:rPr b="1" lang="ru-RU" sz="4400" spc="-1" strike="noStrike" u="sng">
                <a:solidFill>
                  <a:srgbClr val="004c2b"/>
                </a:solidFill>
                <a:uFillTx/>
                <a:latin typeface="Times New Roman"/>
              </a:rPr>
              <a:t>ТЕКСТОВЫЙ РЕДАКТОР </a:t>
            </a:r>
            <a:r>
              <a:rPr b="1" lang="en-US" sz="4400" spc="-1" strike="noStrike" u="sng">
                <a:solidFill>
                  <a:srgbClr val="004c2b"/>
                </a:solidFill>
                <a:uFillTx/>
                <a:latin typeface="Times New Roman"/>
              </a:rPr>
              <a:t>WOR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636640"/>
            <a:ext cx="419112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WORD - самый распространенный текстовый редактор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ORD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- одно из самых популярных приложений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ndows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03640" y="2276640"/>
            <a:ext cx="38102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09:50:32Z</dcterms:created>
  <dc:creator>Куценкова Людмила Альфредовна</dc:creator>
  <dc:description/>
  <dc:language>en-US</dc:language>
  <cp:lastModifiedBy>Преподаватель</cp:lastModifiedBy>
  <cp:lastPrinted>2000-11-10T07:48:08Z</cp:lastPrinted>
  <dcterms:modified xsi:type="dcterms:W3CDTF">2002-12-09T15:50:22Z</dcterms:modified>
  <cp:revision>16</cp:revision>
  <dc:subject/>
  <dc:title>ОБРАБОТКА ТЕКСТОВОЙ ИНФОРМАЦИИ.</dc:title>
</cp:coreProperties>
</file>