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0033-F568-438A-B5F3-459527D7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CD60-690C-42B8-8AFB-A71C695A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CBEF-2141-4630-A039-A03B36DE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BBB1-7C37-4546-A794-D76FC0D9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C44B-4DD1-4B25-BD1D-A8CDB45D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0443-2A18-4B80-92E0-2EA401A2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4699-A941-494A-8B7D-87FAF8EF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9E3E-D625-49C0-8338-2E6D8B9A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9B08-5EF9-441A-848F-33E98F08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6502-1C0E-4B51-A939-755AE6A2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5A3A-8123-4F09-AA91-A1FB0B01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237C-3397-4927-A292-AB60A49D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BF6A-AF21-4B50-8E0B-7ACE4E828C24}" type="slidenum">
              <a:rPr b="0" lang="ru-RU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95241"/>
                </a:solidFill>
                <a:latin typeface="Times New Roman"/>
              </a:rPr>
              <a:t>«У нас на Руси, мало написать</a:t>
            </a:r>
            <a:br>
              <a:rPr sz="4800"/>
            </a:br>
            <a:r>
              <a:rPr b="1" lang="ru-RU" sz="4800" spc="-1" strike="noStrike">
                <a:solidFill>
                  <a:srgbClr val="795241"/>
                </a:solidFill>
                <a:latin typeface="Times New Roman"/>
              </a:rPr>
              <a:t>пьесу, надо провести её по </a:t>
            </a:r>
            <a:br>
              <a:rPr sz="4800"/>
            </a:br>
            <a:r>
              <a:rPr b="1" lang="ru-RU" sz="4800" spc="-1" strike="noStrike">
                <a:solidFill>
                  <a:srgbClr val="795241"/>
                </a:solidFill>
                <a:latin typeface="Times New Roman"/>
              </a:rPr>
              <a:t>всевозможным мытарствам»</a:t>
            </a:r>
            <a:br>
              <a:rPr sz="4800"/>
            </a:br>
            <a:r>
              <a:rPr b="1" lang="ru-RU" sz="4800" spc="-1" strike="noStrike">
                <a:solidFill>
                  <a:srgbClr val="795241"/>
                </a:solidFill>
                <a:latin typeface="Times New Roman"/>
              </a:rPr>
              <a:t>                         А.Н.Островский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63634"/>
                </a:solidFill>
                <a:latin typeface="Times New Roman"/>
              </a:rPr>
              <a:t>Здание Малого театра в Москве</a:t>
            </a:r>
            <a:endParaRPr b="0" i="1" lang="en-US" sz="36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57" name="Picture 5" descr="Малый театр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актёр 2"/>
          <p:cNvPicPr/>
          <p:nvPr/>
        </p:nvPicPr>
        <p:blipFill>
          <a:blip r:embed="rId1"/>
          <a:stretch/>
        </p:blipFill>
        <p:spPr>
          <a:xfrm>
            <a:off x="2627280" y="1268280"/>
            <a:ext cx="2922480" cy="4797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актёр 3"/>
          <p:cNvPicPr/>
          <p:nvPr/>
        </p:nvPicPr>
        <p:blipFill>
          <a:blip r:embed="rId2"/>
          <a:stretch/>
        </p:blipFill>
        <p:spPr>
          <a:xfrm>
            <a:off x="2627280" y="1268280"/>
            <a:ext cx="2895480" cy="4869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актёр"/>
          <p:cNvPicPr/>
          <p:nvPr/>
        </p:nvPicPr>
        <p:blipFill>
          <a:blip r:embed="rId3"/>
          <a:stretch/>
        </p:blipFill>
        <p:spPr>
          <a:xfrm>
            <a:off x="2771640" y="1341360"/>
            <a:ext cx="2814840" cy="4724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актриса"/>
          <p:cNvPicPr/>
          <p:nvPr/>
        </p:nvPicPr>
        <p:blipFill>
          <a:blip r:embed="rId4"/>
          <a:stretch/>
        </p:blipFill>
        <p:spPr>
          <a:xfrm>
            <a:off x="2771640" y="1341360"/>
            <a:ext cx="2762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5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63634"/>
                </a:solidFill>
                <a:latin typeface="Times New Roman"/>
              </a:rPr>
              <a:t>Александринский театр в Петербурге</a:t>
            </a:r>
            <a:endParaRPr b="0" i="1" lang="en-US" sz="36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63" name="Picture 5" descr="Петербург, театр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гроза"/>
          <p:cNvPicPr/>
          <p:nvPr/>
        </p:nvPicPr>
        <p:blipFill>
          <a:blip r:embed="rId1"/>
          <a:stretch/>
        </p:blipFill>
        <p:spPr>
          <a:xfrm>
            <a:off x="1835280" y="-9360"/>
            <a:ext cx="518472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3634"/>
                </a:solidFill>
                <a:latin typeface="Times New Roman"/>
              </a:rPr>
              <a:t>Жена и дети драматурга</a:t>
            </a:r>
            <a:endParaRPr b="0" i="1" lang="en-US" sz="32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66" name="Picture 4" descr="жена"/>
          <p:cNvPicPr/>
          <p:nvPr/>
        </p:nvPicPr>
        <p:blipFill>
          <a:blip r:embed="rId1"/>
          <a:stretch/>
        </p:blipFill>
        <p:spPr>
          <a:xfrm>
            <a:off x="0" y="476280"/>
            <a:ext cx="3987720" cy="6381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Дети"/>
          <p:cNvPicPr/>
          <p:nvPr/>
        </p:nvPicPr>
        <p:blipFill>
          <a:blip r:embed="rId2"/>
          <a:stretch/>
        </p:blipFill>
        <p:spPr>
          <a:xfrm>
            <a:off x="4427640" y="476280"/>
            <a:ext cx="46339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3634"/>
                </a:solidFill>
                <a:latin typeface="Times New Roman"/>
              </a:rPr>
              <a:t>Островский среди членов Общества драматических писателей</a:t>
            </a:r>
            <a:endParaRPr b="0" i="1" lang="en-US" sz="32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69" name="Picture 4" descr="общество"/>
          <p:cNvPicPr/>
          <p:nvPr/>
        </p:nvPicPr>
        <p:blipFill>
          <a:blip r:embed="rId1"/>
          <a:stretch/>
        </p:blipFill>
        <p:spPr>
          <a:xfrm>
            <a:off x="324000" y="1052640"/>
            <a:ext cx="84247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3634"/>
                </a:solidFill>
                <a:latin typeface="Times New Roman"/>
              </a:rPr>
              <a:t>Дом А.Н. Островского в усадьбе Щелыково (ныне -  Дом-музей).</a:t>
            </a:r>
            <a:endParaRPr b="0" i="1" lang="en-US" sz="32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71" name="Picture 4" descr="усадьба"/>
          <p:cNvPicPr/>
          <p:nvPr/>
        </p:nvPicPr>
        <p:blipFill>
          <a:blip r:embed="rId1"/>
          <a:stretch/>
        </p:blipFill>
        <p:spPr>
          <a:xfrm>
            <a:off x="0" y="896760"/>
            <a:ext cx="9144000" cy="59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63634"/>
                </a:solidFill>
                <a:latin typeface="Times New Roman"/>
              </a:rPr>
              <a:t>Кабинет А.Н.Островского в Щелыкове</a:t>
            </a:r>
            <a:endParaRPr b="0" i="1" lang="en-US" sz="36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73" name="Picture 3" descr="кабинет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63634"/>
                </a:solidFill>
                <a:latin typeface="Times New Roman"/>
              </a:rPr>
              <a:t>Гостиная в Доме-музее</a:t>
            </a:r>
            <a:endParaRPr b="0" i="1" lang="en-US" sz="36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75" name="Picture 4" descr="гостиная"/>
          <p:cNvPicPr/>
          <p:nvPr/>
        </p:nvPicPr>
        <p:blipFill>
          <a:blip r:embed="rId1"/>
          <a:stretch/>
        </p:blipFill>
        <p:spPr>
          <a:xfrm>
            <a:off x="0" y="615960"/>
            <a:ext cx="914400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63634"/>
                </a:solidFill>
                <a:latin typeface="Times New Roman"/>
              </a:rPr>
              <a:t>Столовая в Доме-музее</a:t>
            </a:r>
            <a:endParaRPr b="0" i="1" lang="en-US" sz="36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77" name="Picture 4" descr="столовая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портрет,3"/>
          <p:cNvPicPr/>
          <p:nvPr/>
        </p:nvPicPr>
        <p:blipFill>
          <a:blip r:embed="rId1"/>
          <a:stretch/>
        </p:blipFill>
        <p:spPr>
          <a:xfrm>
            <a:off x="1258920" y="0"/>
            <a:ext cx="61927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0" y="1628640"/>
            <a:ext cx="9326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Александр Николаевич Островский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(1823 – 1886)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- драматург,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театральный деятель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могила"/>
          <p:cNvPicPr/>
          <p:nvPr/>
        </p:nvPicPr>
        <p:blipFill>
          <a:blip r:embed="rId1"/>
          <a:stretch/>
        </p:blipFill>
        <p:spPr>
          <a:xfrm>
            <a:off x="1835280" y="549360"/>
            <a:ext cx="5545080" cy="6308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3634"/>
                </a:solidFill>
                <a:latin typeface="Times New Roman"/>
              </a:rPr>
              <a:t>Могила А.Н.Островского</a:t>
            </a:r>
            <a:endParaRPr b="0" i="1" lang="en-US" sz="32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3634"/>
                </a:solidFill>
                <a:latin typeface="Times New Roman"/>
              </a:rPr>
              <a:t>Памятник А.Н.Островскому у Малого театра </a:t>
            </a:r>
            <a:br>
              <a:rPr sz="3200"/>
            </a:br>
            <a:r>
              <a:rPr b="1" i="1" lang="ru-RU" sz="3200" spc="-1" strike="noStrike">
                <a:solidFill>
                  <a:srgbClr val="463634"/>
                </a:solidFill>
                <a:latin typeface="Times New Roman"/>
              </a:rPr>
              <a:t>в Москве</a:t>
            </a:r>
            <a:endParaRPr b="0" i="1" lang="en-US" sz="32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81" name="Picture 4" descr="памятник"/>
          <p:cNvPicPr/>
          <p:nvPr/>
        </p:nvPicPr>
        <p:blipFill>
          <a:blip r:embed="rId1"/>
          <a:stretch/>
        </p:blipFill>
        <p:spPr>
          <a:xfrm>
            <a:off x="2340000" y="1125360"/>
            <a:ext cx="43196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А.Н.Островский – один из наиболее выдающихся представителей русского реалистического театра.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Любимый жанр Островского  - комедия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Островский изображает патриархальный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русский мир: купечество,чиновники, помещики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Патриархальный мир раскрывается, как правило, в двух ракурсах: социально – злободневном и фольклорно – мифологическом.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южеты пьес имеют несложную структуру, некоторые функции персонажей сохраняются от пьесы к пьесе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Видимая простота языка сочетается  с тонкой игрой психологических и культурных подтекстов. 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Отдельный город изображается как некое конкретное, замкнутое и самодостаточное место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Большое значение имеют сложные и многоплановые символические образы, сквозные мотивы.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240" y="260280"/>
            <a:ext cx="89154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I. Очерк жизни А.Н.Островского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Детство и юношеские годы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Первое увлечение театром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Обучение и служба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 Первая любовь. Первые  пьесы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 Размолвка с отцом. Свадьба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. Начало творческого пути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. Путешествие по России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. Второй брак Островского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. Смерть великого драматурга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II. Характеристика творчества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Речевая индивидуали-зация образов героев.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Вспомните название первой пьесы Островского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В каких журналах печатался Островский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Какое  первоначальное название имела пьеса «Свои люди – сочтёмся»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За постановку какой пьесы Островского вынудили выйти в отставку с государственной службы, обвинили в политической неблагонадёжности и отдали под негласный надзор полиции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Какой театр называет себя «Домом Островского»?</a:t>
            </a:r>
            <a:br>
              <a:rPr sz="2000"/>
            </a:br>
            <a:endParaRPr b="0" i="1" lang="en-US" sz="20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i="1" lang="en-US" sz="2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63634"/>
                </a:solidFill>
                <a:latin typeface="Times New Roman"/>
              </a:rPr>
              <a:t>Домашнее задание: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1" lang="ru-RU" sz="5400" spc="-1" strike="noStrike">
                <a:solidFill>
                  <a:srgbClr val="463634"/>
                </a:solidFill>
                <a:latin typeface="Times New Roman"/>
              </a:rPr>
              <a:t>Читать 1 действие пьесы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63634"/>
                </a:solidFill>
                <a:latin typeface="Times New Roman"/>
              </a:rPr>
              <a:t>Замоскворечье (начало 19 века)</a:t>
            </a:r>
            <a:endParaRPr b="0" i="1" lang="en-US" sz="36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46" name="Picture 6" descr="замоскворечье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95241"/>
                </a:solidFill>
                <a:latin typeface="Times New Roman"/>
              </a:rPr>
              <a:t>Дом в Голиковском переулке, где родился А.Н.Островский</a:t>
            </a:r>
            <a:endParaRPr b="0" i="1" lang="en-US" sz="32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48" name="Picture 5" descr="дом, где родился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3634"/>
                </a:solidFill>
                <a:latin typeface="Times New Roman"/>
              </a:rPr>
              <a:t>Дом на Житной улице, где прошло детство А.Н. Островского</a:t>
            </a:r>
            <a:endParaRPr b="0" i="1" lang="en-US" sz="32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50" name="Picture 5" descr="дом,2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портрет, 2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портрет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3634"/>
                </a:solidFill>
                <a:latin typeface="Times New Roman"/>
              </a:rPr>
              <a:t>    </a:t>
            </a:r>
            <a:r>
              <a:rPr b="1" lang="ru-RU" sz="4800" spc="-1" strike="noStrike">
                <a:solidFill>
                  <a:srgbClr val="795241"/>
                </a:solidFill>
                <a:latin typeface="Times New Roman"/>
              </a:rPr>
              <a:t>Начало творчества – пьеса «Картина семейного счастья»</a:t>
            </a:r>
            <a:br>
              <a:rPr sz="4800"/>
            </a:br>
            <a:br>
              <a:rPr sz="2000"/>
            </a:br>
            <a:r>
              <a:rPr b="1" lang="ru-RU" sz="4800" spc="-1" strike="noStrike">
                <a:solidFill>
                  <a:srgbClr val="463634"/>
                </a:solidFill>
                <a:latin typeface="Times New Roman"/>
              </a:rPr>
              <a:t>Островский вспоминал: «Самый памятный день в моей жизни: 14 февраля 1847 года. С этого  дня  я  стал  считать себя русским  писателем  и  уж  без сомнений и колебаний поверил в своё призвание»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обложка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лист рукописи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13:24:56Z</dcterms:created>
  <dc:creator>Пользователь</dc:creator>
  <dc:description/>
  <dc:language>en-US</dc:language>
  <cp:lastModifiedBy>Коля</cp:lastModifiedBy>
  <dcterms:modified xsi:type="dcterms:W3CDTF">2013-05-01T06:43:04Z</dcterms:modified>
  <cp:revision>65</cp:revision>
  <dc:subject/>
  <dc:title>«У нас на Руси, мало написать пьесу, надо провести её по  всевозможным мытарствам»                          А.Н.Островский</dc:title>
</cp:coreProperties>
</file>