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B96-BEA4-40EF-9BA3-5D6DB874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2E0-7DBE-41C3-BA55-5B5D6FF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6CA-0396-4C3F-8F01-41DEDFB0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CF3-6E34-4197-B751-DA81EC79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485-C54D-4AD8-92A4-71A155E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E10-571C-4715-948A-066E36A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400-1185-45ED-B6C9-14D923C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1AA-7AD5-44B0-8D93-C7B75DC4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1B7-020A-4DAD-BDA2-23F4822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C35-52CF-4B99-ADAA-B7EA353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751-07D0-47FB-AF01-3587C8A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04-4D37-4D8C-8E46-C6C5621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34C-FD37-40F0-91B4-C1B4E8E76CE8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«У нас на Руси, мало написать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пьесу, надо провести её по 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всевозможным мытарствам»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                         А.Н.Островский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дание Малого театра в Моск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7" name="Picture 5" descr="Малый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актёр 2"/>
          <p:cNvPicPr/>
          <p:nvPr/>
        </p:nvPicPr>
        <p:blipFill>
          <a:blip r:embed="rId1"/>
          <a:stretch/>
        </p:blipFill>
        <p:spPr>
          <a:xfrm>
            <a:off x="2627280" y="1268280"/>
            <a:ext cx="2922480" cy="479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актёр 3"/>
          <p:cNvPicPr/>
          <p:nvPr/>
        </p:nvPicPr>
        <p:blipFill>
          <a:blip r:embed="rId2"/>
          <a:stretch/>
        </p:blipFill>
        <p:spPr>
          <a:xfrm>
            <a:off x="2627280" y="1268280"/>
            <a:ext cx="289548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актёр"/>
          <p:cNvPicPr/>
          <p:nvPr/>
        </p:nvPicPr>
        <p:blipFill>
          <a:blip r:embed="rId3"/>
          <a:stretch/>
        </p:blipFill>
        <p:spPr>
          <a:xfrm>
            <a:off x="2771640" y="1341360"/>
            <a:ext cx="2814840" cy="472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актриса"/>
          <p:cNvPicPr/>
          <p:nvPr/>
        </p:nvPicPr>
        <p:blipFill>
          <a:blip r:embed="rId4"/>
          <a:stretch/>
        </p:blipFill>
        <p:spPr>
          <a:xfrm>
            <a:off x="2771640" y="1341360"/>
            <a:ext cx="2762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Александринский театр в Петербург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3" name="Picture 5" descr="Петербург,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гроза"/>
          <p:cNvPicPr/>
          <p:nvPr/>
        </p:nvPicPr>
        <p:blipFill>
          <a:blip r:embed="rId1"/>
          <a:stretch/>
        </p:blipFill>
        <p:spPr>
          <a:xfrm>
            <a:off x="1835280" y="-9360"/>
            <a:ext cx="51847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Жена и дети драматурга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6" name="Picture 4" descr="жена"/>
          <p:cNvPicPr/>
          <p:nvPr/>
        </p:nvPicPr>
        <p:blipFill>
          <a:blip r:embed="rId1"/>
          <a:stretch/>
        </p:blipFill>
        <p:spPr>
          <a:xfrm>
            <a:off x="0" y="476280"/>
            <a:ext cx="3987720" cy="638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Дети"/>
          <p:cNvPicPr/>
          <p:nvPr/>
        </p:nvPicPr>
        <p:blipFill>
          <a:blip r:embed="rId2"/>
          <a:stretch/>
        </p:blipFill>
        <p:spPr>
          <a:xfrm>
            <a:off x="4427640" y="476280"/>
            <a:ext cx="4633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Островский среди членов Общества драматических писателе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9" name="Picture 4" descr="общество"/>
          <p:cNvPicPr/>
          <p:nvPr/>
        </p:nvPicPr>
        <p:blipFill>
          <a:blip r:embed="rId1"/>
          <a:stretch/>
        </p:blipFill>
        <p:spPr>
          <a:xfrm>
            <a:off x="324000" y="1052640"/>
            <a:ext cx="842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А.Н. Островского в усадьбе Щелыково (ныне -  Дом-музей).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1" name="Picture 4" descr="усадьба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Кабинет А.Н.Островского в Щелыко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3" name="Picture 3" descr="кабинет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Гостин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5" name="Picture 4" descr="гостиная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Столов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7" name="Picture 4" descr="столова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портрет,3"/>
          <p:cNvPicPr/>
          <p:nvPr/>
        </p:nvPicPr>
        <p:blipFill>
          <a:blip r:embed="rId1"/>
          <a:stretch/>
        </p:blipFill>
        <p:spPr>
          <a:xfrm>
            <a:off x="125892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1628640"/>
            <a:ext cx="932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лександр Николаевич Островск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(1823 – 1886)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- драматург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театральный деятель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могила"/>
          <p:cNvPicPr/>
          <p:nvPr/>
        </p:nvPicPr>
        <p:blipFill>
          <a:blip r:embed="rId1"/>
          <a:stretch/>
        </p:blipFill>
        <p:spPr>
          <a:xfrm>
            <a:off x="1835280" y="549360"/>
            <a:ext cx="5545080" cy="6308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Могила А.Н.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Памятник А.Н.Островскому у Малого театра </a:t>
            </a:r>
            <a:br>
              <a:rPr sz="3200"/>
            </a:b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в Москве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1" name="Picture 4" descr="памятник"/>
          <p:cNvPicPr/>
          <p:nvPr/>
        </p:nvPicPr>
        <p:blipFill>
          <a:blip r:embed="rId1"/>
          <a:stretch/>
        </p:blipFill>
        <p:spPr>
          <a:xfrm>
            <a:off x="2340000" y="1125360"/>
            <a:ext cx="43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.Н.Островский – один из наиболее выдающихся представителей русского реалистического театра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мый жанр Островского  - комеди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стровский изображает патриархаль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усский мир: купечество,чиновники, помещики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атриархальный мир раскрывается, как правило, в двух ракурсах: социально – злободневном и фольклорно – мифологическом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южеты пьес имеют несложную структуру, некоторые функции персонажей сохраняются от пьесы к пьес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димая простота языка сочетается  с тонкой игрой психологических и культурных подтекстов. 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тдельный город изображается как некое конкретное, замкнутое и самодостаточное место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ольшое значение имеют сложные и многоплановые символические образы, сквозные мотивы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60280"/>
            <a:ext cx="8915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. Очерк жизни А.Н.Островского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Детство и юношеские год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ервое увлечение театром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бучение и служб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Первая любовь. Первые  пьес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Размолвка с отцом. Свадьба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Начало творческого пути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Путешествие по Росси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Второй брак Островского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 Смерть великого драматург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I. Характеристика творчеств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чевая индивидуали-зация образов героев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спомните название первой пьесы Островского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аких журналах печатался Островский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Какое  первоначальное название имела пьеса «Свои люди – сочтёмся»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За постановку какой пьесы Островского вынудили выйти в отставку с государственной службы, обвинили в политической неблагонадёжности и отдали под негласный надзор полиции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ой театр называет себя «Домом Островского»?</a:t>
            </a: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Читать 1 действие пьесы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амоскворечье (начало 19 века)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6" name="Picture 6" descr="замоскворечь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241"/>
                </a:solidFill>
                <a:latin typeface="Times New Roman"/>
              </a:rPr>
              <a:t>Дом в Голиковском переулке, где родился А.Н.Островски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8" name="Picture 5" descr="дом, где родился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на Житной улице, где прошло детство А.Н. 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0" name="Picture 5" descr="дом,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ортрет, 2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ортрет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Начало творчества – пьеса «Картина семейного счастья»</a:t>
            </a:r>
            <a:br>
              <a:rPr sz="4800"/>
            </a:br>
            <a:br>
              <a:rPr sz="2000"/>
            </a:b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Островский вспоминал: «Самый памятный день в моей жизни: 14 февраля 1847 года. С этого  дня  я  стал  считать себя русским  писателем  и  уж  без сомнений и колебаний поверил в своё призвание»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обложка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ист рукописи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4:56Z</dcterms:created>
  <dc:creator>Пользователь</dc:creator>
  <dc:description/>
  <dc:language>en-US</dc:language>
  <cp:lastModifiedBy>Коля</cp:lastModifiedBy>
  <dcterms:modified xsi:type="dcterms:W3CDTF">2013-05-01T06:43:04Z</dcterms:modified>
  <cp:revision>65</cp:revision>
  <dc:subject/>
  <dc:title>«У нас на Руси, мало написать пьесу, надо провести её по  всевозможным мытарствам»                          А.Н.Островский</dc:title>
</cp:coreProperties>
</file>