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28F-18D1-408E-A0C1-2D107DE2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7E8-12F9-43C5-AFDC-B00E54F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E1F-E1BB-47C8-95D9-F96B17F5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9C8-8446-451C-B94A-E90C6F7F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FC96-867E-4E3C-8686-1C2FADCE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C8E3-1B7B-41C9-9AD2-EDA652FA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5F67-9E7F-441E-A060-5D16C59B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615D-1E55-462E-AB5A-DBA661E7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C501-062A-4BF0-BB9D-EAC3AC1A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862E-2459-48E2-83AE-6E7C0E09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8327-F8E5-42A9-B97D-C755EA7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48F-74BA-4195-8AC4-D616E5E2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EE00-A062-4D8A-BD4B-805E7C4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3A4E-6F09-45F6-9AA7-B13F9DF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4909-BC16-4624-8115-1BB4A35A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8154-F409-4E00-BF6D-F0F7BEED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FFD2-89FF-427D-8C87-C6E62F2F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F5E-2779-43C3-83AD-D063D5A3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CCE-3321-4F17-8B99-60414C75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E31-11AB-40DF-948A-35123B1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B0B-4F2B-4228-9DD0-4B06B183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66C-2458-4821-A412-05AE70CC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683-138F-46F3-B12B-26EC179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479-D283-4224-89F7-BBA18AC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86A3-4A2F-4A35-8ECF-96DF83FF64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A030-3E20-4F05-BA55-C30BE03B74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34120" y="5867280"/>
            <a:ext cx="3365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вторы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пылова О и Мороз 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280" y="380880"/>
            <a:ext cx="8610840" cy="2057400"/>
          </a:xfrm>
          <a:custGeom>
            <a:avLst/>
            <a:gdLst>
              <a:gd name="textAreaLeft" fmla="*/ 2152800 w 8610840"/>
              <a:gd name="textAreaRight" fmla="*/ 6458400 w 8610840"/>
              <a:gd name="textAreaTop" fmla="*/ 0 h 2057400"/>
              <a:gd name="textAreaBottom" fmla="*/ 1800360 h 2057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ЛЮБИМЫЙ УЧИТЕЛЬ.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МОУ Красноармейской СОШ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Орловского района</a:t>
            </a:r>
            <a:br>
              <a:rPr sz="1600"/>
            </a:br>
            <a:r>
              <a:rPr b="1" lang="en-US" sz="1600" spc="-1" strike="noStrike" u="sng">
                <a:solidFill>
                  <a:srgbClr val="1e06ac"/>
                </a:solidFill>
                <a:uFillTx/>
                <a:latin typeface="Comic Sans MS"/>
              </a:rPr>
              <a:t>Рост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-5654520"/>
            <a:ext cx="457200" cy="98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амой лучшей учительницей мы по праву считаем нашу классную (в прямом и переносном смысле этого слова) руководительницу и по совместительству преподавателя русского языка и литературы Ирину Васильевну Сычёв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477120" y="3276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67120" y="-10684080"/>
            <a:ext cx="88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уроках Ирина Васильевна организовывает рабочую обстановку легко и непринуждённо. Материал всегда излагается грамотно, доступно, интересно. Усвоение новой темы происходит очень быстро, потому что Ирина Васильевна находит особые сло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проведении школьных мероприятий Ирина Васильевна всегда нам помогает. Она очень быстро и грамотно организовывает нас, никого не обходя внимани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4479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0" y="-10836000"/>
            <a:ext cx="74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77724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ольше всего мы ценим Ирину Васильевну за заботу, тактичность и хорошее чувство юмора. Даже если весь класс забудет про день рождения кого-либо из одноклассников, Ирина Васильевна найдёт тёплые слова и подарит имениннику памятный подарок. Когда случается неприятность, мы идём к Ирине Васильевне, которая всегда нам поможет. Она каждый раз находит нужные слова для прекращения                                                 конфликтов, разногласий, споров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0" y="-10407240"/>
            <a:ext cx="2160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гда мы пришли в 5 класс, нас встретила самая добрая и понимающая учительница на свете. Такой Ирина Васильевна остаётся и сейчас. Она создала особую атмосферу, благодаря которой мы сплотились. Вообще, наш класс стал одной большой дружной семьёй благодаря стараниям нашей классной мамы – Сычёвой Ирины Васильевны, самой лучшей классной мамы на свет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9-24T06:18:4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