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F81-EC42-4E42-A91D-146703C8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1EC-A38D-4E07-A3EB-AA6B2371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18A-E9F1-4D7E-92DB-00BD1BA7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CFE-09CC-4663-9000-AC34017E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AB41-939C-4055-AD15-FBF82897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BA72-0B56-4F51-AF4D-C656D94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82B3-AF36-40C6-B85B-026BA1E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66DC-D9E8-457E-B865-0C0952E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511-90A6-4B4A-9C90-D82D6C5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BB9-0D33-494A-A79A-33AC429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2CB3-2B9E-4ED5-8F6F-8F993A5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004-906D-4EFF-9A9D-4DBB9DEA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02FC-25B7-4172-909F-3A6450C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71BF-A24C-413F-B03D-B64FE05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80BC-E28C-4EB0-B406-7A14059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A4E-DFB5-4809-94D9-D4217DF1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33BE-D373-48D0-A24B-E47D0359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54C-ADB3-45F9-BDFA-012891A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209-62B3-4308-AECA-C806ECA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942-BFBF-4C2E-94A2-2D93EA32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A95-B6D6-43B0-A8A2-7A9D8F9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E7D-B40F-45B2-BF83-0CCC5F0A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772-EFE7-4101-8BDD-178A8916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C4D-6F8E-4CD9-A3C3-22DB052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62A-31B1-4E23-8898-0760BDBF69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956E-4CAA-4CCE-AD3E-54B1745841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34120" y="5867280"/>
            <a:ext cx="3365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вторы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пылова О и Мороз 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280" y="380880"/>
            <a:ext cx="8610840" cy="2057400"/>
          </a:xfrm>
          <a:custGeom>
            <a:avLst/>
            <a:gdLst>
              <a:gd name="textAreaLeft" fmla="*/ 2152800 w 8610840"/>
              <a:gd name="textAreaRight" fmla="*/ 6458400 w 8610840"/>
              <a:gd name="textAreaTop" fmla="*/ 0 h 2057400"/>
              <a:gd name="textAreaBottom" fmla="*/ 1800360 h 2057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ЛЮБИМЫЙ УЧИТЕЛЬ.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МОУ Красноармейской СОШ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Орловского района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Рост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-5654520"/>
            <a:ext cx="4572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ой лучшей учительницей мы по праву считаем нашу классную (в прямом и переносном смысле этого слова) руководительницу и по совместительству преподавателя русского языка и литературы Ирину Васильевну Сычёв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77120" y="3276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67120" y="-10684080"/>
            <a:ext cx="88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уроках Ирина Васильевна организовывает рабочую обстановку легко и непринуждённо. Материал всегда излагается грамотно, доступно, интересно. Усвоение новой темы происходит очень быстро, потому что Ирина Васильевна находит особые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роведении школьных мероприятий Ирина Васильевна всегда нам помогает. Она очень быстро и грамотно организовывает нас, никого не обходя вним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4479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0" y="-10836000"/>
            <a:ext cx="74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ьше всего мы ценим Ирину Васильевну за заботу, тактичность и хорошее чувство юмора. Даже если весь класс забудет про день рождения кого-либо из одноклассников, Ирина Васильевна найдёт тёплые слова и подарит имениннику памятный подарок. Когда случается неприятность, мы идём к Ирине Васильевне, которая всегда нам поможет. Она каждый раз находит нужные слова для прекращения                                                 конфликтов, разногласий, спор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0" y="-10407240"/>
            <a:ext cx="2160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гда мы пришли в 5 класс, нас встретила самая добрая и понимающая учительница на свете. Такой Ирина Васильевна остаётся и сейчас. Она создала особую атмосферу, благодаря которой мы сплотились. Вообще, наш класс стал одной большой дружной семьёй благодаря стараниям нашей классной мамы – Сычёвой Ирины Васильевны, самой лучшей классной мамы на све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9-24T06:18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