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32E3-28EB-4342-8D5E-763E54F2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A7EA-2565-4B9D-A919-7F660F21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C044-2D18-439B-AAA9-251F709F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FFF-EA59-4EB9-884B-BF368F47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74FA-472B-4597-B065-C2A98F37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EAFE-61BE-4282-916F-2ACDD9E0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CB90-38E6-4739-8AD3-F3208E98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F318-E178-4E9D-A679-CAAE9F85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5E9B-664E-4578-9E62-E947CE17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5D6F-A21D-4AFF-B3F8-ED6D8E64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099A-8328-4DBA-8188-C645A6EA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1D5F-8C8E-4CDB-AC2B-B0DB807F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70D5-743D-4A36-BD70-8FEAB238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703D-D487-4CA3-BCF4-AEC54747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1152-DC7F-4CA8-B2F3-70341CFC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686C-AC6C-4CD2-BCFE-E87848EC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63B6-3DD7-4FDB-83FB-2A5BF281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70D-1D5E-4528-9AC7-3AD492F8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45D-1ABA-4970-A467-EA48DB4B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D44E-5A2C-4715-9D2E-6648168F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D10-1EF2-4988-AEE1-BB3B9BAC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9E7B-565C-4103-AAD3-5A4A9F26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F178-6B4A-4943-A43A-7A2DF005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A48-A4FE-43C3-BCFC-E90A2FAF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7463-90D2-4CF3-8393-436E2AB3910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7DA1-2F37-4881-9E13-15E58331B67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334120" y="5867280"/>
            <a:ext cx="3365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вторы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опылова О и Мороз 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2280" y="380880"/>
            <a:ext cx="8610840" cy="2057400"/>
          </a:xfrm>
          <a:custGeom>
            <a:avLst/>
            <a:gdLst>
              <a:gd name="textAreaLeft" fmla="*/ 2152800 w 8610840"/>
              <a:gd name="textAreaRight" fmla="*/ 6458400 w 8610840"/>
              <a:gd name="textAreaTop" fmla="*/ 0 h 2057400"/>
              <a:gd name="textAreaBottom" fmla="*/ 1800360 h 2057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1e06ac"/>
                </a:solidFill>
                <a:uFillTx/>
                <a:latin typeface="Comic Sans MS"/>
              </a:rPr>
              <a:t>ЛЮБИМЫЙ УЧИТЕЛЬ.</a:t>
            </a:r>
            <a:br>
              <a:rPr sz="1600"/>
            </a:br>
            <a:r>
              <a:rPr b="1" lang="en-US" sz="1600" spc="-1" strike="noStrike" u="sng">
                <a:solidFill>
                  <a:srgbClr val="1e06ac"/>
                </a:solidFill>
                <a:uFillTx/>
                <a:latin typeface="Comic Sans MS"/>
              </a:rPr>
              <a:t>МОУ Красноармейской СОШ</a:t>
            </a:r>
            <a:br>
              <a:rPr sz="1600"/>
            </a:br>
            <a:r>
              <a:rPr b="1" lang="en-US" sz="1600" spc="-1" strike="noStrike" u="sng">
                <a:solidFill>
                  <a:srgbClr val="1e06ac"/>
                </a:solidFill>
                <a:uFillTx/>
                <a:latin typeface="Comic Sans MS"/>
              </a:rPr>
              <a:t>Орловского района</a:t>
            </a:r>
            <a:br>
              <a:rPr sz="1600"/>
            </a:br>
            <a:r>
              <a:rPr b="1" lang="en-US" sz="1600" spc="-1" strike="noStrike" u="sng">
                <a:solidFill>
                  <a:srgbClr val="1e06ac"/>
                </a:solidFill>
                <a:uFillTx/>
                <a:latin typeface="Comic Sans MS"/>
              </a:rPr>
              <a:t>Рост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-5654520"/>
            <a:ext cx="4572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30492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амой лучшей учительницей мы по праву считаем нашу классную (в прямом и переносном смысле этого слова) руководительницу и по совместительству преподавателя русского языка и литературы Ирину Васильевну Сычёв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477120" y="32767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419720" y="4419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67120" y="-10684080"/>
            <a:ext cx="88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уроках Ирина Васильевна организовывает рабочую обстановку легко и непринуждённо. Материал всегда излагается грамотно, доступно, интересно. Усвоение новой темы происходит очень быстро, потому что Ирина Васильевна находит особые сло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029200" y="1522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934320" y="1219320"/>
            <a:ext cx="198108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проведении школьных мероприятий Ирина Васильевна всегда нам помогает. Она очень быстро и грамотно организовывает нас, никого не обходя внимани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09680" y="4572000"/>
            <a:ext cx="14479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0" y="-10836000"/>
            <a:ext cx="748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77724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ольше всего мы ценим Ирину Васильевну за заботу, тактичность и хорошее чувство юмора. Даже если весь класс забудет про день рождения кого-либо из одноклассников, Ирина Васильевна найдёт тёплые слова и подарит имениннику памятный подарок. Когда случается неприятность, мы идём к Ирине Васильевне, которая всегда нам поможет. Она каждый раз находит нужные слова для прекращения                                                 конфликтов, разногласий, споров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705720" y="46483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6400" y="-10407240"/>
            <a:ext cx="2160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гда мы пришли в 5 класс, нас встретила самая добрая и понимающая учительница на свете. Такой Ирина Васильевна остаётся и сейчас. Она создала особую атмосферу, благодаря которой мы сплотились. Вообще, наш класс стал одной большой дружной семьёй благодаря стараниям нашей классной мамы – Сычёвой Ирины Васильевны, самой лучшей классной мамы на свет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828800" y="5029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9-24T06:18:4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