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D9CDC-96D2-4409-AF04-6017C20E57B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7EC97-F751-4AC3-BE59-DFFC1CC4AE5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7E5A-6323-4014-9CF4-1BB1379AD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27160" y="523476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D38B-446E-41A1-A62B-EFA9B78C1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C436FE-8B91-4885-BCF7-FFE06B06D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90719C-64DB-4B39-BF0F-FED6CD28E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227160" y="304560"/>
            <a:ext cx="6400800" cy="46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391F2B-CD29-46FE-99B6-0DEA2FCF3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11B8B1-C70A-4294-83B5-873010C72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350712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B08DC6-78CD-422E-854A-3448F39F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E8F152-4ED4-4EBE-8AA2-73D6EEF1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227160" y="523476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B7EEF1-367A-4E0B-AE7F-E608883E6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350712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A9AE8A-C975-43E8-8E58-3F3112E67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239112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5544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22716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239112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455544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3BB4EC-566C-44D8-93AF-2422219E0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A528A6-8834-4999-841F-E9D768FF0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50712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4CE3-ECFA-4C16-BF12-50288DFB7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F0E8D2-0901-47CD-9199-B873A185D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E3CF5D-E5F5-42C5-9100-9DD448CE3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F1E090-9BA5-4DE4-8DFA-09B037470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24B5ED-EF4D-4ADF-8013-F59177EDD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227160" y="304560"/>
            <a:ext cx="6400800" cy="46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7EA5BD-7324-4412-B55B-044199C19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4CB76E-8DD4-404C-98F3-D2C95759F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50712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C9BB7B-C689-4D9C-8402-A51CA949A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D40F76-6339-4A74-9A17-FD0A9F3C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227160" y="523476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BCA034-CFAC-44A7-B4BF-1CE3DEE68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350712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9723C4-3204-49C6-AA41-B03BF9E1B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239112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5544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2716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239112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455544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B2AF-AE42-49FA-BCF4-1E2EFAD68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239112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5544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22716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239112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455544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D4FA01-E007-41A7-AD00-EE0A67776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02DA2C-3139-4C05-8F73-F4A3EF228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1D93C4-B676-4CBF-B31E-1618AED1A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9EC41E-0D8B-47FB-B447-A9CC61314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FD845F-992C-4228-B4C5-D52187EFC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470C2F-AE9C-4627-B3FE-E35A76A09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227160" y="304560"/>
            <a:ext cx="6400800" cy="46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9358DC-085F-4E1A-BDCA-62E30A214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D7820A-DF5A-462E-A87A-18ADF4C6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350712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4B4369-6211-4797-95D1-AC256C6B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002BF1-0719-4670-B703-7E32DACB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D9F6B-D7A4-426E-83F0-24361B92F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227160" y="523476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F19306-A5F8-425D-A73E-FAD05453A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350712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EFC468-E25F-425E-B508-D2063A894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239112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5544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22716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239112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455544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7E0747-21E8-44A2-A268-65F249F59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B49319-7072-4653-8906-56FEB3DB2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9C5884-2402-4572-8635-5B5B6F81A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78D1C6-4911-4DE2-ABEB-FF4E801B9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BDFBA0-4C56-4203-B176-C2244ABD9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54D2AC-6B12-4FF7-A126-25CE501AE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227160" y="304560"/>
            <a:ext cx="6400800" cy="46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CC36E5-EFBE-4D55-98CE-D1FA9713C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B2A5FE-4EDE-49E1-A530-88A35F9CC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53A3E-82E3-44F3-8E51-2E6E45D64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350712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105196-8084-4C69-8041-CB6C52C94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A9AB30-18F0-43AE-8F84-E5C3C4D00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227160" y="523476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E6400F-3CF8-475A-A65D-C34B78AD5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350712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B39E5E-C556-4C5B-8F25-9E63E3F67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239112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5544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22716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239112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455544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E345DA-50FE-4A79-A496-13E041B1F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F034B-A613-40F3-B0B2-8C950E016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BFE66-84E2-411C-BCBE-532171320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C1BF6-0AC4-43FD-B6C0-43EBF85BE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227160" y="304560"/>
            <a:ext cx="6400800" cy="46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5CFDF-1434-4335-B1EF-447E61300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01ED4-8F68-43E4-93DF-7AD82F006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421F-96FB-4DA9-B402-76C63C946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712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C5BF2-64EF-4F32-A5A0-3B5DCE584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9B331-DDDD-4D73-BF74-2114F43BA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227160" y="523476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D7223-1FFC-4177-8CE0-2E0952851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712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E3F0D-AF20-40D3-A1BF-B4D4133DF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39112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5544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22716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39112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5544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53A2B-20FC-4DF0-B51B-DED532AC1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40C36-8DEA-4019-98FA-5059FE12C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96609-C599-4501-AC65-34E73C0BB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855AD-B89C-4775-BA9E-3375E8E30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77571-5D2D-4729-8218-40E99F23A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1D847-813D-4ACD-A9CF-58BABAAA9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8C9B-4B61-44E1-9BC3-2695659FB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227160" y="304560"/>
            <a:ext cx="6400800" cy="46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84676-CB07-414B-AA73-30C86D8AA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D54BB-A7C1-45BB-B721-0700751D7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350712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B1585-41E2-4B4A-8AEC-7BDBC66F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EF1FA-A33E-4179-B01C-69BEC603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227160" y="523476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5E120-793B-4C1B-926A-A6F2BBC50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350712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09B2D-45FB-4C8C-9DD9-18426A2E9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239112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5544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22716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239112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455544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6CE77-EE70-4ADF-A4A6-160DC7723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97530-43CC-48E1-8B5C-AE0A56259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840D0-2520-43B8-95B3-6E835FCA6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783F0-4E9D-4704-A62B-B7A0417CC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287E-C6C9-4952-B17B-0B8B4CA6A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AF889-4892-4CB8-B5EA-16D350ED9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59306-1D45-4C30-8EEA-36C641F2C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227160" y="304560"/>
            <a:ext cx="6400800" cy="46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D5B44-418F-42C4-BBB0-C7AF83F78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360BB-378B-42DD-891B-98D1E4FF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50712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2C500-3991-45C3-8FA0-EB444B9C9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ED752-23D0-451C-A739-9CC022890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227160" y="523476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8DED7-52EF-45AA-BB0E-0237420D8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350712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2DAD8-91BB-4B51-A364-969BEA4D8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239112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5544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22716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239112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455544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88D31-42DF-4CDF-ADF7-2CF52FCD7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9174F1-B4C1-43F9-8101-162C1BFAB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D695-F8E8-46AA-8E95-65086A926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BDC09-B448-4C0B-99A7-44DF40520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637A1E-B653-4953-8CFC-8BAFD3585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9BC0EE-292B-4FA1-8E4A-B0C3D3C03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F4DE58-B16C-4B49-BBEF-25EAD55A6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227160" y="304560"/>
            <a:ext cx="6400800" cy="46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817CA-28B4-4E0E-A84C-EDA5DF440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471167-1A94-461B-83A0-1261CB8EF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350712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76E11-3FBF-4C4D-B0ED-2211C685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EC802-D26A-4AEC-A10B-88713B207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227160" y="523476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F9DA7B-1981-4D51-B7EE-CF984D130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350712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6D9E4-5703-4F2B-9A92-8D57CF93F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27160" y="304560"/>
            <a:ext cx="6400800" cy="46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60D7-47A1-4695-AF78-4662CD598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239112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5544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22716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239112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455544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850650-28F1-4E38-BC2F-5E2437EA3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DB103-60BF-4D07-88ED-0F4B267DA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2B3541-D61E-4FF7-8579-2DB1DDE05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BA501F-5BF9-4AC0-8EA9-251C69F95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7C0D2B-4240-4CDB-82FA-AF6E73CC9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D7AC0-E6D2-497A-A59F-FAD510CA1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227160" y="304560"/>
            <a:ext cx="6400800" cy="46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06C004-DC9D-4F3C-8B95-B5744A6DA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9200DA-B3B3-484F-962C-599EFB51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350712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881557-D714-4BB7-A88A-D5F5470B6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124541-A55D-4766-87AA-3A18F90C6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C072-E62E-4D47-A1E9-9B9378955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227160" y="523476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D5836-0552-4B1A-BEC6-C4943C0A0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350712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8C600B-B1D6-400A-B914-F39266227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239112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5544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22716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239112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455544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6D7143-ED50-4E44-8F3A-930BD402D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C83EE7-8A68-4E7E-8AAF-F7D92FDDB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48819B-0DDD-4528-950C-02C0B9056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279CF3-F0F7-4BF8-98B3-9E774EBD1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50FABC-4A70-4AA0-9A7F-79D99FB95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C43667-C985-4B78-BDB3-303007415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227160" y="304560"/>
            <a:ext cx="6400800" cy="46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D01ADB-906D-46A6-84DF-E5F1937ED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F089A6-1319-4938-8417-072B8488F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50712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D363-C4B7-451D-86DE-7AF3389C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350712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598521-9381-4902-897D-2F481910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BEA325-AEEF-4E69-9C0B-E459C2947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227160" y="523476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DAD730-DBE2-40F7-9272-76B3CC3E6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350712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F9D943-1008-41BA-A0A2-545B57D9E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239112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5544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22716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239112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455544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D68EF3-8413-4E8E-9A60-89504389C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8229EB-AFF1-420F-A705-865D59DC6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87F3FF-714E-4467-81E9-759AD007A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A16F08-8A61-45E3-BCFB-ADE45A0B6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418844-F7CE-4863-A2BD-16806CAF1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206D90-3870-4CB0-83C6-62D5EEB79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2FE5-5764-4118-B7E6-D71B6C44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227160" y="304560"/>
            <a:ext cx="6400800" cy="46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E4DA38-BA72-4A5D-90EA-45D5C7789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FC90E2-2DCE-4B68-9666-D7D4FC47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350712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42D37D-9DA7-4685-81AC-51FC2AAD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A9F057-7C5D-4134-860F-3A40D4DC1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227160" y="5234760"/>
            <a:ext cx="640080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1629B4-60DB-41F1-A21A-6187547DB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507120" y="203148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22716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3507120" y="5234760"/>
            <a:ext cx="312336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BF1F52-94BB-4A87-87F3-1FCD88F2D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239112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55440" y="203148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22716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239112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4555440" y="5234760"/>
            <a:ext cx="2060640" cy="29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B9CC01-C26E-49E5-9693-1D778A17D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AEC783-2415-47D3-AF9D-554F9F2A5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866B30-2124-4246-88AC-E9372F9EB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0A8A08-2C37-4A9B-933B-DE0D31EDE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8940960"/>
            <a:ext cx="6858000" cy="20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6858000" cy="185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1448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6743880" y="0"/>
            <a:ext cx="11412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12680" y="8518680"/>
            <a:ext cx="6624720" cy="41256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4343400" y="8540640"/>
            <a:ext cx="22845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8FE7A-BFE4-45B1-8977-4EF7EA71982B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228240" y="8547120"/>
            <a:ext cx="26859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страница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14480" y="208080"/>
            <a:ext cx="6624360" cy="872784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14480" y="1701720"/>
            <a:ext cx="66243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3200400" y="1274760"/>
            <a:ext cx="457200" cy="812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3271680" y="1400040"/>
            <a:ext cx="314640" cy="56196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3257640" y="1387440"/>
            <a:ext cx="342720" cy="587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FF255-AF25-4055-8AAA-A5377A1858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14480" y="711360"/>
            <a:ext cx="66243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8940960"/>
            <a:ext cx="6858000" cy="20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Прямоугольник 23"/>
          <p:cNvSpPr/>
          <p:nvPr/>
        </p:nvSpPr>
        <p:spPr>
          <a:xfrm>
            <a:off x="6743880" y="0"/>
            <a:ext cx="11412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Прямоугольник 24"/>
          <p:cNvSpPr/>
          <p:nvPr/>
        </p:nvSpPr>
        <p:spPr>
          <a:xfrm>
            <a:off x="0" y="0"/>
            <a:ext cx="6858000" cy="20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Прямоугольник 25"/>
          <p:cNvSpPr/>
          <p:nvPr/>
        </p:nvSpPr>
        <p:spPr>
          <a:xfrm>
            <a:off x="0" y="0"/>
            <a:ext cx="11448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Прямоугольник 26"/>
          <p:cNvSpPr/>
          <p:nvPr/>
        </p:nvSpPr>
        <p:spPr>
          <a:xfrm>
            <a:off x="114480" y="203040"/>
            <a:ext cx="6624360" cy="40176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Прямоугольник 27"/>
          <p:cNvSpPr/>
          <p:nvPr/>
        </p:nvSpPr>
        <p:spPr>
          <a:xfrm>
            <a:off x="114480" y="812880"/>
            <a:ext cx="2057400" cy="782316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Прямоугольник 28"/>
          <p:cNvSpPr/>
          <p:nvPr/>
        </p:nvSpPr>
        <p:spPr>
          <a:xfrm>
            <a:off x="114480" y="208080"/>
            <a:ext cx="6624360" cy="872784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Овал 29"/>
          <p:cNvSpPr/>
          <p:nvPr/>
        </p:nvSpPr>
        <p:spPr>
          <a:xfrm>
            <a:off x="971640" y="304920"/>
            <a:ext cx="457200" cy="812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Овал 30"/>
          <p:cNvSpPr/>
          <p:nvPr/>
        </p:nvSpPr>
        <p:spPr>
          <a:xfrm>
            <a:off x="1042920" y="430200"/>
            <a:ext cx="314280" cy="56196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Прямоугольник 31"/>
          <p:cNvSpPr/>
          <p:nvPr/>
        </p:nvSpPr>
        <p:spPr>
          <a:xfrm>
            <a:off x="112680" y="8518680"/>
            <a:ext cx="6624720" cy="41256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028880" y="417240"/>
            <a:ext cx="342720" cy="587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42737-E406-4586-8D17-60E080C33A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4341600" y="8540640"/>
            <a:ext cx="22827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24CD2-1BE5-434C-A961-F87FF1CF92B4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226800" y="8547120"/>
            <a:ext cx="26874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страница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8940960"/>
            <a:ext cx="6858000" cy="20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6858000" cy="185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1448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6743880" y="0"/>
            <a:ext cx="11412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12680" y="8518680"/>
            <a:ext cx="6624720" cy="41256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14480" y="208080"/>
            <a:ext cx="6624360" cy="872784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14480" y="1701720"/>
            <a:ext cx="66243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3200400" y="1274760"/>
            <a:ext cx="457200" cy="812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3271680" y="1400040"/>
            <a:ext cx="314640" cy="56196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4343400" y="8540640"/>
            <a:ext cx="22845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89138-49CF-411C-85CE-91D81EFD980B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228240" y="8547120"/>
            <a:ext cx="26859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страница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3257640" y="1387440"/>
            <a:ext cx="342720" cy="587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ED25E-5D49-499E-BAD2-8E54570153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8940960"/>
            <a:ext cx="6858000" cy="20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5257800" y="0"/>
            <a:ext cx="16002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Прямоугольник 23"/>
          <p:cNvSpPr/>
          <p:nvPr/>
        </p:nvSpPr>
        <p:spPr>
          <a:xfrm>
            <a:off x="0" y="0"/>
            <a:ext cx="6858000" cy="20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Прямоугольник 24"/>
          <p:cNvSpPr/>
          <p:nvPr/>
        </p:nvSpPr>
        <p:spPr>
          <a:xfrm>
            <a:off x="0" y="0"/>
            <a:ext cx="11448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Прямоугольник 25"/>
          <p:cNvSpPr/>
          <p:nvPr/>
        </p:nvSpPr>
        <p:spPr>
          <a:xfrm>
            <a:off x="109440" y="8521560"/>
            <a:ext cx="6624720" cy="412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Прямоугольник 26"/>
          <p:cNvSpPr/>
          <p:nvPr/>
        </p:nvSpPr>
        <p:spPr>
          <a:xfrm>
            <a:off x="114480" y="208080"/>
            <a:ext cx="6624360" cy="872784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Прямая соединительная линия 27"/>
          <p:cNvSpPr/>
          <p:nvPr/>
        </p:nvSpPr>
        <p:spPr>
          <a:xfrm>
            <a:off x="5357880" y="208080"/>
            <a:ext cx="0" cy="832644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Овал 28"/>
          <p:cNvSpPr/>
          <p:nvPr/>
        </p:nvSpPr>
        <p:spPr>
          <a:xfrm>
            <a:off x="5129280" y="3900600"/>
            <a:ext cx="457200" cy="812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Овал 29"/>
          <p:cNvSpPr/>
          <p:nvPr/>
        </p:nvSpPr>
        <p:spPr>
          <a:xfrm>
            <a:off x="5200560" y="4027320"/>
            <a:ext cx="316080" cy="56052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5186520" y="4013280"/>
            <a:ext cx="342720" cy="588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A1037-AE16-40C5-A742-DCEA6DC57C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4343400" y="8540640"/>
            <a:ext cx="22845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A5DE6-1214-4D54-B0CC-4D62D7EC5909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228240" y="8547120"/>
            <a:ext cx="26859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страница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8940960"/>
            <a:ext cx="6858000" cy="20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6743880" y="4680"/>
            <a:ext cx="11412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Прямоугольник 23"/>
          <p:cNvSpPr/>
          <p:nvPr/>
        </p:nvSpPr>
        <p:spPr>
          <a:xfrm>
            <a:off x="0" y="0"/>
            <a:ext cx="11448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Прямоугольник 24"/>
          <p:cNvSpPr/>
          <p:nvPr/>
        </p:nvSpPr>
        <p:spPr>
          <a:xfrm>
            <a:off x="0" y="0"/>
            <a:ext cx="6858000" cy="335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Прямоугольник 25"/>
          <p:cNvSpPr/>
          <p:nvPr/>
        </p:nvSpPr>
        <p:spPr>
          <a:xfrm>
            <a:off x="109440" y="8521560"/>
            <a:ext cx="6624720" cy="412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ямая соединительная линия 26"/>
          <p:cNvSpPr/>
          <p:nvPr/>
        </p:nvSpPr>
        <p:spPr>
          <a:xfrm>
            <a:off x="115920" y="3227400"/>
            <a:ext cx="66261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ямоугольник 27"/>
          <p:cNvSpPr/>
          <p:nvPr/>
        </p:nvSpPr>
        <p:spPr>
          <a:xfrm>
            <a:off x="114480" y="203040"/>
            <a:ext cx="6624360" cy="873000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Овал 28"/>
          <p:cNvSpPr/>
          <p:nvPr/>
        </p:nvSpPr>
        <p:spPr>
          <a:xfrm>
            <a:off x="3200400" y="2820960"/>
            <a:ext cx="457200" cy="812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Овал 29"/>
          <p:cNvSpPr/>
          <p:nvPr/>
        </p:nvSpPr>
        <p:spPr>
          <a:xfrm>
            <a:off x="3271680" y="2946240"/>
            <a:ext cx="314640" cy="56052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343400" y="8540640"/>
            <a:ext cx="22845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4DBD4-3F78-4B0F-A7CF-2A81D2F098F9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28240" y="8547120"/>
            <a:ext cx="26859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страница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3257640" y="2932200"/>
            <a:ext cx="342720" cy="588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5E725-ED88-491A-8430-BB34E47C32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8940960"/>
            <a:ext cx="6858000" cy="20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6858000" cy="185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1448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6743880" y="0"/>
            <a:ext cx="11412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12680" y="8518680"/>
            <a:ext cx="6624720" cy="41256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14480" y="208080"/>
            <a:ext cx="6624360" cy="872784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14480" y="1701720"/>
            <a:ext cx="66243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3200400" y="1274760"/>
            <a:ext cx="457200" cy="812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3271680" y="1400040"/>
            <a:ext cx="314640" cy="56196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343400" y="8540640"/>
            <a:ext cx="22845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28513-78AE-4010-967E-9D6AA73A598E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28240" y="8547120"/>
            <a:ext cx="26859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страница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3271320" y="1368360"/>
            <a:ext cx="343080" cy="588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6D013-3DD7-4446-A596-D4B1A26E4B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1448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8940960"/>
            <a:ext cx="6858000" cy="20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Прямоугольник 23"/>
          <p:cNvSpPr/>
          <p:nvPr/>
        </p:nvSpPr>
        <p:spPr>
          <a:xfrm>
            <a:off x="0" y="0"/>
            <a:ext cx="6858000" cy="20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Прямоугольник 24"/>
          <p:cNvSpPr/>
          <p:nvPr/>
        </p:nvSpPr>
        <p:spPr>
          <a:xfrm>
            <a:off x="6743880" y="25560"/>
            <a:ext cx="11412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Прямоугольник 25"/>
          <p:cNvSpPr/>
          <p:nvPr/>
        </p:nvSpPr>
        <p:spPr>
          <a:xfrm>
            <a:off x="114480" y="3048120"/>
            <a:ext cx="662436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Прямоугольник 26"/>
          <p:cNvSpPr/>
          <p:nvPr/>
        </p:nvSpPr>
        <p:spPr>
          <a:xfrm>
            <a:off x="115920" y="190440"/>
            <a:ext cx="6626160" cy="2852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Прямоугольник 27"/>
          <p:cNvSpPr/>
          <p:nvPr/>
        </p:nvSpPr>
        <p:spPr>
          <a:xfrm>
            <a:off x="109440" y="8521560"/>
            <a:ext cx="6624720" cy="412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Прямоугольник 28"/>
          <p:cNvSpPr/>
          <p:nvPr/>
        </p:nvSpPr>
        <p:spPr>
          <a:xfrm>
            <a:off x="114480" y="203040"/>
            <a:ext cx="6624360" cy="873000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Прямая соединительная линия 29"/>
          <p:cNvSpPr/>
          <p:nvPr/>
        </p:nvSpPr>
        <p:spPr>
          <a:xfrm>
            <a:off x="114480" y="3251160"/>
            <a:ext cx="66243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Овал 30"/>
          <p:cNvSpPr/>
          <p:nvPr/>
        </p:nvSpPr>
        <p:spPr>
          <a:xfrm>
            <a:off x="3200400" y="2820960"/>
            <a:ext cx="457200" cy="812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Овал 31"/>
          <p:cNvSpPr/>
          <p:nvPr/>
        </p:nvSpPr>
        <p:spPr>
          <a:xfrm>
            <a:off x="3271680" y="2946240"/>
            <a:ext cx="314640" cy="56052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228240" y="8547120"/>
            <a:ext cx="26859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страница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4343400" y="8540640"/>
            <a:ext cx="22845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5A7CF-6CD7-4A19-BF4B-3EF58529B095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3257640" y="2932200"/>
            <a:ext cx="342720" cy="588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EFBE5-AECF-4A1D-84C0-39E484CD6D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8940960"/>
            <a:ext cx="6858000" cy="20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6858000" cy="185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1448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6743880" y="0"/>
            <a:ext cx="11412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12680" y="8518680"/>
            <a:ext cx="6624720" cy="41256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14480" y="208080"/>
            <a:ext cx="6624360" cy="872784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14480" y="1701720"/>
            <a:ext cx="66243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3200400" y="1274760"/>
            <a:ext cx="457200" cy="812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3271680" y="1400040"/>
            <a:ext cx="314640" cy="56196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3422520" y="2099880"/>
            <a:ext cx="6480" cy="642636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4343400" y="8547120"/>
            <a:ext cx="22845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4AA91-7501-4E3E-9E29-25FC9827531D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228240" y="8547120"/>
            <a:ext cx="26859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страница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3257640" y="1387440"/>
            <a:ext cx="342720" cy="587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0CFCA-FBC7-4B3F-9B0D-77E4C40F5A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3429000" y="2933280"/>
            <a:ext cx="0" cy="558324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6858000" cy="19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Прямоугольник 23"/>
          <p:cNvSpPr/>
          <p:nvPr/>
        </p:nvSpPr>
        <p:spPr>
          <a:xfrm>
            <a:off x="0" y="8940960"/>
            <a:ext cx="6858000" cy="20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Прямоугольник 24"/>
          <p:cNvSpPr/>
          <p:nvPr/>
        </p:nvSpPr>
        <p:spPr>
          <a:xfrm>
            <a:off x="0" y="0"/>
            <a:ext cx="11448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Прямоугольник 25"/>
          <p:cNvSpPr/>
          <p:nvPr/>
        </p:nvSpPr>
        <p:spPr>
          <a:xfrm>
            <a:off x="6743880" y="0"/>
            <a:ext cx="11412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Прямоугольник 26"/>
          <p:cNvSpPr/>
          <p:nvPr/>
        </p:nvSpPr>
        <p:spPr>
          <a:xfrm>
            <a:off x="114480" y="1828800"/>
            <a:ext cx="6624360" cy="121932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Прямоугольник 27"/>
          <p:cNvSpPr/>
          <p:nvPr/>
        </p:nvSpPr>
        <p:spPr>
          <a:xfrm>
            <a:off x="109440" y="8521560"/>
            <a:ext cx="6624720" cy="41436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Прямая соединительная линия 28"/>
          <p:cNvSpPr/>
          <p:nvPr/>
        </p:nvSpPr>
        <p:spPr>
          <a:xfrm>
            <a:off x="114480" y="1706400"/>
            <a:ext cx="66243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Прямоугольник 29"/>
          <p:cNvSpPr/>
          <p:nvPr/>
        </p:nvSpPr>
        <p:spPr>
          <a:xfrm>
            <a:off x="114480" y="208080"/>
            <a:ext cx="6624360" cy="872784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Овал 30"/>
          <p:cNvSpPr/>
          <p:nvPr/>
        </p:nvSpPr>
        <p:spPr>
          <a:xfrm>
            <a:off x="3200400" y="1274760"/>
            <a:ext cx="457200" cy="812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Овал 31"/>
          <p:cNvSpPr/>
          <p:nvPr/>
        </p:nvSpPr>
        <p:spPr>
          <a:xfrm>
            <a:off x="3271680" y="1400040"/>
            <a:ext cx="314640" cy="56196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4343400" y="8540640"/>
            <a:ext cx="22845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71E0F-F9BC-400C-94F4-42B995052BCD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228240" y="8547120"/>
            <a:ext cx="26859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страница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3257640" y="1390680"/>
            <a:ext cx="342720" cy="587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4513F-290F-4AD5-9031-A3775DD463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8940960"/>
            <a:ext cx="6858000" cy="20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6858000" cy="185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1448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6743880" y="0"/>
            <a:ext cx="11412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12680" y="8518680"/>
            <a:ext cx="6624720" cy="41256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14480" y="208080"/>
            <a:ext cx="6624360" cy="872784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14480" y="1701720"/>
            <a:ext cx="66243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3200400" y="1274760"/>
            <a:ext cx="457200" cy="812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3271680" y="1400040"/>
            <a:ext cx="314640" cy="56196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4343400" y="8540640"/>
            <a:ext cx="22845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164ED-94A7-44BB-9E7A-2ABD13F227C8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228240" y="8547120"/>
            <a:ext cx="26859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страница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3257640" y="1380960"/>
            <a:ext cx="342720" cy="588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9E2C1-3E4C-4B12-BC58-1E84534627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8940960"/>
            <a:ext cx="6858000" cy="20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6858000" cy="20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Прямоугольник 23"/>
          <p:cNvSpPr/>
          <p:nvPr/>
        </p:nvSpPr>
        <p:spPr>
          <a:xfrm>
            <a:off x="6743880" y="0"/>
            <a:ext cx="11412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Прямоугольник 24"/>
          <p:cNvSpPr/>
          <p:nvPr/>
        </p:nvSpPr>
        <p:spPr>
          <a:xfrm>
            <a:off x="0" y="0"/>
            <a:ext cx="11448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Прямоугольник 25"/>
          <p:cNvSpPr/>
          <p:nvPr/>
        </p:nvSpPr>
        <p:spPr>
          <a:xfrm>
            <a:off x="109440" y="8521560"/>
            <a:ext cx="6624720" cy="412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Прямоугольник 26"/>
          <p:cNvSpPr/>
          <p:nvPr/>
        </p:nvSpPr>
        <p:spPr>
          <a:xfrm>
            <a:off x="114480" y="210960"/>
            <a:ext cx="6624360" cy="873000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4343400" y="8540640"/>
            <a:ext cx="22845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1B850-9A82-4A64-9BA8-EB6D35E821C0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228240" y="8547120"/>
            <a:ext cx="26859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страница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3200400" y="8432640"/>
            <a:ext cx="457200" cy="588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0DA24-3D00-41FB-8210-03CCDF8C4FF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14480" y="203040"/>
            <a:ext cx="6624360" cy="4064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8940960"/>
            <a:ext cx="6858000" cy="20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Прямоугольник 23"/>
          <p:cNvSpPr/>
          <p:nvPr/>
        </p:nvSpPr>
        <p:spPr>
          <a:xfrm>
            <a:off x="6743880" y="0"/>
            <a:ext cx="11412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Прямоугольник 24"/>
          <p:cNvSpPr/>
          <p:nvPr/>
        </p:nvSpPr>
        <p:spPr>
          <a:xfrm>
            <a:off x="0" y="0"/>
            <a:ext cx="6858000" cy="15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Прямоугольник 25"/>
          <p:cNvSpPr/>
          <p:nvPr/>
        </p:nvSpPr>
        <p:spPr>
          <a:xfrm>
            <a:off x="0" y="0"/>
            <a:ext cx="11448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Прямоугольник 26"/>
          <p:cNvSpPr/>
          <p:nvPr/>
        </p:nvSpPr>
        <p:spPr>
          <a:xfrm>
            <a:off x="114480" y="812880"/>
            <a:ext cx="2057400" cy="782316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Прямоугольник 27"/>
          <p:cNvSpPr/>
          <p:nvPr/>
        </p:nvSpPr>
        <p:spPr>
          <a:xfrm>
            <a:off x="114480" y="203040"/>
            <a:ext cx="6624360" cy="873000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Прямая соединительная линия 28"/>
          <p:cNvSpPr/>
          <p:nvPr/>
        </p:nvSpPr>
        <p:spPr>
          <a:xfrm>
            <a:off x="114480" y="711360"/>
            <a:ext cx="66243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Овал 29"/>
          <p:cNvSpPr/>
          <p:nvPr/>
        </p:nvSpPr>
        <p:spPr>
          <a:xfrm>
            <a:off x="971640" y="304920"/>
            <a:ext cx="457200" cy="812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Овал 30"/>
          <p:cNvSpPr/>
          <p:nvPr/>
        </p:nvSpPr>
        <p:spPr>
          <a:xfrm>
            <a:off x="1042920" y="430200"/>
            <a:ext cx="314280" cy="56196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Прямоугольник 31"/>
          <p:cNvSpPr/>
          <p:nvPr/>
        </p:nvSpPr>
        <p:spPr>
          <a:xfrm>
            <a:off x="112680" y="8518680"/>
            <a:ext cx="6624720" cy="41256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227160" y="2031480"/>
            <a:ext cx="640080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028880" y="417240"/>
            <a:ext cx="342720" cy="587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673BA-BA72-4D8F-A298-60DC55EA96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4343400" y="8540640"/>
            <a:ext cx="22845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CBF9C-6C85-4374-88BC-91AB338E7ECD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227160" y="8547120"/>
            <a:ext cx="25365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страница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42560" y="214200"/>
            <a:ext cx="65149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b9899"/>
                </a:solidFill>
                <a:latin typeface="Georgia"/>
              </a:rPr>
              <a:t>Исследовательская работа </a:t>
            </a:r>
            <a:br>
              <a:rPr sz="2800"/>
            </a:br>
            <a:r>
              <a:rPr b="0" lang="en-US" sz="2800" spc="-1" strike="noStrike">
                <a:solidFill>
                  <a:srgbClr val="7b9899"/>
                </a:solidFill>
                <a:latin typeface="Georgia"/>
              </a:rPr>
              <a:t>по экологии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226800" y="2036880"/>
            <a:ext cx="6376680" cy="63928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Georgia"/>
              </a:rPr>
              <a:t>«Болота и их роль в экологической системе планеты»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ыполнил: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к 4 «А» класса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У СОШ № 4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ОВ Кирилл  Сергеевич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9 603, ЯНАО, Тюменская область,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од  Муравленко,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.  Нефтяников,  дом 79,  кв. 49,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. тел.  8 (349 38) 43-8-04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уководитель: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ЬКИНА Светлана Алексеевна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9 602, ЯНАО,  Тюменская область,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од Муравленко,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. Ленина , дом 77, кв. 42,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.т.  8 (349 38) 22-5-79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дрес учреждения: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9 602, ЯНАО,  Тюменская область,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од Муравленко, ул. Муравленко,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 20, МОУ СОШ № 4,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.  8 (349 38) 26-4-05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5" name="Нижний колонтитул 3"/>
          <p:cNvSpPr/>
          <p:nvPr/>
        </p:nvSpPr>
        <p:spPr>
          <a:xfrm>
            <a:off x="228600" y="8547120"/>
            <a:ext cx="26859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Страница 1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6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 u="sng">
                <a:solidFill>
                  <a:srgbClr val="002060"/>
                </a:solidFill>
                <a:uFillTx/>
                <a:latin typeface="Georgia"/>
              </a:rPr>
              <a:t>СОДЕРЖАНИЕ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226800" y="2036520"/>
            <a:ext cx="63766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Тема. Актуальность темы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Цель и задачи работы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Гипотеза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Основная часть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1. план статьи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2. статья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Используемая литература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Нижний колонтитул 3"/>
          <p:cNvSpPr/>
          <p:nvPr/>
        </p:nvSpPr>
        <p:spPr>
          <a:xfrm>
            <a:off x="228600" y="8547120"/>
            <a:ext cx="26859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страница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227160" y="28548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b9899"/>
                </a:solidFill>
                <a:latin typeface="Georgia"/>
              </a:rPr>
              <a:t>Исследовательская работа на тему;</a:t>
            </a:r>
            <a:br>
              <a:rPr sz="2500"/>
            </a:br>
            <a:r>
              <a:rPr b="0" lang="en-US" sz="2500" spc="-1" strike="noStrike">
                <a:solidFill>
                  <a:srgbClr val="7b9899"/>
                </a:solidFill>
                <a:latin typeface="Georgia"/>
              </a:rPr>
              <a:t>«Болота и их роль в экологической системе планеты</a:t>
            </a:r>
            <a:endParaRPr b="0" lang="en-US" sz="25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226800" y="2036520"/>
            <a:ext cx="6376680" cy="63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1.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Georgia"/>
              </a:rPr>
              <a:t>Актуальность темы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: большие массивы болотных земель  обладают большим запасом углеводов,  являются  заповедными территориями , оказывают  огромное влияние на формирование климата планеты, поэтому  необходимо изучить  какие экологические функции выполняют болота и как сохранить большие массивы болотных земель в качестве резервов — заповедных территорий.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2.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Georgia"/>
              </a:rPr>
              <a:t>Цель: 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Доказать  важную роль болот  в эко. системе планеты. Предложить способы  их бережного обращения и использования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Georgia"/>
              </a:rPr>
              <a:t>Задачи: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- изучение литературы по данной теме;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- развитие умения извлекать информацию из различных источников;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- развитие умения наблюдать , анализировать поведение людей в природе, систематизировать собственные наблюдения;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- выявление причин нарушения экологии болот;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- определение способов защиты  болот  от загрязнения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80000"/>
              </a:lnSpc>
              <a:spcBef>
                <a:spcPts val="3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3.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Georgia"/>
              </a:rPr>
              <a:t>Гипотеза: 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Вода играет главенствующую роль в формировании ландшафтной структуры, видового состава и структуры биогеоценозов. Запасы влаги, сконцентрированные в торфяниках, огромны, и являются планетарным резервом чистой воды. Велика роль западносибирских болот в качестве климатообразующего фактора, в круговороте углерода, сохранении биоразнообразия. Уникальным природным комплексом является пойма Оби, представляющая собой сочетание широких и малых проток, озер, грив, что создает прекрасные условия для формирования больших запасов биомассы. Здесь сосредоточены основные миграционные пути птиц, мелкие водоемы — сора являются местом нагула рыб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80000"/>
              </a:lnSpc>
              <a:spcBef>
                <a:spcPts val="3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Интенсивная разработка многочисленных месторождений нефти и газа несет угрозу необратимой деградации природных комплексов региона, и своеобразными индикаторами экологического состояния территории выступают водно-болотные угодья. Загрязнители, поступающие от промышленных объектов, в силу ландшафтно-геохимических особенностей территории, попадают в Обь, что приводит к постоянному превышению экологических нормативов.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Нижний колонтитул 3"/>
          <p:cNvSpPr/>
          <p:nvPr/>
        </p:nvSpPr>
        <p:spPr>
          <a:xfrm>
            <a:off x="228600" y="8547120"/>
            <a:ext cx="26859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страница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6400800" cy="4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Статья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Нижний колонтитул 2"/>
          <p:cNvSpPr/>
          <p:nvPr/>
        </p:nvSpPr>
        <p:spPr>
          <a:xfrm>
            <a:off x="260280" y="8317080"/>
            <a:ext cx="268596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Страниц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а 4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213840" y="785880"/>
            <a:ext cx="6378840" cy="73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Но чтобы не лишить себя будущего, охранять природу нужно сейчас. Перспективы решения проблем, связанных прежде всего с негативным воздействием на окружающую среду, биоресурсы и экологию человека, видятся в реализации двух направлений: оптимизации системы особо охраняемых природных территорий и расширении работ по экологической реставрации трансформированных территорий.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90000"/>
              </a:lnSpc>
              <a:spcBef>
                <a:spcPts val="3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Рамсарская конвенция о водно-болотных угодьях дает прекрасную возможность для реализации первого направления. Признание водно-болотного угодья имеющим международное значение — это эффективная форма воздействия на природоохранную политику в регионе. Однако для расширения сети охраняемых водно-болотных угодий необходимы усилия всех, кто заинтересован в сохранении природы края. Во всем мире водно-болотные угодья рассматриваются как один из ключевых типов экосистем планеты; их биосферная, ресурсная и социально-экономическая роль расценивается чрезвычайно высоко — как основа существования разнообразных экосистем, основа экономической деятельности народов той или иной страны. Они признаны важным звеном системы природоохранной политики различных государств.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90000"/>
              </a:lnSpc>
              <a:spcBef>
                <a:spcPts val="3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ООН призывает считать водные ресурсы социальным и экономическим благом, имеющим исключительно большое значение для удовлетворения основных потребностей людей, обеспечения продовольственной безопасности, ликвидации нищеты и защиты экосистем.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90000"/>
              </a:lnSpc>
              <a:spcBef>
                <a:spcPts val="3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Водно-болотные угодья — часть водных ресурсов планеты, и нет сомнений, что роль их в природных процессах и в жизни человеческого общества чрезвычайно велика и многообразна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90000"/>
              </a:lnSpc>
              <a:spcBef>
                <a:spcPts val="3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Что же такое ВБУ? В чем источник повышенного внимания к этим экосистемам? Ответы на эти и некоторые другие вопросы мы попытаемся дать в настоящей работе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90000"/>
              </a:lnSpc>
              <a:spcBef>
                <a:spcPts val="3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К водно-болотным угодьям относятся континентальные водоемы и их поймы, прибрежные мелководья, избыточно увлажненные участки суши. Общее свойство водно-болотных угодий состоит в том, что определяющим экологическим фактором (в самом широком понимании этого термина) является вода. По классификации, принятой Рамсарским комитетом, к водно-болотным угодьям могут быть причислены все водные, прибрежные и избыточно увлажненные территории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90000"/>
              </a:lnSpc>
              <a:spcBef>
                <a:spcPts val="3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Нижний колонтитул 1"/>
          <p:cNvSpPr/>
          <p:nvPr/>
        </p:nvSpPr>
        <p:spPr>
          <a:xfrm>
            <a:off x="228600" y="8547120"/>
            <a:ext cx="26859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страница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TextBox 3"/>
          <p:cNvSpPr/>
          <p:nvPr/>
        </p:nvSpPr>
        <p:spPr>
          <a:xfrm>
            <a:off x="214200" y="428760"/>
            <a:ext cx="6286680" cy="84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Водно-болотные экосистемы выполняют очень широкий спектр экологических функций: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накопление и хранение пресной воды;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регулирование подземного и поверхностного стока и поддержание уровня грунтовых вод;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изъятие из атмосферы и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еработка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углерода и возвращение в атмосферу кислорода: ВБУ России, наряду с лесами, и Бразильская сельва служат основными наземными регенераторами кислорода, а болота — одним из основных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сточником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углерода;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стабилизация климатических условий (как микро-, так и макроклиматических), в особенности режима температуры и осадков;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обеспечение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биосреды 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водой и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еобходимыми 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ресурсами, от которых зависит существование многочисленных видов флоры и фауны: они поддерживают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жизнеспоспособность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рыб, водоплавающих и околоводных птиц, млекопитающих, пресмыкающихся, земноводных, беспозвоночных;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водно-болотные угодья являются средой обитания многих ценных, а также редких и нуждающихся в охране видов растений и животных; они поддерживают максимальную биологическую продуктивность морских экосистем; это одна из самых продуктивных сред мира, являющаяся важным хранилищем генетического материала, истоком биоразнообразия растительного и животного мира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На протяжении многих тысячелетий озерно-болотные системы, долины и устья рек, морские заливы играли исключительно важную роль в жизни человека, человеческого общества в целом: они служили источником рыбы и дичи, удобными местами расселений, транспортными магистралями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Огромные болотные системы стали основой для развития орошаемого земледелия. Постепенно повышалась их роль ресурса для промышленных нужд, санитарно-бытовых целей, как энергетического ресурса. Необходимо также отметить, что становление, развитие и расселение русского этноса, согласно концепции этногенеза Л. Н. Гумилева, неразрывно связано с ландшафтами речных пойм в лесной и лесостепной зонах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Нижний колонтитул 1"/>
          <p:cNvSpPr/>
          <p:nvPr/>
        </p:nvSpPr>
        <p:spPr>
          <a:xfrm>
            <a:off x="228600" y="8547120"/>
            <a:ext cx="26859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страница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226800" y="285480"/>
            <a:ext cx="6376680" cy="78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 algn="just">
              <a:lnSpc>
                <a:spcPct val="90000"/>
              </a:lnSpc>
              <a:spcBef>
                <a:spcPts val="3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В жизни современного индустриального общества водно-болотные угодья выполняют важнейшие ресурсные функции, связанные с их экологическими характеристиками, а именно: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 algn="just">
              <a:lnSpc>
                <a:spcPct val="90000"/>
              </a:lnSpc>
              <a:spcBef>
                <a:spcPts val="3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служат главным источником питьевой и технически чистой воды;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 algn="just">
              <a:lnSpc>
                <a:spcPct val="90000"/>
              </a:lnSpc>
              <a:spcBef>
                <a:spcPts val="3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регулируя уровень грунтовых вод и сохраняя площадь водного зеркала, определяют тем самым продуктивность сельскохозяйственных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угодий;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 algn="just">
              <a:lnSpc>
                <a:spcPct val="90000"/>
              </a:lnSpc>
              <a:spcBef>
                <a:spcPts val="3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служат источником энергетических ресурсов (торф, древесина), стройматериалов, удобрений, являются основой для орошаемого земледелия;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 algn="just">
              <a:lnSpc>
                <a:spcPct val="90000"/>
              </a:lnSpc>
              <a:spcBef>
                <a:spcPts val="3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играют роль сырьевой базы для различных промыслов (охота, рыболовство, сбор дикоросов): достаточно сказать, что свыше 60 % мировых уловов рыбы зависит от состояния “здоровья” водно-болотных угодий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 algn="just">
              <a:lnSpc>
                <a:spcPct val="90000"/>
              </a:lnSpc>
              <a:spcBef>
                <a:spcPts val="3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Современное хозяйство России, и в частности Западной Сибири, отличается крайне неравномерным уровнем использования перечисленных возможностей ВБУ: такие отрасли, как речной транспорт, добыча торфа,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фти,газа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некоторые отрасли сельского хозяйства, теснейшим образом связаны с ними. Вместе с тем богатейшие кормовые ресурсы используются весьма слабо. Показателем важности водно-болотных систем в хозяйственном комплексе, с одной стороны,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 algn="just">
              <a:lnSpc>
                <a:spcPct val="90000"/>
              </a:lnSpc>
              <a:spcBef>
                <a:spcPts val="3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регионах с повышенной водоемкостью хозяйственных комплексов уровни воздействия их на угодья максимальны. Это означает, что ВБУ подвержены интенсивному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редному 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влиянию, и здесь необходимо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рациональное 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их использован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 algn="just">
              <a:lnSpc>
                <a:spcPct val="90000"/>
              </a:lnSpc>
              <a:spcBef>
                <a:spcPts val="3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Водно-болотные угодья являются “заказниками” специфической флоры и фауны, с ними связана жизнь, размножение важных объектов промысл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фауны и водной и околоводной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 algn="just">
              <a:lnSpc>
                <a:spcPct val="90000"/>
              </a:lnSpc>
              <a:spcBef>
                <a:spcPts val="3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Велики их  и туристические возможности, а также возможность бальнеологического использования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 algn="just">
              <a:lnSpc>
                <a:spcPct val="90000"/>
              </a:lnSpc>
              <a:spcBef>
                <a:spcPts val="3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Водно-болотные угодья как часть культурного наследия человечества связаны с религиозными и космологическими убеждениями людей, составляют основу местных традиций, служат источником эстетических чувств, удовлетворяют потребность человека в созерцании дикой природы и единении с ней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90000"/>
              </a:lnSpc>
              <a:spcBef>
                <a:spcPts val="3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Нижний колонтитул 2"/>
          <p:cNvSpPr/>
          <p:nvPr/>
        </p:nvSpPr>
        <p:spPr>
          <a:xfrm>
            <a:off x="228600" y="8547120"/>
            <a:ext cx="26859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страница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226800" y="213840"/>
            <a:ext cx="6376680" cy="821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 algn="just">
              <a:lnSpc>
                <a:spcPct val="80000"/>
              </a:lnSpc>
              <a:spcBef>
                <a:spcPts val="3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степени влияния последнего на ВБУ — с другой, следует считать уровень использования (расход) воды в хозяйстве: в Наиболее тесны экономические, культурологические, религиозные связи с водно-болотными угодьями коренных малочисленных народов Севера, особенно хантов, манси, селькупов, проживающих и ведущих традиционное природопользование на территории ВБУ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 algn="just">
              <a:lnSpc>
                <a:spcPct val="80000"/>
              </a:lnSpc>
              <a:spcBef>
                <a:spcPts val="3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По мере накопления экологических знаний представления о роли водно-болотных экосистем существенно расширились, и в настоящее время ВБУ расцениваются как стабилизирующий компонент ландшафтов, существенно влияющий на формирование водного баланса и климата обширных территорий, как основа поддержания традиционного природопользования, как рефугиумы биоразнообразия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 algn="just">
              <a:lnSpc>
                <a:spcPct val="80000"/>
              </a:lnSpc>
              <a:spcBef>
                <a:spcPts val="3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Поэтому сохранение водно-болотных угодий во всем мире рассматривается как одно из важнейших условий, определяющих качество жизни, как основа устойчивого стабильного развития территории и народов, как важнейшее звено экологических и экономических систем государств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Сохранение водно-болотных угодий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для устойчивого развития территории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 algn="just">
              <a:lnSpc>
                <a:spcPct val="80000"/>
              </a:lnSpc>
              <a:spcBef>
                <a:spcPts val="3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Все сказанное о роли ВБУ в природе, в жизни и хозяйственной деятельности человека делает очевидным вывод, что эти природные комплексы являются необходимым компонентом в устойчивом, сбалансированном развитии природы и общества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 algn="just">
              <a:lnSpc>
                <a:spcPct val="80000"/>
              </a:lnSpc>
              <a:spcBef>
                <a:spcPts val="3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Сложные взаимоотношения человеческой цивилизации и природы ставят вопрос о выживании обеих систем в новых условиях. Очевидным является то, что цивилизация не может дальше распоряжаться природой, исходя из сиюминутных потребностей, как это было на протяжении веков. Энерговооруженность и способы концентрации потоков вещества и энергии достигли масштабов, при которых возможна гибель биосферы планеты и, следовательно, самой цивилизации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 algn="just">
              <a:lnSpc>
                <a:spcPct val="80000"/>
              </a:lnSpc>
              <a:spcBef>
                <a:spcPts val="3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Международное сообщество в лице ООН в качестве ответа на создавшуюся угрозу выдвинуло принцип устойчивого развития, принятый большинством стран, в том числе и Россией, в 1992 г. в Рио-де-Жанейро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 algn="just">
              <a:lnSpc>
                <a:spcPct val="80000"/>
              </a:lnSpc>
              <a:spcBef>
                <a:spcPts val="3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Термин “устойчивое развитие” означает развитие, само себе дающее импульс, стимул для дальнейшего движения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 algn="just">
              <a:lnSpc>
                <a:spcPct val="80000"/>
              </a:lnSpc>
              <a:spcBef>
                <a:spcPts val="3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Сущность устойчивого развития — в стремлении к интеграции экономических, природоохранных и социальных целей. Для достижения устойчивого развития человечество должно решить три взаимосвязанные задачи: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 algn="just">
              <a:lnSpc>
                <a:spcPct val="80000"/>
              </a:lnSpc>
              <a:spcBef>
                <a:spcPts val="3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повышение экономического роста;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 algn="just">
              <a:lnSpc>
                <a:spcPct val="80000"/>
              </a:lnSpc>
              <a:spcBef>
                <a:spcPts val="3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охрана окружающей среды в плане восстановления устойчивых природных экосистем;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 algn="just">
              <a:lnSpc>
                <a:spcPct val="80000"/>
              </a:lnSpc>
              <a:spcBef>
                <a:spcPts val="3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достижение социальной справедливости. Сохранение природной среды — одно из неотъемлемых условий устойчивого развития, и поэтому в основу его должны быть заложены такие принципы, как: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 algn="just">
              <a:lnSpc>
                <a:spcPct val="80000"/>
              </a:lnSpc>
              <a:spcBef>
                <a:spcPts val="3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четкое, последовательное внедрение в жизнь законодательных актов по охране окружающей среды;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 algn="just">
              <a:lnSpc>
                <a:spcPct val="80000"/>
              </a:lnSpc>
              <a:spcBef>
                <a:spcPts val="3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базирование экономического роста на новых технологиях, ноу-хау, повышении эффективности производства;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 algn="just">
              <a:lnSpc>
                <a:spcPct val="80000"/>
              </a:lnSpc>
              <a:spcBef>
                <a:spcPts val="3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внедрение инновационных программ — важная предпосылка повышения экономической эффективности, охраны и восстановления природных систем и видоизменений моделей потребления;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3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Нижний колонтитул 2"/>
          <p:cNvSpPr/>
          <p:nvPr/>
        </p:nvSpPr>
        <p:spPr>
          <a:xfrm>
            <a:off x="228600" y="8547120"/>
            <a:ext cx="26859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страница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0" y="250920"/>
            <a:ext cx="6377040" cy="86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воды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3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В июне 1997 г. XIX Специальная сессия Генеральной ассамблеи ООН приняла программу действий по дальнейшему осуществлению “Повестки дня на XXI век”, где, в частности, сказано: “Необходимо безотлагательно уделить, с учетом специфики потребностей и условий в отдельных странах, первоочередное внимание разработке и осуществлению политики и программ в области комплексного управления… и охраны водных экосистем и водно-болотных угодий” [Программа действий…, 1998].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Для достижения поставленной цели необходимо решить многие задачи: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формирование банка данных и создание описи ВБУ России;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создание системы, регулирующей получение и анализ информации о состоянии ВБУ;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сохранение наиболее ценных ВБУ путем придания им статуса угодий особого (международного, федерального, регионального) значения согласно обязательствам страны как стороны Рамсарской конвенции;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принятие законодательства, обеспечивающего сохранение ВБУ в масштабе регионов и всей страны;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обеспечение устойчивого природопользования на ВБУ;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формирование у населения осознанности ценности и необходимости охраны ВБУ;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привлечение населения к принятию решений по использованию и охране ВБУ;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создание научно-методической базы охраны и рационального использования ВБУ;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оптимизация системы международных связей России по проблемам сохранения ВБУ.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227160" y="30456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Используемая литература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227160" y="2031480"/>
            <a:ext cx="6400800" cy="686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Большой Советский энциклопедический словарь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Материалы Генеральной ассамблеи ООН. Программа действий.1998 г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татьи Рамсарской  конвенции. О водно-болотных угодьях.1996 г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Титлянова А. Болота Западной Сибири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траница 9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MP</cp:lastModifiedBy>
  <dcterms:modified xsi:type="dcterms:W3CDTF">2010-01-01T09:16:51Z</dcterms:modified>
  <cp:revision>28</cp:revision>
  <dc:subject/>
  <dc:title>Исследовательская работа  по экологии</dc:title>
</cp:coreProperties>
</file>