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6C64-7D4A-4DE1-96C7-3D92CCE32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386-0922-484E-A654-6BF5131F7C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032-4997-4A1A-AC24-82A1E6C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A9B-0F25-47BF-938E-76C4635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BD5C3-4AE9-4264-8F1C-F132F02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35C4E-7F24-449E-AF49-006E028D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AF263-869A-4A03-82CD-EA3F3EF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56930-E57D-442D-BEF0-58CCAC9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DA81B-F77D-45E5-8782-A112165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07D76-29E5-42E8-9188-2D957D3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64CCD-C180-4971-A466-6AE0D87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57B39-2A23-4D4F-8A7B-11A745FC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D8300-0FA6-40E9-B30C-E8FCD37D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986B4-5BC3-4DDF-B160-45B67D3F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292-A88F-4C2A-9617-5048CAFF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08D77-82AC-4648-A0B9-91BC41AD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7E5AE-6656-4C1C-A18C-F25B7B2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D2AAA-062B-4E7F-9D96-AFEC503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3815F-16F9-4DC4-BE95-EDAA21E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1F2B6-FDA0-4749-AEB6-4EA7331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9FA67-49AB-446A-9587-4564C03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2E0E5-14E8-4FA3-8CD1-9B80919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E11F0-AC2B-4165-977F-96C4F6B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392C5-5190-4153-A70D-339ED139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290B0-C6A5-4C7D-9992-00B93D9D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391-5177-4058-9A9C-5586DE7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8F153-76C5-4735-AE77-7E95523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A700-2F82-4EDE-9CAD-1629CEBE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ECC6-7E8C-40DF-B3CD-0C7FA49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31863-1E98-4F53-A0CC-F731DCF8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EE502-6568-4F29-845F-01E7F36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46E7E-B1E8-49BE-83DF-7C5A3AB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66208-70A9-4B38-B9FB-B64F54D5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C2E05-1352-4E5C-802C-65BE3E3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AE4C-FD5F-4B0A-AF2D-FE7BA6A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A87D2-90D5-448E-864F-64B7CD8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54C-06E0-4592-A9E0-61FE29D3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9BA73-8463-459D-8158-ED9C7FD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A3A62-28E6-471E-9AB6-FDA2CFC9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F8FBE-688D-4869-AAC0-133B853D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BF071-A922-4435-A36B-4F439030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F9593-CEFA-4C84-8753-D1623284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BEAB5-D931-4705-8F2D-74BD935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08B0D-553D-44C7-88A0-174281A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35B09-00A5-4B81-9A99-6610444E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22F88-D52A-4E3B-A0B1-BF8F1E5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D0B76-6A1C-4817-8B6D-D430C85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98A-0251-4A4B-A2BC-A249F1FB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50F41-40DC-4FAC-A940-F1114B9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67CE5-6831-4A26-AF1A-BFE7F05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AD72D-FDB6-4DE0-83C2-3F3AC84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52147-F208-4C78-B71E-D842EFE6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E03B9-EC5C-4829-9FE7-83A28663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261-7127-45C3-A68D-17470642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B948-1299-42F8-BDF2-2A228C2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2169-67E6-46EE-A233-173A73E1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7C6-DED8-4DCF-9A10-6947E20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92A-22E0-4929-858D-396AC33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322-92B2-4012-B932-89D2F7A8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9AC-2703-4820-B744-E446400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E379-A7A4-4E51-B5D8-07FB323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0FF-4D21-492B-B252-C9F75C26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F89-E711-4E23-85E5-90E5468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EA5-3A1B-4082-A096-F823D801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A0B8-4464-42A5-9F8E-AC5CAA49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E4B9-C26A-47FD-97D0-6CABA378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BB89-8FB5-470B-A7A4-01F165C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3F1D-E886-40F3-ABDB-C1E8E4F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3BCF-6A7E-4A14-93AB-9C76969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7D0-6635-48AD-9263-EE36040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08BD-44F9-4BD0-BFA5-1191CE6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190D-7313-447E-883A-98C825C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AC07-DBC3-4952-995D-F09F4F9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2543-72CC-43CF-A0EF-7E7E727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632A-3F87-4102-8031-BAD27D9B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6E5E-AFB4-4B09-89F1-AF1204F7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B76F-2911-486C-8387-54FF2990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5313-5B77-4855-8D8A-339E30EB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E8B7-D16D-4CD5-9F70-2418226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3895-CDA7-4B3D-8F45-28BF77C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51C-ECBE-4326-AF73-4917BC2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5751-6999-43C8-A401-79E561D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8E9B-5FC7-4B69-AB9F-5776AA29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9EA4-AE22-40CB-ABF8-EEADC09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4B6B-1C49-4902-9A67-BC3ED64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E664-CC64-4218-AF4B-7E108533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BD55-E60F-4162-85E4-A5214E2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1129-3E8D-4435-A379-94B3E55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5D60-BA56-4CA7-A044-B2A6FC98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BA9E-B477-489E-B56D-86B4EB1F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0B61-B85A-49A6-8072-4D62327F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EC6-A093-4BA8-BAE1-3940D83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E03A-697E-462F-B71F-C7FF9DC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93F8-30D0-4B2A-B586-3283AC7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BDCC-243C-4037-AAB6-BD188ED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875F-94F7-4705-9D64-F1754F4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795A-724C-4FF8-87A7-3E076AE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78C8-1E50-4273-A893-DFE7CFE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F693-4453-4403-94C5-592D835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563E-4DC4-4D9B-9955-FAB51E8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892B-A6DB-4573-A2DC-9902EBD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8CB4-84D8-491C-8A95-2AB7E1E7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5E1-BB13-4E96-950E-4AE7292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31BA-FBED-408C-9FB2-9CC2096F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C143-E2BF-4B49-8D63-3449F6FF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15CE-5969-4900-8730-C3FAF54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0F38-0F24-473C-A644-8981202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96AB-1B49-4983-B848-2BB7EA9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A117-F7BD-4441-AF8F-D40D7A6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684F-B529-488F-819A-99F436F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D6BA7-B2B3-4964-AE15-0FFCF7B4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FE3A-D1DE-4FE5-8592-233E9EC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182B-FAB3-42EA-80F0-AD2948C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930-455E-425C-9CA9-06662FC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50A9E-13D3-44DB-89FF-9D92EE6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26CD-3C3D-4FE9-94E5-A4AB324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DC865-C88A-478B-A19C-65A60A0D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1CB4-F20F-49AC-9AC1-C3CCBAF5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7D03-96EE-4B46-A468-32A5384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D44F-A2D0-4F8C-BEE4-0663658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1DF3-4AC6-4325-BC0C-DF317EC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85F29-9C70-4BC6-9842-CF69AFE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239D-6023-4A2E-AA69-C964124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F6F2-2D20-4F89-AE6D-E94C4EC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72D-5A5F-4D20-BDC9-14E9819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C836-5487-454D-9DD5-8623B98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4893-43BC-46AF-975C-58C8F87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EBBF-A30D-46AD-B2AC-A955C13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590F-C4FA-4802-BE9C-B0CEDD65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C5BE0-A90F-48C4-A1EF-BC2C8AD5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2E38-6AB0-4966-858A-585E70BC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FB8A-151F-4177-8E13-E8D0F7F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0D05-2FB7-4AAB-B335-EA4DCCCD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0F81-AB43-4B94-BC1A-C23C1BF2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DE00-05D0-47D9-8191-7605FFF8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C65-0DE4-45C8-9A98-0DE18A7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8505B-C419-40FC-898F-78A6CC7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AD6E5-F102-4BE2-AAA8-E9A1E9C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C467-645E-4637-B68E-B9C8CCB0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0070E-5455-49E7-B2E8-5B8622C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1D17-97B9-4A8E-BB2B-9DF44C5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D7B30-9780-4463-B426-3F0948D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77EE-884B-40DE-8865-C1496790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7DEAD-6BF5-465C-B643-FB3BA98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14D85-28E2-4620-8F21-F2F6103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DC4E8-11E5-4C15-A7D0-2CC269F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FB4-E1F8-4DDA-99A5-CBC68FF6A3C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09C-E847-4D54-8235-AA5EA06F2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14480" y="203040"/>
            <a:ext cx="6624360" cy="4017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D63-67B6-455A-A3A1-9A7D1A330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4341600" y="8540640"/>
            <a:ext cx="2282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CBD7-4F70-4569-BCE7-F6998A233B2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226800" y="8547120"/>
            <a:ext cx="2687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4A73-38FC-4758-8BB7-4634FC69B78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9B5-9357-4D16-8413-50B82A7D1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5257800" y="0"/>
            <a:ext cx="1600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5357880" y="208080"/>
            <a:ext cx="0" cy="832644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5129280" y="390060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5200560" y="4027320"/>
            <a:ext cx="31608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5186520" y="401328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82DF-4FC8-4771-94EC-B5F3FDE63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10F-051C-48E7-BB39-AF25E5984A8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6743880" y="468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6858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15920" y="3227400"/>
            <a:ext cx="66261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A0C3-A45C-493F-A7AC-D0E9B76B06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5FF-6ADA-47DB-97E9-ABB98E255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C02-7C94-40D2-8B29-3E13E8B152F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3271320" y="1368360"/>
            <a:ext cx="34308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3AC-2866-4B5A-9D29-C1ADB192A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6743880" y="2556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14480" y="3048120"/>
            <a:ext cx="662436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15920" y="190440"/>
            <a:ext cx="6626160" cy="2852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14480" y="32511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E18E-FB76-4B23-A580-C934E1C0945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BF4-F7E3-462C-BDDF-970242525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3422520" y="2099880"/>
            <a:ext cx="6480" cy="642636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343400" y="854712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5C35-53EC-4E09-BA26-58A30D93CF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0E7C-A4F8-40EB-8D94-8BB7F9BB6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3429000" y="2933280"/>
            <a:ext cx="0" cy="55832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68580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14480" y="1828800"/>
            <a:ext cx="6624360" cy="12193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09440" y="8521560"/>
            <a:ext cx="6624720" cy="4143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14480" y="170640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F31-607D-4107-A40D-E40150E927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28240" y="8547120"/>
            <a:ext cx="268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3257640" y="139068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55D1-7EF0-41AA-BDD0-35FC9F23E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A4E8-CA72-4970-AB74-371AF83933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3257640" y="138096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B32D-99C7-4939-8EA1-3C45C8805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14480" y="21096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A814-76F7-4CE8-B280-7CCE9D323B8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3200400" y="8432640"/>
            <a:ext cx="4572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B2EB-6AE8-43CA-84A7-8710C86DD0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14480" y="203040"/>
            <a:ext cx="6624360" cy="4064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68580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5493-B177-412E-853F-BB134AF8C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04E-1625-4888-ABCF-27AFE862D2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227160" y="8547120"/>
            <a:ext cx="2536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6514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Исследовательская работа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по экологи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26800" y="2036880"/>
            <a:ext cx="6376680" cy="639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Georgia"/>
              </a:rPr>
              <a:t>«Болота и их роль в экологической системе планеты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: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4 «А» класс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Кирилл  Сергеевич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3, ЯНАО,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 Нефтяников,  дом 79,  кв. 49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. тел.  8 (349 38) 43-8-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ЬКИНА Светлана Алексеев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2, ЯНАО, 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Ленина , дом 77, кв. 42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  8 (349 38) 22-5-7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рес учреждения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2, ЯНАО, 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уравленко, ул.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20, МОУ СОШ № 4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 8 (349 38) 26-4-0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2060"/>
                </a:solidFill>
                <a:uFillTx/>
                <a:latin typeface="Georgia"/>
              </a:rPr>
              <a:t>СОДЕРЖ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6800" y="2036520"/>
            <a:ext cx="6376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ма. Актуальность тем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ь и задачи работ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ипотез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новная часть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план стать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стать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уемая литератур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7160" y="285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b9899"/>
                </a:solidFill>
                <a:latin typeface="Georgia"/>
              </a:rPr>
              <a:t>Исследовательская работа на тему;</a:t>
            </a:r>
            <a:br>
              <a:rPr sz="2500"/>
            </a:br>
            <a:r>
              <a:rPr b="0" lang="en-US" sz="2500" spc="-1" strike="noStrike">
                <a:solidFill>
                  <a:srgbClr val="7b9899"/>
                </a:solidFill>
                <a:latin typeface="Georgia"/>
              </a:rPr>
              <a:t>«Болота и их роль в экологической системе планеты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26800" y="2036520"/>
            <a:ext cx="6376680" cy="63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Актуальность темы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 большие массивы болотных земель  обладают большим запасом углеводов,  являются  заповедными территориями , оказывают  огромное влияние на формирование климата планеты, поэтому  необходимо изучить  какие экологические функции выполняют болота и как сохранить большие массивы болотных земель в качестве резервов — заповедных территорий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оказать  важную роль болот  в эко. системе планеты. Предложить способы  их бережного обращения и использова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изучение литературы по данной теме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развитие умения извлекать информацию из различных источников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развитие умения наблюдать , анализировать поведение людей в природе, систематизировать собственные наблюдения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выявление причин нарушения экологии болот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определение способов защиты  болот  от загрязн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Гипотеза: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а играет главенствующую роль в формировании ландшафтной структуры, видового состава и структуры биогеоценозов. Запасы влаги, сконцентрированные в торфяниках, огромны, и являются планетарным резервом чистой воды. Велика роль западносибирских болот в качестве климатообразующего фактора, в круговороте углерода, сохранении биоразнообразия. Уникальным природным комплексом является пойма Оби, представляющая собой сочетание широких и малых проток, озер, грив, что создает прекрасные условия для формирования больших запасов биомассы. Здесь сосредоточены основные миграционные пути птиц, мелкие водоемы — сора являются местом нагула рыб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нтенсивная разработка многочисленных месторождений нефти и газа несет угрозу необратимой деградации природных комплексов региона, и своеобразными индикаторами экологического состояния территории выступают водно-болотные угодья. Загрязнители, поступающие от промышленных объектов, в силу ландшафтно-геохимических особенностей территории, попадают в Обь, что приводит к постоянному превышению экологических нормативов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Статья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Нижний колонтитул 2"/>
          <p:cNvSpPr/>
          <p:nvPr/>
        </p:nvSpPr>
        <p:spPr>
          <a:xfrm>
            <a:off x="260280" y="8317080"/>
            <a:ext cx="2685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 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840" y="785880"/>
            <a:ext cx="6378840" cy="73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о чтобы не лишить себя будущего, охранять природу нужно сейчас. Перспективы решения проблем, связанных прежде всего с негативным воздействием на окружающую среду, биоресурсы и экологию человека, видятся в реализации двух направлений: оптимизации системы особо охраняемых природных территорий и расширении работ по экологической реставрации трансформированных территорий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мсарская конвенция о водно-болотных угодьях дает прекрасную возможность для реализации первого направления. Признание водно-болотного угодья имеющим международное значение — это эффективная форма воздействия на природоохранную политику в регионе. Однако для расширения сети охраняемых водно-болотных угодий необходимы усилия всех, кто заинтересован в сохранении природы края. Во всем мире водно-болотные угодья рассматриваются как один из ключевых типов экосистем планеты; их биосферная, ресурсная и социально-экономическая роль расценивается чрезвычайно высоко — как основа существования разнообразных экосистем, основа экономической деятельности народов той или иной страны. Они признаны важным звеном системы природоохранной политики различных государств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ОН призывает считать водные ресурсы социальным и экономическим благом, имеющим исключительно большое значение для удовлетворения основных потребностей людей, обеспечения продовольственной безопасности, ликвидации нищеты и защиты экосистем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— часть водных ресурсов планеты, и нет сомнений, что роль их в природных процессах и в жизни человеческого общества чрезвычайно велика и многообразн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Что же такое ВБУ? В чем источник повышенного внимания к этим экосистемам? Ответы на эти и некоторые другие вопросы мы попытаемся дать в настоящей работе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 водно-болотным угодьям относятся континентальные водоемы и их поймы, прибрежные мелководья, избыточно увлажненные участки суши. Общее свойство водно-болотных угодий состоит в том, что определяющим экологическим фактором (в самом широком понимании этого термина) является вода. По классификации, принятой Рамсарским комитетом, к водно-болотным угодьям могут быть причислены все водные, прибрежные и избыточно увлажненные территор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1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14200" y="428760"/>
            <a:ext cx="6286680" cy="84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экосистемы выполняют очень широкий спектр экологических функций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копление и хранение пресной вод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улирование подземного и поверхностного стока и поддержание уровня грунтовых вод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зъятие из атмосферы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работка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углерода и возвращение в атмосферу кислорода: ВБУ России, наряду с лесами, и Бразильская сельва служат основными наземными регенераторами кислорода, а болота — одним из основны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сточником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углерода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билизация климатических условий (как микро-, так и макроклиматических), в особенности режима температуры и осадков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еспеч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осреды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ой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обходимыми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ресурсами, от которых зависит существование многочисленных видов флоры и фауны: они поддерживаю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жизнеспоспособность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рыб, водоплавающих и околоводных птиц, млекопитающих, пресмыкающихся, земноводных, беспозвоночных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являются средой обитания многих ценных, а также редких и нуждающихся в охране видов растений и животных; они поддерживают максимальную биологическую продуктивность морских экосистем; это одна из самых продуктивных сред мира, являющаяся важным хранилищем генетического материала, истоком биоразнообразия растительного и животного мир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протяжении многих тысячелетий озерно-болотные системы, долины и устья рек, морские заливы играли исключительно важную роль в жизни человека, человеческого общества в целом: они служили источником рыбы и дичи, удобными местами расселений, транспортными магистралям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громные болотные системы стали основой для развития орошаемого земледелия. Постепенно повышалась их роль ресурса для промышленных нужд, санитарно-бытовых целей, как энергетического ресурса. Необходимо также отметить, что становление, развитие и расселение русского этноса, согласно концепции этногенеза Л. Н. Гумилева, неразрывно связано с ландшафтами речных пойм в лесной и лесостепной зон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ижний колонтитул 1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6800" y="285480"/>
            <a:ext cx="6376680" cy="78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жизни современного индустриального общества водно-болотные угодья выполняют важнейшие ресурсные функции, связанные с их экологическими характеристиками, а именно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лужат главным источником питьевой и технически чистой вод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улируя уровень грунтовых вод и сохраняя площадь водного зеркала, определяют тем самым продуктивность сельскохозяйственны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годий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лужат источником энергетических ресурсов (торф, древесина), стройматериалов, удобрений, являются основой для орошаемого земледелия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грают роль сырьевой базы для различных промыслов (охота, рыболовство, сбор дикоросов): достаточно сказать, что свыше 60 % мировых уловов рыбы зависит от состояния “здоровья” водно-болотных угоди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временное хозяйство России, и в частности Западной Сибири, отличается крайне неравномерным уровнем использования перечисленных возможностей ВБУ: такие отрасли, как речной транспорт, добыча торфа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фти,газа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екоторые отрасли сельского хозяйства, теснейшим образом связаны с ними. Вместе с тем богатейшие кормовые ресурсы используются весьма слабо. Показателем важности водно-болотных систем в хозяйственном комплексе, с одной стороны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ионах с повышенной водоемкостью хозяйственных комплексов уровни воздействия их на угодья максимальны. Это означает, что ВБУ подвержены интенсив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редному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влиянию, и здесь 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циональное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х использова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являются “заказниками” специфической флоры и фауны, с ними связана жизнь, размножение важных объектов промыс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ауны и водной и околовод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елики их  и туристические возможности, а также возможность бальнеологического использова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как часть культурного наследия человечества связаны с религиозными и космологическими убеждениями людей, составляют основу местных традиций, служат источником эстетических чувств, удовлетворяют потребность человека в созерцании дикой природы и единении с не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ижний колонтитул 2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6800" y="213840"/>
            <a:ext cx="6376680" cy="82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епени влияния последнего на ВБУ — с другой, следует считать уровень использования (расход) воды в хозяйстве: в Наиболее тесны экономические, культурологические, религиозные связи с водно-болотными угодьями коренных малочисленных народов Севера, особенно хантов, манси, селькупов, проживающих и ведущих традиционное природопользование на территории ВБУ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 мере накопления экологических знаний представления о роли водно-болотных экосистем существенно расширились, и в настоящее время ВБУ расцениваются как стабилизирующий компонент ландшафтов, существенно влияющий на формирование водного баланса и климата обширных территорий, как основа поддержания традиционного природопользования, как рефугиумы биоразнообразия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этому сохранение водно-болотных угодий во всем мире рассматривается как одно из важнейших условий, определяющих качество жизни, как основа устойчивого стабильного развития территории и народов, как важнейшее звено экологических и экономических систем государст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охранение водно-болотных угодий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для устойчивого развития территори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се сказанное о роли ВБУ в природе, в жизни и хозяйственной деятельности человека делает очевидным вывод, что эти природные комплексы являются необходимым компонентом в устойчивом, сбалансированном развитии природы и общества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ложные взаимоотношения человеческой цивилизации и природы ставят вопрос о выживании обеих систем в новых условиях. Очевидным является то, что цивилизация не может дальше распоряжаться природой, исходя из сиюминутных потребностей, как это было на протяжении веков. Энерговооруженность и способы концентрации потоков вещества и энергии достигли масштабов, при которых возможна гибель биосферы планеты и, следовательно, самой цивилизации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ждународное сообщество в лице ООН в качестве ответа на создавшуюся угрозу выдвинуло принцип устойчивого развития, принятый большинством стран, в том числе и Россией, в 1992 г. в Рио-де-Жанейро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Термин “устойчивое развитие” означает развитие, само себе дающее импульс, стимул для дальнейшего движения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ущность устойчивого развития — в стремлении к интеграции экономических, природоохранных и социальных целей. Для достижения устойчивого развития человечество должно решить три взаимосвязанные задачи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выш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храна окружающей среды в плане восстановления устойчивых природных экосистем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достижение социальной справедливости. Сохранение природной среды — одно из неотъемлемых условий устойчивого развития, и поэтому в основу его должны быть заложены такие принципы, как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четкое, последовательное внедрение в жизнь законодательных актов по охране окружающей среды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азирование экономического роста на новых технологиях, ноу-хау, повышении эффективности производства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недрение инновационных программ — важная предпосылка повышения экономической эффективности, охраны и восстановления природных систем и видоизменений моделей потребления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ижний колонтитул 2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250920"/>
            <a:ext cx="6377040" cy="86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июне 1997 г. XIX Специальная сессия Генеральной ассамблеи ООН приняла программу действий по дальнейшему осуществлению “Повестки дня на XXI век”, где, в частности, сказано: “Необходимо безотлагательно уделить, с учетом специфики потребностей и условий в отдельных странах, первоочередное внимание разработке и осуществлению политики и программ в области комплексного управления… и охраны водных экосистем и водно-болотных угодий” [Программа действий…, 1998]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достижения поставленной цели необходимо решить многие задачи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ормирование банка данных и создание описи ВБУ России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здание системы, регулирующей получение и анализ информации о состоянии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хранение наиболее ценных ВБУ путем придания им статуса угодий особого (международного, федерального, регионального) значения согласно обязательствам страны как стороны Рамсарской конвенции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нятие законодательства, обеспечивающего сохранение ВБУ в масштабе регионов и всей стран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еспечение устойчивого природопользования на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ормирование у населения осознанности ценности и необходимости охраны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влечение населения к принятию решений по использованию и охране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здание научно-методической базы охраны и рационального использования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птимизация системы международных связей России по проблемам сохранения ВБУ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Используемая литератур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8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шой Советский энциклопедический словар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териалы Генеральной ассамблеи ООН. Программа действий.1998 г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атьи Рамсарской  конвенции. О водно-болотных угодьях.1996 г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итлянова А. Болота Западной Сибир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ница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0-01-01T09:16:51Z</dcterms:modified>
  <cp:revision>28</cp:revision>
  <dc:subject/>
  <dc:title>Исследовательская работа  по экологии</dc:title>
</cp:coreProperties>
</file>