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B9B-29B3-4AA2-92A2-903063D5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05E-2441-4092-BFF9-CC191E81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FD0-8A50-486E-ACF9-2CB3DC1F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A5F-DA50-45A6-83EE-F821CEE6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A3F5-AF90-4E31-ABED-6B5A3D30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A384-6EB1-4B0B-B960-4ED88528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761-6203-4633-8B49-42D878E9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3C06-4A34-4A5B-9003-9D135A02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ED4-C71E-4CA0-9800-97AC9E3B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7DEF-9B38-450F-AA0C-A5AB8D16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12B3-CCC1-49C1-AD97-756517B7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48F-17D6-41FF-B2C2-10CECFC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A4A7-0EF8-4473-B3DC-E9B8BFB3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37A6-5A0F-4633-AE4E-B88DEC3D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BC5F-EB84-49F7-A232-0E22B4CB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C654-67F5-476B-AF92-71077E47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8BC6-1669-496F-A1FE-DEB6725C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2D3-A18F-4A54-9812-A53B4D04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29F-8FA4-4F76-81B3-D2702DDD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89F-D8AB-42FC-9313-0A459DC0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171-872C-41D2-99F6-8F23A0A0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6F0-F5F3-42FE-850F-56AEC6D5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AB1-12EF-4741-A8D5-C68043A2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ABF-AC62-4A7B-A2DF-F88DD98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F17E-37C2-4D09-8733-9E66C8E41A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7225-9A7A-4681-A05A-31FC37FD7A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5ffff"/>
                </a:solidFill>
                <a:latin typeface="Arial"/>
              </a:rPr>
              <a:t>Готовимся к зачёту по теме </a:t>
            </a:r>
            <a:br>
              <a:rPr sz="5400"/>
            </a:br>
            <a:r>
              <a:rPr b="1" i="1" lang="en-US" sz="5400" spc="-1" strike="noStrike">
                <a:solidFill>
                  <a:srgbClr val="e5ffff"/>
                </a:solidFill>
                <a:latin typeface="Arial"/>
              </a:rPr>
              <a:t>«Население России»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Естественное движение населе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– совокупность таких процессов, как рождаемость, смертность, брачность и разводимость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Естественный прирост населен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- это превышение   числа родившихся над числом умерших на 1000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жителей в год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В России естественного прироста нет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Депопуляция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– процесс смены естественного прироста населения естественной убылью и уменьшение численности населения в стране или регион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219320"/>
            <a:ext cx="7010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стественная  убыль населения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- это превышение   числа умерших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над числом родившихся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на 1000 жителей в г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Демографический взрыв</a:t>
            </a: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– </a:t>
            </a: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резкое повышение численности населения за счет сокращения смертности при традиционно высокой рождаемости.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В России их не было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Демографический кризис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– </a:t>
            </a: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это резкое снижение численности населения в стране или регион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Во время первой мировой войны и революций, эпидемий, голода и т.д. (1914-1922гг.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Голод и сталинские репрессии (1933-1934гг.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. В годы ВОВ (1941-1945гг.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. В годы перестройки (90-е годы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В России был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4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демографических кризиса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Демографическая ситуац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это сложившееся в данном районе (стране) соотношение рождаемости, смертности и миграционной подвижности, создающих в данное время определённую половозрастную структуру населения и динамику его численност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Переписью учтено 66 205 тысяч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мужчи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и 76 700,2 тысяч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женщин</a:t>
            </a: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, ил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46,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процента 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53,7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процента (в 2002 году - 46,6 процента и 53,4 процента). Соотношение мужчин и женщин несколько ухудшилось в связи с высокой преждевременной смертностью муж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езентацию подготовил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арамонова О.А. учитель географии МОБУ СОШ №1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орода Белорец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ahoma"/>
              </a:rPr>
              <a:t>Демограф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– это наука, изучающая всё, что связано с  населением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Arial"/>
              </a:rPr>
              <a:t>Изменение численности населения с 1996 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e5ffff"/>
                </a:solidFill>
                <a:latin typeface="Arial"/>
              </a:rPr>
              <a:t>по 2010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год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523880"/>
          <a:ext cx="8229600" cy="4980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8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6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5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5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1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2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Arial"/>
              </a:rPr>
              <a:t>График изменения численности насел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Содержимое 3" descr="1a5d350a8a470fe0ffeb2b5ccbc2945b.png"/>
          <p:cNvPicPr/>
          <p:nvPr/>
        </p:nvPicPr>
        <p:blipFill>
          <a:blip r:embed="rId2"/>
          <a:stretch/>
        </p:blipFill>
        <p:spPr>
          <a:xfrm>
            <a:off x="2209680" y="1447920"/>
            <a:ext cx="4754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. Китай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. Индия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. США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. Индонезия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5. Бразилия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6. Пакистан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7. Нигерия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8. Бангладеш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9.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Россия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0. Япони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 численности населения  Россия занимает 9 место в ми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Плотность населения России составляет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8,7 чел/км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сновной зоной расселения населения в России является: 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большая часть Европейской России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- Средний и Южный Урал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- юг Сибири и Дальнего Восто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Воспроизводство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населения </a:t>
            </a:r>
            <a:br>
              <a:rPr sz="4800"/>
            </a:b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– это процесс непрерывной смены покол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671400"/>
            <a:ext cx="9143280" cy="4999320"/>
            <a:chOff x="0" y="671400"/>
            <a:chExt cx="9143280" cy="4999320"/>
          </a:xfrm>
        </p:grpSpPr>
        <p:cxnSp>
          <p:nvCxnSpPr>
            <p:cNvPr id="94" name="_s19468"/>
            <p:cNvCxnSpPr>
              <a:stCxn id="95" idx="0"/>
              <a:endCxn id="96" idx="2"/>
            </p:cNvCxnSpPr>
            <p:nvPr/>
          </p:nvCxnSpPr>
          <p:spPr>
            <a:xfrm flipV="1" rot="16200000">
              <a:off x="5671080" y="1570320"/>
              <a:ext cx="1000440" cy="3200760"/>
            </a:xfrm>
            <a:prstGeom prst="bentConnector3">
              <a:avLst>
                <a:gd name="adj1" fmla="val 138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9467"/>
            <p:cNvCxnSpPr>
              <a:stCxn id="98" idx="0"/>
              <a:endCxn id="96" idx="2"/>
            </p:cNvCxnSpPr>
            <p:nvPr/>
          </p:nvCxnSpPr>
          <p:spPr>
            <a:xfrm flipV="1">
              <a:off x="4571280" y="2670480"/>
              <a:ext cx="3240" cy="1000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19466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2471040" y="1570320"/>
              <a:ext cx="1000440" cy="3200760"/>
            </a:xfrm>
            <a:prstGeom prst="bentConnector3">
              <a:avLst>
                <a:gd name="adj1" fmla="val 138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6" name="_s19462"/>
            <p:cNvSpPr/>
            <p:nvPr/>
          </p:nvSpPr>
          <p:spPr>
            <a:xfrm>
              <a:off x="3200040" y="671400"/>
              <a:ext cx="2742840" cy="1999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Тип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воспроизводств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9463"/>
            <p:cNvSpPr/>
            <p:nvPr/>
          </p:nvSpPr>
          <p:spPr>
            <a:xfrm>
              <a:off x="0" y="3670920"/>
              <a:ext cx="2742840" cy="1999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архети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9464"/>
            <p:cNvSpPr/>
            <p:nvPr/>
          </p:nvSpPr>
          <p:spPr>
            <a:xfrm>
              <a:off x="3200040" y="3670920"/>
              <a:ext cx="2742840" cy="1999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традицион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9465"/>
            <p:cNvSpPr/>
            <p:nvPr/>
          </p:nvSpPr>
          <p:spPr>
            <a:xfrm>
              <a:off x="6400440" y="3670920"/>
              <a:ext cx="2742840" cy="1999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овремен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1-11-22T16:14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