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C91-A548-46E5-86E4-B9C460E3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5A7-C728-4EAC-BDDC-BC3EBE7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22B-738E-4861-88FA-8EB739E2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386-C015-4DB4-8FDD-251CEE54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7A98-F8D9-445A-8E3C-729D3A39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C158-EC1B-4B3E-9211-F5DE45C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6ED-6B6C-4A71-B9F4-F1F4890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8B1E-8214-4E84-BEFB-7DB87F3A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2F0-9D4A-4456-9DB0-1C91B49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A2B-2337-4C23-A8D5-38BB9DD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27F-B0BE-4800-B629-ACC5CCB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C06-EE07-489B-9A64-C46A3DA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34B1-DCDB-4E73-BC45-715FE43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D6A7-2161-487B-95E1-B11A570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374-B841-42F7-BFCD-635BDC38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BB4B-23D9-4F39-B9F5-6BB44860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55B3-10D5-44E2-84F3-EEA28598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90E-1D50-4DFF-8265-EB2DD128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C74-DDD7-4966-9B09-B3F49CC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D1C-5E8C-41A0-BE84-670D5E2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F1F-A7B2-429E-85AA-AE32E6C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44B-1630-4C9F-B033-3A76FCD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18C-AE4E-4A01-9D8E-7DC6FFD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452-BCA3-476D-950E-67213D1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E2A-E6F8-4824-A119-D16190920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E46-5363-4707-B2BC-A4249EF3B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ffff"/>
                </a:solidFill>
                <a:latin typeface="Arial"/>
              </a:rPr>
              <a:t>Готовимся к зачёту по теме </a:t>
            </a:r>
            <a:br>
              <a:rPr sz="5400"/>
            </a:br>
            <a:r>
              <a:rPr b="1" i="1" lang="en-US" sz="5400" spc="-1" strike="noStrike">
                <a:solidFill>
                  <a:srgbClr val="e5ffff"/>
                </a:solidFill>
                <a:latin typeface="Arial"/>
              </a:rPr>
              <a:t>«Население России»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Естественное движение населе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– совокупность таких процессов, как рождаемость, смертность, брачность и разводимость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Естественный прирост населе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- это превышение   числа родившихся над числом умерших на 1000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жителей в год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 России естественного прироста нет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Депопуляция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– процесс смены естественного прироста населения естественной убылью и уменьшение численности населения в стране или регио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21932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стественная  убыль населения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- это превышение   числа умерших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над числом родившихся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на 1000 жителей в г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Демографический взрыв</a:t>
            </a: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резкое повышение численности населения за счет сокращения смертности при традиционно высокой рождаемости.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В России их не было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Демографический кризис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это резкое снижение численности населения в стране или регион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Во время первой мировой войны и революций, эпидемий, голода и т.д. (1914-1922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Голод и сталинские репрессии (1933-1934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. В годы ВОВ (1941-1945гг.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. В годы перестройки (90-е годы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В России был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4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демографических кризиса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Демографическая ситуац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это сложившееся в данном районе (стране) соотношение рождаемости, смертности и миграционной подвижности, создающих в данное время определённую половозрастную структуру населения и динамику его численност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ереписью учтено 66 205 тыся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ужчи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и 76 700,2 тысяч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женщин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, ил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46,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роцента 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53,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Arial"/>
              </a:rPr>
              <a:t>процента (в 2002 году - 46,6 процента и 53,4 процента). Соотношение мужчин и женщин несколько ухудшилось в связи с высокой преждевременной смертностью муж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езентацию подготовил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арамонова О.А. учитель географии МОБУ СОШ №1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орода Белорец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Демограф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– это наука, изучающая всё, что связано с  населением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Изменение численности населения с 1996 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по 2010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г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523880"/>
          <a:ext cx="8229600" cy="4980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Arial"/>
              </a:rPr>
              <a:t>График изменения численности насел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Содержимое 3" descr="1a5d350a8a470fe0ffeb2b5ccbc2945b.png"/>
          <p:cNvPicPr/>
          <p:nvPr/>
        </p:nvPicPr>
        <p:blipFill>
          <a:blip r:embed="rId2"/>
          <a:stretch/>
        </p:blipFill>
        <p:spPr>
          <a:xfrm>
            <a:off x="2209680" y="1447920"/>
            <a:ext cx="475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 Китай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. Инд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. США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. Индонезия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. Бразилия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6. Пакистан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7. Нигер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8. Бангладеш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9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. Япон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 численности населения  Россия занимает 9 место в ми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лотность населения России составляет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8,7 чел/км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ой зоной расселения населения в России является: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большая часть Европейской России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 Средний и Южный Урал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- юг Сибири и Дальнего Восто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Воспроизводство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населения </a:t>
            </a:r>
            <a:br>
              <a:rPr sz="4800"/>
            </a:b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– это процесс непрерывной смены покол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671400"/>
            <a:ext cx="9143280" cy="4999320"/>
            <a:chOff x="0" y="671400"/>
            <a:chExt cx="9143280" cy="4999320"/>
          </a:xfrm>
        </p:grpSpPr>
        <p:cxnSp>
          <p:nvCxnSpPr>
            <p:cNvPr id="94" name="_s1946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671080" y="1570320"/>
              <a:ext cx="1000440" cy="3200760"/>
            </a:xfrm>
            <a:prstGeom prst="bentConnector3">
              <a:avLst>
                <a:gd name="adj1" fmla="val 138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9467"/>
            <p:cNvCxnSpPr>
              <a:stCxn id="98" idx="0"/>
              <a:endCxn id="96" idx="2"/>
            </p:cNvCxnSpPr>
            <p:nvPr/>
          </p:nvCxnSpPr>
          <p:spPr>
            <a:xfrm flipV="1">
              <a:off x="4571280" y="2670480"/>
              <a:ext cx="3240" cy="1000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9466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471040" y="1570320"/>
              <a:ext cx="1000440" cy="3200760"/>
            </a:xfrm>
            <a:prstGeom prst="bentConnector3">
              <a:avLst>
                <a:gd name="adj1" fmla="val 138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6" name="_s19462"/>
            <p:cNvSpPr/>
            <p:nvPr/>
          </p:nvSpPr>
          <p:spPr>
            <a:xfrm>
              <a:off x="3200040" y="67140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Тип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воспроизводств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9463"/>
            <p:cNvSpPr/>
            <p:nvPr/>
          </p:nvSpPr>
          <p:spPr>
            <a:xfrm>
              <a:off x="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рхети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9464"/>
            <p:cNvSpPr/>
            <p:nvPr/>
          </p:nvSpPr>
          <p:spPr>
            <a:xfrm>
              <a:off x="320004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радицион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9465"/>
            <p:cNvSpPr/>
            <p:nvPr/>
          </p:nvSpPr>
          <p:spPr>
            <a:xfrm>
              <a:off x="6400440" y="3670920"/>
              <a:ext cx="2742840" cy="1999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овремен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1-11-22T16:14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