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8AC-8D74-4197-8D0E-FF99CDBE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EB7-D61A-4BA0-B638-28AC01A4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DC2-D527-421D-9DE7-68FD0F56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AF8-4918-4337-A146-AFB230FD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5B8-9492-4ACB-8968-95646B3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1F3-886B-4B22-8B6A-397CB8D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C66-0ED9-46E8-A5F1-3604806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C6F-720A-4916-8FCD-1C24FFBA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09B-017E-4C97-AF12-F3F54A0D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720-549E-43A0-BCE6-722FAA79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162-DABD-49B4-839C-E86AB03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F02-5785-459D-8FD0-1DE90DF4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0B9-FE0C-4AEF-A642-F3FF30D640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4A3C-2CBE-4A44-9A53-6BD18036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рные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 договоры</a:t>
            </a: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с союзниками Германии.</a:t>
            </a: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Вашингтонская конфе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x@ukrpost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357-1CE2-42C7-80E8-03639D0215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81A9B-0AA1-4FBD-833B-CC8D878B81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95F-637E-4AE0-95C7-574FBAB35A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60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Ней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7 но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предместье Пари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йи-сюр-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 мирный догов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га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2D5-57F2-4541-B8CF-409E5BAC3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62C-2F1E-49D0-9E66-882FEE9D7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706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Триано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ный договор с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нг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подписан лишь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4 июня 19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было связано с существ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енгерской советской респуб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E82-CED9-4EC3-B776-42F0FA25F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1904" t="0" r="11904" b="0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170-9FAA-4A88-AE6C-148074044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162864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августа 1920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лтанское правитель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ур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писа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врский мирный догов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котор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уществился разде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шей Османской имп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F90-B1D5-4EDA-8159-BD74082BB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909720"/>
            <a:ext cx="9144000" cy="5111640"/>
            <a:chOff x="0" y="909720"/>
            <a:chExt cx="9144000" cy="51116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404" t="0" r="4406" b="0"/>
            <a:stretch/>
          </p:blipFill>
          <p:spPr>
            <a:xfrm>
              <a:off x="0" y="909720"/>
              <a:ext cx="9144000" cy="50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164360" y="4869000"/>
              <a:ext cx="1979640" cy="11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C9C-89E9-4EA3-9DAA-CDE3BDC004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81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решения круг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 вокруг Турции и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а созвана международная конференция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швейцарском городе Лозан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0 ноября 1922 г. – длилась с перерывами до 24 июля 192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боте принимали участ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ликая Британия, Франция, Италия, Япония, Греция, Румыния, Королевство СХС, Турция, Советские республик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(Россия, Украина, Грузия)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олг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время конференции была принят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нвенция про режим Черноморских пролив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базировалась на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ринципе свободного прохода кораблей под любым флагом (военных и гражлански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24 июля 1923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был подписан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озаннский догов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 котором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юридически закреплялся распад Османской импер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пределялись новые границы Ту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8840" y="90360"/>
            <a:ext cx="61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783-8782-4079-AA5D-7A9B95A6DFF2}" type="slidenum">
              <a:t>17</a:t>
            </a:fld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Основн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е</a:t>
            </a:r>
            <a:r>
              <a:rPr b="1" lang="uk-UA" sz="4000" spc="-1" strike="noStrike" u="sng">
                <a:solidFill>
                  <a:srgbClr val="0000ff"/>
                </a:solidFill>
                <a:uFillTx/>
                <a:latin typeface="Arial"/>
              </a:rPr>
              <a:t> понятия, термины, иде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н-Жерме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й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иано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вр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аннски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ерсальско-Вашингтон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открытых двер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лозунг «равных вохможностей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5A4-B7A7-48A7-B325-C5C03570BA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0000ff"/>
                </a:solidFill>
                <a:uFillTx/>
                <a:latin typeface="Arial"/>
              </a:rPr>
              <a:t>Основные события, д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19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Сен-Жерменский и Ней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0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Трианонский и Севрский мирные до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3 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Лозаннский 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1921-1922 гг.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– Вашингтон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988-131B-4EB9-BFD0-56A64C9A9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0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06920" y="2652840"/>
            <a:ext cx="349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ик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ерсаль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33F-3BBA-4573-B020-817D92C222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136000" cy="5221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6120" y="5368680"/>
            <a:ext cx="778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мма репараций была согласована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921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ондонской конфе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оставила 132 млрд. золоты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EF6-9D3B-48EE-A3EA-A7BD9FCA1A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43280" y="2371680"/>
            <a:ext cx="739440" cy="3476520"/>
          </a:xfrm>
          <a:custGeom>
            <a:avLst/>
            <a:gdLst/>
            <a:ahLst/>
            <a:rect l="l" t="t" r="r" b="b"/>
            <a:pathLst>
              <a:path w="466" h="2190">
                <a:moveTo>
                  <a:pt x="0" y="0"/>
                </a:moveTo>
                <a:cubicBezTo>
                  <a:pt x="25" y="8"/>
                  <a:pt x="22" y="21"/>
                  <a:pt x="36" y="42"/>
                </a:cubicBezTo>
                <a:cubicBezTo>
                  <a:pt x="47" y="99"/>
                  <a:pt x="66" y="139"/>
                  <a:pt x="84" y="192"/>
                </a:cubicBezTo>
                <a:cubicBezTo>
                  <a:pt x="98" y="235"/>
                  <a:pt x="105" y="273"/>
                  <a:pt x="138" y="306"/>
                </a:cubicBezTo>
                <a:cubicBezTo>
                  <a:pt x="154" y="353"/>
                  <a:pt x="177" y="397"/>
                  <a:pt x="192" y="444"/>
                </a:cubicBezTo>
                <a:cubicBezTo>
                  <a:pt x="202" y="477"/>
                  <a:pt x="185" y="520"/>
                  <a:pt x="201" y="552"/>
                </a:cubicBezTo>
                <a:cubicBezTo>
                  <a:pt x="207" y="597"/>
                  <a:pt x="226" y="667"/>
                  <a:pt x="246" y="714"/>
                </a:cubicBezTo>
                <a:cubicBezTo>
                  <a:pt x="266" y="761"/>
                  <a:pt x="299" y="798"/>
                  <a:pt x="318" y="834"/>
                </a:cubicBezTo>
                <a:cubicBezTo>
                  <a:pt x="344" y="878"/>
                  <a:pt x="385" y="941"/>
                  <a:pt x="402" y="978"/>
                </a:cubicBezTo>
                <a:cubicBezTo>
                  <a:pt x="419" y="1015"/>
                  <a:pt x="413" y="1034"/>
                  <a:pt x="420" y="1059"/>
                </a:cubicBezTo>
                <a:cubicBezTo>
                  <a:pt x="432" y="1077"/>
                  <a:pt x="435" y="1101"/>
                  <a:pt x="447" y="1119"/>
                </a:cubicBezTo>
                <a:cubicBezTo>
                  <a:pt x="452" y="1154"/>
                  <a:pt x="456" y="1187"/>
                  <a:pt x="462" y="1221"/>
                </a:cubicBezTo>
                <a:cubicBezTo>
                  <a:pt x="458" y="1350"/>
                  <a:pt x="466" y="1377"/>
                  <a:pt x="444" y="1467"/>
                </a:cubicBezTo>
                <a:cubicBezTo>
                  <a:pt x="434" y="1509"/>
                  <a:pt x="405" y="1563"/>
                  <a:pt x="384" y="1602"/>
                </a:cubicBezTo>
                <a:cubicBezTo>
                  <a:pt x="335" y="1674"/>
                  <a:pt x="201" y="1833"/>
                  <a:pt x="150" y="1896"/>
                </a:cubicBezTo>
                <a:cubicBezTo>
                  <a:pt x="117" y="1940"/>
                  <a:pt x="101" y="1943"/>
                  <a:pt x="81" y="1977"/>
                </a:cubicBezTo>
                <a:cubicBezTo>
                  <a:pt x="49" y="2003"/>
                  <a:pt x="21" y="2046"/>
                  <a:pt x="30" y="2100"/>
                </a:cubicBezTo>
                <a:cubicBezTo>
                  <a:pt x="39" y="2154"/>
                  <a:pt x="36" y="2124"/>
                  <a:pt x="36" y="219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65000">
            <a:off x="809640" y="464940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382600">
            <a:off x="1011960" y="5188320"/>
            <a:ext cx="1227240" cy="29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1125360"/>
            <a:ext cx="648000" cy="64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4292640"/>
            <a:ext cx="57636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4720" y="3141720"/>
            <a:ext cx="358560" cy="288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429000"/>
            <a:ext cx="358920" cy="433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26600">
            <a:off x="6084720" y="1267920"/>
            <a:ext cx="1224000" cy="2305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667000">
            <a:off x="7380360" y="1484280"/>
            <a:ext cx="165564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3716280"/>
            <a:ext cx="576360" cy="93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2560" y="3789360"/>
            <a:ext cx="504720" cy="576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334800">
            <a:off x="1692000" y="2781000"/>
            <a:ext cx="35856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528400">
            <a:off x="1476360" y="2565360"/>
            <a:ext cx="503280" cy="230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FE7-5607-4028-B964-234B0517667C}" type="slidenum">
              <a:t>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4603" t="0" r="14603" b="0"/>
          <a:stretch/>
        </p:blipFill>
        <p:spPr>
          <a:xfrm>
            <a:off x="0" y="44280"/>
            <a:ext cx="9144000" cy="670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4F6-A228-4D8A-A2BD-2C915FEFFF9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21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Мирные договоры</a:t>
            </a:r>
            <a:br>
              <a:rPr sz="4800"/>
            </a:br>
            <a:r>
              <a:rPr b="1" lang="uk-UA" sz="4800" spc="-1" strike="noStrike">
                <a:solidFill>
                  <a:srgbClr val="0000ff"/>
                </a:solidFill>
                <a:latin typeface="Arial"/>
              </a:rPr>
              <a:t>с союзниками Герма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90E-2E46-40BE-97C2-0AC06D3803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682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0 сентября 1919 г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подписа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ен-Жерменский мирны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Австрие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й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фиксировал при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ых государственных границ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е возникли после ликвид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о-Венгерской монарх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1C3-FF97-456D-936E-05A280E6D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5:52:40Z</dcterms:created>
  <dc:creator>User</dc:creator>
  <dc:description/>
  <dc:language>en-US</dc:language>
  <cp:lastModifiedBy>Админ</cp:lastModifiedBy>
  <dcterms:modified xsi:type="dcterms:W3CDTF">2010-03-16T06:39:37Z</dcterms:modified>
  <cp:revision>10</cp:revision>
  <dc:subject/>
  <dc:title>Мирні договори з союзниками Німеччини. Вашингтонська конференція</dc:title>
</cp:coreProperties>
</file>