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BE1-D8CA-446D-AFB5-4890F6AD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65CB-68FC-490B-8FB3-31075928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74E-FF2A-4A75-8514-B9D5BFFB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2AB-838B-4426-AD69-DE453B03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46B-FCF8-4369-8B5D-C4D9EC5C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CF5-CA69-4DB9-BDA3-445B766D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38F-82EE-4962-9AFB-F0899B2F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EC6-FDC6-477B-8D78-13B83A25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F81-8606-428F-BC40-A27B4CCD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050-5461-43E5-BAE4-42136F5E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EF8-3602-40FE-BF9B-169CC185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D3E-C052-450B-B47B-8FAF14A6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B6C8-F573-49ED-AC5C-67956CF2986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97DA-B276-4755-8542-7EF2C892F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060640"/>
            <a:ext cx="86421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М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ирные</a:t>
            </a: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 договоры</a:t>
            </a:r>
            <a:br>
              <a:rPr sz="4000"/>
            </a:b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с союзниками Германии.</a:t>
            </a: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Вашингтонская конферен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x@ukrpost.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C0D-0F1E-4BAA-93D1-11EA8D07D93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ECEDA-3B12-4F70-98DE-856483BA0E9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11904" t="0" r="11904" b="0"/>
          <a:stretch/>
        </p:blipFill>
        <p:spPr>
          <a:xfrm>
            <a:off x="0" y="31428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8A6-C91B-4049-9D6F-9939CD4DF3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060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Нейский мирны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27 ноября 1919 г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предместье Париж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йи-сюр-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ло подписано мирный догов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олгар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249-4AB1-4291-B472-217A7CDBC7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11904" t="0" r="11904" b="0"/>
          <a:stretch/>
        </p:blipFill>
        <p:spPr>
          <a:xfrm>
            <a:off x="0" y="31428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466-D73A-451E-A4BC-B6ECF7BFAF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70640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Трианонский мирны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ный договор с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енгрие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был подписан лишь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4 июня 192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было связано с существова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енгерской советской республ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41D-DF03-4F52-BE3D-F84DB2D6B9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11904" t="0" r="11904" b="0"/>
          <a:stretch/>
        </p:blipFill>
        <p:spPr>
          <a:xfrm>
            <a:off x="0" y="31428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4AA9-8AC2-4362-8E11-F1C4C597A9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162864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врский мирны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10 августа 1920 г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лтанское правительств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ур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писа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врский мирный догово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котором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уществился разде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вшей Османской имп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43A-912B-412D-9DEE-20C4AEF58E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909720"/>
            <a:ext cx="9144000" cy="5111640"/>
            <a:chOff x="0" y="909720"/>
            <a:chExt cx="9144000" cy="5111640"/>
          </a:xfrm>
        </p:grpSpPr>
        <p:pic>
          <p:nvPicPr>
            <p:cNvPr id="74" name="" descr=""/>
            <p:cNvPicPr/>
            <p:nvPr/>
          </p:nvPicPr>
          <p:blipFill>
            <a:blip r:embed="rId1"/>
            <a:srcRect l="1404" t="0" r="4406" b="0"/>
            <a:stretch/>
          </p:blipFill>
          <p:spPr>
            <a:xfrm>
              <a:off x="0" y="909720"/>
              <a:ext cx="9144000" cy="50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164360" y="4869000"/>
              <a:ext cx="1979640" cy="11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26E-4341-49AB-9D80-DB7A1D0E18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9810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решения круг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блем вокруг Турции и Черноморских пролив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ыла созвана международная конференция в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швейцарском городе Лозан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20 ноября 1922 г. – длилась с перерывами до 24 июля 192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аботе принимали участие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ликая Британия, Франция, Италия, Япония, Греция, Румыния, Королевство СХС, Турция, Советские республики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(Россия, Украина, Грузия)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олга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время конференции была принят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венция про режим Черноморских пролив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оторая базировалась на 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принципе свободного прохода кораблей под любым флагом (военных и гражлански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24 июля 1923 г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ыл подписан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озаннский догов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о котором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юридически закреплялся распад Османской импер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определялись новые границы Тур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18840" y="90360"/>
            <a:ext cx="61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Лозаннский мирны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E0B-D037-4E5B-A571-52C5B775A62E}" type="slidenum">
              <a:t>17</a:t>
            </a:fld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ff"/>
                </a:solidFill>
                <a:uFillTx/>
                <a:latin typeface="Arial"/>
              </a:rPr>
              <a:t>Основн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ве</a:t>
            </a:r>
            <a:r>
              <a:rPr b="1" lang="uk-UA" sz="4000" spc="-1" strike="noStrike" u="sng">
                <a:solidFill>
                  <a:srgbClr val="0000ff"/>
                </a:solidFill>
                <a:uFillTx/>
                <a:latin typeface="Arial"/>
              </a:rPr>
              <a:t> понятия, термины, ид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ен-Жерменски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ейски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рианонски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еврски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Лозаннски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ашингтонская 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Версальско-Вашингтон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лозунг «открытых двер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лозунг «равных вохможностей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629-960C-4ACB-8931-B8CFDD3429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0000ff"/>
                </a:solidFill>
                <a:uFillTx/>
                <a:latin typeface="Arial"/>
              </a:rPr>
              <a:t>Основные события, д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1919 г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– Сен-Жерменский и Нейский мирные догов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1920 г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– Трианонский и Севрский мирные догов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1923 г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– Лозаннский мирны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1921-1922 гг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– Вашингтонская 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860-A417-440D-903F-42A3E271D2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402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06920" y="2652840"/>
            <a:ext cx="349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ик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Версальс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4F2-0491-4164-B508-E4B954F06E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8136000" cy="5221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36120" y="5368680"/>
            <a:ext cx="778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ма репараций была согласована ли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1921 г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ондонской конфе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оставила 132 млрд. золотых 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01A-49D8-4A63-A515-2AD041CE88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4603" t="0" r="14603" b="0"/>
          <a:stretch/>
        </p:blipFill>
        <p:spPr>
          <a:xfrm>
            <a:off x="0" y="44280"/>
            <a:ext cx="9144000" cy="6704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43280" y="2371680"/>
            <a:ext cx="739440" cy="3476520"/>
          </a:xfrm>
          <a:custGeom>
            <a:avLst/>
            <a:gdLst/>
            <a:ahLst/>
            <a:rect l="l" t="t" r="r" b="b"/>
            <a:pathLst>
              <a:path w="466" h="2190">
                <a:moveTo>
                  <a:pt x="0" y="0"/>
                </a:moveTo>
                <a:cubicBezTo>
                  <a:pt x="25" y="8"/>
                  <a:pt x="22" y="21"/>
                  <a:pt x="36" y="42"/>
                </a:cubicBezTo>
                <a:cubicBezTo>
                  <a:pt x="47" y="99"/>
                  <a:pt x="66" y="139"/>
                  <a:pt x="84" y="192"/>
                </a:cubicBezTo>
                <a:cubicBezTo>
                  <a:pt x="98" y="235"/>
                  <a:pt x="105" y="273"/>
                  <a:pt x="138" y="306"/>
                </a:cubicBezTo>
                <a:cubicBezTo>
                  <a:pt x="154" y="353"/>
                  <a:pt x="177" y="397"/>
                  <a:pt x="192" y="444"/>
                </a:cubicBezTo>
                <a:cubicBezTo>
                  <a:pt x="202" y="477"/>
                  <a:pt x="185" y="520"/>
                  <a:pt x="201" y="552"/>
                </a:cubicBezTo>
                <a:cubicBezTo>
                  <a:pt x="207" y="597"/>
                  <a:pt x="226" y="667"/>
                  <a:pt x="246" y="714"/>
                </a:cubicBezTo>
                <a:cubicBezTo>
                  <a:pt x="266" y="761"/>
                  <a:pt x="299" y="798"/>
                  <a:pt x="318" y="834"/>
                </a:cubicBezTo>
                <a:cubicBezTo>
                  <a:pt x="344" y="878"/>
                  <a:pt x="385" y="941"/>
                  <a:pt x="402" y="978"/>
                </a:cubicBezTo>
                <a:cubicBezTo>
                  <a:pt x="419" y="1015"/>
                  <a:pt x="413" y="1034"/>
                  <a:pt x="420" y="1059"/>
                </a:cubicBezTo>
                <a:cubicBezTo>
                  <a:pt x="432" y="1077"/>
                  <a:pt x="435" y="1101"/>
                  <a:pt x="447" y="1119"/>
                </a:cubicBezTo>
                <a:cubicBezTo>
                  <a:pt x="452" y="1154"/>
                  <a:pt x="456" y="1187"/>
                  <a:pt x="462" y="1221"/>
                </a:cubicBezTo>
                <a:cubicBezTo>
                  <a:pt x="458" y="1350"/>
                  <a:pt x="466" y="1377"/>
                  <a:pt x="444" y="1467"/>
                </a:cubicBezTo>
                <a:cubicBezTo>
                  <a:pt x="434" y="1509"/>
                  <a:pt x="405" y="1563"/>
                  <a:pt x="384" y="1602"/>
                </a:cubicBezTo>
                <a:cubicBezTo>
                  <a:pt x="335" y="1674"/>
                  <a:pt x="201" y="1833"/>
                  <a:pt x="150" y="1896"/>
                </a:cubicBezTo>
                <a:cubicBezTo>
                  <a:pt x="117" y="1940"/>
                  <a:pt x="101" y="1943"/>
                  <a:pt x="81" y="1977"/>
                </a:cubicBezTo>
                <a:cubicBezTo>
                  <a:pt x="49" y="2003"/>
                  <a:pt x="21" y="2046"/>
                  <a:pt x="30" y="2100"/>
                </a:cubicBezTo>
                <a:cubicBezTo>
                  <a:pt x="39" y="2154"/>
                  <a:pt x="36" y="2124"/>
                  <a:pt x="36" y="219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365000">
            <a:off x="809640" y="4649400"/>
            <a:ext cx="1227240" cy="29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382600">
            <a:off x="1011960" y="5188320"/>
            <a:ext cx="1227240" cy="29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1125360"/>
            <a:ext cx="648000" cy="648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4292640"/>
            <a:ext cx="57636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4720" y="3141720"/>
            <a:ext cx="358560" cy="288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3429000"/>
            <a:ext cx="358920" cy="433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926600">
            <a:off x="6084720" y="1267920"/>
            <a:ext cx="1224000" cy="2305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667000">
            <a:off x="7380360" y="1484280"/>
            <a:ext cx="1655640" cy="576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88000" y="3716280"/>
            <a:ext cx="576360" cy="936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2560" y="3789360"/>
            <a:ext cx="504720" cy="576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334800">
            <a:off x="1692000" y="2781000"/>
            <a:ext cx="358560" cy="1008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0528400">
            <a:off x="1476360" y="2565360"/>
            <a:ext cx="503280" cy="2303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42F-C0ED-4A5D-9F8D-40DC9282E1C2}" type="slidenum">
              <a:t>6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0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4603" t="0" r="14603" b="0"/>
          <a:stretch/>
        </p:blipFill>
        <p:spPr>
          <a:xfrm>
            <a:off x="0" y="44280"/>
            <a:ext cx="9144000" cy="670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AC9-EE15-41F9-BC36-71D91826325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060640"/>
            <a:ext cx="86421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ff"/>
                </a:solidFill>
                <a:latin typeface="Arial"/>
              </a:rPr>
              <a:t>Мирные договоры</a:t>
            </a:r>
            <a:br>
              <a:rPr sz="4800"/>
            </a:br>
            <a:r>
              <a:rPr b="1" lang="uk-UA" sz="4800" spc="-1" strike="noStrike">
                <a:solidFill>
                  <a:srgbClr val="0000ff"/>
                </a:solidFill>
                <a:latin typeface="Arial"/>
              </a:rPr>
              <a:t>с союзниками Герма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669-67A0-4A83-90A5-39D8E73A66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6828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ен-Жерменский мирны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10 сентября 1919 г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ло подписа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н-Жерменский мирны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 Австрие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й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фиксировал при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овых государственных границ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е возникли после ликвид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стро-Венгерской монарх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A88-379C-40F7-A98E-7C63547A1E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5:52:40Z</dcterms:created>
  <dc:creator>User</dc:creator>
  <dc:description/>
  <dc:language>en-US</dc:language>
  <cp:lastModifiedBy>Админ</cp:lastModifiedBy>
  <dcterms:modified xsi:type="dcterms:W3CDTF">2010-03-16T06:39:37Z</dcterms:modified>
  <cp:revision>10</cp:revision>
  <dc:subject/>
  <dc:title>Мирні договори з союзниками Німеччини. Вашингтонська конференція</dc:title>
</cp:coreProperties>
</file>