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5F-8F37-4200-B4F9-26B8DC96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4FC-D246-4794-830A-88899A15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4F6-3A0E-40E1-BD80-ADD51DB4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655-3D57-41AC-9819-7D117AAA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768-0041-46B0-AFDE-4CCBDCA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8F0-F2B4-447D-8073-4E2B115D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B8E-2F7D-4AE2-A454-70DD580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233-9B1D-4DEA-8902-AC89C367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5F1-E3AA-42E5-A049-11C6DDA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BFE-78C3-487D-A18E-46743DA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4C0-D6DA-49D9-B93F-3C8D1BC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6DA-0899-4F1F-BCBA-969E84F0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AF3-A08E-4EE6-B929-5FA8560B616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C5A4-B0E2-476D-8D0F-F3DE2FF7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рные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 договоры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с союзниками Германии.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Вашингтонская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x@ukrpost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37E-C538-4F54-9B0B-23090E83D4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A6615-B26A-4C4B-BD39-8DC7FE7779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3D6-A4FD-4F3C-9B9A-2F61D0DC99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6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Ней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7 но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предместье Пари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йи-сюр-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 мирный до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га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A3C-9F10-4DB5-B1E3-DE7A2D3EC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A07-ABA4-4372-8936-40812F22E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706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Триано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ный договор 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нг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подписан лишь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4 июня 19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было связано с существ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нгерской советской респу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73D-87CB-47FF-B5E3-6F80E798A8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79A-A724-4615-AB98-20879C467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62864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августа 1920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лтанское правитель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ур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пис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уществился разд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шей Осман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F38-2515-4A4D-8C5D-A1B68E187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909720"/>
            <a:ext cx="9144000" cy="5111640"/>
            <a:chOff x="0" y="909720"/>
            <a:chExt cx="9144000" cy="51116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404" t="0" r="4406" b="0"/>
            <a:stretch/>
          </p:blipFill>
          <p:spPr>
            <a:xfrm>
              <a:off x="0" y="909720"/>
              <a:ext cx="9144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164360" y="4869000"/>
              <a:ext cx="1979640" cy="11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D3D-5BA3-473B-AD61-7A791BECE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решения круг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 вокруг Турции и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а созвана международная конференция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швейцарском городе Лозан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0 ноября 1922 г. – длилась с перерывами до 24 июля 192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боте принимали участ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ликая Британия, Франция, Италия, Япония, Греция, Румыния, Королевство СХС, Турция, Советские республик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Россия, Украина, Грузия)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г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я конференции была приня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венция про режим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базировалась на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ринципе свободного прохода кораблей под любым флагом (военных и гражланск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4 июля 1923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 подписан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озаннский догов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 котор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юридически закреплялся распад Османской имп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пределялись новые границы Ту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8840" y="90360"/>
            <a:ext cx="61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509-B765-43D2-823F-36D67EC69EBB}" type="slidenum">
              <a:t>17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Основн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е</a:t>
            </a: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 понятия, термины,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н-Жерме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й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иано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вр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ан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ерсальско-Вашингтон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открытых двер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равных вохможностей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789-0458-46FD-8DD9-6C1C2A834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Основные события, д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19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Сен-Жерменский и Ней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0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Трианонский и Севр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3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1-1922 г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218-5EF0-464B-9F61-A6EC6D8BA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0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06920" y="2652840"/>
            <a:ext cx="349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и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рсаль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CAA-51DA-4CAF-BBFB-6B6504D839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136000" cy="522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6120" y="5368680"/>
            <a:ext cx="778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репараций была согласована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921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ндонской 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ставила 132 млрд. золоты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68D-2707-46C7-A915-625ECE257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43280" y="2371680"/>
            <a:ext cx="739440" cy="3476520"/>
          </a:xfrm>
          <a:custGeom>
            <a:avLst/>
            <a:gdLst/>
            <a:ahLst/>
            <a:rect l="l" t="t" r="r" b="b"/>
            <a:pathLst>
              <a:path w="466" h="2190">
                <a:moveTo>
                  <a:pt x="0" y="0"/>
                </a:moveTo>
                <a:cubicBezTo>
                  <a:pt x="25" y="8"/>
                  <a:pt x="22" y="21"/>
                  <a:pt x="36" y="42"/>
                </a:cubicBezTo>
                <a:cubicBezTo>
                  <a:pt x="47" y="99"/>
                  <a:pt x="66" y="139"/>
                  <a:pt x="84" y="192"/>
                </a:cubicBezTo>
                <a:cubicBezTo>
                  <a:pt x="98" y="235"/>
                  <a:pt x="105" y="273"/>
                  <a:pt x="138" y="306"/>
                </a:cubicBezTo>
                <a:cubicBezTo>
                  <a:pt x="154" y="353"/>
                  <a:pt x="177" y="397"/>
                  <a:pt x="192" y="444"/>
                </a:cubicBezTo>
                <a:cubicBezTo>
                  <a:pt x="202" y="477"/>
                  <a:pt x="185" y="520"/>
                  <a:pt x="201" y="552"/>
                </a:cubicBezTo>
                <a:cubicBezTo>
                  <a:pt x="207" y="597"/>
                  <a:pt x="226" y="667"/>
                  <a:pt x="246" y="714"/>
                </a:cubicBezTo>
                <a:cubicBezTo>
                  <a:pt x="266" y="761"/>
                  <a:pt x="299" y="798"/>
                  <a:pt x="318" y="834"/>
                </a:cubicBezTo>
                <a:cubicBezTo>
                  <a:pt x="344" y="878"/>
                  <a:pt x="385" y="941"/>
                  <a:pt x="402" y="978"/>
                </a:cubicBezTo>
                <a:cubicBezTo>
                  <a:pt x="419" y="1015"/>
                  <a:pt x="413" y="1034"/>
                  <a:pt x="420" y="1059"/>
                </a:cubicBezTo>
                <a:cubicBezTo>
                  <a:pt x="432" y="1077"/>
                  <a:pt x="435" y="1101"/>
                  <a:pt x="447" y="1119"/>
                </a:cubicBezTo>
                <a:cubicBezTo>
                  <a:pt x="452" y="1154"/>
                  <a:pt x="456" y="1187"/>
                  <a:pt x="462" y="1221"/>
                </a:cubicBezTo>
                <a:cubicBezTo>
                  <a:pt x="458" y="1350"/>
                  <a:pt x="466" y="1377"/>
                  <a:pt x="444" y="1467"/>
                </a:cubicBezTo>
                <a:cubicBezTo>
                  <a:pt x="434" y="1509"/>
                  <a:pt x="405" y="1563"/>
                  <a:pt x="384" y="1602"/>
                </a:cubicBezTo>
                <a:cubicBezTo>
                  <a:pt x="335" y="1674"/>
                  <a:pt x="201" y="1833"/>
                  <a:pt x="150" y="1896"/>
                </a:cubicBezTo>
                <a:cubicBezTo>
                  <a:pt x="117" y="1940"/>
                  <a:pt x="101" y="1943"/>
                  <a:pt x="81" y="1977"/>
                </a:cubicBezTo>
                <a:cubicBezTo>
                  <a:pt x="49" y="2003"/>
                  <a:pt x="21" y="2046"/>
                  <a:pt x="30" y="2100"/>
                </a:cubicBezTo>
                <a:cubicBezTo>
                  <a:pt x="39" y="2154"/>
                  <a:pt x="36" y="2124"/>
                  <a:pt x="36" y="219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65000">
            <a:off x="809640" y="464940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382600">
            <a:off x="1011960" y="518832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1125360"/>
            <a:ext cx="648000" cy="64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292640"/>
            <a:ext cx="57636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4720" y="3141720"/>
            <a:ext cx="358560" cy="28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429000"/>
            <a:ext cx="358920" cy="433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26600">
            <a:off x="6084720" y="1267920"/>
            <a:ext cx="1224000" cy="230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667000">
            <a:off x="7380360" y="1484280"/>
            <a:ext cx="165564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3716280"/>
            <a:ext cx="5763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2560" y="3789360"/>
            <a:ext cx="504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334800">
            <a:off x="1692000" y="2781000"/>
            <a:ext cx="35856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528400">
            <a:off x="1476360" y="2565360"/>
            <a:ext cx="503280" cy="230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626-C3AB-435F-ADB4-40326228BD2E}" type="slidenum">
              <a:t>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AC8-BE0D-434F-ADC1-895042EB75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Мирные договоры</a:t>
            </a:r>
            <a:br>
              <a:rPr sz="4800"/>
            </a:b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с союзниками Герм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E45-1183-4CF7-9A3A-261386C9B6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68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сент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Авст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й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фиксировал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ых государственных грани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е возникли после ликвид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о-Венгерской мон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3CA-32A1-48EA-B489-0D96422EE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5:52:40Z</dcterms:created>
  <dc:creator>User</dc:creator>
  <dc:description/>
  <dc:language>en-US</dc:language>
  <cp:lastModifiedBy>Админ</cp:lastModifiedBy>
  <dcterms:modified xsi:type="dcterms:W3CDTF">2010-03-16T06:39:37Z</dcterms:modified>
  <cp:revision>10</cp:revision>
  <dc:subject/>
  <dc:title>Мирні договори з союзниками Німеччини. Вашингтонська конференція</dc:title>
</cp:coreProperties>
</file>