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F68-B413-4D36-9EDE-042D4504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190-757E-495B-AA8F-0D9DE4A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45-6518-477C-981C-7945D090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E83-29A7-40BC-92F6-862FD3B9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BE-1CC0-409A-A6C9-F81B5EF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C15-2EF3-4B1D-A27C-DD709EB5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173-00E6-498A-B218-14BC03D7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E22-9FE2-4ADE-A235-FBB71E2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080-F87B-4987-8BA5-04B98FE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852-B99D-4788-A68D-C45BAC4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AC2-C785-422F-A917-D7CE265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C60-98DB-4A26-98F5-8B99B0A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9609-0AB6-494F-A4D0-524A40056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754200"/>
            <a:ext cx="8066160" cy="22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ная  и деревообрабатывающа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отовка древесин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10" descr="BD19993_"/>
          <p:cNvPicPr/>
          <p:nvPr/>
        </p:nvPicPr>
        <p:blipFill>
          <a:blip r:embed="rId1"/>
          <a:stretch/>
        </p:blipFill>
        <p:spPr>
          <a:xfrm>
            <a:off x="2050920" y="3381480"/>
            <a:ext cx="44053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1268280"/>
            <a:ext cx="874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знакомиться со структурой лесной и деревообрабатывающей промышленностью о способами заготовки древесины; научиться определять объём заготовленной древеси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24000" y="1125360"/>
            <a:ext cx="8569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шей стране проблема рационального использования лесных ресурсов, научным основам лесного хозяйства отводится большое 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ЛЕСНОЕ ХОЗЯЙСТ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к отрасль народного хозяйства занимается изучение, учётом и воспроизводством лесов, охраной их от пожаров, болезней и вредителей, лесовозобновлением и лесоразведением, регулированием лесопользованием, повышением продуктивности ле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есная промышленность сосредоточена в лесхозах (леспромхозах), лесничествах и других пред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1. ЛЕСХО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и осуществляют рубку л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ят новые поса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ют молодые сажен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яют лес от пожа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заготовку (грибов, ягод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имаются заготовкой, вывозкой, разделкой по сортам и отгрузкой древес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ичным сплавом леса, переработкой низкосортной древесины, коры, ветвей, хвои  и Осуществляют  получение дёгтя, скипидара, технологической щепы, канифол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84360" y="404640"/>
            <a:ext cx="80643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2.  ЛЕСНИЧЕ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ед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ой лесов и их использова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нием леса, лесовосстановлением и лесоразвед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ходом за лесными культурами и лесом, отводом лесо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ЕРЕВООБРАБАТЫВАЮЩА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ышленность заним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ом пило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готовлением изделий из древесины (шпал, фанеры, строительного   оборудования, спичек, мебели, деревянной тары и другой продук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D20009_"/>
          <p:cNvPicPr/>
          <p:nvPr/>
        </p:nvPicPr>
        <p:blipFill>
          <a:blip r:embed="rId1"/>
          <a:stretch/>
        </p:blipFill>
        <p:spPr>
          <a:xfrm>
            <a:off x="1979640" y="3429000"/>
            <a:ext cx="424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4000" y="765000"/>
            <a:ext cx="88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50920" y="404640"/>
            <a:ext cx="8543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продукции из древесин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зависимости от способа её обрабо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989000"/>
          <a:ext cx="8353440" cy="392616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 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з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оматериалы, двери, окна, мебель, паркет, тара, бочки, фанера, плиты, игр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чник-распиловщик, станочник токарных станков, оператор по деревообрабо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мага, картон, целлюлоза, фотоплёнка, киноплёнка, покрышки, резиновая обу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щик целлюлозы, накатчик бумагоотделочной машины, оператор-прессовщик, вулканизаторщик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ипидар, масло, спирт, каниф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чик гидролиза, аппаратчик разложения древесины, оператор лесохимической установки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900000" y="620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4360" y="538200"/>
            <a:ext cx="784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объема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объема заготовленной древесины использу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скоб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вил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рей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le0168"/>
          <p:cNvPicPr/>
          <p:nvPr/>
        </p:nvPicPr>
        <p:blipFill>
          <a:blip r:embed="rId1"/>
          <a:srcRect l="15682" t="64092" r="12067" b="10704"/>
          <a:stretch/>
        </p:blipFill>
        <p:spPr>
          <a:xfrm>
            <a:off x="3276720" y="1557360"/>
            <a:ext cx="5184720" cy="257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4000" y="29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мерная в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мерная ск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ерная р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76720" y="53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255840" y="465300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9840" y="4869000"/>
            <a:ext cx="60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4040" y="4508640"/>
            <a:ext cx="63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 древесины определяют по формул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=(Д1+Д2)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Д2 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, где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3,14, Д –средний диа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4:30:41Z</dcterms:created>
  <dc:creator>одиннадцатыйб</dc:creator>
  <dc:description/>
  <dc:language>en-US</dc:language>
  <cp:lastModifiedBy>ZooM</cp:lastModifiedBy>
  <dcterms:modified xsi:type="dcterms:W3CDTF">2013-12-16T00:44:52Z</dcterms:modified>
  <cp:revision>13</cp:revision>
  <dc:subject/>
  <dc:title>Слайд 1</dc:title>
</cp:coreProperties>
</file>