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491-7865-4F63-8E12-865835C9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655-6B0C-4EC0-B754-ADB741C4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953-7842-45EE-A976-C7444DDF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76E-5D0D-45B3-93E8-8B12CEB2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EDF-9E6E-4DA8-B43F-16CAB42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8F7-0B2A-4292-B995-EB0BF7B7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3A2-4FF0-442B-8AB9-0AFE09F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AD4-5562-42DB-AED2-6DA454BD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6A7-3723-42E3-9478-4D037E52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547-59F7-46E1-9602-B256393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375-5677-4091-909C-BF280FC0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986-6B95-47C2-9836-56B795CF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07D1-FA2F-4A33-9BA5-241D885C7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11280" y="754200"/>
            <a:ext cx="8066160" cy="22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сная  и деревообрабатывающа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мышленность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готовка древесины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10" descr="BD19993_"/>
          <p:cNvPicPr/>
          <p:nvPr/>
        </p:nvPicPr>
        <p:blipFill>
          <a:blip r:embed="rId1"/>
          <a:stretch/>
        </p:blipFill>
        <p:spPr>
          <a:xfrm>
            <a:off x="2050920" y="3381480"/>
            <a:ext cx="440532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920" y="1268280"/>
            <a:ext cx="8748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ознакомиться со структурой лесной и деревообрабатывающей промышленностью о способами заготовки древесины; научиться определять объём заготовленной древеси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324000" y="1125360"/>
            <a:ext cx="856908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ашей стране проблема рационального использования лесных ресурсов, научным основам лесного хозяйства отводится большое знач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ЛЕСНОЕ ХОЗЯЙСТ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ак отрасль народного хозяйства занимается изучение, учётом и воспроизводством лесов, охраной их от пожаров, болезней и вредителей, лесовозобновлением и лесоразведением, регулированием лесопользованием, повышением продуктивности ле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Лесная промышленность сосредоточена в лесхозах (леспромхозах), лесничествах и других предпри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1. ЛЕСХОЗ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уют и осуществляют рубку ле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ят новые посад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щивают молодые саженц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яют лес от пожа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уют заготовку (грибов, ягод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имаются заготовкой, вывозкой, разделкой по сортам и отгрузкой древес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ичным сплавом леса, переработкой низкосортной древесины, коры, ветвей, хвои  и Осуществляют  получение дёгтя, скипидара, технологической щепы, канифоли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684360" y="404640"/>
            <a:ext cx="80643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2.  ЛЕСНИЧЕСТВ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еда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ой лесов и их использова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щиванием леса, лесовосстановлением и лесоразвед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ходом за лесными культурами и лесом, отводом лесо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ДЕРЕВООБРАБАТЫВАЮЩА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мышленность занима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ством пило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готовлением изделий из древесины (шпал, фанеры, строительного   оборудования, спичек, мебели, деревянной тары и другой продук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BD20009_"/>
          <p:cNvPicPr/>
          <p:nvPr/>
        </p:nvPicPr>
        <p:blipFill>
          <a:blip r:embed="rId1"/>
          <a:stretch/>
        </p:blipFill>
        <p:spPr>
          <a:xfrm>
            <a:off x="1979640" y="3429000"/>
            <a:ext cx="4248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24000" y="765000"/>
            <a:ext cx="882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250920" y="404640"/>
            <a:ext cx="8543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продукции из древесины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зависимости от способа её обработ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95280" y="1989000"/>
          <a:ext cx="8353440" cy="392616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360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чие 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ан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ез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ломатериалы, двери, окна, мебель, паркет, тара, бочки, фанера, плиты, игр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чник-распиловщик, станочник токарных станков, оператор по деревообрабо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з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мага, картон, целлюлоза, фотоплёнка, киноплёнка, покрышки, резиновая обу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щик целлюлозы, накатчик бумагоотделочной машины, оператор-прессовщик, вулканизаторщик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з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ипидар, масло, спирт, каниф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паратчик гидролиза, аппаратчик разложения древесины, оператор лесохимической установки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900000" y="62064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4360" y="538200"/>
            <a:ext cx="784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объема древес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пределения объема заготовленной древесины использу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 Мерную скобу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 мерную вилку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 мерную рейку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File0168"/>
          <p:cNvPicPr/>
          <p:nvPr/>
        </p:nvPicPr>
        <p:blipFill>
          <a:blip r:embed="rId1"/>
          <a:srcRect l="15682" t="64092" r="12067" b="10704"/>
          <a:stretch/>
        </p:blipFill>
        <p:spPr>
          <a:xfrm>
            <a:off x="3276720" y="1557360"/>
            <a:ext cx="5184720" cy="2579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24000" y="299736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мерная ви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мерная ск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мерная р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276720" y="537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255840" y="4653000"/>
            <a:ext cx="42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39840" y="4869000"/>
            <a:ext cx="603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544040" y="4508640"/>
            <a:ext cx="63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 древесины определяют по формул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=(Д1+Д2)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+Д2 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, где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3,14, Д –средний диаметр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4:30:41Z</dcterms:created>
  <dc:creator>одиннадцатыйб</dc:creator>
  <dc:description/>
  <dc:language>en-US</dc:language>
  <cp:lastModifiedBy>ZooM</cp:lastModifiedBy>
  <dcterms:modified xsi:type="dcterms:W3CDTF">2013-12-16T00:44:52Z</dcterms:modified>
  <cp:revision>13</cp:revision>
  <dc:subject/>
  <dc:title>Слайд 1</dc:title>
</cp:coreProperties>
</file>