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59AE-044C-408F-89CB-92FC7232C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1502-832E-43F3-B486-2D704723B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E226-FE44-4207-9866-5B2C51D37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7A88-CAFE-491F-B61B-12BEE214D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07382-90F1-4F61-B4E1-04D56828C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B85A4-A523-4C75-AEF6-E207F3D5E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1C003-CD63-476F-B771-0B8AF3C34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97930-39C0-45C7-BC28-5D51232D0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9865C-E492-4FAB-98EE-ECCC11F20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EB9A8-42AB-4E9E-B8BB-783A08A51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52FDC-0490-494D-90EE-5AAD1B37D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CEA1-13F4-4ECC-A9BA-9E1746BC9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E7B77-C66E-4239-AF31-BCC0B609E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320EF-E38A-4CC4-B413-2F075E259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75F0A-4294-4A28-9E12-E98CA2CF2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2A619-21B3-4B8D-B50F-AAD607F64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4322E-A2FC-4BDF-BAD4-00C0E073A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1890-548E-4C15-BADC-201E00774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0EE7-4C98-4110-A325-499C66C38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DFCE-0ADD-4565-8AC8-9E9D85D39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6D04-3B32-4EA9-81D6-91841E3A6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8909-C989-4E00-8899-FBEF07F49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C96A-4932-43A1-AEF2-828A96094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93A5-F894-4EF9-BD59-2E035BD1B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:\abitbetter\bamboo.gif"/>
          <p:cNvPicPr/>
          <p:nvPr/>
        </p:nvPicPr>
        <p:blipFill>
          <a:blip r:embed="rId2"/>
          <a:srcRect l="0" t="0" r="45976" b="0"/>
          <a:stretch/>
        </p:blipFill>
        <p:spPr>
          <a:xfrm>
            <a:off x="7353360" y="0"/>
            <a:ext cx="1790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09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2481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B0DB4-9C68-497E-9B20-D4850B4CDC6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C:\abitbetter\bamboo.gif"/>
          <p:cNvPicPr/>
          <p:nvPr/>
        </p:nvPicPr>
        <p:blipFill>
          <a:blip r:embed="rId2"/>
          <a:srcRect l="0" t="0" r="13799" b="0"/>
          <a:stretch/>
        </p:blipFill>
        <p:spPr>
          <a:xfrm>
            <a:off x="6292800" y="-1440"/>
            <a:ext cx="2857680" cy="6868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256680" y="624852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108160" y="6248520"/>
            <a:ext cx="299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54864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B1D9F-BF9B-4D50-97D5-1F489F24F4C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822960"/>
            <a:ext cx="6248520" cy="252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9900"/>
                </a:solidFill>
                <a:latin typeface="comic"/>
              </a:rPr>
              <a:t>Зелёный друг</a:t>
            </a:r>
            <a:endParaRPr b="0" lang="en-US" sz="80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285640" y="5181120"/>
            <a:ext cx="29718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Arial"/>
              </a:rPr>
              <a:t>Выполни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Arial"/>
              </a:rPr>
              <a:t>Байкова Екатерина, </a:t>
            </a:r>
            <a:r>
              <a:rPr b="0" lang="ru-RU" sz="1400" spc="-1" strike="noStrike">
                <a:solidFill>
                  <a:srgbClr val="006600"/>
                </a:solidFill>
                <a:latin typeface="Arial"/>
              </a:rPr>
              <a:t>Каменский</a:t>
            </a:r>
            <a:r>
              <a:rPr b="0" lang="ru-RU" sz="1600" spc="-1" strike="noStrike">
                <a:solidFill>
                  <a:srgbClr val="006600"/>
                </a:solidFill>
                <a:latin typeface="Arial"/>
              </a:rPr>
              <a:t> Андрей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Arial"/>
              </a:rPr>
              <a:t>ученики 4 класс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2666880" y="22860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240" y="990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00"/>
                </a:solidFill>
                <a:latin typeface="Arial Black"/>
              </a:rPr>
              <a:t>Литература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1295280" y="3048120"/>
            <a:ext cx="579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imes New Roman"/>
              </a:rPr>
              <a:t>1. Ахметзянова Л.А. «Зелёный друг» // Журнал «Начальная школа», 2004г. №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240" y="990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00"/>
                </a:solidFill>
                <a:latin typeface="Arial Black"/>
              </a:rPr>
              <a:t>Цели работы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240" y="2590920"/>
            <a:ext cx="75438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Изучить способы размножения хлорофитум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увеличить число растений хлорофитума в класс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746748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00"/>
                </a:solidFill>
                <a:latin typeface="Arial Black"/>
              </a:rPr>
              <a:t>Портрет зеленого друга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pic>
        <p:nvPicPr>
          <p:cNvPr id="90" name="Picture 3" descr="W:\10_group\karjer\media materials\15288[1].jpg"/>
          <p:cNvPicPr/>
          <p:nvPr/>
        </p:nvPicPr>
        <p:blipFill>
          <a:blip r:embed="rId1"/>
          <a:stretch/>
        </p:blipFill>
        <p:spPr>
          <a:xfrm>
            <a:off x="3733920" y="1676520"/>
            <a:ext cx="3809880" cy="4495680"/>
          </a:xfrm>
          <a:prstGeom prst="rect">
            <a:avLst/>
          </a:prstGeom>
          <a:ln w="0">
            <a:noFill/>
          </a:ln>
        </p:spPr>
      </p:pic>
      <p:sp>
        <p:nvSpPr>
          <p:cNvPr id="91" name="Text Box 4"/>
          <p:cNvSpPr/>
          <p:nvPr/>
        </p:nvSpPr>
        <p:spPr>
          <a:xfrm>
            <a:off x="533520" y="2438280"/>
            <a:ext cx="3276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imes New Roman"/>
              </a:rPr>
              <a:t>Одно из самых распространенных комнатных растений. Родина его – Африка. Листья линейные, бывают с продольными светлыми полосками. Цветки мелки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7467480" cy="131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00"/>
                </a:solidFill>
                <a:latin typeface="Arial Black"/>
              </a:rPr>
              <a:t>Размножение хлорофитума</a:t>
            </a:r>
            <a:endParaRPr b="0" lang="en-US" sz="40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1371600" y="2514600"/>
            <a:ext cx="525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1066680" y="2743200"/>
            <a:ext cx="502920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6600"/>
                </a:solidFill>
                <a:latin typeface="Times New Roman"/>
              </a:rPr>
              <a:t>Взяли взрослое раст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6600"/>
                </a:solidFill>
                <a:latin typeface="Times New Roman"/>
              </a:rPr>
              <a:t>Подождали, когда оно отцвете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6600"/>
                </a:solidFill>
                <a:latin typeface="Times New Roman"/>
              </a:rPr>
              <a:t>После отцветания на стеблях образовались молодые раст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6600"/>
                </a:solidFill>
                <a:latin typeface="Times New Roman"/>
              </a:rPr>
              <a:t>Отделили молодое раст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6600"/>
                </a:solidFill>
                <a:latin typeface="Times New Roman"/>
              </a:rPr>
              <a:t>Высадили новое растение в горшо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240" y="990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00"/>
                </a:solidFill>
                <a:latin typeface="Arial Black"/>
              </a:rPr>
              <a:t>Наши наблюдения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1371600" y="25909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75"/>
          <p:cNvSpPr/>
          <p:nvPr/>
        </p:nvSpPr>
        <p:spPr>
          <a:xfrm>
            <a:off x="838080" y="2590920"/>
            <a:ext cx="655344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6600"/>
                </a:solidFill>
                <a:latin typeface="Times New Roman"/>
              </a:rPr>
              <a:t>Через 3 недели (в марте)  – результат:</a:t>
            </a:r>
            <a:br>
              <a:rPr sz="2400"/>
            </a:br>
            <a:r>
              <a:rPr b="1" lang="ru-RU" sz="2400" spc="-1" strike="noStrike">
                <a:solidFill>
                  <a:srgbClr val="006600"/>
                </a:solidFill>
                <a:latin typeface="Times New Roman"/>
              </a:rPr>
              <a:t>больших ростков – 9 штук, средних – 14, маленьких – 25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6600"/>
                </a:solidFill>
                <a:latin typeface="Times New Roman"/>
              </a:rPr>
              <a:t>Через месяц (в апреле ) – 18 отростков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6600"/>
                </a:solidFill>
                <a:latin typeface="Times New Roman"/>
              </a:rPr>
              <a:t>Через 2 месяца (в конце мая) – 66 цветов-отростк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746748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00"/>
                </a:solidFill>
                <a:latin typeface="Arial Black"/>
              </a:rPr>
              <a:t>Уход за хлорофитумом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533520" y="2895480"/>
            <a:ext cx="37335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imes New Roman"/>
              </a:rPr>
              <a:t>Мы зелёненького друг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66"/>
                </a:solidFill>
                <a:uFillTx/>
                <a:latin typeface="Times New Roman"/>
                <a:hlinkClick r:id="rId1" action="ppaction://hlinksldjump"/>
              </a:rPr>
              <a:t>«Подкормили» и полил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imes New Roman"/>
              </a:rPr>
              <a:t>На окно поставил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imes New Roman"/>
              </a:rPr>
              <a:t>Свет ему добавил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Object 4"/>
          <p:cNvGraphicFramePr/>
          <p:nvPr/>
        </p:nvGraphicFramePr>
        <p:xfrm>
          <a:off x="4876920" y="1905120"/>
          <a:ext cx="2609640" cy="3276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1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76920" y="1905120"/>
                    <a:ext cx="260964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240" y="623520"/>
            <a:ext cx="7467480" cy="112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Times New Roman"/>
              </a:rPr>
              <a:t>«Подкормили» и полили</a:t>
            </a:r>
            <a:br>
              <a:rPr sz="2800"/>
            </a:br>
            <a:endParaRPr b="0" lang="en-US" sz="40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Обильный полив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 c </a:t>
            </a: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весны до осени, зимой умеренны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Температура в помещении +15-18</a:t>
            </a:r>
            <a:r>
              <a:rPr b="0" lang="ru-RU" sz="2800" spc="-1" strike="noStrike">
                <a:solidFill>
                  <a:srgbClr val="006600"/>
                </a:solidFill>
                <a:latin typeface="Symbol"/>
                <a:ea typeface="Symbol"/>
              </a:rPr>
              <a:t></a:t>
            </a: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Теплый душ два раза в недел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Подкормка фосфорными и калийными удобрениями (зимой и весной по одному разу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5"/>
          <p:cNvSpPr/>
          <p:nvPr/>
        </p:nvSpPr>
        <p:spPr>
          <a:xfrm>
            <a:off x="7010280" y="6095880"/>
            <a:ext cx="685800" cy="457200"/>
          </a:xfrm>
          <a:prstGeom prst="leftArrow">
            <a:avLst>
              <a:gd name="adj1" fmla="val 50000"/>
              <a:gd name="adj2" fmla="val 37500"/>
            </a:avLst>
          </a:prstGeom>
          <a:solidFill>
            <a:srgbClr val="99cc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240" y="990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00"/>
                </a:solidFill>
                <a:latin typeface="Arial Black"/>
              </a:rPr>
              <a:t>Наши выводы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1371600" y="2209680"/>
            <a:ext cx="43434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6600"/>
                </a:solidFill>
                <a:latin typeface="Times New Roman"/>
              </a:rPr>
              <a:t>Научились размножать хлорофиту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6600"/>
                </a:solidFill>
                <a:latin typeface="Times New Roman"/>
              </a:rPr>
              <a:t>Вырастили несколько растений хлорофитума для класс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3"/>
          <p:cNvSpPr/>
          <p:nvPr/>
        </p:nvSpPr>
        <p:spPr>
          <a:xfrm>
            <a:off x="914400" y="1981080"/>
            <a:ext cx="647712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00"/>
                </a:solidFill>
                <a:latin typeface="Bodoni MT"/>
              </a:rPr>
              <a:t>Зелёный друг всегда с народом 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00"/>
                </a:solidFill>
                <a:latin typeface="Bodoni MT"/>
              </a:rPr>
              <a:t>Дыши побольше кислородом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00"/>
                </a:solidFill>
                <a:latin typeface="Bodoni MT"/>
              </a:rPr>
              <a:t>Хлорофитум и я 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00"/>
                </a:solidFill>
                <a:latin typeface="Bodoni MT"/>
              </a:rPr>
              <a:t>Неразлучные друзья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1523880" y="762120"/>
            <a:ext cx="373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66"/>
                </a:solidFill>
                <a:latin typeface="Times New Roman"/>
              </a:rPr>
              <a:t>Наша реклам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75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75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5T08:33:14Z</dcterms:created>
  <dc:creator>student</dc:creator>
  <dc:description/>
  <dc:language>en-US</dc:language>
  <cp:lastModifiedBy>1</cp:lastModifiedBy>
  <dcterms:modified xsi:type="dcterms:W3CDTF">2011-12-01T18:07:26Z</dcterms:modified>
  <cp:revision>15</cp:revision>
  <dc:subject/>
  <dc:title>Зелёный друг</dc:title>
</cp:coreProperties>
</file>