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4A8-3AB1-4F92-B13A-7E15FCCD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0C3-BCF1-4671-BBA2-DE8E5E4B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630-7BB7-4BD3-8221-E81194C5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F38-02E3-45A9-81AA-E52CE74A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DFA9-772C-4417-8EDC-6B8089F7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60CD-03AB-4170-9B67-E012C89A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A40-4B51-4A65-B792-679AF1C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38E7-9EF4-4495-B476-140C9DF4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6D30-AF6E-43C8-964E-A659BE58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832-6F94-47EF-94DB-9C06F69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5BF-DA15-4DB0-86A5-6ECC8610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1C9-705D-4C4E-8770-B36AB953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5B1-6817-4F0E-A49A-73C5261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06A-C3D0-496C-904C-A1B9E24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2B43-F0EA-4870-9623-AD6BBD01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7778-4E5D-43A2-8B7D-ED312CF9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6E32-13BF-4761-AB05-6CB3681F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A3E-0057-4FC4-A8E1-A5823F71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E2F-C4DD-4822-8525-15B01B94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12D-18DC-4116-9FDA-FBC9481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866-BB34-4E6E-A1FF-836CBF3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1BE-71E0-441A-8B95-3E25B59B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8C3-3386-43B3-86FA-35998EE9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485-37BC-487D-88B3-45B8E4E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A02F-13C0-40A1-8F44-DCCBAF426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113-358D-4662-B56B-55DC3EF528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822960"/>
            <a:ext cx="6248520" cy="252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9900"/>
                </a:solidFill>
                <a:latin typeface="comic"/>
              </a:rPr>
              <a:t>Зелёный друг</a:t>
            </a:r>
            <a:endParaRPr b="0" lang="en-US" sz="8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5640" y="5181120"/>
            <a:ext cx="2971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Байкова Екатерина, 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Каменский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Андр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ученики 4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666880" y="22860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95280" y="30481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1. Ахметзянова Л.А. «Зелёный друг» // Журнал «Начальная школа», 2004г. №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Цели работ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зучить способы размножения хлорофит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величить число растений хлорофитума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Портрет зеленого друга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90" name="Picture 3" descr="W:\10_group\karjer\media materials\15288[1].jpg"/>
          <p:cNvPicPr/>
          <p:nvPr/>
        </p:nvPicPr>
        <p:blipFill>
          <a:blip r:embed="rId1"/>
          <a:stretch/>
        </p:blipFill>
        <p:spPr>
          <a:xfrm>
            <a:off x="3733920" y="1676520"/>
            <a:ext cx="3809880" cy="4495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533520" y="2438280"/>
            <a:ext cx="32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дно из самых распространенных комнатных растений. Родина его – Африка. Листья линейные, бывают с продольными светлыми полосками. Цветки мелк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 Black"/>
              </a:rPr>
              <a:t>Размножение хлорофитума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25146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66680" y="2743200"/>
            <a:ext cx="5029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зяли взросл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дождали, когда оно отцве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сле отцветания на стеблях образовались молодые рас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тделили молодое раст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садили новое растение в горш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наблюдения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71600" y="25909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5"/>
          <p:cNvSpPr/>
          <p:nvPr/>
        </p:nvSpPr>
        <p:spPr>
          <a:xfrm>
            <a:off x="838080" y="2590920"/>
            <a:ext cx="655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3 недели (в марте)  – результат: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больших ростков – 9 штук, средних – 14, маленьких – 2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месяц (в апреле ) – 18 отрост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ерез 2 месяца (в конце мая) – 66 цветов-отрос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Уход за хлорофитумом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8954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Мы зелёненького дру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Times New Roman"/>
                <a:hlinkClick r:id="rId1" action="ppaction://hlinksldjump"/>
              </a:rPr>
              <a:t>«Подкормили» и пол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 окно пост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вет ему добав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4876920" y="1905120"/>
          <a:ext cx="260964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905120"/>
                    <a:ext cx="26096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623520"/>
            <a:ext cx="7467480" cy="11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Подкормили» и полили</a:t>
            </a:r>
            <a:br>
              <a:rPr sz="2800"/>
            </a:b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бильный полив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c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есны до осени, зимой умер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мпература в помещении +15-18</a:t>
            </a:r>
            <a:r>
              <a:rPr b="0" lang="ru-RU" sz="2800" spc="-1" strike="noStrike">
                <a:solidFill>
                  <a:srgbClr val="0066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еплый душ два раза в нед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дкормка фосфорными и калийными удобрениями (зимой и весной по одному раз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010280" y="609588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 Black"/>
              </a:rPr>
              <a:t>Наши выводы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71600" y="2209680"/>
            <a:ext cx="4343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учились размножать хлорофиту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растили несколько растений хлорофитума для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14400" y="1981080"/>
            <a:ext cx="6477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Зелёный друг всегда с народом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Дыши побольше кислородо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Хлорофитум и я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Bodoni MT"/>
              </a:rPr>
              <a:t>Неразлучные друзь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523880" y="7621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Times New Roman"/>
              </a:rPr>
              <a:t>Наша рекла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8:33:14Z</dcterms:created>
  <dc:creator>student</dc:creator>
  <dc:description/>
  <dc:language>en-US</dc:language>
  <cp:lastModifiedBy>1</cp:lastModifiedBy>
  <dcterms:modified xsi:type="dcterms:W3CDTF">2011-12-01T18:07:26Z</dcterms:modified>
  <cp:revision>15</cp:revision>
  <dc:subject/>
  <dc:title>Зелёный друг</dc:title>
</cp:coreProperties>
</file>