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5D8-C770-48F1-89ED-ADA0A66F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FA7-CE8F-4B44-9331-0006877E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241-8FA9-4F23-9531-5FD2C2B1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044-0CA3-4DBF-ACF3-4F12CED0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568B-76A1-4114-B9FD-0BFDF55A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CF89-2F35-46C4-9CD3-5CA73263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9643-21B4-4CCF-A233-69A7F9C2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CAA3-0EA5-4B45-A898-08156399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369A-734A-482B-8CBE-0B2A2F14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8430-1C9A-4B39-AE8C-86E7A75F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3265-D41D-4CE3-9FFF-A504357D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BE9-FD19-42A2-A68C-93169C0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4EA6-6DE4-46F1-A7A8-3536AB46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A748-3A66-4AE3-944B-E51816F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9816-98BE-4DDF-A034-BAF27B14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2966-E5D6-470C-8053-816811AE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434A-8C23-41D4-845E-90FA970C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1B8-6C10-4A4B-B40D-AEF3AA2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9B7-8C9B-454D-92FC-A1EA8E5A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8FE-AC7E-40E3-909D-2C6B68E2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139-3CEA-40C7-B334-D5C6E48F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F6E-86CA-4258-8955-75D279F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7D3-308E-411E-9148-B59ACA57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491-B218-40BE-BE7F-0BB0EB79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CDE8-65AF-4D2E-8B38-61DD0A52E0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4B64-0AA4-417C-ADDB-AFF24575A2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822960"/>
            <a:ext cx="6248520" cy="252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9900"/>
                </a:solidFill>
                <a:latin typeface="comic"/>
              </a:rPr>
              <a:t>Зелёный друг</a:t>
            </a:r>
            <a:endParaRPr b="0" lang="en-US" sz="8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5640" y="5181120"/>
            <a:ext cx="2971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Байкова Екатерина, 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Каменский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Андр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ученики 4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666880" y="22860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Литератур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295280" y="30481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1. Ахметзянова Л.А. «Зелёный друг» // Журнал «Начальная школа», 2004г. №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Цели работ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учить способы размножения хлорофиту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величить число растений хлорофитума в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Портрет зеленого друг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0" name="Picture 3" descr="W:\10_group\karjer\media materials\15288[1].jpg"/>
          <p:cNvPicPr/>
          <p:nvPr/>
        </p:nvPicPr>
        <p:blipFill>
          <a:blip r:embed="rId1"/>
          <a:stretch/>
        </p:blipFill>
        <p:spPr>
          <a:xfrm>
            <a:off x="3733920" y="1676520"/>
            <a:ext cx="3809880" cy="4495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533520" y="24382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дно из самых распространенных комнатных растений. Родина его – Африка. Листья линейные, бывают с продольными светлыми полосками. Цветки мелк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46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 Black"/>
              </a:rPr>
              <a:t>Размножение хлорофитума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71600" y="25146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66680" y="2743200"/>
            <a:ext cx="5029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зяли взрослое рас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ждали, когда оно отцве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сле отцветания на стеблях образовались молодые рас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тделили молодое рас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ысадили новое растение в горш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Наши наблюдения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71600" y="25909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5"/>
          <p:cNvSpPr/>
          <p:nvPr/>
        </p:nvSpPr>
        <p:spPr>
          <a:xfrm>
            <a:off x="838080" y="2590920"/>
            <a:ext cx="6553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ерез 3 недели (в марте)  – результат: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больших ростков – 9 штук, средних – 14, маленьких – 2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ерез месяц (в апреле ) – 18 отрост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ерез 2 месяца (в конце мая) – 66 цветов-отрос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Уход за хлорофитумом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8954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Мы зелёненького др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  <a:hlinkClick r:id="rId1" action="ppaction://hlinksldjump"/>
              </a:rPr>
              <a:t>«Подкормили» и пол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 окно постав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вет ему добав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4876920" y="1905120"/>
          <a:ext cx="260964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905120"/>
                    <a:ext cx="26096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23520"/>
            <a:ext cx="746748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Подкормили» и полили</a:t>
            </a:r>
            <a:br>
              <a:rPr sz="2800"/>
            </a:b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бильный полив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c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есны до осени, зимой умер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емпература в помещении +15-18</a:t>
            </a:r>
            <a:r>
              <a:rPr b="0" lang="ru-RU" sz="2800" spc="-1" strike="noStrike">
                <a:solidFill>
                  <a:srgbClr val="0066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еплый душ два раза в нед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кормка фосфорными и калийными удобрениями (зимой и весной по одному раз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010280" y="609588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Наши вывод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371600" y="2209680"/>
            <a:ext cx="4343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учились размножать хлорофит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ырастили несколько растений хлорофитума для клас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914400" y="1981080"/>
            <a:ext cx="6477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Зелёный друг всегда с народом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Дыши побольше кислородо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Хлорофитум и я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Неразлучные друзь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523880" y="7621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Наша рекла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8:33:14Z</dcterms:created>
  <dc:creator>student</dc:creator>
  <dc:description/>
  <dc:language>en-US</dc:language>
  <cp:lastModifiedBy>1</cp:lastModifiedBy>
  <dcterms:modified xsi:type="dcterms:W3CDTF">2011-12-01T18:07:26Z</dcterms:modified>
  <cp:revision>15</cp:revision>
  <dc:subject/>
  <dc:title>Зелёный друг</dc:title>
</cp:coreProperties>
</file>