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164-B02D-47EE-AA2F-9FC262E0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C0F-48C5-42EC-943C-C70E826E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6BE-FDA6-4E45-9451-9008DA5C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E14-5B4F-41ED-ADEA-345714FD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535-145E-475F-9CF8-55B05D8D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409E-F6FB-4C90-9202-A9CE096A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F860-6C79-449A-9059-DCDD06A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7890-EFAB-4ECC-A650-6A9E36EB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A5F5-67A6-4B50-8659-5443B52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FB0F-03AE-429B-AAA6-3E8A367F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EFB3-343E-4362-B910-BA776D3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2CB-3DE5-47BD-AE20-FFE980B3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D0E3-C0D8-4E95-BA07-01EA523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5831-7D0F-4198-A219-E2E0F5A3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D4C5-9BB5-43EC-A531-D009737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074B-6AC4-43D5-87D5-91BB3FFD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226-3D4F-4E2B-B2D8-B54B716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4FA-FF02-4BF7-98D8-246B3A16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D98-BE28-4A9E-A203-706427C0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303-D7A3-44F7-8226-C9F7F7C9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55F-B3FD-4C3A-87D6-32B6E41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582-33E6-4C0A-B215-380ABD5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88F-166F-43B9-8A9C-F6B17CC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863-C4D2-44A3-B13A-298A591F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340-08A1-40F5-B7F0-154F4F7762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C996-D797-4A5C-90F2-697158DF73B9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8&amp;ed=1&amp;text=&#1075;&#1080;&#1087;&#1086;&#1090;&#1080;&#1088;&#1077;&#1086;&#1079;&amp;spsite=www.anvis.ru&amp;img_url=www.anvis.ru%2Fpict%2Ffoto%2F482d6c79bc3c7.jpg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Гипотиреоз –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это заболевание вызвано снижением или полным выпадением функций щитовидной железы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Причины: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Verdana"/>
              </a:rPr>
              <a:t>1. Первичный гипотиреоз связанный с повреждением щитовидной железы: врожденные дефекты, стромэктомия по поводу зоба или опухолей щитовидной железы , воспалительные и нагноительные процессы в железе , метастазы рака,  аутоиммунное заболевание щитовидной железы. 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Verdana"/>
              </a:rPr>
              <a:t>2. Вторичный гипотиреоз развивается в результате продукций недостаточности гипофиза гормона ТТГ, причины этого заболевание гипофиза, в период климакса у женщин. 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6" name="Picture 9" descr="http://im8-tub.yandex.net/i?id=12336091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0920" cy="105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hypothyroidism_02"/>
          <p:cNvPicPr/>
          <p:nvPr/>
        </p:nvPicPr>
        <p:blipFill>
          <a:blip r:embed="rId3"/>
          <a:stretch/>
        </p:blipFill>
        <p:spPr>
          <a:xfrm>
            <a:off x="435600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Лечение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местительная терапия тиреоидными гормонами. Тиреоидин - высушенный препарат ЩЖ. Левотироксин - синтетический препарат. Трийодтиронин - синтетический. Начинают лечение с небольших доз. 0,05 мг левотироксина, 10 мкг 2-4 раза/сут - выводится очень быстро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лная заместительная доза: левотироксин 0,15 мг, трийодтиронин 0,18 г. тиреоидин 0,18 мг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сновной обмен +/- 10 %, у пожилых людей основной обмен 1%, так как может развиться ИБС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вотироксин у пожилых 0,075 мг - заместительная доза, начальная доза составляет 0,02 мг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пециальность 060101 «Лечебное дело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Дисциплина «Терапия»   4 курс 7 семестр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hitovidnaja_zheleza_ru_Gipoterioz"/>
          <p:cNvPicPr/>
          <p:nvPr/>
        </p:nvPicPr>
        <p:blipFill>
          <a:blip r:embed="rId1"/>
          <a:stretch/>
        </p:blipFill>
        <p:spPr>
          <a:xfrm>
            <a:off x="219564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0238402697"/>
          <p:cNvPicPr/>
          <p:nvPr/>
        </p:nvPicPr>
        <p:blipFill>
          <a:blip r:embed="rId1"/>
          <a:stretch/>
        </p:blipFill>
        <p:spPr>
          <a:xfrm>
            <a:off x="2556000" y="907920"/>
            <a:ext cx="4392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img_2"/>
          <p:cNvPicPr/>
          <p:nvPr/>
        </p:nvPicPr>
        <p:blipFill>
          <a:blip r:embed="rId1"/>
          <a:stretch/>
        </p:blipFill>
        <p:spPr>
          <a:xfrm>
            <a:off x="2484360" y="1052640"/>
            <a:ext cx="439272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1241601291"/>
          <p:cNvPicPr/>
          <p:nvPr/>
        </p:nvPicPr>
        <p:blipFill>
          <a:blip r:embed="rId1"/>
          <a:stretch/>
        </p:blipFill>
        <p:spPr>
          <a:xfrm>
            <a:off x="2340000" y="549360"/>
            <a:ext cx="4465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hypothyroidism_01"/>
          <p:cNvPicPr/>
          <p:nvPr/>
        </p:nvPicPr>
        <p:blipFill>
          <a:blip r:embed="rId1"/>
          <a:stretch/>
        </p:blipFill>
        <p:spPr>
          <a:xfrm>
            <a:off x="2700360" y="76500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69"/>
          <p:cNvPicPr/>
          <p:nvPr/>
        </p:nvPicPr>
        <p:blipFill>
          <a:blip r:embed="rId1"/>
          <a:stretch/>
        </p:blipFill>
        <p:spPr>
          <a:xfrm>
            <a:off x="2556000" y="692280"/>
            <a:ext cx="4392360" cy="51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Gipotireoz"/>
          <p:cNvPicPr/>
          <p:nvPr/>
        </p:nvPicPr>
        <p:blipFill>
          <a:blip r:embed="rId1"/>
          <a:stretch/>
        </p:blipFill>
        <p:spPr>
          <a:xfrm>
            <a:off x="2124000" y="836640"/>
            <a:ext cx="5184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Изменения в других системах</a:t>
            </a: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Со стороны ССС: брадикардия  ,  боль в области сердца ,  артериальное давление нормальное или понижено , часто развивается ИБС, недостаточность кровообращения . Инфекционные заболевания протекают вяло, длительно, без температуры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Со стороны ЖКТ: снижение аппетита, больные не худеют, так как запоры способствуют лучшему всасыванию. Замедленный липолиз. В выраженных случаях появляются отеки вокруг глаз, губ. Сиплость голоса. Надключичные ямки сглаживаются, отечность кистей, стоп. Могут быть отеки в полостях, по ходу слухового нерва 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Со стороны нервной и психической сферы: рассеянность, депрессия, тревожность , снижение интеллекта , парестезия в руках и  ногах , становятся нетрудоспособными. У женщин наблюдаются  дисменорея и менорагия. У мужчин импотенция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читзал</cp:lastModifiedBy>
  <dcterms:modified xsi:type="dcterms:W3CDTF">2010-02-15T07:05:07Z</dcterms:modified>
  <cp:revision>22</cp:revision>
  <dc:subject/>
  <dc:title>Заболевание щитовидной железы </dc:title>
</cp:coreProperties>
</file>