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E65-8C90-4652-B1D1-EABA621C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5A5-22FB-4C4E-95B7-3D6B715B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B88-B6CD-4EEC-8219-79B1760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091-DA9B-4FDA-81E4-E0A568B9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6A0D-E63F-4C71-9B08-39EC4FAD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240-CB81-4AEA-819A-2F66A2A3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36C8-FA8C-4601-B474-0914D99A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D11-90A3-48D5-8A66-E86076C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1E52-EC37-4CC5-B640-25ECB92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794F-146F-40CF-B705-C06E760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075-4BE9-403D-AA56-9001834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07E-C5F3-49E0-8E3F-54E025F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459-206A-4303-A71B-EB3CB79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A8CC-B503-462E-8D32-B543D5FE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5C2-4AAE-460D-A10C-9EA42DB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C1AC-91CC-4AF5-B20E-C698F40B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A22-FCA7-4CBA-B6DE-9D69922A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26B-6262-450C-9F66-D7E6DFA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871-552E-495D-ACC7-E5BD1207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849-2D91-4976-91BA-07C6BAEA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4FF-5D89-4F62-B5C0-9454DA7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33F-1E17-42C8-A0F2-DBF9F15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E3-F594-4392-B3EF-6135489B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107-991E-4B88-ADB3-FE408B9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0AB-A72C-441E-BB20-AB2D72E1B3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257-011B-442B-A1B2-5F629BD62FF6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8&amp;ed=1&amp;text=&#1075;&#1080;&#1087;&#1086;&#1090;&#1080;&#1088;&#1077;&#1086;&#1079;&amp;spsite=www.anvis.ru&amp;img_url=www.anvis.ru%2Fpict%2Ffoto%2F482d6c79bc3c7.jpg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Гипотиреоз –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это заболевание вызвано снижением или полным выпадением функций щитовидной железы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Причины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Verdana"/>
              </a:rPr>
              <a:t>1. Первичный гипотиреоз связанный с повреждением щитовидной железы: врожденные дефекты, стромэктомия по поводу зоба или опухолей щитовидной железы , воспалительные и нагноительные процессы в железе , метастазы рака,  аутоиммунное заболевание щитовидной железы. 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Verdana"/>
              </a:rPr>
              <a:t>2. Вторичный гипотиреоз развивается в результате продукций недостаточности гипофиза гормона ТТГ, причины этого заболевание гипофиза, в период климакса у женщин. 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6" name="Picture 9" descr="http://im8-tub.yandex.net/i?id=12336091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0920" cy="105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hypothyroidism_02"/>
          <p:cNvPicPr/>
          <p:nvPr/>
        </p:nvPicPr>
        <p:blipFill>
          <a:blip r:embed="rId3"/>
          <a:stretch/>
        </p:blipFill>
        <p:spPr>
          <a:xfrm>
            <a:off x="435600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Лечение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местительная терапия тиреоидными гормонами. Тиреоидин - высушенный препарат ЩЖ. Левотироксин - синтетический препарат. Трийодтиронин - синтетический. Начинают лечение с небольших доз. 0,05 мг левотироксина, 10 мкг 2-4 раза/сут - выводится очень быстро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лная заместительная доза: левотироксин 0,15 мг, трийодтиронин 0,18 г. тиреоидин 0,18 мг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сновной обмен +/- 10 %, у пожилых людей основной обмен 1%, так как может развиться ИБС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вотироксин у пожилых 0,075 мг - заместительная доза, начальная доза составляет 0,02 мг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пециальность 060101 «Лечебное дело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Дисциплина «Терапия»   4 курс 7 семестр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hitovidnaja_zheleza_ru_Gipoterioz"/>
          <p:cNvPicPr/>
          <p:nvPr/>
        </p:nvPicPr>
        <p:blipFill>
          <a:blip r:embed="rId1"/>
          <a:stretch/>
        </p:blipFill>
        <p:spPr>
          <a:xfrm>
            <a:off x="2195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0238402697"/>
          <p:cNvPicPr/>
          <p:nvPr/>
        </p:nvPicPr>
        <p:blipFill>
          <a:blip r:embed="rId1"/>
          <a:stretch/>
        </p:blipFill>
        <p:spPr>
          <a:xfrm>
            <a:off x="2556000" y="90792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img_2"/>
          <p:cNvPicPr/>
          <p:nvPr/>
        </p:nvPicPr>
        <p:blipFill>
          <a:blip r:embed="rId1"/>
          <a:stretch/>
        </p:blipFill>
        <p:spPr>
          <a:xfrm>
            <a:off x="2484360" y="1052640"/>
            <a:ext cx="439272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1241601291"/>
          <p:cNvPicPr/>
          <p:nvPr/>
        </p:nvPicPr>
        <p:blipFill>
          <a:blip r:embed="rId1"/>
          <a:stretch/>
        </p:blipFill>
        <p:spPr>
          <a:xfrm>
            <a:off x="2340000" y="549360"/>
            <a:ext cx="4465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hypothyroidism_01"/>
          <p:cNvPicPr/>
          <p:nvPr/>
        </p:nvPicPr>
        <p:blipFill>
          <a:blip r:embed="rId1"/>
          <a:stretch/>
        </p:blipFill>
        <p:spPr>
          <a:xfrm>
            <a:off x="2700360" y="76500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69"/>
          <p:cNvPicPr/>
          <p:nvPr/>
        </p:nvPicPr>
        <p:blipFill>
          <a:blip r:embed="rId1"/>
          <a:stretch/>
        </p:blipFill>
        <p:spPr>
          <a:xfrm>
            <a:off x="2556000" y="692280"/>
            <a:ext cx="4392360" cy="51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Gipotireoz"/>
          <p:cNvPicPr/>
          <p:nvPr/>
        </p:nvPicPr>
        <p:blipFill>
          <a:blip r:embed="rId1"/>
          <a:stretch/>
        </p:blipFill>
        <p:spPr>
          <a:xfrm>
            <a:off x="2124000" y="836640"/>
            <a:ext cx="5184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Изменения в других системах</a:t>
            </a: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Со стороны ССС: брадикардия  ,  боль в области сердца ,  артериальное давление нормальное или понижено , часто развивается ИБС, недостаточность кровообращения . Инфекционные заболевания протекают вяло, длительно, без температуры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Со стороны ЖКТ: снижение аппетита, больные не худеют, так как запоры способствуют лучшему всасыванию. Замедленный липолиз. В выраженных случаях появляются отеки вокруг глаз, губ. Сиплость голоса. Надключичные ямки сглаживаются, отечность кистей, стоп. Могут быть отеки в полостях, по ходу слухового нерва 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Со стороны нервной и психической сферы: рассеянность, депрессия, тревожность , снижение интеллекта , парестезия в руках и  ногах , становятся нетрудоспособными. У женщин наблюдаются  дисменорея и менорагия. У мужчин импотенция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читзал</cp:lastModifiedBy>
  <dcterms:modified xsi:type="dcterms:W3CDTF">2010-02-15T07:05:07Z</dcterms:modified>
  <cp:revision>22</cp:revision>
  <dc:subject/>
  <dc:title>Заболевание щитовидной железы </dc:title>
</cp:coreProperties>
</file>