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EBF-448B-4988-A0FB-1D109089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042-816B-41EA-A720-939429F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92F-C1A7-41AE-A285-C2CBAB9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44D-B12C-4D3D-8C2C-E732EA11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D34B-F41F-4B3C-B458-54A9315A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B643-B18D-4C8D-A540-412BB56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4AC-5AD4-4711-A468-46B9F5F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ABAE-50D3-4815-9398-748257F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2B79-00E1-4226-A99C-AD9DC7E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3583-84AD-46E3-9D18-D4BCC2C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AB5F-BB7B-4579-B178-219EE5F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9B2-B8E5-4046-94F6-886A5574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49B3-EAD8-44E2-A7F9-6EF4E9B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DB01-3DAD-4294-B004-99326F5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BE4-CC60-45AA-83AD-14AFAA2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6A4-D0D6-45F1-9F6E-38C54BFF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EAC-AE55-4E26-86B7-E0039B32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3E1-71F8-41F0-85A9-4CEACA1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176-DF55-4937-AE9C-296DA6A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F71-A9AD-441B-9D81-66946FF1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6C5-B03F-4A04-8C13-ABEBF898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AB4-84E2-432D-BDD3-62400B2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AB0-A4A5-4517-A4DC-F1EEA85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520-D8F2-49BA-9376-A8CF765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FEE5-240D-4EA8-A432-DEF390ACD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B682-8C80-4810-A4CC-2F75654F64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ОУ Воротынская средняя школа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лияние бытовой химии на здоровье человека</a:t>
            </a:r>
            <a:br>
              <a:rPr sz="48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580000" y="2852640"/>
            <a:ext cx="3564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работы: Бызина Ирина, ученица 10 б класса МОУ Воротын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 работы: Асташина Нина Игоревна, учитель биологии и эк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Картинка 3 из 279"/>
          <p:cNvPicPr/>
          <p:nvPr/>
        </p:nvPicPr>
        <p:blipFill>
          <a:blip r:embed="rId1"/>
          <a:stretch/>
        </p:blipFill>
        <p:spPr>
          <a:xfrm>
            <a:off x="324000" y="3429000"/>
            <a:ext cx="5182920" cy="28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чковский Т. Б. «Здоровье человека и окружающая среда». М., Новая школа,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ухов Г. В., Сенотрусова С. В. «Основы экологии и окружающей среды». М., Мир,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десят тысяч пришельцев.//Берегиня, №(182) 5-6 2008, с.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й как бабушки 80 лет назад.//Берегиня №(182) 5-6 2008, с.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влияние препаратов бытовой химии на здоровье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учить опасности современной бытовой хим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знакомиться со старинными способами поддержания чистоты в дом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едложить альтернативные способы использования бытовой хим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параты бытовой хи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препаратов бытовой химии на здоровье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тическ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м исследов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о 4 источника научно-популярной литера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циологическом опросе приняло участие 1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бытовая хим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Косметическ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тетические моющ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для мытья посу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для ухода за мебел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ежители воздуха,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Картинка 67 из 279"/>
          <p:cNvPicPr/>
          <p:nvPr/>
        </p:nvPicPr>
        <p:blipFill>
          <a:blip r:embed="rId1"/>
          <a:stretch/>
        </p:blipFill>
        <p:spPr>
          <a:xfrm>
            <a:off x="684360" y="422100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?id=23721140-04"/>
          <p:cNvPicPr/>
          <p:nvPr/>
        </p:nvPicPr>
        <p:blipFill>
          <a:blip r:embed="rId2"/>
          <a:stretch/>
        </p:blipFill>
        <p:spPr>
          <a:xfrm>
            <a:off x="3780000" y="4292640"/>
            <a:ext cx="1577880" cy="1728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Картинка 72 из 279"/>
          <p:cNvPicPr/>
          <p:nvPr/>
        </p:nvPicPr>
        <p:blipFill>
          <a:blip r:embed="rId3"/>
          <a:stretch/>
        </p:blipFill>
        <p:spPr>
          <a:xfrm>
            <a:off x="6516720" y="4365720"/>
            <a:ext cx="1871640" cy="166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асные химические вещества входящие в состав бытовой хим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1547640" y="1628640"/>
            <a:ext cx="1368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95280" y="2708280"/>
            <a:ext cx="2160720" cy="414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делия: Во мног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ах космет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уходу за ногт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льдеги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кси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з, 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ражающ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ом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нцероге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5867280" y="2637000"/>
            <a:ext cx="3276720" cy="4221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ие мо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: Все изготовл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нефти, содержат энзи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сфаты, агре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беливающие сред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ие отдуш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тели, консерван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устители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 всех синте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 – анионные П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ы ковар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ой ни пациент, ни врач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адываются, на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ьёзно влияет на на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бытовая хим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5867280" y="1628640"/>
            <a:ext cx="1152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987640" y="2708280"/>
            <a:ext cx="2448000" cy="414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 для мыт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уды: По сво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у средства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уды ма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ают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ральных порош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мытья посу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её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аётся от 20 до 4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ющего сред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ое представ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я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H="1">
            <a:off x="4284720" y="1989000"/>
            <a:ext cx="71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0" descr="Картинка 4 из 262832"/>
          <p:cNvPicPr/>
          <p:nvPr/>
        </p:nvPicPr>
        <p:blipFill>
          <a:blip r:embed="rId1"/>
          <a:stretch/>
        </p:blipFill>
        <p:spPr>
          <a:xfrm>
            <a:off x="250920" y="134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i?id=121323671-02"/>
          <p:cNvPicPr/>
          <p:nvPr/>
        </p:nvPicPr>
        <p:blipFill>
          <a:blip r:embed="rId2"/>
          <a:stretch/>
        </p:blipFill>
        <p:spPr>
          <a:xfrm>
            <a:off x="2843280" y="1879560"/>
            <a:ext cx="1008000" cy="820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Картинка 21 из 859"/>
          <p:cNvPicPr/>
          <p:nvPr/>
        </p:nvPicPr>
        <p:blipFill>
          <a:blip r:embed="rId3"/>
          <a:stretch/>
        </p:blipFill>
        <p:spPr>
          <a:xfrm>
            <a:off x="7873920" y="1125360"/>
            <a:ext cx="12700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550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ытовая химия у нас до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59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мпунь для ковров и обивки «Ваниш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ло «Антипятин» для выведения пятен на одеж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иральный порошок «АОС» для стирки белого бель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way Dish Drop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концентрированная жидкость для мытья посу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мпунь против перхоти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way SATINIQU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для предотвращения перхо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SDC12996"/>
          <p:cNvPicPr/>
          <p:nvPr/>
        </p:nvPicPr>
        <p:blipFill>
          <a:blip r:embed="rId1"/>
          <a:stretch/>
        </p:blipFill>
        <p:spPr>
          <a:xfrm>
            <a:off x="5867280" y="884160"/>
            <a:ext cx="3276720" cy="2565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SDC12838"/>
          <p:cNvPicPr/>
          <p:nvPr/>
        </p:nvPicPr>
        <p:blipFill>
          <a:blip r:embed="rId2"/>
          <a:stretch/>
        </p:blipFill>
        <p:spPr>
          <a:xfrm>
            <a:off x="6162840" y="3645000"/>
            <a:ext cx="2981160" cy="32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18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зультаты социологического  опроса моих знакомых и родн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% опрошенных используют препараты бытовой хим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% ничего не знают о возможных опасностях для здоровь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0% знают о существовании альтернативы препаратам бытовой химии, но не пользуются 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% хотели бы знать правду о влиянии бытовой химии на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ьтернатива использования бытовой химии (Советы моей бабу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ёплый мыльный раствор (добавьте туда пищевую соду – и в вашем распоряжении хорошее средство для мытья посуды, не содержащее абразивов и вредных химических вещест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сус (удаляет пятна, дезинфицирует, очищает плитку, удаляет накип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туральные природные травы могут служить заменителем освежителя воздуха в туал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зяйственное мыло хорошее средство для борьбы с пятнами на одеж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аренный в бане щёлок хорошая шампунь, без добавления вредных ароматиз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i?id=158471033-01"/>
          <p:cNvPicPr/>
          <p:nvPr/>
        </p:nvPicPr>
        <p:blipFill>
          <a:blip r:embed="rId1"/>
          <a:stretch/>
        </p:blipFill>
        <p:spPr>
          <a:xfrm>
            <a:off x="7667640" y="3141720"/>
            <a:ext cx="1255680" cy="180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Картинка 2 из 1420"/>
          <p:cNvPicPr/>
          <p:nvPr/>
        </p:nvPicPr>
        <p:blipFill>
          <a:blip r:embed="rId2"/>
          <a:stretch/>
        </p:blipFill>
        <p:spPr>
          <a:xfrm>
            <a:off x="6534000" y="1125360"/>
            <a:ext cx="2610000" cy="175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?id=134092693-01"/>
          <p:cNvPicPr/>
          <p:nvPr/>
        </p:nvPicPr>
        <p:blipFill>
          <a:blip r:embed="rId3"/>
          <a:stretch/>
        </p:blipFill>
        <p:spPr>
          <a:xfrm>
            <a:off x="6084720" y="5396040"/>
            <a:ext cx="2194200" cy="146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0920" y="-171360"/>
            <a:ext cx="50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Для того, чтобы избежать опасности от использования бытовой химии необходим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ь названия опасных компонентов препаратов бытовой химии, знать, в чём их опас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внимательным при покупке препаратов бытовой химии, изучить состав препарата и убедиться в его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ть альтернативные способы препаратам бытовой хи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2:22Z</dcterms:created>
  <dc:creator>Admin</dc:creator>
  <dc:description/>
  <dc:language>en-US</dc:language>
  <cp:lastModifiedBy>ZooM</cp:lastModifiedBy>
  <dcterms:modified xsi:type="dcterms:W3CDTF">2013-12-06T01:23:59Z</dcterms:modified>
  <cp:revision>11</cp:revision>
  <dc:subject/>
  <dc:title>Слайд 1</dc:title>
</cp:coreProperties>
</file>