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DC5B-FFCB-49E6-9B98-0AFD5A7CC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285A-522A-4D13-ACE5-FF874F606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D58D-BB3E-4DE7-A88F-F8F4A87DB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3C99-827E-4F2F-9641-B941DC0FC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15E56-BFF2-475B-8219-2D2B6A34B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831A4-15FB-4FF9-8BA9-5AFFA581C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11282-9F5E-4355-A224-F2DC6BDD4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06A6E-1F11-42F8-9F76-52762D9E8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BFDC0-7995-43CB-B243-9E0D16F47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CC8AD-7693-4043-B12D-C2996F0AA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296C7-89FA-4D89-A489-817FE290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377D-AA87-4CE6-91DD-406E1D1FD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C4995-159A-4C06-8760-2252E349A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3DB8A-0683-4A29-9F4B-772D1425B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C9AF7-ADDA-4D96-8C4F-39B19C199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65780-B7F1-4EF2-BA9F-5E8AD79D4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19E1D-06B3-4131-B7A6-648066879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7DE8-7398-4A57-8676-6F4F210D8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7FF7-73AC-4671-9DC6-61BC9BB8C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D687-4E51-40B8-9CE9-5D70AAA34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505B-0690-49CB-AB0E-DEEA5D427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E2FD-8A25-48A5-A26E-601FFEAB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CA47-2EBC-46B7-8AC3-1E7EC006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1DE9-C342-49C1-8384-D7505B9D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55BDC-BF88-4B5F-99EA-7ACA8EF34B4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4CAA5-3795-4086-9F1E-197159B83AA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2663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МОУ Воротынская средняя школа</a:t>
            </a:r>
            <a:br>
              <a:rPr sz="4800"/>
            </a:b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Влияние бытовой химии на здоровье человека</a:t>
            </a:r>
            <a:br>
              <a:rPr sz="48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исследовательская работа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5580000" y="2852640"/>
            <a:ext cx="3564000" cy="40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втор работы: Бызина Ирина, ученица 10 б класса МОУ Воротынская СО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уководитель работы: Асташина Нина Игоревна, учитель биологии и эколог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6" descr="Картинка 3 из 279"/>
          <p:cNvPicPr/>
          <p:nvPr/>
        </p:nvPicPr>
        <p:blipFill>
          <a:blip r:embed="rId1"/>
          <a:stretch/>
        </p:blipFill>
        <p:spPr>
          <a:xfrm>
            <a:off x="324000" y="3429000"/>
            <a:ext cx="5182920" cy="289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Литератур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еличковский Т. Б. «Здоровье человека и окружающая среда». М., Новая школа, 19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винухов Г. В., Сенотрусова С. В. «Основы экологии и окружающей среды». М., Мир, 199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емьдесят тысяч пришельцев.//Берегиня, №(182) 5-6 2008, с. 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лай как бабушки 80 лет назад.//Берегиня №(182) 5-6 2008, с. 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5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Цель исследовани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учить влияние препаратов бытовой химии на здоровье человек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Задачи исследования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Изучить опасности современной бытовой хими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Познакомиться со старинными способами поддержания чистоты в доме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Предложить альтернативные способы использования бытовой хим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Объект исследования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Препараты бытовой хим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Предмет исследования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: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лияние препаратов бытовой химии на здоровье челове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Методы исследования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оретический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блюдени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циологичес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бъем исследования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учено 4 источника научно-популярной литератур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социологическом опросе приняло участие 10 челове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Что такое бытовая химия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Косметические средства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интетические моющие средства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редства для мытья посуды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редства для ухода за мебелью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вежители воздуха, и д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5" descr="Картинка 67 из 279"/>
          <p:cNvPicPr/>
          <p:nvPr/>
        </p:nvPicPr>
        <p:blipFill>
          <a:blip r:embed="rId1"/>
          <a:stretch/>
        </p:blipFill>
        <p:spPr>
          <a:xfrm>
            <a:off x="684360" y="4221000"/>
            <a:ext cx="2303280" cy="17290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7" descr="i?id=23721140-04"/>
          <p:cNvPicPr/>
          <p:nvPr/>
        </p:nvPicPr>
        <p:blipFill>
          <a:blip r:embed="rId2"/>
          <a:stretch/>
        </p:blipFill>
        <p:spPr>
          <a:xfrm>
            <a:off x="3780000" y="4292640"/>
            <a:ext cx="1577880" cy="1728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9" descr="Картинка 72 из 279"/>
          <p:cNvPicPr/>
          <p:nvPr/>
        </p:nvPicPr>
        <p:blipFill>
          <a:blip r:embed="rId3"/>
          <a:stretch/>
        </p:blipFill>
        <p:spPr>
          <a:xfrm>
            <a:off x="6516720" y="4365720"/>
            <a:ext cx="1871640" cy="16621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Опасные химические вещества входящие в состав бытовой хими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Line 7"/>
          <p:cNvSpPr/>
          <p:nvPr/>
        </p:nvSpPr>
        <p:spPr>
          <a:xfrm flipH="1">
            <a:off x="1547640" y="1628640"/>
            <a:ext cx="1368720" cy="10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11"/>
          <p:cNvSpPr/>
          <p:nvPr/>
        </p:nvSpPr>
        <p:spPr>
          <a:xfrm>
            <a:off x="395280" y="2708280"/>
            <a:ext cx="2160720" cy="414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сметическ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делия: Во многи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идах косметическ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дукции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истема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 уходу за ногтя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спользует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ормальдегид –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оксич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есцвет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аз, которы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являет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здражающи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ществом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нцероген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Rectangle 14"/>
          <p:cNvSpPr/>
          <p:nvPr/>
        </p:nvSpPr>
        <p:spPr>
          <a:xfrm>
            <a:off x="5867280" y="2637000"/>
            <a:ext cx="3276720" cy="4221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интетические моющ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редства: Все изготовлен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 нефти, содержат энзимы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осфаты, агрессив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тбеливающие средств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интетические отдушки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расители, консерванты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густители и т. 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нова всех синтетически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редств – анионные ПАВ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АВы коварны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рой ни пациент, ни врач н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гадываются, наскольк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ерьёзно влияет на наш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доровье бытовая хим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Line 15"/>
          <p:cNvSpPr/>
          <p:nvPr/>
        </p:nvSpPr>
        <p:spPr>
          <a:xfrm>
            <a:off x="5867280" y="1628640"/>
            <a:ext cx="115272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ectangle 17"/>
          <p:cNvSpPr/>
          <p:nvPr/>
        </p:nvSpPr>
        <p:spPr>
          <a:xfrm>
            <a:off x="2987640" y="2708280"/>
            <a:ext cx="2448000" cy="414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редства для мыть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суды: По своем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ставу средства дл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суды мал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тличаются о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иральных порошк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сле мытья посу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её поверх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таётся от 20 до 40%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ющего средств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торое представля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асность дл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доровья челове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Line 18"/>
          <p:cNvSpPr/>
          <p:nvPr/>
        </p:nvSpPr>
        <p:spPr>
          <a:xfrm flipH="1">
            <a:off x="4284720" y="1989000"/>
            <a:ext cx="71280" cy="6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20" descr="Картинка 4 из 262832"/>
          <p:cNvPicPr/>
          <p:nvPr/>
        </p:nvPicPr>
        <p:blipFill>
          <a:blip r:embed="rId1"/>
          <a:stretch/>
        </p:blipFill>
        <p:spPr>
          <a:xfrm>
            <a:off x="250920" y="134136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2" descr="i?id=121323671-02"/>
          <p:cNvPicPr/>
          <p:nvPr/>
        </p:nvPicPr>
        <p:blipFill>
          <a:blip r:embed="rId2"/>
          <a:stretch/>
        </p:blipFill>
        <p:spPr>
          <a:xfrm>
            <a:off x="2843280" y="1879560"/>
            <a:ext cx="1008000" cy="8208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4" descr="Картинка 21 из 859"/>
          <p:cNvPicPr/>
          <p:nvPr/>
        </p:nvPicPr>
        <p:blipFill>
          <a:blip r:embed="rId3"/>
          <a:stretch/>
        </p:blipFill>
        <p:spPr>
          <a:xfrm>
            <a:off x="7873920" y="1125360"/>
            <a:ext cx="1270080" cy="15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655040" cy="836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Бытовая химия у нас дом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-360" y="907920"/>
            <a:ext cx="594036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Шампунь для ковров и обивки «Ваниш»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ыло «Антипятин» для выведения пятен на одежд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иральный порошок «АОС» для стирки белого бель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way Dish Drops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» концентрированная жидкость для мытья посуд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Шампунь против перхоти «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way SATINIQUE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» для предотвращения перхо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4" descr="SDC12996"/>
          <p:cNvPicPr/>
          <p:nvPr/>
        </p:nvPicPr>
        <p:blipFill>
          <a:blip r:embed="rId1"/>
          <a:stretch/>
        </p:blipFill>
        <p:spPr>
          <a:xfrm>
            <a:off x="5867280" y="884160"/>
            <a:ext cx="3276720" cy="2565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0" descr="SDC12838"/>
          <p:cNvPicPr/>
          <p:nvPr/>
        </p:nvPicPr>
        <p:blipFill>
          <a:blip r:embed="rId2"/>
          <a:stretch/>
        </p:blipFill>
        <p:spPr>
          <a:xfrm>
            <a:off x="6162840" y="3645000"/>
            <a:ext cx="2981160" cy="3213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768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7" dur="768" fill="hold"/>
                                        <p:tgtEl>
                                          <p:spTgt spid="2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9" dur="768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1" dur="768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7921800" cy="1197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Результаты социологического  опроса моих знакомых и родных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00% опрошенных используют препараты бытовой хими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60% ничего не знают о возможных опасностях для здоровья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80% знают о существовании альтернативы препаратам бытовой химии, но не пользуются и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90% хотели бы знать правду о влиянии бытовой химии на здоровь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8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8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8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Альтернатива использования бытовой химии (Советы моей бабушки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6516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ёплый мыльный раствор (добавьте туда пищевую соду – и в вашем распоряжении хорошее средство для мытья посуды, не содержащее абразивов и вредных химических веществ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ксус (удаляет пятна, дезинфицирует, очищает плитку, удаляет накипь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туральные природные травы могут служить заменителем освежителя воздуха в туалет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озяйственное мыло хорошее средство для борьбы с пятнами на одежд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варенный в бане щёлок хорошая шампунь, без добавления вредных ароматизатор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5" descr="i?id=158471033-01"/>
          <p:cNvPicPr/>
          <p:nvPr/>
        </p:nvPicPr>
        <p:blipFill>
          <a:blip r:embed="rId1"/>
          <a:stretch/>
        </p:blipFill>
        <p:spPr>
          <a:xfrm>
            <a:off x="7667640" y="3141720"/>
            <a:ext cx="1255680" cy="18000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7" descr="Картинка 2 из 1420"/>
          <p:cNvPicPr/>
          <p:nvPr/>
        </p:nvPicPr>
        <p:blipFill>
          <a:blip r:embed="rId2"/>
          <a:stretch/>
        </p:blipFill>
        <p:spPr>
          <a:xfrm>
            <a:off x="6534000" y="1125360"/>
            <a:ext cx="2610000" cy="17542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i?id=134092693-01"/>
          <p:cNvPicPr/>
          <p:nvPr/>
        </p:nvPicPr>
        <p:blipFill>
          <a:blip r:embed="rId3"/>
          <a:stretch/>
        </p:blipFill>
        <p:spPr>
          <a:xfrm>
            <a:off x="6084720" y="5396040"/>
            <a:ext cx="2194200" cy="14619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050920" y="-171360"/>
            <a:ext cx="504216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 Для того, чтобы избежать опасности от использования бытовой химии необходимо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нать названия опасных компонентов препаратов бытовой химии, знать, в чём их опасность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ыть внимательным при покупке препаратов бытовой химии, изучить состав препарата и убедиться в его безопасност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пользовать альтернативные способы препаратам бытовой хим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2:12:22Z</dcterms:created>
  <dc:creator>Admin</dc:creator>
  <dc:description/>
  <dc:language>en-US</dc:language>
  <cp:lastModifiedBy>ZooM</cp:lastModifiedBy>
  <dcterms:modified xsi:type="dcterms:W3CDTF">2013-12-06T01:23:59Z</dcterms:modified>
  <cp:revision>11</cp:revision>
  <dc:subject/>
  <dc:title>Слайд 1</dc:title>
</cp:coreProperties>
</file>