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B20-E858-46A6-B176-A5A86DE0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208-9541-4713-BD30-0460D4C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A87-2CA7-4CE2-B202-7DCCA013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63E-821F-4CD2-9071-AF9440C7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9C2-0EE5-490E-B7C1-CF66B65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970-C0F9-48F6-BEFA-F89DE392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E03-AE4E-4A85-AA35-B12DB08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D95-EDC4-45FD-88D2-D886D61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E74-792F-42D1-AD97-90D8DA0A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814-461F-4A7D-B9CC-6DFB7FF6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ACB-C2C9-4A52-894D-BFC2821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0C6-D3CE-4CDF-B46D-247B3719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5EF-1C8F-4072-916C-8D03CF056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Конкурс учебных проектов 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в рамках фестиваля исследовательских и творческих работ учащихся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 «Портфолио ученика»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2012-2013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2643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«Выращивание кристаллов соли в домашних услови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4005360"/>
            <a:ext cx="2880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Михайлова Елена Николаевна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4005360"/>
            <a:ext cx="2890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Автор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Давидан Данила Сергеевич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1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32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Calibri"/>
              </a:rPr>
              <a:t>Начало эксперимен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6092"/>
                </a:solidFill>
                <a:latin typeface="Calibri"/>
              </a:rPr>
              <a:t>Взял две баночки, в одной приготовил концентрированный соляной раствор, а в другой сахарный раствор. Опустил в каждую баночку, привязанную на нитку скрепку и кусочек зубочистки. Поставил банки на подокон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6894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Продолжил эксперимент - добавил пищевой краситель и использовал вместо «затравки» кам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27760" cy="30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024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На стенках банки с солевым раствором образовался белый на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635640" cy="273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Вот такие кристаллы получились на металлической и деревянной «затравк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46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А в баночке с сахарным раствором ничего не было видно до тех пор, пока не достал скрепку.</a:t>
            </a:r>
            <a:br>
              <a:rPr sz="3200"/>
            </a:b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21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Это я, Давидан Данила, с кристал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003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18:47Z</dcterms:created>
  <dc:creator>Admin</dc:creator>
  <dc:description/>
  <dc:language>en-US</dc:language>
  <cp:lastModifiedBy>Admin</cp:lastModifiedBy>
  <dcterms:modified xsi:type="dcterms:W3CDTF">2012-11-17T16:46:40Z</dcterms:modified>
  <cp:revision>6</cp:revision>
  <dc:subject/>
  <dc:title>Конкурс учебных проектов  в рамках фестиваля исследовательских и творческих работ учащихся  «Портфолио ученика» </dc:title>
</cp:coreProperties>
</file>