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422-4277-4DF1-99DF-D25AE869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C9E-A090-4574-A053-BBDB54E7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400-2DC6-4A92-835B-392C8D12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2A2-85E2-4E24-8BC8-00C3B1AE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5A21-A67C-4C79-BB63-AE202A14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87A-927F-4B40-8D7E-1455FEDB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406-54E5-4BAC-B59F-DD4379C4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81E-B6B3-4488-B04C-548636B4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19B-15B6-4EFD-BE6D-82B12E34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60D-830B-4EE6-BF5A-E347E92E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084-8007-489C-B0A2-68565297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521-1E86-48AF-B7EC-B7D8A465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22FD-9FDE-4D40-A662-614E3BEDA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Конкурс учебных проектов 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в рамках фестиваля исследовательских и творческих работ учащихся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 «Портфолио ученика»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Calibri"/>
              </a:rPr>
              <a:t>2012-2013 учебный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626436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«Выращивание кристаллов соли в домашних условия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64000" y="4005360"/>
            <a:ext cx="28800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                 </a:t>
            </a: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Михайлова Елена Николаевна, Муниципальное бюджетное общеобразовательное учреждение  средняя общеобразовательная школа № 4 МО город Горячий Ключ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4005360"/>
            <a:ext cx="28908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                     </a:t>
            </a:r>
            <a:r>
              <a:rPr b="1" lang="ru-RU" sz="1600" spc="-1" strike="noStrike">
                <a:solidFill>
                  <a:srgbClr val="254061"/>
                </a:solidFill>
                <a:latin typeface="Calibri"/>
              </a:rPr>
              <a:t>Автор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Давидан Данила Сергеевич, Муниципальное бюджетное общеобразовательное учреждение  средняя общеобразовательная школа № 4 МО город Горячий Ключ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1 клас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32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4061"/>
                </a:solidFill>
                <a:latin typeface="Calibri"/>
              </a:rPr>
              <a:t>Начало эксперимент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501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76092"/>
                </a:solidFill>
                <a:latin typeface="Calibri"/>
              </a:rPr>
              <a:t>Взял две баночки, в одной приготовил концентрированный соляной раствор, а в другой сахарный раствор. Опустил в каждую баночку, привязанную на нитку скрепку и кусочек зубочистки. Поставил банки на подоконни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68944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Продолжил эксперимент - добавил пищевой краситель и использовал вместо «затравки» каму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127760" cy="3095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0243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На стенках банки с солевым раствором образовался белый на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3635640" cy="273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6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Вот такие кристаллы получились на металлической и деревянной «затравк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46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А в баночке с сахарным раствором ничего не было видно до тех пор, пока не достал скрепку.</a:t>
            </a:r>
            <a:br>
              <a:rPr sz="3200"/>
            </a:b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821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Это я, Давидан Данила, с кристалл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360036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18:47Z</dcterms:created>
  <dc:creator>Admin</dc:creator>
  <dc:description/>
  <dc:language>en-US</dc:language>
  <cp:lastModifiedBy>Admin</cp:lastModifiedBy>
  <dcterms:modified xsi:type="dcterms:W3CDTF">2012-11-17T16:46:40Z</dcterms:modified>
  <cp:revision>6</cp:revision>
  <dc:subject/>
  <dc:title>Конкурс учебных проектов  в рамках фестиваля исследовательских и творческих работ учащихся  «Портфолио ученика» </dc:title>
</cp:coreProperties>
</file>