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872-21A2-4E85-B401-298FAF4C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A75-0FBD-4A12-A838-2023BAAD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73A-02E7-4764-B580-DF830DA9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B51-B39E-4F8A-8C70-8921E1B1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C57-F142-4616-882E-537995EF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C69-37F1-4A83-A787-BACF05F6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4E0-1F4F-43D1-B1C9-ED08AFEF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64B-9DDF-4FCD-8470-286CF9B9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B26-047E-4E29-881D-B56CE87B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739-2A8A-4020-9A58-CC73B56E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848-02FC-4218-ADF3-DDCD7EE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269-5880-4A4F-B43F-887B25E6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75D7-CF4C-40A4-93F7-6D8EAD2DF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Конкурс учебных проектов 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в рамках фестиваля исследовательских и творческих работ учащихся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 «Портфолио ученика»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2012-2013 учебный го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62643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«Выращивание кристаллов соли в домашних условия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64000" y="4005360"/>
            <a:ext cx="2880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                 </a:t>
            </a: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Михайлова Елена Николаевна, Муниципальное бюджетное общеобразовательное учреждение  средняя общеобразовательная школа № 4 МО город Горячий Ключ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4005360"/>
            <a:ext cx="28908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                     </a:t>
            </a: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Автор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Давидан Данила Сергеевич, Муниципальное бюджетное общеобразовательное учреждение  средняя общеобразовательная школа № 4 МО город Горячий Ключ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1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32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4061"/>
                </a:solidFill>
                <a:latin typeface="Calibri"/>
              </a:rPr>
              <a:t>Начало эксперимент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501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6092"/>
                </a:solidFill>
                <a:latin typeface="Calibri"/>
              </a:rPr>
              <a:t>Взял две баночки, в одной приготовил концентрированный соляной раствор, а в другой сахарный раствор. Опустил в каждую баночку, привязанную на нитку скрепку и кусочек зубочистки. Поставил банки на подоконни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68944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Продолжил эксперимент - добавил пищевой краситель и использовал вместо «затравки» кам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127760" cy="309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02436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На стенках банки с солевым раствором образовался белый на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3635640" cy="273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6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Вот такие кристаллы получились на металлической и деревянной «затравк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46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А в баночке с сахарным раствором ничего не было видно до тех пор, пока не достал скрепку.</a:t>
            </a:r>
            <a:br>
              <a:rPr sz="3200"/>
            </a:b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3821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Это я, Давидан Данила, с кристалл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60036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18:47Z</dcterms:created>
  <dc:creator>Admin</dc:creator>
  <dc:description/>
  <dc:language>en-US</dc:language>
  <cp:lastModifiedBy>Admin</cp:lastModifiedBy>
  <dcterms:modified xsi:type="dcterms:W3CDTF">2012-11-17T16:46:40Z</dcterms:modified>
  <cp:revision>6</cp:revision>
  <dc:subject/>
  <dc:title>Конкурс учебных проектов  в рамках фестиваля исследовательских и творческих работ учащихся  «Портфолио ученика» </dc:title>
</cp:coreProperties>
</file>