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59.png" ContentType="image/png"/>
  <Override PartName="/ppt/media/image24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166-8C14-4139-A1CC-C3BD86C2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518-45C5-4C76-9778-3D51166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2C4-F494-4CA1-ABA9-DEDDEDCD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05C-447A-49A5-983B-C5E1870B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E91-C5EA-40FB-A5F3-4D7F4AFC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CB52-4636-4F6E-9BED-C7D06D18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D42A-F8DC-47FE-BD37-7629E91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76C3-F30F-40E3-9514-45FF2BA5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48B5-2EAA-4451-AEE4-5D986EE9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4A49-304C-40CD-B8C0-429CFEAF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976C-D3BA-49E0-9077-B871386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110-62C9-4794-9192-E9FD4DF3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971-6C78-4B0E-95D8-57B6C06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016-A261-4628-9425-F076F27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7C8-BF4F-4633-B409-63721FC5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1C2-7D91-430E-8482-DC567DCD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B27-F404-4285-988B-8FAEA310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6ED-CEB5-4465-BCFF-A0EDF45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41C-4AFA-4F6A-9641-607C0B5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BE4-D2BB-429E-B157-83DDA29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E36-051F-4E73-844C-EC6B720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A5B-58C5-4242-A97D-FE629F7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07E-B122-4D24-ADA1-CC83447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91A-4C96-495E-A345-F9C9A96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4A2D-9137-4D1C-8326-4332D92C3D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5DF-5CE8-40D3-8A43-D6792E189B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cc00"/>
                </a:solidFill>
                <a:latin typeface="Garamond"/>
              </a:rPr>
              <a:t>Коллекции фотографий</a:t>
            </a:r>
            <a:br>
              <a:rPr sz="5800"/>
            </a:b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в Арт -Музеях</a:t>
            </a:r>
            <a:r>
              <a:rPr b="0" lang="ru-RU" sz="4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СШ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1640" y="3428640"/>
            <a:ext cx="7010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Музеи Фотограф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, первыми  начавши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коллекционировать фотограф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 Ю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(Флорида, Луизиана,Техас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6" descr="MOMA Sander28"/>
          <p:cNvPicPr/>
          <p:nvPr/>
        </p:nvPicPr>
        <p:blipFill>
          <a:blip r:embed="rId1"/>
          <a:stretch/>
        </p:blipFill>
        <p:spPr>
          <a:xfrm>
            <a:off x="5119560" y="1803240"/>
            <a:ext cx="3095640" cy="4124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MA lange38"/>
          <p:cNvPicPr/>
          <p:nvPr/>
        </p:nvPicPr>
        <p:blipFill>
          <a:blip r:embed="rId2"/>
          <a:stretch/>
        </p:blipFill>
        <p:spPr>
          <a:xfrm>
            <a:off x="1116000" y="1798560"/>
            <a:ext cx="3311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0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он в 1920 фотографировал обмаженную фигур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н-знаменитый фотограф моды в 1950-е, экономия и ясность, грациозность и соверше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MOMA WestonMexico25"/>
          <p:cNvPicPr/>
          <p:nvPr/>
        </p:nvPicPr>
        <p:blipFill>
          <a:blip r:embed="rId1"/>
          <a:stretch/>
        </p:blipFill>
        <p:spPr>
          <a:xfrm>
            <a:off x="5219640" y="1413000"/>
            <a:ext cx="198144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MOMA_penn51"/>
          <p:cNvPicPr/>
          <p:nvPr/>
        </p:nvPicPr>
        <p:blipFill>
          <a:blip r:embed="rId2"/>
          <a:stretch/>
        </p:blipFill>
        <p:spPr>
          <a:xfrm>
            <a:off x="6012000" y="4292640"/>
            <a:ext cx="2176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выставки Шерман  и Гурс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8" descr="MOMA sherman78"/>
          <p:cNvPicPr/>
          <p:nvPr/>
        </p:nvPicPr>
        <p:blipFill>
          <a:blip r:embed="rId1"/>
          <a:stretch/>
        </p:blipFill>
        <p:spPr>
          <a:xfrm>
            <a:off x="1384200" y="1484280"/>
            <a:ext cx="282744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OMA sherman79"/>
          <p:cNvPicPr/>
          <p:nvPr/>
        </p:nvPicPr>
        <p:blipFill>
          <a:blip r:embed="rId2"/>
          <a:stretch/>
        </p:blipFill>
        <p:spPr>
          <a:xfrm>
            <a:off x="2124000" y="3860640"/>
            <a:ext cx="1871640" cy="259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to MOMAGursky"/>
          <p:cNvPicPr/>
          <p:nvPr/>
        </p:nvPicPr>
        <p:blipFill>
          <a:blip r:embed="rId3"/>
          <a:stretch/>
        </p:blipFill>
        <p:spPr>
          <a:xfrm>
            <a:off x="4648320" y="160344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foto MOMA GurskyParis"/>
          <p:cNvPicPr/>
          <p:nvPr/>
        </p:nvPicPr>
        <p:blipFill>
          <a:blip r:embed="rId4"/>
          <a:stretch/>
        </p:blipFill>
        <p:spPr>
          <a:xfrm>
            <a:off x="4427640" y="4076640"/>
            <a:ext cx="42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лекция содержит работы самых известных фотограф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949 начало коллекции- Дж. О Киф подарила большую часть коллекции А. Стиглица. Были приобретены 20 фотографий Вестона, Странда, Атжета, Керте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AICh Weston30"/>
          <p:cNvPicPr/>
          <p:nvPr/>
        </p:nvPicPr>
        <p:blipFill>
          <a:blip r:embed="rId1"/>
          <a:stretch/>
        </p:blipFill>
        <p:spPr>
          <a:xfrm>
            <a:off x="658800" y="1600200"/>
            <a:ext cx="3633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ллекции представлена ранняя европейская фотография ( французская архитектура-братья Брисс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нняя американская фотография К. Уоткин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фотограф Американского Запада, неизвестные территории Калифорни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AICh Watkins1863CA"/>
          <p:cNvPicPr/>
          <p:nvPr/>
        </p:nvPicPr>
        <p:blipFill>
          <a:blip r:embed="rId1"/>
          <a:stretch/>
        </p:blipFill>
        <p:spPr>
          <a:xfrm>
            <a:off x="1047600" y="3941640"/>
            <a:ext cx="28562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ICh Freres1863"/>
          <p:cNvPicPr/>
          <p:nvPr/>
        </p:nvPicPr>
        <p:blipFill>
          <a:blip r:embed="rId2"/>
          <a:stretch/>
        </p:blipFill>
        <p:spPr>
          <a:xfrm>
            <a:off x="1979640" y="1484280"/>
            <a:ext cx="1806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400"/>
            </a:b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2.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МУЗЕИ ФОТОГРАФИ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557360"/>
          <a:ext cx="6885000" cy="4405320"/>
        </p:xfrm>
        <a:graphic>
          <a:graphicData uri="http://schemas.openxmlformats.org/drawingml/2006/table">
            <a:tbl>
              <a:tblPr/>
              <a:tblGrid>
                <a:gridCol w="2558160"/>
                <a:gridCol w="2054160"/>
                <a:gridCol w="2054160"/>
                <a:gridCol w="218880"/>
              </a:tblGrid>
              <a:tr h="74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еждунаролный Музей Фотографии в Рочестере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( Дом Дж. Истма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и Университета Калифорнии в Риверсай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3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3 637 в Интерн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Современной фотографии в Чика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ческих Искусств в Сан-Ди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2.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ждународный музей фотографии в Рочестере, Нью-Йорк основан в 1949 в до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ж. Истма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(1854-19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400 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м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8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се важные фигуры в истории фотограф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astman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eastman_house"/>
          <p:cNvPicPr/>
          <p:nvPr/>
        </p:nvPicPr>
        <p:blipFill>
          <a:blip r:embed="rId1"/>
          <a:stretch/>
        </p:blipFill>
        <p:spPr>
          <a:xfrm>
            <a:off x="539640" y="1916280"/>
            <a:ext cx="38242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00 коллекци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ггеротип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жде всего из Франции, так же из Филадельфии и Бостона (1 200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thworth&amp;Hawe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р.19 ве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альбо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мсон, Камерон, Л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ей Ле Сек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4" descr="Eastman Hiagara1855"/>
          <p:cNvPicPr/>
          <p:nvPr/>
        </p:nvPicPr>
        <p:blipFill>
          <a:blip r:embed="rId1"/>
          <a:stretch/>
        </p:blipFill>
        <p:spPr>
          <a:xfrm>
            <a:off x="5003640" y="1557360"/>
            <a:ext cx="16434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Eastman Scottish1846"/>
          <p:cNvPicPr/>
          <p:nvPr/>
        </p:nvPicPr>
        <p:blipFill>
          <a:blip r:embed="rId2"/>
          <a:stretch/>
        </p:blipFill>
        <p:spPr>
          <a:xfrm>
            <a:off x="6012000" y="3933720"/>
            <a:ext cx="1596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Истмана   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М. Камерон 1860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Picture 9" descr="Eastman Cameron1867"/>
          <p:cNvPicPr/>
          <p:nvPr/>
        </p:nvPicPr>
        <p:blipFill>
          <a:blip r:embed="rId1"/>
          <a:stretch/>
        </p:blipFill>
        <p:spPr>
          <a:xfrm>
            <a:off x="5764320" y="1600200"/>
            <a:ext cx="18050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astman Cameron 1867"/>
          <p:cNvPicPr/>
          <p:nvPr/>
        </p:nvPicPr>
        <p:blipFill>
          <a:blip r:embed="rId2"/>
          <a:stretch/>
        </p:blipFill>
        <p:spPr>
          <a:xfrm>
            <a:off x="5794200" y="3941640"/>
            <a:ext cx="17449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Eastman Rossetti1865"/>
          <p:cNvPicPr/>
          <p:nvPr/>
        </p:nvPicPr>
        <p:blipFill>
          <a:blip r:embed="rId3"/>
          <a:stretch/>
        </p:blipFill>
        <p:spPr>
          <a:xfrm>
            <a:off x="1187280" y="1628640"/>
            <a:ext cx="35514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400"/>
            </a:br>
            <a:r>
              <a:rPr b="0" lang="ru-RU" sz="34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вропейская топографическая фотограф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.Jacks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.O’Sulliva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Watki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ериканская- фотодокументы Гражданской вой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Gardn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.Barna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Eastman GardnerCivilWar1865"/>
          <p:cNvPicPr/>
          <p:nvPr/>
        </p:nvPicPr>
        <p:blipFill>
          <a:blip r:embed="rId1"/>
          <a:stretch/>
        </p:blipFill>
        <p:spPr>
          <a:xfrm>
            <a:off x="3564000" y="1773360"/>
            <a:ext cx="532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оллекции фотографий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арт-музеях СШ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6" descr="USA map"/>
          <p:cNvPicPr/>
          <p:nvPr/>
        </p:nvPicPr>
        <p:blipFill>
          <a:blip r:embed="rId1"/>
          <a:stretch/>
        </p:blipFill>
        <p:spPr>
          <a:xfrm>
            <a:off x="1539720" y="1622520"/>
            <a:ext cx="57769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ец 19 -1 пол.20 в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00 Английская архитек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. Ev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ская коммерческая фотограф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Atg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3" descr="Eastman HimeEmpireStateB1931"/>
          <p:cNvPicPr/>
          <p:nvPr/>
        </p:nvPicPr>
        <p:blipFill>
          <a:blip r:embed="rId1"/>
          <a:stretch/>
        </p:blipFill>
        <p:spPr>
          <a:xfrm>
            <a:off x="900000" y="1860480"/>
            <a:ext cx="3888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. </a:t>
            </a:r>
            <a:r>
              <a:rPr b="0" lang="ru-RU" sz="36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ец 19-нач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0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мков Ф.Эванс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глийская архитектур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Э.Атг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французская коммерческ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граф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икториальная фотограф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олевского фотографическог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ества в Бас (Англ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 Л. Най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половина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.Стиглиц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р Э. Штайхена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3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вропейский модерниз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рассаи, Картье-Брессон,Дриткол, Мохоли-Надь, Зандер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7" descr="Eastman Coburn1910Brit"/>
          <p:cNvPicPr/>
          <p:nvPr/>
        </p:nvPicPr>
        <p:blipFill>
          <a:blip r:embed="rId1"/>
          <a:stretch/>
        </p:blipFill>
        <p:spPr>
          <a:xfrm>
            <a:off x="468360" y="1484280"/>
            <a:ext cx="1149480" cy="218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astman Atget1925Paris"/>
          <p:cNvPicPr/>
          <p:nvPr/>
        </p:nvPicPr>
        <p:blipFill>
          <a:blip r:embed="rId2"/>
          <a:stretch/>
        </p:blipFill>
        <p:spPr>
          <a:xfrm>
            <a:off x="1692360" y="2924280"/>
            <a:ext cx="2735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реоскопические Отт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рнелл коллекция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5 000 негативов и отт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920-60 коммерческ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Иммигр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стров Элли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игерон коллекция- 15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гативов на стекле- 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ви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Калифор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00 фотографий А.К. Вромана (Миссии в Калифорнии и портреты индейце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лекция портретной студии в Санта-Барбаре начала 20 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70 раскрашенных фотографий из Японии 1880-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UCR MPh CA"/>
          <p:cNvPicPr/>
          <p:nvPr/>
        </p:nvPicPr>
        <p:blipFill>
          <a:blip r:embed="rId1"/>
          <a:stretch/>
        </p:blipFill>
        <p:spPr>
          <a:xfrm>
            <a:off x="5135400" y="1600200"/>
            <a:ext cx="306252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UCR MPh ImHungary"/>
          <p:cNvPicPr/>
          <p:nvPr/>
        </p:nvPicPr>
        <p:blipFill>
          <a:blip r:embed="rId2"/>
          <a:stretch/>
        </p:blipFill>
        <p:spPr>
          <a:xfrm>
            <a:off x="5867280" y="3941640"/>
            <a:ext cx="2265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1" name="Picture 9" descr="UCR MPh Am1899"/>
          <p:cNvPicPr/>
          <p:nvPr/>
        </p:nvPicPr>
        <p:blipFill>
          <a:blip r:embed="rId1"/>
          <a:stretch/>
        </p:blipFill>
        <p:spPr>
          <a:xfrm>
            <a:off x="5219640" y="1628640"/>
            <a:ext cx="167004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UCR MPh Am1901"/>
          <p:cNvPicPr/>
          <p:nvPr/>
        </p:nvPicPr>
        <p:blipFill>
          <a:blip r:embed="rId2"/>
          <a:stretch/>
        </p:blipFill>
        <p:spPr>
          <a:xfrm>
            <a:off x="5219640" y="4005360"/>
            <a:ext cx="1900440" cy="21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UCR MPh Am01"/>
          <p:cNvPicPr/>
          <p:nvPr/>
        </p:nvPicPr>
        <p:blipFill>
          <a:blip r:embed="rId3"/>
          <a:stretch/>
        </p:blipFill>
        <p:spPr>
          <a:xfrm>
            <a:off x="2268360" y="1557360"/>
            <a:ext cx="16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UCR MPh AMe1901"/>
          <p:cNvPicPr/>
          <p:nvPr/>
        </p:nvPicPr>
        <p:blipFill>
          <a:blip r:embed="rId4"/>
          <a:stretch/>
        </p:blipFill>
        <p:spPr>
          <a:xfrm>
            <a:off x="2195640" y="4005360"/>
            <a:ext cx="1784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6" name="Picture 8" descr="UCR MPh Elis07"/>
          <p:cNvPicPr/>
          <p:nvPr/>
        </p:nvPicPr>
        <p:blipFill>
          <a:blip r:embed="rId1"/>
          <a:stretch/>
        </p:blipFill>
        <p:spPr>
          <a:xfrm>
            <a:off x="5580000" y="1484280"/>
            <a:ext cx="213984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UCR MPh E"/>
          <p:cNvPicPr/>
          <p:nvPr/>
        </p:nvPicPr>
        <p:blipFill>
          <a:blip r:embed="rId2"/>
          <a:stretch/>
        </p:blipFill>
        <p:spPr>
          <a:xfrm>
            <a:off x="5364000" y="3933720"/>
            <a:ext cx="280836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UCR MPh Imm"/>
          <p:cNvPicPr/>
          <p:nvPr/>
        </p:nvPicPr>
        <p:blipFill>
          <a:blip r:embed="rId3"/>
          <a:stretch/>
        </p:blipFill>
        <p:spPr>
          <a:xfrm>
            <a:off x="1908000" y="1600200"/>
            <a:ext cx="223236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UCR MPh Immigr"/>
          <p:cNvPicPr/>
          <p:nvPr/>
        </p:nvPicPr>
        <p:blipFill>
          <a:blip r:embed="rId4"/>
          <a:stretch/>
        </p:blipFill>
        <p:spPr>
          <a:xfrm>
            <a:off x="2124000" y="4292640"/>
            <a:ext cx="1868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17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крашенных от руки японских фотографии датированных 1880-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UCR MPHpaintjapan"/>
          <p:cNvPicPr/>
          <p:nvPr/>
        </p:nvPicPr>
        <p:blipFill>
          <a:blip r:embed="rId1"/>
          <a:stretch/>
        </p:blipFill>
        <p:spPr>
          <a:xfrm>
            <a:off x="1084320" y="1600200"/>
            <a:ext cx="3271680" cy="233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CR MPh Jap"/>
          <p:cNvPicPr/>
          <p:nvPr/>
        </p:nvPicPr>
        <p:blipFill>
          <a:blip r:embed="rId2"/>
          <a:stretch/>
        </p:blipFill>
        <p:spPr>
          <a:xfrm>
            <a:off x="176364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Современной фотографии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в Чикаго 1982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82 Проект для фотографов Среднего За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6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графии с 1945 по настоящее время американских фотографов и тех, кто работает в СШ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чество с Колледжом Чика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Chicago MCPh Jordano02"/>
          <p:cNvPicPr/>
          <p:nvPr/>
        </p:nvPicPr>
        <p:blipFill>
          <a:blip r:embed="rId1"/>
          <a:stretch/>
        </p:blipFill>
        <p:spPr>
          <a:xfrm>
            <a:off x="5289480" y="1600200"/>
            <a:ext cx="275436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hicago MCPhTemkin201"/>
          <p:cNvPicPr/>
          <p:nvPr/>
        </p:nvPicPr>
        <p:blipFill>
          <a:blip r:embed="rId2"/>
          <a:stretch/>
        </p:blipFill>
        <p:spPr>
          <a:xfrm>
            <a:off x="5580000" y="4076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ческих Искусств в Сан-Диего 1983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ектор-известный куратор и фотограф А.Оллм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оян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включает раб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ляющие истор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и с середины 1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ка до настояще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199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фотографа и режиссера Л.Стоу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200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Независимой Документ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ы (фотографии Йосуке Ямамото Нагасаки в 19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7" descr="foto SanDiegoMPh"/>
          <p:cNvPicPr/>
          <p:nvPr/>
        </p:nvPicPr>
        <p:blipFill>
          <a:blip r:embed="rId1"/>
          <a:stretch/>
        </p:blipFill>
        <p:spPr>
          <a:xfrm>
            <a:off x="1009800" y="1600200"/>
            <a:ext cx="29336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SanDiegoMPh Nagasaki"/>
          <p:cNvPicPr/>
          <p:nvPr/>
        </p:nvPicPr>
        <p:blipFill>
          <a:blip r:embed="rId2"/>
          <a:stretch/>
        </p:blipFill>
        <p:spPr>
          <a:xfrm>
            <a:off x="971640" y="3944880"/>
            <a:ext cx="3456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 МУЗЕИ ИСКУССТВА  ЮГА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946760"/>
        </p:xfrm>
        <a:graphic>
          <a:graphicData uri="http://schemas.openxmlformats.org/drawingml/2006/table">
            <a:tbl>
              <a:tblPr/>
              <a:tblGrid>
                <a:gridCol w="2057400"/>
                <a:gridCol w="1913040"/>
                <a:gridCol w="2201760"/>
                <a:gridCol w="2057400"/>
              </a:tblGrid>
              <a:tr h="107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 муз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то кол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  в Н. Орле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изи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40 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23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ьюстон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 40 00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м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лор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аак Дельгадо, иммигрант с Ямайки и успешный торговец сахаром подарил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150 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создание «храма искусств как для бедных, так и для богатых». Городские власти подарили землю для пар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о здание в неоклассическом стил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7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ы новые зд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9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овое увеличение и реновация музе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23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мл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Franklin Gothic Medium"/>
              </a:rPr>
              <a:t>400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метов искусства в коллекции музе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7" descr="NOrleans building11"/>
          <p:cNvPicPr/>
          <p:nvPr/>
        </p:nvPicPr>
        <p:blipFill>
          <a:blip r:embed="rId1"/>
          <a:stretch/>
        </p:blipFill>
        <p:spPr>
          <a:xfrm>
            <a:off x="1547640" y="4581360"/>
            <a:ext cx="302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New Orleans1911"/>
          <p:cNvPicPr/>
          <p:nvPr/>
        </p:nvPicPr>
        <p:blipFill>
          <a:blip r:embed="rId2"/>
          <a:stretch/>
        </p:blipFill>
        <p:spPr>
          <a:xfrm>
            <a:off x="826920" y="1484280"/>
            <a:ext cx="381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2800" spc="-1" strike="noStrike">
                <a:solidFill>
                  <a:srgbClr val="4239b3"/>
                </a:solidFill>
                <a:latin typeface="Garamond"/>
              </a:rPr>
              <a:t>1. МУЗЕИ ИСКУССТВА , </a:t>
            </a:r>
            <a:br>
              <a:rPr sz="2800"/>
            </a:br>
            <a:r>
              <a:rPr b="1" lang="ru-RU" sz="2000" spc="-1" strike="noStrike">
                <a:solidFill>
                  <a:srgbClr val="4239b3"/>
                </a:solidFill>
                <a:latin typeface="Garamond"/>
              </a:rPr>
              <a:t>первыми начавшие коллекционировать фотографии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989000"/>
          <a:ext cx="8229600" cy="340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д 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мер кол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етрополите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000</a:t>
                      </a:r>
                      <a:r>
                        <a:rPr b="1" lang="ru-RU" sz="1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оМ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дел с 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00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з 100 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рт Институт Чика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4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тавки с 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фотографий с сер.19 века по настоящее врем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лены сам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ительные имен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например, Г. Тальботт 1843, Камерон 1866, Мэн Рэй 1920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Orelan Talbot1845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NOrleans CertisParis1920"/>
          <p:cNvPicPr/>
          <p:nvPr/>
        </p:nvPicPr>
        <p:blipFill>
          <a:blip r:embed="rId2"/>
          <a:stretch/>
        </p:blipFill>
        <p:spPr>
          <a:xfrm>
            <a:off x="4716360" y="4508640"/>
            <a:ext cx="3024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3" name="Picture 8" descr="NOrlean Camreron"/>
          <p:cNvPicPr/>
          <p:nvPr/>
        </p:nvPicPr>
        <p:blipFill>
          <a:blip r:embed="rId1"/>
          <a:stretch/>
        </p:blipFill>
        <p:spPr>
          <a:xfrm>
            <a:off x="4859280" y="198900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NOrleans MRay"/>
          <p:cNvPicPr/>
          <p:nvPr/>
        </p:nvPicPr>
        <p:blipFill>
          <a:blip r:embed="rId2"/>
          <a:stretch/>
        </p:blipFill>
        <p:spPr>
          <a:xfrm>
            <a:off x="1187280" y="1989000"/>
            <a:ext cx="2953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ей изящных искусств в Хьюстоне один из крупнейших арт музеев С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фотографий начала 20 века и Фотоавангар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Штехен, Мохоли-Надь, Мэн Р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я 1920-30-х ( Стрэнд, Вестон, Брассан, Картье-Брессон, есть советская фотограф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2 приобретено 3 760 фотографий у коллекционера м. Хейтин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6" descr="Houston1924"/>
          <p:cNvPicPr/>
          <p:nvPr/>
        </p:nvPicPr>
        <p:blipFill>
          <a:blip r:embed="rId1"/>
          <a:stretch/>
        </p:blipFill>
        <p:spPr>
          <a:xfrm>
            <a:off x="5003640" y="1773360"/>
            <a:ext cx="316872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Houston2"/>
          <p:cNvPicPr/>
          <p:nvPr/>
        </p:nvPicPr>
        <p:blipFill>
          <a:blip r:embed="rId2"/>
          <a:stretch/>
        </p:blipFill>
        <p:spPr>
          <a:xfrm>
            <a:off x="5003640" y="4308480"/>
            <a:ext cx="3240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 студентов-фотофиксация жизни  афро-американского квартала с комментариями самих молодых фотохудожник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жегодные Фотовыставки студентов в муз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7" descr="Houston AMproject"/>
          <p:cNvPicPr/>
          <p:nvPr/>
        </p:nvPicPr>
        <p:blipFill>
          <a:blip r:embed="rId1"/>
          <a:stretch/>
        </p:blipFill>
        <p:spPr>
          <a:xfrm>
            <a:off x="501480" y="1600200"/>
            <a:ext cx="394812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ouston AM Project3"/>
          <p:cNvPicPr/>
          <p:nvPr/>
        </p:nvPicPr>
        <p:blipFill>
          <a:blip r:embed="rId2"/>
          <a:stretch/>
        </p:blipFill>
        <p:spPr>
          <a:xfrm>
            <a:off x="847800" y="3941640"/>
            <a:ext cx="3579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4" name="Picture 10" descr="Houston AM Project2"/>
          <p:cNvPicPr/>
          <p:nvPr/>
        </p:nvPicPr>
        <p:blipFill>
          <a:blip r:embed="rId1"/>
          <a:stretch/>
        </p:blipFill>
        <p:spPr>
          <a:xfrm>
            <a:off x="826920" y="1628640"/>
            <a:ext cx="3745080" cy="522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Houston AM Project3"/>
          <p:cNvPicPr/>
          <p:nvPr/>
        </p:nvPicPr>
        <p:blipFill>
          <a:blip r:embed="rId2"/>
          <a:stretch/>
        </p:blipFill>
        <p:spPr>
          <a:xfrm>
            <a:off x="5148360" y="1484280"/>
            <a:ext cx="3600360" cy="24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Houston Am Project1"/>
          <p:cNvPicPr/>
          <p:nvPr/>
        </p:nvPicPr>
        <p:blipFill>
          <a:blip r:embed="rId3"/>
          <a:stretch/>
        </p:blipFill>
        <p:spPr>
          <a:xfrm>
            <a:off x="5888160" y="4365720"/>
            <a:ext cx="3255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анцы высадились на побережье Тампа в 1513, в 1845 эта территория вошла в состав СШ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снован Тампа Арт Муз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ллекци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работ , включая коллекцию античного искусства Греции и Рима (вазы и бронза-да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. W. Nob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коллекции фотографий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 представлены дагерротипы 19 века, а так же фотография с 1970-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ажная часть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тографии Греции и Рима, сделанные в 19 век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6" descr="Tampa_night_skyline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9" descr="foto TAMPAnew"/>
          <p:cNvPicPr/>
          <p:nvPr/>
        </p:nvPicPr>
        <p:blipFill>
          <a:blip r:embed="rId1"/>
          <a:stretch/>
        </p:blipFill>
        <p:spPr>
          <a:xfrm>
            <a:off x="4859280" y="270828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TAMPA antiquites"/>
          <p:cNvPicPr/>
          <p:nvPr/>
        </p:nvPicPr>
        <p:blipFill>
          <a:blip r:embed="rId2"/>
          <a:stretch/>
        </p:blipFill>
        <p:spPr>
          <a:xfrm>
            <a:off x="2050920" y="4365720"/>
            <a:ext cx="1584360" cy="215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TAMPA Constantine1860"/>
          <p:cNvPicPr/>
          <p:nvPr/>
        </p:nvPicPr>
        <p:blipFill>
          <a:blip r:embed="rId3"/>
          <a:stretch/>
        </p:blipFill>
        <p:spPr>
          <a:xfrm>
            <a:off x="1047600" y="1670040"/>
            <a:ext cx="3453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ОЛЛЕКЦИИ ФОТОГРАФИЙ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в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АРТ МУЗЕЯХ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-музеи,  начавшие первыми собирать коллекции фотографий-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-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Музеи фотографий -  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5-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 музеи Юга США -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28-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66600"/>
                </a:solidFill>
                <a:latin typeface="Garamond"/>
              </a:rPr>
              <a:t>Метрополитен  1870</a:t>
            </a:r>
            <a:endParaRPr b="0" lang="en-US" sz="27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7" descr="Metr BacotFr1852"/>
          <p:cNvPicPr/>
          <p:nvPr/>
        </p:nvPicPr>
        <p:blipFill>
          <a:blip r:embed="rId1"/>
          <a:stretch/>
        </p:blipFill>
        <p:spPr>
          <a:xfrm>
            <a:off x="1042920" y="1628640"/>
            <a:ext cx="3457800" cy="468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онирование фотографий с 19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5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бот, главным образом Европейская и Американская фотография. Британская фотография  середины 19 века, пикториальная фотография коллекция А.Стиглица, коллекция компании Форд, личный архив В.Эв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началась с деятельности 2 кураторов-В. Ирвинга и Х. Мейера и дара А. Стиглица ( 22 своих фотографи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Picture 7" descr="Metr RobertFr1850"/>
          <p:cNvPicPr/>
          <p:nvPr/>
        </p:nvPicPr>
        <p:blipFill>
          <a:blip r:embed="rId1"/>
          <a:stretch/>
        </p:blipFill>
        <p:spPr>
          <a:xfrm>
            <a:off x="539640" y="2205000"/>
            <a:ext cx="388800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Metr France1844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Picture 6" descr="Metr Fr1850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Picture 7" descr="Metr Newhaven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etr Boston1850"/>
          <p:cNvPicPr/>
          <p:nvPr/>
        </p:nvPicPr>
        <p:blipFill>
          <a:blip r:embed="rId2"/>
          <a:stretch/>
        </p:blipFill>
        <p:spPr>
          <a:xfrm>
            <a:off x="826920" y="1484280"/>
            <a:ext cx="36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7" descr="MOMA manray22"/>
          <p:cNvPicPr/>
          <p:nvPr/>
        </p:nvPicPr>
        <p:blipFill>
          <a:blip r:embed="rId1"/>
          <a:stretch/>
        </p:blipFill>
        <p:spPr>
          <a:xfrm>
            <a:off x="457200" y="2254320"/>
            <a:ext cx="4038480" cy="3220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с 19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5 000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840 по настоящее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исследовательский Центр Фот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1. МОМА   1929 М.Брав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нуэль Альварес Браво (род. 1902) один из знаменитых фотографов и художников Мекс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л современником Ривейры, Сикероса, Орос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обственного стиля в 1930 и влияние сюрреал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9" descr="foto MomaBravo20"/>
          <p:cNvPicPr/>
          <p:nvPr/>
        </p:nvPicPr>
        <p:blipFill>
          <a:blip r:embed="rId1"/>
          <a:stretch/>
        </p:blipFill>
        <p:spPr>
          <a:xfrm>
            <a:off x="4500720" y="1628640"/>
            <a:ext cx="3016080" cy="233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foto MomaBravo35"/>
          <p:cNvPicPr/>
          <p:nvPr/>
        </p:nvPicPr>
        <p:blipFill>
          <a:blip r:embed="rId2"/>
          <a:stretch/>
        </p:blipFill>
        <p:spPr>
          <a:xfrm>
            <a:off x="5940360" y="4149720"/>
            <a:ext cx="27781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44:51Z</dcterms:created>
  <dc:creator>Zal1</dc:creator>
  <dc:description/>
  <dc:language>en-US</dc:language>
  <cp:lastModifiedBy>ZooM</cp:lastModifiedBy>
  <dcterms:modified xsi:type="dcterms:W3CDTF">2013-10-22T13:03:59Z</dcterms:modified>
  <cp:revision>43</cp:revision>
  <dc:subject/>
  <dc:title>Коллекции фотографий в арт-музеях США</dc:title>
</cp:coreProperties>
</file>