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59.png" ContentType="image/png"/>
  <Override PartName="/ppt/media/image24.jpeg" ContentType="image/jpeg"/>
  <Override PartName="/ppt/media/image41.jpeg" ContentType="image/jpe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4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464-B4EC-46DD-AAEE-C4B7BE08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E1D-6A25-4F7B-A0F1-F9B11C25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F84-F7B0-446D-8E43-27A4A9DF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B81-AFDD-4641-B39E-65E1E5E8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618F-7646-43E8-A7B1-462D6347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1DB6-1E66-475B-834D-4F0D34A7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E618-657F-4EA3-812D-93AFC3BB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494E-64F2-460D-8355-14DDF006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42C5-116D-49CA-B7DE-255B5766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878C-898E-42FD-80F1-F9D34B0A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8876-5BE2-4FD2-80F8-EA617596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F9E-0798-47B9-854E-6E123667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CF9A-E747-46B6-88C6-B8C8ABBE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B956-33F5-4504-BDB9-C36FE65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E329-C9D6-49DC-93CD-A855A436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4C4D-E591-4970-94F8-19EE7404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9AF0-07FF-43DD-A7AD-4D83D912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B10-670B-4876-81BD-359EEA38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1C7-33E4-4F51-8FF6-C1B99729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596-B477-437B-A199-C33BE1C6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655-EE68-4786-BC71-BCA2A877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451-D570-4025-9C37-97FB23F2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17A-C27D-425D-B02C-89B035FF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E8B-2244-47C8-872B-EDE4493F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8EC8-1520-45A7-BA29-A849BFC526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5CFD-94A1-43B9-9870-F67B4FC406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cc00"/>
                </a:solidFill>
                <a:latin typeface="Garamond"/>
              </a:rPr>
              <a:t>Коллекции фотографий</a:t>
            </a:r>
            <a:br>
              <a:rPr sz="5800"/>
            </a:br>
            <a:r>
              <a:rPr b="1" lang="ru-RU" sz="4800" spc="-1" strike="noStrike">
                <a:solidFill>
                  <a:srgbClr val="666600"/>
                </a:solidFill>
                <a:latin typeface="Verdana"/>
              </a:rPr>
              <a:t>в Арт -Музеях</a:t>
            </a:r>
            <a:r>
              <a:rPr b="0" lang="ru-RU" sz="4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666600"/>
                </a:solidFill>
                <a:latin typeface="Verdana"/>
              </a:rPr>
              <a:t>СШ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1640" y="3428640"/>
            <a:ext cx="70102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Музеи Фотограф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99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Арт-музеи, первыми  начавшие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коллекционировать фотограф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99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Арт-музеи Юг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(Флорида, Луизиана,Техас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МОМА 192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5" name="Picture 6" descr="MOMA Sander28"/>
          <p:cNvPicPr/>
          <p:nvPr/>
        </p:nvPicPr>
        <p:blipFill>
          <a:blip r:embed="rId1"/>
          <a:stretch/>
        </p:blipFill>
        <p:spPr>
          <a:xfrm>
            <a:off x="5119560" y="1803240"/>
            <a:ext cx="3095640" cy="4124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MA lange38"/>
          <p:cNvPicPr/>
          <p:nvPr/>
        </p:nvPicPr>
        <p:blipFill>
          <a:blip r:embed="rId2"/>
          <a:stretch/>
        </p:blipFill>
        <p:spPr>
          <a:xfrm>
            <a:off x="1116000" y="1798560"/>
            <a:ext cx="3311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000"/>
            </a:b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МОМА 192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он в 1920 фотографировал обмаженную фигур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нн-знаменитый фотограф моды в 1950-е, экономия и ясность, грациозность и совершен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MOMA WestonMexico25"/>
          <p:cNvPicPr/>
          <p:nvPr/>
        </p:nvPicPr>
        <p:blipFill>
          <a:blip r:embed="rId1"/>
          <a:stretch/>
        </p:blipFill>
        <p:spPr>
          <a:xfrm>
            <a:off x="5219640" y="1413000"/>
            <a:ext cx="1981440" cy="252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MOMA_penn51"/>
          <p:cNvPicPr/>
          <p:nvPr/>
        </p:nvPicPr>
        <p:blipFill>
          <a:blip r:embed="rId2"/>
          <a:stretch/>
        </p:blipFill>
        <p:spPr>
          <a:xfrm>
            <a:off x="6012000" y="4292640"/>
            <a:ext cx="2176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МОМА </a:t>
            </a:r>
            <a:r>
              <a:rPr b="1" lang="ru-RU" sz="3200" spc="-1" strike="noStrike">
                <a:solidFill>
                  <a:srgbClr val="666600"/>
                </a:solidFill>
                <a:latin typeface="Garamond"/>
              </a:rPr>
              <a:t>выставки Шерман  и Гурск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2" name="Picture 8" descr="MOMA sherman78"/>
          <p:cNvPicPr/>
          <p:nvPr/>
        </p:nvPicPr>
        <p:blipFill>
          <a:blip r:embed="rId1"/>
          <a:stretch/>
        </p:blipFill>
        <p:spPr>
          <a:xfrm>
            <a:off x="1384200" y="1484280"/>
            <a:ext cx="2827440" cy="230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OMA sherman79"/>
          <p:cNvPicPr/>
          <p:nvPr/>
        </p:nvPicPr>
        <p:blipFill>
          <a:blip r:embed="rId2"/>
          <a:stretch/>
        </p:blipFill>
        <p:spPr>
          <a:xfrm>
            <a:off x="2124000" y="3860640"/>
            <a:ext cx="1871640" cy="259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foto MOMAGursky"/>
          <p:cNvPicPr/>
          <p:nvPr/>
        </p:nvPicPr>
        <p:blipFill>
          <a:blip r:embed="rId3"/>
          <a:stretch/>
        </p:blipFill>
        <p:spPr>
          <a:xfrm>
            <a:off x="4648320" y="1603440"/>
            <a:ext cx="4038480" cy="2181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foto MOMA GurskyParis"/>
          <p:cNvPicPr/>
          <p:nvPr/>
        </p:nvPicPr>
        <p:blipFill>
          <a:blip r:embed="rId4"/>
          <a:stretch/>
        </p:blipFill>
        <p:spPr>
          <a:xfrm>
            <a:off x="4427640" y="4076640"/>
            <a:ext cx="4259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20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Арт Институт Чикаго 1886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лекция содержит работы самых известных фотограф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949 начало коллекции- Дж. О Киф подарила большую часть коллекции А. Стиглица. Были приобретены 20 фотографий Вестона, Странда, Атжета, Керте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AICh Weston30"/>
          <p:cNvPicPr/>
          <p:nvPr/>
        </p:nvPicPr>
        <p:blipFill>
          <a:blip r:embed="rId1"/>
          <a:stretch/>
        </p:blipFill>
        <p:spPr>
          <a:xfrm>
            <a:off x="658800" y="1600200"/>
            <a:ext cx="3633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Арт Институт Чикаго 1886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оллекции представлена ранняя европейская фотография ( французская архитектура-братья Бриссо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нняя американская фотография К. Уоткин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 фотограф Американского Запада, неизвестные территории Калифорнии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8" descr="AICh Watkins1863CA"/>
          <p:cNvPicPr/>
          <p:nvPr/>
        </p:nvPicPr>
        <p:blipFill>
          <a:blip r:embed="rId1"/>
          <a:stretch/>
        </p:blipFill>
        <p:spPr>
          <a:xfrm>
            <a:off x="1047600" y="3941640"/>
            <a:ext cx="285624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ICh Freres1863"/>
          <p:cNvPicPr/>
          <p:nvPr/>
        </p:nvPicPr>
        <p:blipFill>
          <a:blip r:embed="rId2"/>
          <a:stretch/>
        </p:blipFill>
        <p:spPr>
          <a:xfrm>
            <a:off x="1979640" y="1484280"/>
            <a:ext cx="1806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3400"/>
            </a:br>
            <a:r>
              <a:rPr b="1" lang="ru-RU" sz="4000" spc="-1" strike="noStrike">
                <a:solidFill>
                  <a:srgbClr val="4239b3"/>
                </a:solidFill>
                <a:latin typeface="Garamond"/>
              </a:rPr>
              <a:t>2.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4239b3"/>
                </a:solidFill>
                <a:latin typeface="Garamond"/>
              </a:rPr>
              <a:t>МУЗЕИ ФОТОГРАФИ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71640" y="1557360"/>
          <a:ext cx="6885000" cy="4405320"/>
        </p:xfrm>
        <a:graphic>
          <a:graphicData uri="http://schemas.openxmlformats.org/drawingml/2006/table">
            <a:tbl>
              <a:tblPr/>
              <a:tblGrid>
                <a:gridCol w="2558160"/>
                <a:gridCol w="2054160"/>
                <a:gridCol w="2054160"/>
                <a:gridCol w="218880"/>
              </a:tblGrid>
              <a:tr h="74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Междунаролный Музей Фотографии в Рочестере, Нью-Йор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( Дом Дж. Истма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4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Музей Фотографии Университета Калифорнии в Риверсай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3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3 637 в Интерн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Музей Современной фотографии в Чика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6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Музей Фотографических Искусств в Сан-Ди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6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40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 2. </a:t>
            </a:r>
            <a:r>
              <a:rPr b="0" lang="ru-RU" sz="40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Дом Дж. Истмена 1949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ждународный музей фотографии в Рочестере, Нью-Йорк основан в 1949 в дом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ж. Истман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666600"/>
                </a:solidFill>
                <a:latin typeface="Verdana"/>
              </a:rPr>
              <a:t>(1854-193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00"/>
                </a:solidFill>
                <a:latin typeface="Verdana"/>
              </a:rPr>
              <a:t>400 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ним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00"/>
                </a:solidFill>
                <a:latin typeface="Verdana"/>
              </a:rPr>
              <a:t>8 00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се важные фигуры в истории фотограф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astman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eastman_house"/>
          <p:cNvPicPr/>
          <p:nvPr/>
        </p:nvPicPr>
        <p:blipFill>
          <a:blip r:embed="rId1"/>
          <a:stretch/>
        </p:blipFill>
        <p:spPr>
          <a:xfrm>
            <a:off x="539640" y="1916280"/>
            <a:ext cx="38242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Дом Дж. Истмана 194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500 коллекция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аггеротип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ежде всего из Франции, так же из Филадельфии и Бостона (1 200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thworth&amp;Hawe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вропейск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тограф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ер.19 век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Тальбот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амсон, Камерон, Л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рей Ле Сек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4" descr="Eastman Hiagara1855"/>
          <p:cNvPicPr/>
          <p:nvPr/>
        </p:nvPicPr>
        <p:blipFill>
          <a:blip r:embed="rId1"/>
          <a:stretch/>
        </p:blipFill>
        <p:spPr>
          <a:xfrm>
            <a:off x="5003640" y="1557360"/>
            <a:ext cx="164340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Eastman Scottish1846"/>
          <p:cNvPicPr/>
          <p:nvPr/>
        </p:nvPicPr>
        <p:blipFill>
          <a:blip r:embed="rId2"/>
          <a:stretch/>
        </p:blipFill>
        <p:spPr>
          <a:xfrm>
            <a:off x="6012000" y="3933720"/>
            <a:ext cx="1596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Дом Истмана    </a:t>
            </a:r>
            <a:r>
              <a:rPr b="1" lang="ru-RU" sz="3600" spc="-1" strike="noStrike">
                <a:solidFill>
                  <a:srgbClr val="4239b3"/>
                </a:solidFill>
                <a:latin typeface="Garamond"/>
              </a:rPr>
              <a:t>М. Камерон 1860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3" name="Picture 9" descr="Eastman Cameron1867"/>
          <p:cNvPicPr/>
          <p:nvPr/>
        </p:nvPicPr>
        <p:blipFill>
          <a:blip r:embed="rId1"/>
          <a:stretch/>
        </p:blipFill>
        <p:spPr>
          <a:xfrm>
            <a:off x="5764320" y="1600200"/>
            <a:ext cx="1805040" cy="218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Eastman Cameron 1867"/>
          <p:cNvPicPr/>
          <p:nvPr/>
        </p:nvPicPr>
        <p:blipFill>
          <a:blip r:embed="rId2"/>
          <a:stretch/>
        </p:blipFill>
        <p:spPr>
          <a:xfrm>
            <a:off x="5794200" y="3941640"/>
            <a:ext cx="174492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Eastman Rossetti1865"/>
          <p:cNvPicPr/>
          <p:nvPr/>
        </p:nvPicPr>
        <p:blipFill>
          <a:blip r:embed="rId3"/>
          <a:stretch/>
        </p:blipFill>
        <p:spPr>
          <a:xfrm>
            <a:off x="1187280" y="1628640"/>
            <a:ext cx="35514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400"/>
            </a:br>
            <a:r>
              <a:rPr b="0" lang="ru-RU" sz="34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1" lang="ru-RU" sz="40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Дом Дж. Истмена 1949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вропейская топографическая фотограф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H.Jackson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.O’Sullivan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Watki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мериканская- фотодокументы Гражданской вой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Gardne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.Barnar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7" descr="Eastman GardnerCivilWar1865"/>
          <p:cNvPicPr/>
          <p:nvPr/>
        </p:nvPicPr>
        <p:blipFill>
          <a:blip r:embed="rId1"/>
          <a:stretch/>
        </p:blipFill>
        <p:spPr>
          <a:xfrm>
            <a:off x="3564000" y="1773360"/>
            <a:ext cx="5329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оллекции фотографий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 арт-музеях СШ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3" name="Picture 6" descr="USA map"/>
          <p:cNvPicPr/>
          <p:nvPr/>
        </p:nvPicPr>
        <p:blipFill>
          <a:blip r:embed="rId1"/>
          <a:stretch/>
        </p:blipFill>
        <p:spPr>
          <a:xfrm>
            <a:off x="1539720" y="1622520"/>
            <a:ext cx="57769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Дом Дж. Истмана 194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05520" y="177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ец 19 -1 пол.20 ве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00 Английская архитекту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F. Eva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ранцузская коммерческая фотограф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Atg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3" descr="Eastman HimeEmpireStateB1931"/>
          <p:cNvPicPr/>
          <p:nvPr/>
        </p:nvPicPr>
        <p:blipFill>
          <a:blip r:embed="rId1"/>
          <a:stretch/>
        </p:blipFill>
        <p:spPr>
          <a:xfrm>
            <a:off x="900000" y="1860480"/>
            <a:ext cx="38880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. </a:t>
            </a:r>
            <a:r>
              <a:rPr b="0" lang="ru-RU" sz="36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Дом Дж. Истмена 194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нец 19-нач 20 ве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00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мков Ф.Эванс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английская архитектура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оттисков Э.Атг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французская коммерческ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графия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 0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оттисков и негатив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икториальная фотограф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ролевского фотографическог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щества в Бас (Англия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0 0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оттисков и негативов Л. Найн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половина 20 ве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.Стиглиц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р Э. Штайхена (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 3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вропейский модерниз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Брассаи, Картье-Брессон,Дриткол, Мохоли-Надь, Зандер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7" descr="Eastman Coburn1910Brit"/>
          <p:cNvPicPr/>
          <p:nvPr/>
        </p:nvPicPr>
        <p:blipFill>
          <a:blip r:embed="rId1"/>
          <a:stretch/>
        </p:blipFill>
        <p:spPr>
          <a:xfrm>
            <a:off x="468360" y="1484280"/>
            <a:ext cx="1149480" cy="2181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Eastman Atget1925Paris"/>
          <p:cNvPicPr/>
          <p:nvPr/>
        </p:nvPicPr>
        <p:blipFill>
          <a:blip r:embed="rId2"/>
          <a:stretch/>
        </p:blipFill>
        <p:spPr>
          <a:xfrm>
            <a:off x="1692360" y="2924280"/>
            <a:ext cx="2735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и  в Риверсайд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ереоскопические Оттис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рнелл коллекция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5 000 негативов и отт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920-60 коммерческ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тограф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Иммигр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Остров Элли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игерон коллекция- 15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гативов на стекле- 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вид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Калифорн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00 фотографий А.К. Вромана (Миссии в Калифорнии и портреты индейцев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ллекция портретной студии в Санта-Барбаре начала 20 ве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70 раскрашенных фотографий из Японии 1880-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6" descr="UCR MPh CA"/>
          <p:cNvPicPr/>
          <p:nvPr/>
        </p:nvPicPr>
        <p:blipFill>
          <a:blip r:embed="rId1"/>
          <a:stretch/>
        </p:blipFill>
        <p:spPr>
          <a:xfrm>
            <a:off x="5135400" y="1600200"/>
            <a:ext cx="3062520" cy="21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UCR MPh ImHungary"/>
          <p:cNvPicPr/>
          <p:nvPr/>
        </p:nvPicPr>
        <p:blipFill>
          <a:blip r:embed="rId2"/>
          <a:stretch/>
        </p:blipFill>
        <p:spPr>
          <a:xfrm>
            <a:off x="5867280" y="3941640"/>
            <a:ext cx="22654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30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и  в Риверсайд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1" name="Picture 9" descr="UCR MPh Am1899"/>
          <p:cNvPicPr/>
          <p:nvPr/>
        </p:nvPicPr>
        <p:blipFill>
          <a:blip r:embed="rId1"/>
          <a:stretch/>
        </p:blipFill>
        <p:spPr>
          <a:xfrm>
            <a:off x="5219640" y="1628640"/>
            <a:ext cx="1670040" cy="2189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UCR MPh Am1901"/>
          <p:cNvPicPr/>
          <p:nvPr/>
        </p:nvPicPr>
        <p:blipFill>
          <a:blip r:embed="rId2"/>
          <a:stretch/>
        </p:blipFill>
        <p:spPr>
          <a:xfrm>
            <a:off x="5219640" y="4005360"/>
            <a:ext cx="1900440" cy="21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UCR MPh Am01"/>
          <p:cNvPicPr/>
          <p:nvPr/>
        </p:nvPicPr>
        <p:blipFill>
          <a:blip r:embed="rId3"/>
          <a:stretch/>
        </p:blipFill>
        <p:spPr>
          <a:xfrm>
            <a:off x="2268360" y="1557360"/>
            <a:ext cx="1690920" cy="2189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UCR MPh AMe1901"/>
          <p:cNvPicPr/>
          <p:nvPr/>
        </p:nvPicPr>
        <p:blipFill>
          <a:blip r:embed="rId4"/>
          <a:stretch/>
        </p:blipFill>
        <p:spPr>
          <a:xfrm>
            <a:off x="2195640" y="4005360"/>
            <a:ext cx="1784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30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и  в Риверсайд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6" name="Picture 8" descr="UCR MPh Elis07"/>
          <p:cNvPicPr/>
          <p:nvPr/>
        </p:nvPicPr>
        <p:blipFill>
          <a:blip r:embed="rId1"/>
          <a:stretch/>
        </p:blipFill>
        <p:spPr>
          <a:xfrm>
            <a:off x="5580000" y="1484280"/>
            <a:ext cx="2139840" cy="2189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UCR MPh E"/>
          <p:cNvPicPr/>
          <p:nvPr/>
        </p:nvPicPr>
        <p:blipFill>
          <a:blip r:embed="rId2"/>
          <a:stretch/>
        </p:blipFill>
        <p:spPr>
          <a:xfrm>
            <a:off x="5364000" y="3933720"/>
            <a:ext cx="2808360" cy="292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UCR MPh Imm"/>
          <p:cNvPicPr/>
          <p:nvPr/>
        </p:nvPicPr>
        <p:blipFill>
          <a:blip r:embed="rId3"/>
          <a:stretch/>
        </p:blipFill>
        <p:spPr>
          <a:xfrm>
            <a:off x="1908000" y="1600200"/>
            <a:ext cx="2232360" cy="218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UCR MPh Immigr"/>
          <p:cNvPicPr/>
          <p:nvPr/>
        </p:nvPicPr>
        <p:blipFill>
          <a:blip r:embed="rId4"/>
          <a:stretch/>
        </p:blipFill>
        <p:spPr>
          <a:xfrm>
            <a:off x="2124000" y="4292640"/>
            <a:ext cx="1868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и  в Риверсайд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17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крашенных от руки японских фотографии датированных 1880-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UCR MPHpaintjapan"/>
          <p:cNvPicPr/>
          <p:nvPr/>
        </p:nvPicPr>
        <p:blipFill>
          <a:blip r:embed="rId1"/>
          <a:stretch/>
        </p:blipFill>
        <p:spPr>
          <a:xfrm>
            <a:off x="1084320" y="1600200"/>
            <a:ext cx="3271680" cy="2333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UCR MPh Jap"/>
          <p:cNvPicPr/>
          <p:nvPr/>
        </p:nvPicPr>
        <p:blipFill>
          <a:blip r:embed="rId2"/>
          <a:stretch/>
        </p:blipFill>
        <p:spPr>
          <a:xfrm>
            <a:off x="1763640" y="4221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30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Современной фотографии 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 в Чикаго 1982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1982 Проект для фотографов Среднего Запа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00"/>
                </a:solidFill>
                <a:latin typeface="Verdana"/>
              </a:rPr>
              <a:t>6 00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тографии с 1945 по настоящее время американских фотографов и тех, кто работает в СШ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чество с Колледжом Чика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Chicago MCPh Jordano02"/>
          <p:cNvPicPr/>
          <p:nvPr/>
        </p:nvPicPr>
        <p:blipFill>
          <a:blip r:embed="rId1"/>
          <a:stretch/>
        </p:blipFill>
        <p:spPr>
          <a:xfrm>
            <a:off x="5289480" y="1600200"/>
            <a:ext cx="2754360" cy="2189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hicago MCPhTemkin201"/>
          <p:cNvPicPr/>
          <p:nvPr/>
        </p:nvPicPr>
        <p:blipFill>
          <a:blip r:embed="rId2"/>
          <a:stretch/>
        </p:blipFill>
        <p:spPr>
          <a:xfrm>
            <a:off x="5580000" y="4076640"/>
            <a:ext cx="17240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ческих Искусств в Сан-Диего 1983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ректор-известный куратор и фотограф А.Оллма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оян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ллекция включает раб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ставляющие истори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тографии с середины 19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ка до настоящег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реме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00"/>
                </a:solidFill>
                <a:latin typeface="Verdana"/>
              </a:rPr>
              <a:t>1992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фотографа и режиссера Л.Стоу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00"/>
                </a:solidFill>
                <a:latin typeface="Verdana"/>
              </a:rPr>
              <a:t>2002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Независимой Документаль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ы (фотографии Йосуке Ямамото Нагасаки в 194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7" descr="foto SanDiegoMPh"/>
          <p:cNvPicPr/>
          <p:nvPr/>
        </p:nvPicPr>
        <p:blipFill>
          <a:blip r:embed="rId1"/>
          <a:stretch/>
        </p:blipFill>
        <p:spPr>
          <a:xfrm>
            <a:off x="1009800" y="1600200"/>
            <a:ext cx="2933640" cy="2189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SanDiegoMPh Nagasaki"/>
          <p:cNvPicPr/>
          <p:nvPr/>
        </p:nvPicPr>
        <p:blipFill>
          <a:blip r:embed="rId2"/>
          <a:stretch/>
        </p:blipFill>
        <p:spPr>
          <a:xfrm>
            <a:off x="971640" y="3944880"/>
            <a:ext cx="3456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3. </a:t>
            </a:r>
            <a:r>
              <a:rPr b="1" lang="ru-RU" sz="3600" spc="-1" strike="noStrike">
                <a:solidFill>
                  <a:srgbClr val="4239b3"/>
                </a:solidFill>
                <a:latin typeface="Garamond"/>
              </a:rPr>
              <a:t> МУЗЕИ ИСКУССТВА  ЮГА СШ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946760"/>
        </p:xfrm>
        <a:graphic>
          <a:graphicData uri="http://schemas.openxmlformats.org/drawingml/2006/table">
            <a:tbl>
              <a:tblPr/>
              <a:tblGrid>
                <a:gridCol w="2057400"/>
                <a:gridCol w="1913040"/>
                <a:gridCol w="2201760"/>
                <a:gridCol w="2057400"/>
              </a:tblGrid>
              <a:tr h="107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ание муз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ционирование фотографий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то колл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рт Музей  в Н. Орле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уизи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9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7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 40 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123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рт Му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ьюстон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9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4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  40 000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150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мп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рт Музе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лор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9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Арт Музей Нового Орлеана 1911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910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саак Дельгадо, иммигрант с Ямайки и успешный торговец сахаром подарил 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$ 150 0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создание «храма искусств как для бедных, так и для богатых». Городские власти подарили землю для пар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91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было построено здание в неоклассическом стил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 </a:t>
            </a: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97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было построены новые зд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99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овое увеличение и реновация музея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$ 23 </a:t>
            </a: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мл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Franklin Gothic Medium"/>
              </a:rPr>
              <a:t>400 000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едметов искусства в коллекции музе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7" descr="NOrleans building11"/>
          <p:cNvPicPr/>
          <p:nvPr/>
        </p:nvPicPr>
        <p:blipFill>
          <a:blip r:embed="rId1"/>
          <a:stretch/>
        </p:blipFill>
        <p:spPr>
          <a:xfrm>
            <a:off x="1547640" y="4581360"/>
            <a:ext cx="3024360" cy="201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New Orleans1911"/>
          <p:cNvPicPr/>
          <p:nvPr/>
        </p:nvPicPr>
        <p:blipFill>
          <a:blip r:embed="rId2"/>
          <a:stretch/>
        </p:blipFill>
        <p:spPr>
          <a:xfrm>
            <a:off x="826920" y="1484280"/>
            <a:ext cx="3816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2800" spc="-1" strike="noStrike">
                <a:solidFill>
                  <a:srgbClr val="4239b3"/>
                </a:solidFill>
                <a:latin typeface="Garamond"/>
              </a:rPr>
              <a:t>1. МУЗЕИ ИСКУССТВА , </a:t>
            </a:r>
            <a:br>
              <a:rPr sz="2800"/>
            </a:br>
            <a:r>
              <a:rPr b="1" lang="ru-RU" sz="2000" spc="-1" strike="noStrike">
                <a:solidFill>
                  <a:srgbClr val="4239b3"/>
                </a:solidFill>
                <a:latin typeface="Garamond"/>
              </a:rPr>
              <a:t>первыми начавшие коллекционировать фотографии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9640" y="1989000"/>
          <a:ext cx="8229600" cy="340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од 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зе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ционирование фотограф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мер кол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етрополитен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ью-Йо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1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000</a:t>
                      </a:r>
                      <a:r>
                        <a:rPr b="1" lang="ru-RU" sz="1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оМА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ью-Йо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9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19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дел с 1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 00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з 100 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рт Институт Чика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8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194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ставки с 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3. Арт Музей Нового Орлеана 1911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 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лекция фотографий с сер.19 века по настоящее время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ставлены сам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чительные имен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например, Г. Тальботт 1843, Камерон 1866, Мэн Рэй 1920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7" descr="NOrelan Talbot1845"/>
          <p:cNvPicPr/>
          <p:nvPr/>
        </p:nvPicPr>
        <p:blipFill>
          <a:blip r:embed="rId1"/>
          <a:stretch/>
        </p:blipFill>
        <p:spPr>
          <a:xfrm>
            <a:off x="6335640" y="1413000"/>
            <a:ext cx="280836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NOrleans CertisParis1920"/>
          <p:cNvPicPr/>
          <p:nvPr/>
        </p:nvPicPr>
        <p:blipFill>
          <a:blip r:embed="rId2"/>
          <a:stretch/>
        </p:blipFill>
        <p:spPr>
          <a:xfrm>
            <a:off x="4716360" y="4508640"/>
            <a:ext cx="3024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3. Арт Музей Нового Орлеана 1911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93" name="Picture 8" descr="NOrlean Camreron"/>
          <p:cNvPicPr/>
          <p:nvPr/>
        </p:nvPicPr>
        <p:blipFill>
          <a:blip r:embed="rId1"/>
          <a:stretch/>
        </p:blipFill>
        <p:spPr>
          <a:xfrm>
            <a:off x="4859280" y="1989000"/>
            <a:ext cx="3095640" cy="381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NOrleans MRay"/>
          <p:cNvPicPr/>
          <p:nvPr/>
        </p:nvPicPr>
        <p:blipFill>
          <a:blip r:embed="rId2"/>
          <a:stretch/>
        </p:blipFill>
        <p:spPr>
          <a:xfrm>
            <a:off x="1187280" y="1989000"/>
            <a:ext cx="29530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Арт Музей в Хьюстоне 1924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узей изящных искусств в Хьюстоне один из крупнейших арт музеев СШ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ллекция фотографий начала 20 века и Фотоавангард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Штехен, Мохоли-Надь, Мэн Ре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тография 1920-30-х ( Стрэнд, Вестон, Брассан, Картье-Брессон, есть советская фотографи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002 приобретено 3 760 фотографий у коллекционера м. Хейтинг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6" descr="Houston1924"/>
          <p:cNvPicPr/>
          <p:nvPr/>
        </p:nvPicPr>
        <p:blipFill>
          <a:blip r:embed="rId1"/>
          <a:stretch/>
        </p:blipFill>
        <p:spPr>
          <a:xfrm>
            <a:off x="5003640" y="1773360"/>
            <a:ext cx="3168720" cy="208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Houston2"/>
          <p:cNvPicPr/>
          <p:nvPr/>
        </p:nvPicPr>
        <p:blipFill>
          <a:blip r:embed="rId2"/>
          <a:stretch/>
        </p:blipFill>
        <p:spPr>
          <a:xfrm>
            <a:off x="5003640" y="4308480"/>
            <a:ext cx="324036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Арт Музей в Хьюстоне 1924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ект студентов-фотофиксация жизни  афро-американского квартала с комментариями самих молодых фотохудожник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жегодные Фотовыставки студентов в муз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7" descr="Houston AMproject"/>
          <p:cNvPicPr/>
          <p:nvPr/>
        </p:nvPicPr>
        <p:blipFill>
          <a:blip r:embed="rId1"/>
          <a:stretch/>
        </p:blipFill>
        <p:spPr>
          <a:xfrm>
            <a:off x="501480" y="1600200"/>
            <a:ext cx="394812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Houston AM Project3"/>
          <p:cNvPicPr/>
          <p:nvPr/>
        </p:nvPicPr>
        <p:blipFill>
          <a:blip r:embed="rId2"/>
          <a:stretch/>
        </p:blipFill>
        <p:spPr>
          <a:xfrm>
            <a:off x="847800" y="3941640"/>
            <a:ext cx="3579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Арт Музей в Хьюстоне 1924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4" name="Picture 10" descr="Houston AM Project2"/>
          <p:cNvPicPr/>
          <p:nvPr/>
        </p:nvPicPr>
        <p:blipFill>
          <a:blip r:embed="rId1"/>
          <a:stretch/>
        </p:blipFill>
        <p:spPr>
          <a:xfrm>
            <a:off x="826920" y="1628640"/>
            <a:ext cx="3745080" cy="522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Houston AM Project3"/>
          <p:cNvPicPr/>
          <p:nvPr/>
        </p:nvPicPr>
        <p:blipFill>
          <a:blip r:embed="rId2"/>
          <a:stretch/>
        </p:blipFill>
        <p:spPr>
          <a:xfrm>
            <a:off x="5148360" y="1484280"/>
            <a:ext cx="3600360" cy="2478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Houston Am Project1"/>
          <p:cNvPicPr/>
          <p:nvPr/>
        </p:nvPicPr>
        <p:blipFill>
          <a:blip r:embed="rId3"/>
          <a:stretch/>
        </p:blipFill>
        <p:spPr>
          <a:xfrm>
            <a:off x="5888160" y="4365720"/>
            <a:ext cx="3255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Музей Искусства в Тампа 1979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анцы высадились на побережье Тампа в 1513, в 1845 эта территория вошла в состав СШ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979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основан Тампа Арт Муз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коллекция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 5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работ , включая коллекцию античного искусства Греции и Рима (вазы и бронза-дар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. W. Nob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коллекции фотографий (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0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 представлены дагерротипы 19 века, а так же фотография с 1970-х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ажная часть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отографии Греции и Рима, сделанные в 19 век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6" descr="Tampa_night_skyline"/>
          <p:cNvPicPr/>
          <p:nvPr/>
        </p:nvPicPr>
        <p:blipFill>
          <a:blip r:embed="rId1"/>
          <a:stretch/>
        </p:blipFill>
        <p:spPr>
          <a:xfrm>
            <a:off x="1403280" y="1844640"/>
            <a:ext cx="6697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Музей Искусства в Тампа 1979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9" descr="foto TAMPAnew"/>
          <p:cNvPicPr/>
          <p:nvPr/>
        </p:nvPicPr>
        <p:blipFill>
          <a:blip r:embed="rId1"/>
          <a:stretch/>
        </p:blipFill>
        <p:spPr>
          <a:xfrm>
            <a:off x="4859280" y="2708280"/>
            <a:ext cx="4284720" cy="316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TAMPA antiquites"/>
          <p:cNvPicPr/>
          <p:nvPr/>
        </p:nvPicPr>
        <p:blipFill>
          <a:blip r:embed="rId2"/>
          <a:stretch/>
        </p:blipFill>
        <p:spPr>
          <a:xfrm>
            <a:off x="2050920" y="4365720"/>
            <a:ext cx="1584360" cy="215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TAMPA Constantine1860"/>
          <p:cNvPicPr/>
          <p:nvPr/>
        </p:nvPicPr>
        <p:blipFill>
          <a:blip r:embed="rId3"/>
          <a:stretch/>
        </p:blipFill>
        <p:spPr>
          <a:xfrm>
            <a:off x="1047600" y="1670040"/>
            <a:ext cx="34531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ОЛЛЕКЦИИ ФОТОГРАФИЙ 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в </a:t>
            </a:r>
            <a:r>
              <a:rPr b="1" lang="ru-RU" sz="3200" spc="-1" strike="noStrike">
                <a:solidFill>
                  <a:srgbClr val="666600"/>
                </a:solidFill>
                <a:latin typeface="Garamond"/>
              </a:rPr>
              <a:t>АРТ МУЗЕЯХ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 СШ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Арт-музеи,  начавшие первыми собирать коллекции фотографий-   слайды </a:t>
            </a:r>
            <a:r>
              <a:rPr b="1" lang="ru-RU" sz="2800" spc="-1" strike="noStrike">
                <a:solidFill>
                  <a:srgbClr val="4239b3"/>
                </a:solidFill>
                <a:latin typeface="Verdana"/>
              </a:rPr>
              <a:t>1-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Музеи фотографий -         слайды </a:t>
            </a:r>
            <a:r>
              <a:rPr b="1" lang="ru-RU" sz="2800" spc="-1" strike="noStrike">
                <a:solidFill>
                  <a:srgbClr val="4239b3"/>
                </a:solidFill>
                <a:latin typeface="Verdana"/>
              </a:rPr>
              <a:t>15-2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Арт музеи Юга США -       слайды </a:t>
            </a:r>
            <a:r>
              <a:rPr b="1" lang="ru-RU" sz="2800" spc="-1" strike="noStrike">
                <a:solidFill>
                  <a:srgbClr val="4239b3"/>
                </a:solidFill>
                <a:latin typeface="Verdana"/>
              </a:rPr>
              <a:t>28-3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666600"/>
                </a:solidFill>
                <a:latin typeface="Garamond"/>
              </a:rPr>
              <a:t>Метрополитен  1870</a:t>
            </a:r>
            <a:endParaRPr b="0" lang="en-US" sz="27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7" descr="Metr BacotFr1852"/>
          <p:cNvPicPr/>
          <p:nvPr/>
        </p:nvPicPr>
        <p:blipFill>
          <a:blip r:embed="rId1"/>
          <a:stretch/>
        </p:blipFill>
        <p:spPr>
          <a:xfrm>
            <a:off x="1042920" y="1628640"/>
            <a:ext cx="3457800" cy="4680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ллекционирование фотографий с 19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5 000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бот, главным образом Европейская и Американская фотография. Британская фотография  середины 19 века, пикториальная фотография коллекция А.Стиглица, коллекция компании Форд, личный архив В.Эван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ллекция началась с деятельности 2 кураторов-В. Ирвинга и Х. Мейера и дара А. Стиглица ( 22 своих фотографи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етрополитен 187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0" name="Picture 7" descr="Metr RobertFr1850"/>
          <p:cNvPicPr/>
          <p:nvPr/>
        </p:nvPicPr>
        <p:blipFill>
          <a:blip r:embed="rId1"/>
          <a:stretch/>
        </p:blipFill>
        <p:spPr>
          <a:xfrm>
            <a:off x="539640" y="2205000"/>
            <a:ext cx="3888000" cy="324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Metr France1844"/>
          <p:cNvPicPr/>
          <p:nvPr/>
        </p:nvPicPr>
        <p:blipFill>
          <a:blip r:embed="rId2"/>
          <a:stretch/>
        </p:blipFill>
        <p:spPr>
          <a:xfrm>
            <a:off x="4648320" y="2354400"/>
            <a:ext cx="403848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 Метрополитен 187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Picture 6" descr="Metr Fr1850"/>
          <p:cNvPicPr/>
          <p:nvPr/>
        </p:nvPicPr>
        <p:blipFill>
          <a:blip r:embed="rId1"/>
          <a:stretch/>
        </p:blipFill>
        <p:spPr>
          <a:xfrm>
            <a:off x="1403280" y="1557360"/>
            <a:ext cx="6408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етрополитен 187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Picture 7" descr="Metr Newhaven"/>
          <p:cNvPicPr/>
          <p:nvPr/>
        </p:nvPicPr>
        <p:blipFill>
          <a:blip r:embed="rId1"/>
          <a:stretch/>
        </p:blipFill>
        <p:spPr>
          <a:xfrm>
            <a:off x="4932360" y="1484280"/>
            <a:ext cx="3600360" cy="475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Metr Boston1850"/>
          <p:cNvPicPr/>
          <p:nvPr/>
        </p:nvPicPr>
        <p:blipFill>
          <a:blip r:embed="rId2"/>
          <a:stretch/>
        </p:blipFill>
        <p:spPr>
          <a:xfrm>
            <a:off x="826920" y="1484280"/>
            <a:ext cx="36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оМА 192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Picture 7" descr="MOMA manray22"/>
          <p:cNvPicPr/>
          <p:nvPr/>
        </p:nvPicPr>
        <p:blipFill>
          <a:blip r:embed="rId1"/>
          <a:stretch/>
        </p:blipFill>
        <p:spPr>
          <a:xfrm>
            <a:off x="457200" y="2254320"/>
            <a:ext cx="4038480" cy="3220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лекция с 19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5 000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1840 по настоящее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исследовательский Центр Фотограф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1. МОМА   1929 М.Брав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нуэль Альварес Браво (род. 1902) один из знаменитых фотографов и художников Мекс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л современником Ривейры, Сикероса, Ороск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собственного стиля в 1930 и влияние сюрреализ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9" descr="foto MomaBravo20"/>
          <p:cNvPicPr/>
          <p:nvPr/>
        </p:nvPicPr>
        <p:blipFill>
          <a:blip r:embed="rId1"/>
          <a:stretch/>
        </p:blipFill>
        <p:spPr>
          <a:xfrm>
            <a:off x="4500720" y="1628640"/>
            <a:ext cx="3016080" cy="233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foto MomaBravo35"/>
          <p:cNvPicPr/>
          <p:nvPr/>
        </p:nvPicPr>
        <p:blipFill>
          <a:blip r:embed="rId2"/>
          <a:stretch/>
        </p:blipFill>
        <p:spPr>
          <a:xfrm>
            <a:off x="5940360" y="4149720"/>
            <a:ext cx="27781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3:44:51Z</dcterms:created>
  <dc:creator>Zal1</dc:creator>
  <dc:description/>
  <dc:language>en-US</dc:language>
  <cp:lastModifiedBy>ZooM</cp:lastModifiedBy>
  <dcterms:modified xsi:type="dcterms:W3CDTF">2013-10-22T13:03:59Z</dcterms:modified>
  <cp:revision>43</cp:revision>
  <dc:subject/>
  <dc:title>Коллекции фотографий в арт-музеях США</dc:title>
</cp:coreProperties>
</file>