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981-9AE7-40D2-99CC-187F9397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13E-DF70-4050-9983-E29D56E8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17D-F78D-4389-9B3B-E78120F2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03F-D750-4D03-996D-8639C16C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04B4-4716-4794-99DB-B3A5EF89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EA8A-4D2B-47A0-BE56-B963E56C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9499-096C-40DB-8F8E-E2303733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A14-F013-4B2F-8F38-24CBB053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532D-4DDE-4479-B0C1-CCED5D58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F2F6-2453-4201-8169-55266E2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30AF-01A8-41D6-A8BC-56196DC3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40C-2A73-4D2A-BE6D-C5FA64A0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B057-B866-4492-A62E-596382E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4418-672B-4A8D-968E-EBE4834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B3ED-D718-4984-8D8D-D8CB553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74CC-7435-4B15-B034-7F5AB960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143-08F4-43B2-80D3-B4C37F91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0D7-F6C3-4D01-B6D7-32EA9D61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EEC-6CCD-4370-B644-8299B8A3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A75-2914-43E9-AA4C-812BAC3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2C0-C64F-4201-9E82-09B1D95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1E6-1277-468E-B6F9-A5D06FE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5DC-BC41-4F61-B46B-2A6866DE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867-6CB4-4163-8C19-33BA7EE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2F0C-C070-4A04-B0F0-DE0CBE07E0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948F-720E-4896-AF3F-A6A07EA91E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6300720" y="5229360"/>
            <a:ext cx="26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Львова Я.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ОМП-40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611280" y="1341360"/>
            <a:ext cx="79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зы тече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итонит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ерминальн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8000" y="1413000"/>
            <a:ext cx="88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(терминальная)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стадия - реакция организма на разнообразные неблагоприятные факторы, свойственные этой стадии заболевания, когда преобладают признаки септического ш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Местные и общие механизмы защиты от инфекционной агрессии оказываются неэффективны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Терминальная стадия перитонита наступает через 72 часа от начала заболевания, а при перфоративном перитоните - через 24 ч. Состояние больного тяжелое, что обусловлено интоксикацией организма. Основной причиной интоксикации организма в терминальной стадии перитонита является динамическая кишечная непроходим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ерминальн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8000" y="141300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Терминальная фаза характеризуется развитием синдрома полиорганной недостаточности (СПОН), то есть истощения функциональных резервов значительного числа основных систем орган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Временные рамки стадий служат для предварительной оценки состояния, прогноза, тактики как местного, так и общего леч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Летальность в группе больных с прогрессирующей полиорганной недостаточностью достигает 90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8000" y="177336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Экспериментальные и клинические данные многих авторов, в том числе и результаты исследований, привели к убеждению, что патогенетическая сущность перехода о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еактивной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фазы перитонита к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ой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состоит в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рорыве биологических барьеров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, сдерживающих эндогенную интоксикаци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(к ним, прежде всего, относятся печень, брюшина, кишечная стенка)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ереход к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ой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фазе перитонита определя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истощением защитно-компенсаторных механизмов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8000" y="1773360"/>
            <a:ext cx="8893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В токсической и терминальной стадиях перитонита происходят интенсивное размножение микробов и накопление большого количества эндотоксинов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Уже через 16 ч от начала заболевания в 1 кубическом миллиметре  экссудата брюшной полости обнаруживают миллионы бактерий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Эндотоксины, освобождающиеся при разрушении микробов, и экзотоксины, вырабатываемые микробными клетками, делают перитонеальный экссудат очень токсичны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8000" y="177336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Возникающий парез пищеварительного канала (в 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ой</a:t>
            </a: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 и особенно в 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ой</a:t>
            </a: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 стадии) определяет картину эндотоксикоза при перитоните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Перерастянутая кишечная стенка утрачивает барьерную функцию и становится проницаемой для микробов, вегетирующих в кишечнике, в результате чего происходит дополнительное инфицирование брюшной полости, что еще больше усугубляет интоксикацию организма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Парез пищеварительного канала считают одним из ведущих факторов эндотоксикоза при перитонит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8000" y="177336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Таким образом, для каждой стадии перитонита характерны определенные нарушения функций систем организма и определенная симптоматика, что и определяет врачебную тактику на всех этапах оказания медицинской помощи этой категории больн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5"/>
          <p:cNvSpPr txBox="1"/>
          <p:nvPr/>
        </p:nvSpPr>
        <p:spPr>
          <a:xfrm>
            <a:off x="755640" y="2276640"/>
            <a:ext cx="79200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пасибо за внимание :)</a:t>
            </a:r>
            <a:endParaRPr b="0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08000" y="177336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 течении гнойного перитонита выделяются несколько стадий (фаз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 основу классификации перитонитов по фазам (стадиям), предложенной И. И. Грековым в 1952 году, был положен фактор времени, по этому фактору он выделял следующие стад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1-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анняя стади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- до 12 ч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2-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оздня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- 3 - 5 дн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3-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конечна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- 6 - 21 день от момента заболе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8000" y="1773360"/>
            <a:ext cx="88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днако в практической работе наблюдается значительная разница динамики патологического процесса в зависимости от индивидуальных особенностей организма, причин и условий развития перитони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этому наиболее целесообразной считается классификация перитонитов с выделением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реактивной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ой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ой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фаз, которую предложил Симонян К. С., в 1971 году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имущество такой классификации состоит в стремлении увязать тяжесть клинических проявлений с патогенетическими механизмами перитони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8000" y="1773360"/>
            <a:ext cx="88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Характеристика фаз заболевания острого гнойного перитонита таков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1-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реактивная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фаза (первые 24 ч) - стадия максимальных местных проявлений и менее выраженных общих проявлен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2-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ая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фаза (24 - 72 ч) - стадия стихания местных проявлений и превалирования общих реакций, типичных для интоксика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3-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ая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(свыше 72 ч) - стадия глубокой интоксикации на грани обратим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 стад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еактивн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8000" y="141300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I стадия (реактивная) длится около 1 сут, а при перфоративном перитоните - 12 ч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Она обусловлена реакцией организма на инфицирование брюшной полости, и основной причиной проявлений перитонита является процесс активации систем защиты, то есть массивного освобождение кининов в ответ на первичную инфекционную агресс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Эта стадия четко выражена при внезапном инфицировании брюшной полости (при перфорации полого органа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 стад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еактивн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8000" y="1413000"/>
            <a:ext cx="88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падание на брюшину микробных тел вызывает воспалительную реакцию самой брюшины и окружающих тканей с типичными признаками: гиперемией, повышением проницаемости капилляров, отеком, экссудаци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кссудат вначале носит серозный характер, а по мере накопления в нем бактерий и лейкоцитов приобретает гнойный характе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и устранении источника перитонита (червеобразного отростка, прободной язвы) в ранней (реактивной) фазе и соблюдении основных принципов лечения, перитонит, как правило, не прогрессирует, летальность незначительн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оксическ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8000" y="162864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(токсическая)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стадия - ответная реакция организма на поступление в общий кровоток экзо-, эндотоксинов и ферментов, продуцируемых бактериями, продуктов белковой природы, образующихся при клеточном распаде (лизосомальных ферментов, протеаз, полипептидов и др.), токсических веществ, накапливающихся в тканях при нарушении нормальных процессов метабол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т вид реакции организма протекает с типичными признаками эндотоксического шока.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оксическ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8000" y="1413000"/>
            <a:ext cx="88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дновременно продолжается развитие местных и общих реакций орган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 эффективности местных защитных механизмов зависит степень распространения перитони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граничению воспалительного процесса в брюшной полости способствуют разделение брюшной полости на два этажа брыжейкой поперечной ободочной кишки, а нижнего этажа брюшной полости - на правый и левый отделы брыжейкой тонкой киш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пособствует отграничению инфекционного очага также большой сальни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оксическ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8000" y="1413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Токсическая фаза характеризуется появлением полиорганной дисфункции вследствие развития инфекционного процесса, приводящему к чрезвычайному напряжению всех систем организм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аблюдается через 12-24 часа от начала заболевания при перфоративных процессах, и через 24 - 7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часов – при воспалительн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Летальность достигает 20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8:51:42Z</dcterms:created>
  <dc:creator>DanilProRock</dc:creator>
  <dc:description/>
  <dc:language>en-US</dc:language>
  <cp:lastModifiedBy>PC</cp:lastModifiedBy>
  <dcterms:modified xsi:type="dcterms:W3CDTF">2013-04-04T05:47:46Z</dcterms:modified>
  <cp:revision>18</cp:revision>
  <dc:subject/>
  <dc:title>Слайд 1</dc:title>
</cp:coreProperties>
</file>