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630-A49F-4B69-86C3-4C146D8F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DBC-09EB-421A-A08C-9399768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986-4297-4BBD-AAD1-6C78ADAF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BB6-7D23-41A4-88BF-7E981A24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954-5611-491D-94CA-47833352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09B-C89E-4751-B83E-4F3BF2F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0B3F-1D55-4E0E-96CD-55D628E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51B-09E1-49F8-A50F-3DD189BA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2B5-B509-4371-AB0B-9AC5ACB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AF40-40EB-4584-AE60-E6315ED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AE1F-F1FF-4400-AAA1-3142E80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FE0-A3FC-46A2-9688-BE1667E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361-FED3-445E-B521-B141751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CAD-56B7-4184-A776-BC310FA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C98C-70FA-446B-9B4B-9655965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6577-A091-4458-B7D5-47EB27B7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142-8A4D-4FCD-8B54-ADFCCC7B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E8D-C317-462C-AEDA-1EC38AC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B6A-8DC3-4A31-A755-DBFC2F38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1C6-229C-4F60-9412-FC140FCF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454-5447-4CCF-A665-B09E015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814-F529-4C0A-9BA0-BDB678B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9E5-FCF4-4C76-A822-B38B981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DD7-9735-4C22-B1D2-B111192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E4A1-FD60-49A9-A6B9-515FB84953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321D-61A6-4550-BCFF-BC6CA59438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6300720" y="5229360"/>
            <a:ext cx="26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Львова Я.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ОМП-40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611280" y="1341360"/>
            <a:ext cx="79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зы теч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итонит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ерминальн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8000" y="1413000"/>
            <a:ext cx="88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(терминальная)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стадия - реакция организма на разнообразные неблагоприятные факторы, свойственные этой стадии заболевания, когда преобладают признаки септического ш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Местные и общие механизмы защиты от инфекционной агрессии оказываются неэффективны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Терминальная стадия перитонита наступает через 72 часа от начала заболевания, а при перфоративном перитоните - через 24 ч. Состояние больного тяжелое, что обусловлено интоксикацией организма. Основной причиной интоксикации организма в терминальной стадии перитонита является динамическая кишечная непроходим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ерминальн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8000" y="141300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Терминальная фаза характеризуется развитием синдрома полиорганной недостаточности (СПОН), то есть истощения функциональных резервов значительного числа основных систем орган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Временные рамки стадий служат для предварительной оценки состояния, прогноза, тактики как местного, так и общего леч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Летальность в группе больных с прогрессирующей полиорганной недостаточностью достигает 90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8000" y="177336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Экспериментальные и клинические данные многих авторов, в том числе и результаты исследований, привели к убеждению, что патогенетическая сущность перехода о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еактивн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фазы перитонита к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состоит 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рорыве биологических барьеров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, сдерживающих эндогенную интоксикаци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(к ним, прежде всего, относятся печень, брюшина, кишечная стенка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ереход к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фазе перитонита определя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истощением защитно-компенсаторных механизмов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8000" y="1773360"/>
            <a:ext cx="8893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В токсической и терминальной стадиях перитонита происходят интенсивное размножение микробов и накопление большого количества эндотоксинов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Уже через 16 ч от начала заболевания в 1 кубическом миллиметре  экссудата брюшной полости обнаруживают миллионы бактерий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Эндотоксины, освобождающиеся при разрушении микробов, и экзотоксины, вырабатываемые микробными клетками, делают перитонеальный экссудат очень токсичны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8000" y="177336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Возникающий парез пищеварительного канала (в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 и особенно в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 стадии) определяет картину эндотоксикоза при перитоните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Перерастянутая кишечная стенка утрачивает барьерную функцию и становится проницаемой для микробов, вегетирующих в кишечнике, в результате чего происходит дополнительное инфицирование брюшной полости, что еще больше усугубляет интоксикацию организма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Парез пищеварительного канала считают одним из ведущих факторов эндотоксикоза при перитонит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8000" y="177336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Таким образом, для каждой стадии перитонита характерны определенные нарушения функций систем организма и определенная симптоматика, что и определяет врачебную тактику на всех этапах оказания медицинской помощи этой категории больн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5"/>
          <p:cNvSpPr txBox="1"/>
          <p:nvPr/>
        </p:nvSpPr>
        <p:spPr>
          <a:xfrm>
            <a:off x="755640" y="2276640"/>
            <a:ext cx="79200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пасибо за внимание :)</a:t>
            </a:r>
            <a:endParaRPr b="0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8000" y="177336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 течении гнойного перитонита выделяются несколько стадий (фаз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 основу классификации перитонитов по фазам (стадиям), предложенной И. И. Грековым в 1952 году, был положен фактор времени, по этому фактору он выделял следующие стад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ранняя стади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до 12 ч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2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оздня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3 - 5 дн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конечная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- 6 - 21 день от момента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8000" y="1773360"/>
            <a:ext cx="88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днако в практической работе наблюдается значительная разница динамики патологического процесса в зависимости от индивидуальных особенностей организма, причин и условий развития перитони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этому наиболее целесообразной считается классификация перитонитов с выделением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реактивн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ой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, которую предложил Симонян К. С., в 1971 году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имущество такой классификации состоит в стремлении увязать тяжесть клинических проявлений с патогенетическими механизмами перитон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979640" y="33336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азы те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итони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8000" y="1773360"/>
            <a:ext cx="88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Характеристика фаз заболевания острого гнойного перитонита таков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реактивн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а (первые 24 ч) - стадия максимальных местных проявлений и менее выраженных общих проявле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2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оксическ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фаза (24 - 72 ч) - стадия стихания местных проявлений и превалирования общих реакций, типичных для интоксика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терминальная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(свыше 72 ч) - стадия глубокой интоксикации на грани обратим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 стад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еактивн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8000" y="141300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I стадия (реактивная) длится около 1 сут, а при перфоративном перитоните - 12 ч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на обусловлена реакцией организма на инфицирование брюшной полости, и основной причиной проявлений перитонита является процесс активации систем защиты, то есть массивного освобождение кининов в ответ на первичную инфекционную агресс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Эта стадия четко выражена при внезапном инфицировании брюшной полости (при перфорации полого органа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 стад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еактивн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8000" y="1413000"/>
            <a:ext cx="88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падание на брюшину микробных тел вызывает воспалительную реакцию самой брюшины и окружающих тканей с типичными признаками: гиперемией, повышением проницаемости капилляров, отеком, экссудаци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кссудат вначале носит серозный характер, а по мере накопления в нем бактерий и лейкоцитов приобретает гнойный характе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и устранении источника перитонита (червеобразного отростка, прободной язвы) в ранней (реактивной) фазе и соблюдении основных принципов лечения, перитонит, как правило, не прогрессирует, летальность незначительн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8000" y="162864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(токсическая)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стадия - ответная реакция организма на поступление в общий кровоток экзо-, эндотоксинов и ферментов, продуцируемых бактериями, продуктов белковой природы, образующихся при клеточном распаде (лизосомальных ферментов, протеаз, полипептидов и др.), токсических веществ, накапливающихся в тканях при нарушении нормальных процессов метабол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т вид реакции организма протекает с типичными признаками эндотоксического шока.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8000" y="1413000"/>
            <a:ext cx="88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дновременно продолжается развитие местных и общих реакций организм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 эффективности местных защитных механизмов зависит степень распространения перитон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тграничению воспалительного процесса в брюшной полости способствуют разделение брюшной полости на два этажа брыжейкой поперечной ободочной кишки, а нижнего этажа брюшной полости - на правый и левый отделы брыжейкой тонкой киш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пособствует отграничению инфекционного очага также большой сальни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79640" y="189000"/>
            <a:ext cx="511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I стад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токсическая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00" y="1413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Токсическая фаза характеризуется появлением полиорганной дисфункции вследствие развития инфекционного процесса, приводящему к чрезвычайному напряжению всех систем организм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аблюдается через 12-24 часа от начала заболевания при перфоративных процессах, и через 24 - 7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часов – при воспалительн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Летальность достигает 2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8:51:42Z</dcterms:created>
  <dc:creator>DanilProRock</dc:creator>
  <dc:description/>
  <dc:language>en-US</dc:language>
  <cp:lastModifiedBy>PC</cp:lastModifiedBy>
  <dcterms:modified xsi:type="dcterms:W3CDTF">2013-04-04T05:47:46Z</dcterms:modified>
  <cp:revision>18</cp:revision>
  <dc:subject/>
  <dc:title>Слайд 1</dc:title>
</cp:coreProperties>
</file>