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1849-7151-4B7A-9CA3-C785169A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7954-A9A5-4010-BDF3-D3C9E92B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AAD6-F615-4574-92EF-F35DFB8D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B27D-0E3B-42F0-B8C7-97793E54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9F73-A68A-4E88-A654-10DAC00A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6262-B1F8-4F63-A5E4-A6536906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D3DE-D762-4B4E-B8A0-822D8598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AAA7-E6AE-4235-8A96-A7BED216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ADDA-B863-4A91-8349-0FF22254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C328-BA20-4519-99ED-6D967BAC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719D-DA53-4B8A-A8C0-C8C29678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5057-4A63-4E21-AD64-8166E942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94D6-4AAD-455F-85B9-069D53CB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DF8C-4013-4224-9DC4-06AAEFAD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D7AB-403A-41C6-AB60-C75787CD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1A32-D3D2-4D29-BD33-97387674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01D7-AF19-4A38-9D10-BBEE5746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EE40-3300-48B8-84BA-B09DC35B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845-C9BD-4870-B5BC-30378359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110A-F7EA-42BC-A4EB-020F027C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C3E-59F6-4576-894B-EA75222D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9B69-1E03-41AE-A3E5-CDFB2CD5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35B0-CAEB-48D0-8010-4DA1CBD4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57A3-234C-4EA4-BE1B-EF740A27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36C2-82F4-4076-9A8B-20149115DCD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>
                <a:off x="1887480" y="5037120"/>
                <a:ext cx="12852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83CA-161F-4E28-90C4-173F88A89A6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2702"/>
          <p:cNvPicPr/>
          <p:nvPr/>
        </p:nvPicPr>
        <p:blipFill>
          <a:blip r:embed="rId1"/>
          <a:stretch/>
        </p:blipFill>
        <p:spPr>
          <a:xfrm>
            <a:off x="1258920" y="557280"/>
            <a:ext cx="5365800" cy="402408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4360" y="1719000"/>
            <a:ext cx="7772400" cy="118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Образование в СШ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743200" y="4820760"/>
            <a:ext cx="6400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умилова Любовь, гр.206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603360" y="980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личие в развитии школ и университетов находит свое объяснение в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особенностях исторического развития СШ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Для высшей школы больше, чем для какой-либо другой ступени образования, имеет значение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культурное наслед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целом. В США такого наследия не было, американский капитализм поддерживал и финансировал лишь то, что обеспечивало ближайшую реальную экономическую выгод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ША явились первой страной, провозгласившей отделение церкви от школы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мериканская школа должна выступать главным институтом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питания общенационального созн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владении общенациональным язык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адаптации пребывающего населения к новому быт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одготовке к производственной и социальной деятель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5" descr="2693"/>
          <p:cNvPicPr/>
          <p:nvPr/>
        </p:nvPicPr>
        <p:blipFill>
          <a:blip r:embed="rId1"/>
          <a:stretch/>
        </p:blipFill>
        <p:spPr>
          <a:xfrm>
            <a:off x="5724360" y="1557360"/>
            <a:ext cx="3140280" cy="30970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709308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cc"/>
                </a:solidFill>
                <a:latin typeface="Tahoma"/>
              </a:rPr>
              <a:t>Современная система образования США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4"/>
          <p:cNvSpPr/>
          <p:nvPr/>
        </p:nvSpPr>
        <p:spPr>
          <a:xfrm>
            <a:off x="684360" y="4724280"/>
            <a:ext cx="2950920" cy="1368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пень бакалав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3348000" y="1989000"/>
            <a:ext cx="2952720" cy="1368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пень докт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1979640" y="3357720"/>
            <a:ext cx="3168720" cy="1368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пень магист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994920" y="518940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4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5506920" y="3700440"/>
            <a:ext cx="17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= 2 г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534000" y="2403360"/>
            <a:ext cx="18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= 4-5 л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7" name="Picture 10" descr="Ripon College (штат Висконсин)"/>
          <p:cNvPicPr/>
          <p:nvPr/>
        </p:nvPicPr>
        <p:blipFill>
          <a:blip r:embed="rId1"/>
          <a:stretch/>
        </p:blipFill>
        <p:spPr>
          <a:xfrm>
            <a:off x="324000" y="260280"/>
            <a:ext cx="20574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500"/>
                            </p:stCondLst>
                            <p:childTnLst>
                              <p:par>
                                <p:cTn id="3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а первой ступени изучаются общеобразовательные предмет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250920" y="1989000"/>
            <a:ext cx="2592360" cy="1152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Иностранны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язы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18"/>
          <p:cNvSpPr/>
          <p:nvPr/>
        </p:nvSpPr>
        <p:spPr>
          <a:xfrm>
            <a:off x="539640" y="3645000"/>
            <a:ext cx="2592360" cy="1152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Гуманитарны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дисциплины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Rectangle 20"/>
          <p:cNvSpPr/>
          <p:nvPr/>
        </p:nvSpPr>
        <p:spPr>
          <a:xfrm>
            <a:off x="3276720" y="5084640"/>
            <a:ext cx="2592360" cy="1152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Информатика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21"/>
          <p:cNvSpPr/>
          <p:nvPr/>
        </p:nvSpPr>
        <p:spPr>
          <a:xfrm>
            <a:off x="6012000" y="3645000"/>
            <a:ext cx="2592360" cy="1152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Естественны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нау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22"/>
          <p:cNvSpPr/>
          <p:nvPr/>
        </p:nvSpPr>
        <p:spPr>
          <a:xfrm>
            <a:off x="6300720" y="1989000"/>
            <a:ext cx="2592360" cy="1152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Математика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8" descr="Нью-Йорк"/>
          <p:cNvPicPr/>
          <p:nvPr/>
        </p:nvPicPr>
        <p:blipFill>
          <a:blip r:embed="rId1"/>
          <a:stretch/>
        </p:blipFill>
        <p:spPr>
          <a:xfrm>
            <a:off x="5940360" y="404640"/>
            <a:ext cx="2908440" cy="4321440"/>
          </a:xfrm>
          <a:prstGeom prst="rect">
            <a:avLst/>
          </a:prstGeom>
          <a:ln w="0">
            <a:noFill/>
          </a:ln>
        </p:spPr>
      </p:pic>
      <p:sp>
        <p:nvSpPr>
          <p:cNvPr id="435" name="Oval 4"/>
          <p:cNvSpPr/>
          <p:nvPr/>
        </p:nvSpPr>
        <p:spPr>
          <a:xfrm>
            <a:off x="900000" y="549360"/>
            <a:ext cx="4391280" cy="20890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аписание диссертаци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Oval 5"/>
          <p:cNvSpPr/>
          <p:nvPr/>
        </p:nvSpPr>
        <p:spPr>
          <a:xfrm>
            <a:off x="2843280" y="4005360"/>
            <a:ext cx="3887640" cy="20160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Получение степени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магистр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AutoShape 7"/>
          <p:cNvSpPr/>
          <p:nvPr/>
        </p:nvSpPr>
        <p:spPr>
          <a:xfrm rot="4816200">
            <a:off x="3369600" y="2815920"/>
            <a:ext cx="935280" cy="1008360"/>
          </a:xfrm>
          <a:custGeom>
            <a:avLst/>
            <a:gdLst>
              <a:gd name="textAreaLeft" fmla="*/ 0 w 935280"/>
              <a:gd name="textAreaRight" fmla="*/ 935640 w 935280"/>
              <a:gd name="textAreaTop" fmla="*/ 0 h 1008360"/>
              <a:gd name="textAreaBottom" fmla="*/ 10083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642" y="0"/>
                </a:lnTo>
                <a:lnTo>
                  <a:pt x="21600" y="10800"/>
                </a:lnTo>
                <a:lnTo>
                  <a:pt x="126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5" descr="j0292020"/>
          <p:cNvPicPr/>
          <p:nvPr/>
        </p:nvPicPr>
        <p:blipFill>
          <a:blip r:embed="rId1"/>
          <a:stretch/>
        </p:blipFill>
        <p:spPr>
          <a:xfrm>
            <a:off x="5867280" y="3645000"/>
            <a:ext cx="2954520" cy="280656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333000"/>
            <a:ext cx="844704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кторантура предполагает специализированное обучение и самостоятельное научное исследование в избранной области знаний.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6" descr="чувачки"/>
          <p:cNvPicPr/>
          <p:nvPr/>
        </p:nvPicPr>
        <p:blipFill>
          <a:blip r:embed="rId1"/>
          <a:stretch/>
        </p:blipFill>
        <p:spPr>
          <a:xfrm>
            <a:off x="6227640" y="3429000"/>
            <a:ext cx="2448000" cy="24638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Главный элемент учебного процесса – 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лекци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лгоритм изучения те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Причины быстрого развития образования в СШ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Факторы, повлиявшие на развитие образования (экономические, культурно-политические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Современная система образования в СШ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Специальное образование в СШ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4" descr="Институт Южного Мэйна"/>
          <p:cNvPicPr/>
          <p:nvPr/>
        </p:nvPicPr>
        <p:blipFill>
          <a:blip r:embed="rId1"/>
          <a:stretch/>
        </p:blipFill>
        <p:spPr>
          <a:xfrm>
            <a:off x="4500720" y="2278080"/>
            <a:ext cx="4187520" cy="418788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онтроль знаний студентов включает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роткие опросы 4-6 раз в семестр во время семинарских занят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исьменные экзамены 2-3 раза в семестр, проводимые для потока в лекционных аудитор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местровые экзамен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9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9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500"/>
                            </p:stCondLst>
                            <p:childTnLst>
                              <p:par>
                                <p:cTn id="509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000"/>
                            </p:stCondLst>
                            <p:childTnLst>
                              <p:par>
                                <p:cTn id="516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9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4" descr="j0299125"/>
          <p:cNvPicPr/>
          <p:nvPr/>
        </p:nvPicPr>
        <p:blipFill>
          <a:blip r:embed="rId1"/>
          <a:stretch/>
        </p:blipFill>
        <p:spPr>
          <a:xfrm>
            <a:off x="6568920" y="333360"/>
            <a:ext cx="2106720" cy="309564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истема оцено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высшая оцен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неудовлетворительная оцен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60"/>
                            </p:stCondLst>
                            <p:childTnLst>
                              <p:par>
                                <p:cTn id="5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9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60"/>
                            </p:stCondLst>
                            <p:childTnLst>
                              <p:par>
                                <p:cTn id="5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9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60"/>
                            </p:stCondLst>
                            <p:childTnLst>
                              <p:par>
                                <p:cTn id="5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9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059"/>
                            </p:stCondLst>
                            <p:childTnLst>
                              <p:par>
                                <p:cTn id="5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9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60"/>
                            </p:stCondLst>
                            <p:childTnLst>
                              <p:par>
                                <p:cTn id="5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9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4" descr="Музей Метрополитен Н-!"/>
          <p:cNvPicPr/>
          <p:nvPr/>
        </p:nvPicPr>
        <p:blipFill>
          <a:blip r:embed="rId1"/>
          <a:stretch/>
        </p:blipFill>
        <p:spPr>
          <a:xfrm>
            <a:off x="3780000" y="2852640"/>
            <a:ext cx="5040000" cy="3578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Главное в подготовке студента в университетах СШ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ыработка навыков самостоятельного творческого мышления и широкого кругозора на основе современных представлени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3500"/>
                            </p:stCondLst>
                            <p:childTnLst>
                              <p:par>
                                <p:cTn id="590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5" descr="Манхэттэн Н-Й"/>
          <p:cNvPicPr/>
          <p:nvPr/>
        </p:nvPicPr>
        <p:blipFill>
          <a:blip r:embed="rId1"/>
          <a:stretch/>
        </p:blipFill>
        <p:spPr>
          <a:xfrm>
            <a:off x="3780000" y="404640"/>
            <a:ext cx="4719600" cy="352908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4"/>
          <p:cNvSpPr/>
          <p:nvPr/>
        </p:nvSpPr>
        <p:spPr>
          <a:xfrm>
            <a:off x="-354960" y="3789360"/>
            <a:ext cx="953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пециальное образование в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оединенных Штатах Америк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0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тория специального образования в США является примером того, как реализованы демократические принципы в обучении лиц, чьи возможности отличаются от среднего уровня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нние попытки организации обучения детей со специальными нуждами включали создание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школ-интернат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где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дети проживали, получали образование и подготовку к жизн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6" descr="Lasell College"/>
          <p:cNvPicPr/>
          <p:nvPr/>
        </p:nvPicPr>
        <p:blipFill>
          <a:blip r:embed="rId1"/>
          <a:stretch/>
        </p:blipFill>
        <p:spPr>
          <a:xfrm>
            <a:off x="5364000" y="4365720"/>
            <a:ext cx="3387960" cy="207324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4"/>
          <p:cNvSpPr/>
          <p:nvPr/>
        </p:nvSpPr>
        <p:spPr>
          <a:xfrm>
            <a:off x="64440" y="1368360"/>
            <a:ext cx="902304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1975</a:t>
            </a: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 году был принят Акт об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Образовании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всех детей с отклонениями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Общественный закон 94-142</a:t>
            </a: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),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который устанавливает свободное и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соответствующее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обучение для всех детей с нарушениями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8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fa9b7"/>
                </a:solidFill>
                <a:latin typeface="Tahoma"/>
              </a:rPr>
              <a:t>В настоящее время специалисты и ученые решают следующие вопросы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?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актика интегрированного обучения детей с нарушениями развития в обычных школ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?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беспечение образовательных нужд учащихся различных этнических груп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?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спользование адекватных компьютерных программ, соответствующие детям с нарушениями в развит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4500"/>
                            </p:stCondLst>
                            <p:childTnLst>
                              <p:par>
                                <p:cTn id="65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уровню развития образования Соединенные Штаты Америки значительно обгоняют западноевропейские стра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Picture 4" descr="Pacific Lutheran University"/>
          <p:cNvPicPr/>
          <p:nvPr/>
        </p:nvPicPr>
        <p:blipFill>
          <a:blip r:embed="rId1"/>
          <a:stretch/>
        </p:blipFill>
        <p:spPr>
          <a:xfrm>
            <a:off x="539640" y="4390920"/>
            <a:ext cx="3600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4"/>
          <p:cNvSpPr/>
          <p:nvPr/>
        </p:nvSpPr>
        <p:spPr>
          <a:xfrm>
            <a:off x="611280" y="1268280"/>
            <a:ext cx="2952720" cy="1584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строе развит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разования в С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Line 5"/>
          <p:cNvSpPr/>
          <p:nvPr/>
        </p:nvSpPr>
        <p:spPr>
          <a:xfrm>
            <a:off x="3851280" y="2492280"/>
            <a:ext cx="144144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140360" y="4149720"/>
            <a:ext cx="4464000" cy="1800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сокий уровень производства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яемые им потребности 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валифицированной рабочей сил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Picture 7" descr="Pacific University (штат Орегон)"/>
          <p:cNvPicPr/>
          <p:nvPr/>
        </p:nvPicPr>
        <p:blipFill>
          <a:blip r:embed="rId1"/>
          <a:stretch/>
        </p:blipFill>
        <p:spPr>
          <a:xfrm>
            <a:off x="5508720" y="476280"/>
            <a:ext cx="3217680" cy="21556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9" descr="Dean College"/>
          <p:cNvPicPr/>
          <p:nvPr/>
        </p:nvPicPr>
        <p:blipFill>
          <a:blip r:embed="rId2"/>
          <a:stretch/>
        </p:blipFill>
        <p:spPr>
          <a:xfrm>
            <a:off x="611280" y="4092480"/>
            <a:ext cx="28573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США начало создания государственной системы образования относится ко 2-3 десятилети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IX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совпало с началом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омышленного переворот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Экономические факторы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тенсивное развитие техни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ведение бесплатного обуч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нансирование из местных бюджетов за счет специального школьного нало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пространение высшего образ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воение огромных целинных земель, разработка недр и лесов, строительство железных и шоссейных дорог, мостов и канал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03360" y="836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концу второй трет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ека по развитию начального образования США обогнали большинство стран Европ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70-х года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ека в США начался переход к неполному среднему образован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1890 года началось законодательное введение обязательного школьного обуч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овлен контроль за школьным управление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Oval 4"/>
          <p:cNvSpPr/>
          <p:nvPr/>
        </p:nvSpPr>
        <p:spPr>
          <a:xfrm>
            <a:off x="5076720" y="333360"/>
            <a:ext cx="3816360" cy="22320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требности различны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упп населения 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ой половине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Line 5"/>
          <p:cNvSpPr/>
          <p:nvPr/>
        </p:nvSpPr>
        <p:spPr>
          <a:xfrm flipH="1">
            <a:off x="3203640" y="2060640"/>
            <a:ext cx="18000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684360" y="2565360"/>
            <a:ext cx="5400360" cy="11509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колледжи специальных интере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Line 8"/>
          <p:cNvSpPr/>
          <p:nvPr/>
        </p:nvSpPr>
        <p:spPr>
          <a:xfrm>
            <a:off x="4067280" y="3789360"/>
            <a:ext cx="288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Line 9"/>
          <p:cNvSpPr/>
          <p:nvPr/>
        </p:nvSpPr>
        <p:spPr>
          <a:xfrm>
            <a:off x="5867280" y="3789360"/>
            <a:ext cx="57636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Line 10"/>
          <p:cNvSpPr/>
          <p:nvPr/>
        </p:nvSpPr>
        <p:spPr>
          <a:xfrm>
            <a:off x="6156360" y="3213000"/>
            <a:ext cx="719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Line 11"/>
          <p:cNvSpPr/>
          <p:nvPr/>
        </p:nvSpPr>
        <p:spPr>
          <a:xfrm flipH="1">
            <a:off x="1547640" y="3789360"/>
            <a:ext cx="50328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539640" y="4653000"/>
            <a:ext cx="1944720" cy="10080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ст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ринима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3419640" y="4653000"/>
            <a:ext cx="1944360" cy="10080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ническ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щи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6084720" y="4869000"/>
            <a:ext cx="1944720" cy="10080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енск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ще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Rectangle 18"/>
          <p:cNvSpPr/>
          <p:nvPr/>
        </p:nvSpPr>
        <p:spPr>
          <a:xfrm>
            <a:off x="6948360" y="3284640"/>
            <a:ext cx="1944720" cy="10080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лигиозны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рганиз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500"/>
                            </p:stCondLst>
                            <p:childTnLst>
                              <p:par>
                                <p:cTn id="2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50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5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ультурно-политические фактор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ее развитая американская демократия, образовывающаяся на незыблемых правах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торические особенности формирования американской буржуазной на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10:35:01Z</dcterms:created>
  <dc:creator>смсмсч</dc:creator>
  <dc:description/>
  <dc:language>en-US</dc:language>
  <cp:lastModifiedBy>Коля</cp:lastModifiedBy>
  <dcterms:modified xsi:type="dcterms:W3CDTF">2013-07-01T16:54:34Z</dcterms:modified>
  <cp:revision>61</cp:revision>
  <dc:subject/>
  <dc:title>Слайд 1</dc:title>
</cp:coreProperties>
</file>