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224-C7EA-4C5F-A8FF-E205A223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278-15DE-4DC2-BEC6-CBA8F5D1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0FC-C930-45A8-BEB4-93FDC185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4B5-38C4-4178-AAE4-8C972502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8D0-4081-418D-B14E-60F638A9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6A62-DE6F-456C-A98F-47073E87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27A0-DA70-4812-8CB9-7B3041DC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EE00-44DC-46ED-A86E-B3B16B03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B472-9B4D-4F21-BA85-8262F7FA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ADF2-3B9B-4114-B9B7-27BF6BE7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AE47-F5C0-49E2-9A5F-ABD4A8A2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F18-47D5-4681-AE0F-12972FDC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A23C-07A5-4B17-B944-4287CEE6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A696-3C9F-48F7-BF7C-0E81E3FD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1778-9CC4-4C60-B1E0-05939B69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3236-ABCF-4C3F-A5CF-C3E74E7F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A8A5-6F15-4509-9DDD-398DA074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1B2-DD83-4150-B6A3-FDDA9795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C08-BF83-4B34-A408-E3B4EBC8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959-B0D0-4C41-857A-EC062B67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F97-91C0-4DB0-957A-E293686E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07C-6EF2-474F-84D9-C993B41E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E2A-7E5A-4D95-A46F-966F64E1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8BC-E158-4938-82BC-8879474C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DA0B-ED65-4E3D-B529-C22A7A6E28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>
                <a:off x="1887480" y="5037120"/>
                <a:ext cx="1285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1D6D-69B7-4AF3-9985-9EC612C5BB9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2702"/>
          <p:cNvPicPr/>
          <p:nvPr/>
        </p:nvPicPr>
        <p:blipFill>
          <a:blip r:embed="rId1"/>
          <a:stretch/>
        </p:blipFill>
        <p:spPr>
          <a:xfrm>
            <a:off x="1258920" y="557280"/>
            <a:ext cx="5365800" cy="40240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4360" y="1719000"/>
            <a:ext cx="7772400" cy="11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Образование в СШ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743200" y="4820760"/>
            <a:ext cx="6400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умилова Любовь, гр.206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03360" y="980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ие в развитии школ и университетов находит свое объяснение в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собенностях исторического развития СШ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ля высшей школы больше, чем для какой-либо другой ступени образования, имеет значение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ультурное наслед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целом. В США такого наследия не было, американский капитализм поддерживал и финансировал лишь то, что обеспечивало ближайшую реальную экономическую выг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ША явились первой страной, провозгласившей отделение церкви от школы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мериканская школа должна выступать главным институтом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ания общенационального со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владении общенациональным язы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даптации пребывающего населения к новому быт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дготовке к производственной и социальной деятель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5" descr="2693"/>
          <p:cNvPicPr/>
          <p:nvPr/>
        </p:nvPicPr>
        <p:blipFill>
          <a:blip r:embed="rId1"/>
          <a:stretch/>
        </p:blipFill>
        <p:spPr>
          <a:xfrm>
            <a:off x="5724360" y="1557360"/>
            <a:ext cx="3140280" cy="30970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709308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cc"/>
                </a:solidFill>
                <a:latin typeface="Tahoma"/>
              </a:rPr>
              <a:t>Современная система образования США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684360" y="4724280"/>
            <a:ext cx="2950920" cy="1368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ень бакалав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3348000" y="1989000"/>
            <a:ext cx="2952720" cy="1368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ень докт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1979640" y="3357720"/>
            <a:ext cx="3168720" cy="1368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ень магис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994920" y="518940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4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5506920" y="3700440"/>
            <a:ext cx="17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 2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534000" y="240336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 4-5 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10" descr="Ripon College (штат Висконсин)"/>
          <p:cNvPicPr/>
          <p:nvPr/>
        </p:nvPicPr>
        <p:blipFill>
          <a:blip r:embed="rId1"/>
          <a:stretch/>
        </p:blipFill>
        <p:spPr>
          <a:xfrm>
            <a:off x="324000" y="260280"/>
            <a:ext cx="2057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 первой ступени изучаются общеобразовательные предме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250920" y="1989000"/>
            <a:ext cx="2592360" cy="1152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ностран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язы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539640" y="3645000"/>
            <a:ext cx="2592360" cy="1152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Гуманитар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исциплин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20"/>
          <p:cNvSpPr/>
          <p:nvPr/>
        </p:nvSpPr>
        <p:spPr>
          <a:xfrm>
            <a:off x="3276720" y="5084640"/>
            <a:ext cx="2592360" cy="1152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нформатик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21"/>
          <p:cNvSpPr/>
          <p:nvPr/>
        </p:nvSpPr>
        <p:spPr>
          <a:xfrm>
            <a:off x="6012000" y="3645000"/>
            <a:ext cx="2592360" cy="1152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Естествен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нау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22"/>
          <p:cNvSpPr/>
          <p:nvPr/>
        </p:nvSpPr>
        <p:spPr>
          <a:xfrm>
            <a:off x="6300720" y="1989000"/>
            <a:ext cx="2592360" cy="1152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атематик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8" descr="Нью-Йорк"/>
          <p:cNvPicPr/>
          <p:nvPr/>
        </p:nvPicPr>
        <p:blipFill>
          <a:blip r:embed="rId1"/>
          <a:stretch/>
        </p:blipFill>
        <p:spPr>
          <a:xfrm>
            <a:off x="5940360" y="404640"/>
            <a:ext cx="2908440" cy="4321440"/>
          </a:xfrm>
          <a:prstGeom prst="rect">
            <a:avLst/>
          </a:prstGeom>
          <a:ln w="0">
            <a:noFill/>
          </a:ln>
        </p:spPr>
      </p:pic>
      <p:sp>
        <p:nvSpPr>
          <p:cNvPr id="435" name="Oval 4"/>
          <p:cNvSpPr/>
          <p:nvPr/>
        </p:nvSpPr>
        <p:spPr>
          <a:xfrm>
            <a:off x="900000" y="549360"/>
            <a:ext cx="4391280" cy="20890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писание диссерта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2843280" y="4005360"/>
            <a:ext cx="3887640" cy="20160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олучение степени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магистр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AutoShape 7"/>
          <p:cNvSpPr/>
          <p:nvPr/>
        </p:nvSpPr>
        <p:spPr>
          <a:xfrm rot="4816200">
            <a:off x="3369600" y="2815920"/>
            <a:ext cx="935280" cy="1008360"/>
          </a:xfrm>
          <a:custGeom>
            <a:avLst/>
            <a:gdLst>
              <a:gd name="textAreaLeft" fmla="*/ 0 w 935280"/>
              <a:gd name="textAreaRight" fmla="*/ 935640 w 935280"/>
              <a:gd name="textAreaTop" fmla="*/ 0 h 1008360"/>
              <a:gd name="textAreaBottom" fmla="*/ 1008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642" y="0"/>
                </a:lnTo>
                <a:lnTo>
                  <a:pt x="21600" y="10800"/>
                </a:lnTo>
                <a:lnTo>
                  <a:pt x="126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5" descr="j0292020"/>
          <p:cNvPicPr/>
          <p:nvPr/>
        </p:nvPicPr>
        <p:blipFill>
          <a:blip r:embed="rId1"/>
          <a:stretch/>
        </p:blipFill>
        <p:spPr>
          <a:xfrm>
            <a:off x="5867280" y="3645000"/>
            <a:ext cx="2954520" cy="28065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333000"/>
            <a:ext cx="844704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кторантура предполагает специализированное обучение и самостоятельное научное исследование в избранной области знаний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чувачки"/>
          <p:cNvPicPr/>
          <p:nvPr/>
        </p:nvPicPr>
        <p:blipFill>
          <a:blip r:embed="rId1"/>
          <a:stretch/>
        </p:blipFill>
        <p:spPr>
          <a:xfrm>
            <a:off x="6227640" y="3429000"/>
            <a:ext cx="2448000" cy="2463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Главный элемент учебного процесса – 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лекц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лгоритм изучения те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ричины быстрого развития образования в СШ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Факторы, повлиявшие на развитие образования (экономические, культурно-политические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овременная система образования в СШ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пециальное образование в СШ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4" descr="Институт Южного Мэйна"/>
          <p:cNvPicPr/>
          <p:nvPr/>
        </p:nvPicPr>
        <p:blipFill>
          <a:blip r:embed="rId1"/>
          <a:stretch/>
        </p:blipFill>
        <p:spPr>
          <a:xfrm>
            <a:off x="4500720" y="2278080"/>
            <a:ext cx="4187520" cy="41878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нтроль знаний студентов включает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откие опросы 4-6 раз в семестр во время семинарских заня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сьменные экзамены 2-3 раза в семестр, проводимые для потока в лекционных аудитор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местровые экзаме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j0299125"/>
          <p:cNvPicPr/>
          <p:nvPr/>
        </p:nvPicPr>
        <p:blipFill>
          <a:blip r:embed="rId1"/>
          <a:stretch/>
        </p:blipFill>
        <p:spPr>
          <a:xfrm>
            <a:off x="6568920" y="333360"/>
            <a:ext cx="2106720" cy="30956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стема оце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ысшая оцен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неудовлетворительная оцен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60"/>
                            </p:stCondLst>
                            <p:childTnLst>
                              <p:par>
                                <p:cTn id="5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9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60"/>
                            </p:stCondLst>
                            <p:childTnLst>
                              <p:par>
                                <p:cTn id="5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9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60"/>
                            </p:stCondLst>
                            <p:childTnLst>
                              <p:par>
                                <p:cTn id="5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59"/>
                            </p:stCondLst>
                            <p:childTnLst>
                              <p:par>
                                <p:cTn id="5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60"/>
                            </p:stCondLst>
                            <p:childTnLst>
                              <p:par>
                                <p:cTn id="5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4" descr="Музей Метрополитен Н-!"/>
          <p:cNvPicPr/>
          <p:nvPr/>
        </p:nvPicPr>
        <p:blipFill>
          <a:blip r:embed="rId1"/>
          <a:stretch/>
        </p:blipFill>
        <p:spPr>
          <a:xfrm>
            <a:off x="3780000" y="2852640"/>
            <a:ext cx="5040000" cy="3578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лавное в подготовке студента в университетах СШ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работка навыков самостоятельного творческого мышления и широкого кругозора на основе современных представл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5" descr="Манхэттэн Н-Й"/>
          <p:cNvPicPr/>
          <p:nvPr/>
        </p:nvPicPr>
        <p:blipFill>
          <a:blip r:embed="rId1"/>
          <a:stretch/>
        </p:blipFill>
        <p:spPr>
          <a:xfrm>
            <a:off x="3780000" y="404640"/>
            <a:ext cx="4719600" cy="35290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4"/>
          <p:cNvSpPr/>
          <p:nvPr/>
        </p:nvSpPr>
        <p:spPr>
          <a:xfrm>
            <a:off x="-354960" y="3789360"/>
            <a:ext cx="953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ециальное образование 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оединенных Штатах Амери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специального образования в США является примером того, как реализованы демократические принципы в обучении лиц, чьи возможности отличаются от среднего уровня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ние попытки организации обучения детей со специальными нуждами включали создани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школ-интернат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ети проживали, получали образование и подготовку к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Lasell College"/>
          <p:cNvPicPr/>
          <p:nvPr/>
        </p:nvPicPr>
        <p:blipFill>
          <a:blip r:embed="rId1"/>
          <a:stretch/>
        </p:blipFill>
        <p:spPr>
          <a:xfrm>
            <a:off x="5364000" y="4365720"/>
            <a:ext cx="3387960" cy="207324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64440" y="1368360"/>
            <a:ext cx="90230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75</a:t>
            </a: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 году был принят Акт об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Образовании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всех детей с отклонениями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Общественный закон 94-142</a:t>
            </a: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который устанавливает свободное и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соответствующее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обучение для всех детей с нарушениями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fa9b7"/>
                </a:solidFill>
                <a:latin typeface="Tahoma"/>
              </a:rPr>
              <a:t>В настоящее время специалисты и ученые решают следующие вопросы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актика интегрированного обучения детей с нарушениями развития в обычных шко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беспечение образовательных нужд учащихся различных этнических груп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пользование адекватных компьютерных программ, соответствующие детям с нарушениями в разви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500"/>
                            </p:stCondLst>
                            <p:childTnLst>
                              <p:par>
                                <p:cTn id="65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уровню развития образования Соединенные Штаты Америки значительно обгоняют западноевропейские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4" descr="Pacific Lutheran University"/>
          <p:cNvPicPr/>
          <p:nvPr/>
        </p:nvPicPr>
        <p:blipFill>
          <a:blip r:embed="rId1"/>
          <a:stretch/>
        </p:blipFill>
        <p:spPr>
          <a:xfrm>
            <a:off x="539640" y="4390920"/>
            <a:ext cx="3600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611280" y="1268280"/>
            <a:ext cx="2952720" cy="1584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строе разви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ования в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5"/>
          <p:cNvSpPr/>
          <p:nvPr/>
        </p:nvSpPr>
        <p:spPr>
          <a:xfrm>
            <a:off x="3851280" y="2492280"/>
            <a:ext cx="144144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140360" y="4149720"/>
            <a:ext cx="4464000" cy="180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окий уровень производства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яемые им потребности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валифицированной рабочей си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7" descr="Pacific University (штат Орегон)"/>
          <p:cNvPicPr/>
          <p:nvPr/>
        </p:nvPicPr>
        <p:blipFill>
          <a:blip r:embed="rId1"/>
          <a:stretch/>
        </p:blipFill>
        <p:spPr>
          <a:xfrm>
            <a:off x="5508720" y="476280"/>
            <a:ext cx="3217680" cy="2155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Dean College"/>
          <p:cNvPicPr/>
          <p:nvPr/>
        </p:nvPicPr>
        <p:blipFill>
          <a:blip r:embed="rId2"/>
          <a:stretch/>
        </p:blipFill>
        <p:spPr>
          <a:xfrm>
            <a:off x="611280" y="4092480"/>
            <a:ext cx="2857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ША начало создания государственной системы образования относится ко 2-3 десятилети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овпало с началом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мышленного переворо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кономические фактор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нсивное развитие техни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едение бесплатного об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ансирование из местных бюджетов за счет специального школьного на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ространение высшего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воение огромных целинных земель, разработка недр и лесов, строительство железных и шоссейных дорог, мостов и кана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03360" y="836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нцу второй трет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 по развитию начального образования США обогнали большинство стран Европ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70-х года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 в США начался переход к неполному среднему образова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1890 года началось законодательное введение обязательного школьного обуч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овлен контроль за школьным управлени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5076720" y="333360"/>
            <a:ext cx="3816360" cy="22320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требности различ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пп населения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ой половин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5"/>
          <p:cNvSpPr/>
          <p:nvPr/>
        </p:nvSpPr>
        <p:spPr>
          <a:xfrm flipH="1">
            <a:off x="3203640" y="2060640"/>
            <a:ext cx="1800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684360" y="2565360"/>
            <a:ext cx="5400360" cy="11509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лледжи специальных интере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Line 8"/>
          <p:cNvSpPr/>
          <p:nvPr/>
        </p:nvSpPr>
        <p:spPr>
          <a:xfrm>
            <a:off x="4067280" y="3789360"/>
            <a:ext cx="288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9"/>
          <p:cNvSpPr/>
          <p:nvPr/>
        </p:nvSpPr>
        <p:spPr>
          <a:xfrm>
            <a:off x="5867280" y="3789360"/>
            <a:ext cx="576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10"/>
          <p:cNvSpPr/>
          <p:nvPr/>
        </p:nvSpPr>
        <p:spPr>
          <a:xfrm>
            <a:off x="6156360" y="321300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11"/>
          <p:cNvSpPr/>
          <p:nvPr/>
        </p:nvSpPr>
        <p:spPr>
          <a:xfrm flipH="1">
            <a:off x="1547640" y="3789360"/>
            <a:ext cx="503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539640" y="4653000"/>
            <a:ext cx="19447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ст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3419640" y="4653000"/>
            <a:ext cx="194436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ническ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щ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6084720" y="4869000"/>
            <a:ext cx="19447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нск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6948360" y="3284640"/>
            <a:ext cx="19447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лигиоз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ультурно-политические фактор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ее развитая американская демократия, образовывающаяся на незыблемых правах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ческие особенности формирования американской буржуазной н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0:35:01Z</dcterms:created>
  <dc:creator>смсмсч</dc:creator>
  <dc:description/>
  <dc:language>en-US</dc:language>
  <cp:lastModifiedBy>Коля</cp:lastModifiedBy>
  <dcterms:modified xsi:type="dcterms:W3CDTF">2013-07-01T16:54:34Z</dcterms:modified>
  <cp:revision>61</cp:revision>
  <dc:subject/>
  <dc:title>Слайд 1</dc:title>
</cp:coreProperties>
</file>