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DB0-FB46-4C91-973F-A68AE741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689-BE47-4861-AC58-A256276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0E2-AD4C-42D9-B458-5B0A8CFB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9DF-DE8D-4372-BDCB-D76FCA55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5002-9C47-4C79-B39F-FB926084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2D3-98D9-465E-8DFD-B110C5B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077A-1AF6-4348-AF4A-D8E6683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E9CE-EF2D-4C75-9F50-3576957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3784-EB37-488C-AFAF-840DA0E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1A3-858B-4375-8FE0-5E04B06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20E3-6159-48A5-8C5B-4DDBCF9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84B-06B7-45AA-AF43-1AFE802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0B54-DA19-4491-8E5A-5BBED9A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FD1-5785-4156-8FF0-2DCE1141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C8B-B7F6-478F-975E-0EB9F2F7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03C3-BBB4-4B5A-9FE6-FC2BDE9A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F47E-AF34-405B-9DD9-CD309601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430-86B3-4B1C-A931-F992CD5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99C-7262-4DBE-A9C8-391D321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B32-349E-4A64-93A5-AD70CDCB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1AD-0B7B-4A6A-98F0-0585836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687-71A1-4EA0-8441-3C93768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14B-7B1F-4F3D-85CA-8F2ABBE2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18C-CBDD-4D48-BEDE-6AC0D08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F443-A39E-4DEE-8095-04D3AFBD0DD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457-202B-4B7C-935B-87EF2FA570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инной мозг и спинномозгов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2565000"/>
            <a:ext cx="640080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Лекция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622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р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477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остоит из тел нейрон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азовано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дние рога (чувствитель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рога (двигатель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оковые рога (вегетативные двигательные нейроны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Центральное серое вещество (вставоч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9564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nervus spinales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34920" y="1916280"/>
            <a:ext cx="479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842160" cy="5064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nervus spinalis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88508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ар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разуются при слиянии передних и задних корешков, выходят через межпозвоночное отверст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роткие (около 1,5 см), выйдя из межпозвоночного отверстия разветвляются на три ветв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18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nervus spinali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Ветви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1800" cy="239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12680" y="1013760"/>
            <a:ext cx="26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Спинномозговые нерв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2708280"/>
          <a:ext cx="9115560" cy="3781440"/>
        </p:xfrm>
        <a:graphic>
          <a:graphicData uri="http://schemas.openxmlformats.org/drawingml/2006/table">
            <a:tbl>
              <a:tblPr/>
              <a:tblGrid>
                <a:gridCol w="3780000"/>
                <a:gridCol w="2736720"/>
                <a:gridCol w="2598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едни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олочечны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ни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етви шейных, поясничных, крестцовых, копчиковых сегментов образуют сплетения. Ветви грудных нервов сохраняют упорядоченность, идут в межреберных промежутках и иннервируют кожу и мышцы передней и переднебоковой стенок туловищ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нервируют оболочки спинного мозг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ходят между поперечными отростками пары позвонков в область спины. Иннервируют кожу и глубокие мышцы спины (разгибатели туловищ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492360" y="206064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060640"/>
            <a:ext cx="93672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060640"/>
            <a:ext cx="316872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cervic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14036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1-4 шей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учки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Чувствите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Двигате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мешан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03640" cy="3350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2000" y="691920"/>
            <a:ext cx="42116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Чувствительный пучо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3357720"/>
          <a:ext cx="9144000" cy="3560760"/>
        </p:xfrm>
        <a:graphic>
          <a:graphicData uri="http://schemas.openxmlformats.org/drawingml/2006/table">
            <a:tbl>
              <a:tblPr/>
              <a:tblGrid>
                <a:gridCol w="4340160"/>
                <a:gridCol w="480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алый затылочны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тылочной област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шой ушно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шная раковина, наружный слуховой прохо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перечный нерв ше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ередней области шеи, чувствительная иннервация подкожной мышцы ше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дключичные нерв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боковой области шеи над ключицей и грудной стенки ниже ключи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0" y="907920"/>
            <a:ext cx="421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двигательный и смешанный пучк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3645000"/>
          <a:ext cx="9144000" cy="2952720"/>
        </p:xfrm>
        <a:graphic>
          <a:graphicData uri="http://schemas.openxmlformats.org/drawingml/2006/table">
            <a:tbl>
              <a:tblPr/>
              <a:tblGrid>
                <a:gridCol w="1547640"/>
                <a:gridCol w="2367000"/>
                <a:gridCol w="5229360"/>
              </a:tblGrid>
              <a:tr h="1557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вигате-льные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ечные ветв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стничные, длинные головы и шеи, передняя и боковая прямые головы, поднимающая лопатку, передние межпоперечные мышцы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ейная петл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 подподязыч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мешан-ный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фрагмаль-ны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.: плевра, перикард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.: диафраг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87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brachi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5400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5-8 шей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341520" cy="454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35280" y="2637000"/>
            <a:ext cx="5040360" cy="6476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ки плечевого сплет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716280"/>
            <a:ext cx="266400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а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коротки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80000" y="3716280"/>
            <a:ext cx="266400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длинны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941720"/>
            <a:ext cx="216072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диальны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5992920"/>
            <a:ext cx="216072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Латеральны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96360" y="4941720"/>
            <a:ext cx="15476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и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32360" y="3284640"/>
            <a:ext cx="50328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3284640"/>
            <a:ext cx="64764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4581360"/>
            <a:ext cx="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4581360"/>
            <a:ext cx="0" cy="1368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458136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95640" y="765000"/>
            <a:ext cx="266400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а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коротки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1776240"/>
          <a:ext cx="8964720" cy="5081400"/>
        </p:xfrm>
        <a:graphic>
          <a:graphicData uri="http://schemas.openxmlformats.org/drawingml/2006/table">
            <a:tbl>
              <a:tblPr/>
              <a:tblGrid>
                <a:gridCol w="3384720"/>
                <a:gridCol w="720720"/>
                <a:gridCol w="485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рзальный нерв лопат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мбовидные мышцы, мышца поднимающая лопатк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линный грудн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ередняя зубчат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ключ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ключичн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длопато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остная, надостная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лопато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лопаточная и большая кругл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доспинн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ирочайшая мышца сп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ный и медиальный грудные 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ная и малая грудные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мыше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ьтовидная, малая кругл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дельтовидной области и верхнего отдела заднелатеральной области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диальны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709640"/>
          <a:ext cx="7380360" cy="5148000"/>
        </p:xfrm>
        <a:graphic>
          <a:graphicData uri="http://schemas.openxmlformats.org/drawingml/2006/table">
            <a:tbl>
              <a:tblPr/>
              <a:tblGrid>
                <a:gridCol w="2016360"/>
                <a:gridCol w="431640"/>
                <a:gridCol w="4932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кожный нерв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й поверхности плеча до локтев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кожный нерв предплечь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октевой стороны предплечья (медиальной) до лучезапяст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кте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локтевой сгибатель запястья, глубокий сгибатель пальцев, мышцы возвышения мизинца, ладонный и тыльные межкостные, 3 и 4 червеобразные, приводящая больной палец, короткий сгибатель больш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возвышения мизинца, локтевой стороны ладони, на тыльной поверхности кожа 5 и 4 пальцев и локтевой стороны 3 пальц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пинной мозг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пинномозговые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нерв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45360" y="3141720"/>
            <a:ext cx="27986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Латеральны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835280" y="1916280"/>
          <a:ext cx="7057800" cy="4493880"/>
        </p:xfrm>
        <a:graphic>
          <a:graphicData uri="http://schemas.openxmlformats.org/drawingml/2006/table">
            <a:tbl>
              <a:tblPr/>
              <a:tblGrid>
                <a:gridCol w="2087280"/>
                <a:gridCol w="433440"/>
                <a:gridCol w="4537080"/>
              </a:tblGrid>
              <a:tr h="28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ин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круглый пронатор, лучевой сгибатель запястья, длинная ладонная, поверхностный сгибатель пальцев, длинный сгибатель большого пальца, м. возвышения большого пальца, червеобразные 1 и 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области лучезапястного сустава (передняя поверхность), лучевой стороны ладони, 1,2,3 и 4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ышечно-кож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двуглавая плеча, клювовидно-плечевая, плечева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псула локтев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учевой стороны предплечья, до возвышения больш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и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835280" y="1989000"/>
          <a:ext cx="7308720" cy="4114800"/>
        </p:xfrm>
        <a:graphic>
          <a:graphicData uri="http://schemas.openxmlformats.org/drawingml/2006/table">
            <a:tbl>
              <a:tblPr/>
              <a:tblGrid>
                <a:gridCol w="1657080"/>
                <a:gridCol w="574920"/>
                <a:gridCol w="507672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учево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й и заднелатеральной поверхности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й поверхности предплечь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рехглавая и локтевая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лечелучевая, длинный лучевой разгибатель запястья, короткий лучевой разгибатель запястья, супинатор, мышцы разгибатели, мышцы возвышения большого пальца, разгибатель указательн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тыльной и ладонной стороны 1-3 пальце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640" y="170028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12 грудного, 1-4 пояснич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932360" y="3502080"/>
            <a:ext cx="4211640" cy="3355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108160" cy="4718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70820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763640" y="1413000"/>
          <a:ext cx="7380360" cy="5238720"/>
        </p:xfrm>
        <a:graphic>
          <a:graphicData uri="http://schemas.openxmlformats.org/drawingml/2006/table">
            <a:tbl>
              <a:tblPr/>
              <a:tblGrid>
                <a:gridCol w="1728720"/>
                <a:gridCol w="648000"/>
                <a:gridCol w="50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взошно подчрев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Мышцы: поперечная, внутренняя и наружная косые живота, прямая живот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ожа передней брюшной стенки над лобком и верхнелатеральной частью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взошно-пахов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ожа паховой области лобка, мошонки (у мужчин), большой половой губы (у женщин), верхнемедиальной поверхности бедр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Наружная внутренняя косые мышцы живота, поперечная мышца живо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дренно-поло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бедра ниже паховой связ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ошонки, оболочки яичка, мышца, поднимающая яичко, круглая связка матки, кожа больших половых гу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63640" y="1314360"/>
          <a:ext cx="7380360" cy="5543280"/>
        </p:xfrm>
        <a:graphic>
          <a:graphicData uri="http://schemas.openxmlformats.org/drawingml/2006/table">
            <a:tbl>
              <a:tblPr/>
              <a:tblGrid>
                <a:gridCol w="1728720"/>
                <a:gridCol w="648000"/>
                <a:gridCol w="50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-ный кожный нерв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латеральной поверхности бедра, латеральной поверхности бедра до колен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дрен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четырехглавая бедра, портняжная, гребенчата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ереднемедиальной поверхности бедра, кожа в области коленного сустава, переднемедиальной поверхности голени, тыла и медиального края стопы до большого пальц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пиратель-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апсула тазобедренного сустава, кожа медиальной поверхности бедра в нижней половин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Наружная запирательная мышца, приводящие мышцы бедра, тонкая, гребенчатые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48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sacr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  4,5 поясничного , 1 копчикового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уч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короткие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линны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30464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81840" y="1116000"/>
            <a:ext cx="216216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8796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Коротки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1403280" y="1347840"/>
          <a:ext cx="7740720" cy="5510160"/>
        </p:xfrm>
        <a:graphic>
          <a:graphicData uri="http://schemas.openxmlformats.org/drawingml/2006/table">
            <a:tbl>
              <a:tblPr/>
              <a:tblGrid>
                <a:gridCol w="2521080"/>
                <a:gridCol w="718920"/>
                <a:gridCol w="450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нутренний запиратель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грушевидная, внутренняя запирательная, верхняя и нижняя близнецовые, квадратная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шевид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indent="-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рв квадратной мышцы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ерхний ягод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средняя и малая ягодичные, напрягающая широкую фасцию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ижний ягод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шая ягодичная мышца, капсула тазобедрен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 промежности, сфинктер мочеиспускательного канал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ромежности в окружности заднего прохода, задняя поверхность мошонки (больших половых губ), спинки и головки полового член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Длинн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92360" y="1773360"/>
          <a:ext cx="7175520" cy="587160"/>
        </p:xfrm>
        <a:graphic>
          <a:graphicData uri="http://schemas.openxmlformats.org/drawingml/2006/table">
            <a:tbl>
              <a:tblPr/>
              <a:tblGrid>
                <a:gridCol w="2338200"/>
                <a:gridCol w="667080"/>
                <a:gridCol w="4170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692360" y="2421000"/>
          <a:ext cx="7200720" cy="2619360"/>
        </p:xfrm>
        <a:graphic>
          <a:graphicData uri="http://schemas.openxmlformats.org/drawingml/2006/table">
            <a:tbl>
              <a:tblPr/>
              <a:tblGrid>
                <a:gridCol w="2374920"/>
                <a:gridCol w="649080"/>
                <a:gridCol w="4176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ний кожный нерв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ягодичной области, промежности, задней поверхности бедра, включая подколенную ямк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далищ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олусухожильная, полуперепончатая, двуглавая бедра, задняя часть большой приводящей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Длинн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319760" y="2423880"/>
            <a:ext cx="7823880" cy="4204080"/>
            <a:chOff x="1319760" y="2423880"/>
            <a:chExt cx="7823880" cy="4204080"/>
          </a:xfrm>
        </p:grpSpPr>
        <p:sp>
          <p:nvSpPr>
            <p:cNvPr id="222" name=""/>
            <p:cNvSpPr/>
            <p:nvPr/>
          </p:nvSpPr>
          <p:spPr>
            <a:xfrm flipH="1">
              <a:off x="2700720" y="2423880"/>
              <a:ext cx="1380960" cy="10141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3080" y="2423880"/>
              <a:ext cx="1533960" cy="10141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7080" y="4163040"/>
              <a:ext cx="168768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4080" y="3872880"/>
              <a:ext cx="720" cy="1594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1360" y="5468040"/>
              <a:ext cx="1687320" cy="7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00360" y="4453560"/>
              <a:ext cx="1530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54080" y="4597920"/>
              <a:ext cx="1530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41360" y="5468040"/>
              <a:ext cx="72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9040" y="5468040"/>
              <a:ext cx="72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62280" y="4163040"/>
              <a:ext cx="168732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атеральный кожный нерв икры (голени)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63760" y="4018680"/>
              <a:ext cx="137988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3760" y="4742640"/>
              <a:ext cx="137988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ож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6440" y="3490920"/>
              <a:ext cx="291528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щий малоберцово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3840" y="3490920"/>
              <a:ext cx="291456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Большеберцов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57400" y="3872880"/>
              <a:ext cx="1080" cy="1594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149600" y="4597920"/>
              <a:ext cx="307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7400" y="4307760"/>
              <a:ext cx="30636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57400" y="5033160"/>
              <a:ext cx="30636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2280" y="5666400"/>
              <a:ext cx="168732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верхностный малоберцов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2800" y="5468040"/>
              <a:ext cx="19951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2800" y="5468040"/>
              <a:ext cx="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77920" y="5468040"/>
              <a:ext cx="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19760" y="5613480"/>
              <a:ext cx="184176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диальный подошвенн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14880" y="5666400"/>
              <a:ext cx="168768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атеральный подошвенн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82040" y="2712960"/>
              <a:ext cx="184068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2560" y="2423880"/>
              <a:ext cx="0" cy="289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41360" y="6536520"/>
              <a:ext cx="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32000" y="1773360"/>
            <a:ext cx="3816360" cy="5760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далищный нер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24720" y="5734080"/>
            <a:ext cx="1619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убокий малоберцовый нер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4221000"/>
            <a:ext cx="19047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альный кожный нерв ик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35280" y="476280"/>
            <a:ext cx="676728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далищный нерв (ветв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32000" y="1268280"/>
          <a:ext cx="7812000" cy="5489640"/>
        </p:xfrm>
        <a:graphic>
          <a:graphicData uri="http://schemas.openxmlformats.org/drawingml/2006/table">
            <a:tbl>
              <a:tblPr/>
              <a:tblGrid>
                <a:gridCol w="2303280"/>
                <a:gridCol w="360360"/>
                <a:gridCol w="5148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ольше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трехглавая голени, длинный сгибатель пальцев стопы, задняя большеберцовая, длинный сгибатель большого пальца стопы. Коленный и голеностопные суставы. Кожа задней медиальной поверхности голени, пятки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подошвенн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 короткий сгибатель пальцев, короткий сгибатель большого пальца стопы, м. отводящая большой палец стопы, 1-2 червеобразн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го края стопы, большого пальца, обращенных к друг другу сторон 1,2,3 и 4 пальцев стопы. Суставы стоп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ный подошвенн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квадратная подошвы, короткий сгибатель большого пальца, отводящая мизинец стопы, короткий сгибатель мизинца стопы, приводящая большой палец стопы, 3 и 4 червеобразн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одошвы, подошвенной и латеральной поверхности 5 пальца, обращенных друг к другу сторон 4 и 5 пальцев стопы, суставы стопы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Функци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1720" indent="-1699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Проводников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осходящие (центростремительные) пу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Нисходящие (центробежные) пу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1720" indent="-1699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Рефлекторна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щитные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боронительные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Двигательные рефлекс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932360" cy="4087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35280" y="692280"/>
            <a:ext cx="676728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далищный нерв (ветв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1989000"/>
          <a:ext cx="7812000" cy="3841920"/>
        </p:xfrm>
        <a:graphic>
          <a:graphicData uri="http://schemas.openxmlformats.org/drawingml/2006/table">
            <a:tbl>
              <a:tblPr/>
              <a:tblGrid>
                <a:gridCol w="2303280"/>
                <a:gridCol w="360360"/>
                <a:gridCol w="514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и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атеральной поверхности голени и стопы, капсула  коленного сустава, короткая головка двуглавой мышцы бед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рхностны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длинная и короткая малоберцов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го края стопы, кожа медиальной стороны 1 пальца и обращенные друг к другу края 2-5 пальце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лубоки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ередняя большеберцовая, длинные разгибатели пальцев и большого пальца, короткие разгибатели пальцев, малоберцов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псула голеностопного сустав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обращенных друг к другу поверхностей 1 и 2 пальцев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56000" y="1773000"/>
            <a:ext cx="658800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яж мозговой ткани, длинной 41-45 см., расположенный в канале позвоночного столб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верху переходит в головной мозг, книзу истончается и заканчивается мозговым конусом на уровне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поясничного позвонк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зговой конус продолжается вниз терминальной нитью, которая фиксируется в надкостнице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пчикового позвон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67012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51280" y="1557360"/>
            <a:ext cx="52927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Утолщения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шейное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яснично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Борозд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редняя срединная щель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яя срединная борозд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редняя латеральная борозд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яя латеральная борозд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906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1699920"/>
            <a:ext cx="52927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Из передней латеральной борозды выходя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передние корешки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аксоны двигательных нейронов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Из задней латеральной борозды выходя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задние корешки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аксоны чувствительных нейронов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и задние корешки каждой стороны сливаются образуют спинномозговые нерв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906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5280" y="1699920"/>
            <a:ext cx="68752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Участок спинного мозга с парой корешков 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егмент спинного мозг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егмент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Шейные (8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Грудные (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Поясничные (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Крестцовые (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Копчиковый (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672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770120" cy="635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86680" y="4238640"/>
            <a:ext cx="285732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72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р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1916280"/>
            <a:ext cx="309744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ел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637000"/>
            <a:ext cx="3456000" cy="6476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Центральный кана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268280"/>
            <a:ext cx="129708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3368520"/>
            <a:ext cx="6120000" cy="3489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622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ел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477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08000" y="1699920"/>
            <a:ext cx="5435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остоит из отростков нейронов (проводящие пути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азовано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дние канатики (восходящие пути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канатики (нисходящие пути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оковые канатики (восходящие и нисходящие пути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9564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0:09:33Z</dcterms:created>
  <dc:creator>Молодых</dc:creator>
  <dc:description/>
  <dc:language>en-US</dc:language>
  <cp:lastModifiedBy>molodyh</cp:lastModifiedBy>
  <dcterms:modified xsi:type="dcterms:W3CDTF">2012-02-15T04:01:07Z</dcterms:modified>
  <cp:revision>12</cp:revision>
  <dc:subject/>
  <dc:title>Морфофункциональная характеристика спинного мозга и спинномозговых нервов</dc:title>
</cp:coreProperties>
</file>