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D44-2B20-4AE0-9826-C6BBA1BC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EE9-96D4-459E-B0F3-14CAD2B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465-E7D5-40DA-8519-0B2183D7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1A9-23E0-423A-8592-97AC718A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E649-1B94-42B7-8EF3-F505EEF4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1A1A-02B7-4DC1-B7D5-03816530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24C0-888F-4699-B2D7-4DF53AB9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78F5-FAF8-4A4A-99E7-21445E9E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1C6A-0AC0-430E-A0A5-12241188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59D6-88AC-4FC6-B9EC-306ABCFA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C0FB-742A-4778-95DC-4EE9C9E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19D-F3FE-4200-930A-F0E2F6CB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411-9B81-45BF-B407-244E5CD7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8983-0CF2-4E3D-88BE-EF38201A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3844-6EE5-40DC-978B-2F9900B1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7AED-5125-4394-ABF6-36212E59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1993-2669-4276-9D0F-0F81450F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CC5-799F-460E-A198-F66347CC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030-B6F0-4B86-911B-E1379109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5E4-5AA3-43F4-A71A-7EA4B95A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3E0-F10B-4B99-B827-BF82377D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642-69A8-498D-BC05-1E32CD6B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E20-E218-4741-90B9-C9EEFF29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B1C-29FC-4FD3-8F07-E27C20A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8433-4124-48EE-9952-1FD9C81311E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8A2A-68FB-4FC0-AEAC-20C42B3BE83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инной мозг и спинномозговые нерв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2565000"/>
            <a:ext cx="640080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Лекция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2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622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916280"/>
            <a:ext cx="3097080" cy="649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Серое веще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79280" y="1341360"/>
            <a:ext cx="1297080" cy="57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477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92000" y="1699920"/>
            <a:ext cx="565164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Состоит из тел нейрон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Образовано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Задние рога (чувствительные нейроны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ередние рога (двигательные нейроны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Боковые рога (вегетативные двигательные нейроны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Центральное серое вещество (вставочные нейроны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95640" cy="2876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мозговые нервы</a:t>
            </a: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nervus spinales</a:t>
            </a: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34920" y="1916280"/>
            <a:ext cx="479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6842160" cy="50641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76720" y="22860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мозговые нервы</a:t>
            </a: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nervus spinalis</a:t>
            </a: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2420640"/>
            <a:ext cx="788508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ар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разуются при слиянии передних и задних корешков, выходят через межпозвоночное отверсти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роткие (около 1,5 см), выйдя из межпозвоночного отверстия разветвляются на три ветв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180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76720" y="228600"/>
            <a:ext cx="5867280" cy="197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пинномозговые нервы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nervus spinali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Ветви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41800" cy="2398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112680" y="1013760"/>
            <a:ext cx="26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Спинномозговые нерв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2708280"/>
          <a:ext cx="9115560" cy="3781440"/>
        </p:xfrm>
        <a:graphic>
          <a:graphicData uri="http://schemas.openxmlformats.org/drawingml/2006/table">
            <a:tbl>
              <a:tblPr/>
              <a:tblGrid>
                <a:gridCol w="3780000"/>
                <a:gridCol w="2736720"/>
                <a:gridCol w="2598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ередние ветв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болочечные ветв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дние ветв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етви шейных, поясничных, крестцовых, копчиковых сегментов образуют сплетения. Ветви грудных нервов сохраняют упорядоченность, идут в межреберных промежутках и иннервируют кожу и мышцы передней и переднебоковой стенок туловищ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нервируют оболочки спинного мозг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оходят между поперечными отростками пары позвонков в область спины. Иннервируют кожу и глубокие мышцы спины (разгибатели туловищ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492360" y="2060640"/>
            <a:ext cx="0" cy="64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060640"/>
            <a:ext cx="936720" cy="57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2060640"/>
            <a:ext cx="3168720" cy="57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Шей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cervic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03280" y="1700280"/>
            <a:ext cx="4140360" cy="45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бразовано передними ветвями 1-4 шейных СМ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учки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Чувствите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Двигате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Смешан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03640" cy="33508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2000" y="691920"/>
            <a:ext cx="42116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Шей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Чувствительный пучо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0" y="3357720"/>
          <a:ext cx="9144000" cy="3560760"/>
        </p:xfrm>
        <a:graphic>
          <a:graphicData uri="http://schemas.openxmlformats.org/drawingml/2006/table">
            <a:tbl>
              <a:tblPr/>
              <a:tblGrid>
                <a:gridCol w="4340160"/>
                <a:gridCol w="4803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алый затылочный нер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затылочной област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шой ушной нер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шная раковина, наружный слуховой прохо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перечный нерв ше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передней области шеи, чувствительная иннервация подкожной мышцы ше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адключичные нервы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боковой области шеи над ключицей и грудной стенки ниже ключи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0" y="907920"/>
            <a:ext cx="421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Шей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двигательный и смешанный пучк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3645000"/>
          <a:ext cx="9144000" cy="2952720"/>
        </p:xfrm>
        <a:graphic>
          <a:graphicData uri="http://schemas.openxmlformats.org/drawingml/2006/table">
            <a:tbl>
              <a:tblPr/>
              <a:tblGrid>
                <a:gridCol w="1547640"/>
                <a:gridCol w="2367000"/>
                <a:gridCol w="5229360"/>
              </a:tblGrid>
              <a:tr h="1557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вигате-льные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ечные ветв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Лестничные, длинные головы и шеи, передняя и боковая прямые головы, поднимающая лопатку, передние межпоперечные мышцы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ейная петл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 подподязычны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мешан-ный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иафрагмаль-ны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.: плевра, перикард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.: диафрагм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879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brachi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540072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бразовано передними ветвями 5-8 шейных СМ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3341520" cy="4545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635280" y="2637000"/>
            <a:ext cx="5040360" cy="6476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учки плечевого сплет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716280"/>
            <a:ext cx="2664000" cy="865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Надключичны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короткие) нерв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80000" y="3716280"/>
            <a:ext cx="2664000" cy="865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дключичны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длинные) нерв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4941720"/>
            <a:ext cx="216072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диальный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5992920"/>
            <a:ext cx="2160720" cy="865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Латеральный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96360" y="4941720"/>
            <a:ext cx="154764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адний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932360" y="3284640"/>
            <a:ext cx="50328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4360" y="3284640"/>
            <a:ext cx="647640" cy="43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4581360"/>
            <a:ext cx="0" cy="28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08720" y="4581360"/>
            <a:ext cx="0" cy="1368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458136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715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7960" cy="177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95640" y="765000"/>
            <a:ext cx="266400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Надключичны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короткие) нерв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1776240"/>
          <a:ext cx="8964720" cy="5081400"/>
        </p:xfrm>
        <a:graphic>
          <a:graphicData uri="http://schemas.openxmlformats.org/drawingml/2006/table">
            <a:tbl>
              <a:tblPr/>
              <a:tblGrid>
                <a:gridCol w="3384720"/>
                <a:gridCol w="720720"/>
                <a:gridCol w="485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рзальный нерв лопат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омбовидные мышцы, мышца поднимающая лопатку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линный грудн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ередняя зубчатая мыш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ключи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дключичная мыш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длопато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достная, надостная мыш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лопато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длопаточная и большая круглая мыш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рудоспинн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Широчайшая мышца спи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атеральный и медиальный грудные 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ная и малая грудные мыш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мыше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льтовидная, малая круглая мыш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дельтовидной области и верхнего отдела заднелатеральной области плеч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715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7960" cy="1773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11280" y="765000"/>
            <a:ext cx="532944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дключичные (длинные) нерв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диальный 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709640"/>
          <a:ext cx="7380360" cy="5148000"/>
        </p:xfrm>
        <a:graphic>
          <a:graphicData uri="http://schemas.openxmlformats.org/drawingml/2006/table">
            <a:tbl>
              <a:tblPr/>
              <a:tblGrid>
                <a:gridCol w="2016360"/>
                <a:gridCol w="431640"/>
                <a:gridCol w="4932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диальный кожный нерв плеч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медиальной поверхности плеча до локтев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диальный кожный нерв предплечь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локтевой стороны предплечья (медиальной) до лучезапястн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ктев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локтевой сгибатель запястья, глубокий сгибатель пальцев, мышцы возвышения мизинца, ладонный и тыльные межкостные, 3 и 4 червеобразные, приводящая больной палец, короткий сгибатель большого паль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возвышения мизинца, локтевой стороны ладони, на тыльной поверхности кожа 5 и 4 пальцев и локтевой стороны 3 пальц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773360"/>
            <a:ext cx="161928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пинной мозг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пинномозговые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нервы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45360" y="3141720"/>
            <a:ext cx="279864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715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7960" cy="1773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11280" y="765000"/>
            <a:ext cx="532944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дключичные (длинные) нерв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Латеральный 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773360"/>
            <a:ext cx="1619280" cy="508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1835280" y="1916280"/>
          <a:ext cx="7057800" cy="4493880"/>
        </p:xfrm>
        <a:graphic>
          <a:graphicData uri="http://schemas.openxmlformats.org/drawingml/2006/table">
            <a:tbl>
              <a:tblPr/>
              <a:tblGrid>
                <a:gridCol w="2087280"/>
                <a:gridCol w="433440"/>
                <a:gridCol w="4537080"/>
              </a:tblGrid>
              <a:tr h="28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редин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круглый пронатор, лучевой сгибатель запястья, длинная ладонная, поверхностный сгибатель пальцев, длинный сгибатель большого пальца, м. возвышения большого пальца, червеобразные 1 и 2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области лучезапястного сустава (передняя поверхность), лучевой стороны ладони, 1,2,3 и 4 паль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ышечно-кож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двуглавая плеча, клювовидно-плечевая, плечевая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псула локтев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лучевой стороны предплечья, до возвышения большого паль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715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лече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7960" cy="1773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11280" y="765000"/>
            <a:ext cx="5329440" cy="8654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дключичные (длинные) нерв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адний пуч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773360"/>
            <a:ext cx="1619280" cy="508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835280" y="1989000"/>
          <a:ext cx="7308720" cy="4114800"/>
        </p:xfrm>
        <a:graphic>
          <a:graphicData uri="http://schemas.openxmlformats.org/drawingml/2006/table">
            <a:tbl>
              <a:tblPr/>
              <a:tblGrid>
                <a:gridCol w="1657080"/>
                <a:gridCol w="574920"/>
                <a:gridCol w="507672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учевой нерв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задней и заднелатеральной поверхности плеч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задней поверхности предплечь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рехглавая и локтевая мыш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плечелучевая, длинный лучевой разгибатель запястья, короткий лучевой разгибатель запястья, супинатор, мышцы разгибатели, мышцы возвышения большого пальца, разгибатель указательного пальц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тыльной и ладонной стороны 1-3 пальце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яснич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lumb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95640" y="1700280"/>
            <a:ext cx="590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бразовано передними ветвями 12 грудного, 1-4 поясничных СМ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932360" y="3502080"/>
            <a:ext cx="4211640" cy="3355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2108160" cy="4718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яснич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lumb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708200" cy="508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763640" y="1413000"/>
          <a:ext cx="7380360" cy="5238720"/>
        </p:xfrm>
        <a:graphic>
          <a:graphicData uri="http://schemas.openxmlformats.org/drawingml/2006/table">
            <a:tbl>
              <a:tblPr/>
              <a:tblGrid>
                <a:gridCol w="1728720"/>
                <a:gridCol w="648000"/>
                <a:gridCol w="500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взошно подчрев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: Мышцы: поперечная, внутренняя и наружная косые живота, прямая живот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: Кожа передней брюшной стенки над лобком и верхнелатеральной частью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двзошно-пахов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: Кожа паховой области лобка, мошонки (у мужчин), большой половой губы (у женщин), верхнемедиальной поверхности бедр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: Наружная внутренняя косые мышцы живота, поперечная мышца живо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дренно-полов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бедра ниже паховой связ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мошонки, оболочки яичка, мышца, поднимающая яичко, круглая связка матки, кожа больших половых гу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ясничн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lumb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63640" y="1314360"/>
          <a:ext cx="7380360" cy="5543280"/>
        </p:xfrm>
        <a:graphic>
          <a:graphicData uri="http://schemas.openxmlformats.org/drawingml/2006/table">
            <a:tbl>
              <a:tblPr/>
              <a:tblGrid>
                <a:gridCol w="1728720"/>
                <a:gridCol w="648000"/>
                <a:gridCol w="500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атераль-ный кожный нерв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заднелатеральной поверхности бедра, латеральной поверхности бедра до коленн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дрен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четырехглавая бедра, портняжная, гребенчатая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переднемедиальной поверхности бедра, кожа в области коленного сустава, переднемедиальной поверхности голени, тыла и медиального края стопы до большого пальц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пиратель-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: Капсула тазобедренного сустава, кожа медиальной поверхности бедра в нижней половин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: Наружная запирательная мышца, приводящие мышцы бедра, тонкая, гребенчатые мышц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486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plexus sacrales</a:t>
            </a: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бразовано передними ветвями   4,5 поясничного , 1 копчикового СМ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уч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короткие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длинны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30464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981840" y="1116000"/>
            <a:ext cx="2162160" cy="5742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8796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Короткие нерв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1403280" y="1347840"/>
          <a:ext cx="7740720" cy="5510160"/>
        </p:xfrm>
        <a:graphic>
          <a:graphicData uri="http://schemas.openxmlformats.org/drawingml/2006/table">
            <a:tbl>
              <a:tblPr/>
              <a:tblGrid>
                <a:gridCol w="2521080"/>
                <a:gridCol w="718920"/>
                <a:gridCol w="450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нутренний запиратель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грушевидная, внутренняя запирательная, верхняя и нижняя близнецовые, квадратная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рушевид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indent="-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рв квадратной мышцы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ерхний ягоди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средняя и малая ягодичные, напрягающая широкую фасцию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ижний ягодич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шая ягодичная мышца, капсула тазобедренного суст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лово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 промежности, сфинктер мочеиспускательного канал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промежности в окружности заднего прохода, задняя поверхность мошонки (больших половых губ), спинки и головки полового член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Длинные нерв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692360" y="1773360"/>
          <a:ext cx="7175520" cy="587160"/>
        </p:xfrm>
        <a:graphic>
          <a:graphicData uri="http://schemas.openxmlformats.org/drawingml/2006/table">
            <a:tbl>
              <a:tblPr/>
              <a:tblGrid>
                <a:gridCol w="2338200"/>
                <a:gridCol w="667080"/>
                <a:gridCol w="417024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рв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ласть иннерв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1692360" y="2421000"/>
          <a:ext cx="7200720" cy="2619360"/>
        </p:xfrm>
        <a:graphic>
          <a:graphicData uri="http://schemas.openxmlformats.org/drawingml/2006/table">
            <a:tbl>
              <a:tblPr/>
              <a:tblGrid>
                <a:gridCol w="2374920"/>
                <a:gridCol w="649080"/>
                <a:gridCol w="4176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ний кожный нерв бед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ягодичной области, промежности, задней поверхности бедра, включая подколенную ямку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далищный нер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полусухожильная, полуперепончатая, двуглавая бедра, задняя часть большой приводящей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Длинные нерв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319760" y="2423880"/>
            <a:ext cx="7823880" cy="4204080"/>
            <a:chOff x="1319760" y="2423880"/>
            <a:chExt cx="7823880" cy="4204080"/>
          </a:xfrm>
        </p:grpSpPr>
        <p:sp>
          <p:nvSpPr>
            <p:cNvPr id="222" name=""/>
            <p:cNvSpPr/>
            <p:nvPr/>
          </p:nvSpPr>
          <p:spPr>
            <a:xfrm flipH="1">
              <a:off x="2700720" y="2423880"/>
              <a:ext cx="1380960" cy="10141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23080" y="2423880"/>
              <a:ext cx="1533960" cy="10141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07080" y="4163040"/>
              <a:ext cx="168768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ышечные ветви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54080" y="3872880"/>
              <a:ext cx="720" cy="1594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41360" y="5468040"/>
              <a:ext cx="1687320" cy="7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700360" y="4453560"/>
              <a:ext cx="15300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54080" y="4597920"/>
              <a:ext cx="153000" cy="1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41360" y="5468040"/>
              <a:ext cx="72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9040" y="5468040"/>
              <a:ext cx="720" cy="145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62280" y="4163040"/>
              <a:ext cx="168732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Латеральный кожный нерв икры (голени)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63760" y="4018680"/>
              <a:ext cx="1379880" cy="5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ышечные ветви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63760" y="4742640"/>
              <a:ext cx="1379880" cy="5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ожные ветви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6440" y="3490920"/>
              <a:ext cx="2915280" cy="43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бщий малоберцово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3840" y="3490920"/>
              <a:ext cx="2914560" cy="43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Большеберцовы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57400" y="3872880"/>
              <a:ext cx="1080" cy="1594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149600" y="4597920"/>
              <a:ext cx="307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57400" y="4307760"/>
              <a:ext cx="30636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57400" y="5033160"/>
              <a:ext cx="30636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62280" y="5666400"/>
              <a:ext cx="1687320" cy="86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верхностный малоберцовы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82800" y="5468040"/>
              <a:ext cx="19951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2800" y="5468040"/>
              <a:ext cx="0" cy="145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77920" y="5468040"/>
              <a:ext cx="0" cy="145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19760" y="5613480"/>
              <a:ext cx="184176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едиальный подошвенны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14880" y="5666400"/>
              <a:ext cx="1687680" cy="86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Латеральный подошвенный нерв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82040" y="2712960"/>
              <a:ext cx="184068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ышечные ветви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02560" y="2423880"/>
              <a:ext cx="0" cy="289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41360" y="6536520"/>
              <a:ext cx="0" cy="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132000" y="1773360"/>
            <a:ext cx="3816360" cy="5760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далищный нер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24720" y="5734080"/>
            <a:ext cx="161928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убокий малоберцовый нер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4221000"/>
            <a:ext cx="19047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диальный кожный нерв ик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35280" y="476280"/>
            <a:ext cx="6767280" cy="6476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Седалищный нерв (ветв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32000" y="1268280"/>
          <a:ext cx="7812000" cy="5489640"/>
        </p:xfrm>
        <a:graphic>
          <a:graphicData uri="http://schemas.openxmlformats.org/drawingml/2006/table">
            <a:tbl>
              <a:tblPr/>
              <a:tblGrid>
                <a:gridCol w="2303280"/>
                <a:gridCol w="360360"/>
                <a:gridCol w="51483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ольшеберцов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трехглавая голени, длинный сгибатель пальцев стопы, задняя большеберцовая, длинный сгибатель большого пальца стопы. Коленный и голеностопные суставы. Кожа задней медиальной поверхности голени, пятки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диальный подошвенн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 короткий сгибатель пальцев, короткий сгибатель большого пальца стопы, м. отводящая большой палец стопы, 1-2 червеобразны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медиального края стопы, большого пальца, обращенных к друг другу сторон 1,2,3 и 4 пальцев стопы. Суставы стоп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атеральный подошвенн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квадратная подошвы, короткий сгибатель большого пальца, отводящая мизинец стопы, короткий сгибатель мизинца стопы, приводящая большой палец стопы, 3 и 4 червеобразны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подошвы, подошвенной и латеральной поверхности 5 пальца, обращенных друг к другу сторон 4 и 5 пальцев стопы, суставы стопы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3280" y="1557360"/>
            <a:ext cx="450072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2520" indent="-182520" algn="ctr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Функци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31720" indent="-1699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Проводников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осходящие (центростремительные) пу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Нисходящие (центробежные) пу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31720" indent="-1699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Рефлекторна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ащитные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Оборонительные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3996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Двигательные рефлекс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932360" cy="4087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естцовое сплетение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5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35280" y="692280"/>
            <a:ext cx="6767280" cy="6476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Седалищный нерв (ветв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1989000"/>
          <a:ext cx="7812000" cy="3841920"/>
        </p:xfrm>
        <a:graphic>
          <a:graphicData uri="http://schemas.openxmlformats.org/drawingml/2006/table">
            <a:tbl>
              <a:tblPr/>
              <a:tblGrid>
                <a:gridCol w="2303280"/>
                <a:gridCol w="360360"/>
                <a:gridCol w="5148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щий малоберцов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латеральной поверхности голени и стопы, капсула  коленного сустава, короткая головка двуглавой мышцы бедр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верхностный малоберцов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длинная и короткая малоберцовы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медиального края стопы, кожа медиальной стороны 1 пальца и обращенные друг к другу края 2-5 пальце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лубокий малоберцовый нер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ышцы: передняя большеберцовая, длинные разгибатели пальцев и большого пальца, короткие разгибатели пальцев, малоберцовы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псула голеностопного сустава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ожа обращенных друг к другу поверхностей 1 и 2 пальцев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56000" y="1773000"/>
            <a:ext cx="658800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яж мозговой ткани, длинной 41-45 см., расположенный в канале позвоночного столб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верху переходит в головной мозг, книзу истончается и заканчивается мозговым конусом на уровне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поясничного позвонк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зговой конус продолжается вниз терминальной нитью, которая фиксируется в надкостнице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пчикового позвон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67012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51280" y="1557360"/>
            <a:ext cx="529272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Утолщения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шейное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яснично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Борозды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ередняя срединная щель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адняя срединная борозда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ередняя латеральная борозда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адняя латеральная борозд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8349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3906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1699920"/>
            <a:ext cx="52927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Из передней латеральной борозды выходя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передние корешки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аксоны двигательных нейронов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Из задней латеральной борозды выходя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задние корешки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аксоны чувствительных нейронов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ередние и задние корешки каждой стороны сливаются образуют спинномозговые нерв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8349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3906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835280" y="1699920"/>
            <a:ext cx="687528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Участок спинного мозга с парой корешков  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сегмент спинного мозг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Сегменты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Шейные (8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Грудные (1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Поясничные (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Крестцовые (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Копчиковый (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6726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770120" cy="6353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286680" y="4238640"/>
            <a:ext cx="285732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726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16280"/>
            <a:ext cx="3097080" cy="649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Серое веще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24360" y="1916280"/>
            <a:ext cx="3097440" cy="649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Белое веще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2637000"/>
            <a:ext cx="3456000" cy="64764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Центральный кана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79280" y="1341360"/>
            <a:ext cx="1297080" cy="57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1268280"/>
            <a:ext cx="1297080" cy="57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76360" y="3368520"/>
            <a:ext cx="6120000" cy="3489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622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нной мозг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medulla spinalis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916280"/>
            <a:ext cx="3097080" cy="649080"/>
          </a:xfrm>
          <a:prstGeom prst="rect">
            <a:avLst/>
          </a:prstGeom>
          <a:solidFill>
            <a:srgbClr val="00763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Белое веще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79280" y="1341360"/>
            <a:ext cx="1297080" cy="57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477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08000" y="1699920"/>
            <a:ext cx="543564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Состоит из отростков нейронов (проводящие пути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Образовано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Задние канатики (восходящие пути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ередние канатики (нисходящие пути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Боковые канатики (восходящие и нисходящие пути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95640" cy="2876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0:09:33Z</dcterms:created>
  <dc:creator>Молодых</dc:creator>
  <dc:description/>
  <dc:language>en-US</dc:language>
  <cp:lastModifiedBy>molodyh</cp:lastModifiedBy>
  <dcterms:modified xsi:type="dcterms:W3CDTF">2012-02-15T04:01:07Z</dcterms:modified>
  <cp:revision>12</cp:revision>
  <dc:subject/>
  <dc:title>Морфофункциональная характеристика спинного мозга и спинномозговых нервов</dc:title>
</cp:coreProperties>
</file>