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197-C081-47D8-A243-60B5FD9C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13E-FB38-4601-B8A6-B59A2B2B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4E6-CC7D-4087-B28D-6C5D0A6D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FEF-6DAB-4172-A6B9-8F354DE5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06B9-6CC9-4B9C-8F66-7AF859F7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B695-D7D8-4C4B-88B4-3AF020D3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F50F-67CA-4AD7-AD45-BAB1F186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261E-E93D-4DE2-AD30-0705AB30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13E0-F894-4B55-8C54-25586A64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9FE9-6B3C-4699-81C0-D887519A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BE7C-4718-46B5-AFB0-D610E9A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132-2733-4F39-ACDF-45E54573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2388-B02C-4E6C-8E53-F7BA59AB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110B-0035-4C01-9678-FCEB0D86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B401-0203-4F92-AE3A-0FC3B1A4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045C-71F2-4506-8D19-78AC536F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43EC-D80F-42F8-986B-8637241B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6A0-14D1-44E0-8040-77F1B732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9C7-7271-4F04-BB5E-F9CE8D90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E3F-DFBC-430B-8404-54C695F7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913-BA7A-4738-8A9F-5BE709ED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3F3-479E-4E3C-8959-FF717E15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150-61A4-4A13-B103-7C2AA99F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374-7DA2-4EC4-9AC6-4B687B71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219240" y="1622520"/>
            <a:ext cx="8800920" cy="5045040"/>
            <a:chOff x="219240" y="1622520"/>
            <a:chExt cx="8800920" cy="5045040"/>
          </a:xfrm>
        </p:grpSpPr>
        <p:grpSp>
          <p:nvGrpSpPr>
            <p:cNvPr id="1" name="Group 4"/>
            <p:cNvGrpSpPr/>
            <p:nvPr/>
          </p:nvGrpSpPr>
          <p:grpSpPr>
            <a:xfrm>
              <a:off x="219240" y="1622520"/>
              <a:ext cx="8305560" cy="150840"/>
              <a:chOff x="219240" y="1622520"/>
              <a:chExt cx="8305560" cy="15084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219240" y="1638360"/>
                <a:ext cx="8288280" cy="135000"/>
              </a:xfrm>
              <a:custGeom>
                <a:avLst/>
                <a:gdLst>
                  <a:gd name="textAreaLeft" fmla="*/ 0 w 8288280"/>
                  <a:gd name="textAreaRight" fmla="*/ 8288640 w 82882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8f8f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236520" y="1622520"/>
                <a:ext cx="8288280" cy="135000"/>
              </a:xfrm>
              <a:custGeom>
                <a:avLst/>
                <a:gdLst>
                  <a:gd name="textAreaLeft" fmla="*/ 0 w 8288280"/>
                  <a:gd name="textAreaRight" fmla="*/ 8288640 w 82882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4" name="Group 19"/>
            <p:cNvGrpSpPr/>
            <p:nvPr/>
          </p:nvGrpSpPr>
          <p:grpSpPr>
            <a:xfrm>
              <a:off x="8408880" y="5302080"/>
              <a:ext cx="611280" cy="1365480"/>
              <a:chOff x="8408880" y="5302080"/>
              <a:chExt cx="611280" cy="1365480"/>
            </a:xfrm>
          </p:grpSpPr>
          <p:grpSp>
            <p:nvGrpSpPr>
              <p:cNvPr id="5" name="Group 11"/>
              <p:cNvGrpSpPr/>
              <p:nvPr/>
            </p:nvGrpSpPr>
            <p:grpSpPr>
              <a:xfrm>
                <a:off x="8415360" y="5319360"/>
                <a:ext cx="604800" cy="1348200"/>
                <a:chOff x="8415360" y="5319360"/>
                <a:chExt cx="604800" cy="1348200"/>
              </a:xfrm>
            </p:grpSpPr>
            <p:sp>
              <p:nvSpPr>
                <p:cNvPr id="6" name="Freeform 5"/>
                <p:cNvSpPr/>
                <p:nvPr/>
              </p:nvSpPr>
              <p:spPr>
                <a:xfrm>
                  <a:off x="8415360" y="5662440"/>
                  <a:ext cx="536400" cy="1005120"/>
                </a:xfrm>
                <a:custGeom>
                  <a:avLst/>
                  <a:gdLst>
                    <a:gd name="textAreaLeft" fmla="*/ 0 w 536400"/>
                    <a:gd name="textAreaRight" fmla="*/ 536760 w 536400"/>
                    <a:gd name="textAreaTop" fmla="*/ 0 h 1005120"/>
                    <a:gd name="textAreaBottom" fmla="*/ 1005480 h 1005120"/>
                  </a:gdLst>
                  <a:ahLst/>
                  <a:rect l="textAreaLeft" t="textAreaTop" r="textAreaRight" b="textAreaBottom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7" name="Oval 6"/>
                <p:cNvSpPr/>
                <p:nvPr/>
              </p:nvSpPr>
              <p:spPr>
                <a:xfrm rot="705000">
                  <a:off x="8577360" y="5331960"/>
                  <a:ext cx="158760" cy="311400"/>
                </a:xfrm>
                <a:prstGeom prst="ellipse">
                  <a:avLst/>
                </a:pr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8753400" y="5448240"/>
                  <a:ext cx="85680" cy="214200"/>
                </a:xfrm>
                <a:custGeom>
                  <a:avLst/>
                  <a:gdLst>
                    <a:gd name="textAreaLeft" fmla="*/ 0 w 85680"/>
                    <a:gd name="textAreaRight" fmla="*/ 85680 w 8568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9" name="Freeform 8"/>
                <p:cNvSpPr/>
                <p:nvPr/>
              </p:nvSpPr>
              <p:spPr>
                <a:xfrm>
                  <a:off x="8829720" y="5565600"/>
                  <a:ext cx="92160" cy="16992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0" name="Freeform 9"/>
                <p:cNvSpPr/>
                <p:nvPr/>
              </p:nvSpPr>
              <p:spPr>
                <a:xfrm>
                  <a:off x="8943840" y="5781600"/>
                  <a:ext cx="76320" cy="13176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8888400" y="5683320"/>
                  <a:ext cx="88920" cy="147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147600"/>
                    <a:gd name="textAreaBottom" fmla="*/ 147600 h 147600"/>
                  </a:gdLst>
                  <a:ahLst/>
                  <a:rect l="textAreaLeft" t="textAreaTop" r="textAreaRight" b="textAreaBottom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2" name="Group 18"/>
              <p:cNvGrpSpPr/>
              <p:nvPr/>
            </p:nvGrpSpPr>
            <p:grpSpPr>
              <a:xfrm>
                <a:off x="8408880" y="5302080"/>
                <a:ext cx="604800" cy="1347840"/>
                <a:chOff x="8408880" y="5302080"/>
                <a:chExt cx="604800" cy="1347840"/>
              </a:xfrm>
            </p:grpSpPr>
            <p:sp>
              <p:nvSpPr>
                <p:cNvPr id="13" name="Freeform 12"/>
                <p:cNvSpPr/>
                <p:nvPr/>
              </p:nvSpPr>
              <p:spPr>
                <a:xfrm>
                  <a:off x="8408880" y="5645160"/>
                  <a:ext cx="536760" cy="1004760"/>
                </a:xfrm>
                <a:custGeom>
                  <a:avLst/>
                  <a:gdLst>
                    <a:gd name="textAreaLeft" fmla="*/ 0 w 536760"/>
                    <a:gd name="textAreaRight" fmla="*/ 537120 w 536760"/>
                    <a:gd name="textAreaTop" fmla="*/ 0 h 1004760"/>
                    <a:gd name="textAreaBottom" fmla="*/ 1005120 h 1004760"/>
                  </a:gdLst>
                  <a:ahLst/>
                  <a:rect l="textAreaLeft" t="textAreaTop" r="textAreaRight" b="textAreaBottom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Oval 13"/>
                <p:cNvSpPr/>
                <p:nvPr/>
              </p:nvSpPr>
              <p:spPr>
                <a:xfrm rot="705000">
                  <a:off x="8570880" y="5314680"/>
                  <a:ext cx="158760" cy="311040"/>
                </a:xfrm>
                <a:prstGeom prst="ellips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747280" y="5430960"/>
                  <a:ext cx="85680" cy="214200"/>
                </a:xfrm>
                <a:custGeom>
                  <a:avLst/>
                  <a:gdLst>
                    <a:gd name="textAreaLeft" fmla="*/ 0 w 85680"/>
                    <a:gd name="textAreaRight" fmla="*/ 85680 w 8568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823240" y="5548320"/>
                  <a:ext cx="92160" cy="16992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937720" y="5764320"/>
                  <a:ext cx="75960" cy="13176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8881920" y="5665680"/>
                  <a:ext cx="88920" cy="147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147600"/>
                    <a:gd name="textAreaBottom" fmla="*/ 147600 h 147600"/>
                  </a:gdLst>
                  <a:ahLst/>
                  <a:rect l="textAreaLeft" t="textAreaTop" r="textAreaRight" b="textAreaBottom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D605-43A6-4EA7-B89B-EC225A92C7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8"/>
          <p:cNvGrpSpPr/>
          <p:nvPr/>
        </p:nvGrpSpPr>
        <p:grpSpPr>
          <a:xfrm>
            <a:off x="244440" y="3316320"/>
            <a:ext cx="8305920" cy="150840"/>
            <a:chOff x="244440" y="3316320"/>
            <a:chExt cx="8305920" cy="150840"/>
          </a:xfrm>
        </p:grpSpPr>
        <p:sp>
          <p:nvSpPr>
            <p:cNvPr id="61" name="Freeform 1026"/>
            <p:cNvSpPr/>
            <p:nvPr/>
          </p:nvSpPr>
          <p:spPr>
            <a:xfrm>
              <a:off x="244440" y="3332160"/>
              <a:ext cx="8288280" cy="135000"/>
            </a:xfrm>
            <a:custGeom>
              <a:avLst/>
              <a:gdLst>
                <a:gd name="textAreaLeft" fmla="*/ 0 w 8288280"/>
                <a:gd name="textAreaRight" fmla="*/ 8288640 w 82882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" name="Freeform 1027"/>
            <p:cNvSpPr/>
            <p:nvPr/>
          </p:nvSpPr>
          <p:spPr>
            <a:xfrm>
              <a:off x="262080" y="3316320"/>
              <a:ext cx="8288280" cy="135000"/>
            </a:xfrm>
            <a:custGeom>
              <a:avLst/>
              <a:gdLst>
                <a:gd name="textAreaLeft" fmla="*/ 0 w 8288280"/>
                <a:gd name="textAreaRight" fmla="*/ 8288640 w 82882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5381-FC10-4854-AF7F-BD122F1217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7.wmf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Times New Roman"/>
              </a:rPr>
              <a:t>ДРЕВНЕЙШИЙ РИМ.</a:t>
            </a:r>
            <a:endParaRPr b="0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9360" y="161640"/>
            <a:ext cx="8004240" cy="6541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4.Рим в начале своей истори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980640"/>
            <a:ext cx="4402080" cy="5667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Римляне занимались земледелием и выра-щивали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шениц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ячмен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иногра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л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 Риме развивалось животноводство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римляне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разводи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коров и свине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коней и ос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6" descr="2"/>
          <p:cNvPicPr/>
          <p:nvPr/>
        </p:nvPicPr>
        <p:blipFill>
          <a:blip r:embed="rId2"/>
          <a:stretch/>
        </p:blipFill>
        <p:spPr>
          <a:xfrm>
            <a:off x="123840" y="1701720"/>
            <a:ext cx="4475160" cy="41641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15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98400" y="101160"/>
            <a:ext cx="7772400" cy="6541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4.Рим в начале своей истори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2280" y="763560"/>
            <a:ext cx="4454280" cy="59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Жители Рима были ис-куссными ремесленни- ками - кузнецами, тка-чами, гончар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громного размаха дос-тигло хлебопечение- по всей Латинии были раз бросаны  мельницы и хлебные пе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Несколько древнейших мельниц сохранились до сих пор в рабочем состоя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1"/>
          <p:cNvPicPr/>
          <p:nvPr/>
        </p:nvPicPr>
        <p:blipFill>
          <a:blip r:embed="rId2"/>
          <a:stretch/>
        </p:blipFill>
        <p:spPr>
          <a:xfrm>
            <a:off x="20520" y="1014480"/>
            <a:ext cx="45421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2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8120" y="235080"/>
            <a:ext cx="8107560" cy="8316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5.Система  управления в Древнем Риме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164" name="Object 9"/>
          <p:cNvGraphicFramePr/>
          <p:nvPr/>
        </p:nvGraphicFramePr>
        <p:xfrm>
          <a:off x="752400" y="5924520"/>
          <a:ext cx="2908440" cy="64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924520"/>
                    <a:ext cx="29084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0"/>
          <p:cNvGraphicFramePr/>
          <p:nvPr/>
        </p:nvGraphicFramePr>
        <p:xfrm>
          <a:off x="770040" y="4956120"/>
          <a:ext cx="2871720" cy="73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4956120"/>
                    <a:ext cx="28717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Group 40"/>
          <p:cNvGrpSpPr/>
          <p:nvPr/>
        </p:nvGrpSpPr>
        <p:grpSpPr>
          <a:xfrm>
            <a:off x="0" y="4210200"/>
            <a:ext cx="4413240" cy="782640"/>
            <a:chOff x="0" y="4210200"/>
            <a:chExt cx="4413240" cy="782640"/>
          </a:xfrm>
        </p:grpSpPr>
        <p:graphicFrame>
          <p:nvGraphicFramePr>
            <p:cNvPr id="169" name="Object 11"/>
            <p:cNvGraphicFramePr/>
            <p:nvPr/>
          </p:nvGraphicFramePr>
          <p:xfrm>
            <a:off x="0" y="4210200"/>
            <a:ext cx="4413240" cy="5252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70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210200"/>
                      <a:ext cx="4413240" cy="52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AutoShape 15"/>
            <p:cNvSpPr/>
            <p:nvPr/>
          </p:nvSpPr>
          <p:spPr>
            <a:xfrm>
              <a:off x="1673280" y="4583160"/>
              <a:ext cx="330120" cy="409680"/>
            </a:xfrm>
            <a:prstGeom prst="upArrow">
              <a:avLst>
                <a:gd name="adj1" fmla="val 50000"/>
                <a:gd name="adj2" fmla="val 31025"/>
              </a:avLst>
            </a:prstGeom>
            <a:solidFill>
              <a:srgbClr val="ffff99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2" name="AutoShape 16"/>
            <p:cNvSpPr/>
            <p:nvPr/>
          </p:nvSpPr>
          <p:spPr>
            <a:xfrm>
              <a:off x="2651040" y="4583160"/>
              <a:ext cx="330120" cy="409680"/>
            </a:xfrm>
            <a:prstGeom prst="upArrow">
              <a:avLst>
                <a:gd name="adj1" fmla="val 50000"/>
                <a:gd name="adj2" fmla="val 31025"/>
              </a:avLst>
            </a:prstGeom>
            <a:solidFill>
              <a:srgbClr val="ffff99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1368360" y="3319560"/>
            <a:ext cx="1851120" cy="915840"/>
            <a:chOff x="1368360" y="3319560"/>
            <a:chExt cx="1851120" cy="915840"/>
          </a:xfrm>
        </p:grpSpPr>
        <p:sp>
          <p:nvSpPr>
            <p:cNvPr id="174" name="Rectangle 17"/>
            <p:cNvSpPr/>
            <p:nvPr/>
          </p:nvSpPr>
          <p:spPr>
            <a:xfrm>
              <a:off x="1368360" y="3319560"/>
              <a:ext cx="1851120" cy="459720"/>
            </a:xfrm>
            <a:prstGeom prst="rect">
              <a:avLst/>
            </a:prstGeom>
            <a:solidFill>
              <a:srgbClr val="99ccff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Cyr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Cyr"/>
                </a:rPr>
                <a:t>РОД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5" name="AutoShape 18"/>
            <p:cNvSpPr/>
            <p:nvPr/>
          </p:nvSpPr>
          <p:spPr>
            <a:xfrm>
              <a:off x="1494000" y="3732120"/>
              <a:ext cx="1587240" cy="503280"/>
            </a:xfrm>
            <a:prstGeom prst="upArrowCallout">
              <a:avLst>
                <a:gd name="adj1" fmla="val 78852"/>
                <a:gd name="adj2" fmla="val 78845"/>
                <a:gd name="adj3" fmla="val 16667"/>
                <a:gd name="adj4" fmla="val 66660"/>
              </a:avLst>
            </a:prstGeom>
            <a:solidFill>
              <a:srgbClr val="ffffff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76" name="Group 43"/>
          <p:cNvGrpSpPr/>
          <p:nvPr/>
        </p:nvGrpSpPr>
        <p:grpSpPr>
          <a:xfrm>
            <a:off x="0" y="1724040"/>
            <a:ext cx="2235240" cy="3085920"/>
            <a:chOff x="0" y="1724040"/>
            <a:chExt cx="2235240" cy="3085920"/>
          </a:xfrm>
        </p:grpSpPr>
        <p:graphicFrame>
          <p:nvGraphicFramePr>
            <p:cNvPr id="177" name="Object 14"/>
            <p:cNvGraphicFramePr/>
            <p:nvPr/>
          </p:nvGraphicFramePr>
          <p:xfrm>
            <a:off x="0" y="1724040"/>
            <a:ext cx="2235240" cy="11952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7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1724040"/>
                      <a:ext cx="2235240" cy="119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AutoShape 19"/>
            <p:cNvSpPr/>
            <p:nvPr/>
          </p:nvSpPr>
          <p:spPr>
            <a:xfrm>
              <a:off x="874800" y="2854440"/>
              <a:ext cx="434880" cy="1955520"/>
            </a:xfrm>
            <a:prstGeom prst="upArrow">
              <a:avLst>
                <a:gd name="adj1" fmla="val 50000"/>
                <a:gd name="adj2" fmla="val 112417"/>
              </a:avLst>
            </a:prstGeom>
            <a:solidFill>
              <a:srgbClr val="99ccff"/>
            </a:solidFill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80" name="Group 42"/>
          <p:cNvGrpSpPr/>
          <p:nvPr/>
        </p:nvGrpSpPr>
        <p:grpSpPr>
          <a:xfrm>
            <a:off x="2314440" y="2484360"/>
            <a:ext cx="1946520" cy="1195560"/>
            <a:chOff x="2314440" y="2484360"/>
            <a:chExt cx="1946520" cy="1195560"/>
          </a:xfrm>
        </p:grpSpPr>
        <p:graphicFrame>
          <p:nvGraphicFramePr>
            <p:cNvPr id="181" name="Object 13"/>
            <p:cNvGraphicFramePr/>
            <p:nvPr/>
          </p:nvGraphicFramePr>
          <p:xfrm>
            <a:off x="2314440" y="2484360"/>
            <a:ext cx="1946520" cy="5508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182" name="Object 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14440" y="2484360"/>
                      <a:ext cx="194652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AutoShape 20"/>
            <p:cNvSpPr/>
            <p:nvPr/>
          </p:nvSpPr>
          <p:spPr>
            <a:xfrm>
              <a:off x="2624040" y="2960640"/>
              <a:ext cx="486000" cy="719280"/>
            </a:xfrm>
            <a:prstGeom prst="upArrow">
              <a:avLst>
                <a:gd name="adj1" fmla="val 50000"/>
                <a:gd name="adj2" fmla="val 37000"/>
              </a:avLst>
            </a:prstGeom>
            <a:solidFill>
              <a:srgbClr val="00cccc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3603600" y="5738760"/>
            <a:ext cx="5175360" cy="966960"/>
            <a:chOff x="3603600" y="5738760"/>
            <a:chExt cx="5175360" cy="966960"/>
          </a:xfrm>
        </p:grpSpPr>
        <p:sp>
          <p:nvSpPr>
            <p:cNvPr id="185" name="Rectangle 21"/>
            <p:cNvSpPr/>
            <p:nvPr/>
          </p:nvSpPr>
          <p:spPr>
            <a:xfrm>
              <a:off x="4489560" y="5738760"/>
              <a:ext cx="4289400" cy="966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Переселенцы из других областей Италии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86" name="AutoShape 24"/>
            <p:cNvSpPr/>
            <p:nvPr/>
          </p:nvSpPr>
          <p:spPr>
            <a:xfrm>
              <a:off x="3603600" y="599904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cc99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87" name="Group 31"/>
          <p:cNvGrpSpPr/>
          <p:nvPr/>
        </p:nvGrpSpPr>
        <p:grpSpPr>
          <a:xfrm>
            <a:off x="2490840" y="1325520"/>
            <a:ext cx="6288120" cy="966960"/>
            <a:chOff x="2490840" y="1325520"/>
            <a:chExt cx="6288120" cy="966960"/>
          </a:xfrm>
        </p:grpSpPr>
        <p:sp>
          <p:nvSpPr>
            <p:cNvPr id="188" name="Rectangle 23"/>
            <p:cNvSpPr/>
            <p:nvPr/>
          </p:nvSpPr>
          <p:spPr>
            <a:xfrm>
              <a:off x="4489560" y="1325520"/>
              <a:ext cx="4289400" cy="9669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Высший орган,    состоял из мужчин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89" name="AutoShape 27"/>
            <p:cNvSpPr/>
            <p:nvPr/>
          </p:nvSpPr>
          <p:spPr>
            <a:xfrm>
              <a:off x="2490840" y="1627200"/>
              <a:ext cx="1852560" cy="485640"/>
            </a:xfrm>
            <a:prstGeom prst="rightArrow">
              <a:avLst>
                <a:gd name="adj1" fmla="val 50000"/>
                <a:gd name="adj2" fmla="val 95367"/>
              </a:avLst>
            </a:prstGeom>
            <a:solidFill>
              <a:srgbClr val="cc99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90" name="Group 30"/>
          <p:cNvGrpSpPr/>
          <p:nvPr/>
        </p:nvGrpSpPr>
        <p:grpSpPr>
          <a:xfrm>
            <a:off x="3828600" y="2502720"/>
            <a:ext cx="4950360" cy="1259640"/>
            <a:chOff x="3828600" y="2502720"/>
            <a:chExt cx="4950360" cy="1259640"/>
          </a:xfrm>
        </p:grpSpPr>
        <p:sp>
          <p:nvSpPr>
            <p:cNvPr id="191" name="Rectangle 22"/>
            <p:cNvSpPr/>
            <p:nvPr/>
          </p:nvSpPr>
          <p:spPr>
            <a:xfrm>
              <a:off x="4489560" y="2795760"/>
              <a:ext cx="4289400" cy="966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Совет старейшин      родов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92" name="AutoShape 28"/>
            <p:cNvSpPr/>
            <p:nvPr/>
          </p:nvSpPr>
          <p:spPr>
            <a:xfrm rot="1387200">
              <a:off x="3884760" y="26748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cc99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93" name="Rectangle 34"/>
          <p:cNvSpPr/>
          <p:nvPr/>
        </p:nvSpPr>
        <p:spPr>
          <a:xfrm>
            <a:off x="447984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47984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195" name="Group 39"/>
          <p:cNvGrpSpPr/>
          <p:nvPr/>
        </p:nvGrpSpPr>
        <p:grpSpPr>
          <a:xfrm>
            <a:off x="3536640" y="4262400"/>
            <a:ext cx="5220000" cy="1143000"/>
            <a:chOff x="3536640" y="4262400"/>
            <a:chExt cx="5220000" cy="1143000"/>
          </a:xfrm>
        </p:grpSpPr>
        <p:sp>
          <p:nvSpPr>
            <p:cNvPr id="196" name="Rectangle 37"/>
            <p:cNvSpPr/>
            <p:nvPr/>
          </p:nvSpPr>
          <p:spPr>
            <a:xfrm>
              <a:off x="4467240" y="4262400"/>
              <a:ext cx="4289400" cy="9669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Потомки древнейших жителей Рима 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97" name="AutoShape 38"/>
            <p:cNvSpPr/>
            <p:nvPr/>
          </p:nvSpPr>
          <p:spPr>
            <a:xfrm rot="20746200">
              <a:off x="3581280" y="4806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99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880" y="33444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ЛАН УРОКА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1520" y="1731600"/>
            <a:ext cx="7900920" cy="4791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1.Географическое положение и природные условия Аппенинского полуостр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2.Этрус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3.Образование Ри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4.Рим в начале своей исто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5.Система   управления в Древнем Ри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Задание на урок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Times New Roman"/>
              </a:rPr>
              <a:t>: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8480" y="2813040"/>
            <a:ext cx="7772400" cy="2774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?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Древнеримское государство называют преемником традиций Древней Гре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ак вы думаете, почему это     случилось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8040" y="87120"/>
            <a:ext cx="872352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1.Географическое положение и природные условия Аппенинского полуострова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09560" y="1584000"/>
            <a:ext cx="4730760" cy="4676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Рассмотрите слай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393939"/>
                </a:solidFill>
                <a:latin typeface="Times New Roman"/>
              </a:rPr>
              <a:t>Опишите географичес-кое положение и при-родные условия Аппени-нского полуострова</a:t>
            </a: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 общего между Аппе- нинами(где было распо- ложено Римское государ ство) и Балканами, где расположена Грец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7" descr="8"/>
          <p:cNvPicPr/>
          <p:nvPr/>
        </p:nvPicPr>
        <p:blipFill>
          <a:blip r:embed="rId2"/>
          <a:stretch/>
        </p:blipFill>
        <p:spPr>
          <a:xfrm>
            <a:off x="79200" y="1243080"/>
            <a:ext cx="411984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2.Этруск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12880" y="206676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дним из самых загадочных народов в истории были древнейшие жители Аппенин-ЭТРУС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сторики до сих пор ведут спор - откуда они приш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Язык этрусков лишь отдаленно напоминает кавказские языки и не имеет других аналогов в Европ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962440" y="1828800"/>
            <a:ext cx="6043320" cy="462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Этруски одними из первых стали обрабатывать железо и делать из него орудия труда и оружие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Ученые находят железные боевые доспехи этрусков в захоронениях относящихся к 7 в. до н.э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Этруское войско было самым си-льным на Аппенинах и в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VII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. до н.э. они подчинили себе прак-тически весь полуостр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15" name="Picture 7" descr="7"/>
          <p:cNvPicPr/>
          <p:nvPr/>
        </p:nvPicPr>
        <p:blipFill>
          <a:blip r:embed="rId3"/>
          <a:stretch/>
        </p:blipFill>
        <p:spPr>
          <a:xfrm>
            <a:off x="20520" y="1925640"/>
            <a:ext cx="29559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880" y="82080"/>
            <a:ext cx="7772400" cy="6541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2.Этруск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50680"/>
            <a:ext cx="9144000" cy="141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воеобразие этруссков проявлялось во всем, но более всего поражают их захоронения, имевшие причудливую фор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8" descr="6"/>
          <p:cNvPicPr/>
          <p:nvPr/>
        </p:nvPicPr>
        <p:blipFill>
          <a:blip r:embed="rId2"/>
          <a:stretch/>
        </p:blipFill>
        <p:spPr>
          <a:xfrm>
            <a:off x="0" y="231768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5"/>
          <p:cNvPicPr/>
          <p:nvPr/>
        </p:nvPicPr>
        <p:blipFill>
          <a:blip r:embed="rId3"/>
          <a:stretch/>
        </p:blipFill>
        <p:spPr>
          <a:xfrm>
            <a:off x="0" y="4737240"/>
            <a:ext cx="9144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6320" y="379080"/>
            <a:ext cx="7772400" cy="6015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3.Образование Рим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76280" y="1369800"/>
            <a:ext cx="4916520" cy="457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Легенду об основании Рима большинство современ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ных историков считают вымыс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939"/>
                </a:solidFill>
                <a:latin typeface="Times New Roman"/>
              </a:rPr>
              <a:t>?   Внимательно прочтите текст легенды (с.204) и ответьте на вопрос</a:t>
            </a: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кой смысл могли вкл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ывать в нее древние жители город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16"/>
          <p:cNvPicPr/>
          <p:nvPr/>
        </p:nvPicPr>
        <p:blipFill>
          <a:blip r:embed="rId2"/>
          <a:stretch/>
        </p:blipFill>
        <p:spPr>
          <a:xfrm>
            <a:off x="127080" y="1558800"/>
            <a:ext cx="3914640" cy="425304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4" descr="4"/>
          <p:cNvPicPr/>
          <p:nvPr/>
        </p:nvPicPr>
        <p:blipFill>
          <a:blip r:embed="rId1"/>
          <a:stretch/>
        </p:blipFill>
        <p:spPr>
          <a:xfrm>
            <a:off x="228600" y="1065240"/>
            <a:ext cx="4154400" cy="5495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3720" y="163440"/>
            <a:ext cx="7772400" cy="7048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4.Рим в начале своей истори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09640" y="1087560"/>
            <a:ext cx="4606920" cy="5479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Легендарной датой осно вания Рима является 753 год до н.э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днако поселения на месте Рима существова-ли задолго до этой да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На левом берегу Тибра на возвышенных холмах существовали по-селения, объединивши -еся  впоследствии в один гор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828800" y="3476520"/>
            <a:ext cx="423720" cy="476280"/>
          </a:xfrm>
          <a:custGeom>
            <a:avLst/>
            <a:gdLst>
              <a:gd name="textAreaLeft" fmla="*/ 96480 w 423720"/>
              <a:gd name="textAreaRight" fmla="*/ 327240 w 42372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2212920" y="3782880"/>
            <a:ext cx="424080" cy="476280"/>
          </a:xfrm>
          <a:custGeom>
            <a:avLst/>
            <a:gdLst>
              <a:gd name="textAreaLeft" fmla="*/ 96840 w 424080"/>
              <a:gd name="textAreaRight" fmla="*/ 327240 w 42408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700360" y="4141800"/>
            <a:ext cx="423720" cy="476280"/>
          </a:xfrm>
          <a:custGeom>
            <a:avLst/>
            <a:gdLst>
              <a:gd name="textAreaLeft" fmla="*/ 96480 w 423720"/>
              <a:gd name="textAreaRight" fmla="*/ 327240 w 42372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771560" y="4681440"/>
            <a:ext cx="424080" cy="476280"/>
          </a:xfrm>
          <a:custGeom>
            <a:avLst/>
            <a:gdLst>
              <a:gd name="textAreaLeft" fmla="*/ 96840 w 424080"/>
              <a:gd name="textAreaRight" fmla="*/ 327240 w 42408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2876400" y="3313080"/>
            <a:ext cx="424080" cy="476280"/>
          </a:xfrm>
          <a:custGeom>
            <a:avLst/>
            <a:gdLst>
              <a:gd name="textAreaLeft" fmla="*/ 96840 w 424080"/>
              <a:gd name="textAreaRight" fmla="*/ 327240 w 42408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1" name="AutoShape 10"/>
          <p:cNvSpPr/>
          <p:nvPr/>
        </p:nvSpPr>
        <p:spPr>
          <a:xfrm rot="1324800">
            <a:off x="2617560" y="2573280"/>
            <a:ext cx="546120" cy="839880"/>
          </a:xfrm>
          <a:custGeom>
            <a:avLst/>
            <a:gdLst>
              <a:gd name="textAreaLeft" fmla="*/ 124560 w 546120"/>
              <a:gd name="textAreaRight" fmla="*/ 421560 w 546120"/>
              <a:gd name="textAreaTop" fmla="*/ 191520 h 839880"/>
              <a:gd name="textAreaBottom" fmla="*/ 648360 h 83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2201760" y="2614680"/>
            <a:ext cx="424080" cy="476280"/>
          </a:xfrm>
          <a:custGeom>
            <a:avLst/>
            <a:gdLst>
              <a:gd name="textAreaLeft" fmla="*/ 96840 w 424080"/>
              <a:gd name="textAreaRight" fmla="*/ 327240 w 42408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133" name="Group 31"/>
          <p:cNvGrpSpPr/>
          <p:nvPr/>
        </p:nvGrpSpPr>
        <p:grpSpPr>
          <a:xfrm>
            <a:off x="0" y="2619360"/>
            <a:ext cx="2343240" cy="459720"/>
            <a:chOff x="0" y="2619360"/>
            <a:chExt cx="2343240" cy="459720"/>
          </a:xfrm>
        </p:grpSpPr>
        <p:sp>
          <p:nvSpPr>
            <p:cNvPr id="134" name="Text Box 13"/>
            <p:cNvSpPr/>
            <p:nvPr/>
          </p:nvSpPr>
          <p:spPr>
            <a:xfrm>
              <a:off x="0" y="261936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Квиринал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5" name="AutoShape 19"/>
            <p:cNvSpPr/>
            <p:nvPr/>
          </p:nvSpPr>
          <p:spPr>
            <a:xfrm>
              <a:off x="1623960" y="275580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36" name="Group 32"/>
          <p:cNvGrpSpPr/>
          <p:nvPr/>
        </p:nvGrpSpPr>
        <p:grpSpPr>
          <a:xfrm>
            <a:off x="2463840" y="2021040"/>
            <a:ext cx="1773360" cy="1204920"/>
            <a:chOff x="2463840" y="2021040"/>
            <a:chExt cx="1773360" cy="1204920"/>
          </a:xfrm>
        </p:grpSpPr>
        <p:sp>
          <p:nvSpPr>
            <p:cNvPr id="137" name="Text Box 16"/>
            <p:cNvSpPr/>
            <p:nvPr/>
          </p:nvSpPr>
          <p:spPr>
            <a:xfrm>
              <a:off x="2463840" y="202104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Виминал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8" name="AutoShape 20"/>
            <p:cNvSpPr/>
            <p:nvPr/>
          </p:nvSpPr>
          <p:spPr>
            <a:xfrm rot="5400000">
              <a:off x="2499480" y="272664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39" name="Group 30"/>
          <p:cNvGrpSpPr/>
          <p:nvPr/>
        </p:nvGrpSpPr>
        <p:grpSpPr>
          <a:xfrm>
            <a:off x="0" y="3213000"/>
            <a:ext cx="1981080" cy="617760"/>
            <a:chOff x="0" y="3213000"/>
            <a:chExt cx="1981080" cy="617760"/>
          </a:xfrm>
        </p:grpSpPr>
        <p:sp>
          <p:nvSpPr>
            <p:cNvPr id="140" name="Text Box 12"/>
            <p:cNvSpPr/>
            <p:nvPr/>
          </p:nvSpPr>
          <p:spPr>
            <a:xfrm>
              <a:off x="0" y="321300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Капитолий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41" name="AutoShape 21"/>
            <p:cNvSpPr/>
            <p:nvPr/>
          </p:nvSpPr>
          <p:spPr>
            <a:xfrm>
              <a:off x="1262160" y="3551400"/>
              <a:ext cx="718920" cy="279360"/>
            </a:xfrm>
            <a:prstGeom prst="rightArrow">
              <a:avLst>
                <a:gd name="adj1" fmla="val 50000"/>
                <a:gd name="adj2" fmla="val 64336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0" y="4858920"/>
            <a:ext cx="2092320" cy="752040"/>
            <a:chOff x="0" y="4858920"/>
            <a:chExt cx="2092320" cy="752040"/>
          </a:xfrm>
        </p:grpSpPr>
        <p:sp>
          <p:nvSpPr>
            <p:cNvPr id="143" name="Text Box 18"/>
            <p:cNvSpPr/>
            <p:nvPr/>
          </p:nvSpPr>
          <p:spPr>
            <a:xfrm>
              <a:off x="0" y="510696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Авентин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 rot="18246600">
              <a:off x="1415160" y="509508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5" name="Group 28"/>
          <p:cNvGrpSpPr/>
          <p:nvPr/>
        </p:nvGrpSpPr>
        <p:grpSpPr>
          <a:xfrm>
            <a:off x="0" y="3960360"/>
            <a:ext cx="2392560" cy="533160"/>
            <a:chOff x="0" y="3960360"/>
            <a:chExt cx="2392560" cy="533160"/>
          </a:xfrm>
        </p:grpSpPr>
        <p:sp>
          <p:nvSpPr>
            <p:cNvPr id="146" name="Text Box 14"/>
            <p:cNvSpPr/>
            <p:nvPr/>
          </p:nvSpPr>
          <p:spPr>
            <a:xfrm>
              <a:off x="0" y="403380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Палатин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20487600">
              <a:off x="1647360" y="406728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8" name="Group 27"/>
          <p:cNvGrpSpPr/>
          <p:nvPr/>
        </p:nvGrpSpPr>
        <p:grpSpPr>
          <a:xfrm>
            <a:off x="2409840" y="4386240"/>
            <a:ext cx="1773360" cy="1131120"/>
            <a:chOff x="2409840" y="4386240"/>
            <a:chExt cx="1773360" cy="1131120"/>
          </a:xfrm>
        </p:grpSpPr>
        <p:sp>
          <p:nvSpPr>
            <p:cNvPr id="149" name="Text Box 17"/>
            <p:cNvSpPr/>
            <p:nvPr/>
          </p:nvSpPr>
          <p:spPr>
            <a:xfrm>
              <a:off x="2409840" y="505764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Целий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50" name="AutoShape 24"/>
            <p:cNvSpPr/>
            <p:nvPr/>
          </p:nvSpPr>
          <p:spPr>
            <a:xfrm rot="16200000">
              <a:off x="2577240" y="460620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51" name="Group 29"/>
          <p:cNvGrpSpPr/>
          <p:nvPr/>
        </p:nvGrpSpPr>
        <p:grpSpPr>
          <a:xfrm>
            <a:off x="2722680" y="3445560"/>
            <a:ext cx="1773000" cy="709920"/>
            <a:chOff x="2722680" y="3445560"/>
            <a:chExt cx="1773000" cy="709920"/>
          </a:xfrm>
        </p:grpSpPr>
        <p:sp>
          <p:nvSpPr>
            <p:cNvPr id="152" name="Text Box 15"/>
            <p:cNvSpPr/>
            <p:nvPr/>
          </p:nvSpPr>
          <p:spPr>
            <a:xfrm>
              <a:off x="2722680" y="3695760"/>
              <a:ext cx="177300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Эсквилин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53" name="AutoShape 25"/>
            <p:cNvSpPr/>
            <p:nvPr/>
          </p:nvSpPr>
          <p:spPr>
            <a:xfrm flipH="1" rot="796800">
              <a:off x="3115440" y="352440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3200" y="101520"/>
            <a:ext cx="7772400" cy="7048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4.Рим в начале своей истори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36640" y="965160"/>
            <a:ext cx="4606920" cy="5789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ревнейшие  римляне жили в примитивных домах из ивовых прутьев обмазанных гли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Рядом находились сад и огород, а за пределами города-поля и пастбищ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 результате постояных войн с соседними города ми римляне расширяли подвластную террито-р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7" descr="3"/>
          <p:cNvPicPr/>
          <p:nvPr/>
        </p:nvPicPr>
        <p:blipFill>
          <a:blip r:embed="rId2"/>
          <a:stretch/>
        </p:blipFill>
        <p:spPr>
          <a:xfrm>
            <a:off x="82440" y="938160"/>
            <a:ext cx="438804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8:57:29Z</dcterms:created>
  <dc:creator>ЧЕРНОВ АЛЕКСЕЙ</dc:creator>
  <dc:description/>
  <dc:language>en-US</dc:language>
  <cp:lastModifiedBy>Коля</cp:lastModifiedBy>
  <dcterms:modified xsi:type="dcterms:W3CDTF">2013-09-10T11:18:20Z</dcterms:modified>
  <cp:revision>28</cp:revision>
  <dc:subject/>
  <dc:title>Заголовок слайда отсутствует</dc:title>
</cp:coreProperties>
</file>