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BD02-6622-45E9-83B4-6E87AE08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759-D4A4-4D86-B009-06F9F562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975-AFDA-4BC5-848C-2AED0B65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901-302E-4DB4-A0E9-E2F4C04F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2E0F-A149-46E7-A2C0-9960C0AD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3172-3911-45BF-A783-C9171996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8097-8BAB-4C07-ACE5-679557E3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5A03-E9C2-40BE-ABFC-8ADD2207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D8D8-DC54-4F64-B418-FD7599F8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8AA2-57B3-4F01-8492-3FB571E8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1E66-4724-4824-85CC-D87648EA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AA8C-9A1E-440A-AF2E-1548D719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6D4A-AEEE-43A7-AF20-58649C51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E950-0EB3-4735-9D74-2314A1E6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1E09-CEAB-45EC-BCCF-1DD1DE15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8BE5-2C37-4AFD-A771-B2BD5A53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7872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06360" y="2066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0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7872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706360" y="421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C780-BFF9-47F1-A7B1-CB53C882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E6DD-7951-48B2-A327-835571FD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1392-04D0-454D-B040-68E837B7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9C1-F0D9-49EB-9A89-B9C95E99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20840" y="334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4A99-AE90-4C10-8907-E1640828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5D01-E627-4B09-AD3D-FF8CDAEE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433400" y="421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C29-453C-4CAE-BC46-FD2EA30B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72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33400" y="2066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0720" y="421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1CDB-2FD2-43A0-BD9B-964E7971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219240" y="1622520"/>
            <a:ext cx="8800920" cy="5045040"/>
            <a:chOff x="219240" y="1622520"/>
            <a:chExt cx="8800920" cy="5045040"/>
          </a:xfrm>
        </p:grpSpPr>
        <p:grpSp>
          <p:nvGrpSpPr>
            <p:cNvPr id="1" name="Group 4"/>
            <p:cNvGrpSpPr/>
            <p:nvPr/>
          </p:nvGrpSpPr>
          <p:grpSpPr>
            <a:xfrm>
              <a:off x="219240" y="1622520"/>
              <a:ext cx="8305560" cy="150840"/>
              <a:chOff x="219240" y="1622520"/>
              <a:chExt cx="8305560" cy="150840"/>
            </a:xfrm>
          </p:grpSpPr>
          <p:sp>
            <p:nvSpPr>
              <p:cNvPr id="2" name="Freeform 2"/>
              <p:cNvSpPr/>
              <p:nvPr/>
            </p:nvSpPr>
            <p:spPr>
              <a:xfrm>
                <a:off x="219240" y="1638360"/>
                <a:ext cx="8288280" cy="135000"/>
              </a:xfrm>
              <a:custGeom>
                <a:avLst/>
                <a:gdLst>
                  <a:gd name="textAreaLeft" fmla="*/ 0 w 8288280"/>
                  <a:gd name="textAreaRight" fmla="*/ 8288640 w 828828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8f8f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3" name="Freeform 3"/>
              <p:cNvSpPr/>
              <p:nvPr/>
            </p:nvSpPr>
            <p:spPr>
              <a:xfrm>
                <a:off x="236520" y="1622520"/>
                <a:ext cx="8288280" cy="135000"/>
              </a:xfrm>
              <a:custGeom>
                <a:avLst/>
                <a:gdLst>
                  <a:gd name="textAreaLeft" fmla="*/ 0 w 8288280"/>
                  <a:gd name="textAreaRight" fmla="*/ 8288640 w 828828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5221" h="85">
                    <a:moveTo>
                      <a:pt x="0" y="25"/>
                    </a:moveTo>
                    <a:lnTo>
                      <a:pt x="94" y="16"/>
                    </a:lnTo>
                    <a:lnTo>
                      <a:pt x="125" y="8"/>
                    </a:lnTo>
                    <a:lnTo>
                      <a:pt x="167" y="8"/>
                    </a:lnTo>
                    <a:lnTo>
                      <a:pt x="198" y="8"/>
                    </a:lnTo>
                    <a:lnTo>
                      <a:pt x="240" y="8"/>
                    </a:lnTo>
                    <a:lnTo>
                      <a:pt x="324" y="8"/>
                    </a:lnTo>
                    <a:lnTo>
                      <a:pt x="355" y="16"/>
                    </a:lnTo>
                    <a:lnTo>
                      <a:pt x="386" y="16"/>
                    </a:lnTo>
                    <a:lnTo>
                      <a:pt x="428" y="25"/>
                    </a:lnTo>
                    <a:lnTo>
                      <a:pt x="459" y="33"/>
                    </a:lnTo>
                    <a:lnTo>
                      <a:pt x="491" y="33"/>
                    </a:lnTo>
                    <a:lnTo>
                      <a:pt x="574" y="33"/>
                    </a:lnTo>
                    <a:lnTo>
                      <a:pt x="616" y="33"/>
                    </a:lnTo>
                    <a:lnTo>
                      <a:pt x="657" y="33"/>
                    </a:lnTo>
                    <a:lnTo>
                      <a:pt x="731" y="33"/>
                    </a:lnTo>
                    <a:lnTo>
                      <a:pt x="793" y="33"/>
                    </a:lnTo>
                    <a:lnTo>
                      <a:pt x="856" y="33"/>
                    </a:lnTo>
                    <a:lnTo>
                      <a:pt x="918" y="33"/>
                    </a:lnTo>
                    <a:lnTo>
                      <a:pt x="950" y="33"/>
                    </a:lnTo>
                    <a:lnTo>
                      <a:pt x="1023" y="25"/>
                    </a:lnTo>
                    <a:lnTo>
                      <a:pt x="1065" y="16"/>
                    </a:lnTo>
                    <a:lnTo>
                      <a:pt x="1107" y="0"/>
                    </a:lnTo>
                    <a:lnTo>
                      <a:pt x="1137" y="0"/>
                    </a:lnTo>
                    <a:lnTo>
                      <a:pt x="1169" y="0"/>
                    </a:lnTo>
                    <a:lnTo>
                      <a:pt x="1232" y="0"/>
                    </a:lnTo>
                    <a:lnTo>
                      <a:pt x="1273" y="8"/>
                    </a:lnTo>
                    <a:lnTo>
                      <a:pt x="1336" y="8"/>
                    </a:lnTo>
                    <a:lnTo>
                      <a:pt x="1398" y="8"/>
                    </a:lnTo>
                    <a:lnTo>
                      <a:pt x="1420" y="16"/>
                    </a:lnTo>
                    <a:lnTo>
                      <a:pt x="1483" y="16"/>
                    </a:lnTo>
                    <a:lnTo>
                      <a:pt x="1545" y="25"/>
                    </a:lnTo>
                    <a:lnTo>
                      <a:pt x="1608" y="25"/>
                    </a:lnTo>
                    <a:lnTo>
                      <a:pt x="1649" y="25"/>
                    </a:lnTo>
                    <a:lnTo>
                      <a:pt x="1691" y="25"/>
                    </a:lnTo>
                    <a:lnTo>
                      <a:pt x="1733" y="25"/>
                    </a:lnTo>
                    <a:lnTo>
                      <a:pt x="1774" y="25"/>
                    </a:lnTo>
                    <a:lnTo>
                      <a:pt x="1816" y="16"/>
                    </a:lnTo>
                    <a:lnTo>
                      <a:pt x="1900" y="16"/>
                    </a:lnTo>
                    <a:lnTo>
                      <a:pt x="1984" y="25"/>
                    </a:lnTo>
                    <a:lnTo>
                      <a:pt x="2046" y="25"/>
                    </a:lnTo>
                    <a:lnTo>
                      <a:pt x="2109" y="25"/>
                    </a:lnTo>
                    <a:lnTo>
                      <a:pt x="2171" y="25"/>
                    </a:lnTo>
                    <a:lnTo>
                      <a:pt x="2234" y="25"/>
                    </a:lnTo>
                    <a:lnTo>
                      <a:pt x="2265" y="25"/>
                    </a:lnTo>
                    <a:lnTo>
                      <a:pt x="2307" y="25"/>
                    </a:lnTo>
                    <a:lnTo>
                      <a:pt x="2390" y="25"/>
                    </a:lnTo>
                    <a:lnTo>
                      <a:pt x="2464" y="25"/>
                    </a:lnTo>
                    <a:lnTo>
                      <a:pt x="2505" y="25"/>
                    </a:lnTo>
                    <a:lnTo>
                      <a:pt x="2547" y="25"/>
                    </a:lnTo>
                    <a:lnTo>
                      <a:pt x="2589" y="25"/>
                    </a:lnTo>
                    <a:lnTo>
                      <a:pt x="2651" y="25"/>
                    </a:lnTo>
                    <a:lnTo>
                      <a:pt x="2693" y="25"/>
                    </a:lnTo>
                    <a:lnTo>
                      <a:pt x="2725" y="25"/>
                    </a:lnTo>
                    <a:lnTo>
                      <a:pt x="2756" y="25"/>
                    </a:lnTo>
                    <a:lnTo>
                      <a:pt x="2819" y="25"/>
                    </a:lnTo>
                    <a:lnTo>
                      <a:pt x="2881" y="25"/>
                    </a:lnTo>
                    <a:lnTo>
                      <a:pt x="2965" y="25"/>
                    </a:lnTo>
                    <a:lnTo>
                      <a:pt x="3006" y="33"/>
                    </a:lnTo>
                    <a:lnTo>
                      <a:pt x="3038" y="33"/>
                    </a:lnTo>
                    <a:lnTo>
                      <a:pt x="3069" y="33"/>
                    </a:lnTo>
                    <a:lnTo>
                      <a:pt x="3101" y="59"/>
                    </a:lnTo>
                    <a:lnTo>
                      <a:pt x="3131" y="84"/>
                    </a:lnTo>
                    <a:lnTo>
                      <a:pt x="3152" y="59"/>
                    </a:lnTo>
                    <a:lnTo>
                      <a:pt x="3216" y="67"/>
                    </a:lnTo>
                    <a:lnTo>
                      <a:pt x="3246" y="67"/>
                    </a:lnTo>
                    <a:lnTo>
                      <a:pt x="3288" y="59"/>
                    </a:lnTo>
                    <a:lnTo>
                      <a:pt x="3320" y="50"/>
                    </a:lnTo>
                    <a:lnTo>
                      <a:pt x="3351" y="50"/>
                    </a:lnTo>
                    <a:lnTo>
                      <a:pt x="3435" y="50"/>
                    </a:lnTo>
                    <a:lnTo>
                      <a:pt x="3539" y="50"/>
                    </a:lnTo>
                    <a:lnTo>
                      <a:pt x="3643" y="50"/>
                    </a:lnTo>
                    <a:lnTo>
                      <a:pt x="3706" y="50"/>
                    </a:lnTo>
                    <a:lnTo>
                      <a:pt x="3768" y="42"/>
                    </a:lnTo>
                    <a:lnTo>
                      <a:pt x="3810" y="33"/>
                    </a:lnTo>
                    <a:lnTo>
                      <a:pt x="3832" y="25"/>
                    </a:lnTo>
                    <a:lnTo>
                      <a:pt x="3862" y="16"/>
                    </a:lnTo>
                    <a:lnTo>
                      <a:pt x="3894" y="8"/>
                    </a:lnTo>
                    <a:lnTo>
                      <a:pt x="3957" y="8"/>
                    </a:lnTo>
                    <a:lnTo>
                      <a:pt x="3987" y="8"/>
                    </a:lnTo>
                    <a:lnTo>
                      <a:pt x="4072" y="8"/>
                    </a:lnTo>
                    <a:lnTo>
                      <a:pt x="4155" y="8"/>
                    </a:lnTo>
                    <a:lnTo>
                      <a:pt x="4186" y="8"/>
                    </a:lnTo>
                    <a:lnTo>
                      <a:pt x="4227" y="8"/>
                    </a:lnTo>
                    <a:lnTo>
                      <a:pt x="4312" y="8"/>
                    </a:lnTo>
                    <a:lnTo>
                      <a:pt x="4374" y="8"/>
                    </a:lnTo>
                    <a:lnTo>
                      <a:pt x="4405" y="25"/>
                    </a:lnTo>
                    <a:lnTo>
                      <a:pt x="4437" y="33"/>
                    </a:lnTo>
                    <a:lnTo>
                      <a:pt x="4478" y="33"/>
                    </a:lnTo>
                    <a:lnTo>
                      <a:pt x="4562" y="33"/>
                    </a:lnTo>
                    <a:lnTo>
                      <a:pt x="4624" y="33"/>
                    </a:lnTo>
                    <a:lnTo>
                      <a:pt x="4687" y="33"/>
                    </a:lnTo>
                    <a:lnTo>
                      <a:pt x="4709" y="33"/>
                    </a:lnTo>
                    <a:lnTo>
                      <a:pt x="4750" y="33"/>
                    </a:lnTo>
                    <a:lnTo>
                      <a:pt x="4792" y="33"/>
                    </a:lnTo>
                    <a:lnTo>
                      <a:pt x="4834" y="33"/>
                    </a:lnTo>
                    <a:lnTo>
                      <a:pt x="4896" y="33"/>
                    </a:lnTo>
                    <a:lnTo>
                      <a:pt x="4928" y="33"/>
                    </a:lnTo>
                    <a:lnTo>
                      <a:pt x="5000" y="33"/>
                    </a:lnTo>
                    <a:lnTo>
                      <a:pt x="5074" y="33"/>
                    </a:lnTo>
                    <a:lnTo>
                      <a:pt x="5147" y="33"/>
                    </a:lnTo>
                    <a:lnTo>
                      <a:pt x="5178" y="33"/>
                    </a:lnTo>
                    <a:lnTo>
                      <a:pt x="5220" y="50"/>
                    </a:lnTo>
                    <a:lnTo>
                      <a:pt x="5199" y="76"/>
                    </a:lnTo>
                    <a:lnTo>
                      <a:pt x="5115" y="76"/>
                    </a:lnTo>
                    <a:lnTo>
                      <a:pt x="5084" y="76"/>
                    </a:lnTo>
                    <a:lnTo>
                      <a:pt x="5000" y="67"/>
                    </a:lnTo>
                    <a:lnTo>
                      <a:pt x="4938" y="67"/>
                    </a:lnTo>
                    <a:lnTo>
                      <a:pt x="4906" y="67"/>
                    </a:lnTo>
                    <a:lnTo>
                      <a:pt x="4864" y="67"/>
                    </a:lnTo>
                    <a:lnTo>
                      <a:pt x="4792" y="67"/>
                    </a:lnTo>
                    <a:lnTo>
                      <a:pt x="4719" y="67"/>
                    </a:lnTo>
                    <a:lnTo>
                      <a:pt x="4687" y="67"/>
                    </a:lnTo>
                    <a:lnTo>
                      <a:pt x="4624" y="67"/>
                    </a:lnTo>
                    <a:lnTo>
                      <a:pt x="4583" y="67"/>
                    </a:lnTo>
                    <a:lnTo>
                      <a:pt x="4499" y="76"/>
                    </a:lnTo>
                    <a:lnTo>
                      <a:pt x="4468" y="84"/>
                    </a:lnTo>
                    <a:lnTo>
                      <a:pt x="4426" y="84"/>
                    </a:lnTo>
                    <a:lnTo>
                      <a:pt x="4395" y="84"/>
                    </a:lnTo>
                    <a:lnTo>
                      <a:pt x="4312" y="84"/>
                    </a:lnTo>
                    <a:lnTo>
                      <a:pt x="4248" y="84"/>
                    </a:lnTo>
                    <a:lnTo>
                      <a:pt x="4218" y="84"/>
                    </a:lnTo>
                    <a:lnTo>
                      <a:pt x="4113" y="76"/>
                    </a:lnTo>
                    <a:lnTo>
                      <a:pt x="4029" y="76"/>
                    </a:lnTo>
                    <a:lnTo>
                      <a:pt x="3946" y="67"/>
                    </a:lnTo>
                    <a:lnTo>
                      <a:pt x="3883" y="59"/>
                    </a:lnTo>
                    <a:lnTo>
                      <a:pt x="3852" y="59"/>
                    </a:lnTo>
                    <a:lnTo>
                      <a:pt x="3821" y="59"/>
                    </a:lnTo>
                    <a:lnTo>
                      <a:pt x="3789" y="59"/>
                    </a:lnTo>
                    <a:lnTo>
                      <a:pt x="3758" y="59"/>
                    </a:lnTo>
                    <a:lnTo>
                      <a:pt x="3675" y="59"/>
                    </a:lnTo>
                    <a:lnTo>
                      <a:pt x="3612" y="59"/>
                    </a:lnTo>
                    <a:lnTo>
                      <a:pt x="3549" y="59"/>
                    </a:lnTo>
                    <a:lnTo>
                      <a:pt x="3518" y="59"/>
                    </a:lnTo>
                    <a:lnTo>
                      <a:pt x="3486" y="76"/>
                    </a:lnTo>
                    <a:lnTo>
                      <a:pt x="3456" y="76"/>
                    </a:lnTo>
                    <a:lnTo>
                      <a:pt x="3393" y="84"/>
                    </a:lnTo>
                    <a:lnTo>
                      <a:pt x="3320" y="84"/>
                    </a:lnTo>
                    <a:lnTo>
                      <a:pt x="3236" y="84"/>
                    </a:lnTo>
                    <a:lnTo>
                      <a:pt x="3205" y="84"/>
                    </a:lnTo>
                    <a:lnTo>
                      <a:pt x="3121" y="84"/>
                    </a:lnTo>
                    <a:lnTo>
                      <a:pt x="3059" y="84"/>
                    </a:lnTo>
                    <a:lnTo>
                      <a:pt x="3027" y="84"/>
                    </a:lnTo>
                    <a:lnTo>
                      <a:pt x="2944" y="76"/>
                    </a:lnTo>
                    <a:lnTo>
                      <a:pt x="2860" y="76"/>
                    </a:lnTo>
                    <a:lnTo>
                      <a:pt x="2798" y="76"/>
                    </a:lnTo>
                    <a:lnTo>
                      <a:pt x="2714" y="76"/>
                    </a:lnTo>
                    <a:lnTo>
                      <a:pt x="2651" y="84"/>
                    </a:lnTo>
                    <a:lnTo>
                      <a:pt x="2589" y="84"/>
                    </a:lnTo>
                    <a:lnTo>
                      <a:pt x="2505" y="84"/>
                    </a:lnTo>
                    <a:lnTo>
                      <a:pt x="2474" y="76"/>
                    </a:lnTo>
                    <a:lnTo>
                      <a:pt x="2432" y="76"/>
                    </a:lnTo>
                    <a:lnTo>
                      <a:pt x="2360" y="76"/>
                    </a:lnTo>
                    <a:lnTo>
                      <a:pt x="2318" y="76"/>
                    </a:lnTo>
                    <a:lnTo>
                      <a:pt x="2254" y="76"/>
                    </a:lnTo>
                    <a:lnTo>
                      <a:pt x="2192" y="76"/>
                    </a:lnTo>
                    <a:lnTo>
                      <a:pt x="2150" y="76"/>
                    </a:lnTo>
                    <a:lnTo>
                      <a:pt x="2088" y="76"/>
                    </a:lnTo>
                    <a:lnTo>
                      <a:pt x="2056" y="67"/>
                    </a:lnTo>
                    <a:lnTo>
                      <a:pt x="2014" y="59"/>
                    </a:lnTo>
                    <a:lnTo>
                      <a:pt x="1973" y="59"/>
                    </a:lnTo>
                    <a:lnTo>
                      <a:pt x="1889" y="59"/>
                    </a:lnTo>
                    <a:lnTo>
                      <a:pt x="1859" y="59"/>
                    </a:lnTo>
                    <a:lnTo>
                      <a:pt x="1837" y="67"/>
                    </a:lnTo>
                    <a:lnTo>
                      <a:pt x="1774" y="76"/>
                    </a:lnTo>
                    <a:lnTo>
                      <a:pt x="1743" y="84"/>
                    </a:lnTo>
                    <a:lnTo>
                      <a:pt x="1660" y="76"/>
                    </a:lnTo>
                    <a:lnTo>
                      <a:pt x="1628" y="76"/>
                    </a:lnTo>
                    <a:lnTo>
                      <a:pt x="1545" y="84"/>
                    </a:lnTo>
                    <a:lnTo>
                      <a:pt x="1513" y="84"/>
                    </a:lnTo>
                    <a:lnTo>
                      <a:pt x="1483" y="84"/>
                    </a:lnTo>
                    <a:lnTo>
                      <a:pt x="1451" y="59"/>
                    </a:lnTo>
                    <a:lnTo>
                      <a:pt x="1409" y="50"/>
                    </a:lnTo>
                    <a:lnTo>
                      <a:pt x="1336" y="50"/>
                    </a:lnTo>
                    <a:lnTo>
                      <a:pt x="1294" y="59"/>
                    </a:lnTo>
                    <a:lnTo>
                      <a:pt x="1211" y="59"/>
                    </a:lnTo>
                    <a:lnTo>
                      <a:pt x="1127" y="67"/>
                    </a:lnTo>
                    <a:lnTo>
                      <a:pt x="1023" y="67"/>
                    </a:lnTo>
                    <a:lnTo>
                      <a:pt x="960" y="67"/>
                    </a:lnTo>
                    <a:lnTo>
                      <a:pt x="876" y="67"/>
                    </a:lnTo>
                    <a:lnTo>
                      <a:pt x="846" y="67"/>
                    </a:lnTo>
                    <a:lnTo>
                      <a:pt x="762" y="76"/>
                    </a:lnTo>
                    <a:lnTo>
                      <a:pt x="699" y="76"/>
                    </a:lnTo>
                    <a:lnTo>
                      <a:pt x="668" y="59"/>
                    </a:lnTo>
                    <a:lnTo>
                      <a:pt x="636" y="42"/>
                    </a:lnTo>
                    <a:lnTo>
                      <a:pt x="606" y="42"/>
                    </a:lnTo>
                    <a:lnTo>
                      <a:pt x="543" y="42"/>
                    </a:lnTo>
                    <a:lnTo>
                      <a:pt x="521" y="42"/>
                    </a:lnTo>
                    <a:lnTo>
                      <a:pt x="491" y="50"/>
                    </a:lnTo>
                    <a:lnTo>
                      <a:pt x="459" y="50"/>
                    </a:lnTo>
                    <a:lnTo>
                      <a:pt x="428" y="50"/>
                    </a:lnTo>
                    <a:lnTo>
                      <a:pt x="324" y="50"/>
                    </a:lnTo>
                    <a:lnTo>
                      <a:pt x="292" y="50"/>
                    </a:lnTo>
                    <a:lnTo>
                      <a:pt x="250" y="50"/>
                    </a:lnTo>
                    <a:lnTo>
                      <a:pt x="219" y="50"/>
                    </a:lnTo>
                    <a:lnTo>
                      <a:pt x="135" y="50"/>
                    </a:lnTo>
                    <a:lnTo>
                      <a:pt x="52" y="50"/>
                    </a:lnTo>
                    <a:lnTo>
                      <a:pt x="0" y="2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grpSp>
          <p:nvGrpSpPr>
            <p:cNvPr id="4" name="Group 19"/>
            <p:cNvGrpSpPr/>
            <p:nvPr/>
          </p:nvGrpSpPr>
          <p:grpSpPr>
            <a:xfrm>
              <a:off x="8408880" y="5302080"/>
              <a:ext cx="611280" cy="1365480"/>
              <a:chOff x="8408880" y="5302080"/>
              <a:chExt cx="611280" cy="1365480"/>
            </a:xfrm>
          </p:grpSpPr>
          <p:grpSp>
            <p:nvGrpSpPr>
              <p:cNvPr id="5" name="Group 11"/>
              <p:cNvGrpSpPr/>
              <p:nvPr/>
            </p:nvGrpSpPr>
            <p:grpSpPr>
              <a:xfrm>
                <a:off x="8415360" y="5319360"/>
                <a:ext cx="604800" cy="1348200"/>
                <a:chOff x="8415360" y="5319360"/>
                <a:chExt cx="604800" cy="1348200"/>
              </a:xfrm>
            </p:grpSpPr>
            <p:sp>
              <p:nvSpPr>
                <p:cNvPr id="6" name="Freeform 5"/>
                <p:cNvSpPr/>
                <p:nvPr/>
              </p:nvSpPr>
              <p:spPr>
                <a:xfrm>
                  <a:off x="8415360" y="5662440"/>
                  <a:ext cx="536400" cy="1005120"/>
                </a:xfrm>
                <a:custGeom>
                  <a:avLst/>
                  <a:gdLst>
                    <a:gd name="textAreaLeft" fmla="*/ 0 w 536400"/>
                    <a:gd name="textAreaRight" fmla="*/ 536760 w 536400"/>
                    <a:gd name="textAreaTop" fmla="*/ 0 h 1005120"/>
                    <a:gd name="textAreaBottom" fmla="*/ 1005480 h 1005120"/>
                  </a:gdLst>
                  <a:ahLst/>
                  <a:rect l="textAreaLeft" t="textAreaTop" r="textAreaRight" b="textAreaBottom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7" name="Oval 6"/>
                <p:cNvSpPr/>
                <p:nvPr/>
              </p:nvSpPr>
              <p:spPr>
                <a:xfrm rot="705000">
                  <a:off x="8577360" y="5331960"/>
                  <a:ext cx="158760" cy="311400"/>
                </a:xfrm>
                <a:prstGeom prst="ellipse">
                  <a:avLst/>
                </a:pr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8" name="Freeform 7"/>
                <p:cNvSpPr/>
                <p:nvPr/>
              </p:nvSpPr>
              <p:spPr>
                <a:xfrm>
                  <a:off x="8753400" y="5448240"/>
                  <a:ext cx="85680" cy="214200"/>
                </a:xfrm>
                <a:custGeom>
                  <a:avLst/>
                  <a:gdLst>
                    <a:gd name="textAreaLeft" fmla="*/ 0 w 85680"/>
                    <a:gd name="textAreaRight" fmla="*/ 85680 w 8568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9" name="Freeform 8"/>
                <p:cNvSpPr/>
                <p:nvPr/>
              </p:nvSpPr>
              <p:spPr>
                <a:xfrm>
                  <a:off x="8829720" y="5565600"/>
                  <a:ext cx="92160" cy="16992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69920"/>
                    <a:gd name="textAreaBottom" fmla="*/ 170280 h 169920"/>
                  </a:gdLst>
                  <a:ahLst/>
                  <a:rect l="textAreaLeft" t="textAreaTop" r="textAreaRight" b="textAreaBottom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0" name="Freeform 9"/>
                <p:cNvSpPr/>
                <p:nvPr/>
              </p:nvSpPr>
              <p:spPr>
                <a:xfrm>
                  <a:off x="8943840" y="5781600"/>
                  <a:ext cx="76320" cy="13176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1" name="Freeform 10"/>
                <p:cNvSpPr/>
                <p:nvPr/>
              </p:nvSpPr>
              <p:spPr>
                <a:xfrm>
                  <a:off x="8888400" y="5683320"/>
                  <a:ext cx="88920" cy="147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147600"/>
                    <a:gd name="textAreaBottom" fmla="*/ 147600 h 147600"/>
                  </a:gdLst>
                  <a:ahLst/>
                  <a:rect l="textAreaLeft" t="textAreaTop" r="textAreaRight" b="textAreaBottom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f8f8f8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</p:grpSp>
          <p:grpSp>
            <p:nvGrpSpPr>
              <p:cNvPr id="12" name="Group 18"/>
              <p:cNvGrpSpPr/>
              <p:nvPr/>
            </p:nvGrpSpPr>
            <p:grpSpPr>
              <a:xfrm>
                <a:off x="8408880" y="5302080"/>
                <a:ext cx="604800" cy="1347840"/>
                <a:chOff x="8408880" y="5302080"/>
                <a:chExt cx="604800" cy="1347840"/>
              </a:xfrm>
            </p:grpSpPr>
            <p:sp>
              <p:nvSpPr>
                <p:cNvPr id="13" name="Freeform 12"/>
                <p:cNvSpPr/>
                <p:nvPr/>
              </p:nvSpPr>
              <p:spPr>
                <a:xfrm>
                  <a:off x="8408880" y="5645160"/>
                  <a:ext cx="536760" cy="1004760"/>
                </a:xfrm>
                <a:custGeom>
                  <a:avLst/>
                  <a:gdLst>
                    <a:gd name="textAreaLeft" fmla="*/ 0 w 536760"/>
                    <a:gd name="textAreaRight" fmla="*/ 537120 w 536760"/>
                    <a:gd name="textAreaTop" fmla="*/ 0 h 1004760"/>
                    <a:gd name="textAreaBottom" fmla="*/ 1005120 h 1004760"/>
                  </a:gdLst>
                  <a:ahLst/>
                  <a:rect l="textAreaLeft" t="textAreaTop" r="textAreaRight" b="textAreaBottom"/>
                  <a:pathLst>
                    <a:path w="338" h="633">
                      <a:moveTo>
                        <a:pt x="90" y="369"/>
                      </a:moveTo>
                      <a:lnTo>
                        <a:pt x="111" y="321"/>
                      </a:lnTo>
                      <a:lnTo>
                        <a:pt x="90" y="240"/>
                      </a:lnTo>
                      <a:lnTo>
                        <a:pt x="64" y="190"/>
                      </a:lnTo>
                      <a:lnTo>
                        <a:pt x="54" y="132"/>
                      </a:lnTo>
                      <a:lnTo>
                        <a:pt x="57" y="96"/>
                      </a:lnTo>
                      <a:lnTo>
                        <a:pt x="63" y="75"/>
                      </a:lnTo>
                      <a:lnTo>
                        <a:pt x="74" y="42"/>
                      </a:lnTo>
                      <a:lnTo>
                        <a:pt x="111" y="18"/>
                      </a:lnTo>
                      <a:lnTo>
                        <a:pt x="148" y="0"/>
                      </a:lnTo>
                      <a:lnTo>
                        <a:pt x="180" y="0"/>
                      </a:lnTo>
                      <a:lnTo>
                        <a:pt x="211" y="11"/>
                      </a:lnTo>
                      <a:lnTo>
                        <a:pt x="232" y="42"/>
                      </a:lnTo>
                      <a:lnTo>
                        <a:pt x="243" y="64"/>
                      </a:lnTo>
                      <a:lnTo>
                        <a:pt x="274" y="95"/>
                      </a:lnTo>
                      <a:lnTo>
                        <a:pt x="295" y="127"/>
                      </a:lnTo>
                      <a:lnTo>
                        <a:pt x="327" y="158"/>
                      </a:lnTo>
                      <a:lnTo>
                        <a:pt x="337" y="190"/>
                      </a:lnTo>
                      <a:lnTo>
                        <a:pt x="337" y="221"/>
                      </a:lnTo>
                      <a:lnTo>
                        <a:pt x="327" y="243"/>
                      </a:lnTo>
                      <a:lnTo>
                        <a:pt x="316" y="274"/>
                      </a:lnTo>
                      <a:lnTo>
                        <a:pt x="295" y="306"/>
                      </a:lnTo>
                      <a:lnTo>
                        <a:pt x="274" y="337"/>
                      </a:lnTo>
                      <a:lnTo>
                        <a:pt x="243" y="358"/>
                      </a:lnTo>
                      <a:lnTo>
                        <a:pt x="232" y="390"/>
                      </a:lnTo>
                      <a:lnTo>
                        <a:pt x="211" y="421"/>
                      </a:lnTo>
                      <a:lnTo>
                        <a:pt x="190" y="443"/>
                      </a:lnTo>
                      <a:lnTo>
                        <a:pt x="180" y="485"/>
                      </a:lnTo>
                      <a:lnTo>
                        <a:pt x="169" y="516"/>
                      </a:lnTo>
                      <a:lnTo>
                        <a:pt x="158" y="548"/>
                      </a:lnTo>
                      <a:lnTo>
                        <a:pt x="137" y="579"/>
                      </a:lnTo>
                      <a:lnTo>
                        <a:pt x="95" y="611"/>
                      </a:lnTo>
                      <a:lnTo>
                        <a:pt x="64" y="632"/>
                      </a:lnTo>
                      <a:lnTo>
                        <a:pt x="32" y="622"/>
                      </a:lnTo>
                      <a:lnTo>
                        <a:pt x="11" y="600"/>
                      </a:lnTo>
                      <a:lnTo>
                        <a:pt x="0" y="588"/>
                      </a:lnTo>
                      <a:lnTo>
                        <a:pt x="0" y="555"/>
                      </a:lnTo>
                      <a:lnTo>
                        <a:pt x="3" y="519"/>
                      </a:lnTo>
                      <a:lnTo>
                        <a:pt x="15" y="483"/>
                      </a:lnTo>
                      <a:lnTo>
                        <a:pt x="24" y="450"/>
                      </a:lnTo>
                      <a:lnTo>
                        <a:pt x="66" y="408"/>
                      </a:lnTo>
                      <a:lnTo>
                        <a:pt x="90" y="369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Oval 13"/>
                <p:cNvSpPr/>
                <p:nvPr/>
              </p:nvSpPr>
              <p:spPr>
                <a:xfrm rot="705000">
                  <a:off x="8570880" y="5314680"/>
                  <a:ext cx="158760" cy="311040"/>
                </a:xfrm>
                <a:prstGeom prst="ellipse">
                  <a:avLst/>
                </a:pr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Freeform 14"/>
                <p:cNvSpPr/>
                <p:nvPr/>
              </p:nvSpPr>
              <p:spPr>
                <a:xfrm>
                  <a:off x="8747280" y="5430960"/>
                  <a:ext cx="85680" cy="214200"/>
                </a:xfrm>
                <a:custGeom>
                  <a:avLst/>
                  <a:gdLst>
                    <a:gd name="textAreaLeft" fmla="*/ 0 w 85680"/>
                    <a:gd name="textAreaRight" fmla="*/ 85680 w 8568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54" h="135">
                      <a:moveTo>
                        <a:pt x="6" y="11"/>
                      </a:moveTo>
                      <a:lnTo>
                        <a:pt x="3" y="37"/>
                      </a:lnTo>
                      <a:lnTo>
                        <a:pt x="0" y="63"/>
                      </a:lnTo>
                      <a:lnTo>
                        <a:pt x="0" y="86"/>
                      </a:lnTo>
                      <a:lnTo>
                        <a:pt x="6" y="108"/>
                      </a:lnTo>
                      <a:lnTo>
                        <a:pt x="26" y="134"/>
                      </a:lnTo>
                      <a:lnTo>
                        <a:pt x="45" y="115"/>
                      </a:lnTo>
                      <a:lnTo>
                        <a:pt x="53" y="67"/>
                      </a:lnTo>
                      <a:lnTo>
                        <a:pt x="50" y="40"/>
                      </a:lnTo>
                      <a:lnTo>
                        <a:pt x="42" y="18"/>
                      </a:lnTo>
                      <a:lnTo>
                        <a:pt x="20" y="0"/>
                      </a:lnTo>
                      <a:lnTo>
                        <a:pt x="6" y="11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8823240" y="5548320"/>
                  <a:ext cx="92160" cy="16992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69920"/>
                    <a:gd name="textAreaBottom" fmla="*/ 170280 h 169920"/>
                  </a:gdLst>
                  <a:ahLst/>
                  <a:rect l="textAreaLeft" t="textAreaTop" r="textAreaRight" b="textAreaBottom"/>
                  <a:pathLst>
                    <a:path w="58" h="107">
                      <a:moveTo>
                        <a:pt x="19" y="6"/>
                      </a:moveTo>
                      <a:lnTo>
                        <a:pt x="11" y="26"/>
                      </a:lnTo>
                      <a:lnTo>
                        <a:pt x="4" y="46"/>
                      </a:lnTo>
                      <a:lnTo>
                        <a:pt x="0" y="63"/>
                      </a:lnTo>
                      <a:lnTo>
                        <a:pt x="2" y="82"/>
                      </a:lnTo>
                      <a:lnTo>
                        <a:pt x="18" y="106"/>
                      </a:lnTo>
                      <a:lnTo>
                        <a:pt x="39" y="95"/>
                      </a:lnTo>
                      <a:lnTo>
                        <a:pt x="55" y="60"/>
                      </a:lnTo>
                      <a:lnTo>
                        <a:pt x="57" y="37"/>
                      </a:lnTo>
                      <a:lnTo>
                        <a:pt x="53" y="19"/>
                      </a:lnTo>
                      <a:lnTo>
                        <a:pt x="34" y="0"/>
                      </a:lnTo>
                      <a:lnTo>
                        <a:pt x="19" y="6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8937720" y="5764320"/>
                  <a:ext cx="75960" cy="13176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48" h="83">
                      <a:moveTo>
                        <a:pt x="15" y="4"/>
                      </a:moveTo>
                      <a:lnTo>
                        <a:pt x="9" y="20"/>
                      </a:lnTo>
                      <a:lnTo>
                        <a:pt x="3" y="35"/>
                      </a:lnTo>
                      <a:lnTo>
                        <a:pt x="0" y="48"/>
                      </a:lnTo>
                      <a:lnTo>
                        <a:pt x="1" y="63"/>
                      </a:lnTo>
                      <a:lnTo>
                        <a:pt x="14" y="82"/>
                      </a:lnTo>
                      <a:lnTo>
                        <a:pt x="32" y="73"/>
                      </a:lnTo>
                      <a:lnTo>
                        <a:pt x="45" y="46"/>
                      </a:lnTo>
                      <a:lnTo>
                        <a:pt x="47" y="28"/>
                      </a:lnTo>
                      <a:lnTo>
                        <a:pt x="43" y="14"/>
                      </a:lnTo>
                      <a:lnTo>
                        <a:pt x="28" y="0"/>
                      </a:lnTo>
                      <a:lnTo>
                        <a:pt x="15" y="4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8881920" y="5665680"/>
                  <a:ext cx="88920" cy="147600"/>
                </a:xfrm>
                <a:custGeom>
                  <a:avLst/>
                  <a:gdLst>
                    <a:gd name="textAreaLeft" fmla="*/ 0 w 88920"/>
                    <a:gd name="textAreaRight" fmla="*/ 89280 w 88920"/>
                    <a:gd name="textAreaTop" fmla="*/ 0 h 147600"/>
                    <a:gd name="textAreaBottom" fmla="*/ 147600 h 147600"/>
                  </a:gdLst>
                  <a:ahLst/>
                  <a:rect l="textAreaLeft" t="textAreaTop" r="textAreaRight" b="textAreaBottom"/>
                  <a:pathLst>
                    <a:path w="56" h="93">
                      <a:moveTo>
                        <a:pt x="18" y="5"/>
                      </a:moveTo>
                      <a:lnTo>
                        <a:pt x="10" y="22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1" y="71"/>
                      </a:lnTo>
                      <a:lnTo>
                        <a:pt x="17" y="92"/>
                      </a:lnTo>
                      <a:lnTo>
                        <a:pt x="37" y="82"/>
                      </a:lnTo>
                      <a:lnTo>
                        <a:pt x="53" y="52"/>
                      </a:lnTo>
                      <a:lnTo>
                        <a:pt x="55" y="32"/>
                      </a:lnTo>
                      <a:lnTo>
                        <a:pt x="51" y="16"/>
                      </a:lnTo>
                      <a:lnTo>
                        <a:pt x="32" y="0"/>
                      </a:lnTo>
                      <a:lnTo>
                        <a:pt x="18" y="5"/>
                      </a:lnTo>
                    </a:path>
                  </a:pathLst>
                </a:cu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 Cyr"/>
                  </a:endParaRPr>
                </a:p>
              </p:txBody>
            </p:sp>
          </p:grp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B875-4200-4973-974D-AC6AB58983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028"/>
          <p:cNvGrpSpPr/>
          <p:nvPr/>
        </p:nvGrpSpPr>
        <p:grpSpPr>
          <a:xfrm>
            <a:off x="244440" y="3316320"/>
            <a:ext cx="8305920" cy="150840"/>
            <a:chOff x="244440" y="3316320"/>
            <a:chExt cx="8305920" cy="150840"/>
          </a:xfrm>
        </p:grpSpPr>
        <p:sp>
          <p:nvSpPr>
            <p:cNvPr id="61" name="Freeform 1026"/>
            <p:cNvSpPr/>
            <p:nvPr/>
          </p:nvSpPr>
          <p:spPr>
            <a:xfrm>
              <a:off x="244440" y="3332160"/>
              <a:ext cx="8288280" cy="135000"/>
            </a:xfrm>
            <a:custGeom>
              <a:avLst/>
              <a:gdLst>
                <a:gd name="textAreaLeft" fmla="*/ 0 w 8288280"/>
                <a:gd name="textAreaRight" fmla="*/ 8288640 w 82882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2" name="Freeform 1027"/>
            <p:cNvSpPr/>
            <p:nvPr/>
          </p:nvSpPr>
          <p:spPr>
            <a:xfrm>
              <a:off x="262080" y="3316320"/>
              <a:ext cx="8288280" cy="135000"/>
            </a:xfrm>
            <a:custGeom>
              <a:avLst/>
              <a:gdLst>
                <a:gd name="textAreaLeft" fmla="*/ 0 w 8288280"/>
                <a:gd name="textAreaRight" fmla="*/ 8288640 w 82882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5221" h="85">
                  <a:moveTo>
                    <a:pt x="0" y="25"/>
                  </a:moveTo>
                  <a:lnTo>
                    <a:pt x="94" y="16"/>
                  </a:lnTo>
                  <a:lnTo>
                    <a:pt x="125" y="8"/>
                  </a:lnTo>
                  <a:lnTo>
                    <a:pt x="167" y="8"/>
                  </a:lnTo>
                  <a:lnTo>
                    <a:pt x="198" y="8"/>
                  </a:lnTo>
                  <a:lnTo>
                    <a:pt x="240" y="8"/>
                  </a:lnTo>
                  <a:lnTo>
                    <a:pt x="324" y="8"/>
                  </a:lnTo>
                  <a:lnTo>
                    <a:pt x="355" y="16"/>
                  </a:lnTo>
                  <a:lnTo>
                    <a:pt x="386" y="16"/>
                  </a:lnTo>
                  <a:lnTo>
                    <a:pt x="428" y="25"/>
                  </a:lnTo>
                  <a:lnTo>
                    <a:pt x="459" y="33"/>
                  </a:lnTo>
                  <a:lnTo>
                    <a:pt x="491" y="33"/>
                  </a:lnTo>
                  <a:lnTo>
                    <a:pt x="574" y="33"/>
                  </a:lnTo>
                  <a:lnTo>
                    <a:pt x="616" y="33"/>
                  </a:lnTo>
                  <a:lnTo>
                    <a:pt x="657" y="33"/>
                  </a:lnTo>
                  <a:lnTo>
                    <a:pt x="731" y="33"/>
                  </a:lnTo>
                  <a:lnTo>
                    <a:pt x="793" y="33"/>
                  </a:lnTo>
                  <a:lnTo>
                    <a:pt x="856" y="33"/>
                  </a:lnTo>
                  <a:lnTo>
                    <a:pt x="918" y="33"/>
                  </a:lnTo>
                  <a:lnTo>
                    <a:pt x="950" y="33"/>
                  </a:lnTo>
                  <a:lnTo>
                    <a:pt x="1023" y="25"/>
                  </a:lnTo>
                  <a:lnTo>
                    <a:pt x="1065" y="16"/>
                  </a:lnTo>
                  <a:lnTo>
                    <a:pt x="1107" y="0"/>
                  </a:lnTo>
                  <a:lnTo>
                    <a:pt x="1137" y="0"/>
                  </a:lnTo>
                  <a:lnTo>
                    <a:pt x="1169" y="0"/>
                  </a:lnTo>
                  <a:lnTo>
                    <a:pt x="1232" y="0"/>
                  </a:lnTo>
                  <a:lnTo>
                    <a:pt x="1273" y="8"/>
                  </a:lnTo>
                  <a:lnTo>
                    <a:pt x="1336" y="8"/>
                  </a:lnTo>
                  <a:lnTo>
                    <a:pt x="1398" y="8"/>
                  </a:lnTo>
                  <a:lnTo>
                    <a:pt x="1420" y="16"/>
                  </a:lnTo>
                  <a:lnTo>
                    <a:pt x="1483" y="16"/>
                  </a:lnTo>
                  <a:lnTo>
                    <a:pt x="1545" y="25"/>
                  </a:lnTo>
                  <a:lnTo>
                    <a:pt x="1608" y="25"/>
                  </a:lnTo>
                  <a:lnTo>
                    <a:pt x="1649" y="25"/>
                  </a:lnTo>
                  <a:lnTo>
                    <a:pt x="1691" y="25"/>
                  </a:lnTo>
                  <a:lnTo>
                    <a:pt x="1733" y="25"/>
                  </a:lnTo>
                  <a:lnTo>
                    <a:pt x="1774" y="25"/>
                  </a:lnTo>
                  <a:lnTo>
                    <a:pt x="1816" y="16"/>
                  </a:lnTo>
                  <a:lnTo>
                    <a:pt x="1900" y="16"/>
                  </a:lnTo>
                  <a:lnTo>
                    <a:pt x="1984" y="25"/>
                  </a:lnTo>
                  <a:lnTo>
                    <a:pt x="2046" y="25"/>
                  </a:lnTo>
                  <a:lnTo>
                    <a:pt x="2109" y="25"/>
                  </a:lnTo>
                  <a:lnTo>
                    <a:pt x="2171" y="25"/>
                  </a:lnTo>
                  <a:lnTo>
                    <a:pt x="2234" y="25"/>
                  </a:lnTo>
                  <a:lnTo>
                    <a:pt x="2265" y="25"/>
                  </a:lnTo>
                  <a:lnTo>
                    <a:pt x="2307" y="25"/>
                  </a:lnTo>
                  <a:lnTo>
                    <a:pt x="2390" y="25"/>
                  </a:lnTo>
                  <a:lnTo>
                    <a:pt x="2464" y="25"/>
                  </a:lnTo>
                  <a:lnTo>
                    <a:pt x="2505" y="25"/>
                  </a:lnTo>
                  <a:lnTo>
                    <a:pt x="2547" y="25"/>
                  </a:lnTo>
                  <a:lnTo>
                    <a:pt x="2589" y="25"/>
                  </a:lnTo>
                  <a:lnTo>
                    <a:pt x="2651" y="25"/>
                  </a:lnTo>
                  <a:lnTo>
                    <a:pt x="2693" y="25"/>
                  </a:lnTo>
                  <a:lnTo>
                    <a:pt x="2725" y="25"/>
                  </a:lnTo>
                  <a:lnTo>
                    <a:pt x="2756" y="25"/>
                  </a:lnTo>
                  <a:lnTo>
                    <a:pt x="2819" y="25"/>
                  </a:lnTo>
                  <a:lnTo>
                    <a:pt x="2881" y="25"/>
                  </a:lnTo>
                  <a:lnTo>
                    <a:pt x="2965" y="25"/>
                  </a:lnTo>
                  <a:lnTo>
                    <a:pt x="3006" y="33"/>
                  </a:lnTo>
                  <a:lnTo>
                    <a:pt x="3038" y="33"/>
                  </a:lnTo>
                  <a:lnTo>
                    <a:pt x="3069" y="33"/>
                  </a:lnTo>
                  <a:lnTo>
                    <a:pt x="3101" y="59"/>
                  </a:lnTo>
                  <a:lnTo>
                    <a:pt x="3131" y="84"/>
                  </a:lnTo>
                  <a:lnTo>
                    <a:pt x="3152" y="59"/>
                  </a:lnTo>
                  <a:lnTo>
                    <a:pt x="3216" y="67"/>
                  </a:lnTo>
                  <a:lnTo>
                    <a:pt x="3246" y="67"/>
                  </a:lnTo>
                  <a:lnTo>
                    <a:pt x="3288" y="59"/>
                  </a:lnTo>
                  <a:lnTo>
                    <a:pt x="3320" y="50"/>
                  </a:lnTo>
                  <a:lnTo>
                    <a:pt x="3351" y="50"/>
                  </a:lnTo>
                  <a:lnTo>
                    <a:pt x="3435" y="50"/>
                  </a:lnTo>
                  <a:lnTo>
                    <a:pt x="3539" y="50"/>
                  </a:lnTo>
                  <a:lnTo>
                    <a:pt x="3643" y="50"/>
                  </a:lnTo>
                  <a:lnTo>
                    <a:pt x="3706" y="50"/>
                  </a:lnTo>
                  <a:lnTo>
                    <a:pt x="3768" y="42"/>
                  </a:lnTo>
                  <a:lnTo>
                    <a:pt x="3810" y="33"/>
                  </a:lnTo>
                  <a:lnTo>
                    <a:pt x="3832" y="25"/>
                  </a:lnTo>
                  <a:lnTo>
                    <a:pt x="3862" y="16"/>
                  </a:lnTo>
                  <a:lnTo>
                    <a:pt x="3894" y="8"/>
                  </a:lnTo>
                  <a:lnTo>
                    <a:pt x="3957" y="8"/>
                  </a:lnTo>
                  <a:lnTo>
                    <a:pt x="3987" y="8"/>
                  </a:lnTo>
                  <a:lnTo>
                    <a:pt x="4072" y="8"/>
                  </a:lnTo>
                  <a:lnTo>
                    <a:pt x="4155" y="8"/>
                  </a:lnTo>
                  <a:lnTo>
                    <a:pt x="4186" y="8"/>
                  </a:lnTo>
                  <a:lnTo>
                    <a:pt x="4227" y="8"/>
                  </a:lnTo>
                  <a:lnTo>
                    <a:pt x="4312" y="8"/>
                  </a:lnTo>
                  <a:lnTo>
                    <a:pt x="4374" y="8"/>
                  </a:lnTo>
                  <a:lnTo>
                    <a:pt x="4405" y="25"/>
                  </a:lnTo>
                  <a:lnTo>
                    <a:pt x="4437" y="33"/>
                  </a:lnTo>
                  <a:lnTo>
                    <a:pt x="4478" y="33"/>
                  </a:lnTo>
                  <a:lnTo>
                    <a:pt x="4562" y="33"/>
                  </a:lnTo>
                  <a:lnTo>
                    <a:pt x="4624" y="33"/>
                  </a:lnTo>
                  <a:lnTo>
                    <a:pt x="4687" y="33"/>
                  </a:lnTo>
                  <a:lnTo>
                    <a:pt x="4709" y="33"/>
                  </a:lnTo>
                  <a:lnTo>
                    <a:pt x="4750" y="33"/>
                  </a:lnTo>
                  <a:lnTo>
                    <a:pt x="4792" y="33"/>
                  </a:lnTo>
                  <a:lnTo>
                    <a:pt x="4834" y="33"/>
                  </a:lnTo>
                  <a:lnTo>
                    <a:pt x="4896" y="33"/>
                  </a:lnTo>
                  <a:lnTo>
                    <a:pt x="4928" y="33"/>
                  </a:lnTo>
                  <a:lnTo>
                    <a:pt x="5000" y="33"/>
                  </a:lnTo>
                  <a:lnTo>
                    <a:pt x="5074" y="33"/>
                  </a:lnTo>
                  <a:lnTo>
                    <a:pt x="5147" y="33"/>
                  </a:lnTo>
                  <a:lnTo>
                    <a:pt x="5178" y="33"/>
                  </a:lnTo>
                  <a:lnTo>
                    <a:pt x="5220" y="50"/>
                  </a:lnTo>
                  <a:lnTo>
                    <a:pt x="5199" y="76"/>
                  </a:lnTo>
                  <a:lnTo>
                    <a:pt x="5115" y="76"/>
                  </a:lnTo>
                  <a:lnTo>
                    <a:pt x="5084" y="76"/>
                  </a:lnTo>
                  <a:lnTo>
                    <a:pt x="5000" y="67"/>
                  </a:lnTo>
                  <a:lnTo>
                    <a:pt x="4938" y="67"/>
                  </a:lnTo>
                  <a:lnTo>
                    <a:pt x="4906" y="67"/>
                  </a:lnTo>
                  <a:lnTo>
                    <a:pt x="4864" y="67"/>
                  </a:lnTo>
                  <a:lnTo>
                    <a:pt x="4792" y="67"/>
                  </a:lnTo>
                  <a:lnTo>
                    <a:pt x="4719" y="67"/>
                  </a:lnTo>
                  <a:lnTo>
                    <a:pt x="4687" y="67"/>
                  </a:lnTo>
                  <a:lnTo>
                    <a:pt x="4624" y="67"/>
                  </a:lnTo>
                  <a:lnTo>
                    <a:pt x="4583" y="67"/>
                  </a:lnTo>
                  <a:lnTo>
                    <a:pt x="4499" y="76"/>
                  </a:lnTo>
                  <a:lnTo>
                    <a:pt x="4468" y="84"/>
                  </a:lnTo>
                  <a:lnTo>
                    <a:pt x="4426" y="84"/>
                  </a:lnTo>
                  <a:lnTo>
                    <a:pt x="4395" y="84"/>
                  </a:lnTo>
                  <a:lnTo>
                    <a:pt x="4312" y="84"/>
                  </a:lnTo>
                  <a:lnTo>
                    <a:pt x="4248" y="84"/>
                  </a:lnTo>
                  <a:lnTo>
                    <a:pt x="4218" y="84"/>
                  </a:lnTo>
                  <a:lnTo>
                    <a:pt x="4113" y="76"/>
                  </a:lnTo>
                  <a:lnTo>
                    <a:pt x="4029" y="76"/>
                  </a:lnTo>
                  <a:lnTo>
                    <a:pt x="3946" y="67"/>
                  </a:lnTo>
                  <a:lnTo>
                    <a:pt x="3883" y="59"/>
                  </a:lnTo>
                  <a:lnTo>
                    <a:pt x="3852" y="59"/>
                  </a:lnTo>
                  <a:lnTo>
                    <a:pt x="3821" y="59"/>
                  </a:lnTo>
                  <a:lnTo>
                    <a:pt x="3789" y="59"/>
                  </a:lnTo>
                  <a:lnTo>
                    <a:pt x="3758" y="59"/>
                  </a:lnTo>
                  <a:lnTo>
                    <a:pt x="3675" y="59"/>
                  </a:lnTo>
                  <a:lnTo>
                    <a:pt x="3612" y="59"/>
                  </a:lnTo>
                  <a:lnTo>
                    <a:pt x="3549" y="59"/>
                  </a:lnTo>
                  <a:lnTo>
                    <a:pt x="3518" y="59"/>
                  </a:lnTo>
                  <a:lnTo>
                    <a:pt x="3486" y="76"/>
                  </a:lnTo>
                  <a:lnTo>
                    <a:pt x="3456" y="76"/>
                  </a:lnTo>
                  <a:lnTo>
                    <a:pt x="3393" y="84"/>
                  </a:lnTo>
                  <a:lnTo>
                    <a:pt x="3320" y="84"/>
                  </a:lnTo>
                  <a:lnTo>
                    <a:pt x="3236" y="84"/>
                  </a:lnTo>
                  <a:lnTo>
                    <a:pt x="3205" y="84"/>
                  </a:lnTo>
                  <a:lnTo>
                    <a:pt x="3121" y="84"/>
                  </a:lnTo>
                  <a:lnTo>
                    <a:pt x="3059" y="84"/>
                  </a:lnTo>
                  <a:lnTo>
                    <a:pt x="3027" y="84"/>
                  </a:lnTo>
                  <a:lnTo>
                    <a:pt x="2944" y="76"/>
                  </a:lnTo>
                  <a:lnTo>
                    <a:pt x="2860" y="76"/>
                  </a:lnTo>
                  <a:lnTo>
                    <a:pt x="2798" y="76"/>
                  </a:lnTo>
                  <a:lnTo>
                    <a:pt x="2714" y="76"/>
                  </a:lnTo>
                  <a:lnTo>
                    <a:pt x="2651" y="84"/>
                  </a:lnTo>
                  <a:lnTo>
                    <a:pt x="2589" y="84"/>
                  </a:lnTo>
                  <a:lnTo>
                    <a:pt x="2505" y="84"/>
                  </a:lnTo>
                  <a:lnTo>
                    <a:pt x="2474" y="76"/>
                  </a:lnTo>
                  <a:lnTo>
                    <a:pt x="2432" y="76"/>
                  </a:lnTo>
                  <a:lnTo>
                    <a:pt x="2360" y="76"/>
                  </a:lnTo>
                  <a:lnTo>
                    <a:pt x="2318" y="76"/>
                  </a:lnTo>
                  <a:lnTo>
                    <a:pt x="2254" y="76"/>
                  </a:lnTo>
                  <a:lnTo>
                    <a:pt x="2192" y="76"/>
                  </a:lnTo>
                  <a:lnTo>
                    <a:pt x="2150" y="76"/>
                  </a:lnTo>
                  <a:lnTo>
                    <a:pt x="2088" y="76"/>
                  </a:lnTo>
                  <a:lnTo>
                    <a:pt x="2056" y="67"/>
                  </a:lnTo>
                  <a:lnTo>
                    <a:pt x="2014" y="59"/>
                  </a:lnTo>
                  <a:lnTo>
                    <a:pt x="1973" y="59"/>
                  </a:lnTo>
                  <a:lnTo>
                    <a:pt x="1889" y="59"/>
                  </a:lnTo>
                  <a:lnTo>
                    <a:pt x="1859" y="59"/>
                  </a:lnTo>
                  <a:lnTo>
                    <a:pt x="1837" y="67"/>
                  </a:lnTo>
                  <a:lnTo>
                    <a:pt x="1774" y="76"/>
                  </a:lnTo>
                  <a:lnTo>
                    <a:pt x="1743" y="84"/>
                  </a:lnTo>
                  <a:lnTo>
                    <a:pt x="1660" y="76"/>
                  </a:lnTo>
                  <a:lnTo>
                    <a:pt x="1628" y="76"/>
                  </a:lnTo>
                  <a:lnTo>
                    <a:pt x="1545" y="84"/>
                  </a:lnTo>
                  <a:lnTo>
                    <a:pt x="1513" y="84"/>
                  </a:lnTo>
                  <a:lnTo>
                    <a:pt x="1483" y="84"/>
                  </a:lnTo>
                  <a:lnTo>
                    <a:pt x="1451" y="59"/>
                  </a:lnTo>
                  <a:lnTo>
                    <a:pt x="1409" y="50"/>
                  </a:lnTo>
                  <a:lnTo>
                    <a:pt x="1336" y="50"/>
                  </a:lnTo>
                  <a:lnTo>
                    <a:pt x="1294" y="59"/>
                  </a:lnTo>
                  <a:lnTo>
                    <a:pt x="1211" y="59"/>
                  </a:lnTo>
                  <a:lnTo>
                    <a:pt x="1127" y="67"/>
                  </a:lnTo>
                  <a:lnTo>
                    <a:pt x="1023" y="67"/>
                  </a:lnTo>
                  <a:lnTo>
                    <a:pt x="960" y="67"/>
                  </a:lnTo>
                  <a:lnTo>
                    <a:pt x="876" y="67"/>
                  </a:lnTo>
                  <a:lnTo>
                    <a:pt x="846" y="67"/>
                  </a:lnTo>
                  <a:lnTo>
                    <a:pt x="762" y="76"/>
                  </a:lnTo>
                  <a:lnTo>
                    <a:pt x="699" y="76"/>
                  </a:lnTo>
                  <a:lnTo>
                    <a:pt x="668" y="59"/>
                  </a:lnTo>
                  <a:lnTo>
                    <a:pt x="636" y="42"/>
                  </a:lnTo>
                  <a:lnTo>
                    <a:pt x="606" y="42"/>
                  </a:lnTo>
                  <a:lnTo>
                    <a:pt x="543" y="42"/>
                  </a:lnTo>
                  <a:lnTo>
                    <a:pt x="521" y="42"/>
                  </a:lnTo>
                  <a:lnTo>
                    <a:pt x="491" y="50"/>
                  </a:lnTo>
                  <a:lnTo>
                    <a:pt x="459" y="50"/>
                  </a:lnTo>
                  <a:lnTo>
                    <a:pt x="428" y="50"/>
                  </a:lnTo>
                  <a:lnTo>
                    <a:pt x="324" y="50"/>
                  </a:lnTo>
                  <a:lnTo>
                    <a:pt x="292" y="50"/>
                  </a:lnTo>
                  <a:lnTo>
                    <a:pt x="250" y="50"/>
                  </a:lnTo>
                  <a:lnTo>
                    <a:pt x="219" y="50"/>
                  </a:lnTo>
                  <a:lnTo>
                    <a:pt x="135" y="50"/>
                  </a:lnTo>
                  <a:lnTo>
                    <a:pt x="52" y="50"/>
                  </a:lnTo>
                  <a:lnTo>
                    <a:pt x="0" y="25"/>
                  </a:lnTo>
                  <a:lnTo>
                    <a:pt x="0" y="25"/>
                  </a:lnTo>
                </a:path>
              </a:pathLst>
            </a:cu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0720" y="2066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6188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900160" y="6232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32916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D606-800E-4405-B3D5-ADC8E01584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6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7.wmf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99"/>
                </a:solidFill>
                <a:latin typeface="Times New Roman"/>
              </a:rPr>
              <a:t>ДРЕВНЕЙШИЙ РИМ.</a:t>
            </a:r>
            <a:endParaRPr b="0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9360" y="161640"/>
            <a:ext cx="8004240" cy="6541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4.Рим в начале своей истории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980640"/>
            <a:ext cx="4402080" cy="5667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Римляне занимались земледелием и выра-щивали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шеницу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ячмен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виноград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л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В Риме развивалось животноводство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 римляне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разводи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коров и свине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коней и осл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6" descr="2"/>
          <p:cNvPicPr/>
          <p:nvPr/>
        </p:nvPicPr>
        <p:blipFill>
          <a:blip r:embed="rId2"/>
          <a:stretch/>
        </p:blipFill>
        <p:spPr>
          <a:xfrm>
            <a:off x="123840" y="1701720"/>
            <a:ext cx="4475160" cy="416412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3" dur="1" fill="hold"/>
                                  <p:tgtEl>
                                    <p:spTgt spid="15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98400" y="101160"/>
            <a:ext cx="7772400" cy="6541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4.Рим в начале своей истории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2280" y="763560"/>
            <a:ext cx="4454280" cy="59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Жители Рима были ис-куссными ремесленни- ками - кузнецами, тка-чами, гончарам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громного размаха дос-тигло хлебопечение- по всей Латинии были раз бросаны  мельницы и хлебные печ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Несколько древнейших мельниц сохранились до сих пор в рабочем состоян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6" descr="1"/>
          <p:cNvPicPr/>
          <p:nvPr/>
        </p:nvPicPr>
        <p:blipFill>
          <a:blip r:embed="rId2"/>
          <a:stretch/>
        </p:blipFill>
        <p:spPr>
          <a:xfrm>
            <a:off x="20520" y="1014480"/>
            <a:ext cx="454212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2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28120" y="235080"/>
            <a:ext cx="8107560" cy="8316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5.Система  управления в Древнем Риме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graphicFrame>
        <p:nvGraphicFramePr>
          <p:cNvPr id="164" name="Object 9"/>
          <p:cNvGraphicFramePr/>
          <p:nvPr/>
        </p:nvGraphicFramePr>
        <p:xfrm>
          <a:off x="752400" y="5924520"/>
          <a:ext cx="2908440" cy="64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924520"/>
                    <a:ext cx="290844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0"/>
          <p:cNvGraphicFramePr/>
          <p:nvPr/>
        </p:nvGraphicFramePr>
        <p:xfrm>
          <a:off x="770040" y="4956120"/>
          <a:ext cx="2871720" cy="731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040" y="4956120"/>
                    <a:ext cx="287172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Group 40"/>
          <p:cNvGrpSpPr/>
          <p:nvPr/>
        </p:nvGrpSpPr>
        <p:grpSpPr>
          <a:xfrm>
            <a:off x="0" y="4210200"/>
            <a:ext cx="4413240" cy="782640"/>
            <a:chOff x="0" y="4210200"/>
            <a:chExt cx="4413240" cy="782640"/>
          </a:xfrm>
        </p:grpSpPr>
        <p:graphicFrame>
          <p:nvGraphicFramePr>
            <p:cNvPr id="169" name="Object 11"/>
            <p:cNvGraphicFramePr/>
            <p:nvPr/>
          </p:nvGraphicFramePr>
          <p:xfrm>
            <a:off x="0" y="4210200"/>
            <a:ext cx="4413240" cy="52524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70" name="Object 1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210200"/>
                      <a:ext cx="4413240" cy="52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AutoShape 15"/>
            <p:cNvSpPr/>
            <p:nvPr/>
          </p:nvSpPr>
          <p:spPr>
            <a:xfrm>
              <a:off x="1673280" y="4583160"/>
              <a:ext cx="330120" cy="409680"/>
            </a:xfrm>
            <a:prstGeom prst="upArrow">
              <a:avLst>
                <a:gd name="adj1" fmla="val 50000"/>
                <a:gd name="adj2" fmla="val 31025"/>
              </a:avLst>
            </a:prstGeom>
            <a:solidFill>
              <a:srgbClr val="ffff99"/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72" name="AutoShape 16"/>
            <p:cNvSpPr/>
            <p:nvPr/>
          </p:nvSpPr>
          <p:spPr>
            <a:xfrm>
              <a:off x="2651040" y="4583160"/>
              <a:ext cx="330120" cy="409680"/>
            </a:xfrm>
            <a:prstGeom prst="upArrow">
              <a:avLst>
                <a:gd name="adj1" fmla="val 50000"/>
                <a:gd name="adj2" fmla="val 31025"/>
              </a:avLst>
            </a:prstGeom>
            <a:solidFill>
              <a:srgbClr val="ffff99"/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1368360" y="3319560"/>
            <a:ext cx="1851120" cy="915840"/>
            <a:chOff x="1368360" y="3319560"/>
            <a:chExt cx="1851120" cy="915840"/>
          </a:xfrm>
        </p:grpSpPr>
        <p:sp>
          <p:nvSpPr>
            <p:cNvPr id="174" name="Rectangle 17"/>
            <p:cNvSpPr/>
            <p:nvPr/>
          </p:nvSpPr>
          <p:spPr>
            <a:xfrm>
              <a:off x="1368360" y="3319560"/>
              <a:ext cx="1851120" cy="459720"/>
            </a:xfrm>
            <a:prstGeom prst="rect">
              <a:avLst/>
            </a:prstGeom>
            <a:solidFill>
              <a:srgbClr val="99ccff"/>
            </a:solidFill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Cyr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 Cyr"/>
                </a:rPr>
                <a:t>РОД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75" name="AutoShape 18"/>
            <p:cNvSpPr/>
            <p:nvPr/>
          </p:nvSpPr>
          <p:spPr>
            <a:xfrm>
              <a:off x="1494000" y="3732120"/>
              <a:ext cx="1587240" cy="503280"/>
            </a:xfrm>
            <a:prstGeom prst="upArrowCallout">
              <a:avLst>
                <a:gd name="adj1" fmla="val 78852"/>
                <a:gd name="adj2" fmla="val 78845"/>
                <a:gd name="adj3" fmla="val 16667"/>
                <a:gd name="adj4" fmla="val 66660"/>
              </a:avLst>
            </a:prstGeom>
            <a:solidFill>
              <a:srgbClr val="ffffff"/>
            </a:solidFill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76" name="Group 43"/>
          <p:cNvGrpSpPr/>
          <p:nvPr/>
        </p:nvGrpSpPr>
        <p:grpSpPr>
          <a:xfrm>
            <a:off x="0" y="1724040"/>
            <a:ext cx="2235240" cy="3085920"/>
            <a:chOff x="0" y="1724040"/>
            <a:chExt cx="2235240" cy="3085920"/>
          </a:xfrm>
        </p:grpSpPr>
        <p:graphicFrame>
          <p:nvGraphicFramePr>
            <p:cNvPr id="177" name="Object 14"/>
            <p:cNvGraphicFramePr/>
            <p:nvPr/>
          </p:nvGraphicFramePr>
          <p:xfrm>
            <a:off x="0" y="1724040"/>
            <a:ext cx="2235240" cy="119520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178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0" y="1724040"/>
                      <a:ext cx="2235240" cy="119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AutoShape 19"/>
            <p:cNvSpPr/>
            <p:nvPr/>
          </p:nvSpPr>
          <p:spPr>
            <a:xfrm>
              <a:off x="874800" y="2854440"/>
              <a:ext cx="434880" cy="1955520"/>
            </a:xfrm>
            <a:prstGeom prst="upArrow">
              <a:avLst>
                <a:gd name="adj1" fmla="val 50000"/>
                <a:gd name="adj2" fmla="val 112417"/>
              </a:avLst>
            </a:prstGeom>
            <a:solidFill>
              <a:srgbClr val="99ccff"/>
            </a:solidFill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80" name="Group 42"/>
          <p:cNvGrpSpPr/>
          <p:nvPr/>
        </p:nvGrpSpPr>
        <p:grpSpPr>
          <a:xfrm>
            <a:off x="2314440" y="2484360"/>
            <a:ext cx="1946520" cy="1195560"/>
            <a:chOff x="2314440" y="2484360"/>
            <a:chExt cx="1946520" cy="1195560"/>
          </a:xfrm>
        </p:grpSpPr>
        <p:graphicFrame>
          <p:nvGraphicFramePr>
            <p:cNvPr id="181" name="Object 13"/>
            <p:cNvGraphicFramePr/>
            <p:nvPr/>
          </p:nvGraphicFramePr>
          <p:xfrm>
            <a:off x="2314440" y="2484360"/>
            <a:ext cx="1946520" cy="55080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182" name="Object 1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14440" y="2484360"/>
                      <a:ext cx="1946520" cy="55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AutoShape 20"/>
            <p:cNvSpPr/>
            <p:nvPr/>
          </p:nvSpPr>
          <p:spPr>
            <a:xfrm>
              <a:off x="2624040" y="2960640"/>
              <a:ext cx="486000" cy="719280"/>
            </a:xfrm>
            <a:prstGeom prst="upArrow">
              <a:avLst>
                <a:gd name="adj1" fmla="val 50000"/>
                <a:gd name="adj2" fmla="val 37000"/>
              </a:avLst>
            </a:prstGeom>
            <a:solidFill>
              <a:srgbClr val="00cccc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84" name="Group 29"/>
          <p:cNvGrpSpPr/>
          <p:nvPr/>
        </p:nvGrpSpPr>
        <p:grpSpPr>
          <a:xfrm>
            <a:off x="3603600" y="5738760"/>
            <a:ext cx="5175360" cy="966960"/>
            <a:chOff x="3603600" y="5738760"/>
            <a:chExt cx="5175360" cy="966960"/>
          </a:xfrm>
        </p:grpSpPr>
        <p:sp>
          <p:nvSpPr>
            <p:cNvPr id="185" name="Rectangle 21"/>
            <p:cNvSpPr/>
            <p:nvPr/>
          </p:nvSpPr>
          <p:spPr>
            <a:xfrm>
              <a:off x="4489560" y="5738760"/>
              <a:ext cx="4289400" cy="9669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Переселенцы из других областей Италии</a:t>
              </a:r>
              <a:endParaRPr b="0" lang="en-US" sz="28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86" name="AutoShape 24"/>
            <p:cNvSpPr/>
            <p:nvPr/>
          </p:nvSpPr>
          <p:spPr>
            <a:xfrm>
              <a:off x="3603600" y="599904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cc99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87" name="Group 31"/>
          <p:cNvGrpSpPr/>
          <p:nvPr/>
        </p:nvGrpSpPr>
        <p:grpSpPr>
          <a:xfrm>
            <a:off x="2490840" y="1325520"/>
            <a:ext cx="6288120" cy="966960"/>
            <a:chOff x="2490840" y="1325520"/>
            <a:chExt cx="6288120" cy="966960"/>
          </a:xfrm>
        </p:grpSpPr>
        <p:sp>
          <p:nvSpPr>
            <p:cNvPr id="188" name="Rectangle 23"/>
            <p:cNvSpPr/>
            <p:nvPr/>
          </p:nvSpPr>
          <p:spPr>
            <a:xfrm>
              <a:off x="4489560" y="1325520"/>
              <a:ext cx="4289400" cy="9669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Высший орган,    состоял из мужчин</a:t>
              </a:r>
              <a:endParaRPr b="0" lang="en-US" sz="28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89" name="AutoShape 27"/>
            <p:cNvSpPr/>
            <p:nvPr/>
          </p:nvSpPr>
          <p:spPr>
            <a:xfrm>
              <a:off x="2490840" y="1627200"/>
              <a:ext cx="1852560" cy="485640"/>
            </a:xfrm>
            <a:prstGeom prst="rightArrow">
              <a:avLst>
                <a:gd name="adj1" fmla="val 50000"/>
                <a:gd name="adj2" fmla="val 95367"/>
              </a:avLst>
            </a:prstGeom>
            <a:solidFill>
              <a:srgbClr val="cc99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90" name="Group 30"/>
          <p:cNvGrpSpPr/>
          <p:nvPr/>
        </p:nvGrpSpPr>
        <p:grpSpPr>
          <a:xfrm>
            <a:off x="3828600" y="2502720"/>
            <a:ext cx="4950360" cy="1259640"/>
            <a:chOff x="3828600" y="2502720"/>
            <a:chExt cx="4950360" cy="1259640"/>
          </a:xfrm>
        </p:grpSpPr>
        <p:sp>
          <p:nvSpPr>
            <p:cNvPr id="191" name="Rectangle 22"/>
            <p:cNvSpPr/>
            <p:nvPr/>
          </p:nvSpPr>
          <p:spPr>
            <a:xfrm>
              <a:off x="4489560" y="2795760"/>
              <a:ext cx="4289400" cy="966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Совет старейшин      родов</a:t>
              </a:r>
              <a:endParaRPr b="0" lang="en-US" sz="28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92" name="AutoShape 28"/>
            <p:cNvSpPr/>
            <p:nvPr/>
          </p:nvSpPr>
          <p:spPr>
            <a:xfrm rot="1387200">
              <a:off x="3884760" y="26748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cc99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93" name="Rectangle 34"/>
          <p:cNvSpPr/>
          <p:nvPr/>
        </p:nvSpPr>
        <p:spPr>
          <a:xfrm>
            <a:off x="447984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94" name="Rectangle 35"/>
          <p:cNvSpPr/>
          <p:nvPr/>
        </p:nvSpPr>
        <p:spPr>
          <a:xfrm>
            <a:off x="447984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195" name="Group 39"/>
          <p:cNvGrpSpPr/>
          <p:nvPr/>
        </p:nvGrpSpPr>
        <p:grpSpPr>
          <a:xfrm>
            <a:off x="3536640" y="4262400"/>
            <a:ext cx="5220000" cy="1143000"/>
            <a:chOff x="3536640" y="4262400"/>
            <a:chExt cx="5220000" cy="1143000"/>
          </a:xfrm>
        </p:grpSpPr>
        <p:sp>
          <p:nvSpPr>
            <p:cNvPr id="196" name="Rectangle 37"/>
            <p:cNvSpPr/>
            <p:nvPr/>
          </p:nvSpPr>
          <p:spPr>
            <a:xfrm>
              <a:off x="4467240" y="4262400"/>
              <a:ext cx="4289400" cy="96696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Потомки древнейших жителей Рима </a:t>
              </a:r>
              <a:endParaRPr b="0" lang="en-US" sz="28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97" name="AutoShape 38"/>
            <p:cNvSpPr/>
            <p:nvPr/>
          </p:nvSpPr>
          <p:spPr>
            <a:xfrm rot="20746200">
              <a:off x="3581280" y="48067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99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1880" y="334440"/>
            <a:ext cx="77724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ПЛАН УРОКА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1520" y="1731600"/>
            <a:ext cx="7900920" cy="4791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39"/>
                </a:solidFill>
                <a:latin typeface="Times New Roman"/>
              </a:rPr>
              <a:t>1.Географическое положение и природные условия Аппенинского полуостро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39"/>
                </a:solidFill>
                <a:latin typeface="Times New Roman"/>
              </a:rPr>
              <a:t>2.Этрус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39"/>
                </a:solidFill>
                <a:latin typeface="Times New Roman"/>
              </a:rPr>
              <a:t>3.Образование Рим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39"/>
                </a:solidFill>
                <a:latin typeface="Times New Roman"/>
              </a:rPr>
              <a:t>4.Рим в начале своей истор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39"/>
                </a:solidFill>
                <a:latin typeface="Times New Roman"/>
              </a:rPr>
              <a:t>5.Система   управления в Древнем Рим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10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Times New Roman"/>
              </a:rPr>
              <a:t>Задание на урок</a:t>
            </a:r>
            <a:r>
              <a:rPr b="1" lang="en-US" sz="4400" spc="-1" strike="noStrike" u="sng">
                <a:solidFill>
                  <a:srgbClr val="ff0066"/>
                </a:solidFill>
                <a:uFillTx/>
                <a:latin typeface="Times New Roman"/>
              </a:rPr>
              <a:t>: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8480" y="2813040"/>
            <a:ext cx="7772400" cy="2774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?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Древнеримское государство называют преемником традиций Древней Гре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ак вы думаете, почему это     случилось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8040" y="87120"/>
            <a:ext cx="8723520" cy="11430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Times New Roman"/>
              </a:rPr>
              <a:t>1.Географическое положение и природные условия Аппенинского полуострова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09560" y="1584000"/>
            <a:ext cx="4730760" cy="4676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Рассмотрите слай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? </a:t>
            </a:r>
            <a:r>
              <a:rPr b="1" lang="ru-RU" sz="2800" spc="-1" strike="noStrike">
                <a:solidFill>
                  <a:srgbClr val="393939"/>
                </a:solidFill>
                <a:latin typeface="Times New Roman"/>
              </a:rPr>
              <a:t>Опишите географичес-кое положение и при-родные условия Аппени-нского полуострова</a:t>
            </a: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?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Что общего между Аппе- нинами(где было распо- ложено Римское государ ство) и Балканами, где расположена Греци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7" descr="8"/>
          <p:cNvPicPr/>
          <p:nvPr/>
        </p:nvPicPr>
        <p:blipFill>
          <a:blip r:embed="rId2"/>
          <a:stretch/>
        </p:blipFill>
        <p:spPr>
          <a:xfrm>
            <a:off x="79200" y="1243080"/>
            <a:ext cx="4119840" cy="55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0840" y="334440"/>
            <a:ext cx="7772400" cy="11430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2.Этруски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12880" y="2066760"/>
            <a:ext cx="38098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Одним из самых загадочных народов в истории были древнейшие жители Аппенин-ЭТРУС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Историки до сих пор ведут спор - откуда они приш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Язык этрусков лишь отдаленно напоминает кавказские языки и не имеет других аналогов в Европ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962440" y="1828800"/>
            <a:ext cx="6043320" cy="462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Этруски одними из первых стали обрабатывать железо и делать из него орудия труда и оружие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Ученые находят железные боевые доспехи этрусков в захоронениях относящихся к 7 в. до н.э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Этруское войско было самым си-льным на Аппенинах и в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VII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в. до н.э. они подчинили себе прак-тически весь полуостров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115" name="Picture 7" descr="7"/>
          <p:cNvPicPr/>
          <p:nvPr/>
        </p:nvPicPr>
        <p:blipFill>
          <a:blip r:embed="rId3"/>
          <a:stretch/>
        </p:blipFill>
        <p:spPr>
          <a:xfrm>
            <a:off x="20520" y="1925640"/>
            <a:ext cx="295596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7880" y="82080"/>
            <a:ext cx="7772400" cy="65412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2.Этруски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50680"/>
            <a:ext cx="9144000" cy="141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Своеобразие этруссков проявлялось во всем, но более всего поражают их захоронения, имевшие причудливую форм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8" descr="6"/>
          <p:cNvPicPr/>
          <p:nvPr/>
        </p:nvPicPr>
        <p:blipFill>
          <a:blip r:embed="rId2"/>
          <a:stretch/>
        </p:blipFill>
        <p:spPr>
          <a:xfrm>
            <a:off x="0" y="231768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5"/>
          <p:cNvPicPr/>
          <p:nvPr/>
        </p:nvPicPr>
        <p:blipFill>
          <a:blip r:embed="rId3"/>
          <a:stretch/>
        </p:blipFill>
        <p:spPr>
          <a:xfrm>
            <a:off x="0" y="4737240"/>
            <a:ext cx="91440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6320" y="379080"/>
            <a:ext cx="7772400" cy="6015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</a:rPr>
              <a:t>3.Образование Рима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76280" y="1369800"/>
            <a:ext cx="4916520" cy="4576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Легенду об основании Рима большинство современ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ных историков считают вымысл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939"/>
                </a:solidFill>
                <a:latin typeface="Times New Roman"/>
              </a:rPr>
              <a:t>?   Внимательно прочтите текст легенды (с.204) и ответьте на вопрос</a:t>
            </a:r>
            <a:r>
              <a:rPr b="1" lang="en-US" sz="2800" spc="-1" strike="noStrike">
                <a:solidFill>
                  <a:srgbClr val="39393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акой смысл могли вкла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дывать в нее древние жители города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7" descr="16"/>
          <p:cNvPicPr/>
          <p:nvPr/>
        </p:nvPicPr>
        <p:blipFill>
          <a:blip r:embed="rId2"/>
          <a:stretch/>
        </p:blipFill>
        <p:spPr>
          <a:xfrm>
            <a:off x="127080" y="1558800"/>
            <a:ext cx="3914640" cy="425304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1" dur="1" fill="hold"/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4" descr="4"/>
          <p:cNvPicPr/>
          <p:nvPr/>
        </p:nvPicPr>
        <p:blipFill>
          <a:blip r:embed="rId1"/>
          <a:stretch/>
        </p:blipFill>
        <p:spPr>
          <a:xfrm>
            <a:off x="228600" y="1065240"/>
            <a:ext cx="4154400" cy="5495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3720" y="163440"/>
            <a:ext cx="7772400" cy="7048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4.Рим в начале своей истории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09640" y="1087560"/>
            <a:ext cx="4606920" cy="5479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Легендарной датой осно вания Рима является 753 год до н.э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днако поселения на месте Рима существова-ли задолго до этой да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На левом берегу Тибра на возвышенных холмах существовали по-селения, объединивши -еся  впоследствии в один гор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1828800" y="3476520"/>
            <a:ext cx="423720" cy="476280"/>
          </a:xfrm>
          <a:custGeom>
            <a:avLst/>
            <a:gdLst>
              <a:gd name="textAreaLeft" fmla="*/ 96480 w 423720"/>
              <a:gd name="textAreaRight" fmla="*/ 327240 w 423720"/>
              <a:gd name="textAreaTop" fmla="*/ 108720 h 476280"/>
              <a:gd name="textAreaBottom" fmla="*/ 36756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2212920" y="3782880"/>
            <a:ext cx="424080" cy="476280"/>
          </a:xfrm>
          <a:custGeom>
            <a:avLst/>
            <a:gdLst>
              <a:gd name="textAreaLeft" fmla="*/ 96840 w 424080"/>
              <a:gd name="textAreaRight" fmla="*/ 327240 w 424080"/>
              <a:gd name="textAreaTop" fmla="*/ 108720 h 476280"/>
              <a:gd name="textAreaBottom" fmla="*/ 36756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2700360" y="4141800"/>
            <a:ext cx="423720" cy="476280"/>
          </a:xfrm>
          <a:custGeom>
            <a:avLst/>
            <a:gdLst>
              <a:gd name="textAreaLeft" fmla="*/ 96480 w 423720"/>
              <a:gd name="textAreaRight" fmla="*/ 327240 w 423720"/>
              <a:gd name="textAreaTop" fmla="*/ 108720 h 476280"/>
              <a:gd name="textAreaBottom" fmla="*/ 36756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1771560" y="4681440"/>
            <a:ext cx="424080" cy="476280"/>
          </a:xfrm>
          <a:custGeom>
            <a:avLst/>
            <a:gdLst>
              <a:gd name="textAreaLeft" fmla="*/ 96840 w 424080"/>
              <a:gd name="textAreaRight" fmla="*/ 327240 w 424080"/>
              <a:gd name="textAreaTop" fmla="*/ 108720 h 476280"/>
              <a:gd name="textAreaBottom" fmla="*/ 36756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2876400" y="3313080"/>
            <a:ext cx="424080" cy="476280"/>
          </a:xfrm>
          <a:custGeom>
            <a:avLst/>
            <a:gdLst>
              <a:gd name="textAreaLeft" fmla="*/ 96840 w 424080"/>
              <a:gd name="textAreaRight" fmla="*/ 327240 w 424080"/>
              <a:gd name="textAreaTop" fmla="*/ 108720 h 476280"/>
              <a:gd name="textAreaBottom" fmla="*/ 36756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1" name="AutoShape 10"/>
          <p:cNvSpPr/>
          <p:nvPr/>
        </p:nvSpPr>
        <p:spPr>
          <a:xfrm rot="1324800">
            <a:off x="2617560" y="2573280"/>
            <a:ext cx="546120" cy="839880"/>
          </a:xfrm>
          <a:custGeom>
            <a:avLst/>
            <a:gdLst>
              <a:gd name="textAreaLeft" fmla="*/ 124560 w 546120"/>
              <a:gd name="textAreaRight" fmla="*/ 421560 w 546120"/>
              <a:gd name="textAreaTop" fmla="*/ 191520 h 839880"/>
              <a:gd name="textAreaBottom" fmla="*/ 648360 h 839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2201760" y="2614680"/>
            <a:ext cx="424080" cy="476280"/>
          </a:xfrm>
          <a:custGeom>
            <a:avLst/>
            <a:gdLst>
              <a:gd name="textAreaLeft" fmla="*/ 96840 w 424080"/>
              <a:gd name="textAreaRight" fmla="*/ 327240 w 424080"/>
              <a:gd name="textAreaTop" fmla="*/ 108720 h 476280"/>
              <a:gd name="textAreaBottom" fmla="*/ 367560 h 47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133" name="Group 31"/>
          <p:cNvGrpSpPr/>
          <p:nvPr/>
        </p:nvGrpSpPr>
        <p:grpSpPr>
          <a:xfrm>
            <a:off x="0" y="2619360"/>
            <a:ext cx="2343240" cy="459720"/>
            <a:chOff x="0" y="2619360"/>
            <a:chExt cx="2343240" cy="459720"/>
          </a:xfrm>
        </p:grpSpPr>
        <p:sp>
          <p:nvSpPr>
            <p:cNvPr id="134" name="Text Box 13"/>
            <p:cNvSpPr/>
            <p:nvPr/>
          </p:nvSpPr>
          <p:spPr>
            <a:xfrm>
              <a:off x="0" y="2619360"/>
              <a:ext cx="177336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 Cyr"/>
                </a:rPr>
                <a:t>Квиринал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35" name="AutoShape 19"/>
            <p:cNvSpPr/>
            <p:nvPr/>
          </p:nvSpPr>
          <p:spPr>
            <a:xfrm>
              <a:off x="1623960" y="2755800"/>
              <a:ext cx="719280" cy="279360"/>
            </a:xfrm>
            <a:prstGeom prst="rightArrow">
              <a:avLst>
                <a:gd name="adj1" fmla="val 50000"/>
                <a:gd name="adj2" fmla="val 64369"/>
              </a:avLst>
            </a:prstGeom>
            <a:solidFill>
              <a:srgbClr val="cc9900"/>
            </a:solidFill>
            <a:ln w="57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36" name="Group 32"/>
          <p:cNvGrpSpPr/>
          <p:nvPr/>
        </p:nvGrpSpPr>
        <p:grpSpPr>
          <a:xfrm>
            <a:off x="2463840" y="2021040"/>
            <a:ext cx="1773360" cy="1204920"/>
            <a:chOff x="2463840" y="2021040"/>
            <a:chExt cx="1773360" cy="1204920"/>
          </a:xfrm>
        </p:grpSpPr>
        <p:sp>
          <p:nvSpPr>
            <p:cNvPr id="137" name="Text Box 16"/>
            <p:cNvSpPr/>
            <p:nvPr/>
          </p:nvSpPr>
          <p:spPr>
            <a:xfrm>
              <a:off x="2463840" y="2021040"/>
              <a:ext cx="177336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 Cyr"/>
                </a:rPr>
                <a:t>Виминал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38" name="AutoShape 20"/>
            <p:cNvSpPr/>
            <p:nvPr/>
          </p:nvSpPr>
          <p:spPr>
            <a:xfrm rot="5400000">
              <a:off x="2499480" y="2726640"/>
              <a:ext cx="719280" cy="279360"/>
            </a:xfrm>
            <a:prstGeom prst="rightArrow">
              <a:avLst>
                <a:gd name="adj1" fmla="val 50000"/>
                <a:gd name="adj2" fmla="val 64369"/>
              </a:avLst>
            </a:prstGeom>
            <a:solidFill>
              <a:srgbClr val="cc9900"/>
            </a:solidFill>
            <a:ln w="57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39" name="Group 30"/>
          <p:cNvGrpSpPr/>
          <p:nvPr/>
        </p:nvGrpSpPr>
        <p:grpSpPr>
          <a:xfrm>
            <a:off x="0" y="3213000"/>
            <a:ext cx="1981080" cy="617760"/>
            <a:chOff x="0" y="3213000"/>
            <a:chExt cx="1981080" cy="617760"/>
          </a:xfrm>
        </p:grpSpPr>
        <p:sp>
          <p:nvSpPr>
            <p:cNvPr id="140" name="Text Box 12"/>
            <p:cNvSpPr/>
            <p:nvPr/>
          </p:nvSpPr>
          <p:spPr>
            <a:xfrm>
              <a:off x="0" y="3213000"/>
              <a:ext cx="177336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 Cyr"/>
                </a:rPr>
                <a:t>Капитолий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41" name="AutoShape 21"/>
            <p:cNvSpPr/>
            <p:nvPr/>
          </p:nvSpPr>
          <p:spPr>
            <a:xfrm>
              <a:off x="1262160" y="3551400"/>
              <a:ext cx="718920" cy="279360"/>
            </a:xfrm>
            <a:prstGeom prst="rightArrow">
              <a:avLst>
                <a:gd name="adj1" fmla="val 50000"/>
                <a:gd name="adj2" fmla="val 64336"/>
              </a:avLst>
            </a:prstGeom>
            <a:solidFill>
              <a:srgbClr val="cc9900"/>
            </a:solidFill>
            <a:ln w="57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42" name="Group 26"/>
          <p:cNvGrpSpPr/>
          <p:nvPr/>
        </p:nvGrpSpPr>
        <p:grpSpPr>
          <a:xfrm>
            <a:off x="0" y="4858920"/>
            <a:ext cx="2092320" cy="752040"/>
            <a:chOff x="0" y="4858920"/>
            <a:chExt cx="2092320" cy="752040"/>
          </a:xfrm>
        </p:grpSpPr>
        <p:sp>
          <p:nvSpPr>
            <p:cNvPr id="143" name="Text Box 18"/>
            <p:cNvSpPr/>
            <p:nvPr/>
          </p:nvSpPr>
          <p:spPr>
            <a:xfrm>
              <a:off x="0" y="5106960"/>
              <a:ext cx="177336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 Cyr"/>
                </a:rPr>
                <a:t>Авентин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44" name="AutoShape 22"/>
            <p:cNvSpPr/>
            <p:nvPr/>
          </p:nvSpPr>
          <p:spPr>
            <a:xfrm rot="18246600">
              <a:off x="1415160" y="5095080"/>
              <a:ext cx="719280" cy="279360"/>
            </a:xfrm>
            <a:prstGeom prst="rightArrow">
              <a:avLst>
                <a:gd name="adj1" fmla="val 50000"/>
                <a:gd name="adj2" fmla="val 64369"/>
              </a:avLst>
            </a:prstGeom>
            <a:solidFill>
              <a:srgbClr val="cc9900"/>
            </a:solidFill>
            <a:ln w="57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45" name="Group 28"/>
          <p:cNvGrpSpPr/>
          <p:nvPr/>
        </p:nvGrpSpPr>
        <p:grpSpPr>
          <a:xfrm>
            <a:off x="0" y="3960360"/>
            <a:ext cx="2392560" cy="533160"/>
            <a:chOff x="0" y="3960360"/>
            <a:chExt cx="2392560" cy="533160"/>
          </a:xfrm>
        </p:grpSpPr>
        <p:sp>
          <p:nvSpPr>
            <p:cNvPr id="146" name="Text Box 14"/>
            <p:cNvSpPr/>
            <p:nvPr/>
          </p:nvSpPr>
          <p:spPr>
            <a:xfrm>
              <a:off x="0" y="4033800"/>
              <a:ext cx="177336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 Cyr"/>
                </a:rPr>
                <a:t>Палатин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 rot="20487600">
              <a:off x="1647360" y="4067280"/>
              <a:ext cx="719280" cy="279360"/>
            </a:xfrm>
            <a:prstGeom prst="rightArrow">
              <a:avLst>
                <a:gd name="adj1" fmla="val 50000"/>
                <a:gd name="adj2" fmla="val 64369"/>
              </a:avLst>
            </a:prstGeom>
            <a:solidFill>
              <a:srgbClr val="cc9900"/>
            </a:solidFill>
            <a:ln w="57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48" name="Group 27"/>
          <p:cNvGrpSpPr/>
          <p:nvPr/>
        </p:nvGrpSpPr>
        <p:grpSpPr>
          <a:xfrm>
            <a:off x="2409840" y="4386240"/>
            <a:ext cx="1773360" cy="1131120"/>
            <a:chOff x="2409840" y="4386240"/>
            <a:chExt cx="1773360" cy="1131120"/>
          </a:xfrm>
        </p:grpSpPr>
        <p:sp>
          <p:nvSpPr>
            <p:cNvPr id="149" name="Text Box 17"/>
            <p:cNvSpPr/>
            <p:nvPr/>
          </p:nvSpPr>
          <p:spPr>
            <a:xfrm>
              <a:off x="2409840" y="5057640"/>
              <a:ext cx="177336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 Cyr"/>
                </a:rPr>
                <a:t>Целий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50" name="AutoShape 24"/>
            <p:cNvSpPr/>
            <p:nvPr/>
          </p:nvSpPr>
          <p:spPr>
            <a:xfrm rot="16200000">
              <a:off x="2577240" y="4606200"/>
              <a:ext cx="719280" cy="279360"/>
            </a:xfrm>
            <a:prstGeom prst="rightArrow">
              <a:avLst>
                <a:gd name="adj1" fmla="val 50000"/>
                <a:gd name="adj2" fmla="val 64369"/>
              </a:avLst>
            </a:prstGeom>
            <a:solidFill>
              <a:srgbClr val="cc9900"/>
            </a:solidFill>
            <a:ln w="57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grpSp>
        <p:nvGrpSpPr>
          <p:cNvPr id="151" name="Group 29"/>
          <p:cNvGrpSpPr/>
          <p:nvPr/>
        </p:nvGrpSpPr>
        <p:grpSpPr>
          <a:xfrm>
            <a:off x="2722680" y="3445560"/>
            <a:ext cx="1773000" cy="709920"/>
            <a:chOff x="2722680" y="3445560"/>
            <a:chExt cx="1773000" cy="709920"/>
          </a:xfrm>
        </p:grpSpPr>
        <p:sp>
          <p:nvSpPr>
            <p:cNvPr id="152" name="Text Box 15"/>
            <p:cNvSpPr/>
            <p:nvPr/>
          </p:nvSpPr>
          <p:spPr>
            <a:xfrm>
              <a:off x="2722680" y="3695760"/>
              <a:ext cx="177300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 Cyr"/>
                </a:rPr>
                <a:t>Эсквилин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53" name="AutoShape 25"/>
            <p:cNvSpPr/>
            <p:nvPr/>
          </p:nvSpPr>
          <p:spPr>
            <a:xfrm flipH="1" rot="796800">
              <a:off x="3115440" y="3524400"/>
              <a:ext cx="719280" cy="279360"/>
            </a:xfrm>
            <a:prstGeom prst="rightArrow">
              <a:avLst>
                <a:gd name="adj1" fmla="val 50000"/>
                <a:gd name="adj2" fmla="val 64369"/>
              </a:avLst>
            </a:prstGeom>
            <a:solidFill>
              <a:srgbClr val="cc9900"/>
            </a:solidFill>
            <a:ln w="57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3200" y="101520"/>
            <a:ext cx="7772400" cy="7048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4.Рим в начале своей истории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36640" y="965160"/>
            <a:ext cx="4606920" cy="57895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99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Древнейшие  римляне жили в примитивных домах из ивовых прутьев обмазанных глин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Рядом находились сад и огород, а за пределами города-поля и пастбищ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В результате постояных войн с соседними города ми римляне расширяли подвластную террито-р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7" descr="3"/>
          <p:cNvPicPr/>
          <p:nvPr/>
        </p:nvPicPr>
        <p:blipFill>
          <a:blip r:embed="rId2"/>
          <a:stretch/>
        </p:blipFill>
        <p:spPr>
          <a:xfrm>
            <a:off x="82440" y="938160"/>
            <a:ext cx="438804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8:57:29Z</dcterms:created>
  <dc:creator>ЧЕРНОВ АЛЕКСЕЙ</dc:creator>
  <dc:description/>
  <dc:language>en-US</dc:language>
  <cp:lastModifiedBy>Коля</cp:lastModifiedBy>
  <dcterms:modified xsi:type="dcterms:W3CDTF">2013-09-10T11:18:20Z</dcterms:modified>
  <cp:revision>28</cp:revision>
  <dc:subject/>
  <dc:title>Заголовок слайда отсутствует</dc:title>
</cp:coreProperties>
</file>