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287-0CDC-4D89-8A01-3F24CAC8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31B5-C47B-4CD6-8CD7-01EDB54F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671-596A-4E5E-9F4D-6344F253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A5A-DCF3-497D-8200-A5041017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5FD2-D516-469C-B541-DA2504B4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A7F9-4FEA-4C78-AC73-88490A88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9AF5-696A-44C8-820F-F51269E4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C3C1-5C64-4847-B853-E5C30F79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C432-A183-4C9B-8280-08EEDFC7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D19C-759C-4D1F-AFAF-5E8E42CF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1D42-2BC2-49FB-B125-F89967C0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ABF-2737-42BE-B52A-DCF920E1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91CA-4DA5-4BCD-A99F-F6C8203A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4900-E723-44C9-B2F9-755C2797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1B72-3A19-4245-8BBA-568A6928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8291-A37E-44E5-8134-6685F55F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AB25-AAD6-47A4-8D93-8BF86FB2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0D8F-0F89-4F5C-B9A9-9ED4F7D7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554-86AA-4AFD-B370-3505B1F9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3587-2A3B-4DCF-BC7E-91436E2C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E07-FED9-4C9C-A7C2-ADBCC066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D24-5EB3-4CE2-984A-9296CC44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E4F-9090-4D13-BB96-CA62C90C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475B-7B8C-4332-B31C-70CA5091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219240" y="1622520"/>
            <a:ext cx="8800920" cy="5045040"/>
            <a:chOff x="219240" y="1622520"/>
            <a:chExt cx="8800920" cy="5045040"/>
          </a:xfrm>
        </p:grpSpPr>
        <p:grpSp>
          <p:nvGrpSpPr>
            <p:cNvPr id="1" name="Group 4"/>
            <p:cNvGrpSpPr/>
            <p:nvPr/>
          </p:nvGrpSpPr>
          <p:grpSpPr>
            <a:xfrm>
              <a:off x="219240" y="1622520"/>
              <a:ext cx="8305560" cy="150840"/>
              <a:chOff x="219240" y="1622520"/>
              <a:chExt cx="8305560" cy="150840"/>
            </a:xfrm>
          </p:grpSpPr>
          <p:sp>
            <p:nvSpPr>
              <p:cNvPr id="2" name="Freeform 2"/>
              <p:cNvSpPr/>
              <p:nvPr/>
            </p:nvSpPr>
            <p:spPr>
              <a:xfrm>
                <a:off x="219240" y="1638360"/>
                <a:ext cx="8288280" cy="135000"/>
              </a:xfrm>
              <a:custGeom>
                <a:avLst/>
                <a:gdLst>
                  <a:gd name="textAreaLeft" fmla="*/ 0 w 8288280"/>
                  <a:gd name="textAreaRight" fmla="*/ 8288640 w 82882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8f8f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" name="Freeform 3"/>
              <p:cNvSpPr/>
              <p:nvPr/>
            </p:nvSpPr>
            <p:spPr>
              <a:xfrm>
                <a:off x="236520" y="1622520"/>
                <a:ext cx="8288280" cy="135000"/>
              </a:xfrm>
              <a:custGeom>
                <a:avLst/>
                <a:gdLst>
                  <a:gd name="textAreaLeft" fmla="*/ 0 w 8288280"/>
                  <a:gd name="textAreaRight" fmla="*/ 8288640 w 82882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grpSp>
          <p:nvGrpSpPr>
            <p:cNvPr id="4" name="Group 19"/>
            <p:cNvGrpSpPr/>
            <p:nvPr/>
          </p:nvGrpSpPr>
          <p:grpSpPr>
            <a:xfrm>
              <a:off x="8408880" y="5302080"/>
              <a:ext cx="611280" cy="1365480"/>
              <a:chOff x="8408880" y="5302080"/>
              <a:chExt cx="611280" cy="1365480"/>
            </a:xfrm>
          </p:grpSpPr>
          <p:grpSp>
            <p:nvGrpSpPr>
              <p:cNvPr id="5" name="Group 11"/>
              <p:cNvGrpSpPr/>
              <p:nvPr/>
            </p:nvGrpSpPr>
            <p:grpSpPr>
              <a:xfrm>
                <a:off x="8415360" y="5319360"/>
                <a:ext cx="604800" cy="1348200"/>
                <a:chOff x="8415360" y="5319360"/>
                <a:chExt cx="604800" cy="1348200"/>
              </a:xfrm>
            </p:grpSpPr>
            <p:sp>
              <p:nvSpPr>
                <p:cNvPr id="6" name="Freeform 5"/>
                <p:cNvSpPr/>
                <p:nvPr/>
              </p:nvSpPr>
              <p:spPr>
                <a:xfrm>
                  <a:off x="8415360" y="5662440"/>
                  <a:ext cx="536400" cy="1005120"/>
                </a:xfrm>
                <a:custGeom>
                  <a:avLst/>
                  <a:gdLst>
                    <a:gd name="textAreaLeft" fmla="*/ 0 w 536400"/>
                    <a:gd name="textAreaRight" fmla="*/ 536760 w 536400"/>
                    <a:gd name="textAreaTop" fmla="*/ 0 h 1005120"/>
                    <a:gd name="textAreaBottom" fmla="*/ 1005480 h 1005120"/>
                  </a:gdLst>
                  <a:ahLst/>
                  <a:rect l="textAreaLeft" t="textAreaTop" r="textAreaRight" b="textAreaBottom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7" name="Oval 6"/>
                <p:cNvSpPr/>
                <p:nvPr/>
              </p:nvSpPr>
              <p:spPr>
                <a:xfrm rot="705000">
                  <a:off x="8577360" y="5331960"/>
                  <a:ext cx="158760" cy="311400"/>
                </a:xfrm>
                <a:prstGeom prst="ellipse">
                  <a:avLst/>
                </a:pr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8" name="Freeform 7"/>
                <p:cNvSpPr/>
                <p:nvPr/>
              </p:nvSpPr>
              <p:spPr>
                <a:xfrm>
                  <a:off x="8753400" y="5448240"/>
                  <a:ext cx="85680" cy="214200"/>
                </a:xfrm>
                <a:custGeom>
                  <a:avLst/>
                  <a:gdLst>
                    <a:gd name="textAreaLeft" fmla="*/ 0 w 85680"/>
                    <a:gd name="textAreaRight" fmla="*/ 85680 w 8568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9" name="Freeform 8"/>
                <p:cNvSpPr/>
                <p:nvPr/>
              </p:nvSpPr>
              <p:spPr>
                <a:xfrm>
                  <a:off x="8829720" y="5565600"/>
                  <a:ext cx="92160" cy="16992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69920"/>
                    <a:gd name="textAreaBottom" fmla="*/ 170280 h 169920"/>
                  </a:gdLst>
                  <a:ahLst/>
                  <a:rect l="textAreaLeft" t="textAreaTop" r="textAreaRight" b="textAreaBottom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0" name="Freeform 9"/>
                <p:cNvSpPr/>
                <p:nvPr/>
              </p:nvSpPr>
              <p:spPr>
                <a:xfrm>
                  <a:off x="8943840" y="5781600"/>
                  <a:ext cx="76320" cy="13176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8888400" y="5683320"/>
                  <a:ext cx="88920" cy="147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147600"/>
                    <a:gd name="textAreaBottom" fmla="*/ 147600 h 147600"/>
                  </a:gdLst>
                  <a:ahLst/>
                  <a:rect l="textAreaLeft" t="textAreaTop" r="textAreaRight" b="textAreaBottom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12" name="Group 18"/>
              <p:cNvGrpSpPr/>
              <p:nvPr/>
            </p:nvGrpSpPr>
            <p:grpSpPr>
              <a:xfrm>
                <a:off x="8408880" y="5302080"/>
                <a:ext cx="604800" cy="1347840"/>
                <a:chOff x="8408880" y="5302080"/>
                <a:chExt cx="604800" cy="1347840"/>
              </a:xfrm>
            </p:grpSpPr>
            <p:sp>
              <p:nvSpPr>
                <p:cNvPr id="13" name="Freeform 12"/>
                <p:cNvSpPr/>
                <p:nvPr/>
              </p:nvSpPr>
              <p:spPr>
                <a:xfrm>
                  <a:off x="8408880" y="5645160"/>
                  <a:ext cx="536760" cy="1004760"/>
                </a:xfrm>
                <a:custGeom>
                  <a:avLst/>
                  <a:gdLst>
                    <a:gd name="textAreaLeft" fmla="*/ 0 w 536760"/>
                    <a:gd name="textAreaRight" fmla="*/ 537120 w 536760"/>
                    <a:gd name="textAreaTop" fmla="*/ 0 h 1004760"/>
                    <a:gd name="textAreaBottom" fmla="*/ 1005120 h 1004760"/>
                  </a:gdLst>
                  <a:ahLst/>
                  <a:rect l="textAreaLeft" t="textAreaTop" r="textAreaRight" b="textAreaBottom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Oval 13"/>
                <p:cNvSpPr/>
                <p:nvPr/>
              </p:nvSpPr>
              <p:spPr>
                <a:xfrm rot="705000">
                  <a:off x="8570880" y="5314680"/>
                  <a:ext cx="158760" cy="311040"/>
                </a:xfrm>
                <a:prstGeom prst="ellips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747280" y="5430960"/>
                  <a:ext cx="85680" cy="214200"/>
                </a:xfrm>
                <a:custGeom>
                  <a:avLst/>
                  <a:gdLst>
                    <a:gd name="textAreaLeft" fmla="*/ 0 w 85680"/>
                    <a:gd name="textAreaRight" fmla="*/ 85680 w 8568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823240" y="5548320"/>
                  <a:ext cx="92160" cy="16992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69920"/>
                    <a:gd name="textAreaBottom" fmla="*/ 170280 h 169920"/>
                  </a:gdLst>
                  <a:ahLst/>
                  <a:rect l="textAreaLeft" t="textAreaTop" r="textAreaRight" b="textAreaBottom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937720" y="5764320"/>
                  <a:ext cx="75960" cy="13176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8881920" y="5665680"/>
                  <a:ext cx="88920" cy="147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147600"/>
                    <a:gd name="textAreaBottom" fmla="*/ 147600 h 147600"/>
                  </a:gdLst>
                  <a:ahLst/>
                  <a:rect l="textAreaLeft" t="textAreaTop" r="textAreaRight" b="textAreaBottom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006C-CA1E-498B-B467-39BC810C09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028"/>
          <p:cNvGrpSpPr/>
          <p:nvPr/>
        </p:nvGrpSpPr>
        <p:grpSpPr>
          <a:xfrm>
            <a:off x="244440" y="3316320"/>
            <a:ext cx="8305920" cy="150840"/>
            <a:chOff x="244440" y="3316320"/>
            <a:chExt cx="8305920" cy="150840"/>
          </a:xfrm>
        </p:grpSpPr>
        <p:sp>
          <p:nvSpPr>
            <p:cNvPr id="61" name="Freeform 1026"/>
            <p:cNvSpPr/>
            <p:nvPr/>
          </p:nvSpPr>
          <p:spPr>
            <a:xfrm>
              <a:off x="244440" y="3332160"/>
              <a:ext cx="8288280" cy="135000"/>
            </a:xfrm>
            <a:custGeom>
              <a:avLst/>
              <a:gdLst>
                <a:gd name="textAreaLeft" fmla="*/ 0 w 8288280"/>
                <a:gd name="textAreaRight" fmla="*/ 8288640 w 82882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2" name="Freeform 1027"/>
            <p:cNvSpPr/>
            <p:nvPr/>
          </p:nvSpPr>
          <p:spPr>
            <a:xfrm>
              <a:off x="262080" y="3316320"/>
              <a:ext cx="8288280" cy="135000"/>
            </a:xfrm>
            <a:custGeom>
              <a:avLst/>
              <a:gdLst>
                <a:gd name="textAreaLeft" fmla="*/ 0 w 8288280"/>
                <a:gd name="textAreaRight" fmla="*/ 8288640 w 82882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C958-C4BD-45C6-AECD-CFB28B17DDE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7.wmf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99"/>
                </a:solidFill>
                <a:latin typeface="Times New Roman"/>
              </a:rPr>
              <a:t>ДРЕВНЕЙШИЙ РИМ.</a:t>
            </a:r>
            <a:endParaRPr b="0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9360" y="161640"/>
            <a:ext cx="8004240" cy="6541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4.Рим в начале своей истории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980640"/>
            <a:ext cx="4402080" cy="5667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Римляне занимались земледелием и выра-щивали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шениц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ячмен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виноград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л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 Риме развивалось животноводство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 римляне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разводи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коров и свине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коней и осл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6" descr="2"/>
          <p:cNvPicPr/>
          <p:nvPr/>
        </p:nvPicPr>
        <p:blipFill>
          <a:blip r:embed="rId2"/>
          <a:stretch/>
        </p:blipFill>
        <p:spPr>
          <a:xfrm>
            <a:off x="123840" y="1701720"/>
            <a:ext cx="4475160" cy="416412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3" dur="1" fill="hold"/>
                                  <p:tgtEl>
                                    <p:spTgt spid="15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98400" y="101160"/>
            <a:ext cx="7772400" cy="6541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4.Рим в начале своей истории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2280" y="763560"/>
            <a:ext cx="4454280" cy="59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Жители Рима были ис-куссными ремесленни- ками - кузнецами, тка-чами, гончара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громного размаха дос-тигло хлебопечение- по всей Латинии были раз бросаны  мельницы и хлебные печ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Несколько древнейших мельниц сохранились до сих пор в рабочем состоян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6" descr="1"/>
          <p:cNvPicPr/>
          <p:nvPr/>
        </p:nvPicPr>
        <p:blipFill>
          <a:blip r:embed="rId2"/>
          <a:stretch/>
        </p:blipFill>
        <p:spPr>
          <a:xfrm>
            <a:off x="20520" y="1014480"/>
            <a:ext cx="454212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2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28120" y="235080"/>
            <a:ext cx="8107560" cy="8316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5.Система  управления в Древнем Риме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graphicFrame>
        <p:nvGraphicFramePr>
          <p:cNvPr id="164" name="Object 9"/>
          <p:cNvGraphicFramePr/>
          <p:nvPr/>
        </p:nvGraphicFramePr>
        <p:xfrm>
          <a:off x="752400" y="5924520"/>
          <a:ext cx="2908440" cy="64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924520"/>
                    <a:ext cx="290844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0"/>
          <p:cNvGraphicFramePr/>
          <p:nvPr/>
        </p:nvGraphicFramePr>
        <p:xfrm>
          <a:off x="770040" y="4956120"/>
          <a:ext cx="2871720" cy="731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040" y="4956120"/>
                    <a:ext cx="287172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Group 40"/>
          <p:cNvGrpSpPr/>
          <p:nvPr/>
        </p:nvGrpSpPr>
        <p:grpSpPr>
          <a:xfrm>
            <a:off x="0" y="4210200"/>
            <a:ext cx="4413240" cy="782640"/>
            <a:chOff x="0" y="4210200"/>
            <a:chExt cx="4413240" cy="782640"/>
          </a:xfrm>
        </p:grpSpPr>
        <p:graphicFrame>
          <p:nvGraphicFramePr>
            <p:cNvPr id="169" name="Object 11"/>
            <p:cNvGraphicFramePr/>
            <p:nvPr/>
          </p:nvGraphicFramePr>
          <p:xfrm>
            <a:off x="0" y="4210200"/>
            <a:ext cx="4413240" cy="52524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70" name="Object 1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210200"/>
                      <a:ext cx="4413240" cy="52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AutoShape 15"/>
            <p:cNvSpPr/>
            <p:nvPr/>
          </p:nvSpPr>
          <p:spPr>
            <a:xfrm>
              <a:off x="1673280" y="4583160"/>
              <a:ext cx="330120" cy="409680"/>
            </a:xfrm>
            <a:prstGeom prst="upArrow">
              <a:avLst>
                <a:gd name="adj1" fmla="val 50000"/>
                <a:gd name="adj2" fmla="val 31025"/>
              </a:avLst>
            </a:prstGeom>
            <a:solidFill>
              <a:srgbClr val="ffff99"/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72" name="AutoShape 16"/>
            <p:cNvSpPr/>
            <p:nvPr/>
          </p:nvSpPr>
          <p:spPr>
            <a:xfrm>
              <a:off x="2651040" y="4583160"/>
              <a:ext cx="330120" cy="409680"/>
            </a:xfrm>
            <a:prstGeom prst="upArrow">
              <a:avLst>
                <a:gd name="adj1" fmla="val 50000"/>
                <a:gd name="adj2" fmla="val 31025"/>
              </a:avLst>
            </a:prstGeom>
            <a:solidFill>
              <a:srgbClr val="ffff99"/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1368360" y="3319560"/>
            <a:ext cx="1851120" cy="915840"/>
            <a:chOff x="1368360" y="3319560"/>
            <a:chExt cx="1851120" cy="915840"/>
          </a:xfrm>
        </p:grpSpPr>
        <p:sp>
          <p:nvSpPr>
            <p:cNvPr id="174" name="Rectangle 17"/>
            <p:cNvSpPr/>
            <p:nvPr/>
          </p:nvSpPr>
          <p:spPr>
            <a:xfrm>
              <a:off x="1368360" y="3319560"/>
              <a:ext cx="1851120" cy="459720"/>
            </a:xfrm>
            <a:prstGeom prst="rect">
              <a:avLst/>
            </a:prstGeom>
            <a:solidFill>
              <a:srgbClr val="99ccff"/>
            </a:solidFill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Cyr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 Cyr"/>
                </a:rPr>
                <a:t>РОД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75" name="AutoShape 18"/>
            <p:cNvSpPr/>
            <p:nvPr/>
          </p:nvSpPr>
          <p:spPr>
            <a:xfrm>
              <a:off x="1494000" y="3732120"/>
              <a:ext cx="1587240" cy="503280"/>
            </a:xfrm>
            <a:prstGeom prst="upArrowCallout">
              <a:avLst>
                <a:gd name="adj1" fmla="val 78852"/>
                <a:gd name="adj2" fmla="val 78845"/>
                <a:gd name="adj3" fmla="val 16667"/>
                <a:gd name="adj4" fmla="val 66660"/>
              </a:avLst>
            </a:prstGeom>
            <a:solidFill>
              <a:srgbClr val="ffffff"/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76" name="Group 43"/>
          <p:cNvGrpSpPr/>
          <p:nvPr/>
        </p:nvGrpSpPr>
        <p:grpSpPr>
          <a:xfrm>
            <a:off x="0" y="1724040"/>
            <a:ext cx="2235240" cy="3085920"/>
            <a:chOff x="0" y="1724040"/>
            <a:chExt cx="2235240" cy="3085920"/>
          </a:xfrm>
        </p:grpSpPr>
        <p:graphicFrame>
          <p:nvGraphicFramePr>
            <p:cNvPr id="177" name="Object 14"/>
            <p:cNvGraphicFramePr/>
            <p:nvPr/>
          </p:nvGraphicFramePr>
          <p:xfrm>
            <a:off x="0" y="1724040"/>
            <a:ext cx="2235240" cy="119520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178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1724040"/>
                      <a:ext cx="2235240" cy="119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AutoShape 19"/>
            <p:cNvSpPr/>
            <p:nvPr/>
          </p:nvSpPr>
          <p:spPr>
            <a:xfrm>
              <a:off x="874800" y="2854440"/>
              <a:ext cx="434880" cy="1955520"/>
            </a:xfrm>
            <a:prstGeom prst="upArrow">
              <a:avLst>
                <a:gd name="adj1" fmla="val 50000"/>
                <a:gd name="adj2" fmla="val 112417"/>
              </a:avLst>
            </a:prstGeom>
            <a:solidFill>
              <a:srgbClr val="99ccff"/>
            </a:solidFill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80" name="Group 42"/>
          <p:cNvGrpSpPr/>
          <p:nvPr/>
        </p:nvGrpSpPr>
        <p:grpSpPr>
          <a:xfrm>
            <a:off x="2314440" y="2484360"/>
            <a:ext cx="1946520" cy="1195560"/>
            <a:chOff x="2314440" y="2484360"/>
            <a:chExt cx="1946520" cy="1195560"/>
          </a:xfrm>
        </p:grpSpPr>
        <p:graphicFrame>
          <p:nvGraphicFramePr>
            <p:cNvPr id="181" name="Object 13"/>
            <p:cNvGraphicFramePr/>
            <p:nvPr/>
          </p:nvGraphicFramePr>
          <p:xfrm>
            <a:off x="2314440" y="2484360"/>
            <a:ext cx="1946520" cy="55080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182" name="Object 1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14440" y="2484360"/>
                      <a:ext cx="1946520" cy="55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AutoShape 20"/>
            <p:cNvSpPr/>
            <p:nvPr/>
          </p:nvSpPr>
          <p:spPr>
            <a:xfrm>
              <a:off x="2624040" y="2960640"/>
              <a:ext cx="486000" cy="719280"/>
            </a:xfrm>
            <a:prstGeom prst="upArrow">
              <a:avLst>
                <a:gd name="adj1" fmla="val 50000"/>
                <a:gd name="adj2" fmla="val 37000"/>
              </a:avLst>
            </a:prstGeom>
            <a:solidFill>
              <a:srgbClr val="00cccc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84" name="Group 29"/>
          <p:cNvGrpSpPr/>
          <p:nvPr/>
        </p:nvGrpSpPr>
        <p:grpSpPr>
          <a:xfrm>
            <a:off x="3603600" y="5738760"/>
            <a:ext cx="5175360" cy="966960"/>
            <a:chOff x="3603600" y="5738760"/>
            <a:chExt cx="5175360" cy="966960"/>
          </a:xfrm>
        </p:grpSpPr>
        <p:sp>
          <p:nvSpPr>
            <p:cNvPr id="185" name="Rectangle 21"/>
            <p:cNvSpPr/>
            <p:nvPr/>
          </p:nvSpPr>
          <p:spPr>
            <a:xfrm>
              <a:off x="4489560" y="5738760"/>
              <a:ext cx="4289400" cy="9669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Переселенцы из других областей Италии</a:t>
              </a:r>
              <a:endParaRPr b="0" lang="en-US" sz="28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86" name="AutoShape 24"/>
            <p:cNvSpPr/>
            <p:nvPr/>
          </p:nvSpPr>
          <p:spPr>
            <a:xfrm>
              <a:off x="3603600" y="599904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cc99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87" name="Group 31"/>
          <p:cNvGrpSpPr/>
          <p:nvPr/>
        </p:nvGrpSpPr>
        <p:grpSpPr>
          <a:xfrm>
            <a:off x="2490840" y="1325520"/>
            <a:ext cx="6288120" cy="966960"/>
            <a:chOff x="2490840" y="1325520"/>
            <a:chExt cx="6288120" cy="966960"/>
          </a:xfrm>
        </p:grpSpPr>
        <p:sp>
          <p:nvSpPr>
            <p:cNvPr id="188" name="Rectangle 23"/>
            <p:cNvSpPr/>
            <p:nvPr/>
          </p:nvSpPr>
          <p:spPr>
            <a:xfrm>
              <a:off x="4489560" y="1325520"/>
              <a:ext cx="4289400" cy="9669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Высший орган,    состоял из мужчин</a:t>
              </a:r>
              <a:endParaRPr b="0" lang="en-US" sz="28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89" name="AutoShape 27"/>
            <p:cNvSpPr/>
            <p:nvPr/>
          </p:nvSpPr>
          <p:spPr>
            <a:xfrm>
              <a:off x="2490840" y="1627200"/>
              <a:ext cx="1852560" cy="485640"/>
            </a:xfrm>
            <a:prstGeom prst="rightArrow">
              <a:avLst>
                <a:gd name="adj1" fmla="val 50000"/>
                <a:gd name="adj2" fmla="val 95367"/>
              </a:avLst>
            </a:prstGeom>
            <a:solidFill>
              <a:srgbClr val="cc99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90" name="Group 30"/>
          <p:cNvGrpSpPr/>
          <p:nvPr/>
        </p:nvGrpSpPr>
        <p:grpSpPr>
          <a:xfrm>
            <a:off x="3828600" y="2502720"/>
            <a:ext cx="4950360" cy="1259640"/>
            <a:chOff x="3828600" y="2502720"/>
            <a:chExt cx="4950360" cy="1259640"/>
          </a:xfrm>
        </p:grpSpPr>
        <p:sp>
          <p:nvSpPr>
            <p:cNvPr id="191" name="Rectangle 22"/>
            <p:cNvSpPr/>
            <p:nvPr/>
          </p:nvSpPr>
          <p:spPr>
            <a:xfrm>
              <a:off x="4489560" y="2795760"/>
              <a:ext cx="4289400" cy="966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Совет старейшин      родов</a:t>
              </a:r>
              <a:endParaRPr b="0" lang="en-US" sz="28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92" name="AutoShape 28"/>
            <p:cNvSpPr/>
            <p:nvPr/>
          </p:nvSpPr>
          <p:spPr>
            <a:xfrm rot="1387200">
              <a:off x="3884760" y="26748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cc99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93" name="Rectangle 34"/>
          <p:cNvSpPr/>
          <p:nvPr/>
        </p:nvSpPr>
        <p:spPr>
          <a:xfrm>
            <a:off x="447984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94" name="Rectangle 35"/>
          <p:cNvSpPr/>
          <p:nvPr/>
        </p:nvSpPr>
        <p:spPr>
          <a:xfrm>
            <a:off x="447984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195" name="Group 39"/>
          <p:cNvGrpSpPr/>
          <p:nvPr/>
        </p:nvGrpSpPr>
        <p:grpSpPr>
          <a:xfrm>
            <a:off x="3536640" y="4262400"/>
            <a:ext cx="5220000" cy="1143000"/>
            <a:chOff x="3536640" y="4262400"/>
            <a:chExt cx="5220000" cy="1143000"/>
          </a:xfrm>
        </p:grpSpPr>
        <p:sp>
          <p:nvSpPr>
            <p:cNvPr id="196" name="Rectangle 37"/>
            <p:cNvSpPr/>
            <p:nvPr/>
          </p:nvSpPr>
          <p:spPr>
            <a:xfrm>
              <a:off x="4467240" y="4262400"/>
              <a:ext cx="4289400" cy="9669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Потомки древнейших жителей Рима </a:t>
              </a:r>
              <a:endParaRPr b="0" lang="en-US" sz="28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97" name="AutoShape 38"/>
            <p:cNvSpPr/>
            <p:nvPr/>
          </p:nvSpPr>
          <p:spPr>
            <a:xfrm rot="20746200">
              <a:off x="3581280" y="48067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99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1880" y="334440"/>
            <a:ext cx="77724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ПЛАН УРОКА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1520" y="1731600"/>
            <a:ext cx="7900920" cy="4791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39"/>
                </a:solidFill>
                <a:latin typeface="Times New Roman"/>
              </a:rPr>
              <a:t>1.Географическое положение и природные условия Аппенинского полуостро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39"/>
                </a:solidFill>
                <a:latin typeface="Times New Roman"/>
              </a:rPr>
              <a:t>2.Этрус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39"/>
                </a:solidFill>
                <a:latin typeface="Times New Roman"/>
              </a:rPr>
              <a:t>3.Образование Ри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39"/>
                </a:solidFill>
                <a:latin typeface="Times New Roman"/>
              </a:rPr>
              <a:t>4.Рим в начале своей истор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39"/>
                </a:solidFill>
                <a:latin typeface="Times New Roman"/>
              </a:rPr>
              <a:t>5.Система   управления в Древнем Рим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1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Times New Roman"/>
              </a:rPr>
              <a:t>Задание на урок</a:t>
            </a:r>
            <a:r>
              <a:rPr b="1" lang="en-US" sz="4400" spc="-1" strike="noStrike" u="sng">
                <a:solidFill>
                  <a:srgbClr val="ff0066"/>
                </a:solidFill>
                <a:uFillTx/>
                <a:latin typeface="Times New Roman"/>
              </a:rPr>
              <a:t>: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8480" y="2813040"/>
            <a:ext cx="7772400" cy="2774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?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Древнеримское государство называют преемником традиций Древней Гре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ак вы думаете, почему это     случилось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8040" y="87120"/>
            <a:ext cx="8723520" cy="11430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Times New Roman"/>
              </a:rPr>
              <a:t>1.Географическое положение и природные условия Аппенинского полуострова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09560" y="1584000"/>
            <a:ext cx="4730760" cy="4676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Рассмотрите слай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? </a:t>
            </a:r>
            <a:r>
              <a:rPr b="1" lang="ru-RU" sz="2800" spc="-1" strike="noStrike">
                <a:solidFill>
                  <a:srgbClr val="393939"/>
                </a:solidFill>
                <a:latin typeface="Times New Roman"/>
              </a:rPr>
              <a:t>Опишите географичес-кое положение и при-родные условия Аппени-нского полуострова</a:t>
            </a: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?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Что общего между Аппе- нинами(где было распо- ложено Римское государ ство) и Балканами, где расположена Греци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7" descr="8"/>
          <p:cNvPicPr/>
          <p:nvPr/>
        </p:nvPicPr>
        <p:blipFill>
          <a:blip r:embed="rId2"/>
          <a:stretch/>
        </p:blipFill>
        <p:spPr>
          <a:xfrm>
            <a:off x="79200" y="1243080"/>
            <a:ext cx="4119840" cy="55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2.Этруски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12880" y="206676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Одним из самых загадочных народов в истории были древнейшие жители Аппенин-ЭТРУС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сторики до сих пор ведут спор - откуда они приш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Язык этрусков лишь отдаленно напоминает кавказские языки и не имеет других аналогов в Европ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962440" y="1828800"/>
            <a:ext cx="6043320" cy="462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Этруски одними из первых стали обрабатывать железо и делать из него орудия труда и оружие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Ученые находят железные боевые доспехи этрусков в захоронениях относящихся к 7 в. до н.э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Этруское войско было самым си-льным на Аппенинах и в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VII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. до н.э. они подчинили себе прак-тически весь полуостров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15" name="Picture 7" descr="7"/>
          <p:cNvPicPr/>
          <p:nvPr/>
        </p:nvPicPr>
        <p:blipFill>
          <a:blip r:embed="rId3"/>
          <a:stretch/>
        </p:blipFill>
        <p:spPr>
          <a:xfrm>
            <a:off x="20520" y="1925640"/>
            <a:ext cx="295596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7880" y="82080"/>
            <a:ext cx="7772400" cy="6541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2.Этруски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50680"/>
            <a:ext cx="9144000" cy="141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Своеобразие этруссков проявлялось во всем, но более всего поражают их захоронения, имевшие причудливую форм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8" descr="6"/>
          <p:cNvPicPr/>
          <p:nvPr/>
        </p:nvPicPr>
        <p:blipFill>
          <a:blip r:embed="rId2"/>
          <a:stretch/>
        </p:blipFill>
        <p:spPr>
          <a:xfrm>
            <a:off x="0" y="231768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5"/>
          <p:cNvPicPr/>
          <p:nvPr/>
        </p:nvPicPr>
        <p:blipFill>
          <a:blip r:embed="rId3"/>
          <a:stretch/>
        </p:blipFill>
        <p:spPr>
          <a:xfrm>
            <a:off x="0" y="4737240"/>
            <a:ext cx="91440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6320" y="379080"/>
            <a:ext cx="7772400" cy="6015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3.Образование Рима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76280" y="1369800"/>
            <a:ext cx="4916520" cy="4576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Легенду об основании Рима большинство современ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ных историков считают вымысл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939"/>
                </a:solidFill>
                <a:latin typeface="Times New Roman"/>
              </a:rPr>
              <a:t>?   Внимательно прочтите текст легенды (с.204) и ответьте на вопрос</a:t>
            </a: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акой смысл могли вкл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дывать в нее древние жители город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7" descr="16"/>
          <p:cNvPicPr/>
          <p:nvPr/>
        </p:nvPicPr>
        <p:blipFill>
          <a:blip r:embed="rId2"/>
          <a:stretch/>
        </p:blipFill>
        <p:spPr>
          <a:xfrm>
            <a:off x="127080" y="1558800"/>
            <a:ext cx="3914640" cy="425304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1" dur="1" fill="hold"/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4" descr="4"/>
          <p:cNvPicPr/>
          <p:nvPr/>
        </p:nvPicPr>
        <p:blipFill>
          <a:blip r:embed="rId1"/>
          <a:stretch/>
        </p:blipFill>
        <p:spPr>
          <a:xfrm>
            <a:off x="228600" y="1065240"/>
            <a:ext cx="4154400" cy="5495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3720" y="163440"/>
            <a:ext cx="7772400" cy="7048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4.Рим в начале своей истории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09640" y="1087560"/>
            <a:ext cx="4606920" cy="5479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Легендарной датой осно вания Рима является 753 год до н.э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днако поселения на месте Рима существова-ли задолго до этой да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На левом берегу Тибра на возвышенных холмах существовали по-селения, объединивши -еся  впоследствии в один гор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828800" y="3476520"/>
            <a:ext cx="423720" cy="476280"/>
          </a:xfrm>
          <a:custGeom>
            <a:avLst/>
            <a:gdLst>
              <a:gd name="textAreaLeft" fmla="*/ 96480 w 423720"/>
              <a:gd name="textAreaRight" fmla="*/ 327240 w 423720"/>
              <a:gd name="textAreaTop" fmla="*/ 108720 h 476280"/>
              <a:gd name="textAreaBottom" fmla="*/ 36756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2212920" y="3782880"/>
            <a:ext cx="424080" cy="476280"/>
          </a:xfrm>
          <a:custGeom>
            <a:avLst/>
            <a:gdLst>
              <a:gd name="textAreaLeft" fmla="*/ 96840 w 424080"/>
              <a:gd name="textAreaRight" fmla="*/ 327240 w 424080"/>
              <a:gd name="textAreaTop" fmla="*/ 108720 h 476280"/>
              <a:gd name="textAreaBottom" fmla="*/ 36756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2700360" y="4141800"/>
            <a:ext cx="423720" cy="476280"/>
          </a:xfrm>
          <a:custGeom>
            <a:avLst/>
            <a:gdLst>
              <a:gd name="textAreaLeft" fmla="*/ 96480 w 423720"/>
              <a:gd name="textAreaRight" fmla="*/ 327240 w 423720"/>
              <a:gd name="textAreaTop" fmla="*/ 108720 h 476280"/>
              <a:gd name="textAreaBottom" fmla="*/ 36756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1771560" y="4681440"/>
            <a:ext cx="424080" cy="476280"/>
          </a:xfrm>
          <a:custGeom>
            <a:avLst/>
            <a:gdLst>
              <a:gd name="textAreaLeft" fmla="*/ 96840 w 424080"/>
              <a:gd name="textAreaRight" fmla="*/ 327240 w 424080"/>
              <a:gd name="textAreaTop" fmla="*/ 108720 h 476280"/>
              <a:gd name="textAreaBottom" fmla="*/ 36756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2876400" y="3313080"/>
            <a:ext cx="424080" cy="476280"/>
          </a:xfrm>
          <a:custGeom>
            <a:avLst/>
            <a:gdLst>
              <a:gd name="textAreaLeft" fmla="*/ 96840 w 424080"/>
              <a:gd name="textAreaRight" fmla="*/ 327240 w 424080"/>
              <a:gd name="textAreaTop" fmla="*/ 108720 h 476280"/>
              <a:gd name="textAreaBottom" fmla="*/ 36756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1" name="AutoShape 10"/>
          <p:cNvSpPr/>
          <p:nvPr/>
        </p:nvSpPr>
        <p:spPr>
          <a:xfrm rot="1324800">
            <a:off x="2617560" y="2573280"/>
            <a:ext cx="546120" cy="839880"/>
          </a:xfrm>
          <a:custGeom>
            <a:avLst/>
            <a:gdLst>
              <a:gd name="textAreaLeft" fmla="*/ 124560 w 546120"/>
              <a:gd name="textAreaRight" fmla="*/ 421560 w 546120"/>
              <a:gd name="textAreaTop" fmla="*/ 191520 h 839880"/>
              <a:gd name="textAreaBottom" fmla="*/ 648360 h 839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2201760" y="2614680"/>
            <a:ext cx="424080" cy="476280"/>
          </a:xfrm>
          <a:custGeom>
            <a:avLst/>
            <a:gdLst>
              <a:gd name="textAreaLeft" fmla="*/ 96840 w 424080"/>
              <a:gd name="textAreaRight" fmla="*/ 327240 w 424080"/>
              <a:gd name="textAreaTop" fmla="*/ 108720 h 476280"/>
              <a:gd name="textAreaBottom" fmla="*/ 36756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133" name="Group 31"/>
          <p:cNvGrpSpPr/>
          <p:nvPr/>
        </p:nvGrpSpPr>
        <p:grpSpPr>
          <a:xfrm>
            <a:off x="0" y="2619360"/>
            <a:ext cx="2343240" cy="459720"/>
            <a:chOff x="0" y="2619360"/>
            <a:chExt cx="2343240" cy="459720"/>
          </a:xfrm>
        </p:grpSpPr>
        <p:sp>
          <p:nvSpPr>
            <p:cNvPr id="134" name="Text Box 13"/>
            <p:cNvSpPr/>
            <p:nvPr/>
          </p:nvSpPr>
          <p:spPr>
            <a:xfrm>
              <a:off x="0" y="2619360"/>
              <a:ext cx="177336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 Cyr"/>
                </a:rPr>
                <a:t>Квиринал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35" name="AutoShape 19"/>
            <p:cNvSpPr/>
            <p:nvPr/>
          </p:nvSpPr>
          <p:spPr>
            <a:xfrm>
              <a:off x="1623960" y="2755800"/>
              <a:ext cx="719280" cy="279360"/>
            </a:xfrm>
            <a:prstGeom prst="rightArrow">
              <a:avLst>
                <a:gd name="adj1" fmla="val 50000"/>
                <a:gd name="adj2" fmla="val 64369"/>
              </a:avLst>
            </a:prstGeom>
            <a:solidFill>
              <a:srgbClr val="cc9900"/>
            </a:solidFill>
            <a:ln w="57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36" name="Group 32"/>
          <p:cNvGrpSpPr/>
          <p:nvPr/>
        </p:nvGrpSpPr>
        <p:grpSpPr>
          <a:xfrm>
            <a:off x="2463840" y="2021040"/>
            <a:ext cx="1773360" cy="1204920"/>
            <a:chOff x="2463840" y="2021040"/>
            <a:chExt cx="1773360" cy="1204920"/>
          </a:xfrm>
        </p:grpSpPr>
        <p:sp>
          <p:nvSpPr>
            <p:cNvPr id="137" name="Text Box 16"/>
            <p:cNvSpPr/>
            <p:nvPr/>
          </p:nvSpPr>
          <p:spPr>
            <a:xfrm>
              <a:off x="2463840" y="2021040"/>
              <a:ext cx="177336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 Cyr"/>
                </a:rPr>
                <a:t>Виминал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38" name="AutoShape 20"/>
            <p:cNvSpPr/>
            <p:nvPr/>
          </p:nvSpPr>
          <p:spPr>
            <a:xfrm rot="5400000">
              <a:off x="2499480" y="2726640"/>
              <a:ext cx="719280" cy="279360"/>
            </a:xfrm>
            <a:prstGeom prst="rightArrow">
              <a:avLst>
                <a:gd name="adj1" fmla="val 50000"/>
                <a:gd name="adj2" fmla="val 64369"/>
              </a:avLst>
            </a:prstGeom>
            <a:solidFill>
              <a:srgbClr val="cc9900"/>
            </a:solidFill>
            <a:ln w="57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39" name="Group 30"/>
          <p:cNvGrpSpPr/>
          <p:nvPr/>
        </p:nvGrpSpPr>
        <p:grpSpPr>
          <a:xfrm>
            <a:off x="0" y="3213000"/>
            <a:ext cx="1981080" cy="617760"/>
            <a:chOff x="0" y="3213000"/>
            <a:chExt cx="1981080" cy="617760"/>
          </a:xfrm>
        </p:grpSpPr>
        <p:sp>
          <p:nvSpPr>
            <p:cNvPr id="140" name="Text Box 12"/>
            <p:cNvSpPr/>
            <p:nvPr/>
          </p:nvSpPr>
          <p:spPr>
            <a:xfrm>
              <a:off x="0" y="3213000"/>
              <a:ext cx="177336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 Cyr"/>
                </a:rPr>
                <a:t>Капитолий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41" name="AutoShape 21"/>
            <p:cNvSpPr/>
            <p:nvPr/>
          </p:nvSpPr>
          <p:spPr>
            <a:xfrm>
              <a:off x="1262160" y="3551400"/>
              <a:ext cx="718920" cy="279360"/>
            </a:xfrm>
            <a:prstGeom prst="rightArrow">
              <a:avLst>
                <a:gd name="adj1" fmla="val 50000"/>
                <a:gd name="adj2" fmla="val 64336"/>
              </a:avLst>
            </a:prstGeom>
            <a:solidFill>
              <a:srgbClr val="cc9900"/>
            </a:solidFill>
            <a:ln w="57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42" name="Group 26"/>
          <p:cNvGrpSpPr/>
          <p:nvPr/>
        </p:nvGrpSpPr>
        <p:grpSpPr>
          <a:xfrm>
            <a:off x="0" y="4858920"/>
            <a:ext cx="2092320" cy="752040"/>
            <a:chOff x="0" y="4858920"/>
            <a:chExt cx="2092320" cy="752040"/>
          </a:xfrm>
        </p:grpSpPr>
        <p:sp>
          <p:nvSpPr>
            <p:cNvPr id="143" name="Text Box 18"/>
            <p:cNvSpPr/>
            <p:nvPr/>
          </p:nvSpPr>
          <p:spPr>
            <a:xfrm>
              <a:off x="0" y="5106960"/>
              <a:ext cx="177336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 Cyr"/>
                </a:rPr>
                <a:t>Авентин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44" name="AutoShape 22"/>
            <p:cNvSpPr/>
            <p:nvPr/>
          </p:nvSpPr>
          <p:spPr>
            <a:xfrm rot="18246600">
              <a:off x="1415160" y="5095080"/>
              <a:ext cx="719280" cy="279360"/>
            </a:xfrm>
            <a:prstGeom prst="rightArrow">
              <a:avLst>
                <a:gd name="adj1" fmla="val 50000"/>
                <a:gd name="adj2" fmla="val 64369"/>
              </a:avLst>
            </a:prstGeom>
            <a:solidFill>
              <a:srgbClr val="cc9900"/>
            </a:solidFill>
            <a:ln w="57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45" name="Group 28"/>
          <p:cNvGrpSpPr/>
          <p:nvPr/>
        </p:nvGrpSpPr>
        <p:grpSpPr>
          <a:xfrm>
            <a:off x="0" y="3960360"/>
            <a:ext cx="2392560" cy="533160"/>
            <a:chOff x="0" y="3960360"/>
            <a:chExt cx="2392560" cy="533160"/>
          </a:xfrm>
        </p:grpSpPr>
        <p:sp>
          <p:nvSpPr>
            <p:cNvPr id="146" name="Text Box 14"/>
            <p:cNvSpPr/>
            <p:nvPr/>
          </p:nvSpPr>
          <p:spPr>
            <a:xfrm>
              <a:off x="0" y="4033800"/>
              <a:ext cx="177336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 Cyr"/>
                </a:rPr>
                <a:t>Палатин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 rot="20487600">
              <a:off x="1647360" y="4067280"/>
              <a:ext cx="719280" cy="279360"/>
            </a:xfrm>
            <a:prstGeom prst="rightArrow">
              <a:avLst>
                <a:gd name="adj1" fmla="val 50000"/>
                <a:gd name="adj2" fmla="val 64369"/>
              </a:avLst>
            </a:prstGeom>
            <a:solidFill>
              <a:srgbClr val="cc9900"/>
            </a:solidFill>
            <a:ln w="57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48" name="Group 27"/>
          <p:cNvGrpSpPr/>
          <p:nvPr/>
        </p:nvGrpSpPr>
        <p:grpSpPr>
          <a:xfrm>
            <a:off x="2409840" y="4386240"/>
            <a:ext cx="1773360" cy="1131120"/>
            <a:chOff x="2409840" y="4386240"/>
            <a:chExt cx="1773360" cy="1131120"/>
          </a:xfrm>
        </p:grpSpPr>
        <p:sp>
          <p:nvSpPr>
            <p:cNvPr id="149" name="Text Box 17"/>
            <p:cNvSpPr/>
            <p:nvPr/>
          </p:nvSpPr>
          <p:spPr>
            <a:xfrm>
              <a:off x="2409840" y="5057640"/>
              <a:ext cx="177336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 Cyr"/>
                </a:rPr>
                <a:t>Целий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50" name="AutoShape 24"/>
            <p:cNvSpPr/>
            <p:nvPr/>
          </p:nvSpPr>
          <p:spPr>
            <a:xfrm rot="16200000">
              <a:off x="2577240" y="4606200"/>
              <a:ext cx="719280" cy="279360"/>
            </a:xfrm>
            <a:prstGeom prst="rightArrow">
              <a:avLst>
                <a:gd name="adj1" fmla="val 50000"/>
                <a:gd name="adj2" fmla="val 64369"/>
              </a:avLst>
            </a:prstGeom>
            <a:solidFill>
              <a:srgbClr val="cc9900"/>
            </a:solidFill>
            <a:ln w="57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51" name="Group 29"/>
          <p:cNvGrpSpPr/>
          <p:nvPr/>
        </p:nvGrpSpPr>
        <p:grpSpPr>
          <a:xfrm>
            <a:off x="2722680" y="3445560"/>
            <a:ext cx="1773000" cy="709920"/>
            <a:chOff x="2722680" y="3445560"/>
            <a:chExt cx="1773000" cy="709920"/>
          </a:xfrm>
        </p:grpSpPr>
        <p:sp>
          <p:nvSpPr>
            <p:cNvPr id="152" name="Text Box 15"/>
            <p:cNvSpPr/>
            <p:nvPr/>
          </p:nvSpPr>
          <p:spPr>
            <a:xfrm>
              <a:off x="2722680" y="3695760"/>
              <a:ext cx="177300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 Cyr"/>
                </a:rPr>
                <a:t>Эсквилин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53" name="AutoShape 25"/>
            <p:cNvSpPr/>
            <p:nvPr/>
          </p:nvSpPr>
          <p:spPr>
            <a:xfrm flipH="1" rot="796800">
              <a:off x="3115440" y="3524400"/>
              <a:ext cx="719280" cy="279360"/>
            </a:xfrm>
            <a:prstGeom prst="rightArrow">
              <a:avLst>
                <a:gd name="adj1" fmla="val 50000"/>
                <a:gd name="adj2" fmla="val 64369"/>
              </a:avLst>
            </a:prstGeom>
            <a:solidFill>
              <a:srgbClr val="cc9900"/>
            </a:solidFill>
            <a:ln w="57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3200" y="101520"/>
            <a:ext cx="7772400" cy="7048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4.Рим в начале своей истории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36640" y="965160"/>
            <a:ext cx="4606920" cy="5789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Древнейшие  римляне жили в примитивных домах из ивовых прутьев обмазанных глин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Рядом находились сад и огород, а за пределами города-поля и пастбищ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 результате постояных войн с соседними города ми римляне расширяли подвластную террито-р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7" descr="3"/>
          <p:cNvPicPr/>
          <p:nvPr/>
        </p:nvPicPr>
        <p:blipFill>
          <a:blip r:embed="rId2"/>
          <a:stretch/>
        </p:blipFill>
        <p:spPr>
          <a:xfrm>
            <a:off x="82440" y="938160"/>
            <a:ext cx="438804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8:57:29Z</dcterms:created>
  <dc:creator>ЧЕРНОВ АЛЕКСЕЙ</dc:creator>
  <dc:description/>
  <dc:language>en-US</dc:language>
  <cp:lastModifiedBy>Коля</cp:lastModifiedBy>
  <dcterms:modified xsi:type="dcterms:W3CDTF">2013-09-10T11:18:20Z</dcterms:modified>
  <cp:revision>28</cp:revision>
  <dc:subject/>
  <dc:title>Заголовок слайда отсутствует</dc:title>
</cp:coreProperties>
</file>