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170-BCDE-457D-87C3-B40596DE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3F8-3B79-4E23-919C-FA2A40C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C0D-2BD0-4B0F-99E0-767C8F36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955-C8EC-4334-913F-759FC4E3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2225-77F5-4667-9FD6-429EADE5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D785-94C2-4AF4-9285-501DD252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B1A-1763-4FAF-8024-252AA467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E252-7719-455A-ACF3-CBFA32E5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1049-2752-412E-962E-52D79F75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FD75-BD6F-4C27-B0DC-F5BB21A7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731C-48AF-46C7-A7D5-CF1F9D1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217-19D7-4085-AC37-FD920D93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B67F-A5E8-4691-8ED5-7779405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303-EC17-4848-8D36-CED7513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804D-F8DA-4C4F-BB53-C6665395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61C8-23B1-4FA3-A1AB-C7DAB476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F489-0740-42A7-9839-7C7AE09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038B-3F35-4E5C-BFF7-6534E639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1DAF-FC3B-41B2-9F1E-670849BA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4D19-72A3-4150-8B88-F6432B5C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F954-16C6-41E8-84C8-958CE292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3FFAF-6070-4A2E-8062-290F4EFC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9F4-A068-42E0-8500-C0B686A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3B08-84CE-4262-AA06-E6B904A5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6C8F-F4A4-47E6-AA19-101FD8D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5297-C2E2-49CA-80D3-8A078E3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BFD5-DAE7-441E-B0DE-ADF8E58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4EB1-D821-4781-BC8C-465AEFEB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8188-24CE-47EA-BC91-99CF6709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7264-B4BB-4490-A9F5-03EBBD3E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2D754-0FC7-4D3F-B889-2D052584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C619-86AC-4478-AE43-F0936D65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987E-792B-45D9-AEA9-67CF1403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68C-9323-44E3-A6A0-BBEE6DA9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805E7-858F-407E-997F-DAAE706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E3B8-6219-4C27-95DF-5C06503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193D-D4B8-4ABA-BEFA-0734A7EE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3F17-8081-4055-88E3-8910076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027C-EACB-4B4A-AF29-EEB656BB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1605-D89E-4793-AED1-778EDB34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43855-5638-40AA-84EF-DE78D0F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FBE3-4F38-4591-81EF-C99B1FC0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9CF0-0522-4DD4-90EF-FC232FF2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64FF2-9336-4A5B-8D78-70A45ECB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30E-AB0E-49B4-A7B4-F35D3B4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2876-9620-445D-A5E8-24E526E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7C50-E2C0-4102-9760-382677B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472F-8D4F-4B89-A2EE-D5FBF875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FFA56-BE02-4CFE-A7A5-A09A8134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04D1-F93E-4195-B41C-1B7F8F9D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562D5-64BE-44B0-B160-E825DBA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65A6E-EAD0-4B79-A820-5D8B3D37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396CC-BEDB-4D26-8AEA-29988A5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0E4D6-D12D-4D9D-A509-3BFB2CCF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711B-BB1D-4D98-BC02-90F22318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92F-A49F-469B-B78E-E7CCAF72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C10E9-FCDB-4DAD-8B9C-B8175E48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E151E-3563-4135-BEB0-5F1874DC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2ACC-8AC9-4AF2-A944-02966D14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CA22-1BD6-4B7B-9F43-18271008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2FA63-39C0-488B-ADD8-A070DD49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AB7E6-D9D0-4A33-849C-F2033AC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A57C-72DB-4462-9594-BB94836A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B1FBE-9BC9-44E2-805C-281A6DC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1DCF-AB22-4635-BDB8-A9293FF9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FA5D-3ECF-4140-B553-7F15B87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7C2-FC25-441B-93A0-AA55637F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5FDE-6587-47CF-AC95-28EE267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F15C7-BE3D-4ADD-9D12-79EA6958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BB5DA-EF2B-4B51-92A1-63884D61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602-3998-4308-BA7C-FA6BEB18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24D-0BA4-4EF1-B812-91A6721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D1FA-C590-4344-ABD6-8CC516294DC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6939-F750-421B-92DD-88E93FB56A2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458E-1F9C-48FF-8246-942E4403D38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955-75A2-49DA-ACBF-58873C696C9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8E7-9B1F-4DEA-A346-9206D49E576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4D2D-9CEA-44F3-92D8-7C6D28F15D0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122400" y="2077920"/>
            <a:ext cx="8388360" cy="4280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27280" y="4437000"/>
            <a:ext cx="3133800" cy="936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3" descr=""/>
          <p:cNvPicPr/>
          <p:nvPr/>
        </p:nvPicPr>
        <p:blipFill>
          <a:blip r:embed="rId1"/>
          <a:stretch/>
        </p:blipFill>
        <p:spPr>
          <a:xfrm>
            <a:off x="5411880" y="1628640"/>
            <a:ext cx="3705120" cy="37054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Созд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-31680" y="1557360"/>
            <a:ext cx="6551640" cy="4473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м шагом стал «план Эббота», принятый в 1947 году, целью которого являлось стимулирование инвестиций США             в ведущие отрасли канадской эконом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59 году США и Канада заключили соглашение о совместном военном производ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едующим шагом стало заключение в 1965 году              соглашения о либерализации торговли продукцией автомобилестро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ентябре 1988 году между США и Канадой было                  подписано американско-канадское соглашение о                  свободной торговле (CUSF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шение о создании Североамериканской                    ассоциации свободной торговли (НАФТА) вступило                     в силу 1 января 1994 г., сохранив и подтвердив Соглашение               о свободной торговле между США и Канадой (CUSFTA) 1988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5280" y="38160"/>
            <a:ext cx="37450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Цели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4135320" cy="3384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3851280" y="836640"/>
            <a:ext cx="52927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НАФТА представляет собой крупнейшую в мире региональную зону свободной торговли, с населением в 406 млн. человек и совокупным валовым продуктом в размере 10,3 триллиона долла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оздание зоны свободно торговли в североамериканском регионе было обусловлено рядом фактор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еографической близостью стран-участниц и элементами взаимодополняемости структур национальных экономи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сными торговыми связями между ними и расширяющимся производственным кооперирование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тущей сетью подконтрольных предприятий американских ТНК в Канаде и Мексике и Канадских ТНК в СШ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илением позиций ЕС, Японии и новых индустриальных стран на мировом рын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34920" y="4376880"/>
            <a:ext cx="871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На сегодняшний день цели НАФТА включаю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ятие барьеров и стимулирование движения товаров и услуг между странами-участниками соглаш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и поддержание условия для справедливой конкуренции в зоне свободной торговл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влечение инвестиций в страны-члены соглаш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ение должной и эффективной защиты и охраны прав интеллектуальной собственности в Зон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действенных механизмов внедрения и использования Соглашения, совместного решения споров и управл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тановление базы для будущей трехсторонней, региональной и междунардной кооперации в целях расширения и улучшения Соглаш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34920" y="1080"/>
            <a:ext cx="5195880" cy="99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Структура НАФТА</a:t>
            </a:r>
            <a:r>
              <a:rPr b="0" lang="ru-RU" sz="4600" spc="-1" strike="noStrike">
                <a:solidFill>
                  <a:srgbClr val="37ff01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36640"/>
            <a:ext cx="903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нтральным институтом НАФТА является Комиссия по свободной торговле, в которую входят представители на уровне министров торговли от трех стран-участниц. Комиссия наблюдает за осуществлением и дальнейшей разработкой Соглашения и помогает разрешать споры, возникающие при интерпретации Соглашения. Она также наблюдает за работой более чем 30 комитетов и рабочих груп НАФТА. Последние собрания Комиссии проходили в Вашингтоне, США в 1997 году и в Мехико в начале 1998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нистры согласились о том, что Комиссия в ее работе будет оказывать содействие Координирующий секретариат НАФТА (N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ответствии с Соглашением, с целью способствования торговле и инвестициям. обеспечения эффективного претворения в жизнь норм НАФТА и их администрирования были созданы более 30 рабочих групп и комите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большая часть торговли, осуществляемой в Северной Америке, происходит в соответствии с ясными, четкими и прочно установившимися нормами НАФТА и Всемирной организации торговли (ВТ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дминистрирование положений НАФТА, связанных с разрешением споров, возложено на канадскую, американскую и мексиканскую национальные секции Секритариата НАФ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ываясь на Канадско-американском соглашении о свободной торговле (NAFTA), НАФТА включает в себя (в Главе 19) уникальную систему рассмотрения экспертами, представляющими две страны, национальных решений по вопросам антидемпинга и компенсационной пошлины, замещая тем самым юридическое рассмотрение и каждой из трех стра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национальные секции НАФТА возложена ответственноть и за разрешение споров по другим соглашениям о свободной торговле, заключенными этими странами не в рамках НАФ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44720" y="0"/>
            <a:ext cx="9288360" cy="8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7ff01"/>
                </a:solidFill>
                <a:latin typeface="Franklin Gothic Book"/>
              </a:rPr>
              <a:t>Экономическая характеристика НАФТ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7640" y="691920"/>
            <a:ext cx="8567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масштабах экономической взаимосвязи США, Канады и Мексики на основе взаимной торговли и движения капитала можно судить по следующим данным. В США реализовывается около 75-80% канадского экспорта (20% ВВП Канады). Доля США в иностранных прямых инвестициях в Канаде – свыше 75% и Канады в США – 9%. В США направляется около 70% мексиканского экспорта, а оттуда поступает 65% мексиканского импорта. Доля США в общем притоке прямых иностранных инвестиций в Мексику превышает 60%. ВВП США в 14,5 раз превосходит ВВП Канады и в 19 раз – Мекс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ФТА обладает мощным (особенно благодаря США) экономическим потенциалом, например, ежегодный объем производства товаров и услуг США, Канады и Мексики равняется 5 триллионам долларов, а их доля в мировой торговле составляет почти 20%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североамериканского интеграционного комплекса имеет свои особенности по сравнению с европейской моделью интеграци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ное отличие – асимметричность экономической зависимости США, Канады и Мексики. Взаимодействие хозяйственных структур Мексики и Канады далеко уступает по глубине и масштабам канадо-американской и мексикано-американской интегрирован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ица в размерах ВВП на душу населения между Мексикой и США достигает 6,6 раза, а с Канадой – 4,1 раза. Столь существенный разрыв в уровнях экономического развития стран-членов затрудняет создание единого хозяйственного комплек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же стоит отметить, что внутри НАФТА, в отличие от ЕС и АТЭС, есть только один центр экономической силы – СШ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моноцентричность облегчает управление (страна-лидер легко может навязать свои решения более слабым партнерам), но одновременно создает среду потенциальных конфли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, Соединенные Штаты в результате заключения этого соглашения получили значительные выг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одавляющем большинстве отраслей были постепенно сведены к минимуму барьеры против иностранных производителей из стран-партнеров по НАФТА, что позволяло закупать у них многие товары дешевле, чем в самих СШ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американскими компаниями открылись гораздо более широкие возможности доступа на рынки стран-соседей, что расширяло рынок сбы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о же время различные экологические и профсоюзные группы в США, как и многие члены американского Конгресса, опасаются перемещения американской деловой активности в Мексику с ее низкими трудовыми и экологическими стандартами. Кроме того, американцы боятся усиливающегося с 1990-х потока иммигрантов из Мексики, который в 2000-е уже достиг 300 тыс. человек в год. Подобная «латиноамериканизация» США кажется многим американцам угрозой их цивилизации, основанной на ценностях протестантской европейской культуры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7467480" cy="101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О роли Мексики в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3564000" y="2492280"/>
            <a:ext cx="5429160" cy="40784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4"/>
          <p:cNvSpPr/>
          <p:nvPr/>
        </p:nvSpPr>
        <p:spPr>
          <a:xfrm>
            <a:off x="41400" y="836640"/>
            <a:ext cx="9102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Мексики членство в НАФТА означает гарантированный доступ на американский рынок, поглощающий около 80% всего мексиканского экспорта, увеличение притока иностранных инвестиц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рез региональное объединение с США Мексика стала постепенно интегрироваться в глобальную экономи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ногие иностранные компании стали переносить свою деятельность на территорию Мексики с целью проникновения на американский и канадский рын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итики мексиканского членства в НАФТА указывают на то, что выгодами от него пользуется почти исключительно элита, но не трудящие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0" y="2781360"/>
            <a:ext cx="36352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влекательность Мексики для иностранных предпринимателей связана во многом с низким уровнем жизни (низкой оплатой труда) и низкими экологическими стандартами. Поэтому США не проявляют сильной заинтересованности в улучшении жизненного уровня мексиканце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НАФТА повернуло Мексику к такой программе торговой либерализации и реструктуризации экономики, которая в будущем делает отход от нее затруднительным, а возвращение к экономической самостоятельности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ктически невозможны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15840" y="-47880"/>
            <a:ext cx="3564000" cy="23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О роли </a:t>
            </a:r>
            <a:br>
              <a:rPr sz="4600"/>
            </a:b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Канады </a:t>
            </a:r>
            <a:br>
              <a:rPr sz="4600"/>
            </a:b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в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3419640" y="115920"/>
            <a:ext cx="5618160" cy="355932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28440" y="3645000"/>
            <a:ext cx="8893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активно выступает за расширение зоны свободной торговли, считая первоочередными кандидатами на вступление в блок прежде всего Чили, а также Колумбию и Аргентину. Демонстрируя свою самостоятельность и решительность, канадцы заявили, что не станут ждать американцев, и в 1996 заключили двустороннее соглашение с Чили о свободной торговле по образцу НАФТА, а также два дополнительных – о регулировании трудовых отношений и об охране окружающей сре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заключила со многими странами Латинской Америки различные двусторонние соглашения по отдельным вопросам экономического сотрудничества, настойчиво пропагандирует идею об интеграции НАФТА с МЕРКОСУ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самым активным образом включилась в осуществление плана создания ФТА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им образом, Канада в течение всего одного десятилетия превратилась из довольно пассивного наблюдателя в полноправного и активного участника многосторонних процессов и мероприятий стран регион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КУФТА и НАФТА дало сильный импульс канадской экономике: только за 1989–2000 объем канадского экспорта более чем удвоил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28440" y="2057400"/>
            <a:ext cx="3391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– это объективно более сильный член НАФТА, чем Мексика, но более слабый, чем США. Потому Канада склонна блокироваться с Мексикой при отстаивании своих интересов, для оказания давления на Вашингт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6:58:53Z</dcterms:created>
  <dc:creator>Jack Jones</dc:creator>
  <dc:description/>
  <dc:language>en-US</dc:language>
  <cp:lastModifiedBy>Jack Jones</cp:lastModifiedBy>
  <dcterms:modified xsi:type="dcterms:W3CDTF">2012-03-06T22:25:06Z</dcterms:modified>
  <cp:revision>10</cp:revision>
  <dc:subject/>
  <dc:title>Презентация PowerPoint</dc:title>
</cp:coreProperties>
</file>