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B00-74F3-4211-8E1A-EF297D18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0FC-A78B-44F8-8EBA-7DAE4CAD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0CE-BD30-474F-B8E9-09332002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1E2-6598-44C0-BD5E-A9074B34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ADF8-3A0C-40CF-9638-C220A828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BC50-87F1-43BC-A96E-180C4148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827E-CA34-47B2-99E4-6DA29A03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EE17-8970-4B87-A2EC-5D012BF0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2408-CDA8-4B65-9CAC-DF370201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2CBC-CD68-4879-8A0A-A438042E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CF30-F8D0-4273-85CC-A9C939D3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2F3C-7005-4B53-9DFC-1E295563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8F7F-376D-4742-A1A2-734885ED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BF35-D730-4EF2-911E-114858E1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90BB-282A-415F-80B1-3E8B2D61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3D10-BD42-4F5A-8778-2E7000DA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0508-09A6-432A-BE9F-B2CB5E7F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9AD8E-0592-411C-B77D-C3F661DF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1EDE9-0244-4941-ADF9-379B7B73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62803-4D82-4C0B-B4B7-31E7A958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29C1C-6DDF-41A2-BBC9-351C7171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DFBF6-F1D2-4730-A961-EC16C487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169-F35F-46B5-AC6E-9AE108EF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DD60F-650A-4123-A3FD-5D2A0507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9E54A-1F78-4E32-81C7-B893BA1F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03752-38F6-4A60-A2EE-9FC6D492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6341D-ACFA-4841-BF10-4EF0815F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90958-60C1-40BE-B6E3-45CACA1F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5AE1E-5475-4137-B54D-F5486A8A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C7300-32F0-4F35-A84A-BF646029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65944-6934-4D2A-BD81-A1792FC4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3C1C0-90B7-43F3-B7A3-4514805A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CC182-50CE-4DE3-89C5-63444885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1B3-A2B6-4032-B3F8-9522A45D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E213A-EBE7-4762-98F9-2D8183B4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55C68-9F55-4A4D-9776-1DAB5D32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9D555-99C0-4D8A-89D5-66F5D54E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E614E-A101-4FFA-8B9B-13059E42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852A4-9090-4BF2-9F07-5FE483FA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B060F-52ED-4704-9172-EE7BF58D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37B79-17A2-4FC8-81AE-33CDDC93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46FAE-887C-440D-92C8-275E42A9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35BD8-AFEF-40D9-AE41-99A41943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5DA83-FAEF-4CF4-A6FF-8F19194D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A12-415A-488D-86D5-C324E529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A5429-0D55-4965-9A68-34DF33C1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C748F-4386-4F3F-8C2F-EDEC2028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6CC54-77F1-49E4-9D20-BACB9D45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03941-2F36-4767-83B9-87473993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577B2-C809-40A8-A2FF-EF2C2263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4D71A-E0D4-40F6-B87D-6741D2D4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1BF92-E850-49CB-83AE-8F9CFE09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F0376-B585-452E-8C76-74DE6D59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AFCA9-EEDC-450B-82C0-D8C227C3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DA5A0-E718-4DE9-9191-EE6AC684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56B6-6BE2-4C19-B4F0-5024F30E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361CB-502B-403D-9B01-FF350BE1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C3899-4700-4634-A288-1D1E2B6D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24F5D-60E8-4255-88DA-5DB1FE85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92566-49C1-4909-8A6C-D18047A4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4E9C4-AAA9-47B8-A0D8-E54613B7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F0D04-735D-4EF4-B218-B5676985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D855F-2134-45D7-9102-73BA01A7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5E8D3-942C-4F23-A5C0-F37F766E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02487-C9A7-4C12-8619-FEEFAB9E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D2DB2-0F3B-454B-BC2A-A6F8223C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0BA-7E48-4B32-86EE-E2ABB7D2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98905-2271-4B63-9403-E8844DEA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6FD06-C292-4D4C-926E-078BCF81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B9EBD-9F5C-4CEF-BCA9-29C39855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2DC-D28D-42B0-8CB4-155AD914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8DB-9775-4858-BFB3-4A195F0A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5FA7-5917-4FAE-96F2-C7B367633B8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16BC-C569-443B-9C96-1D620B88C41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8828-F1A8-4988-898E-A8264C8F98E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F455-B664-4166-A812-BE17F9FE9F1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45DD-91FF-4C70-B897-AE8AEE061B5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D448-0762-4F70-AC95-4F47AC2D644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-122400" y="2077920"/>
            <a:ext cx="8388360" cy="42800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427280" y="4437000"/>
            <a:ext cx="3133800" cy="9367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Объект 3" descr=""/>
          <p:cNvPicPr/>
          <p:nvPr/>
        </p:nvPicPr>
        <p:blipFill>
          <a:blip r:embed="rId1"/>
          <a:stretch/>
        </p:blipFill>
        <p:spPr>
          <a:xfrm>
            <a:off x="5411880" y="1628640"/>
            <a:ext cx="3705120" cy="37054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7ff01"/>
                </a:solidFill>
                <a:latin typeface="Franklin Gothic Book"/>
              </a:rPr>
              <a:t>Созда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-31680" y="1557360"/>
            <a:ext cx="6551640" cy="4473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ым шагом стал «план Эббота», принятый в 1947 году, целью которого являлось стимулирование инвестиций США             в ведущие отрасли канадской экономи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959 году США и Канада заключили соглашение о совместном военном производств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едующим шагом стало заключение в 1965 году              соглашения о либерализации торговли продукцией автомобилестро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сентябре 1988 году между США и Канадой было                  подписано американско-канадское соглашение о                  свободной торговле (CUSF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глашение о создании Североамериканской                    ассоциации свободной торговли (НАФТА) вступило                     в силу 1 января 1994 г., сохранив и подтвердив Соглашение               о свободной торговле между США и Канадой (CUSFTA) 1988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95280" y="38160"/>
            <a:ext cx="37450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7ff01"/>
                </a:solidFill>
                <a:latin typeface="Franklin Gothic Book"/>
              </a:rPr>
              <a:t>Цели НАФТ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0" name="Объект 3" descr=""/>
          <p:cNvPicPr/>
          <p:nvPr/>
        </p:nvPicPr>
        <p:blipFill>
          <a:blip r:embed="rId1"/>
          <a:stretch/>
        </p:blipFill>
        <p:spPr>
          <a:xfrm>
            <a:off x="-108000" y="-100080"/>
            <a:ext cx="4135320" cy="338472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4"/>
          <p:cNvSpPr/>
          <p:nvPr/>
        </p:nvSpPr>
        <p:spPr>
          <a:xfrm>
            <a:off x="3851280" y="836640"/>
            <a:ext cx="529272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настоящее время НАФТА представляет собой крупнейшую в мире региональную зону свободной торговли, с населением в 406 млн. человек и совокупным валовым продуктом в размере 10,3 триллиона доллар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Создание зоны свободно торговли в североамериканском регионе было обусловлено рядом факторов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еографической близостью стран-участниц и элементами взаимодополняемости структур национальных экономик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сными торговыми связями между ними и расширяющимся производственным кооперирование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тущей сетью подконтрольных предприятий американских ТНК в Канаде и Мексике и Канадских ТНК в СШ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силением позиций ЕС, Японии и новых индустриальных стран на мировом рынк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оугольник 5"/>
          <p:cNvSpPr/>
          <p:nvPr/>
        </p:nvSpPr>
        <p:spPr>
          <a:xfrm>
            <a:off x="34920" y="4376880"/>
            <a:ext cx="8713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На сегодняшний день цели НАФТА включаю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нятие барьеров и стимулирование движения товаров и услуг между странами-участниками соглаш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здание и поддержание условия для справедливой конкуренции в зоне свободной торговл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влечение инвестиций в страны-члены соглаш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беспечение должной и эффективной защиты и охраны прав интеллектуальной собственности в Зон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здание действенных механизмов внедрения и использования Соглашения, совместного решения споров и управл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становление базы для будущей трехсторонней, региональной и междунардной кооперации в целях расширения и улучшения Соглаш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34920" y="1080"/>
            <a:ext cx="5195880" cy="993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7ff01"/>
                </a:solidFill>
                <a:latin typeface="Franklin Gothic Book"/>
              </a:rPr>
              <a:t>Структура НАФТА</a:t>
            </a:r>
            <a:r>
              <a:rPr b="0" lang="ru-RU" sz="4600" spc="-1" strike="noStrike">
                <a:solidFill>
                  <a:srgbClr val="37ff01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36640"/>
            <a:ext cx="9036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Центральным институтом НАФТА является Комиссия по свободной торговле, в которую входят представители на уровне министров торговли от трех стран-участниц. Комиссия наблюдает за осуществлением и дальнейшей разработкой Соглашения и помогает разрешать споры, возникающие при интерпретации Соглашения. Она также наблюдает за работой более чем 30 комитетов и рабочих груп НАФТА. Последние собрания Комиссии проходили в Вашингтоне, США в 1997 году и в Мехико в начале 1998 год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нистры согласились о том, что Комиссия в ее работе будет оказывать содействие Координирующий секретариат НАФТА (NC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соответствии с Соглашением, с целью способствования торговле и инвестициям. обеспечения эффективного претворения в жизнь норм НАФТА и их администрирования были созданы более 30 рабочих групп и комите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настоящее время большая часть торговли, осуществляемой в Северной Америке, происходит в соответствии с ясными, четкими и прочно установившимися нормами НАФТА и Всемирной организации торговли (ВТО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дминистрирование положений НАФТА, связанных с разрешением споров, возложено на канадскую, американскую и мексиканскую национальные секции Секритариата НАФ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новываясь на Канадско-американском соглашении о свободной торговле (NAFTA), НАФТА включает в себя (в Главе 19) уникальную систему рассмотрения экспертами, представляющими две страны, национальных решений по вопросам антидемпинга и компенсационной пошлины, замещая тем самым юридическое рассмотрение и каждой из трех стран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 национальные секции НАФТА возложена ответственноть и за разрешение споров по другим соглашениям о свободной торговле, заключенными этими странами не в рамках НАФ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144720" y="0"/>
            <a:ext cx="9288360" cy="836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37ff01"/>
                </a:solidFill>
                <a:latin typeface="Franklin Gothic Book"/>
              </a:rPr>
              <a:t>Экономическая характеристика НАФТА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07640" y="691920"/>
            <a:ext cx="85676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масштабах экономической взаимосвязи США, Канады и Мексики на основе взаимной торговли и движения капитала можно судить по следующим данным. В США реализовывается около 75-80% канадского экспорта (20% ВВП Канады). Доля США в иностранных прямых инвестициях в Канаде – свыше 75% и Канады в США – 9%. В США направляется около 70% мексиканского экспорта, а оттуда поступает 65% мексиканского импорта. Доля США в общем притоке прямых иностранных инвестиций в Мексику превышает 60%. ВВП США в 14,5 раз превосходит ВВП Канады и в 19 раз – Мексик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ФТА обладает мощным (особенно благодаря США) экономическим потенциалом, например, ежегодный объем производства товаров и услуг США, Канады и Мексики равняется 5 триллионам долларов, а их доля в мировой торговле составляет почти 20%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североамериканского интеграционного комплекса имеет свои особенности по сравнению с европейской моделью интеграци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ное отличие – асимметричность экономической зависимости США, Канады и Мексики. Взаимодействие хозяйственных структур Мексики и Канады далеко уступает по глубине и масштабам канадо-американской и мексикано-американской интегрирован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ница в размерах ВВП на душу населения между Мексикой и США достигает 6,6 раза, а с Канадой – 4,1 раза. Столь существенный разрыв в уровнях экономического развития стран-членов затрудняет создание единого хозяйственного комплек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же стоит отметить, что внутри НАФТА, в отличие от ЕС и АТЭС, есть только один центр экономической силы – СШ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моноцентричность облегчает управление (страна-лидер легко может навязать свои решения более слабым партнерам), но одновременно создает среду потенциальных конфлик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днако, Соединенные Штаты в результате заключения этого соглашения получили значительные выгод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одавляющем большинстве отраслей были постепенно сведены к минимуму барьеры против иностранных производителей из стран-партнеров по НАФТА, что позволяло закупать у них многие товары дешевле, чем в самих СШ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д американскими компаниями открылись гораздо более широкие возможности доступа на рынки стран-соседей, что расширяло рынок сбы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то же время различные экологические и профсоюзные группы в США, как и многие члены американского Конгресса, опасаются перемещения американской деловой активности в Мексику с ее низкими трудовыми и экологическими стандартами. Кроме того, американцы боятся усиливающегося с 1990-х потока иммигрантов из Мексики, который в 2000-е уже достиг 300 тыс. человек в год. Подобная «латиноамериканизация» США кажется многим американцам угрозой их цивилизации, основанной на ценностях протестантской европейской культуры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6120"/>
            <a:ext cx="7467480" cy="101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b0f0"/>
                </a:solidFill>
                <a:latin typeface="Franklin Gothic Book"/>
              </a:rPr>
              <a:t>О роли Мексики в НАФТ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8" name="Объект 3" descr=""/>
          <p:cNvPicPr/>
          <p:nvPr/>
        </p:nvPicPr>
        <p:blipFill>
          <a:blip r:embed="rId1"/>
          <a:stretch/>
        </p:blipFill>
        <p:spPr>
          <a:xfrm>
            <a:off x="3564000" y="2492280"/>
            <a:ext cx="5429160" cy="407844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4"/>
          <p:cNvSpPr/>
          <p:nvPr/>
        </p:nvSpPr>
        <p:spPr>
          <a:xfrm>
            <a:off x="41400" y="836640"/>
            <a:ext cx="9102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ля Мексики членство в НАФТА означает гарантированный доступ на американский рынок, поглощающий около 80% всего мексиканского экспорта, увеличение притока иностранных инвестиц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ерез региональное объединение с США Мексика стала постепенно интегрироваться в глобальную экономику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ногие иностранные компании стали переносить свою деятельность на территорию Мексики с целью проникновения на американский и канадский рынк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итики мексиканского членства в НАФТА указывают на то, что выгодами от него пользуется почти исключительно элита, но не трудящиес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5"/>
          <p:cNvSpPr/>
          <p:nvPr/>
        </p:nvSpPr>
        <p:spPr>
          <a:xfrm>
            <a:off x="0" y="2781360"/>
            <a:ext cx="3635280" cy="36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влекательность Мексики для иностранных предпринимателей связана во многом с низким уровнем жизни (низкой оплатой труда) и низкими экологическими стандартами. Поэтому США не проявляют сильной заинтересованности в улучшении жизненного уровня мексиканце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астие в НАФТА повернуло Мексику к такой программе торговой либерализации и реструктуризации экономики, которая в будущем делает отход от нее затруднительным, а возвращение к экономической самостоятельности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актически невозможны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15840" y="-47880"/>
            <a:ext cx="3564000" cy="23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b0f0"/>
                </a:solidFill>
                <a:latin typeface="Franklin Gothic Book"/>
              </a:rPr>
              <a:t>О роли </a:t>
            </a:r>
            <a:br>
              <a:rPr sz="4600"/>
            </a:br>
            <a:r>
              <a:rPr b="1" lang="ru-RU" sz="4600" spc="-1" strike="noStrike">
                <a:solidFill>
                  <a:srgbClr val="00b0f0"/>
                </a:solidFill>
                <a:latin typeface="Franklin Gothic Book"/>
              </a:rPr>
              <a:t>Канады </a:t>
            </a:r>
            <a:br>
              <a:rPr sz="4600"/>
            </a:br>
            <a:r>
              <a:rPr b="1" lang="ru-RU" sz="4600" spc="-1" strike="noStrike">
                <a:solidFill>
                  <a:srgbClr val="00b0f0"/>
                </a:solidFill>
                <a:latin typeface="Franklin Gothic Book"/>
              </a:rPr>
              <a:t>в НАФТ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Объект 3" descr=""/>
          <p:cNvPicPr/>
          <p:nvPr/>
        </p:nvPicPr>
        <p:blipFill>
          <a:blip r:embed="rId1"/>
          <a:stretch/>
        </p:blipFill>
        <p:spPr>
          <a:xfrm>
            <a:off x="3419640" y="115920"/>
            <a:ext cx="5618160" cy="355932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4"/>
          <p:cNvSpPr/>
          <p:nvPr/>
        </p:nvSpPr>
        <p:spPr>
          <a:xfrm>
            <a:off x="28440" y="3645000"/>
            <a:ext cx="8893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нада активно выступает за расширение зоны свободной торговли, считая первоочередными кандидатами на вступление в блок прежде всего Чили, а также Колумбию и Аргентину. Демонстрируя свою самостоятельность и решительность, канадцы заявили, что не станут ждать американцев, и в 1996 заключили двустороннее соглашение с Чили о свободной торговле по образцу НАФТА, а также два дополнительных – о регулировании трудовых отношений и об охране окружающей сре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нада заключила со многими странами Латинской Америки различные двусторонние соглашения по отдельным вопросам экономического сотрудничества, настойчиво пропагандирует идею об интеграции НАФТА с МЕРКОСУР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нада самым активным образом включилась в осуществление плана создания ФТА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аким образом, Канада в течение всего одного десятилетия превратилась из довольно пассивного наблюдателя в полноправного и активного участника многосторонних процессов и мероприятий стран регион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астие в КУФТА и НАФТА дало сильный импульс канадской экономике: только за 1989–2000 объем канадского экспорта более чем удвоил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5"/>
          <p:cNvSpPr/>
          <p:nvPr/>
        </p:nvSpPr>
        <p:spPr>
          <a:xfrm>
            <a:off x="28440" y="2057400"/>
            <a:ext cx="3391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нада – это объективно более сильный член НАФТА, чем Мексика, но более слабый, чем США. Потому Канада склонна блокироваться с Мексикой при отстаивании своих интересов, для оказания давления на Вашингтон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6:58:53Z</dcterms:created>
  <dc:creator>Jack Jones</dc:creator>
  <dc:description/>
  <dc:language>en-US</dc:language>
  <cp:lastModifiedBy>Jack Jones</cp:lastModifiedBy>
  <dcterms:modified xsi:type="dcterms:W3CDTF">2012-03-06T22:25:06Z</dcterms:modified>
  <cp:revision>10</cp:revision>
  <dc:subject/>
  <dc:title>Презентация PowerPoint</dc:title>
</cp:coreProperties>
</file>