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0D47-60DB-419E-84FB-3D871F9E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4CBD-0534-487D-8261-B9EBD0CC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B8E2-8E41-4A08-A717-BD13308F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DC0A-4CC4-4FFB-ADB7-C033C556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18DC-A9EB-40C3-B3A7-EB822B5F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A844-D9F2-43C7-AB7D-B66A6582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15DA-7BA1-4D71-9CBD-A43FE906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BE5D-679E-4FB7-8D2D-57424ADD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8934-00A1-474F-9625-829136CA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5E02-A59B-462A-9510-2F3A8B25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E5EE-6B4A-4D92-88FB-BFBA8804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0A80-A89A-43EA-BC6F-1399FA87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0FE0-BD0E-4653-AECC-F412EA81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4B83-208D-4F6A-87A2-F7B9C18E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ADDA-B3D7-49E3-B108-A1EF001F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4F38-104A-4720-AC27-C27E58AA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DBE0-33D1-44B6-9578-27C425F5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BCFE9-AA55-47A5-994A-93AF446B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EEA38-6927-47D6-8895-BF6CD6E2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CEA22-58FC-4A30-AE91-F0DA5A5A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52EC8-B36E-4619-A174-E5D7AC57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85F05-55EF-4BB1-8895-87C4074C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24E8-ACE1-4A9C-A46D-E1BEA76A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7C70F-0031-48F9-8DCA-09CBB897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A6065-40D6-4CB7-A655-9FE4A197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FEFD6-8481-4F04-B763-1AF775C0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0D8AC-5F29-4AF0-AB51-64096466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089FE-5D40-480E-B110-9010D316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C81A7-FB1C-4FCC-B103-EA614FDC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33282-DEA0-41EF-99E7-36B21B40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4670C-BFCD-466B-887C-F7AACF2F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0D2C9-3FE1-4BB1-B0EF-67AFE5F0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13CC1-9735-46C5-A663-6F99F6CE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B679-B948-4853-8833-1A175789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0284D-D7B7-4CFA-A273-3397DFE4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2BA8A-26E0-45CF-8994-FCAD2448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929D3-D1DE-4CFC-AFA0-12E579C8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C7306-D01C-41FB-B694-6A1375B3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18D4B-D2B1-4A61-B6FD-23B41758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1966C-9D60-4083-A9FF-0EE76E03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D7E95-DF4E-4F02-89A6-E12C67BE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76821-8AFA-457B-86DC-316DE5D2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B202A-1224-44DA-9220-29211E21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C9361-5B08-4917-91A1-34874097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0C30-A8CD-4627-B96B-44A0FB85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11DBA-B5D0-44CD-8165-0A594156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32A06-EE9A-47A3-9757-D29AED52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3CCA2-7A2F-41E9-830D-93A72FD4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B0EA6-C4C6-484C-A0E8-6174E7EE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07A7D-3AF2-4722-96FA-D866EFC2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09599-B2D8-46A3-9D85-9C42EC36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2494A-C2D4-4559-925F-AADBF793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36970-29A0-4FAB-B05E-12867928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CFDA0-0EC4-4494-BD2D-8AC4730F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E1D6A-A905-462B-B308-7758C7FA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CE53-F10F-48AF-9E45-34FB78C2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A8BE3-58DA-453B-97A1-5E90086E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8CF42-D71B-4507-A047-1B8DC717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BE869-A613-45AD-9DCC-840B2BD3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9F95B-30B8-4AE7-9B25-1176B0D6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44C81-20C0-45F4-AE2E-897093ED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59261-C8D1-41ED-8CE9-04076FC2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253BB-705C-40E1-95EA-DD528028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74628-8EFB-43CA-B9BA-4EF0DA29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1C802-4332-4CE0-B28D-F5B02055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7D7BE-062C-432C-8BCB-7929AFF7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9B3A-1D5C-4A27-9781-EFA949AB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715D7-5596-46AC-9E0F-FB8BD975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7E93E-B8EA-4DB1-A6C1-738EB935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5CCD8-D447-4D27-A18C-C8508E25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565B-9EEB-4634-900A-B064F6A8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DC89-EBF3-4584-A0DB-0826DA1C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3167-ED53-4CF1-A896-C00DA5EE3E5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A0E8-C223-4C9D-88D5-F1F1987D0B4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8615-B244-47BB-823C-7127EFDD4AE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75D8-AC7B-4127-AE9A-E1D9ADEA679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41F0-9A3B-4F8A-8CF4-AF22D22A4E9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B419-48BA-41F3-AD22-D47211DE1F5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-122400" y="2077920"/>
            <a:ext cx="8388360" cy="42800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427280" y="4437000"/>
            <a:ext cx="3133800" cy="93672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ы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Объект 3" descr=""/>
          <p:cNvPicPr/>
          <p:nvPr/>
        </p:nvPicPr>
        <p:blipFill>
          <a:blip r:embed="rId1"/>
          <a:stretch/>
        </p:blipFill>
        <p:spPr>
          <a:xfrm>
            <a:off x="5411880" y="1628640"/>
            <a:ext cx="3705120" cy="37054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7ff01"/>
                </a:solidFill>
                <a:latin typeface="Franklin Gothic Book"/>
              </a:rPr>
              <a:t>Созда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Прямоугольник 4"/>
          <p:cNvSpPr/>
          <p:nvPr/>
        </p:nvSpPr>
        <p:spPr>
          <a:xfrm>
            <a:off x="-31680" y="1557360"/>
            <a:ext cx="6551640" cy="4473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ым шагом стал «план Эббота», принятый в 1947 году, целью которого являлось стимулирование инвестиций США             в ведущие отрасли канадской экономик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1959 году США и Канада заключили соглашение о совместном военном производств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едующим шагом стало заключение в 1965 году              соглашения о либерализации торговли продукцией автомобилестро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сентябре 1988 году между США и Канадой было                  подписано американско-канадское соглашение о                  свободной торговле (CUSFT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глашение о создании Североамериканской                    ассоциации свободной торговли (НАФТА) вступило                     в силу 1 января 1994 г., сохранив и подтвердив Соглашение               о свободной торговле между США и Канадой (CUSFTA) 1988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95280" y="38160"/>
            <a:ext cx="374508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7ff01"/>
                </a:solidFill>
                <a:latin typeface="Franklin Gothic Book"/>
              </a:rPr>
              <a:t>Цели НАФТ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0" name="Объект 3" descr=""/>
          <p:cNvPicPr/>
          <p:nvPr/>
        </p:nvPicPr>
        <p:blipFill>
          <a:blip r:embed="rId1"/>
          <a:stretch/>
        </p:blipFill>
        <p:spPr>
          <a:xfrm>
            <a:off x="-108000" y="-100080"/>
            <a:ext cx="4135320" cy="338472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4"/>
          <p:cNvSpPr/>
          <p:nvPr/>
        </p:nvSpPr>
        <p:spPr>
          <a:xfrm>
            <a:off x="3851280" y="836640"/>
            <a:ext cx="529272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настоящее время НАФТА представляет собой крупнейшую в мире региональную зону свободной торговли, с населением в 406 млн. человек и совокупным валовым продуктом в размере 10,3 триллиона доллар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Создание зоны свободно торговли в североамериканском регионе было обусловлено рядом факторов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еографической близостью стран-участниц и элементами взаимодополняемости структур национальных экономик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сными торговыми связями между ними и расширяющимся производственным кооперирование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тущей сетью подконтрольных предприятий американских ТНК в Канаде и Мексике и Канадских ТНК в СШ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силением позиций ЕС, Японии и новых индустриальных стран на мировом рынк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рямоугольник 5"/>
          <p:cNvSpPr/>
          <p:nvPr/>
        </p:nvSpPr>
        <p:spPr>
          <a:xfrm>
            <a:off x="34920" y="4376880"/>
            <a:ext cx="8713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На сегодняшний день цели НАФТА включают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нятие барьеров и стимулирование движения товаров и услуг между странами-участниками соглаш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здание и поддержание условия для справедливой конкуренции в зоне свободной торговл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влечение инвестиций в страны-члены соглаш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беспечение должной и эффективной защиты и охраны прав интеллектуальной собственности в Зон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здание действенных механизмов внедрения и использования Соглашения, совместного решения споров и управл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становление базы для будущей трехсторонней, региональной и междунардной кооперации в целях расширения и улучшения Соглаш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834920" y="1080"/>
            <a:ext cx="5195880" cy="993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7ff01"/>
                </a:solidFill>
                <a:latin typeface="Franklin Gothic Book"/>
              </a:rPr>
              <a:t>Структура НАФТА</a:t>
            </a:r>
            <a:r>
              <a:rPr b="0" lang="ru-RU" sz="4600" spc="-1" strike="noStrike">
                <a:solidFill>
                  <a:srgbClr val="37ff01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36640"/>
            <a:ext cx="9036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Центральным институтом НАФТА является Комиссия по свободной торговле, в которую входят представители на уровне министров торговли от трех стран-участниц. Комиссия наблюдает за осуществлением и дальнейшей разработкой Соглашения и помогает разрешать споры, возникающие при интерпретации Соглашения. Она также наблюдает за работой более чем 30 комитетов и рабочих груп НАФТА. Последние собрания Комиссии проходили в Вашингтоне, США в 1997 году и в Мехико в начале 1998 год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нистры согласились о том, что Комиссия в ее работе будет оказывать содействие Координирующий секретариат НАФТА (NC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соответствии с Соглашением, с целью способствования торговле и инвестициям. обеспечения эффективного претворения в жизнь норм НАФТА и их администрирования были созданы более 30 рабочих групп и комитет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настоящее время большая часть торговли, осуществляемой в Северной Америке, происходит в соответствии с ясными, четкими и прочно установившимися нормами НАФТА и Всемирной организации торговли (ВТО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дминистрирование положений НАФТА, связанных с разрешением споров, возложено на канадскую, американскую и мексиканскую национальные секции Секритариата НАФТ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новываясь на Канадско-американском соглашении о свободной торговле (NAFTA), НАФТА включает в себя (в Главе 19) уникальную систему рассмотрения экспертами, представляющими две страны, национальных решений по вопросам антидемпинга и компенсационной пошлины, замещая тем самым юридическое рассмотрение и каждой из трех стран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36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 национальные секции НАФТА возложена ответственноть и за разрешение споров по другим соглашениям о свободной торговле, заключенными этими странами не в рамках НАФТ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144720" y="0"/>
            <a:ext cx="9288360" cy="836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37ff01"/>
                </a:solidFill>
                <a:latin typeface="Franklin Gothic Book"/>
              </a:rPr>
              <a:t>Экономическая характеристика НАФТА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07640" y="691920"/>
            <a:ext cx="85676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масштабах экономической взаимосвязи США, Канады и Мексики на основе взаимной торговли и движения капитала можно судить по следующим данным. В США реализовывается около 75-80% канадского экспорта (20% ВВП Канады). Доля США в иностранных прямых инвестициях в Канаде – свыше 75% и Канады в США – 9%. В США направляется около 70% мексиканского экспорта, а оттуда поступает 65% мексиканского импорта. Доля США в общем притоке прямых иностранных инвестиций в Мексику превышает 60%. ВВП США в 14,5 раз превосходит ВВП Канады и в 19 раз – Мексики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ФТА обладает мощным (особенно благодаря США) экономическим потенциалом, например, ежегодный объем производства товаров и услуг США, Канады и Мексики равняется 5 триллионам долларов, а их доля в мировой торговле составляет почти 20%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североамериканского интеграционного комплекса имеет свои особенности по сравнению с европейской моделью интеграции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ное отличие – асимметричность экономической зависимости США, Канады и Мексики. Взаимодействие хозяйственных структур Мексики и Канады далеко уступает по глубине и масштабам канадо-американской и мексикано-американской интегрированн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ница в размерах ВВП на душу населения между Мексикой и США достигает 6,6 раза, а с Канадой – 4,1 раза. Столь существенный разрыв в уровнях экономического развития стран-членов затрудняет создание единого хозяйственного комплек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же стоит отметить, что внутри НАФТА, в отличие от ЕС и АТЭС, есть только один центр экономической силы – СШ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 моноцентричность облегчает управление (страна-лидер легко может навязать свои решения более слабым партнерам), но одновременно создает среду потенциальных конфликт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днако, Соединенные Штаты в результате заключения этого соглашения получили значительные выгод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одавляющем большинстве отраслей были постепенно сведены к минимуму барьеры против иностранных производителей из стран-партнеров по НАФТА, что позволяло закупать у них многие товары дешевле, чем в самих СШ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д американскими компаниями открылись гораздо более широкие возможности доступа на рынки стран-соседей, что расширяло рынок сбы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то же время различные экологические и профсоюзные группы в США, как и многие члены американского Конгресса, опасаются перемещения американской деловой активности в Мексику с ее низкими трудовыми и экологическими стандартами. Кроме того, американцы боятся усиливающегося с 1990-х потока иммигрантов из Мексики, который в 2000-е уже достиг 300 тыс. человек в год. Подобная «латиноамериканизация» США кажется многим американцам угрозой их цивилизации, основанной на ценностях протестантской европейской культуры.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6120"/>
            <a:ext cx="7467480" cy="101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b0f0"/>
                </a:solidFill>
                <a:latin typeface="Franklin Gothic Book"/>
              </a:rPr>
              <a:t>О роли Мексики в НАФТ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8" name="Объект 3" descr=""/>
          <p:cNvPicPr/>
          <p:nvPr/>
        </p:nvPicPr>
        <p:blipFill>
          <a:blip r:embed="rId1"/>
          <a:stretch/>
        </p:blipFill>
        <p:spPr>
          <a:xfrm>
            <a:off x="3564000" y="2492280"/>
            <a:ext cx="5429160" cy="407844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оугольник 4"/>
          <p:cNvSpPr/>
          <p:nvPr/>
        </p:nvSpPr>
        <p:spPr>
          <a:xfrm>
            <a:off x="41400" y="836640"/>
            <a:ext cx="9102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ля Мексики членство в НАФТА означает гарантированный доступ на американский рынок, поглощающий около 80% всего мексиканского экспорта, увеличение притока иностранных инвестици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Через региональное объединение с США Мексика стала постепенно интегрироваться в глобальную экономику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ногие иностранные компании стали переносить свою деятельность на территорию Мексики с целью проникновения на американский и канадский рынк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итики мексиканского членства в НАФТА указывают на то, что выгодами от него пользуется почти исключительно элита, но не трудящиес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5"/>
          <p:cNvSpPr/>
          <p:nvPr/>
        </p:nvSpPr>
        <p:spPr>
          <a:xfrm>
            <a:off x="0" y="2781360"/>
            <a:ext cx="3635280" cy="36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влекательность Мексики для иностранных предпринимателей связана во многом с низким уровнем жизни (низкой оплатой труда) и низкими экологическими стандартами. Поэтому США не проявляют сильной заинтересованности в улучшении жизненного уровня мексиканце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частие в НАФТА повернуло Мексику к такой программе торговой либерализации и реструктуризации экономики, которая в будущем делает отход от нее затруднительным, а возвращение к экономической самостоятельности –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актически невозможны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15840" y="-47880"/>
            <a:ext cx="3564000" cy="23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b0f0"/>
                </a:solidFill>
                <a:latin typeface="Franklin Gothic Book"/>
              </a:rPr>
              <a:t>О роли </a:t>
            </a:r>
            <a:br>
              <a:rPr sz="4600"/>
            </a:br>
            <a:r>
              <a:rPr b="1" lang="ru-RU" sz="4600" spc="-1" strike="noStrike">
                <a:solidFill>
                  <a:srgbClr val="00b0f0"/>
                </a:solidFill>
                <a:latin typeface="Franklin Gothic Book"/>
              </a:rPr>
              <a:t>Канады </a:t>
            </a:r>
            <a:br>
              <a:rPr sz="4600"/>
            </a:br>
            <a:r>
              <a:rPr b="1" lang="ru-RU" sz="4600" spc="-1" strike="noStrike">
                <a:solidFill>
                  <a:srgbClr val="00b0f0"/>
                </a:solidFill>
                <a:latin typeface="Franklin Gothic Book"/>
              </a:rPr>
              <a:t>в НАФТ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Объект 3" descr=""/>
          <p:cNvPicPr/>
          <p:nvPr/>
        </p:nvPicPr>
        <p:blipFill>
          <a:blip r:embed="rId1"/>
          <a:stretch/>
        </p:blipFill>
        <p:spPr>
          <a:xfrm>
            <a:off x="3419640" y="115920"/>
            <a:ext cx="5618160" cy="3559320"/>
          </a:xfrm>
          <a:prstGeom prst="rect">
            <a:avLst/>
          </a:prstGeom>
          <a:ln w="0">
            <a:noFill/>
          </a:ln>
        </p:spPr>
      </p:pic>
      <p:sp>
        <p:nvSpPr>
          <p:cNvPr id="273" name="Прямоугольник 4"/>
          <p:cNvSpPr/>
          <p:nvPr/>
        </p:nvSpPr>
        <p:spPr>
          <a:xfrm>
            <a:off x="28440" y="3645000"/>
            <a:ext cx="88934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нада активно выступает за расширение зоны свободной торговли, считая первоочередными кандидатами на вступление в блок прежде всего Чили, а также Колумбию и Аргентину. Демонстрируя свою самостоятельность и решительность, канадцы заявили, что не станут ждать американцев, и в 1996 заключили двустороннее соглашение с Чили о свободной торговле по образцу НАФТА, а также два дополнительных – о регулировании трудовых отношений и об охране окружающей сред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нада заключила со многими странами Латинской Америки различные двусторонние соглашения по отдельным вопросам экономического сотрудничества, настойчиво пропагандирует идею об интеграции НАФТА с МЕРКОСУР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нада самым активным образом включилась в осуществление плана создания ФТА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аким образом, Канада в течение всего одного десятилетия превратилась из довольно пассивного наблюдателя в полноправного и активного участника многосторонних процессов и мероприятий стран регион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частие в КУФТА и НАФТА дало сильный импульс канадской экономике: только за 1989–2000 объем канадского экспорта более чем удвоил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оугольник 5"/>
          <p:cNvSpPr/>
          <p:nvPr/>
        </p:nvSpPr>
        <p:spPr>
          <a:xfrm>
            <a:off x="28440" y="2057400"/>
            <a:ext cx="33912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нада – это объективно более сильный член НАФТА, чем Мексика, но более слабый, чем США. Потому Канада склонна блокироваться с Мексикой при отстаивании своих интересов, для оказания давления на Вашингтон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16:58:53Z</dcterms:created>
  <dc:creator>Jack Jones</dc:creator>
  <dc:description/>
  <dc:language>en-US</dc:language>
  <cp:lastModifiedBy>Jack Jones</cp:lastModifiedBy>
  <dcterms:modified xsi:type="dcterms:W3CDTF">2012-03-06T22:25:06Z</dcterms:modified>
  <cp:revision>10</cp:revision>
  <dc:subject/>
  <dc:title>Презентация PowerPoint</dc:title>
</cp:coreProperties>
</file>