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F5E-9736-4CF1-8E1F-74671A59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7F4-88E6-411F-B7CB-4BB7E692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6CE-1352-4F4D-AA48-6F9E916C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8B5-6114-4D26-9951-C6CA4477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5A7-C8F1-4D1A-AAD7-7225978E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E45-C17F-4877-A13E-2560FF03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FBE-4796-44B6-A0AA-040191D9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FF5-D736-4D28-97C0-CA25ABDC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A5E-0D97-4C92-A88E-BC2753C1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0FF-767B-4818-9E95-5EE91E9A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3E9-357B-4FF5-AC55-43D0597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A08-E245-4D63-962C-0AEBC78B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E4DA-821E-4BA1-93FB-26316BF50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ff"/>
                </a:solidFill>
                <a:latin typeface="Arial"/>
              </a:rPr>
              <a:t>ВОЗНИКНОВ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ff"/>
                </a:solidFill>
                <a:latin typeface="Arial"/>
              </a:rPr>
              <a:t>ОБЛАСТЕЙ МУ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1484280"/>
            <a:ext cx="33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тема полуго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зыка театра менестр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льные номера, в которых белые артисты изображали пародии на яркие негритянские типажи (насмешка над черными рабами) получили название -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шоу менестре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даментом для этой музыки служили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европей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американ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пулярная музыка с примесью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африканской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юз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грустный», «меланхоличный», иначе говоря «когда на душе скребут кош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* Появился намного раньше дж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* В нем говорится о безответной любви,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справедливости, тоске по Родине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нова блю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ная протяжная мелодия, написанная чащ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иноре и  в медленном темп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низывающая «жалующаяся» интон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98100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гритянские светские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2781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3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91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Джаз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Arial"/>
              </a:rPr>
              <a:t>жанр, имеющий несколько народных кор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узыка с неповторимым ритмом – «синкоп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всегда коллективная импровизация  - сочинение без подготовки на заданную т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яркое музыкальное явление, переросшее в сложную профессиональную музыку и дающее жизнь новым музыкальным жанрам</a:t>
            </a:r>
            <a:r>
              <a:rPr b="0" lang="ru-RU" sz="2400" spc="-1" strike="noStrike">
                <a:solidFill>
                  <a:srgbClr val="ccff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узыка, объединившая людей с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разным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цветом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кож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 rot="21135600">
            <a:off x="2626920" y="836640"/>
            <a:ext cx="2303640" cy="360360"/>
          </a:xfrm>
          <a:custGeom>
            <a:avLst/>
            <a:gdLst>
              <a:gd name="textAreaLeft" fmla="*/ 465840 w 2303640"/>
              <a:gd name="textAreaRight" fmla="*/ 1621800 w 230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39" hR="21600" stAng="10800000" swAng="-5400000"/>
                <a:lnTo>
                  <a:pt x="10838" y="21600"/>
                </a:lnTo>
                <a:arcTo wR="8739" hR="21600" stAng="5400000" swAng="-2931045"/>
                <a:lnTo>
                  <a:pt x="21100" y="7200"/>
                </a:lnTo>
                <a:lnTo>
                  <a:pt x="18528" y="0"/>
                </a:lnTo>
                <a:lnTo>
                  <a:pt x="14955" y="7200"/>
                </a:lnTo>
                <a:lnTo>
                  <a:pt x="16978" y="7200"/>
                </a:lnTo>
                <a:arcTo wR="8739" hR="21600" stAng="2468955" swAng="2762928"/>
                <a:lnTo>
                  <a:pt x="9789" y="21444"/>
                </a:lnTo>
                <a:arcTo wR="8739" hR="21600" stAng="5568117" swAng="5231883"/>
                <a:close/>
              </a:path>
              <a:path fill="darkenLess" w="21600" h="21600">
                <a:moveTo>
                  <a:pt x="0" y="0"/>
                </a:moveTo>
                <a:arcTo wR="8739" hR="21600" stAng="10800000" swAng="-5400000"/>
                <a:lnTo>
                  <a:pt x="10838" y="21600"/>
                </a:lnTo>
                <a:arcTo wR="8739" hR="21600" stAng="5400000" swAng="168117"/>
                <a:lnTo>
                  <a:pt x="9789" y="21444"/>
                </a:lnTo>
                <a:arcTo wR="8739" hR="21600" stAng="5568117" swAng="523188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1052640"/>
            <a:ext cx="2305080" cy="1296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324800">
            <a:off x="7007400" y="768600"/>
            <a:ext cx="162000" cy="170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1392120"/>
            <a:ext cx="2160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одская бытовая музы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II-XI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Европ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10828800">
            <a:off x="8172720" y="2848680"/>
            <a:ext cx="27792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9" y="1065"/>
                  <a:pt x="5938" y="5080"/>
                  <a:pt x="5938" y="10800"/>
                </a:cubicBezTo>
                <a:cubicBezTo>
                  <a:pt x="5938" y="16520"/>
                  <a:pt x="13769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2075040"/>
            <a:ext cx="2305080" cy="128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зникновение областей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060640"/>
            <a:ext cx="6769080" cy="39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0240" y="1353600"/>
            <a:ext cx="2544840" cy="2651760"/>
            <a:chOff x="30240" y="1353600"/>
            <a:chExt cx="2544840" cy="2651760"/>
          </a:xfrm>
        </p:grpSpPr>
        <p:sp>
          <p:nvSpPr>
            <p:cNvPr id="52" name=""/>
            <p:cNvSpPr/>
            <p:nvPr/>
          </p:nvSpPr>
          <p:spPr>
            <a:xfrm flipV="1" rot="18199800">
              <a:off x="-221400" y="2086560"/>
              <a:ext cx="2016000" cy="484200"/>
            </a:xfrm>
            <a:custGeom>
              <a:avLst/>
              <a:gdLst>
                <a:gd name="textAreaLeft" fmla="*/ 407880 w 2016000"/>
                <a:gd name="textAreaRight" fmla="*/ 1419480 w 2016000"/>
                <a:gd name="textAreaTop" fmla="*/ 64800 h 484200"/>
                <a:gd name="textAreaBottom" fmla="*/ 419400 h 48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-2931045"/>
                  <a:lnTo>
                    <a:pt x="21100" y="7200"/>
                  </a:lnTo>
                  <a:lnTo>
                    <a:pt x="18528" y="0"/>
                  </a:lnTo>
                  <a:lnTo>
                    <a:pt x="14955" y="7200"/>
                  </a:lnTo>
                  <a:lnTo>
                    <a:pt x="16978" y="7200"/>
                  </a:lnTo>
                  <a:arcTo wR="8739" hR="21600" stAng="2468955" swAng="2762928"/>
                  <a:lnTo>
                    <a:pt x="9789" y="21444"/>
                  </a:lnTo>
                  <a:arcTo wR="8739" hR="21600" stAng="5568117" swAng="5231883"/>
                  <a:close/>
                </a:path>
                <a:path fill="darkenLess"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168117"/>
                  <a:lnTo>
                    <a:pt x="9789" y="21444"/>
                  </a:lnTo>
                  <a:arcTo wR="8739" hR="21600" stAng="5568117" swAng="5231883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08000" y="2781360"/>
              <a:ext cx="2467080" cy="1224000"/>
              <a:chOff x="108000" y="2781360"/>
              <a:chExt cx="2467080" cy="1224000"/>
            </a:xfrm>
          </p:grpSpPr>
          <p:sp>
            <p:nvSpPr>
              <p:cNvPr id="54" name=""/>
              <p:cNvSpPr/>
              <p:nvPr/>
            </p:nvSpPr>
            <p:spPr>
              <a:xfrm>
                <a:off x="108000" y="2781360"/>
                <a:ext cx="2376360" cy="122400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0920" y="2982960"/>
                <a:ext cx="23241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Этническая музы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(фольклор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2 тыс. лет до н.э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79280" y="3716280"/>
            <a:ext cx="8498160" cy="3268440"/>
            <a:chOff x="179280" y="3716280"/>
            <a:chExt cx="8498160" cy="3268440"/>
          </a:xfrm>
        </p:grpSpPr>
        <p:sp>
          <p:nvSpPr>
            <p:cNvPr id="57" name=""/>
            <p:cNvSpPr/>
            <p:nvPr/>
          </p:nvSpPr>
          <p:spPr>
            <a:xfrm rot="616800">
              <a:off x="3634920" y="6448320"/>
              <a:ext cx="1949400" cy="365400"/>
            </a:xfrm>
            <a:custGeom>
              <a:avLst/>
              <a:gdLst>
                <a:gd name="textAreaLeft" fmla="*/ 394200 w 1949400"/>
                <a:gd name="textAreaRight" fmla="*/ 1372680 w 1949400"/>
                <a:gd name="textAreaTop" fmla="*/ 48960 h 365400"/>
                <a:gd name="textAreaBottom" fmla="*/ 31644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-2931045"/>
                  <a:lnTo>
                    <a:pt x="21100" y="7200"/>
                  </a:lnTo>
                  <a:lnTo>
                    <a:pt x="18528" y="0"/>
                  </a:lnTo>
                  <a:lnTo>
                    <a:pt x="14955" y="7200"/>
                  </a:lnTo>
                  <a:lnTo>
                    <a:pt x="16978" y="7200"/>
                  </a:lnTo>
                  <a:arcTo wR="8739" hR="21600" stAng="2468955" swAng="2762928"/>
                  <a:lnTo>
                    <a:pt x="9789" y="21444"/>
                  </a:lnTo>
                  <a:arcTo wR="8739" hR="21600" stAng="5568117" swAng="5231883"/>
                  <a:close/>
                </a:path>
                <a:path fill="darkenLess"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168117"/>
                  <a:lnTo>
                    <a:pt x="9789" y="21444"/>
                  </a:lnTo>
                  <a:arcTo wR="8739" hR="21600" stAng="5568117" swAng="5231883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969200">
              <a:off x="480600" y="6021000"/>
              <a:ext cx="2222640" cy="345960"/>
            </a:xfrm>
            <a:custGeom>
              <a:avLst/>
              <a:gdLst>
                <a:gd name="textAreaLeft" fmla="*/ 449640 w 2222640"/>
                <a:gd name="textAreaRight" fmla="*/ 1564920 w 2222640"/>
                <a:gd name="textAreaTop" fmla="*/ 46080 h 345960"/>
                <a:gd name="textAreaBottom" fmla="*/ 29988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-2931045"/>
                  <a:lnTo>
                    <a:pt x="21100" y="7200"/>
                  </a:lnTo>
                  <a:lnTo>
                    <a:pt x="18528" y="0"/>
                  </a:lnTo>
                  <a:lnTo>
                    <a:pt x="14955" y="7200"/>
                  </a:lnTo>
                  <a:lnTo>
                    <a:pt x="16978" y="7200"/>
                  </a:lnTo>
                  <a:arcTo wR="8739" hR="21600" stAng="2468955" swAng="2762928"/>
                  <a:lnTo>
                    <a:pt x="9789" y="21444"/>
                  </a:lnTo>
                  <a:arcTo wR="8739" hR="21600" stAng="5568117" swAng="5231883"/>
                  <a:close/>
                </a:path>
                <a:path fill="darkenLess" w="21600" h="21600">
                  <a:moveTo>
                    <a:pt x="0" y="0"/>
                  </a:moveTo>
                  <a:arcTo wR="8739" hR="21600" stAng="10800000" swAng="-5400000"/>
                  <a:lnTo>
                    <a:pt x="10838" y="21600"/>
                  </a:lnTo>
                  <a:arcTo wR="8739" hR="21600" stAng="5400000" swAng="168117"/>
                  <a:lnTo>
                    <a:pt x="9789" y="21444"/>
                  </a:lnTo>
                  <a:arcTo wR="8739" hR="21600" stAng="5568117" swAng="5231883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000" y="3716280"/>
              <a:ext cx="144360" cy="503280"/>
            </a:xfrm>
            <a:prstGeom prst="downArrow">
              <a:avLst>
                <a:gd name="adj1" fmla="val 50000"/>
                <a:gd name="adj2" fmla="val 8715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" y="4221000"/>
              <a:ext cx="144360" cy="400320"/>
            </a:xfrm>
            <a:prstGeom prst="upArrow">
              <a:avLst>
                <a:gd name="adj1" fmla="val 50000"/>
                <a:gd name="adj2" fmla="val 6932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79280" y="4292640"/>
              <a:ext cx="2376360" cy="1297080"/>
              <a:chOff x="179280" y="4292640"/>
              <a:chExt cx="2376360" cy="1297080"/>
            </a:xfrm>
          </p:grpSpPr>
          <p:sp>
            <p:nvSpPr>
              <p:cNvPr id="62" name=""/>
              <p:cNvSpPr/>
              <p:nvPr/>
            </p:nvSpPr>
            <p:spPr>
              <a:xfrm>
                <a:off x="179280" y="4292640"/>
                <a:ext cx="2376360" cy="12970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4520" y="4576680"/>
                <a:ext cx="2247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Религиозная музы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606 го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Verdana"/>
                  </a:rPr>
                  <a:t>(Европ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124000" y="5373720"/>
              <a:ext cx="2376360" cy="1368360"/>
              <a:chOff x="2124000" y="5373720"/>
              <a:chExt cx="2376360" cy="1368360"/>
            </a:xfrm>
          </p:grpSpPr>
          <p:sp>
            <p:nvSpPr>
              <p:cNvPr id="65" name=""/>
              <p:cNvSpPr/>
              <p:nvPr/>
            </p:nvSpPr>
            <p:spPr>
              <a:xfrm>
                <a:off x="2124000" y="5373720"/>
                <a:ext cx="2376360" cy="136836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68360" y="5703840"/>
                <a:ext cx="208908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Камерная музы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I-XIII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(Франция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741200" y="5373720"/>
              <a:ext cx="2427120" cy="1295280"/>
              <a:chOff x="4741200" y="5373720"/>
              <a:chExt cx="2427120" cy="1295280"/>
            </a:xfrm>
          </p:grpSpPr>
          <p:sp>
            <p:nvSpPr>
              <p:cNvPr id="68" name=""/>
              <p:cNvSpPr/>
              <p:nvPr/>
            </p:nvSpPr>
            <p:spPr>
              <a:xfrm>
                <a:off x="4765680" y="5373720"/>
                <a:ext cx="2303640" cy="1295280"/>
              </a:xfrm>
              <a:prstGeom prst="ellipse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41200" y="5726160"/>
                <a:ext cx="2427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нцертно-академическая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музыка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IV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(Англия - Италия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372360" y="3860640"/>
              <a:ext cx="2305080" cy="1297080"/>
              <a:chOff x="6372360" y="3860640"/>
              <a:chExt cx="2305080" cy="1297080"/>
            </a:xfrm>
          </p:grpSpPr>
          <p:sp>
            <p:nvSpPr>
              <p:cNvPr id="71" name=""/>
              <p:cNvSpPr/>
              <p:nvPr/>
            </p:nvSpPr>
            <p:spPr>
              <a:xfrm>
                <a:off x="6372360" y="3860640"/>
                <a:ext cx="2305080" cy="1297080"/>
              </a:xfrm>
              <a:prstGeom prst="ellipse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16720" y="4164120"/>
                <a:ext cx="2016000" cy="71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Рок-музы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60-е годы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X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(Англия-Америк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2709000" y="2149560"/>
            <a:ext cx="3262320" cy="3278880"/>
            <a:chOff x="2709000" y="2149560"/>
            <a:chExt cx="3262320" cy="3278880"/>
          </a:xfrm>
        </p:grpSpPr>
        <p:sp>
          <p:nvSpPr>
            <p:cNvPr id="74" name=""/>
            <p:cNvSpPr/>
            <p:nvPr/>
          </p:nvSpPr>
          <p:spPr>
            <a:xfrm rot="1968600">
              <a:off x="3809880" y="2831760"/>
              <a:ext cx="1214640" cy="887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06200">
              <a:off x="3147120" y="3644640"/>
              <a:ext cx="1928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КОНФЛИ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49000">
              <a:off x="3114360" y="3917520"/>
              <a:ext cx="1326960" cy="809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28800">
              <a:off x="3994920" y="2637000"/>
              <a:ext cx="20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ССКУЛЬ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078400">
              <a:off x="2698560" y="472428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МУЗЫ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43640" y="2060640"/>
            <a:ext cx="2305080" cy="1297080"/>
            <a:chOff x="6443640" y="2060640"/>
            <a:chExt cx="2305080" cy="1297080"/>
          </a:xfrm>
        </p:grpSpPr>
        <p:sp>
          <p:nvSpPr>
            <p:cNvPr id="80" name=""/>
            <p:cNvSpPr/>
            <p:nvPr/>
          </p:nvSpPr>
          <p:spPr>
            <a:xfrm>
              <a:off x="6443640" y="2060640"/>
              <a:ext cx="2305080" cy="12970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16720" y="2243160"/>
              <a:ext cx="216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жазовая музы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90годы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I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Северная Америк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284720" y="907920"/>
            <a:ext cx="2347920" cy="1297080"/>
            <a:chOff x="4284720" y="907920"/>
            <a:chExt cx="2347920" cy="1297080"/>
          </a:xfrm>
        </p:grpSpPr>
        <p:sp>
          <p:nvSpPr>
            <p:cNvPr id="83" name=""/>
            <p:cNvSpPr/>
            <p:nvPr/>
          </p:nvSpPr>
          <p:spPr>
            <a:xfrm>
              <a:off x="4284720" y="907920"/>
              <a:ext cx="2305080" cy="129708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9360" y="1260360"/>
              <a:ext cx="2303280" cy="73692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п-музыка, эстра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ередина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I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Европ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33 0.03653 L -0.15104 0.12416 C -0.16129 0.14497 -0.17587 0.16786 -0.19549 0.17896 C -0.21545 0.19815 -0.23906 0.20139 -0.25642 0.19861 L -0.33281 0.1889 E"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912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ff"/>
                </a:solidFill>
                <a:latin typeface="Arial"/>
              </a:rPr>
              <a:t>Истоки джазовой муз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4360" y="1413000"/>
            <a:ext cx="826128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ва пути через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484000" y="2565000"/>
            <a:ext cx="1079640" cy="57636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1280" y="2492280"/>
            <a:ext cx="223200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тавляющие дж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ы Западной Афр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песни черных ра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театра менестр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гритянские светские пес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гритянские религиозные пес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ая музыка прошлых столе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тмы Западной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Музыка связана с трудом и обря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ажнейшую роль играет РИТ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Мелодия в африканской музыке развита меньше, чем в европей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08720" y="306864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чие песни чернокожих ра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одилась песня, которая должна была исполняться под ритм шага по ходу движения. Но ноги, закованные кандалами спотыкались с четкого шагового рит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ИН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887640" y="2744640"/>
            <a:ext cx="576360" cy="1512720"/>
          </a:xfrm>
          <a:custGeom>
            <a:avLst/>
            <a:gdLst>
              <a:gd name="textAreaLeft" fmla="*/ 0 w 576360"/>
              <a:gd name="textAreaRight" fmla="*/ 576720 w 57636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09" stAng="10800000" swAng="5400000"/>
                <a:lnTo>
                  <a:pt x="15536" y="4051"/>
                </a:lnTo>
                <a:lnTo>
                  <a:pt x="15536" y="0"/>
                </a:lnTo>
                <a:lnTo>
                  <a:pt x="21600" y="6079"/>
                </a:lnTo>
                <a:lnTo>
                  <a:pt x="15536" y="12158"/>
                </a:lnTo>
                <a:lnTo>
                  <a:pt x="15536" y="8107"/>
                </a:lnTo>
                <a:lnTo>
                  <a:pt x="12427" y="8107"/>
                </a:lnTo>
                <a:arcTo wR="8371" hR="4053" stAng="16200000" swAng="-5400000"/>
                <a:lnTo>
                  <a:pt x="4056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920" y="4221000"/>
            <a:ext cx="77112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смещение акцента с сильной доли на слаб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!   Основное выразительное средство дж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вный ритм  -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2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копа         -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  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4005360"/>
            <a:ext cx="936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6453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чие песни чернокожих раб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сни задавали нужный ритм дл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Характеризу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кообразной манерой пения –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ts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ением исполнителей на лидера (запевала) и х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Подобные песни, переходящие в выкрики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азывал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llers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ховные песни чернокожих ра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а европейскую церковную мелодию накладывался  африканский рит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ставляющие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995280" y="2636640"/>
            <a:ext cx="863280" cy="1584360"/>
          </a:xfrm>
          <a:custGeom>
            <a:avLst/>
            <a:gdLst>
              <a:gd name="textAreaLeft" fmla="*/ 0 w 863280"/>
              <a:gd name="textAreaRight" fmla="*/ 863640 w 86328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561" stAng="10800000" swAng="5400000"/>
                <a:lnTo>
                  <a:pt x="15354" y="3599"/>
                </a:lnTo>
                <a:lnTo>
                  <a:pt x="15354" y="0"/>
                </a:lnTo>
                <a:lnTo>
                  <a:pt x="21600" y="6079"/>
                </a:lnTo>
                <a:lnTo>
                  <a:pt x="15354" y="12158"/>
                </a:lnTo>
                <a:lnTo>
                  <a:pt x="15354" y="8559"/>
                </a:lnTo>
                <a:lnTo>
                  <a:pt x="12427" y="8559"/>
                </a:lnTo>
                <a:arcTo wR="7467" hR="3601" stAng="16200000" swAng="-5400000"/>
                <a:lnTo>
                  <a:pt x="496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8606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Spiritu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«спиричуэлс»)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есня с продолжительной, плавной непрерывной мелодией, написанной на религиозный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«Спиричуэлс» представляли негров как мыслящего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  чувствующего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ассказывали о тяжёлой рабск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7:47:06Z</dcterms:created>
  <dc:creator>Komputer</dc:creator>
  <dc:description/>
  <dc:language>en-US</dc:language>
  <cp:lastModifiedBy>user</cp:lastModifiedBy>
  <dcterms:modified xsi:type="dcterms:W3CDTF">2007-12-20T21:44:37Z</dcterms:modified>
  <cp:revision>52</cp:revision>
  <dc:subject/>
  <dc:title>Возникновение областей музыки</dc:title>
</cp:coreProperties>
</file>