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C89-5183-46ED-9186-7C334825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993-596E-44AA-B4A4-F0751E63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B5E-174E-4E2D-B67C-3C915999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B4D-0973-4D01-9C92-4AF8B549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483C-7289-40F1-9FE1-4F0E7B26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FA10-93CF-4AF2-8DF0-0F149F20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A09A-2828-41E4-B533-47ED4FC2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3C85-F472-4943-9FAD-9A9C46EB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BF99-9493-459E-8C79-AE007E58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F31D-9AAB-4148-94CD-5FA22F8D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C4BD-A02A-4DA0-BA18-DCF91D4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AF1-34B6-4EA3-97EA-C99854F2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5A7D-21FE-4093-8C73-5B23D89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4718-D186-41D2-8F95-E2B41237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0AD1-9FD6-4860-A998-47342EA9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F129-A922-4C2F-A049-8E452B76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E69E-FB3A-4A98-B0F4-2A571CA2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E8E-9375-40E5-B3A1-77302FBE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BB4-EB4A-46AC-A740-DABA0F22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7E5-E440-4FB9-8F7F-A95618C2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E8F-AFF9-40D9-B3B8-1662046E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2A8-2666-4DF1-9F69-F651B6FE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4C8-ACB3-474C-A254-F658BC50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08F-045E-4E15-BEF2-02DBF8F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5002-6A6E-4DEA-8265-9041C7FB0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6C8E-3083-49E4-9453-9EAA9B11A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Вологда, Золотое кольцо Росси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274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02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род Волог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входящий в Большо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олотое кольцо Росс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- один из старейших русских городов, расположенный на живописных берегах небольшой реки с одноименным названием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лог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впервые упоминаемая в письменных источниках 1147 года, основана новгородцами на пути волока, соединявшего бассейны рек Сухона и Шекс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4563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820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Волог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евня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ог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лужила "воротами" на Север и была крупным торгово-ремесленным центром, форпостом Москвы в борьбе с иноземными завоевателями. Вологжане сражались на поле Куликовом, отражали нападение польско-литовских захватчиков. Иван Грозный стремился превратить Вологду в свою северную резиденцию: началось строительство вологодского Кремля и заложен величавый Софийский кафедральный собор. В начале XVIII века в Вологде бывал Петр I и в память о его пребывании был организован первый городской музей в доме голландских купцов Гоутманов. Кроме того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Волог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есно связана с именами поэта К. Батюшкова, писателя В.Гиляровского, знаменитого художника-баталиста В.Верещагина, авиаконструктора С.Ильюшина и других выдающихся деятелей науки, литературы и искус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0872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топримечательности Волог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Вологодский Кремль, Воскресенский и Софийский собор - первый каменный храм Вологды, возведенный по образу Успенского Собора московского Кремля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огодские монастыр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Спасо-Прилуцкий мужской монастырь - одна из самых древних и больших северный обителей. Кирилло-Белозерский монастырь, основанный в XIV веке в городе Кириллов на берегу Сиверского озера. Ансамбль Богородице-Рождественского Ферапонтова монастыря в Ферапонтово - памятник Всемирного наследия ЮНЕСКО, известный росписью великого Дионисия Мудрого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зеи Костром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дом-музей Петра I, краеведческий музей в бывшем Архиерейском Подворье, а также архитектурно-этнографический музем в дер. Семенк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537080" cy="540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41259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2:53:19Z</dcterms:created>
  <dc:creator>Admin</dc:creator>
  <dc:description/>
  <dc:language>en-US</dc:language>
  <cp:lastModifiedBy>Admin</cp:lastModifiedBy>
  <dcterms:modified xsi:type="dcterms:W3CDTF">2011-02-23T13:05:58Z</dcterms:modified>
  <cp:revision>1</cp:revision>
  <dc:subject/>
  <dc:title>Вологда, Золотое кольцо России</dc:title>
</cp:coreProperties>
</file>