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E1E7-E2F8-4AA6-AD6A-02E0BBF0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41B-A152-4BFC-AB52-F16F8520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05D-8890-4D97-BF66-B5BD61C5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299-B19C-41B7-BECB-C9049AFE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993C-4EBE-4301-89AF-90FA1CD4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44D9-CB9A-4A1A-B030-16F96069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5F2B-EB27-4831-BFBF-206D684E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A2DE-6230-42A9-B853-C8BBB51B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84AC-EC62-48AE-A41C-F3FEDE26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C77B-A8DD-43E2-AC79-51FF9BAC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991-3667-4143-8DC5-DCA5F47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4871-D5E2-4CD2-9BD7-8EA2015C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0A39-50D6-4D82-8262-D2A4165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84E7-0A34-4CAE-98E8-9E23E8D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EB10-E022-445A-8309-1EE215D9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0404-BBE9-4F47-8AF4-502A5DEF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9FC1-05A7-4312-A06B-83A5733D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825-47D7-4D10-868D-2F352EAD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02C-A01F-4140-9CC5-CE30B4D1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BF7-B0D4-4276-819F-56AF691D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346-7E77-4280-943F-45FECBF1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7E3-903A-4B2A-877A-4C77BD24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C23-1B03-497D-BEA4-481CF566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5AF-F984-40F0-A0AD-0D71C7F9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2BD1-654E-4B59-A9CA-B3B4E9850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415C-DBA9-485D-9772-1F04B3E6F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Вологда, Золотое кольцо Росси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274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02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род Волог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входящий в Большо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олотое кольцо Росс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- один из старейших русских городов, расположенный на живописных берегах небольшой реки с одноименным названием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лог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впервые упоминаемая в письменных источниках 1147 года, основана новгородцами на пути волока, соединявшего бассейны рек Сухона и Шекс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4563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820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Волог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евня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ог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лужила "воротами" на Север и была крупным торгово-ремесленным центром, форпостом Москвы в борьбе с иноземными завоевателями. Вологжане сражались на поле Куликовом, отражали нападение польско-литовских захватчиков. Иван Грозный стремился превратить Вологду в свою северную резиденцию: началось строительство вологодского Кремля и заложен величавый Софийский кафедральный собор. В начале XVIII века в Вологде бывал Петр I и в память о его пребывании был организован первый городской музей в доме голландских купцов Гоутманов. Кроме того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Волог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есно связана с именами поэта К. Батюшкова, писателя В.Гиляровского, знаменитого художника-баталиста В.Верещагина, авиаконструктора С.Ильюшина и других выдающихся деятелей науки, литературы и искус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0872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стопримечательности Вологд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Вологодский Кремль, Воскресенский и Софийский собор - первый каменный храм Вологды, возведенный по образу Успенского Собора московского Кремля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огодские монастыр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Спасо-Прилуцкий мужской монастырь - одна из самых древних и больших северный обителей. Кирилло-Белозерский монастырь, основанный в XIV веке в городе Кириллов на берегу Сиверского озера. Ансамбль Богородице-Рождественского Ферапонтова монастыря в Ферапонтово - памятник Всемирного наследия ЮНЕСКО, известный росписью великого Дионисия Мудрого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зеи Костром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дом-музей Петра I, краеведческий музей в бывшем Архиерейском Подворье, а также архитектурно-этнографический музем в дер. Семенк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537080" cy="540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41259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2:53:19Z</dcterms:created>
  <dc:creator>Admin</dc:creator>
  <dc:description/>
  <dc:language>en-US</dc:language>
  <cp:lastModifiedBy>Admin</cp:lastModifiedBy>
  <dcterms:modified xsi:type="dcterms:W3CDTF">2011-02-23T13:05:58Z</dcterms:modified>
  <cp:revision>1</cp:revision>
  <dc:subject/>
  <dc:title>Вологда, Золотое кольцо России</dc:title>
</cp:coreProperties>
</file>