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91D-AEC8-4498-A6B6-9DF0DBD6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F38-B269-4DDD-9DFD-DD13379E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5B5-1B6C-489B-B81A-88FDEF7B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681-7B69-49D6-997F-058E64CC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707-2049-4041-B845-340AFCA7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4B41-5E3C-4137-B4D5-85EA57D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4863-7103-4203-B0DC-19C116B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4290-278C-482E-B767-7BD6498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CAE3-483F-4257-9D6A-A82F1CE5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8ECD-7D58-47F2-8E79-1F76629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A92F-B332-4D17-A4BF-19CBCCA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EA4-F547-41A7-A0E0-EA3B2F23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14A0-D8BD-4F79-B84C-D2FF3508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A8C9-CC11-4B3E-87F5-9102EA6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E34-7E64-4B9E-97D5-40CBB4A4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4BB4-F489-45C7-B543-0439F609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EB8-A03F-46AC-9ABD-147E654D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A62-B3F9-4BED-9DD7-B399D5E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63B-9A36-4994-BDF2-0EEF08B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748-AFC7-4C8A-BA55-77C4D38C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6CF-64F7-48D0-844F-3955060D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A7C-205F-4123-8956-522E3F9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32D-2CE0-44FF-93A8-21DB48D0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F7E-7BF4-4CFC-A845-EF63C88C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98A-5DE0-4383-98A8-3F38D9175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3BC9-F000-4A3C-A46A-7472D3C34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ологда, Золотое кольцо Росс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274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од Волог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ходящий в Большо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олотое кольцо Росс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- один из старейших русских городов, расположенный на живописных берегах небольшой реки с одноименным названием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лог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первые упоминаемая в письменных источниках 1147 года, основана новгородцами на пути волока, соединявшего бассейны рек Сухона и Шекс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4563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Волог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ня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г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лужила "воротами" на Север и была крупным торгово-ремесленным центром, форпостом Москвы в борьбе с иноземными завоевателями. Вологжане сражались на поле Куликовом, отражали нападение польско-литовских захватчиков. Иван Грозный стремился превратить Вологду в свою северную резиденцию: началось строительство вологодского Кремля и заложен величавый Софийский кафедральный собор. В начале XVIII века в Вологде бывал Петр I и в память о его пребывании был организован первый городской музей в доме голландских купцов Гоутманов. Кроме тог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Волог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есно связана с именами поэта К. Батюшкова, писателя В.Гиляровского, знаменитого художника-баталиста В.Верещагина, авиаконструктора С.Ильюшина и других выдающихся деятелей науки, литературы и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087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опримечательности Волог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Вологодский Кремль, Воскресенский и Софийский собор - первый каменный храм Вологды, возведенный по образу Успенского Собора московского Кремля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годские монастыр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Спасо-Прилуцкий мужской монастырь - одна из самых древних и больших северный обителей. Кирилло-Белозерский монастырь, основанный в XIV веке в городе Кириллов на берегу Сиверского озера. Ансамбль Богородице-Рождественского Ферапонтова монастыря в Ферапонтово - памятник Всемирного наследия ЮНЕСКО, известный росписью великого Дионисия Мудрого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зеи Костро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дом-музей Петра I, краеведческий музей в бывшем Архиерейском Подворье, а также архитектурно-этнографический музем в дер. Семенк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53708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41259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2:53:19Z</dcterms:created>
  <dc:creator>Admin</dc:creator>
  <dc:description/>
  <dc:language>en-US</dc:language>
  <cp:lastModifiedBy>Admin</cp:lastModifiedBy>
  <dcterms:modified xsi:type="dcterms:W3CDTF">2011-02-23T13:05:58Z</dcterms:modified>
  <cp:revision>1</cp:revision>
  <dc:subject/>
  <dc:title>Вологда, Золотое кольцо России</dc:title>
</cp:coreProperties>
</file>