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14.gif" ContentType="image/gif"/>
  <Override PartName="/ppt/media/image13.png" ContentType="image/png"/>
  <Override PartName="/ppt/media/chimes.wav" ContentType="audio/x-wav"/>
  <Override PartName="/ppt/media/image8.png" ContentType="image/png"/>
  <Override PartName="/ppt/media/image12.png" ContentType="image/png"/>
  <Override PartName="/ppt/media/image5.png" ContentType="image/png"/>
  <Override PartName="/ppt/media/image2.wmf" ContentType="image/x-wmf"/>
  <Override PartName="/ppt/media/image10.png" ContentType="image/png"/>
  <Override PartName="/ppt/media/applause.wav" ContentType="audio/x-wav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5A8-BA83-4957-A524-FBB1AEB6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1B1-F568-42A4-9360-1FC72B80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00D-51F3-4915-888F-1CC1BD48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6EE-FB6F-41BC-BAAD-4BD4EEC4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3E60-7AD8-40EC-8BD9-6D22CFC4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8A3E-237F-46EF-A4E6-B022BFAD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CE05-36C5-474F-93F2-DA14441E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F5AA-C572-42FB-A5E3-D4325DD8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D5DD-111D-433D-9BA5-FEDA0A71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46E1-BE10-4427-94D5-727A40EF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E6EB-5FFE-4744-AE25-6B52476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AAA-1B68-4854-A178-12A12383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E187-0B24-4819-B706-20CF1A03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428D-B594-45AF-B823-8DBEBFA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513C-CF5F-49F9-9A2E-68021862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2C1F-1439-4988-B7C0-129BFA31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357A-EFF1-410C-B103-0984AC28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507-A1BE-4EEB-A774-CC73EB6A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FEE-6AC0-42BA-A24C-FC727DCD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509-E1DE-4382-A4A3-2FBF4416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1AF-F53F-4C23-905A-8ADBF310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85A-77B1-453A-A129-1197B546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52B-76B3-43AE-985C-C44A64E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2DC-A69D-47F0-9082-766BA1D6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F3FC-6561-42E3-9917-0E3FB6295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F12F-B32D-449C-90C8-37F295BE1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4;&#1083;&#1100;&#1075;&#1072;%20&#1042;&#1072;&#1089;&#1080;&#1083;&#1100;&#1077;&#1074;&#1085;&#1072;/&#1089;&#1086;&#1086;&#1073;&#1097;&#1077;&#1085;&#1080;&#1103;%20&#1091;&#1095;-&#1089;&#1103;.doc" TargetMode="External"/><Relationship Id="rId2" Type="http://schemas.openxmlformats.org/officeDocument/2006/relationships/hyperlink" Target="file:///&#1054;&#1083;&#1100;&#1075;&#1072;%20&#1042;&#1072;&#1089;&#1080;&#1083;&#1100;&#1077;&#1074;&#1085;&#1072;/prezentazia%201.ppt" TargetMode="External"/><Relationship Id="rId3" Type="http://schemas.openxmlformats.org/officeDocument/2006/relationships/hyperlink" Target="file:///&#1054;&#1083;&#1100;&#1075;&#1072;%20&#1042;&#1072;&#1089;&#1080;&#1083;&#1100;&#1077;&#1074;&#1085;&#1072;/prezentazia%201.ppt" TargetMode="External"/><Relationship Id="rId4" Type="http://schemas.openxmlformats.org/officeDocument/2006/relationships/hyperlink" Target="file:///&#1054;&#1083;&#1100;&#1075;&#1072;%20&#1042;&#1072;&#1089;&#1080;&#1083;&#1100;&#1077;&#1074;&#1085;&#1072;/prezentazia%201.ppt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4;&#1083;&#1100;&#1075;&#1072;%20&#1042;&#1072;&#1089;&#1080;&#1083;&#1100;&#1077;&#1074;&#1085;&#1072;/&#1090;&#1077;&#1089;&#1090;%20&#1087;&#1086;%20&#1082;&#1072;&#1088;&#1090;&#1086;&#1095;&#1082;&#1072;&#1084;" TargetMode="External"/><Relationship Id="rId2" Type="http://schemas.openxmlformats.org/officeDocument/2006/relationships/hyperlink" Target="file:///&#1054;&#1083;&#1100;&#1075;&#1072;%20&#1042;&#1072;&#1089;&#1080;&#1083;&#1100;&#1077;&#1074;&#1085;&#1072;/&#1090;&#1077;&#1089;&#1090;%20&#1087;&#1086;%20&#1087;&#1088;&#1086;&#1080;&#1079;&#1074;&#1086;&#1076;&#1085;&#1086;&#1081;.xls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МОУ «Матреногезовская средняя общеобразовательная школа»</a:t>
            </a:r>
            <a:endParaRPr b="0" lang="en-US" sz="2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c9800"/>
                </a:solidFill>
                <a:latin typeface="Arial"/>
              </a:rPr>
              <a:t>Урок – семин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c9800"/>
                </a:solidFill>
                <a:latin typeface="Arial"/>
              </a:rPr>
              <a:t>«Производная и её примен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98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учитель математ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информатики   Бутенко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9c9800"/>
                </a:solidFill>
                <a:latin typeface="Arial"/>
              </a:rPr>
              <a:t>Директор школы : Заика А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02436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6. Итоги урока.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объявление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объяснение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7.Рефлексия.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нце урока каждый учащийся получает лист с изображением прямоугольной системы координат.  Ось ОХ соответствует утверждению «полезно» , ось 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«интересно». Отметив точку в одной из четвертей, ученик показывает, на сколько интересен и полезен был для него у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60720" cy="3816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258920" y="4221000"/>
            <a:ext cx="2089080" cy="223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90742"/>
                </a:solidFill>
                <a:latin typeface="Arial"/>
              </a:rPr>
              <a:t>Цели урока:</a:t>
            </a:r>
            <a:endParaRPr b="0" lang="en-US" sz="6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12213"/>
                </a:solidFill>
                <a:latin typeface="Arial"/>
              </a:rPr>
              <a:t>Общеобразовате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33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Углубление понимания сущности производной путём применения её для получения новы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33"/>
                </a:solidFill>
                <a:latin typeface="Arial"/>
              </a:rPr>
              <a:t>*Установление межпредметных связ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12213"/>
                </a:solidFill>
                <a:latin typeface="Arial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33"/>
                </a:solidFill>
                <a:latin typeface="Arial"/>
              </a:rPr>
              <a:t>*</a:t>
            </a:r>
            <a:r>
              <a:rPr b="0" i="1" lang="ru-RU" sz="2400" spc="-1" strike="noStrike">
                <a:solidFill>
                  <a:srgbClr val="666633"/>
                </a:solidFill>
                <a:latin typeface="Arial"/>
              </a:rPr>
              <a:t>Воспитание познавательного интереса к учебному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33"/>
                </a:solidFill>
                <a:latin typeface="Arial"/>
              </a:rPr>
              <a:t>*Воспитание у учащихся культуры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12213"/>
                </a:solidFill>
                <a:latin typeface="Arial"/>
              </a:rPr>
              <a:t>Развива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33"/>
                </a:solidFill>
                <a:latin typeface="Arial"/>
              </a:rPr>
              <a:t>*формирование умений строить доказательство , логическую цепочку рассу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6633"/>
                </a:solidFill>
                <a:latin typeface="Arial"/>
              </a:rPr>
              <a:t>* формирование умений проводить рассуждение ,переносить знания в новую ситу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666633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77756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1.Вступительное слово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2. Разгадывание кроссвор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3.Исторические с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( выступление ученик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4.Группов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5. Индивидуа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6.Итог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39257"/>
                </a:solidFill>
                <a:latin typeface="Arial"/>
              </a:rPr>
              <a:t>7. 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1.Вступительное слово учител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торически понятие производной возникло из практики. Скорость неравномерного движения , плотность неоднородной материальной линии , а также тангенс угла наклона касательной к кривой и другие величины явились прообразом понятия производной. Возникнув из практики , понятие производной получило обобщаемый , абстрактный смысл, что ещё более усилило его прикладное значение. Создание дифференциального исчисления чрезвычайно расширило возможности применения математических методов в естествознании и техник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0000" y="2128680"/>
            <a:ext cx="3975120" cy="346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2.Разгадывание кроссворда.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Французский математик 17 века Пьер Ферма определял эту линию так:     «Прямая, наиболее тесно примыкающая к кривой в малой окрестности заданной точки». 2. В математике это понятие возникло в результате попыток придать точный смысл таким понятиям , как «скорость движения в данный момент  времени» и «касательной к кривой в заданной точке». 3. Приращение какой переменной обычно обозначаю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? 4. Если существует предел в точк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этот предел равен значению функции в точк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то в этой точке функцию называют …5. Эта точка лежит внутри области определения функции , и в ней функция принимает самое большое значение по сравнению со значением в близких точках. 6. Эта величина определяется как производная скорости по времени. 7. Если функц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f(x)=g(h(x)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g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=h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екие функции , то функц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Ответы к кроссворду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68360" y="3068640"/>
          <a:ext cx="503280" cy="3017880"/>
        </p:xfrm>
        <a:graphic>
          <a:graphicData uri="http://schemas.openxmlformats.org/drawingml/2006/table">
            <a:tbl>
              <a:tblPr/>
              <a:tblGrid>
                <a:gridCol w="503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1b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0" y="475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71640" y="2276640"/>
          <a:ext cx="431640" cy="3003480"/>
        </p:xfrm>
        <a:graphic>
          <a:graphicData uri="http://schemas.openxmlformats.org/drawingml/2006/table">
            <a:tbl>
              <a:tblPr/>
              <a:tblGrid>
                <a:gridCol w="431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403280" y="4149720"/>
          <a:ext cx="504720" cy="221760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08000" y="3357720"/>
          <a:ext cx="358560" cy="3023640"/>
        </p:xfrm>
        <a:graphic>
          <a:graphicData uri="http://schemas.openxmlformats.org/drawingml/2006/table">
            <a:tbl>
              <a:tblPr/>
              <a:tblGrid>
                <a:gridCol w="358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268360" y="4365720"/>
          <a:ext cx="432000" cy="2303280"/>
        </p:xfrm>
        <a:graphic>
          <a:graphicData uri="http://schemas.openxmlformats.org/drawingml/2006/table">
            <a:tbl>
              <a:tblPr/>
              <a:tblGrid>
                <a:gridCol w="43200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700360" y="2924280"/>
          <a:ext cx="503280" cy="2665080"/>
        </p:xfrm>
        <a:graphic>
          <a:graphicData uri="http://schemas.openxmlformats.org/drawingml/2006/table">
            <a:tbl>
              <a:tblPr/>
              <a:tblGrid>
                <a:gridCol w="503280"/>
              </a:tblGrid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203640" y="3789360"/>
          <a:ext cx="431640" cy="2087280"/>
        </p:xfrm>
        <a:graphic>
          <a:graphicData uri="http://schemas.openxmlformats.org/drawingml/2006/table">
            <a:tbl>
              <a:tblPr/>
              <a:tblGrid>
                <a:gridCol w="43164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dfdf2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213372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3.Исторические сведения</a:t>
            </a:r>
            <a:br>
              <a:rPr sz="4000"/>
            </a:br>
            <a:r>
              <a:rPr b="0" lang="en-US" sz="1800" spc="-1" strike="noStrike">
                <a:solidFill>
                  <a:srgbClr val="b39257"/>
                </a:solidFill>
                <a:latin typeface="Arial"/>
              </a:rPr>
              <a:t>(план семинара сообщается учащимся за несколько дней. Возможна работа в группах. Наиболее подготовленные дети ищут информацию в дополнительной литературе, остальные пользуются учебником)</a:t>
            </a:r>
            <a:endParaRPr b="0" lang="en-US" sz="1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3а)Сообщения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Общие с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Непрерывность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Точки разры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3б)</a:t>
            </a:r>
            <a:r>
              <a:rPr b="0" lang="ru-RU" sz="2400" spc="-1" strike="noStrike" u="sng">
                <a:solidFill>
                  <a:srgbClr val="666633"/>
                </a:solidFill>
                <a:uFillTx/>
                <a:latin typeface="Arial"/>
                <a:hlinkClick r:id="rId3"/>
              </a:rPr>
              <a:t>prezentazia</a:t>
            </a:r>
            <a:r>
              <a:rPr b="0" lang="ru-RU" sz="2400" spc="-1" strike="noStrike" u="sng">
                <a:solidFill>
                  <a:srgbClr val="666633"/>
                </a:solidFill>
                <a:uFillTx/>
                <a:latin typeface="Arial"/>
                <a:hlinkClick r:id="rId4"/>
              </a:rPr>
              <a:t> 1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4.Групповая работ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но 5 рабочих групп, которым предлагаются вопросы, подготовленные на карточках. После обсуждения каждая группа комментирует свой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Является ли непрерывной функция y(x)? Чему равно значение функции в точке х = 0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778040" cy="1342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340000" y="2276640"/>
            <a:ext cx="1655640" cy="1333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559640" y="2205000"/>
            <a:ext cx="1333440" cy="1403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140360" y="2276640"/>
            <a:ext cx="1584000" cy="1403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012000" y="2205000"/>
            <a:ext cx="1436400" cy="1440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2560" y="393300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Существует ли производная функции y(x) в точке х = 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179280" y="4437000"/>
            <a:ext cx="1656000" cy="1330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2050920" y="4508640"/>
            <a:ext cx="1486080" cy="1330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3780000" y="4581360"/>
            <a:ext cx="1420560" cy="1355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5292720" y="458136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0"/>
          <a:stretch/>
        </p:blipFill>
        <p:spPr>
          <a:xfrm>
            <a:off x="7093080" y="4581360"/>
            <a:ext cx="142056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39257"/>
                </a:solidFill>
                <a:latin typeface="Arial"/>
              </a:rPr>
              <a:t>5. Индивидуальная работ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тестовых зад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А) в тетрадях по  индивидуальным карточ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Б) с использованием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5:25Z</dcterms:created>
  <dc:creator>Саша</dc:creator>
  <dc:description/>
  <dc:language>en-US</dc:language>
  <cp:lastModifiedBy>Саша</cp:lastModifiedBy>
  <dcterms:modified xsi:type="dcterms:W3CDTF">2006-11-23T17:26:24Z</dcterms:modified>
  <cp:revision>24</cp:revision>
  <dc:subject/>
  <dc:title>МОУ «Матреногезовская средняя общеобразовательная школа»</dc:title>
</cp:coreProperties>
</file>