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7.png" ContentType="image/png"/>
  <Override PartName="/ppt/media/image1.jpeg" ContentType="image/jpeg"/>
  <Override PartName="/ppt/media/image14.gif" ContentType="image/gif"/>
  <Override PartName="/ppt/media/image13.png" ContentType="image/png"/>
  <Override PartName="/ppt/media/chimes.wav" ContentType="audio/x-wav"/>
  <Override PartName="/ppt/media/image8.png" ContentType="image/png"/>
  <Override PartName="/ppt/media/image12.png" ContentType="image/png"/>
  <Override PartName="/ppt/media/image5.png" ContentType="image/png"/>
  <Override PartName="/ppt/media/image2.wmf" ContentType="image/x-wmf"/>
  <Override PartName="/ppt/media/image10.png" ContentType="image/png"/>
  <Override PartName="/ppt/media/applause.wav" ContentType="audio/x-wav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CC13-ED7E-4BF5-9989-6543BD4F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285E-725D-4761-8DCE-B231D7B9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74D8-4038-4B83-81B1-E53B422B6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C5F6-402D-4607-9AF5-15A18704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E8BB-FCD8-4404-8B11-FE6F3CACC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C3F5-CE2A-480F-A34F-40669165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0E49-2407-4870-958C-A5491696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2181-A939-4FCE-8326-43123C91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1ADE-E844-40A0-B732-793D4A58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8F89-4748-46B8-93A6-4DD34F8A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C37C-F937-40DC-8AB2-E4B6F8C4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718D-075C-49AC-AF4E-B6E30804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4C4D-2980-4AD3-B0BD-E5E5032D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4E83-84A2-4DFD-8A73-CDD0CFCC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8D10-188E-45FC-B6CD-A8B66034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0BB4-B51E-445A-A165-F3E5501F8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4DA1-FA8C-4A1F-9695-4CAE5399A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4296-3058-4283-AD14-8C138625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2401-6CEF-4972-859F-2CE2EFE7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BA1E-2663-4658-A37E-1B8FB959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DAC9-F630-459C-A556-FD7DB8A2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D8BA-BEFE-47F1-997C-AF105350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2D8A-BE66-4C9F-9E63-2B27CC96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CA05-0DB9-450B-A221-7CF62BF1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2A64-CC8C-4277-86E7-DD616DC4D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3B1A-059F-41B8-B5D5-E599F10F5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54;&#1083;&#1100;&#1075;&#1072;%20&#1042;&#1072;&#1089;&#1080;&#1083;&#1100;&#1077;&#1074;&#1085;&#1072;/&#1089;&#1086;&#1086;&#1073;&#1097;&#1077;&#1085;&#1080;&#1103;%20&#1091;&#1095;-&#1089;&#1103;.doc" TargetMode="External"/><Relationship Id="rId2" Type="http://schemas.openxmlformats.org/officeDocument/2006/relationships/hyperlink" Target="file:///&#1054;&#1083;&#1100;&#1075;&#1072;%20&#1042;&#1072;&#1089;&#1080;&#1083;&#1100;&#1077;&#1074;&#1085;&#1072;/prezentazia%201.ppt" TargetMode="External"/><Relationship Id="rId3" Type="http://schemas.openxmlformats.org/officeDocument/2006/relationships/hyperlink" Target="file:///&#1054;&#1083;&#1100;&#1075;&#1072;%20&#1042;&#1072;&#1089;&#1080;&#1083;&#1100;&#1077;&#1074;&#1085;&#1072;/prezentazia%201.ppt" TargetMode="External"/><Relationship Id="rId4" Type="http://schemas.openxmlformats.org/officeDocument/2006/relationships/hyperlink" Target="file:///&#1054;&#1083;&#1100;&#1075;&#1072;%20&#1042;&#1072;&#1089;&#1080;&#1083;&#1100;&#1077;&#1074;&#1085;&#1072;/prezentazia%201.ppt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54;&#1083;&#1100;&#1075;&#1072;%20&#1042;&#1072;&#1089;&#1080;&#1083;&#1100;&#1077;&#1074;&#1085;&#1072;/&#1090;&#1077;&#1089;&#1090;%20&#1087;&#1086;%20&#1082;&#1072;&#1088;&#1090;&#1086;&#1095;&#1082;&#1072;&#1084;" TargetMode="External"/><Relationship Id="rId2" Type="http://schemas.openxmlformats.org/officeDocument/2006/relationships/hyperlink" Target="file:///&#1054;&#1083;&#1100;&#1075;&#1072;%20&#1042;&#1072;&#1089;&#1080;&#1083;&#1100;&#1077;&#1074;&#1085;&#1072;/&#1090;&#1077;&#1089;&#1090;%20&#1087;&#1086;%20&#1087;&#1088;&#1086;&#1080;&#1079;&#1074;&#1086;&#1076;&#1085;&#1086;&#1081;.xls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МОУ «Матреногезовская средняя общеобразовательная школа»</a:t>
            </a:r>
            <a:endParaRPr b="0" lang="en-US" sz="2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c9800"/>
                </a:solidFill>
                <a:latin typeface="Arial"/>
              </a:rPr>
              <a:t>Урок – семина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c9800"/>
                </a:solidFill>
                <a:latin typeface="Arial"/>
              </a:rPr>
              <a:t>«Производная и её применени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9800"/>
                </a:solidFill>
                <a:latin typeface="Arial"/>
              </a:rPr>
              <a:t>                                              </a:t>
            </a:r>
            <a:r>
              <a:rPr b="0" lang="en-US" sz="2800" spc="-1" strike="noStrike">
                <a:solidFill>
                  <a:srgbClr val="9c9800"/>
                </a:solidFill>
                <a:latin typeface="Arial"/>
              </a:rPr>
              <a:t>Подготов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c9800"/>
                </a:solidFill>
                <a:latin typeface="Arial"/>
              </a:rPr>
              <a:t>                                        </a:t>
            </a:r>
            <a:r>
              <a:rPr b="0" lang="en-US" sz="2800" spc="-1" strike="noStrike">
                <a:solidFill>
                  <a:srgbClr val="9c9800"/>
                </a:solidFill>
                <a:latin typeface="Arial"/>
              </a:rPr>
              <a:t>учитель математики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c9800"/>
                </a:solidFill>
                <a:latin typeface="Arial"/>
              </a:rPr>
              <a:t>                                   </a:t>
            </a:r>
            <a:r>
              <a:rPr b="0" lang="en-US" sz="2800" spc="-1" strike="noStrike">
                <a:solidFill>
                  <a:srgbClr val="9c9800"/>
                </a:solidFill>
                <a:latin typeface="Arial"/>
              </a:rPr>
              <a:t>информатики   Бутенко О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c9800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9c9800"/>
                </a:solidFill>
                <a:latin typeface="Arial"/>
              </a:rPr>
              <a:t>Директор школы : Заика А.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95280" y="3789360"/>
            <a:ext cx="302436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39257"/>
                </a:solidFill>
                <a:latin typeface="Arial"/>
              </a:rPr>
              <a:t>6. Итоги урока.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объявление оцен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объяснение домашнего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39257"/>
                </a:solidFill>
                <a:latin typeface="Arial"/>
              </a:rPr>
              <a:t>7.Рефлексия.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конце урока каждый учащийся получает лист с изображением прямоугольной системы координат.  Ось ОХ соответствует утверждению «полезно» , ось 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«интересно». Отметив точку в одной из четвертей, ученик показывает, на сколько интересен и полезен был для него ур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932360" y="2205000"/>
            <a:ext cx="3960720" cy="3816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1258920" y="4221000"/>
            <a:ext cx="2089080" cy="2232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e90742"/>
                </a:solidFill>
                <a:latin typeface="Arial"/>
              </a:rPr>
              <a:t>Цели урока:</a:t>
            </a:r>
            <a:endParaRPr b="0" lang="en-US" sz="6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50920" y="981000"/>
            <a:ext cx="8640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12213"/>
                </a:solidFill>
                <a:latin typeface="Arial"/>
              </a:rPr>
              <a:t>Общеобразовательны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6633"/>
                </a:solidFill>
                <a:latin typeface="Arial"/>
              </a:rPr>
              <a:t>*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Углубление понимания сущности производной путём применения её для получения новых зн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6633"/>
                </a:solidFill>
                <a:latin typeface="Arial"/>
              </a:rPr>
              <a:t>*Установление межпредметных связ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12213"/>
                </a:solidFill>
                <a:latin typeface="Arial"/>
              </a:rPr>
              <a:t>Воспитательны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6633"/>
                </a:solidFill>
                <a:latin typeface="Arial"/>
              </a:rPr>
              <a:t>*</a:t>
            </a:r>
            <a:r>
              <a:rPr b="0" i="1" lang="ru-RU" sz="2400" spc="-1" strike="noStrike">
                <a:solidFill>
                  <a:srgbClr val="666633"/>
                </a:solidFill>
                <a:latin typeface="Arial"/>
              </a:rPr>
              <a:t>Воспитание познавательного интереса к учебному предме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6633"/>
                </a:solidFill>
                <a:latin typeface="Arial"/>
              </a:rPr>
              <a:t>*Воспитание у учащихся культуры мыш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12213"/>
                </a:solidFill>
                <a:latin typeface="Arial"/>
              </a:rPr>
              <a:t>Развивающ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6633"/>
                </a:solidFill>
                <a:latin typeface="Arial"/>
              </a:rPr>
              <a:t>*формирование умений строить доказательство , логическую цепочку рассужд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6633"/>
                </a:solidFill>
                <a:latin typeface="Arial"/>
              </a:rPr>
              <a:t>* формирование умений проводить рассуждение ,переносить знания в новую ситу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666633"/>
                </a:solidFill>
                <a:latin typeface="Arial"/>
              </a:rPr>
              <a:t>План урока: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10920" y="1341360"/>
            <a:ext cx="777564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39257"/>
                </a:solidFill>
                <a:latin typeface="Arial"/>
              </a:rPr>
              <a:t>1.Вступительное слово уч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39257"/>
                </a:solidFill>
                <a:latin typeface="Arial"/>
              </a:rPr>
              <a:t>2. Разгадывание кроссвор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39257"/>
                </a:solidFill>
                <a:latin typeface="Arial"/>
              </a:rPr>
              <a:t>3.Исторические с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39257"/>
                </a:solidFill>
                <a:latin typeface="Arial"/>
              </a:rPr>
              <a:t>( выступление ученик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39257"/>
                </a:solidFill>
                <a:latin typeface="Arial"/>
              </a:rPr>
              <a:t>4.Групповая р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39257"/>
                </a:solidFill>
                <a:latin typeface="Arial"/>
              </a:rPr>
              <a:t>5. Индивидуальная р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39257"/>
                </a:solidFill>
                <a:latin typeface="Arial"/>
              </a:rPr>
              <a:t>6.Итоги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39257"/>
                </a:solidFill>
                <a:latin typeface="Arial"/>
              </a:rPr>
              <a:t>7. Рефлек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39257"/>
                </a:solidFill>
                <a:latin typeface="Arial"/>
              </a:rPr>
              <a:t>1.Вступительное слово учителя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сторически понятие производной возникло из практики. Скорость неравномерного движения , плотность неоднородной материальной линии , а также тангенс угла наклона касательной к кривой и другие величины явились прообразом понятия производной. Возникнув из практики , понятие производной получило обобщаемый , абстрактный смысл, что ещё более усилило его прикладное значение. Создание дифференциального исчисления чрезвычайно расширило возможности применения математических методов в естествознании и техник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680000" y="2128680"/>
            <a:ext cx="3975120" cy="3468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6" dur="5000" fill="hold"/>
                                        <p:tgtEl>
                                          <p:spTgt spid="22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39257"/>
                </a:solidFill>
                <a:latin typeface="Arial"/>
              </a:rPr>
              <a:t>2.Разгадывание кроссворда.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Французский математик 17 века Пьер Ферма определял эту линию так:     «Прямая, наиболее тесно примыкающая к кривой в малой окрестности заданной точки». 2. В математике это понятие возникло в результате попыток придать точный смысл таким понятиям , как «скорость движения в данный момент  времени» и «касательной к кривой в заданной точке». 3. Приращение какой переменной обычно обозначаю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? 4. Если существует предел в точк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этот предел равен значению функции в точк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, то в этой точке функцию называют …5. Эта точка лежит внутри области определения функции , и в ней функция принимает самое большое значение по сравнению со значением в близких точках. 6. Эта величина определяется как производная скорости по времени. 7. Если функци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=f(x)=g(h(x)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=g(t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=h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некие функции , то функци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зываю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Ответы к кроссворду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24000" y="1699920"/>
            <a:ext cx="8820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68360" y="3068640"/>
          <a:ext cx="503280" cy="3017880"/>
        </p:xfrm>
        <a:graphic>
          <a:graphicData uri="http://schemas.openxmlformats.org/drawingml/2006/table">
            <a:tbl>
              <a:tblPr/>
              <a:tblGrid>
                <a:gridCol w="5032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dfdf2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1b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0" y="4759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971640" y="2276640"/>
          <a:ext cx="431640" cy="3003480"/>
        </p:xfrm>
        <a:graphic>
          <a:graphicData uri="http://schemas.openxmlformats.org/drawingml/2006/table">
            <a:tbl>
              <a:tblPr/>
              <a:tblGrid>
                <a:gridCol w="4316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dfdf2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403280" y="4149720"/>
          <a:ext cx="504720" cy="2217600"/>
        </p:xfrm>
        <a:graphic>
          <a:graphicData uri="http://schemas.openxmlformats.org/drawingml/2006/table">
            <a:tbl>
              <a:tblPr/>
              <a:tblGrid>
                <a:gridCol w="504720"/>
              </a:tblGrid>
              <a:tr h="28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dfdf2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08000" y="3357720"/>
          <a:ext cx="358560" cy="3023640"/>
        </p:xfrm>
        <a:graphic>
          <a:graphicData uri="http://schemas.openxmlformats.org/drawingml/2006/table">
            <a:tbl>
              <a:tblPr/>
              <a:tblGrid>
                <a:gridCol w="3585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dfdf2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2268360" y="4365720"/>
          <a:ext cx="432000" cy="2303280"/>
        </p:xfrm>
        <a:graphic>
          <a:graphicData uri="http://schemas.openxmlformats.org/drawingml/2006/table">
            <a:tbl>
              <a:tblPr/>
              <a:tblGrid>
                <a:gridCol w="432000"/>
              </a:tblGrid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dfdf2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700360" y="2924280"/>
          <a:ext cx="503280" cy="2665080"/>
        </p:xfrm>
        <a:graphic>
          <a:graphicData uri="http://schemas.openxmlformats.org/drawingml/2006/table">
            <a:tbl>
              <a:tblPr/>
              <a:tblGrid>
                <a:gridCol w="503280"/>
              </a:tblGrid>
              <a:tr h="29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dfdf2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3203640" y="3789360"/>
          <a:ext cx="431640" cy="2087280"/>
        </p:xfrm>
        <a:graphic>
          <a:graphicData uri="http://schemas.openxmlformats.org/drawingml/2006/table">
            <a:tbl>
              <a:tblPr/>
              <a:tblGrid>
                <a:gridCol w="431640"/>
              </a:tblGrid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dfdf2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716360" y="2133720"/>
            <a:ext cx="4032360" cy="3456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9257"/>
                </a:solidFill>
                <a:latin typeface="Arial"/>
              </a:rPr>
              <a:t>3.Исторические сведения</a:t>
            </a:r>
            <a:br>
              <a:rPr sz="4000"/>
            </a:br>
            <a:r>
              <a:rPr b="0" lang="en-US" sz="1800" spc="-1" strike="noStrike">
                <a:solidFill>
                  <a:srgbClr val="b39257"/>
                </a:solidFill>
                <a:latin typeface="Arial"/>
              </a:rPr>
              <a:t>(план семинара сообщается учащимся за несколько дней. Возможна работа в группах. Наиболее подготовленные дети ищут информацию в дополнительной литературе, остальные пользуются учебником)</a:t>
            </a:r>
            <a:endParaRPr b="0" lang="en-US" sz="1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666633"/>
                </a:solidFill>
                <a:uFillTx/>
                <a:latin typeface="Arial"/>
                <a:hlinkClick r:id="rId1"/>
              </a:rPr>
              <a:t>3а)Сообщения учащих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Общие с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Непрерывность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Точки разры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 u="sng">
                <a:solidFill>
                  <a:srgbClr val="666633"/>
                </a:solidFill>
                <a:uFillTx/>
                <a:latin typeface="Arial"/>
                <a:hlinkClick r:id="rId2"/>
              </a:rPr>
              <a:t>3б)</a:t>
            </a:r>
            <a:r>
              <a:rPr b="0" lang="ru-RU" sz="2400" spc="-1" strike="noStrike" u="sng">
                <a:solidFill>
                  <a:srgbClr val="666633"/>
                </a:solidFill>
                <a:uFillTx/>
                <a:latin typeface="Arial"/>
                <a:hlinkClick r:id="rId3"/>
              </a:rPr>
              <a:t>prezentazia</a:t>
            </a:r>
            <a:r>
              <a:rPr b="0" lang="ru-RU" sz="2400" spc="-1" strike="noStrike" u="sng">
                <a:solidFill>
                  <a:srgbClr val="666633"/>
                </a:solidFill>
                <a:uFillTx/>
                <a:latin typeface="Arial"/>
                <a:hlinkClick r:id="rId4"/>
              </a:rPr>
              <a:t> 1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5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39257"/>
                </a:solidFill>
                <a:latin typeface="Arial"/>
              </a:rPr>
              <a:t>4.Групповая работа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здано 5 рабочих групп, которым предлагаются вопросы, подготовленные на карточках. После обсуждения каждая группа комментирует свой отв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Является ли непрерывной функция y(x)? Чему равно значение функции в точке х = 0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1778040" cy="1342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2340000" y="2276640"/>
            <a:ext cx="1655640" cy="13334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7559640" y="2205000"/>
            <a:ext cx="1333440" cy="1403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4140360" y="2276640"/>
            <a:ext cx="1584000" cy="1403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6012000" y="2205000"/>
            <a:ext cx="1436400" cy="1440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82560" y="3933000"/>
            <a:ext cx="64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Существует ли производная функции y(x) в точке х = 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179280" y="4437000"/>
            <a:ext cx="1656000" cy="13305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2050920" y="4508640"/>
            <a:ext cx="1486080" cy="13302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8"/>
          <a:stretch/>
        </p:blipFill>
        <p:spPr>
          <a:xfrm>
            <a:off x="3780000" y="4581360"/>
            <a:ext cx="1420560" cy="1355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9"/>
          <a:stretch/>
        </p:blipFill>
        <p:spPr>
          <a:xfrm>
            <a:off x="5292720" y="4581360"/>
            <a:ext cx="1655640" cy="13687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0"/>
          <a:stretch/>
        </p:blipFill>
        <p:spPr>
          <a:xfrm>
            <a:off x="7093080" y="4581360"/>
            <a:ext cx="1420560" cy="14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39257"/>
                </a:solidFill>
                <a:latin typeface="Arial"/>
              </a:rPr>
              <a:t>5. Индивидуальная работа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ение тестовых зада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33"/>
                </a:solidFill>
                <a:uFillTx/>
                <a:latin typeface="Arial"/>
                <a:hlinkClick r:id="rId1"/>
              </a:rPr>
              <a:t>А) в тетрадях по  индивидуальным карточ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33"/>
                </a:solidFill>
                <a:uFillTx/>
                <a:latin typeface="Arial"/>
                <a:hlinkClick r:id="rId2"/>
              </a:rPr>
              <a:t>Б) с использованием П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5:25Z</dcterms:created>
  <dc:creator>Саша</dc:creator>
  <dc:description/>
  <dc:language>en-US</dc:language>
  <cp:lastModifiedBy>Саша</cp:lastModifiedBy>
  <dcterms:modified xsi:type="dcterms:W3CDTF">2006-11-23T17:26:24Z</dcterms:modified>
  <cp:revision>24</cp:revision>
  <dc:subject/>
  <dc:title>МОУ «Матреногезовская средняя общеобразовательная школа»</dc:title>
</cp:coreProperties>
</file>