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459F-528C-46EA-9876-D8CE9F7868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драхина Юлия Александровна 1975года рожд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92 по 1994гг. училась в Донецком медицинском учили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94 по 2000г. работала в городской больнице №25 г.Донецка, в терапевтическом отделении стацион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2000года работает в поликлиническом терапевтическом отделении городской больницы №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артериальная гипертония  является  одной из главных причин возникновения тяжелых сердечно-сосудистых заболеваний- инфаркта миокарда и мозгового инсуль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ответствии с рекомендациями Всемирной Организации здравоохранения верхней границей нормального давления считается систолическое не выше 140мм рт ст, диастолическое 90 мм рт ст. Более высокие цифры рассматриваются как симптомы артериальной гиперто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считают курение привычкой,от которой легко избавиться только волевым усилием. Курение - это вредная сильная привычка, это определенная  форма наркотической зависимости. В мире насчитывается более 1 млрд. курильщиков, в Украине курит более 41 % работоспособного населения , в том числе каждая 3-4 женщ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является фактором риска более чем 25 болезней и они в структуре смертности составляют почти 75 %. Каждый второй курильщик,начавший курить в молодом возрасте, продолжает курить в течение всей  жизни, умирает от вызванной табаком боле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 ни одного органа, на который не действовал бы губительно никотин. Яды табачного дыма нарушают обмен веществ, разрушают и препятствуют усвоению витами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здоровье во многом зависит от того,насколько правильно мы  питаемся. Более того,фактор питания играет важную,а в некоторых случаях и ведущую роль в лечении многих заболе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ормальной жизнедеятельности организма человек должен получать с пищей в сутки около 100г жиров, около 450г углеводов, достаточное количество витаминов, микроэлементов, около 2л воды и 10г поваренной со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% всех белков должны составлять белки животного происхождения,которые содержатся в мясе, рыбе, птице, молоке и молочных продуктах, яйцах, основные источники растительного белка- фасоль, горох, соя, бобы,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ценный растительный жир- растительное масло(подсолнечное, кукурузное и т.д.), животный- сливочное мас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ощи и фрукты- поставщики большого количества витаминов и микроэлементов- желательны постоян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леводы, при их избыточном потреблении, имеют особенность превращаться в жиры.Поэтому полнота- это удел не столько любителей жирной пищи, сала, сколько увлеченных мучными и хлебо-булочными изделиями,сдобой, слад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ичто так не разрушает человека, как  продолжительное физическое бездейств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физического и психического состояния, ожирение, депрессии, пониженный жизненный тонус и настроение- чаще всего следствие гиподинамии. Но прежде всего необходимо понять и осознать ценность движения,как одно из важных составных частей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читано, что если бы удалось увеличить  физическую активность на фоне отказа от табакокурения, то можно было бы снизить смертность на 10%, отказа от алкоголя- на 20%, нормализация веса- на 15%, отказа от самолечения- на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сохранить физическую активность достаточно 10 минут ежедневных интенсивных занятий или не менее 60 минут занятий средней интенс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54C-B2F6-440C-BD67-A5D75FF7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330-68F1-4FB2-895B-4620124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4B7-9DE5-4B8E-9121-965D3AAE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B6D-4099-48CB-B848-C0BB0CFA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5CF0-5E6D-449F-A3E3-B7E038D4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B864-0DDD-4DAE-8D2E-48BC453D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EF8E-CEEA-48E4-9B3F-80315835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F3B2-5455-40E2-90EB-3E76F062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825A-9015-416F-8398-C2FE4E80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82C-7F65-4076-A807-9718767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B41-CFDA-4F1B-AEB6-F88BD0CD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C7C-3F53-49F9-ADE4-BB2D8E77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6D58-20E3-48D3-A8E6-1AEF090D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C2D-2F4D-4E5E-8AAE-CA1A9C7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33EB-E632-401C-BF58-D7E1ED5B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1092-FD69-4A8D-9452-7C769EA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DA10-A04A-4C71-9D71-F5715911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71C-39B1-4DC2-9292-7634CA8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D57-5442-4C2E-9AF5-E46C0794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C21-0CC2-49AD-9B93-0FEE5A6E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7CD-3375-4476-94C8-E6B40157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D2F-9454-4B4E-9CEB-06205DD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F16-43A0-4066-A4E4-0BC8B0F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933-B362-4AC3-8510-DE3D0581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C2B-3E26-4163-8D03-308E5F6D714A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063B-61C1-47E5-BF40-64000E2AA67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8912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рофилактик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сердечно-сосудистых заболеваний.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Особенности течения заболеваний сердца у женщин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медсестра семейной амбулатории горбольницы №25 г. Донецка, Украина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Кондрахина Ю.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Гипертензия и диабет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Риск развития гипертонической болезни (ГБ) существует для всех тучных, для длительно психоэмоционально перенапряженных, а так же тех, кто имеет гипертензию в семейном анамнезе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страдающие сахарным диабетом имеют повышенный риск развития артериальной  гипертензии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повышенное потребление с пищей хлорида 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Na,  повышает </a:t>
            </a: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риск развития ГБ, поэтому ограничьте потребление соли!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Липиды и холестерин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24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Липиды - жиры в кровеносной системе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Times New Roman"/>
              </a:rPr>
              <a:t>холестерин и триглицериды - два типа липидов. Холестерин включает липопротеиды низкой плотности (ЛПН) и липопротеиды высокой плотности. Они поступают в кровь из двух источников: потребляемой вами пищи и из печени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Рацион питания,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олезный для сердц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, богатая  аминокислотам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, богатая клетчатко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 с низким содержанием насыщенных жиров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ища с низким содержанием холестерин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Классические симптомы сердечного приступа</a:t>
            </a:r>
            <a:endParaRPr b="0" i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тенокардия или боль в груд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ррадиирующая боль в область челюсти, шеи, спины или пле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ошно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дышка, иногда в ночное врем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имптомы обычно возникают при физическом напряжении или без нег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сталость, головокружение и друг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Дополнительные исследования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смотр зависит от функциональной классификации -  2-4 раза в г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смотр кардиолога 1 раз в год; анализ крови, моч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ЭКГ и велоэргометрия 2 раза в год. Анализ холестерина  (N от 3,64-6,76  ммоль/л) и триглицеридов 2 раза в год; протромб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Times New Roman"/>
              </a:rPr>
              <a:t>Как устранить угрозу болезни сердца?</a:t>
            </a:r>
            <a:br>
              <a:rPr sz="4200"/>
            </a:br>
            <a:endParaRPr b="0" i="1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Различия между полами проявляются и при заболеваниях сердц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 женщин болезни сердца проявляются почти на 10 лет позже, чем у мужч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эстроген, вырабатываемый в молодом возрасте, до наступления менопаузы «защищает» сердце  женщи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Times New Roman"/>
              </a:rPr>
              <a:t>Факторы риска болезни сердца</a:t>
            </a:r>
            <a:endParaRPr b="0" i="1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о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зрас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наследственност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уре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учност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иподинам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трес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ипертоническая болезнь, диабет и д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ол и возраст, наследственность</a:t>
            </a:r>
            <a:br>
              <a:rPr sz="4000"/>
            </a:b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Эти факторы риска мы не можем изменить</a:t>
            </a: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 возрастом для женщин угроза заболевания сердца увеличиваетс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аличие болезней сердца  в семейном анамнезе повышает рис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Факторы риска,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поддающиеся изменению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Профилактика помогает Вам уменьшить риск заболевания</a:t>
            </a:r>
            <a:endParaRPr b="0" i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е курит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ддерживайте идеальную массу тел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употребляйте в пищу полезные для  сердца продукт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нимайтесь физическими упражнениям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Курение</a:t>
            </a:r>
            <a:br>
              <a:rPr sz="5400"/>
            </a:br>
            <a:endParaRPr b="0" i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685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Курение является серьезным фактором риска для развития сердечного приступа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сигаретный дым оказывает дополнительную нагрузку на сердце, поскольку заставляет артерии «спадаться» или сжиматься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дым способствует учащению сердцебиения, повышению АД и уровня  окиси углерода в организме. Он также уменьшает объем крови , поступающей к мышцам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в стране отмечено увеличение числа курящих женщин, в особенности среди девочек-подростков.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675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Times New Roman"/>
              </a:rPr>
              <a:t>Для курящих женщин риск возникновения болезни сердца в 5 раз выше, чем для некурящих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Тучность, стресс и гиподинамия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244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imes New Roman"/>
              </a:rPr>
              <a:t>Тучность создает дополнительную нагрузку на сердечную мышцу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imes New Roman"/>
              </a:rPr>
              <a:t>для людей, ведущих сидячий образ жизни, риск возникновения болезней сердца в два раза выше, чем для ведущих активный образ жизни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imes New Roman"/>
              </a:rPr>
              <a:t>поддерживайте идеальную массу тела.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Физкультура</a:t>
            </a:r>
            <a:br>
              <a:rPr sz="4400"/>
            </a:b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едите более активный образ жизн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нимайтесь аэробными упражнениями: ходьба, бег, плава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физическая деятельность увеличивает приток крови к сердцу и другим группам мыш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ак часто? В неделе - 6 дней, полчаса каждый день будет достаточно для поддержания вашего здоровь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Гипертензия и диабет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Частота выявления АГ в различных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озрастно-половых группах насел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22520" y="2787480"/>
          <a:ext cx="449892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787480"/>
                    <a:ext cx="44989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80880" y="2209680"/>
          <a:ext cx="101347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1013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9:41:50Z</dcterms:created>
  <dc:creator>ZYV</dc:creator>
  <dc:description/>
  <dc:language>en-US</dc:language>
  <cp:lastModifiedBy>Шубников</cp:lastModifiedBy>
  <dcterms:modified xsi:type="dcterms:W3CDTF">2002-03-15T12:04:17Z</dcterms:modified>
  <cp:revision>41</cp:revision>
  <dc:subject/>
  <dc:title>Профилактика  сердечно-сосудистых заболеваний. Особенности течения заболеваний сердца у женщ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LECTURES\Kondrah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