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A5E5-0E0B-4AB2-88A6-BDB2B88C59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драхина Юлия Александровна 1975года рожде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992 по 1994гг. училась в Донецком медицинском училищ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994 по 2000г. работала в городской больнице №25 г.Донецка, в терапевтическом отделении стациона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2000года работает в поликлиническом терапевтическом отделении городской больницы №2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годня артериальная гипертония  является  одной из главных причин возникновения тяжелых сердечно-сосудистых заболеваний- инфаркта миокарда и мозгового инсуль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ответствии с рекомендациями Всемирной Организации здравоохранения верхней границей нормального давления считается систолическое не выше 140мм рт ст, диастолическое 90 мм рт ст. Более высокие цифры рассматриваются как симптомы артериальной гиперто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ие считают курение привычкой,от которой легко избавиться только волевым усилием. Курение - это вредная сильная привычка, это определенная  форма наркотической зависимости. В мире насчитывается более 1 млрд. курильщиков, в Украине курит более 41 % работоспособного населения , в том числе каждая 3-4 женщи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бак является фактором риска более чем 25 болезней и они в структуре смертности составляют почти 75 %. Каждый второй курильщик,начавший курить в молодом возрасте, продолжает курить в течение всей  жизни, умирает от вызванной табаком боле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 ни одного органа, на который не действовал бы губительно никотин. Яды табачного дыма нарушают обмен веществ, разрушают и препятствуют усвоению витами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е здоровье во многом зависит от того,насколько правильно мы  питаемся. Более того,фактор питания играет важную,а в некоторых случаях и ведущую роль в лечении многих заболе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ормальной жизнедеятельности организма человек должен получать с пищей в сутки около 100г жиров, около 450г углеводов, достаточное количество витаминов, микроэлементов, около 2л воды и 10г поваренной со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0% всех белков должны составлять белки животного происхождения,которые содержатся в мясе, рыбе, птице, молоке и молочных продуктах, яйцах, основные источники растительного белка- фасоль, горох, соя, бобы, хле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ценный растительный жир- растительное масло(подсолнечное, кукурузное и т.д.), животный- сливочное масл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вощи и фрукты- поставщики большого количества витаминов и микроэлементов- желательны постоян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леводы, при их избыточном потреблении, имеют особенность превращаться в жиры.Поэтому полнота- это удел не столько любителей жирной пищи, сала, сколько увлеченных мучными и хлебо-булочными изделиями,сдобой, сладост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Ничто так не разрушает человека, как  продолжительное физическое бездействи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ристо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ушение физического и психического состояния, ожирение, депрессии, пониженный жизненный тонус и настроение- чаще всего следствие гиподинамии. Но прежде всего необходимо понять и осознать ценность движения,как одно из важных составных частей здорового образа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считано, что если бы удалось увеличить  физическую активность на фоне отказа от табакокурения, то можно было бы снизить смертность на 10%, отказа от алкоголя- на 20%, нормализация веса- на 15%, отказа от самолечения- на 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бы сохранить физическую активность достаточно 10 минут ежедневных интенсивных занятий или не менее 60 минут занятий средней интенсив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A815-402D-4971-A1CE-3B82C886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1C2A-F224-4014-BE51-7A63A6D4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5332-9705-4DE8-8ABE-6614BF47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98A0-8992-4007-85ED-2A5F7CBE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D298-1D74-4D7F-B40A-F4FAF735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4B31-B280-4FAB-B3AD-FE30EC4D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DF7F-382D-4EBA-8E8E-E19DD310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39F6-5968-4ACF-B3FF-502C7DDB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01B7-84DC-44DB-AA74-5D8497A9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FF46-08A3-4CD1-B1C1-E3ABD398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7F3F-02D5-4F1D-8C78-4C8D54B3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B5CA-DC63-40A7-8DCB-28C37498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B53B-98B5-4C68-AD89-485F8A7C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4ED4-E8CB-455F-9153-0174B51B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8287-FBEE-4AB0-8708-F6ED3677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DC44-F935-4532-B449-23386F8C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377C-5DF9-49BB-A483-12507FA6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FD1E-922A-48F2-8E91-43CE67D7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4DB-E2BC-4EA2-89DB-9CD71904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AE8B-BB0E-47E0-98E7-6652B6F2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5309-1979-411F-9291-728F1504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4E7-D856-41B6-85FD-465F212C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AD5-298D-467D-86B6-0CCF4395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C586-3DBE-4619-8CD4-C9FD11F2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57E9-C356-4125-A7F0-96139891D578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756C-C0F6-4D55-991E-8F170880C480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8912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Профилактика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сердечно-сосудистых заболеваний.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Особенности течения заболеваний сердца у женщин</a:t>
            </a:r>
            <a:endParaRPr b="0" i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медсестра семейной амбулатории горбольницы №25 г. Донецка, Украина  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Кондрахина Ю.А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Гипертензия и диабет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Times New Roman"/>
              </a:rPr>
              <a:t>Риск развития гипертонической болезни (ГБ) существует для всех тучных, для длительно психоэмоционально перенапряженных, а так же тех, кто имеет гипертензию в семейном анамнезе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5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Times New Roman"/>
              </a:rPr>
              <a:t>страдающие сахарным диабетом имеют повышенный риск развития артериальной  гипертензии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Times New Roman"/>
              </a:rPr>
              <a:t>повышенное потребление с пищей хлорида </a:t>
            </a: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Na,  повышает </a:t>
            </a:r>
            <a:r>
              <a:rPr b="1" lang="ru-RU" sz="3000" spc="-1" strike="noStrike">
                <a:solidFill>
                  <a:srgbClr val="ffffcc"/>
                </a:solidFill>
                <a:latin typeface="Times New Roman"/>
              </a:rPr>
              <a:t>риск развития ГБ, поэтому ограничьте потребление соли!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Липиды и холестерин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5244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Times New Roman"/>
              </a:rPr>
              <a:t>Липиды - жиры в кровеносной системе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Times New Roman"/>
              </a:rPr>
              <a:t>холестерин и триглицериды - два типа липидов. Холестерин включает липопротеиды низкой плотности (ЛПН) и липопротеиды высокой плотности. Они поступают в кровь из двух источников: потребляемой вами пищи и из печени.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Рацион питания, 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полезный для сердца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6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ища, богатая  аминокислотами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ища, богатая клетчаткой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ища с низким содержанием насыщенных жиров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ища с низким содержанием холестерина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Классические симптомы сердечного приступа</a:t>
            </a:r>
            <a:endParaRPr b="0" i="1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Стенокардия или боль в груд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иррадиирующая боль в область челюсти, шеи, спины или пле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тошнот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одышка, иногда в ночное врем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симптомы обычно возникают при физическом напряжении или без нег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усталость, головокружение и други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Дополнительные исследования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Осмотр зависит от функциональной классификации -  2-4 раза в го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осмотр кардиолога 1 раз в год; анализ крови, моч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ЭКГ и велоэргометрия 2 раза в год. Анализ холестерина  (N от 3,64-6,76  ммоль/л) и триглицеридов 2 раза в год; протромби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c00"/>
                </a:solidFill>
                <a:latin typeface="Times New Roman"/>
              </a:rPr>
              <a:t>Как устранить угрозу болезни сердца?</a:t>
            </a:r>
            <a:br>
              <a:rPr sz="4200"/>
            </a:br>
            <a:endParaRPr b="0" i="1" lang="en-US" sz="4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Различия между полами проявляются и при заболеваниях сердц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у женщин болезни сердца проявляются почти на 10 лет позже, чем у мужчи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эстроген, вырабатываемый в молодом возрасте, до наступления менопаузы «защищает» сердце  женщи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c00"/>
                </a:solidFill>
                <a:latin typeface="Times New Roman"/>
              </a:rPr>
              <a:t>Факторы риска болезни сердца</a:t>
            </a:r>
            <a:endParaRPr b="0" i="1" lang="en-US" sz="4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о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возрас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наследственност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курени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тучност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гиподинами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стрес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гипертоническая болезнь, диабет и др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Пол и возраст, наследственность</a:t>
            </a:r>
            <a:br>
              <a:rPr sz="4000"/>
            </a:br>
            <a:r>
              <a:rPr b="1" i="1" lang="ru-RU" sz="3600" spc="-1" strike="noStrike">
                <a:solidFill>
                  <a:srgbClr val="ffcc00"/>
                </a:solidFill>
                <a:latin typeface="Times New Roman"/>
              </a:rPr>
              <a:t>Эти факторы риска мы не можем изменить</a:t>
            </a:r>
            <a:r>
              <a:rPr b="0" i="1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8960" y="2286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С возрастом для женщин угроза заболевания сердца увеличивается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наличие болезней сердца  в семейном анамнезе повышает рис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Факторы риска, </a:t>
            </a: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поддающиеся изменению</a:t>
            </a:r>
            <a:br>
              <a:rPr sz="3600"/>
            </a:br>
            <a:r>
              <a:rPr b="1" i="1" lang="ru-RU" sz="3600" spc="-1" strike="noStrike">
                <a:solidFill>
                  <a:srgbClr val="ffcc00"/>
                </a:solidFill>
                <a:latin typeface="Times New Roman"/>
              </a:rPr>
              <a:t>Профилактика помогает Вам уменьшить риск заболевания</a:t>
            </a:r>
            <a:endParaRPr b="0" i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8960" y="2286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Не курит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оддерживайте идеальную массу тела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употребляйте в пищу полезные для  сердца продукты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занимайтесь физическими упражнениями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Курение</a:t>
            </a:r>
            <a:br>
              <a:rPr sz="5400"/>
            </a:br>
            <a:endParaRPr b="0" i="1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6854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75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cc"/>
                </a:solidFill>
                <a:latin typeface="Times New Roman"/>
              </a:rPr>
              <a:t>Курение является серьезным фактором риска для развития сердечного приступа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675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cc"/>
                </a:solidFill>
                <a:latin typeface="Times New Roman"/>
              </a:rPr>
              <a:t>сигаретный дым оказывает дополнительную нагрузку на сердце, поскольку заставляет артерии «спадаться» или сжиматься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675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cc"/>
                </a:solidFill>
                <a:latin typeface="Times New Roman"/>
              </a:rPr>
              <a:t>дым способствует учащению сердцебиения, повышению АД и уровня  окиси углерода в организме. Он также уменьшает объем крови , поступающей к мышцам 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675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cc"/>
                </a:solidFill>
                <a:latin typeface="Times New Roman"/>
              </a:rPr>
              <a:t>в стране отмечено увеличение числа курящих женщин, в особенности среди девочек-подростков.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675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cc"/>
                </a:solidFill>
                <a:latin typeface="Times New Roman"/>
              </a:rPr>
              <a:t>Для курящих женщин риск возникновения болезни сердца в 5 раз выше, чем для некурящих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Тучность, стресс и гиподинамия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244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cc"/>
                </a:solidFill>
                <a:latin typeface="Times New Roman"/>
              </a:rPr>
              <a:t>Тучность создает дополнительную нагрузку на сердечную мышцу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cc"/>
                </a:solidFill>
                <a:latin typeface="Times New Roman"/>
              </a:rPr>
              <a:t>для людей, ведущих сидячий образ жизни, риск возникновения болезней сердца в два раза выше, чем для ведущих активный образ жизни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cc"/>
                </a:solidFill>
                <a:latin typeface="Times New Roman"/>
              </a:rPr>
              <a:t>поддерживайте идеальную массу тела. 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Физкультура</a:t>
            </a:r>
            <a:br>
              <a:rPr sz="4400"/>
            </a:b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Ведите более активный образ жизн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занимайтесь аэробными упражнениями: ходьба, бег, плавани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физическая деятельность увеличивает приток крови к сердцу и другим группам мыш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как часто? В неделе - 6 дней, полчаса каждый день будет достаточно для поддержания вашего здоровья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Гипертензия и диабет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Частота выявления АГ в различных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возрастно-половых группах населени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622520" y="2787480"/>
          <a:ext cx="4498920" cy="26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2520" y="2787480"/>
                    <a:ext cx="449892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80880" y="2209680"/>
          <a:ext cx="10134720" cy="489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209680"/>
                    <a:ext cx="101347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09:41:50Z</dcterms:created>
  <dc:creator>ZYV</dc:creator>
  <dc:description/>
  <dc:language>en-US</dc:language>
  <cp:lastModifiedBy>Шубников</cp:lastModifiedBy>
  <dcterms:modified xsi:type="dcterms:W3CDTF">2002-03-15T12:04:17Z</dcterms:modified>
  <cp:revision>41</cp:revision>
  <dc:subject/>
  <dc:title>Профилактика  сердечно-сосудистых заболеваний. Особенности течения заболеваний сердца у женщи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LECTURES\Kondrah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