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gif" ContentType="image/gif"/>
  <Override PartName="/ppt/media/image20.jpeg" ContentType="image/jpeg"/>
  <Override PartName="/ppt/media/image24.png" ContentType="image/png"/>
  <Override PartName="/ppt/media/image21.png" ContentType="image/png"/>
  <Override PartName="/ppt/media/image18.jpeg" ContentType="image/jpeg"/>
  <Override PartName="/ppt/media/image17.gif" ContentType="image/gif"/>
  <Override PartName="/ppt/media/image27.jpeg" ContentType="image/jpeg"/>
  <Override PartName="/ppt/media/image16.jpeg" ContentType="image/jpeg"/>
  <Override PartName="/ppt/media/image5.png" ContentType="image/png"/>
  <Override PartName="/ppt/media/image8.jpeg" ContentType="image/jpeg"/>
  <Override PartName="/ppt/media/image29.jpeg" ContentType="image/jpeg"/>
  <Override PartName="/ppt/media/image7.gif" ContentType="image/gif"/>
  <Override PartName="/ppt/media/image28.png" ContentType="image/png"/>
  <Override PartName="/ppt/media/image35.gif" ContentType="image/gif"/>
  <Override PartName="/ppt/media/image23.png" ContentType="image/png"/>
  <Override PartName="/ppt/media/image13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36.png" ContentType="image/png"/>
  <Override PartName="/ppt/media/image25.jpeg" ContentType="image/jpeg"/>
  <Override PartName="/ppt/media/image32.png" ContentType="image/png"/>
  <Override PartName="/ppt/media/image10.png" ContentType="image/png"/>
  <Override PartName="/ppt/media/image1.jpeg" ContentType="image/jpeg"/>
  <Override PartName="/ppt/media/image3.jpeg" ContentType="image/jpeg"/>
  <Override PartName="/ppt/media/image37.jpeg" ContentType="image/jpeg"/>
  <Override PartName="/ppt/media/image12.jpeg" ContentType="image/jpeg"/>
  <Override PartName="/ppt/media/image11.png" ContentType="image/png"/>
  <Override PartName="/ppt/media/image2.gif" ContentType="image/gif"/>
  <Override PartName="/ppt/media/image19.jpeg" ContentType="image/jpeg"/>
  <Override PartName="/ppt/media/image22.jpeg" ContentType="image/jpeg"/>
  <Override PartName="/ppt/media/image9.png" ContentType="image/png"/>
  <Override PartName="/ppt/media/image14.png" ContentType="image/png"/>
  <Override PartName="/ppt/media/image1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21F8-2FE9-4EB9-87F0-B2693AD4A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5DF0-DFC4-4702-B33F-F1818B372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362A-111F-4E40-8543-501C72111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B9DC-7FC2-40E2-AAEA-5A0E46D37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AF9D-FEE1-417B-BE71-3EE7F73B1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E270-761F-49CB-9D47-F281A0706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F892-8A39-4473-A52A-B928270AC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A51C-D10D-4C91-AF47-0FBE02A0D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33AF-3CC2-4D49-9BF5-97A2C369B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D945-46F7-42F5-BEC3-82E5088F0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7F9E-B8BC-4C2C-91F8-93915445C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E016-9E14-4641-9B59-E9B85A093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9300F-9A69-46D9-8DBF-63F88F1CFE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gif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gif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42920" y="666720"/>
            <a:ext cx="7201080" cy="5332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Система «Земля – Лун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468360" y="2492280"/>
            <a:ext cx="867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76560" y="2811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4903920" cy="39225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5940360" y="4005360"/>
            <a:ext cx="3564000" cy="26748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2268360" y="2924280"/>
            <a:ext cx="4211640" cy="31734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5219640" y="333360"/>
            <a:ext cx="3924360" cy="32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езкие изменения магнитн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оля Земли называются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магнитными бурями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агнитные бури часто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ачинаются через сутки или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вое после хромосферных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спышек на Солнце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Они вызываются потока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частиц, движущихся с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большими скоростями от Солнц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4995720"/>
            <a:ext cx="43927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Заряженные частицы, скользя  вдоль 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иловых  магнитных линий Земли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могут проникнуть в атмосферу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талкиваясь с атомами  атмосферы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они вызывают  особое свечение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называемое полярным сияние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68360" y="2492280"/>
            <a:ext cx="867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692360" y="907920"/>
            <a:ext cx="5759280" cy="43894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195640" y="260280"/>
            <a:ext cx="46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олярные сияния видны и из космос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63640" y="5445000"/>
            <a:ext cx="568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ffff"/>
                </a:solidFill>
                <a:latin typeface="Arial"/>
              </a:rPr>
              <a:t> </a:t>
            </a:r>
            <a:r>
              <a:rPr b="0" lang="ru-RU" sz="1600" spc="-1" strike="noStrike">
                <a:solidFill>
                  <a:srgbClr val="ccffff"/>
                </a:solidFill>
                <a:latin typeface="Arial"/>
              </a:rPr>
              <a:t>Полярное сияние с борта корабля «Space Shuttle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68360" y="2492280"/>
            <a:ext cx="867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5651640" y="1125360"/>
            <a:ext cx="3031920" cy="3672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195640" y="33336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Луна – спутник Земл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1197000"/>
            <a:ext cx="518472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адиус Луны – 1738 км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ffff"/>
                </a:solidFill>
                <a:latin typeface="Arial"/>
              </a:rPr>
              <a:t>т.е. примерно в 4 раза меньше радиуса Земли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асса Луны – 7,35*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кг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ffff"/>
                </a:solidFill>
                <a:latin typeface="Arial"/>
              </a:rPr>
              <a:t>т.е. примерно в 81 раз меньше массы Зем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2602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Луна влияет на Землю, вызывая прилив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2492280"/>
            <a:ext cx="867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3186000" cy="42483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851280" y="1557360"/>
            <a:ext cx="50799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68360" y="2492280"/>
            <a:ext cx="867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908000" y="836640"/>
            <a:ext cx="5508720" cy="52974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2843280" y="6021360"/>
            <a:ext cx="334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ffff"/>
                </a:solidFill>
                <a:latin typeface="Arial"/>
              </a:rPr>
              <a:t> </a:t>
            </a:r>
            <a:r>
              <a:rPr b="0" lang="en-US" sz="1600" spc="-1" strike="noStrike">
                <a:solidFill>
                  <a:srgbClr val="ccffff"/>
                </a:solidFill>
                <a:latin typeface="Arial"/>
              </a:rPr>
              <a:t>Видимая сторона Лун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08000" y="404640"/>
            <a:ext cx="55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Луна всегда обращена к нам одной стороной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468360" y="2492280"/>
            <a:ext cx="867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804000" y="630864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ccffff"/>
                </a:solidFill>
                <a:latin typeface="Arial"/>
              </a:rPr>
              <a:t>Фаза Лу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2602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Отношение площади освещенной части видимого диска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Луны ко всей его площади называется 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фазой Луны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Численно фаза равна отношению толщины освещенн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части диска (d)  к его диаметру (D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258920" y="1916280"/>
            <a:ext cx="5483160" cy="47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68360" y="2492280"/>
            <a:ext cx="867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4000" y="4724280"/>
            <a:ext cx="4066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ffff"/>
                </a:solidFill>
                <a:latin typeface="Arial"/>
              </a:rPr>
              <a:t>В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1600" spc="-1" strike="noStrike">
                <a:solidFill>
                  <a:srgbClr val="ccffff"/>
                </a:solidFill>
                <a:latin typeface="Arial"/>
              </a:rPr>
              <a:t>новолуние фаза равна Φ = 0, в  первую четверть Φ = 0,5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ffff"/>
                </a:solidFill>
                <a:latin typeface="Arial"/>
              </a:rPr>
              <a:t>в полнолуние Φ = 1,0, а в последнюю четверть снова Φ = 0,5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ccffff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18900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азличают четыре основные фазы Луны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новолуние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первая четверть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полнолуние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и </a:t>
            </a: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последняя четверть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79280" y="1989000"/>
            <a:ext cx="4140360" cy="25876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427640" y="1924200"/>
            <a:ext cx="4716360" cy="35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468360" y="2492280"/>
            <a:ext cx="867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4762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Условия видимости Луны в зависимости от фаз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486900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ffff"/>
                </a:solidFill>
                <a:latin typeface="Arial"/>
              </a:rPr>
              <a:t>Луна быстро перемещается на фоне звездного неба  с запада на восток на 13,5° в сутки, в направлении, противоположном суточному вращению небесной сфер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140360" y="1125360"/>
            <a:ext cx="4465440" cy="33483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79280" y="2276640"/>
            <a:ext cx="3746520" cy="16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468360" y="2492280"/>
            <a:ext cx="867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омежуток времени между двумя последовательными одинаковыми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фазами Луны называется 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синодическим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 месяцем, его продолжительность составляет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9,53 суток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Сидерический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 же месяц, т.е. время, за которое Луна делает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один оборот вокруг Земли относительно звезд, составляет 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7,3 суток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566748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ffff"/>
                </a:solidFill>
                <a:latin typeface="Arial"/>
              </a:rPr>
              <a:t>Земля обращается вокруг Солнца, поэтому от одного новолуния к следующему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ffff"/>
                </a:solidFill>
                <a:latin typeface="Arial"/>
              </a:rPr>
              <a:t>Луна оборачивается вокруг Земли не на 360°, а несколько больш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ffff"/>
                </a:solidFill>
                <a:latin typeface="Arial"/>
              </a:rPr>
              <a:t>Поэтому, синодический месяц на 2,2 дня больше сидерического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403280" y="1773360"/>
            <a:ext cx="6408720" cy="38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468360" y="2492280"/>
            <a:ext cx="867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403280" y="765000"/>
            <a:ext cx="6350040" cy="50803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0" y="2602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окрытие Солнца Луной называется 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солнечным затмением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403280" y="6083280"/>
            <a:ext cx="626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ffff"/>
                </a:solidFill>
                <a:latin typeface="Arial"/>
              </a:rPr>
              <a:t>Солнечное затмение очень красивое и редкое явлен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11280" y="18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Земля – третья планета от Солнца в Солнечной систем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500720" y="1052640"/>
            <a:ext cx="4392360" cy="24699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258920" y="3429000"/>
            <a:ext cx="4284720" cy="3429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79280" y="1700280"/>
            <a:ext cx="428472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асса Земли - 5,974∙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кг, Средняя плотность - 5,515 г/см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Экваториальный радиус - 6 378 к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олярный радиус -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 356 к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ffff"/>
                </a:solidFill>
                <a:latin typeface="Arial"/>
              </a:rPr>
              <a:t>Сплюснутость Земли с полюсов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ffff"/>
                </a:solidFill>
                <a:latin typeface="Arial"/>
              </a:rPr>
              <a:t>объясняется вращение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468360" y="2492280"/>
            <a:ext cx="867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183280" y="404640"/>
            <a:ext cx="396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олнечное затмение наступает, если в момент полнолуния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Луна пересекает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лоскость эклиптик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140360" y="3284640"/>
            <a:ext cx="5003640" cy="20001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0" y="3357720"/>
            <a:ext cx="4140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олные солнечные затмения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ожно видеть только в те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областях Земли, по которым проход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олоса тени Лун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иаметр тени не превышает 270 к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оэтому полное затмение Солн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идно лишь на малом участ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земной поверх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250920" y="404640"/>
            <a:ext cx="4897440" cy="24498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4356000" y="5445000"/>
            <a:ext cx="478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ffff"/>
                </a:solidFill>
                <a:latin typeface="Arial"/>
              </a:rPr>
              <a:t> </a:t>
            </a:r>
            <a:r>
              <a:rPr b="0" lang="en-US" sz="1600" spc="-1" strike="noStrike">
                <a:solidFill>
                  <a:srgbClr val="ccffff"/>
                </a:solidFill>
                <a:latin typeface="Arial"/>
              </a:rPr>
              <a:t>Полное солнечное  затмение 7 марта 1970 г. </a:t>
            </a:r>
            <a:r>
              <a:rPr b="0" lang="en-US" sz="1400" spc="-1" strike="noStrike">
                <a:solidFill>
                  <a:srgbClr val="ccffff"/>
                </a:solidFill>
                <a:latin typeface="Arial"/>
              </a:rPr>
              <a:t>На поверхности Земли хорошо видна лунная тень.</a:t>
            </a:r>
            <a:r>
              <a:rPr b="0" lang="en-US" sz="1600" spc="-1" strike="noStrike">
                <a:solidFill>
                  <a:srgbClr val="ccffff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468360" y="2492280"/>
            <a:ext cx="867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6237360"/>
            <a:ext cx="478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ffff"/>
                </a:solidFill>
                <a:latin typeface="Arial"/>
              </a:rPr>
              <a:t>  </a:t>
            </a:r>
            <a:r>
              <a:rPr b="0" lang="en-US" sz="1600" spc="-1" strike="noStrike">
                <a:solidFill>
                  <a:srgbClr val="ccffff"/>
                </a:solidFill>
                <a:latin typeface="Arial"/>
              </a:rPr>
              <a:t>Кольцеобразное солнечное затме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26028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Если диск Солнца полностью закрывается диском Луны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то затмение называют 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полным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 перигее Луна бывает ближе к Земле на 21 000 км от среднего расстояния, в апогее – дальше на 21 000 к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От этого изменяются угловые размеры Лу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24000" y="1989000"/>
            <a:ext cx="4032000" cy="40323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4427640" y="1989000"/>
            <a:ext cx="4572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Если угловой диаметр диска Луны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около 0,5°) оказывается немного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еньше углового диаметра диска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олнца (около 0,5°), то в момент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аксимальной фазы затмения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от Солнца остается видимым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яркое узкое кольц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Такое затмение называется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ольцеобразн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468360" y="2492280"/>
            <a:ext cx="867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63640" y="6093000"/>
            <a:ext cx="56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"/>
              </a:rPr>
              <a:t>  </a:t>
            </a:r>
            <a:r>
              <a:rPr b="0" lang="en-US" sz="1800" spc="-1" strike="noStrike">
                <a:solidFill>
                  <a:srgbClr val="ccffff"/>
                </a:solidFill>
                <a:latin typeface="Arial"/>
              </a:rPr>
              <a:t>Схема полного затмения Солнц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1890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о обе стороны полосы полной фазы происходит частное затмение Солнц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Хотя солнечные затмения происходят чаще лунных, в каждом отдельн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 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есте Земли солнечные затмения наблюдаются гораздо реже лунн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619280" y="1557360"/>
            <a:ext cx="6014880" cy="45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68360" y="2492280"/>
            <a:ext cx="867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84360" y="6237360"/>
            <a:ext cx="53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ffff"/>
                </a:solidFill>
                <a:latin typeface="Arial"/>
              </a:rPr>
              <a:t>Схема наступления лунного затмен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2602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Лунное затм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5076720" y="1268280"/>
            <a:ext cx="3714840" cy="23814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684360" y="3429000"/>
            <a:ext cx="5329080" cy="266544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684360" y="2565360"/>
            <a:ext cx="46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о время полного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лунного затмения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Луна полностью уходит в тень Земл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468360" y="2492280"/>
            <a:ext cx="867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3640" y="6308640"/>
            <a:ext cx="5688000" cy="9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лные солнечные  затмения можно видеть только в тех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бластях Земли, по  которым проходит полоса тени  Лун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иаметр тени не  превышает 270 км, поэтому полное  затмение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лнца видно лишь  на малом участке земной  поверхнос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ольцеобразное солнечное затмени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сли диск Солнца полностью закрывается диском Луны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о затмение называют 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полны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 перигее Луна бывает ближе к Земле на 21 000 км от среднего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сстояния, в апогее – дальше на 21 000 к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 этого изменяются угловые размеры Лун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хема полного затмения Солнц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хема наступления лунного затмени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260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расноватый цвет диска Луны во время лунных затмений обусловлен тем, что сквозь атмосферу лучше  всего проходят красные и оранжевые луч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050920" y="1527120"/>
            <a:ext cx="5185080" cy="370044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1692360" y="5516640"/>
            <a:ext cx="604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ffff"/>
                </a:solidFill>
                <a:latin typeface="Arial"/>
              </a:rPr>
              <a:t>Затмение Луны 16 июля 2000 года. Вид в телескоп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2492280"/>
            <a:ext cx="867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26028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Орбита Земли близка к круговой орбите. Эксцентриситет 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е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0,017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адиус орбиты Земли – 149,6 млн. к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"/>
              </a:rPr>
              <a:t>Радиус орбиты Земли принят за 1 астрономическую единиц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ериод обращения по орбите составляет 365,256 земных суток или 1 год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редняя скорость движения по орбите – 29,8 км/с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50920" y="2349360"/>
            <a:ext cx="3600360" cy="36007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067280" y="2421000"/>
            <a:ext cx="4787640" cy="34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908000" y="189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торое основное вращение Земли – вращение вокруг ос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826920" y="907920"/>
            <a:ext cx="1838520" cy="3672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564000" y="907920"/>
            <a:ext cx="4932360" cy="3699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132000" y="4869000"/>
            <a:ext cx="6012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ffff"/>
                </a:solidFill>
                <a:latin typeface="Arial"/>
              </a:rPr>
              <a:t>Смена времен года на Земле происходит из-за трех причин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ffff"/>
                </a:solidFill>
                <a:latin typeface="Arial"/>
              </a:rPr>
              <a:t>- обращения Земли вокруг Солнц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ffff"/>
                </a:solidFill>
                <a:latin typeface="Arial"/>
              </a:rPr>
              <a:t>- наклона земной оси к плоскости орбит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ffff"/>
                </a:solidFill>
                <a:latin typeface="Arial"/>
              </a:rPr>
              <a:t>- сохранения направления оси в пространств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68360" y="2492280"/>
            <a:ext cx="867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76720" y="860400"/>
            <a:ext cx="5867280" cy="5560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780000" y="333360"/>
            <a:ext cx="24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троение Земл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3348000" cy="25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716360" y="260280"/>
            <a:ext cx="44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остав атмосферы Зем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о химическим элементам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2492280"/>
            <a:ext cx="867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788000" y="1197000"/>
            <a:ext cx="3960720" cy="39607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395280" y="1197000"/>
            <a:ext cx="3960720" cy="39607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95280" y="260280"/>
            <a:ext cx="39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остав Земли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о химическим элементам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6206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Атмосфера Земли состоит из ряда слоев –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тропосферы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стратосферы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мезосферы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термосферы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экзосферы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8360" y="2492280"/>
            <a:ext cx="867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258920" y="6093000"/>
            <a:ext cx="259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ffff"/>
                </a:solidFill>
                <a:latin typeface="Arial"/>
              </a:rPr>
              <a:t>Строение атмосфер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32360" y="5734080"/>
            <a:ext cx="4211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ffff"/>
                </a:solidFill>
                <a:latin typeface="Arial"/>
              </a:rPr>
              <a:t>Небольшое количество углекислог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ffff"/>
                </a:solidFill>
                <a:latin typeface="Arial"/>
              </a:rPr>
              <a:t>газа в земной атмосфере создает 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ffff"/>
                </a:solidFill>
                <a:latin typeface="Arial"/>
              </a:rPr>
              <a:t>парниковый эффек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971640" y="1413000"/>
            <a:ext cx="3378240" cy="45050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5518080" y="1484280"/>
            <a:ext cx="3021120" cy="42292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0" y="2602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Земля достаточно массивна и удерживает возле себя атмосфер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260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Земная атмосфера не пропускает жесткое коротковолновое излучение.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Озо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одним из важнейших газов, поглощающих ультрафиолетовые лучи 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2492280"/>
            <a:ext cx="867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340000" y="1538280"/>
            <a:ext cx="4753080" cy="3564000"/>
          </a:xfrm>
          <a:prstGeom prst="rect">
            <a:avLst/>
          </a:prstGeom>
          <a:ln w="9360">
            <a:solidFill>
              <a:srgbClr val="3333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7518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2602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Земля имеет мощное магнитное пол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8360" y="2492280"/>
            <a:ext cx="867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5661000"/>
            <a:ext cx="3313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ffff"/>
                </a:solidFill>
                <a:latin typeface="Arial"/>
              </a:rPr>
              <a:t>Радиационные пояса 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ffff"/>
                </a:solidFill>
                <a:latin typeface="Arial"/>
              </a:rPr>
              <a:t>(Ван Аллена)  и 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ffff"/>
                </a:solidFill>
                <a:latin typeface="Arial"/>
              </a:rPr>
              <a:t>магнитосфера Зем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132000" y="846000"/>
            <a:ext cx="6012000" cy="60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1T08:14:45Z</dcterms:created>
  <dc:creator>Victor</dc:creator>
  <dc:description/>
  <dc:language>en-US</dc:language>
  <cp:lastModifiedBy>admin</cp:lastModifiedBy>
  <dcterms:modified xsi:type="dcterms:W3CDTF">2010-12-05T14:39:50Z</dcterms:modified>
  <cp:revision>17</cp:revision>
  <dc:subject/>
  <dc:title>Слайд 1</dc:title>
</cp:coreProperties>
</file>