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png" ContentType="image/png"/>
  <Override PartName="/ppt/media/image21.png" ContentType="image/png"/>
  <Override PartName="/ppt/media/image18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gif" ContentType="image/gif"/>
  <Override PartName="/ppt/media/image28.png" ContentType="image/png"/>
  <Override PartName="/ppt/media/image35.gif" ContentType="image/gif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6CF-5585-4BA7-815C-CD764491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F41-9ECA-4521-B37D-914948F3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088-B1C4-4AE5-976F-5B046658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522-6FFF-42D6-AF12-AD1BDAE9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EF5-FF74-48CC-8380-AC8017E5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A2A-6F60-4407-9F83-B98735AC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4EB-0EB1-4B4D-BDBB-1FFC6640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91F-5897-419A-ADB9-1A890539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D39-9D6D-4CF2-81E4-2DB9A8F2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6DB-4419-4CD0-8755-8888E50C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9AB-2A9B-457E-95E0-4DECF640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31F-1DFF-4F14-A11D-74A27949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2FA7-BFD6-4EDD-969F-186E9EE45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666720"/>
            <a:ext cx="7201080" cy="5332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Система «Земля – Лу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7656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903920" cy="392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3564000" cy="267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4211640" cy="3173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19640" y="333360"/>
            <a:ext cx="39243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кие изменения магни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я Земли называются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магнитными буря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гнитные бури часто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инаются через сутки ил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ое после хромосферных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пышек на Солнц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ни вызываются пото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стиц, движущихся с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льшими скоростями от 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995720"/>
            <a:ext cx="439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ряженные частицы, скользя  вдоль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иловых  магнитных линий Зем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огут проникнуть в атмосфер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алкиваясь с атомами  атмосфер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ни вызывают  особое свеч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зываемое полярным си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759280" cy="4389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95640" y="2602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ярные сияния видны и из космо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5445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Полярное сияние с борта корабля «Space Shuttle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3031920" cy="3672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95640" y="333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Луна – спутник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197000"/>
            <a:ext cx="518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диус Луны – 1738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т.е. примерно в 4 раза меньше радиуса Зем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 Луны – 7,35*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т.е. примерно в 81 раз меньше массы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на влияет на Землю, вызывая прили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186000" cy="424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508720" cy="5297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6021360"/>
            <a:ext cx="33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Видимая сторона Лу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4046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на всегда обращена к нам одной стороно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63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Фаза Л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ношение площади освещенной части видимого диска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ны ко всей его площади называется 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фазой Лу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сленно фаза равна отношению толщины освещ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сти диска (d)  к его диаметру (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4831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724280"/>
            <a:ext cx="406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новолуние фаза равна Φ = 0, в  первую четверть Φ = 0,5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в полнолуние Φ = 1,0, а в последнюю четверть снова Φ = 0,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личают четыре основные фазы Лу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новолу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ервая четвер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олнолуние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 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оследняя четвер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140360" cy="2587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27640" y="192420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я видимости Луны в зависимости от ф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69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Луна быстро перемещается на фоне звездного неба  с запада на восток на 13,5° в сутки, в направлении, противоположном суточному вращению небесной сфе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1125360"/>
            <a:ext cx="4465440" cy="334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3746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межуток времени между двумя последовательными одинаковым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азами Луны называется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инодическ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месяцем, его продолжительность составляет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9,53 суто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идерическ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же месяц, т.е. время, за которое Луна делае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 оборот вокруг Земли относительно звезд, составляет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7,3 суто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667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Земля обращается вокруг Солнца, поэтому от одного новолуния к следующему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Луна оборачивается вокруг Земли не на 360°, а несколько больш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Поэтому, синодический месяц на 2,2 дня больше сидерическ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872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350040" cy="5080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крытие Солнца Луной называется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олнечным затмение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0832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олнечное затмение очень красивое и редкое я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18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Земля – третья планета от Солнца в Солнечной сис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392360" cy="2469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428472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1700280"/>
            <a:ext cx="428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 Земли - 5,974∙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г, Средняя плотность - 5,515 г/см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кваториальный радиус - 6 378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ярный радиус -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плюснутость Земли с полюсо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объясняется враще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3280" y="4046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нечное затмение наступает, если в момент полнолуни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на пересекае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оскость эклип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357720"/>
            <a:ext cx="41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ные солнечные затмени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жно видеть только в т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ластях Земли, по которым прох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са тени 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метр тени не превышает 270 к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этому полное затмение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но лишь на малом учас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ной поверх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897440" cy="2449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56000" y="5445000"/>
            <a:ext cx="47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Полное солнечное  затмение 7 марта 1970 г. </a:t>
            </a: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На поверхности Земли хорошо видна лунная тень.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37360"/>
            <a:ext cx="47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Кольцеобразное солнечное затм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60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 диск Солнца полностью закрывается диском Лу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 затмение называют 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полны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 перигее Луна бывает ближе к Земле на 21 000 км от среднего расстояния, в апогее – дальше на 21 000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 этого изменяются угловые размеры Лу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032000" cy="4032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27640" y="198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 угловой диаметр диска Луны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около 0,5°) оказывается немного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ньше углового диаметра диска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нца (около 0,5°), то в момен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ксимальной фазы затмени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 Солнца остается видимы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ркое узкое кольц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кое затмение назыв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ьцеобраз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 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Схема полного затмения Солн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 обе стороны полосы полной фазы происходит частное затмение 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я солнечные затмения происходят чаще лунных, в каждом отдель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сте Земли солнечные затмения наблюдаются гораздо реже лу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0148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62373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хема наступления лунного затм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Лунное затм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714840" cy="2381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532908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2565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 время полного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лунного затм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Луна полностью уходит в тень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6308640"/>
            <a:ext cx="56880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ные солнечные  затмения можно видеть только в тех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ластях Земли, по  которым проходит полоса тени 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аметр тени не  превышает 270 км, поэтому полное  затмени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нца видно лишь  на малом участке земной  поверх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ьцеобразное солнечное затм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 диск Солнца полностью закрывается диском Лу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 затмение называют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лн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перигее Луна бывает ближе к Земле на 21 000 км от среднего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тояния, в апогее – дальше на 21 000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 этого изменяются угловые размеры 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 полного затмения Солн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 наступления лунного затм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ватый цвет диска Луны во время лунных затмений обусловлен тем, что сквозь атмосферу лучше  всего проходят красные и оранжевые 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0920" y="1527120"/>
            <a:ext cx="5185080" cy="3700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92360" y="5516640"/>
            <a:ext cx="60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Затмение Луны 16 июля 2000 года. Вид в телеско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0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бита Земли близка к круговой орбите. Эксцентриситет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,01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диус орбиты Земли – 149,6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Радиус орбиты Земли принят за 1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иод обращения по орбите составляет 365,256 земных суток или 1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едняя скорость движения по орбите – 29,8 км/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600360" cy="360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787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8000" y="189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торое основное вращение Земли – вращение вокруг о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1838520" cy="36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32000" y="4869000"/>
            <a:ext cx="601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мена времен года на Земле происходит из-за трех причи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- обращения Земли вокруг Солн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- наклона земной оси к плоскости орби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- сохранения направления оси в простран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860400"/>
            <a:ext cx="5867280" cy="556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80000" y="33336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оение 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16360" y="2602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 атмосферы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 химическим элемента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260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 Земл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 химическим элемента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тмосфера Земли состоит из ряда слоев –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тропосферы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стратосферы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мезосферы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термосферы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экзосфе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6093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троение атмосф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5734080"/>
            <a:ext cx="42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Небольшое количество углекисл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газа в земной атмосфере создает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парниковый эф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378240" cy="4505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18080" y="1484280"/>
            <a:ext cx="3021120" cy="422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ля достаточно массивна и удерживает возле себя атмосф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ная атмосфера не пропускает жесткое коротковолновое излучение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Оз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ним из важнейших газов, поглощающих ультрафиолетовые лучи 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40000" y="1538280"/>
            <a:ext cx="4753080" cy="35640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1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ля имеет мощное магнитное п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66100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Радиационные пояса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(Ван Аллена)  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магнитосфера 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32000" y="846000"/>
            <a:ext cx="6012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08:14:45Z</dcterms:created>
  <dc:creator>Victor</dc:creator>
  <dc:description/>
  <dc:language>en-US</dc:language>
  <cp:lastModifiedBy>admin</cp:lastModifiedBy>
  <dcterms:modified xsi:type="dcterms:W3CDTF">2010-12-05T14:39:50Z</dcterms:modified>
  <cp:revision>17</cp:revision>
  <dc:subject/>
  <dc:title>Слайд 1</dc:title>
</cp:coreProperties>
</file>