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6874-6357-49E2-A4D3-21214EB4F7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n agreement between ship and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/Port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B0B-1518-402C-8993-E6010FFE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D61A-9972-45C5-93C5-FB9FA045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A40-8338-46E2-8AC4-731A0112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81C-E43E-416D-9BB1-68DA6E12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0AC-4DAB-4018-BD17-6627FAD4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5C2F-CD59-4851-829A-A205B8E6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F5A-DDCA-4B66-AA8E-0AAC5F98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98AC-FEDA-490F-805A-3BB4F209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560-2BD9-4CB0-8F6D-77261143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70C3-33E5-48F0-BB5F-CF824B6D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3BD-AFDB-459F-8D73-EF7BD340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E71-7FA6-456E-9B92-C1E98A7F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55BF-19D7-4E0D-B656-25DE84672D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ms%20logo%20blue%20copy" descr=""/>
          <p:cNvPicPr/>
          <p:nvPr/>
        </p:nvPicPr>
        <p:blipFill>
          <a:blip r:embed="rId2"/>
          <a:stretch/>
        </p:blipFill>
        <p:spPr>
          <a:xfrm>
            <a:off x="8381880" y="6114960"/>
            <a:ext cx="76212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80440" y="3048120"/>
            <a:ext cx="72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ЕКЛАРАЦИЯ ОБ ОХРАН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01000" y="6121440"/>
            <a:ext cx="1143000" cy="73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АФЕДРА ОБМ ОНМУ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Unicode MS"/>
              </a:rPr>
              <a:t>Цель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     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Главной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целью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является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беспечение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говоренност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между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судном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портовым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средством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ругим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судном,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которым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но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взаимодействует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,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 распределени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мер охраны,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которые каждый будет выполнять в соответствие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положениям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х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добренных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планов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храны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3" name=""/>
          <p:cNvSpPr/>
          <p:nvPr/>
        </p:nvSpPr>
        <p:spPr>
          <a:xfrm>
            <a:off x="8001000" y="6121440"/>
            <a:ext cx="1143000" cy="73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АФЕДРА ОБМ ОНМУ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Unicode MS"/>
              </a:rPr>
              <a:t>Процесс консультации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Просьба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о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заключении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ДО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требует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консультации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между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Офицером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охраны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портового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средства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(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ООПС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)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и Офицером охраны судна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(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ООС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)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Согласованная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ДО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должна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быть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подписана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и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датирована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как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портовым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средством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так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и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судном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для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того, чтобы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показать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соответствие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Кодексу ОСПС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.  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6" name=""/>
          <p:cNvSpPr/>
          <p:nvPr/>
        </p:nvSpPr>
        <p:spPr>
          <a:xfrm>
            <a:off x="8001000" y="6121440"/>
            <a:ext cx="1143000" cy="73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АФЕДРА ОБМ ОНМУ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Unicode MS"/>
              </a:rPr>
              <a:t>Важные</a:t>
            </a:r>
            <a:r>
              <a:rPr b="1" lang="en-GB" sz="4400" spc="-1" strike="noStrike" u="sng">
                <a:solidFill>
                  <a:srgbClr val="ffffff"/>
                </a:solidFill>
                <a:uFillTx/>
                <a:latin typeface="Arial Unicode MS"/>
              </a:rPr>
              <a:t>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Unicode MS"/>
              </a:rPr>
              <a:t>моменты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Д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может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отребоваться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на боле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высоком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уровн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охраны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endParaRPr b="0" lang="en-US" sz="2400" spc="-1" strike="noStrike">
              <a:solidFill>
                <a:srgbClr val="ffff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Когда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есть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основания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редполагать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боле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высокий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риск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ричинам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особенности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данног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судна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,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ег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груза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,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ассажиров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обстоятельств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в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ортовом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средств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любая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комбинация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сказанног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выше</a:t>
            </a:r>
            <a:endParaRPr b="0" lang="en-US" sz="2400" spc="-1" strike="noStrike">
              <a:solidFill>
                <a:srgbClr val="ffff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зменени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уровня охраны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может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отребовать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новую Д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ересмотр ране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составленной</a:t>
            </a:r>
            <a:endParaRPr b="0" lang="en-US" sz="2400" spc="-1" strike="noStrike">
              <a:solidFill>
                <a:srgbClr val="ffff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Д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должна составляться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на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английском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,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французском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спанском язык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,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на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язык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общем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для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ортовог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средства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судна (судов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).</a:t>
            </a:r>
            <a:endParaRPr b="0" lang="en-US" sz="24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9" name=""/>
          <p:cNvSpPr/>
          <p:nvPr/>
        </p:nvSpPr>
        <p:spPr>
          <a:xfrm>
            <a:off x="8001000" y="6121440"/>
            <a:ext cx="1143000" cy="73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АФЕДРА ОБМ ОНМУ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Форма</a:t>
            </a:r>
            <a:r>
              <a:rPr b="0" lang="en-GB" sz="4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ДО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Название судна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Порт приписки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Номер 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IMO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Название портового средства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аты действия ДО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т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/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Уровень охраны судна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Уровень охраны портового средства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Распределение обязанностей по охране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2" name=""/>
          <p:cNvSpPr/>
          <p:nvPr/>
        </p:nvSpPr>
        <p:spPr>
          <a:xfrm>
            <a:off x="8001000" y="6121440"/>
            <a:ext cx="1143000" cy="73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АФЕДРА ОБМ ОНМУ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Подписавшие стороны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839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ОП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О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подписывают соответствующие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колонк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ОП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капитан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О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подписывают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лжны быть указаны ФИО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лжность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/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звание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подписавших лиц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лжны быть указаны контактные связ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ОП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,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капитана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 ОО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(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указать номера телефонов или радио каналов или частот, которые нужно использовать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).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5" name=""/>
          <p:cNvSpPr/>
          <p:nvPr/>
        </p:nvSpPr>
        <p:spPr>
          <a:xfrm>
            <a:off x="8001000" y="6121440"/>
            <a:ext cx="1143000" cy="73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АФЕДРА ОБМ ОНМУ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19:48:33Z</dcterms:created>
  <dc:creator> </dc:creator>
  <dc:description/>
  <dc:language>en-US</dc:language>
  <cp:lastModifiedBy>SERGE</cp:lastModifiedBy>
  <dcterms:modified xsi:type="dcterms:W3CDTF">2006-06-12T20:20:13Z</dcterms:modified>
  <cp:revision>7</cp:revision>
  <dc:subject/>
  <dc:title>Declaration of Security (DoS)</dc:title>
</cp:coreProperties>
</file>