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1CB1-273B-4055-8C2F-D625B444B3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n agreement between ship and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/Por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02C-2669-4EEB-B029-0DB8A4C2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914-84F9-46FF-98B2-9D924EB4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227-B38B-4810-A186-9F9BDE0B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00E-EE95-4191-9FFF-A7EE6573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665-0F88-43A1-A4A9-BF440D6A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DB8-B653-4BFC-881B-05226DC6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E3EC-AD3B-4C4E-B84A-7BFA0FDC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E50-A548-4D38-8AEF-48E14CFE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56A-3BC0-4B19-9655-E98D31A8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D56-9F41-4DA0-BF85-56C9093F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36D-ADD7-46A3-9610-7529CFA9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796-474A-48FD-A68C-0B5C09F0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05D-B671-47E2-9FCA-3571B5B2D6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s%20logo%20blue%20copy" descr=""/>
          <p:cNvPicPr/>
          <p:nvPr/>
        </p:nvPicPr>
        <p:blipFill>
          <a:blip r:embed="rId2"/>
          <a:stretch/>
        </p:blipFill>
        <p:spPr>
          <a:xfrm>
            <a:off x="8381880" y="6114960"/>
            <a:ext cx="7621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0440" y="3048120"/>
            <a:ext cx="72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КЛАРАЦИЯ ОБ ОХРАН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Цель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     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Главной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целью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является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беспечен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говоренност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между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удно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ртовы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редство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руги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удном,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торым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н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взаимодействуе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 распределени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мер охраны,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торые каждый будет выполнять в соответств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ложениям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х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добренных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ланов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Процесс консультации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росьб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заключени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ребует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онсультаци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между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фицер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ртовог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редств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)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 Офицером охраны суд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)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огласованная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олж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быть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дписа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атирована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ак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ртовы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редств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ак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удном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для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того, чтобы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показать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соответствие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 Unicode MS"/>
              </a:rPr>
              <a:t>Кодексу ОСПС</a:t>
            </a:r>
            <a:r>
              <a:rPr b="0" lang="en-GB" sz="2800" spc="-1" strike="noStrike">
                <a:solidFill>
                  <a:srgbClr val="ffff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Важные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Arial Unicode MS"/>
              </a:rPr>
              <a:t>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 Unicode MS"/>
              </a:rPr>
              <a:t>моменты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может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требоватьс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 бол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со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уровн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храны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Когд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ес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сновани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редполага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бол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сокий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риск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ричина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собенност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анн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уд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е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груз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ассажиро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бстоятельст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ртов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редств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люба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комбинаци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казанн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выше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зменени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уровня охраны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может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требовать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овую 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ересмотр ране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оставленной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олжна составляться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английс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французско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спанском язык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н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языке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общем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для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портового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редства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Unicode MS"/>
              </a:rPr>
              <a:t>судна (судов</a:t>
            </a:r>
            <a:r>
              <a:rPr b="1" lang="en-GB" sz="2400" spc="-1" strike="noStrike">
                <a:solidFill>
                  <a:srgbClr val="ffff00"/>
                </a:solidFill>
                <a:latin typeface="Arial Unicode MS"/>
              </a:rPr>
              <a:t>).</a:t>
            </a:r>
            <a:endParaRPr b="0" lang="en-US" sz="24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Форма</a:t>
            </a:r>
            <a:r>
              <a:rPr b="0" lang="en-GB" sz="4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ДО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азвание судн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рт приписки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омер 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IMO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Название портового средств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аты действия Д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/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ровень охраны судн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ровень охраны портового средства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Распределение обязанностей по охран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Unicode MS"/>
              </a:rPr>
              <a:t>Подписавшие стороны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ывают соответствующ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олонк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апитан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л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ывают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ы быть указаны ФИО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ость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/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звание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подписавших лиц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должны быть указаны контактные связи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ООП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,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капитана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и ООС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Unicode MS"/>
              </a:rPr>
              <a:t>указать номера телефонов или радио каналов или частот, которые нужно использовать</a:t>
            </a:r>
            <a:r>
              <a:rPr b="1" lang="en-GB" sz="2800" spc="-1" strike="noStrike">
                <a:solidFill>
                  <a:srgbClr val="ffff00"/>
                </a:solidFill>
                <a:latin typeface="Arial Unicode MS"/>
              </a:rPr>
              <a:t>).</a:t>
            </a:r>
            <a:endParaRPr b="0" lang="en-US" sz="2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6121440"/>
            <a:ext cx="1143000" cy="73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АФЕДРА ОБМ ОНМУ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9:48:33Z</dcterms:created>
  <dc:creator> </dc:creator>
  <dc:description/>
  <dc:language>en-US</dc:language>
  <cp:lastModifiedBy>SERGE</cp:lastModifiedBy>
  <dcterms:modified xsi:type="dcterms:W3CDTF">2006-06-12T20:20:13Z</dcterms:modified>
  <cp:revision>7</cp:revision>
  <dc:subject/>
  <dc:title>Declaration of Security (DoS)</dc:title>
</cp:coreProperties>
</file>