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F5A-17EE-4B87-8014-9E53327B40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n agreement between ship and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/Por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171-BF99-4269-89A3-743D619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8EA-CC7F-48FE-BC0D-DAF7C54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C25-2FD0-41FE-BC36-B78F83A5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695-1956-4286-9351-9B4D2499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8BB-155D-4688-A1A6-898FD2EF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085-E988-433D-80E7-C61DA02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804-6788-4320-957D-0106C6A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919-088B-4939-B03A-E508D873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3F1-D61C-4CE1-894E-D92B4C6A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D47-4262-455C-B38D-9BD23C3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E1C-449A-40AA-B1F6-8D998B7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5A8-CA10-4891-A0F7-411015F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4316-C719-4112-AD17-9AA77B3E5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s%20logo%20blue%20copy" descr=""/>
          <p:cNvPicPr/>
          <p:nvPr/>
        </p:nvPicPr>
        <p:blipFill>
          <a:blip r:embed="rId2"/>
          <a:stretch/>
        </p:blipFill>
        <p:spPr>
          <a:xfrm>
            <a:off x="8381880" y="6114960"/>
            <a:ext cx="7621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0440" y="3048120"/>
            <a:ext cx="72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КЛАРАЦИЯ ОБ ОХРАН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Главной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целью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являет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беспече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говоренност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руги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н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взаимодействуе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 распределени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р охраны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е каждый будет выполнять в соответств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ложениям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добренны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ланов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Процесс консультации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росьб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заключен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ребует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нсультац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фицер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 Офицером охраны суд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гласованна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лж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бы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дпис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атиров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ого, чтоб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каза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ответствие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дексу ОС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Важные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момент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с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 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гд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с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нован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едполаг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ий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риск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ичина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обенност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груз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ассажир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стоятельст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люба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мбинац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каз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ше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зменени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я 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овую 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ересмотр ран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оставленной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лжна составлять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англий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француз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спанском 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ще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 (суд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Форма</a:t>
            </a:r>
            <a:r>
              <a:rPr b="0" lang="en-GB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 приписки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омер 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IMO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аты действия 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Распределение обязанностей по охран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Подписавшие сторон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 соответствующ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лонк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ФИ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ос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зва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авших лиц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контактные связ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а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 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казать номера телефонов или радио каналов или частот, которые нужно использова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9:48:33Z</dcterms:created>
  <dc:creator> </dc:creator>
  <dc:description/>
  <dc:language>en-US</dc:language>
  <cp:lastModifiedBy>SERGE</cp:lastModifiedBy>
  <dcterms:modified xsi:type="dcterms:W3CDTF">2006-06-12T20:20:13Z</dcterms:modified>
  <cp:revision>7</cp:revision>
  <dc:subject/>
  <dc:title>Declaration of Security (DoS)</dc:title>
</cp:coreProperties>
</file>