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9DD7-5CDC-4A94-8358-10A7A2276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0C0-6BC4-40AF-9AE0-F4F9B3221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D3E-B730-41A7-87D2-F1CEE0E10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E4DE-3265-40DB-BDD4-D403CCEFC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EDF-3783-4FFE-9F7B-D864CA104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2B7B-236C-4C80-B3F6-69CC52B1DE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99F8-9DF0-4FFF-AED2-050799FA0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C24-EFDD-4068-AD0B-248764241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2125-DC5F-49A9-9893-A4B2F6374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61DF-E14D-4FE4-900C-9146A963D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BE6B-A00F-4122-8C26-A42316502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D1C3-2E09-4E35-920A-752F58BF8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F985-C5F8-451A-9A93-40F575A22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120-4E65-4740-B6D1-AAECDF7C4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83E9-7EED-418E-9C95-2E81E9340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591C-3B82-47DB-BC7B-3FF642C79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EA17-6AEC-4D87-833B-27826E3C8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4DE-643D-4ACE-9803-18F5542B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2F1-C9A2-4072-A760-AE5DE2B3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933-C806-4E62-81B9-29FC92A8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FBB-0A93-4F42-B2E7-6AB49EFF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F69-D219-4788-A286-3E468E3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EBA-20FF-450D-9EEF-8DC761B0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215-B226-4FC2-84C5-65D18B29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B5B-9003-430E-AA20-99829D3F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932-1811-4CB6-BC0B-FD40CFB3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AC6-C2E0-41AC-A3FE-12EF9747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D9F-3276-40D3-999A-08EC1F3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76C-A2E3-48EB-AC55-F967B69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0FBE-36D8-47D1-AFB8-1ABD3A84C0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бычная «пицца» по выход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58920" y="5660640"/>
            <a:ext cx="582588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5"/>
          <p:cNvPicPr/>
          <p:nvPr/>
        </p:nvPicPr>
        <p:blipFill>
          <a:blip r:embed="rId1"/>
          <a:stretch/>
        </p:blipFill>
        <p:spPr>
          <a:xfrm>
            <a:off x="1476360" y="2133720"/>
            <a:ext cx="5715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ю его на две полов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9"/>
          <p:cNvPicPr/>
          <p:nvPr/>
        </p:nvPicPr>
        <p:blipFill>
          <a:blip r:embed="rId1"/>
          <a:stretch/>
        </p:blipFill>
        <p:spPr>
          <a:xfrm>
            <a:off x="161928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катаю часть теста в пласт толщиной примерно 0,5 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0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ажу его майонезом и выложу начин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1"/>
          <p:cNvPicPr/>
          <p:nvPr/>
        </p:nvPicPr>
        <p:blipFill>
          <a:blip r:embed="rId1"/>
          <a:stretch/>
        </p:blipFill>
        <p:spPr>
          <a:xfrm>
            <a:off x="1042920" y="1557360"/>
            <a:ext cx="6364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перь сверну рул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"/>
          <p:cNvPicPr/>
          <p:nvPr/>
        </p:nvPicPr>
        <p:blipFill>
          <a:blip r:embed="rId1"/>
          <a:stretch/>
        </p:blipFill>
        <p:spPr>
          <a:xfrm>
            <a:off x="1714680" y="2014560"/>
            <a:ext cx="5715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режу рулет «на пята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3"/>
          <p:cNvPicPr/>
          <p:nvPr/>
        </p:nvPicPr>
        <p:blipFill>
          <a:blip r:embed="rId1"/>
          <a:stretch/>
        </p:blipFill>
        <p:spPr>
          <a:xfrm>
            <a:off x="2411280" y="1341360"/>
            <a:ext cx="42865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ак же поступлю со второй половиной теста. Противень выстелю пергаментной бумагой, смажу маслом. Выложу рулетики на противень и присыплю сверху сы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4"/>
          <p:cNvPicPr/>
          <p:nvPr/>
        </p:nvPicPr>
        <p:blipFill>
          <a:blip r:embed="rId1"/>
          <a:stretch/>
        </p:blipFill>
        <p:spPr>
          <a:xfrm>
            <a:off x="2124000" y="2421000"/>
            <a:ext cx="4286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правляю в духовку. К слову, духовку я прогрела заранее. Выпекаются минут 10-15 при температуре градусов 200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ё, готово, можно отправляться на пик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15 - копия"/>
          <p:cNvPicPr/>
          <p:nvPr/>
        </p:nvPicPr>
        <p:blipFill>
          <a:blip r:embed="rId1"/>
          <a:stretch/>
        </p:blipFill>
        <p:spPr>
          <a:xfrm>
            <a:off x="324000" y="2421000"/>
            <a:ext cx="8351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ля теста мне понадоби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00 г тёплой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0 г сухих дрож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100 г маргар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0,5 ч.л. со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2 ст. ложки саха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Мука (сколько тесто возьмё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"/>
          <p:cNvPicPr/>
          <p:nvPr/>
        </p:nvPicPr>
        <p:blipFill>
          <a:blip r:embed="rId1"/>
          <a:stretch/>
        </p:blipFill>
        <p:spPr>
          <a:xfrm>
            <a:off x="395280" y="1341360"/>
            <a:ext cx="42861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ожжи размешаем в воде (маленький пакетик или столовая ложка без горк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2"/>
          <p:cNvPicPr/>
          <p:nvPr/>
        </p:nvPicPr>
        <p:blipFill>
          <a:blip r:embed="rId1"/>
          <a:stretch/>
        </p:blipFill>
        <p:spPr>
          <a:xfrm>
            <a:off x="250920" y="981000"/>
            <a:ext cx="4286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гарин порежу на кусочки, подсыплю к нему немного муки и порублю но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авим соль, сахар, перемешаем. Теперь выльем воду с дрожжами и будем добавлять муку. Нельзя сказать точно, сколько понадобится муки, каждый раз по-раз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3"/>
          <p:cNvPicPr/>
          <p:nvPr/>
        </p:nvPicPr>
        <p:blipFill>
          <a:blip r:embed="rId1"/>
          <a:stretch/>
        </p:blipFill>
        <p:spPr>
          <a:xfrm>
            <a:off x="395280" y="836640"/>
            <a:ext cx="4491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о будем подсыпать понемногу и вымешивать, пока тесто перестанет липнуть к рукам. Старайтесь не «переборщить» с мукой, чтобы не получить тугое тесто, оно долго подходит и тяжело раскатывается. Стараемся вымесить тесто мягкое и эластичное – с таким тестом приятно работать. Вот, готов коло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4"/>
          <p:cNvPicPr/>
          <p:nvPr/>
        </p:nvPicPr>
        <p:blipFill>
          <a:blip r:embed="rId1"/>
          <a:stretch/>
        </p:blipFill>
        <p:spPr>
          <a:xfrm>
            <a:off x="324000" y="907920"/>
            <a:ext cx="4176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ещу его в миску и накрою салфеткой, чтобы не заветрилось. Обычно ему требуется 30-40 минут, чтобы подо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5"/>
          <p:cNvPicPr/>
          <p:nvPr/>
        </p:nvPicPr>
        <p:blipFill>
          <a:blip r:embed="rId1"/>
          <a:stretch/>
        </p:blipFill>
        <p:spPr>
          <a:xfrm>
            <a:off x="179280" y="1484280"/>
            <a:ext cx="4680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ля начинки мне нуж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тчина, 200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Сыр, 250 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ара маринованных огурц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3-4 ложки майон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6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урчики можно заменить маринованным луком или оливками. Ветчину и огурцы порежу на кусочки, сыр натру на тё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7"/>
          <p:cNvPicPr/>
          <p:nvPr/>
        </p:nvPicPr>
        <p:blipFill>
          <a:blip r:embed="rId1"/>
          <a:stretch/>
        </p:blipFill>
        <p:spPr>
          <a:xfrm>
            <a:off x="179280" y="1484280"/>
            <a:ext cx="446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устя полчасика моё тесто гото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8"/>
          <p:cNvPicPr/>
          <p:nvPr/>
        </p:nvPicPr>
        <p:blipFill>
          <a:blip r:embed="rId1"/>
          <a:stretch/>
        </p:blipFill>
        <p:spPr>
          <a:xfrm>
            <a:off x="147636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31:29Z</dcterms:created>
  <dc:creator>Ольга</dc:creator>
  <dc:description/>
  <dc:language>en-US</dc:language>
  <cp:lastModifiedBy>Пользователь</cp:lastModifiedBy>
  <dcterms:modified xsi:type="dcterms:W3CDTF">2014-01-18T10:08:46Z</dcterms:modified>
  <cp:revision>5</cp:revision>
  <dc:subject/>
  <dc:title>Слайд 1</dc:title>
</cp:coreProperties>
</file>