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9F7-54E2-4E2B-AAF7-5B5D5D2AD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E36-0EBE-4AFC-8082-3AF537E56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59AC-0704-47F2-B1E2-1B1668A21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1FE3-28A3-4443-BCD5-2A7C6F978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60B1-0C7A-40A9-B0C9-23BFAC21C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1AC-E3BD-485D-B329-F020C1427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04E9-F827-4564-BEA4-60B1BA4FA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C95B-5AEA-4D60-AAA5-11D9CFCE5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E4A3-9132-4D2F-B7A4-19BDA38CA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827A-CBF4-43BE-8487-E9E91DA60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831-AF0B-47F0-B08A-D512B29A6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DEC-B8CB-4CE2-BFED-08759BF8E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C5E-04CC-48B4-B2CB-7597F3E83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275-A9E9-4DFB-BCE0-2BAAEBED3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09F8-C856-4D9A-B89A-BD8651A20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48FF-4CD2-4457-B667-F1A47376C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4CD-BD69-4052-A57D-255FA82E6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DDA-E0B3-4884-9712-7AC259DE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BE5-0314-4A74-AA76-BB439F0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728-83FA-4A57-BCE8-CCBAF68C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2C3-27DB-4479-AB35-AAEDB16A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43C-C92B-4A42-B151-ADED7370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85F-8636-4F71-9D09-113E69B2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6CB-4F8F-48DC-BFA1-E41376E8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B80-8071-43EC-B3C2-6008A32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9BA-26BA-4652-A80C-095CE5BA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1F0-9C65-4583-A9ED-4937394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8E8-8C3F-474F-8392-E01879E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B2A-225A-479A-9531-AE25880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FA4-2987-4645-9098-E90060D17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бычная «пицца» по выход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8920" y="5660640"/>
            <a:ext cx="5825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5"/>
          <p:cNvPicPr/>
          <p:nvPr/>
        </p:nvPicPr>
        <p:blipFill>
          <a:blip r:embed="rId1"/>
          <a:stretch/>
        </p:blipFill>
        <p:spPr>
          <a:xfrm>
            <a:off x="1476360" y="213372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ю его на две полов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атаю часть теста в пласт толщиной примерно 0,5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0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ажу его майонезом и выложу начи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"/>
          <p:cNvPicPr/>
          <p:nvPr/>
        </p:nvPicPr>
        <p:blipFill>
          <a:blip r:embed="rId1"/>
          <a:stretch/>
        </p:blipFill>
        <p:spPr>
          <a:xfrm>
            <a:off x="1042920" y="1557360"/>
            <a:ext cx="6364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ерь сверну рул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"/>
          <p:cNvPicPr/>
          <p:nvPr/>
        </p:nvPicPr>
        <p:blipFill>
          <a:blip r:embed="rId1"/>
          <a:stretch/>
        </p:blipFill>
        <p:spPr>
          <a:xfrm>
            <a:off x="1714680" y="2014560"/>
            <a:ext cx="5715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режу рулет «на пята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2411280" y="134136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 же поступлю со второй половиной теста. Противень выстелю пергаментной бумагой, смажу маслом. Выложу рулетики на противень и присыплю сверху сы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4"/>
          <p:cNvPicPr/>
          <p:nvPr/>
        </p:nvPicPr>
        <p:blipFill>
          <a:blip r:embed="rId1"/>
          <a:stretch/>
        </p:blipFill>
        <p:spPr>
          <a:xfrm>
            <a:off x="2124000" y="2421000"/>
            <a:ext cx="4286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правляю в духовку. К слову, духовку я прогрела заранее. Выпекаются минут 10-15 при температуре градусов 200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, готово, можно отправляться на пик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5 - копия"/>
          <p:cNvPicPr/>
          <p:nvPr/>
        </p:nvPicPr>
        <p:blipFill>
          <a:blip r:embed="rId1"/>
          <a:stretch/>
        </p:blipFill>
        <p:spPr>
          <a:xfrm>
            <a:off x="324000" y="2421000"/>
            <a:ext cx="8351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теста мне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г тёплой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 г сухих дрож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0 г маргар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0,5 ч.л. с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2 ст. ложки саха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ука (сколько тесто возьмё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>
            <a:off x="395280" y="1341360"/>
            <a:ext cx="42861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ожжи размешаем в воде (маленький пакетик или столовая ложка без гор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"/>
          <p:cNvPicPr/>
          <p:nvPr/>
        </p:nvPicPr>
        <p:blipFill>
          <a:blip r:embed="rId1"/>
          <a:stretch/>
        </p:blipFill>
        <p:spPr>
          <a:xfrm>
            <a:off x="250920" y="98100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гарин порежу на кусочки, подсыплю к нему немного муки и порублю но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авим соль, сахар, перемешаем. Теперь выльем воду с дрожжами и будем добавлять муку. Нельзя сказать точно, сколько понадобится муки, каждый раз по-раз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о будем подсыпать понемногу и вымешивать, пока тесто перестанет липнуть к рукам. Старайтесь не «переборщить» с мукой, чтобы не получить тугое тесто, оно долго подходит и тяжело раскатывается. Стараемся вымесить тесто мягкое и эластичное – с таким тестом приятно работать. Вот, готов коло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4"/>
          <p:cNvPicPr/>
          <p:nvPr/>
        </p:nvPicPr>
        <p:blipFill>
          <a:blip r:embed="rId1"/>
          <a:stretch/>
        </p:blipFill>
        <p:spPr>
          <a:xfrm>
            <a:off x="324000" y="90792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щу его в миску и накрою салфеткой, чтобы не заветрилось. Обычно ему требуется 30-40 минут, чтобы подо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4680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начинки мне нуж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чина, 20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ыр, 25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ара маринованных огурц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3-4 ложки майо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6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урчики можно заменить маринованным луком или оливками. Ветчину и огурцы порежу на кусочки, сыр натру на тё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7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устя полчасика моё тесто гот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8"/>
          <p:cNvPicPr/>
          <p:nvPr/>
        </p:nvPicPr>
        <p:blipFill>
          <a:blip r:embed="rId1"/>
          <a:stretch/>
        </p:blipFill>
        <p:spPr>
          <a:xfrm>
            <a:off x="147636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31:29Z</dcterms:created>
  <dc:creator>Ольга</dc:creator>
  <dc:description/>
  <dc:language>en-US</dc:language>
  <cp:lastModifiedBy>Пользователь</cp:lastModifiedBy>
  <dcterms:modified xsi:type="dcterms:W3CDTF">2014-01-18T10:08:46Z</dcterms:modified>
  <cp:revision>5</cp:revision>
  <dc:subject/>
  <dc:title>Слайд 1</dc:title>
</cp:coreProperties>
</file>