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5CF3-9EFC-46F5-919A-7B96C6A580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48C7-2A8E-4BFC-923B-5C673DE0C7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9606-01AC-4C47-ADB7-CE7966B41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B271-C86E-4550-AC1A-8FFAA14919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8149-009F-41C7-A84D-35B6DB2265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1ECE-D057-4415-9C0E-100A330A81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B64B-7B01-4FAC-B35B-8A795F77C0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5732-8455-41BF-A878-5D8970CD54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2ECE-8FF6-4D64-965B-62C1BCA0F0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D037-3B7C-4A09-AA20-934D0AE5EC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4CA5-00AC-4697-965E-4518C23D33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3C32-375E-407D-AB0C-7CF23DD6AB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0EC4-D32D-492D-B2E8-577579A909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51FC-22B6-4A48-912B-015DCC2CC9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D9D0-1EB9-4ABF-9AEF-4F8EA4351F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C699-D57A-40FB-ADBA-145A74070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10E8-77C9-4B12-A5B6-82A9BF77B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BC7-66D0-4506-B000-9C1738B0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3F5-61C6-4C96-B90D-E15422A0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D48-8C1F-4E96-85B3-1DF8CE1F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A74-6852-47A7-AF1A-1A38096E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88A-097E-4D0C-90E2-35C6B4F3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473-109F-4BED-9F0E-5AA46794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404-9DC8-4A20-84F9-858B3ACE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971-0348-44DE-BA9F-8B75D198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D2D-5B0A-4CCC-A624-8BAB42D0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B4B-3ECC-43F0-9362-BD0ACB3C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CF5-9D01-414E-93DD-9FA10C90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066-BFE3-4BCA-94FD-B2FAFE42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FDEB-531F-4D7B-80F0-F829366D4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обычная «пицца» по выходн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58920" y="5660640"/>
            <a:ext cx="5825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5"/>
          <p:cNvPicPr/>
          <p:nvPr/>
        </p:nvPicPr>
        <p:blipFill>
          <a:blip r:embed="rId1"/>
          <a:stretch/>
        </p:blipFill>
        <p:spPr>
          <a:xfrm>
            <a:off x="1476360" y="2133720"/>
            <a:ext cx="5715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делю его на две полов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9"/>
          <p:cNvPicPr/>
          <p:nvPr/>
        </p:nvPicPr>
        <p:blipFill>
          <a:blip r:embed="rId1"/>
          <a:stretch/>
        </p:blipFill>
        <p:spPr>
          <a:xfrm>
            <a:off x="1619280" y="1700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катаю часть теста в пласт толщиной примерно 0,5 с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0"/>
          <p:cNvPicPr/>
          <p:nvPr/>
        </p:nvPicPr>
        <p:blipFill>
          <a:blip r:embed="rId1"/>
          <a:stretch/>
        </p:blipFill>
        <p:spPr>
          <a:xfrm>
            <a:off x="1692360" y="1844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мажу его майонезом и выложу начи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1"/>
          <p:cNvPicPr/>
          <p:nvPr/>
        </p:nvPicPr>
        <p:blipFill>
          <a:blip r:embed="rId1"/>
          <a:stretch/>
        </p:blipFill>
        <p:spPr>
          <a:xfrm>
            <a:off x="1042920" y="1557360"/>
            <a:ext cx="6364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перь сверну рулет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2"/>
          <p:cNvPicPr/>
          <p:nvPr/>
        </p:nvPicPr>
        <p:blipFill>
          <a:blip r:embed="rId1"/>
          <a:stretch/>
        </p:blipFill>
        <p:spPr>
          <a:xfrm>
            <a:off x="1714680" y="2014560"/>
            <a:ext cx="57150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режу рулет «на пята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3"/>
          <p:cNvPicPr/>
          <p:nvPr/>
        </p:nvPicPr>
        <p:blipFill>
          <a:blip r:embed="rId1"/>
          <a:stretch/>
        </p:blipFill>
        <p:spPr>
          <a:xfrm>
            <a:off x="2411280" y="1341360"/>
            <a:ext cx="42865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к же поступлю со второй половиной теста. Противень выстелю пергаментной бумагой, смажу маслом. Выложу рулетики на противень и присыплю сверху сы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4"/>
          <p:cNvPicPr/>
          <p:nvPr/>
        </p:nvPicPr>
        <p:blipFill>
          <a:blip r:embed="rId1"/>
          <a:stretch/>
        </p:blipFill>
        <p:spPr>
          <a:xfrm>
            <a:off x="2124000" y="2421000"/>
            <a:ext cx="4286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правляю в духовку. К слову, духовку я прогрела заранее. Выпекаются минут 10-15 при температуре градусов 200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ё, готово, можно отправляться на пик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15 - копия"/>
          <p:cNvPicPr/>
          <p:nvPr/>
        </p:nvPicPr>
        <p:blipFill>
          <a:blip r:embed="rId1"/>
          <a:stretch/>
        </p:blipFill>
        <p:spPr>
          <a:xfrm>
            <a:off x="324000" y="2421000"/>
            <a:ext cx="8351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ля теста мне понадоби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 г тёплой в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10 г сухих дрожж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100 г маргар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0,5 ч.л. со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2 ст. ложки саха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Мука (сколько тесто возьмё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1"/>
          <p:cNvPicPr/>
          <p:nvPr/>
        </p:nvPicPr>
        <p:blipFill>
          <a:blip r:embed="rId1"/>
          <a:stretch/>
        </p:blipFill>
        <p:spPr>
          <a:xfrm>
            <a:off x="395280" y="1341360"/>
            <a:ext cx="42861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ожжи размешаем в воде (маленький пакетик или столовая ложка без гор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2"/>
          <p:cNvPicPr/>
          <p:nvPr/>
        </p:nvPicPr>
        <p:blipFill>
          <a:blip r:embed="rId1"/>
          <a:stretch/>
        </p:blipFill>
        <p:spPr>
          <a:xfrm>
            <a:off x="250920" y="981000"/>
            <a:ext cx="42861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гарин порежу на кусочки, подсыплю к нему немного муки и порублю нож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бавим соль, сахар, перемешаем. Теперь выльем воду с дрожжами и будем добавлять муку. Нельзя сказать точно, сколько понадобится муки, каждый раз по-разн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3"/>
          <p:cNvPicPr/>
          <p:nvPr/>
        </p:nvPicPr>
        <p:blipFill>
          <a:blip r:embed="rId1"/>
          <a:stretch/>
        </p:blipFill>
        <p:spPr>
          <a:xfrm>
            <a:off x="395280" y="836640"/>
            <a:ext cx="4491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о будем подсыпать понемногу и вымешивать, пока тесто перестанет липнуть к рукам. Старайтесь не «переборщить» с мукой, чтобы не получить тугое тесто, оно долго подходит и тяжело раскатывается. Стараемся вымесить тесто мягкое и эластичное – с таким тестом приятно работать. Вот, готов коло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4"/>
          <p:cNvPicPr/>
          <p:nvPr/>
        </p:nvPicPr>
        <p:blipFill>
          <a:blip r:embed="rId1"/>
          <a:stretch/>
        </p:blipFill>
        <p:spPr>
          <a:xfrm>
            <a:off x="324000" y="907920"/>
            <a:ext cx="4176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ещу его в миску и накрою салфеткой, чтобы не заветрилось. Обычно ему требуется 30-40 минут, чтобы подо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5"/>
          <p:cNvPicPr/>
          <p:nvPr/>
        </p:nvPicPr>
        <p:blipFill>
          <a:blip r:embed="rId1"/>
          <a:stretch/>
        </p:blipFill>
        <p:spPr>
          <a:xfrm>
            <a:off x="179280" y="1484280"/>
            <a:ext cx="4680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ля начинки мне нуж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тчина, 200 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ыр, 250 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ара маринованных огурц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3-4 ложки майон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6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урчики можно заменить маринованным луком или оливками. Ветчину и огурцы порежу на кусочки, сыр натру на тёр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7"/>
          <p:cNvPicPr/>
          <p:nvPr/>
        </p:nvPicPr>
        <p:blipFill>
          <a:blip r:embed="rId1"/>
          <a:stretch/>
        </p:blipFill>
        <p:spPr>
          <a:xfrm>
            <a:off x="179280" y="1484280"/>
            <a:ext cx="446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устя полчасика моё тесто гото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8"/>
          <p:cNvPicPr/>
          <p:nvPr/>
        </p:nvPicPr>
        <p:blipFill>
          <a:blip r:embed="rId1"/>
          <a:stretch/>
        </p:blipFill>
        <p:spPr>
          <a:xfrm>
            <a:off x="1476360" y="1700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4:31:29Z</dcterms:created>
  <dc:creator>Ольга</dc:creator>
  <dc:description/>
  <dc:language>en-US</dc:language>
  <cp:lastModifiedBy>Пользователь</cp:lastModifiedBy>
  <dcterms:modified xsi:type="dcterms:W3CDTF">2014-01-18T10:08:46Z</dcterms:modified>
  <cp:revision>5</cp:revision>
  <dc:subject/>
  <dc:title>Слайд 1</dc:title>
</cp:coreProperties>
</file>