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007-2444-44D0-8CE5-136C06A0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4C5-CA78-4E27-AAB2-EC45C2C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69D-1AC3-4BB8-BE14-147A9F62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480-31B6-479A-9C77-72D6BA1B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1AA-C4B4-43D0-A7F8-7605725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2F0-1966-472A-8115-BCA1ECD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D35-9ED4-4A8F-A934-31F3B41A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216-8A90-457B-B96E-71055DF1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F80-3CEB-4C41-B5CD-5FB58271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A3B-56AA-47DA-BC3A-2B86AA3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862-6E8E-438B-AD7A-6745426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3FB-C66B-43E5-AC6A-26A5128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31DE-3B2E-44A0-9E68-71909336B44A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278568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Муниципальное образовательное учреждение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редняя общеобразовательная школа № 1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 р. п. Лунино</a:t>
            </a: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920" y="285480"/>
            <a:ext cx="3286080" cy="1571400"/>
          </a:xfrm>
          <a:prstGeom prst="rect">
            <a:avLst/>
          </a:prstGeom>
          <a:blipFill rotWithShape="0">
            <a:blip r:embed="rId1">
              <a:alphaModFix amt="44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бучение через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entury Schoolbook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Выпуск печатного издания «Наш мир»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и оказание полиграфических услуг населени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3240" y="2499840"/>
            <a:ext cx="21434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наличие конкурентов и появление новых конкурент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зменение цен на услуг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5143320" y="1214280"/>
            <a:ext cx="786240" cy="858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" name="Прямая со стрелкой 8"/>
          <p:cNvCxnSpPr/>
          <p:nvPr/>
        </p:nvCxnSpPr>
        <p:spPr>
          <a:xfrm>
            <a:off x="7286760" y="1214280"/>
            <a:ext cx="643320" cy="9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81" name="Прямоугольник 12"/>
          <p:cNvGrpSpPr/>
          <p:nvPr/>
        </p:nvGrpSpPr>
        <p:grpSpPr>
          <a:xfrm>
            <a:off x="3975120" y="1908000"/>
            <a:ext cx="2328840" cy="841680"/>
            <a:chOff x="3975120" y="1908000"/>
            <a:chExt cx="2328840" cy="841680"/>
          </a:xfrm>
        </p:grpSpPr>
        <p:pic>
          <p:nvPicPr>
            <p:cNvPr id="82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3975120" y="1908000"/>
              <a:ext cx="2328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223880" y="21430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Основные ри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13"/>
          <p:cNvSpPr/>
          <p:nvPr/>
        </p:nvSpPr>
        <p:spPr>
          <a:xfrm>
            <a:off x="6434280" y="21430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Способы преод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5366520" y="6429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572160" y="2500200"/>
            <a:ext cx="235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ведение маркетинговых исследований, постоянная работа с информационными ресурсами по выявлению современных профессиональных материалов и новых видов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ценовая дифференци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2"/>
          <a:srcRect l="1784" t="1790" r="3235" b="7290"/>
          <a:stretch/>
        </p:blipFill>
        <p:spPr>
          <a:xfrm>
            <a:off x="571680" y="2714760"/>
            <a:ext cx="269856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43240" y="2071800"/>
          <a:ext cx="4786560" cy="3025800"/>
        </p:xfrm>
        <a:graphic>
          <a:graphicData uri="http://schemas.openxmlformats.org/drawingml/2006/table">
            <a:tbl>
              <a:tblPr/>
              <a:tblGrid>
                <a:gridCol w="642960"/>
                <a:gridCol w="1749600"/>
                <a:gridCol w="1197000"/>
                <a:gridCol w="119700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бесто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пускная 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азета «Наш мир»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изитка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Фотография 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уклет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лендари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мпьютерный набор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0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7"/>
          <p:cNvSpPr/>
          <p:nvPr/>
        </p:nvSpPr>
        <p:spPr>
          <a:xfrm>
            <a:off x="4214880" y="642960"/>
            <a:ext cx="457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Виды продукции, предлагаемые потребител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Достоинства проек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спользование новых технолог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вместная деятельность учащихся и учител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амостоятельность, активность, творчество, интеллект и интуиц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Рисунок 16" descr=""/>
          <p:cNvPicPr/>
          <p:nvPr/>
        </p:nvPicPr>
        <p:blipFill>
          <a:blip r:embed="rId1"/>
          <a:srcRect l="10627" t="0" r="8643" b="0"/>
          <a:stretch/>
        </p:blipFill>
        <p:spPr>
          <a:xfrm>
            <a:off x="571680" y="2357280"/>
            <a:ext cx="2714400" cy="2524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entury Schoolbook"/>
              </a:rPr>
              <a:t>Недостатки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мена участников проект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сутствие финансирова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248280" cy="2143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Таблица 3" descr=""/>
          <p:cNvPicPr/>
          <p:nvPr/>
        </p:nvPicPr>
        <p:blipFill>
          <a:blip r:embed="rId1"/>
          <a:stretch/>
        </p:blipFill>
        <p:spPr>
          <a:xfrm>
            <a:off x="426960" y="2212920"/>
            <a:ext cx="8504280" cy="4578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4071960" y="7858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Arial"/>
              </a:rPr>
              <a:t>Планируемые показатели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2143080"/>
            <a:ext cx="3214800" cy="4143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Наша продук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ленда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укл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Листов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зи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тограф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бор, сканирование текс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57960" y="714240"/>
            <a:ext cx="16430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500880" y="2428920"/>
            <a:ext cx="229068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D:\Документы\Bluetooth\inbox\Фото052.jpg"/>
          <p:cNvPicPr/>
          <p:nvPr/>
        </p:nvPicPr>
        <p:blipFill>
          <a:blip r:embed="rId2"/>
          <a:stretch/>
        </p:blipFill>
        <p:spPr>
          <a:xfrm>
            <a:off x="4214880" y="2286000"/>
            <a:ext cx="1854000" cy="2471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3"/>
          <a:stretch/>
        </p:blipFill>
        <p:spPr>
          <a:xfrm>
            <a:off x="5908680" y="500040"/>
            <a:ext cx="2878200" cy="1857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D:\Документы\Мои рисунки\img065.jpg"/>
          <p:cNvPicPr/>
          <p:nvPr/>
        </p:nvPicPr>
        <p:blipFill>
          <a:blip r:embed="rId4"/>
          <a:stretch/>
        </p:blipFill>
        <p:spPr>
          <a:xfrm>
            <a:off x="6143760" y="4214880"/>
            <a:ext cx="1643040" cy="2354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Schoolbook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" name="Рисунок 10" descr=""/>
          <p:cNvPicPr/>
          <p:nvPr/>
        </p:nvPicPr>
        <p:blipFill>
          <a:blip r:embed="rId1"/>
          <a:srcRect l="0" t="13435" r="1603" b="26493"/>
          <a:stretch/>
        </p:blipFill>
        <p:spPr>
          <a:xfrm>
            <a:off x="4857840" y="292896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4143240" y="500040"/>
            <a:ext cx="478656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428760" y="2228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 должна отвечать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свещать события, происходящие в жизни подрост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Затрагивать проблему взаимоотношений в среде уча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Рассказывать о новостях музыки, спорта, кино. Знакомить с книжными новинка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На страницах газеты любой желающий сможет выразить свое мнение по интересующему его вопрос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Информация будет подвергнута корректировке минималь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Рисунок 3" descr="D:\Документы\Мои рисунки\360d90ada58f.jpg"/>
          <p:cNvPicPr/>
          <p:nvPr/>
        </p:nvPicPr>
        <p:blipFill>
          <a:blip r:embed="rId7"/>
          <a:stretch/>
        </p:blipFill>
        <p:spPr>
          <a:xfrm>
            <a:off x="785880" y="2714760"/>
            <a:ext cx="2047680" cy="231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2928960"/>
            <a:ext cx="2857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4880" y="42840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анда, участвующая в реализации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" name="Рисунок 2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035520" cy="221436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10"/>
          <p:cNvSpPr/>
          <p:nvPr/>
        </p:nvSpPr>
        <p:spPr>
          <a:xfrm>
            <a:off x="4786200" y="1214280"/>
            <a:ext cx="4000680" cy="27147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Цыпцын Сергей Викторович – директор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рлова Ольга Петровна – руководитель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Дворянинова Татьяна Алексеевна –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итрофанова Светлана Юрьевна – 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1"/>
          <p:cNvSpPr/>
          <p:nvPr/>
        </p:nvSpPr>
        <p:spPr>
          <a:xfrm>
            <a:off x="4286160" y="3714840"/>
            <a:ext cx="4071960" cy="2500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(9 – 10 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брам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абачек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япин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йнуллин Рафаэ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усев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71600" y="114264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первоначальных знаний  у  учащихся по основам предпринимательства и умения применять имеющиеся знания при организации малого бизнеса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Удовлетворение потребителей в высококачественных и недорогих услугах в области цветной полиграфии и в области печатной продукции для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3128760" cy="2243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Задачи проект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овести исследование потребительского ры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пределить потребность в финансовых, материально-технических, информационных и кадровых ресурс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дусмотреть возможные риски и способы их нейтрал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рганизовать эффективную предпринимательскую деятельность по оказанию полиграфических услу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1"/>
          <a:stretch/>
        </p:blipFill>
        <p:spPr>
          <a:xfrm>
            <a:off x="785880" y="2571840"/>
            <a:ext cx="2071800" cy="2441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43240" y="1714320"/>
            <a:ext cx="47865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У СОШ №1 р. п. Лунино  обеспечивает научно-методическое сопровождение проекта, предоставление трудовых ресурсов для организации экспериментальной и практической деятельности в рамках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осударственное автономное учреждение Пензенской области "Редакция газеты «Сурская правда"- предоставление площадок для экспериментально-практической деятельности участников проекта, консультаций специалис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entury Schoolbook"/>
              </a:rPr>
              <a:t>Социальные партнеры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Picture 6" descr="D:\Рисунки\DSC00366.JPG"/>
          <p:cNvPicPr/>
          <p:nvPr/>
        </p:nvPicPr>
        <p:blipFill>
          <a:blip r:embed="rId1"/>
          <a:stretch/>
        </p:blipFill>
        <p:spPr>
          <a:xfrm>
            <a:off x="-12801600" y="-96012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D:\Рисунки\DSC00366.JPG"/>
          <p:cNvPicPr/>
          <p:nvPr/>
        </p:nvPicPr>
        <p:blipFill>
          <a:blip r:embed="rId2"/>
          <a:stretch/>
        </p:blipFill>
        <p:spPr>
          <a:xfrm>
            <a:off x="1571760" y="4214880"/>
            <a:ext cx="222876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D:\Рисунки\DSC00365.JPG"/>
          <p:cNvPicPr/>
          <p:nvPr/>
        </p:nvPicPr>
        <p:blipFill>
          <a:blip r:embed="rId3"/>
          <a:srcRect l="9099" t="0" r="6536" b="0"/>
          <a:stretch/>
        </p:blipFill>
        <p:spPr>
          <a:xfrm>
            <a:off x="214200" y="221472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entury Schoolbook"/>
              </a:rPr>
              <a:t>Школьные предметы, задействованные в проект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з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" name="Содержимое 10" descr="P1020260.JPG"/>
          <p:cNvPicPr/>
          <p:nvPr/>
        </p:nvPicPr>
        <p:blipFill>
          <a:blip r:embed="rId1">
            <a:alphaModFix amt="44000"/>
          </a:blip>
          <a:stretch/>
        </p:blipFill>
        <p:spPr>
          <a:xfrm>
            <a:off x="928800" y="4143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2500560" cy="1857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Компания-менто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Государственное автономное учреждение Пензенской области "Редакция газеты "СУРСКАЯ ПРАВДА"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a119f"/>
                </a:solidFill>
                <a:latin typeface="Century Schoolbook"/>
              </a:rPr>
              <a:t>Главный редактор Чернышова Н. А.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тел.(8-841-61-2-13-63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Рисунок 4" descr="D:\Документы\Мои рисунки\img067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D:\Документы\Мои рисунки\img068.jpg"/>
          <p:cNvPicPr/>
          <p:nvPr/>
        </p:nvPicPr>
        <p:blipFill>
          <a:blip r:embed="rId2"/>
          <a:stretch/>
        </p:blipFill>
        <p:spPr>
          <a:xfrm>
            <a:off x="1857240" y="3214800"/>
            <a:ext cx="1714680" cy="236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57:39Z</dcterms:created>
  <dc:creator>User (HOME)</dc:creator>
  <dc:description/>
  <cp:keywords/>
  <dc:language>en-US</dc:language>
  <cp:lastModifiedBy>User (HOME)</cp:lastModifiedBy>
  <dcterms:modified xsi:type="dcterms:W3CDTF">2011-01-31T04:36:22Z</dcterms:modified>
  <cp:revision>64</cp:revision>
  <dc:subject/>
  <dc:title>Муниципальное образовательное учреждение  средняя общеобразовательная школа № 1 р. п. Лунин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1</vt:lpwstr>
  </property>
</Properties>
</file>