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5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B16-25F8-4E69-95E4-0CFE4435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37C-248F-405D-B9E1-19A91567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307-0DFA-46A9-BBED-7C10A195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F6A-2961-447A-BDAB-1129138F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DB7-1C30-4D11-BD22-0896FCC5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DE3-84C2-4222-9310-092CECA7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30B-DDF8-4A90-8F54-EBF6588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FB5-AFDC-4D5E-B6C3-8B5DF34D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0C7-B376-4B68-8053-A661184E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96A-256B-4E16-AEA1-ECA335E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F0A-5B56-4DE9-B01C-09F6AFC1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418-3446-4F6C-B3D1-55192C2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D811-E90A-4FC2-B3FB-5E0E32DE0D26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2785680"/>
            <a:ext cx="32860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Муниципальное образовательное учреждение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средняя общеобразовательная школа № 1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 р. п. Лунино</a:t>
            </a:r>
            <a:endParaRPr b="1" lang="en-US" sz="1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2920" y="285480"/>
            <a:ext cx="3286080" cy="1571400"/>
          </a:xfrm>
          <a:prstGeom prst="rect">
            <a:avLst/>
          </a:prstGeom>
          <a:blipFill rotWithShape="0">
            <a:blip r:embed="rId1">
              <a:alphaModFix amt="44000"/>
            </a:blip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Обучение через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предпринимательств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14880" y="571680"/>
            <a:ext cx="4643280" cy="5643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entury Schoolbook"/>
              </a:rPr>
              <a:t>ПРОЕКТ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«</a:t>
            </a: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Выпуск печатного издания «Наш мир»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и оказание полиграфических услуг населени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 advTm="1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143240" y="2499840"/>
            <a:ext cx="21434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наличие конкурентов и появление новых конкурент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изменение цен на услуг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9" name="Прямая со стрелкой 4"/>
          <p:cNvCxnSpPr/>
          <p:nvPr/>
        </p:nvCxnSpPr>
        <p:spPr>
          <a:xfrm flipH="1">
            <a:off x="5143320" y="1214280"/>
            <a:ext cx="786240" cy="858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0" name="Прямая со стрелкой 8"/>
          <p:cNvCxnSpPr/>
          <p:nvPr/>
        </p:nvCxnSpPr>
        <p:spPr>
          <a:xfrm>
            <a:off x="7286760" y="1214280"/>
            <a:ext cx="643320" cy="929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81" name="Прямоугольник 12"/>
          <p:cNvGrpSpPr/>
          <p:nvPr/>
        </p:nvGrpSpPr>
        <p:grpSpPr>
          <a:xfrm>
            <a:off x="3975120" y="1908000"/>
            <a:ext cx="2328840" cy="841680"/>
            <a:chOff x="3975120" y="1908000"/>
            <a:chExt cx="2328840" cy="841680"/>
          </a:xfrm>
        </p:grpSpPr>
        <p:pic>
          <p:nvPicPr>
            <p:cNvPr id="82" name="Прямоугольник 12" descr=""/>
            <p:cNvPicPr/>
            <p:nvPr/>
          </p:nvPicPr>
          <p:blipFill>
            <a:blip r:embed="rId1"/>
            <a:stretch/>
          </p:blipFill>
          <p:spPr>
            <a:xfrm>
              <a:off x="3975120" y="1908000"/>
              <a:ext cx="23288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223880" y="214308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Основные рис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Прямоугольник 13"/>
          <p:cNvSpPr/>
          <p:nvPr/>
        </p:nvSpPr>
        <p:spPr>
          <a:xfrm>
            <a:off x="6434280" y="214308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Способы преод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5366520" y="64296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6572160" y="2500200"/>
            <a:ext cx="235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роведение маркетинговых исследований, постоянная работа с информационными ресурсами по выявлению современных профессиональных материалов и новых видов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ценовая дифференци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2"/>
          <a:srcRect l="1784" t="1790" r="3235" b="7290"/>
          <a:stretch/>
        </p:blipFill>
        <p:spPr>
          <a:xfrm>
            <a:off x="571680" y="2714760"/>
            <a:ext cx="2698560" cy="25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143240" y="2071800"/>
          <a:ext cx="4786560" cy="3025800"/>
        </p:xfrm>
        <a:graphic>
          <a:graphicData uri="http://schemas.openxmlformats.org/drawingml/2006/table">
            <a:tbl>
              <a:tblPr/>
              <a:tblGrid>
                <a:gridCol w="642960"/>
                <a:gridCol w="1749600"/>
                <a:gridCol w="1197000"/>
                <a:gridCol w="119700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бестои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пускная ц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Газета «Наш мир»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2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изитка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4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Фотография 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8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уклет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алендари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4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мпьютерный набор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6 руб. (1 стран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0 руб. (1 стран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0" name="Прямоугольник 7"/>
          <p:cNvSpPr/>
          <p:nvPr/>
        </p:nvSpPr>
        <p:spPr>
          <a:xfrm>
            <a:off x="4214880" y="642960"/>
            <a:ext cx="4572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Виды продукции, предлагаемые потребител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Достоинства проект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спользование новых технолог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вместная деятельность учащихся и учителе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амостоятельность, активность, творчество, интеллект и интуиц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Рисунок 16" descr=""/>
          <p:cNvPicPr/>
          <p:nvPr/>
        </p:nvPicPr>
        <p:blipFill>
          <a:blip r:embed="rId1"/>
          <a:srcRect l="10627" t="0" r="8643" b="0"/>
          <a:stretch/>
        </p:blipFill>
        <p:spPr>
          <a:xfrm>
            <a:off x="571680" y="2357280"/>
            <a:ext cx="2714400" cy="2524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entury Schoolbook"/>
              </a:rPr>
              <a:t>Недостатки проект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мена участников проект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сутствие финансирован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214200" y="2857680"/>
            <a:ext cx="3248280" cy="2143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Таблица 3" descr=""/>
          <p:cNvPicPr/>
          <p:nvPr/>
        </p:nvPicPr>
        <p:blipFill>
          <a:blip r:embed="rId1"/>
          <a:stretch/>
        </p:blipFill>
        <p:spPr>
          <a:xfrm>
            <a:off x="426960" y="2212920"/>
            <a:ext cx="8504280" cy="4578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4071960" y="7858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4a7b"/>
                </a:solidFill>
                <a:latin typeface="Arial"/>
              </a:rPr>
              <a:t>Планируемые показатели эффе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</p:spTree>
  </p:cSld>
  <p:transition spd="med" advTm="15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920" y="2143080"/>
            <a:ext cx="3214800" cy="41436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Наша продук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аз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алендар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укле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Листов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изит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Фотограф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абор, сканирование текст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357960" y="714240"/>
            <a:ext cx="164304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6500880" y="2428920"/>
            <a:ext cx="2290680" cy="1714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D:\Документы\Bluetooth\inbox\Фото052.jpg"/>
          <p:cNvPicPr/>
          <p:nvPr/>
        </p:nvPicPr>
        <p:blipFill>
          <a:blip r:embed="rId2"/>
          <a:stretch/>
        </p:blipFill>
        <p:spPr>
          <a:xfrm>
            <a:off x="4214880" y="2286000"/>
            <a:ext cx="1854000" cy="2471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" descr=""/>
          <p:cNvPicPr/>
          <p:nvPr/>
        </p:nvPicPr>
        <p:blipFill>
          <a:blip r:embed="rId3"/>
          <a:stretch/>
        </p:blipFill>
        <p:spPr>
          <a:xfrm>
            <a:off x="5908680" y="500040"/>
            <a:ext cx="2878200" cy="1857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D:\Документы\Мои рисунки\img065.jpg"/>
          <p:cNvPicPr/>
          <p:nvPr/>
        </p:nvPicPr>
        <p:blipFill>
          <a:blip r:embed="rId4"/>
          <a:stretch/>
        </p:blipFill>
        <p:spPr>
          <a:xfrm>
            <a:off x="6143760" y="4214880"/>
            <a:ext cx="1643040" cy="2354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Schoolbook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9" name="Рисунок 10" descr=""/>
          <p:cNvPicPr/>
          <p:nvPr/>
        </p:nvPicPr>
        <p:blipFill>
          <a:blip r:embed="rId1"/>
          <a:srcRect l="0" t="13435" r="1603" b="26493"/>
          <a:stretch/>
        </p:blipFill>
        <p:spPr>
          <a:xfrm>
            <a:off x="4857840" y="2928960"/>
            <a:ext cx="3714840" cy="2362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4143240" y="500040"/>
            <a:ext cx="4786560" cy="5715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428760" y="2228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азета должна отвечать следующим требования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Освещать события, происходящие в жизни подростк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Затрагивать проблему взаимоотношений в среде учащихс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Рассказывать о новостях музыки, спорта, кино. Знакомить с книжными новинками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На страницах газеты любой желающий сможет выразить свое мнение по интересующему его вопрос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Информация будет подвергнута корректировке минимальн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" name="Рисунок 3" descr="D:\Документы\Мои рисунки\360d90ada58f.jpg"/>
          <p:cNvPicPr/>
          <p:nvPr/>
        </p:nvPicPr>
        <p:blipFill>
          <a:blip r:embed="rId7"/>
          <a:stretch/>
        </p:blipFill>
        <p:spPr>
          <a:xfrm>
            <a:off x="785880" y="2714760"/>
            <a:ext cx="2047680" cy="2313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400" y="2928960"/>
            <a:ext cx="28573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14880" y="428400"/>
            <a:ext cx="46432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анда, участвующая в реализации проек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" name="Рисунок 2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3035520" cy="2214360"/>
          </a:xfrm>
          <a:prstGeom prst="rect">
            <a:avLst/>
          </a:prstGeom>
          <a:ln w="0">
            <a:noFill/>
          </a:ln>
        </p:spPr>
      </p:pic>
      <p:sp>
        <p:nvSpPr>
          <p:cNvPr id="54" name="Горизонтальный свиток 10"/>
          <p:cNvSpPr/>
          <p:nvPr/>
        </p:nvSpPr>
        <p:spPr>
          <a:xfrm>
            <a:off x="4786200" y="1214280"/>
            <a:ext cx="4000680" cy="27147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Цыпцын Сергей Викторович – директор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рлова Ольга Петровна – руководитель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Дворянинова Татьяна Алексеевна – 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Митрофанова Светлана Юрьевна – учитель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1"/>
          <p:cNvSpPr/>
          <p:nvPr/>
        </p:nvSpPr>
        <p:spPr>
          <a:xfrm>
            <a:off x="4286160" y="3714840"/>
            <a:ext cx="4071960" cy="250020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(9 – 10 к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брамо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Кабачек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еденяпина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айнуллин Рафаэ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усев 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071600" y="114264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первоначальных знаний  у  учащихся по основам предпринимательства и умения применять имеющиеся знания при организации малого бизнеса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Удовлетворение потребителей в высококачественных и недорогих услугах в области цветной полиграфии и в области печатной продукции для подростк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720" y="499680"/>
            <a:ext cx="4643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" name="Рисунок 7" descr=""/>
          <p:cNvPicPr/>
          <p:nvPr/>
        </p:nvPicPr>
        <p:blipFill>
          <a:blip r:embed="rId1"/>
          <a:stretch/>
        </p:blipFill>
        <p:spPr>
          <a:xfrm>
            <a:off x="285840" y="2714760"/>
            <a:ext cx="3128760" cy="22431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entury Schoolbook"/>
              </a:rPr>
              <a:t>Задачи проект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овести исследование потребительского ры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пределить потребность в финансовых, материально-технических, информационных и кадровых ресурс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едусмотреть возможные риски и способы их нейтрализ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рганизовать эффективную предпринимательскую деятельность по оказанию полиграфических услуг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" name="Рисунок 7" descr=""/>
          <p:cNvPicPr/>
          <p:nvPr/>
        </p:nvPicPr>
        <p:blipFill>
          <a:blip r:embed="rId1"/>
          <a:stretch/>
        </p:blipFill>
        <p:spPr>
          <a:xfrm>
            <a:off x="785880" y="2571840"/>
            <a:ext cx="2071800" cy="2441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143240" y="1714320"/>
            <a:ext cx="47865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У СОШ №1 р. п. Лунино  обеспечивает научно-методическое сопровождение проекта, предоставление трудовых ресурсов для организации экспериментальной и практической деятельности в рамках проек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осударственное автономное учреждение Пензенской области "Редакция газеты «Сурская правда"- предоставление площадок для экспериментально-практической деятельности участников проекта, консультаций специалис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0720" y="499680"/>
            <a:ext cx="46432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entury Schoolbook"/>
              </a:rPr>
              <a:t>Социальные партнеры проект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6" name="Picture 6" descr="D:\Рисунки\DSC00366.JPG"/>
          <p:cNvPicPr/>
          <p:nvPr/>
        </p:nvPicPr>
        <p:blipFill>
          <a:blip r:embed="rId1"/>
          <a:stretch/>
        </p:blipFill>
        <p:spPr>
          <a:xfrm>
            <a:off x="-12801600" y="-96012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D:\Рисунки\DSC00366.JPG"/>
          <p:cNvPicPr/>
          <p:nvPr/>
        </p:nvPicPr>
        <p:blipFill>
          <a:blip r:embed="rId2"/>
          <a:stretch/>
        </p:blipFill>
        <p:spPr>
          <a:xfrm>
            <a:off x="1571760" y="4214880"/>
            <a:ext cx="2228760" cy="1857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D:\Рисунки\DSC00365.JPG"/>
          <p:cNvPicPr/>
          <p:nvPr/>
        </p:nvPicPr>
        <p:blipFill>
          <a:blip r:embed="rId3"/>
          <a:srcRect l="9099" t="0" r="6536" b="0"/>
          <a:stretch/>
        </p:blipFill>
        <p:spPr>
          <a:xfrm>
            <a:off x="214200" y="2214720"/>
            <a:ext cx="2286000" cy="1857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14880" y="571680"/>
            <a:ext cx="46432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entury Schoolbook"/>
              </a:rPr>
              <a:t>Школьные предметы, задействованные в проект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Из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Искусств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Обществозна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1" name="Содержимое 10" descr="P1020260.JPG"/>
          <p:cNvPicPr/>
          <p:nvPr/>
        </p:nvPicPr>
        <p:blipFill>
          <a:blip r:embed="rId1">
            <a:alphaModFix amt="44000"/>
          </a:blip>
          <a:stretch/>
        </p:blipFill>
        <p:spPr>
          <a:xfrm>
            <a:off x="928800" y="414324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2"/>
          <a:stretch/>
        </p:blipFill>
        <p:spPr>
          <a:xfrm>
            <a:off x="214200" y="2143080"/>
            <a:ext cx="2500560" cy="18576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Компания-ментор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a119f"/>
                </a:solidFill>
                <a:latin typeface="Century Schoolbook"/>
              </a:rPr>
              <a:t>Государственное автономное учреждение Пензенской области "Редакция газеты "СУРСКАЯ ПРАВДА"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a119f"/>
                </a:solidFill>
                <a:latin typeface="Century Schoolbook"/>
              </a:rPr>
              <a:t>Главный редактор Чернышова Н. А.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a119f"/>
                </a:solidFill>
                <a:latin typeface="Century Schoolbook"/>
              </a:rPr>
              <a:t>тел.(8-841-61-2-13-63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5" name="Рисунок 4" descr="D:\Документы\Мои рисунки\img067.jpg"/>
          <p:cNvPicPr/>
          <p:nvPr/>
        </p:nvPicPr>
        <p:blipFill>
          <a:blip r:embed="rId1"/>
          <a:stretch/>
        </p:blipFill>
        <p:spPr>
          <a:xfrm>
            <a:off x="428760" y="2214720"/>
            <a:ext cx="171432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D:\Документы\Мои рисунки\img068.jpg"/>
          <p:cNvPicPr/>
          <p:nvPr/>
        </p:nvPicPr>
        <p:blipFill>
          <a:blip r:embed="rId2"/>
          <a:stretch/>
        </p:blipFill>
        <p:spPr>
          <a:xfrm>
            <a:off x="1857240" y="3214800"/>
            <a:ext cx="1714680" cy="2369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4:57:39Z</dcterms:created>
  <dc:creator>User (HOME)</dc:creator>
  <dc:description/>
  <cp:keywords/>
  <dc:language>en-US</dc:language>
  <cp:lastModifiedBy>User (HOME)</cp:lastModifiedBy>
  <dcterms:modified xsi:type="dcterms:W3CDTF">2011-01-31T04:36:22Z</dcterms:modified>
  <cp:revision>64</cp:revision>
  <dc:subject/>
  <dc:title>Муниципальное образовательное учреждение  средняя общеобразовательная школа № 1 р. п. Лунин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7631</vt:lpwstr>
  </property>
</Properties>
</file>