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26.jpeg" ContentType="image/jpeg"/>
  <Override PartName="/ppt/media/image1.png" ContentType="image/png"/>
  <Override PartName="/ppt/media/image25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17.jpeg" ContentType="image/jpeg"/>
  <Override PartName="/ppt/media/image16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C231-1CD6-46E9-90F0-27191A2C3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2687-9A6D-49DA-8F55-4FAAB186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B64A-70C4-49E9-8496-B38C20478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6180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38036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4324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6180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38036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EA81-1298-478E-B2E4-1701A3BA8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38B2-AC09-4DB7-A141-7D66242D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2E48-1B3E-4AC2-A847-E250B187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A2A0-0740-4CF9-AF8B-4C03D7C0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BA13-2EB4-4504-A3A5-74F93193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2920" y="357120"/>
            <a:ext cx="3286080" cy="72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EFF0-CF1D-4F26-8993-086A10AF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5A65-0628-4BC3-9B25-A7B94B26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ECF4-8342-40C0-937B-CC34B84A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9AE4-0F18-47BF-B509-3B768622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entury Schoolbook"/>
              </a:rPr>
              <a:t>Click to edit the title text format</a:t>
            </a: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9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3120" y="6356520"/>
            <a:ext cx="392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4313-079C-42FE-B0F5-32DF177D71DE}" type="slidenum">
              <a:rPr b="1" lang="ru-RU" sz="12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920" y="2785680"/>
            <a:ext cx="328608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entury Schoolbook"/>
              </a:rPr>
              <a:t>Муниципальное образовательное учреждение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Century Schoolbook"/>
              </a:rPr>
              <a:t>средняя общеобразовательная школа № 1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Century Schoolbook"/>
              </a:rPr>
              <a:t> р. п. Лунино</a:t>
            </a:r>
            <a:endParaRPr b="1" lang="en-US" sz="14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2920" y="285480"/>
            <a:ext cx="3286080" cy="1571400"/>
          </a:xfrm>
          <a:prstGeom prst="rect">
            <a:avLst/>
          </a:prstGeom>
          <a:blipFill rotWithShape="0">
            <a:blip r:embed="rId1">
              <a:alphaModFix amt="44000"/>
            </a:blip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entury Schoolbook"/>
              </a:rPr>
              <a:t>Обучение через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entury Schoolbook"/>
              </a:rPr>
              <a:t>предпринимательство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214880" y="571680"/>
            <a:ext cx="4643280" cy="5643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entury Schoolbook"/>
              </a:rPr>
              <a:t>ПРОЕКТ 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«</a:t>
            </a:r>
            <a:r>
              <a:rPr b="1" i="1" lang="ru-RU" sz="3200" spc="-1" strike="noStrike">
                <a:solidFill>
                  <a:srgbClr val="002060"/>
                </a:solidFill>
                <a:latin typeface="Comic Sans MS"/>
              </a:rPr>
              <a:t>Выпуск печатного издания «Наш мир» 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Comic Sans MS"/>
              </a:rPr>
              <a:t>и оказание полиграфических услуг населению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 advTm="15000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бучение через 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предпринимательство</a:t>
            </a:r>
            <a:br>
              <a:rPr sz="1600"/>
            </a:b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143240" y="2499840"/>
            <a:ext cx="214344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наличие конкурентов и появление новых конкурентов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изменение цен на услуги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79" name="Прямая со стрелкой 4"/>
          <p:cNvCxnSpPr/>
          <p:nvPr/>
        </p:nvCxnSpPr>
        <p:spPr>
          <a:xfrm flipH="1">
            <a:off x="5143320" y="1214280"/>
            <a:ext cx="786240" cy="8582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0" name="Прямая со стрелкой 8"/>
          <p:cNvCxnSpPr/>
          <p:nvPr/>
        </p:nvCxnSpPr>
        <p:spPr>
          <a:xfrm>
            <a:off x="7286760" y="1214280"/>
            <a:ext cx="643320" cy="9295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grpSp>
        <p:nvGrpSpPr>
          <p:cNvPr id="81" name="Прямоугольник 12"/>
          <p:cNvGrpSpPr/>
          <p:nvPr/>
        </p:nvGrpSpPr>
        <p:grpSpPr>
          <a:xfrm>
            <a:off x="3975120" y="1908000"/>
            <a:ext cx="2328840" cy="841680"/>
            <a:chOff x="3975120" y="1908000"/>
            <a:chExt cx="2328840" cy="841680"/>
          </a:xfrm>
        </p:grpSpPr>
        <p:pic>
          <p:nvPicPr>
            <p:cNvPr id="82" name="Прямоугольник 12" descr=""/>
            <p:cNvPicPr/>
            <p:nvPr/>
          </p:nvPicPr>
          <p:blipFill>
            <a:blip r:embed="rId1"/>
            <a:stretch/>
          </p:blipFill>
          <p:spPr>
            <a:xfrm>
              <a:off x="3975120" y="1908000"/>
              <a:ext cx="232884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4223880" y="2143080"/>
              <a:ext cx="18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b050"/>
                  </a:solidFill>
                  <a:latin typeface="Calibri"/>
                </a:rPr>
                <a:t>Основные рис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Прямоугольник 13"/>
          <p:cNvSpPr/>
          <p:nvPr/>
        </p:nvSpPr>
        <p:spPr>
          <a:xfrm>
            <a:off x="6434280" y="2143080"/>
            <a:ext cx="24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Способы преодо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4"/>
          <p:cNvSpPr/>
          <p:nvPr/>
        </p:nvSpPr>
        <p:spPr>
          <a:xfrm>
            <a:off x="5366520" y="64296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ойчивость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5"/>
          <p:cNvSpPr/>
          <p:nvPr/>
        </p:nvSpPr>
        <p:spPr>
          <a:xfrm>
            <a:off x="6572160" y="2500200"/>
            <a:ext cx="23576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проведение маркетинговых исследований, постоянная работа с информационными ресурсами по выявлению современных профессиональных материалов и новых видов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ценовая дифференци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10" descr=""/>
          <p:cNvPicPr/>
          <p:nvPr/>
        </p:nvPicPr>
        <p:blipFill>
          <a:blip r:embed="rId2"/>
          <a:srcRect l="1784" t="1790" r="3235" b="7290"/>
          <a:stretch/>
        </p:blipFill>
        <p:spPr>
          <a:xfrm>
            <a:off x="571680" y="2714760"/>
            <a:ext cx="2698560" cy="25002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бучение через 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предпринимательство</a:t>
            </a: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143240" y="2071800"/>
          <a:ext cx="4786560" cy="3025800"/>
        </p:xfrm>
        <a:graphic>
          <a:graphicData uri="http://schemas.openxmlformats.org/drawingml/2006/table">
            <a:tbl>
              <a:tblPr/>
              <a:tblGrid>
                <a:gridCol w="642960"/>
                <a:gridCol w="1749600"/>
                <a:gridCol w="1197000"/>
                <a:gridCol w="1197000"/>
              </a:tblGrid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прод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бестоим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пускная ц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Газета «Наш мир» 1 ш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12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15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Визитка 1 ш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3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4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Фотография  1 ш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15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18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Буклет 1 ш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5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8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Календари 1 ш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4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5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Компьютерный набор тек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6 руб. (1 страниц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10 руб. (1 страниц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90" name="Прямоугольник 7"/>
          <p:cNvSpPr/>
          <p:nvPr/>
        </p:nvSpPr>
        <p:spPr>
          <a:xfrm>
            <a:off x="4214880" y="642960"/>
            <a:ext cx="4572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Виды продукции, предлагаемые потребителя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бучение через 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предпринимательство</a:t>
            </a:r>
            <a:br>
              <a:rPr sz="1600"/>
            </a:b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Достоинства проекта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Использование новых технологий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овместная деятельность учащихся и учителей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амостоятельность, активность, творчество, интеллект и интуиция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3" name="Рисунок 16" descr=""/>
          <p:cNvPicPr/>
          <p:nvPr/>
        </p:nvPicPr>
        <p:blipFill>
          <a:blip r:embed="rId1"/>
          <a:srcRect l="10627" t="0" r="8643" b="0"/>
          <a:stretch/>
        </p:blipFill>
        <p:spPr>
          <a:xfrm>
            <a:off x="571680" y="2357280"/>
            <a:ext cx="2714400" cy="25243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бучение через 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предпринимательство</a:t>
            </a:r>
            <a:br>
              <a:rPr sz="1600"/>
            </a:b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Century Schoolbook"/>
              </a:rPr>
              <a:t>Недостатки проекта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мена участников проекта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Отсутствие финансирования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6" name="Рисунок 4" descr=""/>
          <p:cNvPicPr/>
          <p:nvPr/>
        </p:nvPicPr>
        <p:blipFill>
          <a:blip r:embed="rId1"/>
          <a:stretch/>
        </p:blipFill>
        <p:spPr>
          <a:xfrm>
            <a:off x="214200" y="2857680"/>
            <a:ext cx="3248280" cy="21430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Таблица 3" descr=""/>
          <p:cNvPicPr/>
          <p:nvPr/>
        </p:nvPicPr>
        <p:blipFill>
          <a:blip r:embed="rId1"/>
          <a:stretch/>
        </p:blipFill>
        <p:spPr>
          <a:xfrm>
            <a:off x="426960" y="2212920"/>
            <a:ext cx="8504280" cy="457848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4"/>
          <p:cNvSpPr/>
          <p:nvPr/>
        </p:nvSpPr>
        <p:spPr>
          <a:xfrm>
            <a:off x="4071960" y="78588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04a7b"/>
                </a:solidFill>
                <a:latin typeface="Arial"/>
              </a:rPr>
              <a:t>Планируемые показатели эффек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бучение через 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предпринимательство</a:t>
            </a:r>
            <a:br>
              <a:rPr sz="1600"/>
            </a:b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</p:spTree>
  </p:cSld>
  <p:transition spd="med" advTm="15000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бучение через 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предпринимательство</a:t>
            </a:r>
            <a:br>
              <a:rPr sz="1600"/>
            </a:b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42920" y="2143080"/>
            <a:ext cx="3214800" cy="41436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Century Schoolbook"/>
              </a:rPr>
              <a:t>Наша продукц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Газет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Календар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Буклет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Листовк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Визитк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Фотографи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29040" indent="-32904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Набор, сканирование текста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357960" y="714240"/>
            <a:ext cx="1643040" cy="2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3" name="Рисунок 1" descr=""/>
          <p:cNvPicPr/>
          <p:nvPr/>
        </p:nvPicPr>
        <p:blipFill>
          <a:blip r:embed="rId1"/>
          <a:stretch/>
        </p:blipFill>
        <p:spPr>
          <a:xfrm>
            <a:off x="6500880" y="2428920"/>
            <a:ext cx="2290680" cy="17143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7" descr="D:\Документы\Bluetooth\inbox\Фото052.jpg"/>
          <p:cNvPicPr/>
          <p:nvPr/>
        </p:nvPicPr>
        <p:blipFill>
          <a:blip r:embed="rId2"/>
          <a:stretch/>
        </p:blipFill>
        <p:spPr>
          <a:xfrm>
            <a:off x="4214880" y="2286000"/>
            <a:ext cx="1854000" cy="24717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" descr=""/>
          <p:cNvPicPr/>
          <p:nvPr/>
        </p:nvPicPr>
        <p:blipFill>
          <a:blip r:embed="rId3"/>
          <a:stretch/>
        </p:blipFill>
        <p:spPr>
          <a:xfrm>
            <a:off x="5908680" y="500040"/>
            <a:ext cx="2878200" cy="18572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7" descr="D:\Документы\Мои рисунки\img065.jpg"/>
          <p:cNvPicPr/>
          <p:nvPr/>
        </p:nvPicPr>
        <p:blipFill>
          <a:blip r:embed="rId4"/>
          <a:stretch/>
        </p:blipFill>
        <p:spPr>
          <a:xfrm>
            <a:off x="6143760" y="4214880"/>
            <a:ext cx="1643040" cy="23540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бучение через 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предпринимательство</a:t>
            </a:r>
            <a:br>
              <a:rPr sz="1600"/>
            </a:b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Century Schoolbook"/>
              </a:rPr>
              <a:t>Спасибо за внимание !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9" name="Рисунок 10" descr=""/>
          <p:cNvPicPr/>
          <p:nvPr/>
        </p:nvPicPr>
        <p:blipFill>
          <a:blip r:embed="rId1"/>
          <a:srcRect l="0" t="13435" r="1603" b="26493"/>
          <a:stretch/>
        </p:blipFill>
        <p:spPr>
          <a:xfrm>
            <a:off x="4857840" y="2928960"/>
            <a:ext cx="3714840" cy="23623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бучение через 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предпринимательство</a:t>
            </a:r>
            <a:br>
              <a:rPr sz="1600"/>
            </a:b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pic>
        <p:nvPicPr>
          <p:cNvPr id="45" name="Содержимое 3" descr=""/>
          <p:cNvPicPr/>
          <p:nvPr/>
        </p:nvPicPr>
        <p:blipFill>
          <a:blip r:embed="rId1"/>
          <a:stretch/>
        </p:blipFill>
        <p:spPr>
          <a:xfrm>
            <a:off x="4143240" y="500040"/>
            <a:ext cx="4786560" cy="57150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" descr=""/>
          <p:cNvPicPr/>
          <p:nvPr/>
        </p:nvPicPr>
        <p:blipFill>
          <a:blip r:embed="rId2"/>
          <a:stretch/>
        </p:blipFill>
        <p:spPr>
          <a:xfrm>
            <a:off x="428760" y="2228760"/>
            <a:ext cx="2786040" cy="27860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бучение через 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предпринимательство</a:t>
            </a:r>
            <a:br>
              <a:rPr sz="1600"/>
            </a:b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Газета должна отвечать следующим требованиям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entury Schoolbook"/>
              </a:rPr>
              <a:t>   </a:t>
            </a:r>
            <a:r>
              <a:rPr b="1" lang="ru-RU" sz="1800" spc="-1" strike="noStrike">
                <a:solidFill>
                  <a:srgbClr val="0070c0"/>
                </a:solidFill>
                <a:latin typeface="Century Schoolbook"/>
              </a:rPr>
              <a:t>Освещать события, происходящие в жизни подростко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entury Schoolbook"/>
              </a:rPr>
              <a:t>   </a:t>
            </a:r>
            <a:r>
              <a:rPr b="1" lang="ru-RU" sz="1800" spc="-1" strike="noStrike">
                <a:solidFill>
                  <a:srgbClr val="0070c0"/>
                </a:solidFill>
                <a:latin typeface="Century Schoolbook"/>
              </a:rPr>
              <a:t>Затрагивать проблему взаимоотношений в среде учащихс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entury Schoolbook"/>
              </a:rPr>
              <a:t>   </a:t>
            </a:r>
            <a:r>
              <a:rPr b="1" lang="ru-RU" sz="1800" spc="-1" strike="noStrike">
                <a:solidFill>
                  <a:srgbClr val="0070c0"/>
                </a:solidFill>
                <a:latin typeface="Century Schoolbook"/>
              </a:rPr>
              <a:t>Рассказывать о новостях музыки, спорта, кино. Знакомить с книжными новинками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entury Schoolbook"/>
              </a:rPr>
              <a:t>   </a:t>
            </a:r>
            <a:r>
              <a:rPr b="1" lang="ru-RU" sz="1800" spc="-1" strike="noStrike">
                <a:solidFill>
                  <a:srgbClr val="0070c0"/>
                </a:solidFill>
                <a:latin typeface="Century Schoolbook"/>
              </a:rPr>
              <a:t>На страницах газеты любой желающий сможет выразить свое мнение по интересующему его вопросу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entury Schoolbook"/>
              </a:rPr>
              <a:t>   </a:t>
            </a:r>
            <a:r>
              <a:rPr b="1" lang="ru-RU" sz="1800" spc="-1" strike="noStrike">
                <a:solidFill>
                  <a:srgbClr val="0070c0"/>
                </a:solidFill>
                <a:latin typeface="Century Schoolbook"/>
              </a:rPr>
              <a:t>Информация будет подвергнута корректировке минимально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" name="Рисунок 3" descr="D:\Документы\Мои рисунки\360d90ada58f.jpg"/>
          <p:cNvPicPr/>
          <p:nvPr/>
        </p:nvPicPr>
        <p:blipFill>
          <a:blip r:embed="rId7"/>
          <a:stretch/>
        </p:blipFill>
        <p:spPr>
          <a:xfrm>
            <a:off x="785880" y="2714760"/>
            <a:ext cx="2047680" cy="23130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бучение через 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предпринимательство</a:t>
            </a: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28400" y="2928960"/>
            <a:ext cx="28573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214880" y="428400"/>
            <a:ext cx="464328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оманда, участвующая в реализации проект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3" name="Рисунок 22" descr=""/>
          <p:cNvPicPr/>
          <p:nvPr/>
        </p:nvPicPr>
        <p:blipFill>
          <a:blip r:embed="rId1"/>
          <a:stretch/>
        </p:blipFill>
        <p:spPr>
          <a:xfrm>
            <a:off x="357120" y="2714760"/>
            <a:ext cx="3035520" cy="2214360"/>
          </a:xfrm>
          <a:prstGeom prst="rect">
            <a:avLst/>
          </a:prstGeom>
          <a:ln w="0">
            <a:noFill/>
          </a:ln>
        </p:spPr>
      </p:pic>
      <p:sp>
        <p:nvSpPr>
          <p:cNvPr id="54" name="Горизонтальный свиток 10"/>
          <p:cNvSpPr/>
          <p:nvPr/>
        </p:nvSpPr>
        <p:spPr>
          <a:xfrm>
            <a:off x="4786200" y="1214280"/>
            <a:ext cx="4000680" cy="2714760"/>
          </a:xfrm>
          <a:prstGeom prst="horizontalScroll">
            <a:avLst>
              <a:gd name="adj" fmla="val 1250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Цыпцын Сергей Викторович – директор шко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Орлова Ольга Петровна – руководитель прое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Дворянинова Татьяна Алексеевна – учитель русского языка и литера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Митрофанова Светлана Юрьевна – учитель инфор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Горизонтальный свиток 11"/>
          <p:cNvSpPr/>
          <p:nvPr/>
        </p:nvSpPr>
        <p:spPr>
          <a:xfrm>
            <a:off x="4286160" y="3714840"/>
            <a:ext cx="4071960" cy="2500200"/>
          </a:xfrm>
          <a:prstGeom prst="horizontalScroll">
            <a:avLst>
              <a:gd name="adj" fmla="val 12500"/>
            </a:avLst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ащиеся (9 – 10 кл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Абрамова Анаста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Кабачек Алекса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еденяпина Кс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Гайнуллин Рафаэ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Гусев Алекс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бучение через 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предпринимательство</a:t>
            </a: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071600" y="1142640"/>
            <a:ext cx="4786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Arial"/>
                <a:ea typeface="Arial"/>
              </a:rPr>
              <a:t>   </a:t>
            </a:r>
            <a:r>
              <a:rPr b="0" lang="ru-RU" sz="2700" spc="-1" strike="noStrike">
                <a:solidFill>
                  <a:srgbClr val="002060"/>
                </a:solidFill>
                <a:latin typeface="Arial"/>
                <a:ea typeface="Arial"/>
              </a:rPr>
              <a:t>Формирование первоначальных знаний  у  учащихся по основам предпринимательства и умения применять имеющиеся знания при организации малого бизнеса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Arial"/>
                <a:ea typeface="Arial"/>
              </a:rPr>
              <a:t>   </a:t>
            </a:r>
            <a:r>
              <a:rPr b="0" lang="ru-RU" sz="2700" spc="-1" strike="noStrike">
                <a:solidFill>
                  <a:srgbClr val="002060"/>
                </a:solidFill>
                <a:latin typeface="Arial"/>
                <a:ea typeface="Arial"/>
              </a:rPr>
              <a:t>Удовлетворение потребителей в высококачественных и недорогих услугах в области цветной полиграфии и в области печатной продукции для подростков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00720" y="499680"/>
            <a:ext cx="4643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entury Schoolbook"/>
              </a:rPr>
              <a:t>Цели проекта: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9" name="Рисунок 7" descr=""/>
          <p:cNvPicPr/>
          <p:nvPr/>
        </p:nvPicPr>
        <p:blipFill>
          <a:blip r:embed="rId1"/>
          <a:stretch/>
        </p:blipFill>
        <p:spPr>
          <a:xfrm>
            <a:off x="285840" y="2714760"/>
            <a:ext cx="3128760" cy="22431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бучение через 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предпринимательство</a:t>
            </a: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Century Schoolbook"/>
              </a:rPr>
              <a:t>Задачи проекта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провести исследование потребительского рынк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определить потребность в финансовых, материально-технических, информационных и кадровых ресурсах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предусмотреть возможные риски и способы их нейтрализаци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организовать эффективную предпринимательскую деятельность по оказанию полиграфических услуг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2" name="Рисунок 7" descr=""/>
          <p:cNvPicPr/>
          <p:nvPr/>
        </p:nvPicPr>
        <p:blipFill>
          <a:blip r:embed="rId1"/>
          <a:stretch/>
        </p:blipFill>
        <p:spPr>
          <a:xfrm>
            <a:off x="785880" y="2571840"/>
            <a:ext cx="2071800" cy="24415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бучение через 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предпринимательство</a:t>
            </a:r>
            <a:br>
              <a:rPr sz="1600"/>
            </a:b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143240" y="1714320"/>
            <a:ext cx="47865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ОУ СОШ №1 р. п. Лунино  обеспечивает научно-методическое сопровождение проекта, предоставление трудовых ресурсов для организации экспериментальной и практической деятельности в рамках проект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Государственное автономное учреждение Пензенской области "Редакция газеты «Сурская правда"- предоставление площадок для экспериментально-практической деятельности участников проекта, консультаций специалистов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00720" y="499680"/>
            <a:ext cx="464328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Century Schoolbook"/>
              </a:rPr>
              <a:t>Социальные партнеры проекта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6" name="Picture 6" descr="D:\Рисунки\DSC00366.JPG"/>
          <p:cNvPicPr/>
          <p:nvPr/>
        </p:nvPicPr>
        <p:blipFill>
          <a:blip r:embed="rId1"/>
          <a:stretch/>
        </p:blipFill>
        <p:spPr>
          <a:xfrm>
            <a:off x="-12801600" y="-9601200"/>
            <a:ext cx="4319640" cy="3240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7" descr="D:\Рисунки\DSC00366.JPG"/>
          <p:cNvPicPr/>
          <p:nvPr/>
        </p:nvPicPr>
        <p:blipFill>
          <a:blip r:embed="rId2"/>
          <a:stretch/>
        </p:blipFill>
        <p:spPr>
          <a:xfrm>
            <a:off x="1571760" y="4214880"/>
            <a:ext cx="2228760" cy="18572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8" descr="D:\Рисунки\DSC00365.JPG"/>
          <p:cNvPicPr/>
          <p:nvPr/>
        </p:nvPicPr>
        <p:blipFill>
          <a:blip r:embed="rId3"/>
          <a:srcRect l="9099" t="0" r="6536" b="0"/>
          <a:stretch/>
        </p:blipFill>
        <p:spPr>
          <a:xfrm>
            <a:off x="214200" y="2214720"/>
            <a:ext cx="2286000" cy="18572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бучение через 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предпринимательство</a:t>
            </a:r>
            <a:br>
              <a:rPr sz="1600"/>
            </a:b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214880" y="571680"/>
            <a:ext cx="46432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Century Schoolbook"/>
              </a:rPr>
              <a:t>Школьные предметы, задействованные в проекте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entury Schoolbook"/>
              </a:rPr>
              <a:t>Изо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entury Schoolbook"/>
              </a:rPr>
              <a:t>Искусство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entury Schoolbook"/>
              </a:rPr>
              <a:t>Русский язык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entury Schoolbook"/>
              </a:rPr>
              <a:t>Математик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entury Schoolbook"/>
              </a:rPr>
              <a:t>Обществознание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1" name="Содержимое 10" descr="P1020260.JPG"/>
          <p:cNvPicPr/>
          <p:nvPr/>
        </p:nvPicPr>
        <p:blipFill>
          <a:blip r:embed="rId1">
            <a:alphaModFix amt="44000"/>
          </a:blip>
          <a:stretch/>
        </p:blipFill>
        <p:spPr>
          <a:xfrm>
            <a:off x="928800" y="4143240"/>
            <a:ext cx="2500200" cy="18748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" descr=""/>
          <p:cNvPicPr/>
          <p:nvPr/>
        </p:nvPicPr>
        <p:blipFill>
          <a:blip r:embed="rId2"/>
          <a:stretch/>
        </p:blipFill>
        <p:spPr>
          <a:xfrm>
            <a:off x="214200" y="2143080"/>
            <a:ext cx="2500560" cy="18576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бучение через </a:t>
            </a:r>
            <a:br>
              <a:rPr sz="16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предпринимательство</a:t>
            </a:r>
            <a:br>
              <a:rPr sz="1600"/>
            </a:br>
            <a:endParaRPr b="1" lang="en-US" sz="1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ru-RU" sz="3200" spc="-1" strike="noStrike">
                <a:solidFill>
                  <a:srgbClr val="7030a0"/>
                </a:solidFill>
                <a:latin typeface="Century Schoolbook"/>
              </a:rPr>
              <a:t>Компания-ментор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a119f"/>
                </a:solidFill>
                <a:latin typeface="Century Schoolbook"/>
              </a:rPr>
              <a:t>Государственное автономное учреждение Пензенской области "Редакция газеты "СУРСКАЯ ПРАВДА"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a119f"/>
                </a:solidFill>
                <a:latin typeface="Century Schoolbook"/>
              </a:rPr>
              <a:t>Главный редактор Чернышова Н. А.,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a119f"/>
                </a:solidFill>
                <a:latin typeface="Century Schoolbook"/>
              </a:rPr>
              <a:t>тел.(8-841-61-2-13-63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5" name="Рисунок 4" descr="D:\Документы\Мои рисунки\img067.jpg"/>
          <p:cNvPicPr/>
          <p:nvPr/>
        </p:nvPicPr>
        <p:blipFill>
          <a:blip r:embed="rId1"/>
          <a:stretch/>
        </p:blipFill>
        <p:spPr>
          <a:xfrm>
            <a:off x="428760" y="2214720"/>
            <a:ext cx="171432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5" descr="D:\Документы\Мои рисунки\img068.jpg"/>
          <p:cNvPicPr/>
          <p:nvPr/>
        </p:nvPicPr>
        <p:blipFill>
          <a:blip r:embed="rId2"/>
          <a:stretch/>
        </p:blipFill>
        <p:spPr>
          <a:xfrm>
            <a:off x="1857240" y="3214800"/>
            <a:ext cx="1714680" cy="23698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4:57:39Z</dcterms:created>
  <dc:creator>User (HOME)</dc:creator>
  <dc:description/>
  <cp:keywords/>
  <dc:language>en-US</dc:language>
  <cp:lastModifiedBy>User (HOME)</cp:lastModifiedBy>
  <dcterms:modified xsi:type="dcterms:W3CDTF">2011-01-31T04:36:22Z</dcterms:modified>
  <cp:revision>64</cp:revision>
  <dc:subject/>
  <dc:title>Муниципальное образовательное учреждение  средняя общеобразовательная школа № 1 р. п. Лунин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30007631</vt:lpwstr>
  </property>
</Properties>
</file>