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CFA0-2379-41B7-A619-A3B780EB57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8847-85D3-47A7-861A-1D554EBA08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CEBD-B7E9-4681-832F-3E43749D6D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1381-BB67-4EAA-A116-F75CC4EB89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A59C-2474-4779-8B5D-9B3F6C23D5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5633-285F-49B4-AAB0-C66197E8A5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3A65-D22A-41AF-B0DA-27CB1CD0DA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9FAF-DF85-4CA7-B712-3265EA4A4A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2AE9-8860-47AB-807E-2C86DEE912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1EF5-A735-4EC0-8D54-CDFC70FB1F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ABDB-E1C2-4921-B1B9-163C3AD4AA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A69C-11D1-4475-8DE0-029E551FBA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9888-41A2-459B-8DD5-4E64E73D73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CBD6-479A-43D1-B6BF-E52B639746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DEFD-73DC-4B08-B80A-CF9495B218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11A1-47DE-4020-9FEC-DE8CF03C94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30E-FD9F-4FEE-8C1B-969AEE0B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07E-46CB-40E2-A646-BDB98256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1CD-0BAC-45F4-92F9-90E0287E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186-43D0-45F5-B4C5-5BD48C4D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F105-856F-45B5-BAE2-8157EBDC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11BE-0DA1-412F-8F29-A41A3FAD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3BAC-4DAF-4BD6-A12A-4FB860D1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58BF-2841-45A0-BCD3-122F86CF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DA03-AF3E-494C-BBF8-03C1E779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6722-A3D9-4BB4-A0E5-E3B6F57F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44E1-9E17-4E58-B391-335D23CF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F9A-66E9-41F4-AA92-9D84FCCA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570B-AB52-45CB-A4C0-21EEB73E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0BF4-3736-46FF-9C01-E747D6EA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FA91-5D3C-4FE4-97FA-2C9C5F7D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B385-AAC0-404E-866D-62D44069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9EC8-6ECD-4337-894E-90AB38F8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D0E41-082A-4BCD-9FF9-0678FFF2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AC3E7-8454-4233-A830-07212872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70C8E-A467-48DF-A237-EDB91B85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B9B14-EA77-476B-ACC6-DE2DE5FD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E25A-F52A-4443-A536-9FC1B62C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0A0-93F0-45EF-9DAD-131CA268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27614-F970-436A-9A78-1C039C6C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23E36-3976-49AB-9A2C-350D4143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E132C-73AD-4460-943A-30E489D0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045F-A1BE-4A10-9183-9D949F40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4ED7-79D3-4647-AC5E-B49D13E1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9F0D-4FE1-40E2-8A6C-ED9C6904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2EF34-4016-47F7-986B-2710D6F3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6F9D6-0071-47A8-A127-CD8176EF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8198F-6831-4314-8498-7A2AFE94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A7803-6FC8-4EF9-90E3-20D67691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E6C-1956-443E-B5ED-127050CF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14F2E-80B2-4F4D-AEF8-0EBA2B07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DE248-C0CC-4315-B072-C173B389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70173-DB17-4538-A071-71C11498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B872D-EA58-45EC-9AD6-BC556DDC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9CCA7-3E65-4BF7-8CF0-DC1F2D35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B621F-408A-4E6D-B70A-02569035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6B1D5-61DB-4EB0-935E-4ED41B59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93027-DAE1-4295-9926-E2E4E626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97A86-4B9E-4F98-827A-AF301D13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707B1-9282-43A0-A5DB-B2B04423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AB3-20F0-4628-917A-545BEC1F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9D51C-D8CC-445D-866D-94E7BCEA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8C9A8-7C8B-443B-9C04-7BE72B34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562EB-3880-4D52-A337-1661D79F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C1E25-8F47-4413-A8A1-02360E2B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1AA25-160A-4193-B3EB-FB9E3545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6DD2A-FB8D-4304-8057-1CA3AE86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71786-4177-42DA-9554-BD48AEA0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7FC73-9F51-4CDF-9137-F260F485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7CAF3-8FB1-490E-9F6B-E16BD88D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F76B0-FF9A-43A6-8C50-DE4A9AEF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BE0-36CC-4CDC-8D01-6A2782E5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E5BEA-8686-4958-92EB-E1764C17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02F-2875-4B4E-81BC-BCB2DE8C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99D-7AC5-486A-8220-8820041B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9961-BF8C-421C-AEAB-E5C346ED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3968-7E5F-4E21-B333-19FBB32A495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783E-C5F4-47CD-9E94-5B52DEFDBC51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A0DE-638D-4911-9587-0E7E651F05F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DEB8-AF4A-435E-B7BD-0729BBE77D15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BE2B-C87C-4915-9771-CB9EE850FD3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365640" y="530280"/>
            <a:ext cx="5187960" cy="31510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3419640" y="195120"/>
            <a:ext cx="5108400" cy="2030400"/>
          </a:xfrm>
          <a:prstGeom prst="rect">
            <a:avLst/>
          </a:prstGeom>
          <a:ln w="0">
            <a:noFill/>
          </a:ln>
        </p:spPr>
      </p:pic>
      <p:sp>
        <p:nvSpPr>
          <p:cNvPr id="272" name="Подзаголовок 5"/>
          <p:cNvSpPr/>
          <p:nvPr/>
        </p:nvSpPr>
        <p:spPr>
          <a:xfrm>
            <a:off x="3419640" y="2276640"/>
            <a:ext cx="489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2. До свидания, приходите в г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588000" y="3141720"/>
            <a:ext cx="2376720" cy="53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сего хорошего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Подзаголовок 8"/>
          <p:cNvSpPr/>
          <p:nvPr/>
        </p:nvSpPr>
        <p:spPr>
          <a:xfrm>
            <a:off x="6084720" y="4653000"/>
            <a:ext cx="2448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иходите ча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одзаголовок 8"/>
          <p:cNvSpPr/>
          <p:nvPr/>
        </p:nvSpPr>
        <p:spPr>
          <a:xfrm>
            <a:off x="4859280" y="5877000"/>
            <a:ext cx="3673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о свидания. До новых встре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одзаголовок 8"/>
          <p:cNvSpPr/>
          <p:nvPr/>
        </p:nvSpPr>
        <p:spPr>
          <a:xfrm>
            <a:off x="3132000" y="5157720"/>
            <a:ext cx="32403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ы для нас желанный гос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дзаголовок 8"/>
          <p:cNvSpPr/>
          <p:nvPr/>
        </p:nvSpPr>
        <p:spPr>
          <a:xfrm>
            <a:off x="3203640" y="2997360"/>
            <a:ext cx="25923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rebuchet MS"/>
              </a:rPr>
              <a:t>Всего Вам доброго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одзаголовок 8"/>
          <p:cNvSpPr/>
          <p:nvPr/>
        </p:nvSpPr>
        <p:spPr>
          <a:xfrm>
            <a:off x="3708360" y="3789360"/>
            <a:ext cx="410364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ады были познакомить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3419640" y="195120"/>
            <a:ext cx="5108400" cy="2030400"/>
          </a:xfrm>
          <a:prstGeom prst="rect">
            <a:avLst/>
          </a:prstGeom>
          <a:ln w="0">
            <a:noFill/>
          </a:ln>
        </p:spPr>
      </p:pic>
      <p:sp>
        <p:nvSpPr>
          <p:cNvPr id="280" name="Подзаголовок 2"/>
          <p:cNvSpPr/>
          <p:nvPr/>
        </p:nvSpPr>
        <p:spPr>
          <a:xfrm>
            <a:off x="3419640" y="3357720"/>
            <a:ext cx="5114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одзаголовок 5"/>
          <p:cNvSpPr/>
          <p:nvPr/>
        </p:nvSpPr>
        <p:spPr>
          <a:xfrm>
            <a:off x="3492360" y="2492280"/>
            <a:ext cx="4896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3. Навестить больно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одзаголовок 8"/>
          <p:cNvSpPr/>
          <p:nvPr/>
        </p:nvSpPr>
        <p:spPr>
          <a:xfrm>
            <a:off x="4356000" y="2997360"/>
            <a:ext cx="17370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Запомни!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одзаголовок 8"/>
          <p:cNvSpPr/>
          <p:nvPr/>
        </p:nvSpPr>
        <p:spPr>
          <a:xfrm>
            <a:off x="3492360" y="3645000"/>
            <a:ext cx="4464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Больному человеку нельзя говорить о том, что он похудел, побледнел, изменился, о том, что болезнь мешает ему бегать, весел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остарайся отвлечь больного, и тогда он выздоровеет быст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3419640" y="195120"/>
            <a:ext cx="5108400" cy="2030400"/>
          </a:xfrm>
          <a:prstGeom prst="rect">
            <a:avLst/>
          </a:prstGeom>
          <a:ln w="0">
            <a:noFill/>
          </a:ln>
        </p:spPr>
      </p:pic>
      <p:sp>
        <p:nvSpPr>
          <p:cNvPr id="285" name="Подзаголовок 2"/>
          <p:cNvSpPr/>
          <p:nvPr/>
        </p:nvSpPr>
        <p:spPr>
          <a:xfrm>
            <a:off x="3419640" y="2852640"/>
            <a:ext cx="5114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одзаголовок 5"/>
          <p:cNvSpPr/>
          <p:nvPr/>
        </p:nvSpPr>
        <p:spPr>
          <a:xfrm>
            <a:off x="3419640" y="2276640"/>
            <a:ext cx="4897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</a:rPr>
              <a:t>4. В транспорт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одзаголовок 8"/>
          <p:cNvSpPr/>
          <p:nvPr/>
        </p:nvSpPr>
        <p:spPr>
          <a:xfrm>
            <a:off x="3203640" y="2708280"/>
            <a:ext cx="5113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итуация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Мальчик, если тебе не трудно, уступи,   пожалуйста,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Садитесь, пожалуй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Спасибо, мальч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Пожалуй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одзаголовок 8"/>
          <p:cNvSpPr/>
          <p:nvPr/>
        </p:nvSpPr>
        <p:spPr>
          <a:xfrm>
            <a:off x="3276720" y="4724280"/>
            <a:ext cx="5111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итуация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Передайте, пожалуйста, деньги за проез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Спасиб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3419640" y="195120"/>
            <a:ext cx="5108400" cy="2030400"/>
          </a:xfrm>
          <a:prstGeom prst="rect">
            <a:avLst/>
          </a:prstGeom>
          <a:ln w="0">
            <a:noFill/>
          </a:ln>
        </p:spPr>
      </p:pic>
      <p:sp>
        <p:nvSpPr>
          <p:cNvPr id="290" name="Подзаголовок 2"/>
          <p:cNvSpPr/>
          <p:nvPr/>
        </p:nvSpPr>
        <p:spPr>
          <a:xfrm>
            <a:off x="3419640" y="2852640"/>
            <a:ext cx="5114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одзаголовок 5"/>
          <p:cNvSpPr/>
          <p:nvPr/>
        </p:nvSpPr>
        <p:spPr>
          <a:xfrm>
            <a:off x="3419640" y="2276640"/>
            <a:ext cx="4897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</a:rPr>
              <a:t>5. В библиотек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одзаголовок 8"/>
          <p:cNvSpPr/>
          <p:nvPr/>
        </p:nvSpPr>
        <p:spPr>
          <a:xfrm>
            <a:off x="3203640" y="2708280"/>
            <a:ext cx="5113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очтите на вывеске фамилию, имя , отчество библиотека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дзаголовок 8"/>
          <p:cNvSpPr/>
          <p:nvPr/>
        </p:nvSpPr>
        <p:spPr>
          <a:xfrm>
            <a:off x="3132000" y="3500280"/>
            <a:ext cx="5112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Здравствуйте, Анна Ивановна. Запишите, пожалуйста, меня в библиотеку. Меня зовут Иван, фамилия моя Му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……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Большое спасибо за книги. До свидания, Анна Иванов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3419640" y="195120"/>
            <a:ext cx="5108400" cy="2030400"/>
          </a:xfrm>
          <a:prstGeom prst="rect">
            <a:avLst/>
          </a:prstGeom>
          <a:ln w="0">
            <a:noFill/>
          </a:ln>
        </p:spPr>
      </p:pic>
      <p:sp>
        <p:nvSpPr>
          <p:cNvPr id="295" name="Подзаголовок 5"/>
          <p:cNvSpPr/>
          <p:nvPr/>
        </p:nvSpPr>
        <p:spPr>
          <a:xfrm>
            <a:off x="3419640" y="2276640"/>
            <a:ext cx="4897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По телеф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 забудь! Разговор по телефону должен быть вежливым, ясным, четким и корот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одзаголовок 8"/>
          <p:cNvSpPr/>
          <p:nvPr/>
        </p:nvSpPr>
        <p:spPr>
          <a:xfrm>
            <a:off x="2987640" y="4797360"/>
            <a:ext cx="5400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Алло! Антон, это ты? Здравствуй. Это говорит Юра. Я хочу пригласить тебя на день рождения. Приходи, пожалуйста, завтра в 3 часа дня. Буду жд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Спасибо, что позвонил, спасибо за приглашение. Обязательно при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одзаголовок 8"/>
          <p:cNvSpPr/>
          <p:nvPr/>
        </p:nvSpPr>
        <p:spPr>
          <a:xfrm>
            <a:off x="2987640" y="3357720"/>
            <a:ext cx="40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Здравствуйте. Это говорит Аня. Можно попросить к телефону Ле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одзаголовок 8"/>
          <p:cNvSpPr/>
          <p:nvPr/>
        </p:nvSpPr>
        <p:spPr>
          <a:xfrm>
            <a:off x="5148360" y="4076640"/>
            <a:ext cx="399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- Здравствуйте. Это говорит Аня. Можно попросить к телефону Ле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1" descr=""/>
          <p:cNvPicPr/>
          <p:nvPr/>
        </p:nvPicPr>
        <p:blipFill>
          <a:blip r:embed="rId1"/>
          <a:stretch/>
        </p:blipFill>
        <p:spPr>
          <a:xfrm>
            <a:off x="3333600" y="328680"/>
            <a:ext cx="5170680" cy="1512720"/>
          </a:xfrm>
          <a:prstGeom prst="rect">
            <a:avLst/>
          </a:prstGeom>
          <a:ln w="0">
            <a:noFill/>
          </a:ln>
        </p:spPr>
      </p:pic>
      <p:sp>
        <p:nvSpPr>
          <p:cNvPr id="300" name="Подзаголовок 2"/>
          <p:cNvSpPr/>
          <p:nvPr/>
        </p:nvSpPr>
        <p:spPr>
          <a:xfrm>
            <a:off x="3348000" y="3213000"/>
            <a:ext cx="5114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Схема 10" descr=""/>
          <p:cNvPicPr/>
          <p:nvPr/>
        </p:nvPicPr>
        <p:blipFill>
          <a:blip r:embed="rId2"/>
          <a:stretch/>
        </p:blipFill>
        <p:spPr>
          <a:xfrm>
            <a:off x="3870360" y="2004840"/>
            <a:ext cx="442584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3365640" y="328680"/>
            <a:ext cx="5108400" cy="15127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348000" y="2637000"/>
            <a:ext cx="5114880" cy="50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2. Развитие отношений с окружающи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одзаголовок 2"/>
          <p:cNvSpPr/>
          <p:nvPr/>
        </p:nvSpPr>
        <p:spPr>
          <a:xfrm>
            <a:off x="3348000" y="2060640"/>
            <a:ext cx="5114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1. Развитие характ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одзаголовок 2"/>
          <p:cNvSpPr/>
          <p:nvPr/>
        </p:nvSpPr>
        <p:spPr>
          <a:xfrm>
            <a:off x="3348000" y="3213000"/>
            <a:ext cx="5114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3. Войти без страха в мир общ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1305000"/>
          </a:xfrm>
          <a:prstGeom prst="rect">
            <a:avLst/>
          </a:prstGeom>
          <a:ln w="0">
            <a:noFill/>
          </a:ln>
        </p:spPr>
      </p:pic>
      <p:sp>
        <p:nvSpPr>
          <p:cNvPr id="234" name="Подзаголовок 2"/>
          <p:cNvSpPr/>
          <p:nvPr/>
        </p:nvSpPr>
        <p:spPr>
          <a:xfrm>
            <a:off x="3348000" y="2060640"/>
            <a:ext cx="51148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Разработка и апробация системы методов и форм, направленной на формирование речевого этикета у младших школь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1305000"/>
          </a:xfrm>
          <a:prstGeom prst="rect">
            <a:avLst/>
          </a:prstGeom>
          <a:ln w="0">
            <a:noFill/>
          </a:ln>
        </p:spPr>
      </p:pic>
      <p:sp>
        <p:nvSpPr>
          <p:cNvPr id="237" name="Подзаголовок 2"/>
          <p:cNvSpPr/>
          <p:nvPr/>
        </p:nvSpPr>
        <p:spPr>
          <a:xfrm>
            <a:off x="3348000" y="3213000"/>
            <a:ext cx="5114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409920" y="42926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just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Умение выбирать языковые средства, уместные в конкретной ситуац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Подзаголовок 5"/>
          <p:cNvSpPr/>
          <p:nvPr/>
        </p:nvSpPr>
        <p:spPr>
          <a:xfrm>
            <a:off x="3419640" y="3193920"/>
            <a:ext cx="48974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Воспитание внимательного, вдумчивого отношения к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одзаголовок 5"/>
          <p:cNvSpPr/>
          <p:nvPr/>
        </p:nvSpPr>
        <p:spPr>
          <a:xfrm>
            <a:off x="3429000" y="1925640"/>
            <a:ext cx="51134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Обогащение речи мл. школьников теми языковыми средствами, которые необходимы в повседневном общ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1305000"/>
          </a:xfrm>
          <a:prstGeom prst="rect">
            <a:avLst/>
          </a:prstGeom>
          <a:ln w="0">
            <a:noFill/>
          </a:ln>
        </p:spPr>
      </p:pic>
      <p:sp>
        <p:nvSpPr>
          <p:cNvPr id="242" name="Подзаголовок 2"/>
          <p:cNvSpPr/>
          <p:nvPr/>
        </p:nvSpPr>
        <p:spPr>
          <a:xfrm>
            <a:off x="3348000" y="3213000"/>
            <a:ext cx="5114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157640" y="3141720"/>
            <a:ext cx="5114880" cy="11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just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целос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Подзаголовок 5"/>
          <p:cNvSpPr/>
          <p:nvPr/>
        </p:nvSpPr>
        <p:spPr>
          <a:xfrm>
            <a:off x="4175280" y="2565360"/>
            <a:ext cx="489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истем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одзаголовок 5"/>
          <p:cNvSpPr/>
          <p:nvPr/>
        </p:nvSpPr>
        <p:spPr>
          <a:xfrm>
            <a:off x="4157640" y="1935000"/>
            <a:ext cx="51148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мплек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3365640" y="328680"/>
            <a:ext cx="5108400" cy="1512720"/>
          </a:xfrm>
          <a:prstGeom prst="rect">
            <a:avLst/>
          </a:prstGeom>
          <a:ln w="0">
            <a:noFill/>
          </a:ln>
        </p:spPr>
      </p:pic>
      <p:sp>
        <p:nvSpPr>
          <p:cNvPr id="247" name="Подзаголовок 2"/>
          <p:cNvSpPr/>
          <p:nvPr/>
        </p:nvSpPr>
        <p:spPr>
          <a:xfrm>
            <a:off x="3348000" y="3213000"/>
            <a:ext cx="5114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одзаголовок 5"/>
          <p:cNvSpPr/>
          <p:nvPr/>
        </p:nvSpPr>
        <p:spPr>
          <a:xfrm>
            <a:off x="3348000" y="2349360"/>
            <a:ext cx="51148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ебенок, умеющий говорить и слушать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1305000"/>
          </a:xfrm>
          <a:prstGeom prst="rect">
            <a:avLst/>
          </a:prstGeom>
          <a:ln w="0">
            <a:noFill/>
          </a:ln>
        </p:spPr>
      </p:pic>
      <p:sp>
        <p:nvSpPr>
          <p:cNvPr id="251" name="Подзаголовок 2"/>
          <p:cNvSpPr/>
          <p:nvPr/>
        </p:nvSpPr>
        <p:spPr>
          <a:xfrm>
            <a:off x="3348000" y="3213000"/>
            <a:ext cx="5114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дзаголовок 5"/>
          <p:cNvSpPr/>
          <p:nvPr/>
        </p:nvSpPr>
        <p:spPr>
          <a:xfrm>
            <a:off x="6372360" y="1989000"/>
            <a:ext cx="2520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Схема 13" descr=""/>
          <p:cNvPicPr/>
          <p:nvPr/>
        </p:nvPicPr>
        <p:blipFill>
          <a:blip r:embed="rId2"/>
          <a:stretch/>
        </p:blipFill>
        <p:spPr>
          <a:xfrm>
            <a:off x="2779560" y="1536840"/>
            <a:ext cx="5967720" cy="2565360"/>
          </a:xfrm>
          <a:prstGeom prst="rect">
            <a:avLst/>
          </a:prstGeom>
          <a:ln w="0">
            <a:noFill/>
          </a:ln>
        </p:spPr>
      </p:pic>
      <p:pic>
        <p:nvPicPr>
          <p:cNvPr id="254" name="Схема 15" descr=""/>
          <p:cNvPicPr/>
          <p:nvPr/>
        </p:nvPicPr>
        <p:blipFill>
          <a:blip r:embed="rId3"/>
          <a:stretch/>
        </p:blipFill>
        <p:spPr>
          <a:xfrm>
            <a:off x="4102200" y="4273560"/>
            <a:ext cx="48704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3365640" y="328680"/>
            <a:ext cx="5108400" cy="1512720"/>
          </a:xfrm>
          <a:prstGeom prst="rect">
            <a:avLst/>
          </a:prstGeom>
          <a:ln w="0">
            <a:noFill/>
          </a:ln>
        </p:spPr>
      </p:pic>
      <p:sp>
        <p:nvSpPr>
          <p:cNvPr id="256" name="Подзаголовок 2"/>
          <p:cNvSpPr/>
          <p:nvPr/>
        </p:nvSpPr>
        <p:spPr>
          <a:xfrm>
            <a:off x="3348000" y="3213000"/>
            <a:ext cx="5114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одзаголовок 5"/>
          <p:cNvSpPr/>
          <p:nvPr/>
        </p:nvSpPr>
        <p:spPr>
          <a:xfrm>
            <a:off x="3419640" y="3193920"/>
            <a:ext cx="48974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2. Говорящему ученику рекомендуется строить речь таким образом, чтобы не нанести ущерб слушающему, отдавая предпочтение выслушиванию собеседника перед своей речью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одзаголовок 5"/>
          <p:cNvSpPr/>
          <p:nvPr/>
        </p:nvSpPr>
        <p:spPr>
          <a:xfrm>
            <a:off x="3429000" y="1925640"/>
            <a:ext cx="51134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1. Если к учащемуся обращена речь, то ему рекомендовано оставить свой труд и выслушать реч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3419640" y="195120"/>
            <a:ext cx="5108400" cy="2030400"/>
          </a:xfrm>
          <a:prstGeom prst="rect">
            <a:avLst/>
          </a:prstGeom>
          <a:ln w="0">
            <a:noFill/>
          </a:ln>
        </p:spPr>
      </p:pic>
      <p:sp>
        <p:nvSpPr>
          <p:cNvPr id="260" name="Подзаголовок 2"/>
          <p:cNvSpPr/>
          <p:nvPr/>
        </p:nvSpPr>
        <p:spPr>
          <a:xfrm>
            <a:off x="3419640" y="3357720"/>
            <a:ext cx="5114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одзаголовок 5"/>
          <p:cNvSpPr/>
          <p:nvPr/>
        </p:nvSpPr>
        <p:spPr>
          <a:xfrm>
            <a:off x="3419640" y="2276640"/>
            <a:ext cx="4897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1. Простите. Извините. Разреш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rebuchet MS"/>
              </a:rPr>
              <a:t>Призывы к нашей доброте и любезности, просьбы простить за беспокойств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659640" y="3715920"/>
            <a:ext cx="1738080" cy="53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ожалуйст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Подзаголовок 8"/>
          <p:cNvSpPr/>
          <p:nvPr/>
        </p:nvSpPr>
        <p:spPr>
          <a:xfrm>
            <a:off x="3635280" y="4292640"/>
            <a:ext cx="1378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Будь до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одзаголовок 8"/>
          <p:cNvSpPr/>
          <p:nvPr/>
        </p:nvSpPr>
        <p:spPr>
          <a:xfrm>
            <a:off x="6875640" y="4797360"/>
            <a:ext cx="195408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азреши м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одзаголовок 8"/>
          <p:cNvSpPr/>
          <p:nvPr/>
        </p:nvSpPr>
        <p:spPr>
          <a:xfrm>
            <a:off x="4859280" y="4869000"/>
            <a:ext cx="1738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озволь м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одзаголовок 8"/>
          <p:cNvSpPr/>
          <p:nvPr/>
        </p:nvSpPr>
        <p:spPr>
          <a:xfrm>
            <a:off x="6516720" y="5300640"/>
            <a:ext cx="1952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чень про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одзаголовок 8"/>
          <p:cNvSpPr/>
          <p:nvPr/>
        </p:nvSpPr>
        <p:spPr>
          <a:xfrm>
            <a:off x="3203640" y="5373720"/>
            <a:ext cx="26733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Если можно, дай мне, пожалуй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дзаголовок 8"/>
          <p:cNvSpPr/>
          <p:nvPr/>
        </p:nvSpPr>
        <p:spPr>
          <a:xfrm>
            <a:off x="3635280" y="3573360"/>
            <a:ext cx="25923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Извините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, скажите пожалуй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дзаголовок 8"/>
          <p:cNvSpPr/>
          <p:nvPr/>
        </p:nvSpPr>
        <p:spPr>
          <a:xfrm>
            <a:off x="5651640" y="4292640"/>
            <a:ext cx="3105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Не можете ли Вы сказ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одзаголовок 8"/>
          <p:cNvSpPr/>
          <p:nvPr/>
        </p:nvSpPr>
        <p:spPr>
          <a:xfrm>
            <a:off x="5651640" y="5950080"/>
            <a:ext cx="31050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остите, скажите, пожалуйста, который ча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6:24:58Z</dcterms:created>
  <dc:creator>лена</dc:creator>
  <dc:description/>
  <dc:language>en-US</dc:language>
  <cp:lastModifiedBy>Коля</cp:lastModifiedBy>
  <dcterms:modified xsi:type="dcterms:W3CDTF">2013-04-06T16:38:47Z</dcterms:modified>
  <cp:revision>25</cp:revision>
  <dc:subject/>
  <dc:title>Формирование речевого этикета  у младших школьников  на занятиях ГПД</dc:title>
</cp:coreProperties>
</file>