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021-BA21-48FE-A7FC-E20718904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2E0F-E77F-44A2-9DB8-BD16AA203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047-0FA2-4F1C-A69B-128D2B0784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C98-B980-438C-B07B-BC99FAB434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DC1E-41E0-4951-B004-E7EA67476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273-F1F1-4DDA-8699-995D3C4393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CA2-A24A-4247-BB87-15EF49F54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AA1F-EBA9-4E0C-A1BE-BCB4B30738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736E-9828-418D-AF5E-0BE0359A9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3CD-857C-4D05-81B5-BA34E348F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CCB-5FEE-4918-A395-26053B4261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FAB-B284-4DA1-8DB1-74070890F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B83-74A2-49B2-87B0-F7077D243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2A58-A1EC-49D5-A083-928478B52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5F1E-E6C9-4000-AD63-F5BC617C1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8202-9CE4-44CD-9B59-248D80D4A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12F-7A99-4A6E-8C68-0DA3B71B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380-4825-449E-A01E-9C8F12C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481-83D6-4D3E-9914-2F5685FD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BA0-77AA-48E0-AD07-E56EE87A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5D3-E850-471A-A19F-6CAE9532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0CA-DB2D-42DD-875A-C93351E8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D90D-E612-4B75-865F-B71A3D4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C5F7-E0B3-400C-8760-636B55F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A92B-D648-4DF8-9773-E9F2F20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D99-258F-484B-9E12-71D3BBA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0A9-1C55-4F68-84AE-3E1BF38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EF5-FB1E-4436-9CEB-F331AB3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DA6-AA88-425E-B996-6FC4678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4E59-4A9E-4FD1-AEF5-CF1B167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6163-D98F-4477-8720-373F6C2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011D-8A9E-4DE4-BB21-92F99404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99E1-F78B-488C-A234-5062B33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D271-72A7-4248-A67B-1D081A77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0B1A-E175-4011-AB58-630CE76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63FD-330E-4266-B049-461FFD4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381C-61F8-4084-B593-A81F94A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1D8B-4615-45CE-9A09-800878D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7E7-84DF-476F-8039-2365290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2C15-8DAA-45C1-8AE1-710D173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1270-58FD-4855-A37A-8038C9D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0592-FC79-476A-9EE0-17997FE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6021-F901-4E82-86DE-B8F727C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EF53-23AF-47C7-BAEA-8964514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6431-53AD-4A66-AF5C-3FE7BC90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481A-E039-4727-A31B-4681A2F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3168-6C73-4231-924C-2DDACCDB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2037-B58F-4FC8-9CF3-4EB5099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557E-0BFC-411F-8F5E-4D8307A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776-8F64-4F47-A8F5-4167F5C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1B2B-1576-483F-B8AD-BB3E7B3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58C1-B6C6-44A0-9FD6-2EEC7F0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EA65-51CD-4689-A99A-84D2404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26F2-9CEF-467F-ACC2-CBCD38C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1DC7-A339-4961-887B-6AB9151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8385-9B13-4A14-8F38-E6886DE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5604-A6F8-4CDD-A42B-27794F8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A511-7D8F-4D50-8B2A-4A4C5256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F0CA-BDF7-46AE-A8EA-E959C4C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39BA-30D7-4CAE-BABB-C86A46A3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1CC-2B8F-405F-B099-E7978F7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C209-4E2B-4313-B583-5CF7906E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7C5A-3245-406D-ABFE-6356307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2538-15D8-436C-826D-34D73B7C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E44E-2E1C-47EF-94BE-6FD3368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130E-936E-4B54-A11B-68A3A3D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EB86-6EA5-4130-BB33-486C6DE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6D95-314F-4168-8FD5-F11099E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1EA4-F4CE-4791-B968-5E4FFF3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216F-367B-4D1D-8FFA-FC20C25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0147-889A-495B-89BF-FF365D99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927-4945-4E78-B463-A7DB6B6E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E645-BFC3-40A6-820D-3BBA08FD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392-2500-415F-954F-A500DC8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B91-801C-46AC-9E9E-6BDEA53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0EF-B3C6-4B0C-BDE2-353EC61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7D8-F5EE-45A4-BDA9-8DE03083E20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315-B159-4230-A9A3-1BE25E67F8F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5D5-F6E0-4374-B8F6-F469A29519A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991-84D9-40FF-9631-63A937A70D8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CB9-6F97-4844-BB59-D1008FD0855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365640" y="530280"/>
            <a:ext cx="5187960" cy="315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72" name="Подзаголовок 5"/>
          <p:cNvSpPr/>
          <p:nvPr/>
        </p:nvSpPr>
        <p:spPr>
          <a:xfrm>
            <a:off x="3419640" y="2276640"/>
            <a:ext cx="489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2. До свидания, приходите в г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88000" y="3141720"/>
            <a:ext cx="2376720" cy="53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сего хорошего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одзаголовок 8"/>
          <p:cNvSpPr/>
          <p:nvPr/>
        </p:nvSpPr>
        <p:spPr>
          <a:xfrm>
            <a:off x="6084720" y="4653000"/>
            <a:ext cx="2448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ходите ча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одзаголовок 8"/>
          <p:cNvSpPr/>
          <p:nvPr/>
        </p:nvSpPr>
        <p:spPr>
          <a:xfrm>
            <a:off x="4859280" y="5877000"/>
            <a:ext cx="3673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о свидания. До новых встр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одзаголовок 8"/>
          <p:cNvSpPr/>
          <p:nvPr/>
        </p:nvSpPr>
        <p:spPr>
          <a:xfrm>
            <a:off x="3132000" y="5157720"/>
            <a:ext cx="3240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ы для нас желанный г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дзаголовок 8"/>
          <p:cNvSpPr/>
          <p:nvPr/>
        </p:nvSpPr>
        <p:spPr>
          <a:xfrm>
            <a:off x="3203640" y="2997360"/>
            <a:ext cx="259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Всего Вам доброго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одзаголовок 8"/>
          <p:cNvSpPr/>
          <p:nvPr/>
        </p:nvSpPr>
        <p:spPr>
          <a:xfrm>
            <a:off x="3708360" y="3789360"/>
            <a:ext cx="41036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ды были познаком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80" name="Подзаголовок 2"/>
          <p:cNvSpPr/>
          <p:nvPr/>
        </p:nvSpPr>
        <p:spPr>
          <a:xfrm>
            <a:off x="3419640" y="3357720"/>
            <a:ext cx="5114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дзаголовок 5"/>
          <p:cNvSpPr/>
          <p:nvPr/>
        </p:nvSpPr>
        <p:spPr>
          <a:xfrm>
            <a:off x="3492360" y="2492280"/>
            <a:ext cx="4896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3. Навестить больн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дзаголовок 8"/>
          <p:cNvSpPr/>
          <p:nvPr/>
        </p:nvSpPr>
        <p:spPr>
          <a:xfrm>
            <a:off x="4356000" y="2997360"/>
            <a:ext cx="1737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Запомни!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одзаголовок 8"/>
          <p:cNvSpPr/>
          <p:nvPr/>
        </p:nvSpPr>
        <p:spPr>
          <a:xfrm>
            <a:off x="3492360" y="3645000"/>
            <a:ext cx="446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ольному человеку нельзя говорить о том, что он похудел, побледнел, изменился, о том, что болезнь мешает ему бегать, вес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старайся отвлечь больного, и тогда он выздоровеет быст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85" name="Подзаголовок 2"/>
          <p:cNvSpPr/>
          <p:nvPr/>
        </p:nvSpPr>
        <p:spPr>
          <a:xfrm>
            <a:off x="3419640" y="2852640"/>
            <a:ext cx="5114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4. В транспор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дзаголовок 8"/>
          <p:cNvSpPr/>
          <p:nvPr/>
        </p:nvSpPr>
        <p:spPr>
          <a:xfrm>
            <a:off x="3203640" y="2708280"/>
            <a:ext cx="511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туация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Мальчик, если тебе не трудно, уступи,   пожалуйста,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Садитесь, пожалуй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, маль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Пожалуй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дзаголовок 8"/>
          <p:cNvSpPr/>
          <p:nvPr/>
        </p:nvSpPr>
        <p:spPr>
          <a:xfrm>
            <a:off x="3276720" y="4724280"/>
            <a:ext cx="511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туация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Передайте, пожалуйста, деньги за про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90" name="Подзаголовок 2"/>
          <p:cNvSpPr/>
          <p:nvPr/>
        </p:nvSpPr>
        <p:spPr>
          <a:xfrm>
            <a:off x="3419640" y="2852640"/>
            <a:ext cx="5114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5. В библиоте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дзаголовок 8"/>
          <p:cNvSpPr/>
          <p:nvPr/>
        </p:nvSpPr>
        <p:spPr>
          <a:xfrm>
            <a:off x="3203640" y="2708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чтите на вывеске фамилию, имя , отчество библиотек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дзаголовок 8"/>
          <p:cNvSpPr/>
          <p:nvPr/>
        </p:nvSpPr>
        <p:spPr>
          <a:xfrm>
            <a:off x="3132000" y="3500280"/>
            <a:ext cx="511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, Анна Ивановна. Запишите, пожалуйста, меня в библиотеку. Меня зовут Иван, фамилия моя М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……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Большое спасибо за книги. До свидания, Анна Иванов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95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о телеф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забудь! Разговор по телефону должен быть вежливым, ясным, четким и корот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дзаголовок 8"/>
          <p:cNvSpPr/>
          <p:nvPr/>
        </p:nvSpPr>
        <p:spPr>
          <a:xfrm>
            <a:off x="2987640" y="4797360"/>
            <a:ext cx="540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Алло! Антон, это ты? Здравствуй. Это говорит Юра. Я хочу пригласить тебя на день рождения. Приходи, пожалуйста, завтра в 3 часа дня. Буду жд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, что позвонил, спасибо за приглашение. Обязательно пр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одзаголовок 8"/>
          <p:cNvSpPr/>
          <p:nvPr/>
        </p:nvSpPr>
        <p:spPr>
          <a:xfrm>
            <a:off x="2987640" y="3357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. Это говорит Аня. Можно попросить к телефону Ле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дзаголовок 8"/>
          <p:cNvSpPr/>
          <p:nvPr/>
        </p:nvSpPr>
        <p:spPr>
          <a:xfrm>
            <a:off x="5148360" y="4076640"/>
            <a:ext cx="39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. Это говорит Аня. Можно попросить к телефону Ле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3333600" y="328680"/>
            <a:ext cx="5170680" cy="1512720"/>
          </a:xfrm>
          <a:prstGeom prst="rect">
            <a:avLst/>
          </a:prstGeom>
          <a:ln w="0">
            <a:noFill/>
          </a:ln>
        </p:spPr>
      </p:pic>
      <p:sp>
        <p:nvSpPr>
          <p:cNvPr id="300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Схема 10" descr=""/>
          <p:cNvPicPr/>
          <p:nvPr/>
        </p:nvPicPr>
        <p:blipFill>
          <a:blip r:embed="rId2"/>
          <a:stretch/>
        </p:blipFill>
        <p:spPr>
          <a:xfrm>
            <a:off x="3870360" y="2004840"/>
            <a:ext cx="44258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348000" y="2637000"/>
            <a:ext cx="511488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2. Развитие отношений с окружающ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3348000" y="2060640"/>
            <a:ext cx="5114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1. Развитие харак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3348000" y="3213000"/>
            <a:ext cx="511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3. Войти без страха в мир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34" name="Подзаголовок 2"/>
          <p:cNvSpPr/>
          <p:nvPr/>
        </p:nvSpPr>
        <p:spPr>
          <a:xfrm>
            <a:off x="3348000" y="2060640"/>
            <a:ext cx="5114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азработка и апробация системы методов и форм, направленной на формирование речевого этикета у младших 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37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09920" y="42926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Умение выбирать языковые средства, уместные в конкретной ситу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одзаголовок 5"/>
          <p:cNvSpPr/>
          <p:nvPr/>
        </p:nvSpPr>
        <p:spPr>
          <a:xfrm>
            <a:off x="3419640" y="3193920"/>
            <a:ext cx="4897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оспитание внимательного, вдумчивого отношения к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дзаголовок 5"/>
          <p:cNvSpPr/>
          <p:nvPr/>
        </p:nvSpPr>
        <p:spPr>
          <a:xfrm>
            <a:off x="3429000" y="1925640"/>
            <a:ext cx="51134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богащение речи мл. школьников теми языковыми средствами, которые необходимы в повседневном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42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157640" y="3141720"/>
            <a:ext cx="51148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целос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одзаголовок 5"/>
          <p:cNvSpPr/>
          <p:nvPr/>
        </p:nvSpPr>
        <p:spPr>
          <a:xfrm>
            <a:off x="4175280" y="256536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исте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дзаголовок 5"/>
          <p:cNvSpPr/>
          <p:nvPr/>
        </p:nvSpPr>
        <p:spPr>
          <a:xfrm>
            <a:off x="4157640" y="1935000"/>
            <a:ext cx="5114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47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дзаголовок 5"/>
          <p:cNvSpPr/>
          <p:nvPr/>
        </p:nvSpPr>
        <p:spPr>
          <a:xfrm>
            <a:off x="3348000" y="2349360"/>
            <a:ext cx="5114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бенок, умеющий говорить и слушать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51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дзаголовок 5"/>
          <p:cNvSpPr/>
          <p:nvPr/>
        </p:nvSpPr>
        <p:spPr>
          <a:xfrm>
            <a:off x="6372360" y="1989000"/>
            <a:ext cx="252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хема 13" descr=""/>
          <p:cNvPicPr/>
          <p:nvPr/>
        </p:nvPicPr>
        <p:blipFill>
          <a:blip r:embed="rId2"/>
          <a:stretch/>
        </p:blipFill>
        <p:spPr>
          <a:xfrm>
            <a:off x="2779560" y="1536840"/>
            <a:ext cx="5967720" cy="2565360"/>
          </a:xfrm>
          <a:prstGeom prst="rect">
            <a:avLst/>
          </a:prstGeom>
          <a:ln w="0">
            <a:noFill/>
          </a:ln>
        </p:spPr>
      </p:pic>
      <p:pic>
        <p:nvPicPr>
          <p:cNvPr id="254" name="Схема 15" descr=""/>
          <p:cNvPicPr/>
          <p:nvPr/>
        </p:nvPicPr>
        <p:blipFill>
          <a:blip r:embed="rId3"/>
          <a:stretch/>
        </p:blipFill>
        <p:spPr>
          <a:xfrm>
            <a:off x="4102200" y="4273560"/>
            <a:ext cx="4870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56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дзаголовок 5"/>
          <p:cNvSpPr/>
          <p:nvPr/>
        </p:nvSpPr>
        <p:spPr>
          <a:xfrm>
            <a:off x="3419640" y="3193920"/>
            <a:ext cx="48974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. Говорящему ученику рекомендуется строить речь таким образом, чтобы не нанести ущерб слушающему, отдавая предпочтение выслушиванию собеседника перед своей речью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дзаголовок 5"/>
          <p:cNvSpPr/>
          <p:nvPr/>
        </p:nvSpPr>
        <p:spPr>
          <a:xfrm>
            <a:off x="3429000" y="1925640"/>
            <a:ext cx="51134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1. Если к учащемуся обращена речь, то ему рекомендовано оставить свой труд и выслушать реч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60" name="Подзаголовок 2"/>
          <p:cNvSpPr/>
          <p:nvPr/>
        </p:nvSpPr>
        <p:spPr>
          <a:xfrm>
            <a:off x="3419640" y="3357720"/>
            <a:ext cx="5114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1. Простите. Извините. Разреш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Призывы к нашей доброте и любезности, просьбы простить за беспокойств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659640" y="3715920"/>
            <a:ext cx="1738080" cy="53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жалуйс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одзаголовок 8"/>
          <p:cNvSpPr/>
          <p:nvPr/>
        </p:nvSpPr>
        <p:spPr>
          <a:xfrm>
            <a:off x="3635280" y="4292640"/>
            <a:ext cx="1378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удь д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одзаголовок 8"/>
          <p:cNvSpPr/>
          <p:nvPr/>
        </p:nvSpPr>
        <p:spPr>
          <a:xfrm>
            <a:off x="6875640" y="4797360"/>
            <a:ext cx="19540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зреши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дзаголовок 8"/>
          <p:cNvSpPr/>
          <p:nvPr/>
        </p:nvSpPr>
        <p:spPr>
          <a:xfrm>
            <a:off x="4859280" y="4869000"/>
            <a:ext cx="1738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зволь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дзаголовок 8"/>
          <p:cNvSpPr/>
          <p:nvPr/>
        </p:nvSpPr>
        <p:spPr>
          <a:xfrm>
            <a:off x="6516720" y="5300640"/>
            <a:ext cx="1952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чень про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дзаголовок 8"/>
          <p:cNvSpPr/>
          <p:nvPr/>
        </p:nvSpPr>
        <p:spPr>
          <a:xfrm>
            <a:off x="3203640" y="5373720"/>
            <a:ext cx="2673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сли можно, дай мне, пожалуй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дзаголовок 8"/>
          <p:cNvSpPr/>
          <p:nvPr/>
        </p:nvSpPr>
        <p:spPr>
          <a:xfrm>
            <a:off x="3635280" y="3573360"/>
            <a:ext cx="2592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звините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, скажите пожалуй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дзаголовок 8"/>
          <p:cNvSpPr/>
          <p:nvPr/>
        </p:nvSpPr>
        <p:spPr>
          <a:xfrm>
            <a:off x="5651640" y="4292640"/>
            <a:ext cx="3105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Не можете ли Вы ска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дзаголовок 8"/>
          <p:cNvSpPr/>
          <p:nvPr/>
        </p:nvSpPr>
        <p:spPr>
          <a:xfrm>
            <a:off x="5651640" y="5950080"/>
            <a:ext cx="3105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стите, скажите, пожалуйста, который 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24:58Z</dcterms:created>
  <dc:creator>лена</dc:creator>
  <dc:description/>
  <dc:language>en-US</dc:language>
  <cp:lastModifiedBy>Коля</cp:lastModifiedBy>
  <dcterms:modified xsi:type="dcterms:W3CDTF">2013-04-06T16:38:47Z</dcterms:modified>
  <cp:revision>25</cp:revision>
  <dc:subject/>
  <dc:title>Формирование речевого этикета  у младших школьников  на занятиях ГПД</dc:title>
</cp:coreProperties>
</file>