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286-A56C-4488-9040-62F4968C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414-9469-454D-9257-2E53A002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A91-F92F-435D-94E5-1BEC265D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BC1-7A9B-4E68-9FD2-ADAA00CD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3906-9C16-4BA6-B693-B4071E3B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F192-EF1E-49FF-941F-05AC541C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DCAF-3D61-4747-84B0-78B0D988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CC08-867C-4A8B-B7A5-C8242562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3279-6EE3-4416-91F4-A156AF18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2E6A-E565-4767-9921-1B346EC9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3B33-7B2F-49A2-AFE6-8A7495C8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8F5-DA3D-46A0-8A63-ECD41718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04EE-710B-477B-874B-51FA916C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1703-4F28-411A-9330-BF6A4544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A895-D053-4C9F-8C4B-9E4A02B6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3159-F4E1-4421-BF1E-E139898B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3037-D1AC-43A1-9DAC-477712F3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C5472-83DE-46B3-868D-2CAEA9F8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8814F-E60F-418D-9064-E359CFE4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CD7E6-D2ED-4416-B8F1-A0F40C33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17C16-EC4C-459A-8F64-9B61E688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0CD64-373A-4BBC-9AF5-E341AE23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C32-3A27-4A44-88D9-16806622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E44EB-D84D-4EC0-832B-18E33F45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84A56-C339-4ABA-85E5-E05B36FF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D9780-0836-434F-A75B-241283CA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09B2E-9BD5-42FA-8821-A7D9E723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7A24E-A66A-47A0-A458-3C72D604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BEC09-FADE-4D57-9A63-22859328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84C21-F50B-4004-A256-9A6456C5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6ABBF-0896-441E-825C-656F9534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03EF3-9986-473C-B8C5-91F891DD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29F86-B10A-4190-847A-4E700680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8FA-CE9E-4931-9044-C6452A67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ACF32-8036-4B75-9233-51B07756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BC419-C4DB-4343-8CA3-AA1B7A11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A1579-8F10-4DE7-9B75-C3AD973B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FA25-6B96-42F0-8CA4-84D002F3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BD1F-AAC7-47CE-80B6-134185B5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BAC1C-B55C-4D9F-93A8-A43C81E0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6C46-9C29-4AE7-A304-03C29FFC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94B47-17BB-454D-94B0-D4D726C2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FA48D-D3A7-4DF1-9766-1F28E895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5E3F83-1E10-453B-8849-2F8DE76E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CF1-D2A6-4519-8B25-D25AD667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63889-56F5-49AE-A0F1-452BB6E6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07FC9-DD23-468F-B96C-282B8F5B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56723-EF37-4C71-94EA-5EAB16A7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4BC2B-B544-4D15-9A43-8569DA4E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20639-DC0A-4A4D-BC67-DD5C096D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A628E-C64E-473E-8B16-2C592A52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1CC45A-B12D-4AFD-88A5-AAF3CB8C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7EB95-401A-416C-8B40-8D7964BC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943557-E284-4E29-B63A-7B7F6A2F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FE891-D93F-4D59-9439-3C181B36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05B-12D4-41E8-A65B-00B12CBF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2EBD2-2285-426A-9C80-5D3FED70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11EC7-F7DE-47BC-A288-BA184BDF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9A7CE-3C72-4571-8570-1AAACFCA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46BC7-3B43-46EA-933A-DDAFFFE2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B6FFB-DB60-4F95-A9C2-65C1427A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ECA684-A1C6-475B-8357-8E1E9094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25575B-7D27-407E-8757-37E6556C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7E80F-495C-4197-B96B-32709C0E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1913D-7E20-46AF-8428-C3174B3B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5D4014-A40A-4732-B1E5-0A6A2560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917-4014-422E-9E5E-05124D31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5D68D-ADD1-4CAE-9CCD-B38E499B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B35D2A-441F-415D-8BAD-2AF80E5A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6C6A14-E6EE-40C0-B974-D95C2572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8413A-151F-444A-A057-32C19061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DC3E5D-5F09-43EC-AD7A-7E975852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B1223B-FFAB-4FBA-872B-52BB7552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E1E2E-D179-4F45-BA15-F1A2F3D5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3D310D-ACC1-4352-AB1A-84A2E83B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E3F39-AE01-44B1-8B25-B6E30E95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1169D-D556-47F1-8A1C-FF41F3B2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9E8-866B-4EE5-AD8F-E6211030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BA49E5-8692-4649-A9F5-37FBA53D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DD921-0E5D-445B-A94B-7F40FC52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5E2E5-71A9-41BB-94F0-7717AA4D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92BEB-1A0F-4689-8B25-0B84882D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F5455A-C8F9-431B-A8ED-626C9286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DD1-7BF9-469E-AD10-5659901A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E127-087B-4280-A9CE-2B254FA4E9CC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ACE6-C465-403A-AFD4-775893B061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5D7F-6D58-465A-A46B-E4C49620E18A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DD8A-BE7B-47E8-BD34-9E7B556078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43D2-F4C7-489B-A60E-22ACA200419E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BE07-C19F-4C76-BD7B-95BC840237A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5DAF-D49A-4960-B123-C79C95C93771}" type="datetime"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F931-076E-4663-9653-3F56C54297C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3675-2946-4F41-B9FE-379A514E3290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00E7-474E-4684-9289-27F2A6ECC2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732B-A041-478B-AE33-63AA8435CEF1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1BF3-189D-4039-84E2-3245E25BF9F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BFCD-9DCC-49D5-BF20-CA18BB4BE40C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2A7C-8DF1-458D-8F68-778A7B47519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71360" y="2571840"/>
            <a:ext cx="71960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8637"/>
                </a:solidFill>
                <a:latin typeface="Century Schoolbook"/>
              </a:rPr>
              <a:t>«СОЦИАЛЬНЫЙ КОНТРОЛЬ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НИЕ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ветьте на вопрос 1(письменно),2,3 (устно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олните практикум 1,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e8637"/>
                </a:solidFill>
                <a:latin typeface="Century Schoolbook"/>
              </a:rPr>
              <a:t>ДЕВИАНТ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8115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виантность - характеристика поведения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совпадающего с социальными нормами и ценностями, принятыми в обществе; 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рассматриваемого большей частью членов общества как предосудительное и недопустимо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ат.Deviatio – отклон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2c16"/>
                </a:solidFill>
                <a:latin typeface="Century Schoolbook"/>
              </a:rPr>
              <a:t>Виды девиантного поведе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ступность, алкоголизм, наркомания, суицид и т.д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6211800" y="-6480"/>
            <a:ext cx="2451240" cy="1847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2"/>
          <a:stretch/>
        </p:blipFill>
        <p:spPr>
          <a:xfrm>
            <a:off x="420840" y="5114880"/>
            <a:ext cx="2584440" cy="17496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"/>
          <p:cNvPicPr/>
          <p:nvPr/>
        </p:nvPicPr>
        <p:blipFill>
          <a:blip r:embed="rId3"/>
          <a:stretch/>
        </p:blipFill>
        <p:spPr>
          <a:xfrm>
            <a:off x="2992320" y="5138640"/>
            <a:ext cx="2732040" cy="1725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"/>
          <p:cNvPicPr/>
          <p:nvPr/>
        </p:nvPicPr>
        <p:blipFill>
          <a:blip r:embed="rId4"/>
          <a:stretch/>
        </p:blipFill>
        <p:spPr>
          <a:xfrm>
            <a:off x="5711760" y="5145120"/>
            <a:ext cx="25113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НИЕ НА ДО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готовить презентацию (сообщение) о </a:t>
            </a:r>
            <a:r>
              <a:rPr b="1" lang="ru-RU" sz="2400" spc="-1" strike="noStrike">
                <a:solidFill>
                  <a:srgbClr val="b32c16"/>
                </a:solidFill>
                <a:latin typeface="Century Schoolbook"/>
              </a:rPr>
              <a:t>девиантном поведении подростк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формировать представление об особенности социального контроля, увидеть значимость норм и санкций для поддержания общественного поряд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57120" y="4214880"/>
            <a:ext cx="3133800" cy="2351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2"/>
          <a:stretch/>
        </p:blipFill>
        <p:spPr>
          <a:xfrm>
            <a:off x="3357720" y="4357800"/>
            <a:ext cx="2214360" cy="2214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3"/>
          <a:stretch/>
        </p:blipFill>
        <p:spPr>
          <a:xfrm>
            <a:off x="5715000" y="4357800"/>
            <a:ext cx="3071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e8637"/>
                </a:solidFill>
                <a:latin typeface="Century Schoolbook"/>
              </a:rPr>
              <a:t>СОЦИАЛЬНЫЙ КОНТРОЛЬ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214280"/>
            <a:ext cx="7467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истема методов и стратегий, с помощью которых общество направляет поведение индивидов. В обыденном смысле социальный контроль сводится к системе законов и санкций, с помощью которых индивид согласовывает свое поведение с ожиданиями ближних и собственными ожиданиями от окружающего социального мир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59" name="Прямоугольная выноска 4"/>
          <p:cNvGrpSpPr/>
          <p:nvPr/>
        </p:nvGrpSpPr>
        <p:grpSpPr>
          <a:xfrm>
            <a:off x="146160" y="4316400"/>
            <a:ext cx="8064360" cy="2522520"/>
            <a:chOff x="146160" y="4316400"/>
            <a:chExt cx="8064360" cy="2522520"/>
          </a:xfrm>
        </p:grpSpPr>
        <p:pic>
          <p:nvPicPr>
            <p:cNvPr id="360" name="Прямоугольная выноска 4" descr=""/>
            <p:cNvPicPr/>
            <p:nvPr/>
          </p:nvPicPr>
          <p:blipFill>
            <a:blip r:embed="rId1"/>
            <a:stretch/>
          </p:blipFill>
          <p:spPr>
            <a:xfrm>
              <a:off x="146160" y="4316400"/>
              <a:ext cx="806436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714240" y="4357800"/>
              <a:ext cx="74296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оциальный контроль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это особый механизм поддержания  общественного порядка, включающий в себя два главных элемента – нормы и санкции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7"/>
          <p:cNvSpPr/>
          <p:nvPr/>
        </p:nvSpPr>
        <p:spPr>
          <a:xfrm>
            <a:off x="500040" y="50004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Tahoma"/>
              </a:rPr>
              <a:t>Социальные предписания</a:t>
            </a:r>
            <a:r>
              <a:rPr b="1" lang="en-US" sz="2000" spc="-1" strike="noStrike">
                <a:solidFill>
                  <a:srgbClr val="b32c1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это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запреты или разрешения что-либо делать, обращенные к индивиду или групп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87948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285840" y="16430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Ус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1643040" y="16430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исьме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4"/>
          <p:cNvSpPr/>
          <p:nvPr/>
        </p:nvSpPr>
        <p:spPr>
          <a:xfrm>
            <a:off x="565164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4214880" y="157176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Форм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357960" y="15717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еформ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15"/>
          <p:cNvSpPr/>
          <p:nvPr/>
        </p:nvSpPr>
        <p:spPr>
          <a:xfrm>
            <a:off x="0" y="2500200"/>
            <a:ext cx="8572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Tahoma"/>
                <a:ea typeface="Tahoma"/>
              </a:rPr>
              <a:t>Социальные нормы </a:t>
            </a:r>
            <a:r>
              <a:rPr b="1" lang="ru-RU" sz="1800" spc="-1" strike="noStrike">
                <a:solidFill>
                  <a:srgbClr val="0d0d0d"/>
                </a:solidFill>
                <a:latin typeface="Tahoma"/>
                <a:ea typeface="Tahoma"/>
              </a:rPr>
              <a:t>- стандарты деятельности и правила поведения, выполнение которых ожидается от члена группы или общества и поддерживается с помощью санкций. Социальные нормы упорядочивают и регулируют социальные взаимодействи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16"/>
          <p:cNvSpPr/>
          <p:nvPr/>
        </p:nvSpPr>
        <p:spPr>
          <a:xfrm>
            <a:off x="1071720" y="407196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32c16"/>
                </a:solidFill>
                <a:latin typeface="Tahoma"/>
                <a:ea typeface="Tahoma"/>
              </a:rPr>
              <a:t>САНКЦИИ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(от лат., ед.ч. sanction - строжайшее постановление) - меры и решения, как правило имеющие окончательный характ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Прямая со стрелкой 19"/>
          <p:cNvCxnSpPr/>
          <p:nvPr/>
        </p:nvCxnSpPr>
        <p:spPr>
          <a:xfrm flipH="1">
            <a:off x="4428720" y="4714920"/>
            <a:ext cx="572400" cy="643320"/>
          </a:xfrm>
          <a:prstGeom prst="straightConnector1">
            <a:avLst/>
          </a:prstGeom>
          <a:ln w="34920">
            <a:solidFill>
              <a:srgbClr val="7598d9"/>
            </a:solidFill>
            <a:miter/>
            <a:tailEnd len="med" type="arrow" w="med"/>
          </a:ln>
        </p:spPr>
      </p:cxnSp>
      <p:cxnSp>
        <p:nvCxnSpPr>
          <p:cNvPr id="372" name="Прямая со стрелкой 21"/>
          <p:cNvCxnSpPr/>
          <p:nvPr/>
        </p:nvCxnSpPr>
        <p:spPr>
          <a:xfrm>
            <a:off x="5000760" y="4714920"/>
            <a:ext cx="357840" cy="643320"/>
          </a:xfrm>
          <a:prstGeom prst="straightConnector1">
            <a:avLst/>
          </a:prstGeom>
          <a:ln w="34920">
            <a:solidFill>
              <a:srgbClr val="7598d9"/>
            </a:solidFill>
            <a:miter/>
            <a:tailEnd len="med" type="arrow" w="med"/>
          </a:ln>
        </p:spPr>
      </p:cxnSp>
      <p:grpSp>
        <p:nvGrpSpPr>
          <p:cNvPr id="373" name="TextBox 22"/>
          <p:cNvGrpSpPr/>
          <p:nvPr/>
        </p:nvGrpSpPr>
        <p:grpSpPr>
          <a:xfrm>
            <a:off x="-109440" y="5315040"/>
            <a:ext cx="4889520" cy="1841400"/>
            <a:chOff x="-109440" y="5315040"/>
            <a:chExt cx="4889520" cy="1841400"/>
          </a:xfrm>
        </p:grpSpPr>
        <p:pic>
          <p:nvPicPr>
            <p:cNvPr id="374" name="TextBox 22" descr=""/>
            <p:cNvPicPr/>
            <p:nvPr/>
          </p:nvPicPr>
          <p:blipFill>
            <a:blip r:embed="rId1"/>
            <a:stretch/>
          </p:blipFill>
          <p:spPr>
            <a:xfrm>
              <a:off x="-109440" y="5315040"/>
              <a:ext cx="488952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0" y="5380200"/>
              <a:ext cx="4714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entury Schoolbook"/>
                </a:rPr>
                <a:t>Формализованные санкции — это такие санкции, процедура применения которых регламентируется законами, инструкциями и другими официальными документами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TextBox 27"/>
          <p:cNvGrpSpPr/>
          <p:nvPr/>
        </p:nvGrpSpPr>
        <p:grpSpPr>
          <a:xfrm>
            <a:off x="4962600" y="5297400"/>
            <a:ext cx="3821040" cy="1352520"/>
            <a:chOff x="4962600" y="5297400"/>
            <a:chExt cx="3821040" cy="1352520"/>
          </a:xfrm>
        </p:grpSpPr>
        <p:pic>
          <p:nvPicPr>
            <p:cNvPr id="377" name="TextBox 27" descr=""/>
            <p:cNvPicPr/>
            <p:nvPr/>
          </p:nvPicPr>
          <p:blipFill>
            <a:blip r:embed="rId2"/>
            <a:stretch/>
          </p:blipFill>
          <p:spPr>
            <a:xfrm>
              <a:off x="4962600" y="5297400"/>
              <a:ext cx="38210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072040" y="535788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entury Schoolbook"/>
                </a:rPr>
                <a:t>Неформализованные санкции реализуются в ходе неформального общения людей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Прямоугольная выноска 31"/>
          <p:cNvGrpSpPr/>
          <p:nvPr/>
        </p:nvGrpSpPr>
        <p:grpSpPr>
          <a:xfrm>
            <a:off x="-438120" y="3956040"/>
            <a:ext cx="9575640" cy="3498840"/>
            <a:chOff x="-438120" y="3956040"/>
            <a:chExt cx="9575640" cy="3498840"/>
          </a:xfrm>
        </p:grpSpPr>
        <p:pic>
          <p:nvPicPr>
            <p:cNvPr id="380" name="Прямоугольная выноска 31" descr=""/>
            <p:cNvPicPr/>
            <p:nvPr/>
          </p:nvPicPr>
          <p:blipFill>
            <a:blip r:embed="rId3"/>
            <a:stretch/>
          </p:blipFill>
          <p:spPr>
            <a:xfrm>
              <a:off x="-438120" y="3956040"/>
              <a:ext cx="957564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0" y="4000680"/>
              <a:ext cx="907272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Задание: дополните данную схему , используя учебный материал стр.8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(Ф+,Ф-,Н-,Н+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ЙДИТЕ В ПРИВЕДЕННОМ СПИСК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НЕФОРМАЛЬНЫЕ НЕГАТИВНЫЕ САНКЦИ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НОМЕРА ЗАПИШИТЕ В ПОРЯДКЕ ВОЗРАСТАНИЯ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14200" y="1928880"/>
          <a:ext cx="8715600" cy="3071880"/>
        </p:xfrm>
        <a:graphic>
          <a:graphicData uri="http://schemas.openxmlformats.org/drawingml/2006/table">
            <a:tbl>
              <a:tblPr/>
              <a:tblGrid>
                <a:gridCol w="8715600"/>
              </a:tblGrid>
              <a:tr h="307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йк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лодис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ме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гов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и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ыб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500040" y="5786280"/>
          <a:ext cx="8072640" cy="579600"/>
        </p:xfrm>
        <a:graphic>
          <a:graphicData uri="http://schemas.openxmlformats.org/drawingml/2006/table">
            <a:tbl>
              <a:tblPr/>
              <a:tblGrid>
                <a:gridCol w="8072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c3036"/>
                          </a:solidFill>
                          <a:latin typeface="Times New Roman"/>
                          <a:ea typeface="Times New Roman"/>
                        </a:rPr>
                        <a:t>Ответ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c1e8"/>
                    </a:solidFill>
                  </a:tcPr>
                </a:tc>
              </a:tr>
            </a:tbl>
          </a:graphicData>
        </a:graphic>
      </p:graphicFrame>
      <p:pic>
        <p:nvPicPr>
          <p:cNvPr id="385" name="Прямоугольник 4" descr=""/>
          <p:cNvPicPr/>
          <p:nvPr/>
        </p:nvPicPr>
        <p:blipFill>
          <a:blip r:embed="rId1"/>
          <a:stretch/>
        </p:blipFill>
        <p:spPr>
          <a:xfrm>
            <a:off x="1719360" y="5559480"/>
            <a:ext cx="1036440" cy="93348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5" descr=""/>
          <p:cNvPicPr/>
          <p:nvPr/>
        </p:nvPicPr>
        <p:blipFill>
          <a:blip r:embed="rId2"/>
          <a:stretch/>
        </p:blipFill>
        <p:spPr>
          <a:xfrm>
            <a:off x="2365200" y="5559480"/>
            <a:ext cx="1036800" cy="93348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7"/>
          <p:cNvSpPr/>
          <p:nvPr/>
        </p:nvSpPr>
        <p:spPr>
          <a:xfrm>
            <a:off x="3857760" y="5715000"/>
            <a:ext cx="183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СТАНОВИТЕ СООТВЕТСТВИЕ МЕЖДУ  ТИПАМИ СОЦИАЛЬНЫХ САНКЦИЙ И ИХ ПРИМЕРАМИ : К КАЖДОЙ ПОЗИЦИИ, ДАННОЙ В ПЕРВОМ СТОЛБЦЕ, ПОДБЕРИТЕ СООТВЕТСТВУЮЩУЮ ПОЗИЦИЮ ИЗ ВТОРОГО СТОЛБЦА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Заголовок 1"/>
          <p:cNvSpPr/>
          <p:nvPr/>
        </p:nvSpPr>
        <p:spPr>
          <a:xfrm>
            <a:off x="0" y="5000760"/>
            <a:ext cx="9144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500120" y="5983200"/>
          <a:ext cx="6096240" cy="7318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571680" y="2071800"/>
          <a:ext cx="8072280" cy="3271680"/>
        </p:xfrm>
        <a:graphic>
          <a:graphicData uri="http://schemas.openxmlformats.org/drawingml/2006/table">
            <a:tbl>
              <a:tblPr/>
              <a:tblGrid>
                <a:gridCol w="4429080"/>
                <a:gridCol w="36432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МЕРЫ САНК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ИПЫ СОЦИАЛЬНЫХ САНК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</a:tr>
              <a:tr h="20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) компли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) вручение почетной грам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) лестный отзы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) государственная стипе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) присуждение ученой степ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формальные позитив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ормальные пози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92" name="Прямоугольник 5" descr=""/>
          <p:cNvPicPr/>
          <p:nvPr/>
        </p:nvPicPr>
        <p:blipFill>
          <a:blip r:embed="rId1"/>
          <a:stretch/>
        </p:blipFill>
        <p:spPr>
          <a:xfrm>
            <a:off x="1749600" y="6083280"/>
            <a:ext cx="853920" cy="78120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6" descr=""/>
          <p:cNvPicPr/>
          <p:nvPr/>
        </p:nvPicPr>
        <p:blipFill>
          <a:blip r:embed="rId2"/>
          <a:stretch/>
        </p:blipFill>
        <p:spPr>
          <a:xfrm>
            <a:off x="2932200" y="6076800"/>
            <a:ext cx="853920" cy="78768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7" descr=""/>
          <p:cNvPicPr/>
          <p:nvPr/>
        </p:nvPicPr>
        <p:blipFill>
          <a:blip r:embed="rId3"/>
          <a:stretch/>
        </p:blipFill>
        <p:spPr>
          <a:xfrm>
            <a:off x="410832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8" descr=""/>
          <p:cNvPicPr/>
          <p:nvPr/>
        </p:nvPicPr>
        <p:blipFill>
          <a:blip r:embed="rId4"/>
          <a:stretch/>
        </p:blipFill>
        <p:spPr>
          <a:xfrm>
            <a:off x="532116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9" descr=""/>
          <p:cNvPicPr/>
          <p:nvPr/>
        </p:nvPicPr>
        <p:blipFill>
          <a:blip r:embed="rId5"/>
          <a:stretch/>
        </p:blipFill>
        <p:spPr>
          <a:xfrm>
            <a:off x="6534000" y="5999040"/>
            <a:ext cx="9525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ОВИТЕ СООТВЕТСТВИЕ МЕЖДУ  ТИПАМИ СОЦИАЛЬНЫХ САНКЦИЙ И ИХ ПРИМЕРАМИ : К КАЖДОЙ ПОЗИЦИИ, ДАННОЙ В ПЕРВОМ СТОЛБЦЕ, ПОДБЕРИТЕ СООТВЕТСТВУЮЩУЮ ПОЗИЦИЮ ИЗ ВТОРОГО СТОЛБЦ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Заголовок 1"/>
          <p:cNvSpPr/>
          <p:nvPr/>
        </p:nvSpPr>
        <p:spPr>
          <a:xfrm>
            <a:off x="0" y="5000760"/>
            <a:ext cx="9144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500120" y="5983200"/>
          <a:ext cx="6096240" cy="7318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642960" y="2071800"/>
          <a:ext cx="8072280" cy="3216240"/>
        </p:xfrm>
        <a:graphic>
          <a:graphicData uri="http://schemas.openxmlformats.org/drawingml/2006/table">
            <a:tbl>
              <a:tblPr/>
              <a:tblGrid>
                <a:gridCol w="4429080"/>
                <a:gridCol w="36432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МЕ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ИПЫ СОЦИАЛЬНЫХ САНК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</a:tr>
              <a:tr h="20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) разоблачительная ста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) клев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) уволь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) отлучение  от церк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) замеч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ормальные нег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формальные нег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01" name="Прямоугольник 5" descr=""/>
          <p:cNvPicPr/>
          <p:nvPr/>
        </p:nvPicPr>
        <p:blipFill>
          <a:blip r:embed="rId1"/>
          <a:stretch/>
        </p:blipFill>
        <p:spPr>
          <a:xfrm>
            <a:off x="1749600" y="6083280"/>
            <a:ext cx="853920" cy="78120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6" descr=""/>
          <p:cNvPicPr/>
          <p:nvPr/>
        </p:nvPicPr>
        <p:blipFill>
          <a:blip r:embed="rId2"/>
          <a:stretch/>
        </p:blipFill>
        <p:spPr>
          <a:xfrm>
            <a:off x="2932200" y="6076800"/>
            <a:ext cx="853920" cy="78768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7" descr=""/>
          <p:cNvPicPr/>
          <p:nvPr/>
        </p:nvPicPr>
        <p:blipFill>
          <a:blip r:embed="rId3"/>
          <a:stretch/>
        </p:blipFill>
        <p:spPr>
          <a:xfrm>
            <a:off x="410832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8" descr=""/>
          <p:cNvPicPr/>
          <p:nvPr/>
        </p:nvPicPr>
        <p:blipFill>
          <a:blip r:embed="rId4"/>
          <a:stretch/>
        </p:blipFill>
        <p:spPr>
          <a:xfrm>
            <a:off x="532116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405" name="Прямоугольник 9" descr=""/>
          <p:cNvPicPr/>
          <p:nvPr/>
        </p:nvPicPr>
        <p:blipFill>
          <a:blip r:embed="rId5"/>
          <a:stretch/>
        </p:blipFill>
        <p:spPr>
          <a:xfrm>
            <a:off x="6534000" y="5999040"/>
            <a:ext cx="9525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СТАНОВИТЕ СООТВЕТСТВИЕ МЕЖДУ  ПОЗИТИВНЫМИ САНКЦИЯМИ И ИХ ПРИМЕРАМИ : К КАЖДОЙ ПОЗИЦИИ, ДАННОЙ В ПЕРВОМ СТОЛБЦЕ, ПОДБЕРИТЕ СООТВЕТСТВУЮЩУЮ ПОЗИЦИЮ ИЗ ВТОРОГО СТОЛБЦ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Заголовок 1"/>
          <p:cNvSpPr/>
          <p:nvPr/>
        </p:nvSpPr>
        <p:spPr>
          <a:xfrm>
            <a:off x="0" y="5000760"/>
            <a:ext cx="9144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500120" y="5983200"/>
          <a:ext cx="6096240" cy="7318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214200" y="1571760"/>
          <a:ext cx="8572680" cy="3657600"/>
        </p:xfrm>
        <a:graphic>
          <a:graphicData uri="http://schemas.openxmlformats.org/drawingml/2006/table">
            <a:tbl>
              <a:tblPr/>
              <a:tblGrid>
                <a:gridCol w="5992920"/>
                <a:gridCol w="2579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ЗИТИВНЫЕ САНК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) гражданину присвоили звание «Заслуженный артист РФ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) заметка в газете, нашла одобрение колле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) сотрудник получил премию за свое изобрет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) исследователю присвоили ученую степень доктора на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) выступление учеников вызвало аплодис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орм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форма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10" name="Прямоугольник 5" descr=""/>
          <p:cNvPicPr/>
          <p:nvPr/>
        </p:nvPicPr>
        <p:blipFill>
          <a:blip r:embed="rId1"/>
          <a:stretch/>
        </p:blipFill>
        <p:spPr>
          <a:xfrm>
            <a:off x="1749600" y="6083280"/>
            <a:ext cx="853920" cy="781200"/>
          </a:xfrm>
          <a:prstGeom prst="rect">
            <a:avLst/>
          </a:prstGeom>
          <a:ln w="0">
            <a:noFill/>
          </a:ln>
        </p:spPr>
      </p:pic>
      <p:pic>
        <p:nvPicPr>
          <p:cNvPr id="411" name="Прямоугольник 6" descr=""/>
          <p:cNvPicPr/>
          <p:nvPr/>
        </p:nvPicPr>
        <p:blipFill>
          <a:blip r:embed="rId2"/>
          <a:stretch/>
        </p:blipFill>
        <p:spPr>
          <a:xfrm>
            <a:off x="2932200" y="6076800"/>
            <a:ext cx="853920" cy="787680"/>
          </a:xfrm>
          <a:prstGeom prst="rect">
            <a:avLst/>
          </a:prstGeom>
          <a:ln w="0">
            <a:noFill/>
          </a:ln>
        </p:spPr>
      </p:pic>
      <p:pic>
        <p:nvPicPr>
          <p:cNvPr id="412" name="Прямоугольник 7" descr=""/>
          <p:cNvPicPr/>
          <p:nvPr/>
        </p:nvPicPr>
        <p:blipFill>
          <a:blip r:embed="rId3"/>
          <a:stretch/>
        </p:blipFill>
        <p:spPr>
          <a:xfrm>
            <a:off x="410832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8" descr=""/>
          <p:cNvPicPr/>
          <p:nvPr/>
        </p:nvPicPr>
        <p:blipFill>
          <a:blip r:embed="rId4"/>
          <a:stretch/>
        </p:blipFill>
        <p:spPr>
          <a:xfrm>
            <a:off x="532116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414" name="Прямоугольник 9" descr=""/>
          <p:cNvPicPr/>
          <p:nvPr/>
        </p:nvPicPr>
        <p:blipFill>
          <a:blip r:embed="rId5"/>
          <a:stretch/>
        </p:blipFill>
        <p:spPr>
          <a:xfrm>
            <a:off x="6534000" y="5999040"/>
            <a:ext cx="9525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57120" y="22824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ИМЕНЕНИЕ СОЦИАЛЬНЫХ САНКЦИЙ В ОДНИХ СЛУЧАЯХ ТРЕБУЕТ ПРИСУТСТВИЯ ПОСТОРОННИХ ЛИЦ, А В ДРУГИХ НЕТ. В ЗАВИСИМОСТИ ОТ ЭТОГО ВЫДЕЛЯЮТ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ДВА ВИДА СОЦИАЛЬНОГО КОНТРОЛЯ:</a:t>
            </a:r>
            <a:r>
              <a:rPr b="1" lang="ru-RU" sz="2000" spc="-1" strike="noStrike">
                <a:solidFill>
                  <a:srgbClr val="cc9b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416" name="TextBox 9"/>
          <p:cNvGrpSpPr/>
          <p:nvPr/>
        </p:nvGrpSpPr>
        <p:grpSpPr>
          <a:xfrm>
            <a:off x="317520" y="1517760"/>
            <a:ext cx="4741920" cy="1488600"/>
            <a:chOff x="317520" y="1517760"/>
            <a:chExt cx="4741920" cy="1488600"/>
          </a:xfrm>
        </p:grpSpPr>
        <p:pic>
          <p:nvPicPr>
            <p:cNvPr id="417" name="TextBox 9" descr=""/>
            <p:cNvPicPr/>
            <p:nvPr/>
          </p:nvPicPr>
          <p:blipFill>
            <a:blip r:embed="rId1"/>
            <a:stretch/>
          </p:blipFill>
          <p:spPr>
            <a:xfrm>
              <a:off x="317520" y="1517760"/>
              <a:ext cx="474192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428760" y="1571760"/>
              <a:ext cx="450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b32c16"/>
                  </a:solidFill>
                  <a:uFillTx/>
                  <a:latin typeface="Tahoma"/>
                </a:rPr>
                <a:t>ВНЕШ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Совокупность институтов и механизмов, гарантирующих соблюдение общепринятых норм и законов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TextBox 10"/>
          <p:cNvGrpSpPr/>
          <p:nvPr/>
        </p:nvGrpSpPr>
        <p:grpSpPr>
          <a:xfrm>
            <a:off x="5310360" y="1504800"/>
            <a:ext cx="3589200" cy="5649480"/>
            <a:chOff x="5310360" y="1504800"/>
            <a:chExt cx="3589200" cy="5649480"/>
          </a:xfrm>
        </p:grpSpPr>
        <p:pic>
          <p:nvPicPr>
            <p:cNvPr id="420" name="TextBox 10" descr=""/>
            <p:cNvPicPr/>
            <p:nvPr/>
          </p:nvPicPr>
          <p:blipFill>
            <a:blip r:embed="rId2"/>
            <a:stretch/>
          </p:blipFill>
          <p:spPr>
            <a:xfrm>
              <a:off x="5310360" y="1504800"/>
              <a:ext cx="3589200" cy="517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5429160" y="1571760"/>
              <a:ext cx="3286080" cy="55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b32c16"/>
                  </a:solidFill>
                  <a:uFillTx/>
                  <a:latin typeface="Tahoma"/>
                  <a:ea typeface="Tahoma"/>
                </a:rPr>
                <a:t>ВНУТРЕННИЙ</a:t>
              </a:r>
              <a:r>
                <a:rPr b="0" lang="ru-RU" sz="2000" spc="-1" strike="noStrike">
                  <a:solidFill>
                    <a:srgbClr val="b32c16"/>
                  </a:solidFill>
                  <a:latin typeface="Tahoma"/>
                  <a:ea typeface="Tahoma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(Самоконтроль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Индивид сам контролирует свое поведение, согласовывая его с общепринятыми нормами. Если он совершит поступок против норм – у него возникает чувство вины – муки совести. Совесть – проявление внутреннего контроля. Чем выше внутренний контроль, тем меньше общество прибегает к внешним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2" name="Прямая со стрелкой 15"/>
          <p:cNvCxnSpPr/>
          <p:nvPr/>
        </p:nvCxnSpPr>
        <p:spPr>
          <a:xfrm flipH="1">
            <a:off x="356760" y="2999160"/>
            <a:ext cx="1858320" cy="7153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23" name="Прямая со стрелкой 17"/>
          <p:cNvCxnSpPr/>
          <p:nvPr/>
        </p:nvCxnSpPr>
        <p:spPr>
          <a:xfrm flipH="1">
            <a:off x="2142360" y="2999880"/>
            <a:ext cx="1080" cy="7153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24" name="Прямая со стрелкой 19"/>
          <p:cNvCxnSpPr/>
          <p:nvPr/>
        </p:nvCxnSpPr>
        <p:spPr>
          <a:xfrm>
            <a:off x="2142720" y="3000240"/>
            <a:ext cx="1786680" cy="6433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425" name="TextBox 20"/>
          <p:cNvSpPr/>
          <p:nvPr/>
        </p:nvSpPr>
        <p:spPr>
          <a:xfrm>
            <a:off x="0" y="3714840"/>
            <a:ext cx="1571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Форма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Через общественные институт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суд, СМИ,</a:t>
            </a:r>
            <a:r>
              <a:rPr b="0" lang="ru-RU" sz="16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бразовани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Box 21"/>
          <p:cNvSpPr/>
          <p:nvPr/>
        </p:nvSpPr>
        <p:spPr>
          <a:xfrm>
            <a:off x="1500120" y="3714840"/>
            <a:ext cx="1928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еформ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обрение или осуждение со стороны родственников и друз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Box 24"/>
          <p:cNvSpPr/>
          <p:nvPr/>
        </p:nvSpPr>
        <p:spPr>
          <a:xfrm>
            <a:off x="3286080" y="3714840"/>
            <a:ext cx="185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бщественное мн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вокупность оценок, суждений здравого смысла, разделяемых большинством населения или его часть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3:20:24Z</dcterms:created>
  <dc:creator>USER</dc:creator>
  <dc:description/>
  <dc:language>en-US</dc:language>
  <cp:lastModifiedBy>COMP</cp:lastModifiedBy>
  <dcterms:modified xsi:type="dcterms:W3CDTF">2011-10-11T15:31:17Z</dcterms:modified>
  <cp:revision>55</cp:revision>
  <dc:subject/>
  <dc:title>Социальный контроль и отклоняющее поведение.</dc:title>
</cp:coreProperties>
</file>