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4BAA-269A-4976-9B0E-67863884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0E9-8190-4F41-BF25-8EAD1BE2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28A-66BF-4564-BA6E-4D1FAB62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5C4-29E8-4A24-BF0C-7A4D6290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4FB2-B87F-402B-AB38-6C7AFDF3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7861-8EFC-44F6-B220-8784BBB5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8537-0F51-40C6-8792-14F5617F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6C69-2B91-4771-B47C-446AEADA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0FE9-5C4A-4C35-B7F2-C0C8C79A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6942-45A2-4488-9E20-DEE40D43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7036-04AF-46A4-9982-C222AAB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610-A649-4225-B0BD-BE3B6AF5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46D2-110D-4E7F-B691-51FC213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9CDC-08DD-49CF-8A2E-35A9F652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82A4-9755-4F58-BC90-8B4A6574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521A-D5F3-4EF4-90BD-00A579E0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5AA6-18D4-4026-9572-2E7177F9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E2DDA-074A-4FED-92DA-2E6597D3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6DDBF-8818-4490-B745-72B80BFF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1D137-611C-411E-88DD-9F4D0E68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3D4C5-5058-47F9-B4F6-33739677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5C89C-85B7-47FE-AE8C-98DB6FEA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C89-E847-4533-884C-F8703537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46374-45F8-449E-98FA-B8268327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620ED-7911-44E6-A08E-D70F11F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DB583-18AB-4394-A4A9-31F23EF0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A8BF3-FD26-429C-B76F-4E8C7FD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5F9B7-F605-47EB-8696-1D7E9BC6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8F332-DB11-4FF9-A856-785FF5B3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D2802-36D6-4835-A4FF-510784F6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AD8DF-2D3D-42C4-8CAC-A5CB416F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D2AF7-E240-4812-87E8-5A31AE80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A43D4-241A-4983-A5F6-4B5563B8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3B2-1691-420B-BD67-504BFCA5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A820-46FA-45B6-9D13-E732E213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657A-6966-4A2A-967D-E4BCF435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BF08E-9FE8-4FB6-ABA8-963EFA7D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F9108-48C6-4E3B-B548-D3F0DC2C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F70B1-2340-45B6-8DBE-72CF4B26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C0B55-F6C7-4AA8-A32F-1CC4962C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5167E-A7AE-4737-BDBA-D91E827E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82F4-D82B-46C7-90DF-FF12BD02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5FAEE-22F0-4E2D-917B-219BB8F4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D9EBE3-37CA-49A0-93F5-4F06EDDF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A3B-0F1F-4D9C-AF6E-634A443C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0EB33-D428-4339-AFB3-58DB0820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C3CBB-9A6E-4A74-9C45-0CD1C483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61B1C-13CC-444A-A0D2-81E0073A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37A0E-E5E5-4FD1-B0A6-BE7B6165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E1958-7040-4E4A-819F-5E0A991A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1F129-7145-47E9-B38E-A8EC9BF1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B80B8-7793-4DE1-9C38-12D3A94E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73D9B-80FE-4212-9146-A517C886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DBFFE-83E5-4197-8E6C-0961DA0F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F46C4-FE49-40DD-AC5E-9F88DB48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EDB-0219-4513-BB21-0D41A6AB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5A63D-A8B0-445D-9F1B-1C7FF1D5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52E50-5C3C-4C4B-8EA8-076DE57B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9201E-6D8C-4B20-A15E-20CD5AF3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A4372-5EB5-45B7-982F-612371E3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51AE3-FAE6-48F5-8CE4-36A1A538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05744-5AB3-4F0F-A9D5-E0E12D45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6B590-18D5-4EB4-B70F-BB995470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67792-C91B-4DEF-9325-5331705C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D02A50-5977-40C6-8B4F-0C6F88E7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9DD53-903B-4613-A5C8-A8E75013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1F5-07D2-43A6-8785-A079B983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31241-6C18-4852-A9E4-44FB9E87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2DC1D-D4D7-4CAF-A09E-7E9B5DAB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BD8B2-4881-4DF6-AFAA-A7AAB442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4EA541-04AC-47C8-833E-44992F82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D33E23-7207-4CB9-8B38-CD04AFE0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A91FE-89FC-40F7-B9B7-85070D22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3E5B3-E1DA-4E6E-A1C9-8771475D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0476B-CF74-40A1-9BEA-DFD07B19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0B971-1E61-4A6C-8052-A04A6CFE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998D8-14D9-446D-A88A-D883A49C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E5B-432F-4750-BA3C-CCDECCB3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694CD-9574-4D7F-B108-EEB47807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4FF81-F181-43C2-AC4A-9982F5FB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1C02C-54B1-4A47-AF13-7B2138C0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7EE52-71CF-48A5-93F2-84779672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0CDB9-D4D9-45D8-9073-4DDB592C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EAD-CB68-450F-8373-D0709EC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732B-1FBA-4FEE-8554-4C6DAF09E44B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F7F4-1438-4751-8E05-80416BB9178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9823-CB45-4633-AF51-8E209AC42C73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89DF-1E17-4021-99B5-F4CDE78810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7136-97E6-48E6-AB8D-3A2DC381A34E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C011-4073-4FFD-8401-3002DADC88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A866-D1FD-4D8B-92B3-5FC930186D51}" type="datetime"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0ECA-738E-4C43-AEFB-27DF14E333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EBE5-086D-425B-BBD4-12713A1C364E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4BF7-9EC4-498B-9966-9DA1B347F0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B3FD-4C3D-4929-A643-5FDBF09D5740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295D-80BA-4E9D-AD02-3762066B50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2D29-0F63-422D-916D-154B22BC1A8C}" type="datetime"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3BEC-2475-4671-ABDB-3F7C2F0F17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Антонина Сергеевна Матви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1360" y="2571840"/>
            <a:ext cx="71960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8637"/>
                </a:solidFill>
                <a:latin typeface="Century Schoolbook"/>
              </a:rPr>
              <a:t>«СОЦИАЛЬНЫЙ КОНТРОЛЬ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НИЕ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тьте на вопрос 1(письменно),2,3 (устно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олните практикум 1,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8637"/>
                </a:solidFill>
                <a:latin typeface="Century Schoolbook"/>
              </a:rPr>
              <a:t>ДЕВИАНТ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8115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виантность - характеристика поведения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совпадающего с социальными нормами и ценностями, принятыми в обществе; 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ассматриваемого большей частью членов общества как предосудительное и недопустимо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ат.Deviatio – отклон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32c16"/>
                </a:solidFill>
                <a:latin typeface="Century Schoolbook"/>
              </a:rPr>
              <a:t>Виды девиантного поведе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ступность, алкоголизм, наркомания, суицид и т.д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6211800" y="-6480"/>
            <a:ext cx="2451240" cy="1847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"/>
          <p:cNvPicPr/>
          <p:nvPr/>
        </p:nvPicPr>
        <p:blipFill>
          <a:blip r:embed="rId2"/>
          <a:stretch/>
        </p:blipFill>
        <p:spPr>
          <a:xfrm>
            <a:off x="420840" y="5114880"/>
            <a:ext cx="2584440" cy="17496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"/>
          <p:cNvPicPr/>
          <p:nvPr/>
        </p:nvPicPr>
        <p:blipFill>
          <a:blip r:embed="rId3"/>
          <a:stretch/>
        </p:blipFill>
        <p:spPr>
          <a:xfrm>
            <a:off x="2992320" y="5138640"/>
            <a:ext cx="2732040" cy="1725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4"/>
          <a:stretch/>
        </p:blipFill>
        <p:spPr>
          <a:xfrm>
            <a:off x="5711760" y="5145120"/>
            <a:ext cx="2511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НИЕ НА ДОМ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готовить презентацию (сообщение) о </a:t>
            </a:r>
            <a:r>
              <a:rPr b="1" lang="ru-RU" sz="2400" spc="-1" strike="noStrike">
                <a:solidFill>
                  <a:srgbClr val="b32c16"/>
                </a:solidFill>
                <a:latin typeface="Century Schoolbook"/>
              </a:rPr>
              <a:t>девиантном поведении подростк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формировать представление об особенности социального контроля, увидеть значимость норм и санкций для поддержания общественного поряд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57120" y="4214880"/>
            <a:ext cx="3133800" cy="2351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2"/>
          <a:stretch/>
        </p:blipFill>
        <p:spPr>
          <a:xfrm>
            <a:off x="3357720" y="435780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3"/>
          <a:stretch/>
        </p:blipFill>
        <p:spPr>
          <a:xfrm>
            <a:off x="5715000" y="4357800"/>
            <a:ext cx="3071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e8637"/>
                </a:solidFill>
                <a:latin typeface="Century Schoolbook"/>
              </a:rPr>
              <a:t>СОЦИАЛЬНЫЙ КОНТРОЛЬ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214280"/>
            <a:ext cx="74674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стема методов и стратегий, с помощью которых общество направляет поведение индивидов. В обыденном смысле социальный контроль сводится к системе законов и санкций, с помощью которых индивид согласовывает свое поведение с ожиданиями ближних и собственными ожиданиями от окружающего социального ми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9" name="Прямоугольная выноска 4"/>
          <p:cNvGrpSpPr/>
          <p:nvPr/>
        </p:nvGrpSpPr>
        <p:grpSpPr>
          <a:xfrm>
            <a:off x="146160" y="4316400"/>
            <a:ext cx="8064360" cy="2522520"/>
            <a:chOff x="146160" y="4316400"/>
            <a:chExt cx="8064360" cy="2522520"/>
          </a:xfrm>
        </p:grpSpPr>
        <p:pic>
          <p:nvPicPr>
            <p:cNvPr id="360" name="Прямоугольная выноска 4" descr=""/>
            <p:cNvPicPr/>
            <p:nvPr/>
          </p:nvPicPr>
          <p:blipFill>
            <a:blip r:embed="rId1"/>
            <a:stretch/>
          </p:blipFill>
          <p:spPr>
            <a:xfrm>
              <a:off x="146160" y="4316400"/>
              <a:ext cx="806436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14240" y="4357800"/>
              <a:ext cx="74296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оциальный контроль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это особый механизм поддержания  общественного порядка, включающий в себя два главных элемента – нормы и санкци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7"/>
          <p:cNvSpPr/>
          <p:nvPr/>
        </p:nvSpPr>
        <p:spPr>
          <a:xfrm>
            <a:off x="500040" y="50004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Tahoma"/>
              </a:rPr>
              <a:t>Социальные предписания</a:t>
            </a:r>
            <a:r>
              <a:rPr b="1" lang="en-US" sz="2000" spc="-1" strike="noStrike">
                <a:solidFill>
                  <a:srgbClr val="b32c1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эт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запреты или разрешения что-либо делать, обращенные к индивиду или групп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87948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285840" y="16430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Уст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1643040" y="16430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исьме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4"/>
          <p:cNvSpPr/>
          <p:nvPr/>
        </p:nvSpPr>
        <p:spPr>
          <a:xfrm>
            <a:off x="565164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4214880" y="157176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Форм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357960" y="15717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форм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0" y="2500200"/>
            <a:ext cx="8572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32c16"/>
                </a:solidFill>
                <a:latin typeface="Tahoma"/>
                <a:ea typeface="Tahoma"/>
              </a:rPr>
              <a:t>Социальные нормы </a:t>
            </a:r>
            <a:r>
              <a:rPr b="1" lang="ru-RU" sz="1800" spc="-1" strike="noStrike">
                <a:solidFill>
                  <a:srgbClr val="0d0d0d"/>
                </a:solidFill>
                <a:latin typeface="Tahoma"/>
                <a:ea typeface="Tahoma"/>
              </a:rPr>
              <a:t>- стандарты деятельности и правила поведения, выполнение которых ожидается от члена группы или общества и поддерживается с помощью санкций. Социальные нормы упорядочивают и регулируют социальные взаимодейств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16"/>
          <p:cNvSpPr/>
          <p:nvPr/>
        </p:nvSpPr>
        <p:spPr>
          <a:xfrm>
            <a:off x="1071720" y="407196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32c16"/>
                </a:solidFill>
                <a:latin typeface="Tahoma"/>
                <a:ea typeface="Tahoma"/>
              </a:rPr>
              <a:t>САНКЦИ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(от лат., ед.ч. sanction - строжайшее постановление) - меры и решения, как правило имеющие окончательный характ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Прямая со стрелкой 19"/>
          <p:cNvCxnSpPr/>
          <p:nvPr/>
        </p:nvCxnSpPr>
        <p:spPr>
          <a:xfrm flipH="1">
            <a:off x="4428720" y="4714920"/>
            <a:ext cx="572400" cy="643320"/>
          </a:xfrm>
          <a:prstGeom prst="straightConnector1">
            <a:avLst/>
          </a:prstGeom>
          <a:ln w="34920">
            <a:solidFill>
              <a:srgbClr val="7598d9"/>
            </a:solidFill>
            <a:miter/>
            <a:tailEnd len="med" type="arrow" w="med"/>
          </a:ln>
        </p:spPr>
      </p:cxnSp>
      <p:cxnSp>
        <p:nvCxnSpPr>
          <p:cNvPr id="372" name="Прямая со стрелкой 21"/>
          <p:cNvCxnSpPr/>
          <p:nvPr/>
        </p:nvCxnSpPr>
        <p:spPr>
          <a:xfrm>
            <a:off x="5000760" y="4714920"/>
            <a:ext cx="357840" cy="643320"/>
          </a:xfrm>
          <a:prstGeom prst="straightConnector1">
            <a:avLst/>
          </a:prstGeom>
          <a:ln w="34920">
            <a:solidFill>
              <a:srgbClr val="7598d9"/>
            </a:solidFill>
            <a:miter/>
            <a:tailEnd len="med" type="arrow" w="med"/>
          </a:ln>
        </p:spPr>
      </p:cxnSp>
      <p:grpSp>
        <p:nvGrpSpPr>
          <p:cNvPr id="373" name="TextBox 22"/>
          <p:cNvGrpSpPr/>
          <p:nvPr/>
        </p:nvGrpSpPr>
        <p:grpSpPr>
          <a:xfrm>
            <a:off x="-109440" y="5315040"/>
            <a:ext cx="4889520" cy="1841400"/>
            <a:chOff x="-109440" y="5315040"/>
            <a:chExt cx="4889520" cy="1841400"/>
          </a:xfrm>
        </p:grpSpPr>
        <p:pic>
          <p:nvPicPr>
            <p:cNvPr id="374" name="TextBox 22" descr=""/>
            <p:cNvPicPr/>
            <p:nvPr/>
          </p:nvPicPr>
          <p:blipFill>
            <a:blip r:embed="rId1"/>
            <a:stretch/>
          </p:blipFill>
          <p:spPr>
            <a:xfrm>
              <a:off x="-109440" y="5315040"/>
              <a:ext cx="488952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0" y="5380200"/>
              <a:ext cx="4714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entury Schoolbook"/>
                </a:rPr>
                <a:t>Формализованные санкции — это такие санкции, процедура применения которых регламентируется законами, инструкциями и другими официальными документам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TextBox 27"/>
          <p:cNvGrpSpPr/>
          <p:nvPr/>
        </p:nvGrpSpPr>
        <p:grpSpPr>
          <a:xfrm>
            <a:off x="4962600" y="5297400"/>
            <a:ext cx="3821040" cy="1352520"/>
            <a:chOff x="4962600" y="5297400"/>
            <a:chExt cx="3821040" cy="1352520"/>
          </a:xfrm>
        </p:grpSpPr>
        <p:pic>
          <p:nvPicPr>
            <p:cNvPr id="377" name="TextBox 27" descr=""/>
            <p:cNvPicPr/>
            <p:nvPr/>
          </p:nvPicPr>
          <p:blipFill>
            <a:blip r:embed="rId2"/>
            <a:stretch/>
          </p:blipFill>
          <p:spPr>
            <a:xfrm>
              <a:off x="4962600" y="5297400"/>
              <a:ext cx="38210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072040" y="535788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entury Schoolbook"/>
                </a:rPr>
                <a:t>Неформализованные санкции реализуются в ходе неформального общения людей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Прямоугольная выноска 31"/>
          <p:cNvGrpSpPr/>
          <p:nvPr/>
        </p:nvGrpSpPr>
        <p:grpSpPr>
          <a:xfrm>
            <a:off x="-438120" y="3956040"/>
            <a:ext cx="9575640" cy="3498840"/>
            <a:chOff x="-438120" y="3956040"/>
            <a:chExt cx="9575640" cy="3498840"/>
          </a:xfrm>
        </p:grpSpPr>
        <p:pic>
          <p:nvPicPr>
            <p:cNvPr id="380" name="Прямоугольная выноска 31" descr=""/>
            <p:cNvPicPr/>
            <p:nvPr/>
          </p:nvPicPr>
          <p:blipFill>
            <a:blip r:embed="rId3"/>
            <a:stretch/>
          </p:blipFill>
          <p:spPr>
            <a:xfrm>
              <a:off x="-438120" y="3956040"/>
              <a:ext cx="957564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0" y="4000680"/>
              <a:ext cx="907272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Задание: дополните данную схему , используя учебный материал стр.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(Ф+,Ф-,Н-,Н+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ЙДИТЕ В ПРИВЕДЕННОМ СПИСК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НЕФОРМАЛЬНЫЕ НЕГАТИВНЫЕ САНКЦИ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НОМЕРА ЗАПИШИТЕ В ПОРЯДКЕ ВОЗРАСТАНИЯ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14200" y="1928880"/>
          <a:ext cx="8715600" cy="307188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307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йк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лодис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ме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гов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и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14440" indent="-514440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ыбк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df6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500040" y="5786280"/>
          <a:ext cx="8072640" cy="57960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c3036"/>
                          </a:solidFill>
                          <a:latin typeface="Times New Roman"/>
                          <a:ea typeface="Times New Roman"/>
                        </a:rPr>
                        <a:t>Ответ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c1e8"/>
                    </a:solidFill>
                  </a:tcPr>
                </a:tc>
              </a:tr>
            </a:tbl>
          </a:graphicData>
        </a:graphic>
      </p:graphicFrame>
      <p:pic>
        <p:nvPicPr>
          <p:cNvPr id="385" name="Прямоугольник 4" descr=""/>
          <p:cNvPicPr/>
          <p:nvPr/>
        </p:nvPicPr>
        <p:blipFill>
          <a:blip r:embed="rId1"/>
          <a:stretch/>
        </p:blipFill>
        <p:spPr>
          <a:xfrm>
            <a:off x="1719360" y="5559480"/>
            <a:ext cx="1036440" cy="93348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5" descr=""/>
          <p:cNvPicPr/>
          <p:nvPr/>
        </p:nvPicPr>
        <p:blipFill>
          <a:blip r:embed="rId2"/>
          <a:stretch/>
        </p:blipFill>
        <p:spPr>
          <a:xfrm>
            <a:off x="2365200" y="5559480"/>
            <a:ext cx="1036800" cy="9334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7"/>
          <p:cNvSpPr/>
          <p:nvPr/>
        </p:nvSpPr>
        <p:spPr>
          <a:xfrm>
            <a:off x="3857760" y="5715000"/>
            <a:ext cx="1839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СТАНОВИТЕ СООТВЕТСТВИЕ МЕЖДУ  ТИПАМИ СОЦИАЛЬНЫХ САНКЦИЙ И ИХ ПРИМЕРАМИ : К КАЖДОЙ ПОЗИЦИИ, ДАННОЙ В ПЕРВОМ СТОЛБЦЕ, ПОДБЕРИТЕ СООТВЕТСТВУЮЩУЮ ПОЗИЦИЮ ИЗ ВТОРОГО СТОЛБЦА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Заголовок 1"/>
          <p:cNvSpPr/>
          <p:nvPr/>
        </p:nvSpPr>
        <p:spPr>
          <a:xfrm>
            <a:off x="0" y="500076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500120" y="5983200"/>
          <a:ext cx="6096240" cy="7318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571680" y="2071800"/>
          <a:ext cx="8072280" cy="3271680"/>
        </p:xfrm>
        <a:graphic>
          <a:graphicData uri="http://schemas.openxmlformats.org/drawingml/2006/table">
            <a:tbl>
              <a:tblPr/>
              <a:tblGrid>
                <a:gridCol w="4429080"/>
                <a:gridCol w="36432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МЕРЫ САН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ИПЫ СОЦИАЛЬНЫХ САН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20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компли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вручение почетной грам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лестный отзы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государственная стипе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) присуждение ученой степ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формальные позитив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рмальные пози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92" name="Прямоугольник 5" descr=""/>
          <p:cNvPicPr/>
          <p:nvPr/>
        </p:nvPicPr>
        <p:blipFill>
          <a:blip r:embed="rId1"/>
          <a:stretch/>
        </p:blipFill>
        <p:spPr>
          <a:xfrm>
            <a:off x="1749600" y="6083280"/>
            <a:ext cx="853920" cy="78120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6" descr=""/>
          <p:cNvPicPr/>
          <p:nvPr/>
        </p:nvPicPr>
        <p:blipFill>
          <a:blip r:embed="rId2"/>
          <a:stretch/>
        </p:blipFill>
        <p:spPr>
          <a:xfrm>
            <a:off x="2932200" y="6076800"/>
            <a:ext cx="853920" cy="78768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7" descr=""/>
          <p:cNvPicPr/>
          <p:nvPr/>
        </p:nvPicPr>
        <p:blipFill>
          <a:blip r:embed="rId3"/>
          <a:stretch/>
        </p:blipFill>
        <p:spPr>
          <a:xfrm>
            <a:off x="410832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8" descr=""/>
          <p:cNvPicPr/>
          <p:nvPr/>
        </p:nvPicPr>
        <p:blipFill>
          <a:blip r:embed="rId4"/>
          <a:stretch/>
        </p:blipFill>
        <p:spPr>
          <a:xfrm>
            <a:off x="532116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9" descr=""/>
          <p:cNvPicPr/>
          <p:nvPr/>
        </p:nvPicPr>
        <p:blipFill>
          <a:blip r:embed="rId5"/>
          <a:stretch/>
        </p:blipFill>
        <p:spPr>
          <a:xfrm>
            <a:off x="6534000" y="5999040"/>
            <a:ext cx="9525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ИТЕ СООТВЕТСТВИЕ МЕЖДУ  ТИПАМИ СОЦИАЛЬНЫХ САНКЦИЙ И ИХ ПРИМЕРАМИ : К КАЖДОЙ ПОЗИЦИИ, ДАННОЙ В ПЕРВОМ СТОЛБЦЕ, ПОДБЕРИТЕ СООТВЕТСТВУЮЩУЮ ПОЗИЦИЮ ИЗ ВТОРОГО СТОЛБЦ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Заголовок 1"/>
          <p:cNvSpPr/>
          <p:nvPr/>
        </p:nvSpPr>
        <p:spPr>
          <a:xfrm>
            <a:off x="0" y="500076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500120" y="5983200"/>
          <a:ext cx="6096240" cy="7318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642960" y="2071800"/>
          <a:ext cx="8072280" cy="3216240"/>
        </p:xfrm>
        <a:graphic>
          <a:graphicData uri="http://schemas.openxmlformats.org/drawingml/2006/table">
            <a:tbl>
              <a:tblPr/>
              <a:tblGrid>
                <a:gridCol w="4429080"/>
                <a:gridCol w="36432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МЕ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ИПЫ СОЦИАЛЬНЫХ САНКЦ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разоблачительная 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кле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уволь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отлучение  от церк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) замеч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рмальные нег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формальные нег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01" name="Прямоугольник 5" descr=""/>
          <p:cNvPicPr/>
          <p:nvPr/>
        </p:nvPicPr>
        <p:blipFill>
          <a:blip r:embed="rId1"/>
          <a:stretch/>
        </p:blipFill>
        <p:spPr>
          <a:xfrm>
            <a:off x="1749600" y="6083280"/>
            <a:ext cx="853920" cy="7812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6" descr=""/>
          <p:cNvPicPr/>
          <p:nvPr/>
        </p:nvPicPr>
        <p:blipFill>
          <a:blip r:embed="rId2"/>
          <a:stretch/>
        </p:blipFill>
        <p:spPr>
          <a:xfrm>
            <a:off x="2932200" y="6076800"/>
            <a:ext cx="853920" cy="78768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7" descr=""/>
          <p:cNvPicPr/>
          <p:nvPr/>
        </p:nvPicPr>
        <p:blipFill>
          <a:blip r:embed="rId3"/>
          <a:stretch/>
        </p:blipFill>
        <p:spPr>
          <a:xfrm>
            <a:off x="410832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8" descr=""/>
          <p:cNvPicPr/>
          <p:nvPr/>
        </p:nvPicPr>
        <p:blipFill>
          <a:blip r:embed="rId4"/>
          <a:stretch/>
        </p:blipFill>
        <p:spPr>
          <a:xfrm>
            <a:off x="532116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9" descr=""/>
          <p:cNvPicPr/>
          <p:nvPr/>
        </p:nvPicPr>
        <p:blipFill>
          <a:blip r:embed="rId5"/>
          <a:stretch/>
        </p:blipFill>
        <p:spPr>
          <a:xfrm>
            <a:off x="6534000" y="5999040"/>
            <a:ext cx="9525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СТАНОВИТЕ СООТВЕТСТВИЕ МЕЖДУ  ПОЗИТИВНЫМИ САНКЦИЯМИ И ИХ ПРИМЕРАМИ : К КАЖДОЙ ПОЗИЦИИ, ДАННОЙ В ПЕРВОМ СТОЛБЦЕ, ПОДБЕРИТЕ СООТВЕТСТВУЮЩУЮ ПОЗИЦИЮ ИЗ ВТОРОГО СТОЛБЦ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Заголовок 1"/>
          <p:cNvSpPr/>
          <p:nvPr/>
        </p:nvSpPr>
        <p:spPr>
          <a:xfrm>
            <a:off x="0" y="500076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500120" y="5983200"/>
          <a:ext cx="6096240" cy="7318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214200" y="1571760"/>
          <a:ext cx="8572680" cy="3657600"/>
        </p:xfrm>
        <a:graphic>
          <a:graphicData uri="http://schemas.openxmlformats.org/drawingml/2006/table">
            <a:tbl>
              <a:tblPr/>
              <a:tblGrid>
                <a:gridCol w="5992920"/>
                <a:gridCol w="2579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ЗИТИВНЫЕ САНК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5760">
                      <a:solidFill>
                        <a:srgbClr val="f5cd2d"/>
                      </a:solidFill>
                    </a:lnT>
                    <a:lnB w="12240">
                      <a:solidFill>
                        <a:srgbClr val="f5cd2d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гражданину присвоили звание «Заслуженный артист РФ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заметка в газете, нашла одобрение колл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сотрудник получил премию за свое изобрет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исследователю присвоили ученую степень доктора на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) выступление учеников вызвало аплодис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орм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формаль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5cd2d"/>
                      </a:solidFill>
                    </a:lnL>
                    <a:lnR w="5760">
                      <a:solidFill>
                        <a:srgbClr val="f5cd2d"/>
                      </a:solidFill>
                    </a:lnR>
                    <a:lnT w="12240">
                      <a:solidFill>
                        <a:srgbClr val="f5cd2d"/>
                      </a:solidFill>
                    </a:lnT>
                    <a:lnB w="5760">
                      <a:solidFill>
                        <a:srgbClr val="f5cd2d"/>
                      </a:solidFill>
                    </a:lnB>
                    <a:solidFill>
                      <a:srgbClr val="f5cd2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10" name="Прямоугольник 5" descr=""/>
          <p:cNvPicPr/>
          <p:nvPr/>
        </p:nvPicPr>
        <p:blipFill>
          <a:blip r:embed="rId1"/>
          <a:stretch/>
        </p:blipFill>
        <p:spPr>
          <a:xfrm>
            <a:off x="1749600" y="6083280"/>
            <a:ext cx="853920" cy="781200"/>
          </a:xfrm>
          <a:prstGeom prst="rect">
            <a:avLst/>
          </a:prstGeom>
          <a:ln w="0">
            <a:noFill/>
          </a:ln>
        </p:spPr>
      </p:pic>
      <p:pic>
        <p:nvPicPr>
          <p:cNvPr id="411" name="Прямоугольник 6" descr=""/>
          <p:cNvPicPr/>
          <p:nvPr/>
        </p:nvPicPr>
        <p:blipFill>
          <a:blip r:embed="rId2"/>
          <a:stretch/>
        </p:blipFill>
        <p:spPr>
          <a:xfrm>
            <a:off x="2932200" y="6076800"/>
            <a:ext cx="853920" cy="787680"/>
          </a:xfrm>
          <a:prstGeom prst="rect">
            <a:avLst/>
          </a:prstGeom>
          <a:ln w="0">
            <a:noFill/>
          </a:ln>
        </p:spPr>
      </p:pic>
      <p:pic>
        <p:nvPicPr>
          <p:cNvPr id="412" name="Прямоугольник 7" descr=""/>
          <p:cNvPicPr/>
          <p:nvPr/>
        </p:nvPicPr>
        <p:blipFill>
          <a:blip r:embed="rId3"/>
          <a:stretch/>
        </p:blipFill>
        <p:spPr>
          <a:xfrm>
            <a:off x="410832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8" descr=""/>
          <p:cNvPicPr/>
          <p:nvPr/>
        </p:nvPicPr>
        <p:blipFill>
          <a:blip r:embed="rId4"/>
          <a:stretch/>
        </p:blipFill>
        <p:spPr>
          <a:xfrm>
            <a:off x="5321160" y="5999040"/>
            <a:ext cx="951120" cy="865440"/>
          </a:xfrm>
          <a:prstGeom prst="rect">
            <a:avLst/>
          </a:prstGeom>
          <a:ln w="0">
            <a:noFill/>
          </a:ln>
        </p:spPr>
      </p:pic>
      <p:pic>
        <p:nvPicPr>
          <p:cNvPr id="414" name="Прямоугольник 9" descr=""/>
          <p:cNvPicPr/>
          <p:nvPr/>
        </p:nvPicPr>
        <p:blipFill>
          <a:blip r:embed="rId5"/>
          <a:stretch/>
        </p:blipFill>
        <p:spPr>
          <a:xfrm>
            <a:off x="6534000" y="5999040"/>
            <a:ext cx="9525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7120" y="2282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ИМЕНЕНИЕ СОЦИАЛЬНЫХ САНКЦИЙ В ОДНИХ СЛУЧАЯХ ТРЕБУЕТ ПРИСУТСТВИЯ ПОСТОРОННИХ ЛИЦ, А В ДРУГИХ НЕТ. В ЗАВИСИМОСТИ ОТ ЭТОГО ВЫДЕЛЯЮТ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ДВА ВИДА СОЦИАЛЬНОГО КОНТРОЛЯ:</a:t>
            </a:r>
            <a:r>
              <a:rPr b="1" lang="ru-RU" sz="2000" spc="-1" strike="noStrike">
                <a:solidFill>
                  <a:srgbClr val="cc9b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416" name="TextBox 9"/>
          <p:cNvGrpSpPr/>
          <p:nvPr/>
        </p:nvGrpSpPr>
        <p:grpSpPr>
          <a:xfrm>
            <a:off x="317520" y="1517760"/>
            <a:ext cx="4741920" cy="1488600"/>
            <a:chOff x="317520" y="1517760"/>
            <a:chExt cx="4741920" cy="1488600"/>
          </a:xfrm>
        </p:grpSpPr>
        <p:pic>
          <p:nvPicPr>
            <p:cNvPr id="417" name="TextBox 9" descr=""/>
            <p:cNvPicPr/>
            <p:nvPr/>
          </p:nvPicPr>
          <p:blipFill>
            <a:blip r:embed="rId1"/>
            <a:stretch/>
          </p:blipFill>
          <p:spPr>
            <a:xfrm>
              <a:off x="317520" y="1517760"/>
              <a:ext cx="47419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28760" y="1571760"/>
              <a:ext cx="450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b32c16"/>
                  </a:solidFill>
                  <a:uFillTx/>
                  <a:latin typeface="Tahoma"/>
                </a:rPr>
                <a:t>ВНЕШ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Совокупность институтов и механизмов, гарантирующих соблюдение общепринятых норм и законов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TextBox 10"/>
          <p:cNvGrpSpPr/>
          <p:nvPr/>
        </p:nvGrpSpPr>
        <p:grpSpPr>
          <a:xfrm>
            <a:off x="5310360" y="1504800"/>
            <a:ext cx="3589200" cy="5649480"/>
            <a:chOff x="5310360" y="1504800"/>
            <a:chExt cx="3589200" cy="5649480"/>
          </a:xfrm>
        </p:grpSpPr>
        <p:pic>
          <p:nvPicPr>
            <p:cNvPr id="420" name="TextBox 10" descr=""/>
            <p:cNvPicPr/>
            <p:nvPr/>
          </p:nvPicPr>
          <p:blipFill>
            <a:blip r:embed="rId2"/>
            <a:stretch/>
          </p:blipFill>
          <p:spPr>
            <a:xfrm>
              <a:off x="5310360" y="1504800"/>
              <a:ext cx="3589200" cy="517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429160" y="1571760"/>
              <a:ext cx="3286080" cy="55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b32c16"/>
                  </a:solidFill>
                  <a:uFillTx/>
                  <a:latin typeface="Tahoma"/>
                  <a:ea typeface="Tahoma"/>
                </a:rPr>
                <a:t>ВНУТРЕННИЙ</a:t>
              </a:r>
              <a:r>
                <a:rPr b="0" lang="ru-RU" sz="2000" spc="-1" strike="noStrike">
                  <a:solidFill>
                    <a:srgbClr val="b32c16"/>
                  </a:solidFill>
                  <a:latin typeface="Tahoma"/>
                  <a:ea typeface="Tahoma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(Самоконтроль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Индивид сам контролирует свое поведение, согласовывая его с общепринятыми нормами. Если он совершит поступок против норм – у него возникает чувство вины – муки совести. Совесть – проявление внутреннего контроля. Чем выше внутренний контроль, тем меньше общество прибегает к внешним</a:t>
              </a:r>
              <a:r>
                <a:rPr b="0" lang="ru-RU" sz="1600" spc="-1" strike="noStrike">
                  <a:solidFill>
                    <a:srgbClr val="000000"/>
                  </a:solidFill>
                  <a:latin typeface="Comic Sans MS"/>
                </a:rPr>
                <a:t>.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2" name="Прямая со стрелкой 15"/>
          <p:cNvCxnSpPr/>
          <p:nvPr/>
        </p:nvCxnSpPr>
        <p:spPr>
          <a:xfrm flipH="1">
            <a:off x="356760" y="2999160"/>
            <a:ext cx="1858320" cy="7153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23" name="Прямая со стрелкой 17"/>
          <p:cNvCxnSpPr/>
          <p:nvPr/>
        </p:nvCxnSpPr>
        <p:spPr>
          <a:xfrm flipH="1">
            <a:off x="2142360" y="2999880"/>
            <a:ext cx="1080" cy="7153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24" name="Прямая со стрелкой 19"/>
          <p:cNvCxnSpPr/>
          <p:nvPr/>
        </p:nvCxnSpPr>
        <p:spPr>
          <a:xfrm>
            <a:off x="2142720" y="3000240"/>
            <a:ext cx="1786680" cy="6433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25" name="TextBox 20"/>
          <p:cNvSpPr/>
          <p:nvPr/>
        </p:nvSpPr>
        <p:spPr>
          <a:xfrm>
            <a:off x="0" y="3714840"/>
            <a:ext cx="1571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Форма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Через общественные институ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суд, СМИ,</a:t>
            </a:r>
            <a:r>
              <a:rPr b="0" lang="ru-RU" sz="1600" spc="-1" strike="noStrike">
                <a:solidFill>
                  <a:srgbClr val="008000"/>
                </a:solidFill>
                <a:latin typeface="Tahoma"/>
                <a:ea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бразовани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21"/>
          <p:cNvSpPr/>
          <p:nvPr/>
        </p:nvSpPr>
        <p:spPr>
          <a:xfrm>
            <a:off x="1500120" y="3714840"/>
            <a:ext cx="192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Неформ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обрение или осуждение со стороны родственников и друз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24"/>
          <p:cNvSpPr/>
          <p:nvPr/>
        </p:nvSpPr>
        <p:spPr>
          <a:xfrm>
            <a:off x="3286080" y="3714840"/>
            <a:ext cx="18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Общественное мн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вокупность оценок, суждений здравого смысла, разделяемых большинством населения или его част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3:20:24Z</dcterms:created>
  <dc:creator>USER</dc:creator>
  <dc:description/>
  <dc:language>en-US</dc:language>
  <cp:lastModifiedBy>COMP</cp:lastModifiedBy>
  <dcterms:modified xsi:type="dcterms:W3CDTF">2011-10-11T15:31:17Z</dcterms:modified>
  <cp:revision>55</cp:revision>
  <dc:subject/>
  <dc:title>Социальный контроль и отклоняющее поведение.</dc:title>
</cp:coreProperties>
</file>