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0277-230C-4DB5-930E-61FE4F73A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0F0D-E94A-4ADA-9162-336068D5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9A9A-1DB3-4651-831C-4E5BFA9CD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1092-2F35-42EF-AA14-0F10A6198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34BF-6DEE-418A-9EC6-0550E8E2E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9BF2-6679-485F-8559-8A994E42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5368-4721-430C-8B44-D6825BF1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3A11-626A-4FA4-B84D-087C0570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67FE-9D92-40FB-89D6-B61346C3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7162-3A1B-42C7-82E3-E15E4E81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8835-3900-4CF5-8BFC-52331AE9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2D9D-CFF0-4629-8D76-E1D9AA40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17B8-41DD-49C4-938F-F2E44D6D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2801-8B83-40BD-BEAD-842DAAC1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F1DD-2409-455F-9622-554DF749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1F2C-18B3-464E-AB7E-2097A4B5F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6A5D-F542-4E76-806A-2A751069B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C0E0A6-524B-4CBB-A40A-68DEDB84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65E130-773E-4E2F-A8A2-F2A91D78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1F625A-D6B6-4D9D-BF34-897CC999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C946B2-21EE-4948-9753-681A9503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C7D9C1-C412-4BF5-8D2A-98C28540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8304-21E6-41D2-8BC7-79610838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966213-79B2-45CB-B066-9E6ED663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8E1B8E-66C9-43E7-8156-95FF33AE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B1C351-4B9B-4B63-A4F2-2F89F5A4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2279AA-83AD-41AD-893D-5E7B956C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5A790E-9A9D-48F5-B635-F898C505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68E971-B924-4B09-8BD8-E99AB6A17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2CC5ED-7C22-464F-B2E1-4F525AEE4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6F2DD-C880-4445-BEDE-DF0CAC49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03B6E-FEAC-4AD3-BBFF-4E9CC3E2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9D04F-55DD-49E7-93A6-0201640B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5896-0287-43D2-944C-9FFF7A08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A27F8-1DC5-4BFD-8110-76558046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8CD5D-94D9-4B7C-8C67-674E5CA2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538C4-54FE-49A7-863E-7E254CCE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C20D9-36AE-41E0-95AB-52E625C6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6F1E6-122F-4C27-B365-56C996F1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3D4B6-958A-47F7-AB5F-085285EB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016BF-F047-4CBC-AA79-91D3658E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685BF-2AA7-4400-98D4-99521902F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E1F3B-E70E-40B6-8401-ACD397FA9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4A710E-FAD5-4E18-9F50-E0D2EEAED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39D7-09A6-4A65-93E2-F04A7708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5224B8-53FD-4648-BCED-23525A1F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146F2D-FB7A-4990-8CA7-C4093A1A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176D43-A4A0-4846-B63C-AC59E434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B8B60F-444D-48DE-BAC3-26E2E02D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C19848-AB7F-4BCD-94C9-F74B6822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5910BC-8B58-4564-B5E4-7079192A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B2E6E3-DF1B-488A-9E7A-A851931F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C47099-3905-4393-8D38-28080A11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DDADEE-0C08-4C32-8CFD-0E08A146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BF73C5-57E4-469E-A87F-7C74D8025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C353-0C44-4096-B420-DBD1F5BE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637202-5834-4775-9715-0091BE493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55FFDE-FB7E-410C-AF3D-92C43E37B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2B297F-9FA3-42C0-9866-8F8C9A61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92FFCE-941C-4CB6-968D-C80C63AD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281E96-D709-4340-9E1B-F82FDBB6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38F560-3D6F-4300-9A17-21FCBA2B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28E38B-27CB-43CF-A87F-493341AB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4369AE-ED3A-4F93-B4DB-41211375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99DD10-7A97-41A5-9CC9-27C6296D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9CCD58-2F93-4BFF-B78F-851FA7C7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937B-46E2-4F5C-810F-F9F08C1E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0A3BEE-E08F-47FC-91A2-AB4A05D6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22E163-905D-4E44-8015-FB8854B88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558AA8-E929-45ED-8C11-A734BD50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910B13-835D-4853-AC39-314BB791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6BEA6C-5B65-4399-987C-6D5DCD17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0EFE2B-B0A6-4ACF-8241-C7D0A3B7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DB3DFF-2AB5-4A28-A3E2-382B2A7C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657636-8C90-4577-AAD1-15C92E86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65DC2B-EAB8-450A-93EA-9F76A4F2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D5C843-0953-412F-BA22-4A6DAD90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5807-357D-454C-A014-805852A0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694E87-AB4D-466E-B43F-3D355D46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E04D2E-CB68-4C8B-B5AE-FC2B152A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61F2D0-7897-40EC-AE95-FFA8F00C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5DE20F-F604-4288-AC34-5EEB7F73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51B6D4-DBE1-4F5E-8764-61A08ECD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A032-63CB-4C25-A02F-4B15CB6C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9CAE-69DF-4A24-A063-338C6C34A12D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Антонина Сергеевна Матвиенк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8EB7-DFE9-4D6B-8990-BA1287FCC26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9DB4-AE0A-4612-AB18-6B063D987AF3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Антонина Сергеевна Матвиенк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C34C-373A-40A1-B1ED-A8BCDF588F1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3370-FFD8-4C5B-8CA2-2D3422A8B099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1BF4-CEE5-4E93-9EEE-BDAE9DE93A3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Антонина Сергеевна Матвиенк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0106-CBC2-4680-A20A-C9ABFAE8359E}" type="datetime"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Антонина Сергеевна Матвиенк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71BB-E10D-48D3-91A4-30BDE5B608B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AA35-1E73-46F4-97EB-D7EA46EE08D8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D011-6346-408C-9074-EA160B8CC7B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Антонина Сергеевна Матвиенк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9FEB-EBF0-4A92-BEB1-38E4B2201E4D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1E5F-FB6C-4AE4-B6FA-7603B48CD60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Антонина Сергеевна Матвиенк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04E6-8E93-4569-93CF-E98A9CCC9D3C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F3A8-1A11-4FA0-A38E-3902C6B42B9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Антонина Сергеевна Матвиенк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6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6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71360" y="2571840"/>
            <a:ext cx="71960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8637"/>
                </a:solidFill>
                <a:latin typeface="Century Schoolbook"/>
              </a:rPr>
              <a:t>«СОЦИАЛЬНЫЙ КОНТРОЛЬ»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ЗАДАНИЕ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ветьте на вопрос 1(письменно),2,3 (устно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полните практикум 1,2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e8637"/>
                </a:solidFill>
                <a:latin typeface="Century Schoolbook"/>
              </a:rPr>
              <a:t>ДЕВИАНТНО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6840" y="1600200"/>
            <a:ext cx="8115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виантность - характеристика поведения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 совпадающего с социальными нормами и ценностями, принятыми в обществе; 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рассматриваемого большей частью членов общества как предосудительное и недопустимое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ат.Deviatio – отклоне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32c16"/>
                </a:solidFill>
                <a:latin typeface="Century Schoolbook"/>
              </a:rPr>
              <a:t>Виды девиантного поведени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еступность, алкоголизм, наркомания, суицид и т.д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2" name="Picture 3" descr=""/>
          <p:cNvPicPr/>
          <p:nvPr/>
        </p:nvPicPr>
        <p:blipFill>
          <a:blip r:embed="rId1"/>
          <a:stretch/>
        </p:blipFill>
        <p:spPr>
          <a:xfrm>
            <a:off x="6211800" y="-6480"/>
            <a:ext cx="2451240" cy="1847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"/>
          <p:cNvPicPr/>
          <p:nvPr/>
        </p:nvPicPr>
        <p:blipFill>
          <a:blip r:embed="rId2"/>
          <a:stretch/>
        </p:blipFill>
        <p:spPr>
          <a:xfrm>
            <a:off x="420840" y="5114880"/>
            <a:ext cx="2584440" cy="17496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"/>
          <p:cNvPicPr/>
          <p:nvPr/>
        </p:nvPicPr>
        <p:blipFill>
          <a:blip r:embed="rId3"/>
          <a:stretch/>
        </p:blipFill>
        <p:spPr>
          <a:xfrm>
            <a:off x="2992320" y="5138640"/>
            <a:ext cx="2732040" cy="17258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6" descr=""/>
          <p:cNvPicPr/>
          <p:nvPr/>
        </p:nvPicPr>
        <p:blipFill>
          <a:blip r:embed="rId4"/>
          <a:stretch/>
        </p:blipFill>
        <p:spPr>
          <a:xfrm>
            <a:off x="5711760" y="5145120"/>
            <a:ext cx="25113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ЗАДАНИЕ НА ДОМ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готовить презентацию (сообщение) о </a:t>
            </a:r>
            <a:r>
              <a:rPr b="1" lang="ru-RU" sz="2400" spc="-1" strike="noStrike">
                <a:solidFill>
                  <a:srgbClr val="b32c16"/>
                </a:solidFill>
                <a:latin typeface="Century Schoolbook"/>
              </a:rPr>
              <a:t>девиантном поведении подростков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ЦЕЛ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формировать представление об особенности социального контроля, увидеть значимость норм и санкций для поддержания общественного поряд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357120" y="4214880"/>
            <a:ext cx="3133800" cy="23511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"/>
          <p:cNvPicPr/>
          <p:nvPr/>
        </p:nvPicPr>
        <p:blipFill>
          <a:blip r:embed="rId2"/>
          <a:stretch/>
        </p:blipFill>
        <p:spPr>
          <a:xfrm>
            <a:off x="3357720" y="4357800"/>
            <a:ext cx="2214360" cy="22143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7" descr=""/>
          <p:cNvPicPr/>
          <p:nvPr/>
        </p:nvPicPr>
        <p:blipFill>
          <a:blip r:embed="rId3"/>
          <a:stretch/>
        </p:blipFill>
        <p:spPr>
          <a:xfrm>
            <a:off x="5715000" y="4357800"/>
            <a:ext cx="30718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972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e8637"/>
                </a:solidFill>
                <a:latin typeface="Century Schoolbook"/>
              </a:rPr>
              <a:t>СОЦИАЛЬНЫЙ КОНТРОЛЬ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214280"/>
            <a:ext cx="746748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истема методов и стратегий, с помощью которых общество направляет поведение индивидов. В обыденном смысле социальный контроль сводится к системе законов и санкций, с помощью которых индивид согласовывает свое поведение с ожиданиями ближних и собственными ожиданиями от окружающего социального мир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59" name="Прямоугольная выноска 4"/>
          <p:cNvGrpSpPr/>
          <p:nvPr/>
        </p:nvGrpSpPr>
        <p:grpSpPr>
          <a:xfrm>
            <a:off x="146160" y="4316400"/>
            <a:ext cx="8064360" cy="2522520"/>
            <a:chOff x="146160" y="4316400"/>
            <a:chExt cx="8064360" cy="2522520"/>
          </a:xfrm>
        </p:grpSpPr>
        <p:pic>
          <p:nvPicPr>
            <p:cNvPr id="360" name="Прямоугольная выноска 4" descr=""/>
            <p:cNvPicPr/>
            <p:nvPr/>
          </p:nvPicPr>
          <p:blipFill>
            <a:blip r:embed="rId1"/>
            <a:stretch/>
          </p:blipFill>
          <p:spPr>
            <a:xfrm>
              <a:off x="146160" y="4316400"/>
              <a:ext cx="806436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714240" y="4357800"/>
              <a:ext cx="742968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Социальный контроль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это особый механизм поддержания  общественного порядка, включающий в себя два главных элемента – нормы и санкции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7"/>
          <p:cNvSpPr/>
          <p:nvPr/>
        </p:nvSpPr>
        <p:spPr>
          <a:xfrm>
            <a:off x="500040" y="500040"/>
            <a:ext cx="67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32c16"/>
                </a:solidFill>
                <a:latin typeface="Tahoma"/>
              </a:rPr>
              <a:t>Социальные предписания</a:t>
            </a:r>
            <a:r>
              <a:rPr b="1" lang="en-US" sz="2000" spc="-1" strike="noStrike">
                <a:solidFill>
                  <a:srgbClr val="b32c1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это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запреты или разрешения что-либо делать, обращенные к индивиду или групп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879480" y="215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285840" y="16430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Уст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1643040" y="16430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Письмен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4"/>
          <p:cNvSpPr/>
          <p:nvPr/>
        </p:nvSpPr>
        <p:spPr>
          <a:xfrm>
            <a:off x="5651640" y="45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4214880" y="1571760"/>
            <a:ext cx="20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Форма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6357960" y="15717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Неформа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Box 15"/>
          <p:cNvSpPr/>
          <p:nvPr/>
        </p:nvSpPr>
        <p:spPr>
          <a:xfrm>
            <a:off x="0" y="2500200"/>
            <a:ext cx="8572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32c16"/>
                </a:solidFill>
                <a:latin typeface="Tahoma"/>
                <a:ea typeface="Tahoma"/>
              </a:rPr>
              <a:t>Социальные нормы </a:t>
            </a:r>
            <a:r>
              <a:rPr b="1" lang="ru-RU" sz="1800" spc="-1" strike="noStrike">
                <a:solidFill>
                  <a:srgbClr val="0d0d0d"/>
                </a:solidFill>
                <a:latin typeface="Tahoma"/>
                <a:ea typeface="Tahoma"/>
              </a:rPr>
              <a:t>- стандарты деятельности и правила поведения, выполнение которых ожидается от члена группы или общества и поддерживается с помощью санкций. Социальные нормы упорядочивают и регулируют социальные взаимодействия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Box 16"/>
          <p:cNvSpPr/>
          <p:nvPr/>
        </p:nvSpPr>
        <p:spPr>
          <a:xfrm>
            <a:off x="1071720" y="4071960"/>
            <a:ext cx="757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32c16"/>
                </a:solidFill>
                <a:latin typeface="Tahoma"/>
                <a:ea typeface="Tahoma"/>
              </a:rPr>
              <a:t>САНКЦИИ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(от лат., ед.ч. sanction - строжайшее постановление) - меры и решения, как правило имеющие окончательный характе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1" name="Прямая со стрелкой 19"/>
          <p:cNvCxnSpPr/>
          <p:nvPr/>
        </p:nvCxnSpPr>
        <p:spPr>
          <a:xfrm flipH="1">
            <a:off x="4428720" y="4714920"/>
            <a:ext cx="572400" cy="643320"/>
          </a:xfrm>
          <a:prstGeom prst="straightConnector1">
            <a:avLst/>
          </a:prstGeom>
          <a:ln w="34920">
            <a:solidFill>
              <a:srgbClr val="7598d9"/>
            </a:solidFill>
            <a:miter/>
            <a:tailEnd len="med" type="arrow" w="med"/>
          </a:ln>
        </p:spPr>
      </p:cxnSp>
      <p:cxnSp>
        <p:nvCxnSpPr>
          <p:cNvPr id="372" name="Прямая со стрелкой 21"/>
          <p:cNvCxnSpPr/>
          <p:nvPr/>
        </p:nvCxnSpPr>
        <p:spPr>
          <a:xfrm>
            <a:off x="5000760" y="4714920"/>
            <a:ext cx="357840" cy="643320"/>
          </a:xfrm>
          <a:prstGeom prst="straightConnector1">
            <a:avLst/>
          </a:prstGeom>
          <a:ln w="34920">
            <a:solidFill>
              <a:srgbClr val="7598d9"/>
            </a:solidFill>
            <a:miter/>
            <a:tailEnd len="med" type="arrow" w="med"/>
          </a:ln>
        </p:spPr>
      </p:cxnSp>
      <p:grpSp>
        <p:nvGrpSpPr>
          <p:cNvPr id="373" name="TextBox 22"/>
          <p:cNvGrpSpPr/>
          <p:nvPr/>
        </p:nvGrpSpPr>
        <p:grpSpPr>
          <a:xfrm>
            <a:off x="-109440" y="5315040"/>
            <a:ext cx="4889520" cy="1841400"/>
            <a:chOff x="-109440" y="5315040"/>
            <a:chExt cx="4889520" cy="1841400"/>
          </a:xfrm>
        </p:grpSpPr>
        <p:pic>
          <p:nvPicPr>
            <p:cNvPr id="374" name="TextBox 22" descr=""/>
            <p:cNvPicPr/>
            <p:nvPr/>
          </p:nvPicPr>
          <p:blipFill>
            <a:blip r:embed="rId1"/>
            <a:stretch/>
          </p:blipFill>
          <p:spPr>
            <a:xfrm>
              <a:off x="-109440" y="5315040"/>
              <a:ext cx="488952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0" y="5380200"/>
              <a:ext cx="47149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entury Schoolbook"/>
                </a:rPr>
                <a:t>Формализованные санкции — это такие санкции, процедура применения которых регламентируется законами, инструкциями и другими официальными документами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TextBox 27"/>
          <p:cNvGrpSpPr/>
          <p:nvPr/>
        </p:nvGrpSpPr>
        <p:grpSpPr>
          <a:xfrm>
            <a:off x="4962600" y="5297400"/>
            <a:ext cx="3821040" cy="1352520"/>
            <a:chOff x="4962600" y="5297400"/>
            <a:chExt cx="3821040" cy="1352520"/>
          </a:xfrm>
        </p:grpSpPr>
        <p:pic>
          <p:nvPicPr>
            <p:cNvPr id="377" name="TextBox 27" descr=""/>
            <p:cNvPicPr/>
            <p:nvPr/>
          </p:nvPicPr>
          <p:blipFill>
            <a:blip r:embed="rId2"/>
            <a:stretch/>
          </p:blipFill>
          <p:spPr>
            <a:xfrm>
              <a:off x="4962600" y="5297400"/>
              <a:ext cx="382104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5072040" y="5357880"/>
              <a:ext cx="36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entury Schoolbook"/>
                </a:rPr>
                <a:t>Неформализованные санкции реализуются в ходе неформального общения людей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Прямоугольная выноска 31"/>
          <p:cNvGrpSpPr/>
          <p:nvPr/>
        </p:nvGrpSpPr>
        <p:grpSpPr>
          <a:xfrm>
            <a:off x="-438120" y="3956040"/>
            <a:ext cx="9575640" cy="3498840"/>
            <a:chOff x="-438120" y="3956040"/>
            <a:chExt cx="9575640" cy="3498840"/>
          </a:xfrm>
        </p:grpSpPr>
        <p:pic>
          <p:nvPicPr>
            <p:cNvPr id="380" name="Прямоугольная выноска 31" descr=""/>
            <p:cNvPicPr/>
            <p:nvPr/>
          </p:nvPicPr>
          <p:blipFill>
            <a:blip r:embed="rId3"/>
            <a:stretch/>
          </p:blipFill>
          <p:spPr>
            <a:xfrm>
              <a:off x="-438120" y="3956040"/>
              <a:ext cx="9575640" cy="349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0" y="4000680"/>
              <a:ext cx="907272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Задание: дополните данную схему , используя учебный материал стр.8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(Ф+,Ф-,Н-,Н+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АЙДИТЕ В ПРИВЕДЕННОМ СПИСК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НЕФОРМАЛЬНЫЕ НЕГАТИВНЫЕ САНКЦИИ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. НОМЕРА ЗАПИШИТЕ В ПОРЯДКЕ ВОЗРАСТАНИЯ.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214200" y="1928880"/>
          <a:ext cx="8715600" cy="3071880"/>
        </p:xfrm>
        <a:graphic>
          <a:graphicData uri="http://schemas.openxmlformats.org/drawingml/2006/table">
            <a:tbl>
              <a:tblPr/>
              <a:tblGrid>
                <a:gridCol w="8715600"/>
              </a:tblGrid>
              <a:tr h="307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йк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14440" indent="-514440"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лодисмен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14440" indent="-514440"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меш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14440" indent="-514440"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гов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14440" indent="-514440"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имен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14440" indent="-514440"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ыб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500040" y="5786280"/>
          <a:ext cx="8072640" cy="579600"/>
        </p:xfrm>
        <a:graphic>
          <a:graphicData uri="http://schemas.openxmlformats.org/drawingml/2006/table">
            <a:tbl>
              <a:tblPr/>
              <a:tblGrid>
                <a:gridCol w="80726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c3036"/>
                          </a:solidFill>
                          <a:latin typeface="Times New Roman"/>
                          <a:ea typeface="Times New Roman"/>
                        </a:rPr>
                        <a:t>Ответ: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cc1e8"/>
                    </a:solidFill>
                  </a:tcPr>
                </a:tc>
              </a:tr>
            </a:tbl>
          </a:graphicData>
        </a:graphic>
      </p:graphicFrame>
      <p:pic>
        <p:nvPicPr>
          <p:cNvPr id="385" name="Прямоугольник 4" descr=""/>
          <p:cNvPicPr/>
          <p:nvPr/>
        </p:nvPicPr>
        <p:blipFill>
          <a:blip r:embed="rId1"/>
          <a:stretch/>
        </p:blipFill>
        <p:spPr>
          <a:xfrm>
            <a:off x="1719360" y="5559480"/>
            <a:ext cx="1036440" cy="933480"/>
          </a:xfrm>
          <a:prstGeom prst="rect">
            <a:avLst/>
          </a:prstGeom>
          <a:ln w="0">
            <a:noFill/>
          </a:ln>
        </p:spPr>
      </p:pic>
      <p:pic>
        <p:nvPicPr>
          <p:cNvPr id="386" name="Прямоугольник 5" descr=""/>
          <p:cNvPicPr/>
          <p:nvPr/>
        </p:nvPicPr>
        <p:blipFill>
          <a:blip r:embed="rId2"/>
          <a:stretch/>
        </p:blipFill>
        <p:spPr>
          <a:xfrm>
            <a:off x="2365200" y="5559480"/>
            <a:ext cx="1036800" cy="93348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7"/>
          <p:cNvSpPr/>
          <p:nvPr/>
        </p:nvSpPr>
        <p:spPr>
          <a:xfrm>
            <a:off x="3857760" y="5715000"/>
            <a:ext cx="1839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УСТАНОВИТЕ СООТВЕТСТВИЕ МЕЖДУ  ТИПАМИ СОЦИАЛЬНЫХ САНКЦИЙ И ИХ ПРИМЕРАМИ : К КАЖДОЙ ПОЗИЦИИ, ДАННОЙ В ПЕРВОМ СТОЛБЦЕ, ПОДБЕРИТЕ СООТВЕТСТВУЮЩУЮ ПОЗИЦИЮ ИЗ ВТОРОГО СТОЛБЦА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Заголовок 1"/>
          <p:cNvSpPr/>
          <p:nvPr/>
        </p:nvSpPr>
        <p:spPr>
          <a:xfrm>
            <a:off x="0" y="5000760"/>
            <a:ext cx="9144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1500120" y="5983200"/>
          <a:ext cx="6096240" cy="7318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571680" y="2071800"/>
          <a:ext cx="8072280" cy="3271680"/>
        </p:xfrm>
        <a:graphic>
          <a:graphicData uri="http://schemas.openxmlformats.org/drawingml/2006/table">
            <a:tbl>
              <a:tblPr/>
              <a:tblGrid>
                <a:gridCol w="4429080"/>
                <a:gridCol w="364320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ИМЕРЫ САНКЦ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12240">
                      <a:solidFill>
                        <a:srgbClr val="f5cd2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ТИПЫ СОЦИАЛЬНЫХ САНКЦ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12240">
                      <a:solidFill>
                        <a:srgbClr val="f5cd2d"/>
                      </a:solidFill>
                    </a:lnB>
                    <a:noFill/>
                  </a:tcPr>
                </a:tc>
              </a:tr>
              <a:tr h="20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) комплим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) вручение почетной грам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) лестный отзы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) государственная стипен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) присуждение ученой степе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1224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еформальные позитив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Формальные позитив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1224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392" name="Прямоугольник 5" descr=""/>
          <p:cNvPicPr/>
          <p:nvPr/>
        </p:nvPicPr>
        <p:blipFill>
          <a:blip r:embed="rId1"/>
          <a:stretch/>
        </p:blipFill>
        <p:spPr>
          <a:xfrm>
            <a:off x="1749600" y="6083280"/>
            <a:ext cx="853920" cy="781200"/>
          </a:xfrm>
          <a:prstGeom prst="rect">
            <a:avLst/>
          </a:prstGeom>
          <a:ln w="0">
            <a:noFill/>
          </a:ln>
        </p:spPr>
      </p:pic>
      <p:pic>
        <p:nvPicPr>
          <p:cNvPr id="393" name="Прямоугольник 6" descr=""/>
          <p:cNvPicPr/>
          <p:nvPr/>
        </p:nvPicPr>
        <p:blipFill>
          <a:blip r:embed="rId2"/>
          <a:stretch/>
        </p:blipFill>
        <p:spPr>
          <a:xfrm>
            <a:off x="2932200" y="6076800"/>
            <a:ext cx="853920" cy="787680"/>
          </a:xfrm>
          <a:prstGeom prst="rect">
            <a:avLst/>
          </a:prstGeom>
          <a:ln w="0">
            <a:noFill/>
          </a:ln>
        </p:spPr>
      </p:pic>
      <p:pic>
        <p:nvPicPr>
          <p:cNvPr id="394" name="Прямоугольник 7" descr=""/>
          <p:cNvPicPr/>
          <p:nvPr/>
        </p:nvPicPr>
        <p:blipFill>
          <a:blip r:embed="rId3"/>
          <a:stretch/>
        </p:blipFill>
        <p:spPr>
          <a:xfrm>
            <a:off x="4108320" y="5999040"/>
            <a:ext cx="951120" cy="865440"/>
          </a:xfrm>
          <a:prstGeom prst="rect">
            <a:avLst/>
          </a:prstGeom>
          <a:ln w="0">
            <a:noFill/>
          </a:ln>
        </p:spPr>
      </p:pic>
      <p:pic>
        <p:nvPicPr>
          <p:cNvPr id="395" name="Прямоугольник 8" descr=""/>
          <p:cNvPicPr/>
          <p:nvPr/>
        </p:nvPicPr>
        <p:blipFill>
          <a:blip r:embed="rId4"/>
          <a:stretch/>
        </p:blipFill>
        <p:spPr>
          <a:xfrm>
            <a:off x="5321160" y="5999040"/>
            <a:ext cx="951120" cy="865440"/>
          </a:xfrm>
          <a:prstGeom prst="rect">
            <a:avLst/>
          </a:prstGeom>
          <a:ln w="0">
            <a:noFill/>
          </a:ln>
        </p:spPr>
      </p:pic>
      <p:pic>
        <p:nvPicPr>
          <p:cNvPr id="396" name="Прямоугольник 9" descr=""/>
          <p:cNvPicPr/>
          <p:nvPr/>
        </p:nvPicPr>
        <p:blipFill>
          <a:blip r:embed="rId5"/>
          <a:stretch/>
        </p:blipFill>
        <p:spPr>
          <a:xfrm>
            <a:off x="6534000" y="5999040"/>
            <a:ext cx="95256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СТАНОВИТЕ СООТВЕТСТВИЕ МЕЖДУ  ТИПАМИ СОЦИАЛЬНЫХ САНКЦИЙ И ИХ ПРИМЕРАМИ : К КАЖДОЙ ПОЗИЦИИ, ДАННОЙ В ПЕРВОМ СТОЛБЦЕ, ПОДБЕРИТЕ СООТВЕТСТВУЮЩУЮ ПОЗИЦИЮ ИЗ ВТОРОГО СТОЛБЦА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Заголовок 1"/>
          <p:cNvSpPr/>
          <p:nvPr/>
        </p:nvSpPr>
        <p:spPr>
          <a:xfrm>
            <a:off x="0" y="5000760"/>
            <a:ext cx="9144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1500120" y="5983200"/>
          <a:ext cx="6096240" cy="7318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642960" y="2071800"/>
          <a:ext cx="8072280" cy="3216240"/>
        </p:xfrm>
        <a:graphic>
          <a:graphicData uri="http://schemas.openxmlformats.org/drawingml/2006/table">
            <a:tbl>
              <a:tblPr/>
              <a:tblGrid>
                <a:gridCol w="4429080"/>
                <a:gridCol w="364320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ИМЕР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12240">
                      <a:solidFill>
                        <a:srgbClr val="f5cd2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ТИПЫ СОЦИАЛЬНЫХ САНКЦ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12240">
                      <a:solidFill>
                        <a:srgbClr val="f5cd2d"/>
                      </a:solidFill>
                    </a:lnB>
                    <a:noFill/>
                  </a:tcPr>
                </a:tc>
              </a:tr>
              <a:tr h="20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) разоблачительная стат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) клеве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) уволь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) отлучение  от церк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) замеч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1224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Формальные негатив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еформальные негатив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1224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401" name="Прямоугольник 5" descr=""/>
          <p:cNvPicPr/>
          <p:nvPr/>
        </p:nvPicPr>
        <p:blipFill>
          <a:blip r:embed="rId1"/>
          <a:stretch/>
        </p:blipFill>
        <p:spPr>
          <a:xfrm>
            <a:off x="1749600" y="6083280"/>
            <a:ext cx="853920" cy="781200"/>
          </a:xfrm>
          <a:prstGeom prst="rect">
            <a:avLst/>
          </a:prstGeom>
          <a:ln w="0">
            <a:noFill/>
          </a:ln>
        </p:spPr>
      </p:pic>
      <p:pic>
        <p:nvPicPr>
          <p:cNvPr id="402" name="Прямоугольник 6" descr=""/>
          <p:cNvPicPr/>
          <p:nvPr/>
        </p:nvPicPr>
        <p:blipFill>
          <a:blip r:embed="rId2"/>
          <a:stretch/>
        </p:blipFill>
        <p:spPr>
          <a:xfrm>
            <a:off x="2932200" y="6076800"/>
            <a:ext cx="853920" cy="787680"/>
          </a:xfrm>
          <a:prstGeom prst="rect">
            <a:avLst/>
          </a:prstGeom>
          <a:ln w="0">
            <a:noFill/>
          </a:ln>
        </p:spPr>
      </p:pic>
      <p:pic>
        <p:nvPicPr>
          <p:cNvPr id="403" name="Прямоугольник 7" descr=""/>
          <p:cNvPicPr/>
          <p:nvPr/>
        </p:nvPicPr>
        <p:blipFill>
          <a:blip r:embed="rId3"/>
          <a:stretch/>
        </p:blipFill>
        <p:spPr>
          <a:xfrm>
            <a:off x="4108320" y="5999040"/>
            <a:ext cx="951120" cy="865440"/>
          </a:xfrm>
          <a:prstGeom prst="rect">
            <a:avLst/>
          </a:prstGeom>
          <a:ln w="0">
            <a:noFill/>
          </a:ln>
        </p:spPr>
      </p:pic>
      <p:pic>
        <p:nvPicPr>
          <p:cNvPr id="404" name="Прямоугольник 8" descr=""/>
          <p:cNvPicPr/>
          <p:nvPr/>
        </p:nvPicPr>
        <p:blipFill>
          <a:blip r:embed="rId4"/>
          <a:stretch/>
        </p:blipFill>
        <p:spPr>
          <a:xfrm>
            <a:off x="5321160" y="5999040"/>
            <a:ext cx="951120" cy="865440"/>
          </a:xfrm>
          <a:prstGeom prst="rect">
            <a:avLst/>
          </a:prstGeom>
          <a:ln w="0">
            <a:noFill/>
          </a:ln>
        </p:spPr>
      </p:pic>
      <p:pic>
        <p:nvPicPr>
          <p:cNvPr id="405" name="Прямоугольник 9" descr=""/>
          <p:cNvPicPr/>
          <p:nvPr/>
        </p:nvPicPr>
        <p:blipFill>
          <a:blip r:embed="rId5"/>
          <a:stretch/>
        </p:blipFill>
        <p:spPr>
          <a:xfrm>
            <a:off x="6534000" y="5999040"/>
            <a:ext cx="95256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УСТАНОВИТЕ СООТВЕТСТВИЕ МЕЖДУ  ПОЗИТИВНЫМИ САНКЦИЯМИ И ИХ ПРИМЕРАМИ : К КАЖДОЙ ПОЗИЦИИ, ДАННОЙ В ПЕРВОМ СТОЛБЦЕ, ПОДБЕРИТЕ СООТВЕТСТВУЮЩУЮ ПОЗИЦИЮ ИЗ ВТОРОГО СТОЛБЦА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Заголовок 1"/>
          <p:cNvSpPr/>
          <p:nvPr/>
        </p:nvSpPr>
        <p:spPr>
          <a:xfrm>
            <a:off x="0" y="5000760"/>
            <a:ext cx="9144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1500120" y="5983200"/>
          <a:ext cx="6096240" cy="7318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214200" y="1571760"/>
          <a:ext cx="8572680" cy="3657600"/>
        </p:xfrm>
        <a:graphic>
          <a:graphicData uri="http://schemas.openxmlformats.org/drawingml/2006/table">
            <a:tbl>
              <a:tblPr/>
              <a:tblGrid>
                <a:gridCol w="5992920"/>
                <a:gridCol w="25797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ИМЕ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12240">
                      <a:solidFill>
                        <a:srgbClr val="f5cd2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ЗИТИВНЫЕ САНК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12240">
                      <a:solidFill>
                        <a:srgbClr val="f5cd2d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) гражданину присвоили звание «Заслуженный артист РФ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) заметка в газете, нашла одобрение колле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) сотрудник получил премию за свое изобрет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) исследователю присвоили ученую степень доктора нау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) выступление учеников вызвало аплодисм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1224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Форм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еформаль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1224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410" name="Прямоугольник 5" descr=""/>
          <p:cNvPicPr/>
          <p:nvPr/>
        </p:nvPicPr>
        <p:blipFill>
          <a:blip r:embed="rId1"/>
          <a:stretch/>
        </p:blipFill>
        <p:spPr>
          <a:xfrm>
            <a:off x="1749600" y="6083280"/>
            <a:ext cx="853920" cy="781200"/>
          </a:xfrm>
          <a:prstGeom prst="rect">
            <a:avLst/>
          </a:prstGeom>
          <a:ln w="0">
            <a:noFill/>
          </a:ln>
        </p:spPr>
      </p:pic>
      <p:pic>
        <p:nvPicPr>
          <p:cNvPr id="411" name="Прямоугольник 6" descr=""/>
          <p:cNvPicPr/>
          <p:nvPr/>
        </p:nvPicPr>
        <p:blipFill>
          <a:blip r:embed="rId2"/>
          <a:stretch/>
        </p:blipFill>
        <p:spPr>
          <a:xfrm>
            <a:off x="2932200" y="6076800"/>
            <a:ext cx="853920" cy="787680"/>
          </a:xfrm>
          <a:prstGeom prst="rect">
            <a:avLst/>
          </a:prstGeom>
          <a:ln w="0">
            <a:noFill/>
          </a:ln>
        </p:spPr>
      </p:pic>
      <p:pic>
        <p:nvPicPr>
          <p:cNvPr id="412" name="Прямоугольник 7" descr=""/>
          <p:cNvPicPr/>
          <p:nvPr/>
        </p:nvPicPr>
        <p:blipFill>
          <a:blip r:embed="rId3"/>
          <a:stretch/>
        </p:blipFill>
        <p:spPr>
          <a:xfrm>
            <a:off x="4108320" y="5999040"/>
            <a:ext cx="951120" cy="865440"/>
          </a:xfrm>
          <a:prstGeom prst="rect">
            <a:avLst/>
          </a:prstGeom>
          <a:ln w="0">
            <a:noFill/>
          </a:ln>
        </p:spPr>
      </p:pic>
      <p:pic>
        <p:nvPicPr>
          <p:cNvPr id="413" name="Прямоугольник 8" descr=""/>
          <p:cNvPicPr/>
          <p:nvPr/>
        </p:nvPicPr>
        <p:blipFill>
          <a:blip r:embed="rId4"/>
          <a:stretch/>
        </p:blipFill>
        <p:spPr>
          <a:xfrm>
            <a:off x="5321160" y="5999040"/>
            <a:ext cx="951120" cy="865440"/>
          </a:xfrm>
          <a:prstGeom prst="rect">
            <a:avLst/>
          </a:prstGeom>
          <a:ln w="0">
            <a:noFill/>
          </a:ln>
        </p:spPr>
      </p:pic>
      <p:pic>
        <p:nvPicPr>
          <p:cNvPr id="414" name="Прямоугольник 9" descr=""/>
          <p:cNvPicPr/>
          <p:nvPr/>
        </p:nvPicPr>
        <p:blipFill>
          <a:blip r:embed="rId5"/>
          <a:stretch/>
        </p:blipFill>
        <p:spPr>
          <a:xfrm>
            <a:off x="6534000" y="5999040"/>
            <a:ext cx="95256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57120" y="22824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ПРИМЕНЕНИЕ СОЦИАЛЬНЫХ САНКЦИЙ В ОДНИХ СЛУЧАЯХ ТРЕБУЕТ ПРИСУТСТВИЯ ПОСТОРОННИХ ЛИЦ, А В ДРУГИХ НЕТ. В ЗАВИСИМОСТИ ОТ ЭТОГО ВЫДЕЛЯЮТ 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ДВА ВИДА СОЦИАЛЬНОГО КОНТРОЛЯ:</a:t>
            </a:r>
            <a:r>
              <a:rPr b="1" lang="ru-RU" sz="2000" spc="-1" strike="noStrike">
                <a:solidFill>
                  <a:srgbClr val="cc9b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grpSp>
        <p:nvGrpSpPr>
          <p:cNvPr id="416" name="TextBox 9"/>
          <p:cNvGrpSpPr/>
          <p:nvPr/>
        </p:nvGrpSpPr>
        <p:grpSpPr>
          <a:xfrm>
            <a:off x="317520" y="1517760"/>
            <a:ext cx="4741920" cy="1488600"/>
            <a:chOff x="317520" y="1517760"/>
            <a:chExt cx="4741920" cy="1488600"/>
          </a:xfrm>
        </p:grpSpPr>
        <p:pic>
          <p:nvPicPr>
            <p:cNvPr id="417" name="TextBox 9" descr=""/>
            <p:cNvPicPr/>
            <p:nvPr/>
          </p:nvPicPr>
          <p:blipFill>
            <a:blip r:embed="rId1"/>
            <a:stretch/>
          </p:blipFill>
          <p:spPr>
            <a:xfrm>
              <a:off x="317520" y="1517760"/>
              <a:ext cx="474192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428760" y="1571760"/>
              <a:ext cx="4500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b32c16"/>
                  </a:solidFill>
                  <a:uFillTx/>
                  <a:latin typeface="Tahoma"/>
                </a:rPr>
                <a:t>ВНЕШН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Совокупность институтов и механизмов, гарантирующих соблюдение общепринятых норм и законов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TextBox 10"/>
          <p:cNvGrpSpPr/>
          <p:nvPr/>
        </p:nvGrpSpPr>
        <p:grpSpPr>
          <a:xfrm>
            <a:off x="5310360" y="1504800"/>
            <a:ext cx="3589200" cy="5649480"/>
            <a:chOff x="5310360" y="1504800"/>
            <a:chExt cx="3589200" cy="5649480"/>
          </a:xfrm>
        </p:grpSpPr>
        <p:pic>
          <p:nvPicPr>
            <p:cNvPr id="420" name="TextBox 10" descr=""/>
            <p:cNvPicPr/>
            <p:nvPr/>
          </p:nvPicPr>
          <p:blipFill>
            <a:blip r:embed="rId2"/>
            <a:stretch/>
          </p:blipFill>
          <p:spPr>
            <a:xfrm>
              <a:off x="5310360" y="1504800"/>
              <a:ext cx="3589200" cy="517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5429160" y="1571760"/>
              <a:ext cx="3286080" cy="55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b32c16"/>
                  </a:solidFill>
                  <a:uFillTx/>
                  <a:latin typeface="Tahoma"/>
                  <a:ea typeface="Tahoma"/>
                </a:rPr>
                <a:t>ВНУТРЕННИЙ</a:t>
              </a:r>
              <a:r>
                <a:rPr b="0" lang="ru-RU" sz="2000" spc="-1" strike="noStrike">
                  <a:solidFill>
                    <a:srgbClr val="b32c16"/>
                  </a:solidFill>
                  <a:latin typeface="Tahoma"/>
                  <a:ea typeface="Tahoma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(Самоконтроль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Индивид сам контролирует свое поведение, согласовывая его с общепринятыми нормами. Если он совершит поступок против норм – у него возникает чувство вины – муки совести. Совесть – проявление внутреннего контроля. Чем выше внутренний контроль, тем меньше общество прибегает к внешним</a:t>
              </a: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.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22" name="Прямая со стрелкой 15"/>
          <p:cNvCxnSpPr/>
          <p:nvPr/>
        </p:nvCxnSpPr>
        <p:spPr>
          <a:xfrm flipH="1">
            <a:off x="356760" y="2999160"/>
            <a:ext cx="1858320" cy="71532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423" name="Прямая со стрелкой 17"/>
          <p:cNvCxnSpPr/>
          <p:nvPr/>
        </p:nvCxnSpPr>
        <p:spPr>
          <a:xfrm flipH="1">
            <a:off x="2142360" y="2999880"/>
            <a:ext cx="1080" cy="71532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424" name="Прямая со стрелкой 19"/>
          <p:cNvCxnSpPr/>
          <p:nvPr/>
        </p:nvCxnSpPr>
        <p:spPr>
          <a:xfrm>
            <a:off x="2142720" y="3000240"/>
            <a:ext cx="1786680" cy="64332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425" name="TextBox 20"/>
          <p:cNvSpPr/>
          <p:nvPr/>
        </p:nvSpPr>
        <p:spPr>
          <a:xfrm>
            <a:off x="0" y="3714840"/>
            <a:ext cx="1571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Формальн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Через общественные институты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суд, СМИ,</a:t>
            </a:r>
            <a:r>
              <a:rPr b="0" lang="ru-RU" sz="1600" spc="-1" strike="noStrike">
                <a:solidFill>
                  <a:srgbClr val="008000"/>
                </a:solidFill>
                <a:latin typeface="Tahoma"/>
                <a:ea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образование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Box 21"/>
          <p:cNvSpPr/>
          <p:nvPr/>
        </p:nvSpPr>
        <p:spPr>
          <a:xfrm>
            <a:off x="1500120" y="3714840"/>
            <a:ext cx="1928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Неформа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добрение или осуждение со стороны родственников и друз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Box 24"/>
          <p:cNvSpPr/>
          <p:nvPr/>
        </p:nvSpPr>
        <p:spPr>
          <a:xfrm>
            <a:off x="3286080" y="3714840"/>
            <a:ext cx="185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Общественное мн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вокупность оценок, суждений здравого смысла, разделяемых большинством населения или его частью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3:20:24Z</dcterms:created>
  <dc:creator>USER</dc:creator>
  <dc:description/>
  <dc:language>en-US</dc:language>
  <cp:lastModifiedBy>COMP</cp:lastModifiedBy>
  <dcterms:modified xsi:type="dcterms:W3CDTF">2011-10-11T15:31:17Z</dcterms:modified>
  <cp:revision>55</cp:revision>
  <dc:subject/>
  <dc:title>Социальный контроль и отклоняющее поведение.</dc:title>
</cp:coreProperties>
</file>