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F804-1AA9-4D26-A503-C6C5C332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C72-B542-4A72-B810-D2AA360D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850F-EE63-46DA-94F7-F6002B2D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138-AEB7-40CD-9EC5-5C1F6DFD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1B0A-9493-4B30-8C48-66B73BDE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BFF2-D7B5-4B87-BF47-C243E10B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348D-A35F-4714-B2D4-53690045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2073-4280-422F-80BE-5EB9232C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7F37-C83D-4AE3-941E-D812135F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F22E-FB4A-49AF-9C71-2E49A158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271A-1FF0-474F-B34A-391571E7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4BB6-7A0D-4C64-8227-F0CBC9DE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BAF3-47CC-4B7A-9819-9D4CBAB4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3177-EDE0-4194-8DCA-02F99626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19F0-DA59-491C-95F8-A1925C3F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3C00-AEC0-4659-9106-779A57A5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78A1-A67B-42FB-823B-5661701C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A198-39C4-4E56-9AAE-FC5FB8FD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0B0-DE30-411F-AA16-F873708C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E59-AAA0-46B4-92BC-E50CF285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F354-1D17-4FEF-86E3-61B063E8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9C98-7BDF-480C-B355-84862720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F51-CF32-41AD-BD7D-7052C4A8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6FE7-FA69-41CD-BBC0-FA39A9B8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12B8-F961-4A97-BBAD-4F24FAE876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DA7C-D658-45CC-BBE6-E3F44DD661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9"/>
          <p:cNvSpPr/>
          <p:nvPr/>
        </p:nvSpPr>
        <p:spPr>
          <a:xfrm>
            <a:off x="250920" y="1657440"/>
            <a:ext cx="8157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лексное изучение ручья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дки – особо охраняемой природной терри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10960" y="3645000"/>
            <a:ext cx="8158320" cy="12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cc"/>
                </a:solidFill>
                <a:latin typeface="Monotype Corsiva"/>
              </a:rPr>
              <a:t>Работа подготовлена</a:t>
            </a:r>
            <a:br>
              <a:rPr sz="3200"/>
            </a:br>
            <a:r>
              <a:rPr b="1" lang="ru-RU" sz="3200" spc="-1" strike="noStrike">
                <a:solidFill>
                  <a:srgbClr val="6666cc"/>
                </a:solidFill>
                <a:latin typeface="Monotype Corsiva"/>
              </a:rPr>
              <a:t>обучающейся </a:t>
            </a:r>
            <a:r>
              <a:rPr b="1" lang="ru-RU" sz="3200" spc="-1" strike="noStrike">
                <a:solidFill>
                  <a:srgbClr val="6666cc"/>
                </a:solidFill>
                <a:latin typeface="Arial"/>
              </a:rPr>
              <a:t>8</a:t>
            </a:r>
            <a:r>
              <a:rPr b="1" lang="ru-RU" sz="3200" spc="-1" strike="noStrike">
                <a:solidFill>
                  <a:srgbClr val="6666cc"/>
                </a:solidFill>
                <a:latin typeface="Monotype Corsiva"/>
              </a:rPr>
              <a:t> «А» класса</a:t>
            </a:r>
            <a:br>
              <a:rPr sz="3200"/>
            </a:br>
            <a:r>
              <a:rPr b="1" lang="ru-RU" sz="3200" spc="-1" strike="noStrike">
                <a:solidFill>
                  <a:srgbClr val="6666cc"/>
                </a:solidFill>
                <a:latin typeface="Monotype Corsiva"/>
              </a:rPr>
              <a:t>МБОУ «ООШ № 36» </a:t>
            </a:r>
            <a:br>
              <a:rPr sz="3200"/>
            </a:br>
            <a:r>
              <a:rPr b="1" lang="ru-RU" sz="3200" spc="-1" strike="noStrike">
                <a:solidFill>
                  <a:srgbClr val="6666cc"/>
                </a:solidFill>
                <a:latin typeface="Monotype Corsiva"/>
              </a:rPr>
              <a:t>Джахановаой Диа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6960"/>
            <a:ext cx="849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Методика определения качества вод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2551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0" lang="ru-RU" sz="3000" spc="-1" strike="noStrike">
                <a:solidFill>
                  <a:srgbClr val="333399"/>
                </a:solidFill>
                <a:latin typeface="Times New Roman"/>
              </a:rPr>
              <a:t>а) прозрачность, в данном месте -22 с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ru-RU" sz="3000" spc="-1" strike="noStrike">
                <a:solidFill>
                  <a:srgbClr val="333399"/>
                </a:solidFill>
                <a:latin typeface="Times New Roman"/>
              </a:rPr>
              <a:t>б) температура воды -1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°</a:t>
            </a:r>
            <a:r>
              <a:rPr b="0" lang="ru-RU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</a:t>
            </a:r>
            <a:r>
              <a:rPr b="0" lang="ru-RU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) цвет – зеленоват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</a:t>
            </a:r>
            <a:r>
              <a:rPr b="0" lang="ru-RU" sz="3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) запах – без запаха   </a:t>
            </a:r>
            <a:r>
              <a:rPr b="0" lang="ru-RU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2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2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320"/>
                            </p:stCondLst>
                            <p:childTnLst>
                              <p:par>
                                <p:cTn id="2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32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Химические метод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 железа.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робирку налить 10 мл воды, прибавить 1 каплю концентрированной азотной кислоты, несколько капель 5 % раствора перекиси водорода и, примерно, 0,5 мл 20 % раствора роданида калия. При содержании железа около 1 мг/л появляется розовое окрашивание раствора, а при более высоком содержании  - крас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вод: вода приобрела красный цвет, значит содержание железа высоко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Химические метод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 фенолов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енолы могут влиять на биологическую жизнь рек. В коническую колбу вносят 100 мл исследуемой пробы и затем добавляют раствор хлорной извести или хлорную воду в таком объеме, чтобы было внесено 0,05 мг активного хлора. Через 10 минут определяют, появился ли характерный для хлорфенолов "аптечный запах" при 20-и и 60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вод: раствор имеет «аптечный запах», значит присутствуют фенол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Химические метод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ислотность или рН в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ределяют с помощью индикаторных полос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ние сульфатов в водоемах может быть повышенным вследствие сброса в них сточных вод с неорганическими и органическими соединениями с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но 10 мл пробы подкисляют в пробирке несколькими каплями соляной кислоты и прибавляют около 0,5 мл 10%-го раствора хлорида бария (ВаСI2О). При содержании 5-50 мг/л сульфатов возникает слабое помутнение, при более высокой концентрации выпадает осадок сульфата бария ВаSО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вод:  вода имеет кислотную среду, т.к. в ручей попадает мазу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634920" y="1699920"/>
            <a:ext cx="46818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1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грязняют Руд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71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) ж/д уз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271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) бытовые отход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9080" y="142920"/>
            <a:ext cx="86644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Экологическое состояние руч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6b9b2cf3ca1746fcc974f619365ff49f[1]"/>
          <p:cNvPicPr/>
          <p:nvPr/>
        </p:nvPicPr>
        <p:blipFill>
          <a:blip r:embed="rId1"/>
          <a:stretch/>
        </p:blipFill>
        <p:spPr>
          <a:xfrm>
            <a:off x="539640" y="1484280"/>
            <a:ext cx="360072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3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12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3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208944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Комплексное исследование ручья в районе улицы Привокзальная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484360" y="1413000"/>
          <a:ext cx="6120000" cy="4825800"/>
        </p:xfrm>
        <a:graphic>
          <a:graphicData uri="http://schemas.openxmlformats.org/drawingml/2006/table">
            <a:tbl>
              <a:tblPr/>
              <a:tblGrid>
                <a:gridCol w="4340160"/>
                <a:gridCol w="925560"/>
                <a:gridCol w="854280"/>
              </a:tblGrid>
              <a:tr h="28728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в балл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 бал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– 0 бал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200">
                <a:tc>
                  <a:txBody>
                    <a:bodyPr lIns="90000" rIns="90000" anchor="t">
                      <a:noAutofit/>
                    </a:bodyPr>
                    <a:p>
                      <a:pPr marL="343080" indent="-1620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ое загрязнен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билие наносов на д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валки отбросов на бере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личие костри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тихийно возникшие пляж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162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162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ое загрязнен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 воды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исл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щелоч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адужные и масляные пятна на поверх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зотистые и фосфорные соединения за счет смыва удобрений и органических остатков (бурное развитие водорослей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162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ческое загрязнен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личие сине-зеленых водорослей (цветение вод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личие ряски в водое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162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62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повреждения на берегу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(вытаптывание, поломки) больше 50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околоводных птиц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т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ули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трясогуз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t">
                      <a:noAutofit/>
                    </a:bodyPr>
                    <a:p>
                      <a:pPr marL="34308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тсутствие водомерок на поверхности воды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  <p:sndAc>
      <p:stSnd>
        <p:snd r:embed="rId1" name="chimes.wav"/>
      </p:stSnd>
    </p:sndAc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560" y="1677960"/>
            <a:ext cx="757404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ывод о степени загрязнения водоема на основе следующей таблицы: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Степень загрязнения                Количество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. Очень сильная                       12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.Сильная                                   6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.Средняя                                   3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4.Слабая                                     1-2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Вывод: степень загрязнения – сильная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6913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« Если каждый человек на куске земли своей сделал бы всё, что он может, как прекрасна была бы земля наш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                                        </a:t>
            </a: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А.П.Чех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1525320"/>
            <a:ext cx="74167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. Ликвидировать свалки бытов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мус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  Запретить ж/д узлу сброс мазу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. Расчистить русло руч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4. Вывесить памятки о береж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отношении к ручью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34880" y="254160"/>
            <a:ext cx="76345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Рекомендации по охране ручь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23640" y="1844640"/>
            <a:ext cx="85690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onotype Corsiva"/>
              </a:rPr>
              <a:t>Всем на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onotype Corsiva"/>
              </a:rPr>
              <a:t>необходимо сбереч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onotype Corsiva"/>
              </a:rPr>
              <a:t>и сохранить дан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onotype Corsiva"/>
              </a:rPr>
              <a:t>государствен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onotype Corsiva"/>
              </a:rPr>
              <a:t>заказн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Цель работы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95600"/>
            <a:ext cx="619272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оведение комплексного эколого – географического исследования ручья, определение основных физических и химических свойств природной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55640" y="1668240"/>
            <a:ext cx="7840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писать исследуемый водо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   Провести гидрометрические работы, выясн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а) глубину руч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)шир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) скорость 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.   Определить качество 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а)прозра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) температу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) ц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) за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. Определение химических показателей 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а) жел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) фен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) кисло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. Выяснить экологическое состояние руч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1588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Поставленные зада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76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44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16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796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56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92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32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88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85920" y="12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Актуальность рабо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42560" y="1850760"/>
            <a:ext cx="6769080" cy="28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стоит в том, что уже длительный период, никто не занимался проблемами исследования данного водоема, а ведь Рудка является частью экосистемы реки Ос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26920" y="1989000"/>
            <a:ext cx="68407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 качестве гипотезы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ыдвинуто предположение о том, что экологическое состояние изучаемого водоема может быть улучш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41580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486240" y="1899720"/>
            <a:ext cx="505944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рассказам старожи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удка берет начало в районе ТЦ «Арба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8918d23ca4b151d9523bca857c12f6f[1]"/>
          <p:cNvPicPr/>
          <p:nvPr/>
        </p:nvPicPr>
        <p:blipFill>
          <a:blip r:embed="rId1"/>
          <a:stretch/>
        </p:blipFill>
        <p:spPr>
          <a:xfrm>
            <a:off x="324000" y="1700280"/>
            <a:ext cx="3219480" cy="4043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31640" y="1522080"/>
            <a:ext cx="63356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Затем её русло заковано в броню трубы, переходящую в бетонную короб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920cb53d188a1b60ecc1c12359984401[1]"/>
          <p:cNvPicPr/>
          <p:nvPr/>
        </p:nvPicPr>
        <p:blipFill>
          <a:blip r:embed="rId1"/>
          <a:stretch/>
        </p:blipFill>
        <p:spPr>
          <a:xfrm>
            <a:off x="1692360" y="2852640"/>
            <a:ext cx="5060880" cy="3397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654120" y="1990800"/>
            <a:ext cx="7823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1490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Методы исследования.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Описание руч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4f5f11aabeb61e5140f6406ab7c4e55b[1]"/>
          <p:cNvPicPr/>
          <p:nvPr/>
        </p:nvPicPr>
        <p:blipFill>
          <a:blip r:embed="rId1"/>
          <a:stretch/>
        </p:blipFill>
        <p:spPr>
          <a:xfrm>
            <a:off x="1476360" y="1413000"/>
            <a:ext cx="5975280" cy="475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6960"/>
            <a:ext cx="849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Методика проведения гидрометрических рабо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1280" y="1550880"/>
            <a:ext cx="792144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Исследования проводились в райо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улицы Рабоч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Ширина ручья – 26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Глубина у правого берега – 18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у левого берега  -  12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осередине -   22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Скорость течения - 0,3 м/с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Вывод: ручей неглубокий, течение медленное, спокой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2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2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8:13Z</dcterms:created>
  <dc:creator>Zaitseva Irina</dc:creator>
  <dc:description/>
  <dc:language>en-US</dc:language>
  <cp:lastModifiedBy>121</cp:lastModifiedBy>
  <dcterms:modified xsi:type="dcterms:W3CDTF">2013-03-22T14:46:54Z</dcterms:modified>
  <cp:revision>33</cp:revision>
  <dc:subject/>
  <dc:title>Платоновы тела, 10 класс</dc:title>
</cp:coreProperties>
</file>