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47F-02D7-419F-9BA5-E79618EB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207-FEF7-40BD-BABB-02E817F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DE9-9849-4BAD-BD9B-B960F893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700-5391-4C2B-87D2-5EB71A82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B79-D3E6-4BEF-BD62-170C185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9C6-DB0C-4D72-BD80-85418FD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F63-A014-4F8A-AD14-F53DC9F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711-941B-498D-8447-DDC7A52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3117-E28F-4B04-9E94-31379D6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2F5E-CFDF-42F7-9698-17D87EE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A9BC-95A9-461A-BD58-DDFC538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F3F-07B5-4111-9E81-5D3E8AF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0603-BB02-4723-BA56-66E2CE7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E016-C1BB-4539-BD4F-F2658DE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112F-3574-43AE-BC51-94E6C766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9C7-27EA-4B88-99C2-80884E91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FBA-3AD6-420A-9EC0-86B540E7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982-3063-4691-8969-CA25B10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109-81E4-46F4-A1DD-6986448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B0E-734F-4F48-8A7C-EF36AD7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3C6-0969-445E-84DE-21BC28A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856-4464-4B39-AA92-647C330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F96-B941-499D-8F89-D3416906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928-1349-4B38-8416-A3508FF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ADA1-66F8-4BF2-B4CD-9A3982443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20A-42CF-4D31-99DE-F7DC02AD5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250920" y="1657440"/>
            <a:ext cx="81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изучение ручь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дки – особо охраняемой природ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10960" y="3645000"/>
            <a:ext cx="8158320" cy="12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Работа подготовлен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обучающейся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 «А» класс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МБОУ «ООШ № 36» 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Джахановаой Ди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определения качества 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55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а) прозрачность, в данном месте -2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б) температура воды -1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цвет – зеленоват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) запах – без запаха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железа.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бирку налить 10 мл воды, прибавить 1 каплю концентрированной азотной кислоты, несколько капель 5 % раствора перекиси водорода и, примерно, 0,5 мл 20 % раствора роданида калия. При содержании железа около 1 мг/л появляется розовое окрашивание раствора, а при более высоком содержании  - кра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вод: вода приобрела красный цвет, значит содержание железа высок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ен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енолы могут влиять на биологическую жизнь рек. В коническую колбу вносят 100 мл исследуемой пробы и затем добавляют раствор хлорной извести или хлорную воду в таком объеме, чтобы было внесено 0,05 мг активного хлора. Через 10 минут определяют, появился ли характерный для хлорфенолов "аптечный запах" при 20-и и 60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раствор имеет «аптечный запах», значит присутствуют фен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слотность или рН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ют с помощью индикаторных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сульфатов в водоемах может быть повышенным вследствие сброса в них сточных вод с неорганическими и органическими соединениями с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10 мл пробы подкисляют в пробирке несколькими каплями соляной кислоты и прибавляют около 0,5 мл 10%-го раствора хлорида бария (ВаСI2О). При содержании 5-50 мг/л сульфатов возникает слабое помутнение, при более высокой концентрации выпадает осадок сульфата бария ВаSО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 вода имеет кислотную среду, т.к. в ручей попадает мазу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634920" y="1699920"/>
            <a:ext cx="4681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грязняют Ру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ж/д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бытовые отх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Экологическое состояние руч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6b9b2cf3ca1746fcc974f619365ff49f[1]"/>
          <p:cNvPicPr/>
          <p:nvPr/>
        </p:nvPicPr>
        <p:blipFill>
          <a:blip r:embed="rId1"/>
          <a:stretch/>
        </p:blipFill>
        <p:spPr>
          <a:xfrm>
            <a:off x="539640" y="148428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2089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омплексное исследование ручья в районе улицы Привокзальна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84360" y="1413000"/>
          <a:ext cx="6120000" cy="4825800"/>
        </p:xfrm>
        <a:graphic>
          <a:graphicData uri="http://schemas.openxmlformats.org/drawingml/2006/table">
            <a:tbl>
              <a:tblPr/>
              <a:tblGrid>
                <a:gridCol w="4340160"/>
                <a:gridCol w="925560"/>
                <a:gridCol w="854280"/>
              </a:tblGrid>
              <a:tr h="2872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балл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– 0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илие наносов на д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валки отбросов на бере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костри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ихийно возникшие пляж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вод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сл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щело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дужные и масляные пятна на поверх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зотистые и фосфорные соединения за счет смыва удобрений и органических остатков (бурное развитие водорослей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ине-зеленых водорослей (цветение вод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ряски в водое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повреждения на берегу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вытаптывание, поломки) больше 5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коловодных птиц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у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рясогуз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сутствие водомерок на поверхности вод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  <p:sndAc>
      <p:stSnd>
        <p:snd r:embed="rId1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67796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ывод о степени загрязнения водоема на основе следующей таблицы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Степень загрязнения               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Очень сильная                       12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Сильная                                   6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Средняя                                   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Слабая                                     1-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ывод: степень загрязнения – сильная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6913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« Если каждый человек на куске земли своей сделал бы всё, что он может, как прекрасна была бы земля наш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А.П.Че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525320"/>
            <a:ext cx="7416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 Ликвидировать свалки быт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му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 Запретить ж/д узлу сброс маз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 Расчистить русло руч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 Вывесить памятки о бере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отношении к ручь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34880" y="254160"/>
            <a:ext cx="7634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Рекомендации по охране руч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Всем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необходимо сбереч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и сохранить да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государстве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заказ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Цель работ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95600"/>
            <a:ext cx="619272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ведение комплексного эколого – географического исследования ручья, определение основных физических и химических свойств природн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640" y="1668240"/>
            <a:ext cx="784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писать исследуемый вод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  Провести гидрометрические работы, выясн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глубину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ши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скорость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  Определить качество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прозра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темп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) 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Определение химических показателей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фен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кисло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Выяснить экологическое состояние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оставленные зада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9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88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Актуальность раб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1850760"/>
            <a:ext cx="6769080" cy="28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оит в том, что уже длительный период, никто не занимался проблемами исследования данного водоема, а ведь Рудка является частью экосистемы реки Ос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26920" y="1989000"/>
            <a:ext cx="684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качестве гипотез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ыдвинуто предположение о том, что экологическое состояние изучаемого водоема может быть улуч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86240" y="1899720"/>
            <a:ext cx="50594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рассказам старож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удка берет начало в районе ТЦ «Арба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8918d23ca4b151d9523bca857c12f6f[1]"/>
          <p:cNvPicPr/>
          <p:nvPr/>
        </p:nvPicPr>
        <p:blipFill>
          <a:blip r:embed="rId1"/>
          <a:stretch/>
        </p:blipFill>
        <p:spPr>
          <a:xfrm>
            <a:off x="324000" y="1700280"/>
            <a:ext cx="3219480" cy="404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522080"/>
            <a:ext cx="63356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атем её русло заковано в броню трубы, переходящую в бетон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920cb53d188a1b60ecc1c12359984401[1]"/>
          <p:cNvPicPr/>
          <p:nvPr/>
        </p:nvPicPr>
        <p:blipFill>
          <a:blip r:embed="rId1"/>
          <a:stretch/>
        </p:blipFill>
        <p:spPr>
          <a:xfrm>
            <a:off x="1692360" y="2852640"/>
            <a:ext cx="506088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54120" y="199080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490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ы исследования.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Описание руч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4f5f11aabeb61e5140f6406ab7c4e55b[1]"/>
          <p:cNvPicPr/>
          <p:nvPr/>
        </p:nvPicPr>
        <p:blipFill>
          <a:blip r:embed="rId1"/>
          <a:stretch/>
        </p:blipFill>
        <p:spPr>
          <a:xfrm>
            <a:off x="1476360" y="1413000"/>
            <a:ext cx="59752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проведения гидрометрических раб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550880"/>
            <a:ext cx="792144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сследования проводились в рай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лицы Рабо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Ширина ручья – 26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лубина у правого берега – 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 левого берега  -  1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середине -   22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корость течения - 0,3 м/с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вод: ручей неглубокий, течение медленное, спокой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8:13Z</dcterms:created>
  <dc:creator>Zaitseva Irina</dc:creator>
  <dc:description/>
  <dc:language>en-US</dc:language>
  <cp:lastModifiedBy>121</cp:lastModifiedBy>
  <dcterms:modified xsi:type="dcterms:W3CDTF">2013-03-22T14:46:54Z</dcterms:modified>
  <cp:revision>33</cp:revision>
  <dc:subject/>
  <dc:title>Платоновы тела, 10 класс</dc:title>
</cp:coreProperties>
</file>