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42E-9B04-439B-BDC8-C805BF1B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8BE-C5A4-4FA8-A8D6-56814B7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49F-0402-4DE8-AAF6-2EE26E93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094-163C-494A-B4C5-208E2B15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DC90-B8F2-445F-A9C5-E9C1B309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7822-A86B-4336-92E0-730009A2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31F1-7B17-4AB0-9AED-808EC9CC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3DBC-EFCC-4421-BE56-F14B15EC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3118-CA81-49ED-A7CC-A9A87365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E86F-204D-445A-8A3D-990BD04C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001A-03A4-4DE8-9F11-7F2110AE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26D-50FC-45DE-9550-55FEC746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1260-6719-4ACA-9D3A-0F67438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156E-EE75-4F5B-AADB-79FE3AC5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D736-5DAA-4655-A819-7172C4D0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C47E-7032-49BC-9F0F-BA743177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EAA3-53A7-4815-A595-629DD212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6F3-DCB9-4795-A0C0-534E58AD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551-8584-41EB-B578-2F306F17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66F-7D55-4414-9D0C-B723AD3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169-5963-4B18-B42D-A0037D38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730-081A-4189-B507-5053B38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505-BC6B-49A4-9EE9-220F366E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5BD-CEE7-4CF0-92A7-F96E6968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AB1A-6CBC-4492-8C00-46B1E2C1D7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F539-52B5-4CA3-B380-68B8F4A25C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Tahoma"/>
              </a:rPr>
              <a:t>Лекция на тему:</a:t>
            </a:r>
            <a:r>
              <a:rPr b="0" lang="en-US" sz="4400" spc="-1" strike="noStrike">
                <a:solidFill>
                  <a:srgbClr val="dbbd71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Tahoma"/>
              </a:rPr>
              <a:t>Физиологические основы применения азотных удобрений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родненский государственный аграрный университ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федра ботаники и физиологии раст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центы -     Тарасенко С.А.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рошкевич Е.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8506-D3F1-4254-AB13-DF83A9A166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оступление азота с техногенными выбросами в санитарно-защитной зоне ГПО «Азот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5283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-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тупл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е азота, кг/г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, кг/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ат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ит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ммиач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т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ное поле ГГ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среднем по Р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8D0-7429-4A0D-9349-B3006BBE0B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осстановление нитрат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тратредуктаза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нитритредуктаза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 2 е                                    +6 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лияние внешних условий на работу фермент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тратредуктаза – источник азота, свет, температура, влажность, аэрация почвы, кислотность, обеспеченность калием, фосфором, железом, молибд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тритредуктаза – обеспеченность железом, марганцем, магнием, мед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26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2133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2133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768-6481-417F-86A6-F5B7020DF65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есто восстановления нитрат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ни  -    древесные, черника, клюква,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блоня, груша, слива, дыня, тыква,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рбуз, лу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стья, стебли  -  салат, шпинат, сельдере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трушка, укроп, свекла, м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 растение  -  капуста, морковь, томат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урец, кабачки, перец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ьшинство зерновых и бобовых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D17-F994-4606-90CA-E5F200E80EB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дельно допустимые уровни (ПДК) содержания нитратов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,(мг/кг 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6157800"/>
        </p:xfrm>
        <a:graphic>
          <a:graphicData uri="http://schemas.openxmlformats.org/drawingml/2006/table">
            <a:tbl>
              <a:tblPr/>
              <a:tblGrid>
                <a:gridCol w="3106800"/>
                <a:gridCol w="1008000"/>
                <a:gridCol w="3168720"/>
                <a:gridCol w="94608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ртоф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пуста поздня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ковь рання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ковь поздня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м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гур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ук пер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ук репчат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екла стол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Д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ди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ц слад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клаж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стовые ово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бач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рбуз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блоки, груш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огр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ы дет.пи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Д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755640" y="213372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F15-C6CD-41F3-947F-9224FFAB2A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вращение нитратов в организме животных и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аты              нитри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амины                  +гемоглоб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озоамины              метгемоглоб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канцерогены, мутаген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708000" y="2349360"/>
            <a:ext cx="86364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2276640"/>
            <a:ext cx="86364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19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65B-7A0E-4023-A6A9-A556038726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ути превращения аммиа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тез аминокисл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ами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аммонийных со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мочевины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через орнитиновый цик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B23-30D2-48DB-80BD-E22F2915353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интез аминокислот 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ервичное аминировани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ровиноградная                           алан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щавелевоуксусная      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аспарагин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умаровая                               аспарагин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етоглутаровая                      глутамин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ичное аминир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утаминовая                  глиоксил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инотрансфераза  -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ит.В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етоглутаровая                глицин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1844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2276640"/>
            <a:ext cx="50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2492280"/>
            <a:ext cx="43200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2492280"/>
            <a:ext cx="647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64000" y="1844280"/>
            <a:ext cx="648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19640" y="2349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4869000"/>
            <a:ext cx="720720" cy="1152360"/>
          </a:xfrm>
          <a:custGeom>
            <a:avLst/>
            <a:gdLst>
              <a:gd name="textAreaLeft" fmla="*/ 96480 w 720720"/>
              <a:gd name="textAreaRight" fmla="*/ 624240 w 72072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4869000"/>
            <a:ext cx="718920" cy="1224000"/>
          </a:xfrm>
          <a:custGeom>
            <a:avLst/>
            <a:gdLst>
              <a:gd name="textAreaLeft" fmla="*/ 96120 w 718920"/>
              <a:gd name="textAreaRight" fmla="*/ 622800 w 7189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987640" y="256536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19640" y="2491920"/>
            <a:ext cx="79200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651-B451-4CF6-8A3A-EF47C46162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бразование амидов и соле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спарагиновая               аспарагин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АТФ +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утаминовая                     глут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Н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Н                             СО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1916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328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486900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47242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4724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0FA-3C29-4DEC-9264-1C808F48369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255600"/>
            <a:ext cx="8604360" cy="62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EFD-0C16-4B0D-94BC-5F1F14EF890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Накопление азота бобовыми культурам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838080" y="1905120"/>
          <a:ext cx="8007480" cy="4744800"/>
        </p:xfrm>
        <a:graphic>
          <a:graphicData uri="http://schemas.openxmlformats.org/drawingml/2006/table">
            <a:tbl>
              <a:tblPr/>
              <a:tblGrid>
                <a:gridCol w="992160"/>
                <a:gridCol w="1119240"/>
                <a:gridCol w="1822680"/>
                <a:gridCol w="1120680"/>
                <a:gridCol w="1192320"/>
                <a:gridCol w="1760400"/>
              </a:tblGrid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ь-ту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коп-ление азота, кг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вивалентно аммиачной селитре, ц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ь-ту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коп-ление азота, кг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вивалентно аммиачной селитре, ц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ро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-2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б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-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3-2.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ю-пи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-1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-3.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е-ве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-2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7-7.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-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7-2.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юцерн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0-2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6-8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люш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-1.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598-1E77-4DC8-91DD-88FF51AE6C4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Физиологическая роль аз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Источники и доступные формы аз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Восстановление нитратного азот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блема нитр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ревращение и использовани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ммиачного азота в расте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Особенности азотного питания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бовых культу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FAE-CD4E-4C3B-99DC-404C20D99F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изиологическая роль азота в растения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инокислоты, бел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клеиновые кислоты (ДНК, Р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рменты и кофер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кроэргические соедин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АТФ, УТФ, ацетил КоА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сфолипиды (лецит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тогормоны (гетероауксин, цитокинины, некоторые ингибиторы рос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калоиды, гликозиды, фитонци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B6B-4D33-4F87-BA00-CDFDDC251F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изнаки недостаточности азо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ледно-зеленая, желтая окраска. Лист усыхает, отмир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ержка в рост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бое кущение, меньше колосков в колосе, «отсекается» верхушка коло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коренное развитие (переход к репродукци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C56-B90E-4E93-B8C7-C59749C71E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047760" cy="4602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476280"/>
            <a:ext cx="2371680" cy="334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007480" y="476280"/>
            <a:ext cx="1292040" cy="3313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3203640" cy="209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3790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211720" y="4668840"/>
            <a:ext cx="3932280" cy="218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6FC-C431-4E6A-AA60-302761E429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изнаки избытка азо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резмерный р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тягивание веге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бое развитие механических тканей (полега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бое развитие покровных тканей (болезни, вредите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дление синтеза углев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худшение качества продук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7C8-CCA0-4795-B503-72A69F9A0D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азовый состав атмосфер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5B6-DB88-4F2B-AABB-26E73359F5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Доступные минеральные формы азо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АТНАЯ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ИТНАЯ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МИАЧНАЯ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ЧЕВИНА    СО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124-69D8-4DF2-AE9A-367446221D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ормы азота в  почвах РБ, кг/г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600" cy="5027760"/>
        </p:xfrm>
        <a:graphic>
          <a:graphicData uri="http://schemas.openxmlformats.org/drawingml/2006/table">
            <a:tbl>
              <a:tblPr/>
              <a:tblGrid>
                <a:gridCol w="3322800"/>
                <a:gridCol w="1296720"/>
                <a:gridCol w="2016360"/>
                <a:gridCol w="1593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ч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гкогид-ролизуе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не-р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глинист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00-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песча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00-3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сча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00-2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рфяно-боло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000-2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AC3-A65A-4507-90AA-9533A6C07C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8:44:44Z</dcterms:created>
  <dc:creator>User</dc:creator>
  <dc:description/>
  <dc:language>en-US</dc:language>
  <cp:lastModifiedBy>User</cp:lastModifiedBy>
  <dcterms:modified xsi:type="dcterms:W3CDTF">2003-10-30T13:17:48Z</dcterms:modified>
  <cp:revision>32</cp:revision>
  <dc:subject/>
  <dc:title>Лекция на тему:  Физиологические основы применения азотных удобрений </dc:title>
</cp:coreProperties>
</file>