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FD0-0397-4C8E-BE4E-744A74BB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F5E-622C-4CF3-8469-DB574E3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D51-B6A4-4BF0-B86E-006E7666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C31-156C-48E7-83FB-CC684534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66C0-5A4D-4126-9F5C-6DB5EBB4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B2FE-C6B8-4115-8665-B78B96EC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F6D-8E6A-4443-91E8-58CBC491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42EC-ACDB-4787-A641-5D7EB25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7168-0C6C-4354-8481-CCF8253B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3E9A-EEB0-4473-B9D3-2566F5D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663-87D4-409D-8A6B-C773531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B53-D486-41DA-B36D-12FDA001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B9C-0316-49A1-AC86-94FCBFCE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4B2-E7ED-41D3-8BA2-FF7EA4A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3D92-D55F-4AF2-B109-DBBEE43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FCA6-2D94-4E7C-A51B-DA4E4CA1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424A-4BE3-4171-B4C5-2DA74741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96D-AE15-4FE7-94DB-E3A6300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143-408D-4C1A-87BF-7DA097DF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079-05F2-4718-AE1B-F0AD367F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21F-AF31-4620-BB1C-E865AD9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5C5-BAFF-4131-8B0C-B622D72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AC6-3E4D-4627-80FF-A6DE600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226-7953-4429-8DF0-734364B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8987-7BE0-4B5E-9F3E-9D6B7FC611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F6C-F869-4CE8-A872-D734F3637F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ahoma"/>
              </a:rPr>
              <a:t>Лекция на тему:</a:t>
            </a: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Физиологические основы применения азотных удобрений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родненский государственный аграрный университ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федра ботаники и физиологии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центы -     Тарасенко С.А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рошкевич Е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43DB-896B-4513-89C7-DFB61ED634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ступление азота с техногенными выбросами в санитарно-защитной зоне ГПО «Азот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528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-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тупл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е азота, кг/г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, кг/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и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ммиач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ое поле ГГ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реднем по Р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948-4292-4393-90E3-D05EEC7F64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осстановление нитрат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тратредуктаза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нитритредуктаза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2 е                                    +6 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лияние внешних условий на работу фермен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ратредуктаза – источник азота, свет, температура, влажность, аэрация почвы, кислотность, обеспеченность калием, фосфором, железом, молибд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ритредуктаза – обеспеченность железом, марганцем, магнием, мед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26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4FF-729C-4D8F-8464-CE5E53DED1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сто восстановления нитрат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ни  -    древесные, черника, клюква,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блоня, груша, слива, дыня, тыква,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буз, л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стья, стебли  -  салат, шпинат, сельдер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рушка, укроп, свекла, м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 растение  -  капуста, морковь, томат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урец, кабачки, перец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инство зерновых и бобовых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D16-0298-4CA2-B1FC-3BA8BDE51A5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дельно допустимые уровни (ПДК) содержания нитратов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,(мг/кг 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6157800"/>
        </p:xfrm>
        <a:graphic>
          <a:graphicData uri="http://schemas.openxmlformats.org/drawingml/2006/table">
            <a:tbl>
              <a:tblPr/>
              <a:tblGrid>
                <a:gridCol w="3106800"/>
                <a:gridCol w="1008000"/>
                <a:gridCol w="3168720"/>
                <a:gridCol w="94608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пуста позд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ковь ран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ковь позд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м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гур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к пер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к репчат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кла стол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ди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ц слад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клаж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стовые ово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бач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буз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блоки, груш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огр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ы дет.пи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755640" y="213372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97D-1E69-4B8C-9EEE-420A6AB6B0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вращение нитратов в организме животных и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ы              нитр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амины                  +гемоглоб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озоамины              метгемоглоб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анцерогены, мутаген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08000" y="2349360"/>
            <a:ext cx="8636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276640"/>
            <a:ext cx="86364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19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899-B925-491C-B196-52534C3DCC2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ути превращения аммиа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з амино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ами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аммонийных со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мочевин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через орнитиновый цик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8A9-1007-4ECB-A631-2B37D40417E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интез аминокислот 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ервичное аминировани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ровиноградная                           алан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щавелевоуксусная     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аспараг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умаровая                               аспараг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етоглутаровая                      глутам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ичное амин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таминовая                  глиоксил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трансфераза  -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ит.В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етоглутаровая                глицин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1844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227664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2492280"/>
            <a:ext cx="432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2492280"/>
            <a:ext cx="64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64000" y="1844280"/>
            <a:ext cx="64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2349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4869000"/>
            <a:ext cx="720720" cy="1152360"/>
          </a:xfrm>
          <a:custGeom>
            <a:avLst/>
            <a:gdLst>
              <a:gd name="textAreaLeft" fmla="*/ 96480 w 720720"/>
              <a:gd name="textAreaRight" fmla="*/ 624240 w 72072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4869000"/>
            <a:ext cx="718920" cy="1224000"/>
          </a:xfrm>
          <a:custGeom>
            <a:avLst/>
            <a:gdLst>
              <a:gd name="textAreaLeft" fmla="*/ 96120 w 718920"/>
              <a:gd name="textAreaRight" fmla="*/ 622800 w 718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987640" y="256536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19640" y="2491920"/>
            <a:ext cx="79200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4EC-10E4-419E-8168-2B9CD76EFD3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бразование амидов и сол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спарагиновая               аспарагин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АТФ +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таминовая                     глут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                             СО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328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486900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724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472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2B3-549F-4D7D-AC54-C6AA291D3B7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255600"/>
            <a:ext cx="8604360" cy="62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A7A-4BD7-4DCF-981B-4DD611A6509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акопление азота бобовыми культурам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38080" y="1905120"/>
          <a:ext cx="8007480" cy="4744800"/>
        </p:xfrm>
        <a:graphic>
          <a:graphicData uri="http://schemas.openxmlformats.org/drawingml/2006/table">
            <a:tbl>
              <a:tblPr/>
              <a:tblGrid>
                <a:gridCol w="992160"/>
                <a:gridCol w="1119240"/>
                <a:gridCol w="1822680"/>
                <a:gridCol w="1120680"/>
                <a:gridCol w="1192320"/>
                <a:gridCol w="176040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-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-ление азота, кг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вивалентно аммиачной селитре, ц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-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-ление азота, кг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вивалентно аммиачной селитре, ц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ро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-2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б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-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3-2.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-пи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-3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-ве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-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7-7.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-2.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цер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0-2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6-8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люш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-1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A72-2277-441F-9AB7-7D23DEF686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Физиологическая роль аз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Источники и доступные формы аз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Восстановление нитратного азот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блема нит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ревращение и использовани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ммиачного азота в раст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Особенности азотного питания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бовых культ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4C1-6DB3-4E18-A07D-BE2191A06FB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изиологическая роль азота в растения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инокислоты, бе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клеиновые кислоты (ДНК, 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енты и кофер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роэргические соеди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АТФ, УТФ, ацетил КоА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сфолипиды (лецит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тогормоны (гетероауксин, цитокинины, некоторые ингибиторы рос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калоиды, гликозиды, фитонц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520-A3D6-440E-9108-EB18239A79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знаки недостаточности азо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ледно-зеленая, желтая окраска. Лист усыхает, отмир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ержка в рос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кущение, меньше колосков в колосе, «отсекается» верхушка кол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коренное развитие (переход к репродукц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831-3BF5-43EC-B248-CE3D07F2B5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047760" cy="4602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476280"/>
            <a:ext cx="2371680" cy="334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07480" y="476280"/>
            <a:ext cx="1292040" cy="3313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3203640" cy="209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379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211720" y="4668840"/>
            <a:ext cx="3932280" cy="21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E79-6AA0-431D-86D4-F1C2EC26C4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изнаки избытка азо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резмерный р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тягивание веге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развитие механических тканей (полег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развитие покровных тканей (болезни, вредит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дление синтеза углев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худшение качества продук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71F-D4D7-4018-B9DF-B6032D8C5C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азовый состав атмосфер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B47-A4CF-43AC-A94D-E940D98031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Доступные минеральные формы азо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НАЯ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ИТНАЯ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МИАЧНАЯ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ЧЕВИНА    СО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F48-FB21-488C-9403-F013AD35F9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ормы азота в  почвах РБ, кг/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3322800"/>
                <a:gridCol w="1296720"/>
                <a:gridCol w="2016360"/>
                <a:gridCol w="1593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гкогид-ролизуе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не-р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глинис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00-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песча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0-3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ча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0-2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рфяно-бол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00-2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52A-1063-4BDD-86F8-554924EF09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8:44:44Z</dcterms:created>
  <dc:creator>User</dc:creator>
  <dc:description/>
  <dc:language>en-US</dc:language>
  <cp:lastModifiedBy>User</cp:lastModifiedBy>
  <dcterms:modified xsi:type="dcterms:W3CDTF">2003-10-30T13:17:48Z</dcterms:modified>
  <cp:revision>32</cp:revision>
  <dc:subject/>
  <dc:title>Лекция на тему:  Физиологические основы применения азотных удобрений </dc:title>
</cp:coreProperties>
</file>