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0C9D-A17C-46F4-AE87-D8271F22E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6292-F6F5-47E7-B2FE-B6B3E0A5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BD00-67E1-46B6-911E-9AD34EAF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04AA-2B1C-47A8-8D58-1B36EAFAF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356F-294F-428F-9694-B5E330F3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CC58-7EFF-4D99-86A9-6E9F2F3A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E0B2-9095-4151-AA7F-7929C33E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D9C9-9895-4A51-A7A6-D33D8638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F985-B8BE-4804-8173-08CBD169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2965-6CB9-48C4-A6D9-0AD6AC58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099E-69EA-477E-A2F7-C91FFCBB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D562-229E-4C2E-B747-82D78691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FD52-68C9-47DE-AF8F-3C07D45A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CF37-C630-4693-B3FB-1DDD7519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8894-6F55-4D4A-AD4A-6CFD2EFD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1A8F-CAC5-437D-8341-0544B4EF5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B475-FD25-48D1-9363-90E9617BA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F083-F57A-44E8-BB0C-496B6FB7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6A20-19CB-4C3A-B78F-F9DA9FAF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EEAE-1B76-4982-8130-C934AB3E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9EF5-6C44-4435-94B5-8425D76A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8460-CA1E-4470-8B83-FC01E5DB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1AB1-1A6D-4D5A-BE83-B1C23D3F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315E-4140-4825-9BD7-7057E552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7119-43C0-40FE-8C57-36CE607F398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8DD5-F5CA-4AE1-8F66-428300A3C68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Tahoma"/>
              </a:rPr>
              <a:t>Лекция на тему:</a:t>
            </a:r>
            <a:r>
              <a:rPr b="0" lang="en-US" sz="4400" spc="-1" strike="noStrike">
                <a:solidFill>
                  <a:srgbClr val="dbbd71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dbbd71"/>
                </a:solidFill>
                <a:latin typeface="Tahoma"/>
              </a:rPr>
              <a:t>Физиологические основы применения азотных удобрений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родненский государственный аграрный университе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афедра ботаники и физиологии раст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втор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оценты -     Тарасенко С.А.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орошкевич Е.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5723-3B54-4C81-84B0-2FEE264501F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Поступление азота с техногенными выбросами в санитарно-защитной зоне ГПО «Азот»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600200"/>
          <a:ext cx="8229600" cy="52833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61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правле-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ступле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ие азота, кг/г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том числе, кг/г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итратно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итритно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ммиачно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в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Ю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па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ст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пытное поле ГГА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среднем по Р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7AEB-C99B-48E4-98B7-E77F1B371FE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Восстановление нитратов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ˉ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итратредуктаза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ˉ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нитритредуктаза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+ 2 е                                    +6 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Влияние внешних условий на работу ферментов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тратредуктаза – источник азота, свет, температура, влажность, аэрация почвы, кислотность, обеспеченность калием, фосфором, железом, молибде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тритредуктаза – обеспеченность железом, марганцем, магнием, медь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2843280" y="2637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43280" y="213372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84720" y="213372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E182-6784-4399-9D46-77FF9BA5127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Место восстановления нитратов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рни  -    древесные, черника, клюква,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яблоня, груша, слива, дыня, тыква,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рбуз, лу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истья, стебли  -  салат, шпинат, сельдере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трушка, укроп, свекла, мар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ё растение  -  капуста, морковь, томат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гурец, кабачки, перец.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ольшинство зерновых и бобовых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21ED-1D09-49F8-99E1-A0D51C90008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Предельно допустимые уровни (ПДК) содержания нитратов</a:t>
            </a: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,(мг/кг )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600200"/>
          <a:ext cx="8229600" cy="6157800"/>
        </p:xfrm>
        <a:graphic>
          <a:graphicData uri="http://schemas.openxmlformats.org/drawingml/2006/table">
            <a:tbl>
              <a:tblPr/>
              <a:tblGrid>
                <a:gridCol w="3106800"/>
                <a:gridCol w="1008000"/>
                <a:gridCol w="3168720"/>
                <a:gridCol w="946080"/>
              </a:tblGrid>
              <a:tr h="61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дук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ртофел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пуста поздня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рковь рання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рковь поздня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ома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гурц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ук пер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ук репчат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векла столов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Д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дук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ди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ец слад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аклаж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истовые овощ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бач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рбуз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блоки, груш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ногра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дукты дет.пит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Д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755640" y="2133720"/>
            <a:ext cx="777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C33B-0405-4173-BF21-E98B006EE7B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Превращение нитратов в организме животных и человек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траты              нитри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+ амины                  +гемоглоб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трозоамины              метгемоглоб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канцерогены, мутагены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708000" y="2349360"/>
            <a:ext cx="86364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932360" y="2276640"/>
            <a:ext cx="863640" cy="158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87640" y="191628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44BD-1FFD-4AD1-BEAF-F8856A3A754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ути превращения аммиак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нтез аминокисло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разование амид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разование аммонийных со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разование мочевины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через орнитиновый цикл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9063-576C-498B-B37F-4E7A68FE6CC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Синтез аминокислот </a:t>
            </a:r>
            <a:br>
              <a:rPr sz="40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ервичное аминирование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ировиноградная                           алан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щавелевоуксусная      +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аспарагинов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умаровая                               аспарагинов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кетоглутаровая                      глутаминов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торичное аминиро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утаминовая                  глиоксилов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минотрансфераза  -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вит.В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кетоглутаровая                глицин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3635280" y="184464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19640" y="2276640"/>
            <a:ext cx="50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76720" y="2492280"/>
            <a:ext cx="43200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76720" y="2492280"/>
            <a:ext cx="6476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64000" y="1844280"/>
            <a:ext cx="648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19640" y="234936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32000" y="4869000"/>
            <a:ext cx="720720" cy="1152360"/>
          </a:xfrm>
          <a:custGeom>
            <a:avLst/>
            <a:gdLst>
              <a:gd name="textAreaLeft" fmla="*/ 96480 w 720720"/>
              <a:gd name="textAreaRight" fmla="*/ 624240 w 720720"/>
              <a:gd name="textAreaTop" fmla="*/ 201600 h 1152360"/>
              <a:gd name="textAreaBottom" fmla="*/ 8355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24360" y="4869000"/>
            <a:ext cx="718920" cy="1224000"/>
          </a:xfrm>
          <a:custGeom>
            <a:avLst/>
            <a:gdLst>
              <a:gd name="textAreaLeft" fmla="*/ 96120 w 718920"/>
              <a:gd name="textAreaRight" fmla="*/ 622800 w 7189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987640" y="2565360"/>
            <a:ext cx="57636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419640" y="2491920"/>
            <a:ext cx="792000" cy="5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F94C-40E0-4284-87A7-154A9C36853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Образование амидов и солей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спарагиновая               аспарагин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+АТФ +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утаминовая                     глутам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ОН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О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ОН                             СОО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3995640" y="19162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67280" y="328464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4869000"/>
            <a:ext cx="187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9640" y="472428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64000" y="4724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908D-E2DF-4254-9385-00440C5F569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39640" y="255600"/>
            <a:ext cx="8604360" cy="625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9597-D770-45C1-92F2-ABA16F59C94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Накопление азота бобовыми культурам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838080" y="1905120"/>
          <a:ext cx="8007480" cy="4744800"/>
        </p:xfrm>
        <a:graphic>
          <a:graphicData uri="http://schemas.openxmlformats.org/drawingml/2006/table">
            <a:tbl>
              <a:tblPr/>
              <a:tblGrid>
                <a:gridCol w="992160"/>
                <a:gridCol w="1119240"/>
                <a:gridCol w="1822680"/>
                <a:gridCol w="1120680"/>
                <a:gridCol w="1192320"/>
                <a:gridCol w="1760400"/>
              </a:tblGrid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уль-тур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коп-ление азота, кг/г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квивалентно аммиачной селитре, ц/г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уль-тур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коп-ление азота, кг/г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квивалентно аммиачной селитре, ц/г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оро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-7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1-2.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обы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0-1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3-2.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ю-пин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0-12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5-3.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е-вер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-2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7-7.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к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-8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7-2.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юцерн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0-28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6-8.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люшк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-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1-1.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84BB-FB2D-4AA7-9A06-BE85568FE1D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лан лек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Физиологическая роль азо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Источники и доступные формы азо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Восстановление нитратного азота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блема нитра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Превращение и использование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ммиачного азота в растени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Особенности азотного питания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обовых культу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F328-1DD2-466D-9532-F552E015FA1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Физиологическая роль азота в растениях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минокислоты, бел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уклеиновые кислоты (ДНК, РН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лорофил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ерменты и кофермент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кроэргические соедине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АТФ, УТФ, ацетил КоА и др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сфолипиды (лецит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итогормоны (гетероауксин, цитокинины, некоторые ингибиторы рост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итами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лкалоиды, гликозиды, фитонци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42A9-04F4-4D70-9A63-4AF92A7BEC3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Признаки недостаточности азот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ледно-зеленая, желтая окраска. Лист усыхает, отмира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держка в рост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лабое кущение, меньше колосков в колосе, «отсекается» верхушка коло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скоренное развитие (переход к репродукци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52B9-1E89-45C8-8344-BD4F6118EBD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56000" y="0"/>
            <a:ext cx="3047760" cy="4602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651640" y="476280"/>
            <a:ext cx="2371680" cy="33447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8007480" y="476280"/>
            <a:ext cx="1292040" cy="3313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0" y="4724280"/>
            <a:ext cx="3203640" cy="2094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438280" cy="3790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5211720" y="4668840"/>
            <a:ext cx="3932280" cy="2189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D154-F736-4E19-B2BE-930D28C3D05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ризнаки избытка азот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резмерный ро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тягивание вегет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лабое развитие механических тканей (полегани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лабое развитие покровных тканей (болезни, вредител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медление синтеза углевод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худшение качества продукц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DBD2-9CE1-41A9-A3AB-CFF722E1C46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Газовый состав атмосфер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60440" y="1600200"/>
          <a:ext cx="82231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82231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0949-6557-4122-BB99-7D7E1F46FCD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Доступные минеральные формы азот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ТРАТНАЯ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ТРИТНАЯ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ММИАЧНАЯ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ЧЕВИНА    СО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5CCC-FB50-4F3A-AD36-AC50CF869C1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Формы азота в  почвах РБ, кг/г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1600200"/>
          <a:ext cx="8229600" cy="5027760"/>
        </p:xfrm>
        <a:graphic>
          <a:graphicData uri="http://schemas.openxmlformats.org/drawingml/2006/table">
            <a:tbl>
              <a:tblPr/>
              <a:tblGrid>
                <a:gridCol w="3322800"/>
                <a:gridCol w="1296720"/>
                <a:gridCol w="2016360"/>
                <a:gridCol w="15937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ч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щи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егкогид-ролизуем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ине-раль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углинист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00-4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0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0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упесчана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00-3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0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5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сча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00-2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0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рфяно-болот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000-20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0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4F59-161F-4414-8542-6CB0F596254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08:44:44Z</dcterms:created>
  <dc:creator>User</dc:creator>
  <dc:description/>
  <dc:language>en-US</dc:language>
  <cp:lastModifiedBy>User</cp:lastModifiedBy>
  <dcterms:modified xsi:type="dcterms:W3CDTF">2003-10-30T13:17:48Z</dcterms:modified>
  <cp:revision>32</cp:revision>
  <dc:subject/>
  <dc:title>Лекция на тему:  Физиологические основы применения азотных удобрений </dc:title>
</cp:coreProperties>
</file>