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5.png" ContentType="image/png"/>
  <Override PartName="/ppt/media/image2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115E-6BD9-44A8-A173-35D2AC2044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DCFE-2CB7-4506-840E-53D3B86848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54C5-C48D-4B30-BDD6-FDAAA5E6CD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218A-2656-43F8-9E37-7DBDD06FB8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2C31-21BD-4ED9-9144-A61B97CA10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2A4-ECCD-492B-B42C-C05CBB4133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40B-228F-43AA-BEE4-C5B97142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D24-CCA3-48EE-BF03-6318E188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B51-00D9-47B4-801E-893C8FD7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AF6-3951-44FE-8578-F12D4985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3565-D216-4469-8DCE-BB18633D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5485-D245-457A-9508-939E5F3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9FC3-7644-4BF7-97E3-582E3F1F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05E2-59F3-4E2C-8DBF-7DABC3F3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86DF-FFBB-4FAF-BD3B-885CFE35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38C3-811E-45A4-8202-93C0F226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1350-6D39-4EE1-B908-BF46F54D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47C-D545-480B-A6FD-AE659EBC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E7F0-9BB9-41DF-B2BF-CDA443F8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966A-6C94-4D58-BB35-DC77B1C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D939-A581-459F-863C-EC05E30A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C82C-5129-4835-A053-DADF9288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A18E-0724-4173-9BD3-B5AB27F0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CF5F-D7AF-4D78-A1B8-6F5C9529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92CD-70C8-4576-814A-F0F7B02D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518E-A342-4D9C-B5C7-8E02EAF5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6ADF-EC89-48D2-B993-997D579C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E8C5-6ED3-4E73-A10F-97D96796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30A-B565-42C2-9D22-7FA496BA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0B59-7AC8-4181-AF50-2739C099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2655-417B-418A-9049-842C4D67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BB34E-90B8-4484-8B83-7AD748C7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73D6-85B0-4A34-AD5F-D3FE4332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8300-7D9E-4B67-AC4F-F6A02140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1CC3-BB85-4D99-B693-BE087AF5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EAB3-800B-4DE5-BF29-29E0E030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CA361-0CB1-4D80-9B4A-F6046865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0FF6-E0DB-4F80-B310-9F1FE3D9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312F-2A80-40A2-A4D6-0F815EBE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A61-2DF5-42F6-8932-738CA734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DE7B7-C261-4D44-9DCF-3047C5AD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6E7EE-D272-4E6D-AA8C-B7833E7C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BC64-03BF-4654-9E6E-47C6277A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903E-7A21-493A-841E-A3998E04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16FF-D324-43E7-AA84-F39B7C9E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F17E9-3411-435F-B56F-EA871EBB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01A5-E9D4-42C4-84DB-E1E1A79F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3626A-6A12-401A-8E45-0AE0A990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B287A-D180-4537-BE0E-6C77EF1F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91C6C-0503-4FD9-A639-EAB6C3FB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D65-385E-4B2C-83AD-5B1CD0C4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EBF1-A06E-4466-BDD3-39589761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12FBD-A353-475D-8E82-C1E66DB5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82BBC-50C8-4A50-A443-97272F2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FC0A4-3C64-49E9-9903-05325A68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0782D-ABB1-4AFD-83BB-60C2C893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3C20A-96D3-4B6E-8EA9-8E6A82A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124C5-6178-4106-936E-A8569A84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466B9-A402-4559-A504-366AFF80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2B55E-9F04-4365-82EE-48D456FF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DEB6F-5684-4005-8B51-1F89F1DC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F25-44D5-4B2A-B147-7594EB48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50AE-F66C-4C80-AC97-1D26E0B8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B6F-602D-445F-84C5-EC38ECEF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E68-A28E-40D8-8DEC-42A4E9E4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453-CEF2-4E8E-B0F6-C5CE828D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8812-8D29-484A-B57D-4E3353613E5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6B5F-1737-4815-A89C-0556C385B6B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04B4-6BE3-4234-B9F8-DA2B789A741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522-3A6E-433E-841E-74A58AFFE50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F9DE-8A75-4DE6-B22E-3F3D4C4A11A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486400" cy="31942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4788000" y="45813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мирнова С.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ш№ 6 п. Новы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1573200" y="738360"/>
            <a:ext cx="4267080" cy="1560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C:\Documents and Settings\DM\Мои документы\картинки\950698115.jpg"/>
          <p:cNvPicPr/>
          <p:nvPr/>
        </p:nvPicPr>
        <p:blipFill>
          <a:blip r:embed="rId2"/>
          <a:stretch/>
        </p:blipFill>
        <p:spPr>
          <a:xfrm>
            <a:off x="785880" y="423864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Documents and Settings\DM\Мои документы\картинки\Micke2.gif"/>
          <p:cNvPicPr/>
          <p:nvPr/>
        </p:nvPicPr>
        <p:blipFill>
          <a:blip r:embed="rId3"/>
          <a:stretch/>
        </p:blipFill>
        <p:spPr>
          <a:xfrm>
            <a:off x="4786200" y="2428920"/>
            <a:ext cx="29052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2760" y="743040"/>
            <a:ext cx="3998880" cy="1006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560"/>
            <a:ext cx="72388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час  по чайной ложке.             Мал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укой подать .                                    Мно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з, два и обчелся.                         Медленн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уры не клюют.                              Худ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жа да кости.                                 Близк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642960" y="364320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час  по чайной ложке. Медленн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642960" y="485784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, два и обчёлся.           Мало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642960" y="542916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ры не клюют.                   Много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642960" y="600084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жа да кости.                     Худой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642960" y="428616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укой подать.                      Близк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2" name="TextBox 9" descr=""/>
          <p:cNvPicPr/>
          <p:nvPr/>
        </p:nvPicPr>
        <p:blipFill>
          <a:blip r:embed="rId2"/>
          <a:stretch/>
        </p:blipFill>
        <p:spPr>
          <a:xfrm>
            <a:off x="4048200" y="317520"/>
            <a:ext cx="3443040" cy="11034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3"/>
          <a:stretch/>
        </p:blipFill>
        <p:spPr>
          <a:xfrm>
            <a:off x="3998880" y="2773440"/>
            <a:ext cx="1139760" cy="1560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DM\Мои документы\картинки\683927843.jpg"/>
          <p:cNvPicPr/>
          <p:nvPr/>
        </p:nvPicPr>
        <p:blipFill>
          <a:blip r:embed="rId4"/>
          <a:stretch/>
        </p:blipFill>
        <p:spPr>
          <a:xfrm>
            <a:off x="5643720" y="1357200"/>
            <a:ext cx="1825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2760" y="743040"/>
            <a:ext cx="7486560" cy="1006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Новогодняя, зеленая, пахучая___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беденный, письменный, кухонный___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Белое, парное,коровье…….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Липовый, пчелиный, цветочный……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стрый, болгарский, чёрный……..  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Рабочий, праздничный.выходной……..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Зеленая. Газонная, сорная…….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Розовое, оливковое, подсолнечное….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286240" y="157176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ёл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6072120" y="20718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о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4143240" y="2500200"/>
            <a:ext cx="13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500800" y="30002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ёд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5072040" y="35002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ец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5643720" y="3929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н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4929120" y="4357800"/>
            <a:ext cx="121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ра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TextBox 12"/>
          <p:cNvSpPr/>
          <p:nvPr/>
        </p:nvSpPr>
        <p:spPr>
          <a:xfrm>
            <a:off x="5857920" y="485784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сл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5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117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121" dur="8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4BEA2825"/>
          <p:cNvPicPr/>
          <p:nvPr/>
        </p:nvPicPr>
        <p:blipFill>
          <a:blip r:embed="rId1"/>
          <a:srcRect l="0" t="9103" r="42629" b="1405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269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127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131" dur="1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560"/>
            <a:ext cx="723888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меньшаемое, зима, береза, роза, треугольник , Маршак, лето, разность, василек, волк, дуб, квадрат, Пушкин, ромашка, кошка, вычитаемое,  круг, Михалков, осень, собака, сос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2" descr="C:\Documents and Settings\DM\Мои документы\картинки\667844785.jpg"/>
          <p:cNvPicPr/>
          <p:nvPr/>
        </p:nvPicPr>
        <p:blipFill>
          <a:blip r:embed="rId2"/>
          <a:stretch/>
        </p:blipFill>
        <p:spPr>
          <a:xfrm>
            <a:off x="3786120" y="535788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115920" y="384120"/>
            <a:ext cx="3713040" cy="10112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3"/>
          <p:cNvSpPr/>
          <p:nvPr/>
        </p:nvSpPr>
        <p:spPr>
          <a:xfrm>
            <a:off x="0" y="2071800"/>
            <a:ext cx="25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читаем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2928960" y="1500120"/>
            <a:ext cx="121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ет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ен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143680" y="928800"/>
            <a:ext cx="142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с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5643720" y="2714760"/>
            <a:ext cx="185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силё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маш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285840" y="45720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реугольни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3071880" y="3786120"/>
            <a:ext cx="192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рша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ушки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ихалк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4786200" y="5072040"/>
            <a:ext cx="171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8" name="Picture 2" descr="C:\Documents and Settings\DM\Мои документы\картинки\888943957.jpg"/>
          <p:cNvPicPr/>
          <p:nvPr/>
        </p:nvPicPr>
        <p:blipFill>
          <a:blip r:embed="rId2"/>
          <a:stretch/>
        </p:blipFill>
        <p:spPr>
          <a:xfrm>
            <a:off x="6072120" y="4143240"/>
            <a:ext cx="1666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139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42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45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22:22:04Z</dcterms:created>
  <dc:creator>Valued Acer Customer</dc:creator>
  <dc:description/>
  <dc:language>en-US</dc:language>
  <cp:lastModifiedBy>SamLab.ws</cp:lastModifiedBy>
  <dcterms:modified xsi:type="dcterms:W3CDTF">2011-05-02T12:07:13Z</dcterms:modified>
  <cp:revision>34</cp:revision>
  <dc:subject/>
  <dc:title>Развивающие задания №2  2 класс</dc:title>
</cp:coreProperties>
</file>