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5.png" ContentType="image/png"/>
  <Override PartName="/ppt/media/image2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447D-DA2C-40D4-9883-072030BDEA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CB55-3D95-4071-9A62-A6D1DEA8E9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6895-DCC0-453F-818A-A4101AB3D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980E-C307-4714-A8E9-10E6EA4F65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A196-4CBD-494C-8A88-EFD1AB395A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52B4-0CE6-4BE5-AEAF-1F4B8B2BF3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BFC-6F5C-4CD1-BF1B-B1411D26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886-5B78-467B-BA31-576F7D9F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909-23E2-44CE-96EF-719F7E15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C20-6A6A-4AA3-9301-1BF340F4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B7B7-49F8-435E-B015-71718EAE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78C7-7723-4918-A46B-B7F9BC49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126D-1A51-4ED8-B63F-49F2CFCF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A135-6A2E-4876-83A5-518014F8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ACD7-6B4F-4166-83D3-973A1384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224A-D7CA-496D-A478-694EB589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8E02-2E10-4C18-AE3C-BA66DB67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9DB-37A4-492A-8F27-C35EBCC7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71E1-9571-4B6B-860E-DF2B9234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152C-828C-406F-8867-0C25F22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AF1E-2751-41EE-9B5A-04EE8AE5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175C-FCBB-4C47-8033-0E44266F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34A7-A448-4A85-B0B0-7CF233C3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55804-E0C1-4875-8659-77FB40E9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E98B-DACF-4837-9EB5-3B43DF89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4B85-FC1D-4385-BE0C-83BA246A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C98B-99C9-4D74-A17E-F55E0A37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A23F-C70B-4FBA-838B-964BC82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BB2B-AEA6-47FD-8B72-A3416469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DBC5-3AF8-4564-925C-D2DE67E1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6D15-4A30-446D-B009-613299C3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D33E-4E58-422F-9AC7-1D8BEF20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E441-7519-4897-926E-223F7604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34D5-3357-40F2-923F-F065E0C0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E5CA2-83D8-4727-9723-65B89148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1DD6-EE5B-41B0-9F78-618A4424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0BA8-2419-4A1A-B90D-6D3361CE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B784-77A0-4BB5-8613-BC28BBBD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F1307-E290-42FA-AC28-6A38022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C8CA-FE1B-43A4-9DAD-0181F905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BA18D-E1E2-490E-9B88-AACD3013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5C8E-8E46-40BA-B3ED-378D161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3833A-ECF6-41A8-8036-E8FAFB73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09F68-F174-453C-ABF7-77D6650C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644C-718C-4CFB-84A7-16AA8060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BC30A-C2F3-4EF3-BEBE-2B7F277C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00F2-021B-400B-BDB1-A3FBC6CC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A084-0346-4DC5-8A1F-8FEA677B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7263-618F-4211-A3C5-CE1E03C7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F08A6-1C2C-42ED-8E04-9E61DC32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1D7-827D-4B99-B62F-B3315C28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65C9A-A8FA-4A63-9E35-CDE30104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4EABC-DAF4-4342-B217-DCB096A8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E3DBF-E794-44A8-B785-0B5842E4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85228-56C3-4316-8CC1-A47E169B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8D89C-2B50-43E5-AD10-A8F9C19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57214-C6B6-4A2E-90BD-805616C2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EB553-22A1-41C6-9694-39D0E16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E523-9376-4EBD-A084-6499268A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D43D4-106F-481C-9469-9E2B4202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751B-FE4F-4C1F-8123-DA39F3E6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9B6-9214-45AB-87DE-ABFA2E88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11F29-30D7-492E-89D4-4738F6D2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3C9-BC5B-4D41-9B34-B2B52297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E84-0296-49C3-8A77-F7ECF6B1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70D-C1C0-4898-8856-1082AF00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8C5B-8BF6-4178-8909-7DA69EAF8F3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EF59-7980-48A3-B9E3-DA22D32EDC3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BE10-79C9-4603-B265-C50D20A0F56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1B32-5B71-4E75-BA90-5FDBC26D269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1AC9-4C8C-41FF-AB68-259D8EEB7B0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486400" cy="31942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4788000" y="45813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мирнова С.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ш№ 6 п. Новы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1573200" y="738360"/>
            <a:ext cx="4267080" cy="1560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C:\Documents and Settings\DM\Мои документы\картинки\950698115.jpg"/>
          <p:cNvPicPr/>
          <p:nvPr/>
        </p:nvPicPr>
        <p:blipFill>
          <a:blip r:embed="rId2"/>
          <a:stretch/>
        </p:blipFill>
        <p:spPr>
          <a:xfrm>
            <a:off x="785880" y="423864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C:\Documents and Settings\DM\Мои документы\картинки\Micke2.gif"/>
          <p:cNvPicPr/>
          <p:nvPr/>
        </p:nvPicPr>
        <p:blipFill>
          <a:blip r:embed="rId3"/>
          <a:stretch/>
        </p:blipFill>
        <p:spPr>
          <a:xfrm>
            <a:off x="4786200" y="2428920"/>
            <a:ext cx="29052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12760" y="743040"/>
            <a:ext cx="3998880" cy="10065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560"/>
            <a:ext cx="72388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час  по чайной ложке.             Мал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укой подать .                                    Мно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аз, два и обчелся.                         Медленн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уры не клюют.                              Худ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жа да кости.                                 Близк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642960" y="364320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час  по чайной ложке. Медленн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642960" y="485784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, два и обчёлся.           Мало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642960" y="542916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уры не клюют.                   Много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642960" y="600084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жа да кости.                     Худой.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642960" y="428616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укой подать.                      Близк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2" name="TextBox 9" descr=""/>
          <p:cNvPicPr/>
          <p:nvPr/>
        </p:nvPicPr>
        <p:blipFill>
          <a:blip r:embed="rId2"/>
          <a:stretch/>
        </p:blipFill>
        <p:spPr>
          <a:xfrm>
            <a:off x="4048200" y="317520"/>
            <a:ext cx="3443040" cy="11034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3"/>
          <a:stretch/>
        </p:blipFill>
        <p:spPr>
          <a:xfrm>
            <a:off x="3998880" y="2773440"/>
            <a:ext cx="1139760" cy="1560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DM\Мои документы\картинки\683927843.jpg"/>
          <p:cNvPicPr/>
          <p:nvPr/>
        </p:nvPicPr>
        <p:blipFill>
          <a:blip r:embed="rId4"/>
          <a:stretch/>
        </p:blipFill>
        <p:spPr>
          <a:xfrm>
            <a:off x="5643720" y="1357200"/>
            <a:ext cx="1825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212760" y="743040"/>
            <a:ext cx="7486560" cy="1006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Новогодняя, зеленая, пахучая___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беденный, письменный, кухонный___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Белое, парное,коровье…….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Липовый, пчелиный, цветочный……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Острый, болгарский, чёрный……..  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Рабочий, праздничный.выходной……..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Зеленая. Газонная, сорная…….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Розовое, оливковое, подсолнечное….       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286240" y="157176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ёл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6072120" y="207180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о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4143240" y="2500200"/>
            <a:ext cx="13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5500800" y="30002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ёд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5072040" y="35002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ерец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5643720" y="39290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н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4929120" y="4357800"/>
            <a:ext cx="121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рав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TextBox 12"/>
          <p:cNvSpPr/>
          <p:nvPr/>
        </p:nvSpPr>
        <p:spPr>
          <a:xfrm>
            <a:off x="5857920" y="485784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сл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5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117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121" dur="8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4BEA2825"/>
          <p:cNvPicPr/>
          <p:nvPr/>
        </p:nvPicPr>
        <p:blipFill>
          <a:blip r:embed="rId1"/>
          <a:srcRect l="0" t="9103" r="42629" b="1405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269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127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131" dur="1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560"/>
            <a:ext cx="7238880" cy="34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меньшаемое, зима, береза, роза, треугольник , Маршак, лето, разность, василек, волк, дуб, квадрат, Пушкин, ромашка, кошка, вычитаемое,  круг, Михалков, осень, собака, сосн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2" descr="C:\Documents and Settings\DM\Мои документы\картинки\667844785.jpg"/>
          <p:cNvPicPr/>
          <p:nvPr/>
        </p:nvPicPr>
        <p:blipFill>
          <a:blip r:embed="rId2"/>
          <a:stretch/>
        </p:blipFill>
        <p:spPr>
          <a:xfrm>
            <a:off x="3786120" y="5357880"/>
            <a:ext cx="1357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115920" y="384120"/>
            <a:ext cx="3713040" cy="10112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3"/>
          <p:cNvSpPr/>
          <p:nvPr/>
        </p:nvSpPr>
        <p:spPr>
          <a:xfrm>
            <a:off x="0" y="2071800"/>
            <a:ext cx="25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ычитаемо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2928960" y="1500120"/>
            <a:ext cx="121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ет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ен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5143680" y="928800"/>
            <a:ext cx="142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с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5643720" y="2714760"/>
            <a:ext cx="185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з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силё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маш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285840" y="45720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реугольни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3071880" y="3786120"/>
            <a:ext cx="192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рша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ушки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ихалк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4786200" y="5072040"/>
            <a:ext cx="171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ол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8" name="Picture 2" descr="C:\Documents and Settings\DM\Мои документы\картинки\888943957.jpg"/>
          <p:cNvPicPr/>
          <p:nvPr/>
        </p:nvPicPr>
        <p:blipFill>
          <a:blip r:embed="rId2"/>
          <a:stretch/>
        </p:blipFill>
        <p:spPr>
          <a:xfrm>
            <a:off x="6072120" y="4143240"/>
            <a:ext cx="1666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139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42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4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45" dur="5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22:22:04Z</dcterms:created>
  <dc:creator>Valued Acer Customer</dc:creator>
  <dc:description/>
  <dc:language>en-US</dc:language>
  <cp:lastModifiedBy>SamLab.ws</cp:lastModifiedBy>
  <dcterms:modified xsi:type="dcterms:W3CDTF">2011-05-02T12:07:13Z</dcterms:modified>
  <cp:revision>34</cp:revision>
  <dc:subject/>
  <dc:title>Развивающие задания №2  2 класс</dc:title>
</cp:coreProperties>
</file>