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0CFE-7CC0-4213-8412-7E5BA60922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8ABD-6B5C-4C09-88AD-BA841A86629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читается, что в этот день Архангел Гавриил возвестил Деве Марии о непорочном зачатии и предстоящем рождении сына Иисуса Христа. Гавриил сказал ей слова, которые Церковь ежедневно повторяет в молитве: "Богородице Дево, радуйся!"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цена Благовещения содержится только в Евангелии от Луки (I, 26-38). Архангел Гавриил явился деве Марии у нее дома и поведал ей благую весть. "Мария же сказала Ангелу: "как будет это, когда я мужа не знаю?". Ангел сказал ей в ответ: "Дух Святый найдет на Тебя, и сила Всевышнего осенит Тебя; посему и рождаемое Святое наречется Сыном Божиим".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ема Благовещения доминирует в  христианском искусстве. Иконография  Благовещения впервые складывается в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веке. Вероятно,  самая ранняя композиция находится в катакомбах Присциллы (III в.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ри важнейших элемента сюжета: Ангел, Дева Мария и голубь Святого Духа, нисходящий к ней. Часто в изображениях встречаются дополнительные символические элементы, взятые из апокрифических Евангелий и Золотой Легенды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 Руси в этот день было заведено отпускать на волю птиц. В старину также существовал обычай под Благовещение ночью сжигать свои соломенные постели, чтобы истребить болезни, а женщины пережигали в печи соль и верили, что теперь она будет творить чудеса в лечении всех заболевани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 празднику существует ряд народных примет. Одна из самых главных, запрещающих работать, гласит: "На Благовещение птица гнезда не вьет, девка косы не плетет". Ветер, иней и туман — к урожайному году. Мокрое Благовещение — грибное лето. На Благовещение гроза — к теплому лету, урожаю орехов. На Благовещение мороз — урожай на грузди. Коли ночь на Благовещение теплая, весна будет дружная. Как Благовещение проведешь, так и весь год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ропарь праздник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несь спасения нашего главизна, и еже от века таинства явление; Сын Божий Сын Девы бывает, и Гавриил благодать благовествует. Темже и мы с ним Богородице возопиим: радуйся, благодатная, Господь с Тобою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"Ныне начало нашего спасения и обнаружение тайны, которая предуставлена была прежде всех веков: Сын Божий - Сын Девы бывает, и Гавриил благодать благовествует. Поэтому и мы с ним Богородице воскликнем: радуйся, Благодатная, Господь с Тобою!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ондак праздник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збранной Воеводе победительная, яко избавльшеся от злых, благодарственная воспесуем Ти раби Твои, Богородице, но яко имущая державу непобедимую, от всяких нас бед свободи, да зовем Ти: радуйся, Невесто Неневестна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"Тебе, высшей Военачальнице, избавившись от бед, мы, недостойные рабы Твои, Богородица, воспеваем победную и благодарственную песнь. Ты же, как имеющая силу непобедимую, освобождай нас от всяких бед, чтобы мы взывали к Тебе: радуйся Невеста, в брак не вступившая!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A2C2-17DB-4630-9EA7-389996C1F39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6C79B-6490-48B1-8E11-BA8E2C1C0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13A17-83DD-4CE8-9E11-05C8E94C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FDF63-609E-4E2B-A60A-C0A368825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9DF29-0CDE-4172-8669-65C61655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1218-4E84-4A0A-917A-1E151B826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CE1B-F126-4F04-B435-AE39756B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D501-D021-4991-BF9E-5ACFFF2F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71F0-5106-49C3-BF23-24DF87AC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0C1E-8D51-4366-8E55-2FC781E9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D6B5-8C71-447F-A04B-6916C855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E0CF-0C39-4935-824A-CAAF3151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E9B82-A108-4DD4-8F5C-5A658CB1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49DD-B7D8-4695-B23F-D6C1945D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C1AE-6B3D-4028-B72F-0AE5A5D5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6C29-F69E-4770-8F7B-D6BACB92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D4C9-82B0-48E7-ACB3-75A1990B1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2861-EFC6-4B21-AAEF-8FE0EE463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136EC-950F-456E-8967-C2A40518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AC08B-246D-4695-A903-620F60BB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B90C4-7C8F-472C-900B-4E84527D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27D0A-5BDC-4925-83CB-B435B617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03A0F-150C-4C7A-91DD-33D6CADC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9A80E-E693-4896-9796-1CF48972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DEB49-298C-467C-AF2F-2BC0FC6F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486C-B5F1-42F9-A489-4819EBB0A5C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F72C-248C-4C52-85B2-6848364B538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5e5ff"/>
                </a:solidFill>
                <a:latin typeface="Garamond"/>
              </a:rPr>
              <a:t>Благовещение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3200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отмечается 25 марта/7 апреля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5000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Arial"/>
              </a:rPr>
              <a:t>Пьетро Дела Франческо. Благовещение. Сан-Франческо. Ареццо 1452-66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6" descr="frantcheska1"/>
          <p:cNvPicPr/>
          <p:nvPr/>
        </p:nvPicPr>
        <p:blipFill>
          <a:blip r:embed="rId1"/>
          <a:stretch/>
        </p:blipFill>
        <p:spPr>
          <a:xfrm>
            <a:off x="2627280" y="189000"/>
            <a:ext cx="3025800" cy="5113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539640" y="836640"/>
            <a:ext cx="8209080" cy="42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опарь празд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несь спасения нашего главизна, и еже от века таинства явление; Сын Божий Сын Девы бывает, и Гавриил благодать благовествует. Темже и мы с ним Богородице возопиим: радуйся, благодатная, Господь с Тобою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Ныне начало нашего спасения и обнаружение тайны, которая предуставлена была прежде всех веков: Сын Божий - Сын Девы бывает, и Гавриил благодать благовествует. Поэтому и мы с ним Богородице воскликнем: радуйся, Благодатная, Господь с Тобою!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558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Arial"/>
              </a:rPr>
              <a:t>Леонардо  Да Винчи. Благовещение. Уффици 1472-75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Picture 6" descr="Blagovischschinie 1472-1475Леонардо да Винчи"/>
          <p:cNvPicPr/>
          <p:nvPr/>
        </p:nvPicPr>
        <p:blipFill>
          <a:blip r:embed="rId1"/>
          <a:stretch/>
        </p:blipFill>
        <p:spPr>
          <a:xfrm>
            <a:off x="755640" y="1700280"/>
            <a:ext cx="6661080" cy="29131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826920" y="907920"/>
            <a:ext cx="7201080" cy="51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дак празд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збранной Воеводе победительная, яко избавльшеся от злых, благодарственная воспесуем Ти раби Твои, Богородице, но яко имущая державу непобедимую, от всяких нас бед свободи, да зовем Ти: радуйся, Невесто Неневестн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Тебе, высшей Военачальнице, избавившись от бед, мы, недостойные рабы Твои, Богородица, воспеваем победную и благодарственную песнь. Ты же, как имеющая силу непобедимую, освобождай нас от всяких бед, чтобы мы взывали к Тебе: радуйся Невеста, в брак не вступившая!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Arial"/>
              </a:rPr>
              <a:t>Боттичелли. Благовещение.1489. Уффици. Флоренция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8" name="Picture 6" descr="Sandro BOTTICELLI"/>
          <p:cNvPicPr/>
          <p:nvPr/>
        </p:nvPicPr>
        <p:blipFill>
          <a:blip r:embed="rId1"/>
          <a:stretch/>
        </p:blipFill>
        <p:spPr>
          <a:xfrm>
            <a:off x="1547640" y="476280"/>
            <a:ext cx="5329440" cy="5173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Arial"/>
              </a:rPr>
              <a:t>Пинтуриккьо.</a:t>
            </a:r>
            <a:r>
              <a:rPr b="1" lang="en-US" sz="2400" spc="-1" strike="noStrike">
                <a:solidFill>
                  <a:srgbClr val="e5e5ff"/>
                </a:solidFill>
                <a:latin typeface="Arial"/>
              </a:rPr>
              <a:t>1551.</a:t>
            </a:r>
            <a:r>
              <a:rPr b="1" lang="ru-RU" sz="2400" spc="-1" strike="noStrike">
                <a:solidFill>
                  <a:srgbClr val="e5e5ff"/>
                </a:solidFill>
                <a:latin typeface="Arial"/>
              </a:rPr>
              <a:t>Благовещение. Перуджа, церковь Санта-Мария Маджоре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Picture 6" descr="Пинтуриккьо"/>
          <p:cNvPicPr/>
          <p:nvPr/>
        </p:nvPicPr>
        <p:blipFill>
          <a:blip r:embed="rId1"/>
          <a:stretch/>
        </p:blipFill>
        <p:spPr>
          <a:xfrm>
            <a:off x="1619280" y="549360"/>
            <a:ext cx="6362640" cy="5083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Arial"/>
              </a:rPr>
              <a:t>Эль Греко. Благовещение.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2" name="Picture 6" descr="Эль Греко"/>
          <p:cNvPicPr/>
          <p:nvPr/>
        </p:nvPicPr>
        <p:blipFill>
          <a:blip r:embed="rId1"/>
          <a:stretch/>
        </p:blipFill>
        <p:spPr>
          <a:xfrm>
            <a:off x="2987640" y="1557360"/>
            <a:ext cx="3573360" cy="51116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5444640"/>
            <a:ext cx="8362800" cy="12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Данте Габриель Россетти. Благовещение.1850. Тэйт . Лондон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4" name="Picture 6" descr="41-4"/>
          <p:cNvPicPr/>
          <p:nvPr/>
        </p:nvPicPr>
        <p:blipFill>
          <a:blip r:embed="rId1"/>
          <a:stretch/>
        </p:blipFill>
        <p:spPr>
          <a:xfrm>
            <a:off x="3276720" y="0"/>
            <a:ext cx="3171600" cy="5506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1212480"/>
            <a:ext cx="874872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Считается, что в этот день Архангел Гавриил возвестил Деве Марии о непорочном зачатии и предстоящем рождении сына Иисуса Христа. Гавриил сказал ей слова, которые Церковь ежедневно повторяет в молитве: "Богородице Дево, радуйся!"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20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Устюжское Благовещение.  Великий Новгород .</a:t>
            </a:r>
            <a:r>
              <a:rPr b="1" lang="en-US" sz="2000" spc="-1" strike="noStrike">
                <a:solidFill>
                  <a:srgbClr val="e5e5ff"/>
                </a:solidFill>
                <a:latin typeface="Arial"/>
              </a:rPr>
              <a:t>XII </a:t>
            </a: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век (ГТГ)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Picture 6" descr="Novgorod School, 12th century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411280" y="404640"/>
            <a:ext cx="3851280" cy="5545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755640" y="119700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цена Благовещения содержится только в Евангелии от Луки (I, 26-38). Архангел Гавриил явился деве Марии у нее дома и поведал ей благую весть. "Мария же сказала Ангелу: "как будет это, когда я мужа не знаю?". Ангел сказал ей в ответ: "Дух Святый найдет на Тебя, и сила Всевышнего осенит Тебя; посему и рождаемое Святое наречется Сыном Божиим"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Благовещения доминирует в  христианском искусстве. Иконография  Благовещения впервые складывается в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еке. Вероятно,  самая ранняя композиция находится в катакомбах Присциллы (III в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558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Arial"/>
              </a:rPr>
              <a:t>Симоне Мартини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. </a:t>
            </a:r>
            <a:r>
              <a:rPr b="1" lang="ru-RU" sz="2400" spc="-1" strike="noStrike">
                <a:solidFill>
                  <a:srgbClr val="e5e5ff"/>
                </a:solidFill>
                <a:latin typeface="Arial"/>
              </a:rPr>
              <a:t>Благовещение. 1333. Уффици, Флоренция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Picture 7" descr="SIMONE MARTINI1333"/>
          <p:cNvPicPr/>
          <p:nvPr/>
        </p:nvPicPr>
        <p:blipFill>
          <a:blip r:embed="rId1"/>
          <a:stretch/>
        </p:blipFill>
        <p:spPr>
          <a:xfrm>
            <a:off x="1908000" y="692280"/>
            <a:ext cx="5832720" cy="4975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684360" y="476280"/>
            <a:ext cx="7920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и важнейших элемента сюжета: Ангел, Дева Мария и голубь Святого Духа, нисходящий к ней. Часто в изображениях встречаются дополнительные символические элементы, взятые из апокрифических Евангелий и Золотой Легенд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лилия, прялка или корзина с пряжей, книга(пророчество Исайи 7:14)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западной традиции сцена часто изображается  в интерьере(покои Марии)  или на фоне церковной архитектуры, которая несет в себе символическое значение(элементы готической архитектуры символизируют христианство и церковь, романские руины  или синагоги символизируют иудаизм)- переход  от Ветхого Завета к Новому. В искусстве  Контрреформации произошла смена места сюжета и , начиная с конц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V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ека, фон растворяется в небесах и облак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Arial"/>
              </a:rPr>
              <a:t>Фра Анджелико.1450. Музей Сан-Марко. Флоренция</a:t>
            </a: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Picture 10" descr="фра анджелико"/>
          <p:cNvPicPr/>
          <p:nvPr/>
        </p:nvPicPr>
        <p:blipFill>
          <a:blip r:embed="rId1"/>
          <a:stretch/>
        </p:blipFill>
        <p:spPr>
          <a:xfrm>
            <a:off x="1332000" y="476280"/>
            <a:ext cx="6048360" cy="4784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Arial"/>
              </a:rPr>
              <a:t>Фра Филиппо Липпи. Благовещение. 1442. Сан Лоренцо. Флоренция.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Picture 6" descr="lippi-fra-annunciation"/>
          <p:cNvPicPr/>
          <p:nvPr/>
        </p:nvPicPr>
        <p:blipFill>
          <a:blip r:embed="rId1"/>
          <a:stretch/>
        </p:blipFill>
        <p:spPr>
          <a:xfrm>
            <a:off x="1763640" y="620640"/>
            <a:ext cx="5112000" cy="5013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971640" y="692280"/>
            <a:ext cx="777708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Руси в этот день было заведено отпускать на волю птиц. В старину также существовал обычай под Благовещение ночью сжигать свои соломенные постели, чтобы истребить болезни, а женщины пережигали в печи соль и верили, что теперь она будет творить чудеса в лечении всех заболева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 празднику существует ряд народных примет. Одна из самых главных, запрещающих работать, гласит: "На Благовещение птица гнезда не вьет, девка косы не плетет". Ветер, иней и туман — к урожайному году. Мокрое Благовещение — грибное лето. На Благовещение гроза — к теплому лету, урожаю орехов. На Благовещение мороз — урожай на грузди. Коли ночь на Благовещение теплая, весна будет дружная. Как Благовещение проведешь, так и весь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5:10:09Z</dcterms:created>
  <dc:creator>Elizabeth</dc:creator>
  <dc:description/>
  <dc:language>en-US</dc:language>
  <cp:lastModifiedBy>ДВ</cp:lastModifiedBy>
  <dcterms:modified xsi:type="dcterms:W3CDTF">2011-04-22T10:32:14Z</dcterms:modified>
  <cp:revision>11</cp:revision>
  <dc:subject/>
  <dc:title>Благовещение Пресвятой Богородицы.</dc:title>
</cp:coreProperties>
</file>