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44F4-F5A6-4062-ADA4-4E389BC6C3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2F50-6D44-41DE-8CDD-0B524B5A3E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читается, что в этот день Архангел Гавриил возвестил Деве Марии о непорочном зачатии и предстоящем рождении сына Иисуса Христа. Гавриил сказал ей слова, которые Церковь ежедневно повторяет в молитве: "Богородице Дево, радуйся!"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цена Благовещения содержится только в Евангелии от Луки (I, 26-38). Архангел Гавриил явился деве Марии у нее дома и поведал ей благую весть. "Мария же сказала Ангелу: "как будет это, когда я мужа не знаю?". Ангел сказал ей в ответ: "Дух Святый найдет на Тебя, и сила Всевышнего осенит Тебя; посему и рождаемое Святое наречется Сыном Божиим".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ма Благовещения доминирует в  христианском искусстве. Иконография  Благовещения впервые складывается в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еке. Вероятно,  самая ранняя композиция находится в катакомбах Присциллы (III в.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и важнейших элемента сюжета: Ангел, Дева Мария и голубь Святого Духа, нисходящий к ней. Часто в изображениях встречаются дополнительные символические элементы, взятые из апокрифических Евангелий и Золотой Легенд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 Руси в этот день было заведено отпускать на волю птиц. В старину также существовал обычай под Благовещение ночью сжигать свои соломенные постели, чтобы истребить болезни, а женщины пережигали в печи соль и верили, что теперь она будет творить чудеса в лечении всех заболеван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 празднику существует ряд народных примет. Одна из самых главных, запрещающих работать, гласит: "На Благовещение птица гнезда не вьет, девка косы не плетет". Ветер, иней и туман — к урожайному году. Мокрое Благовещение — грибное лето. На Благовещение гроза — к теплому лету, урожаю орехов. На Благовещение мороз — урожай на грузди. Коли ночь на Благовещение теплая, весна будет дружная. Как Благовещение проведешь, так и весь год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опарь праздник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несь спасения нашего главизна, и еже от века таинства явление; Сын Божий Сын Девы бывает, и Гавриил благодать благовествует. Темже и мы с ним Богородице возопиим: радуйся, благодатная, Господь с Тобою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"Ныне начало нашего спасения и обнаружение тайны, которая предуставлена была прежде всех веков: Сын Божий - Сын Девы бывает, и Гавриил благодать благовествует. Поэтому и мы с ним Богородице воскликнем: радуйся, Благодатная, Господь с Тобою!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ндак праздник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збранной Воеводе победительная, яко избавльшеся от злых, благодарственная воспесуем Ти раби Твои, Богородице, но яко имущая державу непобедимую, от всяких нас бед свободи, да зовем Ти: радуйся, Невесто Неневестна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"Тебе, высшей Военачальнице, избавившись от бед, мы, недостойные рабы Твои, Богородица, воспеваем победную и благодарственную песнь. Ты же, как имеющая силу непобедимую, освобождай нас от всяких бед, чтобы мы взывали к Тебе: радуйся Невеста, в брак не вступившая!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1DF2-B28D-4199-8454-C9313027AA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242AE-500C-47D9-A791-0D232A04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B92CD-8BF5-4131-9BD8-C6A6ABBE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DB60D-79AD-4C31-8091-E502C029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DDD74-F249-454B-A868-4599E01A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5546-2F52-4F1B-99B8-9CBEC35F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F26F-6D35-45B1-A6C1-01A2B08A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23F3-C2A3-4D41-90AD-2A49864D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71B3-3DF4-4211-82E9-5D5E0C4E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61CD-B55C-4C96-85EB-1D2B1645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0A98-E3D7-4275-BEEF-48A9482C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00C1-F0AF-4A63-A30C-E04864F8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E9B06-AF37-4A15-90C6-871012C2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D7C2-E0FC-4451-A74C-BA2C2F07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6BE6-F4F5-4C19-8425-D940DEE8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AB2E-07A5-42C1-8343-BEC64D5F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A58D-AFDD-4D84-A659-67943E31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C559-D7AA-4397-97F8-66991E1A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8C45E-7D67-4EF7-8318-8749C9D6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F8043-15C4-4130-AEFC-A5B3F707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EC6B6-1076-49BC-BCA0-15DAA56A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A995B-B637-4BEE-A02F-219E80BA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1154C-6D33-4164-9596-9E06747D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EC14E-B98F-4DC9-AB70-C6F8EB59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6F528-39BA-4D50-9D01-E866AD04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D4A0-B722-4580-9106-D14A8B09FB6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3EE7-4C85-4212-8060-069F1443222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5e5ff"/>
                </a:solidFill>
                <a:latin typeface="Garamond"/>
              </a:rPr>
              <a:t>Благовещение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отмечается 25 марта/7 апреля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5000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Пьетро Дела Франческо. Благовещение. Сан-Франческо. Ареццо 1452-66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6" descr="frantcheska1"/>
          <p:cNvPicPr/>
          <p:nvPr/>
        </p:nvPicPr>
        <p:blipFill>
          <a:blip r:embed="rId1"/>
          <a:stretch/>
        </p:blipFill>
        <p:spPr>
          <a:xfrm>
            <a:off x="2627280" y="189000"/>
            <a:ext cx="3025800" cy="5113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539640" y="836640"/>
            <a:ext cx="8209080" cy="42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опарь празд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несь спасения нашего главизна, и еже от века таинства явление; Сын Божий Сын Девы бывает, и Гавриил благодать благовествует. Темже и мы с ним Богородице возопиим: радуйся, благодатная, Господь с Тобою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Ныне начало нашего спасения и обнаружение тайны, которая предуставлена была прежде всех веков: Сын Божий - Сын Девы бывает, и Гавриил благодать благовествует. Поэтому и мы с ним Богородице воскликнем: радуйся, Благодатная, Господь с Тобою!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Леонардо  Да Винчи. Благовещение. Уффици 1472-75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Picture 6" descr="Blagovischschinie 1472-1475Леонардо да Винчи"/>
          <p:cNvPicPr/>
          <p:nvPr/>
        </p:nvPicPr>
        <p:blipFill>
          <a:blip r:embed="rId1"/>
          <a:stretch/>
        </p:blipFill>
        <p:spPr>
          <a:xfrm>
            <a:off x="755640" y="1700280"/>
            <a:ext cx="6661080" cy="2913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826920" y="907920"/>
            <a:ext cx="7201080" cy="51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дак празд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збранной Воеводе победительная, яко избавльшеся от злых, благодарственная воспесуем Ти раби Твои, Богородице, но яко имущая державу непобедимую, от всяких нас бед свободи, да зовем Ти: радуйся, Невесто Неневест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Тебе, высшей Военачальнице, избавившись от бед, мы, недостойные рабы Твои, Богородица, воспеваем победную и благодарственную песнь. Ты же, как имеющая силу непобедимую, освобождай нас от всяких бед, чтобы мы взывали к Тебе: радуйся Невеста, в брак не вступившая!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Боттичелли. Благовещение.1489. Уффици. Флоренция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Picture 6" descr="Sandro BOTTICELLI"/>
          <p:cNvPicPr/>
          <p:nvPr/>
        </p:nvPicPr>
        <p:blipFill>
          <a:blip r:embed="rId1"/>
          <a:stretch/>
        </p:blipFill>
        <p:spPr>
          <a:xfrm>
            <a:off x="1547640" y="476280"/>
            <a:ext cx="5329440" cy="5173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Пинтуриккьо.</a:t>
            </a:r>
            <a:r>
              <a:rPr b="1" lang="en-US" sz="2400" spc="-1" strike="noStrike">
                <a:solidFill>
                  <a:srgbClr val="e5e5ff"/>
                </a:solidFill>
                <a:latin typeface="Arial"/>
              </a:rPr>
              <a:t>1551.</a:t>
            </a: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Благовещение. Перуджа, церковь Санта-Мария Маджоре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Picture 6" descr="Пинтуриккьо"/>
          <p:cNvPicPr/>
          <p:nvPr/>
        </p:nvPicPr>
        <p:blipFill>
          <a:blip r:embed="rId1"/>
          <a:stretch/>
        </p:blipFill>
        <p:spPr>
          <a:xfrm>
            <a:off x="1619280" y="549360"/>
            <a:ext cx="6362640" cy="5083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Эль Греко. Благовещение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Picture 6" descr="Эль Греко"/>
          <p:cNvPicPr/>
          <p:nvPr/>
        </p:nvPicPr>
        <p:blipFill>
          <a:blip r:embed="rId1"/>
          <a:stretch/>
        </p:blipFill>
        <p:spPr>
          <a:xfrm>
            <a:off x="2987640" y="1557360"/>
            <a:ext cx="3573360" cy="51116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5444640"/>
            <a:ext cx="8362800" cy="12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анте Габриель Россетти. Благовещение.1850. Тэйт . Лондон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4" name="Picture 6" descr="41-4"/>
          <p:cNvPicPr/>
          <p:nvPr/>
        </p:nvPicPr>
        <p:blipFill>
          <a:blip r:embed="rId1"/>
          <a:stretch/>
        </p:blipFill>
        <p:spPr>
          <a:xfrm>
            <a:off x="3276720" y="0"/>
            <a:ext cx="3171600" cy="5506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212480"/>
            <a:ext cx="874872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Считается, что в этот день Архангел Гавриил возвестил Деве Марии о непорочном зачатии и предстоящем рождении сына Иисуса Христа. Гавриил сказал ей слова, которые Церковь ежедневно повторяет в молитве: "Богородице Дево, радуйся!"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20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Устюжское Благовещение.  Великий Новгород .</a:t>
            </a:r>
            <a:r>
              <a:rPr b="1" lang="en-US" sz="2000" spc="-1" strike="noStrike">
                <a:solidFill>
                  <a:srgbClr val="e5e5ff"/>
                </a:solidFill>
                <a:latin typeface="Arial"/>
              </a:rPr>
              <a:t>XII </a:t>
            </a: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век (ГТГ)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6" descr="Novgorod School, 12th century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411280" y="404640"/>
            <a:ext cx="3851280" cy="5545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755640" y="119700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цена Благовещения содержится только в Евангелии от Луки (I, 26-38). Архангел Гавриил явился деве Марии у нее дома и поведал ей благую весть. "Мария же сказала Ангелу: "как будет это, когда я мужа не знаю?". Ангел сказал ей в ответ: "Дух Святый найдет на Тебя, и сила Всевышнего осенит Тебя; посему и рождаемое Святое наречется Сыном Божиим"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Благовещения доминирует в  христианском искусстве. Иконография  Благовещения впервые складывается в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еке. Вероятно,  самая ранняя композиция находится в катакомбах Присциллы (III в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Симоне Мартини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. </a:t>
            </a: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Благовещение. 1333. Уффици, Флоренция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7" descr="SIMONE MARTINI1333"/>
          <p:cNvPicPr/>
          <p:nvPr/>
        </p:nvPicPr>
        <p:blipFill>
          <a:blip r:embed="rId1"/>
          <a:stretch/>
        </p:blipFill>
        <p:spPr>
          <a:xfrm>
            <a:off x="1908000" y="692280"/>
            <a:ext cx="5832720" cy="4975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684360" y="476280"/>
            <a:ext cx="792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и важнейших элемента сюжета: Ангел, Дева Мария и голубь Святого Духа, нисходящий к ней. Часто в изображениях встречаются дополнительные символические элементы, взятые из апокрифических Евангелий и Золотой Легенд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лилия, прялка или корзина с пряжей, книга(пророчество Исайи 7:14)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падной традиции сцена часто изображается  в интерьере(покои Марии)  или на фоне церковной архитектуры, которая несет в себе символическое значение(элементы готической архитектуры символизируют христианство и церковь, романские руины  или синагоги символизируют иудаизм)- переход  от Ветхого Завета к Новому. В искусстве  Контрреформации произошла смена места сюжета и , начиная с конц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ека, фон растворяется в небесах и обла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Фра Анджелико.1450. Музей Сан-Марко. Флоренция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Picture 10" descr="фра анджелико"/>
          <p:cNvPicPr/>
          <p:nvPr/>
        </p:nvPicPr>
        <p:blipFill>
          <a:blip r:embed="rId1"/>
          <a:stretch/>
        </p:blipFill>
        <p:spPr>
          <a:xfrm>
            <a:off x="1332000" y="476280"/>
            <a:ext cx="6048360" cy="4784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Фра Филиппо Липпи. Благовещение. 1442. Сан Лоренцо. Флоренция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6" descr="lippi-fra-annunciation"/>
          <p:cNvPicPr/>
          <p:nvPr/>
        </p:nvPicPr>
        <p:blipFill>
          <a:blip r:embed="rId1"/>
          <a:stretch/>
        </p:blipFill>
        <p:spPr>
          <a:xfrm>
            <a:off x="1763640" y="620640"/>
            <a:ext cx="5112000" cy="5013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971640" y="692280"/>
            <a:ext cx="777708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Руси в этот день было заведено отпускать на волю птиц. В старину также существовал обычай под Благовещение ночью сжигать свои соломенные постели, чтобы истребить болезни, а женщины пережигали в печи соль и верили, что теперь она будет творить чудеса в лечении всех заболев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 празднику существует ряд народных примет. Одна из самых главных, запрещающих работать, гласит: "На Благовещение птица гнезда не вьет, девка косы не плетет". Ветер, иней и туман — к урожайному году. Мокрое Благовещение — грибное лето. На Благовещение гроза — к теплому лету, урожаю орехов. На Благовещение мороз — урожай на грузди. Коли ночь на Благовещение теплая, весна будет дружная. Как Благовещение проведешь, так и весь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5:10:09Z</dcterms:created>
  <dc:creator>Elizabeth</dc:creator>
  <dc:description/>
  <dc:language>en-US</dc:language>
  <cp:lastModifiedBy>ДВ</cp:lastModifiedBy>
  <dcterms:modified xsi:type="dcterms:W3CDTF">2011-04-22T10:32:14Z</dcterms:modified>
  <cp:revision>11</cp:revision>
  <dc:subject/>
  <dc:title>Благовещение Пресвятой Богородицы.</dc:title>
</cp:coreProperties>
</file>