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F374-2896-424C-AFAE-5DE9635467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AE71-0C90-46DE-B581-AF9E844FC1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читается, что в этот день Архангел Гавриил возвестил Деве Марии о непорочном зачатии и предстоящем рождении сына Иисуса Христа. Гавриил сказал ей слова, которые Церковь ежедневно повторяет в молитве: "Богородице Дево, радуйся!"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цена Благовещения содержится только в Евангелии от Луки (I, 26-38). Архангел Гавриил явился деве Марии у нее дома и поведал ей благую весть. "Мария же сказала Ангелу: "как будет это, когда я мужа не знаю?". Ангел сказал ей в ответ: "Дух Святый найдет на Тебя, и сила Всевышнего осенит Тебя; посему и рождаемое Святое наречется Сыном Божиим".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ма Благовещения доминирует в  христианском искусстве. Иконография  Благовещения впервые складывается в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еке. Вероятно,  самая ранняя композиция находится в катакомбах Присциллы (III в.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и важнейших элемента сюжета: Ангел, Дева Мария и голубь Святого Духа, нисходящий к ней. Часто в изображениях встречаются дополнительные символические элементы, взятые из апокрифических Евангелий и Золотой Легенд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Руси в этот день было заведено отпускать на волю птиц. В старину также существовал обычай под Благовещение ночью сжигать свои соломенные постели, чтобы истребить болезни, а женщины пережигали в печи соль и верили, что теперь она будет творить чудеса в лечении всех заболеван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 празднику существует ряд народных примет. Одна из самых главных, запрещающих работать, гласит: "На Благовещение птица гнезда не вьет, девка косы не плетет". Ветер, иней и туман — к урожайному году. Мокрое Благовещение — грибное лето. На Благовещение гроза — к теплому лету, урожаю орехов. На Благовещение мороз — урожай на грузди. Коли ночь на Благовещение теплая, весна будет дружная. Как Благовещение проведешь, так и весь год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опарь праздн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несь спасения нашего главизна, и еже от века таинства явление; Сын Божий Сын Девы бывает, и Гавриил благодать благовествует. Темже и мы с ним Богородице возопиим: радуйся, благодатная, Господь с Тобою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"Ныне начало нашего спасения и обнаружение тайны, которая предуставлена была прежде всех веков: Сын Божий - Сын Девы бывает, и Гавриил благодать благовествует. Поэтому и мы с ним Богородице воскликнем: радуйся, Благодатная, Господь с Тобою!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ндак праздн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збранной Воеводе победительная, яко избавльшеся от злых, благодарственная воспесуем Ти раби Твои, Богородице, но яко имущая державу непобедимую, от всяких нас бед свободи, да зовем Ти: радуйся, Невесто Неневестна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"Тебе, высшей Военачальнице, избавившись от бед, мы, недостойные рабы Твои, Богородица, воспеваем победную и благодарственную песнь. Ты же, как имеющая силу непобедимую, освобождай нас от всяких бед, чтобы мы взывали к Тебе: радуйся Невеста, в брак не вступившая!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7E44-1E1A-4D8E-92AC-6254959CA2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642C-68D7-456B-976C-1A8326B8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1F82-D511-44D4-AB68-15329766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F12B-704D-4FFF-89FF-2CECDD1F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05E2-0A8B-40C7-8271-3B1466CA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C07A-AD52-41B7-9B5A-12E7B44D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6DE4-7F0C-4F0C-8C77-19BD6C0E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35A2-9476-4B30-AA01-A823F111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D8AC-7AF2-4E9F-95FF-E5AC19BA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053D-679D-476A-8590-F8F77BA3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82A1-3EE9-4879-96D7-B3C0921C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D2A8-8059-494A-84EE-2169671B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F760-DC82-4E29-A168-762ADF3B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A351-AE9F-43A8-B949-F447BDD8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E19B-7A1B-44B4-88BC-F1057C0D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F27F-6473-4D94-9DFD-1BEE1E4E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C973-21AC-4DA3-A1CE-76A98EDC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354B-67F8-450B-A4ED-ABB8D1A4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897A-A1B5-41EC-ACA6-37CA962F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0389-C725-4D6C-8490-B3BD87B2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E6EC-7376-42D5-9340-ADC8A2B4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D4B7-982F-4FE3-A48C-49B66A62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056E-76D5-49ED-AD75-7B53D447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3C55-4F62-4240-8E3A-4208D3B6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F699-F10D-4C0C-8875-46E2358C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7201-9F84-4D29-A539-B2EB17E299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7E35-0C36-4626-9149-6C4A624B2A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e5ff"/>
                </a:solidFill>
                <a:latin typeface="Garamond"/>
              </a:rPr>
              <a:t>Благовещени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отмечается 25 марта/7 апреля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5000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ьетро Дела Франческо. Благовещение. Сан-Франческо. Ареццо 1452-66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6" descr="frantcheska1"/>
          <p:cNvPicPr/>
          <p:nvPr/>
        </p:nvPicPr>
        <p:blipFill>
          <a:blip r:embed="rId1"/>
          <a:stretch/>
        </p:blipFill>
        <p:spPr>
          <a:xfrm>
            <a:off x="2627280" y="189000"/>
            <a:ext cx="3025800" cy="5113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539640" y="836640"/>
            <a:ext cx="8209080" cy="42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опарь празд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несь спасения нашего главизна, и еже от века таинства явление; Сын Божий Сын Девы бывает, и Гавриил благодать благовествует. Темже и мы с ним Богородице возопиим: радуйся, благодатная, Господь с Тобою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Ныне начало нашего спасения и обнаружение тайны, которая предуставлена была прежде всех веков: Сын Божий - Сын Девы бывает, и Гавриил благодать благовествует. Поэтому и мы с ним Богородице воскликнем: радуйся, Благодатная, Господь с Тобою!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Леонардо  Да Винчи. Благовещение. Уффици 1472-75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6" descr="Blagovischschinie 1472-1475Леонардо да Винчи"/>
          <p:cNvPicPr/>
          <p:nvPr/>
        </p:nvPicPr>
        <p:blipFill>
          <a:blip r:embed="rId1"/>
          <a:stretch/>
        </p:blipFill>
        <p:spPr>
          <a:xfrm>
            <a:off x="755640" y="1700280"/>
            <a:ext cx="6661080" cy="2913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826920" y="907920"/>
            <a:ext cx="720108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дак празд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бранной Воеводе победительная, яко избавльшеся от злых, благодарственная воспесуем Ти раби Твои, Богородице, но яко имущая державу непобедимую, от всяких нас бед свободи, да зовем Ти: радуйся, Невесто Неневест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Тебе, высшей Военачальнице, избавившись от бед, мы, недостойные рабы Твои, Богородица, воспеваем победную и благодарственную песнь. Ты же, как имеющая силу непобедимую, освобождай нас от всяких бед, чтобы мы взывали к Тебе: радуйся Невеста, в брак не вступившая!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Боттичелли. Благовещение.1489. Уффици. Флоренц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6" descr="Sandro BOTTICELLI"/>
          <p:cNvPicPr/>
          <p:nvPr/>
        </p:nvPicPr>
        <p:blipFill>
          <a:blip r:embed="rId1"/>
          <a:stretch/>
        </p:blipFill>
        <p:spPr>
          <a:xfrm>
            <a:off x="1547640" y="476280"/>
            <a:ext cx="5329440" cy="5173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интуриккьо.</a:t>
            </a: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1551.</a:t>
            </a: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Благовещение. Перуджа, церковь Санта-Мария Маджор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6" descr="Пинтуриккьо"/>
          <p:cNvPicPr/>
          <p:nvPr/>
        </p:nvPicPr>
        <p:blipFill>
          <a:blip r:embed="rId1"/>
          <a:stretch/>
        </p:blipFill>
        <p:spPr>
          <a:xfrm>
            <a:off x="1619280" y="549360"/>
            <a:ext cx="6362640" cy="5083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Эль Греко. Благовещение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6" descr="Эль Греко"/>
          <p:cNvPicPr/>
          <p:nvPr/>
        </p:nvPicPr>
        <p:blipFill>
          <a:blip r:embed="rId1"/>
          <a:stretch/>
        </p:blipFill>
        <p:spPr>
          <a:xfrm>
            <a:off x="2987640" y="1557360"/>
            <a:ext cx="3573360" cy="5111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362800" cy="12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анте Габриель Россетти. Благовещение.1850. Тэйт . Лондо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6" descr="41-4"/>
          <p:cNvPicPr/>
          <p:nvPr/>
        </p:nvPicPr>
        <p:blipFill>
          <a:blip r:embed="rId1"/>
          <a:stretch/>
        </p:blipFill>
        <p:spPr>
          <a:xfrm>
            <a:off x="3276720" y="0"/>
            <a:ext cx="3171600" cy="5506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212480"/>
            <a:ext cx="8748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читается, что в этот день Архангел Гавриил возвестил Деве Марии о непорочном зачатии и предстоящем рождении сына Иисуса Христа. Гавриил сказал ей слова, которые Церковь ежедневно повторяет в молитве: "Богородице Дево, радуйся!"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Устюжское Благовещение.  Великий Новгород .</a:t>
            </a: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век (ГТГ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6" descr="Novgorod School, 12th centur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11280" y="404640"/>
            <a:ext cx="3851280" cy="5545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55640" y="119700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цена Благовещения содержится только в Евангелии от Луки (I, 26-38). Архангел Гавриил явился деве Марии у нее дома и поведал ей благую весть. "Мария же сказала Ангелу: "как будет это, когда я мужа не знаю?". Ангел сказал ей в ответ: "Дух Святый найдет на Тебя, и сила Всевышнего осенит Тебя; посему и рождаемое Святое наречется Сыном Божиим"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Благовещения доминирует в  христианском искусстве. Иконография  Благовещения впервые складывается в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е. Вероятно,  самая ранняя композиция находится в катакомбах Присциллы (III в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Симоне Мартини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. </a:t>
            </a: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Благовещение. 1333. Уффици, Флоренц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7" descr="SIMONE MARTINI1333"/>
          <p:cNvPicPr/>
          <p:nvPr/>
        </p:nvPicPr>
        <p:blipFill>
          <a:blip r:embed="rId1"/>
          <a:stretch/>
        </p:blipFill>
        <p:spPr>
          <a:xfrm>
            <a:off x="1908000" y="692280"/>
            <a:ext cx="5832720" cy="497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684360" y="476280"/>
            <a:ext cx="79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 важнейших элемента сюжета: Ангел, Дева Мария и голубь Святого Духа, нисходящий к ней. Часто в изображениях встречаются дополнительные символические элементы, взятые из апокрифических Евангелий и Золотой Легенд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илия, прялка или корзина с пряжей, книга(пророчество Исайи 7:14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падной традиции сцена часто изображается  в интерьере(покои Марии)  или на фоне церковной архитектуры, которая несет в себе символическое значение(элементы готической архитектуры символизируют христианство и церковь, романские руины  или синагоги символизируют иудаизм)- переход  от Ветхого Завета к Новому. В искусстве  Контрреформации произошла смена места сюжета и , начиная с конц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а, фон растворяется в небесах и обла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Фра Анджелико.1450. Музей Сан-Марко. Флоренция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10" descr="фра анджелико"/>
          <p:cNvPicPr/>
          <p:nvPr/>
        </p:nvPicPr>
        <p:blipFill>
          <a:blip r:embed="rId1"/>
          <a:stretch/>
        </p:blipFill>
        <p:spPr>
          <a:xfrm>
            <a:off x="1332000" y="476280"/>
            <a:ext cx="6048360" cy="4784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Фра Филиппо Липпи. Благовещение. 1442. Сан Лоренцо. Флоренция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6" descr="lippi-fra-annunciation"/>
          <p:cNvPicPr/>
          <p:nvPr/>
        </p:nvPicPr>
        <p:blipFill>
          <a:blip r:embed="rId1"/>
          <a:stretch/>
        </p:blipFill>
        <p:spPr>
          <a:xfrm>
            <a:off x="1763640" y="620640"/>
            <a:ext cx="5112000" cy="5013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971640" y="692280"/>
            <a:ext cx="77770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си в этот день было заведено отпускать на волю птиц. В старину также существовал обычай под Благовещение ночью сжигать свои соломенные постели, чтобы истребить болезни, а женщины пережигали в печи соль и верили, что теперь она будет творить чудеса в лечении всех заболе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празднику существует ряд народных примет. Одна из самых главных, запрещающих работать, гласит: "На Благовещение птица гнезда не вьет, девка косы не плетет". Ветер, иней и туман — к урожайному году. Мокрое Благовещение — грибное лето. На Благовещение гроза — к теплому лету, урожаю орехов. На Благовещение мороз — урожай на грузди. Коли ночь на Благовещение теплая, весна будет дружная. Как Благовещение проведешь, так и весь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5:10:09Z</dcterms:created>
  <dc:creator>Elizabeth</dc:creator>
  <dc:description/>
  <dc:language>en-US</dc:language>
  <cp:lastModifiedBy>ДВ</cp:lastModifiedBy>
  <dcterms:modified xsi:type="dcterms:W3CDTF">2011-04-22T10:32:14Z</dcterms:modified>
  <cp:revision>11</cp:revision>
  <dc:subject/>
  <dc:title>Благовещение Пресвятой Богородицы.</dc:title>
</cp:coreProperties>
</file>