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6B9-B1D1-4A98-A036-5030440A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C0B-79D5-446A-A767-6805403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8E5-729D-4D2F-8FB2-5E030FA9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14D-E8F9-44BA-98A1-CEC1D6A5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765B-CEB3-4613-9C08-270A6155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1306-8186-4160-AD85-6EF80019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0B86-B403-4901-A130-649E88BE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7968-F5A2-4F44-98F2-F482A17C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697A-D632-4C74-A2E9-7BD58732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D008-85E9-496D-B52B-7C2E3EC0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17B5-D0B3-432F-BECE-2D7C483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888-F1F7-40F8-89FA-55D8810C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D1B1-9860-43A4-9A7F-E44D933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D2FB-9C41-4069-BE52-91081BC5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EB8F-1F90-4630-8605-84CD44BB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75A5-A5FD-474C-ABD1-ADA1FD86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FC45-2005-4620-B658-A502A91E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656-A338-4636-B6EE-4A439158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2D8-912C-4F51-99FC-7C58BD8D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91D-3A98-4E97-BA99-579CCDC6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2B2-F8A2-436B-B8B1-85D5ABA5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F21-847F-46B6-B98B-4FE7A0A7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0CA-1CE9-4E54-AEF0-48E79407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897-8F74-4806-B3AF-D5ECF54F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705-5D13-4975-BDF4-A325061D8A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955E-B038-4F66-A440-45467F793C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Как выполнять задание С сочинение-рассуждение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9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7280" y="5805360"/>
            <a:ext cx="7777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с.Кочетное Жанеева Талшин Бальж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чевые клише, используемые в сочинении-рассуж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одные сло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таким образом, итак, в заключение, как ви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таксические констру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Итак, можно увидеть, что…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 результате рассуждения мы пришли к выводу о том, что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Эти примеры из текста стали убедительным доказательством того, что…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2.1.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ример сочинения на лингвистическую тему</a:t>
            </a:r>
            <a:br>
              <a:rPr sz="2400"/>
            </a:b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Зачем нужна орфограф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 пол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гласен с мнением Ильи. Действительно, грамотно написанное слово – это ключ к пониманию чужих мыслей и выражению своих. А для того чтобы грамотно писать, надо знать правила русской орфографии. Конечно, их очень много, и выучить все, наверное, очень трудно, но если мы хотим, чтобы нас понимали правильно те, кто воспринимает нашу письменную речь, надо осваивать хотя бы главные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текс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.Пришвина написание, например, слова «приходил» связано с двумя орфографическим правилами: 1) правописание приставок ПРЕ- ПРИ- и «) проверяемая гласная в корне. Согласно первому правилу, в значении «приближение, присоединение» в слове пишется приставка ПРИ- . Согласно второму правилу, для написания правильной буквы в корне надо поставить слабую гласную в сильную позицию: прихА/Одил - х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м 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йтись без орфографических правил. Не знать их – значит не любить и не уважать родной язык и самого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2.1.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ример сочинения на лингвистическую тем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а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речия помогают понять душевное состояние бабы Настась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текс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Ю.Яковлева наречий, описывающих душевное состояние бабы Настасьи несколько: неуверенно (сказала), изумлённо (посмотрела), медленно (вернулась), тяжело (села).  Наречия обозначают признак действия: села (как?) именно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яжело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улась (как?) именн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медленно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наречия подчёркивают неторопливость бабы Настасьи, её не суетливость, важность того, что переживает она в этот момент. Помогают точнее представить её действия , понять её душевное состоя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 соглас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утверждением А.С.Пушкина, что наречия «живописуют глагол», помогают выразительно и точно описать 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5 сл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спеха всем выпускникам 9-х класс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тьяна Бальжан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02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Часть С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чинение-рассу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8360" y="2852280"/>
            <a:ext cx="7989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эту работу отводится приблизительно 55 мин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минус время на переписывание, остаётся минут 40-4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Объём должен составлять не менее 90 слов (до 12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едлагается 2 альтернативных задания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2.1 и С2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40720" y="3357720"/>
            <a:ext cx="1403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ивается умение понимать основную мысль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выражать свою точку зрения на эту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ить свои аргументы и аргументы из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чинении должны быть: зачин, основная часть, конц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о проанализировать авторск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сти доводы в защиту собственной точки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Не допускаетс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каз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ывание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48000" y="2830680"/>
            <a:ext cx="295272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льз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сочинения-рассуждения</a:t>
            </a:r>
            <a:br>
              <a:rPr sz="32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Тезис – доказательства(аргументы) -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ыдвинуть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тез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.е. положение, которое будет доказы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ивести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доказательства(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этого тезиса из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делать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ывод-заклю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ддерживающий выдвинутый тез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АЖНО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ждая из указанных частей рассуждения начинается с нового абза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Текст стр. 8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ние. Объясните,  как вы понимаете смысл последней фразы текста: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«Конёк» же скачет по жизни уже без малого двести лет и законно стал «вечной книгой», как сказки Пушкина, Андерсена, как «Мюнхгаузен» и «Муха-Цокоту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ведите в сочинении 2 аргумента из прочитанного текста, подтверждающие ваши рассуждения. Приводя примеры, указывайте номера нужных предложений, или применяйте цитирование. Объём сочинения должен составлять не менее 9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2.2. Пример сочинения-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578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ч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ужны сказки? Мне кажется, они нужны людям, чтобы верить в добро, счастье, справедливость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сков рассказывает нам о сказке П.Ершова «Конёк-Горбунок».Это одна из любимых книг моего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Эта сказ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забавляет, учит, заставляет смеяться, тревожиться, радоваться», помогает человеку жить , не даёт сердцу очерстветь. В сказке есть «вольный, игривый сплав стихотворной литературы с фольклором – деревенским говором, прибаутками, озорными словечками», я бы сказала, что со страниц этой книги льётся живая русская речь, которую сейчас нигде не услышишь. Я согласна с Песковым: сказка действительно очень лёгкая и интересная даже для взрослых. Много раз я слышала в их речи фразы из «Конька-Горбунка», ставшие крылатыми выражениями: «это службишка, не служба, служба всё, брат, впереди!» или «…средний был и так и сяк, младший вовсе был дура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«Конёк-горбун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 близок людям по духу. Мы находим в этой сказке наши мысли и поступки, наши ошибки, надежды, то есть жизнь, а главное - начинаем верить в хорошее, в то, что и у нас, как в этой сказке, всё будет по справедлив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дёт время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яется образ жизни, достигаются высокие результаты в науке и технике, но души людей остались такими же, как и сто , и двести лет назад. Мы переживаем те же чувства, эмоции, нас волнуют похожие проблемы, и именно поэтому «Конёк» всё также скачет с нами по жизни» и его можно по праву назвать «вечной книгой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че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бята вернулись за письмом солдата? Может быть, они подумали и обсудили между собой, что же на самом деле является реликв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-мое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ению, не только лозунги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Умрём, а не отступим!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являются реликвией, а то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что грело серолицых, осунувшихся подруг, прибавляло им сил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то перекликалось с ними (предложение 59), что давало им надежду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раз пришло письмо – значит, он жи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сс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Ю.Яковлева очень трогательный и поучительный. Не только те ребята, но и я поняла, что значит это короткое, простое письмо для тех, кто пережил войну, разлуку с близкими и их смер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ись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 обычные житейские вещи стало общим, оно давало женщинам силы  снова и снова впрягаться в плуг. А ребятам помогло понять  что-то очень важное в жизни. Ведь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хлопнула калитка, послышались голос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вращавшихся за письмом реб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20 с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Начать можно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за принадлежащая герою дискуссии и её коммента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«Знаки препинания только осложняют нам жизнь», - заявил Саша. Можно ли с этим мнением согласиться? Я думаю, нельзя, потому что…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ие или несогласие с одним из участников лингвистического с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Я согласен с мнением Миши, что без знаков препинания на письме не обойтись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Зачем нужны знаки препинания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-ответ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 («Нужны ли нам сегодня знаки препинания? Безусловно, нужны!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ственное высказыва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Знаки препинания выполняют несколько важных функц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ложение, констатирующее актуальность темы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Сегодня особенно важны знания о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«Проблема является актуальной в наши д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57:50Z</dcterms:created>
  <dc:creator>User</dc:creator>
  <dc:description/>
  <dc:language>en-US</dc:language>
  <cp:lastModifiedBy>User</cp:lastModifiedBy>
  <dcterms:modified xsi:type="dcterms:W3CDTF">2011-08-28T09:48:35Z</dcterms:modified>
  <cp:revision>15</cp:revision>
  <dc:subject/>
  <dc:title>Часть С  сочинение-рассуждение</dc:title>
</cp:coreProperties>
</file>