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0BD3-F609-42E2-B9EC-9AFDEE928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05FD-24F3-4658-B5A9-FF44B318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D374-2CB6-4E1D-BE98-BA39CD1E8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5991-3C5A-4EB2-A9E7-88C11CDE0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32C2-57DD-491F-9929-02F07DA0F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AC1A1-5DF2-4FA3-B350-742C393A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53663-E03B-445E-9634-E39DFC2D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FCD6-AED3-41C7-B943-FC0C7500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C0A5-F5C2-4764-BD6E-5DB6CC90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DDE55-0461-43A0-82B4-88E6AAA0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C6995-FC8A-4EA1-BF07-97881D6A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9A69-B0B9-452B-97FE-48EB0202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5E09-FA72-4876-8982-95CB05E9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05C5-2348-4699-8005-F820DDEA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7E504-B8C1-42A7-82D4-BAF79CDF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57E2-C439-4F3E-B83B-88150A8B7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6652-4BEA-4CCE-AE1A-413D7B22F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359D-B077-449C-BD2A-7C0CD885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8E6B-060C-4935-8538-C4A103FE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F4B1-6272-40A2-A013-78C51446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3C74-00F6-4F63-BF8A-CC7B163B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22AE-2E3E-452C-9EFD-5DDF7FA5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B18C-BAED-46E6-958C-FEA2B487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7618-414F-4995-A197-7E764DA5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6521-C074-44AB-8770-6CF89059A7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0D2E-468F-4753-B929-1771B45AB7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Как выполнять задание С сочинение-рассуждение</a:t>
            </a:r>
            <a:br>
              <a:rPr sz="4000"/>
            </a:br>
            <a:br>
              <a:rPr sz="4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9-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87280" y="5805360"/>
            <a:ext cx="77774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ю подготовила 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СОШ с.Кочетное Жанеева Талшин Бальжа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чевые клише, используемые в сочинении-рассужд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водные сло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ff"/>
                </a:solidFill>
                <a:latin typeface="Arial"/>
              </a:rPr>
              <a:t>таким образом, итак, в заключение, как вид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нтаксические конструкц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ff"/>
                </a:solidFill>
                <a:latin typeface="Arial"/>
              </a:rPr>
              <a:t>Итак, можно увидеть, что…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В результате рассуждения мы пришли к выводу о том, что…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ff"/>
                </a:solidFill>
                <a:latin typeface="Arial"/>
              </a:rPr>
              <a:t>Эти примеры из текста стали убедительным доказательством того, что… 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2.1.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Пример сочинения на лингвистическую тему</a:t>
            </a:r>
            <a:br>
              <a:rPr sz="2400"/>
            </a:b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Зачем нужна орфограф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Я полность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гласен с мнением Ильи. Действительно, грамотно написанное слово – это ключ к пониманию чужих мыслей и выражению своих. А для того чтобы грамотно писать, надо знать правила русской орфографии. Конечно, их очень много, и выучить все, наверное, очень трудно, но если мы хотим, чтобы нас понимали правильно те, кто воспринимает нашу письменную речь, надо осваивать хотя бы главные из н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текст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.Пришвина написание, например, слова «приходил» связано с двумя орфографическим правилами: 1) правописание приставок ПРЕ- ПРИ- и «) проверяемая гласная в корне. Согласно первому правилу, в значении «приближение, присоединение» в слове пишется приставка ПРИ- . Согласно второму правилу, для написания правильной буквы в корне надо поставить слабую гласную в сильную позицию: прихА/Одил - хОд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Нам н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ойтись без орфографических правил. Не знать их – значит не любить и не уважать родной язык и самого себ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2.1.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Пример сочинения на лингвистическую тему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Как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речия помогают понять душевное состояние бабы Настась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текст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Ю.Яковлева наречий, описывающих душевное состояние бабы Настасьи несколько: неуверенно (сказала), изумлённо (посмотрела), медленно (вернулась), тяжело (села).  Наречия обозначают признак действия: села (как?) именно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тяжело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рнулась (как?) именно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медленно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и наречия подчёркивают неторопливость бабы Настасьи, её не суетливость, важность того, что переживает она в этот момент. Помогают точнее представить её действия , понять её душевное состоя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Я соглас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 утверждением А.С.Пушкина, что наречия «живописуют глагол», помогают выразительно и точно описать действ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5 сл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Желаю успеха всем выпускникам 9-х классов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атьяна Бальжанов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30243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Часть С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сочинение-рассуж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68360" y="2852280"/>
            <a:ext cx="79898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эту работу отводится приблизительно 55 мину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минус время на переписывание, остаётся минут 40-4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Объём должен составлять не менее 90 слов (до 12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редлагается 2 альтернативных задания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2.1 и С2.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740720" y="3357720"/>
            <a:ext cx="14032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ценивается умение понимать основную мысль тек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мение выражать свою точку зрения на эту т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водить свои аргументы и аргументы из тек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сочинении должны быть: зачин, основная часть, концов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обходимо проанализировать авторскую пози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вести доводы в защиту собственной точки з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Не допускается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сказ исходного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исывание исходного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348000" y="2830680"/>
            <a:ext cx="2952720" cy="189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ельзя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руктура сочинения-рассуждения</a:t>
            </a:r>
            <a:br>
              <a:rPr sz="32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Тезис – доказательства(аргументы) - 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Выдвинуть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тези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т.е. положение, которое будет доказыва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Привести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 доказательства(аргумен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этого тезиса из тек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Сделать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вывод-заключ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поддерживающий выдвинутый тези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ВАЖНО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Каждая из указанных частей рассуждения начинается с нового абза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Текст стр. 8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2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дание. Объясните,  как вы понимаете смысл последней фразы текста: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«Конёк» же скачет по жизни уже без малого двести лет и законно стал «вечной книгой», как сказки Пушкина, Андерсена, как «Мюнхгаузен» и «Муха-Цокотух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ведите в сочинении 2 аргумента из прочитанного текста, подтверждающие ваши рассуждения. Приводя примеры, указывайте номера нужных предложений, или применяйте цитирование. Объём сочинения должен составлять не менее 90 с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чинение пишите аккуратно, разборчивым почер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2.2. Пример сочинения-рассу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8000" y="907920"/>
            <a:ext cx="85788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Заче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ужны сказки? Мне кажется, они нужны людям, чтобы верить в добро, счастье, справедливость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есков рассказывает нам о сказке П.Ершова «Конёк-Горбунок».Это одна из любимых книг моего дет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Эта сказк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«забавляет, учит, заставляет смеяться, тревожиться, радоваться», помогает человеку жить , не даёт сердцу очерстветь. В сказке есть «вольный, игривый сплав стихотворной литературы с фольклором – деревенским говором, прибаутками, озорными словечками», я бы сказала, что со страниц этой книги льётся живая русская речь, которую сейчас нигде не услышишь. Я согласна с Песковым: сказка действительно очень лёгкая и интересная даже для взрослых. Много раз я слышала в их речи фразы из «Конька-Горбунка», ставшие крылатыми выражениями: «это службишка, не служба, служба всё, брат, впереди!» или «…средний был и так и сяк, младший вовсе был дурак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«Конёк-горбунок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! близок людям по духу. Мы находим в этой сказке наши мысли и поступки, наши ошибки, надежды, то есть жизнь, а главное - начинаем верить в хорошее, в то, что и у нас, как в этой сказке, всё будет по справедлив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Идёт время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еняется образ жизни, достигаются высокие результаты в науке и технике, но души людей остались такими же, как и сто , и двести лет назад. Мы переживаем те же чувства, эмоции, нас волнуют похожие проблемы, и именно поэтому «Конёк» всё также скачет с нами по жизни» и его можно по праву назвать «вечной книгой»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тр 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чем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ебята вернулись за письмом солдата? Может быть, они подумали и обсудили между собой, что же на самом деле является реликви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-моем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нению, не только лозунги </a:t>
            </a: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«Умрём, а не отступим!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являются реликвией, а то </a:t>
            </a: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«что грело серолицых, осунувшихся подруг, прибавляло им сил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то перекликалось с ними (предложение 59), что давало им надежду </a:t>
            </a: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«раз пришло письмо – значит, он жи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асска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Ю.Яковлева очень трогательный и поучительный. Не только те ребята, но и я поняла, что значит это короткое, простое письмо для тех, кто пережил войну, разлуку с близкими и их смер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исьм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 обычные житейские вещи стало общим, оно давало женщинам силы  снова и снова впрягаться в плуг. А ребятам помогло понять  что-то очень важное в жизни. Ведь </a:t>
            </a: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«хлопнула калитка, послышались голос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озвращавшихся за письмом ребя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20 сл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71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Начать можно т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раза принадлежащая герою дискуссии и её комментар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66ff"/>
                </a:solidFill>
                <a:latin typeface="Arial"/>
              </a:rPr>
              <a:t>«Знаки препинания только осложняют нам жизнь», - заявил Саша. Можно ли с этим мнением согласиться? Я думаю, нельзя, потому что…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гласие или несогласие с одним из участников лингвистического сп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ff"/>
                </a:solidFill>
                <a:latin typeface="Arial"/>
              </a:rPr>
              <a:t>(«Я согласен с мнением Миши, что без знаков препинания на письме не обойтись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прос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66ff"/>
                </a:solidFill>
                <a:latin typeface="Arial"/>
              </a:rPr>
              <a:t>(«Зачем нужны знаки препинания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прос-ответ</a:t>
            </a:r>
            <a:r>
              <a:rPr b="0" i="1" lang="en-US" sz="2000" spc="-1" strike="noStrike">
                <a:solidFill>
                  <a:srgbClr val="0066ff"/>
                </a:solidFill>
                <a:latin typeface="Arial"/>
              </a:rPr>
              <a:t> («Нужны ли нам сегодня знаки препинания? Безусловно, нужны!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бственное высказывание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66ff"/>
                </a:solidFill>
                <a:latin typeface="Arial"/>
              </a:rPr>
              <a:t>(«Знаки препинания выполняют несколько важных функц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ложение, констатирующее актуальность темы </a:t>
            </a:r>
            <a:r>
              <a:rPr b="0" i="1" lang="en-US" sz="2000" spc="-1" strike="noStrike">
                <a:solidFill>
                  <a:srgbClr val="0066ff"/>
                </a:solidFill>
                <a:latin typeface="Arial"/>
              </a:rPr>
              <a:t>(«Сегодня особенно важны знания о …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en-US" sz="2000" spc="-1" strike="noStrike">
                <a:solidFill>
                  <a:srgbClr val="0066ff"/>
                </a:solidFill>
                <a:latin typeface="Arial"/>
              </a:rPr>
              <a:t>«Проблема является актуальной в наши дн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8:57:50Z</dcterms:created>
  <dc:creator>User</dc:creator>
  <dc:description/>
  <dc:language>en-US</dc:language>
  <cp:lastModifiedBy>User</cp:lastModifiedBy>
  <dcterms:modified xsi:type="dcterms:W3CDTF">2011-08-28T09:48:35Z</dcterms:modified>
  <cp:revision>15</cp:revision>
  <dc:subject/>
  <dc:title>Часть С  сочинение-рассуждение</dc:title>
</cp:coreProperties>
</file>