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E46-1E98-4B9E-B8B9-B5490802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534-2C77-41BF-924B-4E7803F8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ABF-3908-4379-A709-594CB730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321-94AC-474E-8007-18D6CAFB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6269-73C6-4597-A93D-2ABE0B3D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D49-5431-45E3-B1AD-D0BD973B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7FA6-395F-4542-8917-FAE61DC1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CF28-275B-40AB-8EA1-D528540D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7374-76FB-4987-8C64-998E075D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C44F-E59B-4D4A-8E7A-E6DFE299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2301-350A-4D50-BF6D-67C21DF2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731-EAB6-4C36-9F68-C32C7C31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D03A-6085-4E30-85CD-FA6CD20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3BF3-DD6F-4922-9C70-536085A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6F30-AF17-4A46-B111-357BF48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5B85-13B1-4D30-AEAF-9A8917B6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EA94-5D65-43F0-9BD1-C4A997B5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CE6-611A-4095-9B3F-32E17AA6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D5F-2334-4AB2-8F03-3320B60B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B00-8513-4BC8-9A78-E527E15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80B-F2AD-4728-A946-0E99AF7E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3F7-47D5-4D8D-9F39-3429501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0E9-7386-491B-8E1A-4EEED64E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3D4-67FA-4A70-924D-AF040BA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C8B2-EF22-489C-820D-228D241371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0FCF-5A3F-4475-BE9A-394FDFBD15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Как выполнять задание С сочинение-рассуждение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9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7280" y="5805360"/>
            <a:ext cx="7777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с.Кочетное Жанеева Талшин Бальж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чевые клише, используемые в сочинении-рассуж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одные сло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таким образом, итак, в заключение, как ви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таксические констру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Итак, можно увидеть, что…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 результате рассуждения мы пришли к выводу о том, что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Эти примеры из текста стали убедительным доказательством того, что…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2.1.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ример сочинения на лингвистическую тему</a:t>
            </a:r>
            <a:br>
              <a:rPr sz="2400"/>
            </a:b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Зачем нужна орфограф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 пол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гласен с мнением Ильи. Действительно, грамотно написанное слово – это ключ к пониманию чужих мыслей и выражению своих. А для того чтобы грамотно писать, надо знать правила русской орфографии. Конечно, их очень много, и выучить все, наверное, очень трудно, но если мы хотим, чтобы нас понимали правильно те, кто воспринимает нашу письменную речь, надо осваивать хотя бы главные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текс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.Пришвина написание, например, слова «приходил» связано с двумя орфографическим правилами: 1) правописание приставок ПРЕ- ПРИ- и «) проверяемая гласная в корне. Согласно первому правилу, в значении «приближение, присоединение» в слове пишется приставка ПРИ- . Согласно второму правилу, для написания правильной буквы в корне надо поставить слабую гласную в сильную позицию: прихА/Одил - х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м 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йтись без орфографических правил. Не знать их – значит не любить и не уважать родной язык и самого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2.1.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ример сочинения на лингвистическую тем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а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речия помогают понять душевное состояние бабы Настась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текс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Ю.Яковлева наречий, описывающих душевное состояние бабы Настасьи несколько: неуверенно (сказала), изумлённо (посмотрела), медленно (вернулась), тяжело (села).  Наречия обозначают признак действия: села (как?) именно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яжело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улась (как?) именн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медленно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наречия подчёркивают неторопливость бабы Настасьи, её не суетливость, важность того, что переживает она в этот момент. Помогают точнее представить её действия , понять её душевное состоя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 соглас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утверждением А.С.Пушкина, что наречия «живописуют глагол», помогают выразительно и точно описать 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5 сл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спеха всем выпускникам 9-х класс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тьяна Бальжан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02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Часть С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чинение-рассу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8360" y="2852280"/>
            <a:ext cx="7989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эту работу отводится приблизительно 55 мин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минус время на переписывание, остаётся минут 40-4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Объём должен составлять не менее 90 слов (до 12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едлагается 2 альтернативных задания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2.1 и С2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40720" y="3357720"/>
            <a:ext cx="1403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ивается умение понимать основную мысль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выражать свою точку зрения на эту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ить свои аргументы и аргументы из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чинении должны быть: зачин, основная часть, конц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о проанализировать авторск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сти доводы в защиту собственной точки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Не допускаетс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каз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ывание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48000" y="2830680"/>
            <a:ext cx="295272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льз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сочинения-рассуждения</a:t>
            </a:r>
            <a:br>
              <a:rPr sz="32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Тезис – доказательства(аргументы) -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ыдвинуть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тез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.е. положение, которое будет доказы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ивести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доказательства(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этого тезиса из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делать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ывод-заклю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ддерживающий выдвинутый тез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АЖНО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ждая из указанных частей рассуждения начинается с нового абза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Текст стр. 8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ние. Объясните,  как вы понимаете смысл последней фразы текста: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«Конёк» же скачет по жизни уже без малого двести лет и законно стал «вечной книгой», как сказки Пушкина, Андерсена, как «Мюнхгаузен» и «Муха-Цокоту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ведите в сочинении 2 аргумента из прочитанного текста, подтверждающие ваши рассуждения. Приводя примеры, указывайте номера нужных предложений, или применяйте цитирование. Объём сочинения должен составлять не менее 9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2.2. Пример сочинения-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578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ч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ужны сказки? Мне кажется, они нужны людям, чтобы верить в добро, счастье, справедливость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сков рассказывает нам о сказке П.Ершова «Конёк-Горбунок».Это одна из любимых книг моего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Эта сказ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забавляет, учит, заставляет смеяться, тревожиться, радоваться», помогает человеку жить , не даёт сердцу очерстветь. В сказке есть «вольный, игривый сплав стихотворной литературы с фольклором – деревенским говором, прибаутками, озорными словечками», я бы сказала, что со страниц этой книги льётся живая русская речь, которую сейчас нигде не услышишь. Я согласна с Песковым: сказка действительно очень лёгкая и интересная даже для взрослых. Много раз я слышала в их речи фразы из «Конька-Горбунка», ставшие крылатыми выражениями: «это службишка, не служба, служба всё, брат, впереди!» или «…средний был и так и сяк, младший вовсе был дура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«Конёк-горбун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 близок людям по духу. Мы находим в этой сказке наши мысли и поступки, наши ошибки, надежды, то есть жизнь, а главное - начинаем верить в хорошее, в то, что и у нас, как в этой сказке, всё будет по справедлив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дёт время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яется образ жизни, достигаются высокие результаты в науке и технике, но души людей остались такими же, как и сто , и двести лет назад. Мы переживаем те же чувства, эмоции, нас волнуют похожие проблемы, и именно поэтому «Конёк» всё также скачет с нами по жизни» и его можно по праву назвать «вечной книгой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че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бята вернулись за письмом солдата? Может быть, они подумали и обсудили между собой, что же на самом деле является реликв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-мое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ению, не только лозунги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Умрём, а не отступим!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являются реликвией, а то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что грело серолицых, осунувшихся подруг, прибавляло им сил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то перекликалось с ними (предложение 59), что давало им надежду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раз пришло письмо – значит, он жи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сс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Ю.Яковлева очень трогательный и поучительный. Не только те ребята, но и я поняла, что значит это короткое, простое письмо для тех, кто пережил войну, разлуку с близкими и их смер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ись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 обычные житейские вещи стало общим, оно давало женщинам силы  снова и снова впрягаться в плуг. А ребятам помогло понять  что-то очень важное в жизни. Ведь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хлопнула калитка, послышались голос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вращавшихся за письмом реб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20 с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Начать можно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за принадлежащая герою дискуссии и её коммента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«Знаки препинания только осложняют нам жизнь», - заявил Саша. Можно ли с этим мнением согласиться? Я думаю, нельзя, потому что…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ие или несогласие с одним из участников лингвистического с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Я согласен с мнением Миши, что без знаков препинания на письме не обойтись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Зачем нужны знаки препинания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-ответ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 («Нужны ли нам сегодня знаки препинания? Безусловно, нужны!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ственное высказыва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Знаки препинания выполняют несколько важных функц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ложение, констатирующее актуальность темы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Сегодня особенно важны знания о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«Проблема является актуальной в наши д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57:50Z</dcterms:created>
  <dc:creator>User</dc:creator>
  <dc:description/>
  <dc:language>en-US</dc:language>
  <cp:lastModifiedBy>User</cp:lastModifiedBy>
  <dcterms:modified xsi:type="dcterms:W3CDTF">2011-08-28T09:48:35Z</dcterms:modified>
  <cp:revision>15</cp:revision>
  <dc:subject/>
  <dc:title>Часть С  сочинение-рассуждение</dc:title>
</cp:coreProperties>
</file>