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25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5.png" ContentType="image/png"/>
  <Override PartName="/ppt/media/image26.jpeg" ContentType="image/jpeg"/>
  <Override PartName="/ppt/media/image1.png" ContentType="image/png"/>
  <Override PartName="/ppt/media/image22.jpeg" ContentType="image/jpeg"/>
  <Override PartName="/ppt/media/image17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A73-5B81-42BD-BC90-29228639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D4C-D6E5-4ACB-A42F-BEF8FB7E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428-6448-4C68-A068-A00A725F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193-9278-4D0E-AD80-0BC91329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70C0-18A1-45B8-BEC3-0C0B966D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DADC-022C-4151-94E3-ECFF35E4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593E-043E-4A06-9B53-FCFC94D8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8D37-7809-4620-8081-6E47C58A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75F5-84A5-4CE9-BDB4-D0F0E12D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70A2-6709-4DA5-BBE8-1672360B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2091-B5E2-4B30-A18E-585EEB13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959-2AA3-4763-902E-C04F7788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F656-568F-46B2-B364-390368C6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B422-EC3E-478E-B3D1-8F9BD024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1462-D77D-4DEB-8E19-D5B1303D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0E27-63F0-4EC9-AC3D-8DAE94D7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795E-FE1C-4ED0-B46D-FAC295CC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003-7F0F-48BC-A1C0-766D8D46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5A3-42BB-4386-91FC-A4113547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D69-24ED-4819-BE6D-639DAEA9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4CD-23CD-402B-AF9C-6E4CAA32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F70-4FBB-46E2-AE19-612F5DF2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227-5A5D-4095-9FF3-B6DF5C05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DEA-3763-4F5A-BABA-5735D3A3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1F84-1C6F-45B5-8DF8-3AF5B054C0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B477-12B6-4DAF-8361-B463E35784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file:///&#1085;&#1072;&#1089;&#1090;&#1080;%20&#1080;%20&#1072;&#1088;&#1080;&#1085;&#1077;/&#1055;&#1088;&#1080;&#1083;&#1086;&#1078;&#1077;&#1085;&#1080;&#1103;/&#1057;&#1086;&#1092;&#1080;%20&#1046;&#1077;&#1088;&#1084;&#1077;&#1085;.doc" TargetMode="External"/><Relationship Id="rId5" Type="http://schemas.openxmlformats.org/officeDocument/2006/relationships/image" Target="../media/image14.jpeg"/><Relationship Id="rId6" Type="http://schemas.openxmlformats.org/officeDocument/2006/relationships/hyperlink" Target="file:///&#1085;&#1072;&#1089;&#1090;&#1080;%20&#1080;%20&#1072;&#1088;&#1080;&#1085;&#1077;/&#1055;&#1088;&#1080;&#1083;&#1086;&#1078;&#1077;&#1085;&#1080;&#1103;/&#1052;&#1101;&#1088;&#1080;%20&#1060;&#1077;&#1088;&#1092;&#1072;&#1082;&#1089;%20&#1057;&#1086;&#1084;&#1077;&#1088;&#1074;&#1080;&#1083;&#1100;.doc" TargetMode="Externa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png"/><Relationship Id="rId12" Type="http://schemas.openxmlformats.org/officeDocument/2006/relationships/image" Target="../media/image20.jpeg"/><Relationship Id="rId13" Type="http://schemas.openxmlformats.org/officeDocument/2006/relationships/image" Target="../media/image21.png"/><Relationship Id="rId14" Type="http://schemas.openxmlformats.org/officeDocument/2006/relationships/image" Target="../media/image22.jpeg"/><Relationship Id="rId15" Type="http://schemas.openxmlformats.org/officeDocument/2006/relationships/image" Target="../media/image23.png"/><Relationship Id="rId1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ahoma"/>
              </a:rPr>
              <a:t>Подготовила Клеймёнова Елизавета ученица 5 а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А есть ли великие женщины - математики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туация с женщинами математиками при опросе оказалась гораздо более сложной. Кроме Софьи Ковалевской школьники и прохожие не смогли вспомнить никого. Студенты добавили к списку Софию Пиккард, а учителя и преподаватели: Гипатию и Софи Жермен. На этом список закончил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Степень узнаваемости математиков - женщин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454040"/>
          <a:ext cx="7315200" cy="51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54040"/>
                    <a:ext cx="731520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Сколько лет женщины занимаются математико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торические данные неопровержимо свидетельствуют: женщины-ученые существовали в каждой культуре на протяжении всей истории развития общества, однако определенных успехов они могли добиваться только в той среде, где имелось позитивное отношение к научным занятиям и система образования, доступная для  женщ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0000" y="1413000"/>
            <a:ext cx="3644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Динамика появления женщин математик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66680" y="1457280"/>
          <a:ext cx="6934320" cy="48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57280"/>
                    <a:ext cx="693432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Биографическая справк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1120680" cy="150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00400" y="3657600"/>
            <a:ext cx="1041480" cy="145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0880" y="2895480"/>
            <a:ext cx="1320840" cy="1349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52880" y="2666880"/>
            <a:ext cx="952560" cy="1333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7391520" y="4876920"/>
            <a:ext cx="1360440" cy="1584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4495680" y="4952880"/>
            <a:ext cx="1211400" cy="1532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6019920" y="4343400"/>
            <a:ext cx="896760" cy="1060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1295280" y="4572000"/>
            <a:ext cx="1438560" cy="1800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2"/>
          <a:stretch/>
        </p:blipFill>
        <p:spPr>
          <a:xfrm>
            <a:off x="3733920" y="1523880"/>
            <a:ext cx="952560" cy="1333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3"/>
          <a:stretch/>
        </p:blipFill>
        <p:spPr>
          <a:xfrm>
            <a:off x="6019920" y="1295280"/>
            <a:ext cx="1055520" cy="1478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4"/>
          <a:stretch/>
        </p:blipFill>
        <p:spPr>
          <a:xfrm>
            <a:off x="7238880" y="2819520"/>
            <a:ext cx="1128960" cy="1722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5"/>
          <a:stretch/>
        </p:blipFill>
        <p:spPr>
          <a:xfrm>
            <a:off x="7620120" y="533520"/>
            <a:ext cx="122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Феано </a:t>
            </a:r>
            <a:r>
              <a:rPr b="1" lang="ru-RU" sz="1600" spc="-1" strike="noStrike">
                <a:solidFill>
                  <a:srgbClr val="660066"/>
                </a:solidFill>
                <a:latin typeface="Tahoma"/>
              </a:rPr>
              <a:t>VI – V вв. до н.э.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еано – ученица и жена древнегреческого философа, великого математика и мудреца – Пифагора, жившая в VI – V вв. до н.э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еано прониклась идеями мужа с такой полнотой, что после его смерти она стала центром пифагорейского ордена, и один из греческих авторов приводит, как авторитет, ее мнение относительно учения Чисе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еано дала Пифагору двух сыновей и дочь, все они были верными последователями своего Великого отц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31068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фия Жермен </a:t>
            </a:r>
            <a:r>
              <a:rPr b="0" lang="en-US" sz="1400" spc="-1" strike="noStrike">
                <a:solidFill>
                  <a:srgbClr val="660066"/>
                </a:solidFill>
                <a:latin typeface="Tahoma"/>
              </a:rPr>
              <a:t>(1776-1831)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924360" cy="414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572000" y="16002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ала выдающимся математиком и добилась важных результатов в теории чисел и теории упругости. В 1816 г. вывела дифференциальное уравнение изгиба пласт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того чтобы прочитать книгу И.Ньютона «Математические начала натуральной философии», она изучила латинский язы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нималась теорией чисел. Вывела несколько формул, которым присвоено ее им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 некоторых условиях доказала теорему Фер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Зачем в школе нужна математика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последнее время во многих странах наблюдается значительный рост интереса к проблемам математического образования. Это связано с тем, что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значение математики в жизни человеческого общества возрастает с каждым днём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ысокий уровень развития математики является необходимым условием подъёма и эффективности целого ряда важнейших областей знаний.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Математические методы и математический стиль мышления проникают всюд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 каждым годом математика будет находить всё более широкое применение в разнообразных областях человеческой деятель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Всё это ставит задачу развития в школе математических способностей, склонностей и интерес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31669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Кто в школе учит математике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России среди учителей математики 95% женщин и 5% мужчин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Это плохо или хорошо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других странах в школах соотношение другое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трана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женщин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ужч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Сингапур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7%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3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Гонконг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3%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7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Япония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2%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8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не кажется, что большое количество женщин в школе не отрицательный, а 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положительный фактор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. У них есть психологические особенности, которые помогают им лучше понимать учеников и передавать им знания. Кроме того, в нашей стране это устойчивая культурная традиц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едь именно женщины - учителя уже много лет в наших школах учат и развивают те математические способности и у мальчиков, и у девочек, которые сегодня так нужн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305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Извечный спор, кто умнее - мужчины или женщины, до сих пор вопрос не решен и ведется с переменным успехом. Тема «Женщины математики» неизбежно оказалась в контексте этого спо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К сожалению, имен женщин, внесших существенный вклад в математику и двигавших ее вперед, встречается очень мало. Чаще всего доступные нам о них исторические сведения состоят из имен , даты рождения и смерти. Сведений о жизни и научной деятельности практически нет и найти их сложно. Не удивительно, в такой ситуации, что знают только Ковалевскую. Причем не о ней, а ее им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В последние годы мировое сообщество стало понимать, что роль женщин в будущем должна кардинально измениться. Это касается и роли женщины в науке, в том числе и в математи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ecff"/>
                </a:solidFill>
                <a:latin typeface="Tahoma"/>
              </a:rPr>
              <a:t>О математика земная,</a:t>
            </a:r>
            <a:br>
              <a:rPr sz="2400"/>
            </a:br>
            <a:r>
              <a:rPr b="0" i="1" lang="en-US" sz="2400" spc="-1" strike="noStrike">
                <a:solidFill>
                  <a:srgbClr val="ccecff"/>
                </a:solidFill>
                <a:latin typeface="Tahoma"/>
              </a:rPr>
              <a:t>Гордись, прекрасная, собой.</a:t>
            </a:r>
            <a:br>
              <a:rPr sz="2400"/>
            </a:br>
            <a:r>
              <a:rPr b="0" i="1" lang="en-US" sz="2400" spc="-1" strike="noStrike">
                <a:solidFill>
                  <a:srgbClr val="ccecff"/>
                </a:solidFill>
                <a:latin typeface="Tahoma"/>
              </a:rPr>
              <a:t>Ты всем наукам мать родная,</a:t>
            </a:r>
            <a:br>
              <a:rPr sz="2400"/>
            </a:br>
            <a:r>
              <a:rPr b="0" i="1" lang="en-US" sz="2400" spc="-1" strike="noStrike">
                <a:solidFill>
                  <a:srgbClr val="ccecff"/>
                </a:solidFill>
                <a:latin typeface="Tahoma"/>
              </a:rPr>
              <a:t>И дорожат они тобой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!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76280" y="1765440"/>
            <a:ext cx="63896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057400" y="1892160"/>
            <a:ext cx="48769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тематика - наука о величинах, их свойствах и законах их соединения; математика разделяется на чистую и прикладну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математики началось с создания практических способов счета и измерения. Знакомством с первоначальными истинами обладали уже древние индусы, халдеи и египтяне, причем первые два народа преимущественно занимались алгеброй и арифметикой, последние – геометри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еометрия получила вполне научный характер у греков и была доведена до высокого совершенства. Время римского владычества и средние века - время упадка математи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хранить и отчасти восполнить математику древних выпало на долю арабов, у которых южная Европа начала заимствовать математические науки с XIII в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чему не только формулы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тематика - это не только формулы и теоремы, а еще и те люди, которые ей занимаются, те люди, которые всю душу вкладывают в ее развитие. И никак нельзя, говоря о математике, не упомянуть о тех, кто ей посвятил всю жизнь и донес ее до на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х имена нельзя забывать. Эти люди отдали свою жизнь науке. Ради нас, ради своих потомков … Так что наш долг - помнить их и продолжать их дел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4290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ТО ОНИ – ВЕЛИКИЕ МАТЕМАТИКИ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ГО ИЗ НИХ ЗНАЮТ И ПОМНЯТ ПОТОМ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ГО СРЕДИ НИХ БОЛЬШЕ: МУЖЧИН ИЛИ ЖЕНЩИН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ЧЕМУ МЫ ТАК МАЛО ЗНАЕМ О НИ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еликие математ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09680" y="15235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просмотрела книги, энциклопедии, словари и справочники, русско- и англо – язычные сайты в поисках известных женщин математик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начала мне казалось, что я найду в истории не более десятка известных женщин математиков. Но мой список рос и, наконец, составил 176 челове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сравнения – самый большой список (который я нашла) известных мужчин математиков составляет 84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то же они, известные математик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о из них назовет человек, не занимающийся математикой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2071800" cy="2303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86600" y="3733920"/>
            <a:ext cx="16794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знаете ли вы математиков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Математики, которых знают школьн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1600" y="2286000"/>
          <a:ext cx="609588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6095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Математики, которых знают прохож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90720" y="1371600"/>
          <a:ext cx="72388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7238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4-13T15:58:4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