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A4D-494E-460A-B82D-7FA6FD61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A0F-54B2-4F38-B981-7BD7D1C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2D4-9994-4F61-ACED-668109BC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C66-AEF0-47A5-9CA5-AF223387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E7E-FB32-4EDA-9F71-F903239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523-1261-41AA-ABB6-CA2656F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4D1-338B-418D-B641-C083FBEE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13D-02C4-498C-821E-1A60935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AE2-7CA2-41BF-8FF2-CB5CF07F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AD4-8E7F-4696-8911-D337884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1EC-9670-4274-9FAD-711E2EE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923-F77F-460D-A183-1117673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3BF6-5F9D-487A-8D7B-10F03FE1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ОТКРЫТОГО ЛЕКЦИОННОГО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радоксы теории относи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: Пекарская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79280" y="836640"/>
            <a:ext cx="8964720" cy="3382920"/>
            <a:chOff x="179280" y="836640"/>
            <a:chExt cx="8964720" cy="3382920"/>
          </a:xfrm>
        </p:grpSpPr>
        <p:sp>
          <p:nvSpPr>
            <p:cNvPr id="233" name=""/>
            <p:cNvSpPr txBox="1"/>
            <p:nvPr/>
          </p:nvSpPr>
          <p:spPr>
            <a:xfrm>
              <a:off x="179280" y="836640"/>
              <a:ext cx="8964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548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Пусть есть две инерциальные системы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отсчета – S' и S. В системе S' жестки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стержень длиной Dx' покоится вдоль оси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x и нужно определить его длину в системе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S, относительно которой стержень движется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79280" y="2060640"/>
              <a:ext cx="8964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61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со скоростью v. Чтобы измерить длину стержня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в любой инерциальной системе, относительно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которой стержень движется вдоль продольно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оси, нужно одновременно наблюдать его концы.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0920" y="3573360"/>
            <a:ext cx="8713800" cy="3097440"/>
            <a:chOff x="250920" y="3573360"/>
            <a:chExt cx="8713800" cy="3097440"/>
          </a:xfrm>
        </p:grpSpPr>
        <p:sp>
          <p:nvSpPr>
            <p:cNvPr id="236" name=""/>
            <p:cNvSpPr txBox="1"/>
            <p:nvPr/>
          </p:nvSpPr>
          <p:spPr>
            <a:xfrm>
              <a:off x="324000" y="3573360"/>
              <a:ext cx="8640720" cy="187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386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atin typeface="Times New Roman"/>
                </a:rPr>
                <a:t>Это – ключевое положение, непонимание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atin typeface="Times New Roman"/>
                </a:rPr>
                <a:t>которого и приводит иногда к парадоксам.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50920" y="5230800"/>
                  <a:ext cx="461952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/>
          <p:cNvSpPr txBox="1"/>
          <p:nvPr/>
        </p:nvSpPr>
        <p:spPr>
          <a:xfrm>
            <a:off x="1695600" y="189000"/>
            <a:ext cx="74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0404"/>
                    </a:gs>
                    <a:gs pos="50000">
                      <a:srgbClr val="ff99cc"/>
                    </a:gs>
                    <a:gs pos="100000">
                      <a:srgbClr val="fa0404"/>
                    </a:gs>
                  </a:gsLst>
                  <a:lin ang="10800000"/>
                </a:gradFill>
                <a:latin typeface="Arial"/>
              </a:rPr>
              <a:t>Лоренцевское Сокращение Дл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0404"/>
                  </a:gs>
                  <a:gs pos="50000">
                    <a:srgbClr val="ff99cc"/>
                  </a:gs>
                  <a:gs pos="100000">
                    <a:srgbClr val="fa040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695600" y="189000"/>
            <a:ext cx="74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0404"/>
                    </a:gs>
                    <a:gs pos="50000">
                      <a:srgbClr val="ff99cc"/>
                    </a:gs>
                    <a:gs pos="100000">
                      <a:srgbClr val="fa0404"/>
                    </a:gs>
                  </a:gsLst>
                  <a:lin ang="10800000"/>
                </a:gradFill>
                <a:latin typeface="Arial"/>
              </a:rPr>
              <a:t>Лоренцевское Сокращение Дл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0404"/>
                  </a:gs>
                  <a:gs pos="50000">
                    <a:srgbClr val="ff99cc"/>
                  </a:gs>
                  <a:gs pos="100000">
                    <a:srgbClr val="fa040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90560" y="549360"/>
            <a:ext cx="835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Все парадоксы сокращения длины связан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конечно, с симметрией эффекта: если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наблюдатель в S видит сокращение длин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то и наблюдатель в S' должен видеть то же самое.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9640" y="2492280"/>
            <a:ext cx="8353440" cy="2522520"/>
            <a:chOff x="539640" y="2492280"/>
            <a:chExt cx="8353440" cy="2522520"/>
          </a:xfrm>
        </p:grpSpPr>
        <p:sp>
          <p:nvSpPr>
            <p:cNvPr id="243" name=""/>
            <p:cNvSpPr txBox="1"/>
            <p:nvPr/>
          </p:nvSpPr>
          <p:spPr>
            <a:xfrm>
              <a:off x="539640" y="2492280"/>
              <a:ext cx="8353440" cy="216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202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0"/>
                    <a:srcRect/>
                    <a:stretch/>
                  </a:blipFill>
                  <a:latin typeface="Times New Roman"/>
                </a:rPr>
                <a:t>Из «парадоксов» СТО можно сделать важны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2"/>
                    <a:srcRect/>
                    <a:stretch/>
                  </a:blipFill>
                  <a:latin typeface="Times New Roman"/>
                </a:rPr>
                <a:t>вывод: какой бы результат ни получился путем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4"/>
                    <a:srcRect/>
                    <a:stretch/>
                  </a:blipFill>
                  <a:latin typeface="Times New Roman"/>
                </a:rPr>
                <a:t>корректных рассуждений в некоторой инерциально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6"/>
                    <a:srcRect/>
                    <a:stretch/>
                  </a:blipFill>
                  <a:latin typeface="Times New Roman"/>
                </a:rPr>
                <a:t>системе отсчета, он является верным в любой другой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1258920" y="4581360"/>
              <a:ext cx="71294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35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8"/>
                    <a:srcRect/>
                    <a:stretch/>
                  </a:blipFill>
                  <a:latin typeface="Times New Roman"/>
                </a:rPr>
                <a:t>инерциальной системе отсчета.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684360" y="5157720"/>
            <a:ext cx="8064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При правильном использовании, СТ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не допускает никаких «парадоксов»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50920" y="333360"/>
            <a:ext cx="3981240" cy="3981240"/>
            <a:chOff x="250920" y="333360"/>
            <a:chExt cx="3981240" cy="39812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3981240" cy="39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466560" y="549000"/>
              <a:ext cx="360072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 txBox="1"/>
          <p:nvPr/>
        </p:nvSpPr>
        <p:spPr>
          <a:xfrm>
            <a:off x="324000" y="378936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значимость СТО в том, что она позволяе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и рассчитывать параметры при скоростях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близких к скорости света, и , с другой стороны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объясняет переход к классическим законам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427640" y="549360"/>
            <a:ext cx="4873680" cy="30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66cc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Специальная теория относительнос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66cc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66cc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А.Эйнштейна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66cc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3860640" cy="3882960"/>
            <a:chOff x="0" y="0"/>
            <a:chExt cx="3860640" cy="38829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60640" cy="38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Альберт Эйнштейн"/>
            <p:cNvPicPr/>
            <p:nvPr/>
          </p:nvPicPr>
          <p:blipFill>
            <a:blip r:embed="rId3"/>
            <a:stretch/>
          </p:blipFill>
          <p:spPr>
            <a:xfrm>
              <a:off x="179280" y="166680"/>
              <a:ext cx="3497400" cy="35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0" y="907920"/>
            <a:ext cx="9144000" cy="5950080"/>
            <a:chOff x="0" y="907920"/>
            <a:chExt cx="9144000" cy="5950080"/>
          </a:xfrm>
        </p:grpSpPr>
        <p:sp>
          <p:nvSpPr>
            <p:cNvPr id="48" name=""/>
            <p:cNvSpPr txBox="1"/>
            <p:nvPr/>
          </p:nvSpPr>
          <p:spPr>
            <a:xfrm>
              <a:off x="4030560" y="907920"/>
              <a:ext cx="51134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4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Одной из теорий, которые все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больше усложняют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жизнь многим физикам, стала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0" y="5084640"/>
              <a:ext cx="9144000" cy="177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161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с ее релятивистскими эффектами и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возникающими в связи с ними парадоксами. 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250920" y="3789360"/>
              <a:ext cx="8569080" cy="172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50000">
                        <a:srgbClr val="00000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atin typeface="Book Antiqua"/>
                </a:rPr>
                <a:t>Специальная Теория Относительности А. Эйнштейна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Book Antiqua"/>
                <a:ea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5280" y="404640"/>
            <a:ext cx="84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Эта теория не только не прояснил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вопрос о действительных физических и геометрических свойствах пространств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но, кажется, только еще больше его запутала, создав некоего мутанта под назван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4936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Times New Roman"/>
              </a:rPr>
              <a:t>"Четырехмерное Пространство-Время"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5300640"/>
            <a:ext cx="89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Однако, при внимательном рассмотрен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в ней обнаруживаются явные противоречия, на которые принято закрывать глаза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Считается чуть ли не «дурным тоном» говорить о парадоксах СТО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 flipV="1">
            <a:off x="539640" y="1052280"/>
            <a:ext cx="5904000" cy="2447640"/>
          </a:xfrm>
          <a:prstGeom prst="line">
            <a:avLst/>
          </a:prstGeom>
          <a:ln cap="rnd" w="41400">
            <a:solidFill>
              <a:srgbClr val="ffffff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6006960" cy="2463840"/>
          </a:xfrm>
          <a:custGeom>
            <a:avLst/>
            <a:gdLst/>
            <a:ahLst/>
            <a:rect l="l" t="t" r="r" b="b"/>
            <a:pathLst>
              <a:path w="3784" h="1552">
                <a:moveTo>
                  <a:pt x="0" y="0"/>
                </a:moveTo>
                <a:lnTo>
                  <a:pt x="3784" y="1552"/>
                </a:lnTo>
              </a:path>
            </a:pathLst>
          </a:custGeom>
          <a:noFill/>
          <a:ln cap="rnd" w="41400">
            <a:solidFill>
              <a:srgbClr val="ffffff"/>
            </a:solidFill>
            <a:custDash>
              <a:ds d="100000" sp="1000"/>
            </a:custDash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2101400">
            <a:off x="5940000" y="328392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7640" y="2781360"/>
            <a:ext cx="223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88000" y="2924280"/>
            <a:ext cx="223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 rot="1301400">
            <a:off x="-1116000" y="69228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40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828720" y="189000"/>
            <a:ext cx="223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32360" y="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докс Близнец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4221000"/>
            <a:ext cx="83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ятивистский эффект замедления времени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13080" y="379872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64160" y="2603520"/>
                <a:ext cx="4064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 txBox="1"/>
          <p:nvPr/>
        </p:nvSpPr>
        <p:spPr>
          <a:xfrm>
            <a:off x="250920" y="486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к как A движется в ИСО  с околосветовой скоростью,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его время относительно B замедляется, и по возвращении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Землю близнец A оказывается моложе близнеца B.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692280"/>
            <a:ext cx="84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с точки зрения A, это B вместе с Землей движется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носительно A, и это время B должно замедляться,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.е. B оказывается моложе A.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8280" y="2421000"/>
            <a:ext cx="8794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нный парадокс объясняется тем, что система отсчета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онавта A не является инерциальной – он испытывает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корения, что естественно делает ситуацию несимметричной.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4005360"/>
            <a:ext cx="54054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арадокс связан с формулой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6000" y="3860640"/>
                <a:ext cx="232236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0" y="5445000"/>
            <a:ext cx="889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 – интервал времени в движущейся системе отсчета, Тₒ - в неподвижной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58663 -0.32014 E">
                                      <p:cBhvr>
                                        <p:cTn id="5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1852E-006 L -0.58282 -0.31505 E">
                                      <p:cBhvr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48148E-006 L -0.60643 -0.32547 E">
                                      <p:cBhvr>
                                        <p:cTn id="5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389 0.40949 L -5E-006 -7.40741E-007 E">
                                      <p:cBhvr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51852E-006 L 0.75608 0.39907 E">
                                      <p:cBhvr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932360" y="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докс Близнец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836640"/>
            <a:ext cx="8594640" cy="145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усть космонавты-близнецы A и B отправляются с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подвижной космической станции C одновременно с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инаковыми скоростями в противоположных направлениях,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14280" y="2421000"/>
            <a:ext cx="860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летают одинаковое расстояние и возвращаются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C. Кто из них окажется моложе?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57720"/>
            <a:ext cx="8964720" cy="2562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бы избежать упреков в том, что системы отсчета космонавтов не являются находящихся на одинаковом расстоянии о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не тормозят и не разворачиваются, а пошлют друг другу радиосообщение, в котором укажут свой возраст. Разумеется, на преодоление расстояния от одного корабля до другого радиосигналу потребуется некоторое время , и каждый космонавт получит сообщение от другого гораздо позже, чем отправит свое. Но в полученн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общении будет указан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акой же, каким был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когда он отправлял свое сообщение, а в полученн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общении будет указан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акой же, каким был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момент отправки его сообщения. Т.е. в обоих сообщениях будет указан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динаковы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озр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90792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1c1c1c"/>
                    </a:gs>
                    <a:gs pos="50000">
                      <a:srgbClr val="740101"/>
                    </a:gs>
                    <a:gs pos="100000">
                      <a:srgbClr val="1c1c1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ставим, что некий поезд проходит мимо вокзала с постоянной скоростью V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1c1c1c"/>
                  </a:gs>
                  <a:gs pos="50000">
                    <a:srgbClr val="740101"/>
                  </a:gs>
                  <a:gs pos="100000">
                    <a:srgbClr val="1c1c1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141300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оезде, в его середине, находится импульсны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лучатель света O’, а в начале и конце – приемники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лучения A и B, при этом AO’= O’B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0" y="4437000"/>
            <a:ext cx="7956720" cy="1223640"/>
            <a:chOff x="9144000" y="4437000"/>
            <a:chExt cx="7956720" cy="1223640"/>
          </a:xfrm>
        </p:grpSpPr>
        <p:grpSp>
          <p:nvGrpSpPr>
            <p:cNvPr id="84" name=""/>
            <p:cNvGrpSpPr/>
            <p:nvPr/>
          </p:nvGrpSpPr>
          <p:grpSpPr>
            <a:xfrm>
              <a:off x="9144000" y="4437000"/>
              <a:ext cx="7922160" cy="1223640"/>
              <a:chOff x="9144000" y="4437000"/>
              <a:chExt cx="7922160" cy="12236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9144000" y="4653000"/>
                <a:ext cx="7922160" cy="1007640"/>
                <a:chOff x="9144000" y="4653000"/>
                <a:chExt cx="7922160" cy="10076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9144000" y="4653000"/>
                  <a:ext cx="7922160" cy="1007640"/>
                  <a:chOff x="9144000" y="4653000"/>
                  <a:chExt cx="7922160" cy="10076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9144000" y="4653000"/>
                    <a:ext cx="7922160" cy="788400"/>
                    <a:chOff x="9144000" y="4653000"/>
                    <a:chExt cx="7922160" cy="78840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914400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947376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01354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10904400" y="4653000"/>
                      <a:ext cx="1981080" cy="788040"/>
                      <a:chOff x="10904400" y="4653000"/>
                      <a:chExt cx="1981080" cy="788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1090440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12341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189332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12994920" y="4653000"/>
                      <a:ext cx="1981080" cy="788040"/>
                      <a:chOff x="12994920" y="4653000"/>
                      <a:chExt cx="1981080" cy="78804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1299492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133246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139838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" name=""/>
                    <p:cNvGrpSpPr/>
                    <p:nvPr/>
                  </p:nvGrpSpPr>
                  <p:grpSpPr>
                    <a:xfrm>
                      <a:off x="15085800" y="4653000"/>
                      <a:ext cx="1980360" cy="788040"/>
                      <a:chOff x="15085800" y="4653000"/>
                      <a:chExt cx="1980360" cy="788040"/>
                    </a:xfrm>
                  </p:grpSpPr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508580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154155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60743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9322920" y="5310360"/>
                    <a:ext cx="1310400" cy="350280"/>
                    <a:chOff x="9322920" y="5310360"/>
                    <a:chExt cx="1310400" cy="3502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932292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017108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1227320" y="5310360"/>
                    <a:ext cx="1310400" cy="350280"/>
                    <a:chOff x="11227320" y="5310360"/>
                    <a:chExt cx="1310400" cy="35028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1122732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207548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3335840" y="5310360"/>
                    <a:ext cx="1310760" cy="350280"/>
                    <a:chOff x="13335840" y="5310360"/>
                    <a:chExt cx="1310760" cy="35028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333584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41840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15394320" y="5310360"/>
                    <a:ext cx="1310760" cy="350280"/>
                    <a:chOff x="15394320" y="5310360"/>
                    <a:chExt cx="1310760" cy="35028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3943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624248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" name=""/>
                <p:cNvSpPr/>
                <p:nvPr/>
              </p:nvSpPr>
              <p:spPr>
                <a:xfrm>
                  <a:off x="1666872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781080" y="4724280"/>
                  <a:ext cx="36036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32508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 txBox="1"/>
              <p:nvPr/>
            </p:nvSpPr>
            <p:spPr>
              <a:xfrm>
                <a:off x="13068360" y="4437000"/>
                <a:ext cx="28872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954072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88472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0" y="5013360"/>
            <a:ext cx="2160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227664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момент, когда O’ поравнялся со стоящим на перроне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окзала наблюдателем O, излучатель испускает импульс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вета. В поезде, вследствие равенства расстояний AO’ и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3141720"/>
            <a:ext cx="849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 O’B, приемники A и B примут световые сигналы одновременно.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99640" y="4869000"/>
            <a:ext cx="352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4869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7 -0.00509 L -0.92726 -0.00509 E">
                                      <p:cBhvr>
                                        <p:cTn id="16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11280" y="4437000"/>
            <a:ext cx="7956000" cy="1223640"/>
            <a:chOff x="611280" y="4437000"/>
            <a:chExt cx="7956000" cy="1223640"/>
          </a:xfrm>
        </p:grpSpPr>
        <p:grpSp>
          <p:nvGrpSpPr>
            <p:cNvPr id="134" name=""/>
            <p:cNvGrpSpPr/>
            <p:nvPr/>
          </p:nvGrpSpPr>
          <p:grpSpPr>
            <a:xfrm>
              <a:off x="611280" y="4437000"/>
              <a:ext cx="7921800" cy="1223640"/>
              <a:chOff x="611280" y="4437000"/>
              <a:chExt cx="7921800" cy="12236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611280" y="4653000"/>
                <a:ext cx="7921800" cy="1007640"/>
                <a:chOff x="611280" y="4653000"/>
                <a:chExt cx="7921800" cy="100764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611280" y="4653000"/>
                  <a:ext cx="7921800" cy="1007640"/>
                  <a:chOff x="611280" y="4653000"/>
                  <a:chExt cx="7921800" cy="100764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11280" y="4653000"/>
                    <a:ext cx="7921800" cy="788400"/>
                    <a:chOff x="611280" y="4653000"/>
                    <a:chExt cx="7921800" cy="7884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1128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9410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60272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1" name=""/>
                    <p:cNvGrpSpPr/>
                    <p:nvPr/>
                  </p:nvGrpSpPr>
                  <p:grpSpPr>
                    <a:xfrm>
                      <a:off x="2371680" y="4653000"/>
                      <a:ext cx="1981080" cy="788040"/>
                      <a:chOff x="2371680" y="4653000"/>
                      <a:chExt cx="1981080" cy="788040"/>
                    </a:xfrm>
                  </p:grpSpPr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37168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7014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3360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4461840" y="4653000"/>
                      <a:ext cx="1981080" cy="788040"/>
                      <a:chOff x="4461840" y="4653000"/>
                      <a:chExt cx="1981080" cy="78804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446184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4791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54507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6552720" y="4653000"/>
                      <a:ext cx="1980360" cy="788040"/>
                      <a:chOff x="6552720" y="4653000"/>
                      <a:chExt cx="1980360" cy="78804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55272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8824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5412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90200" y="5310360"/>
                    <a:ext cx="1310400" cy="350280"/>
                    <a:chOff x="790200" y="5310360"/>
                    <a:chExt cx="1310400" cy="35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902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6383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694600" y="5310360"/>
                    <a:ext cx="1310400" cy="350280"/>
                    <a:chOff x="2694600" y="5310360"/>
                    <a:chExt cx="1310400" cy="3502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6946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5427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4802760" y="5310360"/>
                    <a:ext cx="1310760" cy="350280"/>
                    <a:chOff x="4802760" y="5310360"/>
                    <a:chExt cx="1310760" cy="35028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80276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6509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861240" y="5310360"/>
                    <a:ext cx="1310760" cy="350280"/>
                    <a:chOff x="6861240" y="5310360"/>
                    <a:chExt cx="1310760" cy="350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86124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7094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" name=""/>
                <p:cNvSpPr/>
                <p:nvPr/>
              </p:nvSpPr>
              <p:spPr>
                <a:xfrm>
                  <a:off x="8135640" y="4797360"/>
                  <a:ext cx="21708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48000" y="4724280"/>
                  <a:ext cx="36000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00" y="4797360"/>
                  <a:ext cx="21708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 txBox="1"/>
              <p:nvPr/>
            </p:nvSpPr>
            <p:spPr>
              <a:xfrm>
                <a:off x="4535280" y="4437000"/>
                <a:ext cx="28836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69" name=""/>
            <p:cNvSpPr txBox="1"/>
            <p:nvPr/>
          </p:nvSpPr>
          <p:spPr>
            <a:xfrm>
              <a:off x="1007640" y="4437000"/>
              <a:ext cx="215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8351640" y="4437000"/>
              <a:ext cx="215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9000"/>
            <a:ext cx="4500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500360" y="4869000"/>
            <a:ext cx="29509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9640" y="981000"/>
            <a:ext cx="8353440" cy="2663640"/>
            <a:chOff x="539640" y="981000"/>
            <a:chExt cx="8353440" cy="2663640"/>
          </a:xfrm>
        </p:grpSpPr>
        <p:sp>
          <p:nvSpPr>
            <p:cNvPr id="177" name=""/>
            <p:cNvSpPr txBox="1"/>
            <p:nvPr/>
          </p:nvSpPr>
          <p:spPr>
            <a:xfrm>
              <a:off x="612720" y="981000"/>
              <a:ext cx="8280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Несколько иначе дело обстоит с точки зрения наблюдателя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O на перроне. В его системе отсчета свет также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распространяется во всех направлениях со скоростью c.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39640" y="2133360"/>
              <a:ext cx="8280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Но пока свет доходил до приемников на поезде, хвост поезда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переместился к наблюдателю, а голова поезда – от наблюдателя,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так что интервалы времени распространения света до A и B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вовсе не одинаковы: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76360" y="3357360"/>
              <a:ext cx="6119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до В – меньше, а до А – больше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0.00509 L -0.09045 -0.01018 E">
                                      <p:cBhvr>
                                        <p:cTn id="19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9280" y="4437000"/>
            <a:ext cx="7956720" cy="1223640"/>
            <a:chOff x="179280" y="4437000"/>
            <a:chExt cx="7956720" cy="1223640"/>
          </a:xfrm>
        </p:grpSpPr>
        <p:grpSp>
          <p:nvGrpSpPr>
            <p:cNvPr id="182" name=""/>
            <p:cNvGrpSpPr/>
            <p:nvPr/>
          </p:nvGrpSpPr>
          <p:grpSpPr>
            <a:xfrm>
              <a:off x="179280" y="4437000"/>
              <a:ext cx="7922160" cy="1223640"/>
              <a:chOff x="179280" y="4437000"/>
              <a:chExt cx="7922160" cy="1223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79280" y="4653000"/>
                <a:ext cx="7922160" cy="1007640"/>
                <a:chOff x="179280" y="4653000"/>
                <a:chExt cx="7922160" cy="10076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79280" y="4653000"/>
                  <a:ext cx="7922160" cy="1007640"/>
                  <a:chOff x="179280" y="4653000"/>
                  <a:chExt cx="7922160" cy="100764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179280" y="4653000"/>
                    <a:ext cx="7922160" cy="788400"/>
                    <a:chOff x="179280" y="4653000"/>
                    <a:chExt cx="7922160" cy="78840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7928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090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117072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1939680" y="4653000"/>
                      <a:ext cx="1981080" cy="788040"/>
                      <a:chOff x="1939680" y="4653000"/>
                      <a:chExt cx="1981080" cy="78804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193968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22694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2928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4030200" y="4653000"/>
                      <a:ext cx="1981080" cy="788040"/>
                      <a:chOff x="4030200" y="4653000"/>
                      <a:chExt cx="1981080" cy="78804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403020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43599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01912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7" name=""/>
                    <p:cNvGrpSpPr/>
                    <p:nvPr/>
                  </p:nvGrpSpPr>
                  <p:grpSpPr>
                    <a:xfrm>
                      <a:off x="6121080" y="4653000"/>
                      <a:ext cx="1980360" cy="788040"/>
                      <a:chOff x="6121080" y="4653000"/>
                      <a:chExt cx="1980360" cy="788040"/>
                    </a:xfrm>
                  </p:grpSpPr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612108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64508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71096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358200" y="5310360"/>
                    <a:ext cx="1310400" cy="350280"/>
                    <a:chOff x="358200" y="5310360"/>
                    <a:chExt cx="1310400" cy="3502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582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12063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2262600" y="5310360"/>
                    <a:ext cx="1310400" cy="350280"/>
                    <a:chOff x="2262600" y="5310360"/>
                    <a:chExt cx="1310400" cy="35028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22626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31107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4371120" y="5310360"/>
                    <a:ext cx="1310760" cy="350280"/>
                    <a:chOff x="4371120" y="5310360"/>
                    <a:chExt cx="1310760" cy="35028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3711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21928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429600" y="5310360"/>
                    <a:ext cx="1310760" cy="350280"/>
                    <a:chOff x="6429600" y="5310360"/>
                    <a:chExt cx="1310760" cy="35028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64296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27776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"/>
                <p:cNvSpPr/>
                <p:nvPr/>
              </p:nvSpPr>
              <p:spPr>
                <a:xfrm>
                  <a:off x="770400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16360" y="4724280"/>
                  <a:ext cx="36036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6036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 txBox="1"/>
              <p:nvPr/>
            </p:nvSpPr>
            <p:spPr>
              <a:xfrm>
                <a:off x="4103640" y="4437000"/>
                <a:ext cx="28872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7" name=""/>
            <p:cNvSpPr txBox="1"/>
            <p:nvPr/>
          </p:nvSpPr>
          <p:spPr>
            <a:xfrm>
              <a:off x="57600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92000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9280" y="907920"/>
            <a:ext cx="8569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Пусть приемниками излучения на поезде являются часы. В поезде часы синхронизированы, и в момент принятия сигнала часы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 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и часы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показывают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. Для наблюдателя с перрона приход световых сигналов к приемникам-часам – события неодновременные. Но, наблюдая сначала освещенные часы  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, через некоторое время – освещенные часы  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, он замечает, что и те и другие показывают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. Следовательно, по наблюдениям с перрона,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вагона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 наступило раньше, а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– позже. Т.е.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время идет ускоренно, а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– замедленно. Интересно, как практически может существовать физическое тело, в каждой точке которого время течет по-разному, или все точки которого находятся в разном времени – каждая в свое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83664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А если в поезде находятся большие механические часы? Очевидно, все шестеренки часов полностью рассинхронизируются, и часы сломаются. Но наблюдатель в поезде заявит, что ничего подобного – часы прекрасно идут и показывают точ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А если в поезде сидит ребенок? У него что – правая половина тела вырастет быстрее, чем лев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125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Данный мысленный эксперимент показывает, что время на задней стене 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 вагона идет быстрее, чем на перроне, т.к. свет от источника до приемника 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 проходит меньшее расстояние, соответственно, за меньшее время. Интересно, как это согласуется с релятивистским эффектом замедления врем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676680" y="189000"/>
            <a:ext cx="54673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</a:rPr>
              <a:t>Инвариантность времен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052640"/>
            <a:ext cx="820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Вообще, утверждение, что в движущейся ИСО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часы рассинхронизируются, означает именно то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что все точки движущейся целой структур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основанной на причинно-следственных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3068640"/>
            <a:ext cx="820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закономерностях, находятся в разном времени.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3500280"/>
            <a:ext cx="90392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Инвариантность времени следует из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инвариантности скорости света – следствие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после причины наступает не раньше и не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позже, а ровно через столько времени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4760" y="4365720"/>
            <a:ext cx="90392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сколько требуется фундаментальному сигналу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для прохождения расстояния от причины до следствия.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47:15Z</dcterms:created>
  <dc:creator>DsEnvoy</dc:creator>
  <dc:description/>
  <dc:language>en-US</dc:language>
  <cp:lastModifiedBy>root</cp:lastModifiedBy>
  <dcterms:modified xsi:type="dcterms:W3CDTF">2008-10-23T17:45:02Z</dcterms:modified>
  <cp:revision>30</cp:revision>
  <dc:subject/>
  <dc:title>Слайд 1</dc:title>
</cp:coreProperties>
</file>