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888-A861-4A0A-9C41-6A0411C4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B20-3DC0-4E6C-8761-B9DEC7B7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B89-FD3C-44C3-B688-09564C28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B9B-59F7-4389-89E2-0A92CC01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FF1-27B2-4E63-BC3D-7B99F617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0E8-154F-47F4-A5E1-23B6D727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2D2-1806-4C48-BA54-B9A09B1D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6D4-D382-48CC-8056-3C3AC678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C71-E2D0-4C0D-AB5F-630DB20E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CD6-473D-434B-992F-55CB1CFD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8DF-B651-4CBA-8933-D2DB144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793-6A01-480A-BF72-EAED2FEF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8625-D912-4F39-A12C-A99DBE8C0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ЗЕНТАЦИЯ ОТКРЫТОГО ЛЕКЦИОННОГО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арадоксы теории относитель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: Пекарская Ольг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179280" y="836640"/>
            <a:ext cx="8964720" cy="3382920"/>
            <a:chOff x="179280" y="836640"/>
            <a:chExt cx="8964720" cy="3382920"/>
          </a:xfrm>
        </p:grpSpPr>
        <p:sp>
          <p:nvSpPr>
            <p:cNvPr id="233" name=""/>
            <p:cNvSpPr txBox="1"/>
            <p:nvPr/>
          </p:nvSpPr>
          <p:spPr>
            <a:xfrm>
              <a:off x="179280" y="836640"/>
              <a:ext cx="8964720" cy="21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5485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Пусть есть две инерциальные системы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отсчета – S' и S. В системе S' жесткий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стержень длиной Dx' покоится вдоль оси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x и нужно определить его длину в системе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S, относительно которой стержень движется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179280" y="2060640"/>
              <a:ext cx="8964720" cy="21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617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со скоростью v. Чтобы измерить длину стержня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в любой инерциальной системе, относительно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которой стержень движется вдоль продольной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atin typeface="Times New Roman"/>
                </a:rPr>
                <a:t>оси, нужно одновременно наблюдать его концы.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50920" y="3573360"/>
            <a:ext cx="8713800" cy="3097440"/>
            <a:chOff x="250920" y="3573360"/>
            <a:chExt cx="8713800" cy="3097440"/>
          </a:xfrm>
        </p:grpSpPr>
        <p:sp>
          <p:nvSpPr>
            <p:cNvPr id="236" name=""/>
            <p:cNvSpPr txBox="1"/>
            <p:nvPr/>
          </p:nvSpPr>
          <p:spPr>
            <a:xfrm>
              <a:off x="324000" y="3573360"/>
              <a:ext cx="8640720" cy="187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3867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atin typeface="Times New Roman"/>
                </a:rPr>
                <a:t>Это – ключевое положение, непонимание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atin typeface="Times New Roman"/>
                </a:rPr>
                <a:t>которого и приводит иногда к парадоксам. 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Times New Roman"/>
                <a:ea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50920" y="5230800"/>
                  <a:ext cx="4619520" cy="14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∗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"/>
          <p:cNvSpPr txBox="1"/>
          <p:nvPr/>
        </p:nvSpPr>
        <p:spPr>
          <a:xfrm>
            <a:off x="1695600" y="189000"/>
            <a:ext cx="744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0404"/>
                    </a:gs>
                    <a:gs pos="50000">
                      <a:srgbClr val="ff99cc"/>
                    </a:gs>
                    <a:gs pos="100000">
                      <a:srgbClr val="fa0404"/>
                    </a:gs>
                  </a:gsLst>
                  <a:lin ang="10800000"/>
                </a:gradFill>
                <a:latin typeface="Arial"/>
              </a:rPr>
              <a:t>Лоренцевское Сокращение Длин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0404"/>
                  </a:gs>
                  <a:gs pos="50000">
                    <a:srgbClr val="ff99cc"/>
                  </a:gs>
                  <a:gs pos="100000">
                    <a:srgbClr val="fa0404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695600" y="189000"/>
            <a:ext cx="744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0404"/>
                    </a:gs>
                    <a:gs pos="50000">
                      <a:srgbClr val="ff99cc"/>
                    </a:gs>
                    <a:gs pos="100000">
                      <a:srgbClr val="fa0404"/>
                    </a:gs>
                  </a:gsLst>
                  <a:lin ang="10800000"/>
                </a:gradFill>
                <a:latin typeface="Arial"/>
              </a:rPr>
              <a:t>Лоренцевское Сокращение Длин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0404"/>
                  </a:gs>
                  <a:gs pos="50000">
                    <a:srgbClr val="ff99cc"/>
                  </a:gs>
                  <a:gs pos="100000">
                    <a:srgbClr val="fa0404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90560" y="549360"/>
            <a:ext cx="8353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Все парадоксы сокращения длины связаны,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конечно, с симметрией эффекта: если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наблюдатель в S видит сокращение длины,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то и наблюдатель в S' должен видеть то же самое.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9640" y="2492280"/>
            <a:ext cx="8353440" cy="2522520"/>
            <a:chOff x="539640" y="2492280"/>
            <a:chExt cx="8353440" cy="2522520"/>
          </a:xfrm>
        </p:grpSpPr>
        <p:sp>
          <p:nvSpPr>
            <p:cNvPr id="243" name=""/>
            <p:cNvSpPr txBox="1"/>
            <p:nvPr/>
          </p:nvSpPr>
          <p:spPr>
            <a:xfrm>
              <a:off x="539640" y="2492280"/>
              <a:ext cx="8353440" cy="216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Down">
                <a:avLst>
                  <a:gd name="adj" fmla="val 202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blipFill rotWithShape="0">
                    <a:blip r:embed="rId10"/>
                    <a:srcRect/>
                    <a:stretch/>
                  </a:blipFill>
                  <a:latin typeface="Times New Roman"/>
                </a:rPr>
                <a:t>Из «парадоксов» СТО можно сделать важный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blipFill rotWithShape="0">
                    <a:blip r:embed="rId12"/>
                    <a:srcRect/>
                    <a:stretch/>
                  </a:blipFill>
                  <a:latin typeface="Times New Roman"/>
                </a:rPr>
                <a:t>вывод: какой бы результат ни получился путем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blipFill rotWithShape="0">
                    <a:blip r:embed="rId14"/>
                    <a:srcRect/>
                    <a:stretch/>
                  </a:blipFill>
                  <a:latin typeface="Times New Roman"/>
                </a:rPr>
                <a:t>корректных рассуждений в некоторой инерциальной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blipFill rotWithShape="0">
                    <a:blip r:embed="rId16"/>
                    <a:srcRect/>
                    <a:stretch/>
                  </a:blipFill>
                  <a:latin typeface="Times New Roman"/>
                </a:rPr>
                <a:t>системе отсчета, он является верным в любой другой 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Times New Roman"/>
                <a:ea typeface="Times New Roman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1258920" y="4581360"/>
              <a:ext cx="71294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Down">
                <a:avLst>
                  <a:gd name="adj" fmla="val 3516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ffff"/>
                    </a:solidFill>
                    <a:miter/>
                  </a:ln>
                  <a:blipFill rotWithShape="0">
                    <a:blip r:embed="rId18"/>
                    <a:srcRect/>
                    <a:stretch/>
                  </a:blipFill>
                  <a:latin typeface="Times New Roman"/>
                </a:rPr>
                <a:t>инерциальной системе отсчета. </a:t>
              </a:r>
              <a:endParaRPr b="0" lang="en-US" sz="16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Times New Roman"/>
                <a:ea typeface="Times New Roman"/>
              </a:endParaRPr>
            </a:p>
          </p:txBody>
        </p:sp>
      </p:grpSp>
      <p:sp>
        <p:nvSpPr>
          <p:cNvPr id="245" name=""/>
          <p:cNvSpPr txBox="1"/>
          <p:nvPr/>
        </p:nvSpPr>
        <p:spPr>
          <a:xfrm>
            <a:off x="684360" y="5157720"/>
            <a:ext cx="80643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a0404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При правильном использовании, СТО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a0404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a0404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не допускает никаких «парадоксов»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a0404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250920" y="333360"/>
            <a:ext cx="3981240" cy="3981240"/>
            <a:chOff x="250920" y="333360"/>
            <a:chExt cx="3981240" cy="398124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3981240" cy="39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"/>
            <a:stretch/>
          </p:blipFill>
          <p:spPr>
            <a:xfrm>
              <a:off x="466560" y="549000"/>
              <a:ext cx="3600720" cy="35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"/>
          <p:cNvSpPr txBox="1"/>
          <p:nvPr/>
        </p:nvSpPr>
        <p:spPr>
          <a:xfrm>
            <a:off x="324000" y="3789360"/>
            <a:ext cx="8569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fa0404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"/>
              </a:rPr>
              <a:t>значимость СТО в том, что она позволяе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fa0404"/>
                  </a:gs>
                  <a:gs pos="100000">
                    <a:srgbClr val="bbe0e3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fa0404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"/>
              </a:rPr>
              <a:t>и рассчитывать параметры при скоростях,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fa0404"/>
                  </a:gs>
                  <a:gs pos="100000">
                    <a:srgbClr val="bbe0e3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fa0404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"/>
              </a:rPr>
              <a:t>близких к скорости света, и , с другой стороны,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fa0404"/>
                  </a:gs>
                  <a:gs pos="100000">
                    <a:srgbClr val="bbe0e3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fa0404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"/>
              </a:rPr>
              <a:t>объясняет переход к классическим законам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fa0404"/>
                  </a:gs>
                  <a:gs pos="100000">
                    <a:srgbClr val="bbe0e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427640" y="549360"/>
            <a:ext cx="4873680" cy="30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9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66cc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Специальная теория относительнос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66cc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66cc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А.Эйнштейна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ff66cc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3860640" cy="3882960"/>
            <a:chOff x="0" y="0"/>
            <a:chExt cx="3860640" cy="38829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60640" cy="38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Альберт Эйнштейн"/>
            <p:cNvPicPr/>
            <p:nvPr/>
          </p:nvPicPr>
          <p:blipFill>
            <a:blip r:embed="rId3"/>
            <a:stretch/>
          </p:blipFill>
          <p:spPr>
            <a:xfrm>
              <a:off x="179280" y="166680"/>
              <a:ext cx="3497400" cy="352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0" y="907920"/>
            <a:ext cx="9144000" cy="5950080"/>
            <a:chOff x="0" y="907920"/>
            <a:chExt cx="9144000" cy="5950080"/>
          </a:xfrm>
        </p:grpSpPr>
        <p:sp>
          <p:nvSpPr>
            <p:cNvPr id="48" name=""/>
            <p:cNvSpPr txBox="1"/>
            <p:nvPr/>
          </p:nvSpPr>
          <p:spPr>
            <a:xfrm>
              <a:off x="4030560" y="907920"/>
              <a:ext cx="511344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top">
                <a:avLst>
                  <a:gd name="adj" fmla="val 142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a0404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Одной из теорий, которые все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a0404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a0404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больше усложняют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a0404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a0404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жизнь многим физикам, стала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a0404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0" y="5084640"/>
              <a:ext cx="9144000" cy="177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Top">
                <a:avLst>
                  <a:gd name="adj" fmla="val 161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a0404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с ее релятивистскими эффектами и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a0404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a0404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возникающими в связи с ними парадоксами. 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a0404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250920" y="3789360"/>
              <a:ext cx="8569080" cy="172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efefe"/>
                      </a:gs>
                      <a:gs pos="50000">
                        <a:srgbClr val="00000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atin typeface="Book Antiqua"/>
                </a:rPr>
                <a:t>Специальная Теория Относительности А. Эйнштейна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Book Antiqua"/>
                <a:ea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95280" y="404640"/>
            <a:ext cx="8497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000"/>
                  </a:outerShdw>
                </a:effectLst>
                <a:latin typeface="Times New Roman"/>
              </a:rPr>
              <a:t>Эта теория не только не прояснил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89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000"/>
                  </a:outerShdw>
                </a:effectLst>
                <a:latin typeface="Times New Roman"/>
              </a:rPr>
              <a:t>вопрос о действительных физических и геометрических свойствах пространства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89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000"/>
                  </a:outerShdw>
                </a:effectLst>
                <a:latin typeface="Times New Roman"/>
              </a:rPr>
              <a:t>но, кажется, только еще больше его запутала, создав некоего мутанта под название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89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349360"/>
            <a:ext cx="8391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Times New Roman"/>
              </a:rPr>
              <a:t>"Четырехмерное Пространство-Время"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898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5300640"/>
            <a:ext cx="896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8795b"/>
                  </a:outerShdw>
                </a:effectLst>
                <a:latin typeface="Times New Roman"/>
              </a:rPr>
              <a:t>Однако, при внимательном рассмотрен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8795b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8795b"/>
                  </a:outerShdw>
                </a:effectLst>
                <a:latin typeface="Times New Roman"/>
              </a:rPr>
              <a:t>в ней обнаруживаются явные противоречия, на которые принято закрывать глаза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8795b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8795b"/>
                  </a:outerShdw>
                </a:effectLst>
                <a:latin typeface="Times New Roman"/>
              </a:rPr>
              <a:t>Считается чуть ли не «дурным тоном» говорить о парадоксах СТО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8795b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H="1" flipV="1">
            <a:off x="539640" y="1052280"/>
            <a:ext cx="5904000" cy="2447640"/>
          </a:xfrm>
          <a:prstGeom prst="line">
            <a:avLst/>
          </a:prstGeom>
          <a:ln cap="rnd" w="41400">
            <a:solidFill>
              <a:srgbClr val="ffffff"/>
            </a:solidFill>
            <a:custDash>
              <a:ds d="100000" sp="1000"/>
            </a:custDash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268280"/>
            <a:ext cx="6006960" cy="2463840"/>
          </a:xfrm>
          <a:custGeom>
            <a:avLst/>
            <a:gdLst/>
            <a:ahLst/>
            <a:rect l="l" t="t" r="r" b="b"/>
            <a:pathLst>
              <a:path w="3784" h="1552">
                <a:moveTo>
                  <a:pt x="0" y="0"/>
                </a:moveTo>
                <a:lnTo>
                  <a:pt x="3784" y="1552"/>
                </a:lnTo>
              </a:path>
            </a:pathLst>
          </a:custGeom>
          <a:noFill/>
          <a:ln cap="rnd" w="41400">
            <a:solidFill>
              <a:srgbClr val="ffffff"/>
            </a:solidFill>
            <a:custDash>
              <a:ds d="100000" sp="1000"/>
            </a:custDash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2101400">
            <a:off x="5940000" y="328392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27640" y="2781360"/>
            <a:ext cx="223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88000" y="2924280"/>
            <a:ext cx="223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 rot="1301400">
            <a:off x="-1116000" y="69228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40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828720" y="189000"/>
            <a:ext cx="223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32360" y="0"/>
            <a:ext cx="4000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докс Близнец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4221000"/>
            <a:ext cx="835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лятивистский эффект замедления времени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13080" y="3798720"/>
                <a:ext cx="12708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464160" y="2603520"/>
                <a:ext cx="4064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 txBox="1"/>
          <p:nvPr/>
        </p:nvSpPr>
        <p:spPr>
          <a:xfrm>
            <a:off x="250920" y="4869000"/>
            <a:ext cx="8569080" cy="1655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к как A движется в ИСО  с околосветовой скоростью,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его время относительно B замедляется, и по возвращении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Землю близнец A оказывается моложе близнеца B.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692280"/>
            <a:ext cx="8497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 с точки зрения A, это B вместе с Землей движется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носительно A, и это время B должно замедляться,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.е. B оказывается моложе A.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8280" y="2421000"/>
            <a:ext cx="8794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нный парадокс объясняется тем, что система отсчета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смонавта A не является инерциальной – он испытывает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корения, что естественно делает ситуацию несимметричной.</a:t>
            </a:r>
            <a:endParaRPr b="1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4005360"/>
            <a:ext cx="54054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арадокс связан с формулой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796000" y="3860640"/>
                <a:ext cx="232236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 txBox="1"/>
          <p:nvPr/>
        </p:nvSpPr>
        <p:spPr>
          <a:xfrm>
            <a:off x="0" y="5445000"/>
            <a:ext cx="889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 – интервал времени в движущейся системе отсчета, Тₒ - в неподвижной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58663 -0.32014 E">
                                      <p:cBhvr>
                                        <p:cTn id="51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1852E-006 L -0.58282 -0.31505 E">
                                      <p:cBhvr>
                                        <p:cTn id="5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1.48148E-006 L -0.60643 -0.32547 E">
                                      <p:cBhvr>
                                        <p:cTn id="5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6389 0.40949 L -5E-006 -7.40741E-007 E">
                                      <p:cBhvr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8.51852E-006 L 0.75608 0.39907 E">
                                      <p:cBhvr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932360" y="0"/>
            <a:ext cx="4000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докс Близнец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836640"/>
            <a:ext cx="8594640" cy="1454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усть космонавты-близнецы A и B отправляются с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подвижной космической станции C одновременно с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динаковыми скоростями в противоположных направлениях,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14280" y="2421000"/>
            <a:ext cx="860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летают одинаковое расстояние и возвращаются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C. Кто из них окажется моложе?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57720"/>
            <a:ext cx="8964720" cy="2562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бы избежать упреков в том, что системы отсчета космонавтов не являются находящихся на одинаковом расстоянии о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не тормозят и не разворачиваются, а пошлют друг другу радиосообщение, в котором укажут свой возраст. Разумеется, на преодоление расстояния от одного корабля до другого радиосигналу потребуется некоторое время , и каждый космонавт получит сообщение от другого гораздо позже, чем отправит свое. Но в полученн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общении будет указан возрас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такой же, каким был возрас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когда он отправлял свое сообщение, а в полученн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общении будет указан возрас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такой же, каким был возрас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 момент отправки его сообщения. Т.е. в обоих сообщениях будет указан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одинаковы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озра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219640" y="260280"/>
            <a:ext cx="360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Поезд Эйнштейна</a:t>
            </a:r>
            <a:endParaRPr b="0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90792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1c1c1c"/>
                    </a:gs>
                    <a:gs pos="50000">
                      <a:srgbClr val="740101"/>
                    </a:gs>
                    <a:gs pos="100000">
                      <a:srgbClr val="1c1c1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ставим, что некий поезд проходит мимо вокзала с постоянной скоростью V 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1c1c1c"/>
                  </a:gs>
                  <a:gs pos="50000">
                    <a:srgbClr val="740101"/>
                  </a:gs>
                  <a:gs pos="100000">
                    <a:srgbClr val="1c1c1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4000" y="141300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a040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поезде, в его середине, находится импульсный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a040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a040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лучатель света O’, а в начале и конце – приемники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a040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a0404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лучения A и B, при этом AO’= O’B.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a0404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0" y="4437000"/>
            <a:ext cx="7956720" cy="1223640"/>
            <a:chOff x="9144000" y="4437000"/>
            <a:chExt cx="7956720" cy="1223640"/>
          </a:xfrm>
        </p:grpSpPr>
        <p:grpSp>
          <p:nvGrpSpPr>
            <p:cNvPr id="84" name=""/>
            <p:cNvGrpSpPr/>
            <p:nvPr/>
          </p:nvGrpSpPr>
          <p:grpSpPr>
            <a:xfrm>
              <a:off x="9144000" y="4437000"/>
              <a:ext cx="7922160" cy="1223640"/>
              <a:chOff x="9144000" y="4437000"/>
              <a:chExt cx="7922160" cy="12236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9144000" y="4653000"/>
                <a:ext cx="7922160" cy="1007640"/>
                <a:chOff x="9144000" y="4653000"/>
                <a:chExt cx="7922160" cy="100764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9144000" y="4653000"/>
                  <a:ext cx="7922160" cy="1007640"/>
                  <a:chOff x="9144000" y="4653000"/>
                  <a:chExt cx="7922160" cy="1007640"/>
                </a:xfrm>
              </p:grpSpPr>
              <p:grpSp>
                <p:nvGrpSpPr>
                  <p:cNvPr id="87" name=""/>
                  <p:cNvGrpSpPr/>
                  <p:nvPr/>
                </p:nvGrpSpPr>
                <p:grpSpPr>
                  <a:xfrm>
                    <a:off x="9144000" y="4653000"/>
                    <a:ext cx="7922160" cy="788400"/>
                    <a:chOff x="9144000" y="4653000"/>
                    <a:chExt cx="7922160" cy="788400"/>
                  </a:xfrm>
                </p:grpSpPr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9144000" y="4653000"/>
                      <a:ext cx="1651320" cy="788400"/>
                    </a:xfrm>
                    <a:prstGeom prst="flowChartPunchedCard">
                      <a:avLst/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947376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1013544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" name=""/>
                    <p:cNvGrpSpPr/>
                    <p:nvPr/>
                  </p:nvGrpSpPr>
                  <p:grpSpPr>
                    <a:xfrm>
                      <a:off x="10904400" y="4653000"/>
                      <a:ext cx="1981080" cy="788040"/>
                      <a:chOff x="10904400" y="4653000"/>
                      <a:chExt cx="1981080" cy="788040"/>
                    </a:xfrm>
                  </p:grpSpPr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1090440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" name=""/>
                      <p:cNvSpPr/>
                      <p:nvPr/>
                    </p:nvSpPr>
                    <p:spPr>
                      <a:xfrm>
                        <a:off x="1123416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1189332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5" name=""/>
                    <p:cNvGrpSpPr/>
                    <p:nvPr/>
                  </p:nvGrpSpPr>
                  <p:grpSpPr>
                    <a:xfrm>
                      <a:off x="12994920" y="4653000"/>
                      <a:ext cx="1981080" cy="788040"/>
                      <a:chOff x="12994920" y="4653000"/>
                      <a:chExt cx="1981080" cy="788040"/>
                    </a:xfrm>
                  </p:grpSpPr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1299492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1332468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1398384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9" name=""/>
                    <p:cNvGrpSpPr/>
                    <p:nvPr/>
                  </p:nvGrpSpPr>
                  <p:grpSpPr>
                    <a:xfrm>
                      <a:off x="15085800" y="4653000"/>
                      <a:ext cx="1980360" cy="788040"/>
                      <a:chOff x="15085800" y="4653000"/>
                      <a:chExt cx="1980360" cy="788040"/>
                    </a:xfrm>
                  </p:grpSpPr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15085800" y="4653000"/>
                        <a:ext cx="198036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" name=""/>
                      <p:cNvSpPr/>
                      <p:nvPr/>
                    </p:nvSpPr>
                    <p:spPr>
                      <a:xfrm>
                        <a:off x="1541556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1607436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9322920" y="5310360"/>
                    <a:ext cx="1310400" cy="350280"/>
                    <a:chOff x="9322920" y="5310360"/>
                    <a:chExt cx="1310400" cy="3502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932292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1017108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1227320" y="5310360"/>
                    <a:ext cx="1310400" cy="350280"/>
                    <a:chOff x="11227320" y="5310360"/>
                    <a:chExt cx="1310400" cy="35028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1122732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1207548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13335840" y="5310360"/>
                    <a:ext cx="1310760" cy="350280"/>
                    <a:chOff x="13335840" y="5310360"/>
                    <a:chExt cx="1310760" cy="35028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1333584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1418400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15394320" y="5310360"/>
                    <a:ext cx="1310760" cy="350280"/>
                    <a:chOff x="15394320" y="5310360"/>
                    <a:chExt cx="1310760" cy="350280"/>
                  </a:xfrm>
                </p:grpSpPr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39432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1624248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5" name=""/>
                <p:cNvSpPr/>
                <p:nvPr/>
              </p:nvSpPr>
              <p:spPr>
                <a:xfrm>
                  <a:off x="16668720" y="4797360"/>
                  <a:ext cx="21744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2781080" y="4724280"/>
                  <a:ext cx="360360" cy="36036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325080" y="4797360"/>
                  <a:ext cx="21744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 txBox="1"/>
              <p:nvPr/>
            </p:nvSpPr>
            <p:spPr>
              <a:xfrm>
                <a:off x="13068360" y="4437000"/>
                <a:ext cx="288720" cy="317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О'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9" name=""/>
            <p:cNvSpPr txBox="1"/>
            <p:nvPr/>
          </p:nvSpPr>
          <p:spPr>
            <a:xfrm>
              <a:off x="9540720" y="4437000"/>
              <a:ext cx="21600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6884720" y="4437000"/>
              <a:ext cx="21600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-973080" y="6021360"/>
            <a:ext cx="11161800" cy="1079640"/>
          </a:xfrm>
          <a:custGeom>
            <a:avLst/>
            <a:gdLst>
              <a:gd name="textAreaLeft" fmla="*/ 270000 w 11161800"/>
              <a:gd name="textAreaRight" fmla="*/ 10892160 w 111618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23243" h="21600">
                <a:moveTo>
                  <a:pt x="0" y="0"/>
                </a:moveTo>
                <a:lnTo>
                  <a:pt x="0" y="21600"/>
                </a:lnTo>
                <a:lnTo>
                  <a:pt x="223243" y="21600"/>
                </a:lnTo>
                <a:lnTo>
                  <a:pt x="2232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17843" y="16200"/>
                </a:lnTo>
                <a:lnTo>
                  <a:pt x="217843" y="54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4211640" y="5229360"/>
            <a:ext cx="476280" cy="747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0" y="5013360"/>
            <a:ext cx="216000" cy="3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9280" y="2276640"/>
            <a:ext cx="849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 момент, когда O’ поравнялся со стоящим на перроне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окзала наблюдателем O, излучатель испускает импульс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вета. В поезде, вследствие равенства расстояний AO’ и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3141720"/>
            <a:ext cx="8496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 O’B, приемники A и B примут световые сигналы одновременно.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99640" y="4869000"/>
            <a:ext cx="352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4869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973080" y="6021360"/>
            <a:ext cx="11161800" cy="1079640"/>
          </a:xfrm>
          <a:custGeom>
            <a:avLst/>
            <a:gdLst>
              <a:gd name="textAreaLeft" fmla="*/ 270000 w 11161800"/>
              <a:gd name="textAreaRight" fmla="*/ 10892160 w 111618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23243" h="21600">
                <a:moveTo>
                  <a:pt x="0" y="0"/>
                </a:moveTo>
                <a:lnTo>
                  <a:pt x="0" y="21600"/>
                </a:lnTo>
                <a:lnTo>
                  <a:pt x="223243" y="21600"/>
                </a:lnTo>
                <a:lnTo>
                  <a:pt x="2232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17843" y="16200"/>
                </a:lnTo>
                <a:lnTo>
                  <a:pt x="217843" y="54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4211640" y="5229360"/>
            <a:ext cx="476280" cy="747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973080" y="6021360"/>
            <a:ext cx="11161800" cy="1079640"/>
          </a:xfrm>
          <a:custGeom>
            <a:avLst/>
            <a:gdLst>
              <a:gd name="textAreaLeft" fmla="*/ 270000 w 11161800"/>
              <a:gd name="textAreaRight" fmla="*/ 10892160 w 111618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23243" h="21600">
                <a:moveTo>
                  <a:pt x="0" y="0"/>
                </a:moveTo>
                <a:lnTo>
                  <a:pt x="0" y="21600"/>
                </a:lnTo>
                <a:lnTo>
                  <a:pt x="223243" y="21600"/>
                </a:lnTo>
                <a:lnTo>
                  <a:pt x="2232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17843" y="16200"/>
                </a:lnTo>
                <a:lnTo>
                  <a:pt x="217843" y="54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4211640" y="5229360"/>
            <a:ext cx="47628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7 -0.00509 L -0.92726 -0.00509 E">
                                      <p:cBhvr>
                                        <p:cTn id="16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11280" y="4437000"/>
            <a:ext cx="7956000" cy="1223640"/>
            <a:chOff x="611280" y="4437000"/>
            <a:chExt cx="7956000" cy="1223640"/>
          </a:xfrm>
        </p:grpSpPr>
        <p:grpSp>
          <p:nvGrpSpPr>
            <p:cNvPr id="134" name=""/>
            <p:cNvGrpSpPr/>
            <p:nvPr/>
          </p:nvGrpSpPr>
          <p:grpSpPr>
            <a:xfrm>
              <a:off x="611280" y="4437000"/>
              <a:ext cx="7921800" cy="1223640"/>
              <a:chOff x="611280" y="4437000"/>
              <a:chExt cx="7921800" cy="122364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611280" y="4653000"/>
                <a:ext cx="7921800" cy="1007640"/>
                <a:chOff x="611280" y="4653000"/>
                <a:chExt cx="7921800" cy="100764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611280" y="4653000"/>
                  <a:ext cx="7921800" cy="1007640"/>
                  <a:chOff x="611280" y="4653000"/>
                  <a:chExt cx="7921800" cy="1007640"/>
                </a:xfrm>
              </p:grpSpPr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11280" y="4653000"/>
                    <a:ext cx="7921800" cy="788400"/>
                    <a:chOff x="611280" y="4653000"/>
                    <a:chExt cx="7921800" cy="78840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11280" y="4653000"/>
                      <a:ext cx="1651320" cy="788400"/>
                    </a:xfrm>
                    <a:prstGeom prst="flowChartPunchedCard">
                      <a:avLst/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94104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60272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1" name=""/>
                    <p:cNvGrpSpPr/>
                    <p:nvPr/>
                  </p:nvGrpSpPr>
                  <p:grpSpPr>
                    <a:xfrm>
                      <a:off x="2371680" y="4653000"/>
                      <a:ext cx="1981080" cy="788040"/>
                      <a:chOff x="2371680" y="4653000"/>
                      <a:chExt cx="1981080" cy="788040"/>
                    </a:xfrm>
                  </p:grpSpPr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237168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270144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336060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5" name=""/>
                    <p:cNvGrpSpPr/>
                    <p:nvPr/>
                  </p:nvGrpSpPr>
                  <p:grpSpPr>
                    <a:xfrm>
                      <a:off x="4461840" y="4653000"/>
                      <a:ext cx="1981080" cy="788040"/>
                      <a:chOff x="4461840" y="4653000"/>
                      <a:chExt cx="1981080" cy="788040"/>
                    </a:xfrm>
                  </p:grpSpPr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446184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479160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545076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6552720" y="4653000"/>
                      <a:ext cx="1980360" cy="788040"/>
                      <a:chOff x="6552720" y="4653000"/>
                      <a:chExt cx="1980360" cy="78804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6552720" y="4653000"/>
                        <a:ext cx="198036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688248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754128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90200" y="5310360"/>
                    <a:ext cx="1310400" cy="350280"/>
                    <a:chOff x="790200" y="5310360"/>
                    <a:chExt cx="1310400" cy="3502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9020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63836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694600" y="5310360"/>
                    <a:ext cx="1310400" cy="350280"/>
                    <a:chOff x="2694600" y="5310360"/>
                    <a:chExt cx="1310400" cy="35028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69460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54276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4802760" y="5310360"/>
                    <a:ext cx="1310760" cy="350280"/>
                    <a:chOff x="4802760" y="5310360"/>
                    <a:chExt cx="1310760" cy="35028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480276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65092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6861240" y="5310360"/>
                    <a:ext cx="1310760" cy="350280"/>
                    <a:chOff x="6861240" y="5310360"/>
                    <a:chExt cx="1310760" cy="350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86124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70940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" name=""/>
                <p:cNvSpPr/>
                <p:nvPr/>
              </p:nvSpPr>
              <p:spPr>
                <a:xfrm>
                  <a:off x="8135640" y="4797360"/>
                  <a:ext cx="21708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248000" y="4724280"/>
                  <a:ext cx="360000" cy="36036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2000" y="4797360"/>
                  <a:ext cx="21708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 txBox="1"/>
              <p:nvPr/>
            </p:nvSpPr>
            <p:spPr>
              <a:xfrm>
                <a:off x="4535280" y="4437000"/>
                <a:ext cx="288360" cy="317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О'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69" name=""/>
            <p:cNvSpPr txBox="1"/>
            <p:nvPr/>
          </p:nvSpPr>
          <p:spPr>
            <a:xfrm>
              <a:off x="1007640" y="4437000"/>
              <a:ext cx="21564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8351640" y="4437000"/>
              <a:ext cx="21564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-973080" y="6021360"/>
            <a:ext cx="11161800" cy="1079640"/>
          </a:xfrm>
          <a:custGeom>
            <a:avLst/>
            <a:gdLst>
              <a:gd name="textAreaLeft" fmla="*/ 270000 w 11161800"/>
              <a:gd name="textAreaRight" fmla="*/ 10892160 w 111618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23243" h="21600">
                <a:moveTo>
                  <a:pt x="0" y="0"/>
                </a:moveTo>
                <a:lnTo>
                  <a:pt x="0" y="21600"/>
                </a:lnTo>
                <a:lnTo>
                  <a:pt x="223243" y="21600"/>
                </a:lnTo>
                <a:lnTo>
                  <a:pt x="2232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17843" y="16200"/>
                </a:lnTo>
                <a:lnTo>
                  <a:pt x="217843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211640" y="5229360"/>
            <a:ext cx="476280" cy="747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219640" y="260280"/>
            <a:ext cx="360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оезд Эйнштейна</a:t>
            </a:r>
            <a:endParaRPr b="0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869000"/>
            <a:ext cx="4500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500360" y="4869000"/>
            <a:ext cx="29509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9640" y="981000"/>
            <a:ext cx="8353440" cy="2663640"/>
            <a:chOff x="539640" y="981000"/>
            <a:chExt cx="8353440" cy="2663640"/>
          </a:xfrm>
        </p:grpSpPr>
        <p:sp>
          <p:nvSpPr>
            <p:cNvPr id="177" name=""/>
            <p:cNvSpPr txBox="1"/>
            <p:nvPr/>
          </p:nvSpPr>
          <p:spPr>
            <a:xfrm>
              <a:off x="612720" y="981000"/>
              <a:ext cx="82803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Несколько иначе дело обстоит с точки зрения наблюдателя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O на перроне. В его системе отсчета свет также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распространяется во всех направлениях со скоростью c.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539640" y="2133360"/>
              <a:ext cx="82803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Но пока свет доходил до приемников на поезде, хвост поезда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переместился к наблюдателю, а голова поезда – от наблюдателя,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так что интервалы времени распространения света до A и B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вовсе не одинаковы: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476360" y="3357360"/>
              <a:ext cx="6119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99cc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07932" dir="8100000" blurRad="0" rotWithShape="0">
                      <a:srgbClr val="ffffff">
                        <a:alpha val="50000"/>
                      </a:srgbClr>
                    </a:outerShdw>
                  </a:effectLst>
                  <a:latin typeface="Times New Roman"/>
                </a:rPr>
                <a:t>до В – меньше, а до А – больше</a:t>
              </a:r>
              <a:endParaRPr b="0" i="1" lang="en-US" sz="1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ff00"/>
                </a:solidFill>
                <a:effectLst>
                  <a:outerShdw dist="107932" dir="81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-0.00509 L -0.09045 -0.01018 E">
                                      <p:cBhvr>
                                        <p:cTn id="19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179280" y="4437000"/>
            <a:ext cx="7956720" cy="1223640"/>
            <a:chOff x="179280" y="4437000"/>
            <a:chExt cx="7956720" cy="1223640"/>
          </a:xfrm>
        </p:grpSpPr>
        <p:grpSp>
          <p:nvGrpSpPr>
            <p:cNvPr id="182" name=""/>
            <p:cNvGrpSpPr/>
            <p:nvPr/>
          </p:nvGrpSpPr>
          <p:grpSpPr>
            <a:xfrm>
              <a:off x="179280" y="4437000"/>
              <a:ext cx="7922160" cy="1223640"/>
              <a:chOff x="179280" y="4437000"/>
              <a:chExt cx="7922160" cy="122364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79280" y="4653000"/>
                <a:ext cx="7922160" cy="1007640"/>
                <a:chOff x="179280" y="4653000"/>
                <a:chExt cx="7922160" cy="100764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179280" y="4653000"/>
                  <a:ext cx="7922160" cy="1007640"/>
                  <a:chOff x="179280" y="4653000"/>
                  <a:chExt cx="7922160" cy="100764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179280" y="4653000"/>
                    <a:ext cx="7922160" cy="788400"/>
                    <a:chOff x="179280" y="4653000"/>
                    <a:chExt cx="7922160" cy="78840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179280" y="4653000"/>
                      <a:ext cx="1651320" cy="788400"/>
                    </a:xfrm>
                    <a:prstGeom prst="flowChartPunchedCard">
                      <a:avLst/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50904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1170720" y="4750200"/>
                      <a:ext cx="550440" cy="295200"/>
                    </a:xfrm>
                    <a:prstGeom prst="bevel">
                      <a:avLst>
                        <a:gd name="adj" fmla="val 12500"/>
                      </a:avLst>
                    </a:prstGeom>
                    <a:gradFill rotWithShape="0">
                      <a:gsLst>
                        <a:gs pos="0">
                          <a:srgbClr val="5a5e5a"/>
                        </a:gs>
                        <a:gs pos="50000">
                          <a:srgbClr val="727572"/>
                        </a:gs>
                        <a:gs pos="100000">
                          <a:srgbClr val="5a5e5a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1939680" y="4653000"/>
                      <a:ext cx="1981080" cy="788040"/>
                      <a:chOff x="1939680" y="4653000"/>
                      <a:chExt cx="1981080" cy="788040"/>
                    </a:xfrm>
                  </p:grpSpPr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193968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226944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292860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4030200" y="4653000"/>
                      <a:ext cx="1981080" cy="788040"/>
                      <a:chOff x="4030200" y="4653000"/>
                      <a:chExt cx="1981080" cy="788040"/>
                    </a:xfrm>
                  </p:grpSpPr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4030200" y="4653000"/>
                        <a:ext cx="198108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435996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01912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7" name=""/>
                    <p:cNvGrpSpPr/>
                    <p:nvPr/>
                  </p:nvGrpSpPr>
                  <p:grpSpPr>
                    <a:xfrm>
                      <a:off x="6121080" y="4653000"/>
                      <a:ext cx="1980360" cy="788040"/>
                      <a:chOff x="6121080" y="4653000"/>
                      <a:chExt cx="1980360" cy="788040"/>
                    </a:xfrm>
                  </p:grpSpPr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6121080" y="4653000"/>
                        <a:ext cx="1980360" cy="788040"/>
                      </a:xfrm>
                      <a:prstGeom prst="flowChartPredefinedProcess">
                        <a:avLst/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"/>
                      <p:cNvSpPr/>
                      <p:nvPr/>
                    </p:nvSpPr>
                    <p:spPr>
                      <a:xfrm>
                        <a:off x="645084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7109640" y="4752720"/>
                        <a:ext cx="550080" cy="295200"/>
                      </a:xfrm>
                      <a:prstGeom prst="bevel">
                        <a:avLst>
                          <a:gd name="adj" fmla="val 12500"/>
                        </a:avLst>
                      </a:prstGeom>
                      <a:gradFill rotWithShape="0">
                        <a:gsLst>
                          <a:gs pos="0">
                            <a:srgbClr val="5a5e5a"/>
                          </a:gs>
                          <a:gs pos="50000">
                            <a:srgbClr val="727572"/>
                          </a:gs>
                          <a:gs pos="100000">
                            <a:srgbClr val="5a5e5a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358200" y="5310360"/>
                    <a:ext cx="1310400" cy="350280"/>
                    <a:chOff x="358200" y="5310360"/>
                    <a:chExt cx="1310400" cy="35028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5820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120636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2262600" y="5310360"/>
                    <a:ext cx="1310400" cy="350280"/>
                    <a:chOff x="2262600" y="5310360"/>
                    <a:chExt cx="1310400" cy="35028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226260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3110760" y="5310360"/>
                      <a:ext cx="46224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4371120" y="5310360"/>
                    <a:ext cx="1310760" cy="350280"/>
                    <a:chOff x="4371120" y="5310360"/>
                    <a:chExt cx="1310760" cy="35028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37112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21928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6429600" y="5310360"/>
                    <a:ext cx="1310760" cy="350280"/>
                    <a:chOff x="6429600" y="5310360"/>
                    <a:chExt cx="1310760" cy="35028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642960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277760" y="5310360"/>
                      <a:ext cx="462600" cy="350280"/>
                    </a:xfrm>
                    <a:prstGeom prst="donut">
                      <a:avLst>
                        <a:gd name="adj" fmla="val 25000"/>
                      </a:avLst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3" name=""/>
                <p:cNvSpPr/>
                <p:nvPr/>
              </p:nvSpPr>
              <p:spPr>
                <a:xfrm>
                  <a:off x="7704000" y="4797360"/>
                  <a:ext cx="21744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16360" y="4724280"/>
                  <a:ext cx="360360" cy="36036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60360" y="4797360"/>
                  <a:ext cx="217440" cy="216000"/>
                </a:xfrm>
                <a:prstGeom prst="flowChartSummingJuncti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 txBox="1"/>
              <p:nvPr/>
            </p:nvSpPr>
            <p:spPr>
              <a:xfrm>
                <a:off x="4103640" y="4437000"/>
                <a:ext cx="288720" cy="317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О'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17" name=""/>
            <p:cNvSpPr txBox="1"/>
            <p:nvPr/>
          </p:nvSpPr>
          <p:spPr>
            <a:xfrm>
              <a:off x="576000" y="4437000"/>
              <a:ext cx="21600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7920000" y="4437000"/>
              <a:ext cx="21600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9" name=""/>
          <p:cNvSpPr txBox="1"/>
          <p:nvPr/>
        </p:nvSpPr>
        <p:spPr>
          <a:xfrm>
            <a:off x="5219640" y="260280"/>
            <a:ext cx="360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Поезд Эйнштейна</a:t>
            </a:r>
            <a:endParaRPr b="0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-973080" y="6021360"/>
            <a:ext cx="11161800" cy="1079640"/>
          </a:xfrm>
          <a:custGeom>
            <a:avLst/>
            <a:gdLst>
              <a:gd name="textAreaLeft" fmla="*/ 270000 w 11161800"/>
              <a:gd name="textAreaRight" fmla="*/ 10892160 w 111618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23243" h="21600">
                <a:moveTo>
                  <a:pt x="0" y="0"/>
                </a:moveTo>
                <a:lnTo>
                  <a:pt x="0" y="21600"/>
                </a:lnTo>
                <a:lnTo>
                  <a:pt x="223243" y="21600"/>
                </a:lnTo>
                <a:lnTo>
                  <a:pt x="2232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17843" y="16200"/>
                </a:lnTo>
                <a:lnTo>
                  <a:pt x="217843" y="54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4211640" y="5229360"/>
            <a:ext cx="476280" cy="747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9280" y="907920"/>
            <a:ext cx="85694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Пусть приемниками излучения на поезде являются часы. В поезде часы синхронизированы, и в момент принятия сигнала часы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A 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и часы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 показывают время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0. Для наблюдателя с перрона приход световых сигналов к приемникам-часам – события неодновременные. Но, наблюдая сначала освещенные часы  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, через некоторое время – освещенные часы  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, он замечает, что и те и другие показывают время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0. Следовательно, по наблюдениям с перрона, на стене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 вагона время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0 наступило раньше, а на стене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 – позже. Т.е. на стене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 время идет ускоренно, а на стене </a:t>
            </a:r>
            <a:r>
              <a:rPr b="1" i="1" lang="en-US" sz="1800" spc="-1" strike="noStrike">
                <a:solidFill>
                  <a:srgbClr val="cd0303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 – замедленно. Интересно, как практически может существовать физическое тело, в каждой точке которого время течет по-разному, или все точки которого находятся в разном времени – каждая в свое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83664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А если в поезде находятся большие механические часы? Очевидно, все шестеренки часов полностью рассинхронизируются, и часы сломаются. Но наблюдатель в поезде заявит, что ничего подобного – часы прекрасно идут и показывают точное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d0303"/>
                </a:solidFill>
                <a:latin typeface="Arial"/>
              </a:rPr>
              <a:t>А если в поезде сидит ребенок? У него что – правая половина тела вырастет быстрее, чем лев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112536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"/>
              </a:rPr>
              <a:t>Данный мысленный эксперимент показывает, что время на задней стене </a:t>
            </a:r>
            <a:r>
              <a:rPr b="1" i="1" lang="en-US" sz="2000" spc="-1" strike="noStrike">
                <a:solidFill>
                  <a:srgbClr val="ff66cc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66cc"/>
                </a:solidFill>
                <a:latin typeface="Arial"/>
              </a:rPr>
              <a:t> вагона идет быстрее, чем на перроне, т.к. свет от источника до приемника </a:t>
            </a:r>
            <a:r>
              <a:rPr b="1" i="1" lang="en-US" sz="2000" spc="-1" strike="noStrike">
                <a:solidFill>
                  <a:srgbClr val="ff66cc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66cc"/>
                </a:solidFill>
                <a:latin typeface="Arial"/>
              </a:rPr>
              <a:t> проходит меньшее расстояние, соответственно, за меньшее время. Интересно, как это согласуется с релятивистским эффектом замедления време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676680" y="189000"/>
            <a:ext cx="54673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4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Times New Roman"/>
              </a:rPr>
              <a:t>Инвариантность времен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1052640"/>
            <a:ext cx="8209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Вообще, утверждение, что в движущейся ИСО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часы рассинхронизируются, означает именно то,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что все точки движущейся целой структуры,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основанной на причинно-следственных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3068640"/>
            <a:ext cx="820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закономерностях, находятся в разном времени. 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3500280"/>
            <a:ext cx="90392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Инвариантность времени следует из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инвариантности скорости света – следствие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после причины наступает не раньше и не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позже, а ровно через столько времени,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4760" y="4365720"/>
            <a:ext cx="90392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сколько требуется фундаментальному сигналу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000000"/>
                    </a:gs>
                    <a:gs pos="100000">
                      <a:srgbClr val="fefefe"/>
                    </a:gs>
                  </a:gsLst>
                  <a:lin ang="10800000"/>
                </a:gradFill>
                <a:latin typeface="Times New Roman"/>
              </a:rPr>
              <a:t>для прохождения расстояния от причины до следствия. 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7:47:15Z</dcterms:created>
  <dc:creator>DsEnvoy</dc:creator>
  <dc:description/>
  <dc:language>en-US</dc:language>
  <cp:lastModifiedBy>root</cp:lastModifiedBy>
  <dcterms:modified xsi:type="dcterms:W3CDTF">2008-10-23T17:45:02Z</dcterms:modified>
  <cp:revision>30</cp:revision>
  <dc:subject/>
  <dc:title>Слайд 1</dc:title>
</cp:coreProperties>
</file>