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9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B4B8-A5CF-4423-A88B-903003F288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6DFF-C6DF-4390-991C-C08DA3F62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97F6-2964-42F2-B614-A9CF5C28D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9CD3-DEFC-42EF-8F24-10EC2940B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B1DD-267B-4198-A4E0-EE49CBFCED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9FA9-8A8F-4473-9E83-0D9351BC5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486-FFFA-4FF8-9D95-CD21C5A1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24C-102F-4B99-977C-6D14A149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0F5-B4D3-4625-AE27-11CB61B8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BD54-0504-412C-ADEA-E53B9205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AC6B-2AAE-40E0-9E6B-5A83D76B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C59F-844F-4919-8E0B-28C2ED0F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A437-1288-446B-879A-77FA5585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D46E-ACF2-4A4E-BCCA-B1A9A98F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2E35-D319-4679-BBD0-070683E1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50DA-3BE4-42ED-9F50-BC9276B0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9A47-02CA-43C3-8EC4-8CF8A163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807-DA96-4E8A-9D39-AA416E3F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3786-5EF1-49F6-83E9-3C57E0A6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3D61-83D9-470E-B572-3EED084A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984F-8373-459B-9473-7B39076C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4C5A-A7DE-43B9-9760-3AABC8D9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FCA8-7F13-490F-880E-66E98268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07A0-A09C-4F6C-908C-AEB84155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F6DD-8230-4888-BF6A-BEAD318E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9534F-5293-4269-8A01-52791395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7B0F-0D6C-4CAC-8032-2EC63B1E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B267-C59C-4C72-9CF9-4550A508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5B2-BF6E-4FE7-A569-2BE52FC8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AAFE-81DF-4F53-9902-E59AF1EB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AFE2-3DF1-400A-9886-BF466EA9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2B9B-B6A9-46D0-8C75-1F76F959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9263E-FDD7-420C-B6D3-24997E42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B546-28CC-43AF-A34A-12D3B4AF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A25B-8DC4-4B1A-AB9A-6F128983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5CB9B-A5C9-4DE5-A156-3C1F11CF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0D05D-F2B1-4F0F-A00E-3845A6AF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3CE4B-EA7C-43C2-8021-DFE2F302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B7DFF-0411-432C-BB2A-15565892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20D-7610-4544-9EE4-12551E2F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33AF1-8612-41B9-A2B1-80F6824A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915DF-E3F7-4FC3-9D70-86C23848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45B5-01F7-4F34-BFF0-D1755AE6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326B8-FFB6-4968-BFEE-8C92C450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F8BFA-FC9D-4284-8903-9B176EBC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E00CE-3332-492F-92E3-4683EB8D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0EE20-6DB6-48A5-8B5E-FE961EA9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9AC3F-93BF-48FB-A984-46921375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512C-E516-466A-9A98-1BBC136E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61F8-26CD-4C07-9135-846384B3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349-E9DC-4131-916C-B0E93B7D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88950-E9B3-4B6D-87DD-26E01860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6D039-5C93-4FC9-9574-B7073C85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21648-40EE-4427-9C58-F78F4514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4D619-536F-4905-8BA2-5D028CA7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14267-2A30-4B1B-B7FA-D033C1E1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442CB-C400-4366-A07E-D358326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C909E-04E0-4B2E-A64B-33AC43C5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DA881-B96C-4B35-8FF3-022CD824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1D816-EB59-4CAB-8C22-9631C80E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1B5E0-7AE0-4DFE-98CA-538CC4D9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CB4-A432-4EC4-B138-DE68BBF1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DD0CF-0542-45D2-833E-500EC489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E2680-71C7-48D0-8A80-841B2AB6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EE796-3DEC-4000-B232-CBD759D7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3F2B2-D8F0-44AF-BCD1-B457F517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AC849-34BE-4B95-9DD8-5298E481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A1348-5680-438A-90D2-26BCE27C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E4CD5-ECB8-4F6B-8FFE-A50A507F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968A-41D4-4A0F-92BC-D42CED42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06C23-FCCA-40A8-A417-4F545C21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1DE53-12D0-445E-B9BE-9445A9A6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927-EE9E-4318-AD5B-EECD8F91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5A2D3-2B66-4A76-A064-619893DF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6DDCD-CD86-419F-97B8-35AE6D31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2FB98-C3BB-4E12-8F76-56DB69A0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906-94C2-4D2D-A4CE-2CE9E59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E7A-60D9-4BEB-9EF7-EF14A5C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8F3B-2D01-4022-B499-1BBBE385B2F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92F4-6096-42A4-A103-D7094110FE8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83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3D15-5E5B-40B9-B965-9DAB282F0B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D35A-068F-482E-ACBA-B2C1E65348C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96CB-89F6-4011-B58A-4695AFF7A2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26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3313-B15F-434C-B65A-D16B3732CC63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ак ли обыкновенны обыкновенные дроби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42640" y="3857760"/>
            <a:ext cx="6041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Авторы: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Шароватова Анастасия,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Пилуп Анастасия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8584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У Первомайская С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2000160" y="5072040"/>
            <a:ext cx="52866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Руководитель: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Ланина Л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8"/>
          <p:cNvGrpSpPr/>
          <p:nvPr/>
        </p:nvGrpSpPr>
        <p:grpSpPr>
          <a:xfrm>
            <a:off x="428760" y="4071960"/>
            <a:ext cx="1856880" cy="1928520"/>
            <a:chOff x="428760" y="4071960"/>
            <a:chExt cx="1856880" cy="1928520"/>
          </a:xfrm>
        </p:grpSpPr>
        <p:sp>
          <p:nvSpPr>
            <p:cNvPr id="368" name="Freeform 9"/>
            <p:cNvSpPr/>
            <p:nvPr/>
          </p:nvSpPr>
          <p:spPr>
            <a:xfrm>
              <a:off x="1361880" y="5041080"/>
              <a:ext cx="649440" cy="95940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959400"/>
                <a:gd name="textAreaBottom" fmla="*/ 959760 h 959400"/>
              </a:gdLst>
              <a:ahLst/>
              <a:rect l="textAreaLeft" t="textAreaTop" r="textAreaRight" b="textAreaBottom"/>
              <a:pathLst>
                <a:path w="285" h="405">
                  <a:moveTo>
                    <a:pt x="0" y="0"/>
                  </a:moveTo>
                  <a:lnTo>
                    <a:pt x="0" y="405"/>
                  </a:lnTo>
                  <a:lnTo>
                    <a:pt x="39" y="402"/>
                  </a:lnTo>
                  <a:lnTo>
                    <a:pt x="78" y="396"/>
                  </a:lnTo>
                  <a:lnTo>
                    <a:pt x="117" y="387"/>
                  </a:lnTo>
                  <a:lnTo>
                    <a:pt x="153" y="375"/>
                  </a:lnTo>
                  <a:lnTo>
                    <a:pt x="189" y="357"/>
                  </a:lnTo>
                  <a:lnTo>
                    <a:pt x="225" y="336"/>
                  </a:lnTo>
                  <a:lnTo>
                    <a:pt x="255" y="312"/>
                  </a:lnTo>
                  <a:lnTo>
                    <a:pt x="285" y="285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8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428760" y="5041080"/>
              <a:ext cx="933120" cy="67464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674640"/>
                <a:gd name="textAreaBottom" fmla="*/ 674640 h 674640"/>
              </a:gdLst>
              <a:ahLst/>
              <a:rect l="textAreaLeft" t="textAreaTop" r="textAreaRight" b="textAreaBottom"/>
              <a:pathLst>
                <a:path w="409" h="285">
                  <a:moveTo>
                    <a:pt x="409" y="0"/>
                  </a:moveTo>
                  <a:lnTo>
                    <a:pt x="0" y="0"/>
                  </a:lnTo>
                  <a:lnTo>
                    <a:pt x="3" y="39"/>
                  </a:lnTo>
                  <a:lnTo>
                    <a:pt x="9" y="78"/>
                  </a:lnTo>
                  <a:lnTo>
                    <a:pt x="18" y="117"/>
                  </a:lnTo>
                  <a:lnTo>
                    <a:pt x="30" y="153"/>
                  </a:lnTo>
                  <a:lnTo>
                    <a:pt x="48" y="189"/>
                  </a:lnTo>
                  <a:lnTo>
                    <a:pt x="69" y="225"/>
                  </a:lnTo>
                  <a:lnTo>
                    <a:pt x="93" y="255"/>
                  </a:lnTo>
                  <a:lnTo>
                    <a:pt x="120" y="285"/>
                  </a:lnTo>
                  <a:lnTo>
                    <a:pt x="409" y="0"/>
                  </a:lnTo>
                </a:path>
              </a:pathLst>
            </a:custGeom>
            <a:noFill/>
            <a:ln w="19080">
              <a:solidFill>
                <a:srgbClr val="fff8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02720" y="4071960"/>
              <a:ext cx="659160" cy="969120"/>
            </a:xfrm>
            <a:custGeom>
              <a:avLst/>
              <a:gdLst>
                <a:gd name="textAreaLeft" fmla="*/ 0 w 659160"/>
                <a:gd name="textAreaRight" fmla="*/ 659520 w 659160"/>
                <a:gd name="textAreaTop" fmla="*/ 0 h 969120"/>
                <a:gd name="textAreaBottom" fmla="*/ 969480 h 969120"/>
              </a:gdLst>
              <a:ahLst/>
              <a:rect l="textAreaLeft" t="textAreaTop" r="textAreaRight" b="textAreaBottom"/>
              <a:pathLst>
                <a:path w="289" h="409">
                  <a:moveTo>
                    <a:pt x="289" y="409"/>
                  </a:moveTo>
                  <a:lnTo>
                    <a:pt x="289" y="0"/>
                  </a:lnTo>
                  <a:lnTo>
                    <a:pt x="246" y="3"/>
                  </a:lnTo>
                  <a:lnTo>
                    <a:pt x="207" y="9"/>
                  </a:lnTo>
                  <a:lnTo>
                    <a:pt x="168" y="18"/>
                  </a:lnTo>
                  <a:lnTo>
                    <a:pt x="132" y="30"/>
                  </a:lnTo>
                  <a:lnTo>
                    <a:pt x="96" y="48"/>
                  </a:lnTo>
                  <a:lnTo>
                    <a:pt x="60" y="69"/>
                  </a:lnTo>
                  <a:lnTo>
                    <a:pt x="30" y="93"/>
                  </a:lnTo>
                  <a:lnTo>
                    <a:pt x="0" y="120"/>
                  </a:lnTo>
                  <a:lnTo>
                    <a:pt x="289" y="409"/>
                  </a:lnTo>
                </a:path>
              </a:pathLst>
            </a:custGeom>
            <a:noFill/>
            <a:ln w="19080">
              <a:solidFill>
                <a:srgbClr val="fff8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2"/>
            <p:cNvGrpSpPr/>
            <p:nvPr/>
          </p:nvGrpSpPr>
          <p:grpSpPr>
            <a:xfrm>
              <a:off x="428760" y="4071960"/>
              <a:ext cx="1856880" cy="1928520"/>
              <a:chOff x="428760" y="4071960"/>
              <a:chExt cx="1856880" cy="1928520"/>
            </a:xfrm>
          </p:grpSpPr>
          <p:sp>
            <p:nvSpPr>
              <p:cNvPr id="372" name="Freeform 13"/>
              <p:cNvSpPr/>
              <p:nvPr/>
            </p:nvSpPr>
            <p:spPr>
              <a:xfrm>
                <a:off x="703080" y="5041080"/>
                <a:ext cx="658800" cy="959400"/>
              </a:xfrm>
              <a:custGeom>
                <a:avLst/>
                <a:gdLst>
                  <a:gd name="textAreaLeft" fmla="*/ 0 w 658800"/>
                  <a:gd name="textAreaRight" fmla="*/ 658800 w 658800"/>
                  <a:gd name="textAreaTop" fmla="*/ 0 h 959400"/>
                  <a:gd name="textAreaBottom" fmla="*/ 959760 h 959400"/>
                </a:gdLst>
                <a:ahLst/>
                <a:rect l="textAreaLeft" t="textAreaTop" r="textAreaRight" b="textAreaBottom"/>
                <a:pathLst>
                  <a:path w="289" h="405">
                    <a:moveTo>
                      <a:pt x="289" y="0"/>
                    </a:moveTo>
                    <a:lnTo>
                      <a:pt x="0" y="285"/>
                    </a:lnTo>
                    <a:lnTo>
                      <a:pt x="27" y="312"/>
                    </a:lnTo>
                    <a:lnTo>
                      <a:pt x="60" y="336"/>
                    </a:lnTo>
                    <a:lnTo>
                      <a:pt x="96" y="357"/>
                    </a:lnTo>
                    <a:lnTo>
                      <a:pt x="132" y="375"/>
                    </a:lnTo>
                    <a:lnTo>
                      <a:pt x="168" y="387"/>
                    </a:lnTo>
                    <a:lnTo>
                      <a:pt x="207" y="396"/>
                    </a:lnTo>
                    <a:lnTo>
                      <a:pt x="246" y="402"/>
                    </a:lnTo>
                    <a:lnTo>
                      <a:pt x="289" y="405"/>
                    </a:lnTo>
                    <a:lnTo>
                      <a:pt x="289" y="0"/>
                    </a:lnTo>
                  </a:path>
                </a:pathLst>
              </a:custGeom>
              <a:solidFill>
                <a:srgbClr val="33cc33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14"/>
              <p:cNvGrpSpPr/>
              <p:nvPr/>
            </p:nvGrpSpPr>
            <p:grpSpPr>
              <a:xfrm>
                <a:off x="428760" y="4071960"/>
                <a:ext cx="1856880" cy="1928520"/>
                <a:chOff x="428760" y="4071960"/>
                <a:chExt cx="1856880" cy="1928520"/>
              </a:xfrm>
            </p:grpSpPr>
            <p:sp>
              <p:nvSpPr>
                <p:cNvPr id="374" name="Freeform 15"/>
                <p:cNvSpPr/>
                <p:nvPr/>
              </p:nvSpPr>
              <p:spPr>
                <a:xfrm>
                  <a:off x="1361880" y="5041080"/>
                  <a:ext cx="649440" cy="95940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959400"/>
                    <a:gd name="textAreaBottom" fmla="*/ 959760 h 959400"/>
                  </a:gdLst>
                  <a:ahLst/>
                  <a:rect l="textAreaLeft" t="textAreaTop" r="textAreaRight" b="textAreaBottom"/>
                  <a:pathLst>
                    <a:path w="285" h="405">
                      <a:moveTo>
                        <a:pt x="0" y="0"/>
                      </a:moveTo>
                      <a:lnTo>
                        <a:pt x="0" y="405"/>
                      </a:lnTo>
                      <a:lnTo>
                        <a:pt x="39" y="402"/>
                      </a:lnTo>
                      <a:lnTo>
                        <a:pt x="78" y="396"/>
                      </a:lnTo>
                      <a:lnTo>
                        <a:pt x="117" y="387"/>
                      </a:lnTo>
                      <a:lnTo>
                        <a:pt x="153" y="375"/>
                      </a:lnTo>
                      <a:lnTo>
                        <a:pt x="189" y="357"/>
                      </a:lnTo>
                      <a:lnTo>
                        <a:pt x="225" y="336"/>
                      </a:lnTo>
                      <a:lnTo>
                        <a:pt x="255" y="312"/>
                      </a:lnTo>
                      <a:lnTo>
                        <a:pt x="285" y="2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16"/>
                <p:cNvSpPr/>
                <p:nvPr/>
              </p:nvSpPr>
              <p:spPr>
                <a:xfrm>
                  <a:off x="703080" y="5041080"/>
                  <a:ext cx="658800" cy="959400"/>
                </a:xfrm>
                <a:custGeom>
                  <a:avLst/>
                  <a:gdLst>
                    <a:gd name="textAreaLeft" fmla="*/ 0 w 658800"/>
                    <a:gd name="textAreaRight" fmla="*/ 658800 w 658800"/>
                    <a:gd name="textAreaTop" fmla="*/ 0 h 959400"/>
                    <a:gd name="textAreaBottom" fmla="*/ 959760 h 959400"/>
                  </a:gdLst>
                  <a:ahLst/>
                  <a:rect l="textAreaLeft" t="textAreaTop" r="textAreaRight" b="textAreaBottom"/>
                  <a:pathLst>
                    <a:path w="289" h="405">
                      <a:moveTo>
                        <a:pt x="289" y="0"/>
                      </a:moveTo>
                      <a:lnTo>
                        <a:pt x="0" y="285"/>
                      </a:lnTo>
                      <a:lnTo>
                        <a:pt x="27" y="312"/>
                      </a:lnTo>
                      <a:lnTo>
                        <a:pt x="60" y="336"/>
                      </a:lnTo>
                      <a:lnTo>
                        <a:pt x="96" y="357"/>
                      </a:lnTo>
                      <a:lnTo>
                        <a:pt x="132" y="375"/>
                      </a:lnTo>
                      <a:lnTo>
                        <a:pt x="168" y="387"/>
                      </a:lnTo>
                      <a:lnTo>
                        <a:pt x="207" y="396"/>
                      </a:lnTo>
                      <a:lnTo>
                        <a:pt x="246" y="402"/>
                      </a:lnTo>
                      <a:lnTo>
                        <a:pt x="289" y="405"/>
                      </a:lnTo>
                      <a:lnTo>
                        <a:pt x="289" y="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7"/>
                <p:cNvSpPr/>
                <p:nvPr/>
              </p:nvSpPr>
              <p:spPr>
                <a:xfrm>
                  <a:off x="428760" y="5041080"/>
                  <a:ext cx="933120" cy="674640"/>
                </a:xfrm>
                <a:custGeom>
                  <a:avLst/>
                  <a:gdLst>
                    <a:gd name="textAreaLeft" fmla="*/ 0 w 933120"/>
                    <a:gd name="textAreaRight" fmla="*/ 933480 w 933120"/>
                    <a:gd name="textAreaTop" fmla="*/ 0 h 674640"/>
                    <a:gd name="textAreaBottom" fmla="*/ 674640 h 674640"/>
                  </a:gdLst>
                  <a:ahLst/>
                  <a:rect l="textAreaLeft" t="textAreaTop" r="textAreaRight" b="textAreaBottom"/>
                  <a:pathLst>
                    <a:path w="409" h="285">
                      <a:moveTo>
                        <a:pt x="409" y="0"/>
                      </a:moveTo>
                      <a:lnTo>
                        <a:pt x="0" y="0"/>
                      </a:lnTo>
                      <a:lnTo>
                        <a:pt x="3" y="39"/>
                      </a:lnTo>
                      <a:lnTo>
                        <a:pt x="9" y="78"/>
                      </a:lnTo>
                      <a:lnTo>
                        <a:pt x="18" y="117"/>
                      </a:lnTo>
                      <a:lnTo>
                        <a:pt x="30" y="153"/>
                      </a:lnTo>
                      <a:lnTo>
                        <a:pt x="48" y="189"/>
                      </a:lnTo>
                      <a:lnTo>
                        <a:pt x="69" y="225"/>
                      </a:lnTo>
                      <a:lnTo>
                        <a:pt x="93" y="255"/>
                      </a:lnTo>
                      <a:lnTo>
                        <a:pt x="120" y="285"/>
                      </a:lnTo>
                      <a:lnTo>
                        <a:pt x="409" y="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18"/>
                <p:cNvSpPr/>
                <p:nvPr/>
              </p:nvSpPr>
              <p:spPr>
                <a:xfrm>
                  <a:off x="703080" y="4071960"/>
                  <a:ext cx="658800" cy="969120"/>
                </a:xfrm>
                <a:custGeom>
                  <a:avLst/>
                  <a:gdLst>
                    <a:gd name="textAreaLeft" fmla="*/ 0 w 658800"/>
                    <a:gd name="textAreaRight" fmla="*/ 658800 w 658800"/>
                    <a:gd name="textAreaTop" fmla="*/ 0 h 969120"/>
                    <a:gd name="textAreaBottom" fmla="*/ 969480 h 969120"/>
                  </a:gdLst>
                  <a:ahLst/>
                  <a:rect l="textAreaLeft" t="textAreaTop" r="textAreaRight" b="textAreaBottom"/>
                  <a:pathLst>
                    <a:path w="289" h="409">
                      <a:moveTo>
                        <a:pt x="289" y="409"/>
                      </a:moveTo>
                      <a:lnTo>
                        <a:pt x="289" y="0"/>
                      </a:lnTo>
                      <a:lnTo>
                        <a:pt x="246" y="3"/>
                      </a:lnTo>
                      <a:lnTo>
                        <a:pt x="207" y="9"/>
                      </a:lnTo>
                      <a:lnTo>
                        <a:pt x="168" y="18"/>
                      </a:lnTo>
                      <a:lnTo>
                        <a:pt x="132" y="30"/>
                      </a:lnTo>
                      <a:lnTo>
                        <a:pt x="96" y="48"/>
                      </a:lnTo>
                      <a:lnTo>
                        <a:pt x="60" y="69"/>
                      </a:lnTo>
                      <a:lnTo>
                        <a:pt x="30" y="93"/>
                      </a:lnTo>
                      <a:lnTo>
                        <a:pt x="0" y="120"/>
                      </a:lnTo>
                      <a:lnTo>
                        <a:pt x="289" y="409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19"/>
                <p:cNvSpPr/>
                <p:nvPr/>
              </p:nvSpPr>
              <p:spPr>
                <a:xfrm>
                  <a:off x="1361880" y="4356720"/>
                  <a:ext cx="923760" cy="684000"/>
                </a:xfrm>
                <a:custGeom>
                  <a:avLst/>
                  <a:gdLst>
                    <a:gd name="textAreaLeft" fmla="*/ 0 w 923760"/>
                    <a:gd name="textAreaRight" fmla="*/ 924120 w 92376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405" h="289">
                      <a:moveTo>
                        <a:pt x="0" y="289"/>
                      </a:moveTo>
                      <a:lnTo>
                        <a:pt x="405" y="289"/>
                      </a:lnTo>
                      <a:lnTo>
                        <a:pt x="402" y="246"/>
                      </a:lnTo>
                      <a:lnTo>
                        <a:pt x="396" y="207"/>
                      </a:lnTo>
                      <a:lnTo>
                        <a:pt x="387" y="168"/>
                      </a:lnTo>
                      <a:lnTo>
                        <a:pt x="375" y="132"/>
                      </a:lnTo>
                      <a:lnTo>
                        <a:pt x="357" y="96"/>
                      </a:lnTo>
                      <a:lnTo>
                        <a:pt x="336" y="60"/>
                      </a:lnTo>
                      <a:lnTo>
                        <a:pt x="312" y="30"/>
                      </a:lnTo>
                      <a:lnTo>
                        <a:pt x="285" y="0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Freeform 20"/>
              <p:cNvSpPr/>
              <p:nvPr/>
            </p:nvSpPr>
            <p:spPr>
              <a:xfrm>
                <a:off x="1361880" y="4356720"/>
                <a:ext cx="923760" cy="684000"/>
              </a:xfrm>
              <a:custGeom>
                <a:avLst/>
                <a:gdLst>
                  <a:gd name="textAreaLeft" fmla="*/ 0 w 923760"/>
                  <a:gd name="textAreaRight" fmla="*/ 924120 w 923760"/>
                  <a:gd name="textAreaTop" fmla="*/ 0 h 684000"/>
                  <a:gd name="textAreaBottom" fmla="*/ 684360 h 68400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0" y="289"/>
                    </a:moveTo>
                    <a:lnTo>
                      <a:pt x="405" y="289"/>
                    </a:lnTo>
                    <a:lnTo>
                      <a:pt x="402" y="246"/>
                    </a:lnTo>
                    <a:lnTo>
                      <a:pt x="396" y="207"/>
                    </a:lnTo>
                    <a:lnTo>
                      <a:pt x="387" y="168"/>
                    </a:lnTo>
                    <a:lnTo>
                      <a:pt x="375" y="132"/>
                    </a:lnTo>
                    <a:lnTo>
                      <a:pt x="357" y="96"/>
                    </a:lnTo>
                    <a:lnTo>
                      <a:pt x="336" y="60"/>
                    </a:lnTo>
                    <a:lnTo>
                      <a:pt x="312" y="30"/>
                    </a:lnTo>
                    <a:lnTo>
                      <a:pt x="285" y="0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3cc33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21"/>
            <p:cNvGrpSpPr/>
            <p:nvPr/>
          </p:nvGrpSpPr>
          <p:grpSpPr>
            <a:xfrm>
              <a:off x="428760" y="4071960"/>
              <a:ext cx="1856880" cy="1643760"/>
              <a:chOff x="428760" y="4071960"/>
              <a:chExt cx="1856880" cy="1643760"/>
            </a:xfrm>
          </p:grpSpPr>
          <p:sp>
            <p:nvSpPr>
              <p:cNvPr id="381" name="Freeform 22"/>
              <p:cNvSpPr/>
              <p:nvPr/>
            </p:nvSpPr>
            <p:spPr>
              <a:xfrm>
                <a:off x="428760" y="4356720"/>
                <a:ext cx="933120" cy="684360"/>
              </a:xfrm>
              <a:custGeom>
                <a:avLst/>
                <a:gdLst>
                  <a:gd name="textAreaLeft" fmla="*/ 0 w 933120"/>
                  <a:gd name="textAreaRight" fmla="*/ 933480 w 9331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409" h="289">
                    <a:moveTo>
                      <a:pt x="409" y="289"/>
                    </a:moveTo>
                    <a:lnTo>
                      <a:pt x="120" y="0"/>
                    </a:lnTo>
                    <a:lnTo>
                      <a:pt x="93" y="27"/>
                    </a:lnTo>
                    <a:lnTo>
                      <a:pt x="69" y="60"/>
                    </a:lnTo>
                    <a:lnTo>
                      <a:pt x="48" y="96"/>
                    </a:lnTo>
                    <a:lnTo>
                      <a:pt x="30" y="132"/>
                    </a:lnTo>
                    <a:lnTo>
                      <a:pt x="18" y="168"/>
                    </a:lnTo>
                    <a:lnTo>
                      <a:pt x="9" y="207"/>
                    </a:lnTo>
                    <a:lnTo>
                      <a:pt x="3" y="246"/>
                    </a:lnTo>
                    <a:lnTo>
                      <a:pt x="0" y="289"/>
                    </a:lnTo>
                    <a:lnTo>
                      <a:pt x="409" y="289"/>
                    </a:ln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3"/>
              <p:cNvSpPr/>
              <p:nvPr/>
            </p:nvSpPr>
            <p:spPr>
              <a:xfrm>
                <a:off x="1361880" y="4071960"/>
                <a:ext cx="649440" cy="96912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969120"/>
                  <a:gd name="textAreaBottom" fmla="*/ 969480 h 969120"/>
                </a:gdLst>
                <a:ahLst/>
                <a:rect l="textAreaLeft" t="textAreaTop" r="textAreaRight" b="textAreaBottom"/>
                <a:pathLst>
                  <a:path w="285" h="409">
                    <a:moveTo>
                      <a:pt x="0" y="409"/>
                    </a:moveTo>
                    <a:lnTo>
                      <a:pt x="285" y="120"/>
                    </a:lnTo>
                    <a:lnTo>
                      <a:pt x="258" y="93"/>
                    </a:lnTo>
                    <a:lnTo>
                      <a:pt x="225" y="69"/>
                    </a:lnTo>
                    <a:lnTo>
                      <a:pt x="189" y="48"/>
                    </a:lnTo>
                    <a:lnTo>
                      <a:pt x="153" y="30"/>
                    </a:lnTo>
                    <a:lnTo>
                      <a:pt x="117" y="18"/>
                    </a:lnTo>
                    <a:lnTo>
                      <a:pt x="78" y="9"/>
                    </a:lnTo>
                    <a:lnTo>
                      <a:pt x="39" y="3"/>
                    </a:lnTo>
                    <a:lnTo>
                      <a:pt x="0" y="0"/>
                    </a:lnTo>
                    <a:lnTo>
                      <a:pt x="0" y="409"/>
                    </a:ln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1361880" y="5041080"/>
                <a:ext cx="923760" cy="674640"/>
              </a:xfrm>
              <a:custGeom>
                <a:avLst/>
                <a:gdLst>
                  <a:gd name="textAreaLeft" fmla="*/ 0 w 923760"/>
                  <a:gd name="textAreaRight" fmla="*/ 924120 w 923760"/>
                  <a:gd name="textAreaTop" fmla="*/ 0 h 674640"/>
                  <a:gd name="textAreaBottom" fmla="*/ 674640 h 674640"/>
                </a:gdLst>
                <a:ahLst/>
                <a:rect l="textAreaLeft" t="textAreaTop" r="textAreaRight" b="textAreaBottom"/>
                <a:pathLst>
                  <a:path w="405" h="285">
                    <a:moveTo>
                      <a:pt x="0" y="0"/>
                    </a:moveTo>
                    <a:lnTo>
                      <a:pt x="285" y="285"/>
                    </a:lnTo>
                    <a:lnTo>
                      <a:pt x="312" y="258"/>
                    </a:lnTo>
                    <a:lnTo>
                      <a:pt x="336" y="225"/>
                    </a:lnTo>
                    <a:lnTo>
                      <a:pt x="357" y="189"/>
                    </a:lnTo>
                    <a:lnTo>
                      <a:pt x="375" y="153"/>
                    </a:lnTo>
                    <a:lnTo>
                      <a:pt x="387" y="117"/>
                    </a:lnTo>
                    <a:lnTo>
                      <a:pt x="396" y="78"/>
                    </a:lnTo>
                    <a:lnTo>
                      <a:pt x="402" y="39"/>
                    </a:lnTo>
                    <a:lnTo>
                      <a:pt x="40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292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Что мы знаем о дробях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з истории о дробях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Запись дробей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сточник возникновения дробей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омогают ли нам дроби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ыводы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спользуемая литература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86" name="Picture 11" descr="office4"/>
          <p:cNvPicPr/>
          <p:nvPr/>
        </p:nvPicPr>
        <p:blipFill>
          <a:blip r:embed="rId1"/>
          <a:stretch/>
        </p:blipFill>
        <p:spPr>
          <a:xfrm>
            <a:off x="5429160" y="4707000"/>
            <a:ext cx="23115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2"/>
          <p:cNvGraphicFramePr/>
          <p:nvPr/>
        </p:nvGraphicFramePr>
        <p:xfrm>
          <a:off x="2571840" y="4038480"/>
          <a:ext cx="4595760" cy="26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4038480"/>
                    <a:ext cx="4595760" cy="26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SzPct val="116208"/>
              <a:buBlip>
                <a:blip r:embed="rId3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менно дроби помогают нам в жизни. Например, мама испекла пирог. После обеда осталось 5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Arial"/>
              </a:rPr>
              <a:t>/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8 пирога, во время ужина съели 2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Arial"/>
              </a:rPr>
              <a:t>/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8 пирога. Какая часть пирога осталась после ужина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0" name="WordArt 3"/>
          <p:cNvSpPr txBox="1"/>
          <p:nvPr/>
        </p:nvSpPr>
        <p:spPr>
          <a:xfrm>
            <a:off x="285840" y="357120"/>
            <a:ext cx="748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 мы  знаем  о  дробях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85840" y="199980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9240" indent="-309240">
              <a:lnSpc>
                <a:spcPct val="80000"/>
              </a:lnSpc>
              <a:spcBef>
                <a:spcPts val="499"/>
              </a:spcBef>
              <a:buSzPct val="139821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 жизни человеку приходилось не только считать предметы, но и   измерять величины. Люди встретились с измерениями длин, площадей   земельных участков, объемов, массы тел. При этом случалось, что единица   измерения не укладывалась целое число раз в измеряемой величине.   Например, измеряя длину участка шагами, человек встречался с таким   явлением: в длине укладывалось десять шагов и оставался остаток меньше   одного шага.    Появление дробей связано у многих народов с делением добычи на охоте. В   связи с этой необходимой работой люди стали употреблять выражения:   половина, треть, два с половиной шага. Откуда можно было сделать вывод,    что дробные числа возникли как результат измерения величин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0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2" name="WordArt 2"/>
          <p:cNvSpPr txBox="1"/>
          <p:nvPr/>
        </p:nvSpPr>
        <p:spPr>
          <a:xfrm>
            <a:off x="571680" y="285840"/>
            <a:ext cx="73580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7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 истории о дробях. 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2858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1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ароды прошли через многие варианты записи дробей, пока не пришли к   современной записи.      Вначале в записи дробей не использовалась дробная черта, например   число   записывалось так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\3   .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Черта дроби появилась лишь только    в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202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году у итальянского   математика Леонардо Пизанского. Он ввел слово дробь. Названия числитель   и знаменатель ввел в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3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еке Максим Плануд – греческий монах, ученый,   математик.      Современную систему записи дробей создали в Индии. Только там писали   знаменатель сверху, а числитель снизу, и не писали дробной черты. А    записывать дроби как сейчас стали арабы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4" name="WordArt 2"/>
          <p:cNvSpPr txBox="1"/>
          <p:nvPr/>
        </p:nvSpPr>
        <p:spPr>
          <a:xfrm>
            <a:off x="1476360" y="0"/>
            <a:ext cx="6264360" cy="15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пись дробей.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95" name="Picture 18" descr="12"/>
          <p:cNvPicPr/>
          <p:nvPr/>
        </p:nvPicPr>
        <p:blipFill>
          <a:blip r:embed="rId2"/>
          <a:stretch/>
        </p:blipFill>
        <p:spPr>
          <a:xfrm>
            <a:off x="6643800" y="5084640"/>
            <a:ext cx="1298520" cy="177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8584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9240" indent="-309240">
              <a:lnSpc>
                <a:spcPct val="80000"/>
              </a:lnSpc>
              <a:spcBef>
                <a:spcPts val="499"/>
              </a:spcBef>
              <a:buSzPct val="139821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ревние ученые не считали числом результат деления дробных чисел.   Например,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2/5=22/5 –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робный результат деления, но к числам его не   относили.     Интересные сведения об этом записаны в древних рукописях.   Задача: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азделить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0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фунтов между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людьми поровну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».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Мы: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0/11=91/11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Древние математики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0/1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е считали дробью. Остаток от деления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фунт   предлагается поменять на яйца, которых можно было купить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9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штуки. Если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91:1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то получится по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8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яиц и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яйца в остатке. Автор рекомендует отдать   их тому, кто делил, или же поменять на соль, чтобы посолить яйца.      На этих примерах мы видим, что дроби входили в жизнь с большими    трудностями. Итак, деление чисел- один из источников возникновения дробей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WordArt 2"/>
          <p:cNvSpPr txBox="1"/>
          <p:nvPr/>
        </p:nvSpPr>
        <p:spPr>
          <a:xfrm>
            <a:off x="285840" y="500040"/>
            <a:ext cx="77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чник возникновения дробей.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71280" y="1844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Переход в расчетах на дроби очень помо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г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практике. Кроме торговли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производства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 картографии пользу испытала и наука. Ученые -физики теперь могли указывать размеры мельчайших частиц-атомов, из которых  состоят все тела. Медики могли выразить  размеры болезнетворных бактерий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 и далее по размерам определить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 какие бактерии заразили организм и с какой болезнью надо бороться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WordArt 2"/>
          <p:cNvSpPr txBox="1"/>
          <p:nvPr/>
        </p:nvSpPr>
        <p:spPr>
          <a:xfrm>
            <a:off x="611280" y="260280"/>
            <a:ext cx="7103880" cy="14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омогают ли нам дроб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71680" y="1071360"/>
            <a:ext cx="7557840" cy="28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1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Обыкновенные дроби нужны нам в повседневной жизни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роби возникли как результат измерения величин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Современную запись обыкновенных дробей придумали арабы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еление чисел – один из источников возникновения дробей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Обыкновенные дроби нужны во всех областях науки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роби, действительно, не такие уж и обыкновенные, поэтому их нужно изучать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2" name="Поле 8"/>
          <p:cNvSpPr/>
          <p:nvPr/>
        </p:nvSpPr>
        <p:spPr>
          <a:xfrm>
            <a:off x="2928960" y="3786120"/>
            <a:ext cx="4881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оби всякие нужны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оби всякие важ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обь учи, тогда сверкнет тебе удача.   Если будешь дроби знать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очно смысл их понимать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нет легкой даже трудная зад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.Севостья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7" descr="1-web.gif"/>
          <p:cNvPicPr/>
          <p:nvPr/>
        </p:nvPicPr>
        <p:blipFill>
          <a:blip r:embed="rId7"/>
          <a:stretch/>
        </p:blipFill>
        <p:spPr>
          <a:xfrm>
            <a:off x="357120" y="3857760"/>
            <a:ext cx="2104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спользуемые материал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Учебник «Математика 5» под редакцией Виленкина Н.Я. И др., М., «Мнемозина», 2009 г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Газета «Математика» (приложение к «Первое сентября»), 2005г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http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//nova.rambler.ru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http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//poverpoint-ppt.ru/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06" name="Picture 11" descr="office4"/>
          <p:cNvPicPr/>
          <p:nvPr/>
        </p:nvPicPr>
        <p:blipFill>
          <a:blip r:embed="rId1"/>
          <a:stretch/>
        </p:blipFill>
        <p:spPr>
          <a:xfrm>
            <a:off x="5500800" y="4457880"/>
            <a:ext cx="23572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ZooM</cp:lastModifiedBy>
  <dcterms:modified xsi:type="dcterms:W3CDTF">2013-10-19T07:07:18Z</dcterms:modified>
  <cp:revision>79</cp:revision>
  <dc:subject/>
  <dc:title>Слайд 1</dc:title>
</cp:coreProperties>
</file>