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9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D712-82BE-42DB-A41C-DEFAC921BB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D4AC-3C03-494A-8BB6-54C8A9C80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E43B-213A-4784-B3E8-AB30A7F0C3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C4F-946F-41D0-B16A-EC197BCEEB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C1F6-277A-42F0-AA4F-34D6FC9CF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866D-3621-4925-B158-49A2DC162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EBF-DF38-4A94-AEBF-D8630C21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343-DD13-4D68-8001-B4CC2AF2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343-03D0-4987-9B9E-2DBB5E9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E7D6-ECBE-4058-BDFD-3EB2F8CD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0D21-309C-40B8-B767-76BA873E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9E06-AABB-42DA-BE09-3808399A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294-51EA-40C4-842D-1F44EEF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C20A-F6C8-4B28-BCB8-D3B4A81D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8937-2F66-4F10-AA3A-B111990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81E1-3915-4655-A609-9D974B4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E7A8-D0D0-4C7B-9107-E8CCBD3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4A5-1A1E-454D-8954-6B9B131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8463-DDE4-4776-A0B6-0F5EA17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38F2-7F23-4E13-994F-9EEB7FA9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D555-27AB-4146-8F2B-23F21263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7007-7A9C-48CD-BF5F-6F674288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5B86-981F-428B-8E89-82471BF2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8163-BF8C-409A-B49D-F1D2D8BE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E001-271A-4366-83A4-59CF017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EA73-94FE-42E6-BF1B-36BA68F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50F5-F8DE-4F28-B9EC-8DC1BDFA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1247-5B02-4DB0-BB20-18BFBBD6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11A-A079-4B62-A9CA-3B17583D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A909A-A8B1-45D8-9F62-698BF6B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AFE5-4F68-46A2-B11C-FB1CFA7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04A9E-9511-4C5B-B367-3387CA48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182C-9AD7-4252-B9CD-86CE6F56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9AA73-5C8C-4E10-832E-5E6281F4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8E32-2841-4D99-BEB3-A8F3C03A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15FA-9BE7-48D0-A219-DFB02DA9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383B4-D751-42B0-9494-748E9B8F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0926-BFEB-4404-83EA-07B62AF4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92FE1-71DA-44BB-99F2-FC01D992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1CC-E1F4-4876-9BEF-EBFEE1B7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2DD6A-52D0-4E7D-A049-6D7217EE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3AAC-5330-4A34-8901-4B119F0D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01E9-695D-4AFD-A719-D4E1A238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264B-E5C2-4AEF-BBE4-A0DC67A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BAC4-F977-4FF0-A069-24F6A288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E72B-C9EB-4266-B5DD-B023A2B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783E-9E81-40A0-9F5A-2BAA0E4D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7FF11-E784-4992-9FA1-B06B7F34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C51E-5529-4112-B08C-7C981D25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BE50-9FC2-4E39-B805-AD818A99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E57-9BDC-4837-90C3-D9E00BF2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0B51-F16A-4F61-832C-0B46352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DD17-AC2B-4B32-B03F-A90FBB62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D5256-8767-48F5-A3B8-E0075D1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87D61-DA35-44A4-ADE7-2FEB82BF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CE261-5350-4CAB-A583-528B7DB2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753FF-5B6F-42A1-A722-FE6EEF5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4C35-70C0-4DEC-874E-C58155D5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F108-700B-4E03-8D22-08F2BF4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D719-B85A-4DB0-860F-7E791381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C4F09-4F55-49D6-B297-51821066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5A0-30BF-4762-AF53-8DC95268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48FBD-12E2-4783-9082-FBBEA5B5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E0186-DEC0-4438-AF8A-58056385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92348-6634-4A9D-8497-92CF3D49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D6D2A-7008-4406-8E4E-D7F712C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206D-4D13-4A2D-968B-119B0F7B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A9B3-5FD2-4B1C-9A60-78565B47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FBAA-DE0F-465C-9F9E-EACA37B3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8DDFB-E41E-4A23-83AA-194E14B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38BC8-8820-424B-AE12-6C0DE8FA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D1F52-9941-4C38-B010-B401E81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58C-8BED-4352-B51D-46B360A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A1921-EDF5-4C41-90BF-2D1B453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C62A3-FDEE-4F18-8C7A-17B7987E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28566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4842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28566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4842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6FDC7-E844-49F4-9917-71126C6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11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8C8-92AB-4E3C-A748-F9ECDCB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11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8AC-F682-4ED6-ACF6-E9220F1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AB8A-C92C-4652-A350-3FF4D4F25BF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008C-9AF4-4328-9770-E13E4D8101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4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2E6E-8F37-4EBD-94ED-B05CA16127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EA6-5BA4-4402-B364-3272CFA859E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F50B-4C5B-429B-9680-80E6497B75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2" name="Line 4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5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9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0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1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3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4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6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7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9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0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1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2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3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4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25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26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27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8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9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0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1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2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3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4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35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6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37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8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39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0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1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2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3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4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5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46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7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8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49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0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1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2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3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4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5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56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BBA1-AC6C-43D9-A404-2BEDD72D273D}" type="slidenum"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7772400" cy="20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ак ли обыкновенны обыкновенные дроби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142640" y="3857760"/>
            <a:ext cx="604188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Авторы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Шароватова Анастасия,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Пилуп Анастасия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8584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У Первомай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2000160" y="5072040"/>
            <a:ext cx="52866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Руководитель: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Ланина Л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8"/>
          <p:cNvGrpSpPr/>
          <p:nvPr/>
        </p:nvGrpSpPr>
        <p:grpSpPr>
          <a:xfrm>
            <a:off x="428760" y="4071960"/>
            <a:ext cx="1856880" cy="1928520"/>
            <a:chOff x="428760" y="4071960"/>
            <a:chExt cx="1856880" cy="1928520"/>
          </a:xfrm>
        </p:grpSpPr>
        <p:sp>
          <p:nvSpPr>
            <p:cNvPr id="368" name="Freeform 9"/>
            <p:cNvSpPr/>
            <p:nvPr/>
          </p:nvSpPr>
          <p:spPr>
            <a:xfrm>
              <a:off x="1361880" y="5041080"/>
              <a:ext cx="649440" cy="959400"/>
            </a:xfrm>
            <a:custGeom>
              <a:avLst/>
              <a:gdLst>
                <a:gd name="textAreaLeft" fmla="*/ 0 w 649440"/>
                <a:gd name="textAreaRight" fmla="*/ 649800 w 649440"/>
                <a:gd name="textAreaTop" fmla="*/ 0 h 959400"/>
                <a:gd name="textAreaBottom" fmla="*/ 959760 h 959400"/>
              </a:gdLst>
              <a:ahLst/>
              <a:rect l="textAreaLeft" t="textAreaTop" r="textAreaRight" b="textAreaBottom"/>
              <a:pathLst>
                <a:path w="285" h="405">
                  <a:moveTo>
                    <a:pt x="0" y="0"/>
                  </a:moveTo>
                  <a:lnTo>
                    <a:pt x="0" y="405"/>
                  </a:lnTo>
                  <a:lnTo>
                    <a:pt x="39" y="402"/>
                  </a:lnTo>
                  <a:lnTo>
                    <a:pt x="78" y="396"/>
                  </a:lnTo>
                  <a:lnTo>
                    <a:pt x="117" y="387"/>
                  </a:lnTo>
                  <a:lnTo>
                    <a:pt x="153" y="375"/>
                  </a:lnTo>
                  <a:lnTo>
                    <a:pt x="189" y="357"/>
                  </a:lnTo>
                  <a:lnTo>
                    <a:pt x="225" y="336"/>
                  </a:lnTo>
                  <a:lnTo>
                    <a:pt x="255" y="312"/>
                  </a:lnTo>
                  <a:lnTo>
                    <a:pt x="285" y="285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428760" y="5041080"/>
              <a:ext cx="933120" cy="67464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674640"/>
                <a:gd name="textAreaBottom" fmla="*/ 674640 h 674640"/>
              </a:gdLst>
              <a:ahLst/>
              <a:rect l="textAreaLeft" t="textAreaTop" r="textAreaRight" b="textAreaBottom"/>
              <a:pathLst>
                <a:path w="409" h="285">
                  <a:moveTo>
                    <a:pt x="409" y="0"/>
                  </a:moveTo>
                  <a:lnTo>
                    <a:pt x="0" y="0"/>
                  </a:lnTo>
                  <a:lnTo>
                    <a:pt x="3" y="39"/>
                  </a:lnTo>
                  <a:lnTo>
                    <a:pt x="9" y="78"/>
                  </a:lnTo>
                  <a:lnTo>
                    <a:pt x="18" y="117"/>
                  </a:lnTo>
                  <a:lnTo>
                    <a:pt x="30" y="153"/>
                  </a:lnTo>
                  <a:lnTo>
                    <a:pt x="48" y="189"/>
                  </a:lnTo>
                  <a:lnTo>
                    <a:pt x="69" y="225"/>
                  </a:lnTo>
                  <a:lnTo>
                    <a:pt x="93" y="255"/>
                  </a:lnTo>
                  <a:lnTo>
                    <a:pt x="120" y="285"/>
                  </a:lnTo>
                  <a:lnTo>
                    <a:pt x="409" y="0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02720" y="4071960"/>
              <a:ext cx="659160" cy="96912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289" h="409">
                  <a:moveTo>
                    <a:pt x="289" y="409"/>
                  </a:moveTo>
                  <a:lnTo>
                    <a:pt x="289" y="0"/>
                  </a:lnTo>
                  <a:lnTo>
                    <a:pt x="246" y="3"/>
                  </a:lnTo>
                  <a:lnTo>
                    <a:pt x="207" y="9"/>
                  </a:lnTo>
                  <a:lnTo>
                    <a:pt x="168" y="18"/>
                  </a:lnTo>
                  <a:lnTo>
                    <a:pt x="132" y="30"/>
                  </a:lnTo>
                  <a:lnTo>
                    <a:pt x="96" y="48"/>
                  </a:lnTo>
                  <a:lnTo>
                    <a:pt x="60" y="69"/>
                  </a:lnTo>
                  <a:lnTo>
                    <a:pt x="30" y="93"/>
                  </a:lnTo>
                  <a:lnTo>
                    <a:pt x="0" y="120"/>
                  </a:lnTo>
                  <a:lnTo>
                    <a:pt x="289" y="409"/>
                  </a:lnTo>
                </a:path>
              </a:pathLst>
            </a:custGeom>
            <a:noFill/>
            <a:ln w="19080">
              <a:solidFill>
                <a:srgbClr val="fff8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2"/>
            <p:cNvGrpSpPr/>
            <p:nvPr/>
          </p:nvGrpSpPr>
          <p:grpSpPr>
            <a:xfrm>
              <a:off x="428760" y="4071960"/>
              <a:ext cx="1856880" cy="1928520"/>
              <a:chOff x="428760" y="4071960"/>
              <a:chExt cx="1856880" cy="1928520"/>
            </a:xfrm>
          </p:grpSpPr>
          <p:sp>
            <p:nvSpPr>
              <p:cNvPr id="372" name="Freeform 13"/>
              <p:cNvSpPr/>
              <p:nvPr/>
            </p:nvSpPr>
            <p:spPr>
              <a:xfrm>
                <a:off x="703080" y="5041080"/>
                <a:ext cx="658800" cy="959400"/>
              </a:xfrm>
              <a:custGeom>
                <a:avLst/>
                <a:gdLst>
                  <a:gd name="textAreaLeft" fmla="*/ 0 w 658800"/>
                  <a:gd name="textAreaRight" fmla="*/ 658800 w 658800"/>
                  <a:gd name="textAreaTop" fmla="*/ 0 h 959400"/>
                  <a:gd name="textAreaBottom" fmla="*/ 959760 h 959400"/>
                </a:gdLst>
                <a:ahLst/>
                <a:rect l="textAreaLeft" t="textAreaTop" r="textAreaRight" b="textAreaBottom"/>
                <a:pathLst>
                  <a:path w="289" h="405">
                    <a:moveTo>
                      <a:pt x="289" y="0"/>
                    </a:moveTo>
                    <a:lnTo>
                      <a:pt x="0" y="285"/>
                    </a:lnTo>
                    <a:lnTo>
                      <a:pt x="27" y="312"/>
                    </a:lnTo>
                    <a:lnTo>
                      <a:pt x="60" y="336"/>
                    </a:lnTo>
                    <a:lnTo>
                      <a:pt x="96" y="357"/>
                    </a:lnTo>
                    <a:lnTo>
                      <a:pt x="132" y="375"/>
                    </a:lnTo>
                    <a:lnTo>
                      <a:pt x="168" y="387"/>
                    </a:lnTo>
                    <a:lnTo>
                      <a:pt x="207" y="396"/>
                    </a:lnTo>
                    <a:lnTo>
                      <a:pt x="246" y="402"/>
                    </a:lnTo>
                    <a:lnTo>
                      <a:pt x="289" y="405"/>
                    </a:lnTo>
                    <a:lnTo>
                      <a:pt x="289" y="0"/>
                    </a:lnTo>
                  </a:path>
                </a:pathLst>
              </a:custGeom>
              <a:solidFill>
                <a:srgbClr val="33cc33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4"/>
              <p:cNvGrpSpPr/>
              <p:nvPr/>
            </p:nvGrpSpPr>
            <p:grpSpPr>
              <a:xfrm>
                <a:off x="428760" y="4071960"/>
                <a:ext cx="1856880" cy="1928520"/>
                <a:chOff x="428760" y="4071960"/>
                <a:chExt cx="1856880" cy="1928520"/>
              </a:xfrm>
            </p:grpSpPr>
            <p:sp>
              <p:nvSpPr>
                <p:cNvPr id="374" name="Freeform 15"/>
                <p:cNvSpPr/>
                <p:nvPr/>
              </p:nvSpPr>
              <p:spPr>
                <a:xfrm>
                  <a:off x="1361880" y="5041080"/>
                  <a:ext cx="649440" cy="959400"/>
                </a:xfrm>
                <a:custGeom>
                  <a:avLst/>
                  <a:gdLst>
                    <a:gd name="textAreaLeft" fmla="*/ 0 w 649440"/>
                    <a:gd name="textAreaRight" fmla="*/ 649800 w 649440"/>
                    <a:gd name="textAreaTop" fmla="*/ 0 h 959400"/>
                    <a:gd name="textAreaBottom" fmla="*/ 959760 h 959400"/>
                  </a:gdLst>
                  <a:ahLst/>
                  <a:rect l="textAreaLeft" t="textAreaTop" r="textAreaRight" b="textAreaBottom"/>
                  <a:pathLst>
                    <a:path w="285" h="405">
                      <a:moveTo>
                        <a:pt x="0" y="0"/>
                      </a:moveTo>
                      <a:lnTo>
                        <a:pt x="0" y="405"/>
                      </a:lnTo>
                      <a:lnTo>
                        <a:pt x="39" y="402"/>
                      </a:lnTo>
                      <a:lnTo>
                        <a:pt x="78" y="396"/>
                      </a:lnTo>
                      <a:lnTo>
                        <a:pt x="117" y="387"/>
                      </a:lnTo>
                      <a:lnTo>
                        <a:pt x="153" y="375"/>
                      </a:lnTo>
                      <a:lnTo>
                        <a:pt x="189" y="357"/>
                      </a:lnTo>
                      <a:lnTo>
                        <a:pt x="225" y="336"/>
                      </a:lnTo>
                      <a:lnTo>
                        <a:pt x="255" y="312"/>
                      </a:lnTo>
                      <a:lnTo>
                        <a:pt x="285" y="2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16"/>
                <p:cNvSpPr/>
                <p:nvPr/>
              </p:nvSpPr>
              <p:spPr>
                <a:xfrm>
                  <a:off x="703080" y="5041080"/>
                  <a:ext cx="658800" cy="959400"/>
                </a:xfrm>
                <a:custGeom>
                  <a:avLst/>
                  <a:gdLst>
                    <a:gd name="textAreaLeft" fmla="*/ 0 w 658800"/>
                    <a:gd name="textAreaRight" fmla="*/ 658800 w 658800"/>
                    <a:gd name="textAreaTop" fmla="*/ 0 h 959400"/>
                    <a:gd name="textAreaBottom" fmla="*/ 959760 h 959400"/>
                  </a:gdLst>
                  <a:ahLst/>
                  <a:rect l="textAreaLeft" t="textAreaTop" r="textAreaRight" b="textAreaBottom"/>
                  <a:pathLst>
                    <a:path w="289" h="405">
                      <a:moveTo>
                        <a:pt x="289" y="0"/>
                      </a:moveTo>
                      <a:lnTo>
                        <a:pt x="0" y="285"/>
                      </a:lnTo>
                      <a:lnTo>
                        <a:pt x="27" y="312"/>
                      </a:lnTo>
                      <a:lnTo>
                        <a:pt x="60" y="336"/>
                      </a:lnTo>
                      <a:lnTo>
                        <a:pt x="96" y="357"/>
                      </a:lnTo>
                      <a:lnTo>
                        <a:pt x="132" y="375"/>
                      </a:lnTo>
                      <a:lnTo>
                        <a:pt x="168" y="387"/>
                      </a:lnTo>
                      <a:lnTo>
                        <a:pt x="207" y="396"/>
                      </a:lnTo>
                      <a:lnTo>
                        <a:pt x="246" y="402"/>
                      </a:lnTo>
                      <a:lnTo>
                        <a:pt x="289" y="405"/>
                      </a:lnTo>
                      <a:lnTo>
                        <a:pt x="289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7"/>
                <p:cNvSpPr/>
                <p:nvPr/>
              </p:nvSpPr>
              <p:spPr>
                <a:xfrm>
                  <a:off x="428760" y="5041080"/>
                  <a:ext cx="933120" cy="674640"/>
                </a:xfrm>
                <a:custGeom>
                  <a:avLst/>
                  <a:gdLst>
                    <a:gd name="textAreaLeft" fmla="*/ 0 w 933120"/>
                    <a:gd name="textAreaRight" fmla="*/ 933480 w 933120"/>
                    <a:gd name="textAreaTop" fmla="*/ 0 h 674640"/>
                    <a:gd name="textAreaBottom" fmla="*/ 674640 h 674640"/>
                  </a:gdLst>
                  <a:ahLst/>
                  <a:rect l="textAreaLeft" t="textAreaTop" r="textAreaRight" b="textAreaBottom"/>
                  <a:pathLst>
                    <a:path w="409" h="285">
                      <a:moveTo>
                        <a:pt x="409" y="0"/>
                      </a:moveTo>
                      <a:lnTo>
                        <a:pt x="0" y="0"/>
                      </a:lnTo>
                      <a:lnTo>
                        <a:pt x="3" y="39"/>
                      </a:lnTo>
                      <a:lnTo>
                        <a:pt x="9" y="78"/>
                      </a:lnTo>
                      <a:lnTo>
                        <a:pt x="18" y="117"/>
                      </a:lnTo>
                      <a:lnTo>
                        <a:pt x="30" y="153"/>
                      </a:lnTo>
                      <a:lnTo>
                        <a:pt x="48" y="189"/>
                      </a:lnTo>
                      <a:lnTo>
                        <a:pt x="69" y="225"/>
                      </a:lnTo>
                      <a:lnTo>
                        <a:pt x="93" y="255"/>
                      </a:lnTo>
                      <a:lnTo>
                        <a:pt x="120" y="285"/>
                      </a:lnTo>
                      <a:lnTo>
                        <a:pt x="409" y="0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18"/>
                <p:cNvSpPr/>
                <p:nvPr/>
              </p:nvSpPr>
              <p:spPr>
                <a:xfrm>
                  <a:off x="703080" y="4071960"/>
                  <a:ext cx="658800" cy="969120"/>
                </a:xfrm>
                <a:custGeom>
                  <a:avLst/>
                  <a:gdLst>
                    <a:gd name="textAreaLeft" fmla="*/ 0 w 658800"/>
                    <a:gd name="textAreaRight" fmla="*/ 658800 w 658800"/>
                    <a:gd name="textAreaTop" fmla="*/ 0 h 969120"/>
                    <a:gd name="textAreaBottom" fmla="*/ 969480 h 969120"/>
                  </a:gdLst>
                  <a:ahLst/>
                  <a:rect l="textAreaLeft" t="textAreaTop" r="textAreaRight" b="textAreaBottom"/>
                  <a:pathLst>
                    <a:path w="289" h="409">
                      <a:moveTo>
                        <a:pt x="289" y="409"/>
                      </a:moveTo>
                      <a:lnTo>
                        <a:pt x="289" y="0"/>
                      </a:lnTo>
                      <a:lnTo>
                        <a:pt x="246" y="3"/>
                      </a:lnTo>
                      <a:lnTo>
                        <a:pt x="207" y="9"/>
                      </a:lnTo>
                      <a:lnTo>
                        <a:pt x="168" y="18"/>
                      </a:lnTo>
                      <a:lnTo>
                        <a:pt x="132" y="30"/>
                      </a:lnTo>
                      <a:lnTo>
                        <a:pt x="96" y="48"/>
                      </a:lnTo>
                      <a:lnTo>
                        <a:pt x="60" y="69"/>
                      </a:lnTo>
                      <a:lnTo>
                        <a:pt x="30" y="93"/>
                      </a:lnTo>
                      <a:lnTo>
                        <a:pt x="0" y="120"/>
                      </a:lnTo>
                      <a:lnTo>
                        <a:pt x="289" y="409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19"/>
                <p:cNvSpPr/>
                <p:nvPr/>
              </p:nvSpPr>
              <p:spPr>
                <a:xfrm>
                  <a:off x="1361880" y="4356720"/>
                  <a:ext cx="923760" cy="684000"/>
                </a:xfrm>
                <a:custGeom>
                  <a:avLst/>
                  <a:gdLst>
                    <a:gd name="textAreaLeft" fmla="*/ 0 w 923760"/>
                    <a:gd name="textAreaRight" fmla="*/ 924120 w 92376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405" h="289">
                      <a:moveTo>
                        <a:pt x="0" y="289"/>
                      </a:moveTo>
                      <a:lnTo>
                        <a:pt x="405" y="289"/>
                      </a:lnTo>
                      <a:lnTo>
                        <a:pt x="402" y="246"/>
                      </a:lnTo>
                      <a:lnTo>
                        <a:pt x="396" y="207"/>
                      </a:lnTo>
                      <a:lnTo>
                        <a:pt x="387" y="168"/>
                      </a:lnTo>
                      <a:lnTo>
                        <a:pt x="375" y="132"/>
                      </a:lnTo>
                      <a:lnTo>
                        <a:pt x="357" y="96"/>
                      </a:lnTo>
                      <a:lnTo>
                        <a:pt x="336" y="60"/>
                      </a:lnTo>
                      <a:lnTo>
                        <a:pt x="312" y="30"/>
                      </a:lnTo>
                      <a:lnTo>
                        <a:pt x="285" y="0"/>
                      </a:lnTo>
                      <a:lnTo>
                        <a:pt x="0" y="289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19080">
                  <a:solidFill>
                    <a:srgbClr val="fff8e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Freeform 20"/>
              <p:cNvSpPr/>
              <p:nvPr/>
            </p:nvSpPr>
            <p:spPr>
              <a:xfrm>
                <a:off x="1361880" y="4356720"/>
                <a:ext cx="923760" cy="68400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84000"/>
                  <a:gd name="textAreaBottom" fmla="*/ 684360 h 684000"/>
                </a:gdLst>
                <a:ahLst/>
                <a:rect l="textAreaLeft" t="textAreaTop" r="textAreaRight" b="textAreaBottom"/>
                <a:pathLst>
                  <a:path w="405" h="289">
                    <a:moveTo>
                      <a:pt x="0" y="289"/>
                    </a:moveTo>
                    <a:lnTo>
                      <a:pt x="405" y="289"/>
                    </a:lnTo>
                    <a:lnTo>
                      <a:pt x="402" y="246"/>
                    </a:lnTo>
                    <a:lnTo>
                      <a:pt x="396" y="207"/>
                    </a:lnTo>
                    <a:lnTo>
                      <a:pt x="387" y="168"/>
                    </a:lnTo>
                    <a:lnTo>
                      <a:pt x="375" y="132"/>
                    </a:lnTo>
                    <a:lnTo>
                      <a:pt x="357" y="96"/>
                    </a:lnTo>
                    <a:lnTo>
                      <a:pt x="336" y="60"/>
                    </a:lnTo>
                    <a:lnTo>
                      <a:pt x="312" y="30"/>
                    </a:lnTo>
                    <a:lnTo>
                      <a:pt x="285" y="0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3cc33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1"/>
            <p:cNvGrpSpPr/>
            <p:nvPr/>
          </p:nvGrpSpPr>
          <p:grpSpPr>
            <a:xfrm>
              <a:off x="428760" y="4071960"/>
              <a:ext cx="1856880" cy="1643760"/>
              <a:chOff x="428760" y="4071960"/>
              <a:chExt cx="1856880" cy="1643760"/>
            </a:xfrm>
          </p:grpSpPr>
          <p:sp>
            <p:nvSpPr>
              <p:cNvPr id="381" name="Freeform 22"/>
              <p:cNvSpPr/>
              <p:nvPr/>
            </p:nvSpPr>
            <p:spPr>
              <a:xfrm>
                <a:off x="428760" y="4356720"/>
                <a:ext cx="933120" cy="684360"/>
              </a:xfrm>
              <a:custGeom>
                <a:avLst/>
                <a:gdLst>
                  <a:gd name="textAreaLeft" fmla="*/ 0 w 933120"/>
                  <a:gd name="textAreaRight" fmla="*/ 933480 w 9331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409" h="289">
                    <a:moveTo>
                      <a:pt x="409" y="289"/>
                    </a:moveTo>
                    <a:lnTo>
                      <a:pt x="120" y="0"/>
                    </a:lnTo>
                    <a:lnTo>
                      <a:pt x="93" y="27"/>
                    </a:lnTo>
                    <a:lnTo>
                      <a:pt x="69" y="60"/>
                    </a:lnTo>
                    <a:lnTo>
                      <a:pt x="48" y="96"/>
                    </a:lnTo>
                    <a:lnTo>
                      <a:pt x="30" y="132"/>
                    </a:lnTo>
                    <a:lnTo>
                      <a:pt x="18" y="168"/>
                    </a:lnTo>
                    <a:lnTo>
                      <a:pt x="9" y="207"/>
                    </a:lnTo>
                    <a:lnTo>
                      <a:pt x="3" y="246"/>
                    </a:lnTo>
                    <a:lnTo>
                      <a:pt x="0" y="289"/>
                    </a:lnTo>
                    <a:lnTo>
                      <a:pt x="409" y="289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3"/>
              <p:cNvSpPr/>
              <p:nvPr/>
            </p:nvSpPr>
            <p:spPr>
              <a:xfrm>
                <a:off x="1361880" y="4071960"/>
                <a:ext cx="649440" cy="969120"/>
              </a:xfrm>
              <a:custGeom>
                <a:avLst/>
                <a:gdLst>
                  <a:gd name="textAreaLeft" fmla="*/ 0 w 649440"/>
                  <a:gd name="textAreaRight" fmla="*/ 649800 w 649440"/>
                  <a:gd name="textAreaTop" fmla="*/ 0 h 969120"/>
                  <a:gd name="textAreaBottom" fmla="*/ 969480 h 969120"/>
                </a:gdLst>
                <a:ahLst/>
                <a:rect l="textAreaLeft" t="textAreaTop" r="textAreaRight" b="textAreaBottom"/>
                <a:pathLst>
                  <a:path w="285" h="409">
                    <a:moveTo>
                      <a:pt x="0" y="409"/>
                    </a:moveTo>
                    <a:lnTo>
                      <a:pt x="285" y="120"/>
                    </a:lnTo>
                    <a:lnTo>
                      <a:pt x="258" y="93"/>
                    </a:lnTo>
                    <a:lnTo>
                      <a:pt x="225" y="69"/>
                    </a:lnTo>
                    <a:lnTo>
                      <a:pt x="189" y="48"/>
                    </a:lnTo>
                    <a:lnTo>
                      <a:pt x="153" y="30"/>
                    </a:lnTo>
                    <a:lnTo>
                      <a:pt x="117" y="18"/>
                    </a:lnTo>
                    <a:lnTo>
                      <a:pt x="78" y="9"/>
                    </a:lnTo>
                    <a:lnTo>
                      <a:pt x="39" y="3"/>
                    </a:lnTo>
                    <a:lnTo>
                      <a:pt x="0" y="0"/>
                    </a:lnTo>
                    <a:lnTo>
                      <a:pt x="0" y="409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1361880" y="5041080"/>
                <a:ext cx="923760" cy="67464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674640"/>
                  <a:gd name="textAreaBottom" fmla="*/ 674640 h 674640"/>
                </a:gdLst>
                <a:ahLst/>
                <a:rect l="textAreaLeft" t="textAreaTop" r="textAreaRight" b="textAreaBottom"/>
                <a:pathLst>
                  <a:path w="405" h="285">
                    <a:moveTo>
                      <a:pt x="0" y="0"/>
                    </a:moveTo>
                    <a:lnTo>
                      <a:pt x="285" y="285"/>
                    </a:lnTo>
                    <a:lnTo>
                      <a:pt x="312" y="258"/>
                    </a:lnTo>
                    <a:lnTo>
                      <a:pt x="336" y="225"/>
                    </a:lnTo>
                    <a:lnTo>
                      <a:pt x="357" y="189"/>
                    </a:lnTo>
                    <a:lnTo>
                      <a:pt x="375" y="153"/>
                    </a:lnTo>
                    <a:lnTo>
                      <a:pt x="387" y="117"/>
                    </a:lnTo>
                    <a:lnTo>
                      <a:pt x="396" y="78"/>
                    </a:lnTo>
                    <a:lnTo>
                      <a:pt x="402" y="39"/>
                    </a:lnTo>
                    <a:lnTo>
                      <a:pt x="40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fff8e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4292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Что мы знаем о дробях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з истории о дробях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Запись дробе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сточник возникновения дробей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омогают ли нам дроби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Выводы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Используемая литература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386" name="Picture 11" descr="office4"/>
          <p:cNvPicPr/>
          <p:nvPr/>
        </p:nvPicPr>
        <p:blipFill>
          <a:blip r:embed="rId1"/>
          <a:stretch/>
        </p:blipFill>
        <p:spPr>
          <a:xfrm>
            <a:off x="5429160" y="4707000"/>
            <a:ext cx="23115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2571840" y="4038480"/>
          <a:ext cx="4595760" cy="26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1840" y="4038480"/>
                    <a:ext cx="4595760" cy="26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spcBef>
                <a:spcPts val="799"/>
              </a:spcBef>
              <a:buSzPct val="116208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Именно дроби помогают нам в жизни. Например, мама испекла пирог. После обеда осталось 5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/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пирога, во время ужина съели 2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Arial"/>
              </a:rPr>
              <a:t>/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8 пирога. Какая часть пирога осталась после ужина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0" name="WordArt 3"/>
          <p:cNvSpPr txBox="1"/>
          <p:nvPr/>
        </p:nvSpPr>
        <p:spPr>
          <a:xfrm>
            <a:off x="285840" y="357120"/>
            <a:ext cx="7488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мы  знаем  о  дробях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85840" y="19998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9240" indent="-3092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жизни человеку приходилось не только считать предметы, но и   измерять величины. Люди встретились с измерениями длин, площадей   земельных участков, объемов, массы тел. При этом случалось, что единица   измерения не укладывалась целое число раз в измеряемой величине.   Например, измеряя длину участка шагами, человек встречался с таким   явлением: в длине укладывалось десять шагов и оставался остаток меньше   одного шага.    Появление дробей связано у многих народов с делением добычи на охоте. В   связи с этой необходимой работой люди стали употреблять выражения:   половина, треть, два с половиной шага. Откуда можно было сделать вывод,    что дробные числа возникли как результат измерения величин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0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2" name="WordArt 2"/>
          <p:cNvSpPr txBox="1"/>
          <p:nvPr/>
        </p:nvSpPr>
        <p:spPr>
          <a:xfrm>
            <a:off x="571680" y="285840"/>
            <a:ext cx="73580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7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 истории о дробях. 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2858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ароды прошли через многие варианты записи дробей, пока не пришли к   современной записи.      Вначале в записи дробей не использовалась дробная черта, например   число   записывалось так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2\3   .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  Черта дроби появилась лишь только    в 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202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году у итальянского   математика Леонардо Пизанского. Он ввел слово дробь. Названия числитель   и знаменатель ввел в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3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ке Максим Плануд – греческий монах, ученый,   математик.      Современную систему записи дробей создали в Индии. Только там писали   знаменатель сверху, а числитель снизу, и не писали дробной черты. А    записывать дроби как сейчас стали арабы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4" name="WordArt 2"/>
          <p:cNvSpPr txBox="1"/>
          <p:nvPr/>
        </p:nvSpPr>
        <p:spPr>
          <a:xfrm>
            <a:off x="1476360" y="0"/>
            <a:ext cx="626436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пись дробей.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5" name="Picture 18" descr="12"/>
          <p:cNvPicPr/>
          <p:nvPr/>
        </p:nvPicPr>
        <p:blipFill>
          <a:blip r:embed="rId2"/>
          <a:stretch/>
        </p:blipFill>
        <p:spPr>
          <a:xfrm>
            <a:off x="6643800" y="5084640"/>
            <a:ext cx="1298520" cy="177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28584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09240" indent="-3092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ревние ученые не считали числом результат деления дробных чисел.   Например,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2/5=22/5 –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дробный результат деления, но к числам его не   относили.     Интересные сведения об этом записаны в древних рукописях.   Задача: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«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зделить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фунтов между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людьми поровну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».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Мы: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/11=91/11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    Древние математики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00/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не считали дробью. Остаток от деления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фунт   предлагается поменять на яйца, которых можно было купить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9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штуки. Если  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91:11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то получится по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8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яиц и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яйца в остатке. Автор рекомендует отдать   их тому, кто делил, или же поменять на соль, чтобы посолить яйца.      На этих примерах мы видим, что дроби входили в жизнь с большими    трудностями. Итак, деление чисел- один из источников возникновения дробей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7" name="WordArt 2"/>
          <p:cNvSpPr txBox="1"/>
          <p:nvPr/>
        </p:nvSpPr>
        <p:spPr>
          <a:xfrm>
            <a:off x="285840" y="500040"/>
            <a:ext cx="77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 возникновения дробей.</a:t>
            </a:r>
            <a:endParaRPr b="0" lang="en-US" sz="1800" spc="1" strike="noStrike">
              <a:ln w="12600">
                <a:solidFill>
                  <a:srgbClr val="00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128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ереход в расчетах на дроби очень помо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г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рактике. Кроме торговли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производства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картографии пользу испытала и наука. Ученые -физики теперь могли указывать размеры мельчайших частиц-атомов, из которых  состоят все тела. Медики могли выразить  размеры болезнетворных бактерий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и далее по размерам определить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 какие бактерии заразили организм и с какой болезнью надо бороться.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9" name="WordArt 2"/>
          <p:cNvSpPr txBox="1"/>
          <p:nvPr/>
        </p:nvSpPr>
        <p:spPr>
          <a:xfrm>
            <a:off x="611280" y="260280"/>
            <a:ext cx="7103880" cy="14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омогают ли нам дроб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71680" y="1071360"/>
            <a:ext cx="75578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1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быкновенные дроби нужны нам в повседневной жизн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роби возникли как результат измерения величин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Современную запись обыкновенных дробей придумали арабы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еление чисел – один из источников возникновения дробей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Обыкновенные дроби нужны во всех областях науки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Дроби, действительно, не такие уж и обыкновенные, поэтому их нужно изучать.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2" name="Поле 8"/>
          <p:cNvSpPr/>
          <p:nvPr/>
        </p:nvSpPr>
        <p:spPr>
          <a:xfrm>
            <a:off x="2928960" y="3786120"/>
            <a:ext cx="48816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нужны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и всякие важ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робь учи, тогда сверкнет тебе удача.   Если будешь дроби знать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чно смысл их понимать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нет легкой даже трудная з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.Севостья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7" descr="1-web.gif"/>
          <p:cNvPicPr/>
          <p:nvPr/>
        </p:nvPicPr>
        <p:blipFill>
          <a:blip r:embed="rId7"/>
          <a:stretch/>
        </p:blipFill>
        <p:spPr>
          <a:xfrm>
            <a:off x="357120" y="3857760"/>
            <a:ext cx="2104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Используемые материалы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Учебник «Математика 5» под редакцией Виленкина Н.Я. И др., М., «Мнемозина», 2009 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Газета «Математика» (приложение к «Первое сентября»), 2005г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ttp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//nova.rambler.ru.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http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//poverpoint-ppt.ru/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406" name="Picture 11" descr="office4"/>
          <p:cNvPicPr/>
          <p:nvPr/>
        </p:nvPicPr>
        <p:blipFill>
          <a:blip r:embed="rId1"/>
          <a:stretch/>
        </p:blipFill>
        <p:spPr>
          <a:xfrm>
            <a:off x="5500800" y="4457880"/>
            <a:ext cx="23572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4:39:01Z</dcterms:created>
  <dc:creator>Helena</dc:creator>
  <dc:description/>
  <dc:language>en-US</dc:language>
  <cp:lastModifiedBy>ZooM</cp:lastModifiedBy>
  <dcterms:modified xsi:type="dcterms:W3CDTF">2013-10-19T07:07:18Z</dcterms:modified>
  <cp:revision>79</cp:revision>
  <dc:subject/>
  <dc:title>Слайд 1</dc:title>
</cp:coreProperties>
</file>