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F34A1-C621-44CA-980F-5B2BBBF8C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EFA50-5C42-4A2E-83FF-AE8E1EB6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C1438-FDD5-4774-82DD-D1799BE5D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DE1EA-3D59-4CDC-AC7E-8502D861E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ED16-3439-46EB-9DA5-13422FA0C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0FE7-2A2A-4743-B1B8-4F92A528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8F43-BE46-4117-83A7-635DFF90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2271-02EC-473C-9B59-82F5ED97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2A06-4DFB-4C66-A05C-C1628173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4504-13FE-4E5C-BBD7-22D9F9E4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9F05-614E-4820-9253-65328F48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8D8DA-365E-4040-8F91-EC04CC0F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D3C2-E2F2-47AC-8B7F-CF9E223E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E6EB-6F76-41C0-A9C2-9126905F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70E8-F4D0-45A5-A0BF-F0EF1337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67D6-FC53-4430-9F11-7F292A8D8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B275-0101-4CEE-80D3-35F2C4B01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3A6CC-CE86-4ACB-B794-2A00B357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8B38D-12F9-49D7-945A-E9D68AD8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2E9ED-3E4E-4255-AA25-15D74A8E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D32CF-B5E0-47D6-A8C2-46CA1C7E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4D3E7-1A90-4025-A963-13B96EA1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123F4-4CFB-4C90-B6D3-85382B05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D8FBB-762A-4942-8BF3-A7C319E0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A763-02D4-4C13-B194-7BEA40F356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4CA3-42EC-4F5A-B272-FF421E84F3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333360"/>
            <a:ext cx="5977080" cy="56880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Советы учащимся при выполнении задания С2.1 (сочинения-рассуждения на лингвистическую тему) </a:t>
            </a: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Зачем нужно двоеточ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Знаки препинания появились намного поз­же, чем была изобретена письменность. В России система пунктуации сформировалась только после распространения книгопечата­ния.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     «Зачем нужны знаки препинания? — недо­умевают некоторые мои сверстники и гово­рят: — Не нужны все эти двоеточия, тире, скобки...». Я с ними не согласна, потому что считаю: знаки препинания несут дополни­тельную информацию, которую нельзя вы­разить словами, ведь она касается высказы­вания в целом.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     Возьмем, к примеру, двоеточие. Во-пер­вых, этот знак ставят, если хотят пояснить сообщение. Этим объясняется употребление двоеточия в предложении 2, где вторая часть сложного предложения с разными видами связи указывает на причи­ну того, о чем сообщалось в первой части.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     Во-вторых, этот знак помогает увидеть та­кие синтаксические конструкции, как слова автора и прямую речь (предложения 28 и 29).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     В-третьих, двоеточие — письменный сиг­нал интонации пояснения (предложения 2, 11). Перед знаком голос понижается, после чего следует «предупреждающая» пауза, пос­ле знака следующая синтаксическая единица интонируется в более быстром темпе.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     Нет, не обойтись без знаков препинания. Ведь они, по словам К. Паустовского, «су­ществуют, чтобы выделить мысль, привести слова в правильное соотношение и дать фра­зе легкость и правильное звучание».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Зачем нужно тире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   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Есть речь устная и письменная. Устная речь отличается от письменной. То, что в устной речи можно передать с помощью ин­тонации, мимики, жестов, в письменной речи передается с помощью порядка слов, знаков препинания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ире, как любой знак препинания, помога­ет определить границы синтаксических еди­ниц (их начало и/или конец), понять логику предложения, связь его частей, передать ин­тонацию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ак, в предложении 14 тире отмечает на­чало и конец такого синтаксического отрез­ка, как слова автора, а в предложении 33 отмечает начало составного именного сказуе­мого с опущенной глагольной связкой. Тире — многозначный знак препинания. Он может иметь значение пропуска, чередо­вания, тождества, противоположности, сле­дования (внезапного или закономерного)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едложения с 8 по 22 — это диалог. Тире используется в значении чередования. С его помощью В. Железников указывает, что в диалоге меняется автор реплики: говорит то Николай Николаевич, то Ленка. В предло­жении 27 тире реализует значение противо­положности: «Столько лет смотрел на карти­ну, а не догадался»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ак интонационный знак тире, например, подсказывает, где находятся паузы, какой отрезок следует читать с повышением тона, а какой — с понижением. Слова автора в пред­ложении 22 выделены с двух сторон тире, это значит, что в этих местах нужно делать паузы, а сам отрезок произносить быстро и с понижением голоса.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   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Хотя тире появилось в русской графике достаточно недавно (первым стал его упо­треблять Н. М. Карамзин), это очень нуж­ный знак препинания, без него невозможно представить современный письменный текст.</a:t>
            </a: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184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9. Зачем нужна пунктуация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Я считаю, что пишущий должен твёрдо знать, какой смысловой оттенок он хочет придать своему высказыванию и отдельным его частям и какими приёмами он должен для этого воспользоваться.</a:t>
            </a:r>
            <a:br>
              <a:rPr sz="1600"/>
            </a:b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     В данном тексте автор употребляет разные знаки препинания. Но больше всего запятых. В предложении (№... ) знаки препинания употребляются внутри предложения, запятые выделяют вводное слово. А в предложении ( №...) запятые разделяют три простых предложения в составе сложноподчиненного. Есть в тексте и восклицательный знак. Автор с его помощью выражает своё восхищение. Очень экспрессивный восклицательный знак. Если бы его не было, то это предложение потерялось бы в тексте, и мы не обратили бы на него внимания.</a:t>
            </a:r>
            <a:br>
              <a:rPr sz="1600"/>
            </a:b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     Таким образом, знаки препинания на письме необходимы, потому что они не только расставляют эмоциональные акценты, но и помогают верно передать смысл предложения. </a:t>
            </a:r>
            <a:br>
              <a:rPr sz="1600"/>
            </a:br>
            <a:br>
              <a:rPr sz="1600"/>
            </a:br>
            <a:br>
              <a:rPr sz="9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выполнения задания произведит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ледующие действия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Рассмотрите иллюстрацию, представьте ситуацию, в которой происходит диалог героев,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разберитесь в позиции говорящ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Поймите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су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той позиции, которая заключается в утверждении лингвистического положения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Без знаков препинания обойтись нельзя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Подберите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аргумент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доказывающие справедливость позиции участника диалога, эти аргументы надо искать именно в сфере лингвистических знаний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Знаки препинания придают завершённость мысли и обеспечивают интонационную законченность предложений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Найдите в указанном тексте 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риме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которые могут подкрепить аргументацию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того чтобы включение примеров не нарушало требование связности, можно использовать следующие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речевые клише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Чтобы подтвердить сказанное, обратимся к … предложению тек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роиллюстрировать названную функцию знаков препинания можно на примере …. предложения тек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ример использования запятой в … функции можно найти в предложении …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Справедливость этого вывода можно доказать на примере … предложения, в котором автор использует …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В подтверждение собственных выводов приведу пример из … предложения прочитанного мною тек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Рассмотрим … предложение. В нем использована … . Э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одтверждает наш вывод о том, что … 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Роль вводных слов и предлож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Вводные слова – это специальные слова или сочетания слов, при помощи которых говорящий выражает своё отношение к тому, что он сообщает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    Вводные слова могут выражать уверенность и неуверенность ( примеры ). С их помощью можно передавать различные чувства ( примеры )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    А что вы будете делать, если вам надо сообщить, откуда вы взяли эту информацию. Конечно, вы тогда будете использовать водные слова, указывающие на источник сообщения ( примеры ).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    В научном стиле, где главное – логика, вы будете использовать вводные слова, указывающие на порядок мысли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    Часто мы думаем, что вводные слова не нужны, но мы сами не замечаем, как используем их в речи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34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Роль однородных членов предложения в реч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Однородные члены предложения – это ряд одинаковых членов предложения, соединённых между собой сочинительной связью, которая выражается союзами или только интонационно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    Однородные члены предложения используются в речи для конкретизации и точности описания. Когда предмет описывается с помощью нескольких определений, а не одного, поэтому описание будет более точным (пример из текста)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    Однородные члены предложения показывают одновременность или последовательность действий (пример из текста)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    В художественной речи, с помощью однородных членов предложений, создаётся такая фигура, как градация – расположенные по мере возрастания синонимы (пример из текста)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    Итак, мы пришли к выводу, что однородные члены предложения важны в языке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Роль риторических вопросов в текст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Риторические вопросы – это вопросы, не требующие ответа. Зачем же они нужны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Риторические вопросы используются в художественном и публицистическом стилях для создания вопроса на ответную форму изложения. С помощью неё создаётся иллюзия беседы с читателем (пример из текста).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Риторические вопросы также являются средством художественной выразительности. Они акцентируют внимание читателя на проблеме (пример из текста).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Таким образом, риторический вопрос – это важное изобразительно-выразительное средство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Роль средств выразительности в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 художественном и публицистическом стилях речи широко используются изобразительно – выразительные средства.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Так, например, эпитеты – красочные определения делают речь яркой и выразительной (пример из текста).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Метафоры – слова в переносном значении – придают речи образность (пример из текста).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Риторический вопрос создаёт вопрос на ответную форму изложения и иллюзию диалога с читателем (пример из текста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Без выразительности, речь была бы бедной и невыразительной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Роль архаизмов в реч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рхаизмы – это устаревшие слова в лексике русского языка. Также архаизмами называются устаревшие слова – старославянизмы. У них есть современные русские эквиваленты. Зачем же они нужны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Архаизмы используются в речи, когда нужно создать колорит эпохи. Такие слова используются в исторических романах, сценариях исторических фильмов (пример из текста).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Также архаизмы используются для создания высокого стиля речи (пример из текста).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Таким образом, устаревшие слова играют важную роль в современном русском языке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Разряды и функции частиц в русском язы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Частица – служебная часть речи, которая вносит в предложение различные оттенки, значения или служит для образования форм слов. Частицы не изменяются и не являются членами предложения.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Частицы делятся на две основные группы: формообразующие и модальные (смысловые).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Формообразующие образуют повелительное и условное наклонение (примеры).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Смысловые вносят различные оттенки значения: отрицания, вопроса, уточнения, выделения, сомнения (примеры).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Таким образом, частицы – важная часть речи, без которой в русском языке не обойтись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08:18:33Z</dcterms:created>
  <dc:creator>I`m</dc:creator>
  <dc:description/>
  <dc:language>en-US</dc:language>
  <cp:lastModifiedBy>I`m</cp:lastModifiedBy>
  <dcterms:modified xsi:type="dcterms:W3CDTF">2011-03-31T08:44:31Z</dcterms:modified>
  <cp:revision>2</cp:revision>
  <dc:subject/>
  <dc:title>Слайд 1</dc:title>
</cp:coreProperties>
</file>