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89C5-AD70-4D24-B2C2-EE18E0F2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3C17-BDCD-4107-91FC-0E9632A4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157B-09AC-4F2C-A390-F3649B6A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B3BF-11E5-4949-870F-6DF8824D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8F48-4AEF-4E84-A189-6F0B442B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5ED4-AC24-4645-B2EB-8A197349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5434-4ADA-4140-B629-DD997912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D3B-6B4D-49A3-8AF6-B1E99410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203D-F7D6-485F-B9F0-12338DB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E97B-EE54-4B9D-A1B7-5AF3CF16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F546-6BDF-4D19-BDB3-3A6309E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E094-B6DB-4551-8160-E67933C2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BA0A-5A1B-45CB-835E-25BD2EE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CD78-14D4-4A35-B6E5-8C88480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61D8-6754-4649-9C43-CF821D0F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7564-8873-4288-AF8F-9FB125FC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1CC9-425B-467A-A90D-E6050BDE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5466-A0F4-4670-B770-0FC177F4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209C-8C63-4B7C-A4A2-11E08D82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4F71-1D4E-4619-82D9-716E3BE3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78A75-1BC4-4D7B-8909-64E9E835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B78E-DA96-4A36-AB76-82C3394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DDF3-95C6-4FEC-AF2D-CAC72EDE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E3C7E-A838-4762-A0CA-A196AAF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6E1-610E-4453-AE6F-FFE15A31D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A28E-0BDF-4B9E-9987-07CB0FABD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5977080" cy="5688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Советы учащимся при выполнении задания С2.1 (сочинения-рассуждения на лингвистическую тему)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Зачем нужно двоеточ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наки препинания появились намного поз­же, чем была изобретена письменность. В России система пунктуации сформировалась только после распространения книгопечата­ния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«Зачем нужны знаки препинания? — недо­умевают некоторые мои сверстники и гово­рят: — Не нужны все эти двоеточия, тире, скобки...». Я с ними не согласна, потому что считаю: знаки препинания несут дополни­тельную информацию, которую нельзя вы­разить словами, ведь она касается высказы­вания в целом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озьмем, к примеру, двоеточие. Во-пер­вых, этот знак ставят, если хотят пояснить сообщение. Этим объясняется употребление двоеточия в предложении 2, где вторая часть сложного предложения с разными видами связи указывает на причи­ну того, о чем сообщалось в первой части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о-вторых, этот знак помогает увидеть та­кие синтаксические конструкции, как слова автора и прямую речь (предложения 28 и 29)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-третьих, двоеточие — письменный сиг­нал интонации пояснения (предложения 2, 11). Перед знаком голос понижается, после чего следует «предупреждающая» пауза, пос­ле знака следующая синтаксическая единица интонируется в более быстром темпе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Нет, не обойтись без знаков препинания. Ведь они, по словам К. Паустовского, «су­ществуют, чтобы выделить мысль, привести слова в правильное соотношение и дать фра­зе легкость и правильное звучание»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Зачем нужно тире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ть речь устная и письменная. Устная речь отличается от письменной. То, что в устной речи можно передать с помощью ин­тонации, мимики, жестов, в письменной речи передается с помощью порядка слов, знаков препинания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ире, как любой знак препинания, помога­ет определить границы синтаксических еди­ниц (их начало и/или конец), понять логику предложения, связь его частей, передать ин­тонацию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ак, в предложении 14 тире отмечает на­чало и конец такого синтаксического отрез­ка, как слова автора, а в предложении 33 отмечает начало составного именного сказуе­мого с опущенной глагольной связкой. Тире — многозначный знак препинания. Он может иметь значение пропуска, чередо­вания, тождества, противоположности, сле­дования (внезапного или закономерного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едложения с 8 по 22 — это диалог. Тире используется в значении чередования. С его помощью В. Железников указывает, что в диалоге меняется автор реплики: говорит то Николай Николаевич, то Ленка. В предло­жении 27 тире реализует значение противо­положности: «Столько лет смотрел на карти­ну, а не догадался»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к интонационный знак тире, например, подсказывает, где находятся паузы, какой отрезок следует читать с повышением тона, а какой — с понижением. Слова автора в пред­ложении 22 выделены с двух сторон тире, это значит, что в этих местах нужно делать паузы, а сам отрезок произносить быстро и с понижением голоса.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Хотя тире появилось в русской графике достаточно недавно (первым стал его упо­треблять Н. М. Карамзин), это очень нуж­ный знак препинания, без него невозможно представить современный письменный текст.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9. Зачем нужна пунктуация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Я считаю, что пишущий должен твёрдо знать, какой смысловой оттенок он хочет придать своему высказыванию и отдельным его частям и какими приёмами он должен для этого воспользоваться.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В данном тексте автор употребляет разные знаки препинания. Но больше всего запятых. В предложении (№... ) знаки препинания употребляются внутри предложения, запятые выделяют вводное слово. А в предложении ( №...) запятые разделяют три простых предложения в составе сложноподчиненного. Есть в тексте и восклицательный знак. Автор с его помощью выражает своё восхищение. Очень экспрессивный восклицательный знак. Если бы его не было, то это предложение потерялось бы в тексте, и мы не обратили бы на него внимания.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    Таким образом, знаки препинания на письме необходимы, потому что они не только расставляют эмоциональные акценты, но и помогают верно передать смысл предложения. </a:t>
            </a:r>
            <a:br>
              <a:rPr sz="1600"/>
            </a:br>
            <a:br>
              <a:rPr sz="1600"/>
            </a:br>
            <a:br>
              <a:rPr sz="9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выполнения задания произведи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ующие действ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Рассмотрите иллюстрацию, представьте ситуацию, в которой происходит диалог героев,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разберитесь в позиции гово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оймит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у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й позиции, которая заключается в утверждении лингвистического положения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Без знаков препинания обойтись нельзя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одберит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ргумен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доказывающие справедливость позиции участника диалога, эти аргументы надо искать именно в сфере лингвистических знан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наки препинания придают завершённость мысли и обеспечивают интонационную законченность предложений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Найдите в указанном тексте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ые могут подкрепить аргументацию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того чтобы включение примеров не нарушало требование связности, можно использовать следующие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речевые клише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Чтобы подтвердить сказанное, обратимся к … предложению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иллюстрировать названную функцию знаков препинания можно на примере …. предложения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имер использования запятой в … функции можно найти в предложении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праведливость этого вывода можно доказать на примере … предложения, в котором автор использует 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подтверждение собственных выводов приведу пример из … предложения прочитанного мною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смотрим … предложение. В нем использована … . 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дтверждает наш вывод о том, что …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Роль вводных слов и предлож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водные слова – это специальные слова или сочетания слов, при помощи которых говорящий выражает своё отношение к тому, что он сообщает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водные слова могут выражать уверенность и неуверенность ( примеры ). С их помощью можно передавать различные чувства ( примеры 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А что вы будете делать, если вам надо сообщить, откуда вы взяли эту информацию. Конечно, вы тогда будете использовать водные слова, указывающие на источник сообщения ( примеры ).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 научном стиле, где главное – логика, вы будете использовать вводные слова, указывающие на порядок мысли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Часто мы думаем, что вводные слова не нужны, но мы сами не замечаем, как используем их в речи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4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оль однородных членов предложения в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днородные члены предложения – это ряд одинаковых членов предложения, соединённых между собой сочинительной связью, которая выражается союзами или только интонационно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Однородные члены предложения используются в речи для конкретизации и точности описания. Когда предмет описывается с помощью нескольких определений, а не одного, поэтому описание будет более точным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Однородные члены предложения показывают одновременность или последовательность действий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В художественной речи, с помощью однородных членов предложений, создаётся такая фигура, как градация – расположенные по мере возрастания синонимы (пример из текста)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     Итак, мы пришли к выводу, что однородные члены предложения важны в языке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Роль риторических вопросов в текс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иторические вопросы – это вопросы, не требующие ответа. Зачем же они нужны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е вопросы используются в художественном и публицистическом стилях для создания вопроса на ответную форму изложения. С помощью неё создаётся иллюзия беседы с читателем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е вопросы также являются средством художественной выразительности. Они акцентируют внимание читателя на проблеме (пример из текста)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риторический вопрос – это важное изобразительно-выразительное средств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Роль средств выразительности в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художественном и публицистическом стилях речи широко используются изобразительно – выразительные средства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, например, эпитеты – красочные определения делают речь яркой и выразительной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Метафоры – слова в переносном значении – придают речи образность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Риторический вопрос создаёт вопрос на ответную форму изложения и иллюзию диалога с читателем (пример из текста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Без выразительности, речь была бы бедной и невыразительной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Роль архаизмов в реч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Архаизмы – это устаревшие слова в лексике русского языка. Также архаизмами называются устаревшие слова – старославянизмы. У них есть современные русские эквиваленты. Зачем же они нужны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Архаизмы используются в речи, когда нужно создать колорит эпохи. Такие слова используются в исторических романах, сценариях исторических фильмов (пример из текста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же архаизмы используются для создания высокого стиля речи (пример из текста).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устаревшие слова играют важную роль в современном русском языке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Разряды и функции частиц в русс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астица – служебная часть речи, которая вносит в предложение различные оттенки, значения или служит для образования форм слов. Частицы не изменяются и не являются членами предложения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Частицы делятся на две основные группы: формообразующие и модальные (смысловые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Формообразующие образуют повелительное и условное наклонение (примеры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Смысловые вносят различные оттенки значения: отрицания, вопроса, уточнения, выделения, сомнения (примеры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     Таким образом, частицы – важная часть речи, без которой в русском языке не обойтись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8:18:33Z</dcterms:created>
  <dc:creator>I`m</dc:creator>
  <dc:description/>
  <dc:language>en-US</dc:language>
  <cp:lastModifiedBy>I`m</cp:lastModifiedBy>
  <dcterms:modified xsi:type="dcterms:W3CDTF">2011-03-31T08:44:31Z</dcterms:modified>
  <cp:revision>2</cp:revision>
  <dc:subject/>
  <dc:title>Слайд 1</dc:title>
</cp:coreProperties>
</file>