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B230D-1363-4B5C-994A-C9C534DE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B2884-BFA6-485C-B5BE-CEDAF1D7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4ADB-708F-461F-BA29-2C5A36FC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9409-0CDD-4D68-8573-36C58C78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5B48-163F-41CB-B98C-EDDE93D6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1264-48AA-41BB-B1B3-7712611E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41B9-2415-4180-B611-26B4F192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E5E2-A714-4719-B5CA-7FF0F476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9ED2-2D0E-4564-92A2-8D04C66C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A48E-AA72-4BC9-89DD-7F61FB16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351C-74D0-41BE-B0A1-DA87C49D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53103-85EF-437E-BF6A-A47D96EB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6171-D79A-4610-B421-8E8D3FAD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E63E-C4FE-44FA-96F1-CE8EFAEF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3D09-2020-4755-85C1-F6222124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B7AF-B703-47A2-8B06-D2D03214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E16E-63B8-44C3-8269-49053B10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72BF-8534-48E5-B02B-CF2AA705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2E99-34F2-4EB7-8556-FAD9F1BF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6A22-0E6B-46E4-AC83-8D14CFAE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3E30E-ADE1-47D7-8CFB-59053D8D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B301-CCBF-4006-92D5-55E24D73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FA59-ED57-43DC-9230-D1829597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098C0-9DF0-47B8-B00A-938E2852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AC3F-E6AC-4756-8375-9D6434D77B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52E2-AEE4-440B-9039-42E31F9326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5977080" cy="56880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Советы учащимся при выполнении задания С2.1 (сочинения-рассуждения на лингвистическую тему) 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Зачем нужно двоеточ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Знаки препинания появились намного поз­же, чем была изобретена письменность. В России система пунктуации сформировалась только после распространения книгопечата­ния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«Зачем нужны знаки препинания? — недо­умевают некоторые мои сверстники и гово­рят: — Не нужны все эти двоеточия, тире, скобки...». Я с ними не согласна, потому что считаю: знаки препинания несут дополни­тельную информацию, которую нельзя вы­разить словами, ведь она касается высказы­вания в целом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Возьмем, к примеру, двоеточие. Во-пер­вых, этот знак ставят, если хотят пояснить сообщение. Этим объясняется употребление двоеточия в предложении 2, где вторая часть сложного предложения с разными видами связи указывает на причи­ну того, о чем сообщалось в первой части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Во-вторых, этот знак помогает увидеть та­кие синтаксические конструкции, как слова автора и прямую речь (предложения 28 и 29)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В-третьих, двоеточие — письменный сиг­нал интонации пояснения (предложения 2, 11). Перед знаком голос понижается, после чего следует «предупреждающая» пауза, пос­ле знака следующая синтаксическая единица интонируется в более быстром темпе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Нет, не обойтись без знаков препинания. Ведь они, по словам К. Паустовского, «су­ществуют, чтобы выделить мысль, привести слова в правильное соотношение и дать фра­зе легкость и правильное звучание».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Зачем нужно тире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   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ть речь устная и письменная. Устная речь отличается от письменной. То, что в устной речи можно передать с помощью ин­тонации, мимики, жестов, в письменной речи передается с помощью порядка слов, знаков препинания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ире, как любой знак препинания, помога­ет определить границы синтаксических еди­ниц (их начало и/или конец), понять логику предложения, связь его частей, передать ин­тонацию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ак, в предложении 14 тире отмечает на­чало и конец такого синтаксического отрез­ка, как слова автора, а в предложении 33 отмечает начало составного именного сказуе­мого с опущенной глагольной связкой. Тире — многозначный знак препинания. Он может иметь значение пропуска, чередо­вания, тождества, противоположности, сле­дования (внезапного или закономерного)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едложения с 8 по 22 — это диалог. Тире используется в значении чередования. С его помощью В. Железников указывает, что в диалоге меняется автор реплики: говорит то Николай Николаевич, то Ленка. В предло­жении 27 тире реализует значение противо­положности: «Столько лет смотрел на карти­ну, а не догадался»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ак интонационный знак тире, например, подсказывает, где находятся паузы, какой отрезок следует читать с повышением тона, а какой — с понижением. Слова автора в пред­ложении 22 выделены с двух сторон тире, это значит, что в этих местах нужно делать паузы, а сам отрезок произносить быстро и с понижением голоса.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Хотя тире появилось в русской графике достаточно недавно (первым стал его упо­треблять Н. М. Карамзин), это очень нуж­ный знак препинания, без него невозможно представить современный письменный текст.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9. Зачем нужна пунктуация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Я считаю, что пишущий должен твёрдо знать, какой смысловой оттенок он хочет придать своему высказыванию и отдельным его частям и какими приёмами он должен для этого воспользоваться.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В данном тексте автор употребляет разные знаки препинания. Но больше всего запятых. В предложении (№... ) знаки препинания употребляются внутри предложения, запятые выделяют вводное слово. А в предложении ( №...) запятые разделяют три простых предложения в составе сложноподчиненного. Есть в тексте и восклицательный знак. Автор с его помощью выражает своё восхищение. Очень экспрессивный восклицательный знак. Если бы его не было, то это предложение потерялось бы в тексте, и мы не обратили бы на него внимания.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Таким образом, знаки препинания на письме необходимы, потому что они не только расставляют эмоциональные акценты, но и помогают верно передать смысл предложения. </a:t>
            </a:r>
            <a:br>
              <a:rPr sz="1600"/>
            </a:br>
            <a:br>
              <a:rPr sz="1600"/>
            </a:br>
            <a:br>
              <a:rPr sz="9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выполнения задания произведит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едующие действ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Рассмотрите иллюстрацию, представьте ситуацию, в которой происходит диалог героев,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разберитесь в позиции говорящ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Поймите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у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ой позиции, которая заключается в утверждении лингвистического положения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Без знаков препинания обойтись нельзя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Подберите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аргумен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доказывающие справедливость позиции участника диалога, эти аргументы надо искать именно в сфере лингвистических знаний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наки препинания придают завершённость мысли и обеспечивают интонационную законченность предложений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Найдите в указанном тексте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оторые могут подкрепить аргументацию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того чтобы включение примеров не нарушало требование связности, можно использовать следующие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речевые клиш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Чтобы подтвердить сказанное, обратимся к … предложению тек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оиллюстрировать названную функцию знаков препинания можно на примере …. предложения тек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имер использования запятой в … функции можно найти в предложении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праведливость этого вывода можно доказать на примере … предложения, в котором автор использует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 подтверждение собственных выводов приведу пример из … предложения прочитанного мною тек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ассмотрим … предложение. В нем использована … . 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дтверждает наш вывод о том, что …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Роль вводных слов и предлож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водные слова – это специальные слова или сочетания слов, при помощи которых говорящий выражает своё отношение к тому, что он сообщает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Вводные слова могут выражать уверенность и неуверенность ( примеры ). С их помощью можно передавать различные чувства ( примеры )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А что вы будете делать, если вам надо сообщить, откуда вы взяли эту информацию. Конечно, вы тогда будете использовать водные слова, указывающие на источник сообщения ( примеры ).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В научном стиле, где главное – логика, вы будете использовать вводные слова, указывающие на порядок мысли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Часто мы думаем, что вводные слова не нужны, но мы сами не замечаем, как используем их в реч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34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Роль однородных членов предложения в реч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днородные члены предложения – это ряд одинаковых членов предложения, соединённых между собой сочинительной связью, которая выражается союзами или только интонационно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Однородные члены предложения используются в речи для конкретизации и точности описания. Когда предмет описывается с помощью нескольких определений, а не одного, поэтому описание будет более точным (пример из текста)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Однородные члены предложения показывают одновременность или последовательность действий (пример из текста)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В художественной речи, с помощью однородных членов предложений, создаётся такая фигура, как градация – расположенные по мере возрастания синонимы (пример из текста)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Итак, мы пришли к выводу, что однородные члены предложения важны в языке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Роль риторических вопросов в текст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иторические вопросы – это вопросы, не требующие ответа. Зачем же они нужны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Риторические вопросы используются в художественном и публицистическом стилях для создания вопроса на ответную форму изложения. С помощью неё создаётся иллюзия беседы с читателем (пример из текста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Риторические вопросы также являются средством художественной выразительности. Они акцентируют внимание читателя на проблеме (пример из текста)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Таким образом, риторический вопрос – это важное изобразительно-выразительное средств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Роль средств выразительности в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художественном и публицистическом стилях речи широко используются изобразительно – выразительные средства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Так, например, эпитеты – красочные определения делают речь яркой и выразительной (пример из текста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Метафоры – слова в переносном значении – придают речи образность (пример из текста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Риторический вопрос создаёт вопрос на ответную форму изложения и иллюзию диалога с читателем (пример из текста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Без выразительности, речь была бы бедной и невыразительной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Роль архаизмов в реч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рхаизмы – это устаревшие слова в лексике русского языка. Также архаизмами называются устаревшие слова – старославянизмы. У них есть современные русские эквиваленты. Зачем же они нужны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Архаизмы используются в речи, когда нужно создать колорит эпохи. Такие слова используются в исторических романах, сценариях исторических фильмов (пример из текста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Также архаизмы используются для создания высокого стиля речи (пример из текста).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Таким образом, устаревшие слова играют важную роль в современном русском языке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Разряды и функции частиц в русском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астица – служебная часть речи, которая вносит в предложение различные оттенки, значения или служит для образования форм слов. Частицы не изменяются и не являются членами предложения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Частицы делятся на две основные группы: формообразующие и модальные (смысловые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Формообразующие образуют повелительное и условное наклонение (примеры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Смысловые вносят различные оттенки значения: отрицания, вопроса, уточнения, выделения, сомнения (примеры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Таким образом, частицы – важная часть речи, без которой в русском языке не обойтись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8:18:33Z</dcterms:created>
  <dc:creator>I`m</dc:creator>
  <dc:description/>
  <dc:language>en-US</dc:language>
  <cp:lastModifiedBy>I`m</cp:lastModifiedBy>
  <dcterms:modified xsi:type="dcterms:W3CDTF">2011-03-31T08:44:31Z</dcterms:modified>
  <cp:revision>2</cp:revision>
  <dc:subject/>
  <dc:title>Слайд 1</dc:title>
</cp:coreProperties>
</file>