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2D1-83B3-4DF3-AD65-8EE63610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EAF-110C-4AE1-894D-6CE70B33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B31-2CEE-49C4-96A6-48647C89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6E7-3DE9-4714-9994-EEE144B9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78C-F476-45DF-9EE4-04AD614E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45F-3458-4387-B87A-5B4F2868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0EC-7364-46C4-A214-000EF8BB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616-87CC-413E-8DF9-13DF8846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74D-D9D7-48FC-9CA7-51583BDE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B4B-F9AA-41A6-B64D-F53FB02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2B8-E380-4B15-9599-D65993C5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52B-3499-48BF-98AA-7B5E6512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29A3-7273-4FDD-928E-A8463EE30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488360" cy="79236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дирование информации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С  помощью звуков, букв или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люди  кодируют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снеговичок"/>
          <p:cNvPicPr/>
          <p:nvPr/>
        </p:nvPicPr>
        <p:blipFill>
          <a:blip r:embed="rId1"/>
          <a:stretch/>
        </p:blipFill>
        <p:spPr>
          <a:xfrm>
            <a:off x="900000" y="3841920"/>
            <a:ext cx="2808360" cy="1725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0"/>
          <p:cNvSpPr/>
          <p:nvPr/>
        </p:nvSpPr>
        <p:spPr>
          <a:xfrm>
            <a:off x="4659480" y="3860640"/>
            <a:ext cx="2000160" cy="3682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4875120" y="5157720"/>
            <a:ext cx="27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4859280" y="4941720"/>
            <a:ext cx="3025800" cy="36828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У-У-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А-А-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-А У-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071960" y="5929200"/>
            <a:ext cx="47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 учитель начальных классов-Хурулова Ольга Иосифовна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КУ СОШ с.Николае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ЧТОБЫ  УЗНАТЬ  ЗАШИФРОВАННОЕ  СЛОВО  ,  ВОЗЬМИТЕ  ТОЛЬКО  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ЕРВЫЕ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СЛОГИ,  </a:t>
            </a:r>
            <a:r>
              <a:rPr b="0" lang="ru-RU" sz="2000" spc="-1" strike="noStrike">
                <a:solidFill>
                  <a:srgbClr val="00cc00"/>
                </a:solidFill>
                <a:latin typeface="Times New Roman"/>
              </a:rPr>
              <a:t>ВТОРЫЕ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СЛОГИ,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ДНИЕ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СЛОГИ ИЗ  КАЖДОГО  СЛ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КОЛОС,МЕБЕЛЬ,ТАРАКАН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МОЛОКО,НЕРЕСТ,ТАРАКАН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Times New Roman"/>
              </a:rPr>
              <a:t>ЗМЕЯ,РАМА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Times New Roman"/>
              </a:rPr>
              <a:t>ПУГОВИЦА,МОЛОТОК,ЛАВА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БЕЛЬ,РУЖЬЁ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СА,ПИСЬМО,ПЕРЕЛЁТ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b6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РУССКИЙ  АЛФАВИТ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И  АЛФАВИТ,       ЗАКОДИРУЙ  ДЛЯ ОДНОКЛАССНИКА СЛОВА</a:t>
            </a:r>
            <a:r>
              <a:rPr b="0" lang="ru-RU" sz="2000" spc="-1" strike="noStrike">
                <a:solidFill>
                  <a:srgbClr val="00cc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ЗАКОДИРУЙ </a:t>
            </a:r>
            <a:r>
              <a:rPr b="0" lang="ru-RU" sz="1600" spc="-1" strike="noStrike">
                <a:solidFill>
                  <a:srgbClr val="00cc00"/>
                </a:solidFill>
                <a:latin typeface="Times New Roman"/>
              </a:rPr>
              <a:t>             РАСКОДИРУ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64000" y="1682640"/>
          <a:ext cx="4680000" cy="5181840"/>
        </p:xfrm>
        <a:graphic>
          <a:graphicData uri="http://schemas.openxmlformats.org/drawingml/2006/table">
            <a:tbl>
              <a:tblPr/>
              <a:tblGrid>
                <a:gridCol w="647640"/>
                <a:gridCol w="720720"/>
                <a:gridCol w="655920"/>
                <a:gridCol w="641160"/>
                <a:gridCol w="647640"/>
                <a:gridCol w="719280"/>
                <a:gridCol w="64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50920" y="2019240"/>
          <a:ext cx="4038480" cy="48387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Times New Roman"/>
              </a:rPr>
              <a:t>СОСТАВЬ СЛОВА ИЗ ПЕРЕМЕШАННЫХ БУКВ И ЗАПИШИ ИХ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00"/>
                </a:solidFill>
                <a:uFillTx/>
                <a:latin typeface="Times New Roman"/>
              </a:rPr>
              <a:t>ЛИВТКААРУА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00"/>
                </a:solidFill>
                <a:uFillTx/>
                <a:latin typeface="Times New Roman"/>
              </a:rPr>
              <a:t>ЫМЫШ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00"/>
                </a:solidFill>
                <a:uFillTx/>
                <a:latin typeface="Times New Roman"/>
              </a:rPr>
              <a:t>МНОТО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00"/>
                </a:solidFill>
                <a:uFillTx/>
                <a:latin typeface="Times New Roman"/>
              </a:rPr>
              <a:t>РНЕПИ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00"/>
                </a:solidFill>
                <a:uFillTx/>
                <a:latin typeface="Times New Roman"/>
              </a:rPr>
              <a:t>КАЧ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КОЕ  СЛОВО  НЕ  ПОДХОДИТ?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427640" y="191628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57200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140360" y="2565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4356000" y="321300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356000" y="386064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>
            <a:off x="4284720" y="47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ДАНА ЗАШИФРОВАННАЯ  ПОСЛОВ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УБИТЬ  ДРОВА,НУЖЕ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ЧТОБЫ  ПОЛИТЬ ОГОРОД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БАКИ СДЕЛАЛИ ВО ЛЬ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ТАЛИ  ЛОВИТЬ  РЫ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ЫЙ КОЛЮЧИЙ В ЛЕСУ -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940360" y="1700280"/>
          <a:ext cx="2879640" cy="3949560"/>
        </p:xfrm>
        <a:graphic>
          <a:graphicData uri="http://schemas.openxmlformats.org/drawingml/2006/table">
            <a:tbl>
              <a:tblPr/>
              <a:tblGrid>
                <a:gridCol w="360360"/>
                <a:gridCol w="254160"/>
                <a:gridCol w="182520"/>
                <a:gridCol w="393480"/>
                <a:gridCol w="365400"/>
                <a:gridCol w="182520"/>
                <a:gridCol w="182520"/>
                <a:gridCol w="239760"/>
                <a:gridCol w="182520"/>
                <a:gridCol w="5364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663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129492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4000" y="6524640"/>
          <a:ext cx="2077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ДЕКОДИРУЙТЕ  ТЕКС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О КОДИРОВАНИЯ  УСТАНОВИТЕ  ПО  КЛЮЧ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ЮЧ: 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12—16---5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--СИСТЕМА УСЛОВНЫХ  ЗНАКОВ ДЛЯ  ПРЕДСТАВЛЕНИЯ 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392040"/>
                <a:gridCol w="392040"/>
                <a:gridCol w="392400"/>
                <a:gridCol w="390240"/>
                <a:gridCol w="392400"/>
                <a:gridCol w="392040"/>
                <a:gridCol w="392040"/>
                <a:gridCol w="392040"/>
                <a:gridCol w="392040"/>
                <a:gridCol w="392400"/>
                <a:gridCol w="390240"/>
                <a:gridCol w="392400"/>
                <a:gridCol w="392040"/>
                <a:gridCol w="392040"/>
                <a:gridCol w="392040"/>
                <a:gridCol w="392040"/>
                <a:gridCol w="392400"/>
                <a:gridCol w="390240"/>
                <a:gridCol w="392400"/>
                <a:gridCol w="392040"/>
                <a:gridCol w="3920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одним слово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вь п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98400" y="1844640"/>
            <a:ext cx="459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ю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ю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ль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шл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755640" y="2276640"/>
            <a:ext cx="38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900000" y="206064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130400" y="2276640"/>
            <a:ext cx="459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84360" y="2205000"/>
            <a:ext cx="45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68360" y="6165720"/>
            <a:ext cx="4681440" cy="3988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СО, ПРИГОТОВЛЕННОЕ НА ОГ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995640" y="263700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3203640" y="4581360"/>
            <a:ext cx="5689440" cy="398880"/>
          </a:xfrm>
          <a:prstGeom prst="rect">
            <a:avLst/>
          </a:prstGeom>
          <a:solidFill>
            <a:srgbClr val="fcb6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ТИЦА,ПОПАВШАЯ В СУП ЗА СВОИ ДУ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468360" y="5661000"/>
            <a:ext cx="3620880" cy="398880"/>
          </a:xfrm>
          <a:prstGeom prst="rect">
            <a:avLst/>
          </a:prstGeom>
          <a:solidFill>
            <a:srgbClr val="ebf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ЕНОЕ ТЕСТО С МЯС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1763640" y="292428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1979640" y="335772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1908000" y="1773360"/>
            <a:ext cx="5349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395280" y="436572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900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539640" y="414972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3794040" y="3357720"/>
            <a:ext cx="5349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2209680" y="3355920"/>
            <a:ext cx="459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914400" y="227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2484360" y="328464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395280" y="5157720"/>
            <a:ext cx="3313080" cy="3988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ОЕ ПИРОЖН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2425680" y="3571920"/>
            <a:ext cx="459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1"/>
          <p:cNvSpPr/>
          <p:nvPr/>
        </p:nvSpPr>
        <p:spPr>
          <a:xfrm>
            <a:off x="684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2"/>
          <p:cNvSpPr/>
          <p:nvPr/>
        </p:nvSpPr>
        <p:spPr>
          <a:xfrm>
            <a:off x="2698920" y="3500280"/>
            <a:ext cx="459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3"/>
          <p:cNvSpPr/>
          <p:nvPr/>
        </p:nvSpPr>
        <p:spPr>
          <a:xfrm>
            <a:off x="324000" y="5877000"/>
            <a:ext cx="534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4"/>
          <p:cNvSpPr/>
          <p:nvPr/>
        </p:nvSpPr>
        <p:spPr>
          <a:xfrm>
            <a:off x="3132000" y="2852640"/>
            <a:ext cx="47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2771640" y="3573360"/>
            <a:ext cx="4305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5111640" y="6165720"/>
            <a:ext cx="4032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АРЕННЫЕ В ВОДЕ ФРУК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6"/>
          <p:cNvSpPr/>
          <p:nvPr/>
        </p:nvSpPr>
        <p:spPr>
          <a:xfrm>
            <a:off x="4140360" y="5661000"/>
            <a:ext cx="4736880" cy="3988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ТОЧНАЯ ЕДА ИЗ РИСА И МЯ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7"/>
          <p:cNvSpPr/>
          <p:nvPr/>
        </p:nvSpPr>
        <p:spPr>
          <a:xfrm>
            <a:off x="900000" y="5013360"/>
            <a:ext cx="5780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3929040" y="5072040"/>
            <a:ext cx="340380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ОФЕЛЬ В СМЯТ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cb6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Times New Roman"/>
              </a:rPr>
              <a:t>РАССШИФРОВАТЬ  НАЗВАНИЕ СКАЗКИ.</a:t>
            </a:r>
            <a:br>
              <a:rPr sz="2000"/>
            </a:br>
            <a:r>
              <a:rPr b="0" lang="ru-RU" sz="2000" spc="-1" strike="noStrike">
                <a:solidFill>
                  <a:srgbClr val="9966ff"/>
                </a:solidFill>
                <a:latin typeface="Times New Roman"/>
              </a:rPr>
              <a:t>ИЗ  КАЖДОЙ СТРОЧКИ ВЗЯТЬ ЛИШЬ ТЕ БУКВЫ,КОТОРЫЕ НЕ ПОВТОРЯЮТСЯ В ДАННОЙ СТР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557360"/>
          <a:ext cx="8207280" cy="4608360"/>
        </p:xfrm>
        <a:graphic>
          <a:graphicData uri="http://schemas.openxmlformats.org/drawingml/2006/table">
            <a:tbl>
              <a:tblPr/>
              <a:tblGrid>
                <a:gridCol w="431640"/>
                <a:gridCol w="576360"/>
                <a:gridCol w="574560"/>
                <a:gridCol w="576360"/>
                <a:gridCol w="649440"/>
                <a:gridCol w="574560"/>
                <a:gridCol w="576360"/>
                <a:gridCol w="576000"/>
                <a:gridCol w="792360"/>
                <a:gridCol w="792000"/>
                <a:gridCol w="648000"/>
                <a:gridCol w="792000"/>
                <a:gridCol w="647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6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гадай 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960720" cy="2808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36:28Z</dcterms:created>
  <dc:creator>Хурулова Ольга</dc:creator>
  <dc:description/>
  <dc:language>en-US</dc:language>
  <cp:lastModifiedBy>Хурулова </cp:lastModifiedBy>
  <dcterms:modified xsi:type="dcterms:W3CDTF">2012-07-08T09:59:27Z</dcterms:modified>
  <cp:revision>10</cp:revision>
  <dc:subject/>
  <dc:title>кодирование информации</dc:title>
</cp:coreProperties>
</file>