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826-2B04-4020-9B04-79CC22B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DD6-0114-45D7-A845-CE0EDC7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E7A-A18F-490B-AD3F-90F2B14A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56F-C585-4BBD-B7AC-E2EC117F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45B-7177-4F57-83D1-1B210F4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6FE-6356-49AD-9D8C-526E958C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AC-97DF-4594-96E5-CB033B4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9AA-02E8-4D7E-BF01-2FDE86A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455-71C4-4358-BD2E-D3E8B7A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B45-C30B-4476-95CB-567A026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70A-1A93-41FE-8752-549A695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5F7-D9E6-4343-AC07-7C0D736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05A7-50D4-405A-A105-57ECD1939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488360" cy="79236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информации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С  помощью звуков, букв или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люди  кодируют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снеговичок"/>
          <p:cNvPicPr/>
          <p:nvPr/>
        </p:nvPicPr>
        <p:blipFill>
          <a:blip r:embed="rId1"/>
          <a:stretch/>
        </p:blipFill>
        <p:spPr>
          <a:xfrm>
            <a:off x="900000" y="3841920"/>
            <a:ext cx="2808360" cy="172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"/>
          <p:cNvSpPr/>
          <p:nvPr/>
        </p:nvSpPr>
        <p:spPr>
          <a:xfrm>
            <a:off x="4659480" y="3860640"/>
            <a:ext cx="2000160" cy="3682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4875120" y="5157720"/>
            <a:ext cx="27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4859280" y="4941720"/>
            <a:ext cx="3025800" cy="36828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У-У-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А-А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-А У-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71960" y="5929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учитель начальных классов-Хурулова Ольга Иосифовна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КУ СОШ с.Николае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ЧТОБЫ  УЗНАТЬ  ЗАШИФРОВАННОЕ  СЛОВО  ,  ВОЗЬМИТЕ  ТОЛЬКО  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ЕРВЫ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СЛОГИ,  </a:t>
            </a: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ВТОРЫ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ЛОГИ,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НИ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ЛОГИ ИЗ  КАЖДОГО 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КОЛОС,МЕБЕЛЬ,ТАРАКАН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ОЛОКО,НЕРЕСТ,ТАРАКАН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ЗМЕЯ,РАМА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ПУГОВИЦА,МОЛОТОК,ЛАВА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БЕЛЬ,РУЖЬЁ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А,ПИСЬМО,ПЕРЕЛЁТ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РУССКИЙ  АЛФАВИТ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И  АЛФАВИТ,       ЗАКОДИРУЙ  ДЛЯ ОДНОКЛАССНИКА СЛОВА</a:t>
            </a: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ЗАКОДИРУЙ </a:t>
            </a:r>
            <a:r>
              <a:rPr b="0" lang="ru-RU" sz="1600" spc="-1" strike="noStrike">
                <a:solidFill>
                  <a:srgbClr val="00cc00"/>
                </a:solidFill>
                <a:latin typeface="Times New Roman"/>
              </a:rPr>
              <a:t>             РАСКОДИРУ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4000" y="1682640"/>
          <a:ext cx="4680000" cy="518184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655920"/>
                <a:gridCol w="641160"/>
                <a:gridCol w="647640"/>
                <a:gridCol w="71928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0920" y="2019240"/>
          <a:ext cx="4038480" cy="4838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СОСТАВЬ СЛОВА ИЗ ПЕРЕМЕШАННЫХ БУКВ И ЗАПИШИ ИХ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ЛИВТКААРУА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ЫМЫШ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МНОТО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РНЕПИ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КАЧ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ОЕ  СЛОВО  НЕ  ПОДХОДИТ?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427640" y="19162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140360" y="2565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356000" y="321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356000" y="386064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284720" y="47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ДАНА ЗАШИФРОВАННАЯ  ПОСЛОВ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УБИТЬ  ДРОВА,НУЖЕ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ЧТОБЫ  ПОЛИТЬ ОГОРО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АКИ СДЕЛАЛИ ВО ЛЬ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ТАЛИ  ЛОВИТЬ 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Й КОЛЮЧИЙ В ЛЕСУ -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940360" y="1700280"/>
          <a:ext cx="2879640" cy="3949560"/>
        </p:xfrm>
        <a:graphic>
          <a:graphicData uri="http://schemas.openxmlformats.org/drawingml/2006/table">
            <a:tbl>
              <a:tblPr/>
              <a:tblGrid>
                <a:gridCol w="360360"/>
                <a:gridCol w="254160"/>
                <a:gridCol w="182520"/>
                <a:gridCol w="393480"/>
                <a:gridCol w="365400"/>
                <a:gridCol w="182520"/>
                <a:gridCol w="182520"/>
                <a:gridCol w="239760"/>
                <a:gridCol w="182520"/>
                <a:gridCol w="536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663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2949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4000" y="6524640"/>
          <a:ext cx="2077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ДЕКОДИРУЙТЕ  ТЕК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КОДИРОВАНИЯ  УСТАНОВИТЕ  ПО  КЛЮЧ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ЮЧ: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12—16---5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--СИСТЕМА УСЛОВНЫХ  ЗНАКОВ ДЛЯ  ПРЕДСТАВЛЕНИЯ 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одним слов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ь п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98400" y="1844640"/>
            <a:ext cx="459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ю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ль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шл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5640" y="2276640"/>
            <a:ext cx="38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00000" y="206064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30400" y="2276640"/>
            <a:ext cx="459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84360" y="2205000"/>
            <a:ext cx="45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68360" y="6165720"/>
            <a:ext cx="468144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СО, ПРИГОТОВЛЕННОЕ НА ОГ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995640" y="263700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203640" y="4581360"/>
            <a:ext cx="5689440" cy="39888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ТИЦА,ПОПАВШАЯ В СУП ЗА СВОИ ДУ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8360" y="5661000"/>
            <a:ext cx="3620880" cy="39888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ЕНОЕ ТЕСТО С МЯС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1763640" y="292428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1979640" y="3357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1908000" y="1773360"/>
            <a:ext cx="534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95280" y="4365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900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539640" y="4149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3794040" y="3357720"/>
            <a:ext cx="534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2209680" y="3355920"/>
            <a:ext cx="45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914400" y="227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2484360" y="328464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95280" y="5157720"/>
            <a:ext cx="331308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Е ПИРОЖ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2425680" y="35719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84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2698920" y="3500280"/>
            <a:ext cx="459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324000" y="5877000"/>
            <a:ext cx="534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3132000" y="2852640"/>
            <a:ext cx="47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2771640" y="3573360"/>
            <a:ext cx="4305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5111640" y="6165720"/>
            <a:ext cx="4032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АРЕННЫЕ В ВОДЕ ФРУК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4140360" y="5661000"/>
            <a:ext cx="473688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ЧНАЯ ЕДА ИЗ РИСА И МЯ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7"/>
          <p:cNvSpPr/>
          <p:nvPr/>
        </p:nvSpPr>
        <p:spPr>
          <a:xfrm>
            <a:off x="900000" y="5013360"/>
            <a:ext cx="578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3929040" y="5072040"/>
            <a:ext cx="34038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ФЕЛЬ В СМЯТ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РАССШИФРОВАТЬ  НАЗВАНИЕ СКАЗКИ.</a:t>
            </a:r>
            <a:br>
              <a:rPr sz="2000"/>
            </a:b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ИЗ  КАЖДОЙ СТРОЧКИ ВЗЯТЬ ЛИШЬ ТЕ БУКВЫ,КОТОРЫЕ НЕ ПОВТОРЯЮТСЯ В ДАННОЙ СТ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557360"/>
          <a:ext cx="8207280" cy="4608360"/>
        </p:xfrm>
        <a:graphic>
          <a:graphicData uri="http://schemas.openxmlformats.org/drawingml/2006/table">
            <a:tbl>
              <a:tblPr/>
              <a:tblGrid>
                <a:gridCol w="431640"/>
                <a:gridCol w="576360"/>
                <a:gridCol w="574560"/>
                <a:gridCol w="576360"/>
                <a:gridCol w="649440"/>
                <a:gridCol w="574560"/>
                <a:gridCol w="576360"/>
                <a:gridCol w="576000"/>
                <a:gridCol w="792360"/>
                <a:gridCol w="792000"/>
                <a:gridCol w="648000"/>
                <a:gridCol w="792000"/>
                <a:gridCol w="647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36:28Z</dcterms:created>
  <dc:creator>Хурулова Ольга</dc:creator>
  <dc:description/>
  <dc:language>en-US</dc:language>
  <cp:lastModifiedBy>Хурулова </cp:lastModifiedBy>
  <dcterms:modified xsi:type="dcterms:W3CDTF">2012-07-08T09:59:27Z</dcterms:modified>
  <cp:revision>10</cp:revision>
  <dc:subject/>
  <dc:title>кодирование информации</dc:title>
</cp:coreProperties>
</file>